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CE79-B8BC-4E75-AD45-33D849C83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20E3-E08E-464F-9BF7-DB4B81504E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D6D33-9BAE-4FDB-8EB1-BC6197F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5BD73-86CD-4670-8152-FBB88542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74D24-BE57-4ACF-B441-7F2EA488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5B34A-3FD1-40B1-B143-BC63B618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80EF8-8484-4152-A7EF-15595478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F2065-8D3D-44EE-AD0A-3E743A9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C84FD-C121-47F0-9AE5-C836657A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F9D76-35E0-4695-B324-B6DC756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04314-3D40-4539-ADB7-03BE0495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FFFF1-8363-44D9-B8B3-0408974B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9504-EBCA-497A-B8F8-4C8D8B43B11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96C11-A744-4974-8F4F-67FCBD9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9D0518-F003-49A8-90D9-F419B74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425CB-35D2-4CFE-A752-4FCCE19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7C12C-CAD7-4011-BF6D-1264343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FE7E3-F37C-4C97-A33E-49210FE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9894B-B23F-48D8-9EE3-A1BDCEBF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4BA82-310A-4570-A01E-23CFBE1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879DFC-F486-4282-8F3C-DA9AE8B7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E3498-EF00-48B9-A193-A59E3F5E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A3ADC-40CF-4EB2-837D-6096BB9C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1BA8-6CEC-4F2B-A26F-DC7C2D338F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61973-A624-4B09-985D-527A5DE3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DFAD9A-5D93-4226-8711-BD39DCD6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F9AB57-DA27-4206-994D-4AC197E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987C96-C167-4D6D-A61A-404BED51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8A7DB6-5FD6-4825-A1C2-E39957B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268ADA-7CE1-4680-A4FE-4CA52A3C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AAC339-3EEB-41DE-AB1C-FFA486F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843A04-1B71-4C36-B4BB-C15EC8EE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EDE80E-BD2F-43FE-B7AA-40C7CDDB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3978F2-0B5C-4B44-9C3A-920E687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9B9ED-7A78-43FE-9A0F-17EBC3E4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DA7128-1CBE-48AD-BD3C-46D445E1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39D855-33A6-4585-A276-E7B41124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EA89C7-EA41-486A-973C-DA4F4CFE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AE961-5042-4BAC-A718-4D7B4FB2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B6CB3-F88A-479B-9C67-B1AD777F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FD933-4CDD-4E65-A407-A418CFD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69A0D-ECC1-4F26-9962-D8AD520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93B77-F940-47B4-A0F4-B6E8339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71592-F4C5-47AB-A350-6BECBBC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996E2-CD86-4A2E-B72D-E7E2700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605D-9331-4B71-9E10-ABB87314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4C7D9-D9A5-462E-8B1F-D0C71CD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94E55-265B-4950-98CB-5C2D154E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0AF8B-5A04-40EB-AA67-3E61067C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B50EC-661A-49B6-81C1-8F129463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45470-46BF-4A71-92F5-6C32F0C5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93200-313A-4962-B041-A5964AB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4326-6E32-4504-9610-614F692D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8C830-96CC-48F3-A15C-0E74E00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FDF0-1CBA-40E7-B20E-B88D344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B0661-CB6B-402C-96CA-CE6BF94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CB05-134A-43F2-A363-A22567B16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460F1-0644-4960-8ED7-D3E3EC9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35B9-5591-49B9-BC65-B8954719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104DB-A032-47B7-BC4B-D401902A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D3D65-F58F-4794-91AF-5FD5E9F9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5847A-597D-4971-8385-857BC835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F84A0-5F06-43D6-8506-68925BB0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33A37-A42D-4644-B2A9-AD688FC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E0DD7-C035-4EAA-BF3F-96F2F74A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59FDC-29FB-4E76-92B3-FC4B345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E95E7-7098-4354-83BA-6840FC2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331A-0F02-40D8-B1E8-6C84117C62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E789A-98C5-452E-8E25-62625E4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5EE2E-14E6-4658-9924-501E40A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0B9BA-AAE6-4913-9905-410B4E5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84210-75F2-4492-BD7D-42D29C9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509CCA-B620-4A1F-937E-495A005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E7DC88-8B1B-4488-B775-D5343008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E63B3-E9B7-4148-B8D8-6D71601D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C7228-3F74-4A16-B206-21DABA4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35F0A-7CED-4CE5-99CB-5857FB6F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07580-389B-434B-8DB4-C8121A08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0295-4908-44A7-90D9-09EA40293B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D4041-1C10-4983-A206-FB67680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337F4-9BB0-4416-8C2B-FA26D84A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279DF-5D05-4435-8095-5873518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3EEF7-B324-409F-9A1A-A7CB548D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AEC05-AD7A-45F8-A24C-8ABF660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5D4AD-2A2B-4D24-B09E-89257E3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38685-FF32-471B-BB82-D8A0CD3B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395C8-4ADC-42C0-B2E3-1A5ADCCB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C64DD-632C-45CC-9027-99F4B35B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144E31-452B-4E82-9F48-0B0B8AE0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FDF3-56F0-492E-894A-63CE27851B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AAB36B-F776-4AC5-863D-2F05B4D9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AF58D-6BA1-496E-A8C8-E75547F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7406C5-BF7F-4EF9-8CAE-695407AE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15382-083D-485A-88A3-C7B84BAA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2C8CE-3C37-4591-8D3C-619DC43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C6C83A-95C8-4658-B121-5780D0D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502F00-8E0C-482E-9A7B-1B8F5975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7525E-0C38-4E3C-9B87-9B057B93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A69C5-75D6-4D05-AD5F-77E460E4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6FACA8-9E70-42BC-92C6-48E52021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A652-021C-4747-8CF0-7235FA1263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FF73A7-F104-4E5C-897A-4FAE99B2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61CDBA-176D-422C-89E4-9204D3FE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BE40E-222E-4728-BBBC-B5E5B8A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87550-EF13-4797-A086-BDA6D62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9BAA9-D65C-47B0-91F5-3CBA60F7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E48EF-338A-4E5B-9A0F-CA00316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5CEF8-E703-403C-9BFE-2F62DE89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285C01-B40D-4DD0-A571-8F13359D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1ABB5-03C1-48AB-9DC8-7C1D3FAE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7D14B-2EBB-4D82-9457-7706B09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760F-4B39-40BD-909C-2AB2A756D3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B36A4-048E-4404-8AE4-ECC4AA0E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77A8B-2014-4EA9-8509-6ED16E20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37612-7BCF-43BB-9C8F-15533AFB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734EB1-A0B5-4188-8335-2AAF036B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0E8CA0-4708-419C-BDC9-D87B0BC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197911-ABF7-4F02-8228-8BBEE2FB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0AA9C-A4C6-43C7-8170-04E1368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80F34-0522-4F89-8D2C-57149219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3519E2-4F05-4705-874C-8288A07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E3475-410A-4203-A505-18683E3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A442-8FE2-4920-B1BC-22ECECF24A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ABA041-0C33-480C-970B-51324B5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42812-E0AE-46E3-9422-FFC5AA84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9E1E86-18F2-47EF-B60D-946B44C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12B920-74E6-42B2-9075-364DB496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20BC2-A87C-4570-94E0-DC860C46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CE5C8-72F4-4728-9830-2176371D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8E4134-3BB7-4C78-A46F-CD80D8C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28C065-20F7-461B-B5C6-D5B46975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74683-3747-4CB4-9343-5204590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F864E-67B5-4D13-877C-0E60470A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9405-6434-4C04-8A17-58C9302724C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F9A2DE-25E6-41C2-AC6F-0AE23EB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F0A9C8-710C-4FB3-98C5-DC49B4A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14F48E-CE8F-47EC-9CA0-C9D0DF9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8C881-0014-435C-9634-8B45ACB4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A94C86-7B16-421C-92A0-F5502BA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A10DF-F3C6-4291-8F56-21DCEF0D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D9E7F1-B39C-4E04-BE6E-C71A6B75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FC671-CD29-4C22-B7E4-8FBF3E9E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14821-AA63-4412-A97C-37887F09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A4BE1-8DD3-496E-A8E5-93303F17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66A2-E380-4A8C-BD76-1C717E4A0D12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8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1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479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482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8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AFF5-9AAF-4D70-9ABF-C4949C1E148E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32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35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1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A3C-365D-48C5-85DC-31D11EB80A5A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85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88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4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EEA-6BAF-48A2-B2AB-AAC3E29A5021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6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9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4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A09E-F793-4AE2-89DE-7A54B93B4811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109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12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7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364-0B14-46D2-836D-6935D199DB23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162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65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0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8BC-7CA3-4A85-A24B-7CB7BA9CEB12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215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218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AE2-8455-451C-8FDF-FA73ABA98B17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268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271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6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B3E0-A064-409D-903C-6B2DD0BF7078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3" descr="未标题-2.png"/>
          <p:cNvPicPr/>
          <p:nvPr/>
        </p:nvPicPr>
        <p:blipFill>
          <a:blip r:embed="rId2"/>
          <a:srcRect l="958" t="-17" r="292" b="720"/>
          <a:stretch/>
        </p:blipFill>
        <p:spPr>
          <a:xfrm>
            <a:off x="142920" y="0"/>
            <a:ext cx="9001080" cy="6143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7" name="TextBox 16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5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椭圆 16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320" name="椭圆 16" descr=""/>
            <p:cNvPicPr/>
            <p:nvPr/>
          </p:nvPicPr>
          <p:blipFill>
            <a:blip r:embed="rId3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椭圆 17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323" name="椭圆 17" descr=""/>
            <p:cNvPicPr/>
            <p:nvPr/>
          </p:nvPicPr>
          <p:blipFill>
            <a:blip r:embed="rId4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20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1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9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5C14-87BA-4F0C-9F2A-71111854A0BB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373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376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2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B178-7CC1-4ABA-A097-A7158C73064D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426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429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5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D07-4AA4-4822-8C2E-12C57C8B2D03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5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6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岗位竞聘精选</a:t>
            </a: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模板免费下载</a:t>
            </a:r>
            <a:endParaRPr b="0" lang="en-US" sz="40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71280" y="2928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Verdana"/>
              </a:rPr>
              <a:t>abcdef</a:t>
            </a:r>
            <a:r>
              <a:rPr b="1" lang="zh-CN" sz="2000" spc="-1" strike="noStrike">
                <a:solidFill>
                  <a:srgbClr val="898989"/>
                </a:solidFill>
                <a:latin typeface="Verdana"/>
              </a:rPr>
              <a:t>竞岗报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148760" y="400068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市场管理部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梯形 34"/>
          <p:cNvSpPr/>
          <p:nvPr/>
        </p:nvSpPr>
        <p:spPr>
          <a:xfrm>
            <a:off x="428760" y="3286080"/>
            <a:ext cx="8429400" cy="285840"/>
          </a:xfrm>
          <a:custGeom>
            <a:avLst/>
            <a:gdLst/>
            <a:ahLst/>
            <a:rect l="l" t="t" r="r" b="b"/>
            <a:pathLst>
              <a:path w="8429625" h="285750">
                <a:moveTo>
                  <a:pt x="0" y="285750"/>
                </a:moveTo>
                <a:lnTo>
                  <a:pt x="931402" y="0"/>
                </a:lnTo>
                <a:lnTo>
                  <a:pt x="7498223" y="0"/>
                </a:lnTo>
                <a:lnTo>
                  <a:pt x="8429625" y="285750"/>
                </a:lnTo>
                <a:lnTo>
                  <a:pt x="0" y="2857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32"/>
          <p:cNvSpPr/>
          <p:nvPr/>
        </p:nvSpPr>
        <p:spPr>
          <a:xfrm>
            <a:off x="428760" y="3571920"/>
            <a:ext cx="842940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3843000" y="2858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Verdana"/>
                <a:ea typeface="微软雅黑"/>
              </a:rPr>
              <a:t>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3906360" y="14940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某大学 市场营销专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237560" y="1089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Verdana"/>
                <a:ea typeface="微软雅黑"/>
              </a:rPr>
              <a:t>现有岗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642960" y="23353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自信、见解独特，行动力十足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热情开朗、正直、思考、具创新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"/>
          <p:cNvSpPr/>
          <p:nvPr/>
        </p:nvSpPr>
        <p:spPr>
          <a:xfrm>
            <a:off x="4176720" y="185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管理学学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图表 17"/>
          <p:cNvGraphicFramePr/>
          <p:nvPr/>
        </p:nvGraphicFramePr>
        <p:xfrm>
          <a:off x="6597720" y="3471840"/>
          <a:ext cx="210816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5" name="图表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图表 19"/>
          <p:cNvGraphicFramePr/>
          <p:nvPr/>
        </p:nvGraphicFramePr>
        <p:xfrm>
          <a:off x="4621320" y="3471840"/>
          <a:ext cx="2108160" cy="166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7" name="图表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132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TextBox 21"/>
          <p:cNvSpPr/>
          <p:nvPr/>
        </p:nvSpPr>
        <p:spPr>
          <a:xfrm>
            <a:off x="135540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专业理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2"/>
          <p:cNvSpPr/>
          <p:nvPr/>
        </p:nvSpPr>
        <p:spPr>
          <a:xfrm>
            <a:off x="335592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职业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3"/>
          <p:cNvSpPr/>
          <p:nvPr/>
        </p:nvSpPr>
        <p:spPr>
          <a:xfrm>
            <a:off x="53560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业务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4"/>
          <p:cNvSpPr/>
          <p:nvPr/>
        </p:nvSpPr>
        <p:spPr>
          <a:xfrm>
            <a:off x="73324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工作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图表 25"/>
          <p:cNvGraphicFramePr/>
          <p:nvPr/>
        </p:nvGraphicFramePr>
        <p:xfrm>
          <a:off x="2597040" y="3471840"/>
          <a:ext cx="2108160" cy="166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3" name="图表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704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图表 26"/>
          <p:cNvGraphicFramePr/>
          <p:nvPr/>
        </p:nvGraphicFramePr>
        <p:xfrm>
          <a:off x="4597560" y="3471840"/>
          <a:ext cx="2108160" cy="1663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55" name="图表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756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图表 27"/>
          <p:cNvGraphicFramePr/>
          <p:nvPr/>
        </p:nvGraphicFramePr>
        <p:xfrm>
          <a:off x="596880" y="3471840"/>
          <a:ext cx="2108160" cy="1663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57" name="图表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88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Box 28"/>
          <p:cNvSpPr/>
          <p:nvPr/>
        </p:nvSpPr>
        <p:spPr>
          <a:xfrm>
            <a:off x="1445760" y="3843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9"/>
          <p:cNvSpPr/>
          <p:nvPr/>
        </p:nvSpPr>
        <p:spPr>
          <a:xfrm>
            <a:off x="3446280" y="380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0"/>
          <p:cNvSpPr/>
          <p:nvPr/>
        </p:nvSpPr>
        <p:spPr>
          <a:xfrm>
            <a:off x="541620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1"/>
          <p:cNvSpPr/>
          <p:nvPr/>
        </p:nvSpPr>
        <p:spPr>
          <a:xfrm>
            <a:off x="741636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940840" y="5286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竞聘：某个岗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我在某公司的历程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64" name="直接连接符 4"/>
          <p:cNvSpPr/>
          <p:nvPr/>
        </p:nvSpPr>
        <p:spPr>
          <a:xfrm>
            <a:off x="928800" y="4157640"/>
            <a:ext cx="72864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 5"/>
          <p:cNvSpPr/>
          <p:nvPr/>
        </p:nvSpPr>
        <p:spPr>
          <a:xfrm>
            <a:off x="1787400" y="4051440"/>
            <a:ext cx="214560" cy="214200"/>
          </a:xfrm>
          <a:prstGeom prst="ellipse">
            <a:avLst/>
          </a:prstGeom>
          <a:solidFill>
            <a:srgbClr val="00b0f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椭圆 6"/>
          <p:cNvSpPr/>
          <p:nvPr/>
        </p:nvSpPr>
        <p:spPr>
          <a:xfrm>
            <a:off x="3273480" y="4051440"/>
            <a:ext cx="214200" cy="214200"/>
          </a:xfrm>
          <a:prstGeom prst="ellipse">
            <a:avLst/>
          </a:prstGeom>
          <a:solidFill>
            <a:srgbClr val="ff21b5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椭圆 8"/>
          <p:cNvSpPr/>
          <p:nvPr/>
        </p:nvSpPr>
        <p:spPr>
          <a:xfrm>
            <a:off x="6702480" y="4051440"/>
            <a:ext cx="214200" cy="21420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 9"/>
          <p:cNvSpPr/>
          <p:nvPr/>
        </p:nvSpPr>
        <p:spPr>
          <a:xfrm>
            <a:off x="857160" y="4051440"/>
            <a:ext cx="214560" cy="2142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792720" y="427608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1"/>
          <p:cNvSpPr/>
          <p:nvPr/>
        </p:nvSpPr>
        <p:spPr>
          <a:xfrm>
            <a:off x="1708920" y="4281840"/>
            <a:ext cx="36288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"/>
          <p:cNvSpPr/>
          <p:nvPr/>
        </p:nvSpPr>
        <p:spPr>
          <a:xfrm>
            <a:off x="3137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6566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1"/>
          <p:cNvGrpSpPr/>
          <p:nvPr/>
        </p:nvGrpSpPr>
        <p:grpSpPr>
          <a:xfrm>
            <a:off x="642960" y="1714680"/>
            <a:ext cx="3857760" cy="1857240"/>
            <a:chOff x="642960" y="1714680"/>
            <a:chExt cx="3857760" cy="1857240"/>
          </a:xfrm>
        </p:grpSpPr>
        <p:sp>
          <p:nvSpPr>
            <p:cNvPr id="674" name="TextBox 16"/>
            <p:cNvSpPr/>
            <p:nvPr/>
          </p:nvSpPr>
          <p:spPr>
            <a:xfrm>
              <a:off x="64296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ca62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入职实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矩形 20"/>
            <p:cNvSpPr/>
            <p:nvPr/>
          </p:nvSpPr>
          <p:spPr>
            <a:xfrm>
              <a:off x="64296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22"/>
          <p:cNvGrpSpPr/>
          <p:nvPr/>
        </p:nvGrpSpPr>
        <p:grpSpPr>
          <a:xfrm>
            <a:off x="1857240" y="1714680"/>
            <a:ext cx="3857760" cy="1857240"/>
            <a:chOff x="1857240" y="1714680"/>
            <a:chExt cx="3857760" cy="1857240"/>
          </a:xfrm>
        </p:grpSpPr>
        <p:sp>
          <p:nvSpPr>
            <p:cNvPr id="677" name="TextBox 23"/>
            <p:cNvSpPr/>
            <p:nvPr/>
          </p:nvSpPr>
          <p:spPr>
            <a:xfrm>
              <a:off x="185724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8bb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24"/>
            <p:cNvSpPr/>
            <p:nvPr/>
          </p:nvSpPr>
          <p:spPr>
            <a:xfrm>
              <a:off x="185724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25"/>
          <p:cNvGrpSpPr/>
          <p:nvPr/>
        </p:nvGrpSpPr>
        <p:grpSpPr>
          <a:xfrm>
            <a:off x="3286080" y="1714680"/>
            <a:ext cx="3857760" cy="1857240"/>
            <a:chOff x="3286080" y="1714680"/>
            <a:chExt cx="3857760" cy="1857240"/>
          </a:xfrm>
        </p:grpSpPr>
        <p:sp>
          <p:nvSpPr>
            <p:cNvPr id="680" name="TextBox 26"/>
            <p:cNvSpPr/>
            <p:nvPr/>
          </p:nvSpPr>
          <p:spPr>
            <a:xfrm>
              <a:off x="328608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21b5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27"/>
            <p:cNvSpPr/>
            <p:nvPr/>
          </p:nvSpPr>
          <p:spPr>
            <a:xfrm>
              <a:off x="328608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28"/>
          <p:cNvGrpSpPr/>
          <p:nvPr/>
        </p:nvGrpSpPr>
        <p:grpSpPr>
          <a:xfrm>
            <a:off x="4857840" y="1714680"/>
            <a:ext cx="3857400" cy="1857240"/>
            <a:chOff x="4857840" y="1714680"/>
            <a:chExt cx="3857400" cy="1857240"/>
          </a:xfrm>
        </p:grpSpPr>
        <p:sp>
          <p:nvSpPr>
            <p:cNvPr id="683" name="TextBox 29"/>
            <p:cNvSpPr/>
            <p:nvPr/>
          </p:nvSpPr>
          <p:spPr>
            <a:xfrm>
              <a:off x="4857840" y="1714680"/>
              <a:ext cx="3857400" cy="337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5c02b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30"/>
            <p:cNvSpPr/>
            <p:nvPr/>
          </p:nvSpPr>
          <p:spPr>
            <a:xfrm>
              <a:off x="4857840" y="2071800"/>
              <a:ext cx="385740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图片 17" descr="幻灯片1.JPG"/>
          <p:cNvPicPr/>
          <p:nvPr/>
        </p:nvPicPr>
        <p:blipFill>
          <a:blip r:embed="rId1"/>
          <a:stretch/>
        </p:blipFill>
        <p:spPr>
          <a:xfrm>
            <a:off x="4087800" y="92880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686" name="图片 18" descr="幻灯片3.JPG"/>
          <p:cNvPicPr/>
          <p:nvPr/>
        </p:nvPicPr>
        <p:blipFill>
          <a:blip r:embed="rId2"/>
          <a:stretch/>
        </p:blipFill>
        <p:spPr>
          <a:xfrm>
            <a:off x="4087800" y="370368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687" name="图片 19" descr="幻灯片5.JPG"/>
          <p:cNvPicPr/>
          <p:nvPr/>
        </p:nvPicPr>
        <p:blipFill>
          <a:blip r:embed="rId3"/>
          <a:stretch/>
        </p:blipFill>
        <p:spPr>
          <a:xfrm>
            <a:off x="4087800" y="2306520"/>
            <a:ext cx="1644840" cy="1233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688" name="组合 34"/>
          <p:cNvGrpSpPr/>
          <p:nvPr/>
        </p:nvGrpSpPr>
        <p:grpSpPr>
          <a:xfrm>
            <a:off x="428760" y="928800"/>
            <a:ext cx="8250120" cy="4019400"/>
            <a:chOff x="428760" y="928800"/>
            <a:chExt cx="8250120" cy="4019400"/>
          </a:xfrm>
        </p:grpSpPr>
        <p:pic>
          <p:nvPicPr>
            <p:cNvPr id="689" name="图片 8" descr="幻灯片1.JPG"/>
            <p:cNvPicPr/>
            <p:nvPr/>
          </p:nvPicPr>
          <p:blipFill>
            <a:blip r:embed="rId4"/>
            <a:srcRect l="0" t="0" r="0" b="3273"/>
            <a:stretch/>
          </p:blipFill>
          <p:spPr>
            <a:xfrm>
              <a:off x="2286000" y="939600"/>
              <a:ext cx="16318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0" name="图片 9" descr="幻灯片2.JPG"/>
            <p:cNvPicPr/>
            <p:nvPr/>
          </p:nvPicPr>
          <p:blipFill>
            <a:blip r:embed="rId5"/>
            <a:stretch/>
          </p:blipFill>
          <p:spPr>
            <a:xfrm>
              <a:off x="2286000" y="232740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1" name="图片 10" descr="幻灯片64.JPG"/>
            <p:cNvPicPr/>
            <p:nvPr/>
          </p:nvPicPr>
          <p:blipFill>
            <a:blip r:embed="rId6"/>
            <a:stretch/>
          </p:blipFill>
          <p:spPr>
            <a:xfrm>
              <a:off x="228600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2" name="图片 13" descr="2010工作报告02081600定稿.jpg"/>
            <p:cNvPicPr/>
            <p:nvPr/>
          </p:nvPicPr>
          <p:blipFill>
            <a:blip r:embed="rId7"/>
            <a:stretch/>
          </p:blipFill>
          <p:spPr>
            <a:xfrm>
              <a:off x="463680" y="9302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3" name="图片 15" descr="2010工作报告020816010定稿.jpg"/>
            <p:cNvPicPr/>
            <p:nvPr/>
          </p:nvPicPr>
          <p:blipFill>
            <a:blip r:embed="rId8"/>
            <a:stretch/>
          </p:blipFill>
          <p:spPr>
            <a:xfrm>
              <a:off x="471600" y="231768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4" name="图片 14" descr="2010工作报告02081600定稿.jpg"/>
            <p:cNvPicPr/>
            <p:nvPr/>
          </p:nvPicPr>
          <p:blipFill>
            <a:blip r:embed="rId9"/>
            <a:stretch/>
          </p:blipFill>
          <p:spPr>
            <a:xfrm>
              <a:off x="42876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5" name="Picture 5" descr=""/>
            <p:cNvPicPr/>
            <p:nvPr/>
          </p:nvPicPr>
          <p:blipFill>
            <a:blip r:embed="rId10"/>
            <a:stretch/>
          </p:blipFill>
          <p:spPr>
            <a:xfrm>
              <a:off x="5895360" y="3006720"/>
              <a:ext cx="2757600" cy="19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6" descr=""/>
            <p:cNvPicPr/>
            <p:nvPr/>
          </p:nvPicPr>
          <p:blipFill>
            <a:blip r:embed="rId11"/>
            <a:stretch/>
          </p:blipFill>
          <p:spPr>
            <a:xfrm>
              <a:off x="7282440" y="928800"/>
              <a:ext cx="1396440" cy="19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7" descr=""/>
            <p:cNvPicPr/>
            <p:nvPr/>
          </p:nvPicPr>
          <p:blipFill>
            <a:blip r:embed="rId12"/>
            <a:stretch/>
          </p:blipFill>
          <p:spPr>
            <a:xfrm>
              <a:off x="5895360" y="928800"/>
              <a:ext cx="137952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8" name="矩形 27"/>
          <p:cNvSpPr/>
          <p:nvPr/>
        </p:nvSpPr>
        <p:spPr>
          <a:xfrm>
            <a:off x="181080" y="857160"/>
            <a:ext cx="8820000" cy="446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6"/>
          <p:cNvSpPr/>
          <p:nvPr/>
        </p:nvSpPr>
        <p:spPr>
          <a:xfrm>
            <a:off x="3595320" y="24782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月度经营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8"/>
          <p:cNvSpPr/>
          <p:nvPr/>
        </p:nvSpPr>
        <p:spPr>
          <a:xfrm>
            <a:off x="3653640" y="107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  <a:ea typeface="微软雅黑"/>
              </a:rPr>
              <a:t>主要工作业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7"/>
          <p:cNvSpPr/>
          <p:nvPr/>
        </p:nvSpPr>
        <p:spPr>
          <a:xfrm>
            <a:off x="3851280" y="3241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客户关系管理实施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0"/>
          <p:cNvSpPr/>
          <p:nvPr/>
        </p:nvSpPr>
        <p:spPr>
          <a:xfrm>
            <a:off x="3717360" y="2859120"/>
            <a:ext cx="16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1"/>
          <p:cNvSpPr/>
          <p:nvPr/>
        </p:nvSpPr>
        <p:spPr>
          <a:xfrm>
            <a:off x="3947760" y="3622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网格化营销专题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2"/>
          <p:cNvSpPr/>
          <p:nvPr/>
        </p:nvSpPr>
        <p:spPr>
          <a:xfrm>
            <a:off x="3973320" y="400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月度市场分析月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33"/>
          <p:cNvSpPr/>
          <p:nvPr/>
        </p:nvSpPr>
        <p:spPr>
          <a:xfrm>
            <a:off x="4360320" y="43862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620640" y="643572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5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5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5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5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http://www.freecoupons.com/wp-content/uploads/2009/08/target.jpg"/>
          <p:cNvPicPr/>
          <p:nvPr/>
        </p:nvPicPr>
        <p:blipFill>
          <a:blip r:embed="rId1"/>
          <a:stretch/>
        </p:blipFill>
        <p:spPr>
          <a:xfrm>
            <a:off x="785880" y="2643120"/>
            <a:ext cx="2081160" cy="165744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近期工作目标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09" name="任意多边形 5"/>
          <p:cNvSpPr/>
          <p:nvPr/>
        </p:nvSpPr>
        <p:spPr>
          <a:xfrm>
            <a:off x="2071800" y="1643040"/>
            <a:ext cx="1770120" cy="1298520"/>
          </a:xfrm>
          <a:custGeom>
            <a:avLst/>
            <a:gdLst/>
            <a:ahLst/>
            <a:rect l="l" t="t" r="r" b="b"/>
            <a:pathLst>
              <a:path w="1770743" h="798286">
                <a:moveTo>
                  <a:pt x="0" y="798286"/>
                </a:moveTo>
                <a:lnTo>
                  <a:pt x="740229" y="0"/>
                </a:lnTo>
                <a:lnTo>
                  <a:pt x="177074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4077000" y="142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任意多边形 7"/>
          <p:cNvSpPr/>
          <p:nvPr/>
        </p:nvSpPr>
        <p:spPr>
          <a:xfrm flipV="1">
            <a:off x="2000160" y="3870360"/>
            <a:ext cx="1770120" cy="272880"/>
          </a:xfrm>
          <a:custGeom>
            <a:avLst/>
            <a:gdLst/>
            <a:ahLst/>
            <a:rect l="l" t="t" r="r" b="b"/>
            <a:pathLst>
              <a:path w="1770743" h="798286">
                <a:moveTo>
                  <a:pt x="0" y="798286"/>
                </a:moveTo>
                <a:lnTo>
                  <a:pt x="740229" y="0"/>
                </a:lnTo>
                <a:lnTo>
                  <a:pt x="177074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8"/>
          <p:cNvSpPr/>
          <p:nvPr/>
        </p:nvSpPr>
        <p:spPr>
          <a:xfrm>
            <a:off x="4077000" y="378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9"/>
          <p:cNvSpPr/>
          <p:nvPr/>
        </p:nvSpPr>
        <p:spPr>
          <a:xfrm>
            <a:off x="4000680" y="2000160"/>
            <a:ext cx="464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0"/>
          <p:cNvSpPr/>
          <p:nvPr/>
        </p:nvSpPr>
        <p:spPr>
          <a:xfrm>
            <a:off x="3929040" y="4357800"/>
            <a:ext cx="46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组合 3"/>
          <p:cNvGrpSpPr/>
          <p:nvPr/>
        </p:nvGrpSpPr>
        <p:grpSpPr>
          <a:xfrm>
            <a:off x="1500120" y="4470480"/>
            <a:ext cx="6786720" cy="1316520"/>
            <a:chOff x="1500120" y="4470480"/>
            <a:chExt cx="6786720" cy="1316520"/>
          </a:xfrm>
        </p:grpSpPr>
        <p:sp>
          <p:nvSpPr>
            <p:cNvPr id="716" name="圆角矩形 14"/>
            <p:cNvSpPr/>
            <p:nvPr/>
          </p:nvSpPr>
          <p:spPr>
            <a:xfrm>
              <a:off x="1500120" y="4470480"/>
              <a:ext cx="6786720" cy="114300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Box 20"/>
            <p:cNvSpPr/>
            <p:nvPr/>
          </p:nvSpPr>
          <p:spPr>
            <a:xfrm>
              <a:off x="2500200" y="4597920"/>
              <a:ext cx="5572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2"/>
          <p:cNvGrpSpPr/>
          <p:nvPr/>
        </p:nvGrpSpPr>
        <p:grpSpPr>
          <a:xfrm>
            <a:off x="1428840" y="2857680"/>
            <a:ext cx="6786360" cy="1326240"/>
            <a:chOff x="1428840" y="2857680"/>
            <a:chExt cx="6786360" cy="1326240"/>
          </a:xfrm>
        </p:grpSpPr>
        <p:sp>
          <p:nvSpPr>
            <p:cNvPr id="719" name="圆角矩形 12"/>
            <p:cNvSpPr/>
            <p:nvPr/>
          </p:nvSpPr>
          <p:spPr>
            <a:xfrm>
              <a:off x="1428840" y="2857680"/>
              <a:ext cx="6786360" cy="12859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18"/>
            <p:cNvSpPr/>
            <p:nvPr/>
          </p:nvSpPr>
          <p:spPr>
            <a:xfrm>
              <a:off x="2500200" y="2994840"/>
              <a:ext cx="55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"/>
          <p:cNvGrpSpPr/>
          <p:nvPr/>
        </p:nvGrpSpPr>
        <p:grpSpPr>
          <a:xfrm>
            <a:off x="1428840" y="1285920"/>
            <a:ext cx="6786360" cy="1285920"/>
            <a:chOff x="1428840" y="1285920"/>
            <a:chExt cx="6786360" cy="1285920"/>
          </a:xfrm>
        </p:grpSpPr>
        <p:sp>
          <p:nvSpPr>
            <p:cNvPr id="722" name="圆角矩形 13"/>
            <p:cNvSpPr/>
            <p:nvPr/>
          </p:nvSpPr>
          <p:spPr>
            <a:xfrm>
              <a:off x="1428840" y="1285920"/>
              <a:ext cx="6786360" cy="12859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7"/>
            <p:cNvSpPr/>
            <p:nvPr/>
          </p:nvSpPr>
          <p:spPr>
            <a:xfrm>
              <a:off x="2500200" y="1285920"/>
              <a:ext cx="55720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19"/>
            <p:cNvSpPr/>
            <p:nvPr/>
          </p:nvSpPr>
          <p:spPr>
            <a:xfrm>
              <a:off x="2500200" y="2000160"/>
              <a:ext cx="5643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应聘新岗位的设想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26" name="TextBox 7"/>
          <p:cNvSpPr/>
          <p:nvPr/>
        </p:nvSpPr>
        <p:spPr>
          <a:xfrm>
            <a:off x="1000080" y="1214280"/>
            <a:ext cx="1357200" cy="1357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1000080" y="2786040"/>
            <a:ext cx="1357200" cy="1357200"/>
          </a:xfrm>
          <a:prstGeom prst="ellipse">
            <a:avLst/>
          </a:prstGeom>
          <a:solidFill>
            <a:srgbClr val="f5c02b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9"/>
          <p:cNvSpPr/>
          <p:nvPr/>
        </p:nvSpPr>
        <p:spPr>
          <a:xfrm>
            <a:off x="1000080" y="4286160"/>
            <a:ext cx="1357200" cy="13575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11:11Z</dcterms:created>
  <dc:creator>Sophie</dc:creator>
  <dc:description/>
  <dc:language>en-US</dc:language>
  <cp:lastModifiedBy>yu wang</cp:lastModifiedBy>
  <dcterms:modified xsi:type="dcterms:W3CDTF">2015-08-08T10:03:50Z</dcterms:modified>
  <cp:revision>15</cp:revision>
  <dc:subject/>
  <dc:title>幻灯片 1</dc:title>
</cp:coreProperties>
</file>