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3878F-E1A5-44EC-9400-81BC85A7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6B085-B327-4AF9-ACA3-285E1F5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F37D8-240E-4C5F-93F8-3C663DAB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90F79-92E4-4507-81D7-8EC68C0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0A392-108C-40ED-BCFA-B810BDA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43C95-B2F7-4441-BF58-0BF6A7C1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0519-BAF9-47C6-9727-658AA5D7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D1FAB-BAC4-4474-9EBB-67AA071F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0059D-71A1-48F7-98B5-8C5EC032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4F525-DB9B-4E2E-AF19-6606AB1C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DA062-691C-40F5-9533-456DB099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38085-E718-44D3-BAB4-338A0546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DA2DF-8D38-484D-86F2-CC7E0CA5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7FDD7-7B9E-4F71-805E-052688F8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D5246-6FC7-40DF-87E3-0F3605A6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524F6-A380-48E0-916D-07F3E70B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53A08-2114-48DA-9639-C212184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7E930-AD6A-49FF-B612-813233D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CAAEC-5035-413C-8423-9440915D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1A647-9978-44A5-AB94-B587CA09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EB381-DCD9-4434-871C-81375EB6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2DE78-0BEA-4705-9385-1D3BA342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323BE-883B-4FDE-9367-92C98887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B61E2-0B7A-48C2-8878-CD1DDBC1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A56AC-5867-4939-B711-4F50561C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B3280-5326-484E-ACB9-42AA2D8F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F1451-C5AD-4327-B72F-09F53CCA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EC253-3324-42A9-9918-C2172E1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9F0A5-405D-452E-B3D8-A84CD3C5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69ABA-839F-4A30-BD41-038BF894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4C1-FD67-4254-AA04-1A1EFA49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6230E-1A15-4EC5-BB7C-1B2339E6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0D194-6C46-45C4-9829-F600DD92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70639-6AB2-4AB3-BC02-1CF4D319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330EF-22AB-4523-A19F-F27D2800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935AD-15A4-4E8E-A4D7-BD554BC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164F8-FCE3-46CD-B463-C6642739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F33DE-3E08-404D-8F0D-A2654284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411FE-75E0-4409-B416-612115C8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7A3E1-959C-4292-939F-81761575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422BC-9F1B-405F-A531-D13DA28E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94C-5FEB-4DF3-A2A1-033431D9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3F8D2-795E-4365-A8CA-2C34E8F9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E864F-B603-4C6A-941D-2C5518B0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EB04A-6CF8-42D7-92E5-B5ACFC53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A228F-3A6E-4CBB-AF9F-25A3D789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1D1FC-DAA7-4225-B9FB-1462392C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3CD-044A-4ECE-9896-517174C7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E81-2A74-4272-BB15-B68E73EE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9DE-1947-4C10-9DDA-D3FA6D78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3D1-82AD-439D-B04C-3221D678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848-8080-481D-8E87-022ADB0E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F75-1204-4A3A-AB8B-F7F61A33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FD1-39FC-4DC6-85B1-CAC763F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71A-D5D3-4EB1-9860-53CEF3CB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98C-A2E3-4DE8-B140-A911AD40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D5C-CBD9-488F-A9DD-E2006D14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37EE-50C6-4000-A34F-C804F944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6624-2D32-4808-B60F-FBE27662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3074-5234-471C-AD08-E2A4E93C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6822-7DE2-4954-A8BB-7E7AF266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FF9A-7FE8-4EEB-ABEE-1F9BDBE3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E417-54D9-44E0-8C4E-3E4ED1B3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7627-5BC5-4518-8F75-CD1922D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A38A-83CC-4867-8BAE-F0B256B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D001-A1EB-4009-B747-A3F52FF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806F-9ADC-4A98-9AF0-1B8AAD7E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284C-EF53-4AF8-868B-A0FEDD00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18A9-4530-403E-9FB2-65CCD1FC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5B84-3691-47C2-82CB-6C880A6C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4A2C-627F-44CC-8C0E-DFB70C5B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439D-0D10-4B5B-998C-10E85D78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C29C-DE4D-4C9E-A514-639B1DD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B6E1-49DE-456E-BCD3-915FFCB4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BA08-83F0-4C8C-B715-09659EA0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3163-D62D-4F40-B20B-A06B7B0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82AD-ED66-49ED-95DA-29C449D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1543-DDC9-4426-850D-90CEC662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776A-7DF3-417F-98A8-637E0164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B874-A62C-4575-9ABC-E9DEA529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0443-4828-4AA3-9A00-865C430E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232D-BB7A-4F33-A5D6-53F1EB63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FE0D-62DE-4250-96F2-E59E31DB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04EA-D54E-4EAF-B004-7B1F8800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189F-7B08-4874-B35B-9F620D40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BBBF-F060-4FF7-AE02-C827B5DB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B17A-5FF0-406D-9B19-70C99702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ED72-90D4-4FB1-837C-CBE5517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ADC2-7980-48A9-B49E-8266FFEE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2DDEB-0144-4C9F-B114-5EF5FD6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E554-86D4-4134-AFD1-4715A1D1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AFE0-69F6-4AA2-893D-7DC3F5C5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73868-9A5D-44C9-93CF-E0E83BAE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E860-EE18-43CE-9F40-86E004F2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3D026-C483-45EC-8468-94872FF8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3948-EAB4-4B6E-95F7-794AFED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0190-F40E-4631-B5B1-80B17271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467C5-92CD-43FC-951E-DBA6CB44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1F0D1-2E80-443D-B023-E5F163A7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1B0C-B460-488F-9B61-49FA70B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2240-177B-45F2-BE91-F6F079D5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8E76-287B-4942-AC0E-CCA30B4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4F34A-8028-436D-9F3A-8D37E853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5C4F-B0AB-47C7-AF50-78BEF334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D412-6605-4AC3-B274-4BBC15F8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3093-E9EF-4784-923E-E4EDEF4C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715E-267D-435A-A290-84CDEA67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75F21-2CDB-4026-B997-7FD81F9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BBA94-6C44-4C50-A5B9-4DD5D978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8974-5CBD-4B29-B401-1AC969E6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9F137-34C6-4110-9E0F-200E0E63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FAA3-7191-42F0-B3C1-6F8A8B17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AD691-A819-41C0-A0D6-CBC6A64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A2AE8-7B9A-48F9-9B2C-3D87494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A2DCF-6CBF-4A0E-96BB-74B7E309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4A97A-C7D0-4A80-902B-93C90ED5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4DDFA-6BFA-4A36-A578-F03672E7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50824-A348-4763-A419-FC247882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4B67-87E2-4AE2-9E06-0F5741B5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80726-0E44-4735-BF8A-D0580220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3DE7-725D-4BAA-98B8-F82D348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EEF0-7DC5-4A84-AC26-99682044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0FDE-B8D2-4FEF-985A-0C7A62C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378DE-63ED-40A8-BCD5-EF1FD87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B1B8F-4BF2-4318-87F0-7C70F62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185C1-FDE7-4CEE-B308-C2DE8BD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72EB-2E35-469F-B127-B8510AF3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0DC3C-9B98-49EA-8E51-AC70E526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7AC21-21B5-4E93-88D4-1EB144FC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EDD59-7FF8-4C7B-8CE4-19BC7D6E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A3EBA-B35A-4A3C-AF6D-458A75B2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F775-6D2D-470E-82F7-2C27ADFB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52AB-F9C5-46E2-B41C-291D60CDDD6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201-E20D-4A36-BB45-5BB657BC630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B788-60F2-4297-92CF-A9FEF516ACD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27AE-9F6B-45ED-B0CA-90309457AE0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814C-2067-44B6-B3DA-8F5B8D4B1EA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D2F0-E935-4CFB-A145-CFE07BC168F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7804-AD77-4489-9019-932A72907E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6385-0333-46C4-BBBB-4A6BA5C93D6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00E1-BE1A-4487-9638-35B8B045F9B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6D03-9C93-4967-B6DA-050744CDC4A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0AB9-D522-4D7E-95E2-F8BE68CD4CE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直接连接符 7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5374080" y="48704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名称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11"/>
          <p:cNvSpPr/>
          <p:nvPr/>
        </p:nvSpPr>
        <p:spPr>
          <a:xfrm>
            <a:off x="5579640" y="525636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Group 7"/>
          <p:cNvGrpSpPr/>
          <p:nvPr/>
        </p:nvGrpSpPr>
        <p:grpSpPr>
          <a:xfrm>
            <a:off x="1116000" y="115920"/>
            <a:ext cx="7559280" cy="1512720"/>
            <a:chOff x="1116000" y="115920"/>
            <a:chExt cx="7559280" cy="1512720"/>
          </a:xfrm>
        </p:grpSpPr>
        <p:sp>
          <p:nvSpPr>
            <p:cNvPr id="483" name="矩形 12"/>
            <p:cNvSpPr/>
            <p:nvPr/>
          </p:nvSpPr>
          <p:spPr>
            <a:xfrm>
              <a:off x="1116000" y="115920"/>
              <a:ext cx="359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"/>
            <p:cNvSpPr/>
            <p:nvPr/>
          </p:nvSpPr>
          <p:spPr>
            <a:xfrm>
              <a:off x="1620000" y="115920"/>
              <a:ext cx="359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4"/>
            <p:cNvSpPr/>
            <p:nvPr/>
          </p:nvSpPr>
          <p:spPr>
            <a:xfrm>
              <a:off x="212400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5"/>
            <p:cNvSpPr/>
            <p:nvPr/>
          </p:nvSpPr>
          <p:spPr>
            <a:xfrm>
              <a:off x="3203640" y="115920"/>
              <a:ext cx="359640" cy="10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6"/>
            <p:cNvSpPr/>
            <p:nvPr/>
          </p:nvSpPr>
          <p:spPr>
            <a:xfrm>
              <a:off x="3707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7"/>
            <p:cNvSpPr/>
            <p:nvPr/>
          </p:nvSpPr>
          <p:spPr>
            <a:xfrm>
              <a:off x="4211640" y="115920"/>
              <a:ext cx="35964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8"/>
            <p:cNvSpPr/>
            <p:nvPr/>
          </p:nvSpPr>
          <p:spPr>
            <a:xfrm>
              <a:off x="5275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9"/>
            <p:cNvSpPr/>
            <p:nvPr/>
          </p:nvSpPr>
          <p:spPr>
            <a:xfrm>
              <a:off x="5779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20"/>
            <p:cNvSpPr/>
            <p:nvPr/>
          </p:nvSpPr>
          <p:spPr>
            <a:xfrm>
              <a:off x="6283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21"/>
            <p:cNvSpPr/>
            <p:nvPr/>
          </p:nvSpPr>
          <p:spPr>
            <a:xfrm>
              <a:off x="7307640" y="115920"/>
              <a:ext cx="35964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22"/>
            <p:cNvSpPr/>
            <p:nvPr/>
          </p:nvSpPr>
          <p:spPr>
            <a:xfrm>
              <a:off x="7811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23"/>
            <p:cNvSpPr/>
            <p:nvPr/>
          </p:nvSpPr>
          <p:spPr>
            <a:xfrm>
              <a:off x="8315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TextBox 19"/>
          <p:cNvSpPr/>
          <p:nvPr/>
        </p:nvSpPr>
        <p:spPr>
          <a:xfrm>
            <a:off x="928800" y="1285920"/>
            <a:ext cx="55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矩形 1"/>
          <p:cNvSpPr/>
          <p:nvPr/>
        </p:nvSpPr>
        <p:spPr>
          <a:xfrm>
            <a:off x="1873440" y="275904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黑白对比强烈商务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2484360" y="1557360"/>
            <a:ext cx="4464000" cy="4464000"/>
            <a:chOff x="2484360" y="1557360"/>
            <a:chExt cx="4464000" cy="4464000"/>
          </a:xfrm>
        </p:grpSpPr>
        <p:sp>
          <p:nvSpPr>
            <p:cNvPr id="499" name="AutoShape 26"/>
            <p:cNvSpPr/>
            <p:nvPr/>
          </p:nvSpPr>
          <p:spPr>
            <a:xfrm flipH="1" rot="16200000">
              <a:off x="1614960" y="3131640"/>
              <a:ext cx="3002400" cy="1263600"/>
            </a:xfrm>
            <a:custGeom>
              <a:avLst/>
              <a:gdLst>
                <a:gd name="textAreaLeft" fmla="*/ 625320 w 3002400"/>
                <a:gd name="textAreaRight" fmla="*/ 2377080 w 300240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3214080" y="1557360"/>
              <a:ext cx="3004560" cy="1263600"/>
            </a:xfrm>
            <a:custGeom>
              <a:avLst/>
              <a:gdLst>
                <a:gd name="textAreaLeft" fmla="*/ 625680 w 3004560"/>
                <a:gd name="textAreaRight" fmla="*/ 2378880 w 300456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AutoShape 24"/>
            <p:cNvSpPr/>
            <p:nvPr/>
          </p:nvSpPr>
          <p:spPr>
            <a:xfrm flipV="1">
              <a:off x="3214080" y="4757760"/>
              <a:ext cx="3004560" cy="1263600"/>
            </a:xfrm>
            <a:custGeom>
              <a:avLst/>
              <a:gdLst>
                <a:gd name="textAreaLeft" fmla="*/ 625680 w 3004560"/>
                <a:gd name="textAreaRight" fmla="*/ 2378880 w 300456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AutoShape 25"/>
            <p:cNvSpPr/>
            <p:nvPr/>
          </p:nvSpPr>
          <p:spPr>
            <a:xfrm rot="5400000">
              <a:off x="4815360" y="3133800"/>
              <a:ext cx="3002400" cy="1263600"/>
            </a:xfrm>
            <a:custGeom>
              <a:avLst/>
              <a:gdLst>
                <a:gd name="textAreaLeft" fmla="*/ 625320 w 3002400"/>
                <a:gd name="textAreaRight" fmla="*/ 2377080 w 300240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3738960" y="2818440"/>
              <a:ext cx="1954800" cy="195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Rectangle 23"/>
            <p:cNvSpPr/>
            <p:nvPr/>
          </p:nvSpPr>
          <p:spPr>
            <a:xfrm>
              <a:off x="3963960" y="3016800"/>
              <a:ext cx="1504440" cy="150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TextBox 15"/>
          <p:cNvSpPr/>
          <p:nvPr/>
        </p:nvSpPr>
        <p:spPr>
          <a:xfrm>
            <a:off x="12153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直接连接符 17"/>
          <p:cNvSpPr/>
          <p:nvPr/>
        </p:nvSpPr>
        <p:spPr>
          <a:xfrm>
            <a:off x="250920" y="1197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直接连接符 18"/>
          <p:cNvSpPr/>
          <p:nvPr/>
        </p:nvSpPr>
        <p:spPr>
          <a:xfrm>
            <a:off x="250920" y="623736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19"/>
          <p:cNvSpPr/>
          <p:nvPr/>
        </p:nvSpPr>
        <p:spPr>
          <a:xfrm>
            <a:off x="432036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0"/>
          <p:cNvSpPr/>
          <p:nvPr/>
        </p:nvSpPr>
        <p:spPr>
          <a:xfrm>
            <a:off x="2693880" y="3562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21"/>
          <p:cNvSpPr/>
          <p:nvPr/>
        </p:nvSpPr>
        <p:spPr>
          <a:xfrm>
            <a:off x="5946120" y="3562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2"/>
          <p:cNvSpPr/>
          <p:nvPr/>
        </p:nvSpPr>
        <p:spPr>
          <a:xfrm>
            <a:off x="4467960" y="51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23"/>
          <p:cNvSpPr/>
          <p:nvPr/>
        </p:nvSpPr>
        <p:spPr>
          <a:xfrm>
            <a:off x="4320360" y="3595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24"/>
          <p:cNvSpPr/>
          <p:nvPr/>
        </p:nvSpPr>
        <p:spPr>
          <a:xfrm>
            <a:off x="565200" y="1589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25"/>
          <p:cNvSpPr/>
          <p:nvPr/>
        </p:nvSpPr>
        <p:spPr>
          <a:xfrm>
            <a:off x="471240" y="1989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26"/>
          <p:cNvSpPr/>
          <p:nvPr/>
        </p:nvSpPr>
        <p:spPr>
          <a:xfrm>
            <a:off x="7410240" y="3022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7316640" y="3422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2"/>
          <p:cNvGrpSpPr/>
          <p:nvPr/>
        </p:nvGrpSpPr>
        <p:grpSpPr>
          <a:xfrm>
            <a:off x="421920" y="5229360"/>
            <a:ext cx="7561080" cy="1512720"/>
            <a:chOff x="421920" y="5229360"/>
            <a:chExt cx="7561080" cy="1512720"/>
          </a:xfrm>
        </p:grpSpPr>
        <p:sp>
          <p:nvSpPr>
            <p:cNvPr id="518" name="矩形 2"/>
            <p:cNvSpPr/>
            <p:nvPr/>
          </p:nvSpPr>
          <p:spPr>
            <a:xfrm rot="10800000">
              <a:off x="7623000" y="6165720"/>
              <a:ext cx="3600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3"/>
            <p:cNvSpPr/>
            <p:nvPr/>
          </p:nvSpPr>
          <p:spPr>
            <a:xfrm rot="10800000">
              <a:off x="7119000" y="5949720"/>
              <a:ext cx="3600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4"/>
            <p:cNvSpPr/>
            <p:nvPr/>
          </p:nvSpPr>
          <p:spPr>
            <a:xfrm rot="10800000">
              <a:off x="66150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5"/>
            <p:cNvSpPr/>
            <p:nvPr/>
          </p:nvSpPr>
          <p:spPr>
            <a:xfrm rot="10800000">
              <a:off x="5534640" y="5661360"/>
              <a:ext cx="360000" cy="10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6"/>
            <p:cNvSpPr/>
            <p:nvPr/>
          </p:nvSpPr>
          <p:spPr>
            <a:xfrm rot="10800000">
              <a:off x="503064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7"/>
            <p:cNvSpPr/>
            <p:nvPr/>
          </p:nvSpPr>
          <p:spPr>
            <a:xfrm rot="10800000">
              <a:off x="4526640" y="5229360"/>
              <a:ext cx="36000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8"/>
            <p:cNvSpPr/>
            <p:nvPr/>
          </p:nvSpPr>
          <p:spPr>
            <a:xfrm rot="10800000">
              <a:off x="34632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9"/>
            <p:cNvSpPr/>
            <p:nvPr/>
          </p:nvSpPr>
          <p:spPr>
            <a:xfrm rot="10800000">
              <a:off x="29592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0"/>
            <p:cNvSpPr/>
            <p:nvPr/>
          </p:nvSpPr>
          <p:spPr>
            <a:xfrm rot="10800000">
              <a:off x="245484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1"/>
            <p:cNvSpPr/>
            <p:nvPr/>
          </p:nvSpPr>
          <p:spPr>
            <a:xfrm rot="10800000">
              <a:off x="1429920" y="5805720"/>
              <a:ext cx="36000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2"/>
            <p:cNvSpPr/>
            <p:nvPr/>
          </p:nvSpPr>
          <p:spPr>
            <a:xfrm rot="10800000">
              <a:off x="92592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矩形 13"/>
            <p:cNvSpPr/>
            <p:nvPr/>
          </p:nvSpPr>
          <p:spPr>
            <a:xfrm rot="10800000">
              <a:off x="42192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TextBox 14"/>
          <p:cNvSpPr/>
          <p:nvPr/>
        </p:nvSpPr>
        <p:spPr>
          <a:xfrm>
            <a:off x="3749040" y="20304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5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6"/>
          <p:cNvSpPr/>
          <p:nvPr/>
        </p:nvSpPr>
        <p:spPr>
          <a:xfrm>
            <a:off x="5613840" y="376236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名称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17"/>
          <p:cNvSpPr/>
          <p:nvPr/>
        </p:nvSpPr>
        <p:spPr>
          <a:xfrm>
            <a:off x="5819400" y="414972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395280" y="6006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5:15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黑白 对比  强烈 商务 PPT模板</cp:keywords>
  <dc:language>en-US</dc:language>
  <cp:lastModifiedBy>yu wang</cp:lastModifiedBy>
  <cp:lastPrinted>1899-12-30T00:00:00Z</cp:lastPrinted>
  <dcterms:modified xsi:type="dcterms:W3CDTF">2015-08-08T10:05:58Z</dcterms:modified>
  <cp:revision>7</cp:revision>
  <dc:subject>商务PPT模板</dc:subject>
  <dc:title>黑白对比强烈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