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" ContentType="application/vnd.ms-exce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E05988-C5A1-4986-B8A7-B6B852195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DE7D81-BA0F-4382-8E7D-747DCC824F8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5A6B-DC71-468B-B9FA-8412AE35D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5C04-18C4-4F5B-A2E4-E950DB1C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69D0-9195-498F-9A41-E1A7B326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E6FF-A323-41BB-A74D-7B5B8810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DC1C-47E7-47E6-AC8F-EF3A6269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8274-787B-40E9-B757-80E1A8D5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9240-D478-40AD-A963-3FA165B4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8D6C-0C07-4E75-B9FC-FA22AEE6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2DA9-7624-404C-8AD6-77927DA6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DC2B-5161-4D8D-831A-31E65631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274E-62C9-4EF1-9BF4-DB52F27D4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5442-2068-4AC3-BDF2-62D1D7987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"/>
          <p:cNvPicPr/>
          <p:nvPr/>
        </p:nvPicPr>
        <p:blipFill>
          <a:blip r:embed="rId2"/>
          <a:stretch/>
        </p:blipFill>
        <p:spPr>
          <a:xfrm>
            <a:off x="-72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2"/>
          <a:stretch/>
        </p:blipFill>
        <p:spPr>
          <a:xfrm>
            <a:off x="72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2"/>
          <a:stretch/>
        </p:blipFill>
        <p:spPr>
          <a:xfrm>
            <a:off x="72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D07E93-48AA-49D5-8F1A-F2F0D601714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5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2"/>
          <p:cNvSpPr/>
          <p:nvPr/>
        </p:nvSpPr>
        <p:spPr>
          <a:xfrm>
            <a:off x="1270080" y="2895480"/>
            <a:ext cx="65772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黄蓝环绕背景的创意设计</a:t>
            </a:r>
            <a:r>
              <a:rPr b="0" lang="en-US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3960" cy="533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INDIA SOCIAL MEDIA REPORT, EDITION 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4"/>
          <p:cNvSpPr/>
          <p:nvPr/>
        </p:nvSpPr>
        <p:spPr>
          <a:xfrm>
            <a:off x="0" y="6609240"/>
            <a:ext cx="6325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Num" idx="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17F956-B2D5-4A77-BBFB-07B49D7C22A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Object 2"/>
          <p:cNvGraphicFramePr/>
          <p:nvPr/>
        </p:nvGraphicFramePr>
        <p:xfrm>
          <a:off x="168120" y="1454040"/>
          <a:ext cx="8903880" cy="3806640"/>
        </p:xfrm>
        <a:graphic>
          <a:graphicData uri="http://schemas.openxmlformats.org/presentationml/2006/ole">
            <p:oleObj progId="Excel.Chart.8" r:id="rId1" spid="">
              <p:embed/>
              <p:pic>
                <p:nvPicPr>
                  <p:cNvPr id="2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" y="1454040"/>
                    <a:ext cx="8903880" cy="38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Text Box 6"/>
          <p:cNvSpPr/>
          <p:nvPr/>
        </p:nvSpPr>
        <p:spPr>
          <a:xfrm>
            <a:off x="105480" y="1663560"/>
            <a:ext cx="674640" cy="243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Fig. in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-1080" y="5838840"/>
            <a:ext cx="1425960" cy="243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Base:89 Respond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9"/>
          <p:cNvSpPr/>
          <p:nvPr/>
        </p:nvSpPr>
        <p:spPr>
          <a:xfrm>
            <a:off x="3276720" y="1447920"/>
            <a:ext cx="1049040" cy="1044360"/>
          </a:xfrm>
          <a:prstGeom prst="ellipse">
            <a:avLst/>
          </a:prstGeom>
          <a:noFill/>
          <a:ln>
            <a:solidFill>
              <a:srgbClr val="92d050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IN" sz="18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4629240" y="1657440"/>
            <a:ext cx="4438440" cy="394200"/>
          </a:xfrm>
          <a:prstGeom prst="rect">
            <a:avLst/>
          </a:prstGeom>
          <a:solidFill>
            <a:srgbClr val="ffc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000" spc="-1" strike="noStrike">
                <a:solidFill>
                  <a:srgbClr val="000000"/>
                </a:solidFill>
                <a:latin typeface="Trebuchet MS"/>
                <a:ea typeface="宋体"/>
              </a:rPr>
              <a:t>Same trend follows in adoption - </a:t>
            </a:r>
            <a:r>
              <a:rPr b="0" lang="en-IN" sz="1000" spc="-1" strike="noStrike">
                <a:solidFill>
                  <a:srgbClr val="000000"/>
                </a:solidFill>
                <a:latin typeface="Calibri"/>
                <a:ea typeface="宋体"/>
              </a:rPr>
              <a:t>Among those ‘presently using’ mobile social networks/platform, SMS GupShup is the most pop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141480" y="640332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Num" idx="8"/>
          </p:nvPr>
        </p:nvSpPr>
        <p:spPr>
          <a:xfrm>
            <a:off x="70102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C52570-5C99-484B-86AE-370FDFE0B72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矩形 4"/>
          <p:cNvSpPr/>
          <p:nvPr/>
        </p:nvSpPr>
        <p:spPr>
          <a:xfrm>
            <a:off x="4987800" y="3429000"/>
            <a:ext cx="2391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4000" spc="-1" strike="noStrike">
                <a:solidFill>
                  <a:srgbClr val="0070c0"/>
                </a:solidFill>
                <a:latin typeface="方正正大黑简体"/>
                <a:ea typeface="方正正大黑简体"/>
              </a:rPr>
              <a:t>谢谢观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  <Words>636</Words>
  <Paragraphs>5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08:22:17Z</dcterms:created>
  <dc:creator>Sinha</dc:creator>
  <dc:description/>
  <dc:language>en-US</dc:language>
  <cp:lastModifiedBy>yu wang</cp:lastModifiedBy>
  <dcterms:modified xsi:type="dcterms:W3CDTF">2015-08-08T10:05:01Z</dcterms:modified>
  <cp:revision>4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6</vt:r8>
  </property>
</Properties>
</file>