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234-2DEB-43B2-ADD3-19AF7549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3CB-4E12-4DA4-83C6-2C750F68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E8D-BBB8-42E9-B344-305572F1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229-D040-43CE-A370-0D803A62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566D-48FA-4E63-B340-2BA51FD4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F464-EC3E-4CCD-87EC-E0E37700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C5DE-DBE6-4239-87DC-D9B25821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FE47-DB28-4487-83D0-00CB68E3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26E8-45FF-4BEC-8A16-BF2B6E41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3C49-65D2-4EB5-9C1D-C8F6E39D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1B1C-9514-4AF7-879B-876FC00A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62D-B9A5-498B-B8B7-A43AC2C8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D5A3-5A8C-4451-B29F-A492E3BA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73CD-9B28-43BB-9A96-AB7AB283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3D15-1BD3-4034-89EB-F6963660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9CF0-46AC-41D0-ABB9-29839A67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8064-CF14-4485-B0DA-B0F0A059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1D59-86E5-4AC1-AECE-7C860ED0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5BB0-B618-44D6-BD61-5CDD0FD8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B36AD-8502-4A69-9301-944488E7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0C68-07A9-4960-A9C5-95885EFC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73E08-C439-425E-9A69-9EA3518A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592-9288-47B4-BFFE-38ACDDC6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4C1A-DEE3-43FA-9B70-C8A5FD57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68C3-B760-4BEE-8C15-C68B39D7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25FD2-7B09-44A8-9317-BE286D0D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2ADD-35B9-4E66-92DB-6E77E9F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4627-B472-4427-852B-35E1BB80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9522-DB3A-49C5-8BA1-958D3B3C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424B-AE18-48B5-AF06-85D51671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8FF-59DF-4A46-BD49-03BDD52A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830-DD8F-4D88-9CB9-B6D7412D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617-C071-4A14-9504-0D971BAA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12D-223E-4CC9-AF50-FFE80E3B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AF0-47AC-4B18-B1A7-07016779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3C7-A8F2-4ADA-8B34-489049B8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7335-458A-4B7E-8803-8699AFA3D4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5FC7-5395-4E71-B65D-113F01CAF8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7812000" y="11592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4BE9-8B86-4C3D-8EAB-73FAEAD80B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红色箭头背景的抽象设计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"/>
          <p:cNvSpPr/>
          <p:nvPr/>
        </p:nvSpPr>
        <p:spPr>
          <a:xfrm>
            <a:off x="2181240" y="6616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44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0:19:21Z</dcterms:created>
  <dc:creator>Sky123.Org</dc:creator>
  <dc:description/>
  <cp:keywords/>
  <dc:language>en-US</dc:language>
  <cp:lastModifiedBy>yu wang</cp:lastModifiedBy>
  <dcterms:modified xsi:type="dcterms:W3CDTF">2015-08-08T10:04:50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  <property fmtid="{D5CDD505-2E9C-101B-9397-08002B2CF9AE}" pid="3" name="NXTAG2">
    <vt:lpwstr>0008001806000000000001024100</vt:lpwstr>
  </property>
</Properties>
</file>