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1520" y="-360"/>
            <a:ext cx="2970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58320" y="739440"/>
            <a:ext cx="49374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375480"/>
            <a:ext cx="2970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1520" y="9375480"/>
            <a:ext cx="2970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2B40-E1B4-42F4-BAA7-81E87B5E8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1520" y="9375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C837-0DBB-43FB-ADEC-1ECE1E66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1520" y="9375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161D-CAF1-4DE4-BBC4-D769A6FBA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1520" y="9375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3A84-DE95-4BCF-A020-9C924F100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1520" y="9375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597-3C23-431D-B36D-0091586E2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440" y="4689000"/>
            <a:ext cx="54817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B91-DC44-4E47-9A27-FC741EE3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FA2-E1DD-4AEE-B748-59AA12E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5BD-5642-44E1-8952-BF7B0B16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8FA-3C7B-466E-9C84-57B7417A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D39-F4B3-49C9-884E-90D764C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49A-863A-4C3A-AA6C-17F720D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587-1257-4213-B08A-C45EC5E9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A74-563F-441B-81A1-9DA82E7F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64A-3F75-4602-BEF0-97346E9F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26E-E06D-4C2B-BDD0-7D0BAF9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5E6-256D-4957-B667-9D8B094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3DC-55D7-4780-82CF-4066E45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39B6-6F47-4804-85AA-33C986485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LINE011"/>
          <p:cNvPicPr/>
          <p:nvPr/>
        </p:nvPicPr>
        <p:blipFill>
          <a:blip r:embed="rId3"/>
          <a:stretch/>
        </p:blipFill>
        <p:spPr>
          <a:xfrm>
            <a:off x="2050920" y="1125360"/>
            <a:ext cx="6858000" cy="63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图片1"/>
          <p:cNvPicPr/>
          <p:nvPr/>
        </p:nvPicPr>
        <p:blipFill>
          <a:blip r:embed="rId4"/>
          <a:stretch/>
        </p:blipFill>
        <p:spPr>
          <a:xfrm>
            <a:off x="324000" y="404640"/>
            <a:ext cx="14572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templat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Gill Sans M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Gill Sans M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1810080" y="1125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黑色酷炫毕业答辩简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495320" y="3462480"/>
            <a:ext cx="4043520" cy="3672720"/>
            <a:chOff x="4495320" y="3462480"/>
            <a:chExt cx="4043520" cy="3672720"/>
          </a:xfrm>
        </p:grpSpPr>
        <p:sp>
          <p:nvSpPr>
            <p:cNvPr id="92" name="Arc 3"/>
            <p:cNvSpPr/>
            <p:nvPr/>
          </p:nvSpPr>
          <p:spPr>
            <a:xfrm rot="976200">
              <a:off x="4825080" y="3879360"/>
              <a:ext cx="3383640" cy="2838600"/>
            </a:xfrm>
            <a:custGeom>
              <a:avLst/>
              <a:gdLst/>
              <a:ahLst/>
              <a:rect l="l" t="t" r="r" b="b"/>
              <a:pathLst>
                <a:path fill="none" w="20775" h="17405">
                  <a:moveTo>
                    <a:pt x="12791" y="-1"/>
                  </a:moveTo>
                  <a:cubicBezTo>
                    <a:pt x="16654" y="2838"/>
                    <a:pt x="19463" y="6882"/>
                    <a:pt x="20775" y="11492"/>
                  </a:cubicBezTo>
                </a:path>
                <a:path stroke="0" w="20775" h="17405">
                  <a:moveTo>
                    <a:pt x="12791" y="-1"/>
                  </a:moveTo>
                  <a:cubicBezTo>
                    <a:pt x="16654" y="2838"/>
                    <a:pt x="19463" y="6882"/>
                    <a:pt x="20775" y="11492"/>
                  </a:cubicBezTo>
                  <a:lnTo>
                    <a:pt x="0" y="17405"/>
                  </a:lnTo>
                  <a:lnTo>
                    <a:pt x="12791" y="-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rc 4"/>
            <p:cNvSpPr/>
            <p:nvPr/>
          </p:nvSpPr>
          <p:spPr>
            <a:xfrm rot="976200">
              <a:off x="4740120" y="4979520"/>
              <a:ext cx="1433160" cy="1446840"/>
            </a:xfrm>
            <a:custGeom>
              <a:avLst/>
              <a:gdLst/>
              <a:ahLst/>
              <a:rect l="l" t="t" r="r" b="b"/>
              <a:pathLst>
                <a:path fill="none" w="20775" h="20950">
                  <a:moveTo>
                    <a:pt x="5260" y="0"/>
                  </a:moveTo>
                  <a:cubicBezTo>
                    <a:pt x="12747" y="1880"/>
                    <a:pt x="18662" y="7613"/>
                    <a:pt x="20775" y="15037"/>
                  </a:cubicBezTo>
                </a:path>
                <a:path stroke="0" w="20775" h="20950">
                  <a:moveTo>
                    <a:pt x="5260" y="0"/>
                  </a:moveTo>
                  <a:cubicBezTo>
                    <a:pt x="12747" y="1880"/>
                    <a:pt x="18662" y="7613"/>
                    <a:pt x="20775" y="15037"/>
                  </a:cubicBezTo>
                  <a:lnTo>
                    <a:pt x="0" y="20950"/>
                  </a:lnTo>
                  <a:lnTo>
                    <a:pt x="52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"/>
          <p:cNvGrpSpPr/>
          <p:nvPr/>
        </p:nvGrpSpPr>
        <p:grpSpPr>
          <a:xfrm>
            <a:off x="613080" y="3462480"/>
            <a:ext cx="4043520" cy="3672720"/>
            <a:chOff x="613080" y="3462480"/>
            <a:chExt cx="4043520" cy="3672720"/>
          </a:xfrm>
        </p:grpSpPr>
        <p:sp>
          <p:nvSpPr>
            <p:cNvPr id="95" name="Arc 7"/>
            <p:cNvSpPr/>
            <p:nvPr/>
          </p:nvSpPr>
          <p:spPr>
            <a:xfrm flipH="1" rot="20623800">
              <a:off x="942840" y="3879360"/>
              <a:ext cx="3383640" cy="2838600"/>
            </a:xfrm>
            <a:custGeom>
              <a:avLst/>
              <a:gdLst/>
              <a:ahLst/>
              <a:rect l="l" t="t" r="r" b="b"/>
              <a:pathLst>
                <a:path fill="none" w="20775" h="17405">
                  <a:moveTo>
                    <a:pt x="12791" y="-1"/>
                  </a:moveTo>
                  <a:cubicBezTo>
                    <a:pt x="16654" y="2838"/>
                    <a:pt x="19463" y="6882"/>
                    <a:pt x="20775" y="11492"/>
                  </a:cubicBezTo>
                </a:path>
                <a:path stroke="0" w="20775" h="17405">
                  <a:moveTo>
                    <a:pt x="12791" y="-1"/>
                  </a:moveTo>
                  <a:cubicBezTo>
                    <a:pt x="16654" y="2838"/>
                    <a:pt x="19463" y="6882"/>
                    <a:pt x="20775" y="11492"/>
                  </a:cubicBezTo>
                  <a:lnTo>
                    <a:pt x="0" y="17405"/>
                  </a:lnTo>
                  <a:lnTo>
                    <a:pt x="12791" y="-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rc 8"/>
            <p:cNvSpPr/>
            <p:nvPr/>
          </p:nvSpPr>
          <p:spPr>
            <a:xfrm flipH="1" rot="20623800">
              <a:off x="2977560" y="4979520"/>
              <a:ext cx="1433160" cy="1446480"/>
            </a:xfrm>
            <a:custGeom>
              <a:avLst/>
              <a:gdLst/>
              <a:ahLst/>
              <a:rect l="l" t="t" r="r" b="b"/>
              <a:pathLst>
                <a:path fill="none" w="20775" h="20950">
                  <a:moveTo>
                    <a:pt x="5260" y="0"/>
                  </a:moveTo>
                  <a:cubicBezTo>
                    <a:pt x="12747" y="1880"/>
                    <a:pt x="18662" y="7613"/>
                    <a:pt x="20775" y="15037"/>
                  </a:cubicBezTo>
                </a:path>
                <a:path stroke="0" w="20775" h="20950">
                  <a:moveTo>
                    <a:pt x="5260" y="0"/>
                  </a:moveTo>
                  <a:cubicBezTo>
                    <a:pt x="12747" y="1880"/>
                    <a:pt x="18662" y="7613"/>
                    <a:pt x="20775" y="15037"/>
                  </a:cubicBezTo>
                  <a:lnTo>
                    <a:pt x="0" y="20950"/>
                  </a:lnTo>
                  <a:lnTo>
                    <a:pt x="52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9"/>
          <p:cNvSpPr/>
          <p:nvPr/>
        </p:nvSpPr>
        <p:spPr>
          <a:xfrm>
            <a:off x="1403280" y="4680000"/>
            <a:ext cx="1368360" cy="1197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10"/>
          <p:cNvSpPr/>
          <p:nvPr/>
        </p:nvSpPr>
        <p:spPr>
          <a:xfrm rot="976200">
            <a:off x="4735440" y="4979880"/>
            <a:ext cx="1433520" cy="1446480"/>
          </a:xfrm>
          <a:custGeom>
            <a:avLst/>
            <a:gdLst/>
            <a:ahLst/>
            <a:rect l="l" t="t" r="r" b="b"/>
            <a:pathLst>
              <a:path fill="none" w="20775" h="20950">
                <a:moveTo>
                  <a:pt x="5260" y="0"/>
                </a:moveTo>
                <a:cubicBezTo>
                  <a:pt x="12747" y="1880"/>
                  <a:pt x="18662" y="7613"/>
                  <a:pt x="20775" y="15037"/>
                </a:cubicBezTo>
              </a:path>
              <a:path stroke="0" w="20775" h="20950">
                <a:moveTo>
                  <a:pt x="5260" y="0"/>
                </a:moveTo>
                <a:cubicBezTo>
                  <a:pt x="12747" y="1880"/>
                  <a:pt x="18662" y="7613"/>
                  <a:pt x="20775" y="15037"/>
                </a:cubicBezTo>
                <a:lnTo>
                  <a:pt x="0" y="20950"/>
                </a:lnTo>
                <a:lnTo>
                  <a:pt x="52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1"/>
          <p:cNvSpPr/>
          <p:nvPr/>
        </p:nvSpPr>
        <p:spPr>
          <a:xfrm flipH="1" rot="14494800">
            <a:off x="3844080" y="4811760"/>
            <a:ext cx="712800" cy="53496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2"/>
          <p:cNvSpPr/>
          <p:nvPr/>
        </p:nvSpPr>
        <p:spPr>
          <a:xfrm flipH="1" rot="12547800">
            <a:off x="3185280" y="5475240"/>
            <a:ext cx="430200" cy="45072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635280" y="5516640"/>
            <a:ext cx="1793880" cy="819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4"/>
          <p:cNvSpPr/>
          <p:nvPr/>
        </p:nvSpPr>
        <p:spPr>
          <a:xfrm rot="9052200">
            <a:off x="5533200" y="5475240"/>
            <a:ext cx="430200" cy="45072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6404040" y="4680000"/>
            <a:ext cx="1247760" cy="1197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1965240" y="2495520"/>
            <a:ext cx="2548080" cy="2660400"/>
            <a:chOff x="1965240" y="2495520"/>
            <a:chExt cx="2548080" cy="2660400"/>
          </a:xfrm>
        </p:grpSpPr>
        <p:sp>
          <p:nvSpPr>
            <p:cNvPr id="105" name="Freeform 20"/>
            <p:cNvSpPr/>
            <p:nvPr/>
          </p:nvSpPr>
          <p:spPr>
            <a:xfrm>
              <a:off x="1965240" y="2495520"/>
              <a:ext cx="2548080" cy="2660400"/>
            </a:xfrm>
            <a:custGeom>
              <a:avLst/>
              <a:gdLst/>
              <a:ahLst/>
              <a:rect l="l" t="t" r="r" b="b"/>
              <a:pathLst>
                <a:path w="1739" h="1676">
                  <a:moveTo>
                    <a:pt x="0" y="910"/>
                  </a:moveTo>
                  <a:lnTo>
                    <a:pt x="1075" y="1676"/>
                  </a:lnTo>
                  <a:lnTo>
                    <a:pt x="1151" y="1620"/>
                  </a:lnTo>
                  <a:lnTo>
                    <a:pt x="1235" y="1552"/>
                  </a:lnTo>
                  <a:lnTo>
                    <a:pt x="1327" y="1496"/>
                  </a:lnTo>
                  <a:lnTo>
                    <a:pt x="1427" y="1448"/>
                  </a:lnTo>
                  <a:lnTo>
                    <a:pt x="1523" y="1412"/>
                  </a:lnTo>
                  <a:lnTo>
                    <a:pt x="1605" y="1388"/>
                  </a:lnTo>
                  <a:lnTo>
                    <a:pt x="1683" y="1376"/>
                  </a:lnTo>
                  <a:lnTo>
                    <a:pt x="1739" y="1368"/>
                  </a:lnTo>
                  <a:lnTo>
                    <a:pt x="1739" y="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1"/>
            <p:cNvSpPr/>
            <p:nvPr/>
          </p:nvSpPr>
          <p:spPr>
            <a:xfrm>
              <a:off x="1966320" y="2495520"/>
              <a:ext cx="2546640" cy="1444680"/>
            </a:xfrm>
            <a:custGeom>
              <a:avLst/>
              <a:gdLst/>
              <a:ahLst/>
              <a:rect l="l" t="t" r="r" b="b"/>
              <a:pathLst>
                <a:path w="1610" h="910">
                  <a:moveTo>
                    <a:pt x="0" y="910"/>
                  </a:moveTo>
                  <a:cubicBezTo>
                    <a:pt x="54" y="835"/>
                    <a:pt x="112" y="761"/>
                    <a:pt x="196" y="677"/>
                  </a:cubicBezTo>
                  <a:cubicBezTo>
                    <a:pt x="281" y="593"/>
                    <a:pt x="409" y="480"/>
                    <a:pt x="509" y="403"/>
                  </a:cubicBezTo>
                  <a:cubicBezTo>
                    <a:pt x="608" y="326"/>
                    <a:pt x="701" y="262"/>
                    <a:pt x="794" y="211"/>
                  </a:cubicBezTo>
                  <a:cubicBezTo>
                    <a:pt x="887" y="160"/>
                    <a:pt x="959" y="129"/>
                    <a:pt x="1064" y="97"/>
                  </a:cubicBezTo>
                  <a:cubicBezTo>
                    <a:pt x="1169" y="65"/>
                    <a:pt x="1335" y="32"/>
                    <a:pt x="1426" y="16"/>
                  </a:cubicBezTo>
                  <a:cubicBezTo>
                    <a:pt x="1517" y="0"/>
                    <a:pt x="1572" y="6"/>
                    <a:pt x="1610" y="4"/>
                  </a:cubicBez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2771640" y="2997360"/>
            <a:ext cx="1729080" cy="1295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4"/>
          <p:cNvSpPr/>
          <p:nvPr/>
        </p:nvSpPr>
        <p:spPr>
          <a:xfrm rot="7105200">
            <a:off x="4700520" y="4811760"/>
            <a:ext cx="712800" cy="53496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4643280" y="2495520"/>
            <a:ext cx="2548080" cy="2660400"/>
            <a:chOff x="4643280" y="2495520"/>
            <a:chExt cx="2548080" cy="2660400"/>
          </a:xfrm>
        </p:grpSpPr>
        <p:sp>
          <p:nvSpPr>
            <p:cNvPr id="110" name="Freeform 26"/>
            <p:cNvSpPr/>
            <p:nvPr/>
          </p:nvSpPr>
          <p:spPr>
            <a:xfrm flipH="1">
              <a:off x="4643280" y="2495520"/>
              <a:ext cx="2548080" cy="2660400"/>
            </a:xfrm>
            <a:custGeom>
              <a:avLst/>
              <a:gdLst/>
              <a:ahLst/>
              <a:rect l="l" t="t" r="r" b="b"/>
              <a:pathLst>
                <a:path w="1739" h="1676">
                  <a:moveTo>
                    <a:pt x="0" y="910"/>
                  </a:moveTo>
                  <a:lnTo>
                    <a:pt x="1075" y="1676"/>
                  </a:lnTo>
                  <a:lnTo>
                    <a:pt x="1151" y="1620"/>
                  </a:lnTo>
                  <a:lnTo>
                    <a:pt x="1235" y="1552"/>
                  </a:lnTo>
                  <a:lnTo>
                    <a:pt x="1327" y="1496"/>
                  </a:lnTo>
                  <a:lnTo>
                    <a:pt x="1427" y="1448"/>
                  </a:lnTo>
                  <a:lnTo>
                    <a:pt x="1523" y="1412"/>
                  </a:lnTo>
                  <a:lnTo>
                    <a:pt x="1605" y="1388"/>
                  </a:lnTo>
                  <a:lnTo>
                    <a:pt x="1683" y="1376"/>
                  </a:lnTo>
                  <a:lnTo>
                    <a:pt x="1739" y="1368"/>
                  </a:lnTo>
                  <a:lnTo>
                    <a:pt x="1739" y="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7"/>
            <p:cNvSpPr/>
            <p:nvPr/>
          </p:nvSpPr>
          <p:spPr>
            <a:xfrm flipH="1">
              <a:off x="4643640" y="2495520"/>
              <a:ext cx="2546640" cy="1444680"/>
            </a:xfrm>
            <a:custGeom>
              <a:avLst/>
              <a:gdLst/>
              <a:ahLst/>
              <a:rect l="l" t="t" r="r" b="b"/>
              <a:pathLst>
                <a:path w="1610" h="910">
                  <a:moveTo>
                    <a:pt x="0" y="910"/>
                  </a:moveTo>
                  <a:cubicBezTo>
                    <a:pt x="54" y="835"/>
                    <a:pt x="112" y="761"/>
                    <a:pt x="196" y="677"/>
                  </a:cubicBezTo>
                  <a:cubicBezTo>
                    <a:pt x="281" y="593"/>
                    <a:pt x="409" y="480"/>
                    <a:pt x="509" y="403"/>
                  </a:cubicBezTo>
                  <a:cubicBezTo>
                    <a:pt x="608" y="326"/>
                    <a:pt x="701" y="262"/>
                    <a:pt x="794" y="211"/>
                  </a:cubicBezTo>
                  <a:cubicBezTo>
                    <a:pt x="887" y="160"/>
                    <a:pt x="959" y="129"/>
                    <a:pt x="1064" y="97"/>
                  </a:cubicBezTo>
                  <a:cubicBezTo>
                    <a:pt x="1169" y="65"/>
                    <a:pt x="1335" y="32"/>
                    <a:pt x="1426" y="16"/>
                  </a:cubicBezTo>
                  <a:cubicBezTo>
                    <a:pt x="1517" y="0"/>
                    <a:pt x="1572" y="6"/>
                    <a:pt x="1610" y="4"/>
                  </a:cubicBez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28"/>
          <p:cNvSpPr/>
          <p:nvPr/>
        </p:nvSpPr>
        <p:spPr>
          <a:xfrm>
            <a:off x="4643280" y="2997360"/>
            <a:ext cx="1729080" cy="1295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5292720" y="573408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25916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研究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209760" y="3741840"/>
            <a:ext cx="2770200" cy="10857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719280" y="2349360"/>
            <a:ext cx="3806640" cy="1854360"/>
          </a:xfrm>
          <a:custGeom>
            <a:avLst/>
            <a:gdLst/>
            <a:ahLst/>
            <a:rect l="l" t="t" r="r" b="b"/>
            <a:pathLst>
              <a:path w="2444" h="1014">
                <a:moveTo>
                  <a:pt x="0" y="1014"/>
                </a:moveTo>
                <a:lnTo>
                  <a:pt x="1518" y="1014"/>
                </a:lnTo>
                <a:lnTo>
                  <a:pt x="1518" y="696"/>
                </a:lnTo>
                <a:lnTo>
                  <a:pt x="2444" y="696"/>
                </a:lnTo>
                <a:lnTo>
                  <a:pt x="2444" y="0"/>
                </a:lnTo>
                <a:lnTo>
                  <a:pt x="0" y="0"/>
                </a:lnTo>
                <a:lnTo>
                  <a:pt x="0" y="101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4653000" y="2349360"/>
            <a:ext cx="3806640" cy="1854360"/>
          </a:xfrm>
          <a:custGeom>
            <a:avLst/>
            <a:gdLst/>
            <a:ahLst/>
            <a:rect l="l" t="t" r="r" b="b"/>
            <a:pathLst>
              <a:path w="2444" h="1014">
                <a:moveTo>
                  <a:pt x="2444" y="1014"/>
                </a:moveTo>
                <a:lnTo>
                  <a:pt x="926" y="1014"/>
                </a:lnTo>
                <a:lnTo>
                  <a:pt x="926" y="696"/>
                </a:lnTo>
                <a:lnTo>
                  <a:pt x="0" y="696"/>
                </a:lnTo>
                <a:lnTo>
                  <a:pt x="0" y="0"/>
                </a:lnTo>
                <a:lnTo>
                  <a:pt x="2444" y="0"/>
                </a:lnTo>
                <a:lnTo>
                  <a:pt x="2444" y="101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719280" y="4338720"/>
            <a:ext cx="3806640" cy="1868400"/>
          </a:xfrm>
          <a:custGeom>
            <a:avLst/>
            <a:gdLst/>
            <a:ahLst/>
            <a:rect l="l" t="t" r="r" b="b"/>
            <a:pathLst>
              <a:path w="2444" h="1022">
                <a:moveTo>
                  <a:pt x="0" y="0"/>
                </a:moveTo>
                <a:lnTo>
                  <a:pt x="1518" y="0"/>
                </a:lnTo>
                <a:lnTo>
                  <a:pt x="1518" y="326"/>
                </a:lnTo>
                <a:lnTo>
                  <a:pt x="2444" y="326"/>
                </a:lnTo>
                <a:lnTo>
                  <a:pt x="2444" y="1022"/>
                </a:lnTo>
                <a:lnTo>
                  <a:pt x="0" y="1022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4653000" y="4338720"/>
            <a:ext cx="3806640" cy="1868400"/>
          </a:xfrm>
          <a:custGeom>
            <a:avLst/>
            <a:gdLst/>
            <a:ahLst/>
            <a:rect l="l" t="t" r="r" b="b"/>
            <a:pathLst>
              <a:path w="2444" h="1022">
                <a:moveTo>
                  <a:pt x="2444" y="0"/>
                </a:moveTo>
                <a:lnTo>
                  <a:pt x="926" y="0"/>
                </a:lnTo>
                <a:lnTo>
                  <a:pt x="926" y="326"/>
                </a:lnTo>
                <a:lnTo>
                  <a:pt x="0" y="326"/>
                </a:lnTo>
                <a:lnTo>
                  <a:pt x="0" y="1022"/>
                </a:lnTo>
                <a:lnTo>
                  <a:pt x="2444" y="1022"/>
                </a:lnTo>
                <a:lnTo>
                  <a:pt x="2444" y="0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7080" y="2792520"/>
            <a:ext cx="34876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719280" y="2349360"/>
            <a:ext cx="3805200" cy="358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4654440" y="2349360"/>
            <a:ext cx="3805200" cy="358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719280" y="5848200"/>
            <a:ext cx="3806640" cy="358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4653000" y="5848200"/>
            <a:ext cx="3806640" cy="358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研究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4612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9"/>
          <p:cNvGrpSpPr/>
          <p:nvPr/>
        </p:nvGrpSpPr>
        <p:grpSpPr>
          <a:xfrm>
            <a:off x="1152360" y="2689200"/>
            <a:ext cx="7164360" cy="3835440"/>
            <a:chOff x="1152360" y="2689200"/>
            <a:chExt cx="7164360" cy="3835440"/>
          </a:xfrm>
        </p:grpSpPr>
        <p:sp>
          <p:nvSpPr>
            <p:cNvPr id="128" name="Oval 3"/>
            <p:cNvSpPr/>
            <p:nvPr/>
          </p:nvSpPr>
          <p:spPr>
            <a:xfrm>
              <a:off x="2068200" y="3130560"/>
              <a:ext cx="5216400" cy="3197160"/>
            </a:xfrm>
            <a:prstGeom prst="ellipse">
              <a:avLst/>
            </a:prstGeom>
            <a:solidFill>
              <a:srgbClr val="333399"/>
            </a:solidFill>
            <a:ln w="64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"/>
            <p:cNvSpPr/>
            <p:nvPr/>
          </p:nvSpPr>
          <p:spPr>
            <a:xfrm>
              <a:off x="1152360" y="3711600"/>
              <a:ext cx="2050920" cy="10350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"/>
            <p:cNvSpPr/>
            <p:nvPr/>
          </p:nvSpPr>
          <p:spPr>
            <a:xfrm flipH="1">
              <a:off x="1276920" y="4033800"/>
              <a:ext cx="1787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2066760" y="5489640"/>
              <a:ext cx="2050920" cy="1035000"/>
            </a:xfrm>
            <a:prstGeom prst="ellipse">
              <a:avLst/>
            </a:prstGeom>
            <a:solidFill>
              <a:srgbClr val="ffcc00"/>
            </a:solidFill>
            <a:ln w="64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 flipH="1">
              <a:off x="2212560" y="5834160"/>
              <a:ext cx="1787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3651120" y="2689200"/>
              <a:ext cx="2050920" cy="10353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9"/>
            <p:cNvSpPr/>
            <p:nvPr/>
          </p:nvSpPr>
          <p:spPr>
            <a:xfrm flipH="1">
              <a:off x="3796920" y="3087720"/>
              <a:ext cx="1787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6265440" y="3711600"/>
              <a:ext cx="2051280" cy="10350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 flipH="1">
              <a:off x="6401520" y="4095720"/>
              <a:ext cx="1787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5219280" y="5489640"/>
              <a:ext cx="2051280" cy="10350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 flipH="1">
              <a:off x="5381280" y="5834160"/>
              <a:ext cx="1787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 flipH="1">
              <a:off x="3441240" y="4426200"/>
              <a:ext cx="2470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 flipV="1">
              <a:off x="6028920" y="4498560"/>
              <a:ext cx="0" cy="42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1511280" y="366840"/>
            <a:ext cx="730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0:51:20Z</dcterms:created>
  <dc:creator>wk</dc:creator>
  <dc:description/>
  <dc:language>en-US</dc:language>
  <cp:lastModifiedBy>yu wang</cp:lastModifiedBy>
  <dcterms:modified xsi:type="dcterms:W3CDTF">2015-08-08T10:06:49Z</dcterms:modified>
  <cp:revision>189</cp:revision>
  <dc:subject/>
  <dc:title>开题报告</dc:title>
</cp:coreProperties>
</file>