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2A21-4248-4AE2-9555-EE3773EB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10360"/>
            <a:ext cx="822924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B17-D618-4AF2-B01E-25C6682D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1036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1036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4ED-27D4-4A17-9A17-21B1F0A4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1036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1036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1036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A3D-3794-4D78-9E90-5DE7322E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E10A-45D0-4FE9-92D6-5EEDE26A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D66A-0612-41B6-9A23-A95A798C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8D4F-7D25-414D-B261-D668FEEF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3FAB-823A-45D2-B074-B055F3C5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6C23-EC28-4402-A1B6-E24D7CEB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A38A-E339-482A-9DC4-0596A725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1036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5062-CA12-412A-BA7A-733D5467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865-3016-49AD-89DF-651DEACC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51036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5ADE-C51F-4E72-B390-960FB719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10360"/>
            <a:ext cx="822924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B5EB-8DFD-48EF-BEFA-A3C168CE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510360"/>
            <a:ext cx="822924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EA05-C9FF-4C8E-BC5F-CA5CA719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1036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51036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373C-A879-4235-8DEF-ABD558CC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51036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51036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510360"/>
            <a:ext cx="26496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AB00-F79C-40C8-A2DE-43BEA73D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003-2113-4995-8583-B561D3CE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8BC-6F1E-4BC9-A234-FBD22853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EB8-49A1-4BAB-BEF7-AB086948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57F-5B7B-4D83-9351-01BB472C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1036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759-ED99-4618-A46A-18A982A9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1036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3C6-53D3-4D47-8836-65B07BA8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10360"/>
            <a:ext cx="822924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A2A-0261-4133-80CB-25604D83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1700640"/>
            <a:ext cx="9143640" cy="1686960"/>
          </a:xfrm>
          <a:prstGeom prst="rect">
            <a:avLst/>
          </a:prstGeom>
          <a:solidFill>
            <a:srgbClr val="ffc000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1828800"/>
            <a:ext cx="7086240" cy="83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90E1CE-1197-48D1-A840-DA2904A2A0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3657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20C395-E2C9-4D84-82E9-F20D901DE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35400" y="1913040"/>
            <a:ext cx="7937280" cy="83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红色图案背景的艺术创意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44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4"/>
          <p:cNvSpPr/>
          <p:nvPr/>
        </p:nvSpPr>
        <p:spPr>
          <a:xfrm>
            <a:off x="107640" y="5589360"/>
            <a:ext cx="8337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1" lang="en-US" sz="105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66ccff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66ccff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66ccff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en-US" sz="980" spc="-1" strike="noStrike" u="sng">
                <a:solidFill>
                  <a:srgbClr val="66ccff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80" spc="-1" strike="noStrike" u="sng">
                <a:solidFill>
                  <a:srgbClr val="66ccff"/>
                </a:solidFill>
                <a:uFillTx/>
                <a:latin typeface="Arial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hristmasbg_0409 print">
  <a:themeElements>
    <a:clrScheme name="Default Design 9">
      <a:dk1>
        <a:srgbClr val="336699"/>
      </a:dk1>
      <a:lt1>
        <a:srgbClr val="ffffff"/>
      </a:lt1>
      <a:dk2>
        <a:srgbClr val="000000"/>
      </a:dk2>
      <a:lt2>
        <a:srgbClr val="e3ebf1"/>
      </a:lt2>
      <a:accent1>
        <a:srgbClr val="003399"/>
      </a:accent1>
      <a:accent2>
        <a:srgbClr val="468a4b"/>
      </a:accent2>
      <a:accent3>
        <a:srgbClr val="aaaaaa"/>
      </a:accent3>
      <a:accent4>
        <a:srgbClr val="dadada"/>
      </a:accent4>
      <a:accent5>
        <a:srgbClr val="aaadca"/>
      </a:accent5>
      <a:accent6>
        <a:srgbClr val="3f7d43"/>
      </a:accent6>
      <a:hlink>
        <a:srgbClr val="66ccff"/>
      </a:hlink>
      <a:folHlink>
        <a:srgbClr val="f0e5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hristmasbg_0409 print">
  <a:themeElements>
    <a:clrScheme name="Default Design 9">
      <a:dk1>
        <a:srgbClr val="336699"/>
      </a:dk1>
      <a:lt1>
        <a:srgbClr val="ffffff"/>
      </a:lt1>
      <a:dk2>
        <a:srgbClr val="000000"/>
      </a:dk2>
      <a:lt2>
        <a:srgbClr val="e3ebf1"/>
      </a:lt2>
      <a:accent1>
        <a:srgbClr val="003399"/>
      </a:accent1>
      <a:accent2>
        <a:srgbClr val="468a4b"/>
      </a:accent2>
      <a:accent3>
        <a:srgbClr val="aaaaaa"/>
      </a:accent3>
      <a:accent4>
        <a:srgbClr val="dadada"/>
      </a:accent4>
      <a:accent5>
        <a:srgbClr val="aaadca"/>
      </a:accent5>
      <a:accent6>
        <a:srgbClr val="3f7d43"/>
      </a:accent6>
      <a:hlink>
        <a:srgbClr val="66ccff"/>
      </a:hlink>
      <a:folHlink>
        <a:srgbClr val="f0e5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hristmasbg_0409 print</Template>
  <TotalTime>199</TotalTime>
  <Application>LibreOffice/7.4.7.2$Linux_X86_64 LibreOffice_project/40$Build-2</Application>
  <AppVersion>15.0000</AppVersion>
  <Words>579</Words>
  <Paragraphs>43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1:49:19Z</dcterms:created>
  <dc:creator>slideplant</dc:creator>
  <dc:description/>
  <dc:language>en-US</dc:language>
  <cp:lastModifiedBy>yu wang</cp:lastModifiedBy>
  <dcterms:modified xsi:type="dcterms:W3CDTF">2015-08-08T10:04:48Z</dcterms:modified>
  <cp:revision>12</cp:revision>
  <dc:subject/>
  <dc:title>Power Point 演示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