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8DF8-FBC1-4D06-ACA3-12EA7407775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49E7-AD92-4A64-9712-DF70CB4442E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9FED-1CE0-40FD-B813-E4ADC4972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948A-5727-4BC7-9A0A-81DBC17A9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C90C-7854-46B5-93B3-87E85B1BE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4394-E585-49F9-85EE-462B4E2BB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26CF7-0B12-4856-9C69-EED20186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9CB24-ACC3-4876-A0A3-4FDA4A29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CB41F-84A4-4134-890F-840DF603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F1277-9D0D-4BD2-AF44-9F27ECD6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0A02F-C5EA-4B9F-981C-E69BD169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EB333-7A97-4E33-8705-1EC3EFC9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D2331-7B5D-4799-B6ED-9264EF1E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F445-10D4-43E2-B728-D710FF54C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F5BBD-0A6B-4F54-916D-A5D9AFF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D20EC-968D-4457-9093-43489BB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9D0E4-ECF0-46A8-9ECD-16B12C1D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DCFFB-502B-4CCA-99C3-C5F6DF67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7D33B-F2F2-4368-8207-92D4A662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C3D7-8789-4DA9-BBA0-59105B349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F8CD-7119-4DB6-92A9-D61E3FE37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1A8D-2304-4D16-9176-BF56721D3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17A2-CB4D-48F7-8E5F-EF14AA711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450D-F4A3-40C5-AF65-45DC97108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9B95-D073-4C1D-B431-59EC7344F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76C9-7F02-4165-AF2D-B4871439C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962520" y="0"/>
            <a:ext cx="5181480" cy="685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90520" y="-150840"/>
            <a:ext cx="1766520" cy="1512720"/>
            <a:chOff x="290520" y="-150840"/>
            <a:chExt cx="1766520" cy="1512720"/>
          </a:xfrm>
        </p:grpSpPr>
        <p:sp>
          <p:nvSpPr>
            <p:cNvPr id="3" name="AutoShape 5"/>
            <p:cNvSpPr/>
            <p:nvPr/>
          </p:nvSpPr>
          <p:spPr>
            <a:xfrm>
              <a:off x="290520" y="-150840"/>
              <a:ext cx="1004760" cy="80136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290520" y="561600"/>
              <a:ext cx="1004760" cy="80028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>
              <a:off x="1052280" y="26640"/>
              <a:ext cx="1004760" cy="80172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43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380520" y="63241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5d093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534160" y="6477120"/>
            <a:ext cx="533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543d18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1228-C22B-4D5B-964B-8449187ACAAF}" type="slidenum">
              <a:rPr b="1" lang="ko-KR" sz="1200" spc="-1" strike="noStrike">
                <a:solidFill>
                  <a:srgbClr val="543d18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d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45908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a5d5f"/>
              </a:gs>
              <a:gs pos="50000">
                <a:srgbClr val="7ec8ce"/>
              </a:gs>
              <a:gs pos="100000">
                <a:srgbClr val="3a5d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87156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68580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b374"/>
              </a:gs>
              <a:gs pos="50000">
                <a:srgbClr val="ffffcc"/>
              </a:gs>
              <a:gs pos="100000">
                <a:srgbClr val="ccb3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6146640" y="3778200"/>
            <a:ext cx="2792160" cy="2689200"/>
            <a:chOff x="6146640" y="3778200"/>
            <a:chExt cx="2792160" cy="2689200"/>
          </a:xfrm>
        </p:grpSpPr>
        <p:sp>
          <p:nvSpPr>
            <p:cNvPr id="52" name="AutoShape 8"/>
            <p:cNvSpPr/>
            <p:nvPr/>
          </p:nvSpPr>
          <p:spPr>
            <a:xfrm>
              <a:off x="6146640" y="3778200"/>
              <a:ext cx="158796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9"/>
            <p:cNvSpPr/>
            <p:nvPr/>
          </p:nvSpPr>
          <p:spPr>
            <a:xfrm>
              <a:off x="6146640" y="4904280"/>
              <a:ext cx="158796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10"/>
            <p:cNvSpPr/>
            <p:nvPr/>
          </p:nvSpPr>
          <p:spPr>
            <a:xfrm>
              <a:off x="7351200" y="405972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utoShape 11"/>
            <p:cNvSpPr/>
            <p:nvPr/>
          </p:nvSpPr>
          <p:spPr>
            <a:xfrm>
              <a:off x="7351200" y="520020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7446960" y="5622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3d18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33520" y="152388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8"/>
          <p:cNvSpPr/>
          <p:nvPr/>
        </p:nvSpPr>
        <p:spPr>
          <a:xfrm>
            <a:off x="5842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9"/>
          <p:cNvSpPr/>
          <p:nvPr/>
        </p:nvSpPr>
        <p:spPr>
          <a:xfrm>
            <a:off x="106992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153360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21"/>
          <p:cNvSpPr/>
          <p:nvPr/>
        </p:nvSpPr>
        <p:spPr>
          <a:xfrm>
            <a:off x="20192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24940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29908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346536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39146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43178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7"/>
          <p:cNvSpPr/>
          <p:nvPr/>
        </p:nvSpPr>
        <p:spPr>
          <a:xfrm>
            <a:off x="47322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8"/>
          <p:cNvSpPr/>
          <p:nvPr/>
        </p:nvSpPr>
        <p:spPr>
          <a:xfrm>
            <a:off x="51894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43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672-AE8C-48D5-BF8A-3708593D8292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184480"/>
            <a:ext cx="747864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3d18"/>
                </a:solidFill>
                <a:latin typeface="Verdana"/>
                <a:ea typeface="Gulim"/>
              </a:rPr>
              <a:t>经典雅致简洁毕业答辩</a:t>
            </a:r>
            <a:r>
              <a:rPr b="1" lang="en-US" sz="4000" spc="-1" strike="noStrike">
                <a:solidFill>
                  <a:srgbClr val="543d18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543d18"/>
                </a:solidFill>
                <a:latin typeface="Verdana"/>
                <a:ea typeface="Gulim"/>
              </a:rPr>
              <a:t>模板</a:t>
            </a:r>
            <a:endParaRPr b="1" lang="en-US" sz="4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184120"/>
            <a:ext cx="747864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543d18"/>
                </a:solidFill>
                <a:latin typeface="Verdana"/>
                <a:ea typeface="Gulim"/>
              </a:rPr>
              <a:t>Thank you</a:t>
            </a:r>
            <a:endParaRPr b="1" lang="en-US" sz="58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3d18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e5d093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e5d093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5"/>
              </a:rPr>
              <a:t>ppt动态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7"/>
              </a:rPr>
              <a:t>ppt 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9"/>
              </a:rPr>
              <a:t>ppt模板素材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e5d093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工业制造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会议报告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交通安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培训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卡通动漫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体育运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3623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52480" y="1660680"/>
            <a:ext cx="609840" cy="53316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3623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752480" y="244476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3623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752480" y="324000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3623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752480" y="402264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3623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100000">
                <a:srgbClr val="ccb37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752480" y="488304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543d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469440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e5d093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895280" y="414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e5d093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0" y="6573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5d09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33256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55306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2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d18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543d18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86080" y="1905120"/>
          <a:ext cx="7224480" cy="3886200"/>
        </p:xfrm>
        <a:graphic>
          <a:graphicData uri="http://schemas.openxmlformats.org/drawingml/2006/table">
            <a:tbl>
              <a:tblPr/>
              <a:tblGrid>
                <a:gridCol w="1204560"/>
                <a:gridCol w="1203480"/>
                <a:gridCol w="1204920"/>
                <a:gridCol w="1203480"/>
                <a:gridCol w="1204920"/>
                <a:gridCol w="120312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3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50000">
                <a:srgbClr val="ffffff"/>
              </a:gs>
              <a:gs pos="100000">
                <a:srgbClr val="e5d093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7ec8ce"/>
              </a:gs>
              <a:gs pos="50000">
                <a:srgbClr val="ffffff"/>
              </a:gs>
              <a:gs pos="100000">
                <a:srgbClr val="7ec8ce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e5d093"/>
              </a:gs>
              <a:gs pos="50000">
                <a:srgbClr val="ffffff"/>
              </a:gs>
              <a:gs pos="100000">
                <a:srgbClr val="e5d093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hart 2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380880" y="13716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hart 3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2058840" y="1600200"/>
          <a:ext cx="64375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8840" y="1600200"/>
                    <a:ext cx="64375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9"/>
          <p:cNvSpPr/>
          <p:nvPr/>
        </p:nvSpPr>
        <p:spPr>
          <a:xfrm>
            <a:off x="347760" y="65563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5d093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7:51:10Z</dcterms:created>
  <dc:creator/>
  <dc:description/>
  <cp:keywords/>
  <dc:language>en-US</dc:language>
  <cp:lastModifiedBy>yu wang</cp:lastModifiedBy>
  <cp:lastPrinted>1899-12-30T00:00:00Z</cp:lastPrinted>
  <dcterms:modified xsi:type="dcterms:W3CDTF">2015-08-08T10:06:40Z</dcterms:modified>
  <cp:revision>5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