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7E793B-B9F5-4393-B7B5-840B5215A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829AD8-036E-4FF8-A545-22AED4B2FE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B27-3313-42E7-A611-E68EDAC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9A5-4BB7-4E94-B3CF-C0DD3A84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828-DC12-4E3A-8A41-2792DC06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05C-1D57-4344-9B2B-1BD6F649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453A-9E63-416C-9239-E7DF6780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4EBA-F978-4A22-8241-7C7233E4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1079-5146-4EC9-A96B-667FEB6A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234-6BD1-4C0D-8770-5078FAD0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139-758D-44CF-AA23-B89A003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C83B-D51D-46BC-97F3-2D03FD75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AC02-261F-4ABC-9327-036B80E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F20-9F9D-4F52-AFFA-15B6A376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2B7D-EF32-4941-8B3F-448E5CE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F001-2638-45F1-9009-D61CACB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6D13-DF6C-4647-B6C7-1E382B60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80B-4956-4A1E-A987-20F206DB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B16A-7510-4E10-B540-D0DC5ECB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844-CB1E-472E-92F2-8065B263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400-2218-4331-A082-AF8822D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73B-FA25-4CB8-AE41-E516172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6F3-B4DE-4F91-A846-409D6932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FF1-6D78-4509-BDBE-220A879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1FC-607E-4C1E-8677-9CD2F7D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DA9-3BD9-48E8-8810-ED2ACD3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1.jpg"/>
          <p:cNvPicPr/>
          <p:nvPr/>
        </p:nvPicPr>
        <p:blipFill>
          <a:blip r:embed="rId3"/>
          <a:srcRect l="1975" t="0" r="0" b="0"/>
          <a:stretch/>
        </p:blipFill>
        <p:spPr>
          <a:xfrm>
            <a:off x="0" y="0"/>
            <a:ext cx="896328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95640" y="328500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EA4941-3A71-48A3-9D41-E7F7912D0059}" type="slidenum">
              <a:rPr b="0" lang="en-US" sz="1200" spc="-1" strike="noStrike">
                <a:solidFill>
                  <a:srgbClr val="72727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F49E9-B70A-4E83-848F-6E445B796A79}" type="slidenum">
              <a:rPr b="0" lang="en-US" sz="1200" spc="-1" strike="noStrike">
                <a:solidFill>
                  <a:srgbClr val="2626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7640" y="335700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简洁的</a:t>
            </a:r>
            <a:r>
              <a:rPr b="1" lang="en-US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3D</a:t>
            </a:r>
            <a:r>
              <a:rPr b="1" lang="zh-CN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箭头背景的创意设计</a:t>
            </a:r>
            <a:r>
              <a:rPr b="1" lang="en-US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755640" y="1584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3120" y="4509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/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D4FE-D21D-471F-9B4C-9D488A0728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  <Words>586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ilovePPT.ORG</dc:creator>
  <dc:description/>
  <cp:keywords>我爱PPT中文网 ppt ppt模版 ppt设计</cp:keywords>
  <dc:language>en-US</dc:language>
  <cp:lastModifiedBy>yu wang</cp:lastModifiedBy>
  <dcterms:modified xsi:type="dcterms:W3CDTF">2015-08-08T10:04:38Z</dcterms:modified>
  <cp:revision>46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