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627-0EF1-4850-8E6A-0924D974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EA34-C460-419E-B38B-BB922496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A11-0F54-4A41-8A7F-122C6D94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A74-A680-4795-A95E-44D5C177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505-AAD5-4CDC-9EAA-914FE840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E05-3998-44A9-A44B-69259BC3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B9F-B76F-4C0B-B24B-2B33CDDA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F9E-F134-41F2-91BA-6CED3442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425-88A4-4E47-91BB-B746119B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C78-4775-46BC-AA3C-2C7FCA50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CFEB-C3CF-4BB8-A23B-4411E91F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0BA2-25A0-4785-8EFC-DF377D34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81C4-A309-4B51-BA24-6693FBBA7540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8960" y="4365720"/>
            <a:ext cx="76327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华文隶书"/>
                <a:ea typeface="华文隶书"/>
              </a:rPr>
              <a:t>精美气泡背景的艺术设计</a:t>
            </a:r>
            <a:r>
              <a:rPr b="0" lang="en-US" sz="4000" spc="-1" strike="noStrike">
                <a:solidFill>
                  <a:srgbClr val="c00000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c00000"/>
                </a:solidFill>
                <a:latin typeface="华文隶书"/>
                <a:ea typeface="华文隶书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2700360" y="18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08000" y="65232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yu wang</cp:lastModifiedBy>
  <dcterms:modified xsi:type="dcterms:W3CDTF">2015-08-08T10:04:39Z</dcterms:modified>
  <cp:revision>770</cp:revision>
  <dc:subject/>
  <dc:title>Diapositiva 1</dc:title>
</cp:coreProperties>
</file>