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51435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产品1</c:v>
                </c:pt>
              </c:strCache>
            </c:strRef>
          </c:tx>
          <c:spPr>
            <a:solidFill>
              <a:srgbClr val="00b0f0"/>
            </a:solidFill>
            <a:ln w="0">
              <a:solidFill>
                <a:srgbClr val="00b0f0"/>
              </a:solidFill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4.3</c:v>
                </c:pt>
                <c:pt idx="1">
                  <c:v>32.5</c:v>
                </c:pt>
                <c:pt idx="2">
                  <c:v>43.5</c:v>
                </c:pt>
                <c:pt idx="3">
                  <c:v>2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产品 2</c:v>
                </c:pt>
              </c:strCache>
            </c:strRef>
          </c:tx>
          <c:spPr>
            <a:solidFill>
              <a:srgbClr val="007434">
                <a:alpha val="85000"/>
              </a:srgbClr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第一季度</c:v>
                </c:pt>
                <c:pt idx="1">
                  <c:v>第二季度</c:v>
                </c:pt>
                <c:pt idx="2">
                  <c:v>第三季度</c:v>
                </c:pt>
                <c:pt idx="3">
                  <c:v>第四季度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2.4</c:v>
                </c:pt>
                <c:pt idx="1">
                  <c:v>44.4</c:v>
                </c:pt>
                <c:pt idx="2">
                  <c:v>41.8</c:v>
                </c:pt>
                <c:pt idx="3">
                  <c:v>32.8</c:v>
                </c:pt>
              </c:numCache>
            </c:numRef>
          </c:val>
        </c:ser>
        <c:gapWidth val="150"/>
        <c:overlap val="0"/>
        <c:axId val="30393822"/>
        <c:axId val="59024441"/>
      </c:barChart>
      <c:catAx>
        <c:axId val="3039382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9024441"/>
        <c:crosses val="autoZero"/>
        <c:auto val="1"/>
        <c:lblAlgn val="ctr"/>
        <c:lblOffset val="100"/>
        <c:noMultiLvlLbl val="0"/>
      </c:catAx>
      <c:valAx>
        <c:axId val="59024441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393822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5E2-93B7-45F5-AAD0-58F700B3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87A-AEFA-4BC4-99AB-3A58D606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7DE2-9C67-4095-8190-A14D98C6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40A-9F25-4B58-99EF-6DE4D7B2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9C328-88A9-4E58-8058-E39FA4A5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F046-F4D7-4730-9119-64BD6D9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1747-C562-4D0B-BAF9-BD4CDFB6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1B40-C3B7-41EA-9B30-0FC133B5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42B1-B2D2-4918-99E5-A4643117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DF7A-6C05-4BB2-9CB9-3180891C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B61E-EA4A-44B3-B45C-3AB72C86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BAB-B544-470D-8970-82CC17AE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9DBB-2C8A-4A48-8EDF-CEF89F13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D35E-CFF9-41B8-AC78-4F0F51B5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ED8F-98F4-437E-BA25-D449E038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6509-70E8-4508-8360-C1AE454A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8F5C-F533-43FB-BD98-A3BE4351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9DAF-B509-412E-812F-EC296AFC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459-06E2-487C-9F33-5FE585F1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638-307D-436F-959C-66C8D174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05920"/>
            <a:ext cx="8229240" cy="397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15C4-A165-4FE1-8FAB-0D2462AB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EA9-D5FB-40E9-A92D-CB86EB2A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7D3-6F17-480D-B5A5-C85C193D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240" cy="16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E8A-B0E7-41D7-9278-4D5B1880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9C7813-A23C-4945-AE09-BF3B74AEC15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图片 7" descr=""/>
          <p:cNvPicPr/>
          <p:nvPr/>
        </p:nvPicPr>
        <p:blipFill>
          <a:blip r:embed="rId2"/>
          <a:srcRect l="0" t="25708" r="0" b="0"/>
          <a:stretch/>
        </p:blipFill>
        <p:spPr>
          <a:xfrm>
            <a:off x="5400" y="0"/>
            <a:ext cx="9143640" cy="38210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3821400"/>
            <a:ext cx="9143640" cy="1321560"/>
          </a:xfrm>
          <a:prstGeom prst="rect">
            <a:avLst/>
          </a:prstGeom>
          <a:solidFill>
            <a:srgbClr val="295a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cxnSp>
        <p:nvCxnSpPr>
          <p:cNvPr id="6" name="直接连接符 10"/>
          <p:cNvCxnSpPr/>
          <p:nvPr/>
        </p:nvCxnSpPr>
        <p:spPr>
          <a:xfrm>
            <a:off x="0" y="3821400"/>
            <a:ext cx="9149760" cy="3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cxnSp>
        <p:nvCxnSpPr>
          <p:cNvPr id="7" name="直接连接符 12"/>
          <p:cNvCxnSpPr/>
          <p:nvPr/>
        </p:nvCxnSpPr>
        <p:spPr>
          <a:xfrm>
            <a:off x="-180360" y="3821400"/>
            <a:ext cx="9330120" cy="360"/>
          </a:xfrm>
          <a:prstGeom prst="straightConnector1">
            <a:avLst/>
          </a:prstGeom>
          <a:ln w="50800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>
            <a:alphaModFix amt="10000"/>
          </a:blip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微软雅黑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306C5A-5841-479F-968F-8A648455E4C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0" y="2520"/>
            <a:ext cx="9143640" cy="480960"/>
          </a:xfrm>
          <a:prstGeom prst="rect">
            <a:avLst/>
          </a:prstGeom>
          <a:solidFill>
            <a:srgbClr val="295aa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7640" y="3867840"/>
            <a:ext cx="7560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键盘鼠标地球仪电脑科技商务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微软雅黑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388800" y="46598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前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1871640" y="1014120"/>
            <a:ext cx="5256360" cy="1324080"/>
          </a:xfrm>
          <a:prstGeom prst="rect">
            <a:avLst/>
          </a:prstGeom>
          <a:noFill/>
          <a:ln w="38100">
            <a:solidFill>
              <a:srgbClr val="00b0f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广州中医药大学位于美丽的羊城，成立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95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年，为新中国首批兴建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所中医药高等学府之一，原属卫生部、国家中医药管理局领导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年转为中央和地方共建、以广东省管理为主，是国内首批有硕士、博士学位授予权以及临床医学专业学位、非医攻博试点单位，拥有硕士研究生推荐免试资格，两次接受教育部本科教学工作水平评估结果均为优秀，属广东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工程”重点建设高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8"/>
          <p:cNvGrpSpPr/>
          <p:nvPr/>
        </p:nvGrpSpPr>
        <p:grpSpPr>
          <a:xfrm>
            <a:off x="2579400" y="987480"/>
            <a:ext cx="3997800" cy="522360"/>
            <a:chOff x="2579400" y="987480"/>
            <a:chExt cx="3997800" cy="522360"/>
          </a:xfrm>
        </p:grpSpPr>
        <p:sp>
          <p:nvSpPr>
            <p:cNvPr id="93" name="六边形 4"/>
            <p:cNvSpPr/>
            <p:nvPr/>
          </p:nvSpPr>
          <p:spPr>
            <a:xfrm>
              <a:off x="2579400" y="987480"/>
              <a:ext cx="575640" cy="503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f0"/>
            </a:solidFill>
            <a:ln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14100000"/>
              </a:lightRig>
            </a:scene3d>
            <a:sp3d prstMaterial="softEdge">
              <a:bevelT prst="artDeco"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直接箭头连接符 6"/>
            <p:cNvCxnSpPr/>
            <p:nvPr/>
          </p:nvCxnSpPr>
          <p:spPr>
            <a:xfrm>
              <a:off x="3155400" y="1486440"/>
              <a:ext cx="3422160" cy="360"/>
            </a:xfrm>
            <a:prstGeom prst="straightConnector1">
              <a:avLst/>
            </a:prstGeom>
            <a:ln cap="rnd" w="31750">
              <a:solidFill>
                <a:srgbClr val="00b0f0"/>
              </a:solidFill>
              <a:prstDash val="sysDot"/>
              <a:round/>
              <a:headEnd len="med" type="diamond" w="med"/>
              <a:tailEnd len="med" type="diamond" w="med"/>
            </a:ln>
          </p:spPr>
        </p:cxnSp>
        <p:sp>
          <p:nvSpPr>
            <p:cNvPr id="95" name="TextBox 7"/>
            <p:cNvSpPr/>
            <p:nvPr/>
          </p:nvSpPr>
          <p:spPr>
            <a:xfrm>
              <a:off x="3192840" y="1054440"/>
              <a:ext cx="309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"/>
          <p:cNvGrpSpPr/>
          <p:nvPr/>
        </p:nvGrpSpPr>
        <p:grpSpPr>
          <a:xfrm>
            <a:off x="2590200" y="1707480"/>
            <a:ext cx="3997800" cy="522360"/>
            <a:chOff x="2590200" y="1707480"/>
            <a:chExt cx="3997800" cy="522360"/>
          </a:xfrm>
        </p:grpSpPr>
        <p:sp>
          <p:nvSpPr>
            <p:cNvPr id="97" name="六边形 10"/>
            <p:cNvSpPr/>
            <p:nvPr/>
          </p:nvSpPr>
          <p:spPr>
            <a:xfrm>
              <a:off x="2590200" y="1707480"/>
              <a:ext cx="575640" cy="503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f0"/>
            </a:solidFill>
            <a:ln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14100000"/>
              </a:lightRig>
            </a:scene3d>
            <a:sp3d prstMaterial="softEdge">
              <a:bevelT prst="artDeco"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直接箭头连接符 11"/>
            <p:cNvCxnSpPr/>
            <p:nvPr/>
          </p:nvCxnSpPr>
          <p:spPr>
            <a:xfrm>
              <a:off x="3166200" y="2206440"/>
              <a:ext cx="3422160" cy="360"/>
            </a:xfrm>
            <a:prstGeom prst="straightConnector1">
              <a:avLst/>
            </a:prstGeom>
            <a:ln cap="rnd" w="31750">
              <a:solidFill>
                <a:srgbClr val="00b0f0"/>
              </a:solidFill>
              <a:prstDash val="sysDot"/>
              <a:round/>
              <a:headEnd len="med" type="diamond" w="med"/>
              <a:tailEnd len="med" type="diamond" w="med"/>
            </a:ln>
          </p:spPr>
        </p:cxnSp>
        <p:sp>
          <p:nvSpPr>
            <p:cNvPr id="99" name="TextBox 12"/>
            <p:cNvSpPr/>
            <p:nvPr/>
          </p:nvSpPr>
          <p:spPr>
            <a:xfrm>
              <a:off x="3204000" y="1774440"/>
              <a:ext cx="309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13"/>
          <p:cNvGrpSpPr/>
          <p:nvPr/>
        </p:nvGrpSpPr>
        <p:grpSpPr>
          <a:xfrm>
            <a:off x="2590200" y="2427840"/>
            <a:ext cx="3997800" cy="522360"/>
            <a:chOff x="2590200" y="2427840"/>
            <a:chExt cx="3997800" cy="522360"/>
          </a:xfrm>
        </p:grpSpPr>
        <p:sp>
          <p:nvSpPr>
            <p:cNvPr id="101" name="六边形 14"/>
            <p:cNvSpPr/>
            <p:nvPr/>
          </p:nvSpPr>
          <p:spPr>
            <a:xfrm>
              <a:off x="2590200" y="2427840"/>
              <a:ext cx="575640" cy="503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f0"/>
            </a:solidFill>
            <a:ln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14100000"/>
              </a:lightRig>
            </a:scene3d>
            <a:sp3d prstMaterial="softEdge">
              <a:bevelT prst="artDeco"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直接箭头连接符 15"/>
            <p:cNvCxnSpPr/>
            <p:nvPr/>
          </p:nvCxnSpPr>
          <p:spPr>
            <a:xfrm>
              <a:off x="3166200" y="2926440"/>
              <a:ext cx="3422160" cy="360"/>
            </a:xfrm>
            <a:prstGeom prst="straightConnector1">
              <a:avLst/>
            </a:prstGeom>
            <a:ln cap="rnd" w="31750">
              <a:solidFill>
                <a:srgbClr val="00b0f0"/>
              </a:solidFill>
              <a:prstDash val="sysDot"/>
              <a:round/>
              <a:headEnd len="med" type="diamond" w="med"/>
              <a:tailEnd len="med" type="diamond" w="med"/>
            </a:ln>
          </p:spPr>
        </p:cxnSp>
        <p:sp>
          <p:nvSpPr>
            <p:cNvPr id="103" name="TextBox 16"/>
            <p:cNvSpPr/>
            <p:nvPr/>
          </p:nvSpPr>
          <p:spPr>
            <a:xfrm>
              <a:off x="3204000" y="2494800"/>
              <a:ext cx="309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7"/>
          <p:cNvGrpSpPr/>
          <p:nvPr/>
        </p:nvGrpSpPr>
        <p:grpSpPr>
          <a:xfrm>
            <a:off x="2579400" y="3147840"/>
            <a:ext cx="3997800" cy="522360"/>
            <a:chOff x="2579400" y="3147840"/>
            <a:chExt cx="3997800" cy="522360"/>
          </a:xfrm>
        </p:grpSpPr>
        <p:sp>
          <p:nvSpPr>
            <p:cNvPr id="105" name="六边形 18"/>
            <p:cNvSpPr/>
            <p:nvPr/>
          </p:nvSpPr>
          <p:spPr>
            <a:xfrm>
              <a:off x="2579400" y="3147840"/>
              <a:ext cx="575640" cy="50364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00b0f0"/>
            </a:solidFill>
            <a:ln>
              <a:noFill/>
            </a:ln>
            <a:scene3d>
              <a:camera prst="orthographicFront">
                <a:rot lat="0" lon="0" rev="0"/>
              </a:camera>
              <a:lightRig dir="t" rig="glow">
                <a:rot lat="0" lon="0" rev="14100000"/>
              </a:lightRig>
            </a:scene3d>
            <a:sp3d prstMaterial="softEdge">
              <a:bevelT prst="artDeco" w="12700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直接箭头连接符 19"/>
            <p:cNvCxnSpPr/>
            <p:nvPr/>
          </p:nvCxnSpPr>
          <p:spPr>
            <a:xfrm>
              <a:off x="3155400" y="3646440"/>
              <a:ext cx="3422160" cy="360"/>
            </a:xfrm>
            <a:prstGeom prst="straightConnector1">
              <a:avLst/>
            </a:prstGeom>
            <a:ln cap="rnd" w="31750">
              <a:solidFill>
                <a:srgbClr val="00b0f0"/>
              </a:solidFill>
              <a:prstDash val="sysDot"/>
              <a:round/>
              <a:headEnd len="med" type="diamond" w="med"/>
              <a:tailEnd len="med" type="diamond" w="med"/>
            </a:ln>
          </p:spPr>
        </p:cxnSp>
        <p:sp>
          <p:nvSpPr>
            <p:cNvPr id="107" name="TextBox 20"/>
            <p:cNvSpPr/>
            <p:nvPr/>
          </p:nvSpPr>
          <p:spPr>
            <a:xfrm>
              <a:off x="3192840" y="3214800"/>
              <a:ext cx="309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请在此输入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请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323640" y="987480"/>
            <a:ext cx="5256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广州中医药大学位于美丽的羊城，成立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95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年，为新中国首批兴建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所中医药高等学府之一，原属卫生部、国家中医药管理局领导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年转为中央和地方共建、以广东省管理为主，是国内首批有硕士、博士学位授予权以及临床医学专业学位、非医攻博试点单位，拥有硕士研究生推荐免试资格，两次接受教育部本科教学工作水平评估结果均为优秀，属广东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21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工程”重点建设高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icture 2"/>
          <p:cNvSpPr/>
          <p:nvPr/>
        </p:nvSpPr>
        <p:spPr>
          <a:xfrm>
            <a:off x="5652000" y="1078920"/>
            <a:ext cx="3364920" cy="33649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请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9"/>
          <p:cNvSpPr/>
          <p:nvPr/>
        </p:nvSpPr>
        <p:spPr>
          <a:xfrm>
            <a:off x="827640" y="703080"/>
            <a:ext cx="7805520" cy="1136520"/>
          </a:xfrm>
          <a:custGeom>
            <a:avLst/>
            <a:gdLst>
              <a:gd name="textAreaLeft" fmla="*/ 0 w 7805520"/>
              <a:gd name="textAreaRight" fmla="*/ 7805880 w 780552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6096000" h="887809">
                <a:moveTo>
                  <a:pt x="0" y="221952"/>
                </a:moveTo>
                <a:lnTo>
                  <a:pt x="5652096" y="221952"/>
                </a:lnTo>
                <a:lnTo>
                  <a:pt x="5652096" y="0"/>
                </a:lnTo>
                <a:lnTo>
                  <a:pt x="6096000" y="443905"/>
                </a:lnTo>
                <a:lnTo>
                  <a:pt x="5652096" y="887809"/>
                </a:lnTo>
                <a:lnTo>
                  <a:pt x="5652096" y="665857"/>
                </a:lnTo>
                <a:lnTo>
                  <a:pt x="0" y="665857"/>
                </a:lnTo>
                <a:lnTo>
                  <a:pt x="0" y="221952"/>
                </a:lnTo>
                <a:close/>
              </a:path>
            </a:pathLst>
          </a:custGeom>
          <a:gradFill rotWithShape="0">
            <a:gsLst>
              <a:gs pos="0">
                <a:srgbClr val="4fd0ff"/>
              </a:gs>
              <a:gs pos="100000">
                <a:srgbClr val="00b4f5"/>
              </a:gs>
            </a:gsLst>
            <a:lin ang="10800000"/>
          </a:gradFill>
          <a:ln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0840" rIns="475920" tIns="282960" bIns="36288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</a:pPr>
            <a:r>
              <a:rPr b="0" lang="en-US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 </a:t>
            </a:r>
            <a:r>
              <a:rPr b="0" lang="zh-CN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请输入描述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10"/>
          <p:cNvSpPr/>
          <p:nvPr/>
        </p:nvSpPr>
        <p:spPr>
          <a:xfrm>
            <a:off x="827640" y="1579680"/>
            <a:ext cx="2403720" cy="2189520"/>
          </a:xfrm>
          <a:custGeom>
            <a:avLst/>
            <a:gdLst>
              <a:gd name="textAreaLeft" fmla="*/ 0 w 2403720"/>
              <a:gd name="textAreaRight" fmla="*/ 2404080 w 2403720"/>
              <a:gd name="textAreaTop" fmla="*/ 0 h 2189520"/>
              <a:gd name="textAreaBottom" fmla="*/ 2189880 h 2189520"/>
            </a:gdLst>
            <a:ahLst/>
            <a:rect l="textAreaLeft" t="textAreaTop" r="textAreaRight" b="textAreaBottom"/>
            <a:pathLst>
              <a:path w="1877568" h="1710248">
                <a:moveTo>
                  <a:pt x="0" y="0"/>
                </a:moveTo>
                <a:lnTo>
                  <a:pt x="1877568" y="0"/>
                </a:lnTo>
                <a:lnTo>
                  <a:pt x="1877568" y="1710248"/>
                </a:lnTo>
                <a:lnTo>
                  <a:pt x="0" y="17102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>
            <a:solidFill>
              <a:srgbClr val="00b0f0"/>
            </a:solidFill>
            <a:round/>
          </a:ln>
          <a:effectLst>
            <a:outerShdw algn="tr" blurRad="50760" dir="8100000" dist="37674" rotWithShape="0" sx="106000" sy="106000">
              <a:srgbClr val="000000">
                <a:alpha val="12000"/>
              </a:srgbClr>
            </a:outerShdw>
          </a:effectLst>
          <a:scene3d>
            <a:camera prst="orthographicFront"/>
            <a:lightRig dir="t" rig="balanced"/>
          </a:scene3d>
          <a:sp3d extrusionH="76200">
            <a:extrusionClr>
              <a:srgbClr val="295aa6"/>
            </a:extrusionClr>
            <a:contourClr>
              <a:schemeClr val="tx1"/>
            </a:contourClr>
          </a:sp3d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0440" rIns="190440" tIns="190440" bIns="190440" anchor="t">
            <a:noAutofit/>
          </a:bodyPr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1"/>
          <p:cNvSpPr/>
          <p:nvPr/>
        </p:nvSpPr>
        <p:spPr>
          <a:xfrm>
            <a:off x="3231720" y="1081800"/>
            <a:ext cx="5401440" cy="1136520"/>
          </a:xfrm>
          <a:custGeom>
            <a:avLst/>
            <a:gdLst>
              <a:gd name="textAreaLeft" fmla="*/ 0 w 5401440"/>
              <a:gd name="textAreaRight" fmla="*/ 5401800 w 540144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4218432" h="887809">
                <a:moveTo>
                  <a:pt x="0" y="221952"/>
                </a:moveTo>
                <a:lnTo>
                  <a:pt x="3774528" y="221952"/>
                </a:lnTo>
                <a:lnTo>
                  <a:pt x="3774528" y="0"/>
                </a:lnTo>
                <a:lnTo>
                  <a:pt x="4218432" y="443905"/>
                </a:lnTo>
                <a:lnTo>
                  <a:pt x="3774528" y="887809"/>
                </a:lnTo>
                <a:lnTo>
                  <a:pt x="3774528" y="665857"/>
                </a:lnTo>
                <a:lnTo>
                  <a:pt x="0" y="665857"/>
                </a:lnTo>
                <a:lnTo>
                  <a:pt x="0" y="221952"/>
                </a:lnTo>
                <a:close/>
              </a:path>
            </a:pathLst>
          </a:custGeom>
          <a:gradFill rotWithShape="0">
            <a:gsLst>
              <a:gs pos="0">
                <a:srgbClr val="f8a058"/>
              </a:gs>
              <a:gs pos="100000">
                <a:srgbClr val="d56509"/>
              </a:gs>
            </a:gsLst>
            <a:lin ang="10800000"/>
          </a:gradFill>
          <a:ln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0840" rIns="475920" tIns="282960" bIns="362880" anchor="ctr">
            <a:noAutofit/>
          </a:bodyPr>
          <a:p>
            <a:pPr>
              <a:lnSpc>
                <a:spcPct val="90000"/>
              </a:lnSpc>
              <a:spcAft>
                <a:spcPts val="561"/>
              </a:spcAft>
            </a:pPr>
            <a:r>
              <a:rPr b="0" lang="en-US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 </a:t>
            </a:r>
            <a:r>
              <a:rPr b="0" lang="zh-CN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请输入描述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12"/>
          <p:cNvSpPr/>
          <p:nvPr/>
        </p:nvSpPr>
        <p:spPr>
          <a:xfrm>
            <a:off x="3231720" y="1958400"/>
            <a:ext cx="2403720" cy="2189520"/>
          </a:xfrm>
          <a:custGeom>
            <a:avLst/>
            <a:gdLst>
              <a:gd name="textAreaLeft" fmla="*/ 0 w 2403720"/>
              <a:gd name="textAreaRight" fmla="*/ 2404080 w 2403720"/>
              <a:gd name="textAreaTop" fmla="*/ 0 h 2189520"/>
              <a:gd name="textAreaBottom" fmla="*/ 2189880 h 2189520"/>
            </a:gdLst>
            <a:ahLst/>
            <a:rect l="textAreaLeft" t="textAreaTop" r="textAreaRight" b="textAreaBottom"/>
            <a:pathLst>
              <a:path w="1877568" h="1710248">
                <a:moveTo>
                  <a:pt x="0" y="0"/>
                </a:moveTo>
                <a:lnTo>
                  <a:pt x="1877568" y="0"/>
                </a:lnTo>
                <a:lnTo>
                  <a:pt x="1877568" y="1710248"/>
                </a:lnTo>
                <a:lnTo>
                  <a:pt x="0" y="17102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>
            <a:solidFill>
              <a:srgbClr val="00b0f0"/>
            </a:solidFill>
            <a:round/>
          </a:ln>
          <a:effectLst>
            <a:outerShdw algn="tr" blurRad="50760" dir="8100000" dist="37674" rotWithShape="0" sx="106000" sy="106000">
              <a:srgbClr val="000000">
                <a:alpha val="12000"/>
              </a:srgbClr>
            </a:outerShdw>
          </a:effectLst>
          <a:scene3d>
            <a:camera prst="orthographicFront"/>
            <a:lightRig dir="t" rig="balanced"/>
          </a:scene3d>
          <a:sp3d extrusionH="76200">
            <a:extrusionClr>
              <a:srgbClr val="295aa6"/>
            </a:extrusionClr>
            <a:contourClr>
              <a:schemeClr val="tx1"/>
            </a:contourClr>
          </a:sp3d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0440" rIns="190440" tIns="190440" bIns="190440" anchor="t">
            <a:noAutofit/>
          </a:bodyPr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3"/>
          <p:cNvSpPr/>
          <p:nvPr/>
        </p:nvSpPr>
        <p:spPr>
          <a:xfrm>
            <a:off x="5636160" y="1460880"/>
            <a:ext cx="2997000" cy="1136520"/>
          </a:xfrm>
          <a:custGeom>
            <a:avLst/>
            <a:gdLst>
              <a:gd name="textAreaLeft" fmla="*/ 0 w 2997000"/>
              <a:gd name="textAreaRight" fmla="*/ 2997360 w 2997000"/>
              <a:gd name="textAreaTop" fmla="*/ 0 h 1136520"/>
              <a:gd name="textAreaBottom" fmla="*/ 1136880 h 1136520"/>
            </a:gdLst>
            <a:ahLst/>
            <a:rect l="textAreaLeft" t="textAreaTop" r="textAreaRight" b="textAreaBottom"/>
            <a:pathLst>
              <a:path w="2340864" h="887809">
                <a:moveTo>
                  <a:pt x="0" y="221952"/>
                </a:moveTo>
                <a:lnTo>
                  <a:pt x="1896960" y="221952"/>
                </a:lnTo>
                <a:lnTo>
                  <a:pt x="1896960" y="0"/>
                </a:lnTo>
                <a:lnTo>
                  <a:pt x="2340864" y="443905"/>
                </a:lnTo>
                <a:lnTo>
                  <a:pt x="1896960" y="887809"/>
                </a:lnTo>
                <a:lnTo>
                  <a:pt x="1896960" y="665857"/>
                </a:lnTo>
                <a:lnTo>
                  <a:pt x="0" y="665857"/>
                </a:lnTo>
                <a:lnTo>
                  <a:pt x="0" y="221952"/>
                </a:lnTo>
                <a:close/>
              </a:path>
            </a:pathLst>
          </a:custGeom>
          <a:gradFill rotWithShape="0">
            <a:gsLst>
              <a:gs pos="0">
                <a:srgbClr val="00df65"/>
              </a:gs>
              <a:gs pos="100000">
                <a:srgbClr val="00a049"/>
              </a:gs>
            </a:gsLst>
            <a:lin ang="10800000"/>
          </a:gradFill>
          <a:ln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1">
            <a:schemeClr val="accent1">
              <a:hueOff val="0"/>
              <a:satOff val="0"/>
              <a:lumOff val="0"/>
              <a:alphaOff val="0"/>
            </a:schemeClr>
          </a:fillRef>
          <a:effectRef idx="0">
            <a:schemeClr val="accen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60840" rIns="475920" tIns="282960" bIns="362880" anchor="ctr">
            <a:noAutofit/>
          </a:bodyPr>
          <a:p>
            <a:pPr algn="ctr">
              <a:lnSpc>
                <a:spcPct val="90000"/>
              </a:lnSpc>
              <a:spcAft>
                <a:spcPts val="561"/>
              </a:spcAft>
            </a:pPr>
            <a:r>
              <a:rPr b="0" lang="zh-CN" sz="1600" spc="-1" strike="noStrike">
                <a:solidFill>
                  <a:schemeClr val="lt1"/>
                </a:solidFill>
                <a:latin typeface="Calibri"/>
                <a:ea typeface="微软雅黑"/>
              </a:rPr>
              <a:t>请输入描述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4"/>
          <p:cNvSpPr/>
          <p:nvPr/>
        </p:nvSpPr>
        <p:spPr>
          <a:xfrm>
            <a:off x="5636160" y="2337480"/>
            <a:ext cx="2403720" cy="2157480"/>
          </a:xfrm>
          <a:custGeom>
            <a:avLst/>
            <a:gdLst>
              <a:gd name="textAreaLeft" fmla="*/ 0 w 2403720"/>
              <a:gd name="textAreaRight" fmla="*/ 2404080 w 2403720"/>
              <a:gd name="textAreaTop" fmla="*/ 0 h 2157480"/>
              <a:gd name="textAreaBottom" fmla="*/ 2157840 h 2157480"/>
            </a:gdLst>
            <a:ahLst/>
            <a:rect l="textAreaLeft" t="textAreaTop" r="textAreaRight" b="textAreaBottom"/>
            <a:pathLst>
              <a:path w="1877568" h="1685219">
                <a:moveTo>
                  <a:pt x="0" y="0"/>
                </a:moveTo>
                <a:lnTo>
                  <a:pt x="1877568" y="0"/>
                </a:lnTo>
                <a:lnTo>
                  <a:pt x="1877568" y="1685219"/>
                </a:lnTo>
                <a:lnTo>
                  <a:pt x="0" y="168521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>
            <a:solidFill>
              <a:srgbClr val="00b0f0"/>
            </a:solidFill>
            <a:round/>
          </a:ln>
          <a:effectLst>
            <a:outerShdw algn="tr" blurRad="50760" dir="8100000" dist="37674" rotWithShape="0" sx="106000" sy="106000">
              <a:srgbClr val="000000">
                <a:alpha val="12000"/>
              </a:srgbClr>
            </a:outerShdw>
          </a:effectLst>
          <a:scene3d>
            <a:camera prst="orthographicFront"/>
            <a:lightRig dir="t" rig="balanced"/>
          </a:scene3d>
          <a:sp3d extrusionH="76200">
            <a:extrusionClr>
              <a:srgbClr val="295aa6"/>
            </a:extrusionClr>
            <a:contourClr>
              <a:schemeClr val="tx1"/>
            </a:contourClr>
          </a:sp3d>
        </p:spPr>
        <p:style>
          <a:lnRef idx="2">
            <a:schemeClr val="accent1">
              <a:hueOff val="0"/>
              <a:satOff val="0"/>
              <a:lumOff val="0"/>
              <a:alphaOff val="0"/>
            </a:schemeClr>
          </a:lnRef>
          <a:fillRef idx="1">
            <a:schemeClr val="lt1">
              <a:hueOff val="0"/>
              <a:satOff val="0"/>
              <a:lumOff val="0"/>
              <a:alphaOff val="0"/>
            </a:schemeClr>
          </a:fillRef>
          <a:effectRef idx="0">
            <a:schemeClr val="lt1"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numCol="1" spcCol="1440" lIns="190440" rIns="190440" tIns="190440" bIns="190440" anchor="t">
            <a:noAutofit/>
          </a:bodyPr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29"/>
              </a:spcAf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微软雅黑"/>
              </a:rPr>
              <a:t>请输入描述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539640" y="4623840"/>
            <a:ext cx="50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请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图表 2"/>
          <p:cNvGraphicFramePr/>
          <p:nvPr/>
        </p:nvGraphicFramePr>
        <p:xfrm>
          <a:off x="1547640" y="771480"/>
          <a:ext cx="6095520" cy="40636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251640" y="0"/>
            <a:ext cx="324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请在此输入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649"/>
          <p:cNvGrpSpPr/>
          <p:nvPr/>
        </p:nvGrpSpPr>
        <p:grpSpPr>
          <a:xfrm>
            <a:off x="2493000" y="1204200"/>
            <a:ext cx="3429720" cy="3210840"/>
            <a:chOff x="2493000" y="1204200"/>
            <a:chExt cx="3429720" cy="3210840"/>
          </a:xfrm>
        </p:grpSpPr>
        <p:sp>
          <p:nvSpPr>
            <p:cNvPr id="123" name="Freeform 23"/>
            <p:cNvSpPr/>
            <p:nvPr/>
          </p:nvSpPr>
          <p:spPr>
            <a:xfrm rot="3600000">
              <a:off x="2585880" y="3124440"/>
              <a:ext cx="1946160" cy="597240"/>
            </a:xfrm>
            <a:custGeom>
              <a:avLst/>
              <a:gdLst>
                <a:gd name="textAreaLeft" fmla="*/ 0 w 1946160"/>
                <a:gd name="textAreaRight" fmla="*/ 1946520 w 1946160"/>
                <a:gd name="textAreaTop" fmla="*/ 0 h 597240"/>
                <a:gd name="textAreaBottom" fmla="*/ 597600 h 597240"/>
              </a:gdLst>
              <a:ahLst/>
              <a:rect l="textAreaLeft" t="textAreaTop" r="textAreaRight" b="textAreaBottom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gradFill rotWithShape="0">
              <a:gsLst>
                <a:gs pos="0">
                  <a:srgbClr val="007d39"/>
                </a:gs>
                <a:gs pos="100000">
                  <a:srgbClr val="00a44a"/>
                </a:gs>
              </a:gsLst>
              <a:lin ang="900000"/>
            </a:gradFill>
            <a:ln w="12700">
              <a:noFill/>
            </a:ln>
            <a:scene3d>
              <a:camera prst="perspectiveAbove"/>
              <a:lightRig dir="t" rig="threePt"/>
            </a:scene3d>
            <a:sp3d extrusionH="50800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 rot="10800000">
              <a:off x="2493000" y="1204200"/>
              <a:ext cx="1914840" cy="607320"/>
            </a:xfrm>
            <a:custGeom>
              <a:avLst/>
              <a:gdLst>
                <a:gd name="textAreaLeft" fmla="*/ 0 w 1914840"/>
                <a:gd name="textAreaRight" fmla="*/ 1915200 w 1914840"/>
                <a:gd name="textAreaTop" fmla="*/ 0 h 607320"/>
                <a:gd name="textAreaBottom" fmla="*/ 607680 h 607320"/>
              </a:gdLst>
              <a:ahLst/>
              <a:rect l="textAreaLeft" t="textAreaTop" r="textAreaRight" b="textAreaBottom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gradFill rotWithShape="0">
              <a:gsLst>
                <a:gs pos="0">
                  <a:srgbClr val="8c4206"/>
                </a:gs>
                <a:gs pos="100000">
                  <a:srgbClr val="e46c0a"/>
                </a:gs>
              </a:gsLst>
              <a:lin ang="8100000"/>
            </a:gradFill>
            <a:ln w="12700">
              <a:noFill/>
            </a:ln>
            <a:scene3d>
              <a:camera prst="perspectiveAbove"/>
              <a:lightRig dir="t" rig="threePt"/>
            </a:scene3d>
            <a:sp3d extrusionH="50800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25" name="Freeform 27"/>
            <p:cNvSpPr/>
            <p:nvPr/>
          </p:nvSpPr>
          <p:spPr>
            <a:xfrm rot="18000000">
              <a:off x="4202640" y="2035800"/>
              <a:ext cx="1947240" cy="598680"/>
            </a:xfrm>
            <a:custGeom>
              <a:avLst/>
              <a:gdLst>
                <a:gd name="textAreaLeft" fmla="*/ 0 w 1947240"/>
                <a:gd name="textAreaRight" fmla="*/ 1947600 w 1947240"/>
                <a:gd name="textAreaTop" fmla="*/ 0 h 598680"/>
                <a:gd name="textAreaBottom" fmla="*/ 599040 h 598680"/>
              </a:gdLst>
              <a:ahLst/>
              <a:rect l="textAreaLeft" t="textAreaTop" r="textAreaRight" b="textAreaBottom"/>
              <a:pathLst>
                <a:path w="1717" h="484">
                  <a:moveTo>
                    <a:pt x="1427" y="153"/>
                  </a:moveTo>
                  <a:lnTo>
                    <a:pt x="1405" y="102"/>
                  </a:lnTo>
                  <a:lnTo>
                    <a:pt x="1716" y="132"/>
                  </a:lnTo>
                  <a:lnTo>
                    <a:pt x="1540" y="395"/>
                  </a:lnTo>
                  <a:lnTo>
                    <a:pt x="1519" y="344"/>
                  </a:lnTo>
                  <a:lnTo>
                    <a:pt x="1472" y="369"/>
                  </a:lnTo>
                  <a:lnTo>
                    <a:pt x="1413" y="391"/>
                  </a:lnTo>
                  <a:lnTo>
                    <a:pt x="1373" y="403"/>
                  </a:lnTo>
                  <a:lnTo>
                    <a:pt x="1328" y="418"/>
                  </a:lnTo>
                  <a:lnTo>
                    <a:pt x="1274" y="433"/>
                  </a:lnTo>
                  <a:lnTo>
                    <a:pt x="1219" y="447"/>
                  </a:lnTo>
                  <a:lnTo>
                    <a:pt x="1160" y="458"/>
                  </a:lnTo>
                  <a:lnTo>
                    <a:pt x="1117" y="464"/>
                  </a:lnTo>
                  <a:lnTo>
                    <a:pt x="1062" y="472"/>
                  </a:lnTo>
                  <a:lnTo>
                    <a:pt x="1007" y="479"/>
                  </a:lnTo>
                  <a:lnTo>
                    <a:pt x="968" y="479"/>
                  </a:lnTo>
                  <a:lnTo>
                    <a:pt x="916" y="483"/>
                  </a:lnTo>
                  <a:lnTo>
                    <a:pt x="872" y="479"/>
                  </a:lnTo>
                  <a:lnTo>
                    <a:pt x="817" y="475"/>
                  </a:lnTo>
                  <a:lnTo>
                    <a:pt x="766" y="468"/>
                  </a:lnTo>
                  <a:lnTo>
                    <a:pt x="701" y="453"/>
                  </a:lnTo>
                  <a:lnTo>
                    <a:pt x="634" y="439"/>
                  </a:lnTo>
                  <a:lnTo>
                    <a:pt x="576" y="424"/>
                  </a:lnTo>
                  <a:lnTo>
                    <a:pt x="524" y="407"/>
                  </a:lnTo>
                  <a:lnTo>
                    <a:pt x="476" y="391"/>
                  </a:lnTo>
                  <a:lnTo>
                    <a:pt x="435" y="373"/>
                  </a:lnTo>
                  <a:lnTo>
                    <a:pt x="384" y="349"/>
                  </a:lnTo>
                  <a:lnTo>
                    <a:pt x="344" y="326"/>
                  </a:lnTo>
                  <a:lnTo>
                    <a:pt x="293" y="293"/>
                  </a:lnTo>
                  <a:lnTo>
                    <a:pt x="242" y="256"/>
                  </a:lnTo>
                  <a:lnTo>
                    <a:pt x="205" y="226"/>
                  </a:lnTo>
                  <a:lnTo>
                    <a:pt x="157" y="186"/>
                  </a:lnTo>
                  <a:lnTo>
                    <a:pt x="124" y="158"/>
                  </a:lnTo>
                  <a:lnTo>
                    <a:pt x="102" y="132"/>
                  </a:lnTo>
                  <a:lnTo>
                    <a:pt x="62" y="88"/>
                  </a:lnTo>
                  <a:lnTo>
                    <a:pt x="0" y="0"/>
                  </a:lnTo>
                  <a:lnTo>
                    <a:pt x="91" y="88"/>
                  </a:lnTo>
                  <a:lnTo>
                    <a:pt x="135" y="124"/>
                  </a:lnTo>
                  <a:lnTo>
                    <a:pt x="175" y="158"/>
                  </a:lnTo>
                  <a:lnTo>
                    <a:pt x="219" y="186"/>
                  </a:lnTo>
                  <a:lnTo>
                    <a:pt x="263" y="209"/>
                  </a:lnTo>
                  <a:lnTo>
                    <a:pt x="307" y="231"/>
                  </a:lnTo>
                  <a:lnTo>
                    <a:pt x="355" y="253"/>
                  </a:lnTo>
                  <a:lnTo>
                    <a:pt x="395" y="267"/>
                  </a:lnTo>
                  <a:lnTo>
                    <a:pt x="439" y="282"/>
                  </a:lnTo>
                  <a:lnTo>
                    <a:pt x="487" y="293"/>
                  </a:lnTo>
                  <a:lnTo>
                    <a:pt x="534" y="301"/>
                  </a:lnTo>
                  <a:lnTo>
                    <a:pt x="571" y="309"/>
                  </a:lnTo>
                  <a:lnTo>
                    <a:pt x="622" y="312"/>
                  </a:lnTo>
                  <a:lnTo>
                    <a:pt x="673" y="318"/>
                  </a:lnTo>
                  <a:lnTo>
                    <a:pt x="718" y="318"/>
                  </a:lnTo>
                  <a:lnTo>
                    <a:pt x="766" y="318"/>
                  </a:lnTo>
                  <a:lnTo>
                    <a:pt x="828" y="318"/>
                  </a:lnTo>
                  <a:lnTo>
                    <a:pt x="890" y="311"/>
                  </a:lnTo>
                  <a:lnTo>
                    <a:pt x="949" y="304"/>
                  </a:lnTo>
                  <a:lnTo>
                    <a:pt x="1000" y="296"/>
                  </a:lnTo>
                  <a:lnTo>
                    <a:pt x="1058" y="285"/>
                  </a:lnTo>
                  <a:lnTo>
                    <a:pt x="1106" y="274"/>
                  </a:lnTo>
                  <a:lnTo>
                    <a:pt x="1156" y="260"/>
                  </a:lnTo>
                  <a:lnTo>
                    <a:pt x="1212" y="245"/>
                  </a:lnTo>
                  <a:lnTo>
                    <a:pt x="1259" y="231"/>
                  </a:lnTo>
                  <a:lnTo>
                    <a:pt x="1318" y="209"/>
                  </a:lnTo>
                  <a:lnTo>
                    <a:pt x="1362" y="190"/>
                  </a:lnTo>
                  <a:lnTo>
                    <a:pt x="1427" y="153"/>
                  </a:lnTo>
                </a:path>
              </a:pathLst>
            </a:custGeom>
            <a:gradFill rotWithShape="0">
              <a:gsLst>
                <a:gs pos="0">
                  <a:srgbClr val="00688e"/>
                </a:gs>
                <a:gs pos="100000">
                  <a:srgbClr val="0094ca"/>
                </a:gs>
              </a:gsLst>
              <a:lin ang="15300000"/>
            </a:gradFill>
            <a:ln w="12700">
              <a:noFill/>
            </a:ln>
            <a:scene3d>
              <a:camera prst="perspectiveAbove"/>
              <a:lightRig dir="t" rig="threePt"/>
            </a:scene3d>
            <a:sp3d extrusionH="50800"/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6" name="组合 613"/>
          <p:cNvGrpSpPr/>
          <p:nvPr/>
        </p:nvGrpSpPr>
        <p:grpSpPr>
          <a:xfrm>
            <a:off x="3282480" y="1679400"/>
            <a:ext cx="1555200" cy="1520280"/>
            <a:chOff x="3282480" y="1679400"/>
            <a:chExt cx="1555200" cy="1520280"/>
          </a:xfrm>
        </p:grpSpPr>
        <p:sp>
          <p:nvSpPr>
            <p:cNvPr id="127" name="Oval 70"/>
            <p:cNvSpPr/>
            <p:nvPr/>
          </p:nvSpPr>
          <p:spPr>
            <a:xfrm>
              <a:off x="3282480" y="1679400"/>
              <a:ext cx="1522080" cy="15134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Picture 72" descr="circuler_1"/>
            <p:cNvPicPr/>
            <p:nvPr/>
          </p:nvPicPr>
          <p:blipFill>
            <a:blip r:embed="rId1"/>
            <a:stretch/>
          </p:blipFill>
          <p:spPr>
            <a:xfrm>
              <a:off x="3328920" y="1719000"/>
              <a:ext cx="1424160" cy="141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73"/>
            <p:cNvSpPr/>
            <p:nvPr/>
          </p:nvSpPr>
          <p:spPr>
            <a:xfrm>
              <a:off x="3328920" y="1719000"/>
              <a:ext cx="1433520" cy="141804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0" name="Picture 74" descr="light_shadow1"/>
            <p:cNvPicPr/>
            <p:nvPr/>
          </p:nvPicPr>
          <p:blipFill>
            <a:blip r:embed="rId2"/>
            <a:srcRect l="0" t="14302" r="0" b="0"/>
            <a:stretch/>
          </p:blipFill>
          <p:spPr>
            <a:xfrm>
              <a:off x="3342600" y="1778040"/>
              <a:ext cx="1050120" cy="885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1" name="Group 75"/>
            <p:cNvGrpSpPr/>
            <p:nvPr/>
          </p:nvGrpSpPr>
          <p:grpSpPr>
            <a:xfrm>
              <a:off x="3795120" y="2256840"/>
              <a:ext cx="1010160" cy="942840"/>
              <a:chOff x="3795120" y="2256840"/>
              <a:chExt cx="1010160" cy="942840"/>
            </a:xfrm>
          </p:grpSpPr>
          <p:grpSp>
            <p:nvGrpSpPr>
              <p:cNvPr id="132" name="Group 76"/>
              <p:cNvGrpSpPr/>
              <p:nvPr/>
            </p:nvGrpSpPr>
            <p:grpSpPr>
              <a:xfrm>
                <a:off x="4023720" y="2256840"/>
                <a:ext cx="781560" cy="916920"/>
                <a:chOff x="4023720" y="2256840"/>
                <a:chExt cx="781560" cy="916920"/>
              </a:xfrm>
            </p:grpSpPr>
            <p:sp>
              <p:nvSpPr>
                <p:cNvPr id="133" name="AutoShape 77"/>
                <p:cNvSpPr/>
                <p:nvPr/>
              </p:nvSpPr>
              <p:spPr>
                <a:xfrm rot="12329400">
                  <a:off x="4459320" y="225936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AutoShape 78"/>
                <p:cNvSpPr/>
                <p:nvPr/>
              </p:nvSpPr>
              <p:spPr>
                <a:xfrm rot="13145400">
                  <a:off x="4400280" y="237168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AutoShape 79"/>
                <p:cNvSpPr/>
                <p:nvPr/>
              </p:nvSpPr>
              <p:spPr>
                <a:xfrm rot="13440600">
                  <a:off x="4351320" y="242604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AutoShape 80"/>
                <p:cNvSpPr/>
                <p:nvPr/>
              </p:nvSpPr>
              <p:spPr>
                <a:xfrm rot="13972800">
                  <a:off x="4290120" y="248904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7" name="Group 81"/>
              <p:cNvGrpSpPr/>
              <p:nvPr/>
            </p:nvGrpSpPr>
            <p:grpSpPr>
              <a:xfrm>
                <a:off x="3795120" y="2526840"/>
                <a:ext cx="981360" cy="672840"/>
                <a:chOff x="3795120" y="2526840"/>
                <a:chExt cx="981360" cy="672840"/>
              </a:xfrm>
            </p:grpSpPr>
            <p:sp>
              <p:nvSpPr>
                <p:cNvPr id="138" name="AutoShape 82"/>
                <p:cNvSpPr/>
                <p:nvPr/>
              </p:nvSpPr>
              <p:spPr>
                <a:xfrm rot="13683600">
                  <a:off x="4338360" y="246960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9" name="AutoShape 83"/>
                <p:cNvSpPr/>
                <p:nvPr/>
              </p:nvSpPr>
              <p:spPr>
                <a:xfrm rot="14498400">
                  <a:off x="4240800" y="255096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0" name="AutoShape 84"/>
                <p:cNvSpPr/>
                <p:nvPr/>
              </p:nvSpPr>
              <p:spPr>
                <a:xfrm rot="14794200">
                  <a:off x="4174200" y="258228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1" name="AutoShape 85"/>
                <p:cNvSpPr/>
                <p:nvPr/>
              </p:nvSpPr>
              <p:spPr>
                <a:xfrm rot="15326400">
                  <a:off x="4093920" y="2616840"/>
                  <a:ext cx="185760" cy="7614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42" name="Group 86"/>
            <p:cNvGrpSpPr/>
            <p:nvPr/>
          </p:nvGrpSpPr>
          <p:grpSpPr>
            <a:xfrm>
              <a:off x="3945600" y="2324520"/>
              <a:ext cx="892080" cy="833760"/>
              <a:chOff x="3945600" y="2324520"/>
              <a:chExt cx="892080" cy="833760"/>
            </a:xfrm>
          </p:grpSpPr>
          <p:grpSp>
            <p:nvGrpSpPr>
              <p:cNvPr id="143" name="Group 87"/>
              <p:cNvGrpSpPr/>
              <p:nvPr/>
            </p:nvGrpSpPr>
            <p:grpSpPr>
              <a:xfrm>
                <a:off x="4147560" y="2324520"/>
                <a:ext cx="690120" cy="810720"/>
                <a:chOff x="4147560" y="2324520"/>
                <a:chExt cx="690120" cy="810720"/>
              </a:xfrm>
            </p:grpSpPr>
            <p:sp>
              <p:nvSpPr>
                <p:cNvPr id="144" name="AutoShape 88"/>
                <p:cNvSpPr/>
                <p:nvPr/>
              </p:nvSpPr>
              <p:spPr>
                <a:xfrm rot="12329400">
                  <a:off x="4533120" y="232668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AutoShape 89"/>
                <p:cNvSpPr/>
                <p:nvPr/>
              </p:nvSpPr>
              <p:spPr>
                <a:xfrm rot="13145400">
                  <a:off x="4480920" y="242604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AutoShape 90"/>
                <p:cNvSpPr/>
                <p:nvPr/>
              </p:nvSpPr>
              <p:spPr>
                <a:xfrm rot="13440600">
                  <a:off x="4437360" y="247428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7" name="AutoShape 91"/>
                <p:cNvSpPr/>
                <p:nvPr/>
              </p:nvSpPr>
              <p:spPr>
                <a:xfrm rot="13972800">
                  <a:off x="4383720" y="253008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8" name="Group 92"/>
              <p:cNvGrpSpPr/>
              <p:nvPr/>
            </p:nvGrpSpPr>
            <p:grpSpPr>
              <a:xfrm>
                <a:off x="3945600" y="2564640"/>
                <a:ext cx="867240" cy="593640"/>
                <a:chOff x="3945600" y="2564640"/>
                <a:chExt cx="867240" cy="593640"/>
              </a:xfrm>
            </p:grpSpPr>
            <p:sp>
              <p:nvSpPr>
                <p:cNvPr id="149" name="AutoShape 93"/>
                <p:cNvSpPr/>
                <p:nvPr/>
              </p:nvSpPr>
              <p:spPr>
                <a:xfrm rot="13683600">
                  <a:off x="4426560" y="251316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0" name="AutoShape 94"/>
                <p:cNvSpPr/>
                <p:nvPr/>
              </p:nvSpPr>
              <p:spPr>
                <a:xfrm rot="14498400">
                  <a:off x="4340160" y="258480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1" name="AutoShape 95"/>
                <p:cNvSpPr/>
                <p:nvPr/>
              </p:nvSpPr>
              <p:spPr>
                <a:xfrm rot="14794200">
                  <a:off x="4281840" y="261252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52" name="AutoShape 96"/>
                <p:cNvSpPr/>
                <p:nvPr/>
              </p:nvSpPr>
              <p:spPr>
                <a:xfrm rot="15326400">
                  <a:off x="4210560" y="2643840"/>
                  <a:ext cx="162360" cy="6739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3" name="TextBox 677"/>
          <p:cNvSpPr/>
          <p:nvPr/>
        </p:nvSpPr>
        <p:spPr>
          <a:xfrm>
            <a:off x="3744360" y="2108160"/>
            <a:ext cx="663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9"/>
          <p:cNvSpPr/>
          <p:nvPr/>
        </p:nvSpPr>
        <p:spPr>
          <a:xfrm>
            <a:off x="827640" y="1461960"/>
            <a:ext cx="1295640" cy="3253320"/>
          </a:xfrm>
          <a:prstGeom prst="rect">
            <a:avLst/>
          </a:prstGeom>
          <a:noFill/>
          <a:ln w="38100">
            <a:solidFill>
              <a:srgbClr val="00b0f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51"/>
          <p:cNvSpPr/>
          <p:nvPr/>
        </p:nvSpPr>
        <p:spPr>
          <a:xfrm>
            <a:off x="4204440" y="3639600"/>
            <a:ext cx="4195440" cy="819720"/>
          </a:xfrm>
          <a:prstGeom prst="rect">
            <a:avLst/>
          </a:prstGeom>
          <a:noFill/>
          <a:ln w="38100">
            <a:solidFill>
              <a:srgbClr val="00b0f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请输入文字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请输入文字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5"/>
          <p:cNvSpPr/>
          <p:nvPr/>
        </p:nvSpPr>
        <p:spPr>
          <a:xfrm>
            <a:off x="4576680" y="577800"/>
            <a:ext cx="4195440" cy="819720"/>
          </a:xfrm>
          <a:prstGeom prst="rect">
            <a:avLst/>
          </a:prstGeom>
          <a:noFill/>
          <a:ln w="38100">
            <a:solidFill>
              <a:srgbClr val="00b0f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请输入文字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chemeClr val="accent1">
                    <a:lumMod val="50000"/>
                  </a:schemeClr>
                </a:solidFill>
                <a:latin typeface="微软雅黑"/>
                <a:ea typeface="微软雅黑"/>
              </a:rPr>
              <a:t>请输入文字请输入文字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50"/>
          <p:cNvSpPr/>
          <p:nvPr/>
        </p:nvSpPr>
        <p:spPr>
          <a:xfrm>
            <a:off x="3416040" y="238716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非凡图库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ff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7640" y="3867840"/>
            <a:ext cx="7560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-1" strike="noStrike">
                <a:solidFill>
                  <a:srgbClr val="ffffff"/>
                </a:solidFill>
                <a:latin typeface="Calibri"/>
                <a:ea typeface="微软雅黑"/>
              </a:rPr>
              <a:t>谢谢聆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94360" y="14184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  <a:ea typeface="微软雅黑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ea typeface="微软雅黑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  <a:ea typeface="微软雅黑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6607800" y="25020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  <Words>891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0T14:51:58Z</dcterms:created>
  <dc:creator>HHQ</dc:creator>
  <dc:description/>
  <dc:language>en-US</dc:language>
  <cp:lastModifiedBy>yu wang</cp:lastModifiedBy>
  <dcterms:modified xsi:type="dcterms:W3CDTF">2015-08-08T10:05:51Z</dcterms:modified>
  <cp:revision>3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9)</vt:lpwstr>
  </property>
  <property fmtid="{D5CDD505-2E9C-101B-9397-08002B2CF9AE}" pid="3" name="Slides">
    <vt:r8>9</vt:r8>
  </property>
</Properties>
</file>