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87A0056-6E76-4691-9B89-891B957ADFAF}" type="doc">
      <dgm:prSet loTypeId="urn:microsoft.com/office/officeart/2005/8/layout/pyramid4" loCatId="relationship" qsTypeId="urn:microsoft.com/office/officeart/2005/8/quickstyle/simple4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0F886776-11D3-4389-8A7D-C81E5C5C0C97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>
            <a:latin typeface="微软雅黑" pitchFamily="34" charset="-122"/>
            <a:ea typeface="微软雅黑" pitchFamily="34" charset="-122"/>
          </a:endParaRPr>
        </a:p>
      </dgm:t>
    </dgm:pt>
    <dgm:pt modelId="{4AB0DD19-8421-4ACE-AAD8-D80C401C66DC}" type="parTrans" cxnId="{57CFE8F5-27B1-4AE8-8B2D-8F98FD577736}">
      <dgm:prSet/>
      <dgm:spPr/>
      <dgm:t>
        <a:bodyPr/>
        <a:lstStyle/>
        <a:p>
          <a:endParaRPr lang="zh-CN" altLang="en-US"/>
        </a:p>
      </dgm:t>
    </dgm:pt>
    <dgm:pt modelId="{2F5E8199-7719-4D44-99D5-C9B42BADD3D0}" type="sibTrans" cxnId="{57CFE8F5-27B1-4AE8-8B2D-8F98FD577736}">
      <dgm:prSet/>
      <dgm:spPr/>
      <dgm:t>
        <a:bodyPr/>
        <a:lstStyle/>
        <a:p>
          <a:endParaRPr lang="zh-CN" altLang="en-US"/>
        </a:p>
      </dgm:t>
    </dgm:pt>
    <dgm:pt modelId="{52894CE7-9FE6-4488-BAAB-1A9158FA088D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9859351C-BD3A-4CCB-8F2A-806AFD5DFEF7}" type="parTrans" cxnId="{1165FC07-9ECF-4D4A-921B-08D8EC0EEF93}">
      <dgm:prSet/>
      <dgm:spPr/>
      <dgm:t>
        <a:bodyPr/>
        <a:lstStyle/>
        <a:p>
          <a:endParaRPr lang="zh-CN" altLang="en-US"/>
        </a:p>
      </dgm:t>
    </dgm:pt>
    <dgm:pt modelId="{DCF985E2-8CE5-4974-9BB1-ADFAE9032870}" type="sibTrans" cxnId="{1165FC07-9ECF-4D4A-921B-08D8EC0EEF93}">
      <dgm:prSet/>
      <dgm:spPr/>
      <dgm:t>
        <a:bodyPr/>
        <a:lstStyle/>
        <a:p>
          <a:endParaRPr lang="zh-CN" altLang="en-US"/>
        </a:p>
      </dgm:t>
    </dgm:pt>
    <dgm:pt modelId="{AE0669C6-1E01-4072-A800-7A3BAF48CA58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AF7672E1-20CE-4DEB-8963-6F1A1367B951}" type="parTrans" cxnId="{5087164C-4C78-461B-8841-23C0D3F0B2AC}">
      <dgm:prSet/>
      <dgm:spPr/>
      <dgm:t>
        <a:bodyPr/>
        <a:lstStyle/>
        <a:p>
          <a:endParaRPr lang="zh-CN" altLang="en-US"/>
        </a:p>
      </dgm:t>
    </dgm:pt>
    <dgm:pt modelId="{57CADE2C-6731-4A85-9CC1-8794280B8533}" type="sibTrans" cxnId="{5087164C-4C78-461B-8841-23C0D3F0B2AC}">
      <dgm:prSet/>
      <dgm:spPr/>
      <dgm:t>
        <a:bodyPr/>
        <a:lstStyle/>
        <a:p>
          <a:endParaRPr lang="zh-CN" altLang="en-US"/>
        </a:p>
      </dgm:t>
    </dgm:pt>
    <dgm:pt modelId="{10299D17-9659-4B4E-8BA3-04728377E421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E69BF485-7E17-45E4-9F36-21226B92E2AC}" type="parTrans" cxnId="{18A42A4B-EDAD-4B75-9FAF-C04844E606E8}">
      <dgm:prSet/>
      <dgm:spPr/>
      <dgm:t>
        <a:bodyPr/>
        <a:lstStyle/>
        <a:p>
          <a:endParaRPr lang="zh-CN" altLang="en-US"/>
        </a:p>
      </dgm:t>
    </dgm:pt>
    <dgm:pt modelId="{62D49960-6942-444F-A76A-4E16B485ED2F}" type="sibTrans" cxnId="{18A42A4B-EDAD-4B75-9FAF-C04844E606E8}">
      <dgm:prSet/>
      <dgm:spPr/>
      <dgm:t>
        <a:bodyPr/>
        <a:lstStyle/>
        <a:p>
          <a:endParaRPr lang="zh-CN" altLang="en-US"/>
        </a:p>
      </dgm:t>
    </dgm:pt>
    <dgm:pt modelId="{F1B7CC5C-10B2-4B84-8823-6F7ECAD78DE6}" type="pres">
      <dgm:prSet presAssocID="{A87A0056-6E76-4691-9B89-891B957ADFAF}" presName="compositeShape" presStyleCnt="0">
        <dgm:presLayoutVars>
          <dgm:chMax val="9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58D94E50-B3AF-4193-9EF4-0C8C5407A534}" type="pres">
      <dgm:prSet presAssocID="{A87A0056-6E76-4691-9B89-891B957ADFAF}" presName="triangle1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42CB91-6C45-4DFC-A30F-DA5B386EFBC5}" type="pres">
      <dgm:prSet presAssocID="{A87A0056-6E76-4691-9B89-891B957ADFAF}" presName="triangle2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B6B997D-4DA3-4A3F-A213-D0887DF32290}" type="pres">
      <dgm:prSet presAssocID="{A87A0056-6E76-4691-9B89-891B957ADFAF}" presName="triangle3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5F4118-ACE6-4708-9AF2-D77E7FCF2E5A}" type="pres">
      <dgm:prSet presAssocID="{A87A0056-6E76-4691-9B89-891B957ADFAF}" presName="triangle4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6487178-8C80-44C3-965D-365D1C4F15FA}" type="presOf" srcId="{A87A0056-6E76-4691-9B89-891B957ADFAF}" destId="{F1B7CC5C-10B2-4B84-8823-6F7ECAD78DE6}" srcOrd="0" destOrd="0" presId="urn:microsoft.com/office/officeart/2005/8/layout/pyramid4"/>
    <dgm:cxn modelId="{864EC64B-7FA6-493C-99D8-9322CA1C3475}" type="presOf" srcId="{10299D17-9659-4B4E-8BA3-04728377E421}" destId="{D55F4118-ACE6-4708-9AF2-D77E7FCF2E5A}" srcOrd="0" destOrd="0" presId="urn:microsoft.com/office/officeart/2005/8/layout/pyramid4"/>
    <dgm:cxn modelId="{18A42A4B-EDAD-4B75-9FAF-C04844E606E8}" srcId="{A87A0056-6E76-4691-9B89-891B957ADFAF}" destId="{10299D17-9659-4B4E-8BA3-04728377E421}" srcOrd="3" destOrd="0" parTransId="{E69BF485-7E17-45E4-9F36-21226B92E2AC}" sibTransId="{62D49960-6942-444F-A76A-4E16B485ED2F}"/>
    <dgm:cxn modelId="{5087164C-4C78-461B-8841-23C0D3F0B2AC}" srcId="{A87A0056-6E76-4691-9B89-891B957ADFAF}" destId="{AE0669C6-1E01-4072-A800-7A3BAF48CA58}" srcOrd="2" destOrd="0" parTransId="{AF7672E1-20CE-4DEB-8963-6F1A1367B951}" sibTransId="{57CADE2C-6731-4A85-9CC1-8794280B8533}"/>
    <dgm:cxn modelId="{46461F23-A144-43C1-8E50-2F7DA01CE1C2}" type="presOf" srcId="{0F886776-11D3-4389-8A7D-C81E5C5C0C97}" destId="{58D94E50-B3AF-4193-9EF4-0C8C5407A534}" srcOrd="0" destOrd="0" presId="urn:microsoft.com/office/officeart/2005/8/layout/pyramid4"/>
    <dgm:cxn modelId="{21B3C995-B0E5-4646-8FE7-D7660676038F}" type="presOf" srcId="{52894CE7-9FE6-4488-BAAB-1A9158FA088D}" destId="{C042CB91-6C45-4DFC-A30F-DA5B386EFBC5}" srcOrd="0" destOrd="0" presId="urn:microsoft.com/office/officeart/2005/8/layout/pyramid4"/>
    <dgm:cxn modelId="{1165FC07-9ECF-4D4A-921B-08D8EC0EEF93}" srcId="{A87A0056-6E76-4691-9B89-891B957ADFAF}" destId="{52894CE7-9FE6-4488-BAAB-1A9158FA088D}" srcOrd="1" destOrd="0" parTransId="{9859351C-BD3A-4CCB-8F2A-806AFD5DFEF7}" sibTransId="{DCF985E2-8CE5-4974-9BB1-ADFAE9032870}"/>
    <dgm:cxn modelId="{9799DE1B-F7B4-4957-AAF8-E270A72D6A60}" type="presOf" srcId="{AE0669C6-1E01-4072-A800-7A3BAF48CA58}" destId="{8B6B997D-4DA3-4A3F-A213-D0887DF32290}" srcOrd="0" destOrd="0" presId="urn:microsoft.com/office/officeart/2005/8/layout/pyramid4"/>
    <dgm:cxn modelId="{57CFE8F5-27B1-4AE8-8B2D-8F98FD577736}" srcId="{A87A0056-6E76-4691-9B89-891B957ADFAF}" destId="{0F886776-11D3-4389-8A7D-C81E5C5C0C97}" srcOrd="0" destOrd="0" parTransId="{4AB0DD19-8421-4ACE-AAD8-D80C401C66DC}" sibTransId="{2F5E8199-7719-4D44-99D5-C9B42BADD3D0}"/>
    <dgm:cxn modelId="{4E7F15A7-6B61-48D7-B87F-86504609AF53}" type="presParOf" srcId="{F1B7CC5C-10B2-4B84-8823-6F7ECAD78DE6}" destId="{58D94E50-B3AF-4193-9EF4-0C8C5407A534}" srcOrd="0" destOrd="0" presId="urn:microsoft.com/office/officeart/2005/8/layout/pyramid4"/>
    <dgm:cxn modelId="{60BB9997-5ED1-44FA-884A-9AE3600DD389}" type="presParOf" srcId="{F1B7CC5C-10B2-4B84-8823-6F7ECAD78DE6}" destId="{C042CB91-6C45-4DFC-A30F-DA5B386EFBC5}" srcOrd="1" destOrd="0" presId="urn:microsoft.com/office/officeart/2005/8/layout/pyramid4"/>
    <dgm:cxn modelId="{80EB3415-9666-4B84-AA38-E8023281921A}" type="presParOf" srcId="{F1B7CC5C-10B2-4B84-8823-6F7ECAD78DE6}" destId="{8B6B997D-4DA3-4A3F-A213-D0887DF32290}" srcOrd="2" destOrd="0" presId="urn:microsoft.com/office/officeart/2005/8/layout/pyramid4"/>
    <dgm:cxn modelId="{69F23807-6235-463A-992B-9181137071A0}" type="presParOf" srcId="{F1B7CC5C-10B2-4B84-8823-6F7ECAD78DE6}" destId="{D55F4118-ACE6-4708-9AF2-D77E7FCF2E5A}" srcOrd="3" destOrd="0" presId="urn:microsoft.com/office/officeart/2005/8/layout/pyramid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3114D8B-830E-4DF9-836A-744643D4E35E}" type="doc">
      <dgm:prSet loTypeId="urn:microsoft.com/office/officeart/2005/8/layout/hProcess9" loCatId="process" qsTypeId="urn:microsoft.com/office/officeart/2005/8/quickstyle/simple4" qsCatId="simple" csTypeId="urn:microsoft.com/office/officeart/2005/8/colors/colorful5" csCatId="colorful" phldr="1"/>
      <dgm:spPr/>
    </dgm:pt>
    <dgm:pt modelId="{41606AF0-92F9-4C45-80FA-A46B617A6675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06A80437-812F-4764-86BA-D61142EC6F34}" type="parTrans" cxnId="{FE68E214-CADA-4062-B5CF-6FE7FE85ADF5}">
      <dgm:prSet/>
      <dgm:spPr/>
      <dgm:t>
        <a:bodyPr/>
        <a:lstStyle/>
        <a:p>
          <a:endParaRPr lang="zh-CN" altLang="en-US"/>
        </a:p>
      </dgm:t>
    </dgm:pt>
    <dgm:pt modelId="{13CC9FA4-AD49-458F-B558-4C80B4CCCCFB}" type="sibTrans" cxnId="{FE68E214-CADA-4062-B5CF-6FE7FE85ADF5}">
      <dgm:prSet/>
      <dgm:spPr/>
      <dgm:t>
        <a:bodyPr/>
        <a:lstStyle/>
        <a:p>
          <a:endParaRPr lang="zh-CN" altLang="en-US"/>
        </a:p>
      </dgm:t>
    </dgm:pt>
    <dgm:pt modelId="{4783C0D2-5867-4BC5-8D1B-FD3E34F807F1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714FA564-D8CE-4504-A5BF-C7D6B7EF226F}" type="parTrans" cxnId="{82F74A82-D60A-44A4-8B43-42239C54E37A}">
      <dgm:prSet/>
      <dgm:spPr/>
      <dgm:t>
        <a:bodyPr/>
        <a:lstStyle/>
        <a:p>
          <a:endParaRPr lang="zh-CN" altLang="en-US"/>
        </a:p>
      </dgm:t>
    </dgm:pt>
    <dgm:pt modelId="{FC90605E-4AAB-4619-8143-4C1581FB88DA}" type="sibTrans" cxnId="{82F74A82-D60A-44A4-8B43-42239C54E37A}">
      <dgm:prSet/>
      <dgm:spPr/>
      <dgm:t>
        <a:bodyPr/>
        <a:lstStyle/>
        <a:p>
          <a:endParaRPr lang="zh-CN" altLang="en-US"/>
        </a:p>
      </dgm:t>
    </dgm:pt>
    <dgm:pt modelId="{25EF05E0-90F8-402A-8C3F-17D553DF617A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F69921A8-8446-4B86-974C-804B8861CEBB}" type="parTrans" cxnId="{A0B730CA-D32C-40D6-B8FC-C17E90043380}">
      <dgm:prSet/>
      <dgm:spPr/>
      <dgm:t>
        <a:bodyPr/>
        <a:lstStyle/>
        <a:p>
          <a:endParaRPr lang="zh-CN" altLang="en-US"/>
        </a:p>
      </dgm:t>
    </dgm:pt>
    <dgm:pt modelId="{87B56098-1750-498A-BFF4-7032B4B15911}" type="sibTrans" cxnId="{A0B730CA-D32C-40D6-B8FC-C17E90043380}">
      <dgm:prSet/>
      <dgm:spPr/>
      <dgm:t>
        <a:bodyPr/>
        <a:lstStyle/>
        <a:p>
          <a:endParaRPr lang="zh-CN" altLang="en-US"/>
        </a:p>
      </dgm:t>
    </dgm:pt>
    <dgm:pt modelId="{B6883209-69EB-4E2B-BB2A-C36BC2DA7A08}" type="pres">
      <dgm:prSet presAssocID="{83114D8B-830E-4DF9-836A-744643D4E35E}" presName="CompostProcess" presStyleCnt="0">
        <dgm:presLayoutVars>
          <dgm:dir/>
          <dgm:resizeHandles val="exact"/>
        </dgm:presLayoutVars>
      </dgm:prSet>
      <dgm:spPr/>
    </dgm:pt>
    <dgm:pt modelId="{6FCCDF85-A925-4F14-8095-82BB08B5555B}" type="pres">
      <dgm:prSet presAssocID="{83114D8B-830E-4DF9-836A-744643D4E35E}" presName="arrow" presStyleLbl="bgShp" presStyleIdx="0" presStyleCnt="1"/>
      <dgm:spPr/>
    </dgm:pt>
    <dgm:pt modelId="{5EC73DC0-F40B-4929-AEFE-968FA254C222}" type="pres">
      <dgm:prSet presAssocID="{83114D8B-830E-4DF9-836A-744643D4E35E}" presName="linearProcess" presStyleCnt="0"/>
      <dgm:spPr/>
    </dgm:pt>
    <dgm:pt modelId="{70293092-291E-4A86-8BBD-064D636FA40D}" type="pres">
      <dgm:prSet presAssocID="{41606AF0-92F9-4C45-80FA-A46B617A6675}" presName="text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89C4578-D9E2-423E-8A71-270704F1A93E}" type="pres">
      <dgm:prSet presAssocID="{13CC9FA4-AD49-458F-B558-4C80B4CCCCFB}" presName="sibTrans" presStyleCnt="0"/>
      <dgm:spPr/>
    </dgm:pt>
    <dgm:pt modelId="{7964C72F-5290-4754-B247-A7C0812CAABA}" type="pres">
      <dgm:prSet presAssocID="{4783C0D2-5867-4BC5-8D1B-FD3E34F807F1}" presName="text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286F4B9-A6B0-406E-8EA9-972DC01F63C1}" type="pres">
      <dgm:prSet presAssocID="{FC90605E-4AAB-4619-8143-4C1581FB88DA}" presName="sibTrans" presStyleCnt="0"/>
      <dgm:spPr/>
    </dgm:pt>
    <dgm:pt modelId="{69800824-C55C-40F4-9C94-4392E2687EED}" type="pres">
      <dgm:prSet presAssocID="{25EF05E0-90F8-402A-8C3F-17D553DF617A}" presName="text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2F74A82-D60A-44A4-8B43-42239C54E37A}" srcId="{83114D8B-830E-4DF9-836A-744643D4E35E}" destId="{4783C0D2-5867-4BC5-8D1B-FD3E34F807F1}" srcOrd="1" destOrd="0" parTransId="{714FA564-D8CE-4504-A5BF-C7D6B7EF226F}" sibTransId="{FC90605E-4AAB-4619-8143-4C1581FB88DA}"/>
    <dgm:cxn modelId="{261394D6-C7F0-4F69-940B-A8433D378FBC}" type="presOf" srcId="{25EF05E0-90F8-402A-8C3F-17D553DF617A}" destId="{69800824-C55C-40F4-9C94-4392E2687EED}" srcOrd="0" destOrd="0" presId="urn:microsoft.com/office/officeart/2005/8/layout/hProcess9"/>
    <dgm:cxn modelId="{4C14EB44-459F-47BF-9351-4BE5C488854F}" type="presOf" srcId="{41606AF0-92F9-4C45-80FA-A46B617A6675}" destId="{70293092-291E-4A86-8BBD-064D636FA40D}" srcOrd="0" destOrd="0" presId="urn:microsoft.com/office/officeart/2005/8/layout/hProcess9"/>
    <dgm:cxn modelId="{FE68E214-CADA-4062-B5CF-6FE7FE85ADF5}" srcId="{83114D8B-830E-4DF9-836A-744643D4E35E}" destId="{41606AF0-92F9-4C45-80FA-A46B617A6675}" srcOrd="0" destOrd="0" parTransId="{06A80437-812F-4764-86BA-D61142EC6F34}" sibTransId="{13CC9FA4-AD49-458F-B558-4C80B4CCCCFB}"/>
    <dgm:cxn modelId="{2EAD6579-77E4-4894-95D5-24AC112AC665}" type="presOf" srcId="{83114D8B-830E-4DF9-836A-744643D4E35E}" destId="{B6883209-69EB-4E2B-BB2A-C36BC2DA7A08}" srcOrd="0" destOrd="0" presId="urn:microsoft.com/office/officeart/2005/8/layout/hProcess9"/>
    <dgm:cxn modelId="{A0B730CA-D32C-40D6-B8FC-C17E90043380}" srcId="{83114D8B-830E-4DF9-836A-744643D4E35E}" destId="{25EF05E0-90F8-402A-8C3F-17D553DF617A}" srcOrd="2" destOrd="0" parTransId="{F69921A8-8446-4B86-974C-804B8861CEBB}" sibTransId="{87B56098-1750-498A-BFF4-7032B4B15911}"/>
    <dgm:cxn modelId="{5823599D-EA35-49DC-9506-2C18BB4CC51A}" type="presOf" srcId="{4783C0D2-5867-4BC5-8D1B-FD3E34F807F1}" destId="{7964C72F-5290-4754-B247-A7C0812CAABA}" srcOrd="0" destOrd="0" presId="urn:microsoft.com/office/officeart/2005/8/layout/hProcess9"/>
    <dgm:cxn modelId="{474A68CE-411C-4B9F-9103-18B60289EC47}" type="presParOf" srcId="{B6883209-69EB-4E2B-BB2A-C36BC2DA7A08}" destId="{6FCCDF85-A925-4F14-8095-82BB08B5555B}" srcOrd="0" destOrd="0" presId="urn:microsoft.com/office/officeart/2005/8/layout/hProcess9"/>
    <dgm:cxn modelId="{6E3A0793-7965-43AD-B525-2AC2C5AA7F62}" type="presParOf" srcId="{B6883209-69EB-4E2B-BB2A-C36BC2DA7A08}" destId="{5EC73DC0-F40B-4929-AEFE-968FA254C222}" srcOrd="1" destOrd="0" presId="urn:microsoft.com/office/officeart/2005/8/layout/hProcess9"/>
    <dgm:cxn modelId="{E19CC43E-C098-4CC1-9332-16FE661C0081}" type="presParOf" srcId="{5EC73DC0-F40B-4929-AEFE-968FA254C222}" destId="{70293092-291E-4A86-8BBD-064D636FA40D}" srcOrd="0" destOrd="0" presId="urn:microsoft.com/office/officeart/2005/8/layout/hProcess9"/>
    <dgm:cxn modelId="{77424A45-5070-498B-AFF4-8A4373105E83}" type="presParOf" srcId="{5EC73DC0-F40B-4929-AEFE-968FA254C222}" destId="{C89C4578-D9E2-423E-8A71-270704F1A93E}" srcOrd="1" destOrd="0" presId="urn:microsoft.com/office/officeart/2005/8/layout/hProcess9"/>
    <dgm:cxn modelId="{D7053FDE-9CDF-4B00-9877-722018BAE275}" type="presParOf" srcId="{5EC73DC0-F40B-4929-AEFE-968FA254C222}" destId="{7964C72F-5290-4754-B247-A7C0812CAABA}" srcOrd="2" destOrd="0" presId="urn:microsoft.com/office/officeart/2005/8/layout/hProcess9"/>
    <dgm:cxn modelId="{ACA1E62F-3623-44FA-B176-2FCA033055F5}" type="presParOf" srcId="{5EC73DC0-F40B-4929-AEFE-968FA254C222}" destId="{7286F4B9-A6B0-406E-8EA9-972DC01F63C1}" srcOrd="3" destOrd="0" presId="urn:microsoft.com/office/officeart/2005/8/layout/hProcess9"/>
    <dgm:cxn modelId="{053A0A17-589F-44A0-8785-36AB86F1451C}" type="presParOf" srcId="{5EC73DC0-F40B-4929-AEFE-968FA254C222}" destId="{69800824-C55C-40F4-9C94-4392E2687EED}" srcOrd="4" destOrd="0" presId="urn:microsoft.com/office/officeart/2005/8/layout/hProcess9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A6E5598D-39CA-46DB-8653-4B65A04F116D}" type="doc">
      <dgm:prSet loTypeId="urn:microsoft.com/office/officeart/2005/8/layout/matrix1" loCatId="matrix" qsTypeId="urn:microsoft.com/office/officeart/2005/8/quickstyle/simple4" qsCatId="simple" csTypeId="urn:microsoft.com/office/officeart/2005/8/colors/colorful5" csCatId="colorful" phldr="1"/>
      <dgm:spPr/>
      <dgm:t>
        <a:bodyPr/>
        <a:lstStyle/>
        <a:p>
          <a:endParaRPr lang="zh-CN" altLang="en-US"/>
        </a:p>
      </dgm:t>
    </dgm:pt>
    <dgm:pt modelId="{23293C81-5BA5-4801-A2E5-5AE2EE208D08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C1D6975E-6790-44B5-82DA-E42828A35F96}" type="parTrans" cxnId="{407F001F-A063-475D-9D41-CD1FC235A467}">
      <dgm:prSet/>
      <dgm:spPr/>
      <dgm:t>
        <a:bodyPr/>
        <a:lstStyle/>
        <a:p>
          <a:endParaRPr lang="zh-CN" altLang="en-US"/>
        </a:p>
      </dgm:t>
    </dgm:pt>
    <dgm:pt modelId="{19C4515F-804F-4BF6-8365-E9BC5D63AC3E}" type="sibTrans" cxnId="{407F001F-A063-475D-9D41-CD1FC235A467}">
      <dgm:prSet/>
      <dgm:spPr/>
      <dgm:t>
        <a:bodyPr/>
        <a:lstStyle/>
        <a:p>
          <a:endParaRPr lang="zh-CN" altLang="en-US"/>
        </a:p>
      </dgm:t>
    </dgm:pt>
    <dgm:pt modelId="{EB46835E-41D5-436F-A556-91ED8E35405F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DBBA96DC-37C8-481F-897F-113959D15E21}" type="parTrans" cxnId="{E6BEE010-F9A2-4410-96A0-9F7FBB5BB371}">
      <dgm:prSet/>
      <dgm:spPr/>
      <dgm:t>
        <a:bodyPr/>
        <a:lstStyle/>
        <a:p>
          <a:endParaRPr lang="zh-CN" altLang="en-US"/>
        </a:p>
      </dgm:t>
    </dgm:pt>
    <dgm:pt modelId="{24942D34-103C-4A01-AB5E-E08AFE662382}" type="sibTrans" cxnId="{E6BEE010-F9A2-4410-96A0-9F7FBB5BB371}">
      <dgm:prSet/>
      <dgm:spPr/>
      <dgm:t>
        <a:bodyPr/>
        <a:lstStyle/>
        <a:p>
          <a:endParaRPr lang="zh-CN" altLang="en-US"/>
        </a:p>
      </dgm:t>
    </dgm:pt>
    <dgm:pt modelId="{67B125E9-5FC3-412A-BCAB-964A935D0A0C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3AEE9140-8580-44AC-A7AA-B79C5BD53B42}" type="parTrans" cxnId="{6DB09546-4C98-45AA-B53A-451C04892974}">
      <dgm:prSet/>
      <dgm:spPr/>
      <dgm:t>
        <a:bodyPr/>
        <a:lstStyle/>
        <a:p>
          <a:endParaRPr lang="zh-CN" altLang="en-US"/>
        </a:p>
      </dgm:t>
    </dgm:pt>
    <dgm:pt modelId="{B9C3661D-346E-431F-B75A-618B8AAE9561}" type="sibTrans" cxnId="{6DB09546-4C98-45AA-B53A-451C04892974}">
      <dgm:prSet/>
      <dgm:spPr/>
      <dgm:t>
        <a:bodyPr/>
        <a:lstStyle/>
        <a:p>
          <a:endParaRPr lang="zh-CN" altLang="en-US"/>
        </a:p>
      </dgm:t>
    </dgm:pt>
    <dgm:pt modelId="{EC25EDAF-BEF2-432C-8493-6C12619C5CD9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A6666F89-D91E-48DF-8006-7D383FE51FA9}" type="parTrans" cxnId="{2C05458A-D466-4A75-B9B9-D911C0AD8B21}">
      <dgm:prSet/>
      <dgm:spPr/>
      <dgm:t>
        <a:bodyPr/>
        <a:lstStyle/>
        <a:p>
          <a:endParaRPr lang="zh-CN" altLang="en-US"/>
        </a:p>
      </dgm:t>
    </dgm:pt>
    <dgm:pt modelId="{291A5B25-2150-41BD-B661-C561823F3268}" type="sibTrans" cxnId="{2C05458A-D466-4A75-B9B9-D911C0AD8B21}">
      <dgm:prSet/>
      <dgm:spPr/>
      <dgm:t>
        <a:bodyPr/>
        <a:lstStyle/>
        <a:p>
          <a:endParaRPr lang="zh-CN" altLang="en-US"/>
        </a:p>
      </dgm:t>
    </dgm:pt>
    <dgm:pt modelId="{7BF040DB-AC7D-4D6A-9DA5-4E1412EF85D9}">
      <dgm:prSet phldrT="[文本]"/>
      <dgm:spPr/>
      <dgm:t>
        <a:bodyPr/>
        <a:lstStyle/>
        <a:p>
          <a:r>
            <a:rPr lang="zh-CN" altLang="en-US" dirty="0" smtClean="0">
              <a:latin typeface="微软雅黑" pitchFamily="34" charset="-122"/>
              <a:ea typeface="微软雅黑" pitchFamily="34" charset="-122"/>
            </a:rPr>
            <a:t>添加标题</a:t>
          </a:r>
          <a:endParaRPr lang="zh-CN" altLang="en-US" dirty="0"/>
        </a:p>
      </dgm:t>
    </dgm:pt>
    <dgm:pt modelId="{1DF26C41-35A7-4EE0-ABA3-9D32BCA5FD13}" type="parTrans" cxnId="{2BAE27AC-63AB-40C9-AF35-02956986E6FD}">
      <dgm:prSet/>
      <dgm:spPr/>
      <dgm:t>
        <a:bodyPr/>
        <a:lstStyle/>
        <a:p>
          <a:endParaRPr lang="zh-CN" altLang="en-US"/>
        </a:p>
      </dgm:t>
    </dgm:pt>
    <dgm:pt modelId="{03FA708F-419D-49EF-A76D-54437F16DA90}" type="sibTrans" cxnId="{2BAE27AC-63AB-40C9-AF35-02956986E6FD}">
      <dgm:prSet/>
      <dgm:spPr/>
      <dgm:t>
        <a:bodyPr/>
        <a:lstStyle/>
        <a:p>
          <a:endParaRPr lang="zh-CN" altLang="en-US"/>
        </a:p>
      </dgm:t>
    </dgm:pt>
    <dgm:pt modelId="{D220396A-3623-427D-9A83-382B9C822688}" type="pres">
      <dgm:prSet presAssocID="{A6E5598D-39CA-46DB-8653-4B65A04F116D}" presName="diagram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3E3B804-023E-42F5-8F60-4B9851DB1C8A}" type="pres">
      <dgm:prSet presAssocID="{A6E5598D-39CA-46DB-8653-4B65A04F116D}" presName="matrix" presStyleCnt="0"/>
      <dgm:spPr/>
    </dgm:pt>
    <dgm:pt modelId="{0AFF414D-13DA-4A85-928C-A0849FE83EA8}" type="pres">
      <dgm:prSet presAssocID="{A6E5598D-39CA-46DB-8653-4B65A04F116D}" presName="tile1" presStyleLbl="node1" presStyleIdx="0" presStyleCnt="4"/>
      <dgm:spPr/>
      <dgm:t>
        <a:bodyPr/>
        <a:lstStyle/>
        <a:p>
          <a:endParaRPr lang="zh-CN" altLang="en-US"/>
        </a:p>
      </dgm:t>
    </dgm:pt>
    <dgm:pt modelId="{FE28CE27-DC28-4272-872F-31DCFFF00FA8}" type="pres">
      <dgm:prSet presAssocID="{A6E5598D-39CA-46DB-8653-4B65A04F116D}" presName="tile1text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683334C-2D5E-49C8-96F0-7D7A134186DD}" type="pres">
      <dgm:prSet presAssocID="{A6E5598D-39CA-46DB-8653-4B65A04F116D}" presName="tile2" presStyleLbl="node1" presStyleIdx="1" presStyleCnt="4"/>
      <dgm:spPr/>
      <dgm:t>
        <a:bodyPr/>
        <a:lstStyle/>
        <a:p>
          <a:endParaRPr lang="zh-CN" altLang="en-US"/>
        </a:p>
      </dgm:t>
    </dgm:pt>
    <dgm:pt modelId="{23EC3ADA-36DA-44BD-83AA-5EAF57C3132F}" type="pres">
      <dgm:prSet presAssocID="{A6E5598D-39CA-46DB-8653-4B65A04F116D}" presName="tile2text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80BB103-CCDE-47C0-A90B-8CCBFB257436}" type="pres">
      <dgm:prSet presAssocID="{A6E5598D-39CA-46DB-8653-4B65A04F116D}" presName="tile3" presStyleLbl="node1" presStyleIdx="2" presStyleCnt="4"/>
      <dgm:spPr/>
      <dgm:t>
        <a:bodyPr/>
        <a:lstStyle/>
        <a:p>
          <a:endParaRPr lang="zh-CN" altLang="en-US"/>
        </a:p>
      </dgm:t>
    </dgm:pt>
    <dgm:pt modelId="{C047C97E-DB3B-4B69-85DE-1E4A03165A7D}" type="pres">
      <dgm:prSet presAssocID="{A6E5598D-39CA-46DB-8653-4B65A04F116D}" presName="tile3text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1460AD-4AB3-4A1B-AFDE-7D423173D38C}" type="pres">
      <dgm:prSet presAssocID="{A6E5598D-39CA-46DB-8653-4B65A04F116D}" presName="tile4" presStyleLbl="node1" presStyleIdx="3" presStyleCnt="4"/>
      <dgm:spPr/>
      <dgm:t>
        <a:bodyPr/>
        <a:lstStyle/>
        <a:p>
          <a:endParaRPr lang="zh-CN" altLang="en-US"/>
        </a:p>
      </dgm:t>
    </dgm:pt>
    <dgm:pt modelId="{343E39FE-F5BD-4F10-8F6A-936467FA9AE7}" type="pres">
      <dgm:prSet presAssocID="{A6E5598D-39CA-46DB-8653-4B65A04F116D}" presName="tile4text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19A54-A910-4A2C-83DD-6A112138EB30}" type="pres">
      <dgm:prSet presAssocID="{A6E5598D-39CA-46DB-8653-4B65A04F116D}" presName="centerTile" presStyleLbl="fgShp" presStyleIdx="0" presStyleCnt="1">
        <dgm:presLayoutVars>
          <dgm:chMax val="0"/>
          <dgm:chPref val="0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E4BEF9E9-38B6-44A4-A1F4-302640AA77CD}" type="presOf" srcId="{67B125E9-5FC3-412A-BCAB-964A935D0A0C}" destId="{F683334C-2D5E-49C8-96F0-7D7A134186DD}" srcOrd="0" destOrd="0" presId="urn:microsoft.com/office/officeart/2005/8/layout/matrix1"/>
    <dgm:cxn modelId="{2C05458A-D466-4A75-B9B9-D911C0AD8B21}" srcId="{23293C81-5BA5-4801-A2E5-5AE2EE208D08}" destId="{EC25EDAF-BEF2-432C-8493-6C12619C5CD9}" srcOrd="2" destOrd="0" parTransId="{A6666F89-D91E-48DF-8006-7D383FE51FA9}" sibTransId="{291A5B25-2150-41BD-B661-C561823F3268}"/>
    <dgm:cxn modelId="{ADF46394-C540-4161-8638-84718B39D087}" type="presOf" srcId="{7BF040DB-AC7D-4D6A-9DA5-4E1412EF85D9}" destId="{931460AD-4AB3-4A1B-AFDE-7D423173D38C}" srcOrd="0" destOrd="0" presId="urn:microsoft.com/office/officeart/2005/8/layout/matrix1"/>
    <dgm:cxn modelId="{DC4480A9-AD1B-4F91-9EFC-20EA0366241F}" type="presOf" srcId="{EC25EDAF-BEF2-432C-8493-6C12619C5CD9}" destId="{C047C97E-DB3B-4B69-85DE-1E4A03165A7D}" srcOrd="1" destOrd="0" presId="urn:microsoft.com/office/officeart/2005/8/layout/matrix1"/>
    <dgm:cxn modelId="{2BAE27AC-63AB-40C9-AF35-02956986E6FD}" srcId="{23293C81-5BA5-4801-A2E5-5AE2EE208D08}" destId="{7BF040DB-AC7D-4D6A-9DA5-4E1412EF85D9}" srcOrd="3" destOrd="0" parTransId="{1DF26C41-35A7-4EE0-ABA3-9D32BCA5FD13}" sibTransId="{03FA708F-419D-49EF-A76D-54437F16DA90}"/>
    <dgm:cxn modelId="{FA4D753C-1FE5-4ED9-814C-7B6F1327F072}" type="presOf" srcId="{EB46835E-41D5-436F-A556-91ED8E35405F}" destId="{FE28CE27-DC28-4272-872F-31DCFFF00FA8}" srcOrd="1" destOrd="0" presId="urn:microsoft.com/office/officeart/2005/8/layout/matrix1"/>
    <dgm:cxn modelId="{4718DC79-E26E-4D82-A997-C0DDF67EBF64}" type="presOf" srcId="{EB46835E-41D5-436F-A556-91ED8E35405F}" destId="{0AFF414D-13DA-4A85-928C-A0849FE83EA8}" srcOrd="0" destOrd="0" presId="urn:microsoft.com/office/officeart/2005/8/layout/matrix1"/>
    <dgm:cxn modelId="{E8CE648D-B5C7-4CA3-B450-73A2EACE3020}" type="presOf" srcId="{23293C81-5BA5-4801-A2E5-5AE2EE208D08}" destId="{F8519A54-A910-4A2C-83DD-6A112138EB30}" srcOrd="0" destOrd="0" presId="urn:microsoft.com/office/officeart/2005/8/layout/matrix1"/>
    <dgm:cxn modelId="{407F001F-A063-475D-9D41-CD1FC235A467}" srcId="{A6E5598D-39CA-46DB-8653-4B65A04F116D}" destId="{23293C81-5BA5-4801-A2E5-5AE2EE208D08}" srcOrd="0" destOrd="0" parTransId="{C1D6975E-6790-44B5-82DA-E42828A35F96}" sibTransId="{19C4515F-804F-4BF6-8365-E9BC5D63AC3E}"/>
    <dgm:cxn modelId="{40EE0D83-9F58-4190-A15D-5D3927FD92B4}" type="presOf" srcId="{7BF040DB-AC7D-4D6A-9DA5-4E1412EF85D9}" destId="{343E39FE-F5BD-4F10-8F6A-936467FA9AE7}" srcOrd="1" destOrd="0" presId="urn:microsoft.com/office/officeart/2005/8/layout/matrix1"/>
    <dgm:cxn modelId="{B384C47B-D5FC-4A80-BE28-5B7FD77ED7D1}" type="presOf" srcId="{EC25EDAF-BEF2-432C-8493-6C12619C5CD9}" destId="{680BB103-CCDE-47C0-A90B-8CCBFB257436}" srcOrd="0" destOrd="0" presId="urn:microsoft.com/office/officeart/2005/8/layout/matrix1"/>
    <dgm:cxn modelId="{6DB09546-4C98-45AA-B53A-451C04892974}" srcId="{23293C81-5BA5-4801-A2E5-5AE2EE208D08}" destId="{67B125E9-5FC3-412A-BCAB-964A935D0A0C}" srcOrd="1" destOrd="0" parTransId="{3AEE9140-8580-44AC-A7AA-B79C5BD53B42}" sibTransId="{B9C3661D-346E-431F-B75A-618B8AAE9561}"/>
    <dgm:cxn modelId="{D7C29574-FE34-43D3-8C00-B5295E72C9A8}" type="presOf" srcId="{67B125E9-5FC3-412A-BCAB-964A935D0A0C}" destId="{23EC3ADA-36DA-44BD-83AA-5EAF57C3132F}" srcOrd="1" destOrd="0" presId="urn:microsoft.com/office/officeart/2005/8/layout/matrix1"/>
    <dgm:cxn modelId="{E6BEE010-F9A2-4410-96A0-9F7FBB5BB371}" srcId="{23293C81-5BA5-4801-A2E5-5AE2EE208D08}" destId="{EB46835E-41D5-436F-A556-91ED8E35405F}" srcOrd="0" destOrd="0" parTransId="{DBBA96DC-37C8-481F-897F-113959D15E21}" sibTransId="{24942D34-103C-4A01-AB5E-E08AFE662382}"/>
    <dgm:cxn modelId="{9A6DFF39-8DC0-4A0F-A86C-85331972F03E}" type="presOf" srcId="{A6E5598D-39CA-46DB-8653-4B65A04F116D}" destId="{D220396A-3623-427D-9A83-382B9C822688}" srcOrd="0" destOrd="0" presId="urn:microsoft.com/office/officeart/2005/8/layout/matrix1"/>
    <dgm:cxn modelId="{75DA2664-67C6-4346-9EF4-5FC29EA0B475}" type="presParOf" srcId="{D220396A-3623-427D-9A83-382B9C822688}" destId="{03E3B804-023E-42F5-8F60-4B9851DB1C8A}" srcOrd="0" destOrd="0" presId="urn:microsoft.com/office/officeart/2005/8/layout/matrix1"/>
    <dgm:cxn modelId="{F3A7600A-4C82-4320-B72A-41A6ED48498C}" type="presParOf" srcId="{03E3B804-023E-42F5-8F60-4B9851DB1C8A}" destId="{0AFF414D-13DA-4A85-928C-A0849FE83EA8}" srcOrd="0" destOrd="0" presId="urn:microsoft.com/office/officeart/2005/8/layout/matrix1"/>
    <dgm:cxn modelId="{DDAEDFDE-E55A-4686-BC4F-693B4A6EAA75}" type="presParOf" srcId="{03E3B804-023E-42F5-8F60-4B9851DB1C8A}" destId="{FE28CE27-DC28-4272-872F-31DCFFF00FA8}" srcOrd="1" destOrd="0" presId="urn:microsoft.com/office/officeart/2005/8/layout/matrix1"/>
    <dgm:cxn modelId="{D2CA0575-8DAF-4E80-8167-0A64210CB3F5}" type="presParOf" srcId="{03E3B804-023E-42F5-8F60-4B9851DB1C8A}" destId="{F683334C-2D5E-49C8-96F0-7D7A134186DD}" srcOrd="2" destOrd="0" presId="urn:microsoft.com/office/officeart/2005/8/layout/matrix1"/>
    <dgm:cxn modelId="{B69E72CE-0E8D-4066-B976-3D4BD8DF3473}" type="presParOf" srcId="{03E3B804-023E-42F5-8F60-4B9851DB1C8A}" destId="{23EC3ADA-36DA-44BD-83AA-5EAF57C3132F}" srcOrd="3" destOrd="0" presId="urn:microsoft.com/office/officeart/2005/8/layout/matrix1"/>
    <dgm:cxn modelId="{FB428E37-227F-4325-A766-F501152BCED0}" type="presParOf" srcId="{03E3B804-023E-42F5-8F60-4B9851DB1C8A}" destId="{680BB103-CCDE-47C0-A90B-8CCBFB257436}" srcOrd="4" destOrd="0" presId="urn:microsoft.com/office/officeart/2005/8/layout/matrix1"/>
    <dgm:cxn modelId="{2CE2B424-C9B9-44FA-9C87-52AE09F25CB5}" type="presParOf" srcId="{03E3B804-023E-42F5-8F60-4B9851DB1C8A}" destId="{C047C97E-DB3B-4B69-85DE-1E4A03165A7D}" srcOrd="5" destOrd="0" presId="urn:microsoft.com/office/officeart/2005/8/layout/matrix1"/>
    <dgm:cxn modelId="{C6C82825-83B7-452F-AF8C-1546A088A8A1}" type="presParOf" srcId="{03E3B804-023E-42F5-8F60-4B9851DB1C8A}" destId="{931460AD-4AB3-4A1B-AFDE-7D423173D38C}" srcOrd="6" destOrd="0" presId="urn:microsoft.com/office/officeart/2005/8/layout/matrix1"/>
    <dgm:cxn modelId="{8211C2E3-FF9F-4077-A017-EE84B8C66AEC}" type="presParOf" srcId="{03E3B804-023E-42F5-8F60-4B9851DB1C8A}" destId="{343E39FE-F5BD-4F10-8F6A-936467FA9AE7}" srcOrd="7" destOrd="0" presId="urn:microsoft.com/office/officeart/2005/8/layout/matrix1"/>
    <dgm:cxn modelId="{EA5A69F7-A03A-4042-83CB-EF4CE0BB6289}" type="presParOf" srcId="{D220396A-3623-427D-9A83-382B9C822688}" destId="{F8519A54-A910-4A2C-83DD-6A112138EB30}" srcOrd="1" destOrd="0" presId="urn:microsoft.com/office/officeart/2005/8/layout/matrix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4">
  <dgm:title val=""/>
  <dgm:desc val=""/>
  <dgm:catLst>
    <dgm:cat type="pyramid" pri="4000"/>
    <dgm:cat type="relationship" pri="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varLst>
      <dgm:chMax val="9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4">
        <dgm:choose name="Name2">
          <dgm:if name="Name3" axis="ch" ptType="node" func="cnt" op="equ" val="1">
            <dgm:constrLst>
              <dgm:constr type="primFontSz" for="ch" ptType="node" op="equ" val="65"/>
              <dgm:constr type="t" for="ch" forName="triangle1"/>
              <dgm:constr type="l" for="ch" forName="triangle1"/>
              <dgm:constr type="h" for="ch" forName="triangle1" refType="h"/>
              <dgm:constr type="w" for="ch" forName="triangle1" refType="h"/>
            </dgm:constrLst>
          </dgm:if>
          <dgm:else name="Name4">
            <dgm:constrLst>
              <dgm:constr type="primFontSz" for="ch" ptType="node" op="equ" val="65"/>
              <dgm:constr type="t" for="ch" forName="triangle1"/>
              <dgm:constr type="l" for="ch" forName="triangle1" refType="h" fact="0.25"/>
              <dgm:constr type="h" for="ch" forName="triangle1" refType="h" fact="0.5"/>
              <dgm:constr type="w" for="ch" forName="triangle1" refType="h" fact="0.5"/>
              <dgm:constr type="t" for="ch" forName="triangle2" refType="h" fact="0.5"/>
              <dgm:constr type="l" for="ch" forName="triangle2"/>
              <dgm:constr type="h" for="ch" forName="triangle2" refType="h" fact="0.5"/>
              <dgm:constr type="w" for="ch" forName="triangle2" refType="h" fact="0.5"/>
              <dgm:constr type="t" for="ch" forName="triangle3" refType="h" fact="0.5"/>
              <dgm:constr type="l" for="ch" forName="triangle3" refType="h" fact="0.25"/>
              <dgm:constr type="h" for="ch" forName="triangle3" refType="h" fact="0.5"/>
              <dgm:constr type="w" for="ch" forName="triangle3" refType="h" fact="0.5"/>
              <dgm:constr type="t" for="ch" forName="triangle4" refType="h" fact="0.5"/>
              <dgm:constr type="l" for="ch" forName="triangle4" refType="h" fact="0.5"/>
              <dgm:constr type="h" for="ch" forName="triangle4" refType="h" fact="0.5"/>
              <dgm:constr type="w" for="ch" forName="triangle4" refType="h" fact="0.5"/>
            </dgm:constrLst>
          </dgm:else>
        </dgm:choose>
      </dgm:if>
      <dgm:else name="Name5">
        <dgm:constrLst>
          <dgm:constr type="primFontSz" for="ch" ptType="node" op="equ" val="65"/>
          <dgm:constr type="t" for="ch" forName="triangle1"/>
          <dgm:constr type="l" for="ch" forName="triangle1" refType="h" fact="0.33"/>
          <dgm:constr type="h" for="ch" forName="triangle1" refType="h" fact="0.33"/>
          <dgm:constr type="w" for="ch" forName="triangle1" refType="h" fact="0.33"/>
          <dgm:constr type="t" for="ch" forName="triangle2" refType="h" fact="0.33"/>
          <dgm:constr type="l" for="ch" forName="triangle2" refType="h" fact="0.165"/>
          <dgm:constr type="h" for="ch" forName="triangle2" refType="h" fact="0.33"/>
          <dgm:constr type="w" for="ch" forName="triangle2" refType="h" fact="0.33"/>
          <dgm:constr type="t" for="ch" forName="triangle3" refType="h" fact="0.33"/>
          <dgm:constr type="l" for="ch" forName="triangle3" refType="h" fact="0.33"/>
          <dgm:constr type="h" for="ch" forName="triangle3" refType="h" fact="0.33"/>
          <dgm:constr type="w" for="ch" forName="triangle3" refType="h" fact="0.33"/>
          <dgm:constr type="t" for="ch" forName="triangle4" refType="h" fact="0.33"/>
          <dgm:constr type="l" for="ch" forName="triangle4" refType="h" fact="0.495"/>
          <dgm:constr type="h" for="ch" forName="triangle4" refType="h" fact="0.33"/>
          <dgm:constr type="w" for="ch" forName="triangle4" refType="h" fact="0.33"/>
          <dgm:constr type="t" for="ch" forName="triangle5" refType="h" fact="0.66"/>
          <dgm:constr type="l" for="ch" forName="triangle5"/>
          <dgm:constr type="h" for="ch" forName="triangle5" refType="h" fact="0.33"/>
          <dgm:constr type="w" for="ch" forName="triangle5" refType="h" fact="0.33"/>
          <dgm:constr type="t" for="ch" forName="triangle6" refType="h" fact="0.66"/>
          <dgm:constr type="l" for="ch" forName="triangle6" refType="h" fact="0.165"/>
          <dgm:constr type="h" for="ch" forName="triangle6" refType="h" fact="0.33"/>
          <dgm:constr type="w" for="ch" forName="triangle6" refType="h" fact="0.33"/>
          <dgm:constr type="t" for="ch" forName="triangle7" refType="h" fact="0.66"/>
          <dgm:constr type="l" for="ch" forName="triangle7" refType="h" fact="0.33"/>
          <dgm:constr type="h" for="ch" forName="triangle7" refType="h" fact="0.33"/>
          <dgm:constr type="w" for="ch" forName="triangle7" refType="h" fact="0.33"/>
          <dgm:constr type="t" for="ch" forName="triangle8" refType="h" fact="0.66"/>
          <dgm:constr type="l" for="ch" forName="triangle8" refType="h" fact="0.495"/>
          <dgm:constr type="h" for="ch" forName="triangle8" refType="h" fact="0.33"/>
          <dgm:constr type="w" for="ch" forName="triangle8" refType="h" fact="0.33"/>
          <dgm:constr type="t" for="ch" forName="triangle9" refType="h" fact="0.66"/>
          <dgm:constr type="l" for="ch" forName="triangle9" refType="h" fact="0.66"/>
          <dgm:constr type="h" for="ch" forName="triangle9" refType="h" fact="0.33"/>
          <dgm:constr type="w" for="ch" forName="triangle9" refType="h" fact="0.33"/>
        </dgm:constrLst>
      </dgm:else>
    </dgm:choose>
    <dgm:ruleLst/>
    <dgm:choose name="Name6">
      <dgm:if name="Name7" axis="ch" ptType="node" func="cnt" op="gte" val="1">
        <dgm:layoutNode name="triangle1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8"/>
    </dgm:choose>
    <dgm:choose name="Name9">
      <dgm:if name="Name10" axis="ch" ptType="node" func="cnt" op="gte" val="2">
        <dgm:layoutNode name="triangle2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1">
            <dgm:if name="Name12" func="var" arg="dir" op="equ" val="norm">
              <dgm:presOf axis="ch desOrSelf" ptType="node node" st="2 1" cnt="1 0"/>
            </dgm:if>
            <dgm:else name="Name13">
              <dgm:presOf axis="ch desOrSelf" ptType="node node" st="4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3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presOf axis="ch desOrSelf" ptType="node node" st="3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4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14">
            <dgm:if name="Name15" func="var" arg="dir" op="equ" val="norm">
              <dgm:presOf axis="ch desOrSelf" ptType="node node" st="4 1" cnt="1 0"/>
            </dgm:if>
            <dgm:else name="Name16">
              <dgm:presOf axis="ch desOrSelf" ptType="node node" st="2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17"/>
    </dgm:choose>
    <dgm:choose name="Name18">
      <dgm:if name="Name19" axis="ch" ptType="node" func="cnt" op="gte" val="5">
        <dgm:layoutNode name="triangle5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0">
            <dgm:if name="Name21" func="var" arg="dir" op="equ" val="norm">
              <dgm:presOf axis="ch desOrSelf" ptType="node node" st="5 1" cnt="1 0"/>
            </dgm:if>
            <dgm:else name="Name22">
              <dgm:presOf axis="ch desOrSelf" ptType="node node" st="9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6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3">
            <dgm:if name="Name24" func="var" arg="dir" op="equ" val="norm">
              <dgm:presOf axis="ch desOrSelf" ptType="node node" st="6 1" cnt="1 0"/>
            </dgm:if>
            <dgm:else name="Name25">
              <dgm:presOf axis="ch desOrSelf" ptType="node node" st="8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7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presOf axis="ch desOrSelf" ptType="node node" st="7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8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rot="180" type="triangle" r:blip="">
            <dgm:adjLst/>
          </dgm:shape>
          <dgm:choose name="Name26">
            <dgm:if name="Name27" func="var" arg="dir" op="equ" val="norm">
              <dgm:presOf axis="ch desOrSelf" ptType="node node" st="8 1" cnt="1 0"/>
            </dgm:if>
            <dgm:else name="Name28">
              <dgm:presOf axis="ch desOrSelf" ptType="node node" st="6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triangle9" styleLbl="node1">
          <dgm:varLst>
            <dgm:bulletEnabled val="1"/>
          </dgm:varLst>
          <dgm:alg type="tx">
            <dgm:param type="txAnchorVertCh" val="mid"/>
          </dgm:alg>
          <dgm:shape xmlns:r="http://schemas.openxmlformats.org/officeDocument/2006/relationships" type="triangle" r:blip="">
            <dgm:adjLst/>
          </dgm:shape>
          <dgm:choose name="Name29">
            <dgm:if name="Name30" func="var" arg="dir" op="equ" val="norm">
              <dgm:presOf axis="ch desOrSelf" ptType="node node" st="9 1" cnt="1 0"/>
            </dgm:if>
            <dgm:else name="Name31">
              <dgm:presOf axis="ch desOrSelf" ptType="node node" st="5 1" cnt="1 0"/>
            </dgm:else>
          </dgm:choose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2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matrix1">
  <dgm:title val=""/>
  <dgm:desc val=""/>
  <dgm:catLst>
    <dgm:cat type="matrix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3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3" destOrd="0"/>
      </dgm:cxnLst>
      <dgm:bg/>
      <dgm:whole/>
    </dgm:dataModel>
  </dgm:clrData>
  <dgm:layoutNode name="diagram">
    <dgm:varLst>
      <dgm:chMax val="1"/>
      <dgm:dir/>
      <dgm:animLvl val="ctr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ctrX" for="ch" forName="matrix" refType="w" fact="0.5"/>
      <dgm:constr type="ctrY" for="ch" forName="matrix" refType="h" fact="0.5"/>
      <dgm:constr type="w" for="ch" forName="matrix" refType="w"/>
      <dgm:constr type="h" for="ch" forName="matrix" refType="h"/>
      <dgm:constr type="ctrX" for="ch" forName="centerTile" refType="w" fact="0.5"/>
      <dgm:constr type="ctrY" for="ch" forName="centerTile" refType="h" fact="0.5"/>
      <dgm:constr type="w" for="ch" forName="centerTile" refType="w" fact="0.3"/>
      <dgm:constr type="h" for="ch" forName="centerTile" refType="h" fact="0.25"/>
      <dgm:constr type="primFontSz" for="des" ptType="node" op="equ" val="65"/>
    </dgm:constrLst>
    <dgm:ruleLst/>
    <dgm:choose name="Name0">
      <dgm:if name="Name1" axis="ch" ptType="node" func="cnt" op="gte" val="1">
        <dgm:layoutNode name="matrix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l" for="ch" forName="tile1"/>
            <dgm:constr type="t" for="ch" forName="tile1"/>
            <dgm:constr type="r" for="ch" forName="tile1" refType="w" fact="0.5"/>
            <dgm:constr type="b" for="ch" forName="tile1" refType="h" fact="0.5"/>
            <dgm:constr type="l" for="ch" forName="tile1text" refType="l" refFor="ch" refForName="tile1"/>
            <dgm:constr type="t" for="ch" forName="tile1text" refType="t" refFor="ch" refForName="tile1"/>
            <dgm:constr type="w" for="ch" forName="tile1text" refType="w" refFor="ch" refForName="tile1"/>
            <dgm:constr type="h" for="ch" forName="tile1text" refType="h" refFor="ch" refForName="tile1" fact="0.75"/>
            <dgm:constr type="r" for="ch" forName="tile2" refType="w"/>
            <dgm:constr type="t" for="ch" forName="tile2"/>
            <dgm:constr type="l" for="ch" forName="tile2" refType="w" fact="0.5"/>
            <dgm:constr type="b" for="ch" forName="tile2" refType="h" fact="0.5"/>
            <dgm:constr type="r" for="ch" forName="tile2text" refType="r" refFor="ch" refForName="tile2"/>
            <dgm:constr type="t" for="ch" forName="tile2text" refType="t" refFor="ch" refForName="tile2"/>
            <dgm:constr type="w" for="ch" forName="tile2text" refType="w" refFor="ch" refForName="tile2"/>
            <dgm:constr type="h" for="ch" forName="tile2text" refType="h" refFor="ch" refForName="tile2" fact="0.75"/>
            <dgm:constr type="l" for="ch" forName="tile3"/>
            <dgm:constr type="b" for="ch" forName="tile3" refType="h"/>
            <dgm:constr type="r" for="ch" forName="tile3" refType="w" fact="0.5"/>
            <dgm:constr type="t" for="ch" forName="tile3" refType="h" fact="0.5"/>
            <dgm:constr type="l" for="ch" forName="tile3text" refType="l" refFor="ch" refForName="tile3"/>
            <dgm:constr type="b" for="ch" forName="tile3text" refType="b" refFor="ch" refForName="tile3"/>
            <dgm:constr type="w" for="ch" forName="tile3text" refType="w" refFor="ch" refForName="tile3"/>
            <dgm:constr type="h" for="ch" forName="tile3text" refType="h" refFor="ch" refForName="tile3" fact="0.75"/>
            <dgm:constr type="r" for="ch" forName="tile4" refType="w"/>
            <dgm:constr type="b" for="ch" forName="tile4" refType="h"/>
            <dgm:constr type="l" for="ch" forName="tile4" refType="w" fact="0.5"/>
            <dgm:constr type="t" for="ch" forName="tile4" refType="h" fact="0.5"/>
            <dgm:constr type="r" for="ch" forName="tile4text" refType="r" refFor="ch" refForName="tile4"/>
            <dgm:constr type="b" for="ch" forName="tile4text" refType="b" refFor="ch" refForName="tile4"/>
            <dgm:constr type="w" for="ch" forName="tile4text" refType="w" refFor="ch" refForName="tile4"/>
            <dgm:constr type="h" for="ch" forName="tile4text" refType="h" refFor="ch" refForName="tile4" fact="0.75"/>
          </dgm:constrLst>
          <dgm:ruleLst/>
          <dgm:layoutNode name="tile1" styleLbl="node1">
            <dgm:alg type="sp"/>
            <dgm:shape xmlns:r="http://schemas.openxmlformats.org/officeDocument/2006/relationships" rot="270" type="round1Rect" r:blip="">
              <dgm:adjLst/>
            </dgm:shape>
            <dgm:choose name="Name2">
              <dgm:if name="Name3" func="var" arg="dir" op="equ" val="norm">
                <dgm:presOf axis="ch ch desOrSelf" ptType="node node node" st="1 1 1" cnt="1 1 0"/>
              </dgm:if>
              <dgm:else name="Name4">
                <dgm:presOf axis="ch ch desOrSelf" ptType="node node node" st="1 2 1" cnt="1 1 0"/>
              </dgm:else>
            </dgm:choose>
            <dgm:constrLst/>
            <dgm:ruleLst/>
          </dgm:layoutNode>
          <dgm:layoutNode name="tile1text" styleLbl="node1">
            <dgm:varLst>
              <dgm:chMax val="0"/>
              <dgm:chPref val="0"/>
              <dgm:bulletEnabled val="1"/>
            </dgm:varLst>
            <dgm:choose name="Name5">
              <dgm:if name="Name6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7">
                <dgm:alg type="tx"/>
              </dgm:else>
            </dgm:choose>
            <dgm:shape xmlns:r="http://schemas.openxmlformats.org/officeDocument/2006/relationships" rot="270" type="rect" r:blip="" hideGeom="1">
              <dgm:adjLst>
                <dgm:adj idx="1" val="0.2"/>
              </dgm:adjLst>
            </dgm:shape>
            <dgm:choose name="Name8">
              <dgm:if name="Name9" func="var" arg="dir" op="equ" val="norm">
                <dgm:presOf axis="ch ch desOrSelf" ptType="node node node" st="1 1 1" cnt="1 1 0"/>
              </dgm:if>
              <dgm:else name="Name10">
                <dgm:presOf axis="ch ch desOrSelf" ptType="node node node" st="1 2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2" styleLbl="node1">
            <dgm:alg type="sp"/>
            <dgm:shape xmlns:r="http://schemas.openxmlformats.org/officeDocument/2006/relationships" type="round1Rect" r:blip="">
              <dgm:adjLst/>
            </dgm:shape>
            <dgm:choose name="Name11">
              <dgm:if name="Name12" func="var" arg="dir" op="equ" val="norm">
                <dgm:presOf axis="ch ch desOrSelf" ptType="node node node" st="1 2 1" cnt="1 1 0"/>
              </dgm:if>
              <dgm:else name="Name13">
                <dgm:presOf axis="ch ch desOrSelf" ptType="node node node" st="1 1 1" cnt="1 1 0"/>
              </dgm:else>
            </dgm:choose>
            <dgm:constrLst/>
            <dgm:ruleLst/>
          </dgm:layoutNode>
          <dgm:layoutNode name="tile2text" styleLbl="node1">
            <dgm:varLst>
              <dgm:chMax val="0"/>
              <dgm:chPref val="0"/>
              <dgm:bulletEnabled val="1"/>
            </dgm:varLst>
            <dgm:choose name="Name14">
              <dgm:if name="Name15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16">
                <dgm:alg type="tx"/>
              </dgm:else>
            </dgm:choose>
            <dgm:shape xmlns:r="http://schemas.openxmlformats.org/officeDocument/2006/relationships" type="rect" r:blip="" hideGeom="1">
              <dgm:adjLst/>
            </dgm:shape>
            <dgm:choose name="Name17">
              <dgm:if name="Name18" func="var" arg="dir" op="equ" val="norm">
                <dgm:presOf axis="ch ch desOrSelf" ptType="node node node" st="1 2 1" cnt="1 1 0"/>
              </dgm:if>
              <dgm:else name="Name19">
                <dgm:presOf axis="ch ch desOrSelf" ptType="node node node" st="1 1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3" styleLbl="node1">
            <dgm:alg type="sp"/>
            <dgm:shape xmlns:r="http://schemas.openxmlformats.org/officeDocument/2006/relationships" rot="180" type="round1Rect" r:blip="">
              <dgm:adjLst/>
            </dgm:shape>
            <dgm:choose name="Name20">
              <dgm:if name="Name21" func="var" arg="dir" op="equ" val="norm">
                <dgm:presOf axis="ch ch desOrSelf" ptType="node node node" st="1 3 1" cnt="1 1 0"/>
              </dgm:if>
              <dgm:else name="Name22">
                <dgm:presOf axis="ch ch desOrSelf" ptType="node node node" st="1 4 1" cnt="1 1 0"/>
              </dgm:else>
            </dgm:choose>
            <dgm:constrLst/>
            <dgm:ruleLst/>
          </dgm:layoutNode>
          <dgm:layoutNode name="tile3text" styleLbl="node1">
            <dgm:varLst>
              <dgm:chMax val="0"/>
              <dgm:chPref val="0"/>
              <dgm:bulletEnabled val="1"/>
            </dgm:varLst>
            <dgm:choose name="Name23">
              <dgm:if name="Name24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25">
                <dgm:alg type="tx"/>
              </dgm:else>
            </dgm:choose>
            <dgm:shape xmlns:r="http://schemas.openxmlformats.org/officeDocument/2006/relationships" rot="180" type="rect" r:blip="" hideGeom="1">
              <dgm:adjLst/>
            </dgm:shape>
            <dgm:choose name="Name26">
              <dgm:if name="Name27" func="var" arg="dir" op="equ" val="norm">
                <dgm:presOf axis="ch ch desOrSelf" ptType="node node node" st="1 3 1" cnt="1 1 0"/>
              </dgm:if>
              <dgm:else name="Name28">
                <dgm:presOf axis="ch ch desOrSelf" ptType="node node node" st="1 4 1" cnt="1 1 0"/>
              </dgm:else>
            </dgm:choose>
            <dgm:constrLst/>
            <dgm:ruleLst>
              <dgm:rule type="primFontSz" val="5" fact="NaN" max="NaN"/>
            </dgm:ruleLst>
          </dgm:layoutNode>
          <dgm:layoutNode name="tile4" styleLbl="node1">
            <dgm:alg type="sp"/>
            <dgm:shape xmlns:r="http://schemas.openxmlformats.org/officeDocument/2006/relationships" rot="90" type="round1Rect" r:blip="">
              <dgm:adjLst/>
            </dgm:shape>
            <dgm:choose name="Name29">
              <dgm:if name="Name30" func="var" arg="dir" op="equ" val="norm">
                <dgm:presOf axis="ch ch desOrSelf" ptType="node node node" st="1 4 1" cnt="1 1 0"/>
              </dgm:if>
              <dgm:else name="Name31">
                <dgm:presOf axis="ch ch desOrSelf" ptType="node node node" st="1 3 1" cnt="1 1 0"/>
              </dgm:else>
            </dgm:choose>
            <dgm:constrLst/>
            <dgm:ruleLst/>
          </dgm:layoutNode>
          <dgm:layoutNode name="tile4text" styleLbl="node1">
            <dgm:varLst>
              <dgm:chMax val="0"/>
              <dgm:chPref val="0"/>
              <dgm:bulletEnabled val="1"/>
            </dgm:varLst>
            <dgm:choose name="Name32">
              <dgm:if name="Name33" axis="root des" func="maxDepth" op="gte" val="3">
                <dgm:alg type="tx">
                  <dgm:param type="txAnchorVert" val="t"/>
                  <dgm:param type="parTxLTRAlign" val="l"/>
                  <dgm:param type="parTxRTLAlign" val="r"/>
                </dgm:alg>
              </dgm:if>
              <dgm:else name="Name34">
                <dgm:alg type="tx"/>
              </dgm:else>
            </dgm:choose>
            <dgm:shape xmlns:r="http://schemas.openxmlformats.org/officeDocument/2006/relationships" rot="90" type="rect" r:blip="" hideGeom="1">
              <dgm:adjLst/>
            </dgm:shape>
            <dgm:choose name="Name35">
              <dgm:if name="Name36" func="var" arg="dir" op="equ" val="norm">
                <dgm:presOf axis="ch ch desOrSelf" ptType="node node node" st="1 4 1" cnt="1 1 0"/>
              </dgm:if>
              <dgm:else name="Name37">
                <dgm:presOf axis="ch ch desOrSelf" ptType="node node node" st="1 3 1" cnt="1 1 0"/>
              </dgm:else>
            </dgm:choose>
            <dgm:constrLst/>
            <dgm:ruleLst>
              <dgm:rule type="primFontSz" val="5" fact="NaN" max="NaN"/>
            </dgm:ruleLst>
          </dgm:layoutNode>
        </dgm:layoutNode>
        <dgm:layoutNode name="centerTile" styleLbl="fgShp">
          <dgm:varLst>
            <dgm:chMax val="0"/>
            <dgm:chPref val="0"/>
          </dgm:varLst>
          <dgm:alg type="tx"/>
          <dgm:shape xmlns:r="http://schemas.openxmlformats.org/officeDocument/2006/relationships" type="roundRect" r:blip="">
            <dgm:adjLst/>
          </dgm:shape>
          <dgm:presOf axis="ch" ptType="node" cnt="1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38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39A-5A45-42FB-B2F3-2D77C198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8C5-FDB3-490F-938E-FD1FC46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A2E-AFD0-4EB4-81A9-CB7C2D59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236-1471-405C-94B1-49ED90ED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13C3-BC8B-44D9-8671-A2707F55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577E-BE23-4117-805B-C0EA918E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ACC1-7D20-47FC-B0E8-7AC0E86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91AE-0336-4E86-A0CB-D525A002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C5B1-0176-4521-822C-EB669A8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7F33-B2E3-4A5C-A20B-586942A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F89-E195-4436-9249-89CD705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A18-774F-4084-807E-D41C244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467-E1FE-4616-9A63-97AD6DE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455F-D0A3-4CA3-8CF7-9807CBD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F492-2565-4283-8868-E00FA08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3F3B-4546-4F12-9198-75E680FA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1F39-7D4D-498A-A25C-AF20701E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1D1-61DA-4176-AD79-5D64392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220-7F54-4227-8D2E-D7D918B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ADB-E3B8-4262-B247-1E6EB71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890-CD8A-4EA6-B3E1-1CE7D20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21D-358C-45F2-8797-D4724CD8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43F-6FDF-4CF9-99CD-5E433FD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956-E19D-48BF-A55B-9D31B04A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D20F6B-A67E-4282-8B67-22FBCFC252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C4030-EED8-4466-A7DE-41101A1249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diagramData" Target="../diagrams/data2.xml"/><Relationship Id="rId17" Type="http://schemas.openxmlformats.org/officeDocument/2006/relationships/diagramLayout" Target="../diagrams/layout2.xml"/><Relationship Id="rId18" Type="http://schemas.openxmlformats.org/officeDocument/2006/relationships/diagramQuickStyle" Target="../diagrams/quickStyle2.xml"/><Relationship Id="rId19" Type="http://schemas.openxmlformats.org/officeDocument/2006/relationships/diagramColors" Target="../diagrams/colors2.xml"/><Relationship Id="rId20" Type="http://schemas.openxmlformats.org/officeDocument/2006/relationships/hyperlink" Target="http://www.eeppt.com/moban/" TargetMode="External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858320" y="2641320"/>
            <a:ext cx="528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金色光晕背景的精美艺术</a:t>
            </a:r>
            <a:r>
              <a:rPr b="0" lang="en-US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948a54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9160" y="5366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74132085"/>
              </p:ext>
            </p:extLst>
          </p:nvPr>
        </p:nvGraphicFramePr>
        <p:xfrm>
          <a:off x="1523880" y="82548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​​ 34"/>
          <p:cNvSpPr/>
          <p:nvPr/>
        </p:nvSpPr>
        <p:spPr>
          <a:xfrm>
            <a:off x="755640" y="928800"/>
            <a:ext cx="3887280" cy="2241360"/>
          </a:xfrm>
          <a:prstGeom prst="roundRect">
            <a:avLst>
              <a:gd name="adj" fmla="val 8586"/>
            </a:avLst>
          </a:prstGeom>
          <a:noFill/>
          <a:ln w="12700">
            <a:solidFill>
              <a:srgbClr val="ffffff">
                <a:lumMod val="75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7" name="组合 28"/>
          <p:cNvGrpSpPr/>
          <p:nvPr/>
        </p:nvGrpSpPr>
        <p:grpSpPr>
          <a:xfrm>
            <a:off x="1042920" y="2583000"/>
            <a:ext cx="313920" cy="315720"/>
            <a:chOff x="1042920" y="2583000"/>
            <a:chExt cx="313920" cy="315720"/>
          </a:xfrm>
        </p:grpSpPr>
        <p:sp>
          <p:nvSpPr>
            <p:cNvPr id="88" name="泪滴形 6"/>
            <p:cNvSpPr/>
            <p:nvPr/>
          </p:nvSpPr>
          <p:spPr>
            <a:xfrm>
              <a:off x="1042920" y="2583000"/>
              <a:ext cx="313920" cy="315720"/>
            </a:xfrm>
            <a:prstGeom prst="teardrop">
              <a:avLst>
                <a:gd name="adj" fmla="val 100000"/>
              </a:avLst>
            </a:prstGeom>
            <a:solidFill>
              <a:srgbClr val="57d3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​​ 16"/>
            <p:cNvSpPr/>
            <p:nvPr/>
          </p:nvSpPr>
          <p:spPr>
            <a:xfrm>
              <a:off x="1123920" y="2668680"/>
              <a:ext cx="147240" cy="1490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" name="组合 29"/>
          <p:cNvGrpSpPr/>
          <p:nvPr/>
        </p:nvGrpSpPr>
        <p:grpSpPr>
          <a:xfrm>
            <a:off x="1042920" y="2106720"/>
            <a:ext cx="313920" cy="313920"/>
            <a:chOff x="1042920" y="2106720"/>
            <a:chExt cx="313920" cy="313920"/>
          </a:xfrm>
        </p:grpSpPr>
        <p:sp>
          <p:nvSpPr>
            <p:cNvPr id="91" name="泪滴形 9"/>
            <p:cNvSpPr/>
            <p:nvPr/>
          </p:nvSpPr>
          <p:spPr>
            <a:xfrm flipH="1">
              <a:off x="1042920" y="210672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椭圆​​ 19"/>
            <p:cNvSpPr/>
            <p:nvPr/>
          </p:nvSpPr>
          <p:spPr>
            <a:xfrm flipH="1">
              <a:off x="1121760" y="219240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3" name="组合 26"/>
          <p:cNvGrpSpPr/>
          <p:nvPr/>
        </p:nvGrpSpPr>
        <p:grpSpPr>
          <a:xfrm>
            <a:off x="1043280" y="1151280"/>
            <a:ext cx="313920" cy="313920"/>
            <a:chOff x="1043280" y="1151280"/>
            <a:chExt cx="313920" cy="313920"/>
          </a:xfrm>
        </p:grpSpPr>
        <p:sp>
          <p:nvSpPr>
            <p:cNvPr id="94" name="泪滴形 12"/>
            <p:cNvSpPr/>
            <p:nvPr/>
          </p:nvSpPr>
          <p:spPr>
            <a:xfrm flipH="1" rot="10800000">
              <a:off x="1043280" y="115128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​​ 22"/>
            <p:cNvSpPr/>
            <p:nvPr/>
          </p:nvSpPr>
          <p:spPr>
            <a:xfrm flipH="1" rot="10800000">
              <a:off x="1123560" y="123876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组合 27"/>
          <p:cNvGrpSpPr/>
          <p:nvPr/>
        </p:nvGrpSpPr>
        <p:grpSpPr>
          <a:xfrm>
            <a:off x="1043280" y="1628640"/>
            <a:ext cx="313920" cy="313920"/>
            <a:chOff x="1043280" y="1628640"/>
            <a:chExt cx="313920" cy="313920"/>
          </a:xfrm>
        </p:grpSpPr>
        <p:sp>
          <p:nvSpPr>
            <p:cNvPr id="97" name="泪滴形 15"/>
            <p:cNvSpPr/>
            <p:nvPr/>
          </p:nvSpPr>
          <p:spPr>
            <a:xfrm flipH="1" rot="16200000">
              <a:off x="1043280" y="1628640"/>
              <a:ext cx="313920" cy="313920"/>
            </a:xfrm>
            <a:prstGeom prst="teardrop">
              <a:avLst>
                <a:gd name="adj" fmla="val 10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椭圆​​ 25"/>
            <p:cNvSpPr/>
            <p:nvPr/>
          </p:nvSpPr>
          <p:spPr>
            <a:xfrm flipH="1" rot="16200000">
              <a:off x="1122120" y="1716120"/>
              <a:ext cx="147240" cy="14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9" name="矩形​​ 30"/>
          <p:cNvSpPr/>
          <p:nvPr/>
        </p:nvSpPr>
        <p:spPr>
          <a:xfrm>
            <a:off x="1945800" y="11224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​​ 31"/>
          <p:cNvSpPr/>
          <p:nvPr/>
        </p:nvSpPr>
        <p:spPr>
          <a:xfrm>
            <a:off x="1945800" y="160488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​​ 32"/>
          <p:cNvSpPr/>
          <p:nvPr/>
        </p:nvSpPr>
        <p:spPr>
          <a:xfrm>
            <a:off x="1945800" y="205272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33"/>
          <p:cNvSpPr/>
          <p:nvPr/>
        </p:nvSpPr>
        <p:spPr>
          <a:xfrm>
            <a:off x="1945800" y="2525760"/>
            <a:ext cx="155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" descr=""/>
          <p:cNvPicPr/>
          <p:nvPr/>
        </p:nvPicPr>
        <p:blipFill>
          <a:blip r:embed="rId1"/>
          <a:stretch/>
        </p:blipFill>
        <p:spPr>
          <a:xfrm>
            <a:off x="4032360" y="2655720"/>
            <a:ext cx="676080" cy="847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"/>
          <p:cNvPicPr/>
          <p:nvPr/>
        </p:nvPicPr>
        <p:blipFill>
          <a:blip r:embed="rId2"/>
          <a:stretch/>
        </p:blipFill>
        <p:spPr>
          <a:xfrm>
            <a:off x="2614680" y="3638520"/>
            <a:ext cx="780840" cy="6472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" descr=""/>
          <p:cNvPicPr/>
          <p:nvPr/>
        </p:nvPicPr>
        <p:blipFill>
          <a:blip r:embed="rId3"/>
          <a:stretch/>
        </p:blipFill>
        <p:spPr>
          <a:xfrm>
            <a:off x="800280" y="3417840"/>
            <a:ext cx="942480" cy="86652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4"/>
          <p:cNvGrpSpPr/>
          <p:nvPr/>
        </p:nvGrpSpPr>
        <p:grpSpPr>
          <a:xfrm>
            <a:off x="4727880" y="1083240"/>
            <a:ext cx="3983400" cy="3743640"/>
            <a:chOff x="4727880" y="1083240"/>
            <a:chExt cx="3983400" cy="3743640"/>
          </a:xfrm>
        </p:grpSpPr>
        <p:grpSp>
          <p:nvGrpSpPr>
            <p:cNvPr id="107" name="组合 4"/>
            <p:cNvGrpSpPr/>
            <p:nvPr/>
          </p:nvGrpSpPr>
          <p:grpSpPr>
            <a:xfrm>
              <a:off x="4965480" y="3091320"/>
              <a:ext cx="1520280" cy="1520280"/>
              <a:chOff x="4965480" y="3091320"/>
              <a:chExt cx="1520280" cy="1520280"/>
            </a:xfrm>
          </p:grpSpPr>
          <p:sp>
            <p:nvSpPr>
              <p:cNvPr id="108" name="泪滴形 41"/>
              <p:cNvSpPr/>
              <p:nvPr/>
            </p:nvSpPr>
            <p:spPr>
              <a:xfrm>
                <a:off x="4965480" y="3091320"/>
                <a:ext cx="1520280" cy="1520280"/>
              </a:xfrm>
              <a:prstGeom prst="teardrop">
                <a:avLst>
                  <a:gd name="adj" fmla="val 100000"/>
                </a:avLst>
              </a:prstGeom>
              <a:solidFill>
                <a:srgbClr val="57d3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椭圆​​ 3"/>
              <p:cNvSpPr/>
              <p:nvPr/>
            </p:nvSpPr>
            <p:spPr>
              <a:xfrm>
                <a:off x="5125680" y="3459600"/>
                <a:ext cx="991440" cy="99144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0" name="组合 5"/>
            <p:cNvGrpSpPr/>
            <p:nvPr/>
          </p:nvGrpSpPr>
          <p:grpSpPr>
            <a:xfrm>
              <a:off x="6579360" y="3091320"/>
              <a:ext cx="1735560" cy="1735560"/>
              <a:chOff x="6579360" y="3091320"/>
              <a:chExt cx="1735560" cy="1735560"/>
            </a:xfrm>
          </p:grpSpPr>
          <p:sp>
            <p:nvSpPr>
              <p:cNvPr id="111" name="泪滴形 39"/>
              <p:cNvSpPr/>
              <p:nvPr/>
            </p:nvSpPr>
            <p:spPr>
              <a:xfrm flipH="1">
                <a:off x="6579000" y="3091320"/>
                <a:ext cx="1735560" cy="1735560"/>
              </a:xfrm>
              <a:prstGeom prst="teardrop">
                <a:avLst>
                  <a:gd name="adj" fmla="val 100000"/>
                </a:avLst>
              </a:prstGeom>
              <a:solidFill>
                <a:srgbClr val="09b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2" name="椭圆​​ 7"/>
              <p:cNvSpPr/>
              <p:nvPr/>
            </p:nvSpPr>
            <p:spPr>
              <a:xfrm flipH="1">
                <a:off x="7082640" y="3594240"/>
                <a:ext cx="1049760" cy="104976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8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3" name="泪滴形 27"/>
            <p:cNvSpPr/>
            <p:nvPr/>
          </p:nvSpPr>
          <p:spPr>
            <a:xfrm flipH="1" rot="10800000">
              <a:off x="5102640" y="1676520"/>
              <a:ext cx="1358640" cy="1358640"/>
            </a:xfrm>
            <a:prstGeom prst="teardrop">
              <a:avLst>
                <a:gd name="adj" fmla="val 100000"/>
              </a:avLst>
            </a:prstGeom>
            <a:solidFill>
              <a:srgbClr val="09b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14" name="组合 11"/>
            <p:cNvGrpSpPr/>
            <p:nvPr/>
          </p:nvGrpSpPr>
          <p:grpSpPr>
            <a:xfrm>
              <a:off x="6571440" y="1431000"/>
              <a:ext cx="1574280" cy="1574280"/>
              <a:chOff x="6571440" y="1431000"/>
              <a:chExt cx="1574280" cy="1574280"/>
            </a:xfrm>
          </p:grpSpPr>
          <p:sp>
            <p:nvSpPr>
              <p:cNvPr id="115" name="泪滴形 37"/>
              <p:cNvSpPr/>
              <p:nvPr/>
            </p:nvSpPr>
            <p:spPr>
              <a:xfrm flipV="1" rot="5400000">
                <a:off x="6571440" y="1430640"/>
                <a:ext cx="1574280" cy="1574280"/>
              </a:xfrm>
              <a:prstGeom prst="teardrop">
                <a:avLst>
                  <a:gd name="adj" fmla="val 100000"/>
                </a:avLst>
              </a:prstGeom>
              <a:solidFill>
                <a:srgbClr val="ffd03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椭圆​​ 13"/>
              <p:cNvSpPr/>
              <p:nvPr/>
            </p:nvSpPr>
            <p:spPr>
              <a:xfrm flipV="1" rot="5400000">
                <a:off x="7017840" y="1597320"/>
                <a:ext cx="961920" cy="96192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ffffff">
                    <a:lumMod val="95000"/>
                  </a:srgbClr>
                </a:solidFill>
                <a:round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矩形​​ 44"/>
            <p:cNvSpPr/>
            <p:nvPr/>
          </p:nvSpPr>
          <p:spPr>
            <a:xfrm>
              <a:off x="7219080" y="179388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​​ 45"/>
            <p:cNvSpPr/>
            <p:nvPr/>
          </p:nvSpPr>
          <p:spPr>
            <a:xfrm>
              <a:off x="5371560" y="366696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​​ 46"/>
            <p:cNvSpPr/>
            <p:nvPr/>
          </p:nvSpPr>
          <p:spPr>
            <a:xfrm>
              <a:off x="7306560" y="3844800"/>
              <a:ext cx="546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新月形 32"/>
            <p:cNvSpPr/>
            <p:nvPr/>
          </p:nvSpPr>
          <p:spPr>
            <a:xfrm rot="3501600">
              <a:off x="5286960" y="1229400"/>
              <a:ext cx="716040" cy="171324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椭圆​​ 10"/>
            <p:cNvSpPr/>
            <p:nvPr/>
          </p:nvSpPr>
          <p:spPr>
            <a:xfrm flipH="1" rot="10800000">
              <a:off x="5244840" y="1819440"/>
              <a:ext cx="812520" cy="81252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矩形​​ 43"/>
            <p:cNvSpPr/>
            <p:nvPr/>
          </p:nvSpPr>
          <p:spPr>
            <a:xfrm>
              <a:off x="5394240" y="2000160"/>
              <a:ext cx="5011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新月形 35"/>
            <p:cNvSpPr/>
            <p:nvPr/>
          </p:nvSpPr>
          <p:spPr>
            <a:xfrm rot="3501600">
              <a:off x="6705720" y="98532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429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新月形 36"/>
            <p:cNvSpPr/>
            <p:nvPr/>
          </p:nvSpPr>
          <p:spPr>
            <a:xfrm rot="8052600">
              <a:off x="7496640" y="2769840"/>
              <a:ext cx="716040" cy="1693080"/>
            </a:xfrm>
            <a:prstGeom prst="moon">
              <a:avLst>
                <a:gd name="adj" fmla="val 27473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5f5f5">
                    <a:alpha val="7058"/>
                  </a:srgbClr>
                </a:gs>
              </a:gsLst>
              <a:lin ang="188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5" name="新月形 43"/>
          <p:cNvSpPr/>
          <p:nvPr/>
        </p:nvSpPr>
        <p:spPr>
          <a:xfrm rot="2512200">
            <a:off x="5070240" y="2815200"/>
            <a:ext cx="716040" cy="1513080"/>
          </a:xfrm>
          <a:prstGeom prst="moon">
            <a:avLst>
              <a:gd name="adj" fmla="val 2747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5f5f5">
                  <a:alpha val="7058"/>
                </a:srgbClr>
              </a:gs>
            </a:gsLst>
            <a:lin ang="1330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4"/>
          <p:cNvSpPr/>
          <p:nvPr/>
        </p:nvSpPr>
        <p:spPr>
          <a:xfrm>
            <a:off x="2479320" y="2929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500832744"/>
              </p:ext>
            </p:extLst>
          </p:nvPr>
        </p:nvGraphicFramePr>
        <p:xfrm>
          <a:off x="1523880" y="82548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sp>
        <p:nvSpPr>
          <p:cNvPr id="128" name="Text Box 3"/>
          <p:cNvSpPr/>
          <p:nvPr/>
        </p:nvSpPr>
        <p:spPr>
          <a:xfrm>
            <a:off x="251640" y="5380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0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1"/>
          <p:cNvGrpSpPr/>
          <p:nvPr/>
        </p:nvGrpSpPr>
        <p:grpSpPr>
          <a:xfrm>
            <a:off x="1611360" y="1337760"/>
            <a:ext cx="6175080" cy="3142440"/>
            <a:chOff x="1611360" y="1337760"/>
            <a:chExt cx="6175080" cy="3142440"/>
          </a:xfrm>
        </p:grpSpPr>
        <p:sp>
          <p:nvSpPr>
            <p:cNvPr id="131" name="矩形​​ 3"/>
            <p:cNvSpPr/>
            <p:nvPr/>
          </p:nvSpPr>
          <p:spPr>
            <a:xfrm>
              <a:off x="1611360" y="1649520"/>
              <a:ext cx="6175080" cy="50580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blurRad="38160" dir="5400000" dist="127080" rotWithShape="0" sx="95000" sy="95000">
                <a:schemeClr val="bg1">
                  <a:lumMod val="50000"/>
                  <a:alpha val="1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​​ 4"/>
            <p:cNvSpPr/>
            <p:nvPr/>
          </p:nvSpPr>
          <p:spPr>
            <a:xfrm>
              <a:off x="2095200" y="1337760"/>
              <a:ext cx="672840" cy="67428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​​ 5"/>
            <p:cNvSpPr/>
            <p:nvPr/>
          </p:nvSpPr>
          <p:spPr>
            <a:xfrm>
              <a:off x="2199960" y="196452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矩形​​ 7"/>
            <p:cNvSpPr/>
            <p:nvPr/>
          </p:nvSpPr>
          <p:spPr>
            <a:xfrm>
              <a:off x="1611360" y="2374560"/>
              <a:ext cx="6175080" cy="505800"/>
            </a:xfrm>
            <a:prstGeom prst="rect">
              <a:avLst/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​​ 8"/>
            <p:cNvSpPr/>
            <p:nvPr/>
          </p:nvSpPr>
          <p:spPr>
            <a:xfrm>
              <a:off x="2095200" y="2012400"/>
              <a:ext cx="672840" cy="674280"/>
            </a:xfrm>
            <a:prstGeom prst="ellipse">
              <a:avLst/>
            </a:prstGeom>
            <a:gradFill rotWithShape="0">
              <a:gsLst>
                <a:gs pos="0">
                  <a:srgbClr val="009ad0"/>
                </a:gs>
                <a:gs pos="100000">
                  <a:srgbClr val="57d3f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​​ 9"/>
            <p:cNvSpPr/>
            <p:nvPr/>
          </p:nvSpPr>
          <p:spPr>
            <a:xfrm>
              <a:off x="2199960" y="263880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矩形​​ 10"/>
            <p:cNvSpPr/>
            <p:nvPr/>
          </p:nvSpPr>
          <p:spPr>
            <a:xfrm>
              <a:off x="1611360" y="3142080"/>
              <a:ext cx="6175080" cy="50580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  <a:effectLst>
              <a:outerShdw blurRad="38160" dir="5400000" dist="127080" rotWithShape="0" sx="95000" sy="95000">
                <a:schemeClr val="bg1">
                  <a:lumMod val="50000"/>
                  <a:alpha val="1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椭圆​​ 11"/>
            <p:cNvSpPr/>
            <p:nvPr/>
          </p:nvSpPr>
          <p:spPr>
            <a:xfrm>
              <a:off x="2092680" y="2770200"/>
              <a:ext cx="672840" cy="67284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​​ 12"/>
            <p:cNvSpPr/>
            <p:nvPr/>
          </p:nvSpPr>
          <p:spPr>
            <a:xfrm>
              <a:off x="2197440" y="342396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矩形​​ 17"/>
            <p:cNvSpPr/>
            <p:nvPr/>
          </p:nvSpPr>
          <p:spPr>
            <a:xfrm>
              <a:off x="1611360" y="3953160"/>
              <a:ext cx="6175080" cy="504720"/>
            </a:xfrm>
            <a:prstGeom prst="rect">
              <a:avLst/>
            </a:prstGeom>
            <a:gradFill rotWithShape="0">
              <a:gsLst>
                <a:gs pos="13000">
                  <a:srgbClr val="a6a6a6"/>
                </a:gs>
                <a:gs pos="100000">
                  <a:srgbClr val="f2f2f2"/>
                </a:gs>
              </a:gsLst>
              <a:lin ang="5400000"/>
            </a:gra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​​ 18"/>
            <p:cNvSpPr/>
            <p:nvPr/>
          </p:nvSpPr>
          <p:spPr>
            <a:xfrm>
              <a:off x="2092680" y="3639960"/>
              <a:ext cx="672840" cy="674280"/>
            </a:xfrm>
            <a:prstGeom prst="ellipse">
              <a:avLst/>
            </a:prstGeom>
            <a:gradFill rotWithShape="0">
              <a:gsLst>
                <a:gs pos="43000">
                  <a:srgbClr val="808080"/>
                </a:gs>
                <a:gs pos="100000">
                  <a:srgbClr val="bfbfbf"/>
                </a:gs>
              </a:gsLst>
              <a:lin ang="16200000"/>
            </a:gra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chemeClr val="lt1"/>
                  </a:solidFill>
                  <a:latin typeface="Arial Unicode MS"/>
                  <a:ea typeface="Arial Unicode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​​ 19"/>
            <p:cNvSpPr/>
            <p:nvPr/>
          </p:nvSpPr>
          <p:spPr>
            <a:xfrm>
              <a:off x="2197440" y="4267080"/>
              <a:ext cx="448920" cy="73440"/>
            </a:xfrm>
            <a:prstGeom prst="ellipse">
              <a:avLst/>
            </a:prstGeom>
            <a:gradFill rotWithShape="0">
              <a:gsLst>
                <a:gs pos="3000">
                  <a:srgbClr val="808080">
                    <a:alpha val="15294"/>
                  </a:srgbClr>
                </a:gs>
                <a:gs pos="100000">
                  <a:srgbClr val="262626">
                    <a:alpha val="13333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TextBox 17"/>
            <p:cNvSpPr/>
            <p:nvPr/>
          </p:nvSpPr>
          <p:spPr>
            <a:xfrm>
              <a:off x="4179600" y="17226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8"/>
            <p:cNvSpPr/>
            <p:nvPr/>
          </p:nvSpPr>
          <p:spPr>
            <a:xfrm>
              <a:off x="4179600" y="244728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9"/>
            <p:cNvSpPr/>
            <p:nvPr/>
          </p:nvSpPr>
          <p:spPr>
            <a:xfrm>
              <a:off x="4179600" y="32148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0"/>
            <p:cNvSpPr/>
            <p:nvPr/>
          </p:nvSpPr>
          <p:spPr>
            <a:xfrm>
              <a:off x="4179600" y="402480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804960" y="2858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31418733"/>
              </p:ext>
            </p:extLst>
          </p:nvPr>
        </p:nvGraphicFramePr>
        <p:xfrm>
          <a:off x="2071800" y="1285920"/>
          <a:ext cx="5190840" cy="3460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689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6:56:00Z</dcterms:created>
  <dc:creator>lidan</dc:creator>
  <dc:description/>
  <dc:language>en-US</dc:language>
  <cp:lastModifiedBy>yu wang</cp:lastModifiedBy>
  <dcterms:modified xsi:type="dcterms:W3CDTF">2015-08-08T10:04:58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