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7F6-1D05-4864-B0DB-3CE3BD31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CE4-EB3F-46F7-8D5F-89B35022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E2E-A6F7-40CC-8728-BA9D8ED9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673-B246-4525-894E-51AFA1CD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2C3-F900-4950-AD9F-A09074D2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1AF-CF26-49EA-85BC-1B7E150F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E1C-9138-4027-A7E6-4FC1C002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6E7-3DF3-4C8D-AC6F-782EE735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48C-0A35-4883-B648-DBB8431A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32D-7898-45CD-8795-44401F9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D16-42F3-4F65-8EA5-F2FCF7EE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BC6-9107-49F9-A516-C9BF970E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PresentPack3\8_mind\smoke.gif"/>
          <p:cNvPicPr/>
          <p:nvPr/>
        </p:nvPicPr>
        <p:blipFill>
          <a:blip r:embed="rId3"/>
          <a:stretch/>
        </p:blipFill>
        <p:spPr>
          <a:xfrm>
            <a:off x="0" y="3360600"/>
            <a:ext cx="1531800" cy="3497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028520" indent="-205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440000" indent="-205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1851480" indent="-205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1851480" indent="-2055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1851480" indent="-2055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94F3-8880-4E90-A989-14F6CE83B00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Book Antiqua"/>
                <a:ea typeface="宋体"/>
              </a:rPr>
              <a:t>简约毕业答辩文本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Book Antiqua"/>
                <a:ea typeface="宋体"/>
              </a:rPr>
              <a:t>背景模版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Book Antiqua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Book Antiqu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ook Antiqu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Book Antiqua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Book Antiqu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Book Antiqua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Book Antiqu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Book Antiqu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Book Antiqua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ook Antiq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Book Antiqua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qiye/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shangwu/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yingxiao/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Book Antiqua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Book Antiqua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5:41:47Z</dcterms:created>
  <dc:creator>三联素材  www.3lian.com</dc:creator>
  <dc:description>三联素材  www.3lian.com</dc:description>
  <cp:keywords/>
  <dc:language>en-US</dc:language>
  <cp:lastModifiedBy>yu wang</cp:lastModifiedBy>
  <cp:lastPrinted>1899-12-30T00:00:00Z</cp:lastPrinted>
  <dcterms:modified xsi:type="dcterms:W3CDTF">2015-08-08T10:06:29Z</dcterms:modified>
  <cp:revision>6</cp:revision>
  <dc:subject/>
  <dc:title>简约毕业答辩文本PPT背景模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