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3EA-13FC-44F5-981F-99C5806D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3BF-AB1E-41CE-8CF7-329092E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2A6-73D2-4BCF-8BE8-3941A9E9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567-3571-4AF1-AC89-ED4BD0F7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BFC1-F7EA-4305-8303-A2C45C1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F6AC-3F24-48FA-9137-AF8CB27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BC1-E067-4BEA-AC1A-0C8A0FE3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B2EE-1062-452C-8537-84A4B2B4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DE2D-3669-4D51-9CA5-C1DFB70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9C6-618C-4E97-8B1D-B70A4C8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0EBB-A2DE-496D-B00F-A103174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555-A411-4C9C-80DD-B934F8A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D41-3FDC-4E84-8A72-88778C8B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E391-3809-411D-ADFF-0AC72D79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8A0-C539-4EDF-8DA3-D57BACB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872-1A3F-4EF4-B518-EA3772D0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D3F-8221-46DE-89D0-6AA3451F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6C1-1F9A-4FB3-AF80-C89052E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D30-407B-4005-A881-28B8411B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E7-1029-4C50-BE57-7FCC0AE3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568-521D-4917-835E-42D9C70B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982-8733-4106-B213-DF27076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A0F-75AC-4D0E-9C4E-79374D9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5BA-4BE2-4060-A78F-1CFCBC5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325-DC80-4BD4-A037-269B6272010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12C-BB21-4537-9574-76B54BBD600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1439640" y="2133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彩点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  <a:ea typeface="宋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27:11Z</dcterms:created>
  <dc:creator>Laura Melcher</dc:creator>
  <dc:description/>
  <dc:language>en-US</dc:language>
  <cp:lastModifiedBy>yu wang</cp:lastModifiedBy>
  <dcterms:modified xsi:type="dcterms:W3CDTF">2015-08-08T10:07:15Z</dcterms:modified>
  <cp:revision>50</cp:revision>
  <dc:subject/>
  <dc:title>Migrating Legacy Content</dc:title>
</cp:coreProperties>
</file>