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D11-752B-49BF-9855-09DE4D8F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CBE-BE42-4E17-82AA-9ED8805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654-AB31-4DCE-BD9C-EDCC48C0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9BB-88DE-4DFF-A8F9-11C9A287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791-F177-464E-8E02-0C96092C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67B-7C29-46C9-A810-0315E1DF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1A5-1B8A-4535-9D65-F63C8CB5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9F6-A596-49C5-A19A-73DA32D7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540-3A22-4F94-AB25-98BECFE0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538-1CDF-4407-9434-413B5261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DD2-5EE3-495F-B57D-EA90E69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CFF-D38B-4F6D-A8A9-7126769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A6C6-1C8B-47BB-BC94-20C1C55986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C588-534F-41A2-AEB9-42447F8D22B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c29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"/>
          <p:cNvSpPr/>
          <p:nvPr/>
        </p:nvSpPr>
        <p:spPr>
          <a:xfrm>
            <a:off x="0" y="4680"/>
            <a:ext cx="5148360" cy="6858000"/>
          </a:xfrm>
          <a:prstGeom prst="rect">
            <a:avLst/>
          </a:prstGeom>
          <a:solidFill>
            <a:srgbClr val="b6c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5148360" y="0"/>
            <a:ext cx="1295280" cy="685800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6443640" y="0"/>
            <a:ext cx="1297080" cy="685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7740720" y="0"/>
            <a:ext cx="792000" cy="6858000"/>
          </a:xfrm>
          <a:prstGeom prst="rect">
            <a:avLst/>
          </a:prstGeom>
          <a:solidFill>
            <a:srgbClr val="e58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532720" y="0"/>
            <a:ext cx="611280" cy="685800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8532720" y="0"/>
            <a:ext cx="611280" cy="685800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7740720" y="0"/>
            <a:ext cx="792000" cy="6858000"/>
          </a:xfrm>
          <a:prstGeom prst="rect">
            <a:avLst/>
          </a:prstGeom>
          <a:solidFill>
            <a:srgbClr val="e58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6443640" y="4680"/>
            <a:ext cx="1297080" cy="685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5148360" y="0"/>
            <a:ext cx="1295280" cy="685800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6038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1664280" y="7635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精致多彩色块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0" y="4680"/>
            <a:ext cx="9144000" cy="6858000"/>
          </a:xfrm>
          <a:prstGeom prst="rect">
            <a:avLst/>
          </a:prstGeom>
          <a:solidFill>
            <a:srgbClr val="b6c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 rot="16200000">
            <a:off x="3793320" y="1507320"/>
            <a:ext cx="1557360" cy="9144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>
            <a:off x="6516720" y="0"/>
            <a:ext cx="2627280" cy="530064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0" y="0"/>
            <a:ext cx="6516720" cy="5300640"/>
          </a:xfrm>
          <a:prstGeom prst="rect">
            <a:avLst/>
          </a:prstGeom>
          <a:solidFill>
            <a:srgbClr val="dc571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e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"/>
          <p:cNvSpPr/>
          <p:nvPr/>
        </p:nvSpPr>
        <p:spPr>
          <a:xfrm>
            <a:off x="6372360" y="3141720"/>
            <a:ext cx="2771640" cy="3716280"/>
          </a:xfrm>
          <a:prstGeom prst="rect">
            <a:avLst/>
          </a:prstGeom>
          <a:solidFill>
            <a:srgbClr val="dc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-12600" y="0"/>
            <a:ext cx="6370560" cy="2160720"/>
          </a:xfrm>
          <a:prstGeom prst="rect">
            <a:avLst/>
          </a:prstGeom>
          <a:solidFill>
            <a:srgbClr val="8a97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it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6372360" y="4680"/>
            <a:ext cx="2771640" cy="313704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-12600" y="2160720"/>
            <a:ext cx="6370560" cy="4697280"/>
          </a:xfrm>
          <a:prstGeom prst="rect">
            <a:avLst/>
          </a:prstGeom>
          <a:solidFill>
            <a:srgbClr val="8a977b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19080" y="3240"/>
            <a:ext cx="1671840" cy="502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6948360" y="2651040"/>
            <a:ext cx="2382840" cy="420696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2039760" y="765000"/>
            <a:ext cx="1447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2529000" y="765000"/>
            <a:ext cx="429084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101! Arctic Blast"/>
              </a:rPr>
              <a:t>Tittle  he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7164360" y="76500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2529000" y="1557360"/>
            <a:ext cx="4290840" cy="424800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7164360" y="1557360"/>
            <a:ext cx="144360" cy="4248000"/>
          </a:xfrm>
          <a:prstGeom prst="rect">
            <a:avLst/>
          </a:prstGeom>
          <a:gradFill rotWithShape="0">
            <a:gsLst>
              <a:gs pos="0">
                <a:srgbClr val="f4d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2039760" y="7112160"/>
            <a:ext cx="1447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529000" y="5805360"/>
            <a:ext cx="429084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2529000" y="1557360"/>
            <a:ext cx="4290840" cy="4248000"/>
          </a:xfrm>
          <a:prstGeom prst="rect">
            <a:avLst/>
          </a:prstGeom>
          <a:gradFill rotWithShape="0">
            <a:gsLst>
              <a:gs pos="0">
                <a:srgbClr val="b6c29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60280" y="625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51181 -2.22222E-006 L 5.55556E-007 -2.22222E-006 E">
                                      <p:cBhvr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0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879 -0.19351 L 0.00139 -0.1905 E">
                                      <p:cBhvr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4149720"/>
            <a:ext cx="3794040" cy="333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2444760" y="-279360"/>
            <a:ext cx="3063960" cy="192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-1085760" y="681120"/>
            <a:ext cx="2171520" cy="1380960"/>
          </a:xfrm>
          <a:prstGeom prst="rect">
            <a:avLst/>
          </a:prstGeom>
          <a:ln w="0">
            <a:noFill/>
          </a:ln>
        </p:spPr>
      </p:pic>
      <p:sp>
        <p:nvSpPr>
          <p:cNvPr id="76" name="矩形 8"/>
          <p:cNvSpPr/>
          <p:nvPr/>
        </p:nvSpPr>
        <p:spPr>
          <a:xfrm>
            <a:off x="3598920" y="1539720"/>
            <a:ext cx="5545080" cy="5327640"/>
          </a:xfrm>
          <a:prstGeom prst="rect">
            <a:avLst/>
          </a:prstGeom>
          <a:gradFill rotWithShape="0">
            <a:gsLst>
              <a:gs pos="0">
                <a:srgbClr val="f4d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384120" y="1965240"/>
            <a:ext cx="2808360" cy="209556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101! Arctic Blast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101! Arctic Blast"/>
              </a:rPr>
              <a:t>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3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9"/>
          <p:cNvSpPr/>
          <p:nvPr/>
        </p:nvSpPr>
        <p:spPr>
          <a:xfrm>
            <a:off x="1741320" y="194940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"/>
          <p:cNvSpPr/>
          <p:nvPr/>
        </p:nvSpPr>
        <p:spPr>
          <a:xfrm>
            <a:off x="1741320" y="392904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1741320" y="294156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359080" y="1949400"/>
            <a:ext cx="4967280" cy="615960"/>
          </a:xfrm>
          <a:prstGeom prst="rect">
            <a:avLst/>
          </a:prstGeom>
          <a:gradFill rotWithShape="0">
            <a:gsLst>
              <a:gs pos="0">
                <a:srgbClr val="f4d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2357280" y="2941560"/>
            <a:ext cx="4967280" cy="615960"/>
          </a:xfrm>
          <a:prstGeom prst="rect">
            <a:avLst/>
          </a:prstGeom>
          <a:gradFill rotWithShape="0">
            <a:gsLst>
              <a:gs pos="0">
                <a:srgbClr val="f4d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2357280" y="3929040"/>
            <a:ext cx="4967280" cy="615960"/>
          </a:xfrm>
          <a:prstGeom prst="rect">
            <a:avLst/>
          </a:prstGeom>
          <a:gradFill rotWithShape="0">
            <a:gsLst>
              <a:gs pos="0">
                <a:srgbClr val="f4d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9325080" y="194940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9337680" y="2941560"/>
            <a:ext cx="14436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7"/>
          <p:cNvSpPr/>
          <p:nvPr/>
        </p:nvSpPr>
        <p:spPr>
          <a:xfrm>
            <a:off x="9325080" y="3929040"/>
            <a:ext cx="142920" cy="615960"/>
          </a:xfrm>
          <a:prstGeom prst="rect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16038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17 0.00277 L -0.16527 0.00277 E">
                                      <p:cBhvr>
                                        <p:cTn id="156" dur="25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77309 0.00278 L -0.16666 0.00278 E">
                                      <p:cBhvr>
                                        <p:cTn id="163" dur="25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7717 0.00278 L -0.16527 0.00278 E">
                                      <p:cBhvr>
                                        <p:cTn id="167" dur="25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椭圆 1"/>
          <p:cNvSpPr/>
          <p:nvPr/>
        </p:nvSpPr>
        <p:spPr>
          <a:xfrm>
            <a:off x="9972720" y="2060640"/>
            <a:ext cx="1720800" cy="1816200"/>
          </a:xfrm>
          <a:prstGeom prst="ellipse">
            <a:avLst/>
          </a:prstGeom>
          <a:solidFill>
            <a:srgbClr val="f4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2"/>
          <p:cNvSpPr/>
          <p:nvPr/>
        </p:nvSpPr>
        <p:spPr>
          <a:xfrm>
            <a:off x="-1762200" y="2085840"/>
            <a:ext cx="1576440" cy="1791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921040" y="2637000"/>
            <a:ext cx="44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101! Arctic Blast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564000" y="2637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4d000"/>
                </a:solidFill>
                <a:latin typeface="时尚中黑简体"/>
                <a:ea typeface="时尚中黑简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1:08:00Z</dcterms:created>
  <dc:creator>三联素材,免费下载</dc:creator>
  <dc:description>三联素材,免费下载</dc:description>
  <cp:keywords/>
  <dc:language>en-US</dc:language>
  <cp:lastModifiedBy>yu wang</cp:lastModifiedBy>
  <dcterms:modified xsi:type="dcterms:W3CDTF">2015-08-08T10:06:31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