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BAAC-6028-4F0D-9281-EC289E9976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首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7178-8207-47A7-8252-CDB52C1B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3B1-955B-4467-88FE-21062058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F50-4CDB-44DB-A392-4F1708E3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B5DC-B8F4-45FC-8D80-8DB548FE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FF4D-DA46-48CC-B5BD-F424F4F1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4A3A-1A7D-40C0-A9DA-2E68C311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F05E-9D01-47F5-B48A-3A9E76B9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1BBB-B80D-4872-BC6A-689AE940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B0D4-B51A-400D-A3A4-32CED746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8E1A-50F1-4046-AE11-58049A32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89C0-6DC2-492C-BE42-BD02CCCA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ADE-CDC0-4438-A222-B443D066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99D1-418C-4812-999A-17921251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8F94-7DA9-4BE6-A5DA-3F7B03F8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0313-79DD-40A7-B57B-81E32DC1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E088-4872-4D80-A4A3-CE7F9F535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F553-ABA4-4507-9917-C6E93E03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7EC2-7F82-4A02-A324-D1D37BE3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103-3A26-4886-99E3-317B864F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3B9-48EB-457A-BB59-253D1B50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FF4-553D-4B37-A447-1B22F4A4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97A-B010-4338-A479-353A5AA1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064-FE28-4439-B226-3A1E1C0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D5CC-41A0-4160-B03F-1195ACB9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C871-D9F4-4E33-8494-D66CBCDAA585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E330-3566-4ADC-99B9-02DE4D74E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" Target="slide2.xm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0" t="13872" r="0" b="11518"/>
          <a:stretch/>
        </p:blipFill>
        <p:spPr>
          <a:xfrm>
            <a:off x="1908000" y="333360"/>
            <a:ext cx="5688360" cy="604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64062" b="85002"/>
          <a:stretch/>
        </p:blipFill>
        <p:spPr>
          <a:xfrm>
            <a:off x="38160" y="0"/>
            <a:ext cx="2577960" cy="1614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3429000"/>
            <a:ext cx="77724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剪纸艺术简介中国风</a:t>
            </a:r>
            <a:r>
              <a:rPr b="0" lang="en-US" sz="40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axianjianzhi03t_副本"/>
          <p:cNvPicPr/>
          <p:nvPr/>
        </p:nvPicPr>
        <p:blipFill>
          <a:blip r:embed="rId1"/>
          <a:stretch/>
        </p:blipFill>
        <p:spPr>
          <a:xfrm>
            <a:off x="466560" y="695160"/>
            <a:ext cx="82108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ad4291e28e0f725ff32238d67_5602_副本"/>
          <p:cNvPicPr/>
          <p:nvPr/>
        </p:nvPicPr>
        <p:blipFill>
          <a:blip r:embed="rId2"/>
          <a:stretch/>
        </p:blipFill>
        <p:spPr>
          <a:xfrm>
            <a:off x="9180360" y="5388120"/>
            <a:ext cx="1231920" cy="126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ad4291e28e0f725ff32238d67_5602_副本"/>
          <p:cNvPicPr/>
          <p:nvPr/>
        </p:nvPicPr>
        <p:blipFill>
          <a:blip r:embed="rId3"/>
          <a:stretch/>
        </p:blipFill>
        <p:spPr>
          <a:xfrm>
            <a:off x="-1324080" y="60480"/>
            <a:ext cx="1231920" cy="1269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420600" y="298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  <a:ea typeface="宋体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7169040" y="60228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 action="ppaction://hlinksldjump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72153 -0.00037 E">
                                      <p:cBhvr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7222 -0.000185 E">
                                      <p:cBhvr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baxianjianzhi01t_副本1_副本"/>
          <p:cNvPicPr/>
          <p:nvPr/>
        </p:nvPicPr>
        <p:blipFill>
          <a:blip r:embed="rId1"/>
          <a:srcRect l="0" t="0" r="0" b="95707"/>
          <a:stretch/>
        </p:blipFill>
        <p:spPr>
          <a:xfrm>
            <a:off x="181080" y="620640"/>
            <a:ext cx="864072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2007919151255477_副本"/>
          <p:cNvPicPr/>
          <p:nvPr/>
        </p:nvPicPr>
        <p:blipFill>
          <a:blip r:embed="rId2"/>
          <a:stretch/>
        </p:blipFill>
        <p:spPr>
          <a:xfrm>
            <a:off x="-2187720" y="1628640"/>
            <a:ext cx="2151360" cy="388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2007919151255477_副本1"/>
          <p:cNvPicPr/>
          <p:nvPr/>
        </p:nvPicPr>
        <p:blipFill>
          <a:blip r:embed="rId3"/>
          <a:stretch/>
        </p:blipFill>
        <p:spPr>
          <a:xfrm>
            <a:off x="9180360" y="1628640"/>
            <a:ext cx="2121120" cy="388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360" y="23558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59280" y="346716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  <a:ea typeface="宋体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axianjianzhi01t_副本1_副本"/>
          <p:cNvPicPr/>
          <p:nvPr/>
        </p:nvPicPr>
        <p:blipFill>
          <a:blip r:embed="rId4"/>
          <a:srcRect l="0" t="94658" r="0" b="0"/>
          <a:stretch/>
        </p:blipFill>
        <p:spPr>
          <a:xfrm>
            <a:off x="181080" y="5989680"/>
            <a:ext cx="8640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17 9.3E-005 L 0.331111 9.3E-005 E">
                                      <p:cBhvr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2847 9.3E-005 E">
                                      <p:cBhvr>
                                        <p:cTn id="237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axianjianzhi01t_副本1_副本"/>
          <p:cNvPicPr/>
          <p:nvPr/>
        </p:nvPicPr>
        <p:blipFill>
          <a:blip r:embed="rId1"/>
          <a:stretch/>
        </p:blipFill>
        <p:spPr>
          <a:xfrm>
            <a:off x="182520" y="1101600"/>
            <a:ext cx="8640720" cy="4703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368360" y="1319040"/>
            <a:ext cx="33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2" action="ppaction://hlinksldjump"/>
              </a:rPr>
              <a:t>发展历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7080" y="2490840"/>
            <a:ext cx="28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4" action="ppaction://hlinksldjump"/>
              </a:rPr>
              <a:t>史籍记载</a:t>
            </a:r>
            <a:r>
              <a:rPr b="0" lang="zh-CN" sz="44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338640" y="3633840"/>
            <a:ext cx="2827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 action="ppaction://hlinksldjump"/>
              </a:rPr>
              <a:t>创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500720" y="4776840"/>
            <a:ext cx="3360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6" action="ppaction://hlinksldjump"/>
              </a:rPr>
              <a:t>视频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d4291e28e0f725ff32238d67_560_本"/>
          <p:cNvPicPr/>
          <p:nvPr/>
        </p:nvPicPr>
        <p:blipFill>
          <a:blip r:embed="rId7"/>
          <a:stretch/>
        </p:blipFill>
        <p:spPr>
          <a:xfrm>
            <a:off x="9144000" y="9216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ad4291e28e0f725ff32238d67_560_本"/>
          <p:cNvPicPr/>
          <p:nvPr/>
        </p:nvPicPr>
        <p:blipFill>
          <a:blip r:embed="rId8"/>
          <a:stretch/>
        </p:blipFill>
        <p:spPr>
          <a:xfrm>
            <a:off x="-1249200" y="51577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1301760" y="40464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198520" y="739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中山行书百年纪念版"/>
              </a:rPr>
              <a:t>  </a:t>
            </a:r>
            <a:r>
              <a:rPr b="1" lang="zh-CN" sz="1800" spc="-1" strike="noStrike">
                <a:solidFill>
                  <a:srgbClr val="808080"/>
                </a:solidFill>
                <a:latin typeface="Tahoma"/>
                <a:ea typeface="中山行书百年纪念版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732720" y="5805360"/>
            <a:ext cx="1276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9" action="ppaction://hlinksldjump"/>
              </a:rPr>
              <a:t>末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72 0.010463 L -0.995347 0.014167 E">
                                      <p:cBhvr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4792 -9.3E-005 E">
                                      <p:cBhvr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axianjianzhi02t_副本2"/>
          <p:cNvPicPr/>
          <p:nvPr/>
        </p:nvPicPr>
        <p:blipFill>
          <a:blip r:embed="rId1"/>
          <a:stretch/>
        </p:blipFill>
        <p:spPr>
          <a:xfrm>
            <a:off x="449280" y="907920"/>
            <a:ext cx="8229600" cy="5042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0" y="1353600"/>
            <a:ext cx="38894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ad4291e28e0f725ff32238d67_560_副本1"/>
          <p:cNvPicPr/>
          <p:nvPr/>
        </p:nvPicPr>
        <p:blipFill>
          <a:blip r:embed="rId2"/>
          <a:stretch/>
        </p:blipFill>
        <p:spPr>
          <a:xfrm>
            <a:off x="9144000" y="84240"/>
            <a:ext cx="1206360" cy="1269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ad4291e28e0f725ff32238d67_560_副本1"/>
          <p:cNvPicPr/>
          <p:nvPr/>
        </p:nvPicPr>
        <p:blipFill>
          <a:blip r:embed="rId3"/>
          <a:stretch/>
        </p:blipFill>
        <p:spPr>
          <a:xfrm>
            <a:off x="-1200240" y="5315040"/>
            <a:ext cx="1200240" cy="1270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663560" y="20808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发展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564080" y="14446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03889 L -0.967569 -0.003889 E">
                                      <p:cBhvr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51875 -9.3E-005 E">
                                      <p:cBhvr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baxianjianzhi01t_1"/>
          <p:cNvPicPr/>
          <p:nvPr/>
        </p:nvPicPr>
        <p:blipFill>
          <a:blip r:embed="rId1"/>
          <a:stretch/>
        </p:blipFill>
        <p:spPr>
          <a:xfrm>
            <a:off x="466560" y="693720"/>
            <a:ext cx="8209080" cy="5183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284720" y="1054080"/>
            <a:ext cx="42098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ad4291e28e0f725ff32238d67_560_副本3"/>
          <p:cNvPicPr/>
          <p:nvPr/>
        </p:nvPicPr>
        <p:blipFill>
          <a:blip r:embed="rId2"/>
          <a:stretch/>
        </p:blipFill>
        <p:spPr>
          <a:xfrm>
            <a:off x="-1308240" y="98280"/>
            <a:ext cx="1295640" cy="119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ad4291e28e0f725ff32238d67_560_副本3"/>
          <p:cNvPicPr/>
          <p:nvPr/>
        </p:nvPicPr>
        <p:blipFill>
          <a:blip r:embed="rId3"/>
          <a:stretch/>
        </p:blipFill>
        <p:spPr>
          <a:xfrm>
            <a:off x="9144000" y="52801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066920" y="2811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ahoma"/>
                <a:ea typeface="宋体"/>
              </a:rPr>
              <a:t>History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661080" y="5877000"/>
            <a:ext cx="223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 action="ppaction://hlinksldjump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067280" y="10540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6 0.010278 L 0.952986 0.010278 E">
                                      <p:cBhvr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64653 0.014722 E">
                                      <p:cBhvr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baxianjianzhi07t_副本"/>
          <p:cNvPicPr/>
          <p:nvPr/>
        </p:nvPicPr>
        <p:blipFill>
          <a:blip r:embed="rId1"/>
          <a:stretch/>
        </p:blipFill>
        <p:spPr>
          <a:xfrm>
            <a:off x="549360" y="961920"/>
            <a:ext cx="8137440" cy="5042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860720" y="124452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ad4291e28e0f725ff32238d67_560_副本8"/>
          <p:cNvPicPr/>
          <p:nvPr/>
        </p:nvPicPr>
        <p:blipFill>
          <a:blip r:embed="rId2"/>
          <a:stretch/>
        </p:blipFill>
        <p:spPr>
          <a:xfrm>
            <a:off x="9144000" y="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ad4291e28e0f725ff32238d67_560_副本8"/>
          <p:cNvPicPr/>
          <p:nvPr/>
        </p:nvPicPr>
        <p:blipFill>
          <a:blip r:embed="rId3"/>
          <a:stretch/>
        </p:blipFill>
        <p:spPr>
          <a:xfrm>
            <a:off x="-1238400" y="5381640"/>
            <a:ext cx="1238400" cy="12445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424160" y="260280"/>
            <a:ext cx="271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史籍记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775 -0.000185 E">
                                      <p:cBhvr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47778 -9.3E-005 E">
                                      <p:cBhvr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baxianjianzhi05t_副本"/>
          <p:cNvPicPr/>
          <p:nvPr/>
        </p:nvPicPr>
        <p:blipFill>
          <a:blip r:embed="rId1"/>
          <a:stretch/>
        </p:blipFill>
        <p:spPr>
          <a:xfrm>
            <a:off x="531720" y="693720"/>
            <a:ext cx="8210520" cy="5183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116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2541252_165850689121_2_副本"/>
          <p:cNvPicPr/>
          <p:nvPr/>
        </p:nvPicPr>
        <p:blipFill>
          <a:blip r:embed="rId2"/>
          <a:stretch/>
        </p:blipFill>
        <p:spPr>
          <a:xfrm>
            <a:off x="-1290600" y="95400"/>
            <a:ext cx="1290600" cy="1198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2541252_165850689121_2_副本"/>
          <p:cNvPicPr/>
          <p:nvPr/>
        </p:nvPicPr>
        <p:blipFill>
          <a:blip r:embed="rId3"/>
          <a:stretch/>
        </p:blipFill>
        <p:spPr>
          <a:xfrm>
            <a:off x="9144000" y="5281560"/>
            <a:ext cx="1290600" cy="1192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5023080" y="2970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  <a:ea typeface="宋体"/>
              </a:rPr>
              <a:t>Histor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097400" y="5877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 action="ppaction://hlinksldjump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96880" y="6348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8542 -0.000185 E">
                                      <p:cBhvr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2569 9.3E-005 E">
                                      <p:cBhvr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axianjianzhi04t_副本"/>
          <p:cNvPicPr/>
          <p:nvPr/>
        </p:nvPicPr>
        <p:blipFill>
          <a:blip r:embed="rId1"/>
          <a:stretch/>
        </p:blipFill>
        <p:spPr>
          <a:xfrm>
            <a:off x="542880" y="907920"/>
            <a:ext cx="8210520" cy="4970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8320" y="1273320"/>
            <a:ext cx="40384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ad4291e28e0f725ff32238d67_560_副本3"/>
          <p:cNvPicPr/>
          <p:nvPr/>
        </p:nvPicPr>
        <p:blipFill>
          <a:blip r:embed="rId2"/>
          <a:stretch/>
        </p:blipFill>
        <p:spPr>
          <a:xfrm>
            <a:off x="9144000" y="117360"/>
            <a:ext cx="1257480" cy="1155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d4291e28e0f725ff32238d67_560_副本3"/>
          <p:cNvPicPr/>
          <p:nvPr/>
        </p:nvPicPr>
        <p:blipFill>
          <a:blip r:embed="rId3"/>
          <a:stretch/>
        </p:blipFill>
        <p:spPr>
          <a:xfrm>
            <a:off x="-1251000" y="5300640"/>
            <a:ext cx="1251000" cy="1155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98828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创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542 -0.00037 E">
                                      <p:cBhvr>
                                        <p:cTn id="146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baxianjianzhi08t_副本"/>
          <p:cNvPicPr/>
          <p:nvPr/>
        </p:nvPicPr>
        <p:blipFill>
          <a:blip r:embed="rId1"/>
          <a:stretch/>
        </p:blipFill>
        <p:spPr>
          <a:xfrm>
            <a:off x="542880" y="693720"/>
            <a:ext cx="8137440" cy="5256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cad4291e28e0f725ff32238d67_5601_副本"/>
          <p:cNvPicPr/>
          <p:nvPr/>
        </p:nvPicPr>
        <p:blipFill>
          <a:blip r:embed="rId2"/>
          <a:stretch/>
        </p:blipFill>
        <p:spPr>
          <a:xfrm>
            <a:off x="-1251000" y="39600"/>
            <a:ext cx="1251000" cy="130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ad4291e28e0f725ff32238d67_5601_副本"/>
          <p:cNvPicPr/>
          <p:nvPr/>
        </p:nvPicPr>
        <p:blipFill>
          <a:blip r:embed="rId3"/>
          <a:stretch/>
        </p:blipFill>
        <p:spPr>
          <a:xfrm>
            <a:off x="9144000" y="5295960"/>
            <a:ext cx="1257480" cy="1307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933080" y="2984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  <a:ea typeface="宋体"/>
              </a:rPr>
              <a:t>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7035480" y="59641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 action="ppaction://hlinksldjump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611 -9.3E-005 E">
                                      <p:cBhvr>
                                        <p:cTn id="166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baxianjianzhi06t_副本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04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2541252_165850689121_2_副本1"/>
          <p:cNvPicPr/>
          <p:nvPr/>
        </p:nvPicPr>
        <p:blipFill>
          <a:blip r:embed="rId2"/>
          <a:stretch/>
        </p:blipFill>
        <p:spPr>
          <a:xfrm>
            <a:off x="9144000" y="88920"/>
            <a:ext cx="1298520" cy="1209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2541252_165850689121_2_副本1"/>
          <p:cNvPicPr/>
          <p:nvPr/>
        </p:nvPicPr>
        <p:blipFill>
          <a:blip r:embed="rId3"/>
          <a:stretch/>
        </p:blipFill>
        <p:spPr>
          <a:xfrm>
            <a:off x="-1325520" y="5345280"/>
            <a:ext cx="1298520" cy="1209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21544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视频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597 -9.3E-005 L 0.974514 -9.3E-005 E">
                                      <p:cBhvr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9.3E-005 L -0.964653 -9.3E-005 E">
                                      <p:cBhvr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yu wang</cp:lastModifiedBy>
  <cp:lastPrinted>1899-12-30T00:00:00Z</cp:lastPrinted>
  <dcterms:modified xsi:type="dcterms:W3CDTF">2015-08-08T10:01:42Z</dcterms:modified>
  <cp:revision>7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