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D5E-EA72-48D5-AC98-0793714B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A5E-5D24-447D-B917-87C6849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71F-C1FC-4EAD-90EE-146701B9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1E5-0C82-4052-906A-FA49A886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E393-C5BA-47AF-AFD7-96229CE9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238-75A0-4607-BB99-337CCA9C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72C1-036F-467D-8DCC-570DCF42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77A-C6B5-4A57-A76D-721AEE6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C354-1BDA-4F62-A411-A91F0879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61C0-0809-4EDC-AE29-2398E852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47C3-7688-49E3-A402-B53210D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CE2-54A9-47D4-B6FD-FB404529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81D-E56B-432E-BF21-30CAE40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8056-487C-403A-AA48-82F6CBD6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573-B01C-4C95-A6BC-5BFA87AB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DB0D-3547-48C2-B3A2-9795496F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E2D-E9F2-495C-948D-3C124016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9BA-89A9-4607-BCFF-174105EF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D8E-E6B5-411A-8619-8C14E8A6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15C-68DB-48DC-BA86-386C5208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67C-469F-4E20-B91F-888C6D57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437-9D64-4CE3-9F05-B46B413B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B15-BB44-4E62-8113-6E3AA715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F17-94B2-4BD2-85E8-06283EB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 (9)\1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640" y="4293000"/>
            <a:ext cx="8280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595959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0404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34AE03-B6CC-4C18-A34E-91D59DDB11D9}" type="slidenum">
              <a:rPr b="0" lang="en-US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 (9)\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443241-30F8-4BAA-A2C0-DB33EB9B1F4B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640" y="4293000"/>
            <a:ext cx="8280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595959"/>
                </a:solidFill>
                <a:latin typeface="Verdana"/>
              </a:rPr>
              <a:t>浪漫多彩心形</a:t>
            </a:r>
            <a:r>
              <a:rPr b="1" lang="en-US" sz="4000" spc="-1" strike="noStrike">
                <a:solidFill>
                  <a:srgbClr val="595959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Verdana"/>
              </a:rPr>
              <a:t>创意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0" y="6381360"/>
            <a:ext cx="761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3120" y="5157360"/>
            <a:ext cx="8285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/>
            <a:endParaRPr b="0" lang="en-US" sz="24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Verdana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Verdana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  <Words>579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ilovePPT.ORG</dc:creator>
  <dc:description/>
  <cp:keywords>我爱PPT中文网 ppt ppt模版 ppt设计</cp:keywords>
  <dc:language>en-US</dc:language>
  <cp:lastModifiedBy>yu wang</cp:lastModifiedBy>
  <dcterms:modified xsi:type="dcterms:W3CDTF">2015-08-08T10:04:20Z</dcterms:modified>
  <cp:revision>20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