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6E7-EB0A-4D3B-B66C-137F9F29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797-741B-4905-AC94-294A6CBF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5BE-11B7-4C0E-8BA4-047E8390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146-6131-49A1-8927-13082934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6A09-E20F-4641-805A-C22E6D5C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23BD-2DF4-4314-93A4-EF95436A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B77B-84D2-4CCF-ACC1-A9DF4FFD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02C0-DE82-4654-82F7-CDB7AC8B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AFB6-2DED-44D3-ABD5-F1FF21DA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9AC6-FDB3-4354-93F2-C815DEB2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37FC-4817-42DA-90C4-FF479986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82B-7598-4014-AFA5-44AC48AC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F33D-50BE-4A7E-9142-754412ED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F7DF-3BD4-46DC-862D-F0339C3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4BD2-7D29-45EE-8C64-6C948439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7941-E43E-4F4C-A4AF-A51D261E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2F87-E535-40B7-B2A5-9D6BF51C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C0BC-ED28-4277-AA8B-75A21E05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4E31-533D-4C76-8F5B-885666D2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69F5-F60A-4B73-91F9-CE8D9353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DE18-5489-4829-B909-A451D836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5419-E068-462D-BCDD-B1FEC7C6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702-AC6A-4F0F-BE4C-3B1E37E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11CF-6D6B-45D4-9F70-0317FB25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611A-F1EF-4DDA-98E3-80CA9B7F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0E313-CC10-4F2E-BE26-036A72E7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4098-ECD9-4938-9FEF-A038E3D3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E7991-990E-4819-AF72-97280AF0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723D9-8886-4F8D-ACBB-123152B2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BBD2F-2A63-4CE5-A3EB-2C9C9CB5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6FE-4BF0-4B51-ACAC-CB87CEDC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3D1-5E04-46C3-8A35-2DAE9F68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C03-6FB7-4F2E-931D-128FC622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A9B-C3D4-4320-817E-E6F3EEE1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D394-D56F-44AF-8A9C-751B1630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B9E-CCD4-4C3F-9670-9365DDFD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DC36-9495-45BD-B6C9-EC00E3A399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-23760"/>
            <a:ext cx="9144000" cy="43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DF43-7790-4B21-BE31-D8D63E4A35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8391-05E9-4EB3-AD03-B98E7B7BB120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-33480" y="0"/>
            <a:ext cx="91774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17445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绿色毕业答辩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演讲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854520" y="4780080"/>
            <a:ext cx="14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900600" y="520704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3579840" y="2711520"/>
            <a:ext cx="2303280" cy="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3579840" y="3414600"/>
            <a:ext cx="2303280" cy="180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3595680" y="4094280"/>
            <a:ext cx="2303640" cy="144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3568680" y="4791240"/>
            <a:ext cx="2303640" cy="144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561960" y="83808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19280" y="692280"/>
            <a:ext cx="16048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3"/>
          <p:cNvGraphicFramePr/>
          <p:nvPr/>
        </p:nvGraphicFramePr>
        <p:xfrm>
          <a:off x="1403280" y="1701720"/>
          <a:ext cx="6203880" cy="34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1720"/>
                    <a:ext cx="6203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5"/>
          <p:cNvSpPr/>
          <p:nvPr/>
        </p:nvSpPr>
        <p:spPr>
          <a:xfrm>
            <a:off x="250920" y="6308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 flipH="1">
            <a:off x="2154240" y="3870360"/>
            <a:ext cx="4913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5827680" y="1849320"/>
            <a:ext cx="1239840" cy="2054160"/>
            <a:chOff x="5827680" y="1849320"/>
            <a:chExt cx="1239840" cy="2054160"/>
          </a:xfrm>
        </p:grpSpPr>
        <p:grpSp>
          <p:nvGrpSpPr>
            <p:cNvPr id="206" name="Group 5"/>
            <p:cNvGrpSpPr/>
            <p:nvPr/>
          </p:nvGrpSpPr>
          <p:grpSpPr>
            <a:xfrm>
              <a:off x="5827680" y="1849320"/>
              <a:ext cx="1239840" cy="2054160"/>
              <a:chOff x="5827680" y="1849320"/>
              <a:chExt cx="1239840" cy="2054160"/>
            </a:xfrm>
          </p:grpSpPr>
          <p:sp>
            <p:nvSpPr>
              <p:cNvPr id="207" name="Oval 6"/>
              <p:cNvSpPr/>
              <p:nvPr/>
            </p:nvSpPr>
            <p:spPr>
              <a:xfrm>
                <a:off x="6126480" y="1849320"/>
                <a:ext cx="644760" cy="64548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7"/>
              <p:cNvSpPr/>
              <p:nvPr/>
            </p:nvSpPr>
            <p:spPr>
              <a:xfrm>
                <a:off x="6243120" y="2377800"/>
                <a:ext cx="410040" cy="11160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8"/>
              <p:cNvSpPr/>
              <p:nvPr/>
            </p:nvSpPr>
            <p:spPr>
              <a:xfrm>
                <a:off x="6891840" y="253368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曲线 235"/>
              <p:cNvSpPr/>
              <p:nvPr/>
            </p:nvSpPr>
            <p:spPr>
              <a:xfrm rot="20520000">
                <a:off x="6515280" y="2658240"/>
                <a:ext cx="464040" cy="38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曲线 238"/>
              <p:cNvSpPr/>
              <p:nvPr/>
            </p:nvSpPr>
            <p:spPr>
              <a:xfrm rot="660000">
                <a:off x="5915520" y="2459520"/>
                <a:ext cx="498240" cy="3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11"/>
              <p:cNvSpPr/>
              <p:nvPr/>
            </p:nvSpPr>
            <p:spPr>
              <a:xfrm>
                <a:off x="5827680" y="23054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2"/>
              <p:cNvSpPr/>
              <p:nvPr/>
            </p:nvSpPr>
            <p:spPr>
              <a:xfrm flipH="1">
                <a:off x="6302160" y="3480480"/>
                <a:ext cx="11160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"/>
              <p:cNvSpPr/>
              <p:nvPr/>
            </p:nvSpPr>
            <p:spPr>
              <a:xfrm>
                <a:off x="6501600" y="3467160"/>
                <a:ext cx="13536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14"/>
              <p:cNvSpPr/>
              <p:nvPr/>
            </p:nvSpPr>
            <p:spPr>
              <a:xfrm rot="6540000">
                <a:off x="6193800" y="366480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15"/>
              <p:cNvSpPr/>
              <p:nvPr/>
            </p:nvSpPr>
            <p:spPr>
              <a:xfrm rot="4020000">
                <a:off x="658440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AutoShape 16"/>
            <p:cNvSpPr/>
            <p:nvPr/>
          </p:nvSpPr>
          <p:spPr>
            <a:xfrm rot="6300000">
              <a:off x="6369840" y="2295360"/>
              <a:ext cx="9720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cp:keywords/>
  <dc:language>en-US</dc:language>
  <cp:lastModifiedBy>yu wang</cp:lastModifiedBy>
  <dcterms:modified xsi:type="dcterms:W3CDTF">2015-08-08T10:06:43Z</dcterms:modified>
  <cp:revision>3</cp:revision>
  <dc:subject/>
  <dc:title>绿色毕业答辩PPT模板免费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3953</vt:lpwstr>
  </property>
</Properties>
</file>