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5715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Series 1</c:v>
                </c:pt>
              </c:strCache>
            </c:strRef>
          </c:tx>
          <c:spPr>
            <a:solidFill>
              <a:srgbClr val="935411"/>
            </a:solidFill>
            <a:ln w="0">
              <a:noFill/>
            </a:ln>
          </c:spPr>
          <c:invertIfNegative val="0"/>
          <c:dLbls>
            <c:numFmt formatCode="General" sourceLinked="0"/>
            <c:txPr>
              <a:bodyPr wrap="square"/>
              <a:lstStyle/>
              <a:p>
                <a:pPr>
                  <a:defRPr b="0" sz="1200" spc="-1" strike="noStrike">
                    <a:solidFill>
                      <a:srgbClr val="ffffff"/>
                    </a:solidFill>
                    <a:latin typeface="Arial Narrow"/>
                  </a:defRPr>
                </a:pPr>
              </a:p>
            </c:txPr>
            <c:dLblPos val="in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2008</c:v>
                </c:pt>
                <c:pt idx="1">
                  <c:v>2009</c:v>
                </c:pt>
                <c:pt idx="2">
                  <c:v>2010</c:v>
                </c:pt>
                <c:pt idx="3">
                  <c:v>2011</c:v>
                </c:pt>
              </c:strCache>
            </c:strRef>
          </c:cat>
          <c:val>
            <c:numRef>
              <c:f>0</c:f>
              <c:numCache>
                <c:formatCode>General</c:formatCode>
                <c:ptCount val="4"/>
                <c:pt idx="0">
                  <c:v>250</c:v>
                </c:pt>
                <c:pt idx="1">
                  <c:v>320</c:v>
                </c:pt>
                <c:pt idx="2">
                  <c:v>650</c:v>
                </c:pt>
                <c:pt idx="3">
                  <c:v>950</c:v>
                </c:pt>
              </c:numCache>
            </c:numRef>
          </c:val>
        </c:ser>
        <c:gapWidth val="86"/>
        <c:overlap val="-5"/>
        <c:axId val="86226802"/>
        <c:axId val="56915051"/>
      </c:barChart>
      <c:catAx>
        <c:axId val="86226802"/>
        <c:scaling>
          <c:orientation val="minMax"/>
        </c:scaling>
        <c:delete val="0"/>
        <c:axPos val="b"/>
        <c:title>
          <c:tx>
            <c:rich>
              <a:bodyPr rot="0"/>
              <a:lstStyle/>
              <a:p>
                <a:pPr>
                  <a:defRPr b="0" sz="1400" spc="-1" strike="noStrike">
                    <a:solidFill>
                      <a:srgbClr val="000000"/>
                    </a:solidFill>
                    <a:latin typeface="Arial Narrow"/>
                  </a:defRPr>
                </a:pPr>
                <a:r>
                  <a:rPr b="0" sz="1400" spc="-1" strike="noStrike">
                    <a:solidFill>
                      <a:srgbClr val="000000"/>
                    </a:solidFill>
                    <a:latin typeface="Arial Narrow"/>
                  </a:rPr>
                  <a:t>Axis Title</a:t>
                </a:r>
              </a:p>
            </c:rich>
          </c:tx>
          <c:layout>
            <c:manualLayout>
              <c:xMode val="edge"/>
              <c:yMode val="edge"/>
              <c:x val="0.488004895960832"/>
              <c:y val="0.798851517637408"/>
            </c:manualLayout>
          </c:layout>
          <c:overlay val="0"/>
          <c:spPr>
            <a:noFill/>
            <a:ln w="0">
              <a:noFill/>
            </a:ln>
          </c:spPr>
        </c:title>
        <c:numFmt formatCode="General" sourceLinked="0"/>
        <c:majorTickMark val="out"/>
        <c:minorTickMark val="none"/>
        <c:tickLblPos val="nextTo"/>
        <c:spPr>
          <a:ln w="9360">
            <a:solidFill>
              <a:srgbClr val="878787"/>
            </a:solidFill>
            <a:round/>
          </a:ln>
        </c:spPr>
        <c:txPr>
          <a:bodyPr/>
          <a:lstStyle/>
          <a:p>
            <a:pPr>
              <a:defRPr b="0" sz="1000" spc="-1" strike="noStrike">
                <a:solidFill>
                  <a:srgbClr val="000000"/>
                </a:solidFill>
                <a:latin typeface="Arial Narrow"/>
              </a:defRPr>
            </a:pPr>
          </a:p>
        </c:txPr>
        <c:crossAx val="56915051"/>
        <c:crosses val="autoZero"/>
        <c:auto val="1"/>
        <c:lblAlgn val="ctr"/>
        <c:lblOffset val="100"/>
        <c:noMultiLvlLbl val="0"/>
      </c:catAx>
      <c:valAx>
        <c:axId val="56915051"/>
        <c:scaling>
          <c:orientation val="minMax"/>
        </c:scaling>
        <c:delete val="0"/>
        <c:axPos val="l"/>
        <c:majorGridlines>
          <c:spPr>
            <a:ln w="9360">
              <a:solidFill>
                <a:srgbClr val="bfbfbf"/>
              </a:solidFill>
              <a:prstDash val="sysDash"/>
              <a:round/>
            </a:ln>
          </c:spPr>
        </c:majorGridlines>
        <c:title>
          <c:tx>
            <c:rich>
              <a:bodyPr rot="-5400000"/>
              <a:lstStyle/>
              <a:p>
                <a:pPr>
                  <a:defRPr b="0" sz="1400" spc="-1" strike="noStrike">
                    <a:solidFill>
                      <a:srgbClr val="000000"/>
                    </a:solidFill>
                    <a:latin typeface="Arial Narrow"/>
                  </a:defRPr>
                </a:pPr>
                <a:r>
                  <a:rPr b="0" sz="1400" spc="-1" strike="noStrike">
                    <a:solidFill>
                      <a:srgbClr val="000000"/>
                    </a:solidFill>
                    <a:latin typeface="Arial Narrow"/>
                  </a:rPr>
                  <a:t>Axis Title</a:t>
                </a:r>
              </a:p>
            </c:rich>
          </c:tx>
          <c:layout>
            <c:manualLayout>
              <c:xMode val="edge"/>
              <c:yMode val="edge"/>
              <c:x val="0.071358629130967"/>
              <c:y val="0.222969647251846"/>
            </c:manualLayout>
          </c:layout>
          <c:overlay val="0"/>
          <c:spPr>
            <a:noFill/>
            <a:ln w="0">
              <a:noFill/>
            </a:ln>
          </c:spPr>
        </c:title>
        <c:numFmt formatCode="General" sourceLinked="0"/>
        <c:majorTickMark val="out"/>
        <c:minorTickMark val="none"/>
        <c:tickLblPos val="nextTo"/>
        <c:spPr>
          <a:ln w="9360">
            <a:solidFill>
              <a:srgbClr val="878787"/>
            </a:solidFill>
            <a:round/>
          </a:ln>
        </c:spPr>
        <c:txPr>
          <a:bodyPr/>
          <a:lstStyle/>
          <a:p>
            <a:pPr>
              <a:defRPr b="0" sz="1000" spc="-1" strike="noStrike">
                <a:solidFill>
                  <a:srgbClr val="000000"/>
                </a:solidFill>
                <a:latin typeface="Arial Narrow"/>
              </a:defRPr>
            </a:pPr>
          </a:p>
        </c:txPr>
        <c:crossAx val="86226802"/>
        <c:crosses val="autoZero"/>
        <c:crossBetween val="between"/>
      </c:valAx>
      <c:spPr>
        <a:noFill/>
        <a:ln w="0">
          <a:noFill/>
        </a:ln>
      </c:spPr>
    </c:plotArea>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D8325-C72C-46BF-B3C5-00CF0A6CC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457200" y="1333440"/>
            <a:ext cx="822924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 name="PlaceHolder 3"/>
          <p:cNvSpPr>
            <a:spLocks noGrp="1"/>
          </p:cNvSpPr>
          <p:nvPr>
            <p:ph/>
          </p:nvPr>
        </p:nvSpPr>
        <p:spPr>
          <a:xfrm>
            <a:off x="457200" y="3303720"/>
            <a:ext cx="822924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AC350-C223-4EDD-A5CF-62FBB0CD0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 name="PlaceHolder 2"/>
          <p:cNvSpPr>
            <a:spLocks noGrp="1"/>
          </p:cNvSpPr>
          <p:nvPr>
            <p:ph/>
          </p:nvPr>
        </p:nvSpPr>
        <p:spPr>
          <a:xfrm>
            <a:off x="45720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3"/>
          <p:cNvSpPr>
            <a:spLocks noGrp="1"/>
          </p:cNvSpPr>
          <p:nvPr>
            <p:ph/>
          </p:nvPr>
        </p:nvSpPr>
        <p:spPr>
          <a:xfrm>
            <a:off x="467424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4"/>
          <p:cNvSpPr>
            <a:spLocks noGrp="1"/>
          </p:cNvSpPr>
          <p:nvPr>
            <p:ph/>
          </p:nvPr>
        </p:nvSpPr>
        <p:spPr>
          <a:xfrm>
            <a:off x="457200" y="330372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 name="PlaceHolder 5"/>
          <p:cNvSpPr>
            <a:spLocks noGrp="1"/>
          </p:cNvSpPr>
          <p:nvPr>
            <p:ph/>
          </p:nvPr>
        </p:nvSpPr>
        <p:spPr>
          <a:xfrm>
            <a:off x="4674240" y="330372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D3FC4-648C-4681-AC13-CF1FDC3CE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457200" y="133344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3"/>
          <p:cNvSpPr>
            <a:spLocks noGrp="1"/>
          </p:cNvSpPr>
          <p:nvPr>
            <p:ph/>
          </p:nvPr>
        </p:nvSpPr>
        <p:spPr>
          <a:xfrm>
            <a:off x="3239640" y="133344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4"/>
          <p:cNvSpPr>
            <a:spLocks noGrp="1"/>
          </p:cNvSpPr>
          <p:nvPr>
            <p:ph/>
          </p:nvPr>
        </p:nvSpPr>
        <p:spPr>
          <a:xfrm>
            <a:off x="6022080" y="133344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5"/>
          <p:cNvSpPr>
            <a:spLocks noGrp="1"/>
          </p:cNvSpPr>
          <p:nvPr>
            <p:ph/>
          </p:nvPr>
        </p:nvSpPr>
        <p:spPr>
          <a:xfrm>
            <a:off x="457200" y="330372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6"/>
          <p:cNvSpPr>
            <a:spLocks noGrp="1"/>
          </p:cNvSpPr>
          <p:nvPr>
            <p:ph/>
          </p:nvPr>
        </p:nvSpPr>
        <p:spPr>
          <a:xfrm>
            <a:off x="3239640" y="330372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 name="PlaceHolder 7"/>
          <p:cNvSpPr>
            <a:spLocks noGrp="1"/>
          </p:cNvSpPr>
          <p:nvPr>
            <p:ph/>
          </p:nvPr>
        </p:nvSpPr>
        <p:spPr>
          <a:xfrm>
            <a:off x="6022080" y="330372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0192E-2BD9-4D1E-A132-F454B6154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4C1193-A463-44E1-B5D2-39814C4E23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8" name="PlaceHolder 2"/>
          <p:cNvSpPr>
            <a:spLocks noGrp="1"/>
          </p:cNvSpPr>
          <p:nvPr>
            <p:ph type="subTitle"/>
          </p:nvPr>
        </p:nvSpPr>
        <p:spPr>
          <a:xfrm>
            <a:off x="457200" y="1333440"/>
            <a:ext cx="8229240" cy="37713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C9BDA-BDF2-4641-9441-94BB2E132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 name="PlaceHolder 2"/>
          <p:cNvSpPr>
            <a:spLocks noGrp="1"/>
          </p:cNvSpPr>
          <p:nvPr>
            <p:ph/>
          </p:nvPr>
        </p:nvSpPr>
        <p:spPr>
          <a:xfrm>
            <a:off x="457200" y="1333440"/>
            <a:ext cx="8229240" cy="3771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7CA7FD-A6A2-478D-9ED5-3DC9DC2C7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2" name="PlaceHolder 2"/>
          <p:cNvSpPr>
            <a:spLocks noGrp="1"/>
          </p:cNvSpPr>
          <p:nvPr>
            <p:ph/>
          </p:nvPr>
        </p:nvSpPr>
        <p:spPr>
          <a:xfrm>
            <a:off x="457200" y="1333440"/>
            <a:ext cx="4015800" cy="3771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3" name="PlaceHolder 3"/>
          <p:cNvSpPr>
            <a:spLocks noGrp="1"/>
          </p:cNvSpPr>
          <p:nvPr>
            <p:ph/>
          </p:nvPr>
        </p:nvSpPr>
        <p:spPr>
          <a:xfrm>
            <a:off x="4674240" y="1333440"/>
            <a:ext cx="4015800" cy="3771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C15D3-B875-41DB-A185-46D9538ED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E2521-5F44-48D6-AD31-10E18B224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28960"/>
            <a:ext cx="8229240" cy="44150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BC53F6-7CFB-48BA-80E8-104ACD4FC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45720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3"/>
          <p:cNvSpPr>
            <a:spLocks noGrp="1"/>
          </p:cNvSpPr>
          <p:nvPr>
            <p:ph/>
          </p:nvPr>
        </p:nvSpPr>
        <p:spPr>
          <a:xfrm>
            <a:off x="4674240" y="1333440"/>
            <a:ext cx="4015800" cy="3771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4"/>
          <p:cNvSpPr>
            <a:spLocks noGrp="1"/>
          </p:cNvSpPr>
          <p:nvPr>
            <p:ph/>
          </p:nvPr>
        </p:nvSpPr>
        <p:spPr>
          <a:xfrm>
            <a:off x="457200" y="330372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9BD69-485D-46E8-A976-EFDA13DDF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type="subTitle"/>
          </p:nvPr>
        </p:nvSpPr>
        <p:spPr>
          <a:xfrm>
            <a:off x="457200" y="1333440"/>
            <a:ext cx="8229240" cy="37713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DAD2D-CA8C-480C-9208-031AC3CF7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1" name="PlaceHolder 2"/>
          <p:cNvSpPr>
            <a:spLocks noGrp="1"/>
          </p:cNvSpPr>
          <p:nvPr>
            <p:ph/>
          </p:nvPr>
        </p:nvSpPr>
        <p:spPr>
          <a:xfrm>
            <a:off x="457200" y="1333440"/>
            <a:ext cx="4015800" cy="3771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3"/>
          <p:cNvSpPr>
            <a:spLocks noGrp="1"/>
          </p:cNvSpPr>
          <p:nvPr>
            <p:ph/>
          </p:nvPr>
        </p:nvSpPr>
        <p:spPr>
          <a:xfrm>
            <a:off x="467424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4"/>
          <p:cNvSpPr>
            <a:spLocks noGrp="1"/>
          </p:cNvSpPr>
          <p:nvPr>
            <p:ph/>
          </p:nvPr>
        </p:nvSpPr>
        <p:spPr>
          <a:xfrm>
            <a:off x="4674240" y="330372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1E55A-F200-4DF3-A56D-70436ED88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5" name="PlaceHolder 2"/>
          <p:cNvSpPr>
            <a:spLocks noGrp="1"/>
          </p:cNvSpPr>
          <p:nvPr>
            <p:ph/>
          </p:nvPr>
        </p:nvSpPr>
        <p:spPr>
          <a:xfrm>
            <a:off x="45720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3"/>
          <p:cNvSpPr>
            <a:spLocks noGrp="1"/>
          </p:cNvSpPr>
          <p:nvPr>
            <p:ph/>
          </p:nvPr>
        </p:nvSpPr>
        <p:spPr>
          <a:xfrm>
            <a:off x="467424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4"/>
          <p:cNvSpPr>
            <a:spLocks noGrp="1"/>
          </p:cNvSpPr>
          <p:nvPr>
            <p:ph/>
          </p:nvPr>
        </p:nvSpPr>
        <p:spPr>
          <a:xfrm>
            <a:off x="457200" y="3303720"/>
            <a:ext cx="822924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626ED-0C07-4F4A-B2CD-DFAB1E306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457200" y="1333440"/>
            <a:ext cx="822924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3"/>
          <p:cNvSpPr>
            <a:spLocks noGrp="1"/>
          </p:cNvSpPr>
          <p:nvPr>
            <p:ph/>
          </p:nvPr>
        </p:nvSpPr>
        <p:spPr>
          <a:xfrm>
            <a:off x="457200" y="3303720"/>
            <a:ext cx="822924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86689F-90CA-4B71-9395-B792E5090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 name="PlaceHolder 2"/>
          <p:cNvSpPr>
            <a:spLocks noGrp="1"/>
          </p:cNvSpPr>
          <p:nvPr>
            <p:ph/>
          </p:nvPr>
        </p:nvSpPr>
        <p:spPr>
          <a:xfrm>
            <a:off x="45720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3"/>
          <p:cNvSpPr>
            <a:spLocks noGrp="1"/>
          </p:cNvSpPr>
          <p:nvPr>
            <p:ph/>
          </p:nvPr>
        </p:nvSpPr>
        <p:spPr>
          <a:xfrm>
            <a:off x="467424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4"/>
          <p:cNvSpPr>
            <a:spLocks noGrp="1"/>
          </p:cNvSpPr>
          <p:nvPr>
            <p:ph/>
          </p:nvPr>
        </p:nvSpPr>
        <p:spPr>
          <a:xfrm>
            <a:off x="457200" y="330372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5"/>
          <p:cNvSpPr>
            <a:spLocks noGrp="1"/>
          </p:cNvSpPr>
          <p:nvPr>
            <p:ph/>
          </p:nvPr>
        </p:nvSpPr>
        <p:spPr>
          <a:xfrm>
            <a:off x="4674240" y="330372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C3CE1D-0DB2-45B4-9070-000E616E2D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7" name="PlaceHolder 2"/>
          <p:cNvSpPr>
            <a:spLocks noGrp="1"/>
          </p:cNvSpPr>
          <p:nvPr>
            <p:ph/>
          </p:nvPr>
        </p:nvSpPr>
        <p:spPr>
          <a:xfrm>
            <a:off x="457200" y="133344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3"/>
          <p:cNvSpPr>
            <a:spLocks noGrp="1"/>
          </p:cNvSpPr>
          <p:nvPr>
            <p:ph/>
          </p:nvPr>
        </p:nvSpPr>
        <p:spPr>
          <a:xfrm>
            <a:off x="3239640" y="133344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4"/>
          <p:cNvSpPr>
            <a:spLocks noGrp="1"/>
          </p:cNvSpPr>
          <p:nvPr>
            <p:ph/>
          </p:nvPr>
        </p:nvSpPr>
        <p:spPr>
          <a:xfrm>
            <a:off x="6022080" y="133344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5"/>
          <p:cNvSpPr>
            <a:spLocks noGrp="1"/>
          </p:cNvSpPr>
          <p:nvPr>
            <p:ph/>
          </p:nvPr>
        </p:nvSpPr>
        <p:spPr>
          <a:xfrm>
            <a:off x="457200" y="330372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6"/>
          <p:cNvSpPr>
            <a:spLocks noGrp="1"/>
          </p:cNvSpPr>
          <p:nvPr>
            <p:ph/>
          </p:nvPr>
        </p:nvSpPr>
        <p:spPr>
          <a:xfrm>
            <a:off x="3239640" y="330372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7"/>
          <p:cNvSpPr>
            <a:spLocks noGrp="1"/>
          </p:cNvSpPr>
          <p:nvPr>
            <p:ph/>
          </p:nvPr>
        </p:nvSpPr>
        <p:spPr>
          <a:xfrm>
            <a:off x="6022080" y="330372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8CE126-AAD7-4367-ACFA-8350B14001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457200" y="1333440"/>
            <a:ext cx="8229240" cy="3771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7CB67-C5F2-4708-A6A7-ADA59A763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p:nvPr>
        </p:nvSpPr>
        <p:spPr>
          <a:xfrm>
            <a:off x="457200" y="1333440"/>
            <a:ext cx="4015800" cy="3771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 name="PlaceHolder 3"/>
          <p:cNvSpPr>
            <a:spLocks noGrp="1"/>
          </p:cNvSpPr>
          <p:nvPr>
            <p:ph/>
          </p:nvPr>
        </p:nvSpPr>
        <p:spPr>
          <a:xfrm>
            <a:off x="4674240" y="1333440"/>
            <a:ext cx="4015800" cy="3771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C42B8-8FC5-4FC5-B92B-BF95E7996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2DD66-F1E5-4974-BBB9-98EEC1C52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28960"/>
            <a:ext cx="8229240" cy="44150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F4198-DE1D-43E7-836D-C36DF9572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45720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3"/>
          <p:cNvSpPr>
            <a:spLocks noGrp="1"/>
          </p:cNvSpPr>
          <p:nvPr>
            <p:ph/>
          </p:nvPr>
        </p:nvSpPr>
        <p:spPr>
          <a:xfrm>
            <a:off x="4674240" y="1333440"/>
            <a:ext cx="4015800" cy="3771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 name="PlaceHolder 4"/>
          <p:cNvSpPr>
            <a:spLocks noGrp="1"/>
          </p:cNvSpPr>
          <p:nvPr>
            <p:ph/>
          </p:nvPr>
        </p:nvSpPr>
        <p:spPr>
          <a:xfrm>
            <a:off x="457200" y="330372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7DDA4-C956-4324-832D-2FBE8BCCB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457200" y="1333440"/>
            <a:ext cx="4015800" cy="3771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3"/>
          <p:cNvSpPr>
            <a:spLocks noGrp="1"/>
          </p:cNvSpPr>
          <p:nvPr>
            <p:ph/>
          </p:nvPr>
        </p:nvSpPr>
        <p:spPr>
          <a:xfrm>
            <a:off x="467424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 name="PlaceHolder 4"/>
          <p:cNvSpPr>
            <a:spLocks noGrp="1"/>
          </p:cNvSpPr>
          <p:nvPr>
            <p:ph/>
          </p:nvPr>
        </p:nvSpPr>
        <p:spPr>
          <a:xfrm>
            <a:off x="4674240" y="330372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1F90B-511D-4B2A-BCC9-B89FB7279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45720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3"/>
          <p:cNvSpPr>
            <a:spLocks noGrp="1"/>
          </p:cNvSpPr>
          <p:nvPr>
            <p:ph/>
          </p:nvPr>
        </p:nvSpPr>
        <p:spPr>
          <a:xfrm>
            <a:off x="467424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 name="PlaceHolder 4"/>
          <p:cNvSpPr>
            <a:spLocks noGrp="1"/>
          </p:cNvSpPr>
          <p:nvPr>
            <p:ph/>
          </p:nvPr>
        </p:nvSpPr>
        <p:spPr>
          <a:xfrm>
            <a:off x="457200" y="3303720"/>
            <a:ext cx="822924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191D1-1C3F-4038-BEFB-F2409BA1EE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图片 6" descr=""/>
          <p:cNvPicPr/>
          <p:nvPr/>
        </p:nvPicPr>
        <p:blipFill>
          <a:blip r:embed="rId3"/>
          <a:stretch/>
        </p:blipFill>
        <p:spPr>
          <a:xfrm>
            <a:off x="0" y="0"/>
            <a:ext cx="9143640" cy="5714640"/>
          </a:xfrm>
          <a:prstGeom prst="rect">
            <a:avLst/>
          </a:prstGeom>
          <a:ln w="0">
            <a:noFill/>
          </a:ln>
        </p:spPr>
      </p:pic>
      <p:sp>
        <p:nvSpPr>
          <p:cNvPr id="1" name="PlaceHolder 1"/>
          <p:cNvSpPr>
            <a:spLocks noGrp="1"/>
          </p:cNvSpPr>
          <p:nvPr>
            <p:ph type="title"/>
          </p:nvPr>
        </p:nvSpPr>
        <p:spPr>
          <a:xfrm>
            <a:off x="685800" y="1775520"/>
            <a:ext cx="7772040" cy="122472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2" name="PlaceHolder 2"/>
          <p:cNvSpPr>
            <a:spLocks noGrp="1"/>
          </p:cNvSpPr>
          <p:nvPr>
            <p:ph type="dt" idx="1"/>
          </p:nvPr>
        </p:nvSpPr>
        <p:spPr>
          <a:xfrm>
            <a:off x="457200" y="5297040"/>
            <a:ext cx="2133360" cy="30384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ffffff"/>
              </a:solidFill>
              <a:latin typeface="Times New Roman"/>
            </a:endParaRPr>
          </a:p>
        </p:txBody>
      </p:sp>
      <p:sp>
        <p:nvSpPr>
          <p:cNvPr id="3" name="PlaceHolder 3"/>
          <p:cNvSpPr>
            <a:spLocks noGrp="1"/>
          </p:cNvSpPr>
          <p:nvPr>
            <p:ph type="ftr" idx="2"/>
          </p:nvPr>
        </p:nvSpPr>
        <p:spPr>
          <a:xfrm>
            <a:off x="3124080" y="5297040"/>
            <a:ext cx="2895120" cy="30384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4"/>
          <p:cNvSpPr>
            <a:spLocks noGrp="1"/>
          </p:cNvSpPr>
          <p:nvPr>
            <p:ph type="sldNum" idx="3"/>
          </p:nvPr>
        </p:nvSpPr>
        <p:spPr>
          <a:xfrm>
            <a:off x="6553080" y="5297040"/>
            <a:ext cx="2133360" cy="30384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A380E713-5E58-498C-ABBF-1D1504183521}" type="slidenum">
              <a:rPr b="0" lang="en-US" sz="1200" spc="-1" strike="noStrike">
                <a:solidFill>
                  <a:srgbClr val="8b8b8b"/>
                </a:solidFill>
                <a:latin typeface="Calibri"/>
              </a:rPr>
              <a:t>&lt;number&gt;</a:t>
            </a:fld>
            <a:endParaRPr b="0" lang="en-US" sz="1200" spc="-1" strike="noStrike">
              <a:solidFill>
                <a:srgbClr val="ffffff"/>
              </a:solidFill>
              <a:latin typeface="Times New Roman"/>
            </a:endParaRPr>
          </a:p>
        </p:txBody>
      </p:sp>
      <p:sp>
        <p:nvSpPr>
          <p:cNvPr id="5" name="PlaceHolder 5"/>
          <p:cNvSpPr>
            <a:spLocks noGrp="1"/>
          </p:cNvSpPr>
          <p:nvPr>
            <p:ph type="body"/>
          </p:nvPr>
        </p:nvSpPr>
        <p:spPr>
          <a:xfrm>
            <a:off x="457200" y="1337040"/>
            <a:ext cx="8229240" cy="331416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ffffff"/>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ffffff"/>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ffffff"/>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ffffff"/>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ffffff"/>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ffffff"/>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960"/>
            <a:ext cx="8229240" cy="95220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333440"/>
            <a:ext cx="8229240" cy="37713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Calibri"/>
              </a:rPr>
              <a:t>单击此处编辑母版文本样式</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Calibri"/>
              </a:rPr>
              <a:t>第二级</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Calibri"/>
              </a:rPr>
              <a:t>第三级</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Calibri"/>
              </a:rPr>
              <a:t>第四级</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Calibri"/>
              </a:rPr>
              <a:t>第五级</a:t>
            </a:r>
            <a:endParaRPr b="0" lang="en-US" sz="2000" spc="-1" strike="noStrike">
              <a:solidFill>
                <a:srgbClr val="000000"/>
              </a:solidFill>
              <a:latin typeface="Calibri"/>
            </a:endParaRPr>
          </a:p>
        </p:txBody>
      </p:sp>
      <p:sp>
        <p:nvSpPr>
          <p:cNvPr id="44" name="PlaceHolder 3"/>
          <p:cNvSpPr>
            <a:spLocks noGrp="1"/>
          </p:cNvSpPr>
          <p:nvPr>
            <p:ph type="dt" idx="4"/>
          </p:nvPr>
        </p:nvSpPr>
        <p:spPr>
          <a:xfrm>
            <a:off x="457200" y="5297040"/>
            <a:ext cx="2133360" cy="30384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ffffff"/>
              </a:solidFill>
              <a:latin typeface="Times New Roman"/>
            </a:endParaRPr>
          </a:p>
        </p:txBody>
      </p:sp>
      <p:sp>
        <p:nvSpPr>
          <p:cNvPr id="45" name="PlaceHolder 4"/>
          <p:cNvSpPr>
            <a:spLocks noGrp="1"/>
          </p:cNvSpPr>
          <p:nvPr>
            <p:ph type="ftr" idx="5"/>
          </p:nvPr>
        </p:nvSpPr>
        <p:spPr>
          <a:xfrm>
            <a:off x="3124080" y="5297040"/>
            <a:ext cx="2895120" cy="30384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6" name="PlaceHolder 5"/>
          <p:cNvSpPr>
            <a:spLocks noGrp="1"/>
          </p:cNvSpPr>
          <p:nvPr>
            <p:ph type="sldNum" idx="6"/>
          </p:nvPr>
        </p:nvSpPr>
        <p:spPr>
          <a:xfrm>
            <a:off x="6553080" y="5297040"/>
            <a:ext cx="2133360" cy="30384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40865B4-8C0E-4222-B50C-82F889C730E0}" type="slidenum">
              <a:rPr b="0" lang="en-US" sz="1200" spc="-1" strike="noStrike">
                <a:solidFill>
                  <a:srgbClr val="8b8b8b"/>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tongyong/" TargetMode="External"/><Relationship Id="rId7" Type="http://schemas.openxmlformats.org/officeDocument/2006/relationships/hyperlink" Target="http://www.eeppt.com/moban/" TargetMode="External"/><Relationship Id="rId8" Type="http://schemas.openxmlformats.org/officeDocument/2006/relationships/hyperlink" Target="http://www.eeppt.com/moban/chuangyi/" TargetMode="External"/><Relationship Id="rId9" Type="http://schemas.openxmlformats.org/officeDocument/2006/relationships/hyperlink" Target="http://www.eeppt.com/sucai/" TargetMode="External"/><Relationship Id="rId10" Type="http://schemas.openxmlformats.org/officeDocument/2006/relationships/hyperlink" Target="http://www.eeppt.com/moban/dab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gongzuo/"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jingpin/" TargetMode="External"/><Relationship Id="rId15" Type="http://schemas.openxmlformats.org/officeDocument/2006/relationships/hyperlink" Target="http://www.eeppt.com/moban/kejian/" TargetMode="External"/><Relationship Id="rId16" Type="http://schemas.openxmlformats.org/officeDocument/2006/relationships/hyperlink" Target="http://www.eeppt.com/moban/zhongguofeng/" TargetMode="External"/><Relationship Id="rId17" Type="http://schemas.openxmlformats.org/officeDocument/2006/relationships/hyperlink" Target="http://www.eeppt.com/moban/yingxiao/" TargetMode="External"/><Relationship Id="rId18" Type="http://schemas.openxmlformats.org/officeDocument/2006/relationships/hyperlink" Target="http://www.eeppt.com/moban/mianfei/" TargetMode="External"/><Relationship Id="rId19" Type="http://schemas.openxmlformats.org/officeDocument/2006/relationships/hyperlink" Target="http://www.eeppt.com/moban/gongy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tong/"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atong/" TargetMode="External"/><Relationship Id="rId24" Type="http://schemas.openxmlformats.org/officeDocument/2006/relationships/hyperlink" Target="http://www.eeppt.com/moban/yundong/" TargetMode="External"/><Relationship Id="rId2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TextBox 3"/>
          <p:cNvSpPr/>
          <p:nvPr/>
        </p:nvSpPr>
        <p:spPr>
          <a:xfrm>
            <a:off x="553680" y="4302720"/>
            <a:ext cx="398484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4400" spc="-1" strike="noStrike">
                <a:solidFill>
                  <a:srgbClr val="ffffff"/>
                </a:solidFill>
                <a:latin typeface="微软雅黑"/>
                <a:ea typeface="微软雅黑"/>
              </a:rPr>
              <a:t>POWERPOINT</a:t>
            </a:r>
            <a:endParaRPr b="0" lang="en-US" sz="4400" spc="-1" strike="noStrike">
              <a:solidFill>
                <a:srgbClr val="ffffff"/>
              </a:solidFill>
              <a:latin typeface="Arial"/>
            </a:endParaRPr>
          </a:p>
        </p:txBody>
      </p:sp>
      <p:sp>
        <p:nvSpPr>
          <p:cNvPr id="84" name="TextBox 4"/>
          <p:cNvSpPr/>
          <p:nvPr/>
        </p:nvSpPr>
        <p:spPr>
          <a:xfrm>
            <a:off x="1640880" y="3433680"/>
            <a:ext cx="580608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000" spc="-1" strike="noStrike">
                <a:solidFill>
                  <a:srgbClr val="ffffff"/>
                </a:solidFill>
                <a:latin typeface="微软雅黑"/>
                <a:ea typeface="微软雅黑"/>
              </a:rPr>
              <a:t>绿色抽象炫彩光线背景的创意设计</a:t>
            </a:r>
            <a:r>
              <a:rPr b="1" lang="en-US" sz="4000" spc="-1" strike="noStrike">
                <a:solidFill>
                  <a:srgbClr val="ffffff"/>
                </a:solidFill>
                <a:latin typeface="微软雅黑"/>
                <a:ea typeface="微软雅黑"/>
              </a:rPr>
              <a:t>PPT</a:t>
            </a:r>
            <a:endParaRPr b="0" lang="en-US" sz="4000" spc="-1" strike="noStrike">
              <a:solidFill>
                <a:srgbClr val="ffffff"/>
              </a:solidFill>
              <a:latin typeface="Arial"/>
            </a:endParaRPr>
          </a:p>
        </p:txBody>
      </p:sp>
      <p:sp>
        <p:nvSpPr>
          <p:cNvPr id="85" name="矩形 12"/>
          <p:cNvSpPr/>
          <p:nvPr/>
        </p:nvSpPr>
        <p:spPr>
          <a:xfrm>
            <a:off x="388800" y="523332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494360" y="427320"/>
            <a:ext cx="6155280" cy="43056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650" name="PlaceHolder 2"/>
          <p:cNvSpPr>
            <a:spLocks noGrp="1"/>
          </p:cNvSpPr>
          <p:nvPr>
            <p:ph/>
          </p:nvPr>
        </p:nvSpPr>
        <p:spPr>
          <a:xfrm>
            <a:off x="1224000" y="1238400"/>
            <a:ext cx="6695640" cy="3914280"/>
          </a:xfrm>
          <a:prstGeom prst="rect">
            <a:avLst/>
          </a:prstGeom>
          <a:noFill/>
          <a:ln w="0">
            <a:noFill/>
          </a:ln>
        </p:spPr>
        <p:txBody>
          <a:bodyPr anchor="t">
            <a:noAutofit/>
          </a:bodyPr>
          <a:p>
            <a:pPr indent="0">
              <a:lnSpc>
                <a:spcPct val="80000"/>
              </a:lnSpc>
              <a:buNone/>
              <a:tabLst>
                <a:tab algn="l" pos="0"/>
              </a:tabLst>
            </a:pPr>
            <a:r>
              <a:rPr b="1" lang="zh-CN" sz="1130" spc="-1" strike="noStrike">
                <a:solidFill>
                  <a:srgbClr val="ededed"/>
                </a:solidFill>
                <a:latin typeface="Calibri"/>
              </a:rPr>
              <a:t>站点介绍：</a:t>
            </a:r>
            <a:endParaRPr b="0" lang="en-US" sz="1130" spc="-1" strike="noStrike">
              <a:solidFill>
                <a:srgbClr val="000000"/>
              </a:solidFill>
              <a:latin typeface="Calibri"/>
            </a:endParaRPr>
          </a:p>
          <a:p>
            <a:pPr indent="0">
              <a:lnSpc>
                <a:spcPct val="80000"/>
              </a:lnSpc>
              <a:buNone/>
              <a:tabLst>
                <a:tab algn="l" pos="0"/>
              </a:tabLst>
            </a:pPr>
            <a:endParaRPr b="0" lang="en-US" sz="1050" spc="-1" strike="noStrike">
              <a:solidFill>
                <a:srgbClr val="000000"/>
              </a:solidFill>
              <a:latin typeface="Calibri"/>
            </a:endParaRPr>
          </a:p>
          <a:p>
            <a:pPr indent="0">
              <a:lnSpc>
                <a:spcPct val="80000"/>
              </a:lnSpc>
              <a:buNone/>
              <a:tabLst>
                <a:tab algn="l" pos="0"/>
              </a:tabLst>
            </a:pPr>
            <a:r>
              <a:rPr b="1" lang="en-US" sz="1050" spc="-1" strike="noStrike">
                <a:solidFill>
                  <a:srgbClr val="ededed"/>
                </a:solidFill>
                <a:latin typeface="Calibri"/>
              </a:rPr>
              <a:t>PPT</a:t>
            </a:r>
            <a:r>
              <a:rPr b="1" lang="zh-CN" sz="1050" spc="-1" strike="noStrike">
                <a:solidFill>
                  <a:srgbClr val="ededed"/>
                </a:solidFill>
                <a:latin typeface="Calibri"/>
              </a:rPr>
              <a:t>模板下载网站</a:t>
            </a:r>
            <a:r>
              <a:rPr b="1" lang="en-US" sz="1050" spc="-1" strike="noStrike">
                <a:solidFill>
                  <a:srgbClr val="e8eff7"/>
                </a:solidFill>
                <a:latin typeface="Calibri"/>
              </a:rPr>
              <a:t>www.eeppt.com</a:t>
            </a:r>
            <a:r>
              <a:rPr b="1" lang="zh-CN" sz="1050" spc="-1" strike="noStrike">
                <a:solidFill>
                  <a:srgbClr val="ededed"/>
                </a:solidFill>
                <a:latin typeface="Calibri"/>
              </a:rPr>
              <a:t>为您提供免费</a:t>
            </a:r>
            <a:r>
              <a:rPr b="1" lang="en-US" sz="1050" spc="-1" strike="noStrike">
                <a:solidFill>
                  <a:srgbClr val="ededed"/>
                </a:solidFill>
                <a:latin typeface="Calibri"/>
              </a:rPr>
              <a:t>ppt</a:t>
            </a:r>
            <a:r>
              <a:rPr b="1" lang="zh-CN" sz="1050" spc="-1" strike="noStrike">
                <a:solidFill>
                  <a:srgbClr val="ededed"/>
                </a:solidFill>
                <a:latin typeface="Calibri"/>
              </a:rPr>
              <a:t>模板下载，有好看的</a:t>
            </a:r>
            <a:r>
              <a:rPr b="1" lang="en-US" sz="1050" spc="-1" strike="noStrike">
                <a:solidFill>
                  <a:srgbClr val="ededed"/>
                </a:solidFill>
                <a:latin typeface="Calibri"/>
              </a:rPr>
              <a:t>ppt</a:t>
            </a:r>
            <a:r>
              <a:rPr b="1" lang="zh-CN" sz="1050" spc="-1" strike="noStrike">
                <a:solidFill>
                  <a:srgbClr val="ededed"/>
                </a:solidFill>
                <a:latin typeface="Calibri"/>
              </a:rPr>
              <a:t>模板，</a:t>
            </a:r>
            <a:r>
              <a:rPr b="1" lang="en-US" sz="1050" spc="-1" strike="noStrike">
                <a:solidFill>
                  <a:srgbClr val="ededed"/>
                </a:solidFill>
                <a:latin typeface="Calibri"/>
              </a:rPr>
              <a:t>ppt</a:t>
            </a:r>
            <a:r>
              <a:rPr b="1" lang="zh-CN" sz="1050" spc="-1" strike="noStrike">
                <a:solidFill>
                  <a:srgbClr val="ededed"/>
                </a:solidFill>
                <a:latin typeface="Calibri"/>
              </a:rPr>
              <a:t>背景图片，</a:t>
            </a:r>
            <a:r>
              <a:rPr b="1" lang="en-US" sz="1050" spc="-1" strike="noStrike">
                <a:solidFill>
                  <a:srgbClr val="ededed"/>
                </a:solidFill>
                <a:latin typeface="Calibri"/>
              </a:rPr>
              <a:t>ppt</a:t>
            </a:r>
            <a:r>
              <a:rPr b="1" lang="zh-CN" sz="1050" spc="-1" strike="noStrike">
                <a:solidFill>
                  <a:srgbClr val="ededed"/>
                </a:solidFill>
                <a:latin typeface="Calibri"/>
              </a:rPr>
              <a:t>素材，</a:t>
            </a:r>
            <a:r>
              <a:rPr b="1" lang="en-US" sz="1050" spc="-1" strike="noStrike">
                <a:solidFill>
                  <a:srgbClr val="ededed"/>
                </a:solidFill>
                <a:latin typeface="Calibri"/>
              </a:rPr>
              <a:t>ppt</a:t>
            </a:r>
            <a:r>
              <a:rPr b="1" lang="zh-CN" sz="1050" spc="-1" strike="noStrike">
                <a:solidFill>
                  <a:srgbClr val="ededed"/>
                </a:solidFill>
                <a:latin typeface="Calibri"/>
              </a:rPr>
              <a:t>图表，动态</a:t>
            </a:r>
            <a:r>
              <a:rPr b="1" lang="en-US" sz="1050" spc="-1" strike="noStrike">
                <a:solidFill>
                  <a:srgbClr val="ededed"/>
                </a:solidFill>
                <a:latin typeface="Calibri"/>
              </a:rPr>
              <a:t>ppt</a:t>
            </a:r>
            <a:r>
              <a:rPr b="1" lang="zh-CN" sz="1050" spc="-1" strike="noStrike">
                <a:solidFill>
                  <a:srgbClr val="ededed"/>
                </a:solidFill>
                <a:latin typeface="Calibri"/>
              </a:rPr>
              <a:t>模板大全，幻灯片模板，</a:t>
            </a:r>
            <a:r>
              <a:rPr b="1" lang="en-US" sz="1050" spc="-1" strike="noStrike">
                <a:solidFill>
                  <a:srgbClr val="ededed"/>
                </a:solidFill>
                <a:latin typeface="Calibri"/>
              </a:rPr>
              <a:t>Powe</a:t>
            </a:r>
            <a:r>
              <a:rPr b="1" lang="en-US" sz="1050" spc="-1" strike="noStrike">
                <a:solidFill>
                  <a:srgbClr val="e8eff7"/>
                </a:solidFill>
                <a:latin typeface="Calibri"/>
              </a:rPr>
              <a:t>rPoint</a:t>
            </a:r>
            <a:r>
              <a:rPr b="1" lang="zh-CN" sz="1050" spc="-1" strike="noStrike">
                <a:solidFill>
                  <a:srgbClr val="e8eff7"/>
                </a:solidFill>
                <a:latin typeface="Calibri"/>
              </a:rPr>
              <a:t>模板等各类</a:t>
            </a:r>
            <a:r>
              <a:rPr b="1" lang="en-US" sz="1050" spc="-1" strike="noStrike">
                <a:solidFill>
                  <a:srgbClr val="e8eff7"/>
                </a:solidFill>
                <a:latin typeface="Calibri"/>
              </a:rPr>
              <a:t>ppt</a:t>
            </a:r>
            <a:r>
              <a:rPr b="1" lang="zh-CN" sz="1050" spc="-1" strike="noStrike">
                <a:solidFill>
                  <a:srgbClr val="e8eff7"/>
                </a:solidFill>
                <a:latin typeface="Calibri"/>
              </a:rPr>
              <a:t>模板免费下载。助您轻松制作出精美</a:t>
            </a:r>
            <a:r>
              <a:rPr b="1" lang="en-US" sz="1050" spc="-1" strike="noStrike">
                <a:solidFill>
                  <a:srgbClr val="e8eff7"/>
                </a:solidFill>
                <a:latin typeface="Calibri"/>
              </a:rPr>
              <a:t>PPT</a:t>
            </a:r>
            <a:r>
              <a:rPr b="1" lang="zh-CN" sz="1050" spc="-1" strike="noStrike">
                <a:solidFill>
                  <a:srgbClr val="e8eff7"/>
                </a:solidFill>
                <a:latin typeface="Calibri"/>
              </a:rPr>
              <a:t>模板！</a:t>
            </a:r>
            <a:r>
              <a:rPr b="1" lang="zh-CN" sz="1050" spc="-1" strike="noStrike">
                <a:solidFill>
                  <a:srgbClr val="ededed"/>
                </a:solidFill>
                <a:latin typeface="Calibri"/>
              </a:rPr>
              <a:t>最新更新</a:t>
            </a:r>
            <a:r>
              <a:rPr b="1" lang="en-US" sz="1050" spc="-1" strike="noStrike">
                <a:solidFill>
                  <a:srgbClr val="ededed"/>
                </a:solidFill>
                <a:latin typeface="Calibri"/>
              </a:rPr>
              <a:t>ppt</a:t>
            </a:r>
            <a:r>
              <a:rPr b="1" lang="zh-CN" sz="1050" spc="-1" strike="noStrike">
                <a:solidFill>
                  <a:srgbClr val="ededed"/>
                </a:solidFill>
                <a:latin typeface="Calibri"/>
              </a:rPr>
              <a:t>模板</a:t>
            </a:r>
            <a:r>
              <a:rPr b="0" lang="en-US" sz="1050" spc="-1" strike="noStrike">
                <a:solidFill>
                  <a:srgbClr val="ededed"/>
                </a:solidFill>
                <a:latin typeface="Calibri"/>
              </a:rPr>
              <a:t> </a:t>
            </a:r>
            <a:r>
              <a:rPr b="1" lang="en-US" sz="1050" spc="-1" strike="noStrike" u="sng">
                <a:solidFill>
                  <a:srgbClr val="0000ff"/>
                </a:solidFill>
                <a:uFillTx/>
                <a:latin typeface="Calibri"/>
                <a:hlinkClick r:id="rId1"/>
              </a:rPr>
              <a:t>http://</a:t>
            </a:r>
            <a:r>
              <a:rPr b="1" lang="en-US" sz="1050" spc="-1" strike="noStrike" u="sng">
                <a:solidFill>
                  <a:srgbClr val="0000ff"/>
                </a:solidFill>
                <a:uFillTx/>
                <a:latin typeface="Calibri"/>
                <a:hlinkClick r:id="rId2"/>
              </a:rPr>
              <a:t>www.eeppt.com/new.html</a:t>
            </a:r>
            <a:r>
              <a:rPr b="1" lang="en-US" sz="1050" spc="-1" strike="noStrike">
                <a:solidFill>
                  <a:srgbClr val="ededed"/>
                </a:solidFill>
                <a:latin typeface="Calibri"/>
              </a:rPr>
              <a:t> </a:t>
            </a:r>
            <a:endParaRPr b="0" lang="en-US" sz="1050" spc="-1" strike="noStrike">
              <a:solidFill>
                <a:srgbClr val="000000"/>
              </a:solidFill>
              <a:latin typeface="Calibri"/>
            </a:endParaRPr>
          </a:p>
          <a:p>
            <a:pPr indent="0">
              <a:lnSpc>
                <a:spcPct val="80000"/>
              </a:lnSpc>
              <a:buNone/>
              <a:tabLst>
                <a:tab algn="l" pos="0"/>
              </a:tabLst>
            </a:pPr>
            <a:endParaRPr b="0" lang="en-US" sz="900" spc="-1" strike="noStrike">
              <a:solidFill>
                <a:srgbClr val="000000"/>
              </a:solidFill>
              <a:latin typeface="Calibri"/>
            </a:endParaRPr>
          </a:p>
          <a:p>
            <a:pPr indent="0">
              <a:lnSpc>
                <a:spcPct val="80000"/>
              </a:lnSpc>
              <a:buNone/>
              <a:tabLst>
                <a:tab algn="l" pos="0"/>
              </a:tabLst>
            </a:pPr>
            <a:endParaRPr b="0" lang="en-US" sz="520" spc="-1" strike="noStrike">
              <a:solidFill>
                <a:srgbClr val="000000"/>
              </a:solidFill>
              <a:latin typeface="Calibri"/>
            </a:endParaRPr>
          </a:p>
          <a:p>
            <a:pPr indent="0">
              <a:lnSpc>
                <a:spcPct val="80000"/>
              </a:lnSpc>
              <a:buNone/>
              <a:tabLst>
                <a:tab algn="l" pos="0"/>
              </a:tabLst>
            </a:pPr>
            <a:r>
              <a:rPr b="1" lang="zh-CN" sz="1130" spc="-1" strike="noStrike">
                <a:solidFill>
                  <a:srgbClr val="ededed"/>
                </a:solidFill>
                <a:latin typeface="Calibri"/>
              </a:rPr>
              <a:t>特别说明：</a:t>
            </a:r>
            <a:endParaRPr b="0" lang="en-US" sz="1130" spc="-1" strike="noStrike">
              <a:solidFill>
                <a:srgbClr val="000000"/>
              </a:solidFill>
              <a:latin typeface="Calibri"/>
            </a:endParaRPr>
          </a:p>
          <a:p>
            <a:pPr indent="0">
              <a:lnSpc>
                <a:spcPct val="80000"/>
              </a:lnSpc>
              <a:buNone/>
              <a:tabLst>
                <a:tab algn="l" pos="0"/>
              </a:tabLst>
            </a:pPr>
            <a:endParaRPr b="0" lang="en-US" sz="1050" spc="-1" strike="noStrike">
              <a:solidFill>
                <a:srgbClr val="000000"/>
              </a:solidFill>
              <a:latin typeface="Calibri"/>
            </a:endParaRPr>
          </a:p>
          <a:p>
            <a:pPr indent="0">
              <a:lnSpc>
                <a:spcPct val="80000"/>
              </a:lnSpc>
              <a:buNone/>
              <a:tabLst>
                <a:tab algn="l" pos="0"/>
              </a:tabLst>
            </a:pPr>
            <a:r>
              <a:rPr b="1" lang="zh-CN" sz="1050" spc="-1" strike="noStrike">
                <a:solidFill>
                  <a:srgbClr val="ededed"/>
                </a:solidFill>
                <a:latin typeface="Calibri"/>
              </a:rPr>
              <a:t>该</a:t>
            </a:r>
            <a:r>
              <a:rPr b="1" lang="en-US" sz="1050" spc="-1" strike="noStrike">
                <a:solidFill>
                  <a:srgbClr val="ededed"/>
                </a:solidFill>
                <a:latin typeface="Calibri"/>
              </a:rPr>
              <a:t>PPT</a:t>
            </a:r>
            <a:r>
              <a:rPr b="1" lang="zh-CN" sz="105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050" spc="-1" strike="noStrike">
              <a:solidFill>
                <a:srgbClr val="000000"/>
              </a:solidFill>
              <a:latin typeface="Calibri"/>
            </a:endParaRPr>
          </a:p>
          <a:p>
            <a:pPr indent="0">
              <a:lnSpc>
                <a:spcPct val="80000"/>
              </a:lnSpc>
              <a:buNone/>
              <a:tabLst>
                <a:tab algn="l" pos="0"/>
              </a:tabLst>
            </a:pPr>
            <a:endParaRPr b="0" lang="en-US" sz="520" spc="-1" strike="noStrike">
              <a:solidFill>
                <a:srgbClr val="000000"/>
              </a:solidFill>
              <a:latin typeface="Calibri"/>
            </a:endParaRPr>
          </a:p>
          <a:p>
            <a:pPr indent="0">
              <a:lnSpc>
                <a:spcPct val="80000"/>
              </a:lnSpc>
              <a:buNone/>
              <a:tabLst>
                <a:tab algn="l" pos="0"/>
              </a:tabLst>
            </a:pPr>
            <a:endParaRPr b="0" lang="en-US" sz="520" spc="-1" strike="noStrike">
              <a:solidFill>
                <a:srgbClr val="000000"/>
              </a:solidFill>
              <a:latin typeface="Calibri"/>
            </a:endParaRPr>
          </a:p>
          <a:p>
            <a:pPr indent="0">
              <a:lnSpc>
                <a:spcPct val="80000"/>
              </a:lnSpc>
              <a:buNone/>
              <a:tabLst>
                <a:tab algn="l" pos="0"/>
              </a:tabLst>
            </a:pPr>
            <a:endParaRPr b="0" lang="en-US" sz="520" spc="-1" strike="noStrike">
              <a:solidFill>
                <a:srgbClr val="000000"/>
              </a:solidFill>
              <a:latin typeface="Calibri"/>
            </a:endParaRPr>
          </a:p>
          <a:p>
            <a:pPr indent="0">
              <a:lnSpc>
                <a:spcPct val="80000"/>
              </a:lnSpc>
              <a:spcBef>
                <a:spcPts val="224"/>
              </a:spcBef>
              <a:buNone/>
              <a:tabLst>
                <a:tab algn="l" pos="0"/>
              </a:tabLst>
            </a:pPr>
            <a:r>
              <a:rPr b="1" lang="zh-CN" sz="1130" spc="-1" strike="noStrike">
                <a:solidFill>
                  <a:srgbClr val="ededed"/>
                </a:solidFill>
                <a:latin typeface="Calibri"/>
              </a:rPr>
              <a:t>栏目推荐：</a:t>
            </a:r>
            <a:endParaRPr b="0" lang="en-US" sz="1130" spc="-1" strike="noStrike">
              <a:solidFill>
                <a:srgbClr val="000000"/>
              </a:solidFill>
              <a:latin typeface="Calibri"/>
            </a:endParaRPr>
          </a:p>
          <a:p>
            <a:pPr indent="0">
              <a:lnSpc>
                <a:spcPct val="80000"/>
              </a:lnSpc>
              <a:spcBef>
                <a:spcPts val="224"/>
              </a:spcBef>
              <a:buNone/>
              <a:tabLst>
                <a:tab algn="l" pos="0"/>
              </a:tabLst>
            </a:pPr>
            <a:endParaRPr b="0" lang="en-US" sz="113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3"/>
              </a:rPr>
              <a:t>幻灯片模板下载</a:t>
            </a:r>
            <a:r>
              <a:rPr b="0" lang="en-US" sz="980" spc="-1" strike="noStrike">
                <a:solidFill>
                  <a:srgbClr val="ededed"/>
                </a:solidFill>
                <a:latin typeface="Calibri"/>
              </a:rPr>
              <a:t>  </a:t>
            </a:r>
            <a:r>
              <a:rPr b="0" lang="en-US" sz="980" spc="-1" strike="noStrike">
                <a:solidFill>
                  <a:srgbClr val="ededed"/>
                </a:solidFill>
                <a:latin typeface="Calibri"/>
              </a:rPr>
              <a:t>http://www.eeppt.com/                      </a:t>
            </a:r>
            <a:r>
              <a:rPr b="0" lang="en-US" sz="980" spc="-1" strike="noStrike" u="sng">
                <a:solidFill>
                  <a:srgbClr val="0000ff"/>
                </a:solidFill>
                <a:uFillTx/>
                <a:latin typeface="Calibri"/>
                <a:hlinkClick r:id="rId4"/>
              </a:rPr>
              <a:t>ppt背景图片素材</a:t>
            </a:r>
            <a:r>
              <a:rPr b="0" lang="en-US" sz="980" spc="-1" strike="noStrike">
                <a:solidFill>
                  <a:srgbClr val="ededed"/>
                </a:solidFill>
                <a:latin typeface="Calibri"/>
              </a:rPr>
              <a:t>  </a:t>
            </a:r>
            <a:r>
              <a:rPr b="0" lang="en-US" sz="980" spc="-1" strike="noStrike">
                <a:solidFill>
                  <a:srgbClr val="ededed"/>
                </a:solidFill>
                <a:latin typeface="Calibri"/>
              </a:rPr>
              <a:t>http://www.eeppt.com/beijing/</a:t>
            </a:r>
            <a:endParaRPr b="0" lang="en-US" sz="980" spc="-1" strike="noStrike">
              <a:solidFill>
                <a:srgbClr val="000000"/>
              </a:solidFill>
              <a:latin typeface="Calibri"/>
            </a:endParaRPr>
          </a:p>
          <a:p>
            <a:pPr indent="0">
              <a:lnSpc>
                <a:spcPct val="80000"/>
              </a:lnSpc>
              <a:spcBef>
                <a:spcPts val="196"/>
              </a:spcBef>
              <a:buNone/>
              <a:tabLst>
                <a:tab algn="l" pos="0"/>
              </a:tabLst>
            </a:pPr>
            <a:r>
              <a:rPr b="0" lang="en-US" sz="980" spc="-1" strike="noStrike" u="sng">
                <a:solidFill>
                  <a:srgbClr val="0000ff"/>
                </a:solidFill>
                <a:uFillTx/>
                <a:latin typeface="Calibri"/>
                <a:hlinkClick r:id="rId5"/>
              </a:rPr>
              <a:t>ppt动态模板</a:t>
            </a:r>
            <a:r>
              <a:rPr b="0" lang="en-US" sz="980" spc="-1" strike="noStrike">
                <a:solidFill>
                  <a:srgbClr val="ededed"/>
                </a:solidFill>
                <a:latin typeface="Calibri"/>
              </a:rPr>
              <a:t>  </a:t>
            </a:r>
            <a:r>
              <a:rPr b="0" lang="en-US" sz="980" spc="-1" strike="noStrike">
                <a:solidFill>
                  <a:srgbClr val="ededed"/>
                </a:solidFill>
                <a:latin typeface="Calibri"/>
              </a:rPr>
              <a:t>http://www.eeppt.com/dongtai/              </a:t>
            </a:r>
            <a:r>
              <a:rPr b="0" lang="zh-CN" sz="980" spc="-1" strike="noStrike" u="sng">
                <a:solidFill>
                  <a:srgbClr val="0000ff"/>
                </a:solidFill>
                <a:uFillTx/>
                <a:latin typeface="Calibri"/>
                <a:hlinkClick r:id="rId6"/>
              </a:rPr>
              <a:t>通用ppt模板下载</a:t>
            </a:r>
            <a:r>
              <a:rPr b="0" lang="en-US" sz="980" spc="-1" strike="noStrike">
                <a:solidFill>
                  <a:srgbClr val="ededed"/>
                </a:solidFill>
                <a:latin typeface="Calibri"/>
              </a:rPr>
              <a:t>  </a:t>
            </a:r>
            <a:r>
              <a:rPr b="0" lang="en-US" sz="980" spc="-1" strike="noStrike">
                <a:solidFill>
                  <a:srgbClr val="ededed"/>
                </a:solidFill>
                <a:latin typeface="Calibri"/>
              </a:rPr>
              <a:t>http://www.eeppt.com/moban/tongyong/  </a:t>
            </a:r>
            <a:endParaRPr b="0" lang="en-US" sz="980" spc="-1" strike="noStrike">
              <a:solidFill>
                <a:srgbClr val="000000"/>
              </a:solidFill>
              <a:latin typeface="Calibri"/>
            </a:endParaRPr>
          </a:p>
          <a:p>
            <a:pPr indent="0">
              <a:lnSpc>
                <a:spcPct val="80000"/>
              </a:lnSpc>
              <a:spcBef>
                <a:spcPts val="196"/>
              </a:spcBef>
              <a:buNone/>
              <a:tabLst>
                <a:tab algn="l" pos="0"/>
              </a:tabLst>
            </a:pPr>
            <a:r>
              <a:rPr b="0" lang="en-US" sz="980" spc="-1" strike="noStrike" u="sng">
                <a:solidFill>
                  <a:srgbClr val="0000ff"/>
                </a:solidFill>
                <a:uFillTx/>
                <a:latin typeface="Calibri"/>
                <a:hlinkClick r:id="rId7"/>
              </a:rPr>
              <a:t>ppt 模板</a:t>
            </a:r>
            <a:r>
              <a:rPr b="0" lang="en-US" sz="980" spc="-1" strike="noStrike">
                <a:solidFill>
                  <a:srgbClr val="ededed"/>
                </a:solidFill>
                <a:latin typeface="Calibri"/>
              </a:rPr>
              <a:t>  </a:t>
            </a:r>
            <a:r>
              <a:rPr b="0" lang="en-US" sz="980" spc="-1" strike="noStrike">
                <a:solidFill>
                  <a:srgbClr val="ededed"/>
                </a:solidFill>
                <a:latin typeface="Calibri"/>
              </a:rPr>
              <a:t>http://www.eeppt.com/moban/                       </a:t>
            </a:r>
            <a:r>
              <a:rPr b="0" lang="en-US" sz="980" spc="-1" strike="noStrike" u="sng">
                <a:solidFill>
                  <a:srgbClr val="0000ff"/>
                </a:solidFill>
                <a:uFillTx/>
                <a:latin typeface="Calibri"/>
                <a:hlinkClick r:id="rId8"/>
              </a:rPr>
              <a:t>ppt设计模板下载</a:t>
            </a:r>
            <a:r>
              <a:rPr b="0" lang="en-US" sz="980" spc="-1" strike="noStrike">
                <a:solidFill>
                  <a:srgbClr val="ededed"/>
                </a:solidFill>
                <a:latin typeface="Calibri"/>
              </a:rPr>
              <a:t>  </a:t>
            </a:r>
            <a:r>
              <a:rPr b="0" lang="en-US" sz="980" spc="-1" strike="noStrike">
                <a:solidFill>
                  <a:srgbClr val="ededed"/>
                </a:solidFill>
                <a:latin typeface="Calibri"/>
              </a:rPr>
              <a:t>http://www.eeppt.com/moban/chuangyi/   </a:t>
            </a:r>
            <a:endParaRPr b="0" lang="en-US" sz="980" spc="-1" strike="noStrike">
              <a:solidFill>
                <a:srgbClr val="000000"/>
              </a:solidFill>
              <a:latin typeface="Calibri"/>
            </a:endParaRPr>
          </a:p>
          <a:p>
            <a:pPr indent="0">
              <a:lnSpc>
                <a:spcPct val="80000"/>
              </a:lnSpc>
              <a:spcBef>
                <a:spcPts val="196"/>
              </a:spcBef>
              <a:buNone/>
              <a:tabLst>
                <a:tab algn="l" pos="0"/>
              </a:tabLst>
            </a:pPr>
            <a:r>
              <a:rPr b="0" lang="en-US" sz="980" spc="-1" strike="noStrike" u="sng">
                <a:solidFill>
                  <a:srgbClr val="0000ff"/>
                </a:solidFill>
                <a:uFillTx/>
                <a:latin typeface="Calibri"/>
                <a:hlinkClick r:id="rId9"/>
              </a:rPr>
              <a:t>ppt模板素材</a:t>
            </a:r>
            <a:r>
              <a:rPr b="0" lang="en-US" sz="980" spc="-1" strike="noStrike">
                <a:solidFill>
                  <a:srgbClr val="ededed"/>
                </a:solidFill>
                <a:latin typeface="Calibri"/>
              </a:rPr>
              <a:t>  </a:t>
            </a:r>
            <a:r>
              <a:rPr b="0" lang="en-US" sz="980" spc="-1" strike="noStrike">
                <a:solidFill>
                  <a:srgbClr val="ededed"/>
                </a:solidFill>
                <a:latin typeface="Calibri"/>
              </a:rPr>
              <a:t>http://www.eeppt.com/sucai/                   </a:t>
            </a:r>
            <a:r>
              <a:rPr b="0" lang="zh-CN" sz="980" spc="-1" strike="noStrike" u="sng">
                <a:solidFill>
                  <a:srgbClr val="0000ff"/>
                </a:solidFill>
                <a:uFillTx/>
                <a:latin typeface="Calibri"/>
                <a:hlinkClick r:id="rId10"/>
              </a:rPr>
              <a:t>毕业答辩ppt模板下载</a:t>
            </a:r>
            <a:r>
              <a:rPr b="0" lang="en-US" sz="980" spc="-1" strike="noStrike">
                <a:solidFill>
                  <a:srgbClr val="ededed"/>
                </a:solidFill>
                <a:latin typeface="Calibri"/>
              </a:rPr>
              <a:t>  </a:t>
            </a:r>
            <a:r>
              <a:rPr b="0" lang="en-US" sz="980" spc="-1" strike="noStrike">
                <a:solidFill>
                  <a:srgbClr val="ededed"/>
                </a:solidFill>
                <a:latin typeface="Calibri"/>
              </a:rPr>
              <a:t>http://www.eeppt.com/moban/dabian/</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11"/>
              </a:rPr>
              <a:t>企业文化ppt模板</a:t>
            </a:r>
            <a:r>
              <a:rPr b="0" lang="en-US" sz="980" spc="-1" strike="noStrike">
                <a:solidFill>
                  <a:srgbClr val="ededed"/>
                </a:solidFill>
                <a:latin typeface="Calibri"/>
              </a:rPr>
              <a:t>  </a:t>
            </a:r>
            <a:r>
              <a:rPr b="0" lang="en-US" sz="980" spc="-1" strike="noStrike">
                <a:solidFill>
                  <a:srgbClr val="ededed"/>
                </a:solidFill>
                <a:latin typeface="Calibri"/>
              </a:rPr>
              <a:t>http://www.eeppt.com/moban/qiye/</a:t>
            </a:r>
            <a:r>
              <a:rPr b="0" lang="zh-CN" sz="980" spc="-1" strike="noStrike" u="sng">
                <a:solidFill>
                  <a:srgbClr val="0000ff"/>
                </a:solidFill>
                <a:uFillTx/>
                <a:latin typeface="Calibri"/>
                <a:hlinkClick r:id="rId12"/>
              </a:rPr>
              <a:t>月工作总结ppt模板</a:t>
            </a:r>
            <a:r>
              <a:rPr b="0" lang="en-US" sz="980" spc="-1" strike="noStrike">
                <a:solidFill>
                  <a:srgbClr val="ededed"/>
                </a:solidFill>
                <a:latin typeface="Calibri"/>
              </a:rPr>
              <a:t>  </a:t>
            </a:r>
            <a:r>
              <a:rPr b="0" lang="en-US" sz="980" spc="-1" strike="noStrike">
                <a:solidFill>
                  <a:srgbClr val="ededed"/>
                </a:solidFill>
                <a:latin typeface="Calibri"/>
              </a:rPr>
              <a:t>http://www.eeppt.com/moban/gongzuo/   </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13"/>
              </a:rPr>
              <a:t>商务ppt模板</a:t>
            </a:r>
            <a:r>
              <a:rPr b="0" lang="en-US" sz="980" spc="-1" strike="noStrike">
                <a:solidFill>
                  <a:srgbClr val="ededed"/>
                </a:solidFill>
                <a:latin typeface="Calibri"/>
              </a:rPr>
              <a:t>  </a:t>
            </a:r>
            <a:r>
              <a:rPr b="0" lang="en-US" sz="980" spc="-1" strike="noStrike">
                <a:solidFill>
                  <a:srgbClr val="ededed"/>
                </a:solidFill>
                <a:latin typeface="Calibri"/>
              </a:rPr>
              <a:t>http://www.eeppt.com/moban/shangwu/  </a:t>
            </a:r>
            <a:r>
              <a:rPr b="0" lang="zh-CN" sz="980" spc="-1" strike="noStrike" u="sng">
                <a:solidFill>
                  <a:srgbClr val="0000ff"/>
                </a:solidFill>
                <a:uFillTx/>
                <a:latin typeface="Calibri"/>
                <a:hlinkClick r:id="rId14"/>
              </a:rPr>
              <a:t>精品ppt模板下载</a:t>
            </a:r>
            <a:r>
              <a:rPr b="0" lang="en-US" sz="980" spc="-1" strike="noStrike">
                <a:solidFill>
                  <a:srgbClr val="ededed"/>
                </a:solidFill>
                <a:latin typeface="Calibri"/>
              </a:rPr>
              <a:t>  </a:t>
            </a:r>
            <a:r>
              <a:rPr b="0" lang="en-US" sz="980" spc="-1" strike="noStrike">
                <a:solidFill>
                  <a:srgbClr val="ededed"/>
                </a:solidFill>
                <a:latin typeface="Calibri"/>
              </a:rPr>
              <a:t>http://www.eeppt.com/moban/jingpin/ </a:t>
            </a:r>
            <a:endParaRPr b="0" lang="en-US" sz="980" spc="-1" strike="noStrike">
              <a:solidFill>
                <a:srgbClr val="000000"/>
              </a:solidFill>
              <a:latin typeface="Calibri"/>
            </a:endParaRPr>
          </a:p>
          <a:p>
            <a:pPr indent="0">
              <a:lnSpc>
                <a:spcPct val="80000"/>
              </a:lnSpc>
              <a:spcBef>
                <a:spcPts val="196"/>
              </a:spcBef>
              <a:buNone/>
              <a:tabLst>
                <a:tab algn="l" pos="0"/>
              </a:tabLst>
            </a:pPr>
            <a:r>
              <a:rPr b="0" lang="en-US" sz="980" spc="-1" strike="noStrike" u="sng">
                <a:solidFill>
                  <a:srgbClr val="0000ff"/>
                </a:solidFill>
                <a:uFillTx/>
                <a:latin typeface="Calibri"/>
                <a:hlinkClick r:id="rId15"/>
              </a:rPr>
              <a:t>ppt课件模板</a:t>
            </a:r>
            <a:r>
              <a:rPr b="0" lang="en-US" sz="980" spc="-1" strike="noStrike">
                <a:solidFill>
                  <a:srgbClr val="ededed"/>
                </a:solidFill>
                <a:latin typeface="Calibri"/>
              </a:rPr>
              <a:t>  </a:t>
            </a:r>
            <a:r>
              <a:rPr b="0" lang="en-US" sz="980" spc="-1" strike="noStrike">
                <a:solidFill>
                  <a:srgbClr val="ededed"/>
                </a:solidFill>
                <a:latin typeface="Calibri"/>
              </a:rPr>
              <a:t>http://www.eeppt.com/moban/kejian/       </a:t>
            </a:r>
            <a:r>
              <a:rPr b="0" lang="zh-CN" sz="980" spc="-1" strike="noStrike" u="sng">
                <a:solidFill>
                  <a:srgbClr val="0000ff"/>
                </a:solidFill>
                <a:uFillTx/>
                <a:latin typeface="Calibri"/>
                <a:hlinkClick r:id="rId16"/>
              </a:rPr>
              <a:t>中国风ppt模板</a:t>
            </a:r>
            <a:r>
              <a:rPr b="0" lang="en-US" sz="980" spc="-1" strike="noStrike">
                <a:solidFill>
                  <a:srgbClr val="ededed"/>
                </a:solidFill>
                <a:latin typeface="Calibri"/>
              </a:rPr>
              <a:t>  </a:t>
            </a:r>
            <a:r>
              <a:rPr b="0" lang="en-US" sz="980" spc="-1" strike="noStrike">
                <a:solidFill>
                  <a:srgbClr val="ededed"/>
                </a:solidFill>
                <a:latin typeface="Calibri"/>
              </a:rPr>
              <a:t>http://www.eeppt.com/moban/zhongguofeng/ </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17"/>
              </a:rPr>
              <a:t>活动策划方案ppt</a:t>
            </a:r>
            <a:r>
              <a:rPr b="0" lang="en-US" sz="980" spc="-1" strike="noStrike">
                <a:solidFill>
                  <a:srgbClr val="ededed"/>
                </a:solidFill>
                <a:latin typeface="Calibri"/>
              </a:rPr>
              <a:t>  </a:t>
            </a:r>
            <a:r>
              <a:rPr b="0" lang="en-US" sz="980" spc="-1" strike="noStrike">
                <a:solidFill>
                  <a:srgbClr val="ededed"/>
                </a:solidFill>
                <a:latin typeface="Calibri"/>
              </a:rPr>
              <a:t>http://www.eeppt.com/moban/yingxiao/   </a:t>
            </a:r>
            <a:r>
              <a:rPr b="0" lang="en-US" sz="980" spc="-1" strike="noStrike" u="sng">
                <a:solidFill>
                  <a:srgbClr val="0000ff"/>
                </a:solidFill>
                <a:uFillTx/>
                <a:latin typeface="Calibri"/>
                <a:hlinkClick r:id="rId18"/>
              </a:rPr>
              <a:t>ppt免费下载</a:t>
            </a:r>
            <a:r>
              <a:rPr b="0" lang="en-US" sz="980" spc="-1" strike="noStrike">
                <a:solidFill>
                  <a:srgbClr val="ededed"/>
                </a:solidFill>
                <a:latin typeface="Calibri"/>
              </a:rPr>
              <a:t>  </a:t>
            </a:r>
            <a:r>
              <a:rPr b="0" lang="en-US" sz="980" spc="-1" strike="noStrike">
                <a:solidFill>
                  <a:srgbClr val="ededed"/>
                </a:solidFill>
                <a:latin typeface="Calibri"/>
              </a:rPr>
              <a:t>http://www.eeppt.com/moban/mianfei/</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19"/>
              </a:rPr>
              <a:t>工业制造ppt模板</a:t>
            </a:r>
            <a:r>
              <a:rPr b="0" lang="en-US" sz="980" spc="-1" strike="noStrike">
                <a:solidFill>
                  <a:srgbClr val="ededed"/>
                </a:solidFill>
                <a:latin typeface="Calibri"/>
              </a:rPr>
              <a:t>  </a:t>
            </a:r>
            <a:r>
              <a:rPr b="0" lang="en-US" sz="980" spc="-1" strike="noStrike">
                <a:solidFill>
                  <a:srgbClr val="ededed"/>
                </a:solidFill>
                <a:latin typeface="Calibri"/>
              </a:rPr>
              <a:t>http://www.eeppt.com/moban/gongye/   </a:t>
            </a:r>
            <a:r>
              <a:rPr b="0" lang="zh-CN" sz="980" spc="-1" strike="noStrike" u="sng">
                <a:solidFill>
                  <a:srgbClr val="0000ff"/>
                </a:solidFill>
                <a:uFillTx/>
                <a:latin typeface="Calibri"/>
                <a:hlinkClick r:id="rId20"/>
              </a:rPr>
              <a:t>会议报告ppt模板</a:t>
            </a:r>
            <a:r>
              <a:rPr b="0" lang="en-US" sz="980" spc="-1" strike="noStrike">
                <a:solidFill>
                  <a:srgbClr val="ededed"/>
                </a:solidFill>
                <a:latin typeface="Calibri"/>
              </a:rPr>
              <a:t>  </a:t>
            </a:r>
            <a:r>
              <a:rPr b="0" lang="en-US" sz="980" spc="-1" strike="noStrike">
                <a:solidFill>
                  <a:srgbClr val="ededed"/>
                </a:solidFill>
                <a:latin typeface="Calibri"/>
              </a:rPr>
              <a:t>http://www.eeppt.com/moban/huiyi/</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21"/>
              </a:rPr>
              <a:t>交通安全ppt模板</a:t>
            </a:r>
            <a:r>
              <a:rPr b="0" lang="en-US" sz="980" spc="-1" strike="noStrike">
                <a:solidFill>
                  <a:srgbClr val="ededed"/>
                </a:solidFill>
                <a:latin typeface="Calibri"/>
              </a:rPr>
              <a:t>  </a:t>
            </a:r>
            <a:r>
              <a:rPr b="0" lang="en-US" sz="980" spc="-1" strike="noStrike">
                <a:solidFill>
                  <a:srgbClr val="ededed"/>
                </a:solidFill>
                <a:latin typeface="Calibri"/>
              </a:rPr>
              <a:t>http://www.eeppt.com/moban/jiaotong/   </a:t>
            </a:r>
            <a:r>
              <a:rPr b="0" lang="zh-CN" sz="980" spc="-1" strike="noStrike" u="sng">
                <a:solidFill>
                  <a:srgbClr val="0000ff"/>
                </a:solidFill>
                <a:uFillTx/>
                <a:latin typeface="Calibri"/>
                <a:hlinkClick r:id="rId22"/>
              </a:rPr>
              <a:t>教育培训ppt模板</a:t>
            </a:r>
            <a:r>
              <a:rPr b="0" lang="en-US" sz="980" spc="-1" strike="noStrike">
                <a:solidFill>
                  <a:srgbClr val="ededed"/>
                </a:solidFill>
                <a:latin typeface="Calibri"/>
              </a:rPr>
              <a:t>  </a:t>
            </a:r>
            <a:r>
              <a:rPr b="0" lang="en-US" sz="980" spc="-1" strike="noStrike">
                <a:solidFill>
                  <a:srgbClr val="ededed"/>
                </a:solidFill>
                <a:latin typeface="Calibri"/>
              </a:rPr>
              <a:t>http://www.eeppt.com/moban/jiaoyu/</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23"/>
              </a:rPr>
              <a:t>卡通动漫ppt模板</a:t>
            </a:r>
            <a:r>
              <a:rPr b="0" lang="en-US" sz="980" spc="-1" strike="noStrike">
                <a:solidFill>
                  <a:srgbClr val="ededed"/>
                </a:solidFill>
                <a:latin typeface="Calibri"/>
              </a:rPr>
              <a:t>  </a:t>
            </a:r>
            <a:r>
              <a:rPr b="0" lang="en-US" sz="980" spc="-1" strike="noStrike">
                <a:solidFill>
                  <a:srgbClr val="ededed"/>
                </a:solidFill>
                <a:latin typeface="Calibri"/>
              </a:rPr>
              <a:t>http://www.eeppt.com/moban/katong/   </a:t>
            </a:r>
            <a:r>
              <a:rPr b="0" lang="zh-CN" sz="980" spc="-1" strike="noStrike" u="sng">
                <a:solidFill>
                  <a:srgbClr val="0000ff"/>
                </a:solidFill>
                <a:uFillTx/>
                <a:latin typeface="Calibri"/>
                <a:hlinkClick r:id="rId24"/>
              </a:rPr>
              <a:t>体育运动ppt模板</a:t>
            </a:r>
            <a:r>
              <a:rPr b="0" lang="en-US" sz="980" spc="-1" strike="noStrike">
                <a:solidFill>
                  <a:srgbClr val="ededed"/>
                </a:solidFill>
                <a:latin typeface="Calibri"/>
              </a:rPr>
              <a:t>  </a:t>
            </a:r>
            <a:r>
              <a:rPr b="0" lang="en-US" sz="980" spc="-1" strike="noStrike">
                <a:solidFill>
                  <a:srgbClr val="ededed"/>
                </a:solidFill>
                <a:latin typeface="Calibri"/>
              </a:rPr>
              <a:t>http://www.eeppt.com/moban/yundong/</a:t>
            </a:r>
            <a:endParaRPr b="0" lang="en-US" sz="980" spc="-1" strike="noStrike">
              <a:solidFill>
                <a:srgbClr val="000000"/>
              </a:solidFill>
              <a:latin typeface="Calibri"/>
            </a:endParaRPr>
          </a:p>
          <a:p>
            <a:pPr indent="0">
              <a:lnSpc>
                <a:spcPct val="80000"/>
              </a:lnSpc>
              <a:spcBef>
                <a:spcPts val="196"/>
              </a:spcBef>
              <a:buNone/>
              <a:tabLst>
                <a:tab algn="l" pos="0"/>
              </a:tabLst>
            </a:pPr>
            <a:endParaRPr b="0" lang="en-US" sz="980" spc="-1" strike="noStrike">
              <a:solidFill>
                <a:srgbClr val="000000"/>
              </a:solidFill>
              <a:latin typeface="Calibri"/>
            </a:endParaRPr>
          </a:p>
          <a:p>
            <a:pPr indent="0">
              <a:lnSpc>
                <a:spcPct val="80000"/>
              </a:lnSpc>
              <a:spcBef>
                <a:spcPts val="196"/>
              </a:spcBef>
              <a:buNone/>
              <a:tabLst>
                <a:tab algn="l" pos="0"/>
              </a:tabLst>
            </a:pPr>
            <a:endParaRPr b="0" lang="en-US" sz="980" spc="-1" strike="noStrike">
              <a:solidFill>
                <a:srgbClr val="000000"/>
              </a:solidFill>
              <a:latin typeface="Calibri"/>
            </a:endParaRPr>
          </a:p>
          <a:p>
            <a:pPr indent="0">
              <a:lnSpc>
                <a:spcPct val="80000"/>
              </a:lnSpc>
              <a:spcBef>
                <a:spcPts val="181"/>
              </a:spcBef>
              <a:buNone/>
              <a:tabLst>
                <a:tab algn="l" pos="0"/>
              </a:tabLst>
            </a:pPr>
            <a:endParaRPr b="0" lang="en-US" sz="90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p:txBody>
      </p:sp>
      <p:sp>
        <p:nvSpPr>
          <p:cNvPr id="651" name="Rectangle 7"/>
          <p:cNvSpPr/>
          <p:nvPr/>
        </p:nvSpPr>
        <p:spPr>
          <a:xfrm>
            <a:off x="6607800" y="535680"/>
            <a:ext cx="1041480" cy="261720"/>
          </a:xfrm>
          <a:prstGeom prst="rect">
            <a:avLst/>
          </a:prstGeom>
          <a:gradFill rotWithShape="0">
            <a:gsLst>
              <a:gs pos="0">
                <a:srgbClr val="ffffff"/>
              </a:gs>
              <a:gs pos="100000">
                <a:srgbClr val="dddddd"/>
              </a:gs>
            </a:gsLst>
            <a:lin ang="0"/>
          </a:gradFill>
          <a:ln w="9525">
            <a:solidFill>
              <a:srgbClr val="969696"/>
            </a:solidFill>
            <a:prstDash val="dash"/>
            <a:miter/>
          </a:ln>
        </p:spPr>
        <p:style>
          <a:lnRef idx="0"/>
          <a:fillRef idx="0"/>
          <a:effectRef idx="0"/>
          <a:fontRef idx="minor"/>
        </p:style>
        <p:txBody>
          <a:bodyPr wrap="none" lIns="90000" rIns="90000" tIns="45000" bIns="45000" anchor="ctr">
            <a:noAutofit/>
          </a:bodyPr>
          <a:p>
            <a:pPr algn="ctr">
              <a:lnSpc>
                <a:spcPct val="100000"/>
              </a:lnSpc>
            </a:pPr>
            <a:r>
              <a:rPr b="1" lang="en-US" sz="1050" spc="-1" strike="noStrike">
                <a:solidFill>
                  <a:srgbClr val="000000"/>
                </a:solidFill>
                <a:latin typeface="Arial"/>
                <a:ea typeface="宋体"/>
              </a:rPr>
              <a:t>www.eeppt.com</a:t>
            </a:r>
            <a:endParaRPr b="0" lang="en-US" sz="105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3"/>
          <p:cNvSpPr/>
          <p:nvPr/>
        </p:nvSpPr>
        <p:spPr>
          <a:xfrm>
            <a:off x="553680" y="4302720"/>
            <a:ext cx="398484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4400" spc="-1" strike="noStrike">
                <a:solidFill>
                  <a:srgbClr val="ffffff"/>
                </a:solidFill>
                <a:latin typeface="微软雅黑"/>
                <a:ea typeface="微软雅黑"/>
              </a:rPr>
              <a:t>POWERPOINT</a:t>
            </a:r>
            <a:endParaRPr b="0" lang="en-US" sz="4400" spc="-1" strike="noStrike">
              <a:solidFill>
                <a:srgbClr val="ffffff"/>
              </a:solidFill>
              <a:latin typeface="Arial"/>
            </a:endParaRPr>
          </a:p>
        </p:txBody>
      </p:sp>
      <p:sp>
        <p:nvSpPr>
          <p:cNvPr id="87" name="TextBox 4"/>
          <p:cNvSpPr/>
          <p:nvPr/>
        </p:nvSpPr>
        <p:spPr>
          <a:xfrm>
            <a:off x="875160" y="3516840"/>
            <a:ext cx="152208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400" spc="-1" strike="noStrike">
                <a:solidFill>
                  <a:srgbClr val="ffff00"/>
                </a:solidFill>
                <a:latin typeface="微软雅黑"/>
                <a:ea typeface="微软雅黑"/>
              </a:rPr>
              <a:t>添加标题</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1"/>
          <p:cNvSpPr/>
          <p:nvPr/>
        </p:nvSpPr>
        <p:spPr>
          <a:xfrm>
            <a:off x="435960" y="19116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ffff00"/>
                </a:solidFill>
                <a:latin typeface="微软雅黑"/>
                <a:ea typeface="微软雅黑"/>
              </a:rPr>
              <a:t>添加目录</a:t>
            </a:r>
            <a:endParaRPr b="0" lang="en-US" sz="2800" spc="-1" strike="noStrike">
              <a:solidFill>
                <a:srgbClr val="ffffff"/>
              </a:solidFill>
              <a:latin typeface="Arial"/>
            </a:endParaRPr>
          </a:p>
        </p:txBody>
      </p:sp>
      <p:grpSp>
        <p:nvGrpSpPr>
          <p:cNvPr id="89" name="组合 24"/>
          <p:cNvGrpSpPr/>
          <p:nvPr/>
        </p:nvGrpSpPr>
        <p:grpSpPr>
          <a:xfrm>
            <a:off x="714240" y="1528200"/>
            <a:ext cx="7822800" cy="3114720"/>
            <a:chOff x="714240" y="1528200"/>
            <a:chExt cx="7822800" cy="3114720"/>
          </a:xfrm>
        </p:grpSpPr>
        <p:sp>
          <p:nvSpPr>
            <p:cNvPr id="90" name="Rectangle 42"/>
            <p:cNvSpPr/>
            <p:nvPr/>
          </p:nvSpPr>
          <p:spPr>
            <a:xfrm>
              <a:off x="714240" y="1528200"/>
              <a:ext cx="3843720" cy="1146240"/>
            </a:xfrm>
            <a:prstGeom prst="round2SameRect">
              <a:avLst>
                <a:gd name="adj1" fmla="val 16667"/>
                <a:gd name="adj2" fmla="val 0"/>
              </a:avLst>
            </a:prstGeom>
            <a:gradFill rotWithShape="0">
              <a:gsLst>
                <a:gs pos="0">
                  <a:srgbClr val="fff898"/>
                </a:gs>
                <a:gs pos="100000">
                  <a:srgbClr val="ffffff">
                    <a:alpha val="0"/>
                  </a:srgbClr>
                </a:gs>
              </a:gsLst>
              <a:lin ang="5400000"/>
            </a:gradFill>
            <a:ln w="9525">
              <a:noFill/>
            </a:ln>
          </p:spPr>
          <p:style>
            <a:lnRef idx="0"/>
            <a:fillRef idx="0"/>
            <a:effectRef idx="0"/>
            <a:fontRef idx="minor"/>
          </p:style>
          <p:txBody>
            <a:bodyPr lIns="45720" rIns="27360" tIns="18360" bIns="18360" anchor="t">
              <a:noAutofit/>
            </a:bodyPr>
            <a:p>
              <a:pPr marL="111240" indent="-111240" algn="ctr">
                <a:lnSpc>
                  <a:spcPct val="85000"/>
                </a:lnSpc>
                <a:spcBef>
                  <a:spcPts val="201"/>
                </a:spcBef>
                <a:tabLst>
                  <a:tab algn="l" pos="0"/>
                </a:tabLst>
              </a:pPr>
              <a:r>
                <a:rPr b="0" lang="en-US" sz="2800" spc="-1" strike="noStrike">
                  <a:solidFill>
                    <a:srgbClr val="000000"/>
                  </a:solidFill>
                  <a:latin typeface="Arial Narrow"/>
                </a:rPr>
                <a:t>Concept 1</a:t>
              </a:r>
              <a:endParaRPr b="0" lang="en-US" sz="2800" spc="-1" strike="noStrike">
                <a:solidFill>
                  <a:srgbClr val="000000"/>
                </a:solidFill>
                <a:latin typeface="Arial"/>
              </a:endParaRPr>
            </a:p>
          </p:txBody>
        </p:sp>
        <p:sp>
          <p:nvSpPr>
            <p:cNvPr id="91" name="Rectangle 42"/>
            <p:cNvSpPr/>
            <p:nvPr/>
          </p:nvSpPr>
          <p:spPr>
            <a:xfrm>
              <a:off x="4693320" y="1528200"/>
              <a:ext cx="3843720" cy="1146240"/>
            </a:xfrm>
            <a:prstGeom prst="round2SameRect">
              <a:avLst>
                <a:gd name="adj1" fmla="val 16667"/>
                <a:gd name="adj2" fmla="val 0"/>
              </a:avLst>
            </a:prstGeom>
            <a:gradFill rotWithShape="0">
              <a:gsLst>
                <a:gs pos="0">
                  <a:srgbClr val="fff898"/>
                </a:gs>
                <a:gs pos="100000">
                  <a:srgbClr val="ffffff">
                    <a:alpha val="0"/>
                  </a:srgbClr>
                </a:gs>
              </a:gsLst>
              <a:lin ang="5400000"/>
            </a:gradFill>
            <a:ln w="9525">
              <a:noFill/>
            </a:ln>
          </p:spPr>
          <p:style>
            <a:lnRef idx="0"/>
            <a:fillRef idx="0"/>
            <a:effectRef idx="0"/>
            <a:fontRef idx="minor"/>
          </p:style>
          <p:txBody>
            <a:bodyPr lIns="45720" rIns="27360" tIns="18360" bIns="18360" anchor="t">
              <a:noAutofit/>
            </a:bodyPr>
            <a:p>
              <a:pPr marL="111240" indent="-111240" algn="ctr">
                <a:lnSpc>
                  <a:spcPct val="85000"/>
                </a:lnSpc>
                <a:spcBef>
                  <a:spcPts val="201"/>
                </a:spcBef>
                <a:tabLst>
                  <a:tab algn="l" pos="0"/>
                </a:tabLst>
              </a:pPr>
              <a:r>
                <a:rPr b="0" lang="en-US" sz="2800" spc="-1" strike="noStrike">
                  <a:solidFill>
                    <a:srgbClr val="000000"/>
                  </a:solidFill>
                  <a:latin typeface="Arial Narrow"/>
                </a:rPr>
                <a:t>Concept 2</a:t>
              </a:r>
              <a:endParaRPr b="0" lang="en-US" sz="2800" spc="-1" strike="noStrike">
                <a:solidFill>
                  <a:srgbClr val="000000"/>
                </a:solidFill>
                <a:latin typeface="Arial"/>
              </a:endParaRPr>
            </a:p>
          </p:txBody>
        </p:sp>
        <p:grpSp>
          <p:nvGrpSpPr>
            <p:cNvPr id="92" name="Group 4"/>
            <p:cNvGrpSpPr/>
            <p:nvPr/>
          </p:nvGrpSpPr>
          <p:grpSpPr>
            <a:xfrm>
              <a:off x="2600280" y="2202840"/>
              <a:ext cx="4050360" cy="1618200"/>
              <a:chOff x="2600280" y="2202840"/>
              <a:chExt cx="4050360" cy="1618200"/>
            </a:xfrm>
          </p:grpSpPr>
          <p:sp>
            <p:nvSpPr>
              <p:cNvPr id="93" name="Freeform 5"/>
              <p:cNvSpPr/>
              <p:nvPr/>
            </p:nvSpPr>
            <p:spPr>
              <a:xfrm rot="16200000">
                <a:off x="3295800" y="1506960"/>
                <a:ext cx="973080" cy="2364480"/>
              </a:xfrm>
              <a:custGeom>
                <a:avLst/>
                <a:gdLst>
                  <a:gd name="textAreaLeft" fmla="*/ 0 w 973080"/>
                  <a:gd name="textAreaRight" fmla="*/ 973440 w 973080"/>
                  <a:gd name="textAreaTop" fmla="*/ 0 h 2364480"/>
                  <a:gd name="textAreaBottom" fmla="*/ 2364840 h 2364480"/>
                </a:gdLst>
                <a:ahLst/>
                <a:rect l="textAreaLeft" t="textAreaTop" r="textAreaRight" b="textAreaBottom"/>
                <a:pathLst>
                  <a:path w="1038" h="2522">
                    <a:moveTo>
                      <a:pt x="1038" y="330"/>
                    </a:moveTo>
                    <a:lnTo>
                      <a:pt x="1038" y="328"/>
                    </a:lnTo>
                    <a:lnTo>
                      <a:pt x="518" y="0"/>
                    </a:lnTo>
                    <a:lnTo>
                      <a:pt x="0" y="328"/>
                    </a:lnTo>
                    <a:lnTo>
                      <a:pt x="0" y="330"/>
                    </a:lnTo>
                    <a:lnTo>
                      <a:pt x="268" y="330"/>
                    </a:lnTo>
                    <a:lnTo>
                      <a:pt x="268" y="2196"/>
                    </a:lnTo>
                    <a:lnTo>
                      <a:pt x="268" y="2196"/>
                    </a:lnTo>
                    <a:lnTo>
                      <a:pt x="268" y="2210"/>
                    </a:lnTo>
                    <a:lnTo>
                      <a:pt x="267" y="2247"/>
                    </a:lnTo>
                    <a:lnTo>
                      <a:pt x="265" y="2272"/>
                    </a:lnTo>
                    <a:lnTo>
                      <a:pt x="262" y="2300"/>
                    </a:lnTo>
                    <a:lnTo>
                      <a:pt x="256" y="2329"/>
                    </a:lnTo>
                    <a:lnTo>
                      <a:pt x="249" y="2360"/>
                    </a:lnTo>
                    <a:lnTo>
                      <a:pt x="240" y="2389"/>
                    </a:lnTo>
                    <a:lnTo>
                      <a:pt x="234" y="2404"/>
                    </a:lnTo>
                    <a:lnTo>
                      <a:pt x="228" y="2419"/>
                    </a:lnTo>
                    <a:lnTo>
                      <a:pt x="221" y="2433"/>
                    </a:lnTo>
                    <a:lnTo>
                      <a:pt x="213" y="2447"/>
                    </a:lnTo>
                    <a:lnTo>
                      <a:pt x="205" y="2459"/>
                    </a:lnTo>
                    <a:lnTo>
                      <a:pt x="196" y="2472"/>
                    </a:lnTo>
                    <a:lnTo>
                      <a:pt x="187" y="2482"/>
                    </a:lnTo>
                    <a:lnTo>
                      <a:pt x="176" y="2493"/>
                    </a:lnTo>
                    <a:lnTo>
                      <a:pt x="164" y="2502"/>
                    </a:lnTo>
                    <a:lnTo>
                      <a:pt x="151" y="2509"/>
                    </a:lnTo>
                    <a:lnTo>
                      <a:pt x="138" y="2514"/>
                    </a:lnTo>
                    <a:lnTo>
                      <a:pt x="124" y="2519"/>
                    </a:lnTo>
                    <a:lnTo>
                      <a:pt x="108" y="2521"/>
                    </a:lnTo>
                    <a:lnTo>
                      <a:pt x="92" y="2522"/>
                    </a:lnTo>
                    <a:lnTo>
                      <a:pt x="592" y="2522"/>
                    </a:lnTo>
                    <a:lnTo>
                      <a:pt x="592" y="2522"/>
                    </a:lnTo>
                    <a:lnTo>
                      <a:pt x="608" y="2521"/>
                    </a:lnTo>
                    <a:lnTo>
                      <a:pt x="624" y="2519"/>
                    </a:lnTo>
                    <a:lnTo>
                      <a:pt x="639" y="2514"/>
                    </a:lnTo>
                    <a:lnTo>
                      <a:pt x="652" y="2509"/>
                    </a:lnTo>
                    <a:lnTo>
                      <a:pt x="664" y="2502"/>
                    </a:lnTo>
                    <a:lnTo>
                      <a:pt x="677" y="2493"/>
                    </a:lnTo>
                    <a:lnTo>
                      <a:pt x="687" y="2482"/>
                    </a:lnTo>
                    <a:lnTo>
                      <a:pt x="697" y="2472"/>
                    </a:lnTo>
                    <a:lnTo>
                      <a:pt x="705" y="2459"/>
                    </a:lnTo>
                    <a:lnTo>
                      <a:pt x="715" y="2447"/>
                    </a:lnTo>
                    <a:lnTo>
                      <a:pt x="721" y="2433"/>
                    </a:lnTo>
                    <a:lnTo>
                      <a:pt x="728" y="2419"/>
                    </a:lnTo>
                    <a:lnTo>
                      <a:pt x="734" y="2404"/>
                    </a:lnTo>
                    <a:lnTo>
                      <a:pt x="740" y="2389"/>
                    </a:lnTo>
                    <a:lnTo>
                      <a:pt x="749" y="2360"/>
                    </a:lnTo>
                    <a:lnTo>
                      <a:pt x="756" y="2329"/>
                    </a:lnTo>
                    <a:lnTo>
                      <a:pt x="762" y="2300"/>
                    </a:lnTo>
                    <a:lnTo>
                      <a:pt x="765" y="2272"/>
                    </a:lnTo>
                    <a:lnTo>
                      <a:pt x="767" y="2247"/>
                    </a:lnTo>
                    <a:lnTo>
                      <a:pt x="770" y="2210"/>
                    </a:lnTo>
                    <a:lnTo>
                      <a:pt x="770" y="2196"/>
                    </a:lnTo>
                    <a:lnTo>
                      <a:pt x="770" y="330"/>
                    </a:lnTo>
                    <a:lnTo>
                      <a:pt x="1038" y="330"/>
                    </a:lnTo>
                    <a:close/>
                  </a:path>
                </a:pathLst>
              </a:custGeom>
              <a:gradFill rotWithShape="0">
                <a:gsLst>
                  <a:gs pos="0">
                    <a:srgbClr val="ebe374"/>
                  </a:gs>
                  <a:gs pos="100000">
                    <a:srgbClr val="d3cb50"/>
                  </a:gs>
                </a:gsLst>
                <a:lin ang="5400000"/>
              </a:gra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 name="Freeform 6"/>
              <p:cNvSpPr/>
              <p:nvPr/>
            </p:nvSpPr>
            <p:spPr>
              <a:xfrm rot="16200000">
                <a:off x="4239360" y="2677320"/>
                <a:ext cx="775080" cy="675720"/>
              </a:xfrm>
              <a:custGeom>
                <a:avLst/>
                <a:gdLst>
                  <a:gd name="textAreaLeft" fmla="*/ 0 w 775080"/>
                  <a:gd name="textAreaRight" fmla="*/ 775440 w 775080"/>
                  <a:gd name="textAreaTop" fmla="*/ 0 h 675720"/>
                  <a:gd name="textAreaBottom" fmla="*/ 676080 h 675720"/>
                </a:gdLst>
                <a:ahLst/>
                <a:rect l="textAreaLeft" t="textAreaTop" r="textAreaRight" b="textAreaBottom"/>
                <a:pathLst>
                  <a:path w="827" h="721">
                    <a:moveTo>
                      <a:pt x="327" y="721"/>
                    </a:moveTo>
                    <a:lnTo>
                      <a:pt x="327" y="721"/>
                    </a:lnTo>
                    <a:lnTo>
                      <a:pt x="310" y="720"/>
                    </a:lnTo>
                    <a:lnTo>
                      <a:pt x="295" y="718"/>
                    </a:lnTo>
                    <a:lnTo>
                      <a:pt x="280" y="713"/>
                    </a:lnTo>
                    <a:lnTo>
                      <a:pt x="266" y="708"/>
                    </a:lnTo>
                    <a:lnTo>
                      <a:pt x="255" y="700"/>
                    </a:lnTo>
                    <a:lnTo>
                      <a:pt x="243" y="691"/>
                    </a:lnTo>
                    <a:lnTo>
                      <a:pt x="233" y="680"/>
                    </a:lnTo>
                    <a:lnTo>
                      <a:pt x="224" y="669"/>
                    </a:lnTo>
                    <a:lnTo>
                      <a:pt x="215" y="656"/>
                    </a:lnTo>
                    <a:lnTo>
                      <a:pt x="208" y="642"/>
                    </a:lnTo>
                    <a:lnTo>
                      <a:pt x="201" y="629"/>
                    </a:lnTo>
                    <a:lnTo>
                      <a:pt x="194" y="614"/>
                    </a:lnTo>
                    <a:lnTo>
                      <a:pt x="189" y="599"/>
                    </a:lnTo>
                    <a:lnTo>
                      <a:pt x="185" y="584"/>
                    </a:lnTo>
                    <a:lnTo>
                      <a:pt x="177" y="552"/>
                    </a:lnTo>
                    <a:lnTo>
                      <a:pt x="171" y="520"/>
                    </a:lnTo>
                    <a:lnTo>
                      <a:pt x="168" y="489"/>
                    </a:lnTo>
                    <a:lnTo>
                      <a:pt x="165" y="460"/>
                    </a:lnTo>
                    <a:lnTo>
                      <a:pt x="164" y="435"/>
                    </a:lnTo>
                    <a:lnTo>
                      <a:pt x="165" y="396"/>
                    </a:lnTo>
                    <a:lnTo>
                      <a:pt x="165" y="382"/>
                    </a:lnTo>
                    <a:lnTo>
                      <a:pt x="165" y="382"/>
                    </a:lnTo>
                    <a:lnTo>
                      <a:pt x="166" y="365"/>
                    </a:lnTo>
                    <a:lnTo>
                      <a:pt x="166" y="322"/>
                    </a:lnTo>
                    <a:lnTo>
                      <a:pt x="165" y="294"/>
                    </a:lnTo>
                    <a:lnTo>
                      <a:pt x="163" y="261"/>
                    </a:lnTo>
                    <a:lnTo>
                      <a:pt x="160" y="226"/>
                    </a:lnTo>
                    <a:lnTo>
                      <a:pt x="155" y="192"/>
                    </a:lnTo>
                    <a:lnTo>
                      <a:pt x="147" y="156"/>
                    </a:lnTo>
                    <a:lnTo>
                      <a:pt x="142" y="138"/>
                    </a:lnTo>
                    <a:lnTo>
                      <a:pt x="137" y="122"/>
                    </a:lnTo>
                    <a:lnTo>
                      <a:pt x="130" y="104"/>
                    </a:lnTo>
                    <a:lnTo>
                      <a:pt x="123" y="88"/>
                    </a:lnTo>
                    <a:lnTo>
                      <a:pt x="115" y="73"/>
                    </a:lnTo>
                    <a:lnTo>
                      <a:pt x="107" y="60"/>
                    </a:lnTo>
                    <a:lnTo>
                      <a:pt x="96" y="47"/>
                    </a:lnTo>
                    <a:lnTo>
                      <a:pt x="86" y="36"/>
                    </a:lnTo>
                    <a:lnTo>
                      <a:pt x="75" y="25"/>
                    </a:lnTo>
                    <a:lnTo>
                      <a:pt x="62" y="17"/>
                    </a:lnTo>
                    <a:lnTo>
                      <a:pt x="48" y="10"/>
                    </a:lnTo>
                    <a:lnTo>
                      <a:pt x="33" y="5"/>
                    </a:lnTo>
                    <a:lnTo>
                      <a:pt x="17" y="1"/>
                    </a:lnTo>
                    <a:lnTo>
                      <a:pt x="0" y="0"/>
                    </a:lnTo>
                    <a:lnTo>
                      <a:pt x="501" y="0"/>
                    </a:lnTo>
                    <a:lnTo>
                      <a:pt x="501" y="0"/>
                    </a:lnTo>
                    <a:lnTo>
                      <a:pt x="518" y="1"/>
                    </a:lnTo>
                    <a:lnTo>
                      <a:pt x="535" y="5"/>
                    </a:lnTo>
                    <a:lnTo>
                      <a:pt x="549" y="10"/>
                    </a:lnTo>
                    <a:lnTo>
                      <a:pt x="562" y="17"/>
                    </a:lnTo>
                    <a:lnTo>
                      <a:pt x="575" y="25"/>
                    </a:lnTo>
                    <a:lnTo>
                      <a:pt x="587" y="36"/>
                    </a:lnTo>
                    <a:lnTo>
                      <a:pt x="598" y="47"/>
                    </a:lnTo>
                    <a:lnTo>
                      <a:pt x="607" y="60"/>
                    </a:lnTo>
                    <a:lnTo>
                      <a:pt x="616" y="73"/>
                    </a:lnTo>
                    <a:lnTo>
                      <a:pt x="624" y="88"/>
                    </a:lnTo>
                    <a:lnTo>
                      <a:pt x="631" y="104"/>
                    </a:lnTo>
                    <a:lnTo>
                      <a:pt x="637" y="122"/>
                    </a:lnTo>
                    <a:lnTo>
                      <a:pt x="642" y="138"/>
                    </a:lnTo>
                    <a:lnTo>
                      <a:pt x="647" y="156"/>
                    </a:lnTo>
                    <a:lnTo>
                      <a:pt x="655" y="192"/>
                    </a:lnTo>
                    <a:lnTo>
                      <a:pt x="661" y="226"/>
                    </a:lnTo>
                    <a:lnTo>
                      <a:pt x="664" y="261"/>
                    </a:lnTo>
                    <a:lnTo>
                      <a:pt x="665" y="294"/>
                    </a:lnTo>
                    <a:lnTo>
                      <a:pt x="666" y="322"/>
                    </a:lnTo>
                    <a:lnTo>
                      <a:pt x="666" y="365"/>
                    </a:lnTo>
                    <a:lnTo>
                      <a:pt x="665" y="382"/>
                    </a:lnTo>
                    <a:lnTo>
                      <a:pt x="665" y="382"/>
                    </a:lnTo>
                    <a:lnTo>
                      <a:pt x="665" y="396"/>
                    </a:lnTo>
                    <a:lnTo>
                      <a:pt x="665" y="435"/>
                    </a:lnTo>
                    <a:lnTo>
                      <a:pt x="666" y="460"/>
                    </a:lnTo>
                    <a:lnTo>
                      <a:pt x="668" y="489"/>
                    </a:lnTo>
                    <a:lnTo>
                      <a:pt x="672" y="520"/>
                    </a:lnTo>
                    <a:lnTo>
                      <a:pt x="677" y="552"/>
                    </a:lnTo>
                    <a:lnTo>
                      <a:pt x="685" y="584"/>
                    </a:lnTo>
                    <a:lnTo>
                      <a:pt x="689" y="599"/>
                    </a:lnTo>
                    <a:lnTo>
                      <a:pt x="695" y="614"/>
                    </a:lnTo>
                    <a:lnTo>
                      <a:pt x="701" y="629"/>
                    </a:lnTo>
                    <a:lnTo>
                      <a:pt x="708" y="642"/>
                    </a:lnTo>
                    <a:lnTo>
                      <a:pt x="716" y="656"/>
                    </a:lnTo>
                    <a:lnTo>
                      <a:pt x="724" y="669"/>
                    </a:lnTo>
                    <a:lnTo>
                      <a:pt x="733" y="680"/>
                    </a:lnTo>
                    <a:lnTo>
                      <a:pt x="743" y="691"/>
                    </a:lnTo>
                    <a:lnTo>
                      <a:pt x="755" y="700"/>
                    </a:lnTo>
                    <a:lnTo>
                      <a:pt x="767" y="708"/>
                    </a:lnTo>
                    <a:lnTo>
                      <a:pt x="780" y="713"/>
                    </a:lnTo>
                    <a:lnTo>
                      <a:pt x="795" y="718"/>
                    </a:lnTo>
                    <a:lnTo>
                      <a:pt x="810" y="720"/>
                    </a:lnTo>
                    <a:lnTo>
                      <a:pt x="827" y="721"/>
                    </a:lnTo>
                    <a:lnTo>
                      <a:pt x="327" y="721"/>
                    </a:lnTo>
                    <a:close/>
                  </a:path>
                </a:pathLst>
              </a:custGeom>
              <a:gradFill rotWithShape="0">
                <a:gsLst>
                  <a:gs pos="0">
                    <a:srgbClr val="544f0d"/>
                  </a:gs>
                  <a:gs pos="100000">
                    <a:srgbClr val="a09728"/>
                  </a:gs>
                </a:gsLst>
                <a:lin ang="5400000"/>
              </a:gra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 name="Freeform 7"/>
              <p:cNvSpPr/>
              <p:nvPr/>
            </p:nvSpPr>
            <p:spPr>
              <a:xfrm rot="16200000">
                <a:off x="4983840" y="2154240"/>
                <a:ext cx="972000" cy="2361600"/>
              </a:xfrm>
              <a:custGeom>
                <a:avLst/>
                <a:gdLst>
                  <a:gd name="textAreaLeft" fmla="*/ 0 w 972000"/>
                  <a:gd name="textAreaRight" fmla="*/ 972360 w 972000"/>
                  <a:gd name="textAreaTop" fmla="*/ 0 h 2361600"/>
                  <a:gd name="textAreaBottom" fmla="*/ 2361960 h 2361600"/>
                </a:gdLst>
                <a:ahLst/>
                <a:rect l="textAreaLeft" t="textAreaTop" r="textAreaRight" b="textAreaBottom"/>
                <a:pathLst>
                  <a:path w="1037" h="2519">
                    <a:moveTo>
                      <a:pt x="771" y="2187"/>
                    </a:moveTo>
                    <a:lnTo>
                      <a:pt x="771" y="395"/>
                    </a:lnTo>
                    <a:lnTo>
                      <a:pt x="771" y="395"/>
                    </a:lnTo>
                    <a:lnTo>
                      <a:pt x="770" y="379"/>
                    </a:lnTo>
                    <a:lnTo>
                      <a:pt x="771" y="334"/>
                    </a:lnTo>
                    <a:lnTo>
                      <a:pt x="772" y="304"/>
                    </a:lnTo>
                    <a:lnTo>
                      <a:pt x="775" y="271"/>
                    </a:lnTo>
                    <a:lnTo>
                      <a:pt x="780" y="235"/>
                    </a:lnTo>
                    <a:lnTo>
                      <a:pt x="786" y="197"/>
                    </a:lnTo>
                    <a:lnTo>
                      <a:pt x="795" y="161"/>
                    </a:lnTo>
                    <a:lnTo>
                      <a:pt x="799" y="143"/>
                    </a:lnTo>
                    <a:lnTo>
                      <a:pt x="806" y="125"/>
                    </a:lnTo>
                    <a:lnTo>
                      <a:pt x="812" y="108"/>
                    </a:lnTo>
                    <a:lnTo>
                      <a:pt x="820" y="92"/>
                    </a:lnTo>
                    <a:lnTo>
                      <a:pt x="828" y="77"/>
                    </a:lnTo>
                    <a:lnTo>
                      <a:pt x="837" y="62"/>
                    </a:lnTo>
                    <a:lnTo>
                      <a:pt x="846" y="49"/>
                    </a:lnTo>
                    <a:lnTo>
                      <a:pt x="858" y="37"/>
                    </a:lnTo>
                    <a:lnTo>
                      <a:pt x="869" y="26"/>
                    </a:lnTo>
                    <a:lnTo>
                      <a:pt x="882" y="17"/>
                    </a:lnTo>
                    <a:lnTo>
                      <a:pt x="897" y="10"/>
                    </a:lnTo>
                    <a:lnTo>
                      <a:pt x="912" y="5"/>
                    </a:lnTo>
                    <a:lnTo>
                      <a:pt x="928" y="1"/>
                    </a:lnTo>
                    <a:lnTo>
                      <a:pt x="945" y="0"/>
                    </a:lnTo>
                    <a:lnTo>
                      <a:pt x="444" y="0"/>
                    </a:lnTo>
                    <a:lnTo>
                      <a:pt x="444" y="0"/>
                    </a:lnTo>
                    <a:lnTo>
                      <a:pt x="427" y="1"/>
                    </a:lnTo>
                    <a:lnTo>
                      <a:pt x="411" y="5"/>
                    </a:lnTo>
                    <a:lnTo>
                      <a:pt x="396" y="10"/>
                    </a:lnTo>
                    <a:lnTo>
                      <a:pt x="382" y="17"/>
                    </a:lnTo>
                    <a:lnTo>
                      <a:pt x="369" y="26"/>
                    </a:lnTo>
                    <a:lnTo>
                      <a:pt x="358" y="37"/>
                    </a:lnTo>
                    <a:lnTo>
                      <a:pt x="346" y="49"/>
                    </a:lnTo>
                    <a:lnTo>
                      <a:pt x="337" y="62"/>
                    </a:lnTo>
                    <a:lnTo>
                      <a:pt x="328" y="77"/>
                    </a:lnTo>
                    <a:lnTo>
                      <a:pt x="320" y="92"/>
                    </a:lnTo>
                    <a:lnTo>
                      <a:pt x="312" y="108"/>
                    </a:lnTo>
                    <a:lnTo>
                      <a:pt x="305" y="125"/>
                    </a:lnTo>
                    <a:lnTo>
                      <a:pt x="299" y="143"/>
                    </a:lnTo>
                    <a:lnTo>
                      <a:pt x="295" y="161"/>
                    </a:lnTo>
                    <a:lnTo>
                      <a:pt x="286" y="197"/>
                    </a:lnTo>
                    <a:lnTo>
                      <a:pt x="280" y="235"/>
                    </a:lnTo>
                    <a:lnTo>
                      <a:pt x="275" y="271"/>
                    </a:lnTo>
                    <a:lnTo>
                      <a:pt x="272" y="304"/>
                    </a:lnTo>
                    <a:lnTo>
                      <a:pt x="271" y="334"/>
                    </a:lnTo>
                    <a:lnTo>
                      <a:pt x="270" y="379"/>
                    </a:lnTo>
                    <a:lnTo>
                      <a:pt x="270" y="395"/>
                    </a:lnTo>
                    <a:lnTo>
                      <a:pt x="270" y="2187"/>
                    </a:lnTo>
                    <a:lnTo>
                      <a:pt x="0" y="2187"/>
                    </a:lnTo>
                    <a:lnTo>
                      <a:pt x="0" y="2191"/>
                    </a:lnTo>
                    <a:lnTo>
                      <a:pt x="518" y="2519"/>
                    </a:lnTo>
                    <a:lnTo>
                      <a:pt x="1037" y="2191"/>
                    </a:lnTo>
                    <a:lnTo>
                      <a:pt x="1037" y="2187"/>
                    </a:lnTo>
                    <a:lnTo>
                      <a:pt x="771" y="2187"/>
                    </a:lnTo>
                    <a:close/>
                  </a:path>
                </a:pathLst>
              </a:custGeom>
              <a:gradFill rotWithShape="0">
                <a:gsLst>
                  <a:gs pos="0">
                    <a:srgbClr val="ded560"/>
                  </a:gs>
                  <a:gs pos="100000">
                    <a:srgbClr val="aca327"/>
                  </a:gs>
                </a:gsLst>
                <a:lin ang="5400000"/>
              </a:gra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96" name="Group 49"/>
            <p:cNvGrpSpPr/>
            <p:nvPr/>
          </p:nvGrpSpPr>
          <p:grpSpPr>
            <a:xfrm>
              <a:off x="781920" y="2054520"/>
              <a:ext cx="1753560" cy="1870560"/>
              <a:chOff x="781920" y="2054520"/>
              <a:chExt cx="1753560" cy="1870560"/>
            </a:xfrm>
          </p:grpSpPr>
          <p:sp>
            <p:nvSpPr>
              <p:cNvPr id="97" name="Freeform 8"/>
              <p:cNvSpPr/>
              <p:nvPr/>
            </p:nvSpPr>
            <p:spPr>
              <a:xfrm>
                <a:off x="781920" y="2054520"/>
                <a:ext cx="1753560" cy="743400"/>
              </a:xfrm>
              <a:custGeom>
                <a:avLst/>
                <a:gdLst>
                  <a:gd name="textAreaLeft" fmla="*/ 0 w 1753560"/>
                  <a:gd name="textAreaRight" fmla="*/ 1753920 w 1753560"/>
                  <a:gd name="textAreaTop" fmla="*/ 0 h 743400"/>
                  <a:gd name="textAreaBottom" fmla="*/ 743760 h 74340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98" name="Freeform 9"/>
              <p:cNvSpPr/>
              <p:nvPr/>
            </p:nvSpPr>
            <p:spPr>
              <a:xfrm>
                <a:off x="781920" y="2426400"/>
                <a:ext cx="876600" cy="1498680"/>
              </a:xfrm>
              <a:custGeom>
                <a:avLst/>
                <a:gdLst>
                  <a:gd name="textAreaLeft" fmla="*/ 0 w 876600"/>
                  <a:gd name="textAreaRight" fmla="*/ 876960 w 876600"/>
                  <a:gd name="textAreaTop" fmla="*/ 0 h 1498680"/>
                  <a:gd name="textAreaBottom" fmla="*/ 1499040 h 149868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99" name="Freeform 10"/>
              <p:cNvSpPr/>
              <p:nvPr/>
            </p:nvSpPr>
            <p:spPr>
              <a:xfrm>
                <a:off x="1658880" y="2426400"/>
                <a:ext cx="876600" cy="1498680"/>
              </a:xfrm>
              <a:custGeom>
                <a:avLst/>
                <a:gdLst>
                  <a:gd name="textAreaLeft" fmla="*/ 0 w 876600"/>
                  <a:gd name="textAreaRight" fmla="*/ 876960 w 876600"/>
                  <a:gd name="textAreaTop" fmla="*/ 0 h 1498680"/>
                  <a:gd name="textAreaBottom" fmla="*/ 1499040 h 149868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100" name="Group 49"/>
            <p:cNvGrpSpPr/>
            <p:nvPr/>
          </p:nvGrpSpPr>
          <p:grpSpPr>
            <a:xfrm>
              <a:off x="6715800" y="2054520"/>
              <a:ext cx="1753560" cy="1870560"/>
              <a:chOff x="6715800" y="2054520"/>
              <a:chExt cx="1753560" cy="1870560"/>
            </a:xfrm>
          </p:grpSpPr>
          <p:sp>
            <p:nvSpPr>
              <p:cNvPr id="101" name="Freeform 8"/>
              <p:cNvSpPr/>
              <p:nvPr/>
            </p:nvSpPr>
            <p:spPr>
              <a:xfrm>
                <a:off x="6715800" y="2054520"/>
                <a:ext cx="1753560" cy="743400"/>
              </a:xfrm>
              <a:custGeom>
                <a:avLst/>
                <a:gdLst>
                  <a:gd name="textAreaLeft" fmla="*/ 0 w 1753560"/>
                  <a:gd name="textAreaRight" fmla="*/ 1753920 w 1753560"/>
                  <a:gd name="textAreaTop" fmla="*/ 0 h 743400"/>
                  <a:gd name="textAreaBottom" fmla="*/ 743760 h 74340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102" name="Freeform 9"/>
              <p:cNvSpPr/>
              <p:nvPr/>
            </p:nvSpPr>
            <p:spPr>
              <a:xfrm>
                <a:off x="6715800" y="2426400"/>
                <a:ext cx="876600" cy="1498680"/>
              </a:xfrm>
              <a:custGeom>
                <a:avLst/>
                <a:gdLst>
                  <a:gd name="textAreaLeft" fmla="*/ 0 w 876600"/>
                  <a:gd name="textAreaRight" fmla="*/ 876960 w 876600"/>
                  <a:gd name="textAreaTop" fmla="*/ 0 h 1498680"/>
                  <a:gd name="textAreaBottom" fmla="*/ 1499040 h 149868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103" name="Freeform 10"/>
              <p:cNvSpPr/>
              <p:nvPr/>
            </p:nvSpPr>
            <p:spPr>
              <a:xfrm>
                <a:off x="7592760" y="2426400"/>
                <a:ext cx="876600" cy="1498680"/>
              </a:xfrm>
              <a:custGeom>
                <a:avLst/>
                <a:gdLst>
                  <a:gd name="textAreaLeft" fmla="*/ 0 w 876600"/>
                  <a:gd name="textAreaRight" fmla="*/ 876960 w 876600"/>
                  <a:gd name="textAreaTop" fmla="*/ 0 h 1498680"/>
                  <a:gd name="textAreaBottom" fmla="*/ 1499040 h 149868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sp>
          <p:nvSpPr>
            <p:cNvPr id="104" name="TextBox 16"/>
            <p:cNvSpPr/>
            <p:nvPr/>
          </p:nvSpPr>
          <p:spPr>
            <a:xfrm>
              <a:off x="6568560" y="2819520"/>
              <a:ext cx="1224360" cy="814680"/>
            </a:xfrm>
            <a:prstGeom prst="rect">
              <a:avLst/>
            </a:prstGeom>
            <a:noFill/>
            <a:ln w="0">
              <a:noFill/>
            </a:ln>
            <a:scene3d>
              <a:camera prst="orthographicFront">
                <a:rot lat="1566000" lon="2651530" rev="0"/>
              </a:camera>
              <a:lightRig dir="t" rig="threePt"/>
            </a:scene3d>
          </p:spPr>
          <p:style>
            <a:lnRef idx="0"/>
            <a:fillRef idx="0"/>
            <a:effectRef idx="0"/>
            <a:fontRef idx="minor"/>
          </p:style>
          <p:txBody>
            <a:bodyPr lIns="90000" rIns="90000" tIns="45000" bIns="45000" anchor="t">
              <a:spAutoFit/>
            </a:bodyPr>
            <a:p>
              <a:pPr algn="ctr">
                <a:lnSpc>
                  <a:spcPct val="85000"/>
                </a:lnSpc>
              </a:pPr>
              <a:r>
                <a:rPr b="0" lang="en-US" sz="2800" spc="-1" strike="noStrike">
                  <a:solidFill>
                    <a:srgbClr val="ffffff"/>
                  </a:solidFill>
                  <a:latin typeface="Arial Narrow"/>
                </a:rPr>
                <a:t>Element Two</a:t>
              </a:r>
              <a:endParaRPr b="0" lang="en-US" sz="2800" spc="-1" strike="noStrike">
                <a:solidFill>
                  <a:srgbClr val="ffffff"/>
                </a:solidFill>
                <a:latin typeface="Arial"/>
              </a:endParaRPr>
            </a:p>
          </p:txBody>
        </p:sp>
        <p:sp>
          <p:nvSpPr>
            <p:cNvPr id="105" name="TextBox 17"/>
            <p:cNvSpPr/>
            <p:nvPr/>
          </p:nvSpPr>
          <p:spPr>
            <a:xfrm>
              <a:off x="1546560" y="2798280"/>
              <a:ext cx="1176480" cy="814680"/>
            </a:xfrm>
            <a:prstGeom prst="rect">
              <a:avLst/>
            </a:prstGeom>
            <a:noFill/>
            <a:ln w="0">
              <a:noFill/>
            </a:ln>
            <a:scene3d>
              <a:camera prst="orthographicFront">
                <a:rot lat="1650000" lon="19076902" rev="0"/>
              </a:camera>
              <a:lightRig dir="t" rig="threePt"/>
            </a:scene3d>
          </p:spPr>
          <p:style>
            <a:lnRef idx="0"/>
            <a:fillRef idx="0"/>
            <a:effectRef idx="0"/>
            <a:fontRef idx="minor"/>
          </p:style>
          <p:txBody>
            <a:bodyPr lIns="90000" rIns="90000" tIns="45000" bIns="45000" anchor="t">
              <a:spAutoFit/>
            </a:bodyPr>
            <a:p>
              <a:pPr algn="ctr">
                <a:lnSpc>
                  <a:spcPct val="85000"/>
                </a:lnSpc>
              </a:pPr>
              <a:r>
                <a:rPr b="0" lang="en-US" sz="2800" spc="-1" strike="noStrike">
                  <a:solidFill>
                    <a:srgbClr val="ffffff"/>
                  </a:solidFill>
                  <a:latin typeface="Arial Narrow"/>
                </a:rPr>
                <a:t>Element One</a:t>
              </a:r>
              <a:endParaRPr b="0" lang="en-US" sz="2800" spc="-1" strike="noStrike">
                <a:solidFill>
                  <a:srgbClr val="ffffff"/>
                </a:solidFill>
                <a:latin typeface="Arial"/>
              </a:endParaRPr>
            </a:p>
          </p:txBody>
        </p:sp>
        <p:sp>
          <p:nvSpPr>
            <p:cNvPr id="106" name="Rectangle 31"/>
            <p:cNvSpPr/>
            <p:nvPr/>
          </p:nvSpPr>
          <p:spPr>
            <a:xfrm>
              <a:off x="781920" y="3937320"/>
              <a:ext cx="1706040" cy="705600"/>
            </a:xfrm>
            <a:prstGeom prst="rect">
              <a:avLst/>
            </a:prstGeom>
            <a:noFill/>
            <a:ln w="9525">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ffffff"/>
                </a:buClr>
                <a:buFont typeface="Symbol" charset="2"/>
                <a:buChar char=""/>
              </a:pPr>
              <a:r>
                <a:rPr b="0" lang="en-US" sz="1800" spc="-1" strike="noStrike">
                  <a:solidFill>
                    <a:srgbClr val="ffffff"/>
                  </a:solidFill>
                  <a:latin typeface="Arial Narrow"/>
                </a:rPr>
                <a:t>Place your text here</a:t>
              </a:r>
              <a:endParaRPr b="0" lang="en-US" sz="1800" spc="-1" strike="noStrike">
                <a:solidFill>
                  <a:srgbClr val="ffffff"/>
                </a:solidFill>
                <a:latin typeface="Arial"/>
              </a:endParaRPr>
            </a:p>
            <a:p>
              <a:pPr marL="111240" indent="-111240">
                <a:lnSpc>
                  <a:spcPct val="85000"/>
                </a:lnSpc>
                <a:spcBef>
                  <a:spcPts val="201"/>
                </a:spcBef>
                <a:buClr>
                  <a:srgbClr val="ffffff"/>
                </a:buClr>
                <a:buFont typeface="Symbol" charset="2"/>
                <a:buChar char=""/>
              </a:pPr>
              <a:r>
                <a:rPr b="0" lang="en-US" sz="1800" spc="-1" strike="noStrike">
                  <a:solidFill>
                    <a:srgbClr val="ffffff"/>
                  </a:solidFill>
                  <a:latin typeface="Arial Narrow"/>
                </a:rPr>
                <a:t>Sample text 2</a:t>
              </a:r>
              <a:endParaRPr b="0" lang="en-US" sz="1800" spc="-1" strike="noStrike">
                <a:solidFill>
                  <a:srgbClr val="ffffff"/>
                </a:solidFill>
                <a:latin typeface="Arial"/>
              </a:endParaRPr>
            </a:p>
            <a:p>
              <a:pPr marL="111240" indent="-111240">
                <a:lnSpc>
                  <a:spcPct val="85000"/>
                </a:lnSpc>
                <a:spcBef>
                  <a:spcPts val="201"/>
                </a:spcBef>
                <a:buClr>
                  <a:srgbClr val="ffffff"/>
                </a:buClr>
                <a:buFont typeface="Symbol" charset="2"/>
                <a:buChar char=""/>
              </a:pPr>
              <a:r>
                <a:rPr b="0" lang="en-US" sz="1800" spc="-1" strike="noStrike">
                  <a:solidFill>
                    <a:srgbClr val="ffffff"/>
                  </a:solidFill>
                  <a:latin typeface="Arial Narrow"/>
                </a:rPr>
                <a:t>More sample text</a:t>
              </a:r>
              <a:endParaRPr b="0" lang="en-US" sz="1800" spc="-1" strike="noStrike">
                <a:solidFill>
                  <a:srgbClr val="ffffff"/>
                </a:solidFill>
                <a:latin typeface="Arial"/>
              </a:endParaRPr>
            </a:p>
          </p:txBody>
        </p:sp>
        <p:sp>
          <p:nvSpPr>
            <p:cNvPr id="107" name="Rectangle 32"/>
            <p:cNvSpPr/>
            <p:nvPr/>
          </p:nvSpPr>
          <p:spPr>
            <a:xfrm>
              <a:off x="6715800" y="3937320"/>
              <a:ext cx="1706040" cy="705600"/>
            </a:xfrm>
            <a:prstGeom prst="rect">
              <a:avLst/>
            </a:prstGeom>
            <a:noFill/>
            <a:ln w="9525">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ffffff"/>
                </a:buClr>
                <a:buFont typeface="Symbol" charset="2"/>
                <a:buChar char=""/>
              </a:pPr>
              <a:r>
                <a:rPr b="0" lang="en-US" sz="1800" spc="-1" strike="noStrike">
                  <a:solidFill>
                    <a:srgbClr val="ffffff"/>
                  </a:solidFill>
                  <a:latin typeface="Arial Narrow"/>
                </a:rPr>
                <a:t>Place your text here</a:t>
              </a:r>
              <a:endParaRPr b="0" lang="en-US" sz="1800" spc="-1" strike="noStrike">
                <a:solidFill>
                  <a:srgbClr val="ffffff"/>
                </a:solidFill>
                <a:latin typeface="Arial"/>
              </a:endParaRPr>
            </a:p>
            <a:p>
              <a:pPr marL="111240" indent="-111240">
                <a:lnSpc>
                  <a:spcPct val="85000"/>
                </a:lnSpc>
                <a:spcBef>
                  <a:spcPts val="201"/>
                </a:spcBef>
                <a:buClr>
                  <a:srgbClr val="ffffff"/>
                </a:buClr>
                <a:buFont typeface="Symbol" charset="2"/>
                <a:buChar char=""/>
              </a:pPr>
              <a:r>
                <a:rPr b="0" lang="en-US" sz="1800" spc="-1" strike="noStrike">
                  <a:solidFill>
                    <a:srgbClr val="ffffff"/>
                  </a:solidFill>
                  <a:latin typeface="Arial Narrow"/>
                </a:rPr>
                <a:t>Sample text 2</a:t>
              </a:r>
              <a:endParaRPr b="0" lang="en-US" sz="1800" spc="-1" strike="noStrike">
                <a:solidFill>
                  <a:srgbClr val="ffffff"/>
                </a:solidFill>
                <a:latin typeface="Arial"/>
              </a:endParaRPr>
            </a:p>
            <a:p>
              <a:pPr marL="111240" indent="-111240">
                <a:lnSpc>
                  <a:spcPct val="85000"/>
                </a:lnSpc>
                <a:spcBef>
                  <a:spcPts val="201"/>
                </a:spcBef>
                <a:buClr>
                  <a:srgbClr val="ffffff"/>
                </a:buClr>
                <a:buFont typeface="Symbol" charset="2"/>
                <a:buChar char=""/>
              </a:pPr>
              <a:r>
                <a:rPr b="0" lang="en-US" sz="1800" spc="-1" strike="noStrike">
                  <a:solidFill>
                    <a:srgbClr val="ffffff"/>
                  </a:solidFill>
                  <a:latin typeface="Arial Narrow"/>
                </a:rPr>
                <a:t>More sample text</a:t>
              </a:r>
              <a:endParaRPr b="0" lang="en-US" sz="1800" spc="-1" strike="noStrike">
                <a:solidFill>
                  <a:srgbClr val="ffffff"/>
                </a:solidFill>
                <a:latin typeface="Arial"/>
              </a:endParaRPr>
            </a:p>
          </p:txBody>
        </p:sp>
        <p:sp>
          <p:nvSpPr>
            <p:cNvPr id="108" name="TextBox 20"/>
            <p:cNvSpPr/>
            <p:nvPr/>
          </p:nvSpPr>
          <p:spPr>
            <a:xfrm>
              <a:off x="4895280" y="3101760"/>
              <a:ext cx="1415880" cy="503640"/>
            </a:xfrm>
            <a:prstGeom prst="rect">
              <a:avLst/>
            </a:prstGeom>
            <a:noFill/>
            <a:ln w="0">
              <a:noFill/>
            </a:ln>
          </p:spPr>
          <p:style>
            <a:lnRef idx="0"/>
            <a:fillRef idx="0"/>
            <a:effectRef idx="0"/>
            <a:fontRef idx="minor"/>
          </p:style>
          <p:txBody>
            <a:bodyPr lIns="90000" rIns="90000" tIns="45000" bIns="45000" anchor="t">
              <a:spAutoFit/>
            </a:bodyPr>
            <a:p>
              <a:pPr algn="ctr">
                <a:lnSpc>
                  <a:spcPct val="85000"/>
                </a:lnSpc>
              </a:pPr>
              <a:r>
                <a:rPr b="0" lang="en-US" sz="3200" spc="-1" strike="noStrike">
                  <a:solidFill>
                    <a:srgbClr val="ffffff"/>
                  </a:solidFill>
                  <a:latin typeface="Arial Narrow"/>
                </a:rPr>
                <a:t>Swap</a:t>
              </a:r>
              <a:endParaRPr b="0" lang="en-US" sz="3200" spc="-1" strike="noStrike">
                <a:solidFill>
                  <a:srgbClr val="ffffff"/>
                </a:solidFill>
                <a:latin typeface="Arial"/>
              </a:endParaRPr>
            </a:p>
          </p:txBody>
        </p:sp>
        <p:sp>
          <p:nvSpPr>
            <p:cNvPr id="109" name="TextBox 21"/>
            <p:cNvSpPr/>
            <p:nvPr/>
          </p:nvSpPr>
          <p:spPr>
            <a:xfrm>
              <a:off x="2939760" y="2460960"/>
              <a:ext cx="1415880" cy="503640"/>
            </a:xfrm>
            <a:prstGeom prst="rect">
              <a:avLst/>
            </a:prstGeom>
            <a:noFill/>
            <a:ln w="0">
              <a:noFill/>
            </a:ln>
          </p:spPr>
          <p:style>
            <a:lnRef idx="0"/>
            <a:fillRef idx="0"/>
            <a:effectRef idx="0"/>
            <a:fontRef idx="minor"/>
          </p:style>
          <p:txBody>
            <a:bodyPr lIns="90000" rIns="90000" tIns="45000" bIns="45000" anchor="t">
              <a:spAutoFit/>
            </a:bodyPr>
            <a:p>
              <a:pPr algn="ctr">
                <a:lnSpc>
                  <a:spcPct val="85000"/>
                </a:lnSpc>
              </a:pPr>
              <a:r>
                <a:rPr b="0" lang="en-US" sz="3200" spc="-1" strike="noStrike">
                  <a:solidFill>
                    <a:srgbClr val="ffffff"/>
                  </a:solidFill>
                  <a:latin typeface="Arial Narrow"/>
                </a:rPr>
                <a:t>Swap</a:t>
              </a:r>
              <a:endParaRPr b="0" lang="en-US" sz="3200" spc="-1" strike="noStrike">
                <a:solidFill>
                  <a:srgbClr val="ffffff"/>
                </a:solidFill>
                <a:latin typeface="Arial"/>
              </a:endParaRPr>
            </a:p>
          </p:txBody>
        </p:sp>
        <p:sp>
          <p:nvSpPr>
            <p:cNvPr id="110" name="Rectangle 70"/>
            <p:cNvSpPr/>
            <p:nvPr/>
          </p:nvSpPr>
          <p:spPr>
            <a:xfrm>
              <a:off x="3187080" y="3753720"/>
              <a:ext cx="2854440" cy="876240"/>
            </a:xfrm>
            <a:prstGeom prst="rect">
              <a:avLst/>
            </a:prstGeom>
            <a:noFill/>
            <a:ln w="9525">
              <a:noFill/>
            </a:ln>
          </p:spPr>
          <p:style>
            <a:lnRef idx="0"/>
            <a:fillRef idx="0"/>
            <a:effectRef idx="0"/>
            <a:fontRef idx="minor"/>
          </p:style>
          <p:txBody>
            <a:bodyPr lIns="45720" rIns="27360" tIns="18360" bIns="18360" anchor="t">
              <a:noAutofit/>
            </a:bodyPr>
            <a:p>
              <a:pPr algn="ctr">
                <a:lnSpc>
                  <a:spcPct val="85000"/>
                </a:lnSpc>
                <a:spcBef>
                  <a:spcPts val="201"/>
                </a:spcBef>
              </a:pPr>
              <a:r>
                <a:rPr b="0" lang="en-US" sz="1800" spc="-1" strike="noStrike">
                  <a:solidFill>
                    <a:srgbClr val="000000"/>
                  </a:solidFill>
                  <a:latin typeface="Arial Narrow"/>
                </a:rPr>
                <a:t>Arrow Information</a:t>
              </a:r>
              <a:endParaRPr b="0" lang="en-US" sz="1800" spc="-1" strike="noStrike">
                <a:solidFill>
                  <a:srgbClr val="ffffff"/>
                </a:solidFill>
                <a:latin typeface="Arial"/>
              </a:endParaRPr>
            </a:p>
            <a:p>
              <a:pPr algn="ctr">
                <a:lnSpc>
                  <a:spcPct val="85000"/>
                </a:lnSpc>
                <a:spcBef>
                  <a:spcPts val="201"/>
                </a:spcBef>
                <a:tabLst>
                  <a:tab algn="l" pos="3319560"/>
                </a:tabLst>
              </a:pPr>
              <a:r>
                <a:rPr b="0" lang="en-US" sz="1600" spc="-1" strike="noStrike">
                  <a:solidFill>
                    <a:srgbClr val="bababa"/>
                  </a:solidFill>
                  <a:latin typeface="Arial Narrow"/>
                </a:rPr>
                <a:t>Place additional content here. Your content can be placed in this area. Place additional content here.</a:t>
              </a:r>
              <a:endParaRPr b="0" lang="en-US" sz="1600" spc="-1" strike="noStrike">
                <a:solidFill>
                  <a:srgbClr val="ffffff"/>
                </a:solidFill>
                <a:latin typeface="Arial"/>
              </a:endParaRPr>
            </a:p>
          </p:txBody>
        </p:sp>
        <p:cxnSp>
          <p:nvCxnSpPr>
            <p:cNvPr id="111" name="Straight Arrow Connector 39"/>
            <p:cNvCxnSpPr/>
            <p:nvPr/>
          </p:nvCxnSpPr>
          <p:spPr>
            <a:xfrm flipV="1">
              <a:off x="4625640" y="3476880"/>
              <a:ext cx="360" cy="238320"/>
            </a:xfrm>
            <a:prstGeom prst="straightConnector1">
              <a:avLst/>
            </a:prstGeom>
            <a:ln w="6350">
              <a:solidFill>
                <a:srgbClr val="000000"/>
              </a:solidFill>
              <a:round/>
              <a:tailEnd len="lg" type="oval" w="lg"/>
            </a:ln>
          </p:spPr>
        </p:cxn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Box 1"/>
          <p:cNvSpPr/>
          <p:nvPr/>
        </p:nvSpPr>
        <p:spPr>
          <a:xfrm>
            <a:off x="435960" y="19116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ffff00"/>
                </a:solidFill>
                <a:latin typeface="微软雅黑"/>
                <a:ea typeface="微软雅黑"/>
              </a:rPr>
              <a:t>添加目录</a:t>
            </a:r>
            <a:endParaRPr b="0" lang="en-US" sz="2800" spc="-1" strike="noStrike">
              <a:solidFill>
                <a:srgbClr val="ffffff"/>
              </a:solidFill>
              <a:latin typeface="Arial"/>
            </a:endParaRPr>
          </a:p>
        </p:txBody>
      </p:sp>
      <p:sp>
        <p:nvSpPr>
          <p:cNvPr id="113" name="Parallelogram 73"/>
          <p:cNvSpPr/>
          <p:nvPr/>
        </p:nvSpPr>
        <p:spPr>
          <a:xfrm>
            <a:off x="942840" y="3639960"/>
            <a:ext cx="2848680" cy="758520"/>
          </a:xfrm>
          <a:prstGeom prst="parallelogram">
            <a:avLst>
              <a:gd name="adj" fmla="val 216581"/>
            </a:avLst>
          </a:prstGeom>
          <a:solidFill>
            <a:srgbClr val="000000">
              <a:alpha val="20000"/>
            </a:srgbClr>
          </a:solidFill>
          <a:ln>
            <a:noFill/>
          </a:ln>
          <a:effectLst>
            <a:softEdge rad="165240"/>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4" name="Parallelogram 70"/>
          <p:cNvSpPr/>
          <p:nvPr/>
        </p:nvSpPr>
        <p:spPr>
          <a:xfrm flipH="1">
            <a:off x="5589360" y="3639960"/>
            <a:ext cx="2848680" cy="758520"/>
          </a:xfrm>
          <a:prstGeom prst="parallelogram">
            <a:avLst>
              <a:gd name="adj" fmla="val 216581"/>
            </a:avLst>
          </a:prstGeom>
          <a:solidFill>
            <a:srgbClr val="000000">
              <a:alpha val="20000"/>
            </a:srgbClr>
          </a:solidFill>
          <a:ln>
            <a:noFill/>
          </a:ln>
          <a:effectLst>
            <a:softEdge rad="165240"/>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5" name="Parallelogram 71"/>
          <p:cNvSpPr/>
          <p:nvPr/>
        </p:nvSpPr>
        <p:spPr>
          <a:xfrm>
            <a:off x="2729160" y="3639960"/>
            <a:ext cx="1611000" cy="758520"/>
          </a:xfrm>
          <a:prstGeom prst="parallelogram">
            <a:avLst>
              <a:gd name="adj" fmla="val 110427"/>
            </a:avLst>
          </a:prstGeom>
          <a:solidFill>
            <a:srgbClr val="000000">
              <a:alpha val="20000"/>
            </a:srgbClr>
          </a:solidFill>
          <a:ln>
            <a:noFill/>
          </a:ln>
          <a:effectLst>
            <a:softEdge rad="165240"/>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6" name="Parallelogram 72"/>
          <p:cNvSpPr/>
          <p:nvPr/>
        </p:nvSpPr>
        <p:spPr>
          <a:xfrm flipH="1">
            <a:off x="5075640" y="3639960"/>
            <a:ext cx="1611000" cy="758520"/>
          </a:xfrm>
          <a:prstGeom prst="parallelogram">
            <a:avLst>
              <a:gd name="adj" fmla="val 110427"/>
            </a:avLst>
          </a:prstGeom>
          <a:solidFill>
            <a:srgbClr val="000000">
              <a:alpha val="20000"/>
            </a:srgbClr>
          </a:solidFill>
          <a:ln>
            <a:noFill/>
          </a:ln>
          <a:effectLst>
            <a:softEdge rad="165240"/>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17" name="Group 66"/>
          <p:cNvGrpSpPr/>
          <p:nvPr/>
        </p:nvGrpSpPr>
        <p:grpSpPr>
          <a:xfrm>
            <a:off x="1185120" y="1573200"/>
            <a:ext cx="7081200" cy="2872080"/>
            <a:chOff x="1185120" y="1573200"/>
            <a:chExt cx="7081200" cy="2872080"/>
          </a:xfrm>
        </p:grpSpPr>
        <p:grpSp>
          <p:nvGrpSpPr>
            <p:cNvPr id="118" name="Group 8"/>
            <p:cNvGrpSpPr/>
            <p:nvPr/>
          </p:nvGrpSpPr>
          <p:grpSpPr>
            <a:xfrm>
              <a:off x="1185120" y="1573200"/>
              <a:ext cx="2166120" cy="2872080"/>
              <a:chOff x="1185120" y="1573200"/>
              <a:chExt cx="2166120" cy="2872080"/>
            </a:xfrm>
          </p:grpSpPr>
          <p:sp>
            <p:nvSpPr>
              <p:cNvPr id="119" name="Freeform 5"/>
              <p:cNvSpPr/>
              <p:nvPr/>
            </p:nvSpPr>
            <p:spPr>
              <a:xfrm>
                <a:off x="2699280" y="1573200"/>
                <a:ext cx="651960" cy="2230560"/>
              </a:xfrm>
              <a:custGeom>
                <a:avLst/>
                <a:gdLst>
                  <a:gd name="textAreaLeft" fmla="*/ 0 w 651960"/>
                  <a:gd name="textAreaRight" fmla="*/ 652320 w 651960"/>
                  <a:gd name="textAreaTop" fmla="*/ 0 h 2230560"/>
                  <a:gd name="textAreaBottom" fmla="*/ 2230920 h 2230560"/>
                </a:gdLst>
                <a:ahLst/>
                <a:rect l="textAreaLeft" t="textAreaTop" r="textAreaRight" b="textAreaBottom"/>
                <a:pathLst>
                  <a:path w="981" h="3355">
                    <a:moveTo>
                      <a:pt x="683" y="3355"/>
                    </a:moveTo>
                    <a:lnTo>
                      <a:pt x="683" y="3355"/>
                    </a:lnTo>
                    <a:lnTo>
                      <a:pt x="707" y="3354"/>
                    </a:lnTo>
                    <a:lnTo>
                      <a:pt x="727" y="3350"/>
                    </a:lnTo>
                    <a:lnTo>
                      <a:pt x="748" y="3344"/>
                    </a:lnTo>
                    <a:lnTo>
                      <a:pt x="766" y="3336"/>
                    </a:lnTo>
                    <a:lnTo>
                      <a:pt x="785" y="3325"/>
                    </a:lnTo>
                    <a:lnTo>
                      <a:pt x="801" y="3314"/>
                    </a:lnTo>
                    <a:lnTo>
                      <a:pt x="817" y="3300"/>
                    </a:lnTo>
                    <a:lnTo>
                      <a:pt x="831" y="3286"/>
                    </a:lnTo>
                    <a:lnTo>
                      <a:pt x="845" y="3269"/>
                    </a:lnTo>
                    <a:lnTo>
                      <a:pt x="857" y="3252"/>
                    </a:lnTo>
                    <a:lnTo>
                      <a:pt x="868" y="3233"/>
                    </a:lnTo>
                    <a:lnTo>
                      <a:pt x="879" y="3214"/>
                    </a:lnTo>
                    <a:lnTo>
                      <a:pt x="889" y="3194"/>
                    </a:lnTo>
                    <a:lnTo>
                      <a:pt x="896" y="3173"/>
                    </a:lnTo>
                    <a:lnTo>
                      <a:pt x="912" y="3133"/>
                    </a:lnTo>
                    <a:lnTo>
                      <a:pt x="925" y="3090"/>
                    </a:lnTo>
                    <a:lnTo>
                      <a:pt x="934" y="3050"/>
                    </a:lnTo>
                    <a:lnTo>
                      <a:pt x="940" y="3012"/>
                    </a:lnTo>
                    <a:lnTo>
                      <a:pt x="947" y="2979"/>
                    </a:lnTo>
                    <a:lnTo>
                      <a:pt x="951" y="2928"/>
                    </a:lnTo>
                    <a:lnTo>
                      <a:pt x="953" y="2909"/>
                    </a:lnTo>
                    <a:lnTo>
                      <a:pt x="981" y="0"/>
                    </a:lnTo>
                    <a:lnTo>
                      <a:pt x="353" y="0"/>
                    </a:lnTo>
                    <a:lnTo>
                      <a:pt x="270" y="2909"/>
                    </a:lnTo>
                    <a:lnTo>
                      <a:pt x="268" y="2928"/>
                    </a:lnTo>
                    <a:lnTo>
                      <a:pt x="264" y="2979"/>
                    </a:lnTo>
                    <a:lnTo>
                      <a:pt x="257" y="3012"/>
                    </a:lnTo>
                    <a:lnTo>
                      <a:pt x="251" y="3050"/>
                    </a:lnTo>
                    <a:lnTo>
                      <a:pt x="242" y="3090"/>
                    </a:lnTo>
                    <a:lnTo>
                      <a:pt x="229" y="3133"/>
                    </a:lnTo>
                    <a:lnTo>
                      <a:pt x="213" y="3173"/>
                    </a:lnTo>
                    <a:lnTo>
                      <a:pt x="206" y="3194"/>
                    </a:lnTo>
                    <a:lnTo>
                      <a:pt x="195" y="3214"/>
                    </a:lnTo>
                    <a:lnTo>
                      <a:pt x="185" y="3233"/>
                    </a:lnTo>
                    <a:lnTo>
                      <a:pt x="174" y="3252"/>
                    </a:lnTo>
                    <a:lnTo>
                      <a:pt x="162" y="3269"/>
                    </a:lnTo>
                    <a:lnTo>
                      <a:pt x="148" y="3286"/>
                    </a:lnTo>
                    <a:lnTo>
                      <a:pt x="134" y="3300"/>
                    </a:lnTo>
                    <a:lnTo>
                      <a:pt x="118" y="3314"/>
                    </a:lnTo>
                    <a:lnTo>
                      <a:pt x="101" y="3325"/>
                    </a:lnTo>
                    <a:lnTo>
                      <a:pt x="83" y="3336"/>
                    </a:lnTo>
                    <a:lnTo>
                      <a:pt x="65" y="3344"/>
                    </a:lnTo>
                    <a:lnTo>
                      <a:pt x="44" y="3350"/>
                    </a:lnTo>
                    <a:lnTo>
                      <a:pt x="22" y="3354"/>
                    </a:lnTo>
                    <a:lnTo>
                      <a:pt x="0" y="3355"/>
                    </a:lnTo>
                    <a:lnTo>
                      <a:pt x="683" y="3355"/>
                    </a:lnTo>
                    <a:close/>
                  </a:path>
                </a:pathLst>
              </a:custGeom>
              <a:gradFill rotWithShape="0">
                <a:gsLst>
                  <a:gs pos="0">
                    <a:srgbClr val="ebe374"/>
                  </a:gs>
                  <a:gs pos="100000">
                    <a:srgbClr val="d3cb50"/>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20" name="Freeform 6"/>
              <p:cNvSpPr/>
              <p:nvPr/>
            </p:nvSpPr>
            <p:spPr>
              <a:xfrm>
                <a:off x="2139840" y="3148920"/>
                <a:ext cx="1007280" cy="654480"/>
              </a:xfrm>
              <a:custGeom>
                <a:avLst/>
                <a:gdLst>
                  <a:gd name="textAreaLeft" fmla="*/ 0 w 1007280"/>
                  <a:gd name="textAreaRight" fmla="*/ 1007640 w 1007280"/>
                  <a:gd name="textAreaTop" fmla="*/ 0 h 654480"/>
                  <a:gd name="textAreaBottom" fmla="*/ 654840 h 654480"/>
                </a:gdLst>
                <a:ahLst/>
                <a:rect l="textAreaLeft" t="textAreaTop" r="textAreaRight" b="textAreaBottom"/>
                <a:pathLst>
                  <a:path w="1515" h="985">
                    <a:moveTo>
                      <a:pt x="877" y="985"/>
                    </a:moveTo>
                    <a:lnTo>
                      <a:pt x="877" y="985"/>
                    </a:lnTo>
                    <a:lnTo>
                      <a:pt x="851" y="984"/>
                    </a:lnTo>
                    <a:lnTo>
                      <a:pt x="826" y="980"/>
                    </a:lnTo>
                    <a:lnTo>
                      <a:pt x="802" y="974"/>
                    </a:lnTo>
                    <a:lnTo>
                      <a:pt x="780" y="965"/>
                    </a:lnTo>
                    <a:lnTo>
                      <a:pt x="758" y="955"/>
                    </a:lnTo>
                    <a:lnTo>
                      <a:pt x="740" y="943"/>
                    </a:lnTo>
                    <a:lnTo>
                      <a:pt x="721" y="929"/>
                    </a:lnTo>
                    <a:lnTo>
                      <a:pt x="704" y="913"/>
                    </a:lnTo>
                    <a:lnTo>
                      <a:pt x="686" y="896"/>
                    </a:lnTo>
                    <a:lnTo>
                      <a:pt x="672" y="877"/>
                    </a:lnTo>
                    <a:lnTo>
                      <a:pt x="658" y="858"/>
                    </a:lnTo>
                    <a:lnTo>
                      <a:pt x="644" y="838"/>
                    </a:lnTo>
                    <a:lnTo>
                      <a:pt x="632" y="818"/>
                    </a:lnTo>
                    <a:lnTo>
                      <a:pt x="621" y="796"/>
                    </a:lnTo>
                    <a:lnTo>
                      <a:pt x="602" y="753"/>
                    </a:lnTo>
                    <a:lnTo>
                      <a:pt x="585" y="709"/>
                    </a:lnTo>
                    <a:lnTo>
                      <a:pt x="572" y="667"/>
                    </a:lnTo>
                    <a:lnTo>
                      <a:pt x="561" y="628"/>
                    </a:lnTo>
                    <a:lnTo>
                      <a:pt x="553" y="594"/>
                    </a:lnTo>
                    <a:lnTo>
                      <a:pt x="545" y="540"/>
                    </a:lnTo>
                    <a:lnTo>
                      <a:pt x="542" y="520"/>
                    </a:lnTo>
                    <a:lnTo>
                      <a:pt x="539" y="498"/>
                    </a:lnTo>
                    <a:lnTo>
                      <a:pt x="534" y="473"/>
                    </a:lnTo>
                    <a:lnTo>
                      <a:pt x="528" y="438"/>
                    </a:lnTo>
                    <a:lnTo>
                      <a:pt x="517" y="399"/>
                    </a:lnTo>
                    <a:lnTo>
                      <a:pt x="503" y="355"/>
                    </a:lnTo>
                    <a:lnTo>
                      <a:pt x="494" y="332"/>
                    </a:lnTo>
                    <a:lnTo>
                      <a:pt x="483" y="308"/>
                    </a:lnTo>
                    <a:lnTo>
                      <a:pt x="472" y="285"/>
                    </a:lnTo>
                    <a:lnTo>
                      <a:pt x="459" y="260"/>
                    </a:lnTo>
                    <a:lnTo>
                      <a:pt x="445" y="236"/>
                    </a:lnTo>
                    <a:lnTo>
                      <a:pt x="428" y="211"/>
                    </a:lnTo>
                    <a:lnTo>
                      <a:pt x="411" y="188"/>
                    </a:lnTo>
                    <a:lnTo>
                      <a:pt x="392" y="164"/>
                    </a:lnTo>
                    <a:lnTo>
                      <a:pt x="372" y="142"/>
                    </a:lnTo>
                    <a:lnTo>
                      <a:pt x="348" y="121"/>
                    </a:lnTo>
                    <a:lnTo>
                      <a:pt x="323" y="100"/>
                    </a:lnTo>
                    <a:lnTo>
                      <a:pt x="296" y="81"/>
                    </a:lnTo>
                    <a:lnTo>
                      <a:pt x="268" y="64"/>
                    </a:lnTo>
                    <a:lnTo>
                      <a:pt x="237" y="48"/>
                    </a:lnTo>
                    <a:lnTo>
                      <a:pt x="204" y="34"/>
                    </a:lnTo>
                    <a:lnTo>
                      <a:pt x="168" y="22"/>
                    </a:lnTo>
                    <a:lnTo>
                      <a:pt x="130" y="12"/>
                    </a:lnTo>
                    <a:lnTo>
                      <a:pt x="90" y="6"/>
                    </a:lnTo>
                    <a:lnTo>
                      <a:pt x="47" y="1"/>
                    </a:lnTo>
                    <a:lnTo>
                      <a:pt x="0" y="0"/>
                    </a:lnTo>
                    <a:lnTo>
                      <a:pt x="823" y="0"/>
                    </a:lnTo>
                    <a:lnTo>
                      <a:pt x="856" y="1"/>
                    </a:lnTo>
                    <a:lnTo>
                      <a:pt x="888" y="6"/>
                    </a:lnTo>
                    <a:lnTo>
                      <a:pt x="918" y="12"/>
                    </a:lnTo>
                    <a:lnTo>
                      <a:pt x="946" y="22"/>
                    </a:lnTo>
                    <a:lnTo>
                      <a:pt x="973" y="34"/>
                    </a:lnTo>
                    <a:lnTo>
                      <a:pt x="998" y="48"/>
                    </a:lnTo>
                    <a:lnTo>
                      <a:pt x="1022" y="64"/>
                    </a:lnTo>
                    <a:lnTo>
                      <a:pt x="1044" y="81"/>
                    </a:lnTo>
                    <a:lnTo>
                      <a:pt x="1064" y="100"/>
                    </a:lnTo>
                    <a:lnTo>
                      <a:pt x="1083" y="121"/>
                    </a:lnTo>
                    <a:lnTo>
                      <a:pt x="1101" y="142"/>
                    </a:lnTo>
                    <a:lnTo>
                      <a:pt x="1117" y="164"/>
                    </a:lnTo>
                    <a:lnTo>
                      <a:pt x="1133" y="188"/>
                    </a:lnTo>
                    <a:lnTo>
                      <a:pt x="1147" y="211"/>
                    </a:lnTo>
                    <a:lnTo>
                      <a:pt x="1159" y="236"/>
                    </a:lnTo>
                    <a:lnTo>
                      <a:pt x="1170" y="260"/>
                    </a:lnTo>
                    <a:lnTo>
                      <a:pt x="1189" y="308"/>
                    </a:lnTo>
                    <a:lnTo>
                      <a:pt x="1205" y="355"/>
                    </a:lnTo>
                    <a:lnTo>
                      <a:pt x="1217" y="399"/>
                    </a:lnTo>
                    <a:lnTo>
                      <a:pt x="1227" y="438"/>
                    </a:lnTo>
                    <a:lnTo>
                      <a:pt x="1233" y="473"/>
                    </a:lnTo>
                    <a:lnTo>
                      <a:pt x="1238" y="498"/>
                    </a:lnTo>
                    <a:lnTo>
                      <a:pt x="1239" y="520"/>
                    </a:lnTo>
                    <a:lnTo>
                      <a:pt x="1244" y="540"/>
                    </a:lnTo>
                    <a:lnTo>
                      <a:pt x="1255" y="594"/>
                    </a:lnTo>
                    <a:lnTo>
                      <a:pt x="1263" y="628"/>
                    </a:lnTo>
                    <a:lnTo>
                      <a:pt x="1274" y="667"/>
                    </a:lnTo>
                    <a:lnTo>
                      <a:pt x="1286" y="709"/>
                    </a:lnTo>
                    <a:lnTo>
                      <a:pt x="1302" y="753"/>
                    </a:lnTo>
                    <a:lnTo>
                      <a:pt x="1319" y="796"/>
                    </a:lnTo>
                    <a:lnTo>
                      <a:pt x="1340" y="838"/>
                    </a:lnTo>
                    <a:lnTo>
                      <a:pt x="1351" y="858"/>
                    </a:lnTo>
                    <a:lnTo>
                      <a:pt x="1361" y="877"/>
                    </a:lnTo>
                    <a:lnTo>
                      <a:pt x="1374" y="896"/>
                    </a:lnTo>
                    <a:lnTo>
                      <a:pt x="1387" y="913"/>
                    </a:lnTo>
                    <a:lnTo>
                      <a:pt x="1401" y="929"/>
                    </a:lnTo>
                    <a:lnTo>
                      <a:pt x="1415" y="943"/>
                    </a:lnTo>
                    <a:lnTo>
                      <a:pt x="1429" y="955"/>
                    </a:lnTo>
                    <a:lnTo>
                      <a:pt x="1445" y="965"/>
                    </a:lnTo>
                    <a:lnTo>
                      <a:pt x="1462" y="974"/>
                    </a:lnTo>
                    <a:lnTo>
                      <a:pt x="1479" y="980"/>
                    </a:lnTo>
                    <a:lnTo>
                      <a:pt x="1496" y="984"/>
                    </a:lnTo>
                    <a:lnTo>
                      <a:pt x="1515" y="985"/>
                    </a:lnTo>
                    <a:lnTo>
                      <a:pt x="877" y="985"/>
                    </a:lnTo>
                    <a:close/>
                  </a:path>
                </a:pathLst>
              </a:custGeom>
              <a:gradFill rotWithShape="0">
                <a:gsLst>
                  <a:gs pos="0">
                    <a:srgbClr val="544f0d"/>
                  </a:gs>
                  <a:gs pos="100000">
                    <a:srgbClr val="a09728"/>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21" name="Freeform 7"/>
              <p:cNvSpPr/>
              <p:nvPr/>
            </p:nvSpPr>
            <p:spPr>
              <a:xfrm>
                <a:off x="1185120" y="3148920"/>
                <a:ext cx="1479960" cy="1296360"/>
              </a:xfrm>
              <a:custGeom>
                <a:avLst/>
                <a:gdLst>
                  <a:gd name="textAreaLeft" fmla="*/ 0 w 1479960"/>
                  <a:gd name="textAreaRight" fmla="*/ 1480320 w 1479960"/>
                  <a:gd name="textAreaTop" fmla="*/ 0 h 1296360"/>
                  <a:gd name="textAreaBottom" fmla="*/ 1296720 h 1296360"/>
                </a:gdLst>
                <a:ahLst/>
                <a:rect l="textAreaLeft" t="textAreaTop" r="textAreaRight" b="textAreaBottom"/>
                <a:pathLst>
                  <a:path w="2226" h="1950">
                    <a:moveTo>
                      <a:pt x="2226" y="0"/>
                    </a:moveTo>
                    <a:lnTo>
                      <a:pt x="1460" y="0"/>
                    </a:lnTo>
                    <a:lnTo>
                      <a:pt x="1418" y="1"/>
                    </a:lnTo>
                    <a:lnTo>
                      <a:pt x="1377" y="3"/>
                    </a:lnTo>
                    <a:lnTo>
                      <a:pt x="1336" y="8"/>
                    </a:lnTo>
                    <a:lnTo>
                      <a:pt x="1297" y="14"/>
                    </a:lnTo>
                    <a:lnTo>
                      <a:pt x="1258" y="22"/>
                    </a:lnTo>
                    <a:lnTo>
                      <a:pt x="1220" y="31"/>
                    </a:lnTo>
                    <a:lnTo>
                      <a:pt x="1184" y="42"/>
                    </a:lnTo>
                    <a:lnTo>
                      <a:pt x="1150" y="55"/>
                    </a:lnTo>
                    <a:lnTo>
                      <a:pt x="1115" y="69"/>
                    </a:lnTo>
                    <a:lnTo>
                      <a:pt x="1081" y="83"/>
                    </a:lnTo>
                    <a:lnTo>
                      <a:pt x="1049" y="100"/>
                    </a:lnTo>
                    <a:lnTo>
                      <a:pt x="1018" y="117"/>
                    </a:lnTo>
                    <a:lnTo>
                      <a:pt x="987" y="136"/>
                    </a:lnTo>
                    <a:lnTo>
                      <a:pt x="959" y="157"/>
                    </a:lnTo>
                    <a:lnTo>
                      <a:pt x="929" y="177"/>
                    </a:lnTo>
                    <a:lnTo>
                      <a:pt x="902" y="199"/>
                    </a:lnTo>
                    <a:lnTo>
                      <a:pt x="876" y="222"/>
                    </a:lnTo>
                    <a:lnTo>
                      <a:pt x="849" y="246"/>
                    </a:lnTo>
                    <a:lnTo>
                      <a:pt x="824" y="269"/>
                    </a:lnTo>
                    <a:lnTo>
                      <a:pt x="800" y="296"/>
                    </a:lnTo>
                    <a:lnTo>
                      <a:pt x="777" y="321"/>
                    </a:lnTo>
                    <a:lnTo>
                      <a:pt x="755" y="348"/>
                    </a:lnTo>
                    <a:lnTo>
                      <a:pt x="733" y="376"/>
                    </a:lnTo>
                    <a:lnTo>
                      <a:pt x="711" y="402"/>
                    </a:lnTo>
                    <a:lnTo>
                      <a:pt x="672" y="459"/>
                    </a:lnTo>
                    <a:lnTo>
                      <a:pt x="636" y="518"/>
                    </a:lnTo>
                    <a:lnTo>
                      <a:pt x="603" y="576"/>
                    </a:lnTo>
                    <a:lnTo>
                      <a:pt x="572" y="636"/>
                    </a:lnTo>
                    <a:lnTo>
                      <a:pt x="544" y="695"/>
                    </a:lnTo>
                    <a:lnTo>
                      <a:pt x="518" y="755"/>
                    </a:lnTo>
                    <a:lnTo>
                      <a:pt x="495" y="813"/>
                    </a:lnTo>
                    <a:lnTo>
                      <a:pt x="475" y="871"/>
                    </a:lnTo>
                    <a:lnTo>
                      <a:pt x="457" y="926"/>
                    </a:lnTo>
                    <a:lnTo>
                      <a:pt x="440" y="977"/>
                    </a:lnTo>
                    <a:lnTo>
                      <a:pt x="426" y="1027"/>
                    </a:lnTo>
                    <a:lnTo>
                      <a:pt x="415" y="1074"/>
                    </a:lnTo>
                    <a:lnTo>
                      <a:pt x="396" y="1156"/>
                    </a:lnTo>
                    <a:lnTo>
                      <a:pt x="384" y="1219"/>
                    </a:lnTo>
                    <a:lnTo>
                      <a:pt x="376" y="1258"/>
                    </a:lnTo>
                    <a:lnTo>
                      <a:pt x="374" y="1273"/>
                    </a:lnTo>
                    <a:lnTo>
                      <a:pt x="348" y="1428"/>
                    </a:lnTo>
                    <a:lnTo>
                      <a:pt x="0" y="1428"/>
                    </a:lnTo>
                    <a:lnTo>
                      <a:pt x="0" y="1433"/>
                    </a:lnTo>
                    <a:lnTo>
                      <a:pt x="710" y="1950"/>
                    </a:lnTo>
                    <a:lnTo>
                      <a:pt x="1637" y="1433"/>
                    </a:lnTo>
                    <a:lnTo>
                      <a:pt x="1637" y="1428"/>
                    </a:lnTo>
                    <a:lnTo>
                      <a:pt x="1245" y="1428"/>
                    </a:lnTo>
                    <a:lnTo>
                      <a:pt x="1278" y="1273"/>
                    </a:lnTo>
                    <a:lnTo>
                      <a:pt x="1291" y="1219"/>
                    </a:lnTo>
                    <a:lnTo>
                      <a:pt x="1306" y="1156"/>
                    </a:lnTo>
                    <a:lnTo>
                      <a:pt x="1330" y="1074"/>
                    </a:lnTo>
                    <a:lnTo>
                      <a:pt x="1360" y="977"/>
                    </a:lnTo>
                    <a:lnTo>
                      <a:pt x="1378" y="926"/>
                    </a:lnTo>
                    <a:lnTo>
                      <a:pt x="1397" y="871"/>
                    </a:lnTo>
                    <a:lnTo>
                      <a:pt x="1419" y="813"/>
                    </a:lnTo>
                    <a:lnTo>
                      <a:pt x="1443" y="755"/>
                    </a:lnTo>
                    <a:lnTo>
                      <a:pt x="1468" y="695"/>
                    </a:lnTo>
                    <a:lnTo>
                      <a:pt x="1496" y="636"/>
                    </a:lnTo>
                    <a:lnTo>
                      <a:pt x="1526" y="576"/>
                    </a:lnTo>
                    <a:lnTo>
                      <a:pt x="1557" y="518"/>
                    </a:lnTo>
                    <a:lnTo>
                      <a:pt x="1590" y="459"/>
                    </a:lnTo>
                    <a:lnTo>
                      <a:pt x="1626" y="402"/>
                    </a:lnTo>
                    <a:lnTo>
                      <a:pt x="1663" y="348"/>
                    </a:lnTo>
                    <a:lnTo>
                      <a:pt x="1703" y="296"/>
                    </a:lnTo>
                    <a:lnTo>
                      <a:pt x="1745" y="246"/>
                    </a:lnTo>
                    <a:lnTo>
                      <a:pt x="1767" y="222"/>
                    </a:lnTo>
                    <a:lnTo>
                      <a:pt x="1790" y="199"/>
                    </a:lnTo>
                    <a:lnTo>
                      <a:pt x="1812" y="177"/>
                    </a:lnTo>
                    <a:lnTo>
                      <a:pt x="1836" y="157"/>
                    </a:lnTo>
                    <a:lnTo>
                      <a:pt x="1861" y="136"/>
                    </a:lnTo>
                    <a:lnTo>
                      <a:pt x="1884" y="117"/>
                    </a:lnTo>
                    <a:lnTo>
                      <a:pt x="1909" y="100"/>
                    </a:lnTo>
                    <a:lnTo>
                      <a:pt x="1936" y="83"/>
                    </a:lnTo>
                    <a:lnTo>
                      <a:pt x="1963" y="69"/>
                    </a:lnTo>
                    <a:lnTo>
                      <a:pt x="1989" y="55"/>
                    </a:lnTo>
                    <a:lnTo>
                      <a:pt x="2017" y="42"/>
                    </a:lnTo>
                    <a:lnTo>
                      <a:pt x="2044" y="31"/>
                    </a:lnTo>
                    <a:lnTo>
                      <a:pt x="2074" y="22"/>
                    </a:lnTo>
                    <a:lnTo>
                      <a:pt x="2104" y="14"/>
                    </a:lnTo>
                    <a:lnTo>
                      <a:pt x="2133" y="8"/>
                    </a:lnTo>
                    <a:lnTo>
                      <a:pt x="2163" y="3"/>
                    </a:lnTo>
                    <a:lnTo>
                      <a:pt x="2194" y="1"/>
                    </a:lnTo>
                    <a:lnTo>
                      <a:pt x="2226" y="0"/>
                    </a:lnTo>
                    <a:close/>
                  </a:path>
                </a:pathLst>
              </a:custGeom>
              <a:gradFill rotWithShape="0">
                <a:gsLst>
                  <a:gs pos="0">
                    <a:srgbClr val="ded560"/>
                  </a:gs>
                  <a:gs pos="100000">
                    <a:srgbClr val="aca32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nvGrpSpPr>
            <p:cNvPr id="122" name="Group 3"/>
            <p:cNvGrpSpPr/>
            <p:nvPr/>
          </p:nvGrpSpPr>
          <p:grpSpPr>
            <a:xfrm>
              <a:off x="4183560" y="1573200"/>
              <a:ext cx="1087560" cy="2872080"/>
              <a:chOff x="4183560" y="1573200"/>
              <a:chExt cx="1087560" cy="2872080"/>
            </a:xfrm>
          </p:grpSpPr>
          <p:sp>
            <p:nvSpPr>
              <p:cNvPr id="123" name="Freeform 5"/>
              <p:cNvSpPr/>
              <p:nvPr/>
            </p:nvSpPr>
            <p:spPr>
              <a:xfrm>
                <a:off x="4498920" y="1573200"/>
                <a:ext cx="457200" cy="2211120"/>
              </a:xfrm>
              <a:custGeom>
                <a:avLst/>
                <a:gdLst>
                  <a:gd name="textAreaLeft" fmla="*/ 0 w 457200"/>
                  <a:gd name="textAreaRight" fmla="*/ 457560 w 457200"/>
                  <a:gd name="textAreaTop" fmla="*/ 0 h 2211120"/>
                  <a:gd name="textAreaBottom" fmla="*/ 2211480 h 2211120"/>
                </a:gdLst>
                <a:ahLst/>
                <a:rect l="textAreaLeft" t="textAreaTop" r="textAreaRight" b="textAreaBottom"/>
                <a:pathLst>
                  <a:path w="688" h="3326">
                    <a:moveTo>
                      <a:pt x="688" y="3326"/>
                    </a:moveTo>
                    <a:lnTo>
                      <a:pt x="0" y="3326"/>
                    </a:lnTo>
                    <a:lnTo>
                      <a:pt x="29" y="0"/>
                    </a:lnTo>
                    <a:lnTo>
                      <a:pt x="661" y="0"/>
                    </a:lnTo>
                    <a:lnTo>
                      <a:pt x="688" y="3326"/>
                    </a:lnTo>
                    <a:close/>
                  </a:path>
                </a:pathLst>
              </a:custGeom>
              <a:gradFill rotWithShape="0">
                <a:gsLst>
                  <a:gs pos="0">
                    <a:srgbClr val="ebe374"/>
                  </a:gs>
                  <a:gs pos="100000">
                    <a:srgbClr val="d3cb50"/>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24" name="Freeform 6"/>
              <p:cNvSpPr/>
              <p:nvPr/>
            </p:nvSpPr>
            <p:spPr>
              <a:xfrm>
                <a:off x="4183560" y="3156840"/>
                <a:ext cx="1087560" cy="1288440"/>
              </a:xfrm>
              <a:custGeom>
                <a:avLst/>
                <a:gdLst>
                  <a:gd name="textAreaLeft" fmla="*/ 0 w 1087560"/>
                  <a:gd name="textAreaRight" fmla="*/ 1087920 w 1087560"/>
                  <a:gd name="textAreaTop" fmla="*/ 0 h 1288440"/>
                  <a:gd name="textAreaBottom" fmla="*/ 1288800 h 1288440"/>
                </a:gdLst>
                <a:ahLst/>
                <a:rect l="textAreaLeft" t="textAreaTop" r="textAreaRight" b="textAreaBottom"/>
                <a:pathLst>
                  <a:path w="1636" h="1938">
                    <a:moveTo>
                      <a:pt x="1323" y="1417"/>
                    </a:moveTo>
                    <a:lnTo>
                      <a:pt x="1323" y="980"/>
                    </a:lnTo>
                    <a:lnTo>
                      <a:pt x="1321" y="808"/>
                    </a:lnTo>
                    <a:lnTo>
                      <a:pt x="1317" y="656"/>
                    </a:lnTo>
                    <a:lnTo>
                      <a:pt x="1309" y="526"/>
                    </a:lnTo>
                    <a:lnTo>
                      <a:pt x="1299" y="413"/>
                    </a:lnTo>
                    <a:lnTo>
                      <a:pt x="1288" y="318"/>
                    </a:lnTo>
                    <a:lnTo>
                      <a:pt x="1276" y="240"/>
                    </a:lnTo>
                    <a:lnTo>
                      <a:pt x="1263" y="174"/>
                    </a:lnTo>
                    <a:lnTo>
                      <a:pt x="1249" y="122"/>
                    </a:lnTo>
                    <a:lnTo>
                      <a:pt x="1235" y="82"/>
                    </a:lnTo>
                    <a:lnTo>
                      <a:pt x="1223" y="52"/>
                    </a:lnTo>
                    <a:lnTo>
                      <a:pt x="1210" y="30"/>
                    </a:lnTo>
                    <a:lnTo>
                      <a:pt x="1199" y="16"/>
                    </a:lnTo>
                    <a:lnTo>
                      <a:pt x="1190" y="7"/>
                    </a:lnTo>
                    <a:lnTo>
                      <a:pt x="1182" y="2"/>
                    </a:lnTo>
                    <a:lnTo>
                      <a:pt x="1177" y="0"/>
                    </a:lnTo>
                    <a:lnTo>
                      <a:pt x="1176" y="0"/>
                    </a:lnTo>
                    <a:lnTo>
                      <a:pt x="460" y="0"/>
                    </a:lnTo>
                    <a:lnTo>
                      <a:pt x="459" y="0"/>
                    </a:lnTo>
                    <a:lnTo>
                      <a:pt x="454" y="2"/>
                    </a:lnTo>
                    <a:lnTo>
                      <a:pt x="448" y="7"/>
                    </a:lnTo>
                    <a:lnTo>
                      <a:pt x="438" y="16"/>
                    </a:lnTo>
                    <a:lnTo>
                      <a:pt x="427" y="30"/>
                    </a:lnTo>
                    <a:lnTo>
                      <a:pt x="415" y="52"/>
                    </a:lnTo>
                    <a:lnTo>
                      <a:pt x="401" y="82"/>
                    </a:lnTo>
                    <a:lnTo>
                      <a:pt x="388" y="122"/>
                    </a:lnTo>
                    <a:lnTo>
                      <a:pt x="374" y="174"/>
                    </a:lnTo>
                    <a:lnTo>
                      <a:pt x="360" y="240"/>
                    </a:lnTo>
                    <a:lnTo>
                      <a:pt x="349" y="318"/>
                    </a:lnTo>
                    <a:lnTo>
                      <a:pt x="337" y="413"/>
                    </a:lnTo>
                    <a:lnTo>
                      <a:pt x="327" y="526"/>
                    </a:lnTo>
                    <a:lnTo>
                      <a:pt x="321" y="656"/>
                    </a:lnTo>
                    <a:lnTo>
                      <a:pt x="316" y="808"/>
                    </a:lnTo>
                    <a:lnTo>
                      <a:pt x="315" y="980"/>
                    </a:lnTo>
                    <a:lnTo>
                      <a:pt x="315" y="1417"/>
                    </a:lnTo>
                    <a:lnTo>
                      <a:pt x="0" y="1417"/>
                    </a:lnTo>
                    <a:lnTo>
                      <a:pt x="0" y="1421"/>
                    </a:lnTo>
                    <a:lnTo>
                      <a:pt x="819" y="1938"/>
                    </a:lnTo>
                    <a:lnTo>
                      <a:pt x="1636" y="1421"/>
                    </a:lnTo>
                    <a:lnTo>
                      <a:pt x="1636" y="1417"/>
                    </a:lnTo>
                    <a:lnTo>
                      <a:pt x="1323" y="1417"/>
                    </a:lnTo>
                    <a:close/>
                  </a:path>
                </a:pathLst>
              </a:custGeom>
              <a:gradFill rotWithShape="0">
                <a:gsLst>
                  <a:gs pos="0">
                    <a:srgbClr val="ded560"/>
                  </a:gs>
                  <a:gs pos="100000">
                    <a:srgbClr val="aca32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nvGrpSpPr>
            <p:cNvPr id="125" name="Group 4"/>
            <p:cNvGrpSpPr/>
            <p:nvPr/>
          </p:nvGrpSpPr>
          <p:grpSpPr>
            <a:xfrm>
              <a:off x="2617560" y="1573200"/>
              <a:ext cx="1539720" cy="2872080"/>
              <a:chOff x="2617560" y="1573200"/>
              <a:chExt cx="1539720" cy="2872080"/>
            </a:xfrm>
          </p:grpSpPr>
          <p:sp>
            <p:nvSpPr>
              <p:cNvPr id="126" name="Freeform 5"/>
              <p:cNvSpPr/>
              <p:nvPr/>
            </p:nvSpPr>
            <p:spPr>
              <a:xfrm>
                <a:off x="3523320" y="1573200"/>
                <a:ext cx="633960" cy="2230560"/>
              </a:xfrm>
              <a:custGeom>
                <a:avLst/>
                <a:gdLst>
                  <a:gd name="textAreaLeft" fmla="*/ 0 w 633960"/>
                  <a:gd name="textAreaRight" fmla="*/ 634320 w 633960"/>
                  <a:gd name="textAreaTop" fmla="*/ 0 h 2230560"/>
                  <a:gd name="textAreaBottom" fmla="*/ 2230920 h 2230560"/>
                </a:gdLst>
                <a:ahLst/>
                <a:rect l="textAreaLeft" t="textAreaTop" r="textAreaRight" b="textAreaBottom"/>
                <a:pathLst>
                  <a:path w="954" h="3355">
                    <a:moveTo>
                      <a:pt x="685" y="3355"/>
                    </a:moveTo>
                    <a:lnTo>
                      <a:pt x="685" y="3355"/>
                    </a:lnTo>
                    <a:lnTo>
                      <a:pt x="707" y="3354"/>
                    </a:lnTo>
                    <a:lnTo>
                      <a:pt x="729" y="3350"/>
                    </a:lnTo>
                    <a:lnTo>
                      <a:pt x="747" y="3344"/>
                    </a:lnTo>
                    <a:lnTo>
                      <a:pt x="766" y="3336"/>
                    </a:lnTo>
                    <a:lnTo>
                      <a:pt x="783" y="3325"/>
                    </a:lnTo>
                    <a:lnTo>
                      <a:pt x="799" y="3314"/>
                    </a:lnTo>
                    <a:lnTo>
                      <a:pt x="815" y="3300"/>
                    </a:lnTo>
                    <a:lnTo>
                      <a:pt x="827" y="3286"/>
                    </a:lnTo>
                    <a:lnTo>
                      <a:pt x="840" y="3269"/>
                    </a:lnTo>
                    <a:lnTo>
                      <a:pt x="851" y="3252"/>
                    </a:lnTo>
                    <a:lnTo>
                      <a:pt x="862" y="3233"/>
                    </a:lnTo>
                    <a:lnTo>
                      <a:pt x="871" y="3214"/>
                    </a:lnTo>
                    <a:lnTo>
                      <a:pt x="879" y="3194"/>
                    </a:lnTo>
                    <a:lnTo>
                      <a:pt x="887" y="3173"/>
                    </a:lnTo>
                    <a:lnTo>
                      <a:pt x="899" y="3133"/>
                    </a:lnTo>
                    <a:lnTo>
                      <a:pt x="909" y="3090"/>
                    </a:lnTo>
                    <a:lnTo>
                      <a:pt x="915" y="3050"/>
                    </a:lnTo>
                    <a:lnTo>
                      <a:pt x="921" y="3012"/>
                    </a:lnTo>
                    <a:lnTo>
                      <a:pt x="924" y="2979"/>
                    </a:lnTo>
                    <a:lnTo>
                      <a:pt x="926" y="2928"/>
                    </a:lnTo>
                    <a:lnTo>
                      <a:pt x="926" y="2909"/>
                    </a:lnTo>
                    <a:lnTo>
                      <a:pt x="954" y="0"/>
                    </a:lnTo>
                    <a:lnTo>
                      <a:pt x="326" y="0"/>
                    </a:lnTo>
                    <a:lnTo>
                      <a:pt x="243" y="2909"/>
                    </a:lnTo>
                    <a:lnTo>
                      <a:pt x="243" y="2928"/>
                    </a:lnTo>
                    <a:lnTo>
                      <a:pt x="240" y="2979"/>
                    </a:lnTo>
                    <a:lnTo>
                      <a:pt x="237" y="3012"/>
                    </a:lnTo>
                    <a:lnTo>
                      <a:pt x="232" y="3050"/>
                    </a:lnTo>
                    <a:lnTo>
                      <a:pt x="226" y="3090"/>
                    </a:lnTo>
                    <a:lnTo>
                      <a:pt x="216" y="3133"/>
                    </a:lnTo>
                    <a:lnTo>
                      <a:pt x="204" y="3173"/>
                    </a:lnTo>
                    <a:lnTo>
                      <a:pt x="196" y="3194"/>
                    </a:lnTo>
                    <a:lnTo>
                      <a:pt x="188" y="3214"/>
                    </a:lnTo>
                    <a:lnTo>
                      <a:pt x="179" y="3233"/>
                    </a:lnTo>
                    <a:lnTo>
                      <a:pt x="168" y="3252"/>
                    </a:lnTo>
                    <a:lnTo>
                      <a:pt x="157" y="3269"/>
                    </a:lnTo>
                    <a:lnTo>
                      <a:pt x="144" y="3286"/>
                    </a:lnTo>
                    <a:lnTo>
                      <a:pt x="130" y="3300"/>
                    </a:lnTo>
                    <a:lnTo>
                      <a:pt x="116" y="3314"/>
                    </a:lnTo>
                    <a:lnTo>
                      <a:pt x="101" y="3325"/>
                    </a:lnTo>
                    <a:lnTo>
                      <a:pt x="83" y="3336"/>
                    </a:lnTo>
                    <a:lnTo>
                      <a:pt x="65" y="3344"/>
                    </a:lnTo>
                    <a:lnTo>
                      <a:pt x="44" y="3350"/>
                    </a:lnTo>
                    <a:lnTo>
                      <a:pt x="24" y="3354"/>
                    </a:lnTo>
                    <a:lnTo>
                      <a:pt x="0" y="3355"/>
                    </a:lnTo>
                    <a:lnTo>
                      <a:pt x="685" y="3355"/>
                    </a:lnTo>
                    <a:close/>
                  </a:path>
                </a:pathLst>
              </a:custGeom>
              <a:gradFill rotWithShape="0">
                <a:gsLst>
                  <a:gs pos="0">
                    <a:srgbClr val="ebe374"/>
                  </a:gs>
                  <a:gs pos="100000">
                    <a:srgbClr val="d3cb50"/>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27" name="Freeform 6"/>
              <p:cNvSpPr/>
              <p:nvPr/>
            </p:nvSpPr>
            <p:spPr>
              <a:xfrm>
                <a:off x="3296520" y="3148920"/>
                <a:ext cx="675360" cy="654480"/>
              </a:xfrm>
              <a:custGeom>
                <a:avLst/>
                <a:gdLst>
                  <a:gd name="textAreaLeft" fmla="*/ 0 w 675360"/>
                  <a:gd name="textAreaRight" fmla="*/ 675720 w 675360"/>
                  <a:gd name="textAreaTop" fmla="*/ 0 h 654480"/>
                  <a:gd name="textAreaBottom" fmla="*/ 654840 h 654480"/>
                </a:gdLst>
                <a:ahLst/>
                <a:rect l="textAreaLeft" t="textAreaTop" r="textAreaRight" b="textAreaBottom"/>
                <a:pathLst>
                  <a:path w="1016" h="985">
                    <a:moveTo>
                      <a:pt x="352" y="985"/>
                    </a:moveTo>
                    <a:lnTo>
                      <a:pt x="352" y="985"/>
                    </a:lnTo>
                    <a:lnTo>
                      <a:pt x="335" y="984"/>
                    </a:lnTo>
                    <a:lnTo>
                      <a:pt x="319" y="980"/>
                    </a:lnTo>
                    <a:lnTo>
                      <a:pt x="305" y="974"/>
                    </a:lnTo>
                    <a:lnTo>
                      <a:pt x="291" y="965"/>
                    </a:lnTo>
                    <a:lnTo>
                      <a:pt x="279" y="955"/>
                    </a:lnTo>
                    <a:lnTo>
                      <a:pt x="268" y="943"/>
                    </a:lnTo>
                    <a:lnTo>
                      <a:pt x="257" y="929"/>
                    </a:lnTo>
                    <a:lnTo>
                      <a:pt x="246" y="913"/>
                    </a:lnTo>
                    <a:lnTo>
                      <a:pt x="238" y="896"/>
                    </a:lnTo>
                    <a:lnTo>
                      <a:pt x="229" y="877"/>
                    </a:lnTo>
                    <a:lnTo>
                      <a:pt x="221" y="858"/>
                    </a:lnTo>
                    <a:lnTo>
                      <a:pt x="215" y="838"/>
                    </a:lnTo>
                    <a:lnTo>
                      <a:pt x="204" y="796"/>
                    </a:lnTo>
                    <a:lnTo>
                      <a:pt x="194" y="753"/>
                    </a:lnTo>
                    <a:lnTo>
                      <a:pt x="186" y="709"/>
                    </a:lnTo>
                    <a:lnTo>
                      <a:pt x="182" y="667"/>
                    </a:lnTo>
                    <a:lnTo>
                      <a:pt x="177" y="628"/>
                    </a:lnTo>
                    <a:lnTo>
                      <a:pt x="175" y="594"/>
                    </a:lnTo>
                    <a:lnTo>
                      <a:pt x="172" y="540"/>
                    </a:lnTo>
                    <a:lnTo>
                      <a:pt x="172" y="520"/>
                    </a:lnTo>
                    <a:lnTo>
                      <a:pt x="174" y="498"/>
                    </a:lnTo>
                    <a:lnTo>
                      <a:pt x="172" y="438"/>
                    </a:lnTo>
                    <a:lnTo>
                      <a:pt x="172" y="399"/>
                    </a:lnTo>
                    <a:lnTo>
                      <a:pt x="169" y="355"/>
                    </a:lnTo>
                    <a:lnTo>
                      <a:pt x="164" y="308"/>
                    </a:lnTo>
                    <a:lnTo>
                      <a:pt x="160" y="260"/>
                    </a:lnTo>
                    <a:lnTo>
                      <a:pt x="150" y="211"/>
                    </a:lnTo>
                    <a:lnTo>
                      <a:pt x="139" y="164"/>
                    </a:lnTo>
                    <a:lnTo>
                      <a:pt x="133" y="142"/>
                    </a:lnTo>
                    <a:lnTo>
                      <a:pt x="125" y="121"/>
                    </a:lnTo>
                    <a:lnTo>
                      <a:pt x="117" y="100"/>
                    </a:lnTo>
                    <a:lnTo>
                      <a:pt x="108" y="81"/>
                    </a:lnTo>
                    <a:lnTo>
                      <a:pt x="99" y="64"/>
                    </a:lnTo>
                    <a:lnTo>
                      <a:pt x="88" y="48"/>
                    </a:lnTo>
                    <a:lnTo>
                      <a:pt x="75" y="34"/>
                    </a:lnTo>
                    <a:lnTo>
                      <a:pt x="63" y="22"/>
                    </a:lnTo>
                    <a:lnTo>
                      <a:pt x="49" y="12"/>
                    </a:lnTo>
                    <a:lnTo>
                      <a:pt x="33" y="6"/>
                    </a:lnTo>
                    <a:lnTo>
                      <a:pt x="17" y="1"/>
                    </a:lnTo>
                    <a:lnTo>
                      <a:pt x="0" y="0"/>
                    </a:lnTo>
                    <a:lnTo>
                      <a:pt x="647" y="0"/>
                    </a:lnTo>
                    <a:lnTo>
                      <a:pt x="662" y="1"/>
                    </a:lnTo>
                    <a:lnTo>
                      <a:pt x="678" y="6"/>
                    </a:lnTo>
                    <a:lnTo>
                      <a:pt x="691" y="12"/>
                    </a:lnTo>
                    <a:lnTo>
                      <a:pt x="705" y="22"/>
                    </a:lnTo>
                    <a:lnTo>
                      <a:pt x="716" y="34"/>
                    </a:lnTo>
                    <a:lnTo>
                      <a:pt x="727" y="48"/>
                    </a:lnTo>
                    <a:lnTo>
                      <a:pt x="738" y="64"/>
                    </a:lnTo>
                    <a:lnTo>
                      <a:pt x="745" y="81"/>
                    </a:lnTo>
                    <a:lnTo>
                      <a:pt x="755" y="100"/>
                    </a:lnTo>
                    <a:lnTo>
                      <a:pt x="763" y="121"/>
                    </a:lnTo>
                    <a:lnTo>
                      <a:pt x="769" y="142"/>
                    </a:lnTo>
                    <a:lnTo>
                      <a:pt x="775" y="164"/>
                    </a:lnTo>
                    <a:lnTo>
                      <a:pt x="786" y="211"/>
                    </a:lnTo>
                    <a:lnTo>
                      <a:pt x="794" y="260"/>
                    </a:lnTo>
                    <a:lnTo>
                      <a:pt x="800" y="308"/>
                    </a:lnTo>
                    <a:lnTo>
                      <a:pt x="805" y="355"/>
                    </a:lnTo>
                    <a:lnTo>
                      <a:pt x="806" y="399"/>
                    </a:lnTo>
                    <a:lnTo>
                      <a:pt x="808" y="438"/>
                    </a:lnTo>
                    <a:lnTo>
                      <a:pt x="810" y="498"/>
                    </a:lnTo>
                    <a:lnTo>
                      <a:pt x="810" y="520"/>
                    </a:lnTo>
                    <a:lnTo>
                      <a:pt x="810" y="540"/>
                    </a:lnTo>
                    <a:lnTo>
                      <a:pt x="813" y="594"/>
                    </a:lnTo>
                    <a:lnTo>
                      <a:pt x="817" y="628"/>
                    </a:lnTo>
                    <a:lnTo>
                      <a:pt x="822" y="667"/>
                    </a:lnTo>
                    <a:lnTo>
                      <a:pt x="828" y="709"/>
                    </a:lnTo>
                    <a:lnTo>
                      <a:pt x="836" y="753"/>
                    </a:lnTo>
                    <a:lnTo>
                      <a:pt x="849" y="796"/>
                    </a:lnTo>
                    <a:lnTo>
                      <a:pt x="861" y="838"/>
                    </a:lnTo>
                    <a:lnTo>
                      <a:pt x="869" y="858"/>
                    </a:lnTo>
                    <a:lnTo>
                      <a:pt x="878" y="877"/>
                    </a:lnTo>
                    <a:lnTo>
                      <a:pt x="888" y="896"/>
                    </a:lnTo>
                    <a:lnTo>
                      <a:pt x="899" y="913"/>
                    </a:lnTo>
                    <a:lnTo>
                      <a:pt x="910" y="929"/>
                    </a:lnTo>
                    <a:lnTo>
                      <a:pt x="922" y="943"/>
                    </a:lnTo>
                    <a:lnTo>
                      <a:pt x="935" y="955"/>
                    </a:lnTo>
                    <a:lnTo>
                      <a:pt x="949" y="965"/>
                    </a:lnTo>
                    <a:lnTo>
                      <a:pt x="965" y="974"/>
                    </a:lnTo>
                    <a:lnTo>
                      <a:pt x="980" y="980"/>
                    </a:lnTo>
                    <a:lnTo>
                      <a:pt x="997" y="984"/>
                    </a:lnTo>
                    <a:lnTo>
                      <a:pt x="1016" y="985"/>
                    </a:lnTo>
                    <a:lnTo>
                      <a:pt x="352" y="985"/>
                    </a:lnTo>
                    <a:close/>
                  </a:path>
                </a:pathLst>
              </a:custGeom>
              <a:gradFill rotWithShape="0">
                <a:gsLst>
                  <a:gs pos="0">
                    <a:srgbClr val="544f0d"/>
                  </a:gs>
                  <a:gs pos="100000">
                    <a:srgbClr val="a09728"/>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28" name="Freeform 7"/>
              <p:cNvSpPr/>
              <p:nvPr/>
            </p:nvSpPr>
            <p:spPr>
              <a:xfrm>
                <a:off x="2617560" y="3148920"/>
                <a:ext cx="1114200" cy="1296360"/>
              </a:xfrm>
              <a:custGeom>
                <a:avLst/>
                <a:gdLst>
                  <a:gd name="textAreaLeft" fmla="*/ 0 w 1114200"/>
                  <a:gd name="textAreaRight" fmla="*/ 1114560 w 1114200"/>
                  <a:gd name="textAreaTop" fmla="*/ 0 h 1296360"/>
                  <a:gd name="textAreaBottom" fmla="*/ 1296720 h 1296360"/>
                </a:gdLst>
                <a:ahLst/>
                <a:rect l="textAreaLeft" t="textAreaTop" r="textAreaRight" b="textAreaBottom"/>
                <a:pathLst>
                  <a:path w="1676" h="1950">
                    <a:moveTo>
                      <a:pt x="1278" y="1273"/>
                    </a:moveTo>
                    <a:lnTo>
                      <a:pt x="1278" y="1273"/>
                    </a:lnTo>
                    <a:lnTo>
                      <a:pt x="1276" y="1219"/>
                    </a:lnTo>
                    <a:lnTo>
                      <a:pt x="1278" y="1156"/>
                    </a:lnTo>
                    <a:lnTo>
                      <a:pt x="1279" y="1074"/>
                    </a:lnTo>
                    <a:lnTo>
                      <a:pt x="1284" y="977"/>
                    </a:lnTo>
                    <a:lnTo>
                      <a:pt x="1292" y="871"/>
                    </a:lnTo>
                    <a:lnTo>
                      <a:pt x="1303" y="755"/>
                    </a:lnTo>
                    <a:lnTo>
                      <a:pt x="1311" y="695"/>
                    </a:lnTo>
                    <a:lnTo>
                      <a:pt x="1319" y="636"/>
                    </a:lnTo>
                    <a:lnTo>
                      <a:pt x="1328" y="576"/>
                    </a:lnTo>
                    <a:lnTo>
                      <a:pt x="1339" y="518"/>
                    </a:lnTo>
                    <a:lnTo>
                      <a:pt x="1350" y="459"/>
                    </a:lnTo>
                    <a:lnTo>
                      <a:pt x="1364" y="402"/>
                    </a:lnTo>
                    <a:lnTo>
                      <a:pt x="1380" y="348"/>
                    </a:lnTo>
                    <a:lnTo>
                      <a:pt x="1397" y="296"/>
                    </a:lnTo>
                    <a:lnTo>
                      <a:pt x="1416" y="246"/>
                    </a:lnTo>
                    <a:lnTo>
                      <a:pt x="1436" y="199"/>
                    </a:lnTo>
                    <a:lnTo>
                      <a:pt x="1458" y="157"/>
                    </a:lnTo>
                    <a:lnTo>
                      <a:pt x="1470" y="136"/>
                    </a:lnTo>
                    <a:lnTo>
                      <a:pt x="1483" y="117"/>
                    </a:lnTo>
                    <a:lnTo>
                      <a:pt x="1495" y="100"/>
                    </a:lnTo>
                    <a:lnTo>
                      <a:pt x="1508" y="83"/>
                    </a:lnTo>
                    <a:lnTo>
                      <a:pt x="1522" y="69"/>
                    </a:lnTo>
                    <a:lnTo>
                      <a:pt x="1538" y="55"/>
                    </a:lnTo>
                    <a:lnTo>
                      <a:pt x="1552" y="42"/>
                    </a:lnTo>
                    <a:lnTo>
                      <a:pt x="1567" y="31"/>
                    </a:lnTo>
                    <a:lnTo>
                      <a:pt x="1585" y="22"/>
                    </a:lnTo>
                    <a:lnTo>
                      <a:pt x="1602" y="14"/>
                    </a:lnTo>
                    <a:lnTo>
                      <a:pt x="1619" y="8"/>
                    </a:lnTo>
                    <a:lnTo>
                      <a:pt x="1638" y="3"/>
                    </a:lnTo>
                    <a:lnTo>
                      <a:pt x="1657" y="1"/>
                    </a:lnTo>
                    <a:lnTo>
                      <a:pt x="1676" y="0"/>
                    </a:lnTo>
                    <a:lnTo>
                      <a:pt x="993" y="0"/>
                    </a:lnTo>
                    <a:lnTo>
                      <a:pt x="968" y="1"/>
                    </a:lnTo>
                    <a:lnTo>
                      <a:pt x="946" y="3"/>
                    </a:lnTo>
                    <a:lnTo>
                      <a:pt x="922" y="8"/>
                    </a:lnTo>
                    <a:lnTo>
                      <a:pt x="900" y="14"/>
                    </a:lnTo>
                    <a:lnTo>
                      <a:pt x="880" y="22"/>
                    </a:lnTo>
                    <a:lnTo>
                      <a:pt x="858" y="31"/>
                    </a:lnTo>
                    <a:lnTo>
                      <a:pt x="838" y="42"/>
                    </a:lnTo>
                    <a:lnTo>
                      <a:pt x="819" y="55"/>
                    </a:lnTo>
                    <a:lnTo>
                      <a:pt x="799" y="69"/>
                    </a:lnTo>
                    <a:lnTo>
                      <a:pt x="780" y="83"/>
                    </a:lnTo>
                    <a:lnTo>
                      <a:pt x="763" y="100"/>
                    </a:lnTo>
                    <a:lnTo>
                      <a:pt x="745" y="117"/>
                    </a:lnTo>
                    <a:lnTo>
                      <a:pt x="728" y="136"/>
                    </a:lnTo>
                    <a:lnTo>
                      <a:pt x="711" y="157"/>
                    </a:lnTo>
                    <a:lnTo>
                      <a:pt x="695" y="177"/>
                    </a:lnTo>
                    <a:lnTo>
                      <a:pt x="680" y="199"/>
                    </a:lnTo>
                    <a:lnTo>
                      <a:pt x="650" y="246"/>
                    </a:lnTo>
                    <a:lnTo>
                      <a:pt x="622" y="296"/>
                    </a:lnTo>
                    <a:lnTo>
                      <a:pt x="595" y="348"/>
                    </a:lnTo>
                    <a:lnTo>
                      <a:pt x="572" y="402"/>
                    </a:lnTo>
                    <a:lnTo>
                      <a:pt x="548" y="459"/>
                    </a:lnTo>
                    <a:lnTo>
                      <a:pt x="528" y="518"/>
                    </a:lnTo>
                    <a:lnTo>
                      <a:pt x="509" y="576"/>
                    </a:lnTo>
                    <a:lnTo>
                      <a:pt x="490" y="636"/>
                    </a:lnTo>
                    <a:lnTo>
                      <a:pt x="474" y="695"/>
                    </a:lnTo>
                    <a:lnTo>
                      <a:pt x="460" y="755"/>
                    </a:lnTo>
                    <a:lnTo>
                      <a:pt x="446" y="813"/>
                    </a:lnTo>
                    <a:lnTo>
                      <a:pt x="434" y="871"/>
                    </a:lnTo>
                    <a:lnTo>
                      <a:pt x="415" y="977"/>
                    </a:lnTo>
                    <a:lnTo>
                      <a:pt x="399" y="1074"/>
                    </a:lnTo>
                    <a:lnTo>
                      <a:pt x="387" y="1156"/>
                    </a:lnTo>
                    <a:lnTo>
                      <a:pt x="379" y="1219"/>
                    </a:lnTo>
                    <a:lnTo>
                      <a:pt x="374" y="1273"/>
                    </a:lnTo>
                    <a:lnTo>
                      <a:pt x="365" y="1428"/>
                    </a:lnTo>
                    <a:lnTo>
                      <a:pt x="0" y="1428"/>
                    </a:lnTo>
                    <a:lnTo>
                      <a:pt x="0" y="1433"/>
                    </a:lnTo>
                    <a:lnTo>
                      <a:pt x="736" y="1950"/>
                    </a:lnTo>
                    <a:lnTo>
                      <a:pt x="1636" y="1433"/>
                    </a:lnTo>
                    <a:lnTo>
                      <a:pt x="1636" y="1428"/>
                    </a:lnTo>
                    <a:lnTo>
                      <a:pt x="1275" y="1428"/>
                    </a:lnTo>
                    <a:lnTo>
                      <a:pt x="1278" y="1273"/>
                    </a:lnTo>
                    <a:close/>
                  </a:path>
                </a:pathLst>
              </a:custGeom>
              <a:gradFill rotWithShape="0">
                <a:gsLst>
                  <a:gs pos="0">
                    <a:srgbClr val="ded560"/>
                  </a:gs>
                  <a:gs pos="100000">
                    <a:srgbClr val="aca32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nvGrpSpPr>
            <p:cNvPr id="129" name="Group 56"/>
            <p:cNvGrpSpPr/>
            <p:nvPr/>
          </p:nvGrpSpPr>
          <p:grpSpPr>
            <a:xfrm>
              <a:off x="6100200" y="1573200"/>
              <a:ext cx="2166120" cy="2872080"/>
              <a:chOff x="6100200" y="1573200"/>
              <a:chExt cx="2166120" cy="2872080"/>
            </a:xfrm>
          </p:grpSpPr>
          <p:sp>
            <p:nvSpPr>
              <p:cNvPr id="130" name="Freeform 5"/>
              <p:cNvSpPr/>
              <p:nvPr/>
            </p:nvSpPr>
            <p:spPr>
              <a:xfrm flipH="1">
                <a:off x="6099840" y="1573200"/>
                <a:ext cx="651960" cy="2230560"/>
              </a:xfrm>
              <a:custGeom>
                <a:avLst/>
                <a:gdLst>
                  <a:gd name="textAreaLeft" fmla="*/ -360 w 651960"/>
                  <a:gd name="textAreaRight" fmla="*/ 651960 w 651960"/>
                  <a:gd name="textAreaTop" fmla="*/ 0 h 2230560"/>
                  <a:gd name="textAreaBottom" fmla="*/ 2230920 h 2230560"/>
                </a:gdLst>
                <a:ahLst/>
                <a:rect l="textAreaLeft" t="textAreaTop" r="textAreaRight" b="textAreaBottom"/>
                <a:pathLst>
                  <a:path w="981" h="3355">
                    <a:moveTo>
                      <a:pt x="683" y="3355"/>
                    </a:moveTo>
                    <a:lnTo>
                      <a:pt x="683" y="3355"/>
                    </a:lnTo>
                    <a:lnTo>
                      <a:pt x="707" y="3354"/>
                    </a:lnTo>
                    <a:lnTo>
                      <a:pt x="727" y="3350"/>
                    </a:lnTo>
                    <a:lnTo>
                      <a:pt x="748" y="3344"/>
                    </a:lnTo>
                    <a:lnTo>
                      <a:pt x="766" y="3336"/>
                    </a:lnTo>
                    <a:lnTo>
                      <a:pt x="785" y="3325"/>
                    </a:lnTo>
                    <a:lnTo>
                      <a:pt x="801" y="3314"/>
                    </a:lnTo>
                    <a:lnTo>
                      <a:pt x="817" y="3300"/>
                    </a:lnTo>
                    <a:lnTo>
                      <a:pt x="831" y="3286"/>
                    </a:lnTo>
                    <a:lnTo>
                      <a:pt x="845" y="3269"/>
                    </a:lnTo>
                    <a:lnTo>
                      <a:pt x="857" y="3252"/>
                    </a:lnTo>
                    <a:lnTo>
                      <a:pt x="868" y="3233"/>
                    </a:lnTo>
                    <a:lnTo>
                      <a:pt x="879" y="3214"/>
                    </a:lnTo>
                    <a:lnTo>
                      <a:pt x="889" y="3194"/>
                    </a:lnTo>
                    <a:lnTo>
                      <a:pt x="896" y="3173"/>
                    </a:lnTo>
                    <a:lnTo>
                      <a:pt x="912" y="3133"/>
                    </a:lnTo>
                    <a:lnTo>
                      <a:pt x="925" y="3090"/>
                    </a:lnTo>
                    <a:lnTo>
                      <a:pt x="934" y="3050"/>
                    </a:lnTo>
                    <a:lnTo>
                      <a:pt x="940" y="3012"/>
                    </a:lnTo>
                    <a:lnTo>
                      <a:pt x="947" y="2979"/>
                    </a:lnTo>
                    <a:lnTo>
                      <a:pt x="951" y="2928"/>
                    </a:lnTo>
                    <a:lnTo>
                      <a:pt x="953" y="2909"/>
                    </a:lnTo>
                    <a:lnTo>
                      <a:pt x="981" y="0"/>
                    </a:lnTo>
                    <a:lnTo>
                      <a:pt x="353" y="0"/>
                    </a:lnTo>
                    <a:lnTo>
                      <a:pt x="270" y="2909"/>
                    </a:lnTo>
                    <a:lnTo>
                      <a:pt x="268" y="2928"/>
                    </a:lnTo>
                    <a:lnTo>
                      <a:pt x="264" y="2979"/>
                    </a:lnTo>
                    <a:lnTo>
                      <a:pt x="257" y="3012"/>
                    </a:lnTo>
                    <a:lnTo>
                      <a:pt x="251" y="3050"/>
                    </a:lnTo>
                    <a:lnTo>
                      <a:pt x="242" y="3090"/>
                    </a:lnTo>
                    <a:lnTo>
                      <a:pt x="229" y="3133"/>
                    </a:lnTo>
                    <a:lnTo>
                      <a:pt x="213" y="3173"/>
                    </a:lnTo>
                    <a:lnTo>
                      <a:pt x="206" y="3194"/>
                    </a:lnTo>
                    <a:lnTo>
                      <a:pt x="195" y="3214"/>
                    </a:lnTo>
                    <a:lnTo>
                      <a:pt x="185" y="3233"/>
                    </a:lnTo>
                    <a:lnTo>
                      <a:pt x="174" y="3252"/>
                    </a:lnTo>
                    <a:lnTo>
                      <a:pt x="162" y="3269"/>
                    </a:lnTo>
                    <a:lnTo>
                      <a:pt x="148" y="3286"/>
                    </a:lnTo>
                    <a:lnTo>
                      <a:pt x="134" y="3300"/>
                    </a:lnTo>
                    <a:lnTo>
                      <a:pt x="118" y="3314"/>
                    </a:lnTo>
                    <a:lnTo>
                      <a:pt x="101" y="3325"/>
                    </a:lnTo>
                    <a:lnTo>
                      <a:pt x="83" y="3336"/>
                    </a:lnTo>
                    <a:lnTo>
                      <a:pt x="65" y="3344"/>
                    </a:lnTo>
                    <a:lnTo>
                      <a:pt x="44" y="3350"/>
                    </a:lnTo>
                    <a:lnTo>
                      <a:pt x="22" y="3354"/>
                    </a:lnTo>
                    <a:lnTo>
                      <a:pt x="0" y="3355"/>
                    </a:lnTo>
                    <a:lnTo>
                      <a:pt x="683" y="3355"/>
                    </a:lnTo>
                    <a:close/>
                  </a:path>
                </a:pathLst>
              </a:custGeom>
              <a:gradFill rotWithShape="0">
                <a:gsLst>
                  <a:gs pos="0">
                    <a:srgbClr val="ebe374"/>
                  </a:gs>
                  <a:gs pos="100000">
                    <a:srgbClr val="d3cb50"/>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31" name="Freeform 6"/>
              <p:cNvSpPr/>
              <p:nvPr/>
            </p:nvSpPr>
            <p:spPr>
              <a:xfrm flipH="1">
                <a:off x="6304680" y="3148920"/>
                <a:ext cx="1007280" cy="654480"/>
              </a:xfrm>
              <a:custGeom>
                <a:avLst/>
                <a:gdLst>
                  <a:gd name="textAreaLeft" fmla="*/ 360 w 1007280"/>
                  <a:gd name="textAreaRight" fmla="*/ 1008000 w 1007280"/>
                  <a:gd name="textAreaTop" fmla="*/ 0 h 654480"/>
                  <a:gd name="textAreaBottom" fmla="*/ 654840 h 654480"/>
                </a:gdLst>
                <a:ahLst/>
                <a:rect l="textAreaLeft" t="textAreaTop" r="textAreaRight" b="textAreaBottom"/>
                <a:pathLst>
                  <a:path w="1515" h="985">
                    <a:moveTo>
                      <a:pt x="877" y="985"/>
                    </a:moveTo>
                    <a:lnTo>
                      <a:pt x="877" y="985"/>
                    </a:lnTo>
                    <a:lnTo>
                      <a:pt x="851" y="984"/>
                    </a:lnTo>
                    <a:lnTo>
                      <a:pt x="826" y="980"/>
                    </a:lnTo>
                    <a:lnTo>
                      <a:pt x="802" y="974"/>
                    </a:lnTo>
                    <a:lnTo>
                      <a:pt x="780" y="965"/>
                    </a:lnTo>
                    <a:lnTo>
                      <a:pt x="758" y="955"/>
                    </a:lnTo>
                    <a:lnTo>
                      <a:pt x="740" y="943"/>
                    </a:lnTo>
                    <a:lnTo>
                      <a:pt x="721" y="929"/>
                    </a:lnTo>
                    <a:lnTo>
                      <a:pt x="704" y="913"/>
                    </a:lnTo>
                    <a:lnTo>
                      <a:pt x="686" y="896"/>
                    </a:lnTo>
                    <a:lnTo>
                      <a:pt x="672" y="877"/>
                    </a:lnTo>
                    <a:lnTo>
                      <a:pt x="658" y="858"/>
                    </a:lnTo>
                    <a:lnTo>
                      <a:pt x="644" y="838"/>
                    </a:lnTo>
                    <a:lnTo>
                      <a:pt x="632" y="818"/>
                    </a:lnTo>
                    <a:lnTo>
                      <a:pt x="621" y="796"/>
                    </a:lnTo>
                    <a:lnTo>
                      <a:pt x="602" y="753"/>
                    </a:lnTo>
                    <a:lnTo>
                      <a:pt x="585" y="709"/>
                    </a:lnTo>
                    <a:lnTo>
                      <a:pt x="572" y="667"/>
                    </a:lnTo>
                    <a:lnTo>
                      <a:pt x="561" y="628"/>
                    </a:lnTo>
                    <a:lnTo>
                      <a:pt x="553" y="594"/>
                    </a:lnTo>
                    <a:lnTo>
                      <a:pt x="545" y="540"/>
                    </a:lnTo>
                    <a:lnTo>
                      <a:pt x="542" y="520"/>
                    </a:lnTo>
                    <a:lnTo>
                      <a:pt x="539" y="498"/>
                    </a:lnTo>
                    <a:lnTo>
                      <a:pt x="534" y="473"/>
                    </a:lnTo>
                    <a:lnTo>
                      <a:pt x="528" y="438"/>
                    </a:lnTo>
                    <a:lnTo>
                      <a:pt x="517" y="399"/>
                    </a:lnTo>
                    <a:lnTo>
                      <a:pt x="503" y="355"/>
                    </a:lnTo>
                    <a:lnTo>
                      <a:pt x="494" y="332"/>
                    </a:lnTo>
                    <a:lnTo>
                      <a:pt x="483" y="308"/>
                    </a:lnTo>
                    <a:lnTo>
                      <a:pt x="472" y="285"/>
                    </a:lnTo>
                    <a:lnTo>
                      <a:pt x="459" y="260"/>
                    </a:lnTo>
                    <a:lnTo>
                      <a:pt x="445" y="236"/>
                    </a:lnTo>
                    <a:lnTo>
                      <a:pt x="428" y="211"/>
                    </a:lnTo>
                    <a:lnTo>
                      <a:pt x="411" y="188"/>
                    </a:lnTo>
                    <a:lnTo>
                      <a:pt x="392" y="164"/>
                    </a:lnTo>
                    <a:lnTo>
                      <a:pt x="372" y="142"/>
                    </a:lnTo>
                    <a:lnTo>
                      <a:pt x="348" y="121"/>
                    </a:lnTo>
                    <a:lnTo>
                      <a:pt x="323" y="100"/>
                    </a:lnTo>
                    <a:lnTo>
                      <a:pt x="296" y="81"/>
                    </a:lnTo>
                    <a:lnTo>
                      <a:pt x="268" y="64"/>
                    </a:lnTo>
                    <a:lnTo>
                      <a:pt x="237" y="48"/>
                    </a:lnTo>
                    <a:lnTo>
                      <a:pt x="204" y="34"/>
                    </a:lnTo>
                    <a:lnTo>
                      <a:pt x="168" y="22"/>
                    </a:lnTo>
                    <a:lnTo>
                      <a:pt x="130" y="12"/>
                    </a:lnTo>
                    <a:lnTo>
                      <a:pt x="90" y="6"/>
                    </a:lnTo>
                    <a:lnTo>
                      <a:pt x="47" y="1"/>
                    </a:lnTo>
                    <a:lnTo>
                      <a:pt x="0" y="0"/>
                    </a:lnTo>
                    <a:lnTo>
                      <a:pt x="823" y="0"/>
                    </a:lnTo>
                    <a:lnTo>
                      <a:pt x="856" y="1"/>
                    </a:lnTo>
                    <a:lnTo>
                      <a:pt x="888" y="6"/>
                    </a:lnTo>
                    <a:lnTo>
                      <a:pt x="918" y="12"/>
                    </a:lnTo>
                    <a:lnTo>
                      <a:pt x="946" y="22"/>
                    </a:lnTo>
                    <a:lnTo>
                      <a:pt x="973" y="34"/>
                    </a:lnTo>
                    <a:lnTo>
                      <a:pt x="998" y="48"/>
                    </a:lnTo>
                    <a:lnTo>
                      <a:pt x="1022" y="64"/>
                    </a:lnTo>
                    <a:lnTo>
                      <a:pt x="1044" y="81"/>
                    </a:lnTo>
                    <a:lnTo>
                      <a:pt x="1064" y="100"/>
                    </a:lnTo>
                    <a:lnTo>
                      <a:pt x="1083" y="121"/>
                    </a:lnTo>
                    <a:lnTo>
                      <a:pt x="1101" y="142"/>
                    </a:lnTo>
                    <a:lnTo>
                      <a:pt x="1117" y="164"/>
                    </a:lnTo>
                    <a:lnTo>
                      <a:pt x="1133" y="188"/>
                    </a:lnTo>
                    <a:lnTo>
                      <a:pt x="1147" y="211"/>
                    </a:lnTo>
                    <a:lnTo>
                      <a:pt x="1159" y="236"/>
                    </a:lnTo>
                    <a:lnTo>
                      <a:pt x="1170" y="260"/>
                    </a:lnTo>
                    <a:lnTo>
                      <a:pt x="1189" y="308"/>
                    </a:lnTo>
                    <a:lnTo>
                      <a:pt x="1205" y="355"/>
                    </a:lnTo>
                    <a:lnTo>
                      <a:pt x="1217" y="399"/>
                    </a:lnTo>
                    <a:lnTo>
                      <a:pt x="1227" y="438"/>
                    </a:lnTo>
                    <a:lnTo>
                      <a:pt x="1233" y="473"/>
                    </a:lnTo>
                    <a:lnTo>
                      <a:pt x="1238" y="498"/>
                    </a:lnTo>
                    <a:lnTo>
                      <a:pt x="1239" y="520"/>
                    </a:lnTo>
                    <a:lnTo>
                      <a:pt x="1244" y="540"/>
                    </a:lnTo>
                    <a:lnTo>
                      <a:pt x="1255" y="594"/>
                    </a:lnTo>
                    <a:lnTo>
                      <a:pt x="1263" y="628"/>
                    </a:lnTo>
                    <a:lnTo>
                      <a:pt x="1274" y="667"/>
                    </a:lnTo>
                    <a:lnTo>
                      <a:pt x="1286" y="709"/>
                    </a:lnTo>
                    <a:lnTo>
                      <a:pt x="1302" y="753"/>
                    </a:lnTo>
                    <a:lnTo>
                      <a:pt x="1319" y="796"/>
                    </a:lnTo>
                    <a:lnTo>
                      <a:pt x="1340" y="838"/>
                    </a:lnTo>
                    <a:lnTo>
                      <a:pt x="1351" y="858"/>
                    </a:lnTo>
                    <a:lnTo>
                      <a:pt x="1361" y="877"/>
                    </a:lnTo>
                    <a:lnTo>
                      <a:pt x="1374" y="896"/>
                    </a:lnTo>
                    <a:lnTo>
                      <a:pt x="1387" y="913"/>
                    </a:lnTo>
                    <a:lnTo>
                      <a:pt x="1401" y="929"/>
                    </a:lnTo>
                    <a:lnTo>
                      <a:pt x="1415" y="943"/>
                    </a:lnTo>
                    <a:lnTo>
                      <a:pt x="1429" y="955"/>
                    </a:lnTo>
                    <a:lnTo>
                      <a:pt x="1445" y="965"/>
                    </a:lnTo>
                    <a:lnTo>
                      <a:pt x="1462" y="974"/>
                    </a:lnTo>
                    <a:lnTo>
                      <a:pt x="1479" y="980"/>
                    </a:lnTo>
                    <a:lnTo>
                      <a:pt x="1496" y="984"/>
                    </a:lnTo>
                    <a:lnTo>
                      <a:pt x="1515" y="985"/>
                    </a:lnTo>
                    <a:lnTo>
                      <a:pt x="877" y="985"/>
                    </a:lnTo>
                    <a:close/>
                  </a:path>
                </a:pathLst>
              </a:custGeom>
              <a:gradFill rotWithShape="0">
                <a:gsLst>
                  <a:gs pos="0">
                    <a:srgbClr val="544f0d"/>
                  </a:gs>
                  <a:gs pos="100000">
                    <a:srgbClr val="a09728"/>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32" name="Freeform 7"/>
              <p:cNvSpPr/>
              <p:nvPr/>
            </p:nvSpPr>
            <p:spPr>
              <a:xfrm flipH="1">
                <a:off x="6786000" y="3148920"/>
                <a:ext cx="1479960" cy="1296360"/>
              </a:xfrm>
              <a:custGeom>
                <a:avLst/>
                <a:gdLst>
                  <a:gd name="textAreaLeft" fmla="*/ -360 w 1479960"/>
                  <a:gd name="textAreaRight" fmla="*/ 1479960 w 1479960"/>
                  <a:gd name="textAreaTop" fmla="*/ 0 h 1296360"/>
                  <a:gd name="textAreaBottom" fmla="*/ 1296720 h 1296360"/>
                </a:gdLst>
                <a:ahLst/>
                <a:rect l="textAreaLeft" t="textAreaTop" r="textAreaRight" b="textAreaBottom"/>
                <a:pathLst>
                  <a:path w="2226" h="1950">
                    <a:moveTo>
                      <a:pt x="2226" y="0"/>
                    </a:moveTo>
                    <a:lnTo>
                      <a:pt x="1460" y="0"/>
                    </a:lnTo>
                    <a:lnTo>
                      <a:pt x="1418" y="1"/>
                    </a:lnTo>
                    <a:lnTo>
                      <a:pt x="1377" y="3"/>
                    </a:lnTo>
                    <a:lnTo>
                      <a:pt x="1336" y="8"/>
                    </a:lnTo>
                    <a:lnTo>
                      <a:pt x="1297" y="14"/>
                    </a:lnTo>
                    <a:lnTo>
                      <a:pt x="1258" y="22"/>
                    </a:lnTo>
                    <a:lnTo>
                      <a:pt x="1220" y="31"/>
                    </a:lnTo>
                    <a:lnTo>
                      <a:pt x="1184" y="42"/>
                    </a:lnTo>
                    <a:lnTo>
                      <a:pt x="1150" y="55"/>
                    </a:lnTo>
                    <a:lnTo>
                      <a:pt x="1115" y="69"/>
                    </a:lnTo>
                    <a:lnTo>
                      <a:pt x="1081" y="83"/>
                    </a:lnTo>
                    <a:lnTo>
                      <a:pt x="1049" y="100"/>
                    </a:lnTo>
                    <a:lnTo>
                      <a:pt x="1018" y="117"/>
                    </a:lnTo>
                    <a:lnTo>
                      <a:pt x="987" y="136"/>
                    </a:lnTo>
                    <a:lnTo>
                      <a:pt x="959" y="157"/>
                    </a:lnTo>
                    <a:lnTo>
                      <a:pt x="929" y="177"/>
                    </a:lnTo>
                    <a:lnTo>
                      <a:pt x="902" y="199"/>
                    </a:lnTo>
                    <a:lnTo>
                      <a:pt x="876" y="222"/>
                    </a:lnTo>
                    <a:lnTo>
                      <a:pt x="849" y="246"/>
                    </a:lnTo>
                    <a:lnTo>
                      <a:pt x="824" y="269"/>
                    </a:lnTo>
                    <a:lnTo>
                      <a:pt x="800" y="296"/>
                    </a:lnTo>
                    <a:lnTo>
                      <a:pt x="777" y="321"/>
                    </a:lnTo>
                    <a:lnTo>
                      <a:pt x="755" y="348"/>
                    </a:lnTo>
                    <a:lnTo>
                      <a:pt x="733" y="376"/>
                    </a:lnTo>
                    <a:lnTo>
                      <a:pt x="711" y="402"/>
                    </a:lnTo>
                    <a:lnTo>
                      <a:pt x="672" y="459"/>
                    </a:lnTo>
                    <a:lnTo>
                      <a:pt x="636" y="518"/>
                    </a:lnTo>
                    <a:lnTo>
                      <a:pt x="603" y="576"/>
                    </a:lnTo>
                    <a:lnTo>
                      <a:pt x="572" y="636"/>
                    </a:lnTo>
                    <a:lnTo>
                      <a:pt x="544" y="695"/>
                    </a:lnTo>
                    <a:lnTo>
                      <a:pt x="518" y="755"/>
                    </a:lnTo>
                    <a:lnTo>
                      <a:pt x="495" y="813"/>
                    </a:lnTo>
                    <a:lnTo>
                      <a:pt x="475" y="871"/>
                    </a:lnTo>
                    <a:lnTo>
                      <a:pt x="457" y="926"/>
                    </a:lnTo>
                    <a:lnTo>
                      <a:pt x="440" y="977"/>
                    </a:lnTo>
                    <a:lnTo>
                      <a:pt x="426" y="1027"/>
                    </a:lnTo>
                    <a:lnTo>
                      <a:pt x="415" y="1074"/>
                    </a:lnTo>
                    <a:lnTo>
                      <a:pt x="396" y="1156"/>
                    </a:lnTo>
                    <a:lnTo>
                      <a:pt x="384" y="1219"/>
                    </a:lnTo>
                    <a:lnTo>
                      <a:pt x="376" y="1258"/>
                    </a:lnTo>
                    <a:lnTo>
                      <a:pt x="374" y="1273"/>
                    </a:lnTo>
                    <a:lnTo>
                      <a:pt x="348" y="1428"/>
                    </a:lnTo>
                    <a:lnTo>
                      <a:pt x="0" y="1428"/>
                    </a:lnTo>
                    <a:lnTo>
                      <a:pt x="0" y="1433"/>
                    </a:lnTo>
                    <a:lnTo>
                      <a:pt x="710" y="1950"/>
                    </a:lnTo>
                    <a:lnTo>
                      <a:pt x="1637" y="1433"/>
                    </a:lnTo>
                    <a:lnTo>
                      <a:pt x="1637" y="1428"/>
                    </a:lnTo>
                    <a:lnTo>
                      <a:pt x="1245" y="1428"/>
                    </a:lnTo>
                    <a:lnTo>
                      <a:pt x="1278" y="1273"/>
                    </a:lnTo>
                    <a:lnTo>
                      <a:pt x="1291" y="1219"/>
                    </a:lnTo>
                    <a:lnTo>
                      <a:pt x="1306" y="1156"/>
                    </a:lnTo>
                    <a:lnTo>
                      <a:pt x="1330" y="1074"/>
                    </a:lnTo>
                    <a:lnTo>
                      <a:pt x="1360" y="977"/>
                    </a:lnTo>
                    <a:lnTo>
                      <a:pt x="1378" y="926"/>
                    </a:lnTo>
                    <a:lnTo>
                      <a:pt x="1397" y="871"/>
                    </a:lnTo>
                    <a:lnTo>
                      <a:pt x="1419" y="813"/>
                    </a:lnTo>
                    <a:lnTo>
                      <a:pt x="1443" y="755"/>
                    </a:lnTo>
                    <a:lnTo>
                      <a:pt x="1468" y="695"/>
                    </a:lnTo>
                    <a:lnTo>
                      <a:pt x="1496" y="636"/>
                    </a:lnTo>
                    <a:lnTo>
                      <a:pt x="1526" y="576"/>
                    </a:lnTo>
                    <a:lnTo>
                      <a:pt x="1557" y="518"/>
                    </a:lnTo>
                    <a:lnTo>
                      <a:pt x="1590" y="459"/>
                    </a:lnTo>
                    <a:lnTo>
                      <a:pt x="1626" y="402"/>
                    </a:lnTo>
                    <a:lnTo>
                      <a:pt x="1663" y="348"/>
                    </a:lnTo>
                    <a:lnTo>
                      <a:pt x="1703" y="296"/>
                    </a:lnTo>
                    <a:lnTo>
                      <a:pt x="1745" y="246"/>
                    </a:lnTo>
                    <a:lnTo>
                      <a:pt x="1767" y="222"/>
                    </a:lnTo>
                    <a:lnTo>
                      <a:pt x="1790" y="199"/>
                    </a:lnTo>
                    <a:lnTo>
                      <a:pt x="1812" y="177"/>
                    </a:lnTo>
                    <a:lnTo>
                      <a:pt x="1836" y="157"/>
                    </a:lnTo>
                    <a:lnTo>
                      <a:pt x="1861" y="136"/>
                    </a:lnTo>
                    <a:lnTo>
                      <a:pt x="1884" y="117"/>
                    </a:lnTo>
                    <a:lnTo>
                      <a:pt x="1909" y="100"/>
                    </a:lnTo>
                    <a:lnTo>
                      <a:pt x="1936" y="83"/>
                    </a:lnTo>
                    <a:lnTo>
                      <a:pt x="1963" y="69"/>
                    </a:lnTo>
                    <a:lnTo>
                      <a:pt x="1989" y="55"/>
                    </a:lnTo>
                    <a:lnTo>
                      <a:pt x="2017" y="42"/>
                    </a:lnTo>
                    <a:lnTo>
                      <a:pt x="2044" y="31"/>
                    </a:lnTo>
                    <a:lnTo>
                      <a:pt x="2074" y="22"/>
                    </a:lnTo>
                    <a:lnTo>
                      <a:pt x="2104" y="14"/>
                    </a:lnTo>
                    <a:lnTo>
                      <a:pt x="2133" y="8"/>
                    </a:lnTo>
                    <a:lnTo>
                      <a:pt x="2163" y="3"/>
                    </a:lnTo>
                    <a:lnTo>
                      <a:pt x="2194" y="1"/>
                    </a:lnTo>
                    <a:lnTo>
                      <a:pt x="2226" y="0"/>
                    </a:lnTo>
                    <a:close/>
                  </a:path>
                </a:pathLst>
              </a:custGeom>
              <a:gradFill rotWithShape="0">
                <a:gsLst>
                  <a:gs pos="0">
                    <a:srgbClr val="ded560"/>
                  </a:gs>
                  <a:gs pos="100000">
                    <a:srgbClr val="aca32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nvGrpSpPr>
            <p:cNvPr id="133" name="Group 60"/>
            <p:cNvGrpSpPr/>
            <p:nvPr/>
          </p:nvGrpSpPr>
          <p:grpSpPr>
            <a:xfrm>
              <a:off x="5294160" y="1573200"/>
              <a:ext cx="1539720" cy="2872080"/>
              <a:chOff x="5294160" y="1573200"/>
              <a:chExt cx="1539720" cy="2872080"/>
            </a:xfrm>
          </p:grpSpPr>
          <p:sp>
            <p:nvSpPr>
              <p:cNvPr id="134" name="Freeform 61"/>
              <p:cNvSpPr/>
              <p:nvPr/>
            </p:nvSpPr>
            <p:spPr>
              <a:xfrm flipH="1">
                <a:off x="5293800" y="1573200"/>
                <a:ext cx="633960" cy="2230560"/>
              </a:xfrm>
              <a:custGeom>
                <a:avLst/>
                <a:gdLst>
                  <a:gd name="textAreaLeft" fmla="*/ -360 w 633960"/>
                  <a:gd name="textAreaRight" fmla="*/ 633960 w 633960"/>
                  <a:gd name="textAreaTop" fmla="*/ 0 h 2230560"/>
                  <a:gd name="textAreaBottom" fmla="*/ 2230920 h 2230560"/>
                </a:gdLst>
                <a:ahLst/>
                <a:rect l="textAreaLeft" t="textAreaTop" r="textAreaRight" b="textAreaBottom"/>
                <a:pathLst>
                  <a:path w="954" h="3355">
                    <a:moveTo>
                      <a:pt x="685" y="3355"/>
                    </a:moveTo>
                    <a:lnTo>
                      <a:pt x="685" y="3355"/>
                    </a:lnTo>
                    <a:lnTo>
                      <a:pt x="707" y="3354"/>
                    </a:lnTo>
                    <a:lnTo>
                      <a:pt x="729" y="3350"/>
                    </a:lnTo>
                    <a:lnTo>
                      <a:pt x="747" y="3344"/>
                    </a:lnTo>
                    <a:lnTo>
                      <a:pt x="766" y="3336"/>
                    </a:lnTo>
                    <a:lnTo>
                      <a:pt x="783" y="3325"/>
                    </a:lnTo>
                    <a:lnTo>
                      <a:pt x="799" y="3314"/>
                    </a:lnTo>
                    <a:lnTo>
                      <a:pt x="815" y="3300"/>
                    </a:lnTo>
                    <a:lnTo>
                      <a:pt x="827" y="3286"/>
                    </a:lnTo>
                    <a:lnTo>
                      <a:pt x="840" y="3269"/>
                    </a:lnTo>
                    <a:lnTo>
                      <a:pt x="851" y="3252"/>
                    </a:lnTo>
                    <a:lnTo>
                      <a:pt x="862" y="3233"/>
                    </a:lnTo>
                    <a:lnTo>
                      <a:pt x="871" y="3214"/>
                    </a:lnTo>
                    <a:lnTo>
                      <a:pt x="879" y="3194"/>
                    </a:lnTo>
                    <a:lnTo>
                      <a:pt x="887" y="3173"/>
                    </a:lnTo>
                    <a:lnTo>
                      <a:pt x="899" y="3133"/>
                    </a:lnTo>
                    <a:lnTo>
                      <a:pt x="909" y="3090"/>
                    </a:lnTo>
                    <a:lnTo>
                      <a:pt x="915" y="3050"/>
                    </a:lnTo>
                    <a:lnTo>
                      <a:pt x="921" y="3012"/>
                    </a:lnTo>
                    <a:lnTo>
                      <a:pt x="924" y="2979"/>
                    </a:lnTo>
                    <a:lnTo>
                      <a:pt x="926" y="2928"/>
                    </a:lnTo>
                    <a:lnTo>
                      <a:pt x="926" y="2909"/>
                    </a:lnTo>
                    <a:lnTo>
                      <a:pt x="954" y="0"/>
                    </a:lnTo>
                    <a:lnTo>
                      <a:pt x="326" y="0"/>
                    </a:lnTo>
                    <a:lnTo>
                      <a:pt x="243" y="2909"/>
                    </a:lnTo>
                    <a:lnTo>
                      <a:pt x="243" y="2928"/>
                    </a:lnTo>
                    <a:lnTo>
                      <a:pt x="240" y="2979"/>
                    </a:lnTo>
                    <a:lnTo>
                      <a:pt x="237" y="3012"/>
                    </a:lnTo>
                    <a:lnTo>
                      <a:pt x="232" y="3050"/>
                    </a:lnTo>
                    <a:lnTo>
                      <a:pt x="226" y="3090"/>
                    </a:lnTo>
                    <a:lnTo>
                      <a:pt x="216" y="3133"/>
                    </a:lnTo>
                    <a:lnTo>
                      <a:pt x="204" y="3173"/>
                    </a:lnTo>
                    <a:lnTo>
                      <a:pt x="196" y="3194"/>
                    </a:lnTo>
                    <a:lnTo>
                      <a:pt x="188" y="3214"/>
                    </a:lnTo>
                    <a:lnTo>
                      <a:pt x="179" y="3233"/>
                    </a:lnTo>
                    <a:lnTo>
                      <a:pt x="168" y="3252"/>
                    </a:lnTo>
                    <a:lnTo>
                      <a:pt x="157" y="3269"/>
                    </a:lnTo>
                    <a:lnTo>
                      <a:pt x="144" y="3286"/>
                    </a:lnTo>
                    <a:lnTo>
                      <a:pt x="130" y="3300"/>
                    </a:lnTo>
                    <a:lnTo>
                      <a:pt x="116" y="3314"/>
                    </a:lnTo>
                    <a:lnTo>
                      <a:pt x="101" y="3325"/>
                    </a:lnTo>
                    <a:lnTo>
                      <a:pt x="83" y="3336"/>
                    </a:lnTo>
                    <a:lnTo>
                      <a:pt x="65" y="3344"/>
                    </a:lnTo>
                    <a:lnTo>
                      <a:pt x="44" y="3350"/>
                    </a:lnTo>
                    <a:lnTo>
                      <a:pt x="24" y="3354"/>
                    </a:lnTo>
                    <a:lnTo>
                      <a:pt x="0" y="3355"/>
                    </a:lnTo>
                    <a:lnTo>
                      <a:pt x="685" y="3355"/>
                    </a:lnTo>
                    <a:close/>
                  </a:path>
                </a:pathLst>
              </a:custGeom>
              <a:gradFill rotWithShape="0">
                <a:gsLst>
                  <a:gs pos="0">
                    <a:srgbClr val="ebe374"/>
                  </a:gs>
                  <a:gs pos="100000">
                    <a:srgbClr val="d3cb50"/>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35" name="Freeform 62"/>
              <p:cNvSpPr/>
              <p:nvPr/>
            </p:nvSpPr>
            <p:spPr>
              <a:xfrm flipH="1">
                <a:off x="5479920" y="3148920"/>
                <a:ext cx="675360" cy="654480"/>
              </a:xfrm>
              <a:custGeom>
                <a:avLst/>
                <a:gdLst>
                  <a:gd name="textAreaLeft" fmla="*/ 360 w 675360"/>
                  <a:gd name="textAreaRight" fmla="*/ 676080 w 675360"/>
                  <a:gd name="textAreaTop" fmla="*/ 0 h 654480"/>
                  <a:gd name="textAreaBottom" fmla="*/ 654840 h 654480"/>
                </a:gdLst>
                <a:ahLst/>
                <a:rect l="textAreaLeft" t="textAreaTop" r="textAreaRight" b="textAreaBottom"/>
                <a:pathLst>
                  <a:path w="1016" h="985">
                    <a:moveTo>
                      <a:pt x="352" y="985"/>
                    </a:moveTo>
                    <a:lnTo>
                      <a:pt x="352" y="985"/>
                    </a:lnTo>
                    <a:lnTo>
                      <a:pt x="335" y="984"/>
                    </a:lnTo>
                    <a:lnTo>
                      <a:pt x="319" y="980"/>
                    </a:lnTo>
                    <a:lnTo>
                      <a:pt x="305" y="974"/>
                    </a:lnTo>
                    <a:lnTo>
                      <a:pt x="291" y="965"/>
                    </a:lnTo>
                    <a:lnTo>
                      <a:pt x="279" y="955"/>
                    </a:lnTo>
                    <a:lnTo>
                      <a:pt x="268" y="943"/>
                    </a:lnTo>
                    <a:lnTo>
                      <a:pt x="257" y="929"/>
                    </a:lnTo>
                    <a:lnTo>
                      <a:pt x="246" y="913"/>
                    </a:lnTo>
                    <a:lnTo>
                      <a:pt x="238" y="896"/>
                    </a:lnTo>
                    <a:lnTo>
                      <a:pt x="229" y="877"/>
                    </a:lnTo>
                    <a:lnTo>
                      <a:pt x="221" y="858"/>
                    </a:lnTo>
                    <a:lnTo>
                      <a:pt x="215" y="838"/>
                    </a:lnTo>
                    <a:lnTo>
                      <a:pt x="204" y="796"/>
                    </a:lnTo>
                    <a:lnTo>
                      <a:pt x="194" y="753"/>
                    </a:lnTo>
                    <a:lnTo>
                      <a:pt x="186" y="709"/>
                    </a:lnTo>
                    <a:lnTo>
                      <a:pt x="182" y="667"/>
                    </a:lnTo>
                    <a:lnTo>
                      <a:pt x="177" y="628"/>
                    </a:lnTo>
                    <a:lnTo>
                      <a:pt x="175" y="594"/>
                    </a:lnTo>
                    <a:lnTo>
                      <a:pt x="172" y="540"/>
                    </a:lnTo>
                    <a:lnTo>
                      <a:pt x="172" y="520"/>
                    </a:lnTo>
                    <a:lnTo>
                      <a:pt x="174" y="498"/>
                    </a:lnTo>
                    <a:lnTo>
                      <a:pt x="172" y="438"/>
                    </a:lnTo>
                    <a:lnTo>
                      <a:pt x="172" y="399"/>
                    </a:lnTo>
                    <a:lnTo>
                      <a:pt x="169" y="355"/>
                    </a:lnTo>
                    <a:lnTo>
                      <a:pt x="164" y="308"/>
                    </a:lnTo>
                    <a:lnTo>
                      <a:pt x="160" y="260"/>
                    </a:lnTo>
                    <a:lnTo>
                      <a:pt x="150" y="211"/>
                    </a:lnTo>
                    <a:lnTo>
                      <a:pt x="139" y="164"/>
                    </a:lnTo>
                    <a:lnTo>
                      <a:pt x="133" y="142"/>
                    </a:lnTo>
                    <a:lnTo>
                      <a:pt x="125" y="121"/>
                    </a:lnTo>
                    <a:lnTo>
                      <a:pt x="117" y="100"/>
                    </a:lnTo>
                    <a:lnTo>
                      <a:pt x="108" y="81"/>
                    </a:lnTo>
                    <a:lnTo>
                      <a:pt x="99" y="64"/>
                    </a:lnTo>
                    <a:lnTo>
                      <a:pt x="88" y="48"/>
                    </a:lnTo>
                    <a:lnTo>
                      <a:pt x="75" y="34"/>
                    </a:lnTo>
                    <a:lnTo>
                      <a:pt x="63" y="22"/>
                    </a:lnTo>
                    <a:lnTo>
                      <a:pt x="49" y="12"/>
                    </a:lnTo>
                    <a:lnTo>
                      <a:pt x="33" y="6"/>
                    </a:lnTo>
                    <a:lnTo>
                      <a:pt x="17" y="1"/>
                    </a:lnTo>
                    <a:lnTo>
                      <a:pt x="0" y="0"/>
                    </a:lnTo>
                    <a:lnTo>
                      <a:pt x="647" y="0"/>
                    </a:lnTo>
                    <a:lnTo>
                      <a:pt x="662" y="1"/>
                    </a:lnTo>
                    <a:lnTo>
                      <a:pt x="678" y="6"/>
                    </a:lnTo>
                    <a:lnTo>
                      <a:pt x="691" y="12"/>
                    </a:lnTo>
                    <a:lnTo>
                      <a:pt x="705" y="22"/>
                    </a:lnTo>
                    <a:lnTo>
                      <a:pt x="716" y="34"/>
                    </a:lnTo>
                    <a:lnTo>
                      <a:pt x="727" y="48"/>
                    </a:lnTo>
                    <a:lnTo>
                      <a:pt x="738" y="64"/>
                    </a:lnTo>
                    <a:lnTo>
                      <a:pt x="745" y="81"/>
                    </a:lnTo>
                    <a:lnTo>
                      <a:pt x="755" y="100"/>
                    </a:lnTo>
                    <a:lnTo>
                      <a:pt x="763" y="121"/>
                    </a:lnTo>
                    <a:lnTo>
                      <a:pt x="769" y="142"/>
                    </a:lnTo>
                    <a:lnTo>
                      <a:pt x="775" y="164"/>
                    </a:lnTo>
                    <a:lnTo>
                      <a:pt x="786" y="211"/>
                    </a:lnTo>
                    <a:lnTo>
                      <a:pt x="794" y="260"/>
                    </a:lnTo>
                    <a:lnTo>
                      <a:pt x="800" y="308"/>
                    </a:lnTo>
                    <a:lnTo>
                      <a:pt x="805" y="355"/>
                    </a:lnTo>
                    <a:lnTo>
                      <a:pt x="806" y="399"/>
                    </a:lnTo>
                    <a:lnTo>
                      <a:pt x="808" y="438"/>
                    </a:lnTo>
                    <a:lnTo>
                      <a:pt x="810" y="498"/>
                    </a:lnTo>
                    <a:lnTo>
                      <a:pt x="810" y="520"/>
                    </a:lnTo>
                    <a:lnTo>
                      <a:pt x="810" y="540"/>
                    </a:lnTo>
                    <a:lnTo>
                      <a:pt x="813" y="594"/>
                    </a:lnTo>
                    <a:lnTo>
                      <a:pt x="817" y="628"/>
                    </a:lnTo>
                    <a:lnTo>
                      <a:pt x="822" y="667"/>
                    </a:lnTo>
                    <a:lnTo>
                      <a:pt x="828" y="709"/>
                    </a:lnTo>
                    <a:lnTo>
                      <a:pt x="836" y="753"/>
                    </a:lnTo>
                    <a:lnTo>
                      <a:pt x="849" y="796"/>
                    </a:lnTo>
                    <a:lnTo>
                      <a:pt x="861" y="838"/>
                    </a:lnTo>
                    <a:lnTo>
                      <a:pt x="869" y="858"/>
                    </a:lnTo>
                    <a:lnTo>
                      <a:pt x="878" y="877"/>
                    </a:lnTo>
                    <a:lnTo>
                      <a:pt x="888" y="896"/>
                    </a:lnTo>
                    <a:lnTo>
                      <a:pt x="899" y="913"/>
                    </a:lnTo>
                    <a:lnTo>
                      <a:pt x="910" y="929"/>
                    </a:lnTo>
                    <a:lnTo>
                      <a:pt x="922" y="943"/>
                    </a:lnTo>
                    <a:lnTo>
                      <a:pt x="935" y="955"/>
                    </a:lnTo>
                    <a:lnTo>
                      <a:pt x="949" y="965"/>
                    </a:lnTo>
                    <a:lnTo>
                      <a:pt x="965" y="974"/>
                    </a:lnTo>
                    <a:lnTo>
                      <a:pt x="980" y="980"/>
                    </a:lnTo>
                    <a:lnTo>
                      <a:pt x="997" y="984"/>
                    </a:lnTo>
                    <a:lnTo>
                      <a:pt x="1016" y="985"/>
                    </a:lnTo>
                    <a:lnTo>
                      <a:pt x="352" y="985"/>
                    </a:lnTo>
                    <a:close/>
                  </a:path>
                </a:pathLst>
              </a:custGeom>
              <a:gradFill rotWithShape="0">
                <a:gsLst>
                  <a:gs pos="0">
                    <a:srgbClr val="544f0d"/>
                  </a:gs>
                  <a:gs pos="100000">
                    <a:srgbClr val="a09728"/>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36" name="Freeform 63"/>
              <p:cNvSpPr/>
              <p:nvPr/>
            </p:nvSpPr>
            <p:spPr>
              <a:xfrm flipH="1">
                <a:off x="5719320" y="3148920"/>
                <a:ext cx="1114200" cy="1296360"/>
              </a:xfrm>
              <a:custGeom>
                <a:avLst/>
                <a:gdLst>
                  <a:gd name="textAreaLeft" fmla="*/ -360 w 1114200"/>
                  <a:gd name="textAreaRight" fmla="*/ 1114200 w 1114200"/>
                  <a:gd name="textAreaTop" fmla="*/ 0 h 1296360"/>
                  <a:gd name="textAreaBottom" fmla="*/ 1296720 h 1296360"/>
                </a:gdLst>
                <a:ahLst/>
                <a:rect l="textAreaLeft" t="textAreaTop" r="textAreaRight" b="textAreaBottom"/>
                <a:pathLst>
                  <a:path w="1676" h="1950">
                    <a:moveTo>
                      <a:pt x="1278" y="1273"/>
                    </a:moveTo>
                    <a:lnTo>
                      <a:pt x="1278" y="1273"/>
                    </a:lnTo>
                    <a:lnTo>
                      <a:pt x="1276" y="1219"/>
                    </a:lnTo>
                    <a:lnTo>
                      <a:pt x="1278" y="1156"/>
                    </a:lnTo>
                    <a:lnTo>
                      <a:pt x="1279" y="1074"/>
                    </a:lnTo>
                    <a:lnTo>
                      <a:pt x="1284" y="977"/>
                    </a:lnTo>
                    <a:lnTo>
                      <a:pt x="1292" y="871"/>
                    </a:lnTo>
                    <a:lnTo>
                      <a:pt x="1303" y="755"/>
                    </a:lnTo>
                    <a:lnTo>
                      <a:pt x="1311" y="695"/>
                    </a:lnTo>
                    <a:lnTo>
                      <a:pt x="1319" y="636"/>
                    </a:lnTo>
                    <a:lnTo>
                      <a:pt x="1328" y="576"/>
                    </a:lnTo>
                    <a:lnTo>
                      <a:pt x="1339" y="518"/>
                    </a:lnTo>
                    <a:lnTo>
                      <a:pt x="1350" y="459"/>
                    </a:lnTo>
                    <a:lnTo>
                      <a:pt x="1364" y="402"/>
                    </a:lnTo>
                    <a:lnTo>
                      <a:pt x="1380" y="348"/>
                    </a:lnTo>
                    <a:lnTo>
                      <a:pt x="1397" y="296"/>
                    </a:lnTo>
                    <a:lnTo>
                      <a:pt x="1416" y="246"/>
                    </a:lnTo>
                    <a:lnTo>
                      <a:pt x="1436" y="199"/>
                    </a:lnTo>
                    <a:lnTo>
                      <a:pt x="1458" y="157"/>
                    </a:lnTo>
                    <a:lnTo>
                      <a:pt x="1470" y="136"/>
                    </a:lnTo>
                    <a:lnTo>
                      <a:pt x="1483" y="117"/>
                    </a:lnTo>
                    <a:lnTo>
                      <a:pt x="1495" y="100"/>
                    </a:lnTo>
                    <a:lnTo>
                      <a:pt x="1508" y="83"/>
                    </a:lnTo>
                    <a:lnTo>
                      <a:pt x="1522" y="69"/>
                    </a:lnTo>
                    <a:lnTo>
                      <a:pt x="1538" y="55"/>
                    </a:lnTo>
                    <a:lnTo>
                      <a:pt x="1552" y="42"/>
                    </a:lnTo>
                    <a:lnTo>
                      <a:pt x="1567" y="31"/>
                    </a:lnTo>
                    <a:lnTo>
                      <a:pt x="1585" y="22"/>
                    </a:lnTo>
                    <a:lnTo>
                      <a:pt x="1602" y="14"/>
                    </a:lnTo>
                    <a:lnTo>
                      <a:pt x="1619" y="8"/>
                    </a:lnTo>
                    <a:lnTo>
                      <a:pt x="1638" y="3"/>
                    </a:lnTo>
                    <a:lnTo>
                      <a:pt x="1657" y="1"/>
                    </a:lnTo>
                    <a:lnTo>
                      <a:pt x="1676" y="0"/>
                    </a:lnTo>
                    <a:lnTo>
                      <a:pt x="993" y="0"/>
                    </a:lnTo>
                    <a:lnTo>
                      <a:pt x="968" y="1"/>
                    </a:lnTo>
                    <a:lnTo>
                      <a:pt x="946" y="3"/>
                    </a:lnTo>
                    <a:lnTo>
                      <a:pt x="922" y="8"/>
                    </a:lnTo>
                    <a:lnTo>
                      <a:pt x="900" y="14"/>
                    </a:lnTo>
                    <a:lnTo>
                      <a:pt x="880" y="22"/>
                    </a:lnTo>
                    <a:lnTo>
                      <a:pt x="858" y="31"/>
                    </a:lnTo>
                    <a:lnTo>
                      <a:pt x="838" y="42"/>
                    </a:lnTo>
                    <a:lnTo>
                      <a:pt x="819" y="55"/>
                    </a:lnTo>
                    <a:lnTo>
                      <a:pt x="799" y="69"/>
                    </a:lnTo>
                    <a:lnTo>
                      <a:pt x="780" y="83"/>
                    </a:lnTo>
                    <a:lnTo>
                      <a:pt x="763" y="100"/>
                    </a:lnTo>
                    <a:lnTo>
                      <a:pt x="745" y="117"/>
                    </a:lnTo>
                    <a:lnTo>
                      <a:pt x="728" y="136"/>
                    </a:lnTo>
                    <a:lnTo>
                      <a:pt x="711" y="157"/>
                    </a:lnTo>
                    <a:lnTo>
                      <a:pt x="695" y="177"/>
                    </a:lnTo>
                    <a:lnTo>
                      <a:pt x="680" y="199"/>
                    </a:lnTo>
                    <a:lnTo>
                      <a:pt x="650" y="246"/>
                    </a:lnTo>
                    <a:lnTo>
                      <a:pt x="622" y="296"/>
                    </a:lnTo>
                    <a:lnTo>
                      <a:pt x="595" y="348"/>
                    </a:lnTo>
                    <a:lnTo>
                      <a:pt x="572" y="402"/>
                    </a:lnTo>
                    <a:lnTo>
                      <a:pt x="548" y="459"/>
                    </a:lnTo>
                    <a:lnTo>
                      <a:pt x="528" y="518"/>
                    </a:lnTo>
                    <a:lnTo>
                      <a:pt x="509" y="576"/>
                    </a:lnTo>
                    <a:lnTo>
                      <a:pt x="490" y="636"/>
                    </a:lnTo>
                    <a:lnTo>
                      <a:pt x="474" y="695"/>
                    </a:lnTo>
                    <a:lnTo>
                      <a:pt x="460" y="755"/>
                    </a:lnTo>
                    <a:lnTo>
                      <a:pt x="446" y="813"/>
                    </a:lnTo>
                    <a:lnTo>
                      <a:pt x="434" y="871"/>
                    </a:lnTo>
                    <a:lnTo>
                      <a:pt x="415" y="977"/>
                    </a:lnTo>
                    <a:lnTo>
                      <a:pt x="399" y="1074"/>
                    </a:lnTo>
                    <a:lnTo>
                      <a:pt x="387" y="1156"/>
                    </a:lnTo>
                    <a:lnTo>
                      <a:pt x="379" y="1219"/>
                    </a:lnTo>
                    <a:lnTo>
                      <a:pt x="374" y="1273"/>
                    </a:lnTo>
                    <a:lnTo>
                      <a:pt x="365" y="1428"/>
                    </a:lnTo>
                    <a:lnTo>
                      <a:pt x="0" y="1428"/>
                    </a:lnTo>
                    <a:lnTo>
                      <a:pt x="0" y="1433"/>
                    </a:lnTo>
                    <a:lnTo>
                      <a:pt x="736" y="1950"/>
                    </a:lnTo>
                    <a:lnTo>
                      <a:pt x="1636" y="1433"/>
                    </a:lnTo>
                    <a:lnTo>
                      <a:pt x="1636" y="1428"/>
                    </a:lnTo>
                    <a:lnTo>
                      <a:pt x="1275" y="1428"/>
                    </a:lnTo>
                    <a:lnTo>
                      <a:pt x="1278" y="1273"/>
                    </a:lnTo>
                    <a:close/>
                  </a:path>
                </a:pathLst>
              </a:custGeom>
              <a:gradFill rotWithShape="0">
                <a:gsLst>
                  <a:gs pos="0">
                    <a:srgbClr val="ded560"/>
                  </a:gs>
                  <a:gs pos="100000">
                    <a:srgbClr val="aca32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sp>
        <p:nvSpPr>
          <p:cNvPr id="137" name="Rectangle 71"/>
          <p:cNvSpPr/>
          <p:nvPr/>
        </p:nvSpPr>
        <p:spPr>
          <a:xfrm>
            <a:off x="2904480" y="1257840"/>
            <a:ext cx="3642840" cy="315360"/>
          </a:xfrm>
          <a:prstGeom prst="round2SameRect">
            <a:avLst>
              <a:gd name="adj1" fmla="val 16667"/>
              <a:gd name="adj2" fmla="val 0"/>
            </a:avLst>
          </a:prstGeom>
          <a:gradFill rotWithShape="0">
            <a:gsLst>
              <a:gs pos="0">
                <a:srgbClr val="bbb230"/>
              </a:gs>
              <a:gs pos="100000">
                <a:srgbClr val="9b9828"/>
              </a:gs>
            </a:gsLst>
            <a:lin ang="2700000"/>
          </a:gradFill>
          <a:ln w="9525">
            <a:solidFill>
              <a:srgbClr val="858128"/>
            </a:solidFill>
            <a:miter/>
          </a:ln>
          <a:effectLst>
            <a:outerShdw algn="tl" blurRad="25560" dir="5400000" dist="12600" rotWithShape="0">
              <a:srgbClr val="000000">
                <a:alpha val="20000"/>
              </a:srgbClr>
            </a:outerShdw>
          </a:effectLst>
          <a:scene3d>
            <a:camera prst="orthographicFront"/>
            <a:lightRig dir="t" rig="threePt"/>
          </a:scene3d>
          <a:sp3d>
            <a:bevelT w="38100" h="6350"/>
            <a:bevelB w="38100" h="6350"/>
          </a:sp3d>
        </p:spPr>
        <p:style>
          <a:lnRef idx="0"/>
          <a:fillRef idx="0"/>
          <a:effectRef idx="0"/>
          <a:fontRef idx="minor"/>
        </p:style>
        <p:txBody>
          <a:bodyPr lIns="18360" rIns="18360" tIns="18360" bIns="18360" anchor="ctr" anchorCtr="1">
            <a:noAutofit/>
          </a:bodyPr>
          <a:p>
            <a:pPr algn="ctr">
              <a:lnSpc>
                <a:spcPct val="85000"/>
              </a:lnSpc>
              <a:spcBef>
                <a:spcPts val="400"/>
              </a:spcBef>
            </a:pPr>
            <a:r>
              <a:rPr b="0" lang="en-US" sz="2000" spc="-1" strike="noStrike">
                <a:solidFill>
                  <a:srgbClr val="ffffff"/>
                </a:solidFill>
                <a:latin typeface="Arial Narrow"/>
              </a:rPr>
              <a:t>Initial Element</a:t>
            </a:r>
            <a:endParaRPr b="0" lang="en-US" sz="2000" spc="-1" strike="noStrike">
              <a:solidFill>
                <a:srgbClr val="000000"/>
              </a:solidFill>
              <a:latin typeface="Arial"/>
            </a:endParaRPr>
          </a:p>
        </p:txBody>
      </p:sp>
      <p:sp>
        <p:nvSpPr>
          <p:cNvPr id="138" name="Rectangle 70"/>
          <p:cNvSpPr/>
          <p:nvPr/>
        </p:nvSpPr>
        <p:spPr>
          <a:xfrm>
            <a:off x="2110320" y="347040"/>
            <a:ext cx="5207400" cy="910440"/>
          </a:xfrm>
          <a:prstGeom prst="rect">
            <a:avLst/>
          </a:prstGeom>
          <a:noFill/>
          <a:ln w="9525">
            <a:noFill/>
          </a:ln>
        </p:spPr>
        <p:style>
          <a:lnRef idx="0"/>
          <a:fillRef idx="0"/>
          <a:effectRef idx="0"/>
          <a:fontRef idx="minor"/>
        </p:style>
        <p:txBody>
          <a:bodyPr lIns="45720" rIns="27360" tIns="18360" bIns="18360" anchor="t">
            <a:noAutofit/>
          </a:bodyPr>
          <a:p>
            <a:pPr algn="ctr">
              <a:lnSpc>
                <a:spcPct val="85000"/>
              </a:lnSpc>
              <a:spcBef>
                <a:spcPts val="201"/>
              </a:spcBef>
            </a:pPr>
            <a:r>
              <a:rPr b="0" lang="en-US" sz="2800" spc="-1" strike="noStrike">
                <a:solidFill>
                  <a:srgbClr val="bababa"/>
                </a:solidFill>
                <a:latin typeface="Arial Narrow"/>
              </a:rPr>
              <a:t>Start</a:t>
            </a:r>
            <a:endParaRPr b="0" lang="en-US" sz="2800" spc="-1" strike="noStrike">
              <a:solidFill>
                <a:srgbClr val="ffffff"/>
              </a:solidFill>
              <a:latin typeface="Arial"/>
            </a:endParaRPr>
          </a:p>
          <a:p>
            <a:pPr algn="ctr">
              <a:lnSpc>
                <a:spcPct val="85000"/>
              </a:lnSpc>
              <a:spcBef>
                <a:spcPts val="201"/>
              </a:spcBef>
            </a:pPr>
            <a:r>
              <a:rPr b="0" lang="en-US" sz="1600" spc="-1" strike="noStrike">
                <a:solidFill>
                  <a:srgbClr val="bababa"/>
                </a:solidFill>
                <a:latin typeface="Arial Narrow"/>
              </a:rPr>
              <a:t>Place additional content here. Your content can be placed in this area. Place additional content here.</a:t>
            </a:r>
            <a:endParaRPr b="0" lang="en-US" sz="1600" spc="-1" strike="noStrike">
              <a:solidFill>
                <a:srgbClr val="ffffff"/>
              </a:solidFill>
              <a:latin typeface="Arial"/>
            </a:endParaRPr>
          </a:p>
        </p:txBody>
      </p:sp>
      <p:grpSp>
        <p:nvGrpSpPr>
          <p:cNvPr id="139" name="Group 75"/>
          <p:cNvGrpSpPr/>
          <p:nvPr/>
        </p:nvGrpSpPr>
        <p:grpSpPr>
          <a:xfrm>
            <a:off x="685800" y="4515840"/>
            <a:ext cx="8091720" cy="770040"/>
            <a:chOff x="685800" y="4515840"/>
            <a:chExt cx="8091720" cy="770040"/>
          </a:xfrm>
        </p:grpSpPr>
        <p:grpSp>
          <p:nvGrpSpPr>
            <p:cNvPr id="140" name="Group 74"/>
            <p:cNvGrpSpPr/>
            <p:nvPr/>
          </p:nvGrpSpPr>
          <p:grpSpPr>
            <a:xfrm>
              <a:off x="685800" y="4515840"/>
              <a:ext cx="1389240" cy="770040"/>
              <a:chOff x="685800" y="4515840"/>
              <a:chExt cx="1389240" cy="770040"/>
            </a:xfrm>
          </p:grpSpPr>
          <p:sp>
            <p:nvSpPr>
              <p:cNvPr id="141" name="Rectangle 36"/>
              <p:cNvSpPr/>
              <p:nvPr/>
            </p:nvSpPr>
            <p:spPr>
              <a:xfrm>
                <a:off x="685800" y="4834800"/>
                <a:ext cx="1389240" cy="451080"/>
              </a:xfrm>
              <a:prstGeom prst="rect">
                <a:avLst/>
              </a:prstGeom>
              <a:gradFill rotWithShape="0">
                <a:gsLst>
                  <a:gs pos="0">
                    <a:srgbClr val="f9f073"/>
                  </a:gs>
                  <a:gs pos="100000">
                    <a:srgbClr val="ffffff">
                      <a:alpha val="0"/>
                    </a:srgbClr>
                  </a:gs>
                </a:gsLst>
                <a:lin ang="5400000"/>
              </a:gradFill>
              <a:ln w="9525">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595959"/>
                  </a:buClr>
                  <a:buFont typeface="Symbol" charset="2"/>
                  <a:buChar char=""/>
                </a:pPr>
                <a:r>
                  <a:rPr b="0" lang="en-US" sz="1600" spc="-1" strike="noStrike">
                    <a:solidFill>
                      <a:srgbClr val="595959"/>
                    </a:solidFill>
                    <a:latin typeface="Arial Narrow"/>
                  </a:rPr>
                  <a:t>Sample text</a:t>
                </a:r>
                <a:endParaRPr b="0" lang="en-US" sz="1600" spc="-1" strike="noStrike">
                  <a:solidFill>
                    <a:srgbClr val="000000"/>
                  </a:solidFill>
                  <a:latin typeface="Arial"/>
                </a:endParaRPr>
              </a:p>
              <a:p>
                <a:pPr marL="111240" indent="-111240">
                  <a:lnSpc>
                    <a:spcPct val="85000"/>
                  </a:lnSpc>
                  <a:spcBef>
                    <a:spcPts val="201"/>
                  </a:spcBef>
                  <a:buClr>
                    <a:srgbClr val="595959"/>
                  </a:buClr>
                  <a:buFont typeface="Symbol" charset="2"/>
                  <a:buChar char=""/>
                </a:pPr>
                <a:r>
                  <a:rPr b="0" lang="en-US" sz="1600" spc="-1" strike="noStrike">
                    <a:solidFill>
                      <a:srgbClr val="595959"/>
                    </a:solidFill>
                    <a:latin typeface="Arial Narrow"/>
                  </a:rPr>
                  <a:t>Sample text 2</a:t>
                </a:r>
                <a:endParaRPr b="0" lang="en-US" sz="1600" spc="-1" strike="noStrike">
                  <a:solidFill>
                    <a:srgbClr val="000000"/>
                  </a:solidFill>
                  <a:latin typeface="Arial"/>
                </a:endParaRPr>
              </a:p>
            </p:txBody>
          </p:sp>
          <p:sp>
            <p:nvSpPr>
              <p:cNvPr id="142" name="Rectangle 90"/>
              <p:cNvSpPr/>
              <p:nvPr/>
            </p:nvSpPr>
            <p:spPr>
              <a:xfrm>
                <a:off x="686520" y="4515840"/>
                <a:ext cx="1387440" cy="315000"/>
              </a:xfrm>
              <a:prstGeom prst="rect">
                <a:avLst/>
              </a:prstGeom>
              <a:gradFill rotWithShape="0">
                <a:gsLst>
                  <a:gs pos="0">
                    <a:srgbClr val="999626"/>
                  </a:gs>
                  <a:gs pos="100000">
                    <a:srgbClr val="767416"/>
                  </a:gs>
                </a:gsLst>
                <a:lin ang="2700000"/>
              </a:gradFill>
              <a:ln w="9525">
                <a:solidFill>
                  <a:srgbClr val="5d5b17"/>
                </a:solidFill>
                <a:miter/>
              </a:ln>
              <a:effectLst>
                <a:outerShdw algn="tl" blurRad="25560" dir="5400000" dist="12600" rotWithShape="0">
                  <a:srgbClr val="000000">
                    <a:alpha val="20000"/>
                  </a:srgbClr>
                </a:outerShdw>
              </a:effectLst>
              <a:scene3d>
                <a:camera prst="orthographicFront"/>
                <a:lightRig dir="t" rig="threePt"/>
              </a:scene3d>
              <a:sp3d>
                <a:bevelT w="38100" h="6350"/>
                <a:bevelB w="38100" h="6350"/>
              </a:sp3d>
            </p:spPr>
            <p:style>
              <a:lnRef idx="0"/>
              <a:fillRef idx="0"/>
              <a:effectRef idx="0"/>
              <a:fontRef idx="minor"/>
            </p:style>
            <p:txBody>
              <a:bodyPr lIns="18360" rIns="18360" tIns="18360" bIns="18360" anchor="ctr" anchorCtr="1">
                <a:noAutofit/>
              </a:bodyPr>
              <a:p>
                <a:pPr algn="ctr">
                  <a:lnSpc>
                    <a:spcPct val="85000"/>
                  </a:lnSpc>
                  <a:spcBef>
                    <a:spcPts val="400"/>
                  </a:spcBef>
                </a:pPr>
                <a:r>
                  <a:rPr b="0" lang="en-US" sz="2000" spc="-1" strike="noStrike">
                    <a:solidFill>
                      <a:srgbClr val="ffffff"/>
                    </a:solidFill>
                    <a:latin typeface="Arial Narrow"/>
                  </a:rPr>
                  <a:t>Output 1</a:t>
                </a:r>
                <a:endParaRPr b="0" lang="en-US" sz="2000" spc="-1" strike="noStrike">
                  <a:solidFill>
                    <a:srgbClr val="000000"/>
                  </a:solidFill>
                  <a:latin typeface="Arial"/>
                </a:endParaRPr>
              </a:p>
            </p:txBody>
          </p:sp>
        </p:grpSp>
        <p:grpSp>
          <p:nvGrpSpPr>
            <p:cNvPr id="143" name="Group 75"/>
            <p:cNvGrpSpPr/>
            <p:nvPr/>
          </p:nvGrpSpPr>
          <p:grpSpPr>
            <a:xfrm>
              <a:off x="2361600" y="4515840"/>
              <a:ext cx="1389240" cy="770040"/>
              <a:chOff x="2361600" y="4515840"/>
              <a:chExt cx="1389240" cy="770040"/>
            </a:xfrm>
          </p:grpSpPr>
          <p:sp>
            <p:nvSpPr>
              <p:cNvPr id="144" name="Rectangle 36"/>
              <p:cNvSpPr/>
              <p:nvPr/>
            </p:nvSpPr>
            <p:spPr>
              <a:xfrm>
                <a:off x="2361600" y="4834800"/>
                <a:ext cx="1389240" cy="451080"/>
              </a:xfrm>
              <a:prstGeom prst="rect">
                <a:avLst/>
              </a:prstGeom>
              <a:gradFill rotWithShape="0">
                <a:gsLst>
                  <a:gs pos="0">
                    <a:srgbClr val="f9f073"/>
                  </a:gs>
                  <a:gs pos="100000">
                    <a:srgbClr val="ffffff">
                      <a:alpha val="0"/>
                    </a:srgbClr>
                  </a:gs>
                </a:gsLst>
                <a:lin ang="5400000"/>
              </a:gradFill>
              <a:ln w="9525">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595959"/>
                  </a:buClr>
                  <a:buFont typeface="Symbol" charset="2"/>
                  <a:buChar char=""/>
                </a:pPr>
                <a:r>
                  <a:rPr b="0" lang="en-US" sz="1600" spc="-1" strike="noStrike">
                    <a:solidFill>
                      <a:srgbClr val="595959"/>
                    </a:solidFill>
                    <a:latin typeface="Arial Narrow"/>
                  </a:rPr>
                  <a:t>Sample text</a:t>
                </a:r>
                <a:endParaRPr b="0" lang="en-US" sz="1600" spc="-1" strike="noStrike">
                  <a:solidFill>
                    <a:srgbClr val="000000"/>
                  </a:solidFill>
                  <a:latin typeface="Arial"/>
                </a:endParaRPr>
              </a:p>
              <a:p>
                <a:pPr marL="111240" indent="-111240">
                  <a:lnSpc>
                    <a:spcPct val="85000"/>
                  </a:lnSpc>
                  <a:spcBef>
                    <a:spcPts val="201"/>
                  </a:spcBef>
                  <a:buClr>
                    <a:srgbClr val="595959"/>
                  </a:buClr>
                  <a:buFont typeface="Symbol" charset="2"/>
                  <a:buChar char=""/>
                </a:pPr>
                <a:r>
                  <a:rPr b="0" lang="en-US" sz="1600" spc="-1" strike="noStrike">
                    <a:solidFill>
                      <a:srgbClr val="595959"/>
                    </a:solidFill>
                    <a:latin typeface="Arial Narrow"/>
                  </a:rPr>
                  <a:t>Sample text 2</a:t>
                </a:r>
                <a:endParaRPr b="0" lang="en-US" sz="1600" spc="-1" strike="noStrike">
                  <a:solidFill>
                    <a:srgbClr val="000000"/>
                  </a:solidFill>
                  <a:latin typeface="Arial"/>
                </a:endParaRPr>
              </a:p>
            </p:txBody>
          </p:sp>
          <p:sp>
            <p:nvSpPr>
              <p:cNvPr id="145" name="Rectangle 88"/>
              <p:cNvSpPr/>
              <p:nvPr/>
            </p:nvSpPr>
            <p:spPr>
              <a:xfrm>
                <a:off x="2362320" y="4515840"/>
                <a:ext cx="1387440" cy="315000"/>
              </a:xfrm>
              <a:prstGeom prst="rect">
                <a:avLst/>
              </a:prstGeom>
              <a:gradFill rotWithShape="0">
                <a:gsLst>
                  <a:gs pos="0">
                    <a:srgbClr val="999626"/>
                  </a:gs>
                  <a:gs pos="100000">
                    <a:srgbClr val="767416"/>
                  </a:gs>
                </a:gsLst>
                <a:lin ang="2700000"/>
              </a:gradFill>
              <a:ln w="9525">
                <a:solidFill>
                  <a:srgbClr val="5d5b17"/>
                </a:solidFill>
                <a:miter/>
              </a:ln>
              <a:effectLst>
                <a:outerShdw algn="tl" blurRad="25560" dir="5400000" dist="12600" rotWithShape="0">
                  <a:srgbClr val="000000">
                    <a:alpha val="20000"/>
                  </a:srgbClr>
                </a:outerShdw>
              </a:effectLst>
              <a:scene3d>
                <a:camera prst="orthographicFront"/>
                <a:lightRig dir="t" rig="threePt"/>
              </a:scene3d>
              <a:sp3d>
                <a:bevelT w="38100" h="6350"/>
                <a:bevelB w="38100" h="6350"/>
              </a:sp3d>
            </p:spPr>
            <p:style>
              <a:lnRef idx="0"/>
              <a:fillRef idx="0"/>
              <a:effectRef idx="0"/>
              <a:fontRef idx="minor"/>
            </p:style>
            <p:txBody>
              <a:bodyPr lIns="18360" rIns="18360" tIns="18360" bIns="18360" anchor="ctr" anchorCtr="1">
                <a:noAutofit/>
              </a:bodyPr>
              <a:p>
                <a:pPr algn="ctr">
                  <a:lnSpc>
                    <a:spcPct val="85000"/>
                  </a:lnSpc>
                  <a:spcBef>
                    <a:spcPts val="400"/>
                  </a:spcBef>
                </a:pPr>
                <a:r>
                  <a:rPr b="0" lang="en-US" sz="2000" spc="-1" strike="noStrike">
                    <a:solidFill>
                      <a:srgbClr val="ffffff"/>
                    </a:solidFill>
                    <a:latin typeface="Arial Narrow"/>
                  </a:rPr>
                  <a:t>Output 2</a:t>
                </a:r>
                <a:endParaRPr b="0" lang="en-US" sz="2000" spc="-1" strike="noStrike">
                  <a:solidFill>
                    <a:srgbClr val="000000"/>
                  </a:solidFill>
                  <a:latin typeface="Arial"/>
                </a:endParaRPr>
              </a:p>
            </p:txBody>
          </p:sp>
        </p:grpSp>
        <p:grpSp>
          <p:nvGrpSpPr>
            <p:cNvPr id="146" name="Group 78"/>
            <p:cNvGrpSpPr/>
            <p:nvPr/>
          </p:nvGrpSpPr>
          <p:grpSpPr>
            <a:xfrm>
              <a:off x="4037040" y="4515840"/>
              <a:ext cx="1389240" cy="770040"/>
              <a:chOff x="4037040" y="4515840"/>
              <a:chExt cx="1389240" cy="770040"/>
            </a:xfrm>
          </p:grpSpPr>
          <p:sp>
            <p:nvSpPr>
              <p:cNvPr id="147" name="Rectangle 36"/>
              <p:cNvSpPr/>
              <p:nvPr/>
            </p:nvSpPr>
            <p:spPr>
              <a:xfrm>
                <a:off x="4037040" y="4834800"/>
                <a:ext cx="1389240" cy="451080"/>
              </a:xfrm>
              <a:prstGeom prst="rect">
                <a:avLst/>
              </a:prstGeom>
              <a:gradFill rotWithShape="0">
                <a:gsLst>
                  <a:gs pos="0">
                    <a:srgbClr val="f9f073"/>
                  </a:gs>
                  <a:gs pos="100000">
                    <a:srgbClr val="ffffff">
                      <a:alpha val="0"/>
                    </a:srgbClr>
                  </a:gs>
                </a:gsLst>
                <a:lin ang="5400000"/>
              </a:gradFill>
              <a:ln w="9525">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595959"/>
                  </a:buClr>
                  <a:buFont typeface="Symbol" charset="2"/>
                  <a:buChar char=""/>
                </a:pPr>
                <a:r>
                  <a:rPr b="0" lang="en-US" sz="1600" spc="-1" strike="noStrike">
                    <a:solidFill>
                      <a:srgbClr val="595959"/>
                    </a:solidFill>
                    <a:latin typeface="Arial Narrow"/>
                  </a:rPr>
                  <a:t>Sample text</a:t>
                </a:r>
                <a:endParaRPr b="0" lang="en-US" sz="1600" spc="-1" strike="noStrike">
                  <a:solidFill>
                    <a:srgbClr val="000000"/>
                  </a:solidFill>
                  <a:latin typeface="Arial"/>
                </a:endParaRPr>
              </a:p>
              <a:p>
                <a:pPr marL="111240" indent="-111240">
                  <a:lnSpc>
                    <a:spcPct val="85000"/>
                  </a:lnSpc>
                  <a:spcBef>
                    <a:spcPts val="201"/>
                  </a:spcBef>
                  <a:buClr>
                    <a:srgbClr val="595959"/>
                  </a:buClr>
                  <a:buFont typeface="Symbol" charset="2"/>
                  <a:buChar char=""/>
                </a:pPr>
                <a:r>
                  <a:rPr b="0" lang="en-US" sz="1600" spc="-1" strike="noStrike">
                    <a:solidFill>
                      <a:srgbClr val="595959"/>
                    </a:solidFill>
                    <a:latin typeface="Arial Narrow"/>
                  </a:rPr>
                  <a:t>Sample text 2</a:t>
                </a:r>
                <a:endParaRPr b="0" lang="en-US" sz="1600" spc="-1" strike="noStrike">
                  <a:solidFill>
                    <a:srgbClr val="000000"/>
                  </a:solidFill>
                  <a:latin typeface="Arial"/>
                </a:endParaRPr>
              </a:p>
            </p:txBody>
          </p:sp>
          <p:sp>
            <p:nvSpPr>
              <p:cNvPr id="148" name="Rectangle 86"/>
              <p:cNvSpPr/>
              <p:nvPr/>
            </p:nvSpPr>
            <p:spPr>
              <a:xfrm>
                <a:off x="4037760" y="4515840"/>
                <a:ext cx="1387440" cy="315000"/>
              </a:xfrm>
              <a:prstGeom prst="rect">
                <a:avLst/>
              </a:prstGeom>
              <a:gradFill rotWithShape="0">
                <a:gsLst>
                  <a:gs pos="0">
                    <a:srgbClr val="999626"/>
                  </a:gs>
                  <a:gs pos="100000">
                    <a:srgbClr val="767416"/>
                  </a:gs>
                </a:gsLst>
                <a:lin ang="2700000"/>
              </a:gradFill>
              <a:ln w="9525">
                <a:solidFill>
                  <a:srgbClr val="5d5b17"/>
                </a:solidFill>
                <a:miter/>
              </a:ln>
              <a:effectLst>
                <a:outerShdw algn="tl" blurRad="25560" dir="5400000" dist="12600" rotWithShape="0">
                  <a:srgbClr val="000000">
                    <a:alpha val="20000"/>
                  </a:srgbClr>
                </a:outerShdw>
              </a:effectLst>
              <a:scene3d>
                <a:camera prst="orthographicFront"/>
                <a:lightRig dir="t" rig="threePt"/>
              </a:scene3d>
              <a:sp3d>
                <a:bevelT w="38100" h="6350"/>
                <a:bevelB w="38100" h="6350"/>
              </a:sp3d>
            </p:spPr>
            <p:style>
              <a:lnRef idx="0"/>
              <a:fillRef idx="0"/>
              <a:effectRef idx="0"/>
              <a:fontRef idx="minor"/>
            </p:style>
            <p:txBody>
              <a:bodyPr lIns="18360" rIns="18360" tIns="18360" bIns="18360" anchor="ctr" anchorCtr="1">
                <a:noAutofit/>
              </a:bodyPr>
              <a:p>
                <a:pPr algn="ctr">
                  <a:lnSpc>
                    <a:spcPct val="85000"/>
                  </a:lnSpc>
                  <a:spcBef>
                    <a:spcPts val="400"/>
                  </a:spcBef>
                </a:pPr>
                <a:r>
                  <a:rPr b="0" lang="en-US" sz="2000" spc="-1" strike="noStrike">
                    <a:solidFill>
                      <a:srgbClr val="ffffff"/>
                    </a:solidFill>
                    <a:latin typeface="Arial Narrow"/>
                  </a:rPr>
                  <a:t>Output 3</a:t>
                </a:r>
                <a:endParaRPr b="0" lang="en-US" sz="2000" spc="-1" strike="noStrike">
                  <a:solidFill>
                    <a:srgbClr val="000000"/>
                  </a:solidFill>
                  <a:latin typeface="Arial"/>
                </a:endParaRPr>
              </a:p>
            </p:txBody>
          </p:sp>
        </p:grpSp>
        <p:grpSp>
          <p:nvGrpSpPr>
            <p:cNvPr id="149" name="Group 81"/>
            <p:cNvGrpSpPr/>
            <p:nvPr/>
          </p:nvGrpSpPr>
          <p:grpSpPr>
            <a:xfrm>
              <a:off x="5712840" y="4515840"/>
              <a:ext cx="1389240" cy="770040"/>
              <a:chOff x="5712840" y="4515840"/>
              <a:chExt cx="1389240" cy="770040"/>
            </a:xfrm>
          </p:grpSpPr>
          <p:sp>
            <p:nvSpPr>
              <p:cNvPr id="150" name="Rectangle 36"/>
              <p:cNvSpPr/>
              <p:nvPr/>
            </p:nvSpPr>
            <p:spPr>
              <a:xfrm>
                <a:off x="5712840" y="4834800"/>
                <a:ext cx="1389240" cy="451080"/>
              </a:xfrm>
              <a:prstGeom prst="rect">
                <a:avLst/>
              </a:prstGeom>
              <a:gradFill rotWithShape="0">
                <a:gsLst>
                  <a:gs pos="0">
                    <a:srgbClr val="f9f073"/>
                  </a:gs>
                  <a:gs pos="100000">
                    <a:srgbClr val="ffffff">
                      <a:alpha val="0"/>
                    </a:srgbClr>
                  </a:gs>
                </a:gsLst>
                <a:lin ang="5400000"/>
              </a:gradFill>
              <a:ln w="9525">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595959"/>
                  </a:buClr>
                  <a:buFont typeface="Symbol" charset="2"/>
                  <a:buChar char=""/>
                </a:pPr>
                <a:r>
                  <a:rPr b="0" lang="en-US" sz="1600" spc="-1" strike="noStrike">
                    <a:solidFill>
                      <a:srgbClr val="595959"/>
                    </a:solidFill>
                    <a:latin typeface="Arial Narrow"/>
                  </a:rPr>
                  <a:t>Sample text</a:t>
                </a:r>
                <a:endParaRPr b="0" lang="en-US" sz="1600" spc="-1" strike="noStrike">
                  <a:solidFill>
                    <a:srgbClr val="000000"/>
                  </a:solidFill>
                  <a:latin typeface="Arial"/>
                </a:endParaRPr>
              </a:p>
              <a:p>
                <a:pPr marL="111240" indent="-111240">
                  <a:lnSpc>
                    <a:spcPct val="85000"/>
                  </a:lnSpc>
                  <a:spcBef>
                    <a:spcPts val="201"/>
                  </a:spcBef>
                  <a:buClr>
                    <a:srgbClr val="595959"/>
                  </a:buClr>
                  <a:buFont typeface="Symbol" charset="2"/>
                  <a:buChar char=""/>
                </a:pPr>
                <a:r>
                  <a:rPr b="0" lang="en-US" sz="1600" spc="-1" strike="noStrike">
                    <a:solidFill>
                      <a:srgbClr val="595959"/>
                    </a:solidFill>
                    <a:latin typeface="Arial Narrow"/>
                  </a:rPr>
                  <a:t>Sample text 2</a:t>
                </a:r>
                <a:endParaRPr b="0" lang="en-US" sz="1600" spc="-1" strike="noStrike">
                  <a:solidFill>
                    <a:srgbClr val="000000"/>
                  </a:solidFill>
                  <a:latin typeface="Arial"/>
                </a:endParaRPr>
              </a:p>
            </p:txBody>
          </p:sp>
          <p:sp>
            <p:nvSpPr>
              <p:cNvPr id="151" name="Rectangle 84"/>
              <p:cNvSpPr/>
              <p:nvPr/>
            </p:nvSpPr>
            <p:spPr>
              <a:xfrm>
                <a:off x="5713560" y="4515840"/>
                <a:ext cx="1387440" cy="315000"/>
              </a:xfrm>
              <a:prstGeom prst="rect">
                <a:avLst/>
              </a:prstGeom>
              <a:gradFill rotWithShape="0">
                <a:gsLst>
                  <a:gs pos="0">
                    <a:srgbClr val="999626"/>
                  </a:gs>
                  <a:gs pos="100000">
                    <a:srgbClr val="767416"/>
                  </a:gs>
                </a:gsLst>
                <a:lin ang="2700000"/>
              </a:gradFill>
              <a:ln w="9525">
                <a:solidFill>
                  <a:srgbClr val="5d5b17"/>
                </a:solidFill>
                <a:miter/>
              </a:ln>
              <a:effectLst>
                <a:outerShdw algn="tl" blurRad="25560" dir="5400000" dist="12600" rotWithShape="0">
                  <a:srgbClr val="000000">
                    <a:alpha val="20000"/>
                  </a:srgbClr>
                </a:outerShdw>
              </a:effectLst>
              <a:scene3d>
                <a:camera prst="orthographicFront"/>
                <a:lightRig dir="t" rig="threePt"/>
              </a:scene3d>
              <a:sp3d>
                <a:bevelT w="38100" h="6350"/>
                <a:bevelB w="38100" h="6350"/>
              </a:sp3d>
            </p:spPr>
            <p:style>
              <a:lnRef idx="0"/>
              <a:fillRef idx="0"/>
              <a:effectRef idx="0"/>
              <a:fontRef idx="minor"/>
            </p:style>
            <p:txBody>
              <a:bodyPr lIns="18360" rIns="18360" tIns="18360" bIns="18360" anchor="ctr" anchorCtr="1">
                <a:noAutofit/>
              </a:bodyPr>
              <a:p>
                <a:pPr algn="ctr">
                  <a:lnSpc>
                    <a:spcPct val="85000"/>
                  </a:lnSpc>
                  <a:spcBef>
                    <a:spcPts val="400"/>
                  </a:spcBef>
                </a:pPr>
                <a:r>
                  <a:rPr b="0" lang="en-US" sz="2000" spc="-1" strike="noStrike">
                    <a:solidFill>
                      <a:srgbClr val="ffffff"/>
                    </a:solidFill>
                    <a:latin typeface="Arial Narrow"/>
                  </a:rPr>
                  <a:t>Output 4</a:t>
                </a:r>
                <a:endParaRPr b="0" lang="en-US" sz="2000" spc="-1" strike="noStrike">
                  <a:solidFill>
                    <a:srgbClr val="000000"/>
                  </a:solidFill>
                  <a:latin typeface="Arial"/>
                </a:endParaRPr>
              </a:p>
            </p:txBody>
          </p:sp>
        </p:grpSp>
        <p:grpSp>
          <p:nvGrpSpPr>
            <p:cNvPr id="152" name="Group 84"/>
            <p:cNvGrpSpPr/>
            <p:nvPr/>
          </p:nvGrpSpPr>
          <p:grpSpPr>
            <a:xfrm>
              <a:off x="7388280" y="4515840"/>
              <a:ext cx="1389240" cy="770040"/>
              <a:chOff x="7388280" y="4515840"/>
              <a:chExt cx="1389240" cy="770040"/>
            </a:xfrm>
          </p:grpSpPr>
          <p:sp>
            <p:nvSpPr>
              <p:cNvPr id="153" name="Rectangle 36"/>
              <p:cNvSpPr/>
              <p:nvPr/>
            </p:nvSpPr>
            <p:spPr>
              <a:xfrm>
                <a:off x="7388280" y="4834800"/>
                <a:ext cx="1389240" cy="451080"/>
              </a:xfrm>
              <a:prstGeom prst="rect">
                <a:avLst/>
              </a:prstGeom>
              <a:gradFill rotWithShape="0">
                <a:gsLst>
                  <a:gs pos="0">
                    <a:srgbClr val="f9f073"/>
                  </a:gs>
                  <a:gs pos="100000">
                    <a:srgbClr val="ffffff">
                      <a:alpha val="0"/>
                    </a:srgbClr>
                  </a:gs>
                </a:gsLst>
                <a:lin ang="5400000"/>
              </a:gradFill>
              <a:ln w="9525">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595959"/>
                  </a:buClr>
                  <a:buFont typeface="Symbol" charset="2"/>
                  <a:buChar char=""/>
                </a:pPr>
                <a:r>
                  <a:rPr b="0" lang="en-US" sz="1600" spc="-1" strike="noStrike">
                    <a:solidFill>
                      <a:srgbClr val="595959"/>
                    </a:solidFill>
                    <a:latin typeface="Arial Narrow"/>
                  </a:rPr>
                  <a:t>Sample text</a:t>
                </a:r>
                <a:endParaRPr b="0" lang="en-US" sz="1600" spc="-1" strike="noStrike">
                  <a:solidFill>
                    <a:srgbClr val="000000"/>
                  </a:solidFill>
                  <a:latin typeface="Arial"/>
                </a:endParaRPr>
              </a:p>
              <a:p>
                <a:pPr marL="111240" indent="-111240">
                  <a:lnSpc>
                    <a:spcPct val="85000"/>
                  </a:lnSpc>
                  <a:spcBef>
                    <a:spcPts val="201"/>
                  </a:spcBef>
                  <a:buClr>
                    <a:srgbClr val="595959"/>
                  </a:buClr>
                  <a:buFont typeface="Symbol" charset="2"/>
                  <a:buChar char=""/>
                </a:pPr>
                <a:r>
                  <a:rPr b="0" lang="en-US" sz="1600" spc="-1" strike="noStrike">
                    <a:solidFill>
                      <a:srgbClr val="595959"/>
                    </a:solidFill>
                    <a:latin typeface="Arial Narrow"/>
                  </a:rPr>
                  <a:t>Sample text 2</a:t>
                </a:r>
                <a:endParaRPr b="0" lang="en-US" sz="1600" spc="-1" strike="noStrike">
                  <a:solidFill>
                    <a:srgbClr val="000000"/>
                  </a:solidFill>
                  <a:latin typeface="Arial"/>
                </a:endParaRPr>
              </a:p>
            </p:txBody>
          </p:sp>
          <p:sp>
            <p:nvSpPr>
              <p:cNvPr id="154" name="Rectangle 82"/>
              <p:cNvSpPr/>
              <p:nvPr/>
            </p:nvSpPr>
            <p:spPr>
              <a:xfrm>
                <a:off x="7389360" y="4515840"/>
                <a:ext cx="1387440" cy="315000"/>
              </a:xfrm>
              <a:prstGeom prst="rect">
                <a:avLst/>
              </a:prstGeom>
              <a:gradFill rotWithShape="0">
                <a:gsLst>
                  <a:gs pos="0">
                    <a:srgbClr val="999626"/>
                  </a:gs>
                  <a:gs pos="100000">
                    <a:srgbClr val="767416"/>
                  </a:gs>
                </a:gsLst>
                <a:lin ang="2700000"/>
              </a:gradFill>
              <a:ln w="9525">
                <a:solidFill>
                  <a:srgbClr val="5d5b17"/>
                </a:solidFill>
                <a:miter/>
              </a:ln>
              <a:effectLst>
                <a:outerShdw algn="tl" blurRad="25560" dir="5400000" dist="12600" rotWithShape="0">
                  <a:srgbClr val="000000">
                    <a:alpha val="20000"/>
                  </a:srgbClr>
                </a:outerShdw>
              </a:effectLst>
              <a:scene3d>
                <a:camera prst="orthographicFront"/>
                <a:lightRig dir="t" rig="threePt"/>
              </a:scene3d>
              <a:sp3d>
                <a:bevelT w="38100" h="6350"/>
                <a:bevelB w="38100" h="6350"/>
              </a:sp3d>
            </p:spPr>
            <p:style>
              <a:lnRef idx="0"/>
              <a:fillRef idx="0"/>
              <a:effectRef idx="0"/>
              <a:fontRef idx="minor"/>
            </p:style>
            <p:txBody>
              <a:bodyPr lIns="18360" rIns="18360" tIns="18360" bIns="18360" anchor="ctr" anchorCtr="1">
                <a:noAutofit/>
              </a:bodyPr>
              <a:p>
                <a:pPr algn="ctr">
                  <a:lnSpc>
                    <a:spcPct val="85000"/>
                  </a:lnSpc>
                  <a:spcBef>
                    <a:spcPts val="400"/>
                  </a:spcBef>
                </a:pPr>
                <a:r>
                  <a:rPr b="0" lang="en-US" sz="2000" spc="-1" strike="noStrike">
                    <a:solidFill>
                      <a:srgbClr val="ffffff"/>
                    </a:solidFill>
                    <a:latin typeface="Arial Narrow"/>
                  </a:rPr>
                  <a:t>Output 5</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Box 1"/>
          <p:cNvSpPr/>
          <p:nvPr/>
        </p:nvSpPr>
        <p:spPr>
          <a:xfrm>
            <a:off x="435960" y="19116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ffff00"/>
                </a:solidFill>
                <a:latin typeface="微软雅黑"/>
                <a:ea typeface="微软雅黑"/>
              </a:rPr>
              <a:t>添加目录</a:t>
            </a:r>
            <a:endParaRPr b="0" lang="en-US" sz="2800" spc="-1" strike="noStrike">
              <a:solidFill>
                <a:srgbClr val="ffffff"/>
              </a:solidFill>
              <a:latin typeface="Arial"/>
            </a:endParaRPr>
          </a:p>
        </p:txBody>
      </p:sp>
      <p:grpSp>
        <p:nvGrpSpPr>
          <p:cNvPr id="156" name="Group 69"/>
          <p:cNvGrpSpPr/>
          <p:nvPr/>
        </p:nvGrpSpPr>
        <p:grpSpPr>
          <a:xfrm>
            <a:off x="190440" y="500040"/>
            <a:ext cx="8881920" cy="4871880"/>
            <a:chOff x="190440" y="500040"/>
            <a:chExt cx="8881920" cy="4871880"/>
          </a:xfrm>
        </p:grpSpPr>
        <p:sp>
          <p:nvSpPr>
            <p:cNvPr id="157" name="AutoShape 110"/>
            <p:cNvSpPr/>
            <p:nvPr/>
          </p:nvSpPr>
          <p:spPr>
            <a:xfrm flipH="1">
              <a:off x="2440080" y="2498040"/>
              <a:ext cx="914040" cy="838440"/>
            </a:xfrm>
            <a:prstGeom prst="rightArrow">
              <a:avLst>
                <a:gd name="adj1" fmla="val 55843"/>
                <a:gd name="adj2" fmla="val 49879"/>
              </a:avLst>
            </a:prstGeom>
            <a:gradFill rotWithShape="0">
              <a:gsLst>
                <a:gs pos="0">
                  <a:srgbClr val="ffffff">
                    <a:alpha val="0"/>
                  </a:srgbClr>
                </a:gs>
                <a:gs pos="100000">
                  <a:srgbClr val="6b6b6b"/>
                </a:gs>
              </a:gsLst>
              <a:lin ang="108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8" name="AutoShape 110"/>
            <p:cNvSpPr/>
            <p:nvPr/>
          </p:nvSpPr>
          <p:spPr>
            <a:xfrm>
              <a:off x="5946120" y="2498040"/>
              <a:ext cx="914040" cy="838440"/>
            </a:xfrm>
            <a:prstGeom prst="rightArrow">
              <a:avLst>
                <a:gd name="adj1" fmla="val 55843"/>
                <a:gd name="adj2" fmla="val 49879"/>
              </a:avLst>
            </a:prstGeom>
            <a:gradFill rotWithShape="0">
              <a:gsLst>
                <a:gs pos="0">
                  <a:srgbClr val="ffffff">
                    <a:alpha val="0"/>
                  </a:srgbClr>
                </a:gs>
                <a:gs pos="100000">
                  <a:srgbClr val="6b6b6b"/>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9" name="AutoShape 110"/>
            <p:cNvSpPr/>
            <p:nvPr/>
          </p:nvSpPr>
          <p:spPr>
            <a:xfrm flipH="1" rot="2700000">
              <a:off x="2953800" y="1258920"/>
              <a:ext cx="914040" cy="838440"/>
            </a:xfrm>
            <a:prstGeom prst="rightArrow">
              <a:avLst>
                <a:gd name="adj1" fmla="val 55843"/>
                <a:gd name="adj2" fmla="val 49879"/>
              </a:avLst>
            </a:prstGeom>
            <a:gradFill rotWithShape="0">
              <a:gsLst>
                <a:gs pos="0">
                  <a:srgbClr val="ffffff">
                    <a:alpha val="0"/>
                  </a:srgbClr>
                </a:gs>
                <a:gs pos="100000">
                  <a:srgbClr val="6b6b6b"/>
                </a:gs>
              </a:gsLst>
              <a:lin ang="135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0" name="AutoShape 110"/>
            <p:cNvSpPr/>
            <p:nvPr/>
          </p:nvSpPr>
          <p:spPr>
            <a:xfrm rot="2700000">
              <a:off x="5432760" y="3737160"/>
              <a:ext cx="914040" cy="838440"/>
            </a:xfrm>
            <a:prstGeom prst="rightArrow">
              <a:avLst>
                <a:gd name="adj1" fmla="val 55843"/>
                <a:gd name="adj2" fmla="val 49879"/>
              </a:avLst>
            </a:prstGeom>
            <a:gradFill rotWithShape="0">
              <a:gsLst>
                <a:gs pos="0">
                  <a:srgbClr val="ffffff">
                    <a:alpha val="0"/>
                  </a:srgbClr>
                </a:gs>
                <a:gs pos="100000">
                  <a:srgbClr val="6b6b6b"/>
                </a:gs>
              </a:gsLst>
              <a:lin ang="27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1" name="AutoShape 110"/>
            <p:cNvSpPr/>
            <p:nvPr/>
          </p:nvSpPr>
          <p:spPr>
            <a:xfrm flipH="1" rot="8100000">
              <a:off x="5436000" y="1259640"/>
              <a:ext cx="914040" cy="838440"/>
            </a:xfrm>
            <a:prstGeom prst="rightArrow">
              <a:avLst>
                <a:gd name="adj1" fmla="val 55843"/>
                <a:gd name="adj2" fmla="val 49879"/>
              </a:avLst>
            </a:prstGeom>
            <a:gradFill rotWithShape="0">
              <a:gsLst>
                <a:gs pos="0">
                  <a:srgbClr val="ffffff">
                    <a:alpha val="0"/>
                  </a:srgbClr>
                </a:gs>
                <a:gs pos="100000">
                  <a:srgbClr val="6b6b6b"/>
                </a:gs>
              </a:gsLst>
              <a:lin ang="189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2" name="AutoShape 110"/>
            <p:cNvSpPr/>
            <p:nvPr/>
          </p:nvSpPr>
          <p:spPr>
            <a:xfrm rot="8100000">
              <a:off x="2957760" y="3737880"/>
              <a:ext cx="914040" cy="838440"/>
            </a:xfrm>
            <a:prstGeom prst="rightArrow">
              <a:avLst>
                <a:gd name="adj1" fmla="val 55843"/>
                <a:gd name="adj2" fmla="val 49879"/>
              </a:avLst>
            </a:prstGeom>
            <a:gradFill rotWithShape="0">
              <a:gsLst>
                <a:gs pos="0">
                  <a:srgbClr val="ffffff">
                    <a:alpha val="0"/>
                  </a:srgbClr>
                </a:gs>
                <a:gs pos="100000">
                  <a:srgbClr val="6b6b6b"/>
                </a:gs>
              </a:gsLst>
              <a:lin ang="81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grpSp>
          <p:nvGrpSpPr>
            <p:cNvPr id="163" name="Group 65"/>
            <p:cNvGrpSpPr/>
            <p:nvPr/>
          </p:nvGrpSpPr>
          <p:grpSpPr>
            <a:xfrm>
              <a:off x="190440" y="2422080"/>
              <a:ext cx="2173680" cy="986400"/>
              <a:chOff x="190440" y="2422080"/>
              <a:chExt cx="2173680" cy="986400"/>
            </a:xfrm>
          </p:grpSpPr>
          <p:sp>
            <p:nvSpPr>
              <p:cNvPr id="164" name="TextBox 34"/>
              <p:cNvSpPr/>
              <p:nvPr/>
            </p:nvSpPr>
            <p:spPr>
              <a:xfrm>
                <a:off x="190440" y="2626920"/>
                <a:ext cx="1164240" cy="607320"/>
              </a:xfrm>
              <a:prstGeom prst="rect">
                <a:avLst/>
              </a:prstGeom>
              <a:noFill/>
              <a:ln w="0">
                <a:noFill/>
              </a:ln>
            </p:spPr>
            <p:style>
              <a:lnRef idx="0"/>
              <a:fillRef idx="0"/>
              <a:effectRef idx="0"/>
              <a:fontRef idx="minor"/>
            </p:style>
            <p:txBody>
              <a:bodyPr lIns="90000" rIns="90000" tIns="45000" bIns="45000" anchor="t">
                <a:spAutoFit/>
              </a:bodyPr>
              <a:p>
                <a:pPr algn="r">
                  <a:lnSpc>
                    <a:spcPct val="85000"/>
                  </a:lnSpc>
                </a:pPr>
                <a:r>
                  <a:rPr b="0" lang="en-US" sz="2000" spc="-1" strike="noStrike">
                    <a:solidFill>
                      <a:srgbClr val="535353"/>
                    </a:solidFill>
                    <a:latin typeface="Arial Narrow"/>
                  </a:rPr>
                  <a:t>Element Five</a:t>
                </a:r>
                <a:endParaRPr b="0" lang="en-US" sz="2000" spc="-1" strike="noStrike">
                  <a:solidFill>
                    <a:srgbClr val="ffffff"/>
                  </a:solidFill>
                  <a:latin typeface="Arial"/>
                </a:endParaRPr>
              </a:p>
            </p:txBody>
          </p:sp>
          <p:grpSp>
            <p:nvGrpSpPr>
              <p:cNvPr id="165" name="Group 45"/>
              <p:cNvGrpSpPr/>
              <p:nvPr/>
            </p:nvGrpSpPr>
            <p:grpSpPr>
              <a:xfrm>
                <a:off x="1377720" y="2422080"/>
                <a:ext cx="986400" cy="986400"/>
                <a:chOff x="1377720" y="2422080"/>
                <a:chExt cx="986400" cy="986400"/>
              </a:xfrm>
            </p:grpSpPr>
            <p:sp>
              <p:nvSpPr>
                <p:cNvPr id="166" name="Oval 30"/>
                <p:cNvSpPr/>
                <p:nvPr/>
              </p:nvSpPr>
              <p:spPr>
                <a:xfrm>
                  <a:off x="1377720" y="2422080"/>
                  <a:ext cx="986400" cy="986400"/>
                </a:xfrm>
                <a:prstGeom prst="ellipse">
                  <a:avLst/>
                </a:prstGeom>
                <a:gradFill rotWithShape="0">
                  <a:gsLst>
                    <a:gs pos="0">
                      <a:srgbClr val="ffffff">
                        <a:alpha val="0"/>
                      </a:srgbClr>
                    </a:gs>
                    <a:gs pos="100000">
                      <a:srgbClr val="f6e51f">
                        <a:alpha val="40000"/>
                      </a:srgbClr>
                    </a:gs>
                  </a:gsLst>
                  <a:lin ang="5400000"/>
                </a:gradFill>
                <a:ln cap="rnd" w="28575">
                  <a:solidFill>
                    <a:srgbClr val="8f830c">
                      <a:alpha val="50000"/>
                    </a:srgbClr>
                  </a:solidFill>
                  <a:round/>
                </a:ln>
                <a:effectLst>
                  <a:outerShdw algn="ctr" blurRad="108000" dir="5400000" dist="12600">
                    <a:srgbClr val="000000">
                      <a:alpha val="5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7" name="Oval 32"/>
                <p:cNvSpPr/>
                <p:nvPr/>
              </p:nvSpPr>
              <p:spPr>
                <a:xfrm>
                  <a:off x="1485720" y="2530080"/>
                  <a:ext cx="776880" cy="776880"/>
                </a:xfrm>
                <a:prstGeom prst="ellipse">
                  <a:avLst/>
                </a:prstGeom>
                <a:gradFill rotWithShape="0">
                  <a:gsLst>
                    <a:gs pos="0">
                      <a:srgbClr val="c3b520"/>
                    </a:gs>
                    <a:gs pos="100000">
                      <a:srgbClr val="5c550b"/>
                    </a:gs>
                  </a:gsLst>
                  <a:lin ang="5400000"/>
                </a:gradFill>
                <a:ln w="12700">
                  <a:solidFill>
                    <a:srgbClr val="5e570b"/>
                  </a:solidFill>
                  <a:miter/>
                </a:ln>
                <a:effectLst>
                  <a:outerShdw algn="tl" blurRad="25560" dir="5400000" dist="12600" rotWithShape="0">
                    <a:srgbClr val="000000">
                      <a:alpha val="20000"/>
                    </a:srgbClr>
                  </a:outerShdw>
                </a:effectLst>
              </p:spPr>
              <p:style>
                <a:lnRef idx="0"/>
                <a:fillRef idx="0"/>
                <a:effectRef idx="0"/>
                <a:fontRef idx="minor"/>
              </p:style>
              <p:txBody>
                <a:bodyPr lIns="18360" rIns="18360" tIns="18360" bIns="18360" anchor="ctr" anchorCtr="1">
                  <a:noAutofit/>
                </a:bodyPr>
                <a:p>
                  <a:pPr algn="ctr">
                    <a:lnSpc>
                      <a:spcPct val="85000"/>
                    </a:lnSpc>
                    <a:spcBef>
                      <a:spcPts val="20"/>
                    </a:spcBef>
                    <a:tabLst>
                      <a:tab algn="l" pos="0"/>
                    </a:tabLst>
                  </a:pPr>
                  <a:endParaRPr b="0" lang="en-US" sz="1600" spc="-1" strike="noStrike">
                    <a:solidFill>
                      <a:srgbClr val="ffffff"/>
                    </a:solidFill>
                    <a:latin typeface="Arial Narrow"/>
                  </a:endParaRPr>
                </a:p>
              </p:txBody>
            </p:sp>
            <p:pic>
              <p:nvPicPr>
                <p:cNvPr id="168" name="Photo_laptop2sm.png" descr="/Users/mike/Desktop/Cutout/Photo_laptop2sm.png"/>
                <p:cNvPicPr/>
                <p:nvPr/>
              </p:nvPicPr>
              <p:blipFill>
                <a:blip r:embed="rId1"/>
                <a:stretch/>
              </p:blipFill>
              <p:spPr>
                <a:xfrm>
                  <a:off x="1431720" y="2509920"/>
                  <a:ext cx="920880" cy="776880"/>
                </a:xfrm>
                <a:prstGeom prst="rect">
                  <a:avLst/>
                </a:prstGeom>
                <a:ln w="0">
                  <a:noFill/>
                </a:ln>
              </p:spPr>
            </p:pic>
          </p:grpSp>
        </p:grpSp>
        <p:grpSp>
          <p:nvGrpSpPr>
            <p:cNvPr id="169" name="Group 61"/>
            <p:cNvGrpSpPr/>
            <p:nvPr/>
          </p:nvGrpSpPr>
          <p:grpSpPr>
            <a:xfrm>
              <a:off x="6936480" y="2422080"/>
              <a:ext cx="2135880" cy="986400"/>
              <a:chOff x="6936480" y="2422080"/>
              <a:chExt cx="2135880" cy="986400"/>
            </a:xfrm>
          </p:grpSpPr>
          <p:sp>
            <p:nvSpPr>
              <p:cNvPr id="170" name="TextBox 104"/>
              <p:cNvSpPr/>
              <p:nvPr/>
            </p:nvSpPr>
            <p:spPr>
              <a:xfrm>
                <a:off x="7908120" y="2594880"/>
                <a:ext cx="1164240" cy="607320"/>
              </a:xfrm>
              <a:prstGeom prst="rect">
                <a:avLst/>
              </a:prstGeom>
              <a:noFill/>
              <a:ln w="0">
                <a:noFill/>
              </a:ln>
            </p:spPr>
            <p:style>
              <a:lnRef idx="0"/>
              <a:fillRef idx="0"/>
              <a:effectRef idx="0"/>
              <a:fontRef idx="minor"/>
            </p:style>
            <p:txBody>
              <a:bodyPr lIns="90000" rIns="90000" tIns="45000" bIns="45000" anchor="t">
                <a:spAutoFit/>
              </a:bodyPr>
              <a:p>
                <a:pPr>
                  <a:lnSpc>
                    <a:spcPct val="85000"/>
                  </a:lnSpc>
                </a:pPr>
                <a:r>
                  <a:rPr b="0" lang="en-US" sz="2000" spc="-1" strike="noStrike">
                    <a:solidFill>
                      <a:srgbClr val="535353"/>
                    </a:solidFill>
                    <a:latin typeface="Arial Narrow"/>
                  </a:rPr>
                  <a:t>Element Two</a:t>
                </a:r>
                <a:endParaRPr b="0" lang="en-US" sz="2000" spc="-1" strike="noStrike">
                  <a:solidFill>
                    <a:srgbClr val="ffffff"/>
                  </a:solidFill>
                  <a:latin typeface="Arial"/>
                </a:endParaRPr>
              </a:p>
            </p:txBody>
          </p:sp>
          <p:grpSp>
            <p:nvGrpSpPr>
              <p:cNvPr id="171" name="Group 84"/>
              <p:cNvGrpSpPr/>
              <p:nvPr/>
            </p:nvGrpSpPr>
            <p:grpSpPr>
              <a:xfrm>
                <a:off x="6936480" y="2422080"/>
                <a:ext cx="986400" cy="986400"/>
                <a:chOff x="6936480" y="2422080"/>
                <a:chExt cx="986400" cy="986400"/>
              </a:xfrm>
            </p:grpSpPr>
            <p:sp>
              <p:nvSpPr>
                <p:cNvPr id="172" name="Oval 56"/>
                <p:cNvSpPr/>
                <p:nvPr/>
              </p:nvSpPr>
              <p:spPr>
                <a:xfrm>
                  <a:off x="6936480" y="2422080"/>
                  <a:ext cx="986400" cy="986400"/>
                </a:xfrm>
                <a:prstGeom prst="ellipse">
                  <a:avLst/>
                </a:prstGeom>
                <a:gradFill rotWithShape="0">
                  <a:gsLst>
                    <a:gs pos="0">
                      <a:srgbClr val="ffffff">
                        <a:alpha val="0"/>
                      </a:srgbClr>
                    </a:gs>
                    <a:gs pos="100000">
                      <a:srgbClr val="f6e51f">
                        <a:alpha val="40000"/>
                      </a:srgbClr>
                    </a:gs>
                  </a:gsLst>
                  <a:lin ang="5400000"/>
                </a:gradFill>
                <a:ln cap="rnd" w="28575">
                  <a:solidFill>
                    <a:srgbClr val="8f830c">
                      <a:alpha val="50000"/>
                    </a:srgbClr>
                  </a:solidFill>
                  <a:round/>
                </a:ln>
                <a:effectLst>
                  <a:outerShdw algn="ctr" blurRad="108000" dir="5400000" dist="12600">
                    <a:srgbClr val="000000">
                      <a:alpha val="5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3" name="Oval 54"/>
                <p:cNvSpPr/>
                <p:nvPr/>
              </p:nvSpPr>
              <p:spPr>
                <a:xfrm>
                  <a:off x="7044480" y="2530080"/>
                  <a:ext cx="776880" cy="776880"/>
                </a:xfrm>
                <a:prstGeom prst="ellipse">
                  <a:avLst/>
                </a:prstGeom>
                <a:gradFill rotWithShape="0">
                  <a:gsLst>
                    <a:gs pos="0">
                      <a:srgbClr val="c3b520"/>
                    </a:gs>
                    <a:gs pos="100000">
                      <a:srgbClr val="5c550b"/>
                    </a:gs>
                  </a:gsLst>
                  <a:lin ang="5400000"/>
                </a:gradFill>
                <a:ln w="12700">
                  <a:solidFill>
                    <a:srgbClr val="5e570b"/>
                  </a:solidFill>
                  <a:miter/>
                </a:ln>
                <a:effectLst>
                  <a:outerShdw algn="tl" blurRad="25560" dir="5400000" dist="12600" rotWithShape="0">
                    <a:srgbClr val="000000">
                      <a:alpha val="20000"/>
                    </a:srgbClr>
                  </a:outerShdw>
                </a:effectLst>
              </p:spPr>
              <p:style>
                <a:lnRef idx="0"/>
                <a:fillRef idx="0"/>
                <a:effectRef idx="0"/>
                <a:fontRef idx="minor"/>
              </p:style>
              <p:txBody>
                <a:bodyPr lIns="18360" rIns="18360" tIns="18360" bIns="18360" anchor="ctr" anchorCtr="1">
                  <a:noAutofit/>
                </a:bodyPr>
                <a:p>
                  <a:pPr algn="ctr">
                    <a:lnSpc>
                      <a:spcPct val="85000"/>
                    </a:lnSpc>
                    <a:spcBef>
                      <a:spcPts val="20"/>
                    </a:spcBef>
                    <a:tabLst>
                      <a:tab algn="l" pos="0"/>
                    </a:tabLst>
                  </a:pPr>
                  <a:endParaRPr b="0" lang="en-US" sz="1600" spc="-1" strike="noStrike">
                    <a:solidFill>
                      <a:srgbClr val="ffffff"/>
                    </a:solidFill>
                    <a:latin typeface="Arial Narrow"/>
                  </a:endParaRPr>
                </a:p>
              </p:txBody>
            </p:sp>
            <p:pic>
              <p:nvPicPr>
                <p:cNvPr id="174" name="Photo_clipboard1sm.png" descr="/BDG/BizGraphics On Demand/BGOD Photos/PNGs/Photo_clipboard1sm.png"/>
                <p:cNvPicPr/>
                <p:nvPr/>
              </p:nvPicPr>
              <p:blipFill>
                <a:blip r:embed="rId2"/>
                <a:stretch/>
              </p:blipFill>
              <p:spPr>
                <a:xfrm>
                  <a:off x="6947280" y="2576880"/>
                  <a:ext cx="971280" cy="664200"/>
                </a:xfrm>
                <a:prstGeom prst="rect">
                  <a:avLst/>
                </a:prstGeom>
                <a:ln w="0">
                  <a:noFill/>
                </a:ln>
              </p:spPr>
            </p:pic>
          </p:grpSp>
        </p:grpSp>
        <p:grpSp>
          <p:nvGrpSpPr>
            <p:cNvPr id="175" name="Group 62"/>
            <p:cNvGrpSpPr/>
            <p:nvPr/>
          </p:nvGrpSpPr>
          <p:grpSpPr>
            <a:xfrm>
              <a:off x="6144480" y="4385520"/>
              <a:ext cx="2146320" cy="986400"/>
              <a:chOff x="6144480" y="4385520"/>
              <a:chExt cx="2146320" cy="986400"/>
            </a:xfrm>
          </p:grpSpPr>
          <p:sp>
            <p:nvSpPr>
              <p:cNvPr id="176" name="TextBox 99"/>
              <p:cNvSpPr/>
              <p:nvPr/>
            </p:nvSpPr>
            <p:spPr>
              <a:xfrm>
                <a:off x="7126560" y="4579920"/>
                <a:ext cx="1164240" cy="607320"/>
              </a:xfrm>
              <a:prstGeom prst="rect">
                <a:avLst/>
              </a:prstGeom>
              <a:noFill/>
              <a:ln w="0">
                <a:noFill/>
              </a:ln>
            </p:spPr>
            <p:style>
              <a:lnRef idx="0"/>
              <a:fillRef idx="0"/>
              <a:effectRef idx="0"/>
              <a:fontRef idx="minor"/>
            </p:style>
            <p:txBody>
              <a:bodyPr lIns="90000" rIns="90000" tIns="45000" bIns="45000" anchor="t">
                <a:spAutoFit/>
              </a:bodyPr>
              <a:p>
                <a:pPr>
                  <a:lnSpc>
                    <a:spcPct val="85000"/>
                  </a:lnSpc>
                </a:pPr>
                <a:r>
                  <a:rPr b="0" lang="en-US" sz="2000" spc="-1" strike="noStrike">
                    <a:solidFill>
                      <a:srgbClr val="535353"/>
                    </a:solidFill>
                    <a:latin typeface="Arial Narrow"/>
                  </a:rPr>
                  <a:t>Element Three</a:t>
                </a:r>
                <a:endParaRPr b="0" lang="en-US" sz="2000" spc="-1" strike="noStrike">
                  <a:solidFill>
                    <a:srgbClr val="ffffff"/>
                  </a:solidFill>
                  <a:latin typeface="Arial"/>
                </a:endParaRPr>
              </a:p>
            </p:txBody>
          </p:sp>
          <p:grpSp>
            <p:nvGrpSpPr>
              <p:cNvPr id="177" name="Group 83"/>
              <p:cNvGrpSpPr/>
              <p:nvPr/>
            </p:nvGrpSpPr>
            <p:grpSpPr>
              <a:xfrm>
                <a:off x="6144480" y="4385520"/>
                <a:ext cx="986400" cy="986400"/>
                <a:chOff x="6144480" y="4385520"/>
                <a:chExt cx="986400" cy="986400"/>
              </a:xfrm>
            </p:grpSpPr>
            <p:sp>
              <p:nvSpPr>
                <p:cNvPr id="178" name="Oval 78"/>
                <p:cNvSpPr/>
                <p:nvPr/>
              </p:nvSpPr>
              <p:spPr>
                <a:xfrm>
                  <a:off x="6144480" y="4385520"/>
                  <a:ext cx="986400" cy="986400"/>
                </a:xfrm>
                <a:prstGeom prst="ellipse">
                  <a:avLst/>
                </a:prstGeom>
                <a:gradFill rotWithShape="0">
                  <a:gsLst>
                    <a:gs pos="0">
                      <a:srgbClr val="ffffff">
                        <a:alpha val="0"/>
                      </a:srgbClr>
                    </a:gs>
                    <a:gs pos="100000">
                      <a:srgbClr val="f6e51f">
                        <a:alpha val="40000"/>
                      </a:srgbClr>
                    </a:gs>
                  </a:gsLst>
                  <a:lin ang="5400000"/>
                </a:gradFill>
                <a:ln cap="rnd" w="28575">
                  <a:solidFill>
                    <a:srgbClr val="8f830c">
                      <a:alpha val="50000"/>
                    </a:srgbClr>
                  </a:solidFill>
                  <a:round/>
                </a:ln>
                <a:effectLst>
                  <a:outerShdw algn="ctr" blurRad="108000" dir="5400000" dist="12600">
                    <a:srgbClr val="000000">
                      <a:alpha val="5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9" name="Oval 76"/>
                <p:cNvSpPr/>
                <p:nvPr/>
              </p:nvSpPr>
              <p:spPr>
                <a:xfrm>
                  <a:off x="6252480" y="4493520"/>
                  <a:ext cx="776880" cy="776880"/>
                </a:xfrm>
                <a:prstGeom prst="ellipse">
                  <a:avLst/>
                </a:prstGeom>
                <a:gradFill rotWithShape="0">
                  <a:gsLst>
                    <a:gs pos="0">
                      <a:srgbClr val="c3b520"/>
                    </a:gs>
                    <a:gs pos="100000">
                      <a:srgbClr val="5c550b"/>
                    </a:gs>
                  </a:gsLst>
                  <a:lin ang="5400000"/>
                </a:gradFill>
                <a:ln w="12700">
                  <a:solidFill>
                    <a:srgbClr val="5e570b"/>
                  </a:solidFill>
                  <a:miter/>
                </a:ln>
                <a:effectLst>
                  <a:outerShdw algn="tl" blurRad="25560" dir="5400000" dist="12600" rotWithShape="0">
                    <a:srgbClr val="000000">
                      <a:alpha val="20000"/>
                    </a:srgbClr>
                  </a:outerShdw>
                </a:effectLst>
              </p:spPr>
              <p:style>
                <a:lnRef idx="0"/>
                <a:fillRef idx="0"/>
                <a:effectRef idx="0"/>
                <a:fontRef idx="minor"/>
              </p:style>
              <p:txBody>
                <a:bodyPr lIns="18360" rIns="18360" tIns="18360" bIns="18360" anchor="ctr" anchorCtr="1">
                  <a:noAutofit/>
                </a:bodyPr>
                <a:p>
                  <a:pPr algn="ctr">
                    <a:lnSpc>
                      <a:spcPct val="85000"/>
                    </a:lnSpc>
                    <a:spcBef>
                      <a:spcPts val="20"/>
                    </a:spcBef>
                    <a:tabLst>
                      <a:tab algn="l" pos="0"/>
                    </a:tabLst>
                  </a:pPr>
                  <a:endParaRPr b="0" lang="en-US" sz="1600" spc="-1" strike="noStrike">
                    <a:solidFill>
                      <a:srgbClr val="ffffff"/>
                    </a:solidFill>
                    <a:latin typeface="Arial Narrow"/>
                  </a:endParaRPr>
                </a:p>
              </p:txBody>
            </p:sp>
            <p:pic>
              <p:nvPicPr>
                <p:cNvPr id="180" name="Photo_computer1Asm.png" descr="/Users/mike/Desktop/Cutout/Photo_computer1Asm.png"/>
                <p:cNvPicPr/>
                <p:nvPr/>
              </p:nvPicPr>
              <p:blipFill>
                <a:blip r:embed="rId3"/>
                <a:stretch/>
              </p:blipFill>
              <p:spPr>
                <a:xfrm>
                  <a:off x="6274080" y="4516560"/>
                  <a:ext cx="804240" cy="744480"/>
                </a:xfrm>
                <a:prstGeom prst="rect">
                  <a:avLst/>
                </a:prstGeom>
                <a:ln w="0">
                  <a:noFill/>
                </a:ln>
              </p:spPr>
            </p:pic>
          </p:grpSp>
        </p:grpSp>
        <p:grpSp>
          <p:nvGrpSpPr>
            <p:cNvPr id="181" name="Group 60"/>
            <p:cNvGrpSpPr/>
            <p:nvPr/>
          </p:nvGrpSpPr>
          <p:grpSpPr>
            <a:xfrm>
              <a:off x="6143760" y="500040"/>
              <a:ext cx="2168640" cy="986400"/>
              <a:chOff x="6143760" y="500040"/>
              <a:chExt cx="2168640" cy="986400"/>
            </a:xfrm>
          </p:grpSpPr>
          <p:grpSp>
            <p:nvGrpSpPr>
              <p:cNvPr id="182" name="Group 72"/>
              <p:cNvGrpSpPr/>
              <p:nvPr/>
            </p:nvGrpSpPr>
            <p:grpSpPr>
              <a:xfrm>
                <a:off x="6143760" y="500040"/>
                <a:ext cx="987120" cy="986400"/>
                <a:chOff x="6143760" y="500040"/>
                <a:chExt cx="987120" cy="986400"/>
              </a:xfrm>
            </p:grpSpPr>
            <p:grpSp>
              <p:nvGrpSpPr>
                <p:cNvPr id="183" name="Group 59"/>
                <p:cNvGrpSpPr/>
                <p:nvPr/>
              </p:nvGrpSpPr>
              <p:grpSpPr>
                <a:xfrm>
                  <a:off x="6144480" y="500040"/>
                  <a:ext cx="986400" cy="986400"/>
                  <a:chOff x="6144480" y="500040"/>
                  <a:chExt cx="986400" cy="986400"/>
                </a:xfrm>
              </p:grpSpPr>
              <p:sp>
                <p:nvSpPr>
                  <p:cNvPr id="184" name="Oval 66"/>
                  <p:cNvSpPr/>
                  <p:nvPr/>
                </p:nvSpPr>
                <p:spPr>
                  <a:xfrm>
                    <a:off x="6144480" y="500040"/>
                    <a:ext cx="986400" cy="986400"/>
                  </a:xfrm>
                  <a:prstGeom prst="ellipse">
                    <a:avLst/>
                  </a:prstGeom>
                  <a:gradFill rotWithShape="0">
                    <a:gsLst>
                      <a:gs pos="0">
                        <a:srgbClr val="ffffff">
                          <a:alpha val="0"/>
                        </a:srgbClr>
                      </a:gs>
                      <a:gs pos="100000">
                        <a:srgbClr val="f6e51f">
                          <a:alpha val="40000"/>
                        </a:srgbClr>
                      </a:gs>
                    </a:gsLst>
                    <a:lin ang="5400000"/>
                  </a:gradFill>
                  <a:ln cap="rnd" w="28575">
                    <a:solidFill>
                      <a:srgbClr val="8f830c">
                        <a:alpha val="50000"/>
                      </a:srgbClr>
                    </a:solidFill>
                    <a:round/>
                  </a:ln>
                  <a:effectLst>
                    <a:outerShdw algn="ctr" blurRad="108000" dir="5400000" dist="12600">
                      <a:srgbClr val="000000">
                        <a:alpha val="5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5" name="Oval 64"/>
                  <p:cNvSpPr/>
                  <p:nvPr/>
                </p:nvSpPr>
                <p:spPr>
                  <a:xfrm>
                    <a:off x="6252480" y="608040"/>
                    <a:ext cx="776880" cy="776880"/>
                  </a:xfrm>
                  <a:prstGeom prst="ellipse">
                    <a:avLst/>
                  </a:prstGeom>
                  <a:gradFill rotWithShape="0">
                    <a:gsLst>
                      <a:gs pos="0">
                        <a:srgbClr val="c3b520"/>
                      </a:gs>
                      <a:gs pos="100000">
                        <a:srgbClr val="5c550b"/>
                      </a:gs>
                    </a:gsLst>
                    <a:lin ang="5400000"/>
                  </a:gradFill>
                  <a:ln w="12700">
                    <a:solidFill>
                      <a:srgbClr val="5e570b"/>
                    </a:solidFill>
                    <a:miter/>
                  </a:ln>
                  <a:effectLst>
                    <a:outerShdw algn="tl" blurRad="25560" dir="5400000" dist="12600" rotWithShape="0">
                      <a:srgbClr val="000000">
                        <a:alpha val="20000"/>
                      </a:srgbClr>
                    </a:outerShdw>
                  </a:effectLst>
                </p:spPr>
                <p:style>
                  <a:lnRef idx="0"/>
                  <a:fillRef idx="0"/>
                  <a:effectRef idx="0"/>
                  <a:fontRef idx="minor"/>
                </p:style>
                <p:txBody>
                  <a:bodyPr lIns="18360" rIns="18360" tIns="18360" bIns="18360" anchor="ctr" anchorCtr="1">
                    <a:noAutofit/>
                  </a:bodyPr>
                  <a:p>
                    <a:pPr algn="ctr">
                      <a:lnSpc>
                        <a:spcPct val="85000"/>
                      </a:lnSpc>
                      <a:spcBef>
                        <a:spcPts val="20"/>
                      </a:spcBef>
                      <a:tabLst>
                        <a:tab algn="l" pos="0"/>
                      </a:tabLst>
                    </a:pPr>
                    <a:endParaRPr b="0" lang="en-US" sz="1600" spc="-1" strike="noStrike">
                      <a:solidFill>
                        <a:srgbClr val="ffffff"/>
                      </a:solidFill>
                      <a:latin typeface="Arial Narrow"/>
                    </a:endParaRPr>
                  </a:p>
                </p:txBody>
              </p:sp>
            </p:grpSp>
            <p:pic>
              <p:nvPicPr>
                <p:cNvPr id="186" name="Photo_folder2sm.png" descr="/BDG/BizGraphics On Demand/BGOD Photos/PNGs/Photo_folder2sm.png"/>
                <p:cNvPicPr/>
                <p:nvPr/>
              </p:nvPicPr>
              <p:blipFill>
                <a:blip r:embed="rId4"/>
                <a:stretch/>
              </p:blipFill>
              <p:spPr>
                <a:xfrm rot="20739600">
                  <a:off x="6201000" y="701280"/>
                  <a:ext cx="857520" cy="572760"/>
                </a:xfrm>
                <a:prstGeom prst="rect">
                  <a:avLst/>
                </a:prstGeom>
                <a:ln w="0">
                  <a:noFill/>
                </a:ln>
              </p:spPr>
            </p:pic>
          </p:grpSp>
          <p:sp>
            <p:nvSpPr>
              <p:cNvPr id="187" name="TextBox 94"/>
              <p:cNvSpPr/>
              <p:nvPr/>
            </p:nvSpPr>
            <p:spPr>
              <a:xfrm>
                <a:off x="7148160" y="694440"/>
                <a:ext cx="1164240" cy="607320"/>
              </a:xfrm>
              <a:prstGeom prst="rect">
                <a:avLst/>
              </a:prstGeom>
              <a:noFill/>
              <a:ln w="0">
                <a:noFill/>
              </a:ln>
            </p:spPr>
            <p:style>
              <a:lnRef idx="0"/>
              <a:fillRef idx="0"/>
              <a:effectRef idx="0"/>
              <a:fontRef idx="minor"/>
            </p:style>
            <p:txBody>
              <a:bodyPr lIns="90000" rIns="90000" tIns="45000" bIns="45000" anchor="t">
                <a:spAutoFit/>
              </a:bodyPr>
              <a:p>
                <a:pPr>
                  <a:lnSpc>
                    <a:spcPct val="85000"/>
                  </a:lnSpc>
                </a:pPr>
                <a:r>
                  <a:rPr b="0" lang="en-US" sz="2000" spc="-1" strike="noStrike">
                    <a:solidFill>
                      <a:srgbClr val="535353"/>
                    </a:solidFill>
                    <a:latin typeface="Arial Narrow"/>
                  </a:rPr>
                  <a:t>Element One</a:t>
                </a:r>
                <a:endParaRPr b="0" lang="en-US" sz="2000" spc="-1" strike="noStrike">
                  <a:solidFill>
                    <a:srgbClr val="ffffff"/>
                  </a:solidFill>
                  <a:latin typeface="Arial"/>
                </a:endParaRPr>
              </a:p>
            </p:txBody>
          </p:sp>
        </p:grpSp>
        <p:grpSp>
          <p:nvGrpSpPr>
            <p:cNvPr id="188" name="Group 59"/>
            <p:cNvGrpSpPr/>
            <p:nvPr/>
          </p:nvGrpSpPr>
          <p:grpSpPr>
            <a:xfrm>
              <a:off x="967680" y="500040"/>
              <a:ext cx="2226600" cy="986400"/>
              <a:chOff x="967680" y="500040"/>
              <a:chExt cx="2226600" cy="986400"/>
            </a:xfrm>
          </p:grpSpPr>
          <p:sp>
            <p:nvSpPr>
              <p:cNvPr id="189" name="TextBox 87"/>
              <p:cNvSpPr/>
              <p:nvPr/>
            </p:nvSpPr>
            <p:spPr>
              <a:xfrm>
                <a:off x="967680" y="694440"/>
                <a:ext cx="1164240" cy="607320"/>
              </a:xfrm>
              <a:prstGeom prst="rect">
                <a:avLst/>
              </a:prstGeom>
              <a:noFill/>
              <a:ln w="0">
                <a:noFill/>
              </a:ln>
            </p:spPr>
            <p:style>
              <a:lnRef idx="0"/>
              <a:fillRef idx="0"/>
              <a:effectRef idx="0"/>
              <a:fontRef idx="minor"/>
            </p:style>
            <p:txBody>
              <a:bodyPr lIns="90000" rIns="90000" tIns="45000" bIns="45000" anchor="t">
                <a:spAutoFit/>
              </a:bodyPr>
              <a:p>
                <a:pPr algn="r">
                  <a:lnSpc>
                    <a:spcPct val="85000"/>
                  </a:lnSpc>
                </a:pPr>
                <a:r>
                  <a:rPr b="0" lang="en-US" sz="2000" spc="-1" strike="noStrike">
                    <a:solidFill>
                      <a:srgbClr val="535353"/>
                    </a:solidFill>
                    <a:latin typeface="Arial Narrow"/>
                  </a:rPr>
                  <a:t>Element Six</a:t>
                </a:r>
                <a:endParaRPr b="0" lang="en-US" sz="2000" spc="-1" strike="noStrike">
                  <a:solidFill>
                    <a:srgbClr val="ffffff"/>
                  </a:solidFill>
                  <a:latin typeface="Arial"/>
                </a:endParaRPr>
              </a:p>
            </p:txBody>
          </p:sp>
          <p:grpSp>
            <p:nvGrpSpPr>
              <p:cNvPr id="190" name="Group 99"/>
              <p:cNvGrpSpPr/>
              <p:nvPr/>
            </p:nvGrpSpPr>
            <p:grpSpPr>
              <a:xfrm>
                <a:off x="2154960" y="500040"/>
                <a:ext cx="1039320" cy="986400"/>
                <a:chOff x="2154960" y="500040"/>
                <a:chExt cx="1039320" cy="986400"/>
              </a:xfrm>
            </p:grpSpPr>
            <p:grpSp>
              <p:nvGrpSpPr>
                <p:cNvPr id="191" name="Group 59"/>
                <p:cNvGrpSpPr/>
                <p:nvPr/>
              </p:nvGrpSpPr>
              <p:grpSpPr>
                <a:xfrm>
                  <a:off x="2154960" y="500040"/>
                  <a:ext cx="986400" cy="986400"/>
                  <a:chOff x="2154960" y="500040"/>
                  <a:chExt cx="986400" cy="986400"/>
                </a:xfrm>
              </p:grpSpPr>
              <p:sp>
                <p:nvSpPr>
                  <p:cNvPr id="192" name="Oval 94"/>
                  <p:cNvSpPr/>
                  <p:nvPr/>
                </p:nvSpPr>
                <p:spPr>
                  <a:xfrm>
                    <a:off x="2154960" y="500040"/>
                    <a:ext cx="986400" cy="986400"/>
                  </a:xfrm>
                  <a:prstGeom prst="ellipse">
                    <a:avLst/>
                  </a:prstGeom>
                  <a:gradFill rotWithShape="0">
                    <a:gsLst>
                      <a:gs pos="0">
                        <a:srgbClr val="ffffff">
                          <a:alpha val="0"/>
                        </a:srgbClr>
                      </a:gs>
                      <a:gs pos="100000">
                        <a:srgbClr val="f6e51f">
                          <a:alpha val="40000"/>
                        </a:srgbClr>
                      </a:gs>
                    </a:gsLst>
                    <a:lin ang="5400000"/>
                  </a:gradFill>
                  <a:ln cap="rnd" w="28575">
                    <a:solidFill>
                      <a:srgbClr val="8f830c">
                        <a:alpha val="50000"/>
                      </a:srgbClr>
                    </a:solidFill>
                    <a:round/>
                  </a:ln>
                  <a:effectLst>
                    <a:outerShdw algn="ctr" blurRad="108000" dir="5400000" dist="12600">
                      <a:srgbClr val="000000">
                        <a:alpha val="5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3" name="Oval 93"/>
                  <p:cNvSpPr/>
                  <p:nvPr/>
                </p:nvSpPr>
                <p:spPr>
                  <a:xfrm>
                    <a:off x="2262960" y="608040"/>
                    <a:ext cx="776880" cy="776880"/>
                  </a:xfrm>
                  <a:prstGeom prst="ellipse">
                    <a:avLst/>
                  </a:prstGeom>
                  <a:gradFill rotWithShape="0">
                    <a:gsLst>
                      <a:gs pos="0">
                        <a:srgbClr val="c3b520"/>
                      </a:gs>
                      <a:gs pos="100000">
                        <a:srgbClr val="5c550b"/>
                      </a:gs>
                    </a:gsLst>
                    <a:lin ang="5400000"/>
                  </a:gradFill>
                  <a:ln w="12700">
                    <a:solidFill>
                      <a:srgbClr val="5e570b"/>
                    </a:solidFill>
                    <a:miter/>
                  </a:ln>
                  <a:effectLst>
                    <a:outerShdw algn="tl" blurRad="25560" dir="5400000" dist="12600" rotWithShape="0">
                      <a:srgbClr val="000000">
                        <a:alpha val="20000"/>
                      </a:srgbClr>
                    </a:outerShdw>
                  </a:effectLst>
                </p:spPr>
                <p:style>
                  <a:lnRef idx="0"/>
                  <a:fillRef idx="0"/>
                  <a:effectRef idx="0"/>
                  <a:fontRef idx="minor"/>
                </p:style>
                <p:txBody>
                  <a:bodyPr lIns="18360" rIns="18360" tIns="18360" bIns="18360" anchor="ctr" anchorCtr="1">
                    <a:noAutofit/>
                  </a:bodyPr>
                  <a:p>
                    <a:pPr algn="ctr">
                      <a:lnSpc>
                        <a:spcPct val="85000"/>
                      </a:lnSpc>
                      <a:spcBef>
                        <a:spcPts val="20"/>
                      </a:spcBef>
                      <a:tabLst>
                        <a:tab algn="l" pos="0"/>
                      </a:tabLst>
                    </a:pPr>
                    <a:endParaRPr b="0" lang="en-US" sz="1600" spc="-1" strike="noStrike">
                      <a:solidFill>
                        <a:srgbClr val="ffffff"/>
                      </a:solidFill>
                      <a:latin typeface="Arial Narrow"/>
                    </a:endParaRPr>
                  </a:p>
                </p:txBody>
              </p:sp>
            </p:grpSp>
            <p:pic>
              <p:nvPicPr>
                <p:cNvPr id="194" name="Photo_phone desk 2sm.png" descr="/Users/mike/Desktop/Cutout/Photo_phone desk 2sm.png"/>
                <p:cNvPicPr/>
                <p:nvPr/>
              </p:nvPicPr>
              <p:blipFill>
                <a:blip r:embed="rId5">
                  <a:lum contrast="4000"/>
                </a:blip>
                <a:stretch/>
              </p:blipFill>
              <p:spPr>
                <a:xfrm>
                  <a:off x="2174400" y="695880"/>
                  <a:ext cx="1019880" cy="679680"/>
                </a:xfrm>
                <a:prstGeom prst="rect">
                  <a:avLst/>
                </a:prstGeom>
                <a:ln w="0">
                  <a:noFill/>
                </a:ln>
              </p:spPr>
            </p:pic>
          </p:grpSp>
        </p:grpSp>
        <p:grpSp>
          <p:nvGrpSpPr>
            <p:cNvPr id="195" name="Group 99"/>
            <p:cNvGrpSpPr/>
            <p:nvPr/>
          </p:nvGrpSpPr>
          <p:grpSpPr>
            <a:xfrm>
              <a:off x="1005840" y="4385520"/>
              <a:ext cx="2188440" cy="986400"/>
              <a:chOff x="1005840" y="4385520"/>
              <a:chExt cx="2188440" cy="986400"/>
            </a:xfrm>
          </p:grpSpPr>
          <p:grpSp>
            <p:nvGrpSpPr>
              <p:cNvPr id="196" name="Group 44"/>
              <p:cNvGrpSpPr/>
              <p:nvPr/>
            </p:nvGrpSpPr>
            <p:grpSpPr>
              <a:xfrm>
                <a:off x="2207880" y="4385520"/>
                <a:ext cx="986400" cy="986400"/>
                <a:chOff x="2207880" y="4385520"/>
                <a:chExt cx="986400" cy="986400"/>
              </a:xfrm>
            </p:grpSpPr>
            <p:sp>
              <p:nvSpPr>
                <p:cNvPr id="197" name="Oval 22"/>
                <p:cNvSpPr/>
                <p:nvPr/>
              </p:nvSpPr>
              <p:spPr>
                <a:xfrm>
                  <a:off x="2207880" y="4385520"/>
                  <a:ext cx="986400" cy="986400"/>
                </a:xfrm>
                <a:prstGeom prst="ellipse">
                  <a:avLst/>
                </a:prstGeom>
                <a:gradFill rotWithShape="0">
                  <a:gsLst>
                    <a:gs pos="0">
                      <a:srgbClr val="ffffff">
                        <a:alpha val="0"/>
                      </a:srgbClr>
                    </a:gs>
                    <a:gs pos="100000">
                      <a:srgbClr val="f6e51f">
                        <a:alpha val="40000"/>
                      </a:srgbClr>
                    </a:gs>
                  </a:gsLst>
                  <a:lin ang="5400000"/>
                </a:gradFill>
                <a:ln cap="rnd" w="28575">
                  <a:solidFill>
                    <a:srgbClr val="8f830c">
                      <a:alpha val="50000"/>
                    </a:srgbClr>
                  </a:solidFill>
                  <a:round/>
                </a:ln>
                <a:effectLst>
                  <a:outerShdw algn="ctr" blurRad="108000" dir="5400000" dist="12600">
                    <a:srgbClr val="000000">
                      <a:alpha val="5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8" name="Oval 8"/>
                <p:cNvSpPr/>
                <p:nvPr/>
              </p:nvSpPr>
              <p:spPr>
                <a:xfrm>
                  <a:off x="2315880" y="4493520"/>
                  <a:ext cx="776880" cy="776880"/>
                </a:xfrm>
                <a:prstGeom prst="ellipse">
                  <a:avLst/>
                </a:prstGeom>
                <a:gradFill rotWithShape="0">
                  <a:gsLst>
                    <a:gs pos="0">
                      <a:srgbClr val="c3b520"/>
                    </a:gs>
                    <a:gs pos="100000">
                      <a:srgbClr val="5c550b"/>
                    </a:gs>
                  </a:gsLst>
                  <a:lin ang="5400000"/>
                </a:gradFill>
                <a:ln w="12700">
                  <a:solidFill>
                    <a:srgbClr val="5e570b"/>
                  </a:solidFill>
                  <a:miter/>
                </a:ln>
                <a:effectLst>
                  <a:outerShdw algn="tl" blurRad="25560" dir="5400000" dist="12600" rotWithShape="0">
                    <a:srgbClr val="000000">
                      <a:alpha val="20000"/>
                    </a:srgbClr>
                  </a:outerShdw>
                </a:effectLst>
              </p:spPr>
              <p:style>
                <a:lnRef idx="0"/>
                <a:fillRef idx="0"/>
                <a:effectRef idx="0"/>
                <a:fontRef idx="minor"/>
              </p:style>
              <p:txBody>
                <a:bodyPr lIns="18360" rIns="18360" tIns="18360" bIns="18360" anchor="ctr" anchorCtr="1">
                  <a:noAutofit/>
                </a:bodyPr>
                <a:p>
                  <a:pPr algn="ctr">
                    <a:lnSpc>
                      <a:spcPct val="85000"/>
                    </a:lnSpc>
                    <a:spcBef>
                      <a:spcPts val="20"/>
                    </a:spcBef>
                    <a:tabLst>
                      <a:tab algn="l" pos="0"/>
                    </a:tabLst>
                  </a:pPr>
                  <a:endParaRPr b="0" lang="en-US" sz="1600" spc="-1" strike="noStrike">
                    <a:solidFill>
                      <a:srgbClr val="ffffff"/>
                    </a:solidFill>
                    <a:latin typeface="Arial Narrow"/>
                  </a:endParaRPr>
                </a:p>
              </p:txBody>
            </p:sp>
            <p:pic>
              <p:nvPicPr>
                <p:cNvPr id="199" name="Photo_cellphoneSM.png" descr="/Users/mike/Desktop/Cutout/Photo_cellphoneSM.png"/>
                <p:cNvPicPr/>
                <p:nvPr/>
              </p:nvPicPr>
              <p:blipFill>
                <a:blip r:embed="rId6"/>
                <a:stretch/>
              </p:blipFill>
              <p:spPr>
                <a:xfrm>
                  <a:off x="2240280" y="4386240"/>
                  <a:ext cx="932400" cy="932400"/>
                </a:xfrm>
                <a:prstGeom prst="rect">
                  <a:avLst/>
                </a:prstGeom>
                <a:ln w="0">
                  <a:noFill/>
                </a:ln>
              </p:spPr>
            </p:pic>
          </p:grpSp>
          <p:sp>
            <p:nvSpPr>
              <p:cNvPr id="200" name="TextBox 83"/>
              <p:cNvSpPr/>
              <p:nvPr/>
            </p:nvSpPr>
            <p:spPr>
              <a:xfrm>
                <a:off x="1005840" y="4573440"/>
                <a:ext cx="1164240" cy="607320"/>
              </a:xfrm>
              <a:prstGeom prst="rect">
                <a:avLst/>
              </a:prstGeom>
              <a:noFill/>
              <a:ln w="0">
                <a:noFill/>
              </a:ln>
            </p:spPr>
            <p:style>
              <a:lnRef idx="0"/>
              <a:fillRef idx="0"/>
              <a:effectRef idx="0"/>
              <a:fontRef idx="minor"/>
            </p:style>
            <p:txBody>
              <a:bodyPr lIns="90000" rIns="90000" tIns="45000" bIns="45000" anchor="t">
                <a:spAutoFit/>
              </a:bodyPr>
              <a:p>
                <a:pPr algn="r">
                  <a:lnSpc>
                    <a:spcPct val="85000"/>
                  </a:lnSpc>
                </a:pPr>
                <a:r>
                  <a:rPr b="0" lang="en-US" sz="2000" spc="-1" strike="noStrike">
                    <a:solidFill>
                      <a:srgbClr val="535353"/>
                    </a:solidFill>
                    <a:latin typeface="Arial Narrow"/>
                  </a:rPr>
                  <a:t>Element Four</a:t>
                </a:r>
                <a:endParaRPr b="0" lang="en-US" sz="2000" spc="-1" strike="noStrike">
                  <a:solidFill>
                    <a:srgbClr val="ffffff"/>
                  </a:solidFill>
                  <a:latin typeface="Arial"/>
                </a:endParaRPr>
              </a:p>
            </p:txBody>
          </p:sp>
        </p:grpSp>
        <p:grpSp>
          <p:nvGrpSpPr>
            <p:cNvPr id="201" name="Group 110"/>
            <p:cNvGrpSpPr/>
            <p:nvPr/>
          </p:nvGrpSpPr>
          <p:grpSpPr>
            <a:xfrm>
              <a:off x="3282120" y="1569960"/>
              <a:ext cx="2739960" cy="2739600"/>
              <a:chOff x="3282120" y="1569960"/>
              <a:chExt cx="2739960" cy="2739600"/>
            </a:xfrm>
          </p:grpSpPr>
          <p:grpSp>
            <p:nvGrpSpPr>
              <p:cNvPr id="202" name="Group 16"/>
              <p:cNvGrpSpPr/>
              <p:nvPr/>
            </p:nvGrpSpPr>
            <p:grpSpPr>
              <a:xfrm>
                <a:off x="3282120" y="1569960"/>
                <a:ext cx="2739960" cy="2739600"/>
                <a:chOff x="3282120" y="1569960"/>
                <a:chExt cx="2739960" cy="2739600"/>
              </a:xfrm>
            </p:grpSpPr>
            <p:sp>
              <p:nvSpPr>
                <p:cNvPr id="203" name="Oval 115"/>
                <p:cNvSpPr/>
                <p:nvPr/>
              </p:nvSpPr>
              <p:spPr>
                <a:xfrm>
                  <a:off x="3282120" y="1569960"/>
                  <a:ext cx="2739960" cy="2739600"/>
                </a:xfrm>
                <a:prstGeom prst="ellipse">
                  <a:avLst/>
                </a:prstGeom>
                <a:gradFill rotWithShape="0">
                  <a:gsLst>
                    <a:gs pos="55000">
                      <a:srgbClr val="f6e51f">
                        <a:alpha val="40000"/>
                      </a:srgbClr>
                    </a:gs>
                    <a:gs pos="100000">
                      <a:srgbClr val="fff65d">
                        <a:alpha val="40000"/>
                      </a:srgbClr>
                    </a:gs>
                  </a:gsLst>
                  <a:lin ang="5400000"/>
                </a:gradFill>
                <a:ln cap="rnd" w="38100">
                  <a:solidFill>
                    <a:srgbClr val="8f830c"/>
                  </a:solidFill>
                  <a:round/>
                </a:ln>
                <a:effectLst>
                  <a:outerShdw algn="ctr" blurRad="108000" dir="5400000" dist="12600">
                    <a:srgbClr val="000000">
                      <a:alpha val="5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4" name="Oval 116"/>
                <p:cNvSpPr/>
                <p:nvPr/>
              </p:nvSpPr>
              <p:spPr>
                <a:xfrm rot="5400000">
                  <a:off x="3349080" y="1598040"/>
                  <a:ext cx="2597040" cy="2597040"/>
                </a:xfrm>
                <a:prstGeom prst="ellipse">
                  <a:avLst/>
                </a:prstGeom>
                <a:gradFill rotWithShape="0">
                  <a:gsLst>
                    <a:gs pos="61000">
                      <a:srgbClr val="c1d1ec">
                        <a:alpha val="0"/>
                      </a:srgbClr>
                    </a:gs>
                    <a:gs pos="100000">
                      <a:srgbClr val="ffffff"/>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05" name="Oval 112"/>
              <p:cNvSpPr/>
              <p:nvPr/>
            </p:nvSpPr>
            <p:spPr>
              <a:xfrm>
                <a:off x="3427560" y="1712520"/>
                <a:ext cx="2449080" cy="2449080"/>
              </a:xfrm>
              <a:prstGeom prst="ellipse">
                <a:avLst/>
              </a:prstGeom>
              <a:gradFill rotWithShape="0">
                <a:gsLst>
                  <a:gs pos="0">
                    <a:srgbClr val="c3b520"/>
                  </a:gs>
                  <a:gs pos="100000">
                    <a:srgbClr val="5c550b"/>
                  </a:gs>
                </a:gsLst>
                <a:lin ang="5400000"/>
              </a:gradFill>
              <a:ln w="12700">
                <a:solidFill>
                  <a:srgbClr val="5e570b"/>
                </a:solidFill>
                <a:miter/>
              </a:ln>
              <a:effectLst>
                <a:outerShdw algn="tl" blurRad="25560" dir="5400000" dist="12600" rotWithShape="0">
                  <a:srgbClr val="000000">
                    <a:alpha val="20000"/>
                  </a:srgbClr>
                </a:outerShdw>
              </a:effectLst>
            </p:spPr>
            <p:style>
              <a:lnRef idx="0"/>
              <a:fillRef idx="0"/>
              <a:effectRef idx="0"/>
              <a:fontRef idx="minor"/>
            </p:style>
            <p:txBody>
              <a:bodyPr lIns="18360" rIns="18360" tIns="18360" bIns="18360" anchor="ctr" anchorCtr="1">
                <a:noAutofit/>
              </a:bodyPr>
              <a:p>
                <a:pPr algn="ctr">
                  <a:lnSpc>
                    <a:spcPct val="85000"/>
                  </a:lnSpc>
                  <a:spcBef>
                    <a:spcPts val="20"/>
                  </a:spcBef>
                </a:pPr>
                <a:endParaRPr b="0" lang="en-US" sz="1600" spc="-1" strike="noStrike">
                  <a:solidFill>
                    <a:srgbClr val="ffffff"/>
                  </a:solidFill>
                  <a:latin typeface="Arial Narrow"/>
                </a:endParaRPr>
              </a:p>
            </p:txBody>
          </p:sp>
          <p:sp>
            <p:nvSpPr>
              <p:cNvPr id="206" name="TextBox 78"/>
              <p:cNvSpPr/>
              <p:nvPr/>
            </p:nvSpPr>
            <p:spPr>
              <a:xfrm>
                <a:off x="3702600" y="2870640"/>
                <a:ext cx="1916640" cy="1046880"/>
              </a:xfrm>
              <a:prstGeom prst="rect">
                <a:avLst/>
              </a:prstGeom>
              <a:noFill/>
              <a:ln w="0">
                <a:noFill/>
              </a:ln>
              <a:effectLst>
                <a:outerShdw blurRad="38160" dir="2700000" dist="25455">
                  <a:srgbClr val="000000">
                    <a:alpha val="43000"/>
                  </a:srgbClr>
                </a:outerShdw>
              </a:effectLst>
            </p:spPr>
            <p:style>
              <a:lnRef idx="0"/>
              <a:fillRef idx="0"/>
              <a:effectRef idx="0"/>
              <a:fontRef idx="minor"/>
            </p:style>
            <p:txBody>
              <a:bodyPr lIns="90000" rIns="90000" tIns="45000" bIns="45000" anchor="t">
                <a:spAutoFit/>
              </a:bodyPr>
              <a:p>
                <a:pPr algn="ctr">
                  <a:lnSpc>
                    <a:spcPct val="85000"/>
                  </a:lnSpc>
                </a:pPr>
                <a:r>
                  <a:rPr b="0" lang="en-US" sz="1800" spc="-1" strike="noStrike">
                    <a:solidFill>
                      <a:srgbClr val="ffffff"/>
                    </a:solidFill>
                    <a:latin typeface="Arial Narrow"/>
                  </a:rPr>
                  <a:t>Element Name</a:t>
                </a:r>
                <a:br>
                  <a:rPr sz="2000"/>
                </a:br>
                <a:r>
                  <a:rPr b="0" lang="en-US" sz="1400" spc="-1" strike="noStrike">
                    <a:solidFill>
                      <a:srgbClr val="ffffff"/>
                    </a:solidFill>
                    <a:latin typeface="Arial Narrow"/>
                  </a:rPr>
                  <a:t>Place additional information in this location. More content placed here, if needed.</a:t>
                </a:r>
                <a:endParaRPr b="0" lang="en-US" sz="1400" spc="-1" strike="noStrike">
                  <a:solidFill>
                    <a:srgbClr val="ffffff"/>
                  </a:solidFill>
                  <a:latin typeface="Arial"/>
                </a:endParaRPr>
              </a:p>
            </p:txBody>
          </p:sp>
          <p:pic>
            <p:nvPicPr>
              <p:cNvPr id="207" name="Photo_DVD caseSM.png" descr="/BDG/BizGraphics On Demand/BGOD Photos/PNGs/Photo_DVD caseSM.png"/>
              <p:cNvPicPr/>
              <p:nvPr/>
            </p:nvPicPr>
            <p:blipFill>
              <a:blip r:embed="rId7"/>
              <a:stretch/>
            </p:blipFill>
            <p:spPr>
              <a:xfrm>
                <a:off x="4075560" y="1765800"/>
                <a:ext cx="1064520" cy="1134000"/>
              </a:xfrm>
              <a:prstGeom prst="rect">
                <a:avLst/>
              </a:prstGeom>
              <a:ln w="0">
                <a:noFill/>
              </a:ln>
              <a:effectLst>
                <a:outerShdw blurRad="114480" dir="2700000" dist="88586">
                  <a:srgbClr val="000000">
                    <a:alpha val="25000"/>
                  </a:srgbClr>
                </a:outerShdw>
              </a:effectLst>
            </p:spPr>
          </p:pic>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Box 1"/>
          <p:cNvSpPr/>
          <p:nvPr/>
        </p:nvSpPr>
        <p:spPr>
          <a:xfrm>
            <a:off x="435960" y="19116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ffff00"/>
                </a:solidFill>
                <a:latin typeface="微软雅黑"/>
                <a:ea typeface="微软雅黑"/>
              </a:rPr>
              <a:t>添加目录</a:t>
            </a:r>
            <a:endParaRPr b="0" lang="en-US" sz="2800" spc="-1" strike="noStrike">
              <a:solidFill>
                <a:srgbClr val="ffffff"/>
              </a:solidFill>
              <a:latin typeface="Arial"/>
            </a:endParaRPr>
          </a:p>
        </p:txBody>
      </p:sp>
      <p:grpSp>
        <p:nvGrpSpPr>
          <p:cNvPr id="209" name="Group 37"/>
          <p:cNvGrpSpPr/>
          <p:nvPr/>
        </p:nvGrpSpPr>
        <p:grpSpPr>
          <a:xfrm>
            <a:off x="2362320" y="714240"/>
            <a:ext cx="4571640" cy="4571640"/>
            <a:chOff x="2362320" y="714240"/>
            <a:chExt cx="4571640" cy="4571640"/>
          </a:xfrm>
        </p:grpSpPr>
        <p:sp>
          <p:nvSpPr>
            <p:cNvPr id="210" name="Freeform 8"/>
            <p:cNvSpPr/>
            <p:nvPr/>
          </p:nvSpPr>
          <p:spPr>
            <a:xfrm>
              <a:off x="2362320" y="714240"/>
              <a:ext cx="2687760" cy="2285640"/>
            </a:xfrm>
            <a:custGeom>
              <a:avLst/>
              <a:gdLst>
                <a:gd name="textAreaLeft" fmla="*/ 0 w 2687760"/>
                <a:gd name="textAreaRight" fmla="*/ 2688120 w 2687760"/>
                <a:gd name="textAreaTop" fmla="*/ 0 h 2285640"/>
                <a:gd name="textAreaBottom" fmla="*/ 2286000 h 2285640"/>
              </a:gdLst>
              <a:ahLst/>
              <a:rect l="textAreaLeft" t="textAreaTop" r="textAreaRight" b="textAreaBottom"/>
              <a:pathLst>
                <a:path w="2540" h="2160">
                  <a:moveTo>
                    <a:pt x="2429" y="597"/>
                  </a:moveTo>
                  <a:lnTo>
                    <a:pt x="2429" y="597"/>
                  </a:lnTo>
                  <a:lnTo>
                    <a:pt x="2416" y="597"/>
                  </a:lnTo>
                  <a:lnTo>
                    <a:pt x="2405" y="600"/>
                  </a:lnTo>
                  <a:lnTo>
                    <a:pt x="2394" y="606"/>
                  </a:lnTo>
                  <a:lnTo>
                    <a:pt x="2385" y="611"/>
                  </a:lnTo>
                  <a:lnTo>
                    <a:pt x="2367" y="627"/>
                  </a:lnTo>
                  <a:lnTo>
                    <a:pt x="2349" y="645"/>
                  </a:lnTo>
                  <a:lnTo>
                    <a:pt x="2331" y="664"/>
                  </a:lnTo>
                  <a:lnTo>
                    <a:pt x="2313" y="678"/>
                  </a:lnTo>
                  <a:lnTo>
                    <a:pt x="2304" y="685"/>
                  </a:lnTo>
                  <a:lnTo>
                    <a:pt x="2293" y="689"/>
                  </a:lnTo>
                  <a:lnTo>
                    <a:pt x="2283" y="692"/>
                  </a:lnTo>
                  <a:lnTo>
                    <a:pt x="2270" y="694"/>
                  </a:lnTo>
                  <a:lnTo>
                    <a:pt x="2270" y="694"/>
                  </a:lnTo>
                  <a:lnTo>
                    <a:pt x="2259" y="692"/>
                  </a:lnTo>
                  <a:lnTo>
                    <a:pt x="2250" y="691"/>
                  </a:lnTo>
                  <a:lnTo>
                    <a:pt x="2239" y="687"/>
                  </a:lnTo>
                  <a:lnTo>
                    <a:pt x="2230" y="682"/>
                  </a:lnTo>
                  <a:lnTo>
                    <a:pt x="2221" y="676"/>
                  </a:lnTo>
                  <a:lnTo>
                    <a:pt x="2212" y="669"/>
                  </a:lnTo>
                  <a:lnTo>
                    <a:pt x="2203" y="660"/>
                  </a:lnTo>
                  <a:lnTo>
                    <a:pt x="2196" y="651"/>
                  </a:lnTo>
                  <a:lnTo>
                    <a:pt x="2183" y="629"/>
                  </a:lnTo>
                  <a:lnTo>
                    <a:pt x="2173" y="604"/>
                  </a:lnTo>
                  <a:lnTo>
                    <a:pt x="2164" y="577"/>
                  </a:lnTo>
                  <a:lnTo>
                    <a:pt x="2160" y="546"/>
                  </a:lnTo>
                  <a:lnTo>
                    <a:pt x="2160" y="0"/>
                  </a:lnTo>
                  <a:lnTo>
                    <a:pt x="2160" y="0"/>
                  </a:lnTo>
                  <a:lnTo>
                    <a:pt x="2104" y="0"/>
                  </a:lnTo>
                  <a:lnTo>
                    <a:pt x="2048" y="4"/>
                  </a:lnTo>
                  <a:lnTo>
                    <a:pt x="1994" y="7"/>
                  </a:lnTo>
                  <a:lnTo>
                    <a:pt x="1938" y="11"/>
                  </a:lnTo>
                  <a:lnTo>
                    <a:pt x="1884" y="18"/>
                  </a:lnTo>
                  <a:lnTo>
                    <a:pt x="1830" y="25"/>
                  </a:lnTo>
                  <a:lnTo>
                    <a:pt x="1778" y="34"/>
                  </a:lnTo>
                  <a:lnTo>
                    <a:pt x="1724" y="43"/>
                  </a:lnTo>
                  <a:lnTo>
                    <a:pt x="1671" y="56"/>
                  </a:lnTo>
                  <a:lnTo>
                    <a:pt x="1619" y="69"/>
                  </a:lnTo>
                  <a:lnTo>
                    <a:pt x="1569" y="83"/>
                  </a:lnTo>
                  <a:lnTo>
                    <a:pt x="1518" y="97"/>
                  </a:lnTo>
                  <a:lnTo>
                    <a:pt x="1468" y="114"/>
                  </a:lnTo>
                  <a:lnTo>
                    <a:pt x="1417" y="132"/>
                  </a:lnTo>
                  <a:lnTo>
                    <a:pt x="1368" y="150"/>
                  </a:lnTo>
                  <a:lnTo>
                    <a:pt x="1320" y="169"/>
                  </a:lnTo>
                  <a:lnTo>
                    <a:pt x="1271" y="191"/>
                  </a:lnTo>
                  <a:lnTo>
                    <a:pt x="1222" y="213"/>
                  </a:lnTo>
                  <a:lnTo>
                    <a:pt x="1176" y="236"/>
                  </a:lnTo>
                  <a:lnTo>
                    <a:pt x="1130" y="261"/>
                  </a:lnTo>
                  <a:lnTo>
                    <a:pt x="1085" y="287"/>
                  </a:lnTo>
                  <a:lnTo>
                    <a:pt x="1040" y="314"/>
                  </a:lnTo>
                  <a:lnTo>
                    <a:pt x="995" y="341"/>
                  </a:lnTo>
                  <a:lnTo>
                    <a:pt x="952" y="370"/>
                  </a:lnTo>
                  <a:lnTo>
                    <a:pt x="909" y="398"/>
                  </a:lnTo>
                  <a:lnTo>
                    <a:pt x="867" y="429"/>
                  </a:lnTo>
                  <a:lnTo>
                    <a:pt x="826" y="462"/>
                  </a:lnTo>
                  <a:lnTo>
                    <a:pt x="786" y="494"/>
                  </a:lnTo>
                  <a:lnTo>
                    <a:pt x="746" y="526"/>
                  </a:lnTo>
                  <a:lnTo>
                    <a:pt x="707" y="561"/>
                  </a:lnTo>
                  <a:lnTo>
                    <a:pt x="669" y="597"/>
                  </a:lnTo>
                  <a:lnTo>
                    <a:pt x="633" y="633"/>
                  </a:lnTo>
                  <a:lnTo>
                    <a:pt x="597" y="671"/>
                  </a:lnTo>
                  <a:lnTo>
                    <a:pt x="561" y="709"/>
                  </a:lnTo>
                  <a:lnTo>
                    <a:pt x="526" y="746"/>
                  </a:lnTo>
                  <a:lnTo>
                    <a:pt x="492" y="786"/>
                  </a:lnTo>
                  <a:lnTo>
                    <a:pt x="460" y="828"/>
                  </a:lnTo>
                  <a:lnTo>
                    <a:pt x="429" y="867"/>
                  </a:lnTo>
                  <a:lnTo>
                    <a:pt x="398" y="911"/>
                  </a:lnTo>
                  <a:lnTo>
                    <a:pt x="368" y="952"/>
                  </a:lnTo>
                  <a:lnTo>
                    <a:pt x="341" y="995"/>
                  </a:lnTo>
                  <a:lnTo>
                    <a:pt x="312" y="1040"/>
                  </a:lnTo>
                  <a:lnTo>
                    <a:pt x="285" y="1085"/>
                  </a:lnTo>
                  <a:lnTo>
                    <a:pt x="260" y="1130"/>
                  </a:lnTo>
                  <a:lnTo>
                    <a:pt x="236" y="1177"/>
                  </a:lnTo>
                  <a:lnTo>
                    <a:pt x="213" y="1224"/>
                  </a:lnTo>
                  <a:lnTo>
                    <a:pt x="191" y="1271"/>
                  </a:lnTo>
                  <a:lnTo>
                    <a:pt x="169" y="1320"/>
                  </a:lnTo>
                  <a:lnTo>
                    <a:pt x="150" y="1368"/>
                  </a:lnTo>
                  <a:lnTo>
                    <a:pt x="130" y="1417"/>
                  </a:lnTo>
                  <a:lnTo>
                    <a:pt x="114" y="1468"/>
                  </a:lnTo>
                  <a:lnTo>
                    <a:pt x="97" y="1518"/>
                  </a:lnTo>
                  <a:lnTo>
                    <a:pt x="81" y="1569"/>
                  </a:lnTo>
                  <a:lnTo>
                    <a:pt x="67" y="1621"/>
                  </a:lnTo>
                  <a:lnTo>
                    <a:pt x="54" y="1673"/>
                  </a:lnTo>
                  <a:lnTo>
                    <a:pt x="43" y="1725"/>
                  </a:lnTo>
                  <a:lnTo>
                    <a:pt x="32" y="1778"/>
                  </a:lnTo>
                  <a:lnTo>
                    <a:pt x="25" y="1832"/>
                  </a:lnTo>
                  <a:lnTo>
                    <a:pt x="16" y="1886"/>
                  </a:lnTo>
                  <a:lnTo>
                    <a:pt x="11" y="1940"/>
                  </a:lnTo>
                  <a:lnTo>
                    <a:pt x="5" y="1994"/>
                  </a:lnTo>
                  <a:lnTo>
                    <a:pt x="2" y="2050"/>
                  </a:lnTo>
                  <a:lnTo>
                    <a:pt x="0" y="2104"/>
                  </a:lnTo>
                  <a:lnTo>
                    <a:pt x="0" y="2160"/>
                  </a:lnTo>
                  <a:lnTo>
                    <a:pt x="563" y="2160"/>
                  </a:lnTo>
                  <a:lnTo>
                    <a:pt x="563" y="2160"/>
                  </a:lnTo>
                  <a:lnTo>
                    <a:pt x="590" y="2155"/>
                  </a:lnTo>
                  <a:lnTo>
                    <a:pt x="613" y="2146"/>
                  </a:lnTo>
                  <a:lnTo>
                    <a:pt x="636" y="2135"/>
                  </a:lnTo>
                  <a:lnTo>
                    <a:pt x="654" y="2122"/>
                  </a:lnTo>
                  <a:lnTo>
                    <a:pt x="671" y="2106"/>
                  </a:lnTo>
                  <a:lnTo>
                    <a:pt x="682" y="2090"/>
                  </a:lnTo>
                  <a:lnTo>
                    <a:pt x="687" y="2081"/>
                  </a:lnTo>
                  <a:lnTo>
                    <a:pt x="691" y="2072"/>
                  </a:lnTo>
                  <a:lnTo>
                    <a:pt x="692" y="2063"/>
                  </a:lnTo>
                  <a:lnTo>
                    <a:pt x="692" y="2052"/>
                  </a:lnTo>
                  <a:lnTo>
                    <a:pt x="692" y="2052"/>
                  </a:lnTo>
                  <a:lnTo>
                    <a:pt x="691" y="2041"/>
                  </a:lnTo>
                  <a:lnTo>
                    <a:pt x="689" y="2030"/>
                  </a:lnTo>
                  <a:lnTo>
                    <a:pt x="683" y="2019"/>
                  </a:lnTo>
                  <a:lnTo>
                    <a:pt x="678" y="2009"/>
                  </a:lnTo>
                  <a:lnTo>
                    <a:pt x="662" y="1991"/>
                  </a:lnTo>
                  <a:lnTo>
                    <a:pt x="644" y="1972"/>
                  </a:lnTo>
                  <a:lnTo>
                    <a:pt x="626" y="1956"/>
                  </a:lnTo>
                  <a:lnTo>
                    <a:pt x="611" y="1936"/>
                  </a:lnTo>
                  <a:lnTo>
                    <a:pt x="604" y="1927"/>
                  </a:lnTo>
                  <a:lnTo>
                    <a:pt x="600" y="1917"/>
                  </a:lnTo>
                  <a:lnTo>
                    <a:pt x="597" y="1906"/>
                  </a:lnTo>
                  <a:lnTo>
                    <a:pt x="595" y="1893"/>
                  </a:lnTo>
                  <a:lnTo>
                    <a:pt x="595" y="1893"/>
                  </a:lnTo>
                  <a:lnTo>
                    <a:pt x="597" y="1882"/>
                  </a:lnTo>
                  <a:lnTo>
                    <a:pt x="599" y="1872"/>
                  </a:lnTo>
                  <a:lnTo>
                    <a:pt x="604" y="1861"/>
                  </a:lnTo>
                  <a:lnTo>
                    <a:pt x="609" y="1850"/>
                  </a:lnTo>
                  <a:lnTo>
                    <a:pt x="617" y="1841"/>
                  </a:lnTo>
                  <a:lnTo>
                    <a:pt x="624" y="1832"/>
                  </a:lnTo>
                  <a:lnTo>
                    <a:pt x="635" y="1823"/>
                  </a:lnTo>
                  <a:lnTo>
                    <a:pt x="645" y="1816"/>
                  </a:lnTo>
                  <a:lnTo>
                    <a:pt x="656" y="1808"/>
                  </a:lnTo>
                  <a:lnTo>
                    <a:pt x="671" y="1801"/>
                  </a:lnTo>
                  <a:lnTo>
                    <a:pt x="683" y="1796"/>
                  </a:lnTo>
                  <a:lnTo>
                    <a:pt x="700" y="1792"/>
                  </a:lnTo>
                  <a:lnTo>
                    <a:pt x="714" y="1787"/>
                  </a:lnTo>
                  <a:lnTo>
                    <a:pt x="730" y="1785"/>
                  </a:lnTo>
                  <a:lnTo>
                    <a:pt x="748" y="1783"/>
                  </a:lnTo>
                  <a:lnTo>
                    <a:pt x="764" y="1783"/>
                  </a:lnTo>
                  <a:lnTo>
                    <a:pt x="764" y="1783"/>
                  </a:lnTo>
                  <a:lnTo>
                    <a:pt x="783" y="1783"/>
                  </a:lnTo>
                  <a:lnTo>
                    <a:pt x="799" y="1785"/>
                  </a:lnTo>
                  <a:lnTo>
                    <a:pt x="815" y="1787"/>
                  </a:lnTo>
                  <a:lnTo>
                    <a:pt x="831" y="1792"/>
                  </a:lnTo>
                  <a:lnTo>
                    <a:pt x="846" y="1796"/>
                  </a:lnTo>
                  <a:lnTo>
                    <a:pt x="860" y="1801"/>
                  </a:lnTo>
                  <a:lnTo>
                    <a:pt x="873" y="1808"/>
                  </a:lnTo>
                  <a:lnTo>
                    <a:pt x="885" y="1816"/>
                  </a:lnTo>
                  <a:lnTo>
                    <a:pt x="896" y="1823"/>
                  </a:lnTo>
                  <a:lnTo>
                    <a:pt x="905" y="1832"/>
                  </a:lnTo>
                  <a:lnTo>
                    <a:pt x="914" y="1841"/>
                  </a:lnTo>
                  <a:lnTo>
                    <a:pt x="921" y="1850"/>
                  </a:lnTo>
                  <a:lnTo>
                    <a:pt x="927" y="1861"/>
                  </a:lnTo>
                  <a:lnTo>
                    <a:pt x="930" y="1872"/>
                  </a:lnTo>
                  <a:lnTo>
                    <a:pt x="934" y="1882"/>
                  </a:lnTo>
                  <a:lnTo>
                    <a:pt x="934" y="1893"/>
                  </a:lnTo>
                  <a:lnTo>
                    <a:pt x="934" y="1893"/>
                  </a:lnTo>
                  <a:lnTo>
                    <a:pt x="934" y="1906"/>
                  </a:lnTo>
                  <a:lnTo>
                    <a:pt x="930" y="1917"/>
                  </a:lnTo>
                  <a:lnTo>
                    <a:pt x="925" y="1927"/>
                  </a:lnTo>
                  <a:lnTo>
                    <a:pt x="920" y="1936"/>
                  </a:lnTo>
                  <a:lnTo>
                    <a:pt x="903" y="1956"/>
                  </a:lnTo>
                  <a:lnTo>
                    <a:pt x="885" y="1972"/>
                  </a:lnTo>
                  <a:lnTo>
                    <a:pt x="867" y="1991"/>
                  </a:lnTo>
                  <a:lnTo>
                    <a:pt x="853" y="2009"/>
                  </a:lnTo>
                  <a:lnTo>
                    <a:pt x="846" y="2019"/>
                  </a:lnTo>
                  <a:lnTo>
                    <a:pt x="842" y="2030"/>
                  </a:lnTo>
                  <a:lnTo>
                    <a:pt x="838" y="2041"/>
                  </a:lnTo>
                  <a:lnTo>
                    <a:pt x="837" y="2052"/>
                  </a:lnTo>
                  <a:lnTo>
                    <a:pt x="837" y="2052"/>
                  </a:lnTo>
                  <a:lnTo>
                    <a:pt x="838" y="2063"/>
                  </a:lnTo>
                  <a:lnTo>
                    <a:pt x="840" y="2072"/>
                  </a:lnTo>
                  <a:lnTo>
                    <a:pt x="844" y="2081"/>
                  </a:lnTo>
                  <a:lnTo>
                    <a:pt x="847" y="2090"/>
                  </a:lnTo>
                  <a:lnTo>
                    <a:pt x="858" y="2106"/>
                  </a:lnTo>
                  <a:lnTo>
                    <a:pt x="874" y="2122"/>
                  </a:lnTo>
                  <a:lnTo>
                    <a:pt x="894" y="2135"/>
                  </a:lnTo>
                  <a:lnTo>
                    <a:pt x="916" y="2146"/>
                  </a:lnTo>
                  <a:lnTo>
                    <a:pt x="941" y="2155"/>
                  </a:lnTo>
                  <a:lnTo>
                    <a:pt x="968" y="2160"/>
                  </a:lnTo>
                  <a:lnTo>
                    <a:pt x="2160" y="2160"/>
                  </a:lnTo>
                  <a:lnTo>
                    <a:pt x="2160" y="986"/>
                  </a:lnTo>
                  <a:lnTo>
                    <a:pt x="2160" y="986"/>
                  </a:lnTo>
                  <a:lnTo>
                    <a:pt x="2164" y="956"/>
                  </a:lnTo>
                  <a:lnTo>
                    <a:pt x="2173" y="929"/>
                  </a:lnTo>
                  <a:lnTo>
                    <a:pt x="2183" y="903"/>
                  </a:lnTo>
                  <a:lnTo>
                    <a:pt x="2196" y="882"/>
                  </a:lnTo>
                  <a:lnTo>
                    <a:pt x="2203" y="871"/>
                  </a:lnTo>
                  <a:lnTo>
                    <a:pt x="2212" y="864"/>
                  </a:lnTo>
                  <a:lnTo>
                    <a:pt x="2221" y="856"/>
                  </a:lnTo>
                  <a:lnTo>
                    <a:pt x="2230" y="849"/>
                  </a:lnTo>
                  <a:lnTo>
                    <a:pt x="2239" y="846"/>
                  </a:lnTo>
                  <a:lnTo>
                    <a:pt x="2250" y="842"/>
                  </a:lnTo>
                  <a:lnTo>
                    <a:pt x="2259" y="838"/>
                  </a:lnTo>
                  <a:lnTo>
                    <a:pt x="2270" y="838"/>
                  </a:lnTo>
                  <a:lnTo>
                    <a:pt x="2270" y="838"/>
                  </a:lnTo>
                  <a:lnTo>
                    <a:pt x="2283" y="840"/>
                  </a:lnTo>
                  <a:lnTo>
                    <a:pt x="2293" y="842"/>
                  </a:lnTo>
                  <a:lnTo>
                    <a:pt x="2304" y="847"/>
                  </a:lnTo>
                  <a:lnTo>
                    <a:pt x="2313" y="853"/>
                  </a:lnTo>
                  <a:lnTo>
                    <a:pt x="2331" y="869"/>
                  </a:lnTo>
                  <a:lnTo>
                    <a:pt x="2349" y="887"/>
                  </a:lnTo>
                  <a:lnTo>
                    <a:pt x="2367" y="905"/>
                  </a:lnTo>
                  <a:lnTo>
                    <a:pt x="2385" y="920"/>
                  </a:lnTo>
                  <a:lnTo>
                    <a:pt x="2394" y="927"/>
                  </a:lnTo>
                  <a:lnTo>
                    <a:pt x="2405" y="930"/>
                  </a:lnTo>
                  <a:lnTo>
                    <a:pt x="2416" y="934"/>
                  </a:lnTo>
                  <a:lnTo>
                    <a:pt x="2429" y="936"/>
                  </a:lnTo>
                  <a:lnTo>
                    <a:pt x="2429" y="936"/>
                  </a:lnTo>
                  <a:lnTo>
                    <a:pt x="2439" y="934"/>
                  </a:lnTo>
                  <a:lnTo>
                    <a:pt x="2450" y="932"/>
                  </a:lnTo>
                  <a:lnTo>
                    <a:pt x="2461" y="929"/>
                  </a:lnTo>
                  <a:lnTo>
                    <a:pt x="2472" y="921"/>
                  </a:lnTo>
                  <a:lnTo>
                    <a:pt x="2481" y="914"/>
                  </a:lnTo>
                  <a:lnTo>
                    <a:pt x="2490" y="907"/>
                  </a:lnTo>
                  <a:lnTo>
                    <a:pt x="2499" y="896"/>
                  </a:lnTo>
                  <a:lnTo>
                    <a:pt x="2508" y="885"/>
                  </a:lnTo>
                  <a:lnTo>
                    <a:pt x="2515" y="874"/>
                  </a:lnTo>
                  <a:lnTo>
                    <a:pt x="2521" y="860"/>
                  </a:lnTo>
                  <a:lnTo>
                    <a:pt x="2526" y="847"/>
                  </a:lnTo>
                  <a:lnTo>
                    <a:pt x="2531" y="831"/>
                  </a:lnTo>
                  <a:lnTo>
                    <a:pt x="2535" y="817"/>
                  </a:lnTo>
                  <a:lnTo>
                    <a:pt x="2537" y="801"/>
                  </a:lnTo>
                  <a:lnTo>
                    <a:pt x="2539" y="783"/>
                  </a:lnTo>
                  <a:lnTo>
                    <a:pt x="2540" y="766"/>
                  </a:lnTo>
                  <a:lnTo>
                    <a:pt x="2540" y="766"/>
                  </a:lnTo>
                  <a:lnTo>
                    <a:pt x="2539" y="748"/>
                  </a:lnTo>
                  <a:lnTo>
                    <a:pt x="2537" y="732"/>
                  </a:lnTo>
                  <a:lnTo>
                    <a:pt x="2535" y="716"/>
                  </a:lnTo>
                  <a:lnTo>
                    <a:pt x="2531" y="700"/>
                  </a:lnTo>
                  <a:lnTo>
                    <a:pt x="2526" y="685"/>
                  </a:lnTo>
                  <a:lnTo>
                    <a:pt x="2521" y="671"/>
                  </a:lnTo>
                  <a:lnTo>
                    <a:pt x="2515" y="658"/>
                  </a:lnTo>
                  <a:lnTo>
                    <a:pt x="2508" y="645"/>
                  </a:lnTo>
                  <a:lnTo>
                    <a:pt x="2499" y="635"/>
                  </a:lnTo>
                  <a:lnTo>
                    <a:pt x="2490" y="626"/>
                  </a:lnTo>
                  <a:lnTo>
                    <a:pt x="2481" y="617"/>
                  </a:lnTo>
                  <a:lnTo>
                    <a:pt x="2472" y="609"/>
                  </a:lnTo>
                  <a:lnTo>
                    <a:pt x="2461" y="604"/>
                  </a:lnTo>
                  <a:lnTo>
                    <a:pt x="2450" y="600"/>
                  </a:lnTo>
                  <a:lnTo>
                    <a:pt x="2439" y="597"/>
                  </a:lnTo>
                  <a:lnTo>
                    <a:pt x="2429" y="597"/>
                  </a:lnTo>
                  <a:lnTo>
                    <a:pt x="2429" y="597"/>
                  </a:lnTo>
                  <a:close/>
                </a:path>
              </a:pathLst>
            </a:custGeom>
            <a:gradFill rotWithShape="0">
              <a:gsLst>
                <a:gs pos="0">
                  <a:srgbClr val="f9cc61"/>
                </a:gs>
                <a:gs pos="100000">
                  <a:srgbClr val="e2ac34"/>
                </a:gs>
              </a:gsLst>
              <a:lin ang="2700000"/>
            </a:gradFill>
            <a:ln w="9525">
              <a:solidFill>
                <a:srgbClr val="aa7b25"/>
              </a:solidFill>
              <a:miter/>
            </a:ln>
            <a:effectLst>
              <a:outerShdw algn="tl" blurRad="25560" dir="5400000" dist="12600" rotWithShape="0">
                <a:srgbClr val="000000">
                  <a:alpha val="20000"/>
                </a:srgbClr>
              </a:outerShdw>
            </a:effectLst>
            <a:scene3d>
              <a:camera prst="orthographicFront"/>
              <a:lightRig dir="t" rig="threePt"/>
            </a:scene3d>
            <a:sp3d>
              <a:bevelT w="38100" h="12700"/>
              <a:bevelB w="38100" h="12700"/>
            </a:sp3d>
          </p:spPr>
          <p:style>
            <a:lnRef idx="0"/>
            <a:fillRef idx="0"/>
            <a:effectRef idx="0"/>
            <a:fontRef idx="minor"/>
          </p:style>
          <p:txBody>
            <a:bodyPr lIns="18360" rIns="18360" tIns="18360" bIns="18360" anchor="ctr" anchorCtr="1">
              <a:noAutofit/>
            </a:bodyPr>
            <a:p>
              <a:pPr algn="ctr">
                <a:lnSpc>
                  <a:spcPct val="85000"/>
                </a:lnSpc>
                <a:spcBef>
                  <a:spcPts val="20"/>
                </a:spcBef>
              </a:pPr>
              <a:endParaRPr b="1" lang="en-US" sz="1600" spc="-1" strike="noStrike">
                <a:solidFill>
                  <a:srgbClr val="000000"/>
                </a:solidFill>
                <a:latin typeface="Arial Narrow"/>
              </a:endParaRPr>
            </a:p>
          </p:txBody>
        </p:sp>
        <p:sp>
          <p:nvSpPr>
            <p:cNvPr id="211" name="Freeform 7"/>
            <p:cNvSpPr/>
            <p:nvPr/>
          </p:nvSpPr>
          <p:spPr>
            <a:xfrm>
              <a:off x="2362320" y="2601360"/>
              <a:ext cx="2285640" cy="2684520"/>
            </a:xfrm>
            <a:custGeom>
              <a:avLst/>
              <a:gdLst>
                <a:gd name="textAreaLeft" fmla="*/ 0 w 2285640"/>
                <a:gd name="textAreaRight" fmla="*/ 2286000 w 2285640"/>
                <a:gd name="textAreaTop" fmla="*/ 0 h 2684520"/>
                <a:gd name="textAreaBottom" fmla="*/ 2684880 h 2684520"/>
              </a:gdLst>
              <a:ahLst/>
              <a:rect l="textAreaLeft" t="textAreaTop" r="textAreaRight" b="textAreaBottom"/>
              <a:pathLst>
                <a:path w="2160" h="2537">
                  <a:moveTo>
                    <a:pt x="2050" y="1846"/>
                  </a:moveTo>
                  <a:lnTo>
                    <a:pt x="2050" y="1846"/>
                  </a:lnTo>
                  <a:lnTo>
                    <a:pt x="2039" y="1848"/>
                  </a:lnTo>
                  <a:lnTo>
                    <a:pt x="2028" y="1850"/>
                  </a:lnTo>
                  <a:lnTo>
                    <a:pt x="2018" y="1855"/>
                  </a:lnTo>
                  <a:lnTo>
                    <a:pt x="2007" y="1861"/>
                  </a:lnTo>
                  <a:lnTo>
                    <a:pt x="1989" y="1877"/>
                  </a:lnTo>
                  <a:lnTo>
                    <a:pt x="1971" y="1895"/>
                  </a:lnTo>
                  <a:lnTo>
                    <a:pt x="1954" y="1913"/>
                  </a:lnTo>
                  <a:lnTo>
                    <a:pt x="1935" y="1928"/>
                  </a:lnTo>
                  <a:lnTo>
                    <a:pt x="1926" y="1935"/>
                  </a:lnTo>
                  <a:lnTo>
                    <a:pt x="1915" y="1938"/>
                  </a:lnTo>
                  <a:lnTo>
                    <a:pt x="1904" y="1942"/>
                  </a:lnTo>
                  <a:lnTo>
                    <a:pt x="1891" y="1944"/>
                  </a:lnTo>
                  <a:lnTo>
                    <a:pt x="1891" y="1944"/>
                  </a:lnTo>
                  <a:lnTo>
                    <a:pt x="1881" y="1942"/>
                  </a:lnTo>
                  <a:lnTo>
                    <a:pt x="1870" y="1940"/>
                  </a:lnTo>
                  <a:lnTo>
                    <a:pt x="1859" y="1935"/>
                  </a:lnTo>
                  <a:lnTo>
                    <a:pt x="1848" y="1929"/>
                  </a:lnTo>
                  <a:lnTo>
                    <a:pt x="1839" y="1922"/>
                  </a:lnTo>
                  <a:lnTo>
                    <a:pt x="1830" y="1915"/>
                  </a:lnTo>
                  <a:lnTo>
                    <a:pt x="1821" y="1904"/>
                  </a:lnTo>
                  <a:lnTo>
                    <a:pt x="1814" y="1893"/>
                  </a:lnTo>
                  <a:lnTo>
                    <a:pt x="1807" y="1881"/>
                  </a:lnTo>
                  <a:lnTo>
                    <a:pt x="1799" y="1868"/>
                  </a:lnTo>
                  <a:lnTo>
                    <a:pt x="1794" y="1855"/>
                  </a:lnTo>
                  <a:lnTo>
                    <a:pt x="1789" y="1839"/>
                  </a:lnTo>
                  <a:lnTo>
                    <a:pt x="1785" y="1825"/>
                  </a:lnTo>
                  <a:lnTo>
                    <a:pt x="1783" y="1809"/>
                  </a:lnTo>
                  <a:lnTo>
                    <a:pt x="1781" y="1791"/>
                  </a:lnTo>
                  <a:lnTo>
                    <a:pt x="1781" y="1774"/>
                  </a:lnTo>
                  <a:lnTo>
                    <a:pt x="1781" y="1774"/>
                  </a:lnTo>
                  <a:lnTo>
                    <a:pt x="1781" y="1756"/>
                  </a:lnTo>
                  <a:lnTo>
                    <a:pt x="1783" y="1740"/>
                  </a:lnTo>
                  <a:lnTo>
                    <a:pt x="1785" y="1724"/>
                  </a:lnTo>
                  <a:lnTo>
                    <a:pt x="1789" y="1708"/>
                  </a:lnTo>
                  <a:lnTo>
                    <a:pt x="1794" y="1693"/>
                  </a:lnTo>
                  <a:lnTo>
                    <a:pt x="1799" y="1679"/>
                  </a:lnTo>
                  <a:lnTo>
                    <a:pt x="1807" y="1666"/>
                  </a:lnTo>
                  <a:lnTo>
                    <a:pt x="1814" y="1654"/>
                  </a:lnTo>
                  <a:lnTo>
                    <a:pt x="1821" y="1643"/>
                  </a:lnTo>
                  <a:lnTo>
                    <a:pt x="1830" y="1634"/>
                  </a:lnTo>
                  <a:lnTo>
                    <a:pt x="1839" y="1625"/>
                  </a:lnTo>
                  <a:lnTo>
                    <a:pt x="1848" y="1617"/>
                  </a:lnTo>
                  <a:lnTo>
                    <a:pt x="1859" y="1612"/>
                  </a:lnTo>
                  <a:lnTo>
                    <a:pt x="1870" y="1608"/>
                  </a:lnTo>
                  <a:lnTo>
                    <a:pt x="1881" y="1605"/>
                  </a:lnTo>
                  <a:lnTo>
                    <a:pt x="1891" y="1605"/>
                  </a:lnTo>
                  <a:lnTo>
                    <a:pt x="1891" y="1605"/>
                  </a:lnTo>
                  <a:lnTo>
                    <a:pt x="1904" y="1605"/>
                  </a:lnTo>
                  <a:lnTo>
                    <a:pt x="1915" y="1608"/>
                  </a:lnTo>
                  <a:lnTo>
                    <a:pt x="1926" y="1614"/>
                  </a:lnTo>
                  <a:lnTo>
                    <a:pt x="1935" y="1619"/>
                  </a:lnTo>
                  <a:lnTo>
                    <a:pt x="1954" y="1635"/>
                  </a:lnTo>
                  <a:lnTo>
                    <a:pt x="1971" y="1654"/>
                  </a:lnTo>
                  <a:lnTo>
                    <a:pt x="1989" y="1672"/>
                  </a:lnTo>
                  <a:lnTo>
                    <a:pt x="2007" y="1686"/>
                  </a:lnTo>
                  <a:lnTo>
                    <a:pt x="2018" y="1693"/>
                  </a:lnTo>
                  <a:lnTo>
                    <a:pt x="2027" y="1697"/>
                  </a:lnTo>
                  <a:lnTo>
                    <a:pt x="2039" y="1700"/>
                  </a:lnTo>
                  <a:lnTo>
                    <a:pt x="2050" y="1700"/>
                  </a:lnTo>
                  <a:lnTo>
                    <a:pt x="2050" y="1700"/>
                  </a:lnTo>
                  <a:lnTo>
                    <a:pt x="2061" y="1700"/>
                  </a:lnTo>
                  <a:lnTo>
                    <a:pt x="2070" y="1699"/>
                  </a:lnTo>
                  <a:lnTo>
                    <a:pt x="2081" y="1695"/>
                  </a:lnTo>
                  <a:lnTo>
                    <a:pt x="2090" y="1691"/>
                  </a:lnTo>
                  <a:lnTo>
                    <a:pt x="2099" y="1684"/>
                  </a:lnTo>
                  <a:lnTo>
                    <a:pt x="2106" y="1679"/>
                  </a:lnTo>
                  <a:lnTo>
                    <a:pt x="2122" y="1661"/>
                  </a:lnTo>
                  <a:lnTo>
                    <a:pt x="2137" y="1641"/>
                  </a:lnTo>
                  <a:lnTo>
                    <a:pt x="2147" y="1617"/>
                  </a:lnTo>
                  <a:lnTo>
                    <a:pt x="2155" y="1590"/>
                  </a:lnTo>
                  <a:lnTo>
                    <a:pt x="2160" y="1562"/>
                  </a:lnTo>
                  <a:lnTo>
                    <a:pt x="2160" y="377"/>
                  </a:lnTo>
                  <a:lnTo>
                    <a:pt x="968" y="377"/>
                  </a:lnTo>
                  <a:lnTo>
                    <a:pt x="968" y="377"/>
                  </a:lnTo>
                  <a:lnTo>
                    <a:pt x="941" y="372"/>
                  </a:lnTo>
                  <a:lnTo>
                    <a:pt x="916" y="363"/>
                  </a:lnTo>
                  <a:lnTo>
                    <a:pt x="894" y="352"/>
                  </a:lnTo>
                  <a:lnTo>
                    <a:pt x="874" y="339"/>
                  </a:lnTo>
                  <a:lnTo>
                    <a:pt x="858" y="323"/>
                  </a:lnTo>
                  <a:lnTo>
                    <a:pt x="847" y="307"/>
                  </a:lnTo>
                  <a:lnTo>
                    <a:pt x="844" y="298"/>
                  </a:lnTo>
                  <a:lnTo>
                    <a:pt x="840" y="289"/>
                  </a:lnTo>
                  <a:lnTo>
                    <a:pt x="838" y="280"/>
                  </a:lnTo>
                  <a:lnTo>
                    <a:pt x="837" y="269"/>
                  </a:lnTo>
                  <a:lnTo>
                    <a:pt x="837" y="269"/>
                  </a:lnTo>
                  <a:lnTo>
                    <a:pt x="838" y="258"/>
                  </a:lnTo>
                  <a:lnTo>
                    <a:pt x="842" y="247"/>
                  </a:lnTo>
                  <a:lnTo>
                    <a:pt x="846" y="236"/>
                  </a:lnTo>
                  <a:lnTo>
                    <a:pt x="853" y="226"/>
                  </a:lnTo>
                  <a:lnTo>
                    <a:pt x="867" y="208"/>
                  </a:lnTo>
                  <a:lnTo>
                    <a:pt x="885" y="189"/>
                  </a:lnTo>
                  <a:lnTo>
                    <a:pt x="903" y="173"/>
                  </a:lnTo>
                  <a:lnTo>
                    <a:pt x="920" y="153"/>
                  </a:lnTo>
                  <a:lnTo>
                    <a:pt x="925" y="144"/>
                  </a:lnTo>
                  <a:lnTo>
                    <a:pt x="930" y="134"/>
                  </a:lnTo>
                  <a:lnTo>
                    <a:pt x="934" y="123"/>
                  </a:lnTo>
                  <a:lnTo>
                    <a:pt x="934" y="110"/>
                  </a:lnTo>
                  <a:lnTo>
                    <a:pt x="934" y="110"/>
                  </a:lnTo>
                  <a:lnTo>
                    <a:pt x="934" y="99"/>
                  </a:lnTo>
                  <a:lnTo>
                    <a:pt x="930" y="89"/>
                  </a:lnTo>
                  <a:lnTo>
                    <a:pt x="927" y="78"/>
                  </a:lnTo>
                  <a:lnTo>
                    <a:pt x="921" y="67"/>
                  </a:lnTo>
                  <a:lnTo>
                    <a:pt x="914" y="58"/>
                  </a:lnTo>
                  <a:lnTo>
                    <a:pt x="905" y="49"/>
                  </a:lnTo>
                  <a:lnTo>
                    <a:pt x="896" y="40"/>
                  </a:lnTo>
                  <a:lnTo>
                    <a:pt x="885" y="33"/>
                  </a:lnTo>
                  <a:lnTo>
                    <a:pt x="873" y="25"/>
                  </a:lnTo>
                  <a:lnTo>
                    <a:pt x="860" y="18"/>
                  </a:lnTo>
                  <a:lnTo>
                    <a:pt x="846" y="13"/>
                  </a:lnTo>
                  <a:lnTo>
                    <a:pt x="831" y="9"/>
                  </a:lnTo>
                  <a:lnTo>
                    <a:pt x="815" y="4"/>
                  </a:lnTo>
                  <a:lnTo>
                    <a:pt x="799" y="2"/>
                  </a:lnTo>
                  <a:lnTo>
                    <a:pt x="783" y="0"/>
                  </a:lnTo>
                  <a:lnTo>
                    <a:pt x="764" y="0"/>
                  </a:lnTo>
                  <a:lnTo>
                    <a:pt x="764" y="0"/>
                  </a:lnTo>
                  <a:lnTo>
                    <a:pt x="748" y="0"/>
                  </a:lnTo>
                  <a:lnTo>
                    <a:pt x="730" y="2"/>
                  </a:lnTo>
                  <a:lnTo>
                    <a:pt x="714" y="4"/>
                  </a:lnTo>
                  <a:lnTo>
                    <a:pt x="700" y="9"/>
                  </a:lnTo>
                  <a:lnTo>
                    <a:pt x="683" y="13"/>
                  </a:lnTo>
                  <a:lnTo>
                    <a:pt x="671" y="18"/>
                  </a:lnTo>
                  <a:lnTo>
                    <a:pt x="656" y="25"/>
                  </a:lnTo>
                  <a:lnTo>
                    <a:pt x="645" y="33"/>
                  </a:lnTo>
                  <a:lnTo>
                    <a:pt x="635" y="40"/>
                  </a:lnTo>
                  <a:lnTo>
                    <a:pt x="624" y="49"/>
                  </a:lnTo>
                  <a:lnTo>
                    <a:pt x="617" y="58"/>
                  </a:lnTo>
                  <a:lnTo>
                    <a:pt x="609" y="67"/>
                  </a:lnTo>
                  <a:lnTo>
                    <a:pt x="604" y="78"/>
                  </a:lnTo>
                  <a:lnTo>
                    <a:pt x="599" y="89"/>
                  </a:lnTo>
                  <a:lnTo>
                    <a:pt x="597" y="99"/>
                  </a:lnTo>
                  <a:lnTo>
                    <a:pt x="595" y="110"/>
                  </a:lnTo>
                  <a:lnTo>
                    <a:pt x="595" y="110"/>
                  </a:lnTo>
                  <a:lnTo>
                    <a:pt x="597" y="123"/>
                  </a:lnTo>
                  <a:lnTo>
                    <a:pt x="600" y="134"/>
                  </a:lnTo>
                  <a:lnTo>
                    <a:pt x="604" y="144"/>
                  </a:lnTo>
                  <a:lnTo>
                    <a:pt x="611" y="153"/>
                  </a:lnTo>
                  <a:lnTo>
                    <a:pt x="626" y="173"/>
                  </a:lnTo>
                  <a:lnTo>
                    <a:pt x="644" y="189"/>
                  </a:lnTo>
                  <a:lnTo>
                    <a:pt x="662" y="208"/>
                  </a:lnTo>
                  <a:lnTo>
                    <a:pt x="678" y="226"/>
                  </a:lnTo>
                  <a:lnTo>
                    <a:pt x="683" y="236"/>
                  </a:lnTo>
                  <a:lnTo>
                    <a:pt x="689" y="247"/>
                  </a:lnTo>
                  <a:lnTo>
                    <a:pt x="691" y="258"/>
                  </a:lnTo>
                  <a:lnTo>
                    <a:pt x="692" y="269"/>
                  </a:lnTo>
                  <a:lnTo>
                    <a:pt x="692" y="269"/>
                  </a:lnTo>
                  <a:lnTo>
                    <a:pt x="692" y="280"/>
                  </a:lnTo>
                  <a:lnTo>
                    <a:pt x="691" y="289"/>
                  </a:lnTo>
                  <a:lnTo>
                    <a:pt x="687" y="298"/>
                  </a:lnTo>
                  <a:lnTo>
                    <a:pt x="682" y="307"/>
                  </a:lnTo>
                  <a:lnTo>
                    <a:pt x="671" y="323"/>
                  </a:lnTo>
                  <a:lnTo>
                    <a:pt x="654" y="339"/>
                  </a:lnTo>
                  <a:lnTo>
                    <a:pt x="636" y="352"/>
                  </a:lnTo>
                  <a:lnTo>
                    <a:pt x="613" y="363"/>
                  </a:lnTo>
                  <a:lnTo>
                    <a:pt x="590" y="372"/>
                  </a:lnTo>
                  <a:lnTo>
                    <a:pt x="563" y="377"/>
                  </a:lnTo>
                  <a:lnTo>
                    <a:pt x="0" y="377"/>
                  </a:lnTo>
                  <a:lnTo>
                    <a:pt x="0" y="377"/>
                  </a:lnTo>
                  <a:lnTo>
                    <a:pt x="0" y="433"/>
                  </a:lnTo>
                  <a:lnTo>
                    <a:pt x="2" y="489"/>
                  </a:lnTo>
                  <a:lnTo>
                    <a:pt x="5" y="543"/>
                  </a:lnTo>
                  <a:lnTo>
                    <a:pt x="11" y="599"/>
                  </a:lnTo>
                  <a:lnTo>
                    <a:pt x="16" y="653"/>
                  </a:lnTo>
                  <a:lnTo>
                    <a:pt x="25" y="707"/>
                  </a:lnTo>
                  <a:lnTo>
                    <a:pt x="32" y="759"/>
                  </a:lnTo>
                  <a:lnTo>
                    <a:pt x="43" y="813"/>
                  </a:lnTo>
                  <a:lnTo>
                    <a:pt x="54" y="866"/>
                  </a:lnTo>
                  <a:lnTo>
                    <a:pt x="67" y="918"/>
                  </a:lnTo>
                  <a:lnTo>
                    <a:pt x="81" y="968"/>
                  </a:lnTo>
                  <a:lnTo>
                    <a:pt x="97" y="1021"/>
                  </a:lnTo>
                  <a:lnTo>
                    <a:pt x="114" y="1071"/>
                  </a:lnTo>
                  <a:lnTo>
                    <a:pt x="130" y="1120"/>
                  </a:lnTo>
                  <a:lnTo>
                    <a:pt x="150" y="1170"/>
                  </a:lnTo>
                  <a:lnTo>
                    <a:pt x="169" y="1219"/>
                  </a:lnTo>
                  <a:lnTo>
                    <a:pt x="191" y="1266"/>
                  </a:lnTo>
                  <a:lnTo>
                    <a:pt x="213" y="1315"/>
                  </a:lnTo>
                  <a:lnTo>
                    <a:pt x="236" y="1361"/>
                  </a:lnTo>
                  <a:lnTo>
                    <a:pt x="260" y="1407"/>
                  </a:lnTo>
                  <a:lnTo>
                    <a:pt x="285" y="1453"/>
                  </a:lnTo>
                  <a:lnTo>
                    <a:pt x="312" y="1498"/>
                  </a:lnTo>
                  <a:lnTo>
                    <a:pt x="341" y="1542"/>
                  </a:lnTo>
                  <a:lnTo>
                    <a:pt x="368" y="1585"/>
                  </a:lnTo>
                  <a:lnTo>
                    <a:pt x="398" y="1628"/>
                  </a:lnTo>
                  <a:lnTo>
                    <a:pt x="429" y="1670"/>
                  </a:lnTo>
                  <a:lnTo>
                    <a:pt x="460" y="1711"/>
                  </a:lnTo>
                  <a:lnTo>
                    <a:pt x="492" y="1751"/>
                  </a:lnTo>
                  <a:lnTo>
                    <a:pt x="526" y="1791"/>
                  </a:lnTo>
                  <a:lnTo>
                    <a:pt x="561" y="1830"/>
                  </a:lnTo>
                  <a:lnTo>
                    <a:pt x="597" y="1868"/>
                  </a:lnTo>
                  <a:lnTo>
                    <a:pt x="633" y="1906"/>
                  </a:lnTo>
                  <a:lnTo>
                    <a:pt x="669" y="1942"/>
                  </a:lnTo>
                  <a:lnTo>
                    <a:pt x="707" y="1976"/>
                  </a:lnTo>
                  <a:lnTo>
                    <a:pt x="746" y="2011"/>
                  </a:lnTo>
                  <a:lnTo>
                    <a:pt x="786" y="2045"/>
                  </a:lnTo>
                  <a:lnTo>
                    <a:pt x="826" y="2077"/>
                  </a:lnTo>
                  <a:lnTo>
                    <a:pt x="867" y="2108"/>
                  </a:lnTo>
                  <a:lnTo>
                    <a:pt x="909" y="2139"/>
                  </a:lnTo>
                  <a:lnTo>
                    <a:pt x="952" y="2169"/>
                  </a:lnTo>
                  <a:lnTo>
                    <a:pt x="995" y="2198"/>
                  </a:lnTo>
                  <a:lnTo>
                    <a:pt x="1040" y="2225"/>
                  </a:lnTo>
                  <a:lnTo>
                    <a:pt x="1085" y="2252"/>
                  </a:lnTo>
                  <a:lnTo>
                    <a:pt x="1130" y="2277"/>
                  </a:lnTo>
                  <a:lnTo>
                    <a:pt x="1176" y="2301"/>
                  </a:lnTo>
                  <a:lnTo>
                    <a:pt x="1222" y="2324"/>
                  </a:lnTo>
                  <a:lnTo>
                    <a:pt x="1271" y="2348"/>
                  </a:lnTo>
                  <a:lnTo>
                    <a:pt x="1320" y="2368"/>
                  </a:lnTo>
                  <a:lnTo>
                    <a:pt x="1368" y="2387"/>
                  </a:lnTo>
                  <a:lnTo>
                    <a:pt x="1417" y="2407"/>
                  </a:lnTo>
                  <a:lnTo>
                    <a:pt x="1468" y="2423"/>
                  </a:lnTo>
                  <a:lnTo>
                    <a:pt x="1518" y="2441"/>
                  </a:lnTo>
                  <a:lnTo>
                    <a:pt x="1569" y="2456"/>
                  </a:lnTo>
                  <a:lnTo>
                    <a:pt x="1619" y="2470"/>
                  </a:lnTo>
                  <a:lnTo>
                    <a:pt x="1671" y="2483"/>
                  </a:lnTo>
                  <a:lnTo>
                    <a:pt x="1724" y="2494"/>
                  </a:lnTo>
                  <a:lnTo>
                    <a:pt x="1778" y="2505"/>
                  </a:lnTo>
                  <a:lnTo>
                    <a:pt x="1830" y="2514"/>
                  </a:lnTo>
                  <a:lnTo>
                    <a:pt x="1884" y="2521"/>
                  </a:lnTo>
                  <a:lnTo>
                    <a:pt x="1938" y="2526"/>
                  </a:lnTo>
                  <a:lnTo>
                    <a:pt x="1994" y="2532"/>
                  </a:lnTo>
                  <a:lnTo>
                    <a:pt x="2048" y="2535"/>
                  </a:lnTo>
                  <a:lnTo>
                    <a:pt x="2104" y="2537"/>
                  </a:lnTo>
                  <a:lnTo>
                    <a:pt x="2160" y="2537"/>
                  </a:lnTo>
                  <a:lnTo>
                    <a:pt x="2160" y="1985"/>
                  </a:lnTo>
                  <a:lnTo>
                    <a:pt x="2160" y="1985"/>
                  </a:lnTo>
                  <a:lnTo>
                    <a:pt x="2155" y="1956"/>
                  </a:lnTo>
                  <a:lnTo>
                    <a:pt x="2147" y="1931"/>
                  </a:lnTo>
                  <a:lnTo>
                    <a:pt x="2135" y="1908"/>
                  </a:lnTo>
                  <a:lnTo>
                    <a:pt x="2122" y="1886"/>
                  </a:lnTo>
                  <a:lnTo>
                    <a:pt x="2106" y="1870"/>
                  </a:lnTo>
                  <a:lnTo>
                    <a:pt x="2099" y="1863"/>
                  </a:lnTo>
                  <a:lnTo>
                    <a:pt x="2090" y="1857"/>
                  </a:lnTo>
                  <a:lnTo>
                    <a:pt x="2081" y="1852"/>
                  </a:lnTo>
                  <a:lnTo>
                    <a:pt x="2070" y="1850"/>
                  </a:lnTo>
                  <a:lnTo>
                    <a:pt x="2061" y="1846"/>
                  </a:lnTo>
                  <a:lnTo>
                    <a:pt x="2050" y="1846"/>
                  </a:lnTo>
                  <a:lnTo>
                    <a:pt x="2050" y="1846"/>
                  </a:lnTo>
                  <a:close/>
                </a:path>
              </a:pathLst>
            </a:custGeom>
            <a:gradFill rotWithShape="0">
              <a:gsLst>
                <a:gs pos="0">
                  <a:srgbClr val="d3a01b"/>
                </a:gs>
                <a:gs pos="100000">
                  <a:srgbClr val="a37200"/>
                </a:gs>
              </a:gsLst>
              <a:lin ang="2700000"/>
            </a:gradFill>
            <a:ln w="12700">
              <a:solidFill>
                <a:srgbClr val="aa7b25"/>
              </a:solidFill>
              <a:miter/>
            </a:ln>
            <a:effectLst>
              <a:outerShdw algn="tl" blurRad="25560" dir="5400000" dist="12600" rotWithShape="0">
                <a:srgbClr val="000000">
                  <a:alpha val="20000"/>
                </a:srgbClr>
              </a:outerShdw>
            </a:effectLst>
            <a:scene3d>
              <a:camera prst="orthographicFront"/>
              <a:lightRig dir="t" rig="threePt"/>
            </a:scene3d>
            <a:sp3d>
              <a:bevelT w="38100" h="12700"/>
              <a:bevelB w="38100" h="12700"/>
              <a:extrusionClr>
                <a:schemeClr val="tx2">
                  <a:lumMod val="60000"/>
                  <a:lumOff val="40000"/>
                </a:schemeClr>
              </a:extrusionClr>
            </a:sp3d>
          </p:spPr>
          <p:style>
            <a:lnRef idx="0"/>
            <a:fillRef idx="0"/>
            <a:effectRef idx="0"/>
            <a:fontRef idx="minor"/>
          </p:style>
          <p:txBody>
            <a:bodyPr lIns="18360" rIns="18360" tIns="18360" bIns="18360" anchor="ctr" anchorCtr="1">
              <a:noAutofit/>
            </a:bodyPr>
            <a:p>
              <a:pPr algn="ctr">
                <a:lnSpc>
                  <a:spcPct val="85000"/>
                </a:lnSpc>
                <a:spcBef>
                  <a:spcPts val="20"/>
                </a:spcBef>
              </a:pPr>
              <a:endParaRPr b="1" lang="en-US" sz="1600" spc="-1" strike="noStrike">
                <a:solidFill>
                  <a:srgbClr val="000000"/>
                </a:solidFill>
                <a:latin typeface="Arial Narrow"/>
              </a:endParaRPr>
            </a:p>
          </p:txBody>
        </p:sp>
        <p:sp>
          <p:nvSpPr>
            <p:cNvPr id="212" name="Freeform 6"/>
            <p:cNvSpPr/>
            <p:nvPr/>
          </p:nvSpPr>
          <p:spPr>
            <a:xfrm>
              <a:off x="4648320" y="714240"/>
              <a:ext cx="2285640" cy="2687760"/>
            </a:xfrm>
            <a:custGeom>
              <a:avLst/>
              <a:gdLst>
                <a:gd name="textAreaLeft" fmla="*/ 0 w 2285640"/>
                <a:gd name="textAreaRight" fmla="*/ 2286000 w 2285640"/>
                <a:gd name="textAreaTop" fmla="*/ 0 h 2687760"/>
                <a:gd name="textAreaBottom" fmla="*/ 2688120 h 2687760"/>
              </a:gdLst>
              <a:ahLst/>
              <a:rect l="textAreaLeft" t="textAreaTop" r="textAreaRight" b="textAreaBottom"/>
              <a:pathLst>
                <a:path w="2160" h="2540">
                  <a:moveTo>
                    <a:pt x="1614" y="2160"/>
                  </a:moveTo>
                  <a:lnTo>
                    <a:pt x="2160" y="2160"/>
                  </a:lnTo>
                  <a:lnTo>
                    <a:pt x="2160" y="2160"/>
                  </a:lnTo>
                  <a:lnTo>
                    <a:pt x="2160" y="2104"/>
                  </a:lnTo>
                  <a:lnTo>
                    <a:pt x="2158" y="2050"/>
                  </a:lnTo>
                  <a:lnTo>
                    <a:pt x="2155" y="1994"/>
                  </a:lnTo>
                  <a:lnTo>
                    <a:pt x="2149" y="1940"/>
                  </a:lnTo>
                  <a:lnTo>
                    <a:pt x="2142" y="1886"/>
                  </a:lnTo>
                  <a:lnTo>
                    <a:pt x="2135" y="1832"/>
                  </a:lnTo>
                  <a:lnTo>
                    <a:pt x="2126" y="1778"/>
                  </a:lnTo>
                  <a:lnTo>
                    <a:pt x="2117" y="1725"/>
                  </a:lnTo>
                  <a:lnTo>
                    <a:pt x="2104" y="1673"/>
                  </a:lnTo>
                  <a:lnTo>
                    <a:pt x="2091" y="1621"/>
                  </a:lnTo>
                  <a:lnTo>
                    <a:pt x="2079" y="1569"/>
                  </a:lnTo>
                  <a:lnTo>
                    <a:pt x="2063" y="1518"/>
                  </a:lnTo>
                  <a:lnTo>
                    <a:pt x="2046" y="1468"/>
                  </a:lnTo>
                  <a:lnTo>
                    <a:pt x="2028" y="1417"/>
                  </a:lnTo>
                  <a:lnTo>
                    <a:pt x="2010" y="1368"/>
                  </a:lnTo>
                  <a:lnTo>
                    <a:pt x="1991" y="1320"/>
                  </a:lnTo>
                  <a:lnTo>
                    <a:pt x="1969" y="1271"/>
                  </a:lnTo>
                  <a:lnTo>
                    <a:pt x="1947" y="1224"/>
                  </a:lnTo>
                  <a:lnTo>
                    <a:pt x="1924" y="1177"/>
                  </a:lnTo>
                  <a:lnTo>
                    <a:pt x="1899" y="1130"/>
                  </a:lnTo>
                  <a:lnTo>
                    <a:pt x="1873" y="1085"/>
                  </a:lnTo>
                  <a:lnTo>
                    <a:pt x="1848" y="1040"/>
                  </a:lnTo>
                  <a:lnTo>
                    <a:pt x="1819" y="995"/>
                  </a:lnTo>
                  <a:lnTo>
                    <a:pt x="1790" y="952"/>
                  </a:lnTo>
                  <a:lnTo>
                    <a:pt x="1762" y="911"/>
                  </a:lnTo>
                  <a:lnTo>
                    <a:pt x="1731" y="867"/>
                  </a:lnTo>
                  <a:lnTo>
                    <a:pt x="1700" y="828"/>
                  </a:lnTo>
                  <a:lnTo>
                    <a:pt x="1666" y="786"/>
                  </a:lnTo>
                  <a:lnTo>
                    <a:pt x="1634" y="746"/>
                  </a:lnTo>
                  <a:lnTo>
                    <a:pt x="1599" y="709"/>
                  </a:lnTo>
                  <a:lnTo>
                    <a:pt x="1563" y="671"/>
                  </a:lnTo>
                  <a:lnTo>
                    <a:pt x="1527" y="633"/>
                  </a:lnTo>
                  <a:lnTo>
                    <a:pt x="1491" y="597"/>
                  </a:lnTo>
                  <a:lnTo>
                    <a:pt x="1453" y="561"/>
                  </a:lnTo>
                  <a:lnTo>
                    <a:pt x="1414" y="526"/>
                  </a:lnTo>
                  <a:lnTo>
                    <a:pt x="1374" y="494"/>
                  </a:lnTo>
                  <a:lnTo>
                    <a:pt x="1334" y="462"/>
                  </a:lnTo>
                  <a:lnTo>
                    <a:pt x="1293" y="429"/>
                  </a:lnTo>
                  <a:lnTo>
                    <a:pt x="1251" y="398"/>
                  </a:lnTo>
                  <a:lnTo>
                    <a:pt x="1208" y="370"/>
                  </a:lnTo>
                  <a:lnTo>
                    <a:pt x="1165" y="341"/>
                  </a:lnTo>
                  <a:lnTo>
                    <a:pt x="1120" y="314"/>
                  </a:lnTo>
                  <a:lnTo>
                    <a:pt x="1075" y="287"/>
                  </a:lnTo>
                  <a:lnTo>
                    <a:pt x="1030" y="261"/>
                  </a:lnTo>
                  <a:lnTo>
                    <a:pt x="983" y="236"/>
                  </a:lnTo>
                  <a:lnTo>
                    <a:pt x="936" y="213"/>
                  </a:lnTo>
                  <a:lnTo>
                    <a:pt x="889" y="191"/>
                  </a:lnTo>
                  <a:lnTo>
                    <a:pt x="840" y="169"/>
                  </a:lnTo>
                  <a:lnTo>
                    <a:pt x="792" y="150"/>
                  </a:lnTo>
                  <a:lnTo>
                    <a:pt x="743" y="132"/>
                  </a:lnTo>
                  <a:lnTo>
                    <a:pt x="692" y="114"/>
                  </a:lnTo>
                  <a:lnTo>
                    <a:pt x="642" y="97"/>
                  </a:lnTo>
                  <a:lnTo>
                    <a:pt x="591" y="83"/>
                  </a:lnTo>
                  <a:lnTo>
                    <a:pt x="539" y="69"/>
                  </a:lnTo>
                  <a:lnTo>
                    <a:pt x="489" y="56"/>
                  </a:lnTo>
                  <a:lnTo>
                    <a:pt x="435" y="43"/>
                  </a:lnTo>
                  <a:lnTo>
                    <a:pt x="382" y="34"/>
                  </a:lnTo>
                  <a:lnTo>
                    <a:pt x="328" y="25"/>
                  </a:lnTo>
                  <a:lnTo>
                    <a:pt x="276" y="18"/>
                  </a:lnTo>
                  <a:lnTo>
                    <a:pt x="220" y="11"/>
                  </a:lnTo>
                  <a:lnTo>
                    <a:pt x="166" y="7"/>
                  </a:lnTo>
                  <a:lnTo>
                    <a:pt x="112" y="4"/>
                  </a:lnTo>
                  <a:lnTo>
                    <a:pt x="56" y="0"/>
                  </a:lnTo>
                  <a:lnTo>
                    <a:pt x="0" y="0"/>
                  </a:lnTo>
                  <a:lnTo>
                    <a:pt x="0" y="546"/>
                  </a:lnTo>
                  <a:lnTo>
                    <a:pt x="0" y="546"/>
                  </a:lnTo>
                  <a:lnTo>
                    <a:pt x="4" y="577"/>
                  </a:lnTo>
                  <a:lnTo>
                    <a:pt x="13" y="604"/>
                  </a:lnTo>
                  <a:lnTo>
                    <a:pt x="23" y="629"/>
                  </a:lnTo>
                  <a:lnTo>
                    <a:pt x="36" y="651"/>
                  </a:lnTo>
                  <a:lnTo>
                    <a:pt x="43" y="660"/>
                  </a:lnTo>
                  <a:lnTo>
                    <a:pt x="52" y="669"/>
                  </a:lnTo>
                  <a:lnTo>
                    <a:pt x="61" y="676"/>
                  </a:lnTo>
                  <a:lnTo>
                    <a:pt x="70" y="682"/>
                  </a:lnTo>
                  <a:lnTo>
                    <a:pt x="79" y="687"/>
                  </a:lnTo>
                  <a:lnTo>
                    <a:pt x="90" y="691"/>
                  </a:lnTo>
                  <a:lnTo>
                    <a:pt x="99" y="692"/>
                  </a:lnTo>
                  <a:lnTo>
                    <a:pt x="110" y="694"/>
                  </a:lnTo>
                  <a:lnTo>
                    <a:pt x="110" y="694"/>
                  </a:lnTo>
                  <a:lnTo>
                    <a:pt x="123" y="692"/>
                  </a:lnTo>
                  <a:lnTo>
                    <a:pt x="133" y="689"/>
                  </a:lnTo>
                  <a:lnTo>
                    <a:pt x="144" y="685"/>
                  </a:lnTo>
                  <a:lnTo>
                    <a:pt x="153" y="678"/>
                  </a:lnTo>
                  <a:lnTo>
                    <a:pt x="171" y="664"/>
                  </a:lnTo>
                  <a:lnTo>
                    <a:pt x="189" y="645"/>
                  </a:lnTo>
                  <a:lnTo>
                    <a:pt x="207" y="627"/>
                  </a:lnTo>
                  <a:lnTo>
                    <a:pt x="225" y="611"/>
                  </a:lnTo>
                  <a:lnTo>
                    <a:pt x="234" y="606"/>
                  </a:lnTo>
                  <a:lnTo>
                    <a:pt x="245" y="600"/>
                  </a:lnTo>
                  <a:lnTo>
                    <a:pt x="256" y="597"/>
                  </a:lnTo>
                  <a:lnTo>
                    <a:pt x="269" y="597"/>
                  </a:lnTo>
                  <a:lnTo>
                    <a:pt x="269" y="597"/>
                  </a:lnTo>
                  <a:lnTo>
                    <a:pt x="279" y="597"/>
                  </a:lnTo>
                  <a:lnTo>
                    <a:pt x="290" y="600"/>
                  </a:lnTo>
                  <a:lnTo>
                    <a:pt x="301" y="604"/>
                  </a:lnTo>
                  <a:lnTo>
                    <a:pt x="312" y="609"/>
                  </a:lnTo>
                  <a:lnTo>
                    <a:pt x="321" y="617"/>
                  </a:lnTo>
                  <a:lnTo>
                    <a:pt x="330" y="626"/>
                  </a:lnTo>
                  <a:lnTo>
                    <a:pt x="339" y="635"/>
                  </a:lnTo>
                  <a:lnTo>
                    <a:pt x="348" y="645"/>
                  </a:lnTo>
                  <a:lnTo>
                    <a:pt x="355" y="658"/>
                  </a:lnTo>
                  <a:lnTo>
                    <a:pt x="361" y="671"/>
                  </a:lnTo>
                  <a:lnTo>
                    <a:pt x="366" y="685"/>
                  </a:lnTo>
                  <a:lnTo>
                    <a:pt x="371" y="700"/>
                  </a:lnTo>
                  <a:lnTo>
                    <a:pt x="375" y="716"/>
                  </a:lnTo>
                  <a:lnTo>
                    <a:pt x="377" y="732"/>
                  </a:lnTo>
                  <a:lnTo>
                    <a:pt x="379" y="748"/>
                  </a:lnTo>
                  <a:lnTo>
                    <a:pt x="380" y="766"/>
                  </a:lnTo>
                  <a:lnTo>
                    <a:pt x="380" y="766"/>
                  </a:lnTo>
                  <a:lnTo>
                    <a:pt x="379" y="783"/>
                  </a:lnTo>
                  <a:lnTo>
                    <a:pt x="377" y="801"/>
                  </a:lnTo>
                  <a:lnTo>
                    <a:pt x="375" y="817"/>
                  </a:lnTo>
                  <a:lnTo>
                    <a:pt x="371" y="831"/>
                  </a:lnTo>
                  <a:lnTo>
                    <a:pt x="366" y="847"/>
                  </a:lnTo>
                  <a:lnTo>
                    <a:pt x="361" y="860"/>
                  </a:lnTo>
                  <a:lnTo>
                    <a:pt x="355" y="874"/>
                  </a:lnTo>
                  <a:lnTo>
                    <a:pt x="348" y="885"/>
                  </a:lnTo>
                  <a:lnTo>
                    <a:pt x="339" y="896"/>
                  </a:lnTo>
                  <a:lnTo>
                    <a:pt x="330" y="907"/>
                  </a:lnTo>
                  <a:lnTo>
                    <a:pt x="321" y="914"/>
                  </a:lnTo>
                  <a:lnTo>
                    <a:pt x="312" y="921"/>
                  </a:lnTo>
                  <a:lnTo>
                    <a:pt x="301" y="929"/>
                  </a:lnTo>
                  <a:lnTo>
                    <a:pt x="290" y="932"/>
                  </a:lnTo>
                  <a:lnTo>
                    <a:pt x="279" y="934"/>
                  </a:lnTo>
                  <a:lnTo>
                    <a:pt x="269" y="936"/>
                  </a:lnTo>
                  <a:lnTo>
                    <a:pt x="269" y="936"/>
                  </a:lnTo>
                  <a:lnTo>
                    <a:pt x="256" y="934"/>
                  </a:lnTo>
                  <a:lnTo>
                    <a:pt x="245" y="930"/>
                  </a:lnTo>
                  <a:lnTo>
                    <a:pt x="234" y="927"/>
                  </a:lnTo>
                  <a:lnTo>
                    <a:pt x="225" y="920"/>
                  </a:lnTo>
                  <a:lnTo>
                    <a:pt x="207" y="905"/>
                  </a:lnTo>
                  <a:lnTo>
                    <a:pt x="189" y="887"/>
                  </a:lnTo>
                  <a:lnTo>
                    <a:pt x="171" y="869"/>
                  </a:lnTo>
                  <a:lnTo>
                    <a:pt x="153" y="853"/>
                  </a:lnTo>
                  <a:lnTo>
                    <a:pt x="144" y="847"/>
                  </a:lnTo>
                  <a:lnTo>
                    <a:pt x="133" y="842"/>
                  </a:lnTo>
                  <a:lnTo>
                    <a:pt x="123" y="840"/>
                  </a:lnTo>
                  <a:lnTo>
                    <a:pt x="110" y="838"/>
                  </a:lnTo>
                  <a:lnTo>
                    <a:pt x="110" y="838"/>
                  </a:lnTo>
                  <a:lnTo>
                    <a:pt x="99" y="838"/>
                  </a:lnTo>
                  <a:lnTo>
                    <a:pt x="90" y="842"/>
                  </a:lnTo>
                  <a:lnTo>
                    <a:pt x="79" y="846"/>
                  </a:lnTo>
                  <a:lnTo>
                    <a:pt x="70" y="849"/>
                  </a:lnTo>
                  <a:lnTo>
                    <a:pt x="61" y="856"/>
                  </a:lnTo>
                  <a:lnTo>
                    <a:pt x="52" y="864"/>
                  </a:lnTo>
                  <a:lnTo>
                    <a:pt x="43" y="871"/>
                  </a:lnTo>
                  <a:lnTo>
                    <a:pt x="36" y="882"/>
                  </a:lnTo>
                  <a:lnTo>
                    <a:pt x="23" y="903"/>
                  </a:lnTo>
                  <a:lnTo>
                    <a:pt x="13" y="929"/>
                  </a:lnTo>
                  <a:lnTo>
                    <a:pt x="4" y="956"/>
                  </a:lnTo>
                  <a:lnTo>
                    <a:pt x="0" y="986"/>
                  </a:lnTo>
                  <a:lnTo>
                    <a:pt x="0" y="2160"/>
                  </a:lnTo>
                  <a:lnTo>
                    <a:pt x="1176" y="2160"/>
                  </a:lnTo>
                  <a:lnTo>
                    <a:pt x="1176" y="2160"/>
                  </a:lnTo>
                  <a:lnTo>
                    <a:pt x="1206" y="2165"/>
                  </a:lnTo>
                  <a:lnTo>
                    <a:pt x="1233" y="2173"/>
                  </a:lnTo>
                  <a:lnTo>
                    <a:pt x="1258" y="2183"/>
                  </a:lnTo>
                  <a:lnTo>
                    <a:pt x="1280" y="2198"/>
                  </a:lnTo>
                  <a:lnTo>
                    <a:pt x="1289" y="2205"/>
                  </a:lnTo>
                  <a:lnTo>
                    <a:pt x="1298" y="2212"/>
                  </a:lnTo>
                  <a:lnTo>
                    <a:pt x="1305" y="2221"/>
                  </a:lnTo>
                  <a:lnTo>
                    <a:pt x="1311" y="2230"/>
                  </a:lnTo>
                  <a:lnTo>
                    <a:pt x="1316" y="2239"/>
                  </a:lnTo>
                  <a:lnTo>
                    <a:pt x="1320" y="2250"/>
                  </a:lnTo>
                  <a:lnTo>
                    <a:pt x="1322" y="2259"/>
                  </a:lnTo>
                  <a:lnTo>
                    <a:pt x="1322" y="2270"/>
                  </a:lnTo>
                  <a:lnTo>
                    <a:pt x="1322" y="2270"/>
                  </a:lnTo>
                  <a:lnTo>
                    <a:pt x="1322" y="2283"/>
                  </a:lnTo>
                  <a:lnTo>
                    <a:pt x="1318" y="2293"/>
                  </a:lnTo>
                  <a:lnTo>
                    <a:pt x="1313" y="2304"/>
                  </a:lnTo>
                  <a:lnTo>
                    <a:pt x="1307" y="2313"/>
                  </a:lnTo>
                  <a:lnTo>
                    <a:pt x="1291" y="2333"/>
                  </a:lnTo>
                  <a:lnTo>
                    <a:pt x="1273" y="2349"/>
                  </a:lnTo>
                  <a:lnTo>
                    <a:pt x="1257" y="2367"/>
                  </a:lnTo>
                  <a:lnTo>
                    <a:pt x="1240" y="2385"/>
                  </a:lnTo>
                  <a:lnTo>
                    <a:pt x="1235" y="2396"/>
                  </a:lnTo>
                  <a:lnTo>
                    <a:pt x="1230" y="2405"/>
                  </a:lnTo>
                  <a:lnTo>
                    <a:pt x="1226" y="2418"/>
                  </a:lnTo>
                  <a:lnTo>
                    <a:pt x="1226" y="2429"/>
                  </a:lnTo>
                  <a:lnTo>
                    <a:pt x="1226" y="2429"/>
                  </a:lnTo>
                  <a:lnTo>
                    <a:pt x="1226" y="2441"/>
                  </a:lnTo>
                  <a:lnTo>
                    <a:pt x="1228" y="2452"/>
                  </a:lnTo>
                  <a:lnTo>
                    <a:pt x="1233" y="2463"/>
                  </a:lnTo>
                  <a:lnTo>
                    <a:pt x="1239" y="2472"/>
                  </a:lnTo>
                  <a:lnTo>
                    <a:pt x="1246" y="2483"/>
                  </a:lnTo>
                  <a:lnTo>
                    <a:pt x="1255" y="2492"/>
                  </a:lnTo>
                  <a:lnTo>
                    <a:pt x="1264" y="2499"/>
                  </a:lnTo>
                  <a:lnTo>
                    <a:pt x="1275" y="2508"/>
                  </a:lnTo>
                  <a:lnTo>
                    <a:pt x="1287" y="2515"/>
                  </a:lnTo>
                  <a:lnTo>
                    <a:pt x="1300" y="2521"/>
                  </a:lnTo>
                  <a:lnTo>
                    <a:pt x="1314" y="2526"/>
                  </a:lnTo>
                  <a:lnTo>
                    <a:pt x="1329" y="2531"/>
                  </a:lnTo>
                  <a:lnTo>
                    <a:pt x="1345" y="2535"/>
                  </a:lnTo>
                  <a:lnTo>
                    <a:pt x="1361" y="2539"/>
                  </a:lnTo>
                  <a:lnTo>
                    <a:pt x="1377" y="2540"/>
                  </a:lnTo>
                  <a:lnTo>
                    <a:pt x="1394" y="2540"/>
                  </a:lnTo>
                  <a:lnTo>
                    <a:pt x="1394" y="2540"/>
                  </a:lnTo>
                  <a:lnTo>
                    <a:pt x="1412" y="2540"/>
                  </a:lnTo>
                  <a:lnTo>
                    <a:pt x="1428" y="2539"/>
                  </a:lnTo>
                  <a:lnTo>
                    <a:pt x="1444" y="2535"/>
                  </a:lnTo>
                  <a:lnTo>
                    <a:pt x="1460" y="2531"/>
                  </a:lnTo>
                  <a:lnTo>
                    <a:pt x="1475" y="2526"/>
                  </a:lnTo>
                  <a:lnTo>
                    <a:pt x="1489" y="2521"/>
                  </a:lnTo>
                  <a:lnTo>
                    <a:pt x="1502" y="2515"/>
                  </a:lnTo>
                  <a:lnTo>
                    <a:pt x="1515" y="2508"/>
                  </a:lnTo>
                  <a:lnTo>
                    <a:pt x="1525" y="2499"/>
                  </a:lnTo>
                  <a:lnTo>
                    <a:pt x="1534" y="2492"/>
                  </a:lnTo>
                  <a:lnTo>
                    <a:pt x="1543" y="2483"/>
                  </a:lnTo>
                  <a:lnTo>
                    <a:pt x="1551" y="2472"/>
                  </a:lnTo>
                  <a:lnTo>
                    <a:pt x="1556" y="2463"/>
                  </a:lnTo>
                  <a:lnTo>
                    <a:pt x="1560" y="2452"/>
                  </a:lnTo>
                  <a:lnTo>
                    <a:pt x="1563" y="2441"/>
                  </a:lnTo>
                  <a:lnTo>
                    <a:pt x="1563" y="2429"/>
                  </a:lnTo>
                  <a:lnTo>
                    <a:pt x="1563" y="2429"/>
                  </a:lnTo>
                  <a:lnTo>
                    <a:pt x="1563" y="2418"/>
                  </a:lnTo>
                  <a:lnTo>
                    <a:pt x="1560" y="2405"/>
                  </a:lnTo>
                  <a:lnTo>
                    <a:pt x="1554" y="2396"/>
                  </a:lnTo>
                  <a:lnTo>
                    <a:pt x="1549" y="2385"/>
                  </a:lnTo>
                  <a:lnTo>
                    <a:pt x="1533" y="2367"/>
                  </a:lnTo>
                  <a:lnTo>
                    <a:pt x="1516" y="2349"/>
                  </a:lnTo>
                  <a:lnTo>
                    <a:pt x="1498" y="2333"/>
                  </a:lnTo>
                  <a:lnTo>
                    <a:pt x="1482" y="2313"/>
                  </a:lnTo>
                  <a:lnTo>
                    <a:pt x="1477" y="2304"/>
                  </a:lnTo>
                  <a:lnTo>
                    <a:pt x="1471" y="2293"/>
                  </a:lnTo>
                  <a:lnTo>
                    <a:pt x="1468" y="2283"/>
                  </a:lnTo>
                  <a:lnTo>
                    <a:pt x="1468" y="2270"/>
                  </a:lnTo>
                  <a:lnTo>
                    <a:pt x="1468" y="2270"/>
                  </a:lnTo>
                  <a:lnTo>
                    <a:pt x="1468" y="2259"/>
                  </a:lnTo>
                  <a:lnTo>
                    <a:pt x="1469" y="2250"/>
                  </a:lnTo>
                  <a:lnTo>
                    <a:pt x="1473" y="2239"/>
                  </a:lnTo>
                  <a:lnTo>
                    <a:pt x="1478" y="2230"/>
                  </a:lnTo>
                  <a:lnTo>
                    <a:pt x="1484" y="2221"/>
                  </a:lnTo>
                  <a:lnTo>
                    <a:pt x="1491" y="2212"/>
                  </a:lnTo>
                  <a:lnTo>
                    <a:pt x="1500" y="2205"/>
                  </a:lnTo>
                  <a:lnTo>
                    <a:pt x="1509" y="2198"/>
                  </a:lnTo>
                  <a:lnTo>
                    <a:pt x="1531" y="2183"/>
                  </a:lnTo>
                  <a:lnTo>
                    <a:pt x="1556" y="2173"/>
                  </a:lnTo>
                  <a:lnTo>
                    <a:pt x="1583" y="2165"/>
                  </a:lnTo>
                  <a:lnTo>
                    <a:pt x="1614" y="2160"/>
                  </a:lnTo>
                  <a:lnTo>
                    <a:pt x="1614" y="2160"/>
                  </a:lnTo>
                  <a:close/>
                </a:path>
              </a:pathLst>
            </a:custGeom>
            <a:gradFill rotWithShape="0">
              <a:gsLst>
                <a:gs pos="0">
                  <a:srgbClr val="d3a01b"/>
                </a:gs>
                <a:gs pos="100000">
                  <a:srgbClr val="a37200"/>
                </a:gs>
              </a:gsLst>
              <a:lin ang="2700000"/>
            </a:gradFill>
            <a:ln w="12700">
              <a:solidFill>
                <a:srgbClr val="aa7b25"/>
              </a:solidFill>
              <a:miter/>
            </a:ln>
            <a:effectLst>
              <a:outerShdw algn="tl" blurRad="25560" dir="5400000" dist="12600" rotWithShape="0">
                <a:srgbClr val="000000">
                  <a:alpha val="20000"/>
                </a:srgbClr>
              </a:outerShdw>
            </a:effectLst>
            <a:scene3d>
              <a:camera prst="orthographicFront"/>
              <a:lightRig dir="t" rig="threePt"/>
            </a:scene3d>
            <a:sp3d>
              <a:bevelT w="38100" h="12700"/>
              <a:bevelB w="38100" h="12700"/>
              <a:extrusionClr>
                <a:schemeClr val="tx2">
                  <a:lumMod val="60000"/>
                  <a:lumOff val="40000"/>
                </a:schemeClr>
              </a:extrusionClr>
            </a:sp3d>
          </p:spPr>
          <p:style>
            <a:lnRef idx="0"/>
            <a:fillRef idx="0"/>
            <a:effectRef idx="0"/>
            <a:fontRef idx="minor"/>
          </p:style>
          <p:txBody>
            <a:bodyPr lIns="18360" rIns="18360" tIns="18360" bIns="18360" anchor="ctr" anchorCtr="1">
              <a:noAutofit/>
            </a:bodyPr>
            <a:p>
              <a:pPr algn="ctr">
                <a:lnSpc>
                  <a:spcPct val="85000"/>
                </a:lnSpc>
                <a:spcBef>
                  <a:spcPts val="20"/>
                </a:spcBef>
              </a:pPr>
              <a:endParaRPr b="1" lang="en-US" sz="1600" spc="-1" strike="noStrike">
                <a:solidFill>
                  <a:srgbClr val="000000"/>
                </a:solidFill>
                <a:latin typeface="Arial Narrow"/>
              </a:endParaRPr>
            </a:p>
          </p:txBody>
        </p:sp>
        <p:sp>
          <p:nvSpPr>
            <p:cNvPr id="213" name="Freeform 5"/>
            <p:cNvSpPr/>
            <p:nvPr/>
          </p:nvSpPr>
          <p:spPr>
            <a:xfrm>
              <a:off x="4246920" y="3000240"/>
              <a:ext cx="2686680" cy="2285640"/>
            </a:xfrm>
            <a:custGeom>
              <a:avLst/>
              <a:gdLst>
                <a:gd name="textAreaLeft" fmla="*/ 0 w 2686680"/>
                <a:gd name="textAreaRight" fmla="*/ 2687040 w 2686680"/>
                <a:gd name="textAreaTop" fmla="*/ 0 h 2285640"/>
                <a:gd name="textAreaBottom" fmla="*/ 2286000 h 2285640"/>
              </a:gdLst>
              <a:ahLst/>
              <a:rect l="textAreaLeft" t="textAreaTop" r="textAreaRight" b="textAreaBottom"/>
              <a:pathLst>
                <a:path w="2539" h="2160">
                  <a:moveTo>
                    <a:pt x="1993" y="0"/>
                  </a:moveTo>
                  <a:lnTo>
                    <a:pt x="1993" y="0"/>
                  </a:lnTo>
                  <a:lnTo>
                    <a:pt x="1962" y="5"/>
                  </a:lnTo>
                  <a:lnTo>
                    <a:pt x="1935" y="13"/>
                  </a:lnTo>
                  <a:lnTo>
                    <a:pt x="1910" y="23"/>
                  </a:lnTo>
                  <a:lnTo>
                    <a:pt x="1888" y="38"/>
                  </a:lnTo>
                  <a:lnTo>
                    <a:pt x="1879" y="45"/>
                  </a:lnTo>
                  <a:lnTo>
                    <a:pt x="1870" y="52"/>
                  </a:lnTo>
                  <a:lnTo>
                    <a:pt x="1863" y="61"/>
                  </a:lnTo>
                  <a:lnTo>
                    <a:pt x="1857" y="70"/>
                  </a:lnTo>
                  <a:lnTo>
                    <a:pt x="1852" y="79"/>
                  </a:lnTo>
                  <a:lnTo>
                    <a:pt x="1848" y="90"/>
                  </a:lnTo>
                  <a:lnTo>
                    <a:pt x="1847" y="99"/>
                  </a:lnTo>
                  <a:lnTo>
                    <a:pt x="1847" y="110"/>
                  </a:lnTo>
                  <a:lnTo>
                    <a:pt x="1847" y="110"/>
                  </a:lnTo>
                  <a:lnTo>
                    <a:pt x="1847" y="123"/>
                  </a:lnTo>
                  <a:lnTo>
                    <a:pt x="1850" y="133"/>
                  </a:lnTo>
                  <a:lnTo>
                    <a:pt x="1856" y="144"/>
                  </a:lnTo>
                  <a:lnTo>
                    <a:pt x="1861" y="153"/>
                  </a:lnTo>
                  <a:lnTo>
                    <a:pt x="1877" y="173"/>
                  </a:lnTo>
                  <a:lnTo>
                    <a:pt x="1895" y="189"/>
                  </a:lnTo>
                  <a:lnTo>
                    <a:pt x="1912" y="207"/>
                  </a:lnTo>
                  <a:lnTo>
                    <a:pt x="1928" y="225"/>
                  </a:lnTo>
                  <a:lnTo>
                    <a:pt x="1933" y="236"/>
                  </a:lnTo>
                  <a:lnTo>
                    <a:pt x="1939" y="245"/>
                  </a:lnTo>
                  <a:lnTo>
                    <a:pt x="1942" y="258"/>
                  </a:lnTo>
                  <a:lnTo>
                    <a:pt x="1942" y="269"/>
                  </a:lnTo>
                  <a:lnTo>
                    <a:pt x="1942" y="269"/>
                  </a:lnTo>
                  <a:lnTo>
                    <a:pt x="1942" y="281"/>
                  </a:lnTo>
                  <a:lnTo>
                    <a:pt x="1939" y="292"/>
                  </a:lnTo>
                  <a:lnTo>
                    <a:pt x="1935" y="303"/>
                  </a:lnTo>
                  <a:lnTo>
                    <a:pt x="1930" y="312"/>
                  </a:lnTo>
                  <a:lnTo>
                    <a:pt x="1922" y="323"/>
                  </a:lnTo>
                  <a:lnTo>
                    <a:pt x="1913" y="332"/>
                  </a:lnTo>
                  <a:lnTo>
                    <a:pt x="1904" y="339"/>
                  </a:lnTo>
                  <a:lnTo>
                    <a:pt x="1894" y="348"/>
                  </a:lnTo>
                  <a:lnTo>
                    <a:pt x="1881" y="355"/>
                  </a:lnTo>
                  <a:lnTo>
                    <a:pt x="1868" y="361"/>
                  </a:lnTo>
                  <a:lnTo>
                    <a:pt x="1854" y="366"/>
                  </a:lnTo>
                  <a:lnTo>
                    <a:pt x="1839" y="371"/>
                  </a:lnTo>
                  <a:lnTo>
                    <a:pt x="1823" y="375"/>
                  </a:lnTo>
                  <a:lnTo>
                    <a:pt x="1807" y="379"/>
                  </a:lnTo>
                  <a:lnTo>
                    <a:pt x="1791" y="380"/>
                  </a:lnTo>
                  <a:lnTo>
                    <a:pt x="1773" y="380"/>
                  </a:lnTo>
                  <a:lnTo>
                    <a:pt x="1773" y="380"/>
                  </a:lnTo>
                  <a:lnTo>
                    <a:pt x="1756" y="380"/>
                  </a:lnTo>
                  <a:lnTo>
                    <a:pt x="1740" y="379"/>
                  </a:lnTo>
                  <a:lnTo>
                    <a:pt x="1724" y="375"/>
                  </a:lnTo>
                  <a:lnTo>
                    <a:pt x="1708" y="371"/>
                  </a:lnTo>
                  <a:lnTo>
                    <a:pt x="1693" y="366"/>
                  </a:lnTo>
                  <a:lnTo>
                    <a:pt x="1679" y="361"/>
                  </a:lnTo>
                  <a:lnTo>
                    <a:pt x="1666" y="355"/>
                  </a:lnTo>
                  <a:lnTo>
                    <a:pt x="1654" y="348"/>
                  </a:lnTo>
                  <a:lnTo>
                    <a:pt x="1643" y="339"/>
                  </a:lnTo>
                  <a:lnTo>
                    <a:pt x="1634" y="332"/>
                  </a:lnTo>
                  <a:lnTo>
                    <a:pt x="1625" y="323"/>
                  </a:lnTo>
                  <a:lnTo>
                    <a:pt x="1618" y="312"/>
                  </a:lnTo>
                  <a:lnTo>
                    <a:pt x="1612" y="303"/>
                  </a:lnTo>
                  <a:lnTo>
                    <a:pt x="1607" y="292"/>
                  </a:lnTo>
                  <a:lnTo>
                    <a:pt x="1605" y="281"/>
                  </a:lnTo>
                  <a:lnTo>
                    <a:pt x="1605" y="269"/>
                  </a:lnTo>
                  <a:lnTo>
                    <a:pt x="1605" y="269"/>
                  </a:lnTo>
                  <a:lnTo>
                    <a:pt x="1605" y="258"/>
                  </a:lnTo>
                  <a:lnTo>
                    <a:pt x="1609" y="245"/>
                  </a:lnTo>
                  <a:lnTo>
                    <a:pt x="1614" y="236"/>
                  </a:lnTo>
                  <a:lnTo>
                    <a:pt x="1619" y="225"/>
                  </a:lnTo>
                  <a:lnTo>
                    <a:pt x="1636" y="207"/>
                  </a:lnTo>
                  <a:lnTo>
                    <a:pt x="1652" y="189"/>
                  </a:lnTo>
                  <a:lnTo>
                    <a:pt x="1670" y="173"/>
                  </a:lnTo>
                  <a:lnTo>
                    <a:pt x="1686" y="153"/>
                  </a:lnTo>
                  <a:lnTo>
                    <a:pt x="1692" y="144"/>
                  </a:lnTo>
                  <a:lnTo>
                    <a:pt x="1697" y="133"/>
                  </a:lnTo>
                  <a:lnTo>
                    <a:pt x="1701" y="123"/>
                  </a:lnTo>
                  <a:lnTo>
                    <a:pt x="1701" y="110"/>
                  </a:lnTo>
                  <a:lnTo>
                    <a:pt x="1701" y="110"/>
                  </a:lnTo>
                  <a:lnTo>
                    <a:pt x="1701" y="99"/>
                  </a:lnTo>
                  <a:lnTo>
                    <a:pt x="1699" y="90"/>
                  </a:lnTo>
                  <a:lnTo>
                    <a:pt x="1695" y="79"/>
                  </a:lnTo>
                  <a:lnTo>
                    <a:pt x="1690" y="70"/>
                  </a:lnTo>
                  <a:lnTo>
                    <a:pt x="1684" y="61"/>
                  </a:lnTo>
                  <a:lnTo>
                    <a:pt x="1677" y="52"/>
                  </a:lnTo>
                  <a:lnTo>
                    <a:pt x="1668" y="45"/>
                  </a:lnTo>
                  <a:lnTo>
                    <a:pt x="1659" y="38"/>
                  </a:lnTo>
                  <a:lnTo>
                    <a:pt x="1637" y="23"/>
                  </a:lnTo>
                  <a:lnTo>
                    <a:pt x="1612" y="13"/>
                  </a:lnTo>
                  <a:lnTo>
                    <a:pt x="1585" y="5"/>
                  </a:lnTo>
                  <a:lnTo>
                    <a:pt x="1555" y="0"/>
                  </a:lnTo>
                  <a:lnTo>
                    <a:pt x="379" y="0"/>
                  </a:lnTo>
                  <a:lnTo>
                    <a:pt x="379" y="1185"/>
                  </a:lnTo>
                  <a:lnTo>
                    <a:pt x="379" y="1185"/>
                  </a:lnTo>
                  <a:lnTo>
                    <a:pt x="374" y="1213"/>
                  </a:lnTo>
                  <a:lnTo>
                    <a:pt x="366" y="1240"/>
                  </a:lnTo>
                  <a:lnTo>
                    <a:pt x="356" y="1264"/>
                  </a:lnTo>
                  <a:lnTo>
                    <a:pt x="341" y="1284"/>
                  </a:lnTo>
                  <a:lnTo>
                    <a:pt x="325" y="1302"/>
                  </a:lnTo>
                  <a:lnTo>
                    <a:pt x="318" y="1307"/>
                  </a:lnTo>
                  <a:lnTo>
                    <a:pt x="309" y="1314"/>
                  </a:lnTo>
                  <a:lnTo>
                    <a:pt x="300" y="1318"/>
                  </a:lnTo>
                  <a:lnTo>
                    <a:pt x="289" y="1322"/>
                  </a:lnTo>
                  <a:lnTo>
                    <a:pt x="280" y="1323"/>
                  </a:lnTo>
                  <a:lnTo>
                    <a:pt x="269" y="1323"/>
                  </a:lnTo>
                  <a:lnTo>
                    <a:pt x="269" y="1323"/>
                  </a:lnTo>
                  <a:lnTo>
                    <a:pt x="258" y="1323"/>
                  </a:lnTo>
                  <a:lnTo>
                    <a:pt x="246" y="1320"/>
                  </a:lnTo>
                  <a:lnTo>
                    <a:pt x="237" y="1316"/>
                  </a:lnTo>
                  <a:lnTo>
                    <a:pt x="226" y="1309"/>
                  </a:lnTo>
                  <a:lnTo>
                    <a:pt x="208" y="1295"/>
                  </a:lnTo>
                  <a:lnTo>
                    <a:pt x="190" y="1277"/>
                  </a:lnTo>
                  <a:lnTo>
                    <a:pt x="173" y="1258"/>
                  </a:lnTo>
                  <a:lnTo>
                    <a:pt x="154" y="1242"/>
                  </a:lnTo>
                  <a:lnTo>
                    <a:pt x="145" y="1237"/>
                  </a:lnTo>
                  <a:lnTo>
                    <a:pt x="134" y="1231"/>
                  </a:lnTo>
                  <a:lnTo>
                    <a:pt x="123" y="1228"/>
                  </a:lnTo>
                  <a:lnTo>
                    <a:pt x="110" y="1228"/>
                  </a:lnTo>
                  <a:lnTo>
                    <a:pt x="110" y="1228"/>
                  </a:lnTo>
                  <a:lnTo>
                    <a:pt x="100" y="1228"/>
                  </a:lnTo>
                  <a:lnTo>
                    <a:pt x="89" y="1231"/>
                  </a:lnTo>
                  <a:lnTo>
                    <a:pt x="78" y="1235"/>
                  </a:lnTo>
                  <a:lnTo>
                    <a:pt x="67" y="1240"/>
                  </a:lnTo>
                  <a:lnTo>
                    <a:pt x="58" y="1248"/>
                  </a:lnTo>
                  <a:lnTo>
                    <a:pt x="49" y="1257"/>
                  </a:lnTo>
                  <a:lnTo>
                    <a:pt x="40" y="1266"/>
                  </a:lnTo>
                  <a:lnTo>
                    <a:pt x="33" y="1277"/>
                  </a:lnTo>
                  <a:lnTo>
                    <a:pt x="26" y="1289"/>
                  </a:lnTo>
                  <a:lnTo>
                    <a:pt x="18" y="1302"/>
                  </a:lnTo>
                  <a:lnTo>
                    <a:pt x="13" y="1316"/>
                  </a:lnTo>
                  <a:lnTo>
                    <a:pt x="8" y="1331"/>
                  </a:lnTo>
                  <a:lnTo>
                    <a:pt x="4" y="1347"/>
                  </a:lnTo>
                  <a:lnTo>
                    <a:pt x="2" y="1363"/>
                  </a:lnTo>
                  <a:lnTo>
                    <a:pt x="0" y="1379"/>
                  </a:lnTo>
                  <a:lnTo>
                    <a:pt x="0" y="1397"/>
                  </a:lnTo>
                  <a:lnTo>
                    <a:pt x="0" y="1397"/>
                  </a:lnTo>
                  <a:lnTo>
                    <a:pt x="0" y="1414"/>
                  </a:lnTo>
                  <a:lnTo>
                    <a:pt x="2" y="1432"/>
                  </a:lnTo>
                  <a:lnTo>
                    <a:pt x="4" y="1448"/>
                  </a:lnTo>
                  <a:lnTo>
                    <a:pt x="8" y="1462"/>
                  </a:lnTo>
                  <a:lnTo>
                    <a:pt x="13" y="1478"/>
                  </a:lnTo>
                  <a:lnTo>
                    <a:pt x="18" y="1491"/>
                  </a:lnTo>
                  <a:lnTo>
                    <a:pt x="26" y="1504"/>
                  </a:lnTo>
                  <a:lnTo>
                    <a:pt x="33" y="1516"/>
                  </a:lnTo>
                  <a:lnTo>
                    <a:pt x="40" y="1527"/>
                  </a:lnTo>
                  <a:lnTo>
                    <a:pt x="49" y="1538"/>
                  </a:lnTo>
                  <a:lnTo>
                    <a:pt x="58" y="1545"/>
                  </a:lnTo>
                  <a:lnTo>
                    <a:pt x="67" y="1552"/>
                  </a:lnTo>
                  <a:lnTo>
                    <a:pt x="78" y="1558"/>
                  </a:lnTo>
                  <a:lnTo>
                    <a:pt x="89" y="1563"/>
                  </a:lnTo>
                  <a:lnTo>
                    <a:pt x="100" y="1565"/>
                  </a:lnTo>
                  <a:lnTo>
                    <a:pt x="110" y="1567"/>
                  </a:lnTo>
                  <a:lnTo>
                    <a:pt x="110" y="1567"/>
                  </a:lnTo>
                  <a:lnTo>
                    <a:pt x="123" y="1565"/>
                  </a:lnTo>
                  <a:lnTo>
                    <a:pt x="134" y="1561"/>
                  </a:lnTo>
                  <a:lnTo>
                    <a:pt x="145" y="1558"/>
                  </a:lnTo>
                  <a:lnTo>
                    <a:pt x="154" y="1551"/>
                  </a:lnTo>
                  <a:lnTo>
                    <a:pt x="173" y="1536"/>
                  </a:lnTo>
                  <a:lnTo>
                    <a:pt x="190" y="1518"/>
                  </a:lnTo>
                  <a:lnTo>
                    <a:pt x="208" y="1500"/>
                  </a:lnTo>
                  <a:lnTo>
                    <a:pt x="226" y="1484"/>
                  </a:lnTo>
                  <a:lnTo>
                    <a:pt x="237" y="1478"/>
                  </a:lnTo>
                  <a:lnTo>
                    <a:pt x="247" y="1473"/>
                  </a:lnTo>
                  <a:lnTo>
                    <a:pt x="258" y="1471"/>
                  </a:lnTo>
                  <a:lnTo>
                    <a:pt x="269" y="1469"/>
                  </a:lnTo>
                  <a:lnTo>
                    <a:pt x="269" y="1469"/>
                  </a:lnTo>
                  <a:lnTo>
                    <a:pt x="280" y="1469"/>
                  </a:lnTo>
                  <a:lnTo>
                    <a:pt x="289" y="1473"/>
                  </a:lnTo>
                  <a:lnTo>
                    <a:pt x="300" y="1475"/>
                  </a:lnTo>
                  <a:lnTo>
                    <a:pt x="309" y="1480"/>
                  </a:lnTo>
                  <a:lnTo>
                    <a:pt x="318" y="1486"/>
                  </a:lnTo>
                  <a:lnTo>
                    <a:pt x="325" y="1493"/>
                  </a:lnTo>
                  <a:lnTo>
                    <a:pt x="341" y="1509"/>
                  </a:lnTo>
                  <a:lnTo>
                    <a:pt x="354" y="1531"/>
                  </a:lnTo>
                  <a:lnTo>
                    <a:pt x="366" y="1554"/>
                  </a:lnTo>
                  <a:lnTo>
                    <a:pt x="374" y="1579"/>
                  </a:lnTo>
                  <a:lnTo>
                    <a:pt x="379" y="1608"/>
                  </a:lnTo>
                  <a:lnTo>
                    <a:pt x="379" y="2160"/>
                  </a:lnTo>
                  <a:lnTo>
                    <a:pt x="379" y="2160"/>
                  </a:lnTo>
                  <a:lnTo>
                    <a:pt x="435" y="2160"/>
                  </a:lnTo>
                  <a:lnTo>
                    <a:pt x="491" y="2158"/>
                  </a:lnTo>
                  <a:lnTo>
                    <a:pt x="545" y="2155"/>
                  </a:lnTo>
                  <a:lnTo>
                    <a:pt x="599" y="2149"/>
                  </a:lnTo>
                  <a:lnTo>
                    <a:pt x="655" y="2144"/>
                  </a:lnTo>
                  <a:lnTo>
                    <a:pt x="707" y="2137"/>
                  </a:lnTo>
                  <a:lnTo>
                    <a:pt x="761" y="2128"/>
                  </a:lnTo>
                  <a:lnTo>
                    <a:pt x="814" y="2117"/>
                  </a:lnTo>
                  <a:lnTo>
                    <a:pt x="868" y="2106"/>
                  </a:lnTo>
                  <a:lnTo>
                    <a:pt x="918" y="2093"/>
                  </a:lnTo>
                  <a:lnTo>
                    <a:pt x="970" y="2079"/>
                  </a:lnTo>
                  <a:lnTo>
                    <a:pt x="1021" y="2064"/>
                  </a:lnTo>
                  <a:lnTo>
                    <a:pt x="1071" y="2046"/>
                  </a:lnTo>
                  <a:lnTo>
                    <a:pt x="1122" y="2030"/>
                  </a:lnTo>
                  <a:lnTo>
                    <a:pt x="1171" y="2010"/>
                  </a:lnTo>
                  <a:lnTo>
                    <a:pt x="1219" y="1991"/>
                  </a:lnTo>
                  <a:lnTo>
                    <a:pt x="1268" y="1971"/>
                  </a:lnTo>
                  <a:lnTo>
                    <a:pt x="1315" y="1947"/>
                  </a:lnTo>
                  <a:lnTo>
                    <a:pt x="1362" y="1924"/>
                  </a:lnTo>
                  <a:lnTo>
                    <a:pt x="1409" y="1900"/>
                  </a:lnTo>
                  <a:lnTo>
                    <a:pt x="1454" y="1875"/>
                  </a:lnTo>
                  <a:lnTo>
                    <a:pt x="1499" y="1848"/>
                  </a:lnTo>
                  <a:lnTo>
                    <a:pt x="1544" y="1821"/>
                  </a:lnTo>
                  <a:lnTo>
                    <a:pt x="1587" y="1792"/>
                  </a:lnTo>
                  <a:lnTo>
                    <a:pt x="1630" y="1762"/>
                  </a:lnTo>
                  <a:lnTo>
                    <a:pt x="1672" y="1731"/>
                  </a:lnTo>
                  <a:lnTo>
                    <a:pt x="1713" y="1700"/>
                  </a:lnTo>
                  <a:lnTo>
                    <a:pt x="1753" y="1668"/>
                  </a:lnTo>
                  <a:lnTo>
                    <a:pt x="1793" y="1634"/>
                  </a:lnTo>
                  <a:lnTo>
                    <a:pt x="1832" y="1599"/>
                  </a:lnTo>
                  <a:lnTo>
                    <a:pt x="1870" y="1565"/>
                  </a:lnTo>
                  <a:lnTo>
                    <a:pt x="1906" y="1529"/>
                  </a:lnTo>
                  <a:lnTo>
                    <a:pt x="1942" y="1491"/>
                  </a:lnTo>
                  <a:lnTo>
                    <a:pt x="1978" y="1453"/>
                  </a:lnTo>
                  <a:lnTo>
                    <a:pt x="2013" y="1414"/>
                  </a:lnTo>
                  <a:lnTo>
                    <a:pt x="2045" y="1374"/>
                  </a:lnTo>
                  <a:lnTo>
                    <a:pt x="2079" y="1334"/>
                  </a:lnTo>
                  <a:lnTo>
                    <a:pt x="2110" y="1293"/>
                  </a:lnTo>
                  <a:lnTo>
                    <a:pt x="2141" y="1251"/>
                  </a:lnTo>
                  <a:lnTo>
                    <a:pt x="2169" y="1208"/>
                  </a:lnTo>
                  <a:lnTo>
                    <a:pt x="2198" y="1165"/>
                  </a:lnTo>
                  <a:lnTo>
                    <a:pt x="2227" y="1121"/>
                  </a:lnTo>
                  <a:lnTo>
                    <a:pt x="2252" y="1076"/>
                  </a:lnTo>
                  <a:lnTo>
                    <a:pt x="2278" y="1030"/>
                  </a:lnTo>
                  <a:lnTo>
                    <a:pt x="2303" y="984"/>
                  </a:lnTo>
                  <a:lnTo>
                    <a:pt x="2326" y="938"/>
                  </a:lnTo>
                  <a:lnTo>
                    <a:pt x="2348" y="889"/>
                  </a:lnTo>
                  <a:lnTo>
                    <a:pt x="2370" y="842"/>
                  </a:lnTo>
                  <a:lnTo>
                    <a:pt x="2389" y="793"/>
                  </a:lnTo>
                  <a:lnTo>
                    <a:pt x="2407" y="743"/>
                  </a:lnTo>
                  <a:lnTo>
                    <a:pt x="2425" y="694"/>
                  </a:lnTo>
                  <a:lnTo>
                    <a:pt x="2442" y="644"/>
                  </a:lnTo>
                  <a:lnTo>
                    <a:pt x="2458" y="591"/>
                  </a:lnTo>
                  <a:lnTo>
                    <a:pt x="2470" y="541"/>
                  </a:lnTo>
                  <a:lnTo>
                    <a:pt x="2483" y="489"/>
                  </a:lnTo>
                  <a:lnTo>
                    <a:pt x="2496" y="436"/>
                  </a:lnTo>
                  <a:lnTo>
                    <a:pt x="2505" y="382"/>
                  </a:lnTo>
                  <a:lnTo>
                    <a:pt x="2514" y="330"/>
                  </a:lnTo>
                  <a:lnTo>
                    <a:pt x="2521" y="276"/>
                  </a:lnTo>
                  <a:lnTo>
                    <a:pt x="2528" y="222"/>
                  </a:lnTo>
                  <a:lnTo>
                    <a:pt x="2534" y="166"/>
                  </a:lnTo>
                  <a:lnTo>
                    <a:pt x="2537" y="112"/>
                  </a:lnTo>
                  <a:lnTo>
                    <a:pt x="2539" y="56"/>
                  </a:lnTo>
                  <a:lnTo>
                    <a:pt x="2539" y="0"/>
                  </a:lnTo>
                  <a:lnTo>
                    <a:pt x="1993" y="0"/>
                  </a:lnTo>
                  <a:close/>
                </a:path>
              </a:pathLst>
            </a:custGeom>
            <a:gradFill rotWithShape="0">
              <a:gsLst>
                <a:gs pos="0">
                  <a:srgbClr val="f9cc61"/>
                </a:gs>
                <a:gs pos="100000">
                  <a:srgbClr val="e2ac34"/>
                </a:gs>
              </a:gsLst>
              <a:lin ang="2700000"/>
            </a:gradFill>
            <a:ln w="9525">
              <a:solidFill>
                <a:srgbClr val="aa7b25"/>
              </a:solidFill>
              <a:miter/>
            </a:ln>
            <a:effectLst>
              <a:outerShdw algn="tl" blurRad="25560" dir="5400000" dist="12600" rotWithShape="0">
                <a:srgbClr val="000000">
                  <a:alpha val="20000"/>
                </a:srgbClr>
              </a:outerShdw>
            </a:effectLst>
            <a:scene3d>
              <a:camera prst="orthographicFront"/>
              <a:lightRig dir="t" rig="threePt"/>
            </a:scene3d>
            <a:sp3d>
              <a:bevelT w="38100" h="12700"/>
              <a:bevelB w="38100" h="12700"/>
            </a:sp3d>
          </p:spPr>
          <p:style>
            <a:lnRef idx="0"/>
            <a:fillRef idx="0"/>
            <a:effectRef idx="0"/>
            <a:fontRef idx="minor"/>
          </p:style>
          <p:txBody>
            <a:bodyPr lIns="18360" rIns="18360" tIns="18360" bIns="18360" anchor="ctr" anchorCtr="1">
              <a:noAutofit/>
            </a:bodyPr>
            <a:p>
              <a:pPr algn="ctr">
                <a:lnSpc>
                  <a:spcPct val="85000"/>
                </a:lnSpc>
                <a:spcBef>
                  <a:spcPts val="20"/>
                </a:spcBef>
              </a:pPr>
              <a:endParaRPr b="1" lang="en-US" sz="1600" spc="-1" strike="noStrike">
                <a:solidFill>
                  <a:srgbClr val="000000"/>
                </a:solidFill>
                <a:latin typeface="Arial Narrow"/>
              </a:endParaRPr>
            </a:p>
          </p:txBody>
        </p:sp>
      </p:grpSp>
      <p:sp>
        <p:nvSpPr>
          <p:cNvPr id="214" name="TextBox 63"/>
          <p:cNvSpPr/>
          <p:nvPr/>
        </p:nvSpPr>
        <p:spPr>
          <a:xfrm>
            <a:off x="2895480" y="1247760"/>
            <a:ext cx="1294920" cy="1059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291a00"/>
                </a:solidFill>
                <a:latin typeface="Arial Narrow"/>
              </a:rPr>
              <a:t>Part A</a:t>
            </a:r>
            <a:endParaRPr b="0" lang="en-US" sz="2800" spc="-1" strike="noStrike">
              <a:solidFill>
                <a:srgbClr val="ffffff"/>
              </a:solidFill>
              <a:latin typeface="Arial"/>
            </a:endParaRPr>
          </a:p>
          <a:p>
            <a:pPr algn="ctr">
              <a:lnSpc>
                <a:spcPct val="85000"/>
              </a:lnSpc>
            </a:pPr>
            <a:r>
              <a:rPr b="0" lang="en-US" sz="1400" spc="-1" strike="noStrike">
                <a:solidFill>
                  <a:srgbClr val="291a00"/>
                </a:solidFill>
                <a:latin typeface="Arial Narrow"/>
              </a:rPr>
              <a:t>Place your details or bullets here. </a:t>
            </a:r>
            <a:endParaRPr b="0" lang="en-US" sz="1400" spc="-1" strike="noStrike">
              <a:solidFill>
                <a:srgbClr val="ffffff"/>
              </a:solidFill>
              <a:latin typeface="Arial"/>
            </a:endParaRPr>
          </a:p>
        </p:txBody>
      </p:sp>
      <p:sp>
        <p:nvSpPr>
          <p:cNvPr id="215" name="TextBox 64"/>
          <p:cNvSpPr/>
          <p:nvPr/>
        </p:nvSpPr>
        <p:spPr>
          <a:xfrm>
            <a:off x="5105520" y="1247760"/>
            <a:ext cx="1294920" cy="1059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291a00"/>
                </a:solidFill>
                <a:latin typeface="Arial Narrow"/>
              </a:rPr>
              <a:t>Part B</a:t>
            </a:r>
            <a:endParaRPr b="0" lang="en-US" sz="2800" spc="-1" strike="noStrike">
              <a:solidFill>
                <a:srgbClr val="ffffff"/>
              </a:solidFill>
              <a:latin typeface="Arial"/>
            </a:endParaRPr>
          </a:p>
          <a:p>
            <a:pPr algn="ctr">
              <a:lnSpc>
                <a:spcPct val="85000"/>
              </a:lnSpc>
            </a:pPr>
            <a:r>
              <a:rPr b="0" lang="en-US" sz="1400" spc="-1" strike="noStrike">
                <a:solidFill>
                  <a:srgbClr val="291a00"/>
                </a:solidFill>
                <a:latin typeface="Arial Narrow"/>
              </a:rPr>
              <a:t>Place your details or bullets here. </a:t>
            </a:r>
            <a:endParaRPr b="0" lang="en-US" sz="1400" spc="-1" strike="noStrike">
              <a:solidFill>
                <a:srgbClr val="ffffff"/>
              </a:solidFill>
              <a:latin typeface="Arial"/>
            </a:endParaRPr>
          </a:p>
        </p:txBody>
      </p:sp>
      <p:grpSp>
        <p:nvGrpSpPr>
          <p:cNvPr id="216" name="Group 36"/>
          <p:cNvGrpSpPr/>
          <p:nvPr/>
        </p:nvGrpSpPr>
        <p:grpSpPr>
          <a:xfrm>
            <a:off x="3664440" y="1755000"/>
            <a:ext cx="1980720" cy="2236320"/>
            <a:chOff x="3664440" y="1755000"/>
            <a:chExt cx="1980720" cy="2236320"/>
          </a:xfrm>
        </p:grpSpPr>
        <p:sp>
          <p:nvSpPr>
            <p:cNvPr id="217" name="Oval 13"/>
            <p:cNvSpPr/>
            <p:nvPr/>
          </p:nvSpPr>
          <p:spPr>
            <a:xfrm>
              <a:off x="3664440" y="2010600"/>
              <a:ext cx="1980720" cy="1980720"/>
            </a:xfrm>
            <a:prstGeom prst="ellipse">
              <a:avLst/>
            </a:prstGeom>
            <a:gradFill rotWithShape="0">
              <a:gsLst>
                <a:gs pos="0">
                  <a:srgbClr val="bb892e"/>
                </a:gs>
                <a:gs pos="100000">
                  <a:srgbClr val="805500"/>
                </a:gs>
              </a:gsLst>
              <a:lin ang="2700000"/>
            </a:gradFill>
            <a:ln w="28575">
              <a:solidFill>
                <a:srgbClr val="ffffff"/>
              </a:solidFill>
              <a:miter/>
            </a:ln>
            <a:effectLst>
              <a:outerShdw algn="tl" blurRad="127080" dir="5400000" dist="127080" rotWithShape="0">
                <a:srgbClr val="000000">
                  <a:alpha val="20000"/>
                </a:srgbClr>
              </a:outerShdw>
            </a:effectLst>
            <a:scene3d>
              <a:camera prst="orthographicFront"/>
              <a:lightRig dir="t" rig="threePt"/>
            </a:scene3d>
            <a:sp3d>
              <a:bevelT w="69850" h="25400"/>
              <a:bevelB w="69850" h="25400"/>
              <a:extrusionClr>
                <a:schemeClr val="tx2">
                  <a:lumMod val="60000"/>
                  <a:lumOff val="40000"/>
                </a:schemeClr>
              </a:extrusionClr>
            </a:sp3d>
          </p:spPr>
          <p:style>
            <a:lnRef idx="0"/>
            <a:fillRef idx="0"/>
            <a:effectRef idx="0"/>
            <a:fontRef idx="minor"/>
          </p:style>
          <p:txBody>
            <a:bodyPr lIns="18360" rIns="18360" tIns="18360" bIns="18360" anchor="ctr" anchorCtr="1">
              <a:noAutofit/>
            </a:bodyPr>
            <a:p>
              <a:pPr algn="ctr">
                <a:lnSpc>
                  <a:spcPct val="85000"/>
                </a:lnSpc>
                <a:spcBef>
                  <a:spcPts val="20"/>
                </a:spcBef>
              </a:pPr>
              <a:endParaRPr b="1" lang="en-US" sz="1600" spc="-1" strike="noStrike">
                <a:solidFill>
                  <a:srgbClr val="ffffff"/>
                </a:solidFill>
                <a:latin typeface="Arial Narrow"/>
              </a:endParaRPr>
            </a:p>
          </p:txBody>
        </p:sp>
        <p:sp>
          <p:nvSpPr>
            <p:cNvPr id="218" name="Oval 14"/>
            <p:cNvSpPr/>
            <p:nvPr/>
          </p:nvSpPr>
          <p:spPr>
            <a:xfrm rot="19944600">
              <a:off x="3703680" y="1979640"/>
              <a:ext cx="1043640" cy="301320"/>
            </a:xfrm>
            <a:prstGeom prst="ellipse">
              <a:avLst/>
            </a:prstGeom>
            <a:solidFill>
              <a:srgbClr val="ffffff"/>
            </a:solidFill>
            <a:ln>
              <a:noFill/>
            </a:ln>
            <a:effectLst>
              <a:softEdge rad="127080"/>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19" name="TextBox 69"/>
          <p:cNvSpPr/>
          <p:nvPr/>
        </p:nvSpPr>
        <p:spPr>
          <a:xfrm>
            <a:off x="3886200" y="2521440"/>
            <a:ext cx="1523520" cy="917640"/>
          </a:xfrm>
          <a:prstGeom prst="rect">
            <a:avLst/>
          </a:prstGeom>
          <a:noFill/>
          <a:ln w="0">
            <a:noFill/>
          </a:ln>
        </p:spPr>
        <p:style>
          <a:lnRef idx="0"/>
          <a:fillRef idx="0"/>
          <a:effectRef idx="0"/>
          <a:fontRef idx="minor"/>
        </p:style>
        <p:txBody>
          <a:bodyPr lIns="90000" rIns="90000" tIns="45000" bIns="45000" anchor="t">
            <a:spAutoFit/>
          </a:bodyPr>
          <a:p>
            <a:pPr algn="ctr">
              <a:lnSpc>
                <a:spcPct val="85000"/>
              </a:lnSpc>
            </a:pPr>
            <a:r>
              <a:rPr b="1" lang="en-US" sz="3200" spc="-1" strike="noStrike">
                <a:solidFill>
                  <a:srgbClr val="140e00"/>
                </a:solidFill>
                <a:latin typeface="Arial Narrow"/>
              </a:rPr>
              <a:t>Result of Parts</a:t>
            </a:r>
            <a:endParaRPr b="0" lang="en-US" sz="3200" spc="-1" strike="noStrike">
              <a:solidFill>
                <a:srgbClr val="ffffff"/>
              </a:solidFill>
              <a:latin typeface="Arial"/>
            </a:endParaRPr>
          </a:p>
        </p:txBody>
      </p:sp>
      <p:sp>
        <p:nvSpPr>
          <p:cNvPr id="220" name="TextBox 70"/>
          <p:cNvSpPr/>
          <p:nvPr/>
        </p:nvSpPr>
        <p:spPr>
          <a:xfrm>
            <a:off x="5207760" y="3533760"/>
            <a:ext cx="1294920" cy="1059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291a00"/>
                </a:solidFill>
                <a:latin typeface="Arial Narrow"/>
              </a:rPr>
              <a:t>Part C</a:t>
            </a:r>
            <a:endParaRPr b="0" lang="en-US" sz="2800" spc="-1" strike="noStrike">
              <a:solidFill>
                <a:srgbClr val="ffffff"/>
              </a:solidFill>
              <a:latin typeface="Arial"/>
            </a:endParaRPr>
          </a:p>
          <a:p>
            <a:pPr algn="ctr">
              <a:lnSpc>
                <a:spcPct val="85000"/>
              </a:lnSpc>
            </a:pPr>
            <a:r>
              <a:rPr b="0" lang="en-US" sz="1400" spc="-1" strike="noStrike">
                <a:solidFill>
                  <a:srgbClr val="291a00"/>
                </a:solidFill>
                <a:latin typeface="Arial Narrow"/>
              </a:rPr>
              <a:t>Place your details or bullets here. </a:t>
            </a:r>
            <a:endParaRPr b="0" lang="en-US" sz="1400" spc="-1" strike="noStrike">
              <a:solidFill>
                <a:srgbClr val="ffffff"/>
              </a:solidFill>
              <a:latin typeface="Arial"/>
            </a:endParaRPr>
          </a:p>
        </p:txBody>
      </p:sp>
      <p:sp>
        <p:nvSpPr>
          <p:cNvPr id="221" name="TextBox 71"/>
          <p:cNvSpPr/>
          <p:nvPr/>
        </p:nvSpPr>
        <p:spPr>
          <a:xfrm>
            <a:off x="2819520" y="3533760"/>
            <a:ext cx="1294920" cy="1059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291a00"/>
                </a:solidFill>
                <a:latin typeface="Arial Narrow"/>
              </a:rPr>
              <a:t>Part D</a:t>
            </a:r>
            <a:endParaRPr b="0" lang="en-US" sz="2800" spc="-1" strike="noStrike">
              <a:solidFill>
                <a:srgbClr val="ffffff"/>
              </a:solidFill>
              <a:latin typeface="Arial"/>
            </a:endParaRPr>
          </a:p>
          <a:p>
            <a:pPr algn="ctr">
              <a:lnSpc>
                <a:spcPct val="85000"/>
              </a:lnSpc>
            </a:pPr>
            <a:r>
              <a:rPr b="0" lang="en-US" sz="1400" spc="-1" strike="noStrike">
                <a:solidFill>
                  <a:srgbClr val="291a00"/>
                </a:solidFill>
                <a:latin typeface="Arial Narrow"/>
              </a:rPr>
              <a:t>Place your details or bullets here. </a:t>
            </a:r>
            <a:endParaRPr b="0" lang="en-US" sz="1400" spc="-1" strike="noStrike">
              <a:solidFill>
                <a:srgbClr val="ffffff"/>
              </a:solidFill>
              <a:latin typeface="Arial"/>
            </a:endParaRPr>
          </a:p>
        </p:txBody>
      </p:sp>
      <p:sp>
        <p:nvSpPr>
          <p:cNvPr id="222" name="PlaceHolder 1"/>
          <p:cNvSpPr>
            <a:spLocks noGrp="1"/>
          </p:cNvSpPr>
          <p:nvPr>
            <p:ph type="title"/>
          </p:nvPr>
        </p:nvSpPr>
        <p:spPr>
          <a:xfrm>
            <a:off x="457200" y="228960"/>
            <a:ext cx="8229240" cy="95220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sp>
        <p:nvSpPr>
          <p:cNvPr id="223" name="PlaceHolder 2"/>
          <p:cNvSpPr>
            <a:spLocks noGrp="1"/>
          </p:cNvSpPr>
          <p:nvPr>
            <p:ph/>
          </p:nvPr>
        </p:nvSpPr>
        <p:spPr>
          <a:xfrm>
            <a:off x="457200" y="1333440"/>
            <a:ext cx="8229240" cy="3771360"/>
          </a:xfrm>
          <a:prstGeom prst="rect">
            <a:avLst/>
          </a:prstGeom>
          <a:noFill/>
          <a:ln w="0">
            <a:noFill/>
          </a:ln>
        </p:spPr>
        <p:txBody>
          <a:bodyPr anchor="t">
            <a:noAutofit/>
          </a:bodyPr>
          <a:p>
            <a:pPr indent="0">
              <a:spcBef>
                <a:spcPts val="1417"/>
              </a:spcBef>
              <a:buNone/>
            </a:pPr>
            <a:endParaRPr b="0" lang="en-US" sz="3200" spc="-1" strike="noStrike">
              <a:solidFill>
                <a:srgbClr val="000000"/>
              </a:solidFill>
              <a:latin typeface="Calibri"/>
            </a:endParaRPr>
          </a:p>
        </p:txBody>
      </p:sp>
      <p:sp>
        <p:nvSpPr>
          <p:cNvPr id="224" name="Text Box 4"/>
          <p:cNvSpPr/>
          <p:nvPr/>
        </p:nvSpPr>
        <p:spPr>
          <a:xfrm>
            <a:off x="615240" y="5353200"/>
            <a:ext cx="71514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Arial"/>
                <a:ea typeface="宋体"/>
              </a:rPr>
              <a:t>powerpoint</a:t>
            </a:r>
            <a:r>
              <a:rPr b="0" lang="zh-CN" sz="1600" spc="-1" strike="noStrike">
                <a:solidFill>
                  <a:srgbClr val="ffffff"/>
                </a:solidFill>
                <a:latin typeface="Arial"/>
                <a:ea typeface="宋体"/>
              </a:rPr>
              <a:t>模板下载</a:t>
            </a:r>
            <a:r>
              <a:rPr b="0" lang="en-US" sz="1600" spc="-1" strike="noStrike" u="sng">
                <a:solidFill>
                  <a:srgbClr val="0000ff"/>
                </a:solidFill>
                <a:uFillTx/>
                <a:latin typeface="Arial"/>
                <a:ea typeface="宋体"/>
                <a:hlinkClick r:id="rId1"/>
              </a:rPr>
              <a:t>http://www.eeppt.com/moba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435960" y="19116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ffff00"/>
                </a:solidFill>
                <a:latin typeface="微软雅黑"/>
                <a:ea typeface="微软雅黑"/>
              </a:rPr>
              <a:t>添加目录</a:t>
            </a:r>
            <a:endParaRPr b="0" lang="en-US" sz="2800" spc="-1" strike="noStrike">
              <a:solidFill>
                <a:srgbClr val="ffffff"/>
              </a:solidFill>
              <a:latin typeface="Arial"/>
            </a:endParaRPr>
          </a:p>
        </p:txBody>
      </p:sp>
      <p:grpSp>
        <p:nvGrpSpPr>
          <p:cNvPr id="226" name="组合 396"/>
          <p:cNvGrpSpPr/>
          <p:nvPr/>
        </p:nvGrpSpPr>
        <p:grpSpPr>
          <a:xfrm>
            <a:off x="1143000" y="716400"/>
            <a:ext cx="6538680" cy="4947840"/>
            <a:chOff x="1143000" y="716400"/>
            <a:chExt cx="6538680" cy="4947840"/>
          </a:xfrm>
        </p:grpSpPr>
        <p:sp>
          <p:nvSpPr>
            <p:cNvPr id="227" name="Rectangle 10453"/>
            <p:cNvSpPr/>
            <p:nvPr/>
          </p:nvSpPr>
          <p:spPr>
            <a:xfrm>
              <a:off x="2603880" y="3995280"/>
              <a:ext cx="5020560" cy="1311840"/>
            </a:xfrm>
            <a:prstGeom prst="rect">
              <a:avLst/>
            </a:prstGeom>
            <a:gradFill rotWithShape="0">
              <a:gsLst>
                <a:gs pos="0">
                  <a:srgbClr val="ffffca"/>
                </a:gs>
                <a:gs pos="100000">
                  <a:srgbClr val="ffffff">
                    <a:alpha val="0"/>
                  </a:srgbClr>
                </a:gs>
              </a:gsLst>
              <a:lin ang="0"/>
            </a:gradFill>
            <a:ln w="9525">
              <a:noFill/>
            </a:ln>
          </p:spPr>
          <p:style>
            <a:lnRef idx="0"/>
            <a:fillRef idx="0"/>
            <a:effectRef idx="0"/>
            <a:fontRef idx="minor"/>
          </p:style>
          <p:txBody>
            <a:bodyPr lIns="18360" rIns="18360" tIns="18360" bIns="18360" anchor="ctr" anchorCtr="1">
              <a:noAutofit/>
            </a:bodyPr>
            <a:p>
              <a:pPr algn="ctr">
                <a:lnSpc>
                  <a:spcPct val="85000"/>
                </a:lnSpc>
                <a:spcBef>
                  <a:spcPts val="281"/>
                </a:spcBef>
              </a:pPr>
              <a:endParaRPr b="1" lang="en-US" sz="1400" spc="-1" strike="noStrike">
                <a:solidFill>
                  <a:srgbClr val="ffffff"/>
                </a:solidFill>
                <a:latin typeface="Arial Narrow"/>
              </a:endParaRPr>
            </a:p>
          </p:txBody>
        </p:sp>
        <p:grpSp>
          <p:nvGrpSpPr>
            <p:cNvPr id="228" name="Group 10454"/>
            <p:cNvGrpSpPr/>
            <p:nvPr/>
          </p:nvGrpSpPr>
          <p:grpSpPr>
            <a:xfrm>
              <a:off x="1854720" y="3880800"/>
              <a:ext cx="1419840" cy="1513800"/>
              <a:chOff x="1854720" y="3880800"/>
              <a:chExt cx="1419840" cy="1513800"/>
            </a:xfrm>
          </p:grpSpPr>
          <p:sp>
            <p:nvSpPr>
              <p:cNvPr id="229" name="Freeform 8"/>
              <p:cNvSpPr/>
              <p:nvPr/>
            </p:nvSpPr>
            <p:spPr>
              <a:xfrm>
                <a:off x="1854720" y="3880800"/>
                <a:ext cx="1419840" cy="601920"/>
              </a:xfrm>
              <a:custGeom>
                <a:avLst/>
                <a:gdLst>
                  <a:gd name="textAreaLeft" fmla="*/ 0 w 1419840"/>
                  <a:gd name="textAreaRight" fmla="*/ 1420200 w 1419840"/>
                  <a:gd name="textAreaTop" fmla="*/ 0 h 601920"/>
                  <a:gd name="textAreaBottom" fmla="*/ 602280 h 6019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230" name="Freeform 9"/>
              <p:cNvSpPr/>
              <p:nvPr/>
            </p:nvSpPr>
            <p:spPr>
              <a:xfrm>
                <a:off x="1854720" y="4181760"/>
                <a:ext cx="709920" cy="1212840"/>
              </a:xfrm>
              <a:custGeom>
                <a:avLst/>
                <a:gdLst>
                  <a:gd name="textAreaLeft" fmla="*/ 0 w 709920"/>
                  <a:gd name="textAreaRight" fmla="*/ 710280 w 709920"/>
                  <a:gd name="textAreaTop" fmla="*/ 0 h 1212840"/>
                  <a:gd name="textAreaBottom" fmla="*/ 1213200 h 121284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231" name="Freeform 10"/>
              <p:cNvSpPr/>
              <p:nvPr/>
            </p:nvSpPr>
            <p:spPr>
              <a:xfrm>
                <a:off x="2564640" y="4181760"/>
                <a:ext cx="709920" cy="1212840"/>
              </a:xfrm>
              <a:custGeom>
                <a:avLst/>
                <a:gdLst>
                  <a:gd name="textAreaLeft" fmla="*/ 0 w 709920"/>
                  <a:gd name="textAreaRight" fmla="*/ 710280 w 709920"/>
                  <a:gd name="textAreaTop" fmla="*/ 0 h 1212840"/>
                  <a:gd name="textAreaBottom" fmla="*/ 1213200 h 121284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sp>
          <p:nvSpPr>
            <p:cNvPr id="232" name="Rectangle 10458"/>
            <p:cNvSpPr/>
            <p:nvPr/>
          </p:nvSpPr>
          <p:spPr>
            <a:xfrm>
              <a:off x="2603880" y="2426400"/>
              <a:ext cx="5020560" cy="1311840"/>
            </a:xfrm>
            <a:prstGeom prst="rect">
              <a:avLst/>
            </a:prstGeom>
            <a:gradFill rotWithShape="0">
              <a:gsLst>
                <a:gs pos="0">
                  <a:srgbClr val="ffffca"/>
                </a:gs>
                <a:gs pos="100000">
                  <a:srgbClr val="ffffff">
                    <a:alpha val="0"/>
                  </a:srgbClr>
                </a:gs>
              </a:gsLst>
              <a:lin ang="0"/>
            </a:gradFill>
            <a:ln w="9525">
              <a:noFill/>
            </a:ln>
          </p:spPr>
          <p:style>
            <a:lnRef idx="0"/>
            <a:fillRef idx="0"/>
            <a:effectRef idx="0"/>
            <a:fontRef idx="minor"/>
          </p:style>
          <p:txBody>
            <a:bodyPr lIns="18360" rIns="18360" tIns="18360" bIns="18360" anchor="ctr" anchorCtr="1">
              <a:noAutofit/>
            </a:bodyPr>
            <a:p>
              <a:pPr algn="ctr">
                <a:lnSpc>
                  <a:spcPct val="85000"/>
                </a:lnSpc>
                <a:spcBef>
                  <a:spcPts val="281"/>
                </a:spcBef>
              </a:pPr>
              <a:endParaRPr b="1" lang="en-US" sz="1400" spc="-1" strike="noStrike">
                <a:solidFill>
                  <a:srgbClr val="ffffff"/>
                </a:solidFill>
                <a:latin typeface="Arial Narrow"/>
              </a:endParaRPr>
            </a:p>
          </p:txBody>
        </p:sp>
        <p:sp>
          <p:nvSpPr>
            <p:cNvPr id="233" name="Rectangle 10459"/>
            <p:cNvSpPr/>
            <p:nvPr/>
          </p:nvSpPr>
          <p:spPr>
            <a:xfrm>
              <a:off x="2603880" y="857520"/>
              <a:ext cx="5020560" cy="1311840"/>
            </a:xfrm>
            <a:prstGeom prst="rect">
              <a:avLst/>
            </a:prstGeom>
            <a:gradFill rotWithShape="0">
              <a:gsLst>
                <a:gs pos="0">
                  <a:srgbClr val="ffffca"/>
                </a:gs>
                <a:gs pos="100000">
                  <a:srgbClr val="ffffff">
                    <a:alpha val="0"/>
                  </a:srgbClr>
                </a:gs>
              </a:gsLst>
              <a:lin ang="0"/>
            </a:gradFill>
            <a:ln w="9525">
              <a:noFill/>
            </a:ln>
          </p:spPr>
          <p:style>
            <a:lnRef idx="0"/>
            <a:fillRef idx="0"/>
            <a:effectRef idx="0"/>
            <a:fontRef idx="minor"/>
          </p:style>
          <p:txBody>
            <a:bodyPr lIns="18360" rIns="18360" tIns="18360" bIns="18360" anchor="ctr" anchorCtr="1">
              <a:noAutofit/>
            </a:bodyPr>
            <a:p>
              <a:pPr algn="ctr">
                <a:lnSpc>
                  <a:spcPct val="85000"/>
                </a:lnSpc>
                <a:spcBef>
                  <a:spcPts val="281"/>
                </a:spcBef>
              </a:pPr>
              <a:endParaRPr b="1" lang="en-US" sz="1400" spc="-1" strike="noStrike">
                <a:solidFill>
                  <a:srgbClr val="ffffff"/>
                </a:solidFill>
                <a:latin typeface="Arial Narrow"/>
              </a:endParaRPr>
            </a:p>
          </p:txBody>
        </p:sp>
        <p:sp>
          <p:nvSpPr>
            <p:cNvPr id="234" name="TextBox 22"/>
            <p:cNvSpPr/>
            <p:nvPr/>
          </p:nvSpPr>
          <p:spPr>
            <a:xfrm>
              <a:off x="3459960" y="960480"/>
              <a:ext cx="4221720" cy="1562400"/>
            </a:xfrm>
            <a:prstGeom prst="rect">
              <a:avLst/>
            </a:prstGeom>
            <a:noFill/>
            <a:ln w="0">
              <a:noFill/>
            </a:ln>
          </p:spPr>
          <p:style>
            <a:lnRef idx="0"/>
            <a:fillRef idx="0"/>
            <a:effectRef idx="0"/>
            <a:fontRef idx="minor"/>
          </p:style>
          <p:txBody>
            <a:bodyPr lIns="90000" rIns="90000" tIns="45000" bIns="45000" anchor="t">
              <a:spAutoFit/>
            </a:bodyPr>
            <a:p>
              <a:pPr>
                <a:lnSpc>
                  <a:spcPct val="85000"/>
                </a:lnSpc>
              </a:pPr>
              <a:r>
                <a:rPr b="0" lang="en-US" sz="1800" spc="-1" strike="noStrike">
                  <a:solidFill>
                    <a:srgbClr val="000000"/>
                  </a:solidFill>
                  <a:latin typeface="Arial Narrow"/>
                </a:rPr>
                <a:t>Your Content Here</a:t>
              </a:r>
              <a:endParaRPr b="0" lang="en-US" sz="1800" spc="-1" strike="noStrike">
                <a:solidFill>
                  <a:srgbClr val="ffffff"/>
                </a:solidFill>
                <a:latin typeface="Arial"/>
              </a:endParaRPr>
            </a:p>
            <a:p>
              <a:pPr>
                <a:lnSpc>
                  <a:spcPct val="85000"/>
                </a:lnSpc>
              </a:pPr>
              <a:r>
                <a:rPr b="0" lang="en-US" sz="1600" spc="-1" strike="noStrike">
                  <a:solidFill>
                    <a:srgbClr val="000000"/>
                  </a:solidFill>
                  <a:latin typeface="Arial Narrow"/>
                </a:rPr>
                <a:t>Place information here. More data can be placed here. Place your information here. Your content will be placed here. Put information here. More data can be placed here. Place your info here. Your content will be placed here.  </a:t>
              </a:r>
              <a:endParaRPr b="0" lang="en-US" sz="1600" spc="-1" strike="noStrike">
                <a:solidFill>
                  <a:srgbClr val="ffffff"/>
                </a:solidFill>
                <a:latin typeface="Arial"/>
              </a:endParaRPr>
            </a:p>
            <a:p>
              <a:pPr>
                <a:lnSpc>
                  <a:spcPct val="85000"/>
                </a:lnSpc>
              </a:pPr>
              <a:endParaRPr b="0" lang="en-US" sz="1600" spc="-1" strike="noStrike">
                <a:solidFill>
                  <a:srgbClr val="ffffff"/>
                </a:solidFill>
                <a:latin typeface="Arial"/>
              </a:endParaRPr>
            </a:p>
          </p:txBody>
        </p:sp>
        <p:sp>
          <p:nvSpPr>
            <p:cNvPr id="235" name="TextBox 23"/>
            <p:cNvSpPr/>
            <p:nvPr/>
          </p:nvSpPr>
          <p:spPr>
            <a:xfrm>
              <a:off x="3459960" y="2531160"/>
              <a:ext cx="4221720" cy="1562400"/>
            </a:xfrm>
            <a:prstGeom prst="rect">
              <a:avLst/>
            </a:prstGeom>
            <a:noFill/>
            <a:ln w="0">
              <a:noFill/>
            </a:ln>
          </p:spPr>
          <p:style>
            <a:lnRef idx="0"/>
            <a:fillRef idx="0"/>
            <a:effectRef idx="0"/>
            <a:fontRef idx="minor"/>
          </p:style>
          <p:txBody>
            <a:bodyPr lIns="90000" rIns="90000" tIns="45000" bIns="45000" anchor="t">
              <a:spAutoFit/>
            </a:bodyPr>
            <a:p>
              <a:pPr>
                <a:lnSpc>
                  <a:spcPct val="85000"/>
                </a:lnSpc>
              </a:pPr>
              <a:r>
                <a:rPr b="0" lang="en-US" sz="1800" spc="-1" strike="noStrike">
                  <a:solidFill>
                    <a:srgbClr val="000000"/>
                  </a:solidFill>
                  <a:latin typeface="Arial Narrow"/>
                </a:rPr>
                <a:t>Your Content Here</a:t>
              </a:r>
              <a:endParaRPr b="0" lang="en-US" sz="1800" spc="-1" strike="noStrike">
                <a:solidFill>
                  <a:srgbClr val="ffffff"/>
                </a:solidFill>
                <a:latin typeface="Arial"/>
              </a:endParaRPr>
            </a:p>
            <a:p>
              <a:pPr>
                <a:lnSpc>
                  <a:spcPct val="85000"/>
                </a:lnSpc>
              </a:pPr>
              <a:r>
                <a:rPr b="0" lang="en-US" sz="1600" spc="-1" strike="noStrike">
                  <a:solidFill>
                    <a:srgbClr val="000000"/>
                  </a:solidFill>
                  <a:latin typeface="Arial Narrow"/>
                </a:rPr>
                <a:t>Place information here. More data can be placed here. Place your information here. Your content will be placed here. Put information here. More data can be placed here. Place your info here. Your content will be placed here.  </a:t>
              </a:r>
              <a:endParaRPr b="0" lang="en-US" sz="1600" spc="-1" strike="noStrike">
                <a:solidFill>
                  <a:srgbClr val="ffffff"/>
                </a:solidFill>
                <a:latin typeface="Arial"/>
              </a:endParaRPr>
            </a:p>
            <a:p>
              <a:pPr>
                <a:lnSpc>
                  <a:spcPct val="85000"/>
                </a:lnSpc>
              </a:pPr>
              <a:endParaRPr b="0" lang="en-US" sz="1600" spc="-1" strike="noStrike">
                <a:solidFill>
                  <a:srgbClr val="ffffff"/>
                </a:solidFill>
                <a:latin typeface="Arial"/>
              </a:endParaRPr>
            </a:p>
          </p:txBody>
        </p:sp>
        <p:sp>
          <p:nvSpPr>
            <p:cNvPr id="236" name="TextBox 24"/>
            <p:cNvSpPr/>
            <p:nvPr/>
          </p:nvSpPr>
          <p:spPr>
            <a:xfrm>
              <a:off x="3459960" y="4101840"/>
              <a:ext cx="4221720" cy="1562400"/>
            </a:xfrm>
            <a:prstGeom prst="rect">
              <a:avLst/>
            </a:prstGeom>
            <a:noFill/>
            <a:ln w="0">
              <a:noFill/>
            </a:ln>
          </p:spPr>
          <p:style>
            <a:lnRef idx="0"/>
            <a:fillRef idx="0"/>
            <a:effectRef idx="0"/>
            <a:fontRef idx="minor"/>
          </p:style>
          <p:txBody>
            <a:bodyPr lIns="90000" rIns="90000" tIns="45000" bIns="45000" anchor="t">
              <a:spAutoFit/>
            </a:bodyPr>
            <a:p>
              <a:pPr>
                <a:lnSpc>
                  <a:spcPct val="85000"/>
                </a:lnSpc>
              </a:pPr>
              <a:r>
                <a:rPr b="0" lang="en-US" sz="1800" spc="-1" strike="noStrike">
                  <a:solidFill>
                    <a:srgbClr val="000000"/>
                  </a:solidFill>
                  <a:latin typeface="Arial Narrow"/>
                </a:rPr>
                <a:t>Your Content Here</a:t>
              </a:r>
              <a:endParaRPr b="0" lang="en-US" sz="1800" spc="-1" strike="noStrike">
                <a:solidFill>
                  <a:srgbClr val="ffffff"/>
                </a:solidFill>
                <a:latin typeface="Arial"/>
              </a:endParaRPr>
            </a:p>
            <a:p>
              <a:pPr>
                <a:lnSpc>
                  <a:spcPct val="85000"/>
                </a:lnSpc>
              </a:pPr>
              <a:r>
                <a:rPr b="0" lang="en-US" sz="1600" spc="-1" strike="noStrike">
                  <a:solidFill>
                    <a:srgbClr val="000000"/>
                  </a:solidFill>
                  <a:latin typeface="Arial Narrow"/>
                </a:rPr>
                <a:t>Place information here. More data can be placed here. Place your information here. Your content will be placed here. Put information here. More data can be placed here. Place your info here. Your content will be placed here.  </a:t>
              </a:r>
              <a:endParaRPr b="0" lang="en-US" sz="1600" spc="-1" strike="noStrike">
                <a:solidFill>
                  <a:srgbClr val="ffffff"/>
                </a:solidFill>
                <a:latin typeface="Arial"/>
              </a:endParaRPr>
            </a:p>
            <a:p>
              <a:pPr>
                <a:lnSpc>
                  <a:spcPct val="85000"/>
                </a:lnSpc>
              </a:pPr>
              <a:endParaRPr b="0" lang="en-US" sz="1600" spc="-1" strike="noStrike">
                <a:solidFill>
                  <a:srgbClr val="ffffff"/>
                </a:solidFill>
                <a:latin typeface="Arial"/>
              </a:endParaRPr>
            </a:p>
          </p:txBody>
        </p:sp>
        <p:sp>
          <p:nvSpPr>
            <p:cNvPr id="237" name="TextBox 25"/>
            <p:cNvSpPr/>
            <p:nvPr/>
          </p:nvSpPr>
          <p:spPr>
            <a:xfrm>
              <a:off x="1143000" y="1060560"/>
              <a:ext cx="718920" cy="1022040"/>
            </a:xfrm>
            <a:prstGeom prst="rect">
              <a:avLst/>
            </a:prstGeom>
            <a:noFill/>
            <a:ln w="0">
              <a:noFill/>
            </a:ln>
          </p:spPr>
          <p:style>
            <a:lnRef idx="0"/>
            <a:fillRef idx="0"/>
            <a:effectRef idx="0"/>
            <a:fontRef idx="minor"/>
          </p:style>
          <p:txBody>
            <a:bodyPr lIns="90000" rIns="90000" tIns="45000" bIns="45000" anchor="t">
              <a:spAutoFit/>
            </a:bodyPr>
            <a:p>
              <a:pPr algn="r">
                <a:lnSpc>
                  <a:spcPct val="85000"/>
                </a:lnSpc>
              </a:pPr>
              <a:r>
                <a:rPr b="0" lang="en-US" sz="7200" spc="-1" strike="noStrike">
                  <a:solidFill>
                    <a:srgbClr val="ffffff"/>
                  </a:solidFill>
                  <a:latin typeface="Arial Narrow"/>
                </a:rPr>
                <a:t>1</a:t>
              </a:r>
              <a:endParaRPr b="0" lang="en-US" sz="7200" spc="-1" strike="noStrike">
                <a:solidFill>
                  <a:srgbClr val="ffffff"/>
                </a:solidFill>
                <a:latin typeface="Arial"/>
              </a:endParaRPr>
            </a:p>
          </p:txBody>
        </p:sp>
        <p:sp>
          <p:nvSpPr>
            <p:cNvPr id="238" name="TextBox 26"/>
            <p:cNvSpPr/>
            <p:nvPr/>
          </p:nvSpPr>
          <p:spPr>
            <a:xfrm>
              <a:off x="1143000" y="2651760"/>
              <a:ext cx="718920" cy="1022040"/>
            </a:xfrm>
            <a:prstGeom prst="rect">
              <a:avLst/>
            </a:prstGeom>
            <a:noFill/>
            <a:ln w="0">
              <a:noFill/>
            </a:ln>
          </p:spPr>
          <p:style>
            <a:lnRef idx="0"/>
            <a:fillRef idx="0"/>
            <a:effectRef idx="0"/>
            <a:fontRef idx="minor"/>
          </p:style>
          <p:txBody>
            <a:bodyPr lIns="90000" rIns="90000" tIns="45000" bIns="45000" anchor="t">
              <a:spAutoFit/>
            </a:bodyPr>
            <a:p>
              <a:pPr algn="r">
                <a:lnSpc>
                  <a:spcPct val="85000"/>
                </a:lnSpc>
              </a:pPr>
              <a:r>
                <a:rPr b="0" lang="en-US" sz="7200" spc="-1" strike="noStrike">
                  <a:solidFill>
                    <a:srgbClr val="ffffff"/>
                  </a:solidFill>
                  <a:latin typeface="Arial Narrow"/>
                </a:rPr>
                <a:t>2</a:t>
              </a:r>
              <a:endParaRPr b="0" lang="en-US" sz="7200" spc="-1" strike="noStrike">
                <a:solidFill>
                  <a:srgbClr val="ffffff"/>
                </a:solidFill>
                <a:latin typeface="Arial"/>
              </a:endParaRPr>
            </a:p>
          </p:txBody>
        </p:sp>
        <p:sp>
          <p:nvSpPr>
            <p:cNvPr id="239" name="TextBox 27"/>
            <p:cNvSpPr/>
            <p:nvPr/>
          </p:nvSpPr>
          <p:spPr>
            <a:xfrm>
              <a:off x="1143000" y="4188600"/>
              <a:ext cx="718920" cy="1022040"/>
            </a:xfrm>
            <a:prstGeom prst="rect">
              <a:avLst/>
            </a:prstGeom>
            <a:noFill/>
            <a:ln w="0">
              <a:noFill/>
            </a:ln>
          </p:spPr>
          <p:style>
            <a:lnRef idx="0"/>
            <a:fillRef idx="0"/>
            <a:effectRef idx="0"/>
            <a:fontRef idx="minor"/>
          </p:style>
          <p:txBody>
            <a:bodyPr lIns="90000" rIns="90000" tIns="45000" bIns="45000" anchor="t">
              <a:spAutoFit/>
            </a:bodyPr>
            <a:p>
              <a:pPr algn="r">
                <a:lnSpc>
                  <a:spcPct val="85000"/>
                </a:lnSpc>
              </a:pPr>
              <a:r>
                <a:rPr b="0" lang="en-US" sz="7200" spc="-1" strike="noStrike">
                  <a:solidFill>
                    <a:srgbClr val="ffffff"/>
                  </a:solidFill>
                  <a:latin typeface="Arial Narrow"/>
                </a:rPr>
                <a:t>3</a:t>
              </a:r>
              <a:endParaRPr b="0" lang="en-US" sz="7200" spc="-1" strike="noStrike">
                <a:solidFill>
                  <a:srgbClr val="ffffff"/>
                </a:solidFill>
                <a:latin typeface="Arial"/>
              </a:endParaRPr>
            </a:p>
          </p:txBody>
        </p:sp>
        <p:grpSp>
          <p:nvGrpSpPr>
            <p:cNvPr id="240" name="Group 10466"/>
            <p:cNvGrpSpPr/>
            <p:nvPr/>
          </p:nvGrpSpPr>
          <p:grpSpPr>
            <a:xfrm>
              <a:off x="1863360" y="2324880"/>
              <a:ext cx="1402200" cy="1494720"/>
              <a:chOff x="1863360" y="2324880"/>
              <a:chExt cx="1402200" cy="1494720"/>
            </a:xfrm>
          </p:grpSpPr>
          <p:grpSp>
            <p:nvGrpSpPr>
              <p:cNvPr id="241" name="Group 477"/>
              <p:cNvGrpSpPr/>
              <p:nvPr/>
            </p:nvGrpSpPr>
            <p:grpSpPr>
              <a:xfrm>
                <a:off x="2219400" y="2324880"/>
                <a:ext cx="1046160" cy="1342080"/>
                <a:chOff x="2219400" y="2324880"/>
                <a:chExt cx="1046160" cy="1342080"/>
              </a:xfrm>
            </p:grpSpPr>
            <p:grpSp>
              <p:nvGrpSpPr>
                <p:cNvPr id="242" name="Group 478"/>
                <p:cNvGrpSpPr/>
                <p:nvPr/>
              </p:nvGrpSpPr>
              <p:grpSpPr>
                <a:xfrm>
                  <a:off x="2219400" y="2778840"/>
                  <a:ext cx="1046160" cy="888120"/>
                  <a:chOff x="2219400" y="2778840"/>
                  <a:chExt cx="1046160" cy="888120"/>
                </a:xfrm>
              </p:grpSpPr>
              <p:grpSp>
                <p:nvGrpSpPr>
                  <p:cNvPr id="243" name="Group 524"/>
                  <p:cNvGrpSpPr/>
                  <p:nvPr/>
                </p:nvGrpSpPr>
                <p:grpSpPr>
                  <a:xfrm>
                    <a:off x="2219400" y="2778840"/>
                    <a:ext cx="690120" cy="737640"/>
                    <a:chOff x="2219400" y="2778840"/>
                    <a:chExt cx="690120" cy="737640"/>
                  </a:xfrm>
                </p:grpSpPr>
                <p:sp>
                  <p:nvSpPr>
                    <p:cNvPr id="244" name="Freeform 8"/>
                    <p:cNvSpPr/>
                    <p:nvPr/>
                  </p:nvSpPr>
                  <p:spPr>
                    <a:xfrm>
                      <a:off x="2219400" y="2778840"/>
                      <a:ext cx="690120" cy="293040"/>
                    </a:xfrm>
                    <a:custGeom>
                      <a:avLst/>
                      <a:gdLst>
                        <a:gd name="textAreaLeft" fmla="*/ 0 w 690120"/>
                        <a:gd name="textAreaRight" fmla="*/ 690480 w 690120"/>
                        <a:gd name="textAreaTop" fmla="*/ 0 h 293040"/>
                        <a:gd name="textAreaBottom" fmla="*/ 293400 h 293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245" name="Freeform 9"/>
                    <p:cNvSpPr/>
                    <p:nvPr/>
                  </p:nvSpPr>
                  <p:spPr>
                    <a:xfrm>
                      <a:off x="2219400" y="2925720"/>
                      <a:ext cx="344880" cy="590760"/>
                    </a:xfrm>
                    <a:custGeom>
                      <a:avLst/>
                      <a:gdLst>
                        <a:gd name="textAreaLeft" fmla="*/ 0 w 344880"/>
                        <a:gd name="textAreaRight" fmla="*/ 345240 w 344880"/>
                        <a:gd name="textAreaTop" fmla="*/ 0 h 590760"/>
                        <a:gd name="textAreaBottom" fmla="*/ 591120 h 5907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246" name="Freeform 10"/>
                    <p:cNvSpPr/>
                    <p:nvPr/>
                  </p:nvSpPr>
                  <p:spPr>
                    <a:xfrm>
                      <a:off x="2564640" y="2925720"/>
                      <a:ext cx="344880" cy="590760"/>
                    </a:xfrm>
                    <a:custGeom>
                      <a:avLst/>
                      <a:gdLst>
                        <a:gd name="textAreaLeft" fmla="*/ 0 w 344880"/>
                        <a:gd name="textAreaRight" fmla="*/ 345240 w 344880"/>
                        <a:gd name="textAreaTop" fmla="*/ 0 h 590760"/>
                        <a:gd name="textAreaBottom" fmla="*/ 591120 h 5907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247" name="Group 525"/>
                  <p:cNvGrpSpPr/>
                  <p:nvPr/>
                </p:nvGrpSpPr>
                <p:grpSpPr>
                  <a:xfrm>
                    <a:off x="2575440" y="2929680"/>
                    <a:ext cx="690120" cy="737280"/>
                    <a:chOff x="2575440" y="2929680"/>
                    <a:chExt cx="690120" cy="737280"/>
                  </a:xfrm>
                </p:grpSpPr>
                <p:sp>
                  <p:nvSpPr>
                    <p:cNvPr id="248" name="Freeform 8"/>
                    <p:cNvSpPr/>
                    <p:nvPr/>
                  </p:nvSpPr>
                  <p:spPr>
                    <a:xfrm>
                      <a:off x="2575440" y="2929680"/>
                      <a:ext cx="690120" cy="293040"/>
                    </a:xfrm>
                    <a:custGeom>
                      <a:avLst/>
                      <a:gdLst>
                        <a:gd name="textAreaLeft" fmla="*/ 0 w 690120"/>
                        <a:gd name="textAreaRight" fmla="*/ 690480 w 690120"/>
                        <a:gd name="textAreaTop" fmla="*/ 0 h 293040"/>
                        <a:gd name="textAreaBottom" fmla="*/ 293400 h 293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249" name="Freeform 9"/>
                    <p:cNvSpPr/>
                    <p:nvPr/>
                  </p:nvSpPr>
                  <p:spPr>
                    <a:xfrm>
                      <a:off x="2575440" y="3076200"/>
                      <a:ext cx="344880" cy="590760"/>
                    </a:xfrm>
                    <a:custGeom>
                      <a:avLst/>
                      <a:gdLst>
                        <a:gd name="textAreaLeft" fmla="*/ 0 w 344880"/>
                        <a:gd name="textAreaRight" fmla="*/ 345240 w 344880"/>
                        <a:gd name="textAreaTop" fmla="*/ 0 h 590760"/>
                        <a:gd name="textAreaBottom" fmla="*/ 591120 h 5907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250" name="Freeform 10"/>
                    <p:cNvSpPr/>
                    <p:nvPr/>
                  </p:nvSpPr>
                  <p:spPr>
                    <a:xfrm>
                      <a:off x="2920680" y="3076200"/>
                      <a:ext cx="344880" cy="590760"/>
                    </a:xfrm>
                    <a:custGeom>
                      <a:avLst/>
                      <a:gdLst>
                        <a:gd name="textAreaLeft" fmla="*/ 0 w 344880"/>
                        <a:gd name="textAreaRight" fmla="*/ 345240 w 344880"/>
                        <a:gd name="textAreaTop" fmla="*/ 0 h 590760"/>
                        <a:gd name="textAreaBottom" fmla="*/ 591120 h 5907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nvGrpSpPr>
                <p:cNvPr id="251" name="Group 497"/>
                <p:cNvGrpSpPr/>
                <p:nvPr/>
              </p:nvGrpSpPr>
              <p:grpSpPr>
                <a:xfrm>
                  <a:off x="2219400" y="2324880"/>
                  <a:ext cx="1046160" cy="888120"/>
                  <a:chOff x="2219400" y="2324880"/>
                  <a:chExt cx="1046160" cy="888120"/>
                </a:xfrm>
              </p:grpSpPr>
              <p:grpSp>
                <p:nvGrpSpPr>
                  <p:cNvPr id="252" name="Group 498"/>
                  <p:cNvGrpSpPr/>
                  <p:nvPr/>
                </p:nvGrpSpPr>
                <p:grpSpPr>
                  <a:xfrm>
                    <a:off x="2219400" y="2324880"/>
                    <a:ext cx="690120" cy="737280"/>
                    <a:chOff x="2219400" y="2324880"/>
                    <a:chExt cx="690120" cy="737280"/>
                  </a:xfrm>
                </p:grpSpPr>
                <p:sp>
                  <p:nvSpPr>
                    <p:cNvPr id="253" name="Freeform 8"/>
                    <p:cNvSpPr/>
                    <p:nvPr/>
                  </p:nvSpPr>
                  <p:spPr>
                    <a:xfrm>
                      <a:off x="2219400" y="2324880"/>
                      <a:ext cx="690120" cy="293040"/>
                    </a:xfrm>
                    <a:custGeom>
                      <a:avLst/>
                      <a:gdLst>
                        <a:gd name="textAreaLeft" fmla="*/ 0 w 690120"/>
                        <a:gd name="textAreaRight" fmla="*/ 690480 w 690120"/>
                        <a:gd name="textAreaTop" fmla="*/ 0 h 293040"/>
                        <a:gd name="textAreaBottom" fmla="*/ 293400 h 293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254" name="Freeform 9"/>
                    <p:cNvSpPr/>
                    <p:nvPr/>
                  </p:nvSpPr>
                  <p:spPr>
                    <a:xfrm>
                      <a:off x="2219400" y="2471400"/>
                      <a:ext cx="344880" cy="590760"/>
                    </a:xfrm>
                    <a:custGeom>
                      <a:avLst/>
                      <a:gdLst>
                        <a:gd name="textAreaLeft" fmla="*/ 0 w 344880"/>
                        <a:gd name="textAreaRight" fmla="*/ 345240 w 344880"/>
                        <a:gd name="textAreaTop" fmla="*/ 0 h 590760"/>
                        <a:gd name="textAreaBottom" fmla="*/ 591120 h 5907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255" name="Freeform 10"/>
                    <p:cNvSpPr/>
                    <p:nvPr/>
                  </p:nvSpPr>
                  <p:spPr>
                    <a:xfrm>
                      <a:off x="2564640" y="2471400"/>
                      <a:ext cx="344880" cy="590760"/>
                    </a:xfrm>
                    <a:custGeom>
                      <a:avLst/>
                      <a:gdLst>
                        <a:gd name="textAreaLeft" fmla="*/ 0 w 344880"/>
                        <a:gd name="textAreaRight" fmla="*/ 345240 w 344880"/>
                        <a:gd name="textAreaTop" fmla="*/ 0 h 590760"/>
                        <a:gd name="textAreaBottom" fmla="*/ 591120 h 5907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256" name="Group 505"/>
                  <p:cNvGrpSpPr/>
                  <p:nvPr/>
                </p:nvGrpSpPr>
                <p:grpSpPr>
                  <a:xfrm>
                    <a:off x="2575440" y="2475720"/>
                    <a:ext cx="690120" cy="737280"/>
                    <a:chOff x="2575440" y="2475720"/>
                    <a:chExt cx="690120" cy="737280"/>
                  </a:xfrm>
                </p:grpSpPr>
                <p:sp>
                  <p:nvSpPr>
                    <p:cNvPr id="257" name="Freeform 8"/>
                    <p:cNvSpPr/>
                    <p:nvPr/>
                  </p:nvSpPr>
                  <p:spPr>
                    <a:xfrm>
                      <a:off x="2575440" y="2475720"/>
                      <a:ext cx="690120" cy="293040"/>
                    </a:xfrm>
                    <a:custGeom>
                      <a:avLst/>
                      <a:gdLst>
                        <a:gd name="textAreaLeft" fmla="*/ 0 w 690120"/>
                        <a:gd name="textAreaRight" fmla="*/ 690480 w 690120"/>
                        <a:gd name="textAreaTop" fmla="*/ 0 h 293040"/>
                        <a:gd name="textAreaBottom" fmla="*/ 293400 h 293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258" name="Freeform 9"/>
                    <p:cNvSpPr/>
                    <p:nvPr/>
                  </p:nvSpPr>
                  <p:spPr>
                    <a:xfrm>
                      <a:off x="2575440" y="2622240"/>
                      <a:ext cx="344880" cy="590760"/>
                    </a:xfrm>
                    <a:custGeom>
                      <a:avLst/>
                      <a:gdLst>
                        <a:gd name="textAreaLeft" fmla="*/ 0 w 344880"/>
                        <a:gd name="textAreaRight" fmla="*/ 345240 w 344880"/>
                        <a:gd name="textAreaTop" fmla="*/ 0 h 590760"/>
                        <a:gd name="textAreaBottom" fmla="*/ 591120 h 5907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259" name="Freeform 10"/>
                    <p:cNvSpPr/>
                    <p:nvPr/>
                  </p:nvSpPr>
                  <p:spPr>
                    <a:xfrm>
                      <a:off x="2920680" y="2622240"/>
                      <a:ext cx="344880" cy="590760"/>
                    </a:xfrm>
                    <a:custGeom>
                      <a:avLst/>
                      <a:gdLst>
                        <a:gd name="textAreaLeft" fmla="*/ 0 w 344880"/>
                        <a:gd name="textAreaRight" fmla="*/ 345240 w 344880"/>
                        <a:gd name="textAreaTop" fmla="*/ 0 h 590760"/>
                        <a:gd name="textAreaBottom" fmla="*/ 591120 h 5907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grpSp>
            <p:nvGrpSpPr>
              <p:cNvPr id="260" name="Group 476"/>
              <p:cNvGrpSpPr/>
              <p:nvPr/>
            </p:nvGrpSpPr>
            <p:grpSpPr>
              <a:xfrm>
                <a:off x="1863360" y="2477520"/>
                <a:ext cx="1046160" cy="1342080"/>
                <a:chOff x="1863360" y="2477520"/>
                <a:chExt cx="1046160" cy="1342080"/>
              </a:xfrm>
            </p:grpSpPr>
            <p:grpSp>
              <p:nvGrpSpPr>
                <p:cNvPr id="261" name="Group 467"/>
                <p:cNvGrpSpPr/>
                <p:nvPr/>
              </p:nvGrpSpPr>
              <p:grpSpPr>
                <a:xfrm>
                  <a:off x="1863360" y="2931480"/>
                  <a:ext cx="1046160" cy="888120"/>
                  <a:chOff x="1863360" y="2931480"/>
                  <a:chExt cx="1046160" cy="888120"/>
                </a:xfrm>
              </p:grpSpPr>
              <p:grpSp>
                <p:nvGrpSpPr>
                  <p:cNvPr id="262" name="Group 468"/>
                  <p:cNvGrpSpPr/>
                  <p:nvPr/>
                </p:nvGrpSpPr>
                <p:grpSpPr>
                  <a:xfrm>
                    <a:off x="1863360" y="2931480"/>
                    <a:ext cx="690120" cy="737280"/>
                    <a:chOff x="1863360" y="2931480"/>
                    <a:chExt cx="690120" cy="737280"/>
                  </a:xfrm>
                </p:grpSpPr>
                <p:sp>
                  <p:nvSpPr>
                    <p:cNvPr id="263" name="Freeform 8"/>
                    <p:cNvSpPr/>
                    <p:nvPr/>
                  </p:nvSpPr>
                  <p:spPr>
                    <a:xfrm>
                      <a:off x="1863360" y="2931480"/>
                      <a:ext cx="690120" cy="293040"/>
                    </a:xfrm>
                    <a:custGeom>
                      <a:avLst/>
                      <a:gdLst>
                        <a:gd name="textAreaLeft" fmla="*/ 0 w 690120"/>
                        <a:gd name="textAreaRight" fmla="*/ 690480 w 690120"/>
                        <a:gd name="textAreaTop" fmla="*/ 0 h 293040"/>
                        <a:gd name="textAreaBottom" fmla="*/ 293400 h 293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264" name="Freeform 9"/>
                    <p:cNvSpPr/>
                    <p:nvPr/>
                  </p:nvSpPr>
                  <p:spPr>
                    <a:xfrm>
                      <a:off x="1863360" y="3078000"/>
                      <a:ext cx="344880" cy="590760"/>
                    </a:xfrm>
                    <a:custGeom>
                      <a:avLst/>
                      <a:gdLst>
                        <a:gd name="textAreaLeft" fmla="*/ 0 w 344880"/>
                        <a:gd name="textAreaRight" fmla="*/ 345240 w 344880"/>
                        <a:gd name="textAreaTop" fmla="*/ 0 h 590760"/>
                        <a:gd name="textAreaBottom" fmla="*/ 591120 h 5907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265" name="Freeform 10"/>
                    <p:cNvSpPr/>
                    <p:nvPr/>
                  </p:nvSpPr>
                  <p:spPr>
                    <a:xfrm>
                      <a:off x="2208600" y="3078000"/>
                      <a:ext cx="344880" cy="590760"/>
                    </a:xfrm>
                    <a:custGeom>
                      <a:avLst/>
                      <a:gdLst>
                        <a:gd name="textAreaLeft" fmla="*/ 0 w 344880"/>
                        <a:gd name="textAreaRight" fmla="*/ 345240 w 344880"/>
                        <a:gd name="textAreaTop" fmla="*/ 0 h 590760"/>
                        <a:gd name="textAreaBottom" fmla="*/ 591120 h 5907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266" name="Group 469"/>
                  <p:cNvGrpSpPr/>
                  <p:nvPr/>
                </p:nvGrpSpPr>
                <p:grpSpPr>
                  <a:xfrm>
                    <a:off x="2219400" y="3082320"/>
                    <a:ext cx="690120" cy="737280"/>
                    <a:chOff x="2219400" y="3082320"/>
                    <a:chExt cx="690120" cy="737280"/>
                  </a:xfrm>
                </p:grpSpPr>
                <p:sp>
                  <p:nvSpPr>
                    <p:cNvPr id="267" name="Freeform 8"/>
                    <p:cNvSpPr/>
                    <p:nvPr/>
                  </p:nvSpPr>
                  <p:spPr>
                    <a:xfrm>
                      <a:off x="2219400" y="3082320"/>
                      <a:ext cx="690120" cy="293040"/>
                    </a:xfrm>
                    <a:custGeom>
                      <a:avLst/>
                      <a:gdLst>
                        <a:gd name="textAreaLeft" fmla="*/ 0 w 690120"/>
                        <a:gd name="textAreaRight" fmla="*/ 690480 w 690120"/>
                        <a:gd name="textAreaTop" fmla="*/ 0 h 293040"/>
                        <a:gd name="textAreaBottom" fmla="*/ 293400 h 293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268" name="Freeform 9"/>
                    <p:cNvSpPr/>
                    <p:nvPr/>
                  </p:nvSpPr>
                  <p:spPr>
                    <a:xfrm>
                      <a:off x="2219400" y="3228840"/>
                      <a:ext cx="344880" cy="590760"/>
                    </a:xfrm>
                    <a:custGeom>
                      <a:avLst/>
                      <a:gdLst>
                        <a:gd name="textAreaLeft" fmla="*/ 0 w 344880"/>
                        <a:gd name="textAreaRight" fmla="*/ 345240 w 344880"/>
                        <a:gd name="textAreaTop" fmla="*/ 0 h 590760"/>
                        <a:gd name="textAreaBottom" fmla="*/ 591120 h 5907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269" name="Freeform 10"/>
                    <p:cNvSpPr/>
                    <p:nvPr/>
                  </p:nvSpPr>
                  <p:spPr>
                    <a:xfrm>
                      <a:off x="2564640" y="3228840"/>
                      <a:ext cx="344880" cy="590760"/>
                    </a:xfrm>
                    <a:custGeom>
                      <a:avLst/>
                      <a:gdLst>
                        <a:gd name="textAreaLeft" fmla="*/ 0 w 344880"/>
                        <a:gd name="textAreaRight" fmla="*/ 345240 w 344880"/>
                        <a:gd name="textAreaTop" fmla="*/ 0 h 590760"/>
                        <a:gd name="textAreaBottom" fmla="*/ 591120 h 5907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nvGrpSpPr>
                <p:cNvPr id="270" name="Group 466"/>
                <p:cNvGrpSpPr/>
                <p:nvPr/>
              </p:nvGrpSpPr>
              <p:grpSpPr>
                <a:xfrm>
                  <a:off x="1863360" y="2477520"/>
                  <a:ext cx="1046160" cy="888120"/>
                  <a:chOff x="1863360" y="2477520"/>
                  <a:chExt cx="1046160" cy="888120"/>
                </a:xfrm>
              </p:grpSpPr>
              <p:grpSp>
                <p:nvGrpSpPr>
                  <p:cNvPr id="271" name="Group 462"/>
                  <p:cNvGrpSpPr/>
                  <p:nvPr/>
                </p:nvGrpSpPr>
                <p:grpSpPr>
                  <a:xfrm>
                    <a:off x="1863360" y="2477520"/>
                    <a:ext cx="690120" cy="737280"/>
                    <a:chOff x="1863360" y="2477520"/>
                    <a:chExt cx="690120" cy="737280"/>
                  </a:xfrm>
                </p:grpSpPr>
                <p:sp>
                  <p:nvSpPr>
                    <p:cNvPr id="272" name="Freeform 8"/>
                    <p:cNvSpPr/>
                    <p:nvPr/>
                  </p:nvSpPr>
                  <p:spPr>
                    <a:xfrm>
                      <a:off x="1863360" y="2477520"/>
                      <a:ext cx="690120" cy="293040"/>
                    </a:xfrm>
                    <a:custGeom>
                      <a:avLst/>
                      <a:gdLst>
                        <a:gd name="textAreaLeft" fmla="*/ 0 w 690120"/>
                        <a:gd name="textAreaRight" fmla="*/ 690480 w 690120"/>
                        <a:gd name="textAreaTop" fmla="*/ 0 h 293040"/>
                        <a:gd name="textAreaBottom" fmla="*/ 293400 h 293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273" name="Freeform 9"/>
                    <p:cNvSpPr/>
                    <p:nvPr/>
                  </p:nvSpPr>
                  <p:spPr>
                    <a:xfrm>
                      <a:off x="1863360" y="2624040"/>
                      <a:ext cx="344880" cy="590760"/>
                    </a:xfrm>
                    <a:custGeom>
                      <a:avLst/>
                      <a:gdLst>
                        <a:gd name="textAreaLeft" fmla="*/ 0 w 344880"/>
                        <a:gd name="textAreaRight" fmla="*/ 345240 w 344880"/>
                        <a:gd name="textAreaTop" fmla="*/ 0 h 590760"/>
                        <a:gd name="textAreaBottom" fmla="*/ 591120 h 5907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274" name="Freeform 10"/>
                    <p:cNvSpPr/>
                    <p:nvPr/>
                  </p:nvSpPr>
                  <p:spPr>
                    <a:xfrm>
                      <a:off x="2208600" y="2624040"/>
                      <a:ext cx="344880" cy="590760"/>
                    </a:xfrm>
                    <a:custGeom>
                      <a:avLst/>
                      <a:gdLst>
                        <a:gd name="textAreaLeft" fmla="*/ 0 w 344880"/>
                        <a:gd name="textAreaRight" fmla="*/ 345240 w 344880"/>
                        <a:gd name="textAreaTop" fmla="*/ 0 h 590760"/>
                        <a:gd name="textAreaBottom" fmla="*/ 591120 h 5907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275" name="Group 419"/>
                  <p:cNvGrpSpPr/>
                  <p:nvPr/>
                </p:nvGrpSpPr>
                <p:grpSpPr>
                  <a:xfrm>
                    <a:off x="2219400" y="2628360"/>
                    <a:ext cx="690120" cy="737280"/>
                    <a:chOff x="2219400" y="2628360"/>
                    <a:chExt cx="690120" cy="737280"/>
                  </a:xfrm>
                </p:grpSpPr>
                <p:sp>
                  <p:nvSpPr>
                    <p:cNvPr id="276" name="Freeform 8"/>
                    <p:cNvSpPr/>
                    <p:nvPr/>
                  </p:nvSpPr>
                  <p:spPr>
                    <a:xfrm>
                      <a:off x="2219400" y="2628360"/>
                      <a:ext cx="690120" cy="293040"/>
                    </a:xfrm>
                    <a:custGeom>
                      <a:avLst/>
                      <a:gdLst>
                        <a:gd name="textAreaLeft" fmla="*/ 0 w 690120"/>
                        <a:gd name="textAreaRight" fmla="*/ 690480 w 690120"/>
                        <a:gd name="textAreaTop" fmla="*/ 0 h 293040"/>
                        <a:gd name="textAreaBottom" fmla="*/ 293400 h 293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277" name="Freeform 9"/>
                    <p:cNvSpPr/>
                    <p:nvPr/>
                  </p:nvSpPr>
                  <p:spPr>
                    <a:xfrm>
                      <a:off x="2219400" y="2774880"/>
                      <a:ext cx="344880" cy="590760"/>
                    </a:xfrm>
                    <a:custGeom>
                      <a:avLst/>
                      <a:gdLst>
                        <a:gd name="textAreaLeft" fmla="*/ 0 w 344880"/>
                        <a:gd name="textAreaRight" fmla="*/ 345240 w 344880"/>
                        <a:gd name="textAreaTop" fmla="*/ 0 h 590760"/>
                        <a:gd name="textAreaBottom" fmla="*/ 591120 h 5907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278" name="Freeform 10"/>
                    <p:cNvSpPr/>
                    <p:nvPr/>
                  </p:nvSpPr>
                  <p:spPr>
                    <a:xfrm>
                      <a:off x="2564640" y="2774880"/>
                      <a:ext cx="344880" cy="590760"/>
                    </a:xfrm>
                    <a:custGeom>
                      <a:avLst/>
                      <a:gdLst>
                        <a:gd name="textAreaLeft" fmla="*/ 0 w 344880"/>
                        <a:gd name="textAreaRight" fmla="*/ 345240 w 344880"/>
                        <a:gd name="textAreaTop" fmla="*/ 0 h 590760"/>
                        <a:gd name="textAreaBottom" fmla="*/ 591120 h 5907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grpSp>
        <p:sp>
          <p:nvSpPr>
            <p:cNvPr id="279" name="AutoShape 110"/>
            <p:cNvSpPr/>
            <p:nvPr/>
          </p:nvSpPr>
          <p:spPr>
            <a:xfrm rot="5400000">
              <a:off x="2232360" y="3629160"/>
              <a:ext cx="664560" cy="502920"/>
            </a:xfrm>
            <a:prstGeom prst="rightArrow">
              <a:avLst>
                <a:gd name="adj1" fmla="val 55843"/>
                <a:gd name="adj2" fmla="val 49879"/>
              </a:avLst>
            </a:prstGeom>
            <a:gradFill rotWithShape="0">
              <a:gsLst>
                <a:gs pos="0">
                  <a:srgbClr val="ffffff">
                    <a:alpha val="0"/>
                  </a:srgbClr>
                </a:gs>
                <a:gs pos="100000">
                  <a:srgbClr val="5b431f"/>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2000" spc="-1" strike="noStrike">
                <a:solidFill>
                  <a:srgbClr val="000000"/>
                </a:solidFill>
                <a:latin typeface="Calibri"/>
              </a:endParaRPr>
            </a:p>
          </p:txBody>
        </p:sp>
        <p:grpSp>
          <p:nvGrpSpPr>
            <p:cNvPr id="280" name="Group 10506"/>
            <p:cNvGrpSpPr/>
            <p:nvPr/>
          </p:nvGrpSpPr>
          <p:grpSpPr>
            <a:xfrm>
              <a:off x="1836720" y="716400"/>
              <a:ext cx="1455480" cy="1531800"/>
              <a:chOff x="1836720" y="716400"/>
              <a:chExt cx="1455480" cy="1531800"/>
            </a:xfrm>
          </p:grpSpPr>
          <p:grpSp>
            <p:nvGrpSpPr>
              <p:cNvPr id="281" name="Group 719"/>
              <p:cNvGrpSpPr/>
              <p:nvPr/>
            </p:nvGrpSpPr>
            <p:grpSpPr>
              <a:xfrm>
                <a:off x="2203560" y="716400"/>
                <a:ext cx="721800" cy="1223280"/>
                <a:chOff x="2203560" y="716400"/>
                <a:chExt cx="721800" cy="1223280"/>
              </a:xfrm>
            </p:grpSpPr>
            <p:grpSp>
              <p:nvGrpSpPr>
                <p:cNvPr id="282" name="Group 644"/>
                <p:cNvGrpSpPr/>
                <p:nvPr/>
              </p:nvGrpSpPr>
              <p:grpSpPr>
                <a:xfrm>
                  <a:off x="2203560" y="1178640"/>
                  <a:ext cx="721800" cy="761040"/>
                  <a:chOff x="2203560" y="1178640"/>
                  <a:chExt cx="721800" cy="761040"/>
                </a:xfrm>
              </p:grpSpPr>
              <p:grpSp>
                <p:nvGrpSpPr>
                  <p:cNvPr id="283" name="Group 645"/>
                  <p:cNvGrpSpPr/>
                  <p:nvPr/>
                </p:nvGrpSpPr>
                <p:grpSpPr>
                  <a:xfrm>
                    <a:off x="2386800" y="1178640"/>
                    <a:ext cx="538560" cy="683280"/>
                    <a:chOff x="2386800" y="1178640"/>
                    <a:chExt cx="538560" cy="683280"/>
                  </a:xfrm>
                </p:grpSpPr>
                <p:grpSp>
                  <p:nvGrpSpPr>
                    <p:cNvPr id="284" name="Group 689"/>
                    <p:cNvGrpSpPr/>
                    <p:nvPr/>
                  </p:nvGrpSpPr>
                  <p:grpSpPr>
                    <a:xfrm>
                      <a:off x="2386800" y="1409760"/>
                      <a:ext cx="538560" cy="452160"/>
                      <a:chOff x="2386800" y="1409760"/>
                      <a:chExt cx="538560" cy="452160"/>
                    </a:xfrm>
                  </p:grpSpPr>
                  <p:grpSp>
                    <p:nvGrpSpPr>
                      <p:cNvPr id="285" name="Group 711"/>
                      <p:cNvGrpSpPr/>
                      <p:nvPr/>
                    </p:nvGrpSpPr>
                    <p:grpSpPr>
                      <a:xfrm>
                        <a:off x="2386800" y="1409760"/>
                        <a:ext cx="355320" cy="375480"/>
                        <a:chOff x="2386800" y="1409760"/>
                        <a:chExt cx="355320" cy="375480"/>
                      </a:xfrm>
                    </p:grpSpPr>
                    <p:sp>
                      <p:nvSpPr>
                        <p:cNvPr id="286" name="Freeform 8"/>
                        <p:cNvSpPr/>
                        <p:nvPr/>
                      </p:nvSpPr>
                      <p:spPr>
                        <a:xfrm>
                          <a:off x="2386800" y="140976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287" name="Freeform 9"/>
                        <p:cNvSpPr/>
                        <p:nvPr/>
                      </p:nvSpPr>
                      <p:spPr>
                        <a:xfrm>
                          <a:off x="2386800" y="148464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288" name="Freeform 10"/>
                        <p:cNvSpPr/>
                        <p:nvPr/>
                      </p:nvSpPr>
                      <p:spPr>
                        <a:xfrm>
                          <a:off x="2564640" y="148464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289" name="Group 712"/>
                      <p:cNvGrpSpPr/>
                      <p:nvPr/>
                    </p:nvGrpSpPr>
                    <p:grpSpPr>
                      <a:xfrm>
                        <a:off x="2570040" y="1486440"/>
                        <a:ext cx="355320" cy="375480"/>
                        <a:chOff x="2570040" y="1486440"/>
                        <a:chExt cx="355320" cy="375480"/>
                      </a:xfrm>
                    </p:grpSpPr>
                    <p:sp>
                      <p:nvSpPr>
                        <p:cNvPr id="290" name="Freeform 8"/>
                        <p:cNvSpPr/>
                        <p:nvPr/>
                      </p:nvSpPr>
                      <p:spPr>
                        <a:xfrm>
                          <a:off x="2570040" y="148644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291" name="Freeform 9"/>
                        <p:cNvSpPr/>
                        <p:nvPr/>
                      </p:nvSpPr>
                      <p:spPr>
                        <a:xfrm>
                          <a:off x="2570040" y="156132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292" name="Freeform 10"/>
                        <p:cNvSpPr/>
                        <p:nvPr/>
                      </p:nvSpPr>
                      <p:spPr>
                        <a:xfrm>
                          <a:off x="2747880" y="156132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nvGrpSpPr>
                    <p:cNvPr id="293" name="Group 696"/>
                    <p:cNvGrpSpPr/>
                    <p:nvPr/>
                  </p:nvGrpSpPr>
                  <p:grpSpPr>
                    <a:xfrm>
                      <a:off x="2386800" y="1178640"/>
                      <a:ext cx="538560" cy="452160"/>
                      <a:chOff x="2386800" y="1178640"/>
                      <a:chExt cx="538560" cy="452160"/>
                    </a:xfrm>
                  </p:grpSpPr>
                  <p:grpSp>
                    <p:nvGrpSpPr>
                      <p:cNvPr id="294" name="Group 697"/>
                      <p:cNvGrpSpPr/>
                      <p:nvPr/>
                    </p:nvGrpSpPr>
                    <p:grpSpPr>
                      <a:xfrm>
                        <a:off x="2386800" y="1178640"/>
                        <a:ext cx="355320" cy="375120"/>
                        <a:chOff x="2386800" y="1178640"/>
                        <a:chExt cx="355320" cy="375120"/>
                      </a:xfrm>
                    </p:grpSpPr>
                    <p:sp>
                      <p:nvSpPr>
                        <p:cNvPr id="295" name="Freeform 8"/>
                        <p:cNvSpPr/>
                        <p:nvPr/>
                      </p:nvSpPr>
                      <p:spPr>
                        <a:xfrm>
                          <a:off x="2386800" y="117864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296" name="Freeform 9"/>
                        <p:cNvSpPr/>
                        <p:nvPr/>
                      </p:nvSpPr>
                      <p:spPr>
                        <a:xfrm>
                          <a:off x="2386800" y="125316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297" name="Freeform 10"/>
                        <p:cNvSpPr/>
                        <p:nvPr/>
                      </p:nvSpPr>
                      <p:spPr>
                        <a:xfrm>
                          <a:off x="2564640" y="125316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298" name="Group 704"/>
                      <p:cNvGrpSpPr/>
                      <p:nvPr/>
                    </p:nvGrpSpPr>
                    <p:grpSpPr>
                      <a:xfrm>
                        <a:off x="2570040" y="1255320"/>
                        <a:ext cx="355320" cy="375480"/>
                        <a:chOff x="2570040" y="1255320"/>
                        <a:chExt cx="355320" cy="375480"/>
                      </a:xfrm>
                    </p:grpSpPr>
                    <p:sp>
                      <p:nvSpPr>
                        <p:cNvPr id="299" name="Freeform 8"/>
                        <p:cNvSpPr/>
                        <p:nvPr/>
                      </p:nvSpPr>
                      <p:spPr>
                        <a:xfrm>
                          <a:off x="2570040" y="125532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00" name="Freeform 9"/>
                        <p:cNvSpPr/>
                        <p:nvPr/>
                      </p:nvSpPr>
                      <p:spPr>
                        <a:xfrm>
                          <a:off x="2570040" y="133020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01" name="Freeform 10"/>
                        <p:cNvSpPr/>
                        <p:nvPr/>
                      </p:nvSpPr>
                      <p:spPr>
                        <a:xfrm>
                          <a:off x="2747880" y="133020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grpSp>
                <p:nvGrpSpPr>
                  <p:cNvPr id="302" name="Group 646"/>
                  <p:cNvGrpSpPr/>
                  <p:nvPr/>
                </p:nvGrpSpPr>
                <p:grpSpPr>
                  <a:xfrm>
                    <a:off x="2203560" y="1256400"/>
                    <a:ext cx="538560" cy="683280"/>
                    <a:chOff x="2203560" y="1256400"/>
                    <a:chExt cx="538560" cy="683280"/>
                  </a:xfrm>
                </p:grpSpPr>
                <p:grpSp>
                  <p:nvGrpSpPr>
                    <p:cNvPr id="303" name="Group 647"/>
                    <p:cNvGrpSpPr/>
                    <p:nvPr/>
                  </p:nvGrpSpPr>
                  <p:grpSpPr>
                    <a:xfrm>
                      <a:off x="2203560" y="1487520"/>
                      <a:ext cx="538560" cy="452160"/>
                      <a:chOff x="2203560" y="1487520"/>
                      <a:chExt cx="538560" cy="452160"/>
                    </a:xfrm>
                  </p:grpSpPr>
                  <p:grpSp>
                    <p:nvGrpSpPr>
                      <p:cNvPr id="304" name="Group 669"/>
                      <p:cNvGrpSpPr/>
                      <p:nvPr/>
                    </p:nvGrpSpPr>
                    <p:grpSpPr>
                      <a:xfrm>
                        <a:off x="2203560" y="1487520"/>
                        <a:ext cx="355320" cy="375120"/>
                        <a:chOff x="2203560" y="1487520"/>
                        <a:chExt cx="355320" cy="375120"/>
                      </a:xfrm>
                    </p:grpSpPr>
                    <p:sp>
                      <p:nvSpPr>
                        <p:cNvPr id="305" name="Freeform 8"/>
                        <p:cNvSpPr/>
                        <p:nvPr/>
                      </p:nvSpPr>
                      <p:spPr>
                        <a:xfrm>
                          <a:off x="2203560" y="148752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06" name="Freeform 9"/>
                        <p:cNvSpPr/>
                        <p:nvPr/>
                      </p:nvSpPr>
                      <p:spPr>
                        <a:xfrm>
                          <a:off x="2203560" y="156204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07" name="Freeform 10"/>
                        <p:cNvSpPr/>
                        <p:nvPr/>
                      </p:nvSpPr>
                      <p:spPr>
                        <a:xfrm>
                          <a:off x="2381400" y="156204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308" name="Group 676"/>
                      <p:cNvGrpSpPr/>
                      <p:nvPr/>
                    </p:nvGrpSpPr>
                    <p:grpSpPr>
                      <a:xfrm>
                        <a:off x="2386800" y="1564200"/>
                        <a:ext cx="355320" cy="375480"/>
                        <a:chOff x="2386800" y="1564200"/>
                        <a:chExt cx="355320" cy="375480"/>
                      </a:xfrm>
                    </p:grpSpPr>
                    <p:sp>
                      <p:nvSpPr>
                        <p:cNvPr id="309" name="Freeform 8"/>
                        <p:cNvSpPr/>
                        <p:nvPr/>
                      </p:nvSpPr>
                      <p:spPr>
                        <a:xfrm>
                          <a:off x="2386800" y="156420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10" name="Freeform 9"/>
                        <p:cNvSpPr/>
                        <p:nvPr/>
                      </p:nvSpPr>
                      <p:spPr>
                        <a:xfrm>
                          <a:off x="2386800" y="163908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11" name="Freeform 10"/>
                        <p:cNvSpPr/>
                        <p:nvPr/>
                      </p:nvSpPr>
                      <p:spPr>
                        <a:xfrm>
                          <a:off x="2564640" y="163908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nvGrpSpPr>
                    <p:cNvPr id="312" name="Group 648"/>
                    <p:cNvGrpSpPr/>
                    <p:nvPr/>
                  </p:nvGrpSpPr>
                  <p:grpSpPr>
                    <a:xfrm>
                      <a:off x="2203560" y="1256400"/>
                      <a:ext cx="538560" cy="451800"/>
                      <a:chOff x="2203560" y="1256400"/>
                      <a:chExt cx="538560" cy="451800"/>
                    </a:xfrm>
                  </p:grpSpPr>
                  <p:grpSp>
                    <p:nvGrpSpPr>
                      <p:cNvPr id="313" name="Group 649"/>
                      <p:cNvGrpSpPr/>
                      <p:nvPr/>
                    </p:nvGrpSpPr>
                    <p:grpSpPr>
                      <a:xfrm>
                        <a:off x="2203560" y="1256400"/>
                        <a:ext cx="355320" cy="375120"/>
                        <a:chOff x="2203560" y="1256400"/>
                        <a:chExt cx="355320" cy="375120"/>
                      </a:xfrm>
                    </p:grpSpPr>
                    <p:sp>
                      <p:nvSpPr>
                        <p:cNvPr id="314" name="Freeform 8"/>
                        <p:cNvSpPr/>
                        <p:nvPr/>
                      </p:nvSpPr>
                      <p:spPr>
                        <a:xfrm>
                          <a:off x="2203560" y="125640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15" name="Freeform 9"/>
                        <p:cNvSpPr/>
                        <p:nvPr/>
                      </p:nvSpPr>
                      <p:spPr>
                        <a:xfrm>
                          <a:off x="2203560" y="133092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16" name="Freeform 10"/>
                        <p:cNvSpPr/>
                        <p:nvPr/>
                      </p:nvSpPr>
                      <p:spPr>
                        <a:xfrm>
                          <a:off x="2381400" y="133092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317" name="Group 650"/>
                      <p:cNvGrpSpPr/>
                      <p:nvPr/>
                    </p:nvGrpSpPr>
                    <p:grpSpPr>
                      <a:xfrm>
                        <a:off x="2386800" y="1333080"/>
                        <a:ext cx="355320" cy="375120"/>
                        <a:chOff x="2386800" y="1333080"/>
                        <a:chExt cx="355320" cy="375120"/>
                      </a:xfrm>
                    </p:grpSpPr>
                    <p:sp>
                      <p:nvSpPr>
                        <p:cNvPr id="318" name="Freeform 8"/>
                        <p:cNvSpPr/>
                        <p:nvPr/>
                      </p:nvSpPr>
                      <p:spPr>
                        <a:xfrm>
                          <a:off x="2386800" y="133308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19" name="Freeform 9"/>
                        <p:cNvSpPr/>
                        <p:nvPr/>
                      </p:nvSpPr>
                      <p:spPr>
                        <a:xfrm>
                          <a:off x="2386800" y="140760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20" name="Freeform 10"/>
                        <p:cNvSpPr/>
                        <p:nvPr/>
                      </p:nvSpPr>
                      <p:spPr>
                        <a:xfrm>
                          <a:off x="2564640" y="140760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grpSp>
            <p:grpSp>
              <p:nvGrpSpPr>
                <p:cNvPr id="321" name="Group 545"/>
                <p:cNvGrpSpPr/>
                <p:nvPr/>
              </p:nvGrpSpPr>
              <p:grpSpPr>
                <a:xfrm>
                  <a:off x="2203560" y="716400"/>
                  <a:ext cx="721800" cy="761040"/>
                  <a:chOff x="2203560" y="716400"/>
                  <a:chExt cx="721800" cy="761040"/>
                </a:xfrm>
              </p:grpSpPr>
              <p:grpSp>
                <p:nvGrpSpPr>
                  <p:cNvPr id="322" name="Group 546"/>
                  <p:cNvGrpSpPr/>
                  <p:nvPr/>
                </p:nvGrpSpPr>
                <p:grpSpPr>
                  <a:xfrm>
                    <a:off x="2386800" y="716400"/>
                    <a:ext cx="538560" cy="683280"/>
                    <a:chOff x="2386800" y="716400"/>
                    <a:chExt cx="538560" cy="683280"/>
                  </a:xfrm>
                </p:grpSpPr>
                <p:grpSp>
                  <p:nvGrpSpPr>
                    <p:cNvPr id="323" name="Group 602"/>
                    <p:cNvGrpSpPr/>
                    <p:nvPr/>
                  </p:nvGrpSpPr>
                  <p:grpSpPr>
                    <a:xfrm>
                      <a:off x="2386800" y="947520"/>
                      <a:ext cx="538560" cy="452160"/>
                      <a:chOff x="2386800" y="947520"/>
                      <a:chExt cx="538560" cy="452160"/>
                    </a:xfrm>
                  </p:grpSpPr>
                  <p:grpSp>
                    <p:nvGrpSpPr>
                      <p:cNvPr id="324" name="Group 624"/>
                      <p:cNvGrpSpPr/>
                      <p:nvPr/>
                    </p:nvGrpSpPr>
                    <p:grpSpPr>
                      <a:xfrm>
                        <a:off x="2386800" y="947520"/>
                        <a:ext cx="355320" cy="375480"/>
                        <a:chOff x="2386800" y="947520"/>
                        <a:chExt cx="355320" cy="375480"/>
                      </a:xfrm>
                    </p:grpSpPr>
                    <p:sp>
                      <p:nvSpPr>
                        <p:cNvPr id="325" name="Freeform 8"/>
                        <p:cNvSpPr/>
                        <p:nvPr/>
                      </p:nvSpPr>
                      <p:spPr>
                        <a:xfrm>
                          <a:off x="2386800" y="94752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26" name="Freeform 9"/>
                        <p:cNvSpPr/>
                        <p:nvPr/>
                      </p:nvSpPr>
                      <p:spPr>
                        <a:xfrm>
                          <a:off x="2386800" y="102240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27" name="Freeform 10"/>
                        <p:cNvSpPr/>
                        <p:nvPr/>
                      </p:nvSpPr>
                      <p:spPr>
                        <a:xfrm>
                          <a:off x="2564640" y="102240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328" name="Group 625"/>
                      <p:cNvGrpSpPr/>
                      <p:nvPr/>
                    </p:nvGrpSpPr>
                    <p:grpSpPr>
                      <a:xfrm>
                        <a:off x="2570040" y="1024200"/>
                        <a:ext cx="355320" cy="375480"/>
                        <a:chOff x="2570040" y="1024200"/>
                        <a:chExt cx="355320" cy="375480"/>
                      </a:xfrm>
                    </p:grpSpPr>
                    <p:sp>
                      <p:nvSpPr>
                        <p:cNvPr id="329" name="Freeform 8"/>
                        <p:cNvSpPr/>
                        <p:nvPr/>
                      </p:nvSpPr>
                      <p:spPr>
                        <a:xfrm>
                          <a:off x="2570040" y="102420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30" name="Freeform 9"/>
                        <p:cNvSpPr/>
                        <p:nvPr/>
                      </p:nvSpPr>
                      <p:spPr>
                        <a:xfrm>
                          <a:off x="2570040" y="109908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31" name="Freeform 10"/>
                        <p:cNvSpPr/>
                        <p:nvPr/>
                      </p:nvSpPr>
                      <p:spPr>
                        <a:xfrm>
                          <a:off x="2747880" y="109908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nvGrpSpPr>
                    <p:cNvPr id="332" name="Group 603"/>
                    <p:cNvGrpSpPr/>
                    <p:nvPr/>
                  </p:nvGrpSpPr>
                  <p:grpSpPr>
                    <a:xfrm>
                      <a:off x="2386800" y="716400"/>
                      <a:ext cx="538560" cy="452160"/>
                      <a:chOff x="2386800" y="716400"/>
                      <a:chExt cx="538560" cy="452160"/>
                    </a:xfrm>
                  </p:grpSpPr>
                  <p:grpSp>
                    <p:nvGrpSpPr>
                      <p:cNvPr id="333" name="Group 604"/>
                      <p:cNvGrpSpPr/>
                      <p:nvPr/>
                    </p:nvGrpSpPr>
                    <p:grpSpPr>
                      <a:xfrm>
                        <a:off x="2386800" y="716400"/>
                        <a:ext cx="355320" cy="375120"/>
                        <a:chOff x="2386800" y="716400"/>
                        <a:chExt cx="355320" cy="375120"/>
                      </a:xfrm>
                    </p:grpSpPr>
                    <p:sp>
                      <p:nvSpPr>
                        <p:cNvPr id="334" name="Freeform 8"/>
                        <p:cNvSpPr/>
                        <p:nvPr/>
                      </p:nvSpPr>
                      <p:spPr>
                        <a:xfrm>
                          <a:off x="2386800" y="71640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35" name="Freeform 9"/>
                        <p:cNvSpPr/>
                        <p:nvPr/>
                      </p:nvSpPr>
                      <p:spPr>
                        <a:xfrm>
                          <a:off x="2386800" y="79092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36" name="Freeform 10"/>
                        <p:cNvSpPr/>
                        <p:nvPr/>
                      </p:nvSpPr>
                      <p:spPr>
                        <a:xfrm>
                          <a:off x="2564640" y="79092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337" name="Group 605"/>
                      <p:cNvGrpSpPr/>
                      <p:nvPr/>
                    </p:nvGrpSpPr>
                    <p:grpSpPr>
                      <a:xfrm>
                        <a:off x="2570040" y="793080"/>
                        <a:ext cx="355320" cy="375480"/>
                        <a:chOff x="2570040" y="793080"/>
                        <a:chExt cx="355320" cy="375480"/>
                      </a:xfrm>
                    </p:grpSpPr>
                    <p:sp>
                      <p:nvSpPr>
                        <p:cNvPr id="338" name="Freeform 8"/>
                        <p:cNvSpPr/>
                        <p:nvPr/>
                      </p:nvSpPr>
                      <p:spPr>
                        <a:xfrm>
                          <a:off x="2570040" y="79308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39" name="Freeform 9"/>
                        <p:cNvSpPr/>
                        <p:nvPr/>
                      </p:nvSpPr>
                      <p:spPr>
                        <a:xfrm>
                          <a:off x="2570040" y="86796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40" name="Freeform 10"/>
                        <p:cNvSpPr/>
                        <p:nvPr/>
                      </p:nvSpPr>
                      <p:spPr>
                        <a:xfrm>
                          <a:off x="2747880" y="86796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grpSp>
                <p:nvGrpSpPr>
                  <p:cNvPr id="341" name="Group 547"/>
                  <p:cNvGrpSpPr/>
                  <p:nvPr/>
                </p:nvGrpSpPr>
                <p:grpSpPr>
                  <a:xfrm>
                    <a:off x="2203560" y="794160"/>
                    <a:ext cx="538560" cy="683280"/>
                    <a:chOff x="2203560" y="794160"/>
                    <a:chExt cx="538560" cy="683280"/>
                  </a:xfrm>
                </p:grpSpPr>
                <p:grpSp>
                  <p:nvGrpSpPr>
                    <p:cNvPr id="342" name="Group 554"/>
                    <p:cNvGrpSpPr/>
                    <p:nvPr/>
                  </p:nvGrpSpPr>
                  <p:grpSpPr>
                    <a:xfrm>
                      <a:off x="2203560" y="1025280"/>
                      <a:ext cx="538560" cy="452160"/>
                      <a:chOff x="2203560" y="1025280"/>
                      <a:chExt cx="538560" cy="452160"/>
                    </a:xfrm>
                  </p:grpSpPr>
                  <p:grpSp>
                    <p:nvGrpSpPr>
                      <p:cNvPr id="343" name="Group 576"/>
                      <p:cNvGrpSpPr/>
                      <p:nvPr/>
                    </p:nvGrpSpPr>
                    <p:grpSpPr>
                      <a:xfrm>
                        <a:off x="2203560" y="1025280"/>
                        <a:ext cx="355320" cy="375120"/>
                        <a:chOff x="2203560" y="1025280"/>
                        <a:chExt cx="355320" cy="375120"/>
                      </a:xfrm>
                    </p:grpSpPr>
                    <p:sp>
                      <p:nvSpPr>
                        <p:cNvPr id="344" name="Freeform 8"/>
                        <p:cNvSpPr/>
                        <p:nvPr/>
                      </p:nvSpPr>
                      <p:spPr>
                        <a:xfrm>
                          <a:off x="2203560" y="102528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45" name="Freeform 9"/>
                        <p:cNvSpPr/>
                        <p:nvPr/>
                      </p:nvSpPr>
                      <p:spPr>
                        <a:xfrm>
                          <a:off x="2203560" y="109980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46" name="Freeform 10"/>
                        <p:cNvSpPr/>
                        <p:nvPr/>
                      </p:nvSpPr>
                      <p:spPr>
                        <a:xfrm>
                          <a:off x="2381400" y="109980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347" name="Group 583"/>
                      <p:cNvGrpSpPr/>
                      <p:nvPr/>
                    </p:nvGrpSpPr>
                    <p:grpSpPr>
                      <a:xfrm>
                        <a:off x="2386800" y="1101960"/>
                        <a:ext cx="355320" cy="375480"/>
                        <a:chOff x="2386800" y="1101960"/>
                        <a:chExt cx="355320" cy="375480"/>
                      </a:xfrm>
                    </p:grpSpPr>
                    <p:sp>
                      <p:nvSpPr>
                        <p:cNvPr id="348" name="Freeform 8"/>
                        <p:cNvSpPr/>
                        <p:nvPr/>
                      </p:nvSpPr>
                      <p:spPr>
                        <a:xfrm>
                          <a:off x="2386800" y="110196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49" name="Freeform 9"/>
                        <p:cNvSpPr/>
                        <p:nvPr/>
                      </p:nvSpPr>
                      <p:spPr>
                        <a:xfrm>
                          <a:off x="2386800" y="117684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50" name="Freeform 10"/>
                        <p:cNvSpPr/>
                        <p:nvPr/>
                      </p:nvSpPr>
                      <p:spPr>
                        <a:xfrm>
                          <a:off x="2564640" y="117684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nvGrpSpPr>
                    <p:cNvPr id="351" name="Group 555"/>
                    <p:cNvGrpSpPr/>
                    <p:nvPr/>
                  </p:nvGrpSpPr>
                  <p:grpSpPr>
                    <a:xfrm>
                      <a:off x="2203560" y="794160"/>
                      <a:ext cx="538560" cy="451800"/>
                      <a:chOff x="2203560" y="794160"/>
                      <a:chExt cx="538560" cy="451800"/>
                    </a:xfrm>
                  </p:grpSpPr>
                  <p:grpSp>
                    <p:nvGrpSpPr>
                      <p:cNvPr id="352" name="Group 562"/>
                      <p:cNvGrpSpPr/>
                      <p:nvPr/>
                    </p:nvGrpSpPr>
                    <p:grpSpPr>
                      <a:xfrm>
                        <a:off x="2203560" y="794160"/>
                        <a:ext cx="355320" cy="375120"/>
                        <a:chOff x="2203560" y="794160"/>
                        <a:chExt cx="355320" cy="375120"/>
                      </a:xfrm>
                    </p:grpSpPr>
                    <p:sp>
                      <p:nvSpPr>
                        <p:cNvPr id="353" name="Freeform 8"/>
                        <p:cNvSpPr/>
                        <p:nvPr/>
                      </p:nvSpPr>
                      <p:spPr>
                        <a:xfrm>
                          <a:off x="2203560" y="79416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54" name="Freeform 9"/>
                        <p:cNvSpPr/>
                        <p:nvPr/>
                      </p:nvSpPr>
                      <p:spPr>
                        <a:xfrm>
                          <a:off x="2203560" y="86868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55" name="Freeform 10"/>
                        <p:cNvSpPr/>
                        <p:nvPr/>
                      </p:nvSpPr>
                      <p:spPr>
                        <a:xfrm>
                          <a:off x="2381400" y="86868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356" name="Group 563"/>
                      <p:cNvGrpSpPr/>
                      <p:nvPr/>
                    </p:nvGrpSpPr>
                    <p:grpSpPr>
                      <a:xfrm>
                        <a:off x="2386800" y="870840"/>
                        <a:ext cx="355320" cy="375120"/>
                        <a:chOff x="2386800" y="870840"/>
                        <a:chExt cx="355320" cy="375120"/>
                      </a:xfrm>
                    </p:grpSpPr>
                    <p:sp>
                      <p:nvSpPr>
                        <p:cNvPr id="357" name="Freeform 8"/>
                        <p:cNvSpPr/>
                        <p:nvPr/>
                      </p:nvSpPr>
                      <p:spPr>
                        <a:xfrm>
                          <a:off x="2386800" y="87084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58" name="Freeform 9"/>
                        <p:cNvSpPr/>
                        <p:nvPr/>
                      </p:nvSpPr>
                      <p:spPr>
                        <a:xfrm>
                          <a:off x="2386800" y="94536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59" name="Freeform 10"/>
                        <p:cNvSpPr/>
                        <p:nvPr/>
                      </p:nvSpPr>
                      <p:spPr>
                        <a:xfrm>
                          <a:off x="2564640" y="94536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grpSp>
          </p:grpSp>
          <p:grpSp>
            <p:nvGrpSpPr>
              <p:cNvPr id="360" name="Group 720"/>
              <p:cNvGrpSpPr/>
              <p:nvPr/>
            </p:nvGrpSpPr>
            <p:grpSpPr>
              <a:xfrm>
                <a:off x="2570760" y="869040"/>
                <a:ext cx="721440" cy="1222920"/>
                <a:chOff x="2570760" y="869040"/>
                <a:chExt cx="721440" cy="1222920"/>
              </a:xfrm>
            </p:grpSpPr>
            <p:grpSp>
              <p:nvGrpSpPr>
                <p:cNvPr id="361" name="Group 721"/>
                <p:cNvGrpSpPr/>
                <p:nvPr/>
              </p:nvGrpSpPr>
              <p:grpSpPr>
                <a:xfrm>
                  <a:off x="2570760" y="1331280"/>
                  <a:ext cx="721440" cy="760680"/>
                  <a:chOff x="2570760" y="1331280"/>
                  <a:chExt cx="721440" cy="760680"/>
                </a:xfrm>
              </p:grpSpPr>
              <p:grpSp>
                <p:nvGrpSpPr>
                  <p:cNvPr id="362" name="Group 764"/>
                  <p:cNvGrpSpPr/>
                  <p:nvPr/>
                </p:nvGrpSpPr>
                <p:grpSpPr>
                  <a:xfrm>
                    <a:off x="2754000" y="1331280"/>
                    <a:ext cx="538200" cy="683280"/>
                    <a:chOff x="2754000" y="1331280"/>
                    <a:chExt cx="538200" cy="683280"/>
                  </a:xfrm>
                </p:grpSpPr>
                <p:grpSp>
                  <p:nvGrpSpPr>
                    <p:cNvPr id="363" name="Group 784"/>
                    <p:cNvGrpSpPr/>
                    <p:nvPr/>
                  </p:nvGrpSpPr>
                  <p:grpSpPr>
                    <a:xfrm>
                      <a:off x="2754000" y="1562400"/>
                      <a:ext cx="538200" cy="452160"/>
                      <a:chOff x="2754000" y="1562400"/>
                      <a:chExt cx="538200" cy="452160"/>
                    </a:xfrm>
                  </p:grpSpPr>
                  <p:grpSp>
                    <p:nvGrpSpPr>
                      <p:cNvPr id="364" name="Group 794"/>
                      <p:cNvGrpSpPr/>
                      <p:nvPr/>
                    </p:nvGrpSpPr>
                    <p:grpSpPr>
                      <a:xfrm>
                        <a:off x="2754000" y="1562400"/>
                        <a:ext cx="354960" cy="375120"/>
                        <a:chOff x="2754000" y="1562400"/>
                        <a:chExt cx="354960" cy="375120"/>
                      </a:xfrm>
                    </p:grpSpPr>
                    <p:sp>
                      <p:nvSpPr>
                        <p:cNvPr id="365" name="Freeform 8"/>
                        <p:cNvSpPr/>
                        <p:nvPr/>
                      </p:nvSpPr>
                      <p:spPr>
                        <a:xfrm>
                          <a:off x="2754000" y="156240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66" name="Freeform 9"/>
                        <p:cNvSpPr/>
                        <p:nvPr/>
                      </p:nvSpPr>
                      <p:spPr>
                        <a:xfrm>
                          <a:off x="2754000" y="163692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67" name="Freeform 10"/>
                        <p:cNvSpPr/>
                        <p:nvPr/>
                      </p:nvSpPr>
                      <p:spPr>
                        <a:xfrm>
                          <a:off x="2931480" y="163692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368" name="Group 795"/>
                      <p:cNvGrpSpPr/>
                      <p:nvPr/>
                    </p:nvGrpSpPr>
                    <p:grpSpPr>
                      <a:xfrm>
                        <a:off x="2937240" y="1639080"/>
                        <a:ext cx="354960" cy="375480"/>
                        <a:chOff x="2937240" y="1639080"/>
                        <a:chExt cx="354960" cy="375480"/>
                      </a:xfrm>
                    </p:grpSpPr>
                    <p:sp>
                      <p:nvSpPr>
                        <p:cNvPr id="369" name="Freeform 8"/>
                        <p:cNvSpPr/>
                        <p:nvPr/>
                      </p:nvSpPr>
                      <p:spPr>
                        <a:xfrm>
                          <a:off x="2937240" y="163908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70" name="Freeform 9"/>
                        <p:cNvSpPr/>
                        <p:nvPr/>
                      </p:nvSpPr>
                      <p:spPr>
                        <a:xfrm>
                          <a:off x="2937240" y="171396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71" name="Freeform 10"/>
                        <p:cNvSpPr/>
                        <p:nvPr/>
                      </p:nvSpPr>
                      <p:spPr>
                        <a:xfrm>
                          <a:off x="3114720" y="171396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nvGrpSpPr>
                    <p:cNvPr id="372" name="Group 785"/>
                    <p:cNvGrpSpPr/>
                    <p:nvPr/>
                  </p:nvGrpSpPr>
                  <p:grpSpPr>
                    <a:xfrm>
                      <a:off x="2754000" y="1331280"/>
                      <a:ext cx="538200" cy="451800"/>
                      <a:chOff x="2754000" y="1331280"/>
                      <a:chExt cx="538200" cy="451800"/>
                    </a:xfrm>
                  </p:grpSpPr>
                  <p:grpSp>
                    <p:nvGrpSpPr>
                      <p:cNvPr id="373" name="Group 786"/>
                      <p:cNvGrpSpPr/>
                      <p:nvPr/>
                    </p:nvGrpSpPr>
                    <p:grpSpPr>
                      <a:xfrm>
                        <a:off x="2754000" y="1331280"/>
                        <a:ext cx="354960" cy="375120"/>
                        <a:chOff x="2754000" y="1331280"/>
                        <a:chExt cx="354960" cy="375120"/>
                      </a:xfrm>
                    </p:grpSpPr>
                    <p:sp>
                      <p:nvSpPr>
                        <p:cNvPr id="374" name="Freeform 8"/>
                        <p:cNvSpPr/>
                        <p:nvPr/>
                      </p:nvSpPr>
                      <p:spPr>
                        <a:xfrm>
                          <a:off x="2754000" y="133128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75" name="Freeform 9"/>
                        <p:cNvSpPr/>
                        <p:nvPr/>
                      </p:nvSpPr>
                      <p:spPr>
                        <a:xfrm>
                          <a:off x="2754000" y="140580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76" name="Freeform 10"/>
                        <p:cNvSpPr/>
                        <p:nvPr/>
                      </p:nvSpPr>
                      <p:spPr>
                        <a:xfrm>
                          <a:off x="2931480" y="140580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377" name="Group 787"/>
                      <p:cNvGrpSpPr/>
                      <p:nvPr/>
                    </p:nvGrpSpPr>
                    <p:grpSpPr>
                      <a:xfrm>
                        <a:off x="2937240" y="1407960"/>
                        <a:ext cx="354960" cy="375120"/>
                        <a:chOff x="2937240" y="1407960"/>
                        <a:chExt cx="354960" cy="375120"/>
                      </a:xfrm>
                    </p:grpSpPr>
                    <p:sp>
                      <p:nvSpPr>
                        <p:cNvPr id="378" name="Freeform 8"/>
                        <p:cNvSpPr/>
                        <p:nvPr/>
                      </p:nvSpPr>
                      <p:spPr>
                        <a:xfrm>
                          <a:off x="2937240" y="140796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79" name="Freeform 9"/>
                        <p:cNvSpPr/>
                        <p:nvPr/>
                      </p:nvSpPr>
                      <p:spPr>
                        <a:xfrm>
                          <a:off x="2937240" y="148248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80" name="Freeform 10"/>
                        <p:cNvSpPr/>
                        <p:nvPr/>
                      </p:nvSpPr>
                      <p:spPr>
                        <a:xfrm>
                          <a:off x="3114720" y="148248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grpSp>
                <p:nvGrpSpPr>
                  <p:cNvPr id="381" name="Group 765"/>
                  <p:cNvGrpSpPr/>
                  <p:nvPr/>
                </p:nvGrpSpPr>
                <p:grpSpPr>
                  <a:xfrm>
                    <a:off x="2570760" y="1409040"/>
                    <a:ext cx="538200" cy="682920"/>
                    <a:chOff x="2570760" y="1409040"/>
                    <a:chExt cx="538200" cy="682920"/>
                  </a:xfrm>
                </p:grpSpPr>
                <p:grpSp>
                  <p:nvGrpSpPr>
                    <p:cNvPr id="382" name="Group 766"/>
                    <p:cNvGrpSpPr/>
                    <p:nvPr/>
                  </p:nvGrpSpPr>
                  <p:grpSpPr>
                    <a:xfrm>
                      <a:off x="2570760" y="1640160"/>
                      <a:ext cx="538200" cy="451800"/>
                      <a:chOff x="2570760" y="1640160"/>
                      <a:chExt cx="538200" cy="451800"/>
                    </a:xfrm>
                  </p:grpSpPr>
                  <p:grpSp>
                    <p:nvGrpSpPr>
                      <p:cNvPr id="383" name="Group 776"/>
                      <p:cNvGrpSpPr/>
                      <p:nvPr/>
                    </p:nvGrpSpPr>
                    <p:grpSpPr>
                      <a:xfrm>
                        <a:off x="2570760" y="1640160"/>
                        <a:ext cx="354960" cy="375120"/>
                        <a:chOff x="2570760" y="1640160"/>
                        <a:chExt cx="354960" cy="375120"/>
                      </a:xfrm>
                    </p:grpSpPr>
                    <p:sp>
                      <p:nvSpPr>
                        <p:cNvPr id="384" name="Freeform 8"/>
                        <p:cNvSpPr/>
                        <p:nvPr/>
                      </p:nvSpPr>
                      <p:spPr>
                        <a:xfrm>
                          <a:off x="2570760" y="164016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85" name="Freeform 9"/>
                        <p:cNvSpPr/>
                        <p:nvPr/>
                      </p:nvSpPr>
                      <p:spPr>
                        <a:xfrm>
                          <a:off x="2570760" y="171468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86" name="Freeform 10"/>
                        <p:cNvSpPr/>
                        <p:nvPr/>
                      </p:nvSpPr>
                      <p:spPr>
                        <a:xfrm>
                          <a:off x="2748240" y="171468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387" name="Group 777"/>
                      <p:cNvGrpSpPr/>
                      <p:nvPr/>
                    </p:nvGrpSpPr>
                    <p:grpSpPr>
                      <a:xfrm>
                        <a:off x="2754000" y="1716840"/>
                        <a:ext cx="354960" cy="375120"/>
                        <a:chOff x="2754000" y="1716840"/>
                        <a:chExt cx="354960" cy="375120"/>
                      </a:xfrm>
                    </p:grpSpPr>
                    <p:sp>
                      <p:nvSpPr>
                        <p:cNvPr id="388" name="Freeform 8"/>
                        <p:cNvSpPr/>
                        <p:nvPr/>
                      </p:nvSpPr>
                      <p:spPr>
                        <a:xfrm>
                          <a:off x="2754000" y="171684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89" name="Freeform 9"/>
                        <p:cNvSpPr/>
                        <p:nvPr/>
                      </p:nvSpPr>
                      <p:spPr>
                        <a:xfrm>
                          <a:off x="2754000" y="179136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90" name="Freeform 10"/>
                        <p:cNvSpPr/>
                        <p:nvPr/>
                      </p:nvSpPr>
                      <p:spPr>
                        <a:xfrm>
                          <a:off x="2931480" y="179136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nvGrpSpPr>
                    <p:cNvPr id="391" name="Group 767"/>
                    <p:cNvGrpSpPr/>
                    <p:nvPr/>
                  </p:nvGrpSpPr>
                  <p:grpSpPr>
                    <a:xfrm>
                      <a:off x="2570760" y="1409040"/>
                      <a:ext cx="538200" cy="451800"/>
                      <a:chOff x="2570760" y="1409040"/>
                      <a:chExt cx="538200" cy="451800"/>
                    </a:xfrm>
                  </p:grpSpPr>
                  <p:grpSp>
                    <p:nvGrpSpPr>
                      <p:cNvPr id="392" name="Group 768"/>
                      <p:cNvGrpSpPr/>
                      <p:nvPr/>
                    </p:nvGrpSpPr>
                    <p:grpSpPr>
                      <a:xfrm>
                        <a:off x="2570760" y="1409040"/>
                        <a:ext cx="354960" cy="375120"/>
                        <a:chOff x="2570760" y="1409040"/>
                        <a:chExt cx="354960" cy="375120"/>
                      </a:xfrm>
                    </p:grpSpPr>
                    <p:sp>
                      <p:nvSpPr>
                        <p:cNvPr id="393" name="Freeform 8"/>
                        <p:cNvSpPr/>
                        <p:nvPr/>
                      </p:nvSpPr>
                      <p:spPr>
                        <a:xfrm>
                          <a:off x="2570760" y="140904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94" name="Freeform 9"/>
                        <p:cNvSpPr/>
                        <p:nvPr/>
                      </p:nvSpPr>
                      <p:spPr>
                        <a:xfrm>
                          <a:off x="2570760" y="148356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95" name="Freeform 10"/>
                        <p:cNvSpPr/>
                        <p:nvPr/>
                      </p:nvSpPr>
                      <p:spPr>
                        <a:xfrm>
                          <a:off x="2748240" y="148356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396" name="Group 769"/>
                      <p:cNvGrpSpPr/>
                      <p:nvPr/>
                    </p:nvGrpSpPr>
                    <p:grpSpPr>
                      <a:xfrm>
                        <a:off x="2754000" y="1485720"/>
                        <a:ext cx="354960" cy="375120"/>
                        <a:chOff x="2754000" y="1485720"/>
                        <a:chExt cx="354960" cy="375120"/>
                      </a:xfrm>
                    </p:grpSpPr>
                    <p:sp>
                      <p:nvSpPr>
                        <p:cNvPr id="397" name="Freeform 8"/>
                        <p:cNvSpPr/>
                        <p:nvPr/>
                      </p:nvSpPr>
                      <p:spPr>
                        <a:xfrm>
                          <a:off x="2754000" y="148572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98" name="Freeform 9"/>
                        <p:cNvSpPr/>
                        <p:nvPr/>
                      </p:nvSpPr>
                      <p:spPr>
                        <a:xfrm>
                          <a:off x="2754000" y="156024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399" name="Freeform 10"/>
                        <p:cNvSpPr/>
                        <p:nvPr/>
                      </p:nvSpPr>
                      <p:spPr>
                        <a:xfrm>
                          <a:off x="2931480" y="156024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grpSp>
            <p:grpSp>
              <p:nvGrpSpPr>
                <p:cNvPr id="400" name="Group 722"/>
                <p:cNvGrpSpPr/>
                <p:nvPr/>
              </p:nvGrpSpPr>
              <p:grpSpPr>
                <a:xfrm>
                  <a:off x="2570760" y="869040"/>
                  <a:ext cx="721440" cy="760680"/>
                  <a:chOff x="2570760" y="869040"/>
                  <a:chExt cx="721440" cy="760680"/>
                </a:xfrm>
              </p:grpSpPr>
              <p:grpSp>
                <p:nvGrpSpPr>
                  <p:cNvPr id="401" name="Group 723"/>
                  <p:cNvGrpSpPr/>
                  <p:nvPr/>
                </p:nvGrpSpPr>
                <p:grpSpPr>
                  <a:xfrm>
                    <a:off x="2754000" y="869040"/>
                    <a:ext cx="538200" cy="683280"/>
                    <a:chOff x="2754000" y="869040"/>
                    <a:chExt cx="538200" cy="683280"/>
                  </a:xfrm>
                </p:grpSpPr>
                <p:grpSp>
                  <p:nvGrpSpPr>
                    <p:cNvPr id="402" name="Group 746"/>
                    <p:cNvGrpSpPr/>
                    <p:nvPr/>
                  </p:nvGrpSpPr>
                  <p:grpSpPr>
                    <a:xfrm>
                      <a:off x="2754000" y="1100160"/>
                      <a:ext cx="538200" cy="452160"/>
                      <a:chOff x="2754000" y="1100160"/>
                      <a:chExt cx="538200" cy="452160"/>
                    </a:xfrm>
                  </p:grpSpPr>
                  <p:grpSp>
                    <p:nvGrpSpPr>
                      <p:cNvPr id="403" name="Group 756"/>
                      <p:cNvGrpSpPr/>
                      <p:nvPr/>
                    </p:nvGrpSpPr>
                    <p:grpSpPr>
                      <a:xfrm>
                        <a:off x="2754000" y="1100160"/>
                        <a:ext cx="354960" cy="375120"/>
                        <a:chOff x="2754000" y="1100160"/>
                        <a:chExt cx="354960" cy="375120"/>
                      </a:xfrm>
                    </p:grpSpPr>
                    <p:sp>
                      <p:nvSpPr>
                        <p:cNvPr id="404" name="Freeform 8"/>
                        <p:cNvSpPr/>
                        <p:nvPr/>
                      </p:nvSpPr>
                      <p:spPr>
                        <a:xfrm>
                          <a:off x="2754000" y="110016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05" name="Freeform 9"/>
                        <p:cNvSpPr/>
                        <p:nvPr/>
                      </p:nvSpPr>
                      <p:spPr>
                        <a:xfrm>
                          <a:off x="2754000" y="117468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06" name="Freeform 10"/>
                        <p:cNvSpPr/>
                        <p:nvPr/>
                      </p:nvSpPr>
                      <p:spPr>
                        <a:xfrm>
                          <a:off x="2931480" y="117468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407" name="Group 757"/>
                      <p:cNvGrpSpPr/>
                      <p:nvPr/>
                    </p:nvGrpSpPr>
                    <p:grpSpPr>
                      <a:xfrm>
                        <a:off x="2937240" y="1176840"/>
                        <a:ext cx="354960" cy="375480"/>
                        <a:chOff x="2937240" y="1176840"/>
                        <a:chExt cx="354960" cy="375480"/>
                      </a:xfrm>
                    </p:grpSpPr>
                    <p:sp>
                      <p:nvSpPr>
                        <p:cNvPr id="408" name="Freeform 8"/>
                        <p:cNvSpPr/>
                        <p:nvPr/>
                      </p:nvSpPr>
                      <p:spPr>
                        <a:xfrm>
                          <a:off x="2937240" y="117684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09" name="Freeform 9"/>
                        <p:cNvSpPr/>
                        <p:nvPr/>
                      </p:nvSpPr>
                      <p:spPr>
                        <a:xfrm>
                          <a:off x="2937240" y="125172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10" name="Freeform 10"/>
                        <p:cNvSpPr/>
                        <p:nvPr/>
                      </p:nvSpPr>
                      <p:spPr>
                        <a:xfrm>
                          <a:off x="3114720" y="125172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nvGrpSpPr>
                    <p:cNvPr id="411" name="Group 747"/>
                    <p:cNvGrpSpPr/>
                    <p:nvPr/>
                  </p:nvGrpSpPr>
                  <p:grpSpPr>
                    <a:xfrm>
                      <a:off x="2754000" y="869040"/>
                      <a:ext cx="538200" cy="451800"/>
                      <a:chOff x="2754000" y="869040"/>
                      <a:chExt cx="538200" cy="451800"/>
                    </a:xfrm>
                  </p:grpSpPr>
                  <p:grpSp>
                    <p:nvGrpSpPr>
                      <p:cNvPr id="412" name="Group 748"/>
                      <p:cNvGrpSpPr/>
                      <p:nvPr/>
                    </p:nvGrpSpPr>
                    <p:grpSpPr>
                      <a:xfrm>
                        <a:off x="2754000" y="869040"/>
                        <a:ext cx="354960" cy="375120"/>
                        <a:chOff x="2754000" y="869040"/>
                        <a:chExt cx="354960" cy="375120"/>
                      </a:xfrm>
                    </p:grpSpPr>
                    <p:sp>
                      <p:nvSpPr>
                        <p:cNvPr id="413" name="Freeform 8"/>
                        <p:cNvSpPr/>
                        <p:nvPr/>
                      </p:nvSpPr>
                      <p:spPr>
                        <a:xfrm>
                          <a:off x="2754000" y="86904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14" name="Freeform 9"/>
                        <p:cNvSpPr/>
                        <p:nvPr/>
                      </p:nvSpPr>
                      <p:spPr>
                        <a:xfrm>
                          <a:off x="2754000" y="94356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15" name="Freeform 10"/>
                        <p:cNvSpPr/>
                        <p:nvPr/>
                      </p:nvSpPr>
                      <p:spPr>
                        <a:xfrm>
                          <a:off x="2931480" y="94356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416" name="Group 749"/>
                      <p:cNvGrpSpPr/>
                      <p:nvPr/>
                    </p:nvGrpSpPr>
                    <p:grpSpPr>
                      <a:xfrm>
                        <a:off x="2937240" y="945720"/>
                        <a:ext cx="354960" cy="375120"/>
                        <a:chOff x="2937240" y="945720"/>
                        <a:chExt cx="354960" cy="375120"/>
                      </a:xfrm>
                    </p:grpSpPr>
                    <p:sp>
                      <p:nvSpPr>
                        <p:cNvPr id="417" name="Freeform 8"/>
                        <p:cNvSpPr/>
                        <p:nvPr/>
                      </p:nvSpPr>
                      <p:spPr>
                        <a:xfrm>
                          <a:off x="2937240" y="94572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18" name="Freeform 9"/>
                        <p:cNvSpPr/>
                        <p:nvPr/>
                      </p:nvSpPr>
                      <p:spPr>
                        <a:xfrm>
                          <a:off x="2937240" y="102024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19" name="Freeform 10"/>
                        <p:cNvSpPr/>
                        <p:nvPr/>
                      </p:nvSpPr>
                      <p:spPr>
                        <a:xfrm>
                          <a:off x="3114720" y="102024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grpSp>
                <p:nvGrpSpPr>
                  <p:cNvPr id="420" name="Group 724"/>
                  <p:cNvGrpSpPr/>
                  <p:nvPr/>
                </p:nvGrpSpPr>
                <p:grpSpPr>
                  <a:xfrm>
                    <a:off x="2570760" y="946800"/>
                    <a:ext cx="538200" cy="682920"/>
                    <a:chOff x="2570760" y="946800"/>
                    <a:chExt cx="538200" cy="682920"/>
                  </a:xfrm>
                </p:grpSpPr>
                <p:grpSp>
                  <p:nvGrpSpPr>
                    <p:cNvPr id="421" name="Group 725"/>
                    <p:cNvGrpSpPr/>
                    <p:nvPr/>
                  </p:nvGrpSpPr>
                  <p:grpSpPr>
                    <a:xfrm>
                      <a:off x="2570760" y="1177920"/>
                      <a:ext cx="538200" cy="451800"/>
                      <a:chOff x="2570760" y="1177920"/>
                      <a:chExt cx="538200" cy="451800"/>
                    </a:xfrm>
                  </p:grpSpPr>
                  <p:grpSp>
                    <p:nvGrpSpPr>
                      <p:cNvPr id="422" name="Group 738"/>
                      <p:cNvGrpSpPr/>
                      <p:nvPr/>
                    </p:nvGrpSpPr>
                    <p:grpSpPr>
                      <a:xfrm>
                        <a:off x="2570760" y="1177920"/>
                        <a:ext cx="354960" cy="375120"/>
                        <a:chOff x="2570760" y="1177920"/>
                        <a:chExt cx="354960" cy="375120"/>
                      </a:xfrm>
                    </p:grpSpPr>
                    <p:sp>
                      <p:nvSpPr>
                        <p:cNvPr id="423" name="Freeform 8"/>
                        <p:cNvSpPr/>
                        <p:nvPr/>
                      </p:nvSpPr>
                      <p:spPr>
                        <a:xfrm>
                          <a:off x="2570760" y="117792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24" name="Freeform 9"/>
                        <p:cNvSpPr/>
                        <p:nvPr/>
                      </p:nvSpPr>
                      <p:spPr>
                        <a:xfrm>
                          <a:off x="2570760" y="125244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25" name="Freeform 10"/>
                        <p:cNvSpPr/>
                        <p:nvPr/>
                      </p:nvSpPr>
                      <p:spPr>
                        <a:xfrm>
                          <a:off x="2748240" y="125244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426" name="Group 739"/>
                      <p:cNvGrpSpPr/>
                      <p:nvPr/>
                    </p:nvGrpSpPr>
                    <p:grpSpPr>
                      <a:xfrm>
                        <a:off x="2754000" y="1254600"/>
                        <a:ext cx="354960" cy="375120"/>
                        <a:chOff x="2754000" y="1254600"/>
                        <a:chExt cx="354960" cy="375120"/>
                      </a:xfrm>
                    </p:grpSpPr>
                    <p:sp>
                      <p:nvSpPr>
                        <p:cNvPr id="427" name="Freeform 8"/>
                        <p:cNvSpPr/>
                        <p:nvPr/>
                      </p:nvSpPr>
                      <p:spPr>
                        <a:xfrm>
                          <a:off x="2754000" y="125460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28" name="Freeform 9"/>
                        <p:cNvSpPr/>
                        <p:nvPr/>
                      </p:nvSpPr>
                      <p:spPr>
                        <a:xfrm>
                          <a:off x="2754000" y="132912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29" name="Freeform 10"/>
                        <p:cNvSpPr/>
                        <p:nvPr/>
                      </p:nvSpPr>
                      <p:spPr>
                        <a:xfrm>
                          <a:off x="2931480" y="132912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nvGrpSpPr>
                    <p:cNvPr id="430" name="Group 728"/>
                    <p:cNvGrpSpPr/>
                    <p:nvPr/>
                  </p:nvGrpSpPr>
                  <p:grpSpPr>
                    <a:xfrm>
                      <a:off x="2570760" y="946800"/>
                      <a:ext cx="538200" cy="451800"/>
                      <a:chOff x="2570760" y="946800"/>
                      <a:chExt cx="538200" cy="451800"/>
                    </a:xfrm>
                  </p:grpSpPr>
                  <p:grpSp>
                    <p:nvGrpSpPr>
                      <p:cNvPr id="431" name="Group 729"/>
                      <p:cNvGrpSpPr/>
                      <p:nvPr/>
                    </p:nvGrpSpPr>
                    <p:grpSpPr>
                      <a:xfrm>
                        <a:off x="2570760" y="946800"/>
                        <a:ext cx="354960" cy="375120"/>
                        <a:chOff x="2570760" y="946800"/>
                        <a:chExt cx="354960" cy="375120"/>
                      </a:xfrm>
                    </p:grpSpPr>
                    <p:sp>
                      <p:nvSpPr>
                        <p:cNvPr id="432" name="Freeform 8"/>
                        <p:cNvSpPr/>
                        <p:nvPr/>
                      </p:nvSpPr>
                      <p:spPr>
                        <a:xfrm>
                          <a:off x="2570760" y="94680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33" name="Freeform 9"/>
                        <p:cNvSpPr/>
                        <p:nvPr/>
                      </p:nvSpPr>
                      <p:spPr>
                        <a:xfrm>
                          <a:off x="2570760" y="102132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34" name="Freeform 10"/>
                        <p:cNvSpPr/>
                        <p:nvPr/>
                      </p:nvSpPr>
                      <p:spPr>
                        <a:xfrm>
                          <a:off x="2748240" y="102132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435" name="Group 730"/>
                      <p:cNvGrpSpPr/>
                      <p:nvPr/>
                    </p:nvGrpSpPr>
                    <p:grpSpPr>
                      <a:xfrm>
                        <a:off x="2754000" y="1023480"/>
                        <a:ext cx="354960" cy="375120"/>
                        <a:chOff x="2754000" y="1023480"/>
                        <a:chExt cx="354960" cy="375120"/>
                      </a:xfrm>
                    </p:grpSpPr>
                    <p:sp>
                      <p:nvSpPr>
                        <p:cNvPr id="436" name="Freeform 8"/>
                        <p:cNvSpPr/>
                        <p:nvPr/>
                      </p:nvSpPr>
                      <p:spPr>
                        <a:xfrm>
                          <a:off x="2754000" y="102348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37" name="Freeform 9"/>
                        <p:cNvSpPr/>
                        <p:nvPr/>
                      </p:nvSpPr>
                      <p:spPr>
                        <a:xfrm>
                          <a:off x="2754000" y="109800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38" name="Freeform 10"/>
                        <p:cNvSpPr/>
                        <p:nvPr/>
                      </p:nvSpPr>
                      <p:spPr>
                        <a:xfrm>
                          <a:off x="2931480" y="109800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grpSp>
          </p:grpSp>
          <p:grpSp>
            <p:nvGrpSpPr>
              <p:cNvPr id="439" name="Group 802"/>
              <p:cNvGrpSpPr/>
              <p:nvPr/>
            </p:nvGrpSpPr>
            <p:grpSpPr>
              <a:xfrm>
                <a:off x="1836720" y="872640"/>
                <a:ext cx="721800" cy="1223280"/>
                <a:chOff x="1836720" y="872640"/>
                <a:chExt cx="721800" cy="1223280"/>
              </a:xfrm>
            </p:grpSpPr>
            <p:grpSp>
              <p:nvGrpSpPr>
                <p:cNvPr id="440" name="Group 803"/>
                <p:cNvGrpSpPr/>
                <p:nvPr/>
              </p:nvGrpSpPr>
              <p:grpSpPr>
                <a:xfrm>
                  <a:off x="1836720" y="1334880"/>
                  <a:ext cx="721800" cy="761040"/>
                  <a:chOff x="1836720" y="1334880"/>
                  <a:chExt cx="721800" cy="761040"/>
                </a:xfrm>
              </p:grpSpPr>
              <p:grpSp>
                <p:nvGrpSpPr>
                  <p:cNvPr id="441" name="Group 843"/>
                  <p:cNvGrpSpPr/>
                  <p:nvPr/>
                </p:nvGrpSpPr>
                <p:grpSpPr>
                  <a:xfrm>
                    <a:off x="2019960" y="1334880"/>
                    <a:ext cx="538560" cy="683280"/>
                    <a:chOff x="2019960" y="1334880"/>
                    <a:chExt cx="538560" cy="683280"/>
                  </a:xfrm>
                </p:grpSpPr>
                <p:grpSp>
                  <p:nvGrpSpPr>
                    <p:cNvPr id="442" name="Group 959"/>
                    <p:cNvGrpSpPr/>
                    <p:nvPr/>
                  </p:nvGrpSpPr>
                  <p:grpSpPr>
                    <a:xfrm>
                      <a:off x="2019960" y="1566000"/>
                      <a:ext cx="538560" cy="452160"/>
                      <a:chOff x="2019960" y="1566000"/>
                      <a:chExt cx="538560" cy="452160"/>
                    </a:xfrm>
                  </p:grpSpPr>
                  <p:grpSp>
                    <p:nvGrpSpPr>
                      <p:cNvPr id="443" name="Group 969"/>
                      <p:cNvGrpSpPr/>
                      <p:nvPr/>
                    </p:nvGrpSpPr>
                    <p:grpSpPr>
                      <a:xfrm>
                        <a:off x="2019960" y="1566000"/>
                        <a:ext cx="355320" cy="375480"/>
                        <a:chOff x="2019960" y="1566000"/>
                        <a:chExt cx="355320" cy="375480"/>
                      </a:xfrm>
                    </p:grpSpPr>
                    <p:sp>
                      <p:nvSpPr>
                        <p:cNvPr id="444" name="Freeform 8"/>
                        <p:cNvSpPr/>
                        <p:nvPr/>
                      </p:nvSpPr>
                      <p:spPr>
                        <a:xfrm>
                          <a:off x="2019960" y="156600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45" name="Freeform 9"/>
                        <p:cNvSpPr/>
                        <p:nvPr/>
                      </p:nvSpPr>
                      <p:spPr>
                        <a:xfrm>
                          <a:off x="2019960" y="164088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46" name="Freeform 10"/>
                        <p:cNvSpPr/>
                        <p:nvPr/>
                      </p:nvSpPr>
                      <p:spPr>
                        <a:xfrm>
                          <a:off x="2197800" y="164088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447" name="Group 970"/>
                      <p:cNvGrpSpPr/>
                      <p:nvPr/>
                    </p:nvGrpSpPr>
                    <p:grpSpPr>
                      <a:xfrm>
                        <a:off x="2203200" y="1642680"/>
                        <a:ext cx="355320" cy="375480"/>
                        <a:chOff x="2203200" y="1642680"/>
                        <a:chExt cx="355320" cy="375480"/>
                      </a:xfrm>
                    </p:grpSpPr>
                    <p:sp>
                      <p:nvSpPr>
                        <p:cNvPr id="448" name="Freeform 8"/>
                        <p:cNvSpPr/>
                        <p:nvPr/>
                      </p:nvSpPr>
                      <p:spPr>
                        <a:xfrm>
                          <a:off x="2203200" y="164268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49" name="Freeform 9"/>
                        <p:cNvSpPr/>
                        <p:nvPr/>
                      </p:nvSpPr>
                      <p:spPr>
                        <a:xfrm>
                          <a:off x="2203200" y="171756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50" name="Freeform 10"/>
                        <p:cNvSpPr/>
                        <p:nvPr/>
                      </p:nvSpPr>
                      <p:spPr>
                        <a:xfrm>
                          <a:off x="2381040" y="171756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nvGrpSpPr>
                    <p:cNvPr id="451" name="Group 960"/>
                    <p:cNvGrpSpPr/>
                    <p:nvPr/>
                  </p:nvGrpSpPr>
                  <p:grpSpPr>
                    <a:xfrm>
                      <a:off x="2019960" y="1334880"/>
                      <a:ext cx="538560" cy="452160"/>
                      <a:chOff x="2019960" y="1334880"/>
                      <a:chExt cx="538560" cy="452160"/>
                    </a:xfrm>
                  </p:grpSpPr>
                  <p:grpSp>
                    <p:nvGrpSpPr>
                      <p:cNvPr id="452" name="Group 961"/>
                      <p:cNvGrpSpPr/>
                      <p:nvPr/>
                    </p:nvGrpSpPr>
                    <p:grpSpPr>
                      <a:xfrm>
                        <a:off x="2019960" y="1334880"/>
                        <a:ext cx="355320" cy="375120"/>
                        <a:chOff x="2019960" y="1334880"/>
                        <a:chExt cx="355320" cy="375120"/>
                      </a:xfrm>
                    </p:grpSpPr>
                    <p:sp>
                      <p:nvSpPr>
                        <p:cNvPr id="453" name="Freeform 8"/>
                        <p:cNvSpPr/>
                        <p:nvPr/>
                      </p:nvSpPr>
                      <p:spPr>
                        <a:xfrm>
                          <a:off x="2019960" y="133488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54" name="Freeform 9"/>
                        <p:cNvSpPr/>
                        <p:nvPr/>
                      </p:nvSpPr>
                      <p:spPr>
                        <a:xfrm>
                          <a:off x="2019960" y="140940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55" name="Freeform 10"/>
                        <p:cNvSpPr/>
                        <p:nvPr/>
                      </p:nvSpPr>
                      <p:spPr>
                        <a:xfrm>
                          <a:off x="2197800" y="140940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456" name="Group 962"/>
                      <p:cNvGrpSpPr/>
                      <p:nvPr/>
                    </p:nvGrpSpPr>
                    <p:grpSpPr>
                      <a:xfrm>
                        <a:off x="2203200" y="1411560"/>
                        <a:ext cx="355320" cy="375480"/>
                        <a:chOff x="2203200" y="1411560"/>
                        <a:chExt cx="355320" cy="375480"/>
                      </a:xfrm>
                    </p:grpSpPr>
                    <p:sp>
                      <p:nvSpPr>
                        <p:cNvPr id="457" name="Freeform 8"/>
                        <p:cNvSpPr/>
                        <p:nvPr/>
                      </p:nvSpPr>
                      <p:spPr>
                        <a:xfrm>
                          <a:off x="2203200" y="141156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58" name="Freeform 9"/>
                        <p:cNvSpPr/>
                        <p:nvPr/>
                      </p:nvSpPr>
                      <p:spPr>
                        <a:xfrm>
                          <a:off x="2203200" y="148644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59" name="Freeform 10"/>
                        <p:cNvSpPr/>
                        <p:nvPr/>
                      </p:nvSpPr>
                      <p:spPr>
                        <a:xfrm>
                          <a:off x="2381040" y="148644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grpSp>
                <p:nvGrpSpPr>
                  <p:cNvPr id="460" name="Group 844"/>
                  <p:cNvGrpSpPr/>
                  <p:nvPr/>
                </p:nvGrpSpPr>
                <p:grpSpPr>
                  <a:xfrm>
                    <a:off x="1836720" y="1412640"/>
                    <a:ext cx="538560" cy="683280"/>
                    <a:chOff x="1836720" y="1412640"/>
                    <a:chExt cx="538560" cy="683280"/>
                  </a:xfrm>
                </p:grpSpPr>
                <p:grpSp>
                  <p:nvGrpSpPr>
                    <p:cNvPr id="461" name="Group 845"/>
                    <p:cNvGrpSpPr/>
                    <p:nvPr/>
                  </p:nvGrpSpPr>
                  <p:grpSpPr>
                    <a:xfrm>
                      <a:off x="1836720" y="1643760"/>
                      <a:ext cx="538560" cy="452160"/>
                      <a:chOff x="1836720" y="1643760"/>
                      <a:chExt cx="538560" cy="452160"/>
                    </a:xfrm>
                  </p:grpSpPr>
                  <p:grpSp>
                    <p:nvGrpSpPr>
                      <p:cNvPr id="462" name="Group 855"/>
                      <p:cNvGrpSpPr/>
                      <p:nvPr/>
                    </p:nvGrpSpPr>
                    <p:grpSpPr>
                      <a:xfrm>
                        <a:off x="1836720" y="1643760"/>
                        <a:ext cx="355320" cy="375120"/>
                        <a:chOff x="1836720" y="1643760"/>
                        <a:chExt cx="355320" cy="375120"/>
                      </a:xfrm>
                    </p:grpSpPr>
                    <p:sp>
                      <p:nvSpPr>
                        <p:cNvPr id="463" name="Freeform 8"/>
                        <p:cNvSpPr/>
                        <p:nvPr/>
                      </p:nvSpPr>
                      <p:spPr>
                        <a:xfrm>
                          <a:off x="1836720" y="164376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64" name="Freeform 9"/>
                        <p:cNvSpPr/>
                        <p:nvPr/>
                      </p:nvSpPr>
                      <p:spPr>
                        <a:xfrm>
                          <a:off x="1836720" y="171828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65" name="Freeform 10"/>
                        <p:cNvSpPr/>
                        <p:nvPr/>
                      </p:nvSpPr>
                      <p:spPr>
                        <a:xfrm>
                          <a:off x="2014560" y="171828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466" name="Group 856"/>
                      <p:cNvGrpSpPr/>
                      <p:nvPr/>
                    </p:nvGrpSpPr>
                    <p:grpSpPr>
                      <a:xfrm>
                        <a:off x="2019960" y="1720440"/>
                        <a:ext cx="355320" cy="375480"/>
                        <a:chOff x="2019960" y="1720440"/>
                        <a:chExt cx="355320" cy="375480"/>
                      </a:xfrm>
                    </p:grpSpPr>
                    <p:sp>
                      <p:nvSpPr>
                        <p:cNvPr id="467" name="Freeform 8"/>
                        <p:cNvSpPr/>
                        <p:nvPr/>
                      </p:nvSpPr>
                      <p:spPr>
                        <a:xfrm>
                          <a:off x="2019960" y="172044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68" name="Freeform 9"/>
                        <p:cNvSpPr/>
                        <p:nvPr/>
                      </p:nvSpPr>
                      <p:spPr>
                        <a:xfrm>
                          <a:off x="2019960" y="179532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69" name="Freeform 10"/>
                        <p:cNvSpPr/>
                        <p:nvPr/>
                      </p:nvSpPr>
                      <p:spPr>
                        <a:xfrm>
                          <a:off x="2197800" y="179532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nvGrpSpPr>
                    <p:cNvPr id="470" name="Group 846"/>
                    <p:cNvGrpSpPr/>
                    <p:nvPr/>
                  </p:nvGrpSpPr>
                  <p:grpSpPr>
                    <a:xfrm>
                      <a:off x="1836720" y="1412640"/>
                      <a:ext cx="538560" cy="451800"/>
                      <a:chOff x="1836720" y="1412640"/>
                      <a:chExt cx="538560" cy="451800"/>
                    </a:xfrm>
                  </p:grpSpPr>
                  <p:grpSp>
                    <p:nvGrpSpPr>
                      <p:cNvPr id="471" name="Group 847"/>
                      <p:cNvGrpSpPr/>
                      <p:nvPr/>
                    </p:nvGrpSpPr>
                    <p:grpSpPr>
                      <a:xfrm>
                        <a:off x="1836720" y="1412640"/>
                        <a:ext cx="355320" cy="375120"/>
                        <a:chOff x="1836720" y="1412640"/>
                        <a:chExt cx="355320" cy="375120"/>
                      </a:xfrm>
                    </p:grpSpPr>
                    <p:sp>
                      <p:nvSpPr>
                        <p:cNvPr id="472" name="Freeform 8"/>
                        <p:cNvSpPr/>
                        <p:nvPr/>
                      </p:nvSpPr>
                      <p:spPr>
                        <a:xfrm>
                          <a:off x="1836720" y="141264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73" name="Freeform 9"/>
                        <p:cNvSpPr/>
                        <p:nvPr/>
                      </p:nvSpPr>
                      <p:spPr>
                        <a:xfrm>
                          <a:off x="1836720" y="148716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74" name="Freeform 10"/>
                        <p:cNvSpPr/>
                        <p:nvPr/>
                      </p:nvSpPr>
                      <p:spPr>
                        <a:xfrm>
                          <a:off x="2014560" y="148716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475" name="Group 848"/>
                      <p:cNvGrpSpPr/>
                      <p:nvPr/>
                    </p:nvGrpSpPr>
                    <p:grpSpPr>
                      <a:xfrm>
                        <a:off x="2019960" y="1489320"/>
                        <a:ext cx="355320" cy="375120"/>
                        <a:chOff x="2019960" y="1489320"/>
                        <a:chExt cx="355320" cy="375120"/>
                      </a:xfrm>
                    </p:grpSpPr>
                    <p:sp>
                      <p:nvSpPr>
                        <p:cNvPr id="476" name="Freeform 8"/>
                        <p:cNvSpPr/>
                        <p:nvPr/>
                      </p:nvSpPr>
                      <p:spPr>
                        <a:xfrm>
                          <a:off x="2019960" y="148932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77" name="Freeform 9"/>
                        <p:cNvSpPr/>
                        <p:nvPr/>
                      </p:nvSpPr>
                      <p:spPr>
                        <a:xfrm>
                          <a:off x="2019960" y="156384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78" name="Freeform 10"/>
                        <p:cNvSpPr/>
                        <p:nvPr/>
                      </p:nvSpPr>
                      <p:spPr>
                        <a:xfrm>
                          <a:off x="2197800" y="156384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grpSp>
            <p:grpSp>
              <p:nvGrpSpPr>
                <p:cNvPr id="479" name="Group 804"/>
                <p:cNvGrpSpPr/>
                <p:nvPr/>
              </p:nvGrpSpPr>
              <p:grpSpPr>
                <a:xfrm>
                  <a:off x="1836720" y="872640"/>
                  <a:ext cx="721800" cy="760680"/>
                  <a:chOff x="1836720" y="872640"/>
                  <a:chExt cx="721800" cy="760680"/>
                </a:xfrm>
              </p:grpSpPr>
              <p:grpSp>
                <p:nvGrpSpPr>
                  <p:cNvPr id="480" name="Group 805"/>
                  <p:cNvGrpSpPr/>
                  <p:nvPr/>
                </p:nvGrpSpPr>
                <p:grpSpPr>
                  <a:xfrm>
                    <a:off x="2019960" y="872640"/>
                    <a:ext cx="538560" cy="683280"/>
                    <a:chOff x="2019960" y="872640"/>
                    <a:chExt cx="538560" cy="683280"/>
                  </a:xfrm>
                </p:grpSpPr>
                <p:grpSp>
                  <p:nvGrpSpPr>
                    <p:cNvPr id="481" name="Group 825"/>
                    <p:cNvGrpSpPr/>
                    <p:nvPr/>
                  </p:nvGrpSpPr>
                  <p:grpSpPr>
                    <a:xfrm>
                      <a:off x="2019960" y="1103760"/>
                      <a:ext cx="538560" cy="452160"/>
                      <a:chOff x="2019960" y="1103760"/>
                      <a:chExt cx="538560" cy="452160"/>
                    </a:xfrm>
                  </p:grpSpPr>
                  <p:grpSp>
                    <p:nvGrpSpPr>
                      <p:cNvPr id="482" name="Group 835"/>
                      <p:cNvGrpSpPr/>
                      <p:nvPr/>
                    </p:nvGrpSpPr>
                    <p:grpSpPr>
                      <a:xfrm>
                        <a:off x="2019960" y="1103760"/>
                        <a:ext cx="355320" cy="375120"/>
                        <a:chOff x="2019960" y="1103760"/>
                        <a:chExt cx="355320" cy="375120"/>
                      </a:xfrm>
                    </p:grpSpPr>
                    <p:sp>
                      <p:nvSpPr>
                        <p:cNvPr id="483" name="Freeform 8"/>
                        <p:cNvSpPr/>
                        <p:nvPr/>
                      </p:nvSpPr>
                      <p:spPr>
                        <a:xfrm>
                          <a:off x="2019960" y="110376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84" name="Freeform 9"/>
                        <p:cNvSpPr/>
                        <p:nvPr/>
                      </p:nvSpPr>
                      <p:spPr>
                        <a:xfrm>
                          <a:off x="2019960" y="117828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85" name="Freeform 10"/>
                        <p:cNvSpPr/>
                        <p:nvPr/>
                      </p:nvSpPr>
                      <p:spPr>
                        <a:xfrm>
                          <a:off x="2197800" y="117828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486" name="Group 836"/>
                      <p:cNvGrpSpPr/>
                      <p:nvPr/>
                    </p:nvGrpSpPr>
                    <p:grpSpPr>
                      <a:xfrm>
                        <a:off x="2203200" y="1180440"/>
                        <a:ext cx="355320" cy="375480"/>
                        <a:chOff x="2203200" y="1180440"/>
                        <a:chExt cx="355320" cy="375480"/>
                      </a:xfrm>
                    </p:grpSpPr>
                    <p:sp>
                      <p:nvSpPr>
                        <p:cNvPr id="487" name="Freeform 8"/>
                        <p:cNvSpPr/>
                        <p:nvPr/>
                      </p:nvSpPr>
                      <p:spPr>
                        <a:xfrm>
                          <a:off x="2203200" y="118044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88" name="Freeform 9"/>
                        <p:cNvSpPr/>
                        <p:nvPr/>
                      </p:nvSpPr>
                      <p:spPr>
                        <a:xfrm>
                          <a:off x="2203200" y="125532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89" name="Freeform 10"/>
                        <p:cNvSpPr/>
                        <p:nvPr/>
                      </p:nvSpPr>
                      <p:spPr>
                        <a:xfrm>
                          <a:off x="2381040" y="125532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nvGrpSpPr>
                    <p:cNvPr id="490" name="Group 826"/>
                    <p:cNvGrpSpPr/>
                    <p:nvPr/>
                  </p:nvGrpSpPr>
                  <p:grpSpPr>
                    <a:xfrm>
                      <a:off x="2019960" y="872640"/>
                      <a:ext cx="538560" cy="451800"/>
                      <a:chOff x="2019960" y="872640"/>
                      <a:chExt cx="538560" cy="451800"/>
                    </a:xfrm>
                  </p:grpSpPr>
                  <p:grpSp>
                    <p:nvGrpSpPr>
                      <p:cNvPr id="491" name="Group 827"/>
                      <p:cNvGrpSpPr/>
                      <p:nvPr/>
                    </p:nvGrpSpPr>
                    <p:grpSpPr>
                      <a:xfrm>
                        <a:off x="2019960" y="872640"/>
                        <a:ext cx="355320" cy="375120"/>
                        <a:chOff x="2019960" y="872640"/>
                        <a:chExt cx="355320" cy="375120"/>
                      </a:xfrm>
                    </p:grpSpPr>
                    <p:sp>
                      <p:nvSpPr>
                        <p:cNvPr id="492" name="Freeform 8"/>
                        <p:cNvSpPr/>
                        <p:nvPr/>
                      </p:nvSpPr>
                      <p:spPr>
                        <a:xfrm>
                          <a:off x="2019960" y="87264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93" name="Freeform 9"/>
                        <p:cNvSpPr/>
                        <p:nvPr/>
                      </p:nvSpPr>
                      <p:spPr>
                        <a:xfrm>
                          <a:off x="2019960" y="94716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94" name="Freeform 10"/>
                        <p:cNvSpPr/>
                        <p:nvPr/>
                      </p:nvSpPr>
                      <p:spPr>
                        <a:xfrm>
                          <a:off x="2197800" y="94716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495" name="Group 828"/>
                      <p:cNvGrpSpPr/>
                      <p:nvPr/>
                    </p:nvGrpSpPr>
                    <p:grpSpPr>
                      <a:xfrm>
                        <a:off x="2203200" y="949320"/>
                        <a:ext cx="355320" cy="375120"/>
                        <a:chOff x="2203200" y="949320"/>
                        <a:chExt cx="355320" cy="375120"/>
                      </a:xfrm>
                    </p:grpSpPr>
                    <p:sp>
                      <p:nvSpPr>
                        <p:cNvPr id="496" name="Freeform 8"/>
                        <p:cNvSpPr/>
                        <p:nvPr/>
                      </p:nvSpPr>
                      <p:spPr>
                        <a:xfrm>
                          <a:off x="2203200" y="94932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97" name="Freeform 9"/>
                        <p:cNvSpPr/>
                        <p:nvPr/>
                      </p:nvSpPr>
                      <p:spPr>
                        <a:xfrm>
                          <a:off x="2203200" y="102384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498" name="Freeform 10"/>
                        <p:cNvSpPr/>
                        <p:nvPr/>
                      </p:nvSpPr>
                      <p:spPr>
                        <a:xfrm>
                          <a:off x="2381040" y="102384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grpSp>
                <p:nvGrpSpPr>
                  <p:cNvPr id="499" name="Group 806"/>
                  <p:cNvGrpSpPr/>
                  <p:nvPr/>
                </p:nvGrpSpPr>
                <p:grpSpPr>
                  <a:xfrm>
                    <a:off x="1836720" y="950400"/>
                    <a:ext cx="538560" cy="682920"/>
                    <a:chOff x="1836720" y="950400"/>
                    <a:chExt cx="538560" cy="682920"/>
                  </a:xfrm>
                </p:grpSpPr>
                <p:grpSp>
                  <p:nvGrpSpPr>
                    <p:cNvPr id="500" name="Group 807"/>
                    <p:cNvGrpSpPr/>
                    <p:nvPr/>
                  </p:nvGrpSpPr>
                  <p:grpSpPr>
                    <a:xfrm>
                      <a:off x="1836720" y="1181520"/>
                      <a:ext cx="538560" cy="451800"/>
                      <a:chOff x="1836720" y="1181520"/>
                      <a:chExt cx="538560" cy="451800"/>
                    </a:xfrm>
                  </p:grpSpPr>
                  <p:grpSp>
                    <p:nvGrpSpPr>
                      <p:cNvPr id="501" name="Group 817"/>
                      <p:cNvGrpSpPr/>
                      <p:nvPr/>
                    </p:nvGrpSpPr>
                    <p:grpSpPr>
                      <a:xfrm>
                        <a:off x="1836720" y="1181520"/>
                        <a:ext cx="355320" cy="375120"/>
                        <a:chOff x="1836720" y="1181520"/>
                        <a:chExt cx="355320" cy="375120"/>
                      </a:xfrm>
                    </p:grpSpPr>
                    <p:sp>
                      <p:nvSpPr>
                        <p:cNvPr id="502" name="Freeform 8"/>
                        <p:cNvSpPr/>
                        <p:nvPr/>
                      </p:nvSpPr>
                      <p:spPr>
                        <a:xfrm>
                          <a:off x="1836720" y="118152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03" name="Freeform 9"/>
                        <p:cNvSpPr/>
                        <p:nvPr/>
                      </p:nvSpPr>
                      <p:spPr>
                        <a:xfrm>
                          <a:off x="1836720" y="125604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04" name="Freeform 10"/>
                        <p:cNvSpPr/>
                        <p:nvPr/>
                      </p:nvSpPr>
                      <p:spPr>
                        <a:xfrm>
                          <a:off x="2014560" y="125604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505" name="Group 818"/>
                      <p:cNvGrpSpPr/>
                      <p:nvPr/>
                    </p:nvGrpSpPr>
                    <p:grpSpPr>
                      <a:xfrm>
                        <a:off x="2019960" y="1258200"/>
                        <a:ext cx="355320" cy="375120"/>
                        <a:chOff x="2019960" y="1258200"/>
                        <a:chExt cx="355320" cy="375120"/>
                      </a:xfrm>
                    </p:grpSpPr>
                    <p:sp>
                      <p:nvSpPr>
                        <p:cNvPr id="506" name="Freeform 8"/>
                        <p:cNvSpPr/>
                        <p:nvPr/>
                      </p:nvSpPr>
                      <p:spPr>
                        <a:xfrm>
                          <a:off x="2019960" y="125820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07" name="Freeform 9"/>
                        <p:cNvSpPr/>
                        <p:nvPr/>
                      </p:nvSpPr>
                      <p:spPr>
                        <a:xfrm>
                          <a:off x="2019960" y="133272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08" name="Freeform 10"/>
                        <p:cNvSpPr/>
                        <p:nvPr/>
                      </p:nvSpPr>
                      <p:spPr>
                        <a:xfrm>
                          <a:off x="2197800" y="133272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nvGrpSpPr>
                    <p:cNvPr id="509" name="Group 808"/>
                    <p:cNvGrpSpPr/>
                    <p:nvPr/>
                  </p:nvGrpSpPr>
                  <p:grpSpPr>
                    <a:xfrm>
                      <a:off x="1836720" y="950400"/>
                      <a:ext cx="538560" cy="451800"/>
                      <a:chOff x="1836720" y="950400"/>
                      <a:chExt cx="538560" cy="451800"/>
                    </a:xfrm>
                  </p:grpSpPr>
                  <p:grpSp>
                    <p:nvGrpSpPr>
                      <p:cNvPr id="510" name="Group 809"/>
                      <p:cNvGrpSpPr/>
                      <p:nvPr/>
                    </p:nvGrpSpPr>
                    <p:grpSpPr>
                      <a:xfrm>
                        <a:off x="1836720" y="950400"/>
                        <a:ext cx="355320" cy="375120"/>
                        <a:chOff x="1836720" y="950400"/>
                        <a:chExt cx="355320" cy="375120"/>
                      </a:xfrm>
                    </p:grpSpPr>
                    <p:sp>
                      <p:nvSpPr>
                        <p:cNvPr id="511" name="Freeform 8"/>
                        <p:cNvSpPr/>
                        <p:nvPr/>
                      </p:nvSpPr>
                      <p:spPr>
                        <a:xfrm>
                          <a:off x="1836720" y="95040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12" name="Freeform 9"/>
                        <p:cNvSpPr/>
                        <p:nvPr/>
                      </p:nvSpPr>
                      <p:spPr>
                        <a:xfrm>
                          <a:off x="1836720" y="102492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13" name="Freeform 10"/>
                        <p:cNvSpPr/>
                        <p:nvPr/>
                      </p:nvSpPr>
                      <p:spPr>
                        <a:xfrm>
                          <a:off x="2014560" y="102492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514" name="Group 810"/>
                      <p:cNvGrpSpPr/>
                      <p:nvPr/>
                    </p:nvGrpSpPr>
                    <p:grpSpPr>
                      <a:xfrm>
                        <a:off x="2019960" y="1027080"/>
                        <a:ext cx="355320" cy="375120"/>
                        <a:chOff x="2019960" y="1027080"/>
                        <a:chExt cx="355320" cy="375120"/>
                      </a:xfrm>
                    </p:grpSpPr>
                    <p:sp>
                      <p:nvSpPr>
                        <p:cNvPr id="515" name="Freeform 8"/>
                        <p:cNvSpPr/>
                        <p:nvPr/>
                      </p:nvSpPr>
                      <p:spPr>
                        <a:xfrm>
                          <a:off x="2019960" y="102708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16" name="Freeform 9"/>
                        <p:cNvSpPr/>
                        <p:nvPr/>
                      </p:nvSpPr>
                      <p:spPr>
                        <a:xfrm>
                          <a:off x="2019960" y="110160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17" name="Freeform 10"/>
                        <p:cNvSpPr/>
                        <p:nvPr/>
                      </p:nvSpPr>
                      <p:spPr>
                        <a:xfrm>
                          <a:off x="2197800" y="110160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grpSp>
          </p:grpSp>
          <p:grpSp>
            <p:nvGrpSpPr>
              <p:cNvPr id="518" name="Group 978"/>
              <p:cNvGrpSpPr/>
              <p:nvPr/>
            </p:nvGrpSpPr>
            <p:grpSpPr>
              <a:xfrm>
                <a:off x="2203560" y="1487520"/>
                <a:ext cx="721800" cy="760680"/>
                <a:chOff x="2203560" y="1487520"/>
                <a:chExt cx="721800" cy="760680"/>
              </a:xfrm>
            </p:grpSpPr>
            <p:grpSp>
              <p:nvGrpSpPr>
                <p:cNvPr id="519" name="Group 1018"/>
                <p:cNvGrpSpPr/>
                <p:nvPr/>
              </p:nvGrpSpPr>
              <p:grpSpPr>
                <a:xfrm>
                  <a:off x="2386800" y="1487520"/>
                  <a:ext cx="538560" cy="683280"/>
                  <a:chOff x="2386800" y="1487520"/>
                  <a:chExt cx="538560" cy="683280"/>
                </a:xfrm>
              </p:grpSpPr>
              <p:grpSp>
                <p:nvGrpSpPr>
                  <p:cNvPr id="520" name="Group 1038"/>
                  <p:cNvGrpSpPr/>
                  <p:nvPr/>
                </p:nvGrpSpPr>
                <p:grpSpPr>
                  <a:xfrm>
                    <a:off x="2386800" y="1718640"/>
                    <a:ext cx="538560" cy="452160"/>
                    <a:chOff x="2386800" y="1718640"/>
                    <a:chExt cx="538560" cy="452160"/>
                  </a:xfrm>
                </p:grpSpPr>
                <p:grpSp>
                  <p:nvGrpSpPr>
                    <p:cNvPr id="521" name="Group 1048"/>
                    <p:cNvGrpSpPr/>
                    <p:nvPr/>
                  </p:nvGrpSpPr>
                  <p:grpSpPr>
                    <a:xfrm>
                      <a:off x="2386800" y="1718640"/>
                      <a:ext cx="355320" cy="375120"/>
                      <a:chOff x="2386800" y="1718640"/>
                      <a:chExt cx="355320" cy="375120"/>
                    </a:xfrm>
                  </p:grpSpPr>
                  <p:sp>
                    <p:nvSpPr>
                      <p:cNvPr id="522" name="Freeform 8"/>
                      <p:cNvSpPr/>
                      <p:nvPr/>
                    </p:nvSpPr>
                    <p:spPr>
                      <a:xfrm>
                        <a:off x="2386800" y="171864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23" name="Freeform 9"/>
                      <p:cNvSpPr/>
                      <p:nvPr/>
                    </p:nvSpPr>
                    <p:spPr>
                      <a:xfrm>
                        <a:off x="2386800" y="179316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24" name="Freeform 10"/>
                      <p:cNvSpPr/>
                      <p:nvPr/>
                    </p:nvSpPr>
                    <p:spPr>
                      <a:xfrm>
                        <a:off x="2564640" y="179316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525" name="Group 1049"/>
                    <p:cNvGrpSpPr/>
                    <p:nvPr/>
                  </p:nvGrpSpPr>
                  <p:grpSpPr>
                    <a:xfrm>
                      <a:off x="2570040" y="1795320"/>
                      <a:ext cx="355320" cy="375480"/>
                      <a:chOff x="2570040" y="1795320"/>
                      <a:chExt cx="355320" cy="375480"/>
                    </a:xfrm>
                  </p:grpSpPr>
                  <p:sp>
                    <p:nvSpPr>
                      <p:cNvPr id="526" name="Freeform 8"/>
                      <p:cNvSpPr/>
                      <p:nvPr/>
                    </p:nvSpPr>
                    <p:spPr>
                      <a:xfrm>
                        <a:off x="2570040" y="179532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27" name="Freeform 9"/>
                      <p:cNvSpPr/>
                      <p:nvPr/>
                    </p:nvSpPr>
                    <p:spPr>
                      <a:xfrm>
                        <a:off x="2570040" y="187020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28" name="Freeform 10"/>
                      <p:cNvSpPr/>
                      <p:nvPr/>
                    </p:nvSpPr>
                    <p:spPr>
                      <a:xfrm>
                        <a:off x="2747880" y="187020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nvGrpSpPr>
                  <p:cNvPr id="529" name="Group 1039"/>
                  <p:cNvGrpSpPr/>
                  <p:nvPr/>
                </p:nvGrpSpPr>
                <p:grpSpPr>
                  <a:xfrm>
                    <a:off x="2386800" y="1487520"/>
                    <a:ext cx="538560" cy="451800"/>
                    <a:chOff x="2386800" y="1487520"/>
                    <a:chExt cx="538560" cy="451800"/>
                  </a:xfrm>
                </p:grpSpPr>
                <p:grpSp>
                  <p:nvGrpSpPr>
                    <p:cNvPr id="530" name="Group 1040"/>
                    <p:cNvGrpSpPr/>
                    <p:nvPr/>
                  </p:nvGrpSpPr>
                  <p:grpSpPr>
                    <a:xfrm>
                      <a:off x="2386800" y="1487520"/>
                      <a:ext cx="355320" cy="375120"/>
                      <a:chOff x="2386800" y="1487520"/>
                      <a:chExt cx="355320" cy="375120"/>
                    </a:xfrm>
                  </p:grpSpPr>
                  <p:sp>
                    <p:nvSpPr>
                      <p:cNvPr id="531" name="Freeform 8"/>
                      <p:cNvSpPr/>
                      <p:nvPr/>
                    </p:nvSpPr>
                    <p:spPr>
                      <a:xfrm>
                        <a:off x="2386800" y="148752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32" name="Freeform 9"/>
                      <p:cNvSpPr/>
                      <p:nvPr/>
                    </p:nvSpPr>
                    <p:spPr>
                      <a:xfrm>
                        <a:off x="2386800" y="156204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33" name="Freeform 10"/>
                      <p:cNvSpPr/>
                      <p:nvPr/>
                    </p:nvSpPr>
                    <p:spPr>
                      <a:xfrm>
                        <a:off x="2564640" y="156204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534" name="Group 1041"/>
                    <p:cNvGrpSpPr/>
                    <p:nvPr/>
                  </p:nvGrpSpPr>
                  <p:grpSpPr>
                    <a:xfrm>
                      <a:off x="2570040" y="1564200"/>
                      <a:ext cx="355320" cy="375120"/>
                      <a:chOff x="2570040" y="1564200"/>
                      <a:chExt cx="355320" cy="375120"/>
                    </a:xfrm>
                  </p:grpSpPr>
                  <p:sp>
                    <p:nvSpPr>
                      <p:cNvPr id="535" name="Freeform 8"/>
                      <p:cNvSpPr/>
                      <p:nvPr/>
                    </p:nvSpPr>
                    <p:spPr>
                      <a:xfrm>
                        <a:off x="2570040" y="156420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36" name="Freeform 9"/>
                      <p:cNvSpPr/>
                      <p:nvPr/>
                    </p:nvSpPr>
                    <p:spPr>
                      <a:xfrm>
                        <a:off x="2570040" y="163872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37" name="Freeform 10"/>
                      <p:cNvSpPr/>
                      <p:nvPr/>
                    </p:nvSpPr>
                    <p:spPr>
                      <a:xfrm>
                        <a:off x="2747880" y="163872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grpSp>
              <p:nvGrpSpPr>
                <p:cNvPr id="538" name="Group 1019"/>
                <p:cNvGrpSpPr/>
                <p:nvPr/>
              </p:nvGrpSpPr>
              <p:grpSpPr>
                <a:xfrm>
                  <a:off x="2203560" y="1565280"/>
                  <a:ext cx="538560" cy="682920"/>
                  <a:chOff x="2203560" y="1565280"/>
                  <a:chExt cx="538560" cy="682920"/>
                </a:xfrm>
              </p:grpSpPr>
              <p:grpSp>
                <p:nvGrpSpPr>
                  <p:cNvPr id="539" name="Group 1020"/>
                  <p:cNvGrpSpPr/>
                  <p:nvPr/>
                </p:nvGrpSpPr>
                <p:grpSpPr>
                  <a:xfrm>
                    <a:off x="2203560" y="1796400"/>
                    <a:ext cx="538560" cy="451800"/>
                    <a:chOff x="2203560" y="1796400"/>
                    <a:chExt cx="538560" cy="451800"/>
                  </a:xfrm>
                </p:grpSpPr>
                <p:grpSp>
                  <p:nvGrpSpPr>
                    <p:cNvPr id="540" name="Group 1030"/>
                    <p:cNvGrpSpPr/>
                    <p:nvPr/>
                  </p:nvGrpSpPr>
                  <p:grpSpPr>
                    <a:xfrm>
                      <a:off x="2203560" y="1796400"/>
                      <a:ext cx="355320" cy="375120"/>
                      <a:chOff x="2203560" y="1796400"/>
                      <a:chExt cx="355320" cy="375120"/>
                    </a:xfrm>
                  </p:grpSpPr>
                  <p:sp>
                    <p:nvSpPr>
                      <p:cNvPr id="541" name="Freeform 8"/>
                      <p:cNvSpPr/>
                      <p:nvPr/>
                    </p:nvSpPr>
                    <p:spPr>
                      <a:xfrm>
                        <a:off x="2203560" y="179640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42" name="Freeform 9"/>
                      <p:cNvSpPr/>
                      <p:nvPr/>
                    </p:nvSpPr>
                    <p:spPr>
                      <a:xfrm>
                        <a:off x="2203560" y="187092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43" name="Freeform 10"/>
                      <p:cNvSpPr/>
                      <p:nvPr/>
                    </p:nvSpPr>
                    <p:spPr>
                      <a:xfrm>
                        <a:off x="2381400" y="187092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544" name="Group 1031"/>
                    <p:cNvGrpSpPr/>
                    <p:nvPr/>
                  </p:nvGrpSpPr>
                  <p:grpSpPr>
                    <a:xfrm>
                      <a:off x="2386800" y="1873080"/>
                      <a:ext cx="355320" cy="375120"/>
                      <a:chOff x="2386800" y="1873080"/>
                      <a:chExt cx="355320" cy="375120"/>
                    </a:xfrm>
                  </p:grpSpPr>
                  <p:sp>
                    <p:nvSpPr>
                      <p:cNvPr id="545" name="Freeform 8"/>
                      <p:cNvSpPr/>
                      <p:nvPr/>
                    </p:nvSpPr>
                    <p:spPr>
                      <a:xfrm>
                        <a:off x="2386800" y="187308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46" name="Freeform 9"/>
                      <p:cNvSpPr/>
                      <p:nvPr/>
                    </p:nvSpPr>
                    <p:spPr>
                      <a:xfrm>
                        <a:off x="2386800" y="194760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47" name="Freeform 10"/>
                      <p:cNvSpPr/>
                      <p:nvPr/>
                    </p:nvSpPr>
                    <p:spPr>
                      <a:xfrm>
                        <a:off x="2564640" y="194760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nvGrpSpPr>
                  <p:cNvPr id="548" name="Group 1021"/>
                  <p:cNvGrpSpPr/>
                  <p:nvPr/>
                </p:nvGrpSpPr>
                <p:grpSpPr>
                  <a:xfrm>
                    <a:off x="2203560" y="1565280"/>
                    <a:ext cx="538560" cy="451800"/>
                    <a:chOff x="2203560" y="1565280"/>
                    <a:chExt cx="538560" cy="451800"/>
                  </a:xfrm>
                </p:grpSpPr>
                <p:grpSp>
                  <p:nvGrpSpPr>
                    <p:cNvPr id="549" name="Group 1022"/>
                    <p:cNvGrpSpPr/>
                    <p:nvPr/>
                  </p:nvGrpSpPr>
                  <p:grpSpPr>
                    <a:xfrm>
                      <a:off x="2203560" y="1565280"/>
                      <a:ext cx="355320" cy="375120"/>
                      <a:chOff x="2203560" y="1565280"/>
                      <a:chExt cx="355320" cy="375120"/>
                    </a:xfrm>
                  </p:grpSpPr>
                  <p:sp>
                    <p:nvSpPr>
                      <p:cNvPr id="550" name="Freeform 8"/>
                      <p:cNvSpPr/>
                      <p:nvPr/>
                    </p:nvSpPr>
                    <p:spPr>
                      <a:xfrm>
                        <a:off x="2203560" y="156528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51" name="Freeform 9"/>
                      <p:cNvSpPr/>
                      <p:nvPr/>
                    </p:nvSpPr>
                    <p:spPr>
                      <a:xfrm>
                        <a:off x="2203560" y="163980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52" name="Freeform 10"/>
                      <p:cNvSpPr/>
                      <p:nvPr/>
                    </p:nvSpPr>
                    <p:spPr>
                      <a:xfrm>
                        <a:off x="2381400" y="163980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553" name="Group 1023"/>
                    <p:cNvGrpSpPr/>
                    <p:nvPr/>
                  </p:nvGrpSpPr>
                  <p:grpSpPr>
                    <a:xfrm>
                      <a:off x="2386800" y="1641960"/>
                      <a:ext cx="355320" cy="375120"/>
                      <a:chOff x="2386800" y="1641960"/>
                      <a:chExt cx="355320" cy="375120"/>
                    </a:xfrm>
                  </p:grpSpPr>
                  <p:sp>
                    <p:nvSpPr>
                      <p:cNvPr id="554" name="Freeform 8"/>
                      <p:cNvSpPr/>
                      <p:nvPr/>
                    </p:nvSpPr>
                    <p:spPr>
                      <a:xfrm>
                        <a:off x="2386800" y="164196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55" name="Freeform 9"/>
                      <p:cNvSpPr/>
                      <p:nvPr/>
                    </p:nvSpPr>
                    <p:spPr>
                      <a:xfrm>
                        <a:off x="2386800" y="171648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56" name="Freeform 10"/>
                      <p:cNvSpPr/>
                      <p:nvPr/>
                    </p:nvSpPr>
                    <p:spPr>
                      <a:xfrm>
                        <a:off x="2564640" y="171648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grpSp>
          <p:grpSp>
            <p:nvGrpSpPr>
              <p:cNvPr id="557" name="Group 979"/>
              <p:cNvGrpSpPr/>
              <p:nvPr/>
            </p:nvGrpSpPr>
            <p:grpSpPr>
              <a:xfrm>
                <a:off x="2203560" y="1025280"/>
                <a:ext cx="721800" cy="760680"/>
                <a:chOff x="2203560" y="1025280"/>
                <a:chExt cx="721800" cy="760680"/>
              </a:xfrm>
            </p:grpSpPr>
            <p:grpSp>
              <p:nvGrpSpPr>
                <p:cNvPr id="558" name="Group 980"/>
                <p:cNvGrpSpPr/>
                <p:nvPr/>
              </p:nvGrpSpPr>
              <p:grpSpPr>
                <a:xfrm>
                  <a:off x="2386800" y="1025280"/>
                  <a:ext cx="538560" cy="682920"/>
                  <a:chOff x="2386800" y="1025280"/>
                  <a:chExt cx="538560" cy="682920"/>
                </a:xfrm>
              </p:grpSpPr>
              <p:grpSp>
                <p:nvGrpSpPr>
                  <p:cNvPr id="559" name="Group 1000"/>
                  <p:cNvGrpSpPr/>
                  <p:nvPr/>
                </p:nvGrpSpPr>
                <p:grpSpPr>
                  <a:xfrm>
                    <a:off x="2386800" y="1256400"/>
                    <a:ext cx="538560" cy="451800"/>
                    <a:chOff x="2386800" y="1256400"/>
                    <a:chExt cx="538560" cy="451800"/>
                  </a:xfrm>
                </p:grpSpPr>
                <p:grpSp>
                  <p:nvGrpSpPr>
                    <p:cNvPr id="560" name="Group 1010"/>
                    <p:cNvGrpSpPr/>
                    <p:nvPr/>
                  </p:nvGrpSpPr>
                  <p:grpSpPr>
                    <a:xfrm>
                      <a:off x="2386800" y="1256400"/>
                      <a:ext cx="355320" cy="375120"/>
                      <a:chOff x="2386800" y="1256400"/>
                      <a:chExt cx="355320" cy="375120"/>
                    </a:xfrm>
                  </p:grpSpPr>
                  <p:sp>
                    <p:nvSpPr>
                      <p:cNvPr id="561" name="Freeform 8"/>
                      <p:cNvSpPr/>
                      <p:nvPr/>
                    </p:nvSpPr>
                    <p:spPr>
                      <a:xfrm>
                        <a:off x="2386800" y="125640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62" name="Freeform 9"/>
                      <p:cNvSpPr/>
                      <p:nvPr/>
                    </p:nvSpPr>
                    <p:spPr>
                      <a:xfrm>
                        <a:off x="2386800" y="133092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63" name="Freeform 10"/>
                      <p:cNvSpPr/>
                      <p:nvPr/>
                    </p:nvSpPr>
                    <p:spPr>
                      <a:xfrm>
                        <a:off x="2564640" y="133092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564" name="Group 1011"/>
                    <p:cNvGrpSpPr/>
                    <p:nvPr/>
                  </p:nvGrpSpPr>
                  <p:grpSpPr>
                    <a:xfrm>
                      <a:off x="2570040" y="1333080"/>
                      <a:ext cx="355320" cy="375120"/>
                      <a:chOff x="2570040" y="1333080"/>
                      <a:chExt cx="355320" cy="375120"/>
                    </a:xfrm>
                  </p:grpSpPr>
                  <p:sp>
                    <p:nvSpPr>
                      <p:cNvPr id="565" name="Freeform 8"/>
                      <p:cNvSpPr/>
                      <p:nvPr/>
                    </p:nvSpPr>
                    <p:spPr>
                      <a:xfrm>
                        <a:off x="2570040" y="133308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66" name="Freeform 9"/>
                      <p:cNvSpPr/>
                      <p:nvPr/>
                    </p:nvSpPr>
                    <p:spPr>
                      <a:xfrm>
                        <a:off x="2570040" y="140760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67" name="Freeform 10"/>
                      <p:cNvSpPr/>
                      <p:nvPr/>
                    </p:nvSpPr>
                    <p:spPr>
                      <a:xfrm>
                        <a:off x="2747880" y="140760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nvGrpSpPr>
                  <p:cNvPr id="568" name="Group 1001"/>
                  <p:cNvGrpSpPr/>
                  <p:nvPr/>
                </p:nvGrpSpPr>
                <p:grpSpPr>
                  <a:xfrm>
                    <a:off x="2386800" y="1025280"/>
                    <a:ext cx="538560" cy="451800"/>
                    <a:chOff x="2386800" y="1025280"/>
                    <a:chExt cx="538560" cy="451800"/>
                  </a:xfrm>
                </p:grpSpPr>
                <p:grpSp>
                  <p:nvGrpSpPr>
                    <p:cNvPr id="569" name="Group 1002"/>
                    <p:cNvGrpSpPr/>
                    <p:nvPr/>
                  </p:nvGrpSpPr>
                  <p:grpSpPr>
                    <a:xfrm>
                      <a:off x="2386800" y="1025280"/>
                      <a:ext cx="355320" cy="375120"/>
                      <a:chOff x="2386800" y="1025280"/>
                      <a:chExt cx="355320" cy="375120"/>
                    </a:xfrm>
                  </p:grpSpPr>
                  <p:sp>
                    <p:nvSpPr>
                      <p:cNvPr id="570" name="Freeform 8"/>
                      <p:cNvSpPr/>
                      <p:nvPr/>
                    </p:nvSpPr>
                    <p:spPr>
                      <a:xfrm>
                        <a:off x="2386800" y="102528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71" name="Freeform 9"/>
                      <p:cNvSpPr/>
                      <p:nvPr/>
                    </p:nvSpPr>
                    <p:spPr>
                      <a:xfrm>
                        <a:off x="2386800" y="109980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72" name="Freeform 10"/>
                      <p:cNvSpPr/>
                      <p:nvPr/>
                    </p:nvSpPr>
                    <p:spPr>
                      <a:xfrm>
                        <a:off x="2564640" y="109980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573" name="Group 1003"/>
                    <p:cNvGrpSpPr/>
                    <p:nvPr/>
                  </p:nvGrpSpPr>
                  <p:grpSpPr>
                    <a:xfrm>
                      <a:off x="2570040" y="1101960"/>
                      <a:ext cx="355320" cy="375120"/>
                      <a:chOff x="2570040" y="1101960"/>
                      <a:chExt cx="355320" cy="375120"/>
                    </a:xfrm>
                  </p:grpSpPr>
                  <p:sp>
                    <p:nvSpPr>
                      <p:cNvPr id="574" name="Freeform 8"/>
                      <p:cNvSpPr/>
                      <p:nvPr/>
                    </p:nvSpPr>
                    <p:spPr>
                      <a:xfrm>
                        <a:off x="2570040" y="110196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75" name="Freeform 9"/>
                      <p:cNvSpPr/>
                      <p:nvPr/>
                    </p:nvSpPr>
                    <p:spPr>
                      <a:xfrm>
                        <a:off x="2570040" y="117648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76" name="Freeform 10"/>
                      <p:cNvSpPr/>
                      <p:nvPr/>
                    </p:nvSpPr>
                    <p:spPr>
                      <a:xfrm>
                        <a:off x="2747880" y="117648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grpSp>
              <p:nvGrpSpPr>
                <p:cNvPr id="577" name="Group 981"/>
                <p:cNvGrpSpPr/>
                <p:nvPr/>
              </p:nvGrpSpPr>
              <p:grpSpPr>
                <a:xfrm>
                  <a:off x="2203560" y="1103040"/>
                  <a:ext cx="538560" cy="682920"/>
                  <a:chOff x="2203560" y="1103040"/>
                  <a:chExt cx="538560" cy="682920"/>
                </a:xfrm>
              </p:grpSpPr>
              <p:grpSp>
                <p:nvGrpSpPr>
                  <p:cNvPr id="578" name="Group 982"/>
                  <p:cNvGrpSpPr/>
                  <p:nvPr/>
                </p:nvGrpSpPr>
                <p:grpSpPr>
                  <a:xfrm>
                    <a:off x="2203560" y="1334160"/>
                    <a:ext cx="538560" cy="451800"/>
                    <a:chOff x="2203560" y="1334160"/>
                    <a:chExt cx="538560" cy="451800"/>
                  </a:xfrm>
                </p:grpSpPr>
                <p:grpSp>
                  <p:nvGrpSpPr>
                    <p:cNvPr id="579" name="Group 992"/>
                    <p:cNvGrpSpPr/>
                    <p:nvPr/>
                  </p:nvGrpSpPr>
                  <p:grpSpPr>
                    <a:xfrm>
                      <a:off x="2203560" y="1334160"/>
                      <a:ext cx="355320" cy="375120"/>
                      <a:chOff x="2203560" y="1334160"/>
                      <a:chExt cx="355320" cy="375120"/>
                    </a:xfrm>
                  </p:grpSpPr>
                  <p:sp>
                    <p:nvSpPr>
                      <p:cNvPr id="580" name="Freeform 8"/>
                      <p:cNvSpPr/>
                      <p:nvPr/>
                    </p:nvSpPr>
                    <p:spPr>
                      <a:xfrm>
                        <a:off x="2203560" y="133416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81" name="Freeform 9"/>
                      <p:cNvSpPr/>
                      <p:nvPr/>
                    </p:nvSpPr>
                    <p:spPr>
                      <a:xfrm>
                        <a:off x="2203560" y="140868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82" name="Freeform 10"/>
                      <p:cNvSpPr/>
                      <p:nvPr/>
                    </p:nvSpPr>
                    <p:spPr>
                      <a:xfrm>
                        <a:off x="2381400" y="140868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583" name="Group 993"/>
                    <p:cNvGrpSpPr/>
                    <p:nvPr/>
                  </p:nvGrpSpPr>
                  <p:grpSpPr>
                    <a:xfrm>
                      <a:off x="2386800" y="1410840"/>
                      <a:ext cx="355320" cy="375120"/>
                      <a:chOff x="2386800" y="1410840"/>
                      <a:chExt cx="355320" cy="375120"/>
                    </a:xfrm>
                  </p:grpSpPr>
                  <p:sp>
                    <p:nvSpPr>
                      <p:cNvPr id="584" name="Freeform 8"/>
                      <p:cNvSpPr/>
                      <p:nvPr/>
                    </p:nvSpPr>
                    <p:spPr>
                      <a:xfrm>
                        <a:off x="2386800" y="141084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85" name="Freeform 9"/>
                      <p:cNvSpPr/>
                      <p:nvPr/>
                    </p:nvSpPr>
                    <p:spPr>
                      <a:xfrm>
                        <a:off x="2386800" y="148536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86" name="Freeform 10"/>
                      <p:cNvSpPr/>
                      <p:nvPr/>
                    </p:nvSpPr>
                    <p:spPr>
                      <a:xfrm>
                        <a:off x="2564640" y="148536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nvGrpSpPr>
                  <p:cNvPr id="587" name="Group 983"/>
                  <p:cNvGrpSpPr/>
                  <p:nvPr/>
                </p:nvGrpSpPr>
                <p:grpSpPr>
                  <a:xfrm>
                    <a:off x="2203560" y="1103040"/>
                    <a:ext cx="538560" cy="451800"/>
                    <a:chOff x="2203560" y="1103040"/>
                    <a:chExt cx="538560" cy="451800"/>
                  </a:xfrm>
                </p:grpSpPr>
                <p:grpSp>
                  <p:nvGrpSpPr>
                    <p:cNvPr id="588" name="Group 984"/>
                    <p:cNvGrpSpPr/>
                    <p:nvPr/>
                  </p:nvGrpSpPr>
                  <p:grpSpPr>
                    <a:xfrm>
                      <a:off x="2203560" y="1103040"/>
                      <a:ext cx="355320" cy="375120"/>
                      <a:chOff x="2203560" y="1103040"/>
                      <a:chExt cx="355320" cy="375120"/>
                    </a:xfrm>
                  </p:grpSpPr>
                  <p:sp>
                    <p:nvSpPr>
                      <p:cNvPr id="589" name="Freeform 8"/>
                      <p:cNvSpPr/>
                      <p:nvPr/>
                    </p:nvSpPr>
                    <p:spPr>
                      <a:xfrm>
                        <a:off x="2203560" y="110304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90" name="Freeform 9"/>
                      <p:cNvSpPr/>
                      <p:nvPr/>
                    </p:nvSpPr>
                    <p:spPr>
                      <a:xfrm>
                        <a:off x="2203560" y="117756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91" name="Freeform 10"/>
                      <p:cNvSpPr/>
                      <p:nvPr/>
                    </p:nvSpPr>
                    <p:spPr>
                      <a:xfrm>
                        <a:off x="2381400" y="117756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nvGrpSpPr>
                    <p:cNvPr id="592" name="Group 985"/>
                    <p:cNvGrpSpPr/>
                    <p:nvPr/>
                  </p:nvGrpSpPr>
                  <p:grpSpPr>
                    <a:xfrm>
                      <a:off x="2386800" y="1179720"/>
                      <a:ext cx="355320" cy="375120"/>
                      <a:chOff x="2386800" y="1179720"/>
                      <a:chExt cx="355320" cy="375120"/>
                    </a:xfrm>
                  </p:grpSpPr>
                  <p:sp>
                    <p:nvSpPr>
                      <p:cNvPr id="593" name="Freeform 8"/>
                      <p:cNvSpPr/>
                      <p:nvPr/>
                    </p:nvSpPr>
                    <p:spPr>
                      <a:xfrm>
                        <a:off x="2386800" y="1179720"/>
                        <a:ext cx="354960" cy="149040"/>
                      </a:xfrm>
                      <a:custGeom>
                        <a:avLst/>
                        <a:gdLst>
                          <a:gd name="textAreaLeft" fmla="*/ 0 w 354960"/>
                          <a:gd name="textAreaRight" fmla="*/ 355320 w 354960"/>
                          <a:gd name="textAreaTop" fmla="*/ 0 h 149040"/>
                          <a:gd name="textAreaBottom" fmla="*/ 149400 h 1490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f6efab"/>
                          </a:gs>
                          <a:gs pos="100000">
                            <a:srgbClr val="e2d15c"/>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94" name="Freeform 9"/>
                      <p:cNvSpPr/>
                      <p:nvPr/>
                    </p:nvSpPr>
                    <p:spPr>
                      <a:xfrm>
                        <a:off x="2386800" y="125424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cfc165"/>
                          </a:gs>
                          <a:gs pos="100000">
                            <a:srgbClr val="a5952a"/>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sp>
                    <p:nvSpPr>
                      <p:cNvPr id="595" name="Freeform 10"/>
                      <p:cNvSpPr/>
                      <p:nvPr/>
                    </p:nvSpPr>
                    <p:spPr>
                      <a:xfrm>
                        <a:off x="2564640" y="1254240"/>
                        <a:ext cx="177480" cy="300600"/>
                      </a:xfrm>
                      <a:custGeom>
                        <a:avLst/>
                        <a:gdLst>
                          <a:gd name="textAreaLeft" fmla="*/ 0 w 177480"/>
                          <a:gd name="textAreaRight" fmla="*/ 177840 w 177480"/>
                          <a:gd name="textAreaTop" fmla="*/ 0 h 300600"/>
                          <a:gd name="textAreaBottom" fmla="*/ 300960 h 30060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7b6b1f"/>
                          </a:gs>
                          <a:gs pos="100000">
                            <a:srgbClr val="2c2306"/>
                          </a:gs>
                        </a:gsLst>
                        <a:lin ang="2700000"/>
                      </a:gradFill>
                      <a:ln w="9525">
                        <a:noFill/>
                      </a:ln>
                    </p:spPr>
                    <p:style>
                      <a:lnRef idx="0"/>
                      <a:fillRef idx="0"/>
                      <a:effectRef idx="0"/>
                      <a:fontRef idx="minor"/>
                    </p:style>
                    <p:txBody>
                      <a:bodyPr lIns="18360" rIns="18360" tIns="18360" bIns="18360" anchor="ctr">
                        <a:noAutofit/>
                      </a:bodyPr>
                      <a:p>
                        <a:pPr algn="ctr">
                          <a:lnSpc>
                            <a:spcPct val="85000"/>
                          </a:lnSpc>
                          <a:spcBef>
                            <a:spcPts val="320"/>
                          </a:spcBef>
                        </a:pPr>
                        <a:endParaRPr b="1" lang="en-US" sz="1600" spc="-1" strike="noStrike">
                          <a:solidFill>
                            <a:srgbClr val="000000"/>
                          </a:solidFill>
                          <a:latin typeface="Arial Narrow"/>
                        </a:endParaRPr>
                      </a:p>
                    </p:txBody>
                  </p:sp>
                </p:grpSp>
              </p:grpSp>
            </p:grpSp>
          </p:grpSp>
        </p:grpSp>
        <p:sp>
          <p:nvSpPr>
            <p:cNvPr id="596" name="AutoShape 110"/>
            <p:cNvSpPr/>
            <p:nvPr/>
          </p:nvSpPr>
          <p:spPr>
            <a:xfrm rot="5400000">
              <a:off x="2232360" y="2022120"/>
              <a:ext cx="664560" cy="502920"/>
            </a:xfrm>
            <a:prstGeom prst="rightArrow">
              <a:avLst>
                <a:gd name="adj1" fmla="val 55843"/>
                <a:gd name="adj2" fmla="val 49879"/>
              </a:avLst>
            </a:prstGeom>
            <a:gradFill rotWithShape="0">
              <a:gsLst>
                <a:gs pos="0">
                  <a:srgbClr val="ffffff">
                    <a:alpha val="0"/>
                  </a:srgbClr>
                </a:gs>
                <a:gs pos="100000">
                  <a:srgbClr val="5b431f"/>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TextBox 1"/>
          <p:cNvSpPr/>
          <p:nvPr/>
        </p:nvSpPr>
        <p:spPr>
          <a:xfrm>
            <a:off x="435960" y="19116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ffff00"/>
                </a:solidFill>
                <a:latin typeface="微软雅黑"/>
                <a:ea typeface="微软雅黑"/>
              </a:rPr>
              <a:t>添加目录</a:t>
            </a:r>
            <a:endParaRPr b="0" lang="en-US" sz="2800" spc="-1" strike="noStrike">
              <a:solidFill>
                <a:srgbClr val="ffffff"/>
              </a:solidFill>
              <a:latin typeface="Arial"/>
            </a:endParaRPr>
          </a:p>
        </p:txBody>
      </p:sp>
      <p:grpSp>
        <p:nvGrpSpPr>
          <p:cNvPr id="598" name="组合 548"/>
          <p:cNvGrpSpPr/>
          <p:nvPr/>
        </p:nvGrpSpPr>
        <p:grpSpPr>
          <a:xfrm>
            <a:off x="1071360" y="550800"/>
            <a:ext cx="7531920" cy="5092200"/>
            <a:chOff x="1071360" y="550800"/>
            <a:chExt cx="7531920" cy="5092200"/>
          </a:xfrm>
        </p:grpSpPr>
        <p:sp>
          <p:nvSpPr>
            <p:cNvPr id="599" name="AutoShape 110"/>
            <p:cNvSpPr/>
            <p:nvPr/>
          </p:nvSpPr>
          <p:spPr>
            <a:xfrm>
              <a:off x="1740600" y="1484640"/>
              <a:ext cx="3921120" cy="3151080"/>
            </a:xfrm>
            <a:prstGeom prst="rightArrow">
              <a:avLst>
                <a:gd name="adj1" fmla="val 55843"/>
                <a:gd name="adj2" fmla="val 34528"/>
              </a:avLst>
            </a:prstGeom>
            <a:gradFill rotWithShape="0">
              <a:gsLst>
                <a:gs pos="0">
                  <a:srgbClr val="ffffff">
                    <a:alpha val="0"/>
                  </a:srgbClr>
                </a:gs>
                <a:gs pos="100000">
                  <a:srgbClr val="f3d242"/>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600" name="Rectangle 70"/>
            <p:cNvSpPr/>
            <p:nvPr/>
          </p:nvSpPr>
          <p:spPr>
            <a:xfrm>
              <a:off x="3211200" y="2780280"/>
              <a:ext cx="2310480" cy="770040"/>
            </a:xfrm>
            <a:prstGeom prst="rect">
              <a:avLst/>
            </a:prstGeom>
            <a:noFill/>
            <a:ln w="9525">
              <a:noFill/>
            </a:ln>
          </p:spPr>
          <p:style>
            <a:lnRef idx="0"/>
            <a:fillRef idx="0"/>
            <a:effectRef idx="0"/>
            <a:fontRef idx="minor"/>
          </p:style>
          <p:txBody>
            <a:bodyPr lIns="45720" rIns="27360" tIns="18360" bIns="18360" anchor="t">
              <a:noAutofit/>
            </a:bodyPr>
            <a:p>
              <a:pPr algn="ctr">
                <a:lnSpc>
                  <a:spcPct val="85000"/>
                </a:lnSpc>
                <a:spcBef>
                  <a:spcPts val="201"/>
                </a:spcBef>
              </a:pPr>
              <a:r>
                <a:rPr b="0" i="1" lang="en-US" sz="3600" spc="-1" strike="noStrike">
                  <a:solidFill>
                    <a:srgbClr val="a27316"/>
                  </a:solidFill>
                  <a:latin typeface="Arial Narrow"/>
                </a:rPr>
                <a:t>Collaboration</a:t>
              </a:r>
              <a:endParaRPr b="0" lang="en-US" sz="3600" spc="-1" strike="noStrike">
                <a:solidFill>
                  <a:srgbClr val="ffffff"/>
                </a:solidFill>
                <a:latin typeface="Arial"/>
              </a:endParaRPr>
            </a:p>
          </p:txBody>
        </p:sp>
        <p:sp>
          <p:nvSpPr>
            <p:cNvPr id="601" name="Rectangle 42"/>
            <p:cNvSpPr/>
            <p:nvPr/>
          </p:nvSpPr>
          <p:spPr>
            <a:xfrm>
              <a:off x="5802480" y="1552320"/>
              <a:ext cx="2800800" cy="3713400"/>
            </a:xfrm>
            <a:prstGeom prst="rect">
              <a:avLst/>
            </a:prstGeom>
            <a:gradFill rotWithShape="0">
              <a:gsLst>
                <a:gs pos="0">
                  <a:srgbClr val="f9eeb1"/>
                </a:gs>
                <a:gs pos="100000">
                  <a:srgbClr val="ffffff">
                    <a:alpha val="0"/>
                  </a:srgbClr>
                </a:gs>
              </a:gsLst>
              <a:lin ang="5400000"/>
            </a:gradFill>
            <a:ln w="9525">
              <a:noFill/>
            </a:ln>
          </p:spPr>
          <p:style>
            <a:lnRef idx="0"/>
            <a:fillRef idx="0"/>
            <a:effectRef idx="0"/>
            <a:fontRef idx="minor"/>
          </p:style>
          <p:txBody>
            <a:bodyPr lIns="45720" rIns="27360" tIns="18360" bIns="18360" anchor="t">
              <a:noAutofit/>
            </a:bodyPr>
            <a:p>
              <a:pPr marL="228600" indent="-228600">
                <a:lnSpc>
                  <a:spcPct val="85000"/>
                </a:lnSpc>
                <a:spcBef>
                  <a:spcPts val="201"/>
                </a:spcBef>
                <a:buClr>
                  <a:srgbClr val="000000"/>
                </a:buClr>
                <a:buFont typeface="Symbol" charset="2"/>
                <a:buChar char=""/>
              </a:pPr>
              <a:r>
                <a:rPr b="0" lang="en-US" sz="1800" spc="-1" strike="noStrike">
                  <a:solidFill>
                    <a:srgbClr val="000000"/>
                  </a:solidFill>
                  <a:latin typeface="Arial Narrow"/>
                </a:rPr>
                <a:t>Place your content-specific text here</a:t>
              </a:r>
              <a:endParaRPr b="0" lang="en-US" sz="1800" spc="-1" strike="noStrike">
                <a:solidFill>
                  <a:srgbClr val="000000"/>
                </a:solidFill>
                <a:latin typeface="Arial"/>
              </a:endParaRPr>
            </a:p>
            <a:p>
              <a:pPr marL="228600" indent="-228600">
                <a:lnSpc>
                  <a:spcPct val="85000"/>
                </a:lnSpc>
                <a:spcBef>
                  <a:spcPts val="201"/>
                </a:spcBef>
                <a:buClr>
                  <a:srgbClr val="000000"/>
                </a:buClr>
                <a:buFont typeface="Symbol" charset="2"/>
                <a:buChar char=""/>
              </a:pPr>
              <a:r>
                <a:rPr b="0" lang="en-US" sz="1800" spc="-1" strike="noStrike">
                  <a:solidFill>
                    <a:srgbClr val="000000"/>
                  </a:solidFill>
                  <a:latin typeface="Arial Narrow"/>
                </a:rPr>
                <a:t>Your text can be placed here</a:t>
              </a:r>
              <a:endParaRPr b="0" lang="en-US" sz="1800" spc="-1" strike="noStrike">
                <a:solidFill>
                  <a:srgbClr val="000000"/>
                </a:solidFill>
                <a:latin typeface="Arial"/>
              </a:endParaRPr>
            </a:p>
            <a:p>
              <a:pPr marL="228600" indent="-228600">
                <a:lnSpc>
                  <a:spcPct val="85000"/>
                </a:lnSpc>
                <a:spcBef>
                  <a:spcPts val="201"/>
                </a:spcBef>
                <a:buClr>
                  <a:srgbClr val="000000"/>
                </a:buClr>
                <a:buFont typeface="Symbol" charset="2"/>
                <a:buChar char=""/>
              </a:pPr>
              <a:r>
                <a:rPr b="0" lang="en-US" sz="1800" spc="-1" strike="noStrike">
                  <a:solidFill>
                    <a:srgbClr val="000000"/>
                  </a:solidFill>
                  <a:latin typeface="Arial Narrow"/>
                </a:rPr>
                <a:t>Add your content here if needed</a:t>
              </a:r>
              <a:endParaRPr b="0" lang="en-US" sz="1800" spc="-1" strike="noStrike">
                <a:solidFill>
                  <a:srgbClr val="000000"/>
                </a:solidFill>
                <a:latin typeface="Arial"/>
              </a:endParaRPr>
            </a:p>
            <a:p>
              <a:pPr marL="228600" indent="-228600">
                <a:lnSpc>
                  <a:spcPct val="85000"/>
                </a:lnSpc>
                <a:spcBef>
                  <a:spcPts val="201"/>
                </a:spcBef>
                <a:buClr>
                  <a:srgbClr val="000000"/>
                </a:buClr>
                <a:buFont typeface="Symbol" charset="2"/>
                <a:buChar char=""/>
              </a:pPr>
              <a:r>
                <a:rPr b="0" lang="en-US" sz="1800" spc="-1" strike="noStrike">
                  <a:solidFill>
                    <a:srgbClr val="000000"/>
                  </a:solidFill>
                  <a:latin typeface="Arial Narrow"/>
                </a:rPr>
                <a:t>Place your content-specific text here</a:t>
              </a:r>
              <a:endParaRPr b="0" lang="en-US" sz="1800" spc="-1" strike="noStrike">
                <a:solidFill>
                  <a:srgbClr val="000000"/>
                </a:solidFill>
                <a:latin typeface="Arial"/>
              </a:endParaRPr>
            </a:p>
          </p:txBody>
        </p:sp>
        <p:sp>
          <p:nvSpPr>
            <p:cNvPr id="602" name="Rectangle 43"/>
            <p:cNvSpPr/>
            <p:nvPr/>
          </p:nvSpPr>
          <p:spPr>
            <a:xfrm>
              <a:off x="5802480" y="1204560"/>
              <a:ext cx="2800800" cy="349920"/>
            </a:xfrm>
            <a:prstGeom prst="rect">
              <a:avLst/>
            </a:prstGeom>
            <a:gradFill rotWithShape="0">
              <a:gsLst>
                <a:gs pos="0">
                  <a:srgbClr val="f1db8c"/>
                </a:gs>
                <a:gs pos="100000">
                  <a:srgbClr val="d6bf6b"/>
                </a:gs>
              </a:gsLst>
              <a:lin ang="2700000"/>
            </a:gradFill>
            <a:ln w="12700">
              <a:solidFill>
                <a:srgbClr val="8a6021"/>
              </a:solidFill>
              <a:miter/>
            </a:ln>
            <a:effectLst>
              <a:outerShdw algn="tl" blurRad="25560" dir="5400000" dist="12600" rotWithShape="0">
                <a:srgbClr val="000000">
                  <a:alpha val="20000"/>
                </a:srgbClr>
              </a:outerShdw>
            </a:effectLst>
            <a:scene3d>
              <a:camera prst="orthographicFront"/>
              <a:lightRig dir="t" rig="threePt"/>
            </a:scene3d>
            <a:sp3d>
              <a:bevelT w="38100" h="6350"/>
              <a:bevelB w="38100" h="6350"/>
              <a:extrusionClr>
                <a:schemeClr val="tx2">
                  <a:lumMod val="60000"/>
                  <a:lumOff val="40000"/>
                </a:schemeClr>
              </a:extrusionClr>
            </a:sp3d>
          </p:spPr>
          <p:style>
            <a:lnRef idx="0"/>
            <a:fillRef idx="0"/>
            <a:effectRef idx="0"/>
            <a:fontRef idx="minor"/>
          </p:style>
          <p:txBody>
            <a:bodyPr lIns="18360" rIns="18360" tIns="18360" bIns="18360" anchor="ctr" anchorCtr="1">
              <a:noAutofit/>
            </a:bodyPr>
            <a:p>
              <a:pPr algn="ctr">
                <a:lnSpc>
                  <a:spcPct val="85000"/>
                </a:lnSpc>
                <a:spcBef>
                  <a:spcPts val="20"/>
                </a:spcBef>
              </a:pPr>
              <a:r>
                <a:rPr b="0" lang="en-US" sz="2400" spc="-1" strike="noStrike">
                  <a:solidFill>
                    <a:srgbClr val="000000"/>
                  </a:solidFill>
                  <a:latin typeface="Arial Narrow"/>
                </a:rPr>
                <a:t>Outcome Here</a:t>
              </a:r>
              <a:endParaRPr b="0" lang="en-US" sz="2400" spc="-1" strike="noStrike">
                <a:solidFill>
                  <a:srgbClr val="000000"/>
                </a:solidFill>
                <a:latin typeface="Arial"/>
              </a:endParaRPr>
            </a:p>
          </p:txBody>
        </p:sp>
        <p:sp>
          <p:nvSpPr>
            <p:cNvPr id="603" name="Rectangle 171"/>
            <p:cNvSpPr/>
            <p:nvPr/>
          </p:nvSpPr>
          <p:spPr>
            <a:xfrm rot="10800000">
              <a:off x="7372440" y="3165480"/>
              <a:ext cx="519120" cy="1375920"/>
            </a:xfrm>
            <a:prstGeom prst="rect">
              <a:avLst/>
            </a:prstGeom>
            <a:gradFill rotWithShape="0">
              <a:gsLst>
                <a:gs pos="0">
                  <a:srgbClr val="f4df79"/>
                </a:gs>
                <a:gs pos="100000">
                  <a:srgbClr val="ffffff">
                    <a:alpha val="0"/>
                  </a:srgbClr>
                </a:gs>
              </a:gsLst>
              <a:lin ang="16200000"/>
            </a:gradFill>
            <a:ln w="9525">
              <a:noFill/>
            </a:ln>
          </p:spPr>
          <p:style>
            <a:lnRef idx="0"/>
            <a:fillRef idx="0"/>
            <a:effectRef idx="0"/>
            <a:fontRef idx="minor"/>
          </p:style>
          <p:txBody>
            <a:bodyPr lIns="45720" rIns="27360" tIns="18360" bIns="18360" anchor="t">
              <a:noAutofit/>
            </a:bodyPr>
            <a:p>
              <a:pPr>
                <a:lnSpc>
                  <a:spcPct val="85000"/>
                </a:lnSpc>
                <a:spcBef>
                  <a:spcPts val="201"/>
                </a:spcBef>
              </a:pPr>
              <a:endParaRPr b="0" lang="en-US" sz="1050" spc="-1" strike="noStrike">
                <a:solidFill>
                  <a:srgbClr val="595959"/>
                </a:solidFill>
                <a:latin typeface="Arial Narrow"/>
              </a:endParaRPr>
            </a:p>
          </p:txBody>
        </p:sp>
        <p:sp>
          <p:nvSpPr>
            <p:cNvPr id="604" name="Rectangle 172"/>
            <p:cNvSpPr/>
            <p:nvPr/>
          </p:nvSpPr>
          <p:spPr>
            <a:xfrm rot="10800000">
              <a:off x="6351120" y="3165480"/>
              <a:ext cx="519120" cy="1375920"/>
            </a:xfrm>
            <a:prstGeom prst="rect">
              <a:avLst/>
            </a:prstGeom>
            <a:gradFill rotWithShape="0">
              <a:gsLst>
                <a:gs pos="0">
                  <a:srgbClr val="f4df79"/>
                </a:gs>
                <a:gs pos="100000">
                  <a:srgbClr val="ffffff">
                    <a:alpha val="0"/>
                  </a:srgbClr>
                </a:gs>
              </a:gsLst>
              <a:lin ang="16200000"/>
            </a:gradFill>
            <a:ln w="9525">
              <a:noFill/>
            </a:ln>
          </p:spPr>
          <p:style>
            <a:lnRef idx="0"/>
            <a:fillRef idx="0"/>
            <a:effectRef idx="0"/>
            <a:fontRef idx="minor"/>
          </p:style>
          <p:txBody>
            <a:bodyPr lIns="45720" rIns="27360" tIns="18360" bIns="18360" anchor="t">
              <a:noAutofit/>
            </a:bodyPr>
            <a:p>
              <a:pPr>
                <a:lnSpc>
                  <a:spcPct val="85000"/>
                </a:lnSpc>
                <a:spcBef>
                  <a:spcPts val="201"/>
                </a:spcBef>
              </a:pPr>
              <a:endParaRPr b="0" lang="en-US" sz="1050" spc="-1" strike="noStrike">
                <a:solidFill>
                  <a:srgbClr val="595959"/>
                </a:solidFill>
                <a:latin typeface="Arial Narrow"/>
              </a:endParaRPr>
            </a:p>
          </p:txBody>
        </p:sp>
        <p:graphicFrame>
          <p:nvGraphicFramePr>
            <p:cNvPr id="605" name="Chart 173"/>
            <p:cNvGraphicFramePr/>
            <p:nvPr/>
          </p:nvGraphicFramePr>
          <p:xfrm>
            <a:off x="5592240" y="3025080"/>
            <a:ext cx="2940840" cy="2193840"/>
          </p:xfrm>
          <a:graphic>
            <a:graphicData uri="http://schemas.openxmlformats.org/drawingml/2006/chart">
              <c:chart xmlns:c="http://schemas.openxmlformats.org/drawingml/2006/chart" xmlns:r="http://schemas.openxmlformats.org/officeDocument/2006/relationships" r:id="rId1"/>
            </a:graphicData>
          </a:graphic>
        </p:graphicFrame>
        <p:grpSp>
          <p:nvGrpSpPr>
            <p:cNvPr id="606" name="Group 112"/>
            <p:cNvGrpSpPr/>
            <p:nvPr/>
          </p:nvGrpSpPr>
          <p:grpSpPr>
            <a:xfrm>
              <a:off x="1098720" y="550800"/>
              <a:ext cx="1423440" cy="1423440"/>
              <a:chOff x="1098720" y="550800"/>
              <a:chExt cx="1423440" cy="1423440"/>
            </a:xfrm>
          </p:grpSpPr>
          <p:grpSp>
            <p:nvGrpSpPr>
              <p:cNvPr id="607" name="Group 66"/>
              <p:cNvGrpSpPr/>
              <p:nvPr/>
            </p:nvGrpSpPr>
            <p:grpSpPr>
              <a:xfrm>
                <a:off x="1098720" y="550800"/>
                <a:ext cx="1423440" cy="1423440"/>
                <a:chOff x="1098720" y="550800"/>
                <a:chExt cx="1423440" cy="1423440"/>
              </a:xfrm>
            </p:grpSpPr>
            <p:sp>
              <p:nvSpPr>
                <p:cNvPr id="608" name="Freeform 5"/>
                <p:cNvSpPr/>
                <p:nvPr/>
              </p:nvSpPr>
              <p:spPr>
                <a:xfrm>
                  <a:off x="1098720" y="550800"/>
                  <a:ext cx="1423440" cy="1423440"/>
                </a:xfrm>
                <a:custGeom>
                  <a:avLst/>
                  <a:gdLst>
                    <a:gd name="textAreaLeft" fmla="*/ 0 w 1423440"/>
                    <a:gd name="textAreaRight" fmla="*/ 1423800 w 1423440"/>
                    <a:gd name="textAreaTop" fmla="*/ 0 h 1423440"/>
                    <a:gd name="textAreaBottom" fmla="*/ 1423800 h 1423440"/>
                  </a:gdLst>
                  <a:ahLst/>
                  <a:rect l="textAreaLeft" t="textAreaTop" r="textAreaRight" b="textAreaBottom"/>
                  <a:pathLst>
                    <a:path w="5950" h="5950">
                      <a:moveTo>
                        <a:pt x="5840" y="3106"/>
                      </a:moveTo>
                      <a:lnTo>
                        <a:pt x="5840" y="3106"/>
                      </a:lnTo>
                      <a:lnTo>
                        <a:pt x="5808" y="3091"/>
                      </a:lnTo>
                      <a:lnTo>
                        <a:pt x="5780" y="3078"/>
                      </a:lnTo>
                      <a:lnTo>
                        <a:pt x="5727" y="3058"/>
                      </a:lnTo>
                      <a:lnTo>
                        <a:pt x="5685" y="3044"/>
                      </a:lnTo>
                      <a:lnTo>
                        <a:pt x="5650" y="3034"/>
                      </a:lnTo>
                      <a:lnTo>
                        <a:pt x="5650" y="3034"/>
                      </a:lnTo>
                      <a:lnTo>
                        <a:pt x="5650" y="2976"/>
                      </a:lnTo>
                      <a:lnTo>
                        <a:pt x="5650" y="2917"/>
                      </a:lnTo>
                      <a:lnTo>
                        <a:pt x="5650" y="2917"/>
                      </a:lnTo>
                      <a:lnTo>
                        <a:pt x="5685" y="2908"/>
                      </a:lnTo>
                      <a:lnTo>
                        <a:pt x="5727" y="2894"/>
                      </a:lnTo>
                      <a:lnTo>
                        <a:pt x="5780" y="2872"/>
                      </a:lnTo>
                      <a:lnTo>
                        <a:pt x="5808" y="2859"/>
                      </a:lnTo>
                      <a:lnTo>
                        <a:pt x="5840" y="2844"/>
                      </a:lnTo>
                      <a:lnTo>
                        <a:pt x="5840" y="2844"/>
                      </a:lnTo>
                      <a:lnTo>
                        <a:pt x="5879" y="2824"/>
                      </a:lnTo>
                      <a:lnTo>
                        <a:pt x="5907" y="2808"/>
                      </a:lnTo>
                      <a:lnTo>
                        <a:pt x="5927" y="2793"/>
                      </a:lnTo>
                      <a:lnTo>
                        <a:pt x="5935" y="2786"/>
                      </a:lnTo>
                      <a:lnTo>
                        <a:pt x="5940" y="2780"/>
                      </a:lnTo>
                      <a:lnTo>
                        <a:pt x="5945" y="2773"/>
                      </a:lnTo>
                      <a:lnTo>
                        <a:pt x="5947" y="2767"/>
                      </a:lnTo>
                      <a:lnTo>
                        <a:pt x="5950" y="2760"/>
                      </a:lnTo>
                      <a:lnTo>
                        <a:pt x="5950" y="2752"/>
                      </a:lnTo>
                      <a:lnTo>
                        <a:pt x="5950" y="2735"/>
                      </a:lnTo>
                      <a:lnTo>
                        <a:pt x="5948" y="2715"/>
                      </a:lnTo>
                      <a:lnTo>
                        <a:pt x="5948" y="2715"/>
                      </a:lnTo>
                      <a:lnTo>
                        <a:pt x="5947" y="2696"/>
                      </a:lnTo>
                      <a:lnTo>
                        <a:pt x="5943" y="2679"/>
                      </a:lnTo>
                      <a:lnTo>
                        <a:pt x="5942" y="2671"/>
                      </a:lnTo>
                      <a:lnTo>
                        <a:pt x="5938" y="2664"/>
                      </a:lnTo>
                      <a:lnTo>
                        <a:pt x="5935" y="2659"/>
                      </a:lnTo>
                      <a:lnTo>
                        <a:pt x="5929" y="2653"/>
                      </a:lnTo>
                      <a:lnTo>
                        <a:pt x="5922" y="2648"/>
                      </a:lnTo>
                      <a:lnTo>
                        <a:pt x="5914" y="2643"/>
                      </a:lnTo>
                      <a:lnTo>
                        <a:pt x="5892" y="2631"/>
                      </a:lnTo>
                      <a:lnTo>
                        <a:pt x="5861" y="2620"/>
                      </a:lnTo>
                      <a:lnTo>
                        <a:pt x="5818" y="2607"/>
                      </a:lnTo>
                      <a:lnTo>
                        <a:pt x="5818" y="2607"/>
                      </a:lnTo>
                      <a:lnTo>
                        <a:pt x="5785" y="2597"/>
                      </a:lnTo>
                      <a:lnTo>
                        <a:pt x="5755" y="2590"/>
                      </a:lnTo>
                      <a:lnTo>
                        <a:pt x="5699" y="2579"/>
                      </a:lnTo>
                      <a:lnTo>
                        <a:pt x="5655" y="2572"/>
                      </a:lnTo>
                      <a:lnTo>
                        <a:pt x="5619" y="2569"/>
                      </a:lnTo>
                      <a:lnTo>
                        <a:pt x="5619" y="2569"/>
                      </a:lnTo>
                      <a:lnTo>
                        <a:pt x="5609" y="2511"/>
                      </a:lnTo>
                      <a:lnTo>
                        <a:pt x="5599" y="2453"/>
                      </a:lnTo>
                      <a:lnTo>
                        <a:pt x="5599" y="2453"/>
                      </a:lnTo>
                      <a:lnTo>
                        <a:pt x="5630" y="2439"/>
                      </a:lnTo>
                      <a:lnTo>
                        <a:pt x="5671" y="2417"/>
                      </a:lnTo>
                      <a:lnTo>
                        <a:pt x="5719" y="2387"/>
                      </a:lnTo>
                      <a:lnTo>
                        <a:pt x="5746" y="2369"/>
                      </a:lnTo>
                      <a:lnTo>
                        <a:pt x="5774" y="2349"/>
                      </a:lnTo>
                      <a:lnTo>
                        <a:pt x="5774" y="2349"/>
                      </a:lnTo>
                      <a:lnTo>
                        <a:pt x="5808" y="2323"/>
                      </a:lnTo>
                      <a:lnTo>
                        <a:pt x="5833" y="2300"/>
                      </a:lnTo>
                      <a:lnTo>
                        <a:pt x="5851" y="2284"/>
                      </a:lnTo>
                      <a:lnTo>
                        <a:pt x="5858" y="2275"/>
                      </a:lnTo>
                      <a:lnTo>
                        <a:pt x="5861" y="2267"/>
                      </a:lnTo>
                      <a:lnTo>
                        <a:pt x="5864" y="2260"/>
                      </a:lnTo>
                      <a:lnTo>
                        <a:pt x="5866" y="2254"/>
                      </a:lnTo>
                      <a:lnTo>
                        <a:pt x="5866" y="2246"/>
                      </a:lnTo>
                      <a:lnTo>
                        <a:pt x="5866" y="2239"/>
                      </a:lnTo>
                      <a:lnTo>
                        <a:pt x="5863" y="2223"/>
                      </a:lnTo>
                      <a:lnTo>
                        <a:pt x="5858" y="2203"/>
                      </a:lnTo>
                      <a:lnTo>
                        <a:pt x="5858" y="2203"/>
                      </a:lnTo>
                      <a:lnTo>
                        <a:pt x="5853" y="2183"/>
                      </a:lnTo>
                      <a:lnTo>
                        <a:pt x="5848" y="2168"/>
                      </a:lnTo>
                      <a:lnTo>
                        <a:pt x="5843" y="2162"/>
                      </a:lnTo>
                      <a:lnTo>
                        <a:pt x="5840" y="2155"/>
                      </a:lnTo>
                      <a:lnTo>
                        <a:pt x="5835" y="2150"/>
                      </a:lnTo>
                      <a:lnTo>
                        <a:pt x="5828" y="2145"/>
                      </a:lnTo>
                      <a:lnTo>
                        <a:pt x="5821" y="2140"/>
                      </a:lnTo>
                      <a:lnTo>
                        <a:pt x="5812" y="2137"/>
                      </a:lnTo>
                      <a:lnTo>
                        <a:pt x="5788" y="2130"/>
                      </a:lnTo>
                      <a:lnTo>
                        <a:pt x="5755" y="2124"/>
                      </a:lnTo>
                      <a:lnTo>
                        <a:pt x="5711" y="2119"/>
                      </a:lnTo>
                      <a:lnTo>
                        <a:pt x="5711" y="2119"/>
                      </a:lnTo>
                      <a:lnTo>
                        <a:pt x="5676" y="2115"/>
                      </a:lnTo>
                      <a:lnTo>
                        <a:pt x="5645" y="2112"/>
                      </a:lnTo>
                      <a:lnTo>
                        <a:pt x="5589" y="2110"/>
                      </a:lnTo>
                      <a:lnTo>
                        <a:pt x="5543" y="2112"/>
                      </a:lnTo>
                      <a:lnTo>
                        <a:pt x="5508" y="2115"/>
                      </a:lnTo>
                      <a:lnTo>
                        <a:pt x="5508" y="2115"/>
                      </a:lnTo>
                      <a:lnTo>
                        <a:pt x="5488" y="2061"/>
                      </a:lnTo>
                      <a:lnTo>
                        <a:pt x="5467" y="2007"/>
                      </a:lnTo>
                      <a:lnTo>
                        <a:pt x="5467" y="2007"/>
                      </a:lnTo>
                      <a:lnTo>
                        <a:pt x="5497" y="1987"/>
                      </a:lnTo>
                      <a:lnTo>
                        <a:pt x="5533" y="1957"/>
                      </a:lnTo>
                      <a:lnTo>
                        <a:pt x="5574" y="1921"/>
                      </a:lnTo>
                      <a:lnTo>
                        <a:pt x="5597" y="1898"/>
                      </a:lnTo>
                      <a:lnTo>
                        <a:pt x="5622" y="1873"/>
                      </a:lnTo>
                      <a:lnTo>
                        <a:pt x="5622" y="1873"/>
                      </a:lnTo>
                      <a:lnTo>
                        <a:pt x="5652" y="1840"/>
                      </a:lnTo>
                      <a:lnTo>
                        <a:pt x="5673" y="1815"/>
                      </a:lnTo>
                      <a:lnTo>
                        <a:pt x="5688" y="1794"/>
                      </a:lnTo>
                      <a:lnTo>
                        <a:pt x="5691" y="1786"/>
                      </a:lnTo>
                      <a:lnTo>
                        <a:pt x="5694" y="1777"/>
                      </a:lnTo>
                      <a:lnTo>
                        <a:pt x="5696" y="1769"/>
                      </a:lnTo>
                      <a:lnTo>
                        <a:pt x="5696" y="1763"/>
                      </a:lnTo>
                      <a:lnTo>
                        <a:pt x="5696" y="1756"/>
                      </a:lnTo>
                      <a:lnTo>
                        <a:pt x="5694" y="1748"/>
                      </a:lnTo>
                      <a:lnTo>
                        <a:pt x="5688" y="1733"/>
                      </a:lnTo>
                      <a:lnTo>
                        <a:pt x="5680" y="1715"/>
                      </a:lnTo>
                      <a:lnTo>
                        <a:pt x="5680" y="1715"/>
                      </a:lnTo>
                      <a:lnTo>
                        <a:pt x="5671" y="1695"/>
                      </a:lnTo>
                      <a:lnTo>
                        <a:pt x="5663" y="1682"/>
                      </a:lnTo>
                      <a:lnTo>
                        <a:pt x="5658" y="1675"/>
                      </a:lnTo>
                      <a:lnTo>
                        <a:pt x="5653" y="1670"/>
                      </a:lnTo>
                      <a:lnTo>
                        <a:pt x="5648" y="1665"/>
                      </a:lnTo>
                      <a:lnTo>
                        <a:pt x="5642" y="1662"/>
                      </a:lnTo>
                      <a:lnTo>
                        <a:pt x="5633" y="1659"/>
                      </a:lnTo>
                      <a:lnTo>
                        <a:pt x="5624" y="1657"/>
                      </a:lnTo>
                      <a:lnTo>
                        <a:pt x="5599" y="1655"/>
                      </a:lnTo>
                      <a:lnTo>
                        <a:pt x="5566" y="1654"/>
                      </a:lnTo>
                      <a:lnTo>
                        <a:pt x="5521" y="1657"/>
                      </a:lnTo>
                      <a:lnTo>
                        <a:pt x="5521" y="1657"/>
                      </a:lnTo>
                      <a:lnTo>
                        <a:pt x="5487" y="1659"/>
                      </a:lnTo>
                      <a:lnTo>
                        <a:pt x="5454" y="1662"/>
                      </a:lnTo>
                      <a:lnTo>
                        <a:pt x="5398" y="1670"/>
                      </a:lnTo>
                      <a:lnTo>
                        <a:pt x="5353" y="1680"/>
                      </a:lnTo>
                      <a:lnTo>
                        <a:pt x="5319" y="1690"/>
                      </a:lnTo>
                      <a:lnTo>
                        <a:pt x="5319" y="1690"/>
                      </a:lnTo>
                      <a:lnTo>
                        <a:pt x="5290" y="1639"/>
                      </a:lnTo>
                      <a:lnTo>
                        <a:pt x="5261" y="1589"/>
                      </a:lnTo>
                      <a:lnTo>
                        <a:pt x="5261" y="1589"/>
                      </a:lnTo>
                      <a:lnTo>
                        <a:pt x="5286" y="1563"/>
                      </a:lnTo>
                      <a:lnTo>
                        <a:pt x="5317" y="1530"/>
                      </a:lnTo>
                      <a:lnTo>
                        <a:pt x="5352" y="1486"/>
                      </a:lnTo>
                      <a:lnTo>
                        <a:pt x="5371" y="1459"/>
                      </a:lnTo>
                      <a:lnTo>
                        <a:pt x="5391" y="1429"/>
                      </a:lnTo>
                      <a:lnTo>
                        <a:pt x="5391" y="1429"/>
                      </a:lnTo>
                      <a:lnTo>
                        <a:pt x="5414" y="1393"/>
                      </a:lnTo>
                      <a:lnTo>
                        <a:pt x="5431" y="1364"/>
                      </a:lnTo>
                      <a:lnTo>
                        <a:pt x="5441" y="1340"/>
                      </a:lnTo>
                      <a:lnTo>
                        <a:pt x="5444" y="1332"/>
                      </a:lnTo>
                      <a:lnTo>
                        <a:pt x="5445" y="1322"/>
                      </a:lnTo>
                      <a:lnTo>
                        <a:pt x="5445" y="1316"/>
                      </a:lnTo>
                      <a:lnTo>
                        <a:pt x="5444" y="1307"/>
                      </a:lnTo>
                      <a:lnTo>
                        <a:pt x="5442" y="1301"/>
                      </a:lnTo>
                      <a:lnTo>
                        <a:pt x="5441" y="1294"/>
                      </a:lnTo>
                      <a:lnTo>
                        <a:pt x="5431" y="1279"/>
                      </a:lnTo>
                      <a:lnTo>
                        <a:pt x="5419" y="1263"/>
                      </a:lnTo>
                      <a:lnTo>
                        <a:pt x="5419" y="1263"/>
                      </a:lnTo>
                      <a:lnTo>
                        <a:pt x="5408" y="1246"/>
                      </a:lnTo>
                      <a:lnTo>
                        <a:pt x="5398" y="1233"/>
                      </a:lnTo>
                      <a:lnTo>
                        <a:pt x="5393" y="1228"/>
                      </a:lnTo>
                      <a:lnTo>
                        <a:pt x="5386" y="1225"/>
                      </a:lnTo>
                      <a:lnTo>
                        <a:pt x="5380" y="1222"/>
                      </a:lnTo>
                      <a:lnTo>
                        <a:pt x="5373" y="1218"/>
                      </a:lnTo>
                      <a:lnTo>
                        <a:pt x="5363" y="1218"/>
                      </a:lnTo>
                      <a:lnTo>
                        <a:pt x="5355" y="1217"/>
                      </a:lnTo>
                      <a:lnTo>
                        <a:pt x="5330" y="1218"/>
                      </a:lnTo>
                      <a:lnTo>
                        <a:pt x="5297" y="1225"/>
                      </a:lnTo>
                      <a:lnTo>
                        <a:pt x="5253" y="1235"/>
                      </a:lnTo>
                      <a:lnTo>
                        <a:pt x="5253" y="1235"/>
                      </a:lnTo>
                      <a:lnTo>
                        <a:pt x="5220" y="1243"/>
                      </a:lnTo>
                      <a:lnTo>
                        <a:pt x="5188" y="1251"/>
                      </a:lnTo>
                      <a:lnTo>
                        <a:pt x="5134" y="1270"/>
                      </a:lnTo>
                      <a:lnTo>
                        <a:pt x="5091" y="1286"/>
                      </a:lnTo>
                      <a:lnTo>
                        <a:pt x="5060" y="1303"/>
                      </a:lnTo>
                      <a:lnTo>
                        <a:pt x="5060" y="1303"/>
                      </a:lnTo>
                      <a:lnTo>
                        <a:pt x="5022" y="1256"/>
                      </a:lnTo>
                      <a:lnTo>
                        <a:pt x="4985" y="1213"/>
                      </a:lnTo>
                      <a:lnTo>
                        <a:pt x="4985" y="1213"/>
                      </a:lnTo>
                      <a:lnTo>
                        <a:pt x="5005" y="1184"/>
                      </a:lnTo>
                      <a:lnTo>
                        <a:pt x="5030" y="1144"/>
                      </a:lnTo>
                      <a:lnTo>
                        <a:pt x="5056" y="1095"/>
                      </a:lnTo>
                      <a:lnTo>
                        <a:pt x="5071" y="1065"/>
                      </a:lnTo>
                      <a:lnTo>
                        <a:pt x="5084" y="1034"/>
                      </a:lnTo>
                      <a:lnTo>
                        <a:pt x="5084" y="1034"/>
                      </a:lnTo>
                      <a:lnTo>
                        <a:pt x="5103" y="993"/>
                      </a:lnTo>
                      <a:lnTo>
                        <a:pt x="5114" y="961"/>
                      </a:lnTo>
                      <a:lnTo>
                        <a:pt x="5119" y="938"/>
                      </a:lnTo>
                      <a:lnTo>
                        <a:pt x="5121" y="928"/>
                      </a:lnTo>
                      <a:lnTo>
                        <a:pt x="5121" y="918"/>
                      </a:lnTo>
                      <a:lnTo>
                        <a:pt x="5119" y="912"/>
                      </a:lnTo>
                      <a:lnTo>
                        <a:pt x="5117" y="905"/>
                      </a:lnTo>
                      <a:lnTo>
                        <a:pt x="5114" y="899"/>
                      </a:lnTo>
                      <a:lnTo>
                        <a:pt x="5111" y="892"/>
                      </a:lnTo>
                      <a:lnTo>
                        <a:pt x="5099" y="879"/>
                      </a:lnTo>
                      <a:lnTo>
                        <a:pt x="5084" y="866"/>
                      </a:lnTo>
                      <a:lnTo>
                        <a:pt x="5084" y="866"/>
                      </a:lnTo>
                      <a:lnTo>
                        <a:pt x="5071" y="851"/>
                      </a:lnTo>
                      <a:lnTo>
                        <a:pt x="5058" y="839"/>
                      </a:lnTo>
                      <a:lnTo>
                        <a:pt x="5051" y="836"/>
                      </a:lnTo>
                      <a:lnTo>
                        <a:pt x="5045" y="833"/>
                      </a:lnTo>
                      <a:lnTo>
                        <a:pt x="5038" y="831"/>
                      </a:lnTo>
                      <a:lnTo>
                        <a:pt x="5032" y="829"/>
                      </a:lnTo>
                      <a:lnTo>
                        <a:pt x="5022" y="829"/>
                      </a:lnTo>
                      <a:lnTo>
                        <a:pt x="5012" y="831"/>
                      </a:lnTo>
                      <a:lnTo>
                        <a:pt x="4989" y="838"/>
                      </a:lnTo>
                      <a:lnTo>
                        <a:pt x="4957" y="847"/>
                      </a:lnTo>
                      <a:lnTo>
                        <a:pt x="4916" y="866"/>
                      </a:lnTo>
                      <a:lnTo>
                        <a:pt x="4916" y="866"/>
                      </a:lnTo>
                      <a:lnTo>
                        <a:pt x="4885" y="879"/>
                      </a:lnTo>
                      <a:lnTo>
                        <a:pt x="4855" y="894"/>
                      </a:lnTo>
                      <a:lnTo>
                        <a:pt x="4806" y="920"/>
                      </a:lnTo>
                      <a:lnTo>
                        <a:pt x="4766" y="945"/>
                      </a:lnTo>
                      <a:lnTo>
                        <a:pt x="4737" y="965"/>
                      </a:lnTo>
                      <a:lnTo>
                        <a:pt x="4737" y="965"/>
                      </a:lnTo>
                      <a:lnTo>
                        <a:pt x="4694" y="928"/>
                      </a:lnTo>
                      <a:lnTo>
                        <a:pt x="4647" y="890"/>
                      </a:lnTo>
                      <a:lnTo>
                        <a:pt x="4647" y="890"/>
                      </a:lnTo>
                      <a:lnTo>
                        <a:pt x="4664" y="859"/>
                      </a:lnTo>
                      <a:lnTo>
                        <a:pt x="4680" y="816"/>
                      </a:lnTo>
                      <a:lnTo>
                        <a:pt x="4699" y="762"/>
                      </a:lnTo>
                      <a:lnTo>
                        <a:pt x="4707" y="730"/>
                      </a:lnTo>
                      <a:lnTo>
                        <a:pt x="4717" y="697"/>
                      </a:lnTo>
                      <a:lnTo>
                        <a:pt x="4717" y="697"/>
                      </a:lnTo>
                      <a:lnTo>
                        <a:pt x="4725" y="653"/>
                      </a:lnTo>
                      <a:lnTo>
                        <a:pt x="4732" y="620"/>
                      </a:lnTo>
                      <a:lnTo>
                        <a:pt x="4733" y="597"/>
                      </a:lnTo>
                      <a:lnTo>
                        <a:pt x="4733" y="587"/>
                      </a:lnTo>
                      <a:lnTo>
                        <a:pt x="4732" y="577"/>
                      </a:lnTo>
                      <a:lnTo>
                        <a:pt x="4728" y="570"/>
                      </a:lnTo>
                      <a:lnTo>
                        <a:pt x="4725" y="564"/>
                      </a:lnTo>
                      <a:lnTo>
                        <a:pt x="4722" y="557"/>
                      </a:lnTo>
                      <a:lnTo>
                        <a:pt x="4717" y="552"/>
                      </a:lnTo>
                      <a:lnTo>
                        <a:pt x="4704" y="542"/>
                      </a:lnTo>
                      <a:lnTo>
                        <a:pt x="4687" y="531"/>
                      </a:lnTo>
                      <a:lnTo>
                        <a:pt x="4687" y="531"/>
                      </a:lnTo>
                      <a:lnTo>
                        <a:pt x="4671" y="519"/>
                      </a:lnTo>
                      <a:lnTo>
                        <a:pt x="4656" y="511"/>
                      </a:lnTo>
                      <a:lnTo>
                        <a:pt x="4649" y="508"/>
                      </a:lnTo>
                      <a:lnTo>
                        <a:pt x="4643" y="506"/>
                      </a:lnTo>
                      <a:lnTo>
                        <a:pt x="4634" y="505"/>
                      </a:lnTo>
                      <a:lnTo>
                        <a:pt x="4628" y="505"/>
                      </a:lnTo>
                      <a:lnTo>
                        <a:pt x="4618" y="506"/>
                      </a:lnTo>
                      <a:lnTo>
                        <a:pt x="4610" y="509"/>
                      </a:lnTo>
                      <a:lnTo>
                        <a:pt x="4586" y="519"/>
                      </a:lnTo>
                      <a:lnTo>
                        <a:pt x="4557" y="536"/>
                      </a:lnTo>
                      <a:lnTo>
                        <a:pt x="4521" y="559"/>
                      </a:lnTo>
                      <a:lnTo>
                        <a:pt x="4521" y="559"/>
                      </a:lnTo>
                      <a:lnTo>
                        <a:pt x="4491" y="579"/>
                      </a:lnTo>
                      <a:lnTo>
                        <a:pt x="4464" y="598"/>
                      </a:lnTo>
                      <a:lnTo>
                        <a:pt x="4420" y="633"/>
                      </a:lnTo>
                      <a:lnTo>
                        <a:pt x="4385" y="664"/>
                      </a:lnTo>
                      <a:lnTo>
                        <a:pt x="4361" y="691"/>
                      </a:lnTo>
                      <a:lnTo>
                        <a:pt x="4361" y="691"/>
                      </a:lnTo>
                      <a:lnTo>
                        <a:pt x="4311" y="661"/>
                      </a:lnTo>
                      <a:lnTo>
                        <a:pt x="4260" y="633"/>
                      </a:lnTo>
                      <a:lnTo>
                        <a:pt x="4260" y="633"/>
                      </a:lnTo>
                      <a:lnTo>
                        <a:pt x="4270" y="598"/>
                      </a:lnTo>
                      <a:lnTo>
                        <a:pt x="4280" y="552"/>
                      </a:lnTo>
                      <a:lnTo>
                        <a:pt x="4288" y="496"/>
                      </a:lnTo>
                      <a:lnTo>
                        <a:pt x="4291" y="463"/>
                      </a:lnTo>
                      <a:lnTo>
                        <a:pt x="4293" y="429"/>
                      </a:lnTo>
                      <a:lnTo>
                        <a:pt x="4293" y="429"/>
                      </a:lnTo>
                      <a:lnTo>
                        <a:pt x="4296" y="384"/>
                      </a:lnTo>
                      <a:lnTo>
                        <a:pt x="4295" y="351"/>
                      </a:lnTo>
                      <a:lnTo>
                        <a:pt x="4293" y="326"/>
                      </a:lnTo>
                      <a:lnTo>
                        <a:pt x="4291" y="317"/>
                      </a:lnTo>
                      <a:lnTo>
                        <a:pt x="4288" y="308"/>
                      </a:lnTo>
                      <a:lnTo>
                        <a:pt x="4285" y="302"/>
                      </a:lnTo>
                      <a:lnTo>
                        <a:pt x="4280" y="297"/>
                      </a:lnTo>
                      <a:lnTo>
                        <a:pt x="4275" y="292"/>
                      </a:lnTo>
                      <a:lnTo>
                        <a:pt x="4268" y="287"/>
                      </a:lnTo>
                      <a:lnTo>
                        <a:pt x="4255" y="279"/>
                      </a:lnTo>
                      <a:lnTo>
                        <a:pt x="4235" y="270"/>
                      </a:lnTo>
                      <a:lnTo>
                        <a:pt x="4235" y="270"/>
                      </a:lnTo>
                      <a:lnTo>
                        <a:pt x="4217" y="262"/>
                      </a:lnTo>
                      <a:lnTo>
                        <a:pt x="4202" y="256"/>
                      </a:lnTo>
                      <a:lnTo>
                        <a:pt x="4194" y="254"/>
                      </a:lnTo>
                      <a:lnTo>
                        <a:pt x="4187" y="254"/>
                      </a:lnTo>
                      <a:lnTo>
                        <a:pt x="4181" y="254"/>
                      </a:lnTo>
                      <a:lnTo>
                        <a:pt x="4173" y="256"/>
                      </a:lnTo>
                      <a:lnTo>
                        <a:pt x="4164" y="259"/>
                      </a:lnTo>
                      <a:lnTo>
                        <a:pt x="4156" y="262"/>
                      </a:lnTo>
                      <a:lnTo>
                        <a:pt x="4136" y="277"/>
                      </a:lnTo>
                      <a:lnTo>
                        <a:pt x="4110" y="298"/>
                      </a:lnTo>
                      <a:lnTo>
                        <a:pt x="4077" y="328"/>
                      </a:lnTo>
                      <a:lnTo>
                        <a:pt x="4077" y="328"/>
                      </a:lnTo>
                      <a:lnTo>
                        <a:pt x="4052" y="353"/>
                      </a:lnTo>
                      <a:lnTo>
                        <a:pt x="4029" y="376"/>
                      </a:lnTo>
                      <a:lnTo>
                        <a:pt x="3991" y="419"/>
                      </a:lnTo>
                      <a:lnTo>
                        <a:pt x="3963" y="455"/>
                      </a:lnTo>
                      <a:lnTo>
                        <a:pt x="3942" y="485"/>
                      </a:lnTo>
                      <a:lnTo>
                        <a:pt x="3942" y="485"/>
                      </a:lnTo>
                      <a:lnTo>
                        <a:pt x="3889" y="465"/>
                      </a:lnTo>
                      <a:lnTo>
                        <a:pt x="3835" y="445"/>
                      </a:lnTo>
                      <a:lnTo>
                        <a:pt x="3835" y="445"/>
                      </a:lnTo>
                      <a:lnTo>
                        <a:pt x="3838" y="411"/>
                      </a:lnTo>
                      <a:lnTo>
                        <a:pt x="3840" y="364"/>
                      </a:lnTo>
                      <a:lnTo>
                        <a:pt x="3838" y="307"/>
                      </a:lnTo>
                      <a:lnTo>
                        <a:pt x="3835" y="274"/>
                      </a:lnTo>
                      <a:lnTo>
                        <a:pt x="3831" y="239"/>
                      </a:lnTo>
                      <a:lnTo>
                        <a:pt x="3831" y="239"/>
                      </a:lnTo>
                      <a:lnTo>
                        <a:pt x="3826" y="195"/>
                      </a:lnTo>
                      <a:lnTo>
                        <a:pt x="3820" y="162"/>
                      </a:lnTo>
                      <a:lnTo>
                        <a:pt x="3813" y="138"/>
                      </a:lnTo>
                      <a:lnTo>
                        <a:pt x="3810" y="129"/>
                      </a:lnTo>
                      <a:lnTo>
                        <a:pt x="3805" y="122"/>
                      </a:lnTo>
                      <a:lnTo>
                        <a:pt x="3800" y="115"/>
                      </a:lnTo>
                      <a:lnTo>
                        <a:pt x="3795" y="110"/>
                      </a:lnTo>
                      <a:lnTo>
                        <a:pt x="3788" y="107"/>
                      </a:lnTo>
                      <a:lnTo>
                        <a:pt x="3782" y="104"/>
                      </a:lnTo>
                      <a:lnTo>
                        <a:pt x="3767" y="97"/>
                      </a:lnTo>
                      <a:lnTo>
                        <a:pt x="3747" y="92"/>
                      </a:lnTo>
                      <a:lnTo>
                        <a:pt x="3747" y="92"/>
                      </a:lnTo>
                      <a:lnTo>
                        <a:pt x="3727" y="87"/>
                      </a:lnTo>
                      <a:lnTo>
                        <a:pt x="3711" y="84"/>
                      </a:lnTo>
                      <a:lnTo>
                        <a:pt x="3704" y="84"/>
                      </a:lnTo>
                      <a:lnTo>
                        <a:pt x="3696" y="84"/>
                      </a:lnTo>
                      <a:lnTo>
                        <a:pt x="3690" y="86"/>
                      </a:lnTo>
                      <a:lnTo>
                        <a:pt x="3683" y="89"/>
                      </a:lnTo>
                      <a:lnTo>
                        <a:pt x="3675" y="92"/>
                      </a:lnTo>
                      <a:lnTo>
                        <a:pt x="3666" y="99"/>
                      </a:lnTo>
                      <a:lnTo>
                        <a:pt x="3650" y="117"/>
                      </a:lnTo>
                      <a:lnTo>
                        <a:pt x="3627" y="142"/>
                      </a:lnTo>
                      <a:lnTo>
                        <a:pt x="3601" y="176"/>
                      </a:lnTo>
                      <a:lnTo>
                        <a:pt x="3601" y="176"/>
                      </a:lnTo>
                      <a:lnTo>
                        <a:pt x="3581" y="206"/>
                      </a:lnTo>
                      <a:lnTo>
                        <a:pt x="3561" y="232"/>
                      </a:lnTo>
                      <a:lnTo>
                        <a:pt x="3531" y="282"/>
                      </a:lnTo>
                      <a:lnTo>
                        <a:pt x="3510" y="323"/>
                      </a:lnTo>
                      <a:lnTo>
                        <a:pt x="3495" y="354"/>
                      </a:lnTo>
                      <a:lnTo>
                        <a:pt x="3495" y="354"/>
                      </a:lnTo>
                      <a:lnTo>
                        <a:pt x="3439" y="345"/>
                      </a:lnTo>
                      <a:lnTo>
                        <a:pt x="3381" y="335"/>
                      </a:lnTo>
                      <a:lnTo>
                        <a:pt x="3381" y="335"/>
                      </a:lnTo>
                      <a:lnTo>
                        <a:pt x="3380" y="300"/>
                      </a:lnTo>
                      <a:lnTo>
                        <a:pt x="3373" y="254"/>
                      </a:lnTo>
                      <a:lnTo>
                        <a:pt x="3361" y="198"/>
                      </a:lnTo>
                      <a:lnTo>
                        <a:pt x="3353" y="165"/>
                      </a:lnTo>
                      <a:lnTo>
                        <a:pt x="3343" y="132"/>
                      </a:lnTo>
                      <a:lnTo>
                        <a:pt x="3343" y="132"/>
                      </a:lnTo>
                      <a:lnTo>
                        <a:pt x="3330" y="89"/>
                      </a:lnTo>
                      <a:lnTo>
                        <a:pt x="3319" y="58"/>
                      </a:lnTo>
                      <a:lnTo>
                        <a:pt x="3307" y="36"/>
                      </a:lnTo>
                      <a:lnTo>
                        <a:pt x="3302" y="28"/>
                      </a:lnTo>
                      <a:lnTo>
                        <a:pt x="3297" y="21"/>
                      </a:lnTo>
                      <a:lnTo>
                        <a:pt x="3291" y="15"/>
                      </a:lnTo>
                      <a:lnTo>
                        <a:pt x="3286" y="12"/>
                      </a:lnTo>
                      <a:lnTo>
                        <a:pt x="3279" y="8"/>
                      </a:lnTo>
                      <a:lnTo>
                        <a:pt x="3271" y="7"/>
                      </a:lnTo>
                      <a:lnTo>
                        <a:pt x="3254" y="3"/>
                      </a:lnTo>
                      <a:lnTo>
                        <a:pt x="3235" y="2"/>
                      </a:lnTo>
                      <a:lnTo>
                        <a:pt x="3235" y="2"/>
                      </a:lnTo>
                      <a:lnTo>
                        <a:pt x="3215" y="0"/>
                      </a:lnTo>
                      <a:lnTo>
                        <a:pt x="3198" y="0"/>
                      </a:lnTo>
                      <a:lnTo>
                        <a:pt x="3190" y="2"/>
                      </a:lnTo>
                      <a:lnTo>
                        <a:pt x="3183" y="3"/>
                      </a:lnTo>
                      <a:lnTo>
                        <a:pt x="3177" y="5"/>
                      </a:lnTo>
                      <a:lnTo>
                        <a:pt x="3170" y="10"/>
                      </a:lnTo>
                      <a:lnTo>
                        <a:pt x="3164" y="15"/>
                      </a:lnTo>
                      <a:lnTo>
                        <a:pt x="3157" y="23"/>
                      </a:lnTo>
                      <a:lnTo>
                        <a:pt x="3142" y="43"/>
                      </a:lnTo>
                      <a:lnTo>
                        <a:pt x="3126" y="71"/>
                      </a:lnTo>
                      <a:lnTo>
                        <a:pt x="3106" y="110"/>
                      </a:lnTo>
                      <a:lnTo>
                        <a:pt x="3106" y="110"/>
                      </a:lnTo>
                      <a:lnTo>
                        <a:pt x="3089" y="142"/>
                      </a:lnTo>
                      <a:lnTo>
                        <a:pt x="3076" y="171"/>
                      </a:lnTo>
                      <a:lnTo>
                        <a:pt x="3055" y="226"/>
                      </a:lnTo>
                      <a:lnTo>
                        <a:pt x="3042" y="270"/>
                      </a:lnTo>
                      <a:lnTo>
                        <a:pt x="3032" y="305"/>
                      </a:lnTo>
                      <a:lnTo>
                        <a:pt x="3032" y="305"/>
                      </a:lnTo>
                      <a:lnTo>
                        <a:pt x="2974" y="303"/>
                      </a:lnTo>
                      <a:lnTo>
                        <a:pt x="2916" y="305"/>
                      </a:lnTo>
                      <a:lnTo>
                        <a:pt x="2916" y="305"/>
                      </a:lnTo>
                      <a:lnTo>
                        <a:pt x="2908" y="270"/>
                      </a:lnTo>
                      <a:lnTo>
                        <a:pt x="2893" y="226"/>
                      </a:lnTo>
                      <a:lnTo>
                        <a:pt x="2872" y="171"/>
                      </a:lnTo>
                      <a:lnTo>
                        <a:pt x="2859" y="142"/>
                      </a:lnTo>
                      <a:lnTo>
                        <a:pt x="2844" y="110"/>
                      </a:lnTo>
                      <a:lnTo>
                        <a:pt x="2844" y="110"/>
                      </a:lnTo>
                      <a:lnTo>
                        <a:pt x="2824" y="71"/>
                      </a:lnTo>
                      <a:lnTo>
                        <a:pt x="2806" y="43"/>
                      </a:lnTo>
                      <a:lnTo>
                        <a:pt x="2793" y="23"/>
                      </a:lnTo>
                      <a:lnTo>
                        <a:pt x="2786" y="15"/>
                      </a:lnTo>
                      <a:lnTo>
                        <a:pt x="2779" y="10"/>
                      </a:lnTo>
                      <a:lnTo>
                        <a:pt x="2773" y="5"/>
                      </a:lnTo>
                      <a:lnTo>
                        <a:pt x="2766" y="3"/>
                      </a:lnTo>
                      <a:lnTo>
                        <a:pt x="2758" y="2"/>
                      </a:lnTo>
                      <a:lnTo>
                        <a:pt x="2751" y="0"/>
                      </a:lnTo>
                      <a:lnTo>
                        <a:pt x="2735" y="0"/>
                      </a:lnTo>
                      <a:lnTo>
                        <a:pt x="2715" y="2"/>
                      </a:lnTo>
                      <a:lnTo>
                        <a:pt x="2715" y="2"/>
                      </a:lnTo>
                      <a:lnTo>
                        <a:pt x="2694" y="3"/>
                      </a:lnTo>
                      <a:lnTo>
                        <a:pt x="2677" y="7"/>
                      </a:lnTo>
                      <a:lnTo>
                        <a:pt x="2671" y="8"/>
                      </a:lnTo>
                      <a:lnTo>
                        <a:pt x="2664" y="12"/>
                      </a:lnTo>
                      <a:lnTo>
                        <a:pt x="2657" y="15"/>
                      </a:lnTo>
                      <a:lnTo>
                        <a:pt x="2652" y="21"/>
                      </a:lnTo>
                      <a:lnTo>
                        <a:pt x="2648" y="28"/>
                      </a:lnTo>
                      <a:lnTo>
                        <a:pt x="2641" y="36"/>
                      </a:lnTo>
                      <a:lnTo>
                        <a:pt x="2631" y="58"/>
                      </a:lnTo>
                      <a:lnTo>
                        <a:pt x="2620" y="89"/>
                      </a:lnTo>
                      <a:lnTo>
                        <a:pt x="2606" y="132"/>
                      </a:lnTo>
                      <a:lnTo>
                        <a:pt x="2606" y="132"/>
                      </a:lnTo>
                      <a:lnTo>
                        <a:pt x="2596" y="165"/>
                      </a:lnTo>
                      <a:lnTo>
                        <a:pt x="2588" y="198"/>
                      </a:lnTo>
                      <a:lnTo>
                        <a:pt x="2577" y="254"/>
                      </a:lnTo>
                      <a:lnTo>
                        <a:pt x="2570" y="300"/>
                      </a:lnTo>
                      <a:lnTo>
                        <a:pt x="2567" y="335"/>
                      </a:lnTo>
                      <a:lnTo>
                        <a:pt x="2567" y="335"/>
                      </a:lnTo>
                      <a:lnTo>
                        <a:pt x="2511" y="345"/>
                      </a:lnTo>
                      <a:lnTo>
                        <a:pt x="2455" y="354"/>
                      </a:lnTo>
                      <a:lnTo>
                        <a:pt x="2455" y="354"/>
                      </a:lnTo>
                      <a:lnTo>
                        <a:pt x="2440" y="323"/>
                      </a:lnTo>
                      <a:lnTo>
                        <a:pt x="2417" y="282"/>
                      </a:lnTo>
                      <a:lnTo>
                        <a:pt x="2387" y="232"/>
                      </a:lnTo>
                      <a:lnTo>
                        <a:pt x="2369" y="206"/>
                      </a:lnTo>
                      <a:lnTo>
                        <a:pt x="2347" y="176"/>
                      </a:lnTo>
                      <a:lnTo>
                        <a:pt x="2347" y="176"/>
                      </a:lnTo>
                      <a:lnTo>
                        <a:pt x="2321" y="142"/>
                      </a:lnTo>
                      <a:lnTo>
                        <a:pt x="2300" y="117"/>
                      </a:lnTo>
                      <a:lnTo>
                        <a:pt x="2282" y="99"/>
                      </a:lnTo>
                      <a:lnTo>
                        <a:pt x="2275" y="92"/>
                      </a:lnTo>
                      <a:lnTo>
                        <a:pt x="2267" y="89"/>
                      </a:lnTo>
                      <a:lnTo>
                        <a:pt x="2260" y="86"/>
                      </a:lnTo>
                      <a:lnTo>
                        <a:pt x="2252" y="84"/>
                      </a:lnTo>
                      <a:lnTo>
                        <a:pt x="2245" y="84"/>
                      </a:lnTo>
                      <a:lnTo>
                        <a:pt x="2239" y="84"/>
                      </a:lnTo>
                      <a:lnTo>
                        <a:pt x="2222" y="87"/>
                      </a:lnTo>
                      <a:lnTo>
                        <a:pt x="2202" y="92"/>
                      </a:lnTo>
                      <a:lnTo>
                        <a:pt x="2202" y="92"/>
                      </a:lnTo>
                      <a:lnTo>
                        <a:pt x="2183" y="97"/>
                      </a:lnTo>
                      <a:lnTo>
                        <a:pt x="2166" y="104"/>
                      </a:lnTo>
                      <a:lnTo>
                        <a:pt x="2160" y="107"/>
                      </a:lnTo>
                      <a:lnTo>
                        <a:pt x="2155" y="110"/>
                      </a:lnTo>
                      <a:lnTo>
                        <a:pt x="2148" y="115"/>
                      </a:lnTo>
                      <a:lnTo>
                        <a:pt x="2145" y="122"/>
                      </a:lnTo>
                      <a:lnTo>
                        <a:pt x="2140" y="129"/>
                      </a:lnTo>
                      <a:lnTo>
                        <a:pt x="2136" y="138"/>
                      </a:lnTo>
                      <a:lnTo>
                        <a:pt x="2130" y="162"/>
                      </a:lnTo>
                      <a:lnTo>
                        <a:pt x="2123" y="195"/>
                      </a:lnTo>
                      <a:lnTo>
                        <a:pt x="2118" y="239"/>
                      </a:lnTo>
                      <a:lnTo>
                        <a:pt x="2118" y="239"/>
                      </a:lnTo>
                      <a:lnTo>
                        <a:pt x="2113" y="274"/>
                      </a:lnTo>
                      <a:lnTo>
                        <a:pt x="2112" y="307"/>
                      </a:lnTo>
                      <a:lnTo>
                        <a:pt x="2110" y="364"/>
                      </a:lnTo>
                      <a:lnTo>
                        <a:pt x="2112" y="411"/>
                      </a:lnTo>
                      <a:lnTo>
                        <a:pt x="2115" y="447"/>
                      </a:lnTo>
                      <a:lnTo>
                        <a:pt x="2115" y="447"/>
                      </a:lnTo>
                      <a:lnTo>
                        <a:pt x="2061" y="465"/>
                      </a:lnTo>
                      <a:lnTo>
                        <a:pt x="2008" y="486"/>
                      </a:lnTo>
                      <a:lnTo>
                        <a:pt x="2008" y="486"/>
                      </a:lnTo>
                      <a:lnTo>
                        <a:pt x="1986" y="457"/>
                      </a:lnTo>
                      <a:lnTo>
                        <a:pt x="1958" y="419"/>
                      </a:lnTo>
                      <a:lnTo>
                        <a:pt x="1920" y="376"/>
                      </a:lnTo>
                      <a:lnTo>
                        <a:pt x="1897" y="353"/>
                      </a:lnTo>
                      <a:lnTo>
                        <a:pt x="1871" y="328"/>
                      </a:lnTo>
                      <a:lnTo>
                        <a:pt x="1871" y="328"/>
                      </a:lnTo>
                      <a:lnTo>
                        <a:pt x="1840" y="298"/>
                      </a:lnTo>
                      <a:lnTo>
                        <a:pt x="1813" y="277"/>
                      </a:lnTo>
                      <a:lnTo>
                        <a:pt x="1793" y="262"/>
                      </a:lnTo>
                      <a:lnTo>
                        <a:pt x="1784" y="259"/>
                      </a:lnTo>
                      <a:lnTo>
                        <a:pt x="1775" y="256"/>
                      </a:lnTo>
                      <a:lnTo>
                        <a:pt x="1769" y="254"/>
                      </a:lnTo>
                      <a:lnTo>
                        <a:pt x="1762" y="254"/>
                      </a:lnTo>
                      <a:lnTo>
                        <a:pt x="1754" y="254"/>
                      </a:lnTo>
                      <a:lnTo>
                        <a:pt x="1747" y="256"/>
                      </a:lnTo>
                      <a:lnTo>
                        <a:pt x="1731" y="262"/>
                      </a:lnTo>
                      <a:lnTo>
                        <a:pt x="1713" y="270"/>
                      </a:lnTo>
                      <a:lnTo>
                        <a:pt x="1713" y="270"/>
                      </a:lnTo>
                      <a:lnTo>
                        <a:pt x="1695" y="279"/>
                      </a:lnTo>
                      <a:lnTo>
                        <a:pt x="1680" y="287"/>
                      </a:lnTo>
                      <a:lnTo>
                        <a:pt x="1675" y="292"/>
                      </a:lnTo>
                      <a:lnTo>
                        <a:pt x="1670" y="297"/>
                      </a:lnTo>
                      <a:lnTo>
                        <a:pt x="1665" y="302"/>
                      </a:lnTo>
                      <a:lnTo>
                        <a:pt x="1662" y="308"/>
                      </a:lnTo>
                      <a:lnTo>
                        <a:pt x="1658" y="317"/>
                      </a:lnTo>
                      <a:lnTo>
                        <a:pt x="1657" y="326"/>
                      </a:lnTo>
                      <a:lnTo>
                        <a:pt x="1653" y="351"/>
                      </a:lnTo>
                      <a:lnTo>
                        <a:pt x="1653" y="384"/>
                      </a:lnTo>
                      <a:lnTo>
                        <a:pt x="1655" y="429"/>
                      </a:lnTo>
                      <a:lnTo>
                        <a:pt x="1655" y="429"/>
                      </a:lnTo>
                      <a:lnTo>
                        <a:pt x="1658" y="465"/>
                      </a:lnTo>
                      <a:lnTo>
                        <a:pt x="1662" y="498"/>
                      </a:lnTo>
                      <a:lnTo>
                        <a:pt x="1670" y="554"/>
                      </a:lnTo>
                      <a:lnTo>
                        <a:pt x="1680" y="600"/>
                      </a:lnTo>
                      <a:lnTo>
                        <a:pt x="1690" y="635"/>
                      </a:lnTo>
                      <a:lnTo>
                        <a:pt x="1690" y="635"/>
                      </a:lnTo>
                      <a:lnTo>
                        <a:pt x="1639" y="663"/>
                      </a:lnTo>
                      <a:lnTo>
                        <a:pt x="1591" y="692"/>
                      </a:lnTo>
                      <a:lnTo>
                        <a:pt x="1591" y="692"/>
                      </a:lnTo>
                      <a:lnTo>
                        <a:pt x="1564" y="666"/>
                      </a:lnTo>
                      <a:lnTo>
                        <a:pt x="1530" y="635"/>
                      </a:lnTo>
                      <a:lnTo>
                        <a:pt x="1485" y="598"/>
                      </a:lnTo>
                      <a:lnTo>
                        <a:pt x="1459" y="580"/>
                      </a:lnTo>
                      <a:lnTo>
                        <a:pt x="1429" y="559"/>
                      </a:lnTo>
                      <a:lnTo>
                        <a:pt x="1429" y="559"/>
                      </a:lnTo>
                      <a:lnTo>
                        <a:pt x="1391" y="536"/>
                      </a:lnTo>
                      <a:lnTo>
                        <a:pt x="1363" y="519"/>
                      </a:lnTo>
                      <a:lnTo>
                        <a:pt x="1340" y="509"/>
                      </a:lnTo>
                      <a:lnTo>
                        <a:pt x="1330" y="506"/>
                      </a:lnTo>
                      <a:lnTo>
                        <a:pt x="1322" y="505"/>
                      </a:lnTo>
                      <a:lnTo>
                        <a:pt x="1314" y="505"/>
                      </a:lnTo>
                      <a:lnTo>
                        <a:pt x="1307" y="506"/>
                      </a:lnTo>
                      <a:lnTo>
                        <a:pt x="1301" y="508"/>
                      </a:lnTo>
                      <a:lnTo>
                        <a:pt x="1294" y="511"/>
                      </a:lnTo>
                      <a:lnTo>
                        <a:pt x="1279" y="519"/>
                      </a:lnTo>
                      <a:lnTo>
                        <a:pt x="1263" y="531"/>
                      </a:lnTo>
                      <a:lnTo>
                        <a:pt x="1263" y="531"/>
                      </a:lnTo>
                      <a:lnTo>
                        <a:pt x="1246" y="542"/>
                      </a:lnTo>
                      <a:lnTo>
                        <a:pt x="1233" y="552"/>
                      </a:lnTo>
                      <a:lnTo>
                        <a:pt x="1228" y="557"/>
                      </a:lnTo>
                      <a:lnTo>
                        <a:pt x="1223" y="564"/>
                      </a:lnTo>
                      <a:lnTo>
                        <a:pt x="1220" y="570"/>
                      </a:lnTo>
                      <a:lnTo>
                        <a:pt x="1218" y="577"/>
                      </a:lnTo>
                      <a:lnTo>
                        <a:pt x="1216" y="587"/>
                      </a:lnTo>
                      <a:lnTo>
                        <a:pt x="1216" y="595"/>
                      </a:lnTo>
                      <a:lnTo>
                        <a:pt x="1218" y="620"/>
                      </a:lnTo>
                      <a:lnTo>
                        <a:pt x="1223" y="653"/>
                      </a:lnTo>
                      <a:lnTo>
                        <a:pt x="1233" y="697"/>
                      </a:lnTo>
                      <a:lnTo>
                        <a:pt x="1233" y="697"/>
                      </a:lnTo>
                      <a:lnTo>
                        <a:pt x="1241" y="732"/>
                      </a:lnTo>
                      <a:lnTo>
                        <a:pt x="1251" y="763"/>
                      </a:lnTo>
                      <a:lnTo>
                        <a:pt x="1269" y="818"/>
                      </a:lnTo>
                      <a:lnTo>
                        <a:pt x="1287" y="861"/>
                      </a:lnTo>
                      <a:lnTo>
                        <a:pt x="1302" y="894"/>
                      </a:lnTo>
                      <a:lnTo>
                        <a:pt x="1302" y="894"/>
                      </a:lnTo>
                      <a:lnTo>
                        <a:pt x="1258" y="930"/>
                      </a:lnTo>
                      <a:lnTo>
                        <a:pt x="1213" y="966"/>
                      </a:lnTo>
                      <a:lnTo>
                        <a:pt x="1213" y="966"/>
                      </a:lnTo>
                      <a:lnTo>
                        <a:pt x="1185" y="946"/>
                      </a:lnTo>
                      <a:lnTo>
                        <a:pt x="1146" y="922"/>
                      </a:lnTo>
                      <a:lnTo>
                        <a:pt x="1094" y="894"/>
                      </a:lnTo>
                      <a:lnTo>
                        <a:pt x="1065" y="879"/>
                      </a:lnTo>
                      <a:lnTo>
                        <a:pt x="1033" y="866"/>
                      </a:lnTo>
                      <a:lnTo>
                        <a:pt x="1033" y="866"/>
                      </a:lnTo>
                      <a:lnTo>
                        <a:pt x="992" y="847"/>
                      </a:lnTo>
                      <a:lnTo>
                        <a:pt x="961" y="838"/>
                      </a:lnTo>
                      <a:lnTo>
                        <a:pt x="936" y="831"/>
                      </a:lnTo>
                      <a:lnTo>
                        <a:pt x="926" y="829"/>
                      </a:lnTo>
                      <a:lnTo>
                        <a:pt x="918" y="829"/>
                      </a:lnTo>
                      <a:lnTo>
                        <a:pt x="910" y="831"/>
                      </a:lnTo>
                      <a:lnTo>
                        <a:pt x="903" y="833"/>
                      </a:lnTo>
                      <a:lnTo>
                        <a:pt x="897" y="836"/>
                      </a:lnTo>
                      <a:lnTo>
                        <a:pt x="892" y="839"/>
                      </a:lnTo>
                      <a:lnTo>
                        <a:pt x="878" y="851"/>
                      </a:lnTo>
                      <a:lnTo>
                        <a:pt x="864" y="866"/>
                      </a:lnTo>
                      <a:lnTo>
                        <a:pt x="864" y="866"/>
                      </a:lnTo>
                      <a:lnTo>
                        <a:pt x="850" y="879"/>
                      </a:lnTo>
                      <a:lnTo>
                        <a:pt x="839" y="892"/>
                      </a:lnTo>
                      <a:lnTo>
                        <a:pt x="834" y="899"/>
                      </a:lnTo>
                      <a:lnTo>
                        <a:pt x="832" y="905"/>
                      </a:lnTo>
                      <a:lnTo>
                        <a:pt x="829" y="912"/>
                      </a:lnTo>
                      <a:lnTo>
                        <a:pt x="829" y="918"/>
                      </a:lnTo>
                      <a:lnTo>
                        <a:pt x="829" y="928"/>
                      </a:lnTo>
                      <a:lnTo>
                        <a:pt x="829" y="938"/>
                      </a:lnTo>
                      <a:lnTo>
                        <a:pt x="836" y="961"/>
                      </a:lnTo>
                      <a:lnTo>
                        <a:pt x="847" y="993"/>
                      </a:lnTo>
                      <a:lnTo>
                        <a:pt x="864" y="1034"/>
                      </a:lnTo>
                      <a:lnTo>
                        <a:pt x="864" y="1034"/>
                      </a:lnTo>
                      <a:lnTo>
                        <a:pt x="878" y="1067"/>
                      </a:lnTo>
                      <a:lnTo>
                        <a:pt x="893" y="1095"/>
                      </a:lnTo>
                      <a:lnTo>
                        <a:pt x="920" y="1146"/>
                      </a:lnTo>
                      <a:lnTo>
                        <a:pt x="944" y="1185"/>
                      </a:lnTo>
                      <a:lnTo>
                        <a:pt x="966" y="1215"/>
                      </a:lnTo>
                      <a:lnTo>
                        <a:pt x="966" y="1215"/>
                      </a:lnTo>
                      <a:lnTo>
                        <a:pt x="928" y="1258"/>
                      </a:lnTo>
                      <a:lnTo>
                        <a:pt x="892" y="1303"/>
                      </a:lnTo>
                      <a:lnTo>
                        <a:pt x="892" y="1303"/>
                      </a:lnTo>
                      <a:lnTo>
                        <a:pt x="859" y="1288"/>
                      </a:lnTo>
                      <a:lnTo>
                        <a:pt x="816" y="1270"/>
                      </a:lnTo>
                      <a:lnTo>
                        <a:pt x="761" y="1251"/>
                      </a:lnTo>
                      <a:lnTo>
                        <a:pt x="730" y="1243"/>
                      </a:lnTo>
                      <a:lnTo>
                        <a:pt x="695" y="1235"/>
                      </a:lnTo>
                      <a:lnTo>
                        <a:pt x="695" y="1235"/>
                      </a:lnTo>
                      <a:lnTo>
                        <a:pt x="653" y="1225"/>
                      </a:lnTo>
                      <a:lnTo>
                        <a:pt x="620" y="1218"/>
                      </a:lnTo>
                      <a:lnTo>
                        <a:pt x="595" y="1217"/>
                      </a:lnTo>
                      <a:lnTo>
                        <a:pt x="585" y="1218"/>
                      </a:lnTo>
                      <a:lnTo>
                        <a:pt x="577" y="1218"/>
                      </a:lnTo>
                      <a:lnTo>
                        <a:pt x="570" y="1222"/>
                      </a:lnTo>
                      <a:lnTo>
                        <a:pt x="564" y="1225"/>
                      </a:lnTo>
                      <a:lnTo>
                        <a:pt x="557" y="1228"/>
                      </a:lnTo>
                      <a:lnTo>
                        <a:pt x="552" y="1233"/>
                      </a:lnTo>
                      <a:lnTo>
                        <a:pt x="540" y="1246"/>
                      </a:lnTo>
                      <a:lnTo>
                        <a:pt x="529" y="1263"/>
                      </a:lnTo>
                      <a:lnTo>
                        <a:pt x="529" y="1263"/>
                      </a:lnTo>
                      <a:lnTo>
                        <a:pt x="517" y="1279"/>
                      </a:lnTo>
                      <a:lnTo>
                        <a:pt x="509" y="1294"/>
                      </a:lnTo>
                      <a:lnTo>
                        <a:pt x="506" y="1301"/>
                      </a:lnTo>
                      <a:lnTo>
                        <a:pt x="504" y="1307"/>
                      </a:lnTo>
                      <a:lnTo>
                        <a:pt x="504" y="1316"/>
                      </a:lnTo>
                      <a:lnTo>
                        <a:pt x="504" y="1322"/>
                      </a:lnTo>
                      <a:lnTo>
                        <a:pt x="506" y="1332"/>
                      </a:lnTo>
                      <a:lnTo>
                        <a:pt x="509" y="1340"/>
                      </a:lnTo>
                      <a:lnTo>
                        <a:pt x="519" y="1364"/>
                      </a:lnTo>
                      <a:lnTo>
                        <a:pt x="535" y="1393"/>
                      </a:lnTo>
                      <a:lnTo>
                        <a:pt x="559" y="1429"/>
                      </a:lnTo>
                      <a:lnTo>
                        <a:pt x="559" y="1429"/>
                      </a:lnTo>
                      <a:lnTo>
                        <a:pt x="578" y="1459"/>
                      </a:lnTo>
                      <a:lnTo>
                        <a:pt x="598" y="1486"/>
                      </a:lnTo>
                      <a:lnTo>
                        <a:pt x="633" y="1530"/>
                      </a:lnTo>
                      <a:lnTo>
                        <a:pt x="664" y="1565"/>
                      </a:lnTo>
                      <a:lnTo>
                        <a:pt x="690" y="1589"/>
                      </a:lnTo>
                      <a:lnTo>
                        <a:pt x="690" y="1589"/>
                      </a:lnTo>
                      <a:lnTo>
                        <a:pt x="661" y="1639"/>
                      </a:lnTo>
                      <a:lnTo>
                        <a:pt x="633" y="1690"/>
                      </a:lnTo>
                      <a:lnTo>
                        <a:pt x="633" y="1690"/>
                      </a:lnTo>
                      <a:lnTo>
                        <a:pt x="598" y="1680"/>
                      </a:lnTo>
                      <a:lnTo>
                        <a:pt x="552" y="1670"/>
                      </a:lnTo>
                      <a:lnTo>
                        <a:pt x="496" y="1662"/>
                      </a:lnTo>
                      <a:lnTo>
                        <a:pt x="463" y="1659"/>
                      </a:lnTo>
                      <a:lnTo>
                        <a:pt x="428" y="1657"/>
                      </a:lnTo>
                      <a:lnTo>
                        <a:pt x="428" y="1657"/>
                      </a:lnTo>
                      <a:lnTo>
                        <a:pt x="384" y="1654"/>
                      </a:lnTo>
                      <a:lnTo>
                        <a:pt x="351" y="1655"/>
                      </a:lnTo>
                      <a:lnTo>
                        <a:pt x="326" y="1657"/>
                      </a:lnTo>
                      <a:lnTo>
                        <a:pt x="316" y="1659"/>
                      </a:lnTo>
                      <a:lnTo>
                        <a:pt x="308" y="1662"/>
                      </a:lnTo>
                      <a:lnTo>
                        <a:pt x="301" y="1665"/>
                      </a:lnTo>
                      <a:lnTo>
                        <a:pt x="295" y="1670"/>
                      </a:lnTo>
                      <a:lnTo>
                        <a:pt x="290" y="1675"/>
                      </a:lnTo>
                      <a:lnTo>
                        <a:pt x="287" y="1682"/>
                      </a:lnTo>
                      <a:lnTo>
                        <a:pt x="278" y="1695"/>
                      </a:lnTo>
                      <a:lnTo>
                        <a:pt x="270" y="1715"/>
                      </a:lnTo>
                      <a:lnTo>
                        <a:pt x="270" y="1715"/>
                      </a:lnTo>
                      <a:lnTo>
                        <a:pt x="260" y="1733"/>
                      </a:lnTo>
                      <a:lnTo>
                        <a:pt x="255" y="1748"/>
                      </a:lnTo>
                      <a:lnTo>
                        <a:pt x="254" y="1756"/>
                      </a:lnTo>
                      <a:lnTo>
                        <a:pt x="252" y="1763"/>
                      </a:lnTo>
                      <a:lnTo>
                        <a:pt x="254" y="1769"/>
                      </a:lnTo>
                      <a:lnTo>
                        <a:pt x="255" y="1777"/>
                      </a:lnTo>
                      <a:lnTo>
                        <a:pt x="257" y="1786"/>
                      </a:lnTo>
                      <a:lnTo>
                        <a:pt x="262" y="1794"/>
                      </a:lnTo>
                      <a:lnTo>
                        <a:pt x="277" y="1815"/>
                      </a:lnTo>
                      <a:lnTo>
                        <a:pt x="298" y="1840"/>
                      </a:lnTo>
                      <a:lnTo>
                        <a:pt x="328" y="1873"/>
                      </a:lnTo>
                      <a:lnTo>
                        <a:pt x="328" y="1873"/>
                      </a:lnTo>
                      <a:lnTo>
                        <a:pt x="351" y="1898"/>
                      </a:lnTo>
                      <a:lnTo>
                        <a:pt x="376" y="1921"/>
                      </a:lnTo>
                      <a:lnTo>
                        <a:pt x="418" y="1959"/>
                      </a:lnTo>
                      <a:lnTo>
                        <a:pt x="455" y="1987"/>
                      </a:lnTo>
                      <a:lnTo>
                        <a:pt x="484" y="2008"/>
                      </a:lnTo>
                      <a:lnTo>
                        <a:pt x="484" y="2008"/>
                      </a:lnTo>
                      <a:lnTo>
                        <a:pt x="465" y="2061"/>
                      </a:lnTo>
                      <a:lnTo>
                        <a:pt x="445" y="2115"/>
                      </a:lnTo>
                      <a:lnTo>
                        <a:pt x="445" y="2115"/>
                      </a:lnTo>
                      <a:lnTo>
                        <a:pt x="410" y="2112"/>
                      </a:lnTo>
                      <a:lnTo>
                        <a:pt x="362" y="2110"/>
                      </a:lnTo>
                      <a:lnTo>
                        <a:pt x="306" y="2112"/>
                      </a:lnTo>
                      <a:lnTo>
                        <a:pt x="273" y="2115"/>
                      </a:lnTo>
                      <a:lnTo>
                        <a:pt x="237" y="2119"/>
                      </a:lnTo>
                      <a:lnTo>
                        <a:pt x="237" y="2119"/>
                      </a:lnTo>
                      <a:lnTo>
                        <a:pt x="194" y="2124"/>
                      </a:lnTo>
                      <a:lnTo>
                        <a:pt x="161" y="2130"/>
                      </a:lnTo>
                      <a:lnTo>
                        <a:pt x="136" y="2137"/>
                      </a:lnTo>
                      <a:lnTo>
                        <a:pt x="128" y="2140"/>
                      </a:lnTo>
                      <a:lnTo>
                        <a:pt x="120" y="2145"/>
                      </a:lnTo>
                      <a:lnTo>
                        <a:pt x="115" y="2150"/>
                      </a:lnTo>
                      <a:lnTo>
                        <a:pt x="110" y="2155"/>
                      </a:lnTo>
                      <a:lnTo>
                        <a:pt x="105" y="2162"/>
                      </a:lnTo>
                      <a:lnTo>
                        <a:pt x="102" y="2168"/>
                      </a:lnTo>
                      <a:lnTo>
                        <a:pt x="97" y="2183"/>
                      </a:lnTo>
                      <a:lnTo>
                        <a:pt x="92" y="2203"/>
                      </a:lnTo>
                      <a:lnTo>
                        <a:pt x="92" y="2203"/>
                      </a:lnTo>
                      <a:lnTo>
                        <a:pt x="85" y="2223"/>
                      </a:lnTo>
                      <a:lnTo>
                        <a:pt x="84" y="2239"/>
                      </a:lnTo>
                      <a:lnTo>
                        <a:pt x="82" y="2246"/>
                      </a:lnTo>
                      <a:lnTo>
                        <a:pt x="84" y="2254"/>
                      </a:lnTo>
                      <a:lnTo>
                        <a:pt x="85" y="2260"/>
                      </a:lnTo>
                      <a:lnTo>
                        <a:pt x="87" y="2267"/>
                      </a:lnTo>
                      <a:lnTo>
                        <a:pt x="92" y="2275"/>
                      </a:lnTo>
                      <a:lnTo>
                        <a:pt x="99" y="2284"/>
                      </a:lnTo>
                      <a:lnTo>
                        <a:pt x="115" y="2300"/>
                      </a:lnTo>
                      <a:lnTo>
                        <a:pt x="141" y="2323"/>
                      </a:lnTo>
                      <a:lnTo>
                        <a:pt x="176" y="2349"/>
                      </a:lnTo>
                      <a:lnTo>
                        <a:pt x="176" y="2349"/>
                      </a:lnTo>
                      <a:lnTo>
                        <a:pt x="204" y="2369"/>
                      </a:lnTo>
                      <a:lnTo>
                        <a:pt x="232" y="2389"/>
                      </a:lnTo>
                      <a:lnTo>
                        <a:pt x="280" y="2419"/>
                      </a:lnTo>
                      <a:lnTo>
                        <a:pt x="321" y="2440"/>
                      </a:lnTo>
                      <a:lnTo>
                        <a:pt x="354" y="2455"/>
                      </a:lnTo>
                      <a:lnTo>
                        <a:pt x="354" y="2455"/>
                      </a:lnTo>
                      <a:lnTo>
                        <a:pt x="343" y="2511"/>
                      </a:lnTo>
                      <a:lnTo>
                        <a:pt x="333" y="2569"/>
                      </a:lnTo>
                      <a:lnTo>
                        <a:pt x="333" y="2569"/>
                      </a:lnTo>
                      <a:lnTo>
                        <a:pt x="298" y="2572"/>
                      </a:lnTo>
                      <a:lnTo>
                        <a:pt x="252" y="2579"/>
                      </a:lnTo>
                      <a:lnTo>
                        <a:pt x="196" y="2589"/>
                      </a:lnTo>
                      <a:lnTo>
                        <a:pt x="165" y="2597"/>
                      </a:lnTo>
                      <a:lnTo>
                        <a:pt x="130" y="2607"/>
                      </a:lnTo>
                      <a:lnTo>
                        <a:pt x="130" y="2607"/>
                      </a:lnTo>
                      <a:lnTo>
                        <a:pt x="89" y="2620"/>
                      </a:lnTo>
                      <a:lnTo>
                        <a:pt x="57" y="2631"/>
                      </a:lnTo>
                      <a:lnTo>
                        <a:pt x="34" y="2643"/>
                      </a:lnTo>
                      <a:lnTo>
                        <a:pt x="26" y="2648"/>
                      </a:lnTo>
                      <a:lnTo>
                        <a:pt x="19" y="2653"/>
                      </a:lnTo>
                      <a:lnTo>
                        <a:pt x="14" y="2659"/>
                      </a:lnTo>
                      <a:lnTo>
                        <a:pt x="11" y="2664"/>
                      </a:lnTo>
                      <a:lnTo>
                        <a:pt x="8" y="2671"/>
                      </a:lnTo>
                      <a:lnTo>
                        <a:pt x="5" y="2679"/>
                      </a:lnTo>
                      <a:lnTo>
                        <a:pt x="3" y="2696"/>
                      </a:lnTo>
                      <a:lnTo>
                        <a:pt x="1" y="2715"/>
                      </a:lnTo>
                      <a:lnTo>
                        <a:pt x="1" y="2715"/>
                      </a:lnTo>
                      <a:lnTo>
                        <a:pt x="0" y="2735"/>
                      </a:lnTo>
                      <a:lnTo>
                        <a:pt x="0" y="2752"/>
                      </a:lnTo>
                      <a:lnTo>
                        <a:pt x="0" y="2760"/>
                      </a:lnTo>
                      <a:lnTo>
                        <a:pt x="1" y="2767"/>
                      </a:lnTo>
                      <a:lnTo>
                        <a:pt x="5" y="2773"/>
                      </a:lnTo>
                      <a:lnTo>
                        <a:pt x="8" y="2780"/>
                      </a:lnTo>
                      <a:lnTo>
                        <a:pt x="14" y="2786"/>
                      </a:lnTo>
                      <a:lnTo>
                        <a:pt x="21" y="2793"/>
                      </a:lnTo>
                      <a:lnTo>
                        <a:pt x="41" y="2808"/>
                      </a:lnTo>
                      <a:lnTo>
                        <a:pt x="71" y="2824"/>
                      </a:lnTo>
                      <a:lnTo>
                        <a:pt x="110" y="2844"/>
                      </a:lnTo>
                      <a:lnTo>
                        <a:pt x="110" y="2844"/>
                      </a:lnTo>
                      <a:lnTo>
                        <a:pt x="141" y="2861"/>
                      </a:lnTo>
                      <a:lnTo>
                        <a:pt x="171" y="2874"/>
                      </a:lnTo>
                      <a:lnTo>
                        <a:pt x="224" y="2894"/>
                      </a:lnTo>
                      <a:lnTo>
                        <a:pt x="268" y="2908"/>
                      </a:lnTo>
                      <a:lnTo>
                        <a:pt x="303" y="2918"/>
                      </a:lnTo>
                      <a:lnTo>
                        <a:pt x="303" y="2918"/>
                      </a:lnTo>
                      <a:lnTo>
                        <a:pt x="301" y="2976"/>
                      </a:lnTo>
                      <a:lnTo>
                        <a:pt x="303" y="3034"/>
                      </a:lnTo>
                      <a:lnTo>
                        <a:pt x="303" y="3034"/>
                      </a:lnTo>
                      <a:lnTo>
                        <a:pt x="268" y="3042"/>
                      </a:lnTo>
                      <a:lnTo>
                        <a:pt x="224" y="3057"/>
                      </a:lnTo>
                      <a:lnTo>
                        <a:pt x="171" y="3078"/>
                      </a:lnTo>
                      <a:lnTo>
                        <a:pt x="141" y="3091"/>
                      </a:lnTo>
                      <a:lnTo>
                        <a:pt x="110" y="3106"/>
                      </a:lnTo>
                      <a:lnTo>
                        <a:pt x="110" y="3106"/>
                      </a:lnTo>
                      <a:lnTo>
                        <a:pt x="71" y="3126"/>
                      </a:lnTo>
                      <a:lnTo>
                        <a:pt x="41" y="3144"/>
                      </a:lnTo>
                      <a:lnTo>
                        <a:pt x="21" y="3157"/>
                      </a:lnTo>
                      <a:lnTo>
                        <a:pt x="14" y="3164"/>
                      </a:lnTo>
                      <a:lnTo>
                        <a:pt x="8" y="3171"/>
                      </a:lnTo>
                      <a:lnTo>
                        <a:pt x="5" y="3177"/>
                      </a:lnTo>
                      <a:lnTo>
                        <a:pt x="1" y="3184"/>
                      </a:lnTo>
                      <a:lnTo>
                        <a:pt x="0" y="3192"/>
                      </a:lnTo>
                      <a:lnTo>
                        <a:pt x="0" y="3199"/>
                      </a:lnTo>
                      <a:lnTo>
                        <a:pt x="0" y="3215"/>
                      </a:lnTo>
                      <a:lnTo>
                        <a:pt x="1" y="3237"/>
                      </a:lnTo>
                      <a:lnTo>
                        <a:pt x="1" y="3237"/>
                      </a:lnTo>
                      <a:lnTo>
                        <a:pt x="3" y="3256"/>
                      </a:lnTo>
                      <a:lnTo>
                        <a:pt x="5" y="3273"/>
                      </a:lnTo>
                      <a:lnTo>
                        <a:pt x="8" y="3279"/>
                      </a:lnTo>
                      <a:lnTo>
                        <a:pt x="11" y="3286"/>
                      </a:lnTo>
                      <a:lnTo>
                        <a:pt x="14" y="3293"/>
                      </a:lnTo>
                      <a:lnTo>
                        <a:pt x="19" y="3298"/>
                      </a:lnTo>
                      <a:lnTo>
                        <a:pt x="26" y="3302"/>
                      </a:lnTo>
                      <a:lnTo>
                        <a:pt x="34" y="3309"/>
                      </a:lnTo>
                      <a:lnTo>
                        <a:pt x="57" y="3319"/>
                      </a:lnTo>
                      <a:lnTo>
                        <a:pt x="89" y="3330"/>
                      </a:lnTo>
                      <a:lnTo>
                        <a:pt x="130" y="3344"/>
                      </a:lnTo>
                      <a:lnTo>
                        <a:pt x="130" y="3344"/>
                      </a:lnTo>
                      <a:lnTo>
                        <a:pt x="165" y="3354"/>
                      </a:lnTo>
                      <a:lnTo>
                        <a:pt x="196" y="3362"/>
                      </a:lnTo>
                      <a:lnTo>
                        <a:pt x="250" y="3373"/>
                      </a:lnTo>
                      <a:lnTo>
                        <a:pt x="296" y="3380"/>
                      </a:lnTo>
                      <a:lnTo>
                        <a:pt x="333" y="3383"/>
                      </a:lnTo>
                      <a:lnTo>
                        <a:pt x="333" y="3383"/>
                      </a:lnTo>
                      <a:lnTo>
                        <a:pt x="343" y="3439"/>
                      </a:lnTo>
                      <a:lnTo>
                        <a:pt x="352" y="3497"/>
                      </a:lnTo>
                      <a:lnTo>
                        <a:pt x="352" y="3497"/>
                      </a:lnTo>
                      <a:lnTo>
                        <a:pt x="320" y="3512"/>
                      </a:lnTo>
                      <a:lnTo>
                        <a:pt x="280" y="3533"/>
                      </a:lnTo>
                      <a:lnTo>
                        <a:pt x="230" y="3563"/>
                      </a:lnTo>
                      <a:lnTo>
                        <a:pt x="204" y="3581"/>
                      </a:lnTo>
                      <a:lnTo>
                        <a:pt x="176" y="3603"/>
                      </a:lnTo>
                      <a:lnTo>
                        <a:pt x="176" y="3603"/>
                      </a:lnTo>
                      <a:lnTo>
                        <a:pt x="141" y="3629"/>
                      </a:lnTo>
                      <a:lnTo>
                        <a:pt x="115" y="3650"/>
                      </a:lnTo>
                      <a:lnTo>
                        <a:pt x="99" y="3668"/>
                      </a:lnTo>
                      <a:lnTo>
                        <a:pt x="92" y="3677"/>
                      </a:lnTo>
                      <a:lnTo>
                        <a:pt x="87" y="3683"/>
                      </a:lnTo>
                      <a:lnTo>
                        <a:pt x="85" y="3690"/>
                      </a:lnTo>
                      <a:lnTo>
                        <a:pt x="84" y="3698"/>
                      </a:lnTo>
                      <a:lnTo>
                        <a:pt x="82" y="3705"/>
                      </a:lnTo>
                      <a:lnTo>
                        <a:pt x="84" y="3711"/>
                      </a:lnTo>
                      <a:lnTo>
                        <a:pt x="85" y="3728"/>
                      </a:lnTo>
                      <a:lnTo>
                        <a:pt x="92" y="3748"/>
                      </a:lnTo>
                      <a:lnTo>
                        <a:pt x="92" y="3748"/>
                      </a:lnTo>
                      <a:lnTo>
                        <a:pt x="97" y="3767"/>
                      </a:lnTo>
                      <a:lnTo>
                        <a:pt x="102" y="3784"/>
                      </a:lnTo>
                      <a:lnTo>
                        <a:pt x="105" y="3790"/>
                      </a:lnTo>
                      <a:lnTo>
                        <a:pt x="110" y="3795"/>
                      </a:lnTo>
                      <a:lnTo>
                        <a:pt x="115" y="3802"/>
                      </a:lnTo>
                      <a:lnTo>
                        <a:pt x="120" y="3805"/>
                      </a:lnTo>
                      <a:lnTo>
                        <a:pt x="128" y="3810"/>
                      </a:lnTo>
                      <a:lnTo>
                        <a:pt x="136" y="3814"/>
                      </a:lnTo>
                      <a:lnTo>
                        <a:pt x="161" y="3820"/>
                      </a:lnTo>
                      <a:lnTo>
                        <a:pt x="194" y="3827"/>
                      </a:lnTo>
                      <a:lnTo>
                        <a:pt x="237" y="3832"/>
                      </a:lnTo>
                      <a:lnTo>
                        <a:pt x="237" y="3832"/>
                      </a:lnTo>
                      <a:lnTo>
                        <a:pt x="272" y="3837"/>
                      </a:lnTo>
                      <a:lnTo>
                        <a:pt x="305" y="3838"/>
                      </a:lnTo>
                      <a:lnTo>
                        <a:pt x="361" y="3840"/>
                      </a:lnTo>
                      <a:lnTo>
                        <a:pt x="407" y="3838"/>
                      </a:lnTo>
                      <a:lnTo>
                        <a:pt x="443" y="3835"/>
                      </a:lnTo>
                      <a:lnTo>
                        <a:pt x="443" y="3835"/>
                      </a:lnTo>
                      <a:lnTo>
                        <a:pt x="463" y="3889"/>
                      </a:lnTo>
                      <a:lnTo>
                        <a:pt x="483" y="3944"/>
                      </a:lnTo>
                      <a:lnTo>
                        <a:pt x="483" y="3944"/>
                      </a:lnTo>
                      <a:lnTo>
                        <a:pt x="453" y="3965"/>
                      </a:lnTo>
                      <a:lnTo>
                        <a:pt x="417" y="3993"/>
                      </a:lnTo>
                      <a:lnTo>
                        <a:pt x="374" y="4031"/>
                      </a:lnTo>
                      <a:lnTo>
                        <a:pt x="351" y="4053"/>
                      </a:lnTo>
                      <a:lnTo>
                        <a:pt x="328" y="4079"/>
                      </a:lnTo>
                      <a:lnTo>
                        <a:pt x="328" y="4079"/>
                      </a:lnTo>
                      <a:lnTo>
                        <a:pt x="298" y="4110"/>
                      </a:lnTo>
                      <a:lnTo>
                        <a:pt x="277" y="4137"/>
                      </a:lnTo>
                      <a:lnTo>
                        <a:pt x="262" y="4157"/>
                      </a:lnTo>
                      <a:lnTo>
                        <a:pt x="257" y="4166"/>
                      </a:lnTo>
                      <a:lnTo>
                        <a:pt x="255" y="4175"/>
                      </a:lnTo>
                      <a:lnTo>
                        <a:pt x="254" y="4181"/>
                      </a:lnTo>
                      <a:lnTo>
                        <a:pt x="252" y="4189"/>
                      </a:lnTo>
                      <a:lnTo>
                        <a:pt x="254" y="4196"/>
                      </a:lnTo>
                      <a:lnTo>
                        <a:pt x="255" y="4203"/>
                      </a:lnTo>
                      <a:lnTo>
                        <a:pt x="260" y="4219"/>
                      </a:lnTo>
                      <a:lnTo>
                        <a:pt x="270" y="4237"/>
                      </a:lnTo>
                      <a:lnTo>
                        <a:pt x="270" y="4237"/>
                      </a:lnTo>
                      <a:lnTo>
                        <a:pt x="278" y="4255"/>
                      </a:lnTo>
                      <a:lnTo>
                        <a:pt x="287" y="4270"/>
                      </a:lnTo>
                      <a:lnTo>
                        <a:pt x="290" y="4275"/>
                      </a:lnTo>
                      <a:lnTo>
                        <a:pt x="295" y="4282"/>
                      </a:lnTo>
                      <a:lnTo>
                        <a:pt x="301" y="4285"/>
                      </a:lnTo>
                      <a:lnTo>
                        <a:pt x="308" y="4288"/>
                      </a:lnTo>
                      <a:lnTo>
                        <a:pt x="316" y="4292"/>
                      </a:lnTo>
                      <a:lnTo>
                        <a:pt x="326" y="4293"/>
                      </a:lnTo>
                      <a:lnTo>
                        <a:pt x="351" y="4297"/>
                      </a:lnTo>
                      <a:lnTo>
                        <a:pt x="384" y="4297"/>
                      </a:lnTo>
                      <a:lnTo>
                        <a:pt x="428" y="4295"/>
                      </a:lnTo>
                      <a:lnTo>
                        <a:pt x="428" y="4295"/>
                      </a:lnTo>
                      <a:lnTo>
                        <a:pt x="463" y="4292"/>
                      </a:lnTo>
                      <a:lnTo>
                        <a:pt x="494" y="4288"/>
                      </a:lnTo>
                      <a:lnTo>
                        <a:pt x="550" y="4280"/>
                      </a:lnTo>
                      <a:lnTo>
                        <a:pt x="596" y="4272"/>
                      </a:lnTo>
                      <a:lnTo>
                        <a:pt x="631" y="4262"/>
                      </a:lnTo>
                      <a:lnTo>
                        <a:pt x="631" y="4262"/>
                      </a:lnTo>
                      <a:lnTo>
                        <a:pt x="659" y="4311"/>
                      </a:lnTo>
                      <a:lnTo>
                        <a:pt x="689" y="4363"/>
                      </a:lnTo>
                      <a:lnTo>
                        <a:pt x="689" y="4363"/>
                      </a:lnTo>
                      <a:lnTo>
                        <a:pt x="664" y="4387"/>
                      </a:lnTo>
                      <a:lnTo>
                        <a:pt x="633" y="4422"/>
                      </a:lnTo>
                      <a:lnTo>
                        <a:pt x="596" y="4466"/>
                      </a:lnTo>
                      <a:lnTo>
                        <a:pt x="578" y="4493"/>
                      </a:lnTo>
                      <a:lnTo>
                        <a:pt x="559" y="4521"/>
                      </a:lnTo>
                      <a:lnTo>
                        <a:pt x="559" y="4521"/>
                      </a:lnTo>
                      <a:lnTo>
                        <a:pt x="535" y="4559"/>
                      </a:lnTo>
                      <a:lnTo>
                        <a:pt x="519" y="4587"/>
                      </a:lnTo>
                      <a:lnTo>
                        <a:pt x="509" y="4610"/>
                      </a:lnTo>
                      <a:lnTo>
                        <a:pt x="506" y="4620"/>
                      </a:lnTo>
                      <a:lnTo>
                        <a:pt x="504" y="4628"/>
                      </a:lnTo>
                      <a:lnTo>
                        <a:pt x="504" y="4636"/>
                      </a:lnTo>
                      <a:lnTo>
                        <a:pt x="504" y="4643"/>
                      </a:lnTo>
                      <a:lnTo>
                        <a:pt x="506" y="4649"/>
                      </a:lnTo>
                      <a:lnTo>
                        <a:pt x="509" y="4656"/>
                      </a:lnTo>
                      <a:lnTo>
                        <a:pt x="517" y="4671"/>
                      </a:lnTo>
                      <a:lnTo>
                        <a:pt x="529" y="4687"/>
                      </a:lnTo>
                      <a:lnTo>
                        <a:pt x="529" y="4687"/>
                      </a:lnTo>
                      <a:lnTo>
                        <a:pt x="540" y="4704"/>
                      </a:lnTo>
                      <a:lnTo>
                        <a:pt x="552" y="4717"/>
                      </a:lnTo>
                      <a:lnTo>
                        <a:pt x="557" y="4722"/>
                      </a:lnTo>
                      <a:lnTo>
                        <a:pt x="564" y="4727"/>
                      </a:lnTo>
                      <a:lnTo>
                        <a:pt x="570" y="4730"/>
                      </a:lnTo>
                      <a:lnTo>
                        <a:pt x="577" y="4732"/>
                      </a:lnTo>
                      <a:lnTo>
                        <a:pt x="585" y="4734"/>
                      </a:lnTo>
                      <a:lnTo>
                        <a:pt x="595" y="4734"/>
                      </a:lnTo>
                      <a:lnTo>
                        <a:pt x="620" y="4732"/>
                      </a:lnTo>
                      <a:lnTo>
                        <a:pt x="653" y="4727"/>
                      </a:lnTo>
                      <a:lnTo>
                        <a:pt x="695" y="4717"/>
                      </a:lnTo>
                      <a:lnTo>
                        <a:pt x="695" y="4717"/>
                      </a:lnTo>
                      <a:lnTo>
                        <a:pt x="730" y="4709"/>
                      </a:lnTo>
                      <a:lnTo>
                        <a:pt x="760" y="4699"/>
                      </a:lnTo>
                      <a:lnTo>
                        <a:pt x="814" y="4682"/>
                      </a:lnTo>
                      <a:lnTo>
                        <a:pt x="857" y="4664"/>
                      </a:lnTo>
                      <a:lnTo>
                        <a:pt x="888" y="4649"/>
                      </a:lnTo>
                      <a:lnTo>
                        <a:pt x="888" y="4649"/>
                      </a:lnTo>
                      <a:lnTo>
                        <a:pt x="926" y="4694"/>
                      </a:lnTo>
                      <a:lnTo>
                        <a:pt x="964" y="4739"/>
                      </a:lnTo>
                      <a:lnTo>
                        <a:pt x="964" y="4739"/>
                      </a:lnTo>
                      <a:lnTo>
                        <a:pt x="943" y="4768"/>
                      </a:lnTo>
                      <a:lnTo>
                        <a:pt x="918" y="4808"/>
                      </a:lnTo>
                      <a:lnTo>
                        <a:pt x="892" y="4857"/>
                      </a:lnTo>
                      <a:lnTo>
                        <a:pt x="878" y="4885"/>
                      </a:lnTo>
                      <a:lnTo>
                        <a:pt x="864" y="4917"/>
                      </a:lnTo>
                      <a:lnTo>
                        <a:pt x="864" y="4917"/>
                      </a:lnTo>
                      <a:lnTo>
                        <a:pt x="847" y="4958"/>
                      </a:lnTo>
                      <a:lnTo>
                        <a:pt x="836" y="4989"/>
                      </a:lnTo>
                      <a:lnTo>
                        <a:pt x="829" y="5014"/>
                      </a:lnTo>
                      <a:lnTo>
                        <a:pt x="829" y="5024"/>
                      </a:lnTo>
                      <a:lnTo>
                        <a:pt x="829" y="5032"/>
                      </a:lnTo>
                      <a:lnTo>
                        <a:pt x="829" y="5040"/>
                      </a:lnTo>
                      <a:lnTo>
                        <a:pt x="832" y="5047"/>
                      </a:lnTo>
                      <a:lnTo>
                        <a:pt x="834" y="5053"/>
                      </a:lnTo>
                      <a:lnTo>
                        <a:pt x="839" y="5060"/>
                      </a:lnTo>
                      <a:lnTo>
                        <a:pt x="850" y="5072"/>
                      </a:lnTo>
                      <a:lnTo>
                        <a:pt x="864" y="5086"/>
                      </a:lnTo>
                      <a:lnTo>
                        <a:pt x="864" y="5086"/>
                      </a:lnTo>
                      <a:lnTo>
                        <a:pt x="878" y="5101"/>
                      </a:lnTo>
                      <a:lnTo>
                        <a:pt x="892" y="5111"/>
                      </a:lnTo>
                      <a:lnTo>
                        <a:pt x="897" y="5116"/>
                      </a:lnTo>
                      <a:lnTo>
                        <a:pt x="903" y="5119"/>
                      </a:lnTo>
                      <a:lnTo>
                        <a:pt x="910" y="5121"/>
                      </a:lnTo>
                      <a:lnTo>
                        <a:pt x="918" y="5121"/>
                      </a:lnTo>
                      <a:lnTo>
                        <a:pt x="926" y="5121"/>
                      </a:lnTo>
                      <a:lnTo>
                        <a:pt x="936" y="5121"/>
                      </a:lnTo>
                      <a:lnTo>
                        <a:pt x="961" y="5114"/>
                      </a:lnTo>
                      <a:lnTo>
                        <a:pt x="992" y="5103"/>
                      </a:lnTo>
                      <a:lnTo>
                        <a:pt x="1033" y="5086"/>
                      </a:lnTo>
                      <a:lnTo>
                        <a:pt x="1033" y="5086"/>
                      </a:lnTo>
                      <a:lnTo>
                        <a:pt x="1065" y="5072"/>
                      </a:lnTo>
                      <a:lnTo>
                        <a:pt x="1093" y="5058"/>
                      </a:lnTo>
                      <a:lnTo>
                        <a:pt x="1142" y="5032"/>
                      </a:lnTo>
                      <a:lnTo>
                        <a:pt x="1182" y="5007"/>
                      </a:lnTo>
                      <a:lnTo>
                        <a:pt x="1211" y="4987"/>
                      </a:lnTo>
                      <a:lnTo>
                        <a:pt x="1211" y="4987"/>
                      </a:lnTo>
                      <a:lnTo>
                        <a:pt x="1254" y="5025"/>
                      </a:lnTo>
                      <a:lnTo>
                        <a:pt x="1301" y="5062"/>
                      </a:lnTo>
                      <a:lnTo>
                        <a:pt x="1301" y="5062"/>
                      </a:lnTo>
                      <a:lnTo>
                        <a:pt x="1286" y="5095"/>
                      </a:lnTo>
                      <a:lnTo>
                        <a:pt x="1268" y="5138"/>
                      </a:lnTo>
                      <a:lnTo>
                        <a:pt x="1249" y="5190"/>
                      </a:lnTo>
                      <a:lnTo>
                        <a:pt x="1241" y="5222"/>
                      </a:lnTo>
                      <a:lnTo>
                        <a:pt x="1233" y="5255"/>
                      </a:lnTo>
                      <a:lnTo>
                        <a:pt x="1233" y="5255"/>
                      </a:lnTo>
                      <a:lnTo>
                        <a:pt x="1223" y="5297"/>
                      </a:lnTo>
                      <a:lnTo>
                        <a:pt x="1218" y="5330"/>
                      </a:lnTo>
                      <a:lnTo>
                        <a:pt x="1216" y="5355"/>
                      </a:lnTo>
                      <a:lnTo>
                        <a:pt x="1216" y="5365"/>
                      </a:lnTo>
                      <a:lnTo>
                        <a:pt x="1218" y="5373"/>
                      </a:lnTo>
                      <a:lnTo>
                        <a:pt x="1220" y="5382"/>
                      </a:lnTo>
                      <a:lnTo>
                        <a:pt x="1223" y="5386"/>
                      </a:lnTo>
                      <a:lnTo>
                        <a:pt x="1228" y="5393"/>
                      </a:lnTo>
                      <a:lnTo>
                        <a:pt x="1233" y="5398"/>
                      </a:lnTo>
                      <a:lnTo>
                        <a:pt x="1246" y="5410"/>
                      </a:lnTo>
                      <a:lnTo>
                        <a:pt x="1263" y="5421"/>
                      </a:lnTo>
                      <a:lnTo>
                        <a:pt x="1263" y="5421"/>
                      </a:lnTo>
                      <a:lnTo>
                        <a:pt x="1279" y="5433"/>
                      </a:lnTo>
                      <a:lnTo>
                        <a:pt x="1294" y="5441"/>
                      </a:lnTo>
                      <a:lnTo>
                        <a:pt x="1301" y="5444"/>
                      </a:lnTo>
                      <a:lnTo>
                        <a:pt x="1307" y="5446"/>
                      </a:lnTo>
                      <a:lnTo>
                        <a:pt x="1314" y="5446"/>
                      </a:lnTo>
                      <a:lnTo>
                        <a:pt x="1322" y="5446"/>
                      </a:lnTo>
                      <a:lnTo>
                        <a:pt x="1330" y="5444"/>
                      </a:lnTo>
                      <a:lnTo>
                        <a:pt x="1340" y="5441"/>
                      </a:lnTo>
                      <a:lnTo>
                        <a:pt x="1363" y="5431"/>
                      </a:lnTo>
                      <a:lnTo>
                        <a:pt x="1391" y="5415"/>
                      </a:lnTo>
                      <a:lnTo>
                        <a:pt x="1429" y="5391"/>
                      </a:lnTo>
                      <a:lnTo>
                        <a:pt x="1429" y="5391"/>
                      </a:lnTo>
                      <a:lnTo>
                        <a:pt x="1457" y="5372"/>
                      </a:lnTo>
                      <a:lnTo>
                        <a:pt x="1484" y="5354"/>
                      </a:lnTo>
                      <a:lnTo>
                        <a:pt x="1526" y="5319"/>
                      </a:lnTo>
                      <a:lnTo>
                        <a:pt x="1561" y="5288"/>
                      </a:lnTo>
                      <a:lnTo>
                        <a:pt x="1586" y="5263"/>
                      </a:lnTo>
                      <a:lnTo>
                        <a:pt x="1586" y="5263"/>
                      </a:lnTo>
                      <a:lnTo>
                        <a:pt x="1637" y="5292"/>
                      </a:lnTo>
                      <a:lnTo>
                        <a:pt x="1688" y="5322"/>
                      </a:lnTo>
                      <a:lnTo>
                        <a:pt x="1688" y="5322"/>
                      </a:lnTo>
                      <a:lnTo>
                        <a:pt x="1678" y="5355"/>
                      </a:lnTo>
                      <a:lnTo>
                        <a:pt x="1670" y="5401"/>
                      </a:lnTo>
                      <a:lnTo>
                        <a:pt x="1662" y="5456"/>
                      </a:lnTo>
                      <a:lnTo>
                        <a:pt x="1658" y="5487"/>
                      </a:lnTo>
                      <a:lnTo>
                        <a:pt x="1655" y="5522"/>
                      </a:lnTo>
                      <a:lnTo>
                        <a:pt x="1655" y="5522"/>
                      </a:lnTo>
                      <a:lnTo>
                        <a:pt x="1653" y="5566"/>
                      </a:lnTo>
                      <a:lnTo>
                        <a:pt x="1653" y="5599"/>
                      </a:lnTo>
                      <a:lnTo>
                        <a:pt x="1657" y="5624"/>
                      </a:lnTo>
                      <a:lnTo>
                        <a:pt x="1658" y="5634"/>
                      </a:lnTo>
                      <a:lnTo>
                        <a:pt x="1662" y="5642"/>
                      </a:lnTo>
                      <a:lnTo>
                        <a:pt x="1665" y="5649"/>
                      </a:lnTo>
                      <a:lnTo>
                        <a:pt x="1670" y="5655"/>
                      </a:lnTo>
                      <a:lnTo>
                        <a:pt x="1675" y="5660"/>
                      </a:lnTo>
                      <a:lnTo>
                        <a:pt x="1680" y="5663"/>
                      </a:lnTo>
                      <a:lnTo>
                        <a:pt x="1695" y="5672"/>
                      </a:lnTo>
                      <a:lnTo>
                        <a:pt x="1713" y="5680"/>
                      </a:lnTo>
                      <a:lnTo>
                        <a:pt x="1713" y="5680"/>
                      </a:lnTo>
                      <a:lnTo>
                        <a:pt x="1731" y="5690"/>
                      </a:lnTo>
                      <a:lnTo>
                        <a:pt x="1747" y="5695"/>
                      </a:lnTo>
                      <a:lnTo>
                        <a:pt x="1754" y="5696"/>
                      </a:lnTo>
                      <a:lnTo>
                        <a:pt x="1762" y="5698"/>
                      </a:lnTo>
                      <a:lnTo>
                        <a:pt x="1769" y="5696"/>
                      </a:lnTo>
                      <a:lnTo>
                        <a:pt x="1775" y="5695"/>
                      </a:lnTo>
                      <a:lnTo>
                        <a:pt x="1784" y="5693"/>
                      </a:lnTo>
                      <a:lnTo>
                        <a:pt x="1793" y="5688"/>
                      </a:lnTo>
                      <a:lnTo>
                        <a:pt x="1813" y="5673"/>
                      </a:lnTo>
                      <a:lnTo>
                        <a:pt x="1840" y="5654"/>
                      </a:lnTo>
                      <a:lnTo>
                        <a:pt x="1871" y="5622"/>
                      </a:lnTo>
                      <a:lnTo>
                        <a:pt x="1871" y="5622"/>
                      </a:lnTo>
                      <a:lnTo>
                        <a:pt x="1896" y="5599"/>
                      </a:lnTo>
                      <a:lnTo>
                        <a:pt x="1919" y="5576"/>
                      </a:lnTo>
                      <a:lnTo>
                        <a:pt x="1955" y="5535"/>
                      </a:lnTo>
                      <a:lnTo>
                        <a:pt x="1985" y="5499"/>
                      </a:lnTo>
                      <a:lnTo>
                        <a:pt x="2005" y="5469"/>
                      </a:lnTo>
                      <a:lnTo>
                        <a:pt x="2005" y="5469"/>
                      </a:lnTo>
                      <a:lnTo>
                        <a:pt x="2059" y="5490"/>
                      </a:lnTo>
                      <a:lnTo>
                        <a:pt x="2115" y="5508"/>
                      </a:lnTo>
                      <a:lnTo>
                        <a:pt x="2115" y="5508"/>
                      </a:lnTo>
                      <a:lnTo>
                        <a:pt x="2112" y="5545"/>
                      </a:lnTo>
                      <a:lnTo>
                        <a:pt x="2110" y="5591"/>
                      </a:lnTo>
                      <a:lnTo>
                        <a:pt x="2112" y="5647"/>
                      </a:lnTo>
                      <a:lnTo>
                        <a:pt x="2113" y="5678"/>
                      </a:lnTo>
                      <a:lnTo>
                        <a:pt x="2118" y="5713"/>
                      </a:lnTo>
                      <a:lnTo>
                        <a:pt x="2118" y="5713"/>
                      </a:lnTo>
                      <a:lnTo>
                        <a:pt x="2123" y="5756"/>
                      </a:lnTo>
                      <a:lnTo>
                        <a:pt x="2130" y="5789"/>
                      </a:lnTo>
                      <a:lnTo>
                        <a:pt x="2136" y="5814"/>
                      </a:lnTo>
                      <a:lnTo>
                        <a:pt x="2140" y="5822"/>
                      </a:lnTo>
                      <a:lnTo>
                        <a:pt x="2145" y="5830"/>
                      </a:lnTo>
                      <a:lnTo>
                        <a:pt x="2148" y="5835"/>
                      </a:lnTo>
                      <a:lnTo>
                        <a:pt x="2155" y="5840"/>
                      </a:lnTo>
                      <a:lnTo>
                        <a:pt x="2160" y="5845"/>
                      </a:lnTo>
                      <a:lnTo>
                        <a:pt x="2166" y="5848"/>
                      </a:lnTo>
                      <a:lnTo>
                        <a:pt x="2183" y="5853"/>
                      </a:lnTo>
                      <a:lnTo>
                        <a:pt x="2202" y="5858"/>
                      </a:lnTo>
                      <a:lnTo>
                        <a:pt x="2202" y="5858"/>
                      </a:lnTo>
                      <a:lnTo>
                        <a:pt x="2222" y="5865"/>
                      </a:lnTo>
                      <a:lnTo>
                        <a:pt x="2239" y="5866"/>
                      </a:lnTo>
                      <a:lnTo>
                        <a:pt x="2245" y="5868"/>
                      </a:lnTo>
                      <a:lnTo>
                        <a:pt x="2252" y="5866"/>
                      </a:lnTo>
                      <a:lnTo>
                        <a:pt x="2260" y="5865"/>
                      </a:lnTo>
                      <a:lnTo>
                        <a:pt x="2267" y="5863"/>
                      </a:lnTo>
                      <a:lnTo>
                        <a:pt x="2275" y="5858"/>
                      </a:lnTo>
                      <a:lnTo>
                        <a:pt x="2282" y="5851"/>
                      </a:lnTo>
                      <a:lnTo>
                        <a:pt x="2300" y="5835"/>
                      </a:lnTo>
                      <a:lnTo>
                        <a:pt x="2321" y="5809"/>
                      </a:lnTo>
                      <a:lnTo>
                        <a:pt x="2347" y="5774"/>
                      </a:lnTo>
                      <a:lnTo>
                        <a:pt x="2347" y="5774"/>
                      </a:lnTo>
                      <a:lnTo>
                        <a:pt x="2369" y="5746"/>
                      </a:lnTo>
                      <a:lnTo>
                        <a:pt x="2385" y="5720"/>
                      </a:lnTo>
                      <a:lnTo>
                        <a:pt x="2415" y="5673"/>
                      </a:lnTo>
                      <a:lnTo>
                        <a:pt x="2437" y="5632"/>
                      </a:lnTo>
                      <a:lnTo>
                        <a:pt x="2453" y="5599"/>
                      </a:lnTo>
                      <a:lnTo>
                        <a:pt x="2453" y="5599"/>
                      </a:lnTo>
                      <a:lnTo>
                        <a:pt x="2511" y="5611"/>
                      </a:lnTo>
                      <a:lnTo>
                        <a:pt x="2568" y="5621"/>
                      </a:lnTo>
                      <a:lnTo>
                        <a:pt x="2568" y="5621"/>
                      </a:lnTo>
                      <a:lnTo>
                        <a:pt x="2570" y="5657"/>
                      </a:lnTo>
                      <a:lnTo>
                        <a:pt x="2577" y="5701"/>
                      </a:lnTo>
                      <a:lnTo>
                        <a:pt x="2588" y="5756"/>
                      </a:lnTo>
                      <a:lnTo>
                        <a:pt x="2596" y="5787"/>
                      </a:lnTo>
                      <a:lnTo>
                        <a:pt x="2606" y="5820"/>
                      </a:lnTo>
                      <a:lnTo>
                        <a:pt x="2606" y="5820"/>
                      </a:lnTo>
                      <a:lnTo>
                        <a:pt x="2620" y="5861"/>
                      </a:lnTo>
                      <a:lnTo>
                        <a:pt x="2631" y="5893"/>
                      </a:lnTo>
                      <a:lnTo>
                        <a:pt x="2641" y="5916"/>
                      </a:lnTo>
                      <a:lnTo>
                        <a:pt x="2648" y="5924"/>
                      </a:lnTo>
                      <a:lnTo>
                        <a:pt x="2652" y="5931"/>
                      </a:lnTo>
                      <a:lnTo>
                        <a:pt x="2657" y="5936"/>
                      </a:lnTo>
                      <a:lnTo>
                        <a:pt x="2664" y="5939"/>
                      </a:lnTo>
                      <a:lnTo>
                        <a:pt x="2671" y="5942"/>
                      </a:lnTo>
                      <a:lnTo>
                        <a:pt x="2677" y="5945"/>
                      </a:lnTo>
                      <a:lnTo>
                        <a:pt x="2694" y="5947"/>
                      </a:lnTo>
                      <a:lnTo>
                        <a:pt x="2715" y="5949"/>
                      </a:lnTo>
                      <a:lnTo>
                        <a:pt x="2715" y="5949"/>
                      </a:lnTo>
                      <a:lnTo>
                        <a:pt x="2735" y="5950"/>
                      </a:lnTo>
                      <a:lnTo>
                        <a:pt x="2751" y="5950"/>
                      </a:lnTo>
                      <a:lnTo>
                        <a:pt x="2758" y="5950"/>
                      </a:lnTo>
                      <a:lnTo>
                        <a:pt x="2766" y="5949"/>
                      </a:lnTo>
                      <a:lnTo>
                        <a:pt x="2773" y="5945"/>
                      </a:lnTo>
                      <a:lnTo>
                        <a:pt x="2779" y="5942"/>
                      </a:lnTo>
                      <a:lnTo>
                        <a:pt x="2786" y="5936"/>
                      </a:lnTo>
                      <a:lnTo>
                        <a:pt x="2793" y="5929"/>
                      </a:lnTo>
                      <a:lnTo>
                        <a:pt x="2806" y="5909"/>
                      </a:lnTo>
                      <a:lnTo>
                        <a:pt x="2824" y="5879"/>
                      </a:lnTo>
                      <a:lnTo>
                        <a:pt x="2844" y="5840"/>
                      </a:lnTo>
                      <a:lnTo>
                        <a:pt x="2844" y="5840"/>
                      </a:lnTo>
                      <a:lnTo>
                        <a:pt x="2859" y="5810"/>
                      </a:lnTo>
                      <a:lnTo>
                        <a:pt x="2872" y="5781"/>
                      </a:lnTo>
                      <a:lnTo>
                        <a:pt x="2892" y="5729"/>
                      </a:lnTo>
                      <a:lnTo>
                        <a:pt x="2906" y="5687"/>
                      </a:lnTo>
                      <a:lnTo>
                        <a:pt x="2916" y="5652"/>
                      </a:lnTo>
                      <a:lnTo>
                        <a:pt x="2916" y="5652"/>
                      </a:lnTo>
                      <a:lnTo>
                        <a:pt x="2974" y="5652"/>
                      </a:lnTo>
                      <a:lnTo>
                        <a:pt x="3033" y="5652"/>
                      </a:lnTo>
                      <a:lnTo>
                        <a:pt x="3033" y="5652"/>
                      </a:lnTo>
                      <a:lnTo>
                        <a:pt x="3043" y="5687"/>
                      </a:lnTo>
                      <a:lnTo>
                        <a:pt x="3056" y="5729"/>
                      </a:lnTo>
                      <a:lnTo>
                        <a:pt x="3078" y="5781"/>
                      </a:lnTo>
                      <a:lnTo>
                        <a:pt x="3091" y="5810"/>
                      </a:lnTo>
                      <a:lnTo>
                        <a:pt x="3106" y="5840"/>
                      </a:lnTo>
                      <a:lnTo>
                        <a:pt x="3106" y="5840"/>
                      </a:lnTo>
                      <a:lnTo>
                        <a:pt x="3126" y="5879"/>
                      </a:lnTo>
                      <a:lnTo>
                        <a:pt x="3142" y="5909"/>
                      </a:lnTo>
                      <a:lnTo>
                        <a:pt x="3157" y="5929"/>
                      </a:lnTo>
                      <a:lnTo>
                        <a:pt x="3164" y="5936"/>
                      </a:lnTo>
                      <a:lnTo>
                        <a:pt x="3170" y="5942"/>
                      </a:lnTo>
                      <a:lnTo>
                        <a:pt x="3177" y="5945"/>
                      </a:lnTo>
                      <a:lnTo>
                        <a:pt x="3183" y="5949"/>
                      </a:lnTo>
                      <a:lnTo>
                        <a:pt x="3190" y="5950"/>
                      </a:lnTo>
                      <a:lnTo>
                        <a:pt x="3198" y="5950"/>
                      </a:lnTo>
                      <a:lnTo>
                        <a:pt x="3215" y="5950"/>
                      </a:lnTo>
                      <a:lnTo>
                        <a:pt x="3235" y="5949"/>
                      </a:lnTo>
                      <a:lnTo>
                        <a:pt x="3235" y="5949"/>
                      </a:lnTo>
                      <a:lnTo>
                        <a:pt x="3254" y="5947"/>
                      </a:lnTo>
                      <a:lnTo>
                        <a:pt x="3271" y="5945"/>
                      </a:lnTo>
                      <a:lnTo>
                        <a:pt x="3279" y="5942"/>
                      </a:lnTo>
                      <a:lnTo>
                        <a:pt x="3286" y="5939"/>
                      </a:lnTo>
                      <a:lnTo>
                        <a:pt x="3291" y="5936"/>
                      </a:lnTo>
                      <a:lnTo>
                        <a:pt x="3297" y="5931"/>
                      </a:lnTo>
                      <a:lnTo>
                        <a:pt x="3302" y="5924"/>
                      </a:lnTo>
                      <a:lnTo>
                        <a:pt x="3307" y="5916"/>
                      </a:lnTo>
                      <a:lnTo>
                        <a:pt x="3319" y="5893"/>
                      </a:lnTo>
                      <a:lnTo>
                        <a:pt x="3330" y="5861"/>
                      </a:lnTo>
                      <a:lnTo>
                        <a:pt x="3343" y="5820"/>
                      </a:lnTo>
                      <a:lnTo>
                        <a:pt x="3343" y="5820"/>
                      </a:lnTo>
                      <a:lnTo>
                        <a:pt x="3353" y="5787"/>
                      </a:lnTo>
                      <a:lnTo>
                        <a:pt x="3360" y="5756"/>
                      </a:lnTo>
                      <a:lnTo>
                        <a:pt x="3371" y="5701"/>
                      </a:lnTo>
                      <a:lnTo>
                        <a:pt x="3378" y="5657"/>
                      </a:lnTo>
                      <a:lnTo>
                        <a:pt x="3381" y="5621"/>
                      </a:lnTo>
                      <a:lnTo>
                        <a:pt x="3381" y="5621"/>
                      </a:lnTo>
                      <a:lnTo>
                        <a:pt x="3439" y="5612"/>
                      </a:lnTo>
                      <a:lnTo>
                        <a:pt x="3497" y="5601"/>
                      </a:lnTo>
                      <a:lnTo>
                        <a:pt x="3497" y="5601"/>
                      </a:lnTo>
                      <a:lnTo>
                        <a:pt x="3511" y="5634"/>
                      </a:lnTo>
                      <a:lnTo>
                        <a:pt x="3535" y="5673"/>
                      </a:lnTo>
                      <a:lnTo>
                        <a:pt x="3563" y="5721"/>
                      </a:lnTo>
                      <a:lnTo>
                        <a:pt x="3581" y="5748"/>
                      </a:lnTo>
                      <a:lnTo>
                        <a:pt x="3601" y="5774"/>
                      </a:lnTo>
                      <a:lnTo>
                        <a:pt x="3601" y="5774"/>
                      </a:lnTo>
                      <a:lnTo>
                        <a:pt x="3627" y="5809"/>
                      </a:lnTo>
                      <a:lnTo>
                        <a:pt x="3650" y="5835"/>
                      </a:lnTo>
                      <a:lnTo>
                        <a:pt x="3666" y="5851"/>
                      </a:lnTo>
                      <a:lnTo>
                        <a:pt x="3675" y="5858"/>
                      </a:lnTo>
                      <a:lnTo>
                        <a:pt x="3683" y="5863"/>
                      </a:lnTo>
                      <a:lnTo>
                        <a:pt x="3690" y="5865"/>
                      </a:lnTo>
                      <a:lnTo>
                        <a:pt x="3696" y="5866"/>
                      </a:lnTo>
                      <a:lnTo>
                        <a:pt x="3704" y="5868"/>
                      </a:lnTo>
                      <a:lnTo>
                        <a:pt x="3711" y="5866"/>
                      </a:lnTo>
                      <a:lnTo>
                        <a:pt x="3727" y="5865"/>
                      </a:lnTo>
                      <a:lnTo>
                        <a:pt x="3747" y="5858"/>
                      </a:lnTo>
                      <a:lnTo>
                        <a:pt x="3747" y="5858"/>
                      </a:lnTo>
                      <a:lnTo>
                        <a:pt x="3767" y="5853"/>
                      </a:lnTo>
                      <a:lnTo>
                        <a:pt x="3782" y="5848"/>
                      </a:lnTo>
                      <a:lnTo>
                        <a:pt x="3788" y="5845"/>
                      </a:lnTo>
                      <a:lnTo>
                        <a:pt x="3795" y="5840"/>
                      </a:lnTo>
                      <a:lnTo>
                        <a:pt x="3800" y="5835"/>
                      </a:lnTo>
                      <a:lnTo>
                        <a:pt x="3805" y="5830"/>
                      </a:lnTo>
                      <a:lnTo>
                        <a:pt x="3810" y="5822"/>
                      </a:lnTo>
                      <a:lnTo>
                        <a:pt x="3813" y="5814"/>
                      </a:lnTo>
                      <a:lnTo>
                        <a:pt x="3820" y="5789"/>
                      </a:lnTo>
                      <a:lnTo>
                        <a:pt x="3826" y="5756"/>
                      </a:lnTo>
                      <a:lnTo>
                        <a:pt x="3831" y="5713"/>
                      </a:lnTo>
                      <a:lnTo>
                        <a:pt x="3831" y="5713"/>
                      </a:lnTo>
                      <a:lnTo>
                        <a:pt x="3835" y="5678"/>
                      </a:lnTo>
                      <a:lnTo>
                        <a:pt x="3838" y="5647"/>
                      </a:lnTo>
                      <a:lnTo>
                        <a:pt x="3840" y="5593"/>
                      </a:lnTo>
                      <a:lnTo>
                        <a:pt x="3838" y="5546"/>
                      </a:lnTo>
                      <a:lnTo>
                        <a:pt x="3835" y="5510"/>
                      </a:lnTo>
                      <a:lnTo>
                        <a:pt x="3835" y="5510"/>
                      </a:lnTo>
                      <a:lnTo>
                        <a:pt x="3891" y="5490"/>
                      </a:lnTo>
                      <a:lnTo>
                        <a:pt x="3945" y="5471"/>
                      </a:lnTo>
                      <a:lnTo>
                        <a:pt x="3945" y="5471"/>
                      </a:lnTo>
                      <a:lnTo>
                        <a:pt x="3965" y="5499"/>
                      </a:lnTo>
                      <a:lnTo>
                        <a:pt x="3995" y="5535"/>
                      </a:lnTo>
                      <a:lnTo>
                        <a:pt x="4031" y="5576"/>
                      </a:lnTo>
                      <a:lnTo>
                        <a:pt x="4052" y="5599"/>
                      </a:lnTo>
                      <a:lnTo>
                        <a:pt x="4077" y="5622"/>
                      </a:lnTo>
                      <a:lnTo>
                        <a:pt x="4077" y="5622"/>
                      </a:lnTo>
                      <a:lnTo>
                        <a:pt x="4110" y="5654"/>
                      </a:lnTo>
                      <a:lnTo>
                        <a:pt x="4136" y="5673"/>
                      </a:lnTo>
                      <a:lnTo>
                        <a:pt x="4156" y="5688"/>
                      </a:lnTo>
                      <a:lnTo>
                        <a:pt x="4164" y="5693"/>
                      </a:lnTo>
                      <a:lnTo>
                        <a:pt x="4173" y="5695"/>
                      </a:lnTo>
                      <a:lnTo>
                        <a:pt x="4181" y="5696"/>
                      </a:lnTo>
                      <a:lnTo>
                        <a:pt x="4187" y="5698"/>
                      </a:lnTo>
                      <a:lnTo>
                        <a:pt x="4194" y="5696"/>
                      </a:lnTo>
                      <a:lnTo>
                        <a:pt x="4202" y="5695"/>
                      </a:lnTo>
                      <a:lnTo>
                        <a:pt x="4217" y="5690"/>
                      </a:lnTo>
                      <a:lnTo>
                        <a:pt x="4235" y="5680"/>
                      </a:lnTo>
                      <a:lnTo>
                        <a:pt x="4235" y="5680"/>
                      </a:lnTo>
                      <a:lnTo>
                        <a:pt x="4255" y="5672"/>
                      </a:lnTo>
                      <a:lnTo>
                        <a:pt x="4268" y="5663"/>
                      </a:lnTo>
                      <a:lnTo>
                        <a:pt x="4275" y="5660"/>
                      </a:lnTo>
                      <a:lnTo>
                        <a:pt x="4280" y="5655"/>
                      </a:lnTo>
                      <a:lnTo>
                        <a:pt x="4285" y="5649"/>
                      </a:lnTo>
                      <a:lnTo>
                        <a:pt x="4288" y="5642"/>
                      </a:lnTo>
                      <a:lnTo>
                        <a:pt x="4291" y="5634"/>
                      </a:lnTo>
                      <a:lnTo>
                        <a:pt x="4293" y="5624"/>
                      </a:lnTo>
                      <a:lnTo>
                        <a:pt x="4295" y="5599"/>
                      </a:lnTo>
                      <a:lnTo>
                        <a:pt x="4296" y="5566"/>
                      </a:lnTo>
                      <a:lnTo>
                        <a:pt x="4293" y="5522"/>
                      </a:lnTo>
                      <a:lnTo>
                        <a:pt x="4293" y="5522"/>
                      </a:lnTo>
                      <a:lnTo>
                        <a:pt x="4291" y="5489"/>
                      </a:lnTo>
                      <a:lnTo>
                        <a:pt x="4288" y="5457"/>
                      </a:lnTo>
                      <a:lnTo>
                        <a:pt x="4280" y="5401"/>
                      </a:lnTo>
                      <a:lnTo>
                        <a:pt x="4272" y="5357"/>
                      </a:lnTo>
                      <a:lnTo>
                        <a:pt x="4262" y="5322"/>
                      </a:lnTo>
                      <a:lnTo>
                        <a:pt x="4262" y="5322"/>
                      </a:lnTo>
                      <a:lnTo>
                        <a:pt x="4313" y="5292"/>
                      </a:lnTo>
                      <a:lnTo>
                        <a:pt x="4364" y="5263"/>
                      </a:lnTo>
                      <a:lnTo>
                        <a:pt x="4364" y="5263"/>
                      </a:lnTo>
                      <a:lnTo>
                        <a:pt x="4389" y="5289"/>
                      </a:lnTo>
                      <a:lnTo>
                        <a:pt x="4423" y="5319"/>
                      </a:lnTo>
                      <a:lnTo>
                        <a:pt x="4466" y="5354"/>
                      </a:lnTo>
                      <a:lnTo>
                        <a:pt x="4493" y="5372"/>
                      </a:lnTo>
                      <a:lnTo>
                        <a:pt x="4521" y="5391"/>
                      </a:lnTo>
                      <a:lnTo>
                        <a:pt x="4521" y="5391"/>
                      </a:lnTo>
                      <a:lnTo>
                        <a:pt x="4557" y="5415"/>
                      </a:lnTo>
                      <a:lnTo>
                        <a:pt x="4586" y="5431"/>
                      </a:lnTo>
                      <a:lnTo>
                        <a:pt x="4610" y="5443"/>
                      </a:lnTo>
                      <a:lnTo>
                        <a:pt x="4618" y="5444"/>
                      </a:lnTo>
                      <a:lnTo>
                        <a:pt x="4628" y="5446"/>
                      </a:lnTo>
                      <a:lnTo>
                        <a:pt x="4634" y="5446"/>
                      </a:lnTo>
                      <a:lnTo>
                        <a:pt x="4643" y="5446"/>
                      </a:lnTo>
                      <a:lnTo>
                        <a:pt x="4649" y="5444"/>
                      </a:lnTo>
                      <a:lnTo>
                        <a:pt x="4656" y="5441"/>
                      </a:lnTo>
                      <a:lnTo>
                        <a:pt x="4671" y="5433"/>
                      </a:lnTo>
                      <a:lnTo>
                        <a:pt x="4687" y="5421"/>
                      </a:lnTo>
                      <a:lnTo>
                        <a:pt x="4687" y="5421"/>
                      </a:lnTo>
                      <a:lnTo>
                        <a:pt x="4704" y="5410"/>
                      </a:lnTo>
                      <a:lnTo>
                        <a:pt x="4717" y="5398"/>
                      </a:lnTo>
                      <a:lnTo>
                        <a:pt x="4722" y="5393"/>
                      </a:lnTo>
                      <a:lnTo>
                        <a:pt x="4725" y="5386"/>
                      </a:lnTo>
                      <a:lnTo>
                        <a:pt x="4728" y="5382"/>
                      </a:lnTo>
                      <a:lnTo>
                        <a:pt x="4732" y="5373"/>
                      </a:lnTo>
                      <a:lnTo>
                        <a:pt x="4733" y="5365"/>
                      </a:lnTo>
                      <a:lnTo>
                        <a:pt x="4733" y="5355"/>
                      </a:lnTo>
                      <a:lnTo>
                        <a:pt x="4732" y="5330"/>
                      </a:lnTo>
                      <a:lnTo>
                        <a:pt x="4725" y="5297"/>
                      </a:lnTo>
                      <a:lnTo>
                        <a:pt x="4717" y="5255"/>
                      </a:lnTo>
                      <a:lnTo>
                        <a:pt x="4717" y="5255"/>
                      </a:lnTo>
                      <a:lnTo>
                        <a:pt x="4707" y="5222"/>
                      </a:lnTo>
                      <a:lnTo>
                        <a:pt x="4699" y="5190"/>
                      </a:lnTo>
                      <a:lnTo>
                        <a:pt x="4682" y="5138"/>
                      </a:lnTo>
                      <a:lnTo>
                        <a:pt x="4664" y="5096"/>
                      </a:lnTo>
                      <a:lnTo>
                        <a:pt x="4649" y="5063"/>
                      </a:lnTo>
                      <a:lnTo>
                        <a:pt x="4649" y="5063"/>
                      </a:lnTo>
                      <a:lnTo>
                        <a:pt x="4695" y="5025"/>
                      </a:lnTo>
                      <a:lnTo>
                        <a:pt x="4740" y="4987"/>
                      </a:lnTo>
                      <a:lnTo>
                        <a:pt x="4740" y="4987"/>
                      </a:lnTo>
                      <a:lnTo>
                        <a:pt x="4769" y="5009"/>
                      </a:lnTo>
                      <a:lnTo>
                        <a:pt x="4807" y="5032"/>
                      </a:lnTo>
                      <a:lnTo>
                        <a:pt x="4857" y="5058"/>
                      </a:lnTo>
                      <a:lnTo>
                        <a:pt x="4885" y="5072"/>
                      </a:lnTo>
                      <a:lnTo>
                        <a:pt x="4916" y="5086"/>
                      </a:lnTo>
                      <a:lnTo>
                        <a:pt x="4916" y="5086"/>
                      </a:lnTo>
                      <a:lnTo>
                        <a:pt x="4957" y="5103"/>
                      </a:lnTo>
                      <a:lnTo>
                        <a:pt x="4989" y="5114"/>
                      </a:lnTo>
                      <a:lnTo>
                        <a:pt x="5012" y="5121"/>
                      </a:lnTo>
                      <a:lnTo>
                        <a:pt x="5022" y="5121"/>
                      </a:lnTo>
                      <a:lnTo>
                        <a:pt x="5032" y="5121"/>
                      </a:lnTo>
                      <a:lnTo>
                        <a:pt x="5038" y="5121"/>
                      </a:lnTo>
                      <a:lnTo>
                        <a:pt x="5045" y="5119"/>
                      </a:lnTo>
                      <a:lnTo>
                        <a:pt x="5051" y="5116"/>
                      </a:lnTo>
                      <a:lnTo>
                        <a:pt x="5058" y="5111"/>
                      </a:lnTo>
                      <a:lnTo>
                        <a:pt x="5071" y="5101"/>
                      </a:lnTo>
                      <a:lnTo>
                        <a:pt x="5084" y="5086"/>
                      </a:lnTo>
                      <a:lnTo>
                        <a:pt x="5084" y="5086"/>
                      </a:lnTo>
                      <a:lnTo>
                        <a:pt x="5099" y="5072"/>
                      </a:lnTo>
                      <a:lnTo>
                        <a:pt x="5111" y="5060"/>
                      </a:lnTo>
                      <a:lnTo>
                        <a:pt x="5114" y="5053"/>
                      </a:lnTo>
                      <a:lnTo>
                        <a:pt x="5117" y="5047"/>
                      </a:lnTo>
                      <a:lnTo>
                        <a:pt x="5119" y="5040"/>
                      </a:lnTo>
                      <a:lnTo>
                        <a:pt x="5121" y="5032"/>
                      </a:lnTo>
                      <a:lnTo>
                        <a:pt x="5121" y="5024"/>
                      </a:lnTo>
                      <a:lnTo>
                        <a:pt x="5119" y="5014"/>
                      </a:lnTo>
                      <a:lnTo>
                        <a:pt x="5114" y="4989"/>
                      </a:lnTo>
                      <a:lnTo>
                        <a:pt x="5103" y="4958"/>
                      </a:lnTo>
                      <a:lnTo>
                        <a:pt x="5084" y="4917"/>
                      </a:lnTo>
                      <a:lnTo>
                        <a:pt x="5084" y="4917"/>
                      </a:lnTo>
                      <a:lnTo>
                        <a:pt x="5071" y="4887"/>
                      </a:lnTo>
                      <a:lnTo>
                        <a:pt x="5058" y="4857"/>
                      </a:lnTo>
                      <a:lnTo>
                        <a:pt x="5032" y="4809"/>
                      </a:lnTo>
                      <a:lnTo>
                        <a:pt x="5007" y="4770"/>
                      </a:lnTo>
                      <a:lnTo>
                        <a:pt x="4987" y="4740"/>
                      </a:lnTo>
                      <a:lnTo>
                        <a:pt x="4987" y="4740"/>
                      </a:lnTo>
                      <a:lnTo>
                        <a:pt x="5025" y="4696"/>
                      </a:lnTo>
                      <a:lnTo>
                        <a:pt x="5063" y="4651"/>
                      </a:lnTo>
                      <a:lnTo>
                        <a:pt x="5063" y="4651"/>
                      </a:lnTo>
                      <a:lnTo>
                        <a:pt x="5094" y="4666"/>
                      </a:lnTo>
                      <a:lnTo>
                        <a:pt x="5137" y="4682"/>
                      </a:lnTo>
                      <a:lnTo>
                        <a:pt x="5190" y="4701"/>
                      </a:lnTo>
                      <a:lnTo>
                        <a:pt x="5220" y="4709"/>
                      </a:lnTo>
                      <a:lnTo>
                        <a:pt x="5253" y="4717"/>
                      </a:lnTo>
                      <a:lnTo>
                        <a:pt x="5253" y="4717"/>
                      </a:lnTo>
                      <a:lnTo>
                        <a:pt x="5297" y="4727"/>
                      </a:lnTo>
                      <a:lnTo>
                        <a:pt x="5330" y="4732"/>
                      </a:lnTo>
                      <a:lnTo>
                        <a:pt x="5355" y="4734"/>
                      </a:lnTo>
                      <a:lnTo>
                        <a:pt x="5363" y="4734"/>
                      </a:lnTo>
                      <a:lnTo>
                        <a:pt x="5373" y="4732"/>
                      </a:lnTo>
                      <a:lnTo>
                        <a:pt x="5380" y="4730"/>
                      </a:lnTo>
                      <a:lnTo>
                        <a:pt x="5386" y="4727"/>
                      </a:lnTo>
                      <a:lnTo>
                        <a:pt x="5393" y="4722"/>
                      </a:lnTo>
                      <a:lnTo>
                        <a:pt x="5398" y="4717"/>
                      </a:lnTo>
                      <a:lnTo>
                        <a:pt x="5408" y="4704"/>
                      </a:lnTo>
                      <a:lnTo>
                        <a:pt x="5419" y="4687"/>
                      </a:lnTo>
                      <a:lnTo>
                        <a:pt x="5419" y="4687"/>
                      </a:lnTo>
                      <a:lnTo>
                        <a:pt x="5431" y="4671"/>
                      </a:lnTo>
                      <a:lnTo>
                        <a:pt x="5441" y="4656"/>
                      </a:lnTo>
                      <a:lnTo>
                        <a:pt x="5442" y="4649"/>
                      </a:lnTo>
                      <a:lnTo>
                        <a:pt x="5444" y="4643"/>
                      </a:lnTo>
                      <a:lnTo>
                        <a:pt x="5445" y="4636"/>
                      </a:lnTo>
                      <a:lnTo>
                        <a:pt x="5445" y="4628"/>
                      </a:lnTo>
                      <a:lnTo>
                        <a:pt x="5444" y="4620"/>
                      </a:lnTo>
                      <a:lnTo>
                        <a:pt x="5441" y="4610"/>
                      </a:lnTo>
                      <a:lnTo>
                        <a:pt x="5431" y="4587"/>
                      </a:lnTo>
                      <a:lnTo>
                        <a:pt x="5414" y="4559"/>
                      </a:lnTo>
                      <a:lnTo>
                        <a:pt x="5391" y="4521"/>
                      </a:lnTo>
                      <a:lnTo>
                        <a:pt x="5391" y="4521"/>
                      </a:lnTo>
                      <a:lnTo>
                        <a:pt x="5371" y="4493"/>
                      </a:lnTo>
                      <a:lnTo>
                        <a:pt x="5353" y="4468"/>
                      </a:lnTo>
                      <a:lnTo>
                        <a:pt x="5319" y="4424"/>
                      </a:lnTo>
                      <a:lnTo>
                        <a:pt x="5287" y="4389"/>
                      </a:lnTo>
                      <a:lnTo>
                        <a:pt x="5262" y="4364"/>
                      </a:lnTo>
                      <a:lnTo>
                        <a:pt x="5262" y="4364"/>
                      </a:lnTo>
                      <a:lnTo>
                        <a:pt x="5292" y="4313"/>
                      </a:lnTo>
                      <a:lnTo>
                        <a:pt x="5322" y="4262"/>
                      </a:lnTo>
                      <a:lnTo>
                        <a:pt x="5322" y="4262"/>
                      </a:lnTo>
                      <a:lnTo>
                        <a:pt x="5356" y="4272"/>
                      </a:lnTo>
                      <a:lnTo>
                        <a:pt x="5401" y="4282"/>
                      </a:lnTo>
                      <a:lnTo>
                        <a:pt x="5455" y="4288"/>
                      </a:lnTo>
                      <a:lnTo>
                        <a:pt x="5487" y="4292"/>
                      </a:lnTo>
                      <a:lnTo>
                        <a:pt x="5521" y="4295"/>
                      </a:lnTo>
                      <a:lnTo>
                        <a:pt x="5521" y="4295"/>
                      </a:lnTo>
                      <a:lnTo>
                        <a:pt x="5566" y="4297"/>
                      </a:lnTo>
                      <a:lnTo>
                        <a:pt x="5599" y="4297"/>
                      </a:lnTo>
                      <a:lnTo>
                        <a:pt x="5624" y="4293"/>
                      </a:lnTo>
                      <a:lnTo>
                        <a:pt x="5633" y="4292"/>
                      </a:lnTo>
                      <a:lnTo>
                        <a:pt x="5642" y="4288"/>
                      </a:lnTo>
                      <a:lnTo>
                        <a:pt x="5648" y="4285"/>
                      </a:lnTo>
                      <a:lnTo>
                        <a:pt x="5653" y="4282"/>
                      </a:lnTo>
                      <a:lnTo>
                        <a:pt x="5658" y="4275"/>
                      </a:lnTo>
                      <a:lnTo>
                        <a:pt x="5663" y="4270"/>
                      </a:lnTo>
                      <a:lnTo>
                        <a:pt x="5671" y="4255"/>
                      </a:lnTo>
                      <a:lnTo>
                        <a:pt x="5680" y="4237"/>
                      </a:lnTo>
                      <a:lnTo>
                        <a:pt x="5680" y="4237"/>
                      </a:lnTo>
                      <a:lnTo>
                        <a:pt x="5688" y="4219"/>
                      </a:lnTo>
                      <a:lnTo>
                        <a:pt x="5694" y="4203"/>
                      </a:lnTo>
                      <a:lnTo>
                        <a:pt x="5696" y="4196"/>
                      </a:lnTo>
                      <a:lnTo>
                        <a:pt x="5696" y="4189"/>
                      </a:lnTo>
                      <a:lnTo>
                        <a:pt x="5696" y="4181"/>
                      </a:lnTo>
                      <a:lnTo>
                        <a:pt x="5694" y="4175"/>
                      </a:lnTo>
                      <a:lnTo>
                        <a:pt x="5691" y="4166"/>
                      </a:lnTo>
                      <a:lnTo>
                        <a:pt x="5688" y="4157"/>
                      </a:lnTo>
                      <a:lnTo>
                        <a:pt x="5673" y="4137"/>
                      </a:lnTo>
                      <a:lnTo>
                        <a:pt x="5652" y="4110"/>
                      </a:lnTo>
                      <a:lnTo>
                        <a:pt x="5622" y="4079"/>
                      </a:lnTo>
                      <a:lnTo>
                        <a:pt x="5622" y="4079"/>
                      </a:lnTo>
                      <a:lnTo>
                        <a:pt x="5599" y="4054"/>
                      </a:lnTo>
                      <a:lnTo>
                        <a:pt x="5576" y="4031"/>
                      </a:lnTo>
                      <a:lnTo>
                        <a:pt x="5535" y="3995"/>
                      </a:lnTo>
                      <a:lnTo>
                        <a:pt x="5498" y="3967"/>
                      </a:lnTo>
                      <a:lnTo>
                        <a:pt x="5469" y="3945"/>
                      </a:lnTo>
                      <a:lnTo>
                        <a:pt x="5469" y="3945"/>
                      </a:lnTo>
                      <a:lnTo>
                        <a:pt x="5488" y="3891"/>
                      </a:lnTo>
                      <a:lnTo>
                        <a:pt x="5508" y="3835"/>
                      </a:lnTo>
                      <a:lnTo>
                        <a:pt x="5508" y="3835"/>
                      </a:lnTo>
                      <a:lnTo>
                        <a:pt x="5544" y="3838"/>
                      </a:lnTo>
                      <a:lnTo>
                        <a:pt x="5591" y="3840"/>
                      </a:lnTo>
                      <a:lnTo>
                        <a:pt x="5645" y="3838"/>
                      </a:lnTo>
                      <a:lnTo>
                        <a:pt x="5678" y="3837"/>
                      </a:lnTo>
                      <a:lnTo>
                        <a:pt x="5711" y="3832"/>
                      </a:lnTo>
                      <a:lnTo>
                        <a:pt x="5711" y="3832"/>
                      </a:lnTo>
                      <a:lnTo>
                        <a:pt x="5755" y="3827"/>
                      </a:lnTo>
                      <a:lnTo>
                        <a:pt x="5788" y="3820"/>
                      </a:lnTo>
                      <a:lnTo>
                        <a:pt x="5812" y="3814"/>
                      </a:lnTo>
                      <a:lnTo>
                        <a:pt x="5821" y="3810"/>
                      </a:lnTo>
                      <a:lnTo>
                        <a:pt x="5828" y="3805"/>
                      </a:lnTo>
                      <a:lnTo>
                        <a:pt x="5835" y="3802"/>
                      </a:lnTo>
                      <a:lnTo>
                        <a:pt x="5840" y="3795"/>
                      </a:lnTo>
                      <a:lnTo>
                        <a:pt x="5843" y="3790"/>
                      </a:lnTo>
                      <a:lnTo>
                        <a:pt x="5848" y="3784"/>
                      </a:lnTo>
                      <a:lnTo>
                        <a:pt x="5853" y="3767"/>
                      </a:lnTo>
                      <a:lnTo>
                        <a:pt x="5858" y="3748"/>
                      </a:lnTo>
                      <a:lnTo>
                        <a:pt x="5858" y="3748"/>
                      </a:lnTo>
                      <a:lnTo>
                        <a:pt x="5863" y="3728"/>
                      </a:lnTo>
                      <a:lnTo>
                        <a:pt x="5866" y="3711"/>
                      </a:lnTo>
                      <a:lnTo>
                        <a:pt x="5866" y="3705"/>
                      </a:lnTo>
                      <a:lnTo>
                        <a:pt x="5866" y="3698"/>
                      </a:lnTo>
                      <a:lnTo>
                        <a:pt x="5864" y="3690"/>
                      </a:lnTo>
                      <a:lnTo>
                        <a:pt x="5861" y="3683"/>
                      </a:lnTo>
                      <a:lnTo>
                        <a:pt x="5858" y="3677"/>
                      </a:lnTo>
                      <a:lnTo>
                        <a:pt x="5851" y="3668"/>
                      </a:lnTo>
                      <a:lnTo>
                        <a:pt x="5833" y="3650"/>
                      </a:lnTo>
                      <a:lnTo>
                        <a:pt x="5808" y="3629"/>
                      </a:lnTo>
                      <a:lnTo>
                        <a:pt x="5774" y="3603"/>
                      </a:lnTo>
                      <a:lnTo>
                        <a:pt x="5774" y="3603"/>
                      </a:lnTo>
                      <a:lnTo>
                        <a:pt x="5746" y="3581"/>
                      </a:lnTo>
                      <a:lnTo>
                        <a:pt x="5719" y="3565"/>
                      </a:lnTo>
                      <a:lnTo>
                        <a:pt x="5671" y="3535"/>
                      </a:lnTo>
                      <a:lnTo>
                        <a:pt x="5630" y="3512"/>
                      </a:lnTo>
                      <a:lnTo>
                        <a:pt x="5599" y="3497"/>
                      </a:lnTo>
                      <a:lnTo>
                        <a:pt x="5599" y="3497"/>
                      </a:lnTo>
                      <a:lnTo>
                        <a:pt x="5609" y="3439"/>
                      </a:lnTo>
                      <a:lnTo>
                        <a:pt x="5619" y="3383"/>
                      </a:lnTo>
                      <a:lnTo>
                        <a:pt x="5619" y="3383"/>
                      </a:lnTo>
                      <a:lnTo>
                        <a:pt x="5655" y="3380"/>
                      </a:lnTo>
                      <a:lnTo>
                        <a:pt x="5699" y="3373"/>
                      </a:lnTo>
                      <a:lnTo>
                        <a:pt x="5755" y="3362"/>
                      </a:lnTo>
                      <a:lnTo>
                        <a:pt x="5785" y="3354"/>
                      </a:lnTo>
                      <a:lnTo>
                        <a:pt x="5818" y="3344"/>
                      </a:lnTo>
                      <a:lnTo>
                        <a:pt x="5818" y="3344"/>
                      </a:lnTo>
                      <a:lnTo>
                        <a:pt x="5861" y="3330"/>
                      </a:lnTo>
                      <a:lnTo>
                        <a:pt x="5892" y="3319"/>
                      </a:lnTo>
                      <a:lnTo>
                        <a:pt x="5914" y="3309"/>
                      </a:lnTo>
                      <a:lnTo>
                        <a:pt x="5922" y="3302"/>
                      </a:lnTo>
                      <a:lnTo>
                        <a:pt x="5929" y="3298"/>
                      </a:lnTo>
                      <a:lnTo>
                        <a:pt x="5935" y="3293"/>
                      </a:lnTo>
                      <a:lnTo>
                        <a:pt x="5938" y="3286"/>
                      </a:lnTo>
                      <a:lnTo>
                        <a:pt x="5942" y="3279"/>
                      </a:lnTo>
                      <a:lnTo>
                        <a:pt x="5943" y="3273"/>
                      </a:lnTo>
                      <a:lnTo>
                        <a:pt x="5947" y="3256"/>
                      </a:lnTo>
                      <a:lnTo>
                        <a:pt x="5948" y="3237"/>
                      </a:lnTo>
                      <a:lnTo>
                        <a:pt x="5948" y="3237"/>
                      </a:lnTo>
                      <a:lnTo>
                        <a:pt x="5950" y="3215"/>
                      </a:lnTo>
                      <a:lnTo>
                        <a:pt x="5950" y="3199"/>
                      </a:lnTo>
                      <a:lnTo>
                        <a:pt x="5950" y="3192"/>
                      </a:lnTo>
                      <a:lnTo>
                        <a:pt x="5947" y="3184"/>
                      </a:lnTo>
                      <a:lnTo>
                        <a:pt x="5945" y="3177"/>
                      </a:lnTo>
                      <a:lnTo>
                        <a:pt x="5940" y="3171"/>
                      </a:lnTo>
                      <a:lnTo>
                        <a:pt x="5935" y="3164"/>
                      </a:lnTo>
                      <a:lnTo>
                        <a:pt x="5927" y="3157"/>
                      </a:lnTo>
                      <a:lnTo>
                        <a:pt x="5907" y="3144"/>
                      </a:lnTo>
                      <a:lnTo>
                        <a:pt x="5879" y="3126"/>
                      </a:lnTo>
                      <a:lnTo>
                        <a:pt x="5840" y="3106"/>
                      </a:lnTo>
                      <a:lnTo>
                        <a:pt x="5840" y="3106"/>
                      </a:lnTo>
                      <a:close/>
                      <a:moveTo>
                        <a:pt x="2885" y="3319"/>
                      </a:moveTo>
                      <a:lnTo>
                        <a:pt x="2885" y="3319"/>
                      </a:lnTo>
                      <a:lnTo>
                        <a:pt x="2850" y="3307"/>
                      </a:lnTo>
                      <a:lnTo>
                        <a:pt x="2817" y="3294"/>
                      </a:lnTo>
                      <a:lnTo>
                        <a:pt x="2788" y="3276"/>
                      </a:lnTo>
                      <a:lnTo>
                        <a:pt x="2760" y="3256"/>
                      </a:lnTo>
                      <a:lnTo>
                        <a:pt x="2733" y="3235"/>
                      </a:lnTo>
                      <a:lnTo>
                        <a:pt x="2710" y="3210"/>
                      </a:lnTo>
                      <a:lnTo>
                        <a:pt x="2689" y="3184"/>
                      </a:lnTo>
                      <a:lnTo>
                        <a:pt x="2671" y="3154"/>
                      </a:lnTo>
                      <a:lnTo>
                        <a:pt x="2654" y="3124"/>
                      </a:lnTo>
                      <a:lnTo>
                        <a:pt x="2643" y="3093"/>
                      </a:lnTo>
                      <a:lnTo>
                        <a:pt x="2633" y="3060"/>
                      </a:lnTo>
                      <a:lnTo>
                        <a:pt x="2626" y="3027"/>
                      </a:lnTo>
                      <a:lnTo>
                        <a:pt x="2623" y="2992"/>
                      </a:lnTo>
                      <a:lnTo>
                        <a:pt x="2623" y="2958"/>
                      </a:lnTo>
                      <a:lnTo>
                        <a:pt x="2628" y="2922"/>
                      </a:lnTo>
                      <a:lnTo>
                        <a:pt x="2634" y="2887"/>
                      </a:lnTo>
                      <a:lnTo>
                        <a:pt x="2634" y="2887"/>
                      </a:lnTo>
                      <a:lnTo>
                        <a:pt x="2646" y="2852"/>
                      </a:lnTo>
                      <a:lnTo>
                        <a:pt x="2661" y="2819"/>
                      </a:lnTo>
                      <a:lnTo>
                        <a:pt x="2677" y="2790"/>
                      </a:lnTo>
                      <a:lnTo>
                        <a:pt x="2697" y="2762"/>
                      </a:lnTo>
                      <a:lnTo>
                        <a:pt x="2720" y="2735"/>
                      </a:lnTo>
                      <a:lnTo>
                        <a:pt x="2745" y="2712"/>
                      </a:lnTo>
                      <a:lnTo>
                        <a:pt x="2771" y="2691"/>
                      </a:lnTo>
                      <a:lnTo>
                        <a:pt x="2799" y="2673"/>
                      </a:lnTo>
                      <a:lnTo>
                        <a:pt x="2829" y="2656"/>
                      </a:lnTo>
                      <a:lnTo>
                        <a:pt x="2860" y="2645"/>
                      </a:lnTo>
                      <a:lnTo>
                        <a:pt x="2893" y="2635"/>
                      </a:lnTo>
                      <a:lnTo>
                        <a:pt x="2928" y="2628"/>
                      </a:lnTo>
                      <a:lnTo>
                        <a:pt x="2962" y="2625"/>
                      </a:lnTo>
                      <a:lnTo>
                        <a:pt x="2997" y="2625"/>
                      </a:lnTo>
                      <a:lnTo>
                        <a:pt x="3032" y="2630"/>
                      </a:lnTo>
                      <a:lnTo>
                        <a:pt x="3068" y="2636"/>
                      </a:lnTo>
                      <a:lnTo>
                        <a:pt x="3068" y="2636"/>
                      </a:lnTo>
                      <a:lnTo>
                        <a:pt x="3101" y="2648"/>
                      </a:lnTo>
                      <a:lnTo>
                        <a:pt x="3134" y="2663"/>
                      </a:lnTo>
                      <a:lnTo>
                        <a:pt x="3165" y="2679"/>
                      </a:lnTo>
                      <a:lnTo>
                        <a:pt x="3193" y="2699"/>
                      </a:lnTo>
                      <a:lnTo>
                        <a:pt x="3218" y="2722"/>
                      </a:lnTo>
                      <a:lnTo>
                        <a:pt x="3243" y="2747"/>
                      </a:lnTo>
                      <a:lnTo>
                        <a:pt x="3263" y="2773"/>
                      </a:lnTo>
                      <a:lnTo>
                        <a:pt x="3282" y="2801"/>
                      </a:lnTo>
                      <a:lnTo>
                        <a:pt x="3297" y="2831"/>
                      </a:lnTo>
                      <a:lnTo>
                        <a:pt x="3310" y="2864"/>
                      </a:lnTo>
                      <a:lnTo>
                        <a:pt x="3319" y="2895"/>
                      </a:lnTo>
                      <a:lnTo>
                        <a:pt x="3325" y="2930"/>
                      </a:lnTo>
                      <a:lnTo>
                        <a:pt x="3328" y="2964"/>
                      </a:lnTo>
                      <a:lnTo>
                        <a:pt x="3328" y="2999"/>
                      </a:lnTo>
                      <a:lnTo>
                        <a:pt x="3325" y="3034"/>
                      </a:lnTo>
                      <a:lnTo>
                        <a:pt x="3317" y="3070"/>
                      </a:lnTo>
                      <a:lnTo>
                        <a:pt x="3317" y="3070"/>
                      </a:lnTo>
                      <a:lnTo>
                        <a:pt x="3305" y="3103"/>
                      </a:lnTo>
                      <a:lnTo>
                        <a:pt x="3292" y="3136"/>
                      </a:lnTo>
                      <a:lnTo>
                        <a:pt x="3274" y="3167"/>
                      </a:lnTo>
                      <a:lnTo>
                        <a:pt x="3254" y="3195"/>
                      </a:lnTo>
                      <a:lnTo>
                        <a:pt x="3233" y="3222"/>
                      </a:lnTo>
                      <a:lnTo>
                        <a:pt x="3208" y="3245"/>
                      </a:lnTo>
                      <a:lnTo>
                        <a:pt x="3180" y="3266"/>
                      </a:lnTo>
                      <a:lnTo>
                        <a:pt x="3152" y="3284"/>
                      </a:lnTo>
                      <a:lnTo>
                        <a:pt x="3122" y="3299"/>
                      </a:lnTo>
                      <a:lnTo>
                        <a:pt x="3091" y="3312"/>
                      </a:lnTo>
                      <a:lnTo>
                        <a:pt x="3058" y="3321"/>
                      </a:lnTo>
                      <a:lnTo>
                        <a:pt x="3025" y="3327"/>
                      </a:lnTo>
                      <a:lnTo>
                        <a:pt x="2990" y="3330"/>
                      </a:lnTo>
                      <a:lnTo>
                        <a:pt x="2956" y="3330"/>
                      </a:lnTo>
                      <a:lnTo>
                        <a:pt x="2920" y="3327"/>
                      </a:lnTo>
                      <a:lnTo>
                        <a:pt x="2885" y="3319"/>
                      </a:lnTo>
                      <a:lnTo>
                        <a:pt x="2885" y="3319"/>
                      </a:lnTo>
                      <a:close/>
                    </a:path>
                  </a:pathLst>
                </a:custGeom>
                <a:gradFill rotWithShape="0">
                  <a:gsLst>
                    <a:gs pos="0">
                      <a:srgbClr val="a45200"/>
                    </a:gs>
                    <a:gs pos="100000">
                      <a:srgbClr val="c89834"/>
                    </a:gs>
                  </a:gsLst>
                  <a:lin ang="13500000"/>
                </a:gradFill>
                <a:ln w="9525">
                  <a:noFill/>
                </a:ln>
                <a:effectLst>
                  <a:outerShdw algn="tl" blurRad="50760" dir="2700000" dist="37674" rotWithShape="0">
                    <a:srgbClr val="000000">
                      <a:alpha val="20000"/>
                    </a:srgbClr>
                  </a:outerShdw>
                </a:effectLst>
              </p:spPr>
              <p:style>
                <a:lnRef idx="0"/>
                <a:fillRef idx="0"/>
                <a:effectRef idx="0"/>
                <a:fontRef idx="minor"/>
              </p:style>
              <p:txBody>
                <a:bodyPr numCol="1" spcCol="0" anchor="t">
                  <a:noAutofit/>
                </a:bodyPr>
                <a:p>
                  <a:pPr>
                    <a:lnSpc>
                      <a:spcPct val="85000"/>
                    </a:lnSpc>
                    <a:spcBef>
                      <a:spcPts val="360"/>
                    </a:spcBef>
                  </a:pPr>
                  <a:endParaRPr b="0" lang="en-US" sz="1800" spc="-1" strike="noStrike">
                    <a:solidFill>
                      <a:srgbClr val="000000"/>
                    </a:solidFill>
                    <a:latin typeface="Calibri"/>
                  </a:endParaRPr>
                </a:p>
              </p:txBody>
            </p:sp>
            <p:sp>
              <p:nvSpPr>
                <p:cNvPr id="609" name="Freeform 6"/>
                <p:cNvSpPr/>
                <p:nvPr/>
              </p:nvSpPr>
              <p:spPr>
                <a:xfrm>
                  <a:off x="1098720" y="550800"/>
                  <a:ext cx="1423440" cy="1423440"/>
                </a:xfrm>
                <a:custGeom>
                  <a:avLst/>
                  <a:gdLst>
                    <a:gd name="textAreaLeft" fmla="*/ 0 w 1423440"/>
                    <a:gd name="textAreaRight" fmla="*/ 1423800 w 1423440"/>
                    <a:gd name="textAreaTop" fmla="*/ 0 h 1423440"/>
                    <a:gd name="textAreaBottom" fmla="*/ 1423800 h 1423440"/>
                  </a:gdLst>
                  <a:ahLst/>
                  <a:rect l="textAreaLeft" t="textAreaTop" r="textAreaRight" b="textAreaBottom"/>
                  <a:pathLst>
                    <a:path w="5950" h="5950">
                      <a:moveTo>
                        <a:pt x="5904" y="2636"/>
                      </a:moveTo>
                      <a:lnTo>
                        <a:pt x="5904" y="2636"/>
                      </a:lnTo>
                      <a:lnTo>
                        <a:pt x="5912" y="2719"/>
                      </a:lnTo>
                      <a:lnTo>
                        <a:pt x="5919" y="2800"/>
                      </a:lnTo>
                      <a:lnTo>
                        <a:pt x="5919" y="2800"/>
                      </a:lnTo>
                      <a:lnTo>
                        <a:pt x="5930" y="2791"/>
                      </a:lnTo>
                      <a:lnTo>
                        <a:pt x="5938" y="2781"/>
                      </a:lnTo>
                      <a:lnTo>
                        <a:pt x="5945" y="2773"/>
                      </a:lnTo>
                      <a:lnTo>
                        <a:pt x="5948" y="2763"/>
                      </a:lnTo>
                      <a:lnTo>
                        <a:pt x="5950" y="2753"/>
                      </a:lnTo>
                      <a:lnTo>
                        <a:pt x="5950" y="2742"/>
                      </a:lnTo>
                      <a:lnTo>
                        <a:pt x="5948" y="2715"/>
                      </a:lnTo>
                      <a:lnTo>
                        <a:pt x="5948" y="2715"/>
                      </a:lnTo>
                      <a:lnTo>
                        <a:pt x="5945" y="2689"/>
                      </a:lnTo>
                      <a:lnTo>
                        <a:pt x="5943" y="2678"/>
                      </a:lnTo>
                      <a:lnTo>
                        <a:pt x="5940" y="2668"/>
                      </a:lnTo>
                      <a:lnTo>
                        <a:pt x="5935" y="2659"/>
                      </a:lnTo>
                      <a:lnTo>
                        <a:pt x="5927" y="2651"/>
                      </a:lnTo>
                      <a:lnTo>
                        <a:pt x="5917" y="2645"/>
                      </a:lnTo>
                      <a:lnTo>
                        <a:pt x="5904" y="2636"/>
                      </a:lnTo>
                      <a:lnTo>
                        <a:pt x="5904" y="2636"/>
                      </a:lnTo>
                      <a:close/>
                      <a:moveTo>
                        <a:pt x="2202" y="92"/>
                      </a:moveTo>
                      <a:lnTo>
                        <a:pt x="2202" y="92"/>
                      </a:lnTo>
                      <a:lnTo>
                        <a:pt x="2176" y="101"/>
                      </a:lnTo>
                      <a:lnTo>
                        <a:pt x="2164" y="104"/>
                      </a:lnTo>
                      <a:lnTo>
                        <a:pt x="2156" y="109"/>
                      </a:lnTo>
                      <a:lnTo>
                        <a:pt x="2148" y="117"/>
                      </a:lnTo>
                      <a:lnTo>
                        <a:pt x="2141" y="125"/>
                      </a:lnTo>
                      <a:lnTo>
                        <a:pt x="2136" y="138"/>
                      </a:lnTo>
                      <a:lnTo>
                        <a:pt x="2131" y="155"/>
                      </a:lnTo>
                      <a:lnTo>
                        <a:pt x="2131" y="155"/>
                      </a:lnTo>
                      <a:lnTo>
                        <a:pt x="2212" y="132"/>
                      </a:lnTo>
                      <a:lnTo>
                        <a:pt x="2295" y="110"/>
                      </a:lnTo>
                      <a:lnTo>
                        <a:pt x="2295" y="110"/>
                      </a:lnTo>
                      <a:lnTo>
                        <a:pt x="2282" y="99"/>
                      </a:lnTo>
                      <a:lnTo>
                        <a:pt x="2272" y="91"/>
                      </a:lnTo>
                      <a:lnTo>
                        <a:pt x="2260" y="86"/>
                      </a:lnTo>
                      <a:lnTo>
                        <a:pt x="2250" y="84"/>
                      </a:lnTo>
                      <a:lnTo>
                        <a:pt x="2240" y="84"/>
                      </a:lnTo>
                      <a:lnTo>
                        <a:pt x="2229" y="86"/>
                      </a:lnTo>
                      <a:lnTo>
                        <a:pt x="2202" y="92"/>
                      </a:lnTo>
                      <a:lnTo>
                        <a:pt x="2202" y="92"/>
                      </a:lnTo>
                      <a:close/>
                      <a:moveTo>
                        <a:pt x="5419" y="1263"/>
                      </a:moveTo>
                      <a:lnTo>
                        <a:pt x="5419" y="1263"/>
                      </a:lnTo>
                      <a:lnTo>
                        <a:pt x="5404" y="1242"/>
                      </a:lnTo>
                      <a:lnTo>
                        <a:pt x="5396" y="1233"/>
                      </a:lnTo>
                      <a:lnTo>
                        <a:pt x="5388" y="1227"/>
                      </a:lnTo>
                      <a:lnTo>
                        <a:pt x="5380" y="1222"/>
                      </a:lnTo>
                      <a:lnTo>
                        <a:pt x="5368" y="1218"/>
                      </a:lnTo>
                      <a:lnTo>
                        <a:pt x="5355" y="1217"/>
                      </a:lnTo>
                      <a:lnTo>
                        <a:pt x="5340" y="1218"/>
                      </a:lnTo>
                      <a:lnTo>
                        <a:pt x="5340" y="1218"/>
                      </a:lnTo>
                      <a:lnTo>
                        <a:pt x="5388" y="1286"/>
                      </a:lnTo>
                      <a:lnTo>
                        <a:pt x="5436" y="1354"/>
                      </a:lnTo>
                      <a:lnTo>
                        <a:pt x="5436" y="1354"/>
                      </a:lnTo>
                      <a:lnTo>
                        <a:pt x="5441" y="1339"/>
                      </a:lnTo>
                      <a:lnTo>
                        <a:pt x="5444" y="1327"/>
                      </a:lnTo>
                      <a:lnTo>
                        <a:pt x="5445" y="1316"/>
                      </a:lnTo>
                      <a:lnTo>
                        <a:pt x="5444" y="1306"/>
                      </a:lnTo>
                      <a:lnTo>
                        <a:pt x="5441" y="1296"/>
                      </a:lnTo>
                      <a:lnTo>
                        <a:pt x="5436" y="1286"/>
                      </a:lnTo>
                      <a:lnTo>
                        <a:pt x="5419" y="1263"/>
                      </a:lnTo>
                      <a:lnTo>
                        <a:pt x="5419" y="1263"/>
                      </a:lnTo>
                      <a:close/>
                      <a:moveTo>
                        <a:pt x="5919" y="3151"/>
                      </a:moveTo>
                      <a:lnTo>
                        <a:pt x="5919" y="3151"/>
                      </a:lnTo>
                      <a:lnTo>
                        <a:pt x="5912" y="3233"/>
                      </a:lnTo>
                      <a:lnTo>
                        <a:pt x="5904" y="3314"/>
                      </a:lnTo>
                      <a:lnTo>
                        <a:pt x="5904" y="3314"/>
                      </a:lnTo>
                      <a:lnTo>
                        <a:pt x="5917" y="3307"/>
                      </a:lnTo>
                      <a:lnTo>
                        <a:pt x="5927" y="3299"/>
                      </a:lnTo>
                      <a:lnTo>
                        <a:pt x="5935" y="3291"/>
                      </a:lnTo>
                      <a:lnTo>
                        <a:pt x="5940" y="3283"/>
                      </a:lnTo>
                      <a:lnTo>
                        <a:pt x="5943" y="3273"/>
                      </a:lnTo>
                      <a:lnTo>
                        <a:pt x="5945" y="3263"/>
                      </a:lnTo>
                      <a:lnTo>
                        <a:pt x="5948" y="3237"/>
                      </a:lnTo>
                      <a:lnTo>
                        <a:pt x="5948" y="3237"/>
                      </a:lnTo>
                      <a:lnTo>
                        <a:pt x="5950" y="3208"/>
                      </a:lnTo>
                      <a:lnTo>
                        <a:pt x="5950" y="3199"/>
                      </a:lnTo>
                      <a:lnTo>
                        <a:pt x="5948" y="3187"/>
                      </a:lnTo>
                      <a:lnTo>
                        <a:pt x="5945" y="3179"/>
                      </a:lnTo>
                      <a:lnTo>
                        <a:pt x="5938" y="3169"/>
                      </a:lnTo>
                      <a:lnTo>
                        <a:pt x="5930" y="3161"/>
                      </a:lnTo>
                      <a:lnTo>
                        <a:pt x="5919" y="3151"/>
                      </a:lnTo>
                      <a:lnTo>
                        <a:pt x="5919" y="3151"/>
                      </a:lnTo>
                      <a:close/>
                      <a:moveTo>
                        <a:pt x="5800" y="2133"/>
                      </a:moveTo>
                      <a:lnTo>
                        <a:pt x="5800" y="2133"/>
                      </a:lnTo>
                      <a:lnTo>
                        <a:pt x="5821" y="2213"/>
                      </a:lnTo>
                      <a:lnTo>
                        <a:pt x="5843" y="2292"/>
                      </a:lnTo>
                      <a:lnTo>
                        <a:pt x="5843" y="2292"/>
                      </a:lnTo>
                      <a:lnTo>
                        <a:pt x="5853" y="2280"/>
                      </a:lnTo>
                      <a:lnTo>
                        <a:pt x="5859" y="2270"/>
                      </a:lnTo>
                      <a:lnTo>
                        <a:pt x="5864" y="2260"/>
                      </a:lnTo>
                      <a:lnTo>
                        <a:pt x="5866" y="2251"/>
                      </a:lnTo>
                      <a:lnTo>
                        <a:pt x="5866" y="2241"/>
                      </a:lnTo>
                      <a:lnTo>
                        <a:pt x="5864" y="2229"/>
                      </a:lnTo>
                      <a:lnTo>
                        <a:pt x="5858" y="2203"/>
                      </a:lnTo>
                      <a:lnTo>
                        <a:pt x="5858" y="2203"/>
                      </a:lnTo>
                      <a:lnTo>
                        <a:pt x="5851" y="2176"/>
                      </a:lnTo>
                      <a:lnTo>
                        <a:pt x="5846" y="2166"/>
                      </a:lnTo>
                      <a:lnTo>
                        <a:pt x="5841" y="2158"/>
                      </a:lnTo>
                      <a:lnTo>
                        <a:pt x="5835" y="2150"/>
                      </a:lnTo>
                      <a:lnTo>
                        <a:pt x="5826" y="2143"/>
                      </a:lnTo>
                      <a:lnTo>
                        <a:pt x="5815" y="2138"/>
                      </a:lnTo>
                      <a:lnTo>
                        <a:pt x="5800" y="2133"/>
                      </a:lnTo>
                      <a:lnTo>
                        <a:pt x="5800" y="2133"/>
                      </a:lnTo>
                      <a:close/>
                      <a:moveTo>
                        <a:pt x="2715" y="2"/>
                      </a:moveTo>
                      <a:lnTo>
                        <a:pt x="2715" y="2"/>
                      </a:lnTo>
                      <a:lnTo>
                        <a:pt x="2687" y="5"/>
                      </a:lnTo>
                      <a:lnTo>
                        <a:pt x="2676" y="7"/>
                      </a:lnTo>
                      <a:lnTo>
                        <a:pt x="2666" y="10"/>
                      </a:lnTo>
                      <a:lnTo>
                        <a:pt x="2657" y="16"/>
                      </a:lnTo>
                      <a:lnTo>
                        <a:pt x="2649" y="25"/>
                      </a:lnTo>
                      <a:lnTo>
                        <a:pt x="2641" y="35"/>
                      </a:lnTo>
                      <a:lnTo>
                        <a:pt x="2634" y="51"/>
                      </a:lnTo>
                      <a:lnTo>
                        <a:pt x="2634" y="51"/>
                      </a:lnTo>
                      <a:lnTo>
                        <a:pt x="2718" y="41"/>
                      </a:lnTo>
                      <a:lnTo>
                        <a:pt x="2803" y="36"/>
                      </a:lnTo>
                      <a:lnTo>
                        <a:pt x="2803" y="36"/>
                      </a:lnTo>
                      <a:lnTo>
                        <a:pt x="2791" y="21"/>
                      </a:lnTo>
                      <a:lnTo>
                        <a:pt x="2783" y="13"/>
                      </a:lnTo>
                      <a:lnTo>
                        <a:pt x="2773" y="7"/>
                      </a:lnTo>
                      <a:lnTo>
                        <a:pt x="2763" y="2"/>
                      </a:lnTo>
                      <a:lnTo>
                        <a:pt x="2753" y="0"/>
                      </a:lnTo>
                      <a:lnTo>
                        <a:pt x="2742" y="0"/>
                      </a:lnTo>
                      <a:lnTo>
                        <a:pt x="2715" y="2"/>
                      </a:lnTo>
                      <a:lnTo>
                        <a:pt x="2715" y="2"/>
                      </a:lnTo>
                      <a:close/>
                      <a:moveTo>
                        <a:pt x="4687" y="531"/>
                      </a:moveTo>
                      <a:lnTo>
                        <a:pt x="4687" y="531"/>
                      </a:lnTo>
                      <a:lnTo>
                        <a:pt x="4664" y="514"/>
                      </a:lnTo>
                      <a:lnTo>
                        <a:pt x="4654" y="509"/>
                      </a:lnTo>
                      <a:lnTo>
                        <a:pt x="4644" y="506"/>
                      </a:lnTo>
                      <a:lnTo>
                        <a:pt x="4634" y="505"/>
                      </a:lnTo>
                      <a:lnTo>
                        <a:pt x="4623" y="506"/>
                      </a:lnTo>
                      <a:lnTo>
                        <a:pt x="4611" y="509"/>
                      </a:lnTo>
                      <a:lnTo>
                        <a:pt x="4595" y="514"/>
                      </a:lnTo>
                      <a:lnTo>
                        <a:pt x="4595" y="514"/>
                      </a:lnTo>
                      <a:lnTo>
                        <a:pt x="4664" y="562"/>
                      </a:lnTo>
                      <a:lnTo>
                        <a:pt x="4732" y="610"/>
                      </a:lnTo>
                      <a:lnTo>
                        <a:pt x="4732" y="610"/>
                      </a:lnTo>
                      <a:lnTo>
                        <a:pt x="4733" y="595"/>
                      </a:lnTo>
                      <a:lnTo>
                        <a:pt x="4732" y="582"/>
                      </a:lnTo>
                      <a:lnTo>
                        <a:pt x="4728" y="570"/>
                      </a:lnTo>
                      <a:lnTo>
                        <a:pt x="4723" y="562"/>
                      </a:lnTo>
                      <a:lnTo>
                        <a:pt x="4717" y="554"/>
                      </a:lnTo>
                      <a:lnTo>
                        <a:pt x="4708" y="546"/>
                      </a:lnTo>
                      <a:lnTo>
                        <a:pt x="4687" y="531"/>
                      </a:lnTo>
                      <a:lnTo>
                        <a:pt x="4687" y="531"/>
                      </a:lnTo>
                      <a:close/>
                      <a:moveTo>
                        <a:pt x="5084" y="866"/>
                      </a:moveTo>
                      <a:lnTo>
                        <a:pt x="5084" y="866"/>
                      </a:lnTo>
                      <a:lnTo>
                        <a:pt x="5066" y="846"/>
                      </a:lnTo>
                      <a:lnTo>
                        <a:pt x="5056" y="839"/>
                      </a:lnTo>
                      <a:lnTo>
                        <a:pt x="5048" y="834"/>
                      </a:lnTo>
                      <a:lnTo>
                        <a:pt x="5038" y="831"/>
                      </a:lnTo>
                      <a:lnTo>
                        <a:pt x="5027" y="829"/>
                      </a:lnTo>
                      <a:lnTo>
                        <a:pt x="5014" y="831"/>
                      </a:lnTo>
                      <a:lnTo>
                        <a:pt x="4999" y="834"/>
                      </a:lnTo>
                      <a:lnTo>
                        <a:pt x="4999" y="834"/>
                      </a:lnTo>
                      <a:lnTo>
                        <a:pt x="5058" y="892"/>
                      </a:lnTo>
                      <a:lnTo>
                        <a:pt x="5116" y="951"/>
                      </a:lnTo>
                      <a:lnTo>
                        <a:pt x="5116" y="951"/>
                      </a:lnTo>
                      <a:lnTo>
                        <a:pt x="5119" y="936"/>
                      </a:lnTo>
                      <a:lnTo>
                        <a:pt x="5121" y="923"/>
                      </a:lnTo>
                      <a:lnTo>
                        <a:pt x="5119" y="912"/>
                      </a:lnTo>
                      <a:lnTo>
                        <a:pt x="5116" y="902"/>
                      </a:lnTo>
                      <a:lnTo>
                        <a:pt x="5111" y="894"/>
                      </a:lnTo>
                      <a:lnTo>
                        <a:pt x="5104" y="884"/>
                      </a:lnTo>
                      <a:lnTo>
                        <a:pt x="5084" y="866"/>
                      </a:lnTo>
                      <a:lnTo>
                        <a:pt x="5084" y="866"/>
                      </a:lnTo>
                      <a:close/>
                      <a:moveTo>
                        <a:pt x="5681" y="4148"/>
                      </a:moveTo>
                      <a:lnTo>
                        <a:pt x="5681" y="4148"/>
                      </a:lnTo>
                      <a:lnTo>
                        <a:pt x="5648" y="4222"/>
                      </a:lnTo>
                      <a:lnTo>
                        <a:pt x="5612" y="4295"/>
                      </a:lnTo>
                      <a:lnTo>
                        <a:pt x="5612" y="4295"/>
                      </a:lnTo>
                      <a:lnTo>
                        <a:pt x="5627" y="4293"/>
                      </a:lnTo>
                      <a:lnTo>
                        <a:pt x="5640" y="4290"/>
                      </a:lnTo>
                      <a:lnTo>
                        <a:pt x="5648" y="4285"/>
                      </a:lnTo>
                      <a:lnTo>
                        <a:pt x="5657" y="4279"/>
                      </a:lnTo>
                      <a:lnTo>
                        <a:pt x="5663" y="4270"/>
                      </a:lnTo>
                      <a:lnTo>
                        <a:pt x="5668" y="4260"/>
                      </a:lnTo>
                      <a:lnTo>
                        <a:pt x="5680" y="4237"/>
                      </a:lnTo>
                      <a:lnTo>
                        <a:pt x="5680" y="4237"/>
                      </a:lnTo>
                      <a:lnTo>
                        <a:pt x="5691" y="4213"/>
                      </a:lnTo>
                      <a:lnTo>
                        <a:pt x="5694" y="4203"/>
                      </a:lnTo>
                      <a:lnTo>
                        <a:pt x="5696" y="4193"/>
                      </a:lnTo>
                      <a:lnTo>
                        <a:pt x="5696" y="4183"/>
                      </a:lnTo>
                      <a:lnTo>
                        <a:pt x="5694" y="4171"/>
                      </a:lnTo>
                      <a:lnTo>
                        <a:pt x="5689" y="4160"/>
                      </a:lnTo>
                      <a:lnTo>
                        <a:pt x="5681" y="4148"/>
                      </a:lnTo>
                      <a:lnTo>
                        <a:pt x="5681" y="4148"/>
                      </a:lnTo>
                      <a:close/>
                      <a:moveTo>
                        <a:pt x="4146" y="5682"/>
                      </a:moveTo>
                      <a:lnTo>
                        <a:pt x="4146" y="5682"/>
                      </a:lnTo>
                      <a:lnTo>
                        <a:pt x="4159" y="5690"/>
                      </a:lnTo>
                      <a:lnTo>
                        <a:pt x="4171" y="5695"/>
                      </a:lnTo>
                      <a:lnTo>
                        <a:pt x="4181" y="5698"/>
                      </a:lnTo>
                      <a:lnTo>
                        <a:pt x="4191" y="5698"/>
                      </a:lnTo>
                      <a:lnTo>
                        <a:pt x="4201" y="5695"/>
                      </a:lnTo>
                      <a:lnTo>
                        <a:pt x="4212" y="5691"/>
                      </a:lnTo>
                      <a:lnTo>
                        <a:pt x="4235" y="5680"/>
                      </a:lnTo>
                      <a:lnTo>
                        <a:pt x="4235" y="5680"/>
                      </a:lnTo>
                      <a:lnTo>
                        <a:pt x="4260" y="5668"/>
                      </a:lnTo>
                      <a:lnTo>
                        <a:pt x="4270" y="5663"/>
                      </a:lnTo>
                      <a:lnTo>
                        <a:pt x="4278" y="5657"/>
                      </a:lnTo>
                      <a:lnTo>
                        <a:pt x="4283" y="5650"/>
                      </a:lnTo>
                      <a:lnTo>
                        <a:pt x="4288" y="5640"/>
                      </a:lnTo>
                      <a:lnTo>
                        <a:pt x="4291" y="5629"/>
                      </a:lnTo>
                      <a:lnTo>
                        <a:pt x="4295" y="5614"/>
                      </a:lnTo>
                      <a:lnTo>
                        <a:pt x="4295" y="5614"/>
                      </a:lnTo>
                      <a:lnTo>
                        <a:pt x="4220" y="5649"/>
                      </a:lnTo>
                      <a:lnTo>
                        <a:pt x="4146" y="5682"/>
                      </a:lnTo>
                      <a:lnTo>
                        <a:pt x="4146" y="5682"/>
                      </a:lnTo>
                      <a:close/>
                      <a:moveTo>
                        <a:pt x="1" y="2715"/>
                      </a:moveTo>
                      <a:lnTo>
                        <a:pt x="1" y="2715"/>
                      </a:lnTo>
                      <a:lnTo>
                        <a:pt x="0" y="2744"/>
                      </a:lnTo>
                      <a:lnTo>
                        <a:pt x="0" y="2753"/>
                      </a:lnTo>
                      <a:lnTo>
                        <a:pt x="1" y="2765"/>
                      </a:lnTo>
                      <a:lnTo>
                        <a:pt x="5" y="2773"/>
                      </a:lnTo>
                      <a:lnTo>
                        <a:pt x="11" y="2783"/>
                      </a:lnTo>
                      <a:lnTo>
                        <a:pt x="21" y="2793"/>
                      </a:lnTo>
                      <a:lnTo>
                        <a:pt x="34" y="2803"/>
                      </a:lnTo>
                      <a:lnTo>
                        <a:pt x="34" y="2803"/>
                      </a:lnTo>
                      <a:lnTo>
                        <a:pt x="41" y="2719"/>
                      </a:lnTo>
                      <a:lnTo>
                        <a:pt x="49" y="2635"/>
                      </a:lnTo>
                      <a:lnTo>
                        <a:pt x="49" y="2635"/>
                      </a:lnTo>
                      <a:lnTo>
                        <a:pt x="34" y="2643"/>
                      </a:lnTo>
                      <a:lnTo>
                        <a:pt x="23" y="2651"/>
                      </a:lnTo>
                      <a:lnTo>
                        <a:pt x="14" y="2658"/>
                      </a:lnTo>
                      <a:lnTo>
                        <a:pt x="10" y="2668"/>
                      </a:lnTo>
                      <a:lnTo>
                        <a:pt x="6" y="2678"/>
                      </a:lnTo>
                      <a:lnTo>
                        <a:pt x="3" y="2687"/>
                      </a:lnTo>
                      <a:lnTo>
                        <a:pt x="1" y="2715"/>
                      </a:lnTo>
                      <a:lnTo>
                        <a:pt x="1" y="2715"/>
                      </a:lnTo>
                      <a:close/>
                      <a:moveTo>
                        <a:pt x="1713" y="270"/>
                      </a:moveTo>
                      <a:lnTo>
                        <a:pt x="1713" y="270"/>
                      </a:lnTo>
                      <a:lnTo>
                        <a:pt x="1688" y="282"/>
                      </a:lnTo>
                      <a:lnTo>
                        <a:pt x="1678" y="289"/>
                      </a:lnTo>
                      <a:lnTo>
                        <a:pt x="1670" y="295"/>
                      </a:lnTo>
                      <a:lnTo>
                        <a:pt x="1663" y="303"/>
                      </a:lnTo>
                      <a:lnTo>
                        <a:pt x="1660" y="313"/>
                      </a:lnTo>
                      <a:lnTo>
                        <a:pt x="1657" y="328"/>
                      </a:lnTo>
                      <a:lnTo>
                        <a:pt x="1653" y="345"/>
                      </a:lnTo>
                      <a:lnTo>
                        <a:pt x="1653" y="345"/>
                      </a:lnTo>
                      <a:lnTo>
                        <a:pt x="1731" y="307"/>
                      </a:lnTo>
                      <a:lnTo>
                        <a:pt x="1808" y="272"/>
                      </a:lnTo>
                      <a:lnTo>
                        <a:pt x="1808" y="272"/>
                      </a:lnTo>
                      <a:lnTo>
                        <a:pt x="1793" y="264"/>
                      </a:lnTo>
                      <a:lnTo>
                        <a:pt x="1780" y="257"/>
                      </a:lnTo>
                      <a:lnTo>
                        <a:pt x="1770" y="254"/>
                      </a:lnTo>
                      <a:lnTo>
                        <a:pt x="1759" y="254"/>
                      </a:lnTo>
                      <a:lnTo>
                        <a:pt x="1749" y="256"/>
                      </a:lnTo>
                      <a:lnTo>
                        <a:pt x="1739" y="259"/>
                      </a:lnTo>
                      <a:lnTo>
                        <a:pt x="1713" y="270"/>
                      </a:lnTo>
                      <a:lnTo>
                        <a:pt x="1713" y="270"/>
                      </a:lnTo>
                      <a:close/>
                      <a:moveTo>
                        <a:pt x="5343" y="4734"/>
                      </a:moveTo>
                      <a:lnTo>
                        <a:pt x="5343" y="4734"/>
                      </a:lnTo>
                      <a:lnTo>
                        <a:pt x="5358" y="4734"/>
                      </a:lnTo>
                      <a:lnTo>
                        <a:pt x="5371" y="4732"/>
                      </a:lnTo>
                      <a:lnTo>
                        <a:pt x="5381" y="4729"/>
                      </a:lnTo>
                      <a:lnTo>
                        <a:pt x="5389" y="4724"/>
                      </a:lnTo>
                      <a:lnTo>
                        <a:pt x="5398" y="4717"/>
                      </a:lnTo>
                      <a:lnTo>
                        <a:pt x="5404" y="4709"/>
                      </a:lnTo>
                      <a:lnTo>
                        <a:pt x="5419" y="4687"/>
                      </a:lnTo>
                      <a:lnTo>
                        <a:pt x="5419" y="4687"/>
                      </a:lnTo>
                      <a:lnTo>
                        <a:pt x="5434" y="4666"/>
                      </a:lnTo>
                      <a:lnTo>
                        <a:pt x="5441" y="4656"/>
                      </a:lnTo>
                      <a:lnTo>
                        <a:pt x="5444" y="4646"/>
                      </a:lnTo>
                      <a:lnTo>
                        <a:pt x="5445" y="4636"/>
                      </a:lnTo>
                      <a:lnTo>
                        <a:pt x="5445" y="4626"/>
                      </a:lnTo>
                      <a:lnTo>
                        <a:pt x="5442" y="4615"/>
                      </a:lnTo>
                      <a:lnTo>
                        <a:pt x="5437" y="4600"/>
                      </a:lnTo>
                      <a:lnTo>
                        <a:pt x="5437" y="4600"/>
                      </a:lnTo>
                      <a:lnTo>
                        <a:pt x="5391" y="4668"/>
                      </a:lnTo>
                      <a:lnTo>
                        <a:pt x="5343" y="4734"/>
                      </a:lnTo>
                      <a:lnTo>
                        <a:pt x="5343" y="4734"/>
                      </a:lnTo>
                      <a:close/>
                      <a:moveTo>
                        <a:pt x="5002" y="5118"/>
                      </a:moveTo>
                      <a:lnTo>
                        <a:pt x="5002" y="5118"/>
                      </a:lnTo>
                      <a:lnTo>
                        <a:pt x="5017" y="5121"/>
                      </a:lnTo>
                      <a:lnTo>
                        <a:pt x="5030" y="5121"/>
                      </a:lnTo>
                      <a:lnTo>
                        <a:pt x="5040" y="5121"/>
                      </a:lnTo>
                      <a:lnTo>
                        <a:pt x="5050" y="5118"/>
                      </a:lnTo>
                      <a:lnTo>
                        <a:pt x="5058" y="5111"/>
                      </a:lnTo>
                      <a:lnTo>
                        <a:pt x="5066" y="5105"/>
                      </a:lnTo>
                      <a:lnTo>
                        <a:pt x="5084" y="5086"/>
                      </a:lnTo>
                      <a:lnTo>
                        <a:pt x="5084" y="5086"/>
                      </a:lnTo>
                      <a:lnTo>
                        <a:pt x="5104" y="5067"/>
                      </a:lnTo>
                      <a:lnTo>
                        <a:pt x="5111" y="5058"/>
                      </a:lnTo>
                      <a:lnTo>
                        <a:pt x="5116" y="5050"/>
                      </a:lnTo>
                      <a:lnTo>
                        <a:pt x="5119" y="5040"/>
                      </a:lnTo>
                      <a:lnTo>
                        <a:pt x="5121" y="5030"/>
                      </a:lnTo>
                      <a:lnTo>
                        <a:pt x="5121" y="5019"/>
                      </a:lnTo>
                      <a:lnTo>
                        <a:pt x="5117" y="5004"/>
                      </a:lnTo>
                      <a:lnTo>
                        <a:pt x="5117" y="5004"/>
                      </a:lnTo>
                      <a:lnTo>
                        <a:pt x="5060" y="5062"/>
                      </a:lnTo>
                      <a:lnTo>
                        <a:pt x="5002" y="5118"/>
                      </a:lnTo>
                      <a:lnTo>
                        <a:pt x="5002" y="5118"/>
                      </a:lnTo>
                      <a:close/>
                      <a:moveTo>
                        <a:pt x="1" y="3237"/>
                      </a:moveTo>
                      <a:lnTo>
                        <a:pt x="1" y="3237"/>
                      </a:lnTo>
                      <a:lnTo>
                        <a:pt x="3" y="3263"/>
                      </a:lnTo>
                      <a:lnTo>
                        <a:pt x="6" y="3274"/>
                      </a:lnTo>
                      <a:lnTo>
                        <a:pt x="10" y="3284"/>
                      </a:lnTo>
                      <a:lnTo>
                        <a:pt x="14" y="3293"/>
                      </a:lnTo>
                      <a:lnTo>
                        <a:pt x="23" y="3301"/>
                      </a:lnTo>
                      <a:lnTo>
                        <a:pt x="33" y="3307"/>
                      </a:lnTo>
                      <a:lnTo>
                        <a:pt x="47" y="3316"/>
                      </a:lnTo>
                      <a:lnTo>
                        <a:pt x="47" y="3316"/>
                      </a:lnTo>
                      <a:lnTo>
                        <a:pt x="39" y="3233"/>
                      </a:lnTo>
                      <a:lnTo>
                        <a:pt x="33" y="3149"/>
                      </a:lnTo>
                      <a:lnTo>
                        <a:pt x="33" y="3149"/>
                      </a:lnTo>
                      <a:lnTo>
                        <a:pt x="21" y="3159"/>
                      </a:lnTo>
                      <a:lnTo>
                        <a:pt x="11" y="3169"/>
                      </a:lnTo>
                      <a:lnTo>
                        <a:pt x="5" y="3177"/>
                      </a:lnTo>
                      <a:lnTo>
                        <a:pt x="1" y="3187"/>
                      </a:lnTo>
                      <a:lnTo>
                        <a:pt x="0" y="3197"/>
                      </a:lnTo>
                      <a:lnTo>
                        <a:pt x="0" y="3208"/>
                      </a:lnTo>
                      <a:lnTo>
                        <a:pt x="1" y="3237"/>
                      </a:lnTo>
                      <a:lnTo>
                        <a:pt x="1" y="3237"/>
                      </a:lnTo>
                      <a:close/>
                      <a:moveTo>
                        <a:pt x="270" y="1715"/>
                      </a:moveTo>
                      <a:lnTo>
                        <a:pt x="270" y="1715"/>
                      </a:lnTo>
                      <a:lnTo>
                        <a:pt x="259" y="1739"/>
                      </a:lnTo>
                      <a:lnTo>
                        <a:pt x="254" y="1749"/>
                      </a:lnTo>
                      <a:lnTo>
                        <a:pt x="252" y="1761"/>
                      </a:lnTo>
                      <a:lnTo>
                        <a:pt x="254" y="1771"/>
                      </a:lnTo>
                      <a:lnTo>
                        <a:pt x="255" y="1782"/>
                      </a:lnTo>
                      <a:lnTo>
                        <a:pt x="262" y="1794"/>
                      </a:lnTo>
                      <a:lnTo>
                        <a:pt x="272" y="1809"/>
                      </a:lnTo>
                      <a:lnTo>
                        <a:pt x="272" y="1809"/>
                      </a:lnTo>
                      <a:lnTo>
                        <a:pt x="306" y="1731"/>
                      </a:lnTo>
                      <a:lnTo>
                        <a:pt x="343" y="1655"/>
                      </a:lnTo>
                      <a:lnTo>
                        <a:pt x="343" y="1655"/>
                      </a:lnTo>
                      <a:lnTo>
                        <a:pt x="326" y="1657"/>
                      </a:lnTo>
                      <a:lnTo>
                        <a:pt x="313" y="1660"/>
                      </a:lnTo>
                      <a:lnTo>
                        <a:pt x="301" y="1665"/>
                      </a:lnTo>
                      <a:lnTo>
                        <a:pt x="293" y="1672"/>
                      </a:lnTo>
                      <a:lnTo>
                        <a:pt x="287" y="1680"/>
                      </a:lnTo>
                      <a:lnTo>
                        <a:pt x="282" y="1688"/>
                      </a:lnTo>
                      <a:lnTo>
                        <a:pt x="270" y="1715"/>
                      </a:lnTo>
                      <a:lnTo>
                        <a:pt x="270" y="1715"/>
                      </a:lnTo>
                      <a:close/>
                      <a:moveTo>
                        <a:pt x="529" y="1263"/>
                      </a:moveTo>
                      <a:lnTo>
                        <a:pt x="529" y="1263"/>
                      </a:lnTo>
                      <a:lnTo>
                        <a:pt x="514" y="1286"/>
                      </a:lnTo>
                      <a:lnTo>
                        <a:pt x="509" y="1296"/>
                      </a:lnTo>
                      <a:lnTo>
                        <a:pt x="504" y="1306"/>
                      </a:lnTo>
                      <a:lnTo>
                        <a:pt x="504" y="1316"/>
                      </a:lnTo>
                      <a:lnTo>
                        <a:pt x="504" y="1327"/>
                      </a:lnTo>
                      <a:lnTo>
                        <a:pt x="507" y="1340"/>
                      </a:lnTo>
                      <a:lnTo>
                        <a:pt x="514" y="1355"/>
                      </a:lnTo>
                      <a:lnTo>
                        <a:pt x="514" y="1355"/>
                      </a:lnTo>
                      <a:lnTo>
                        <a:pt x="562" y="1286"/>
                      </a:lnTo>
                      <a:lnTo>
                        <a:pt x="611" y="1218"/>
                      </a:lnTo>
                      <a:lnTo>
                        <a:pt x="611" y="1218"/>
                      </a:lnTo>
                      <a:lnTo>
                        <a:pt x="595" y="1217"/>
                      </a:lnTo>
                      <a:lnTo>
                        <a:pt x="582" y="1218"/>
                      </a:lnTo>
                      <a:lnTo>
                        <a:pt x="570" y="1222"/>
                      </a:lnTo>
                      <a:lnTo>
                        <a:pt x="560" y="1225"/>
                      </a:lnTo>
                      <a:lnTo>
                        <a:pt x="554" y="1233"/>
                      </a:lnTo>
                      <a:lnTo>
                        <a:pt x="545" y="1242"/>
                      </a:lnTo>
                      <a:lnTo>
                        <a:pt x="529" y="1263"/>
                      </a:lnTo>
                      <a:lnTo>
                        <a:pt x="529" y="1263"/>
                      </a:lnTo>
                      <a:close/>
                      <a:moveTo>
                        <a:pt x="864" y="866"/>
                      </a:moveTo>
                      <a:lnTo>
                        <a:pt x="864" y="866"/>
                      </a:lnTo>
                      <a:lnTo>
                        <a:pt x="844" y="885"/>
                      </a:lnTo>
                      <a:lnTo>
                        <a:pt x="837" y="894"/>
                      </a:lnTo>
                      <a:lnTo>
                        <a:pt x="832" y="902"/>
                      </a:lnTo>
                      <a:lnTo>
                        <a:pt x="829" y="912"/>
                      </a:lnTo>
                      <a:lnTo>
                        <a:pt x="829" y="923"/>
                      </a:lnTo>
                      <a:lnTo>
                        <a:pt x="829" y="938"/>
                      </a:lnTo>
                      <a:lnTo>
                        <a:pt x="834" y="955"/>
                      </a:lnTo>
                      <a:lnTo>
                        <a:pt x="834" y="955"/>
                      </a:lnTo>
                      <a:lnTo>
                        <a:pt x="893" y="894"/>
                      </a:lnTo>
                      <a:lnTo>
                        <a:pt x="953" y="834"/>
                      </a:lnTo>
                      <a:lnTo>
                        <a:pt x="953" y="834"/>
                      </a:lnTo>
                      <a:lnTo>
                        <a:pt x="936" y="831"/>
                      </a:lnTo>
                      <a:lnTo>
                        <a:pt x="923" y="829"/>
                      </a:lnTo>
                      <a:lnTo>
                        <a:pt x="911" y="831"/>
                      </a:lnTo>
                      <a:lnTo>
                        <a:pt x="902" y="833"/>
                      </a:lnTo>
                      <a:lnTo>
                        <a:pt x="893" y="839"/>
                      </a:lnTo>
                      <a:lnTo>
                        <a:pt x="883" y="846"/>
                      </a:lnTo>
                      <a:lnTo>
                        <a:pt x="864" y="866"/>
                      </a:lnTo>
                      <a:lnTo>
                        <a:pt x="864" y="866"/>
                      </a:lnTo>
                      <a:close/>
                      <a:moveTo>
                        <a:pt x="1263" y="531"/>
                      </a:moveTo>
                      <a:lnTo>
                        <a:pt x="1263" y="531"/>
                      </a:lnTo>
                      <a:lnTo>
                        <a:pt x="1240" y="547"/>
                      </a:lnTo>
                      <a:lnTo>
                        <a:pt x="1231" y="554"/>
                      </a:lnTo>
                      <a:lnTo>
                        <a:pt x="1225" y="562"/>
                      </a:lnTo>
                      <a:lnTo>
                        <a:pt x="1220" y="572"/>
                      </a:lnTo>
                      <a:lnTo>
                        <a:pt x="1216" y="582"/>
                      </a:lnTo>
                      <a:lnTo>
                        <a:pt x="1216" y="597"/>
                      </a:lnTo>
                      <a:lnTo>
                        <a:pt x="1216" y="613"/>
                      </a:lnTo>
                      <a:lnTo>
                        <a:pt x="1216" y="613"/>
                      </a:lnTo>
                      <a:lnTo>
                        <a:pt x="1286" y="564"/>
                      </a:lnTo>
                      <a:lnTo>
                        <a:pt x="1357" y="516"/>
                      </a:lnTo>
                      <a:lnTo>
                        <a:pt x="1357" y="516"/>
                      </a:lnTo>
                      <a:lnTo>
                        <a:pt x="1340" y="509"/>
                      </a:lnTo>
                      <a:lnTo>
                        <a:pt x="1327" y="506"/>
                      </a:lnTo>
                      <a:lnTo>
                        <a:pt x="1315" y="505"/>
                      </a:lnTo>
                      <a:lnTo>
                        <a:pt x="1305" y="506"/>
                      </a:lnTo>
                      <a:lnTo>
                        <a:pt x="1296" y="509"/>
                      </a:lnTo>
                      <a:lnTo>
                        <a:pt x="1286" y="514"/>
                      </a:lnTo>
                      <a:lnTo>
                        <a:pt x="1263" y="531"/>
                      </a:lnTo>
                      <a:lnTo>
                        <a:pt x="1263" y="531"/>
                      </a:lnTo>
                      <a:close/>
                      <a:moveTo>
                        <a:pt x="5609" y="1655"/>
                      </a:moveTo>
                      <a:lnTo>
                        <a:pt x="5609" y="1655"/>
                      </a:lnTo>
                      <a:lnTo>
                        <a:pt x="5645" y="1730"/>
                      </a:lnTo>
                      <a:lnTo>
                        <a:pt x="5680" y="1805"/>
                      </a:lnTo>
                      <a:lnTo>
                        <a:pt x="5680" y="1805"/>
                      </a:lnTo>
                      <a:lnTo>
                        <a:pt x="5688" y="1792"/>
                      </a:lnTo>
                      <a:lnTo>
                        <a:pt x="5693" y="1781"/>
                      </a:lnTo>
                      <a:lnTo>
                        <a:pt x="5696" y="1769"/>
                      </a:lnTo>
                      <a:lnTo>
                        <a:pt x="5696" y="1759"/>
                      </a:lnTo>
                      <a:lnTo>
                        <a:pt x="5694" y="1749"/>
                      </a:lnTo>
                      <a:lnTo>
                        <a:pt x="5691" y="1739"/>
                      </a:lnTo>
                      <a:lnTo>
                        <a:pt x="5680" y="1715"/>
                      </a:lnTo>
                      <a:lnTo>
                        <a:pt x="5680" y="1715"/>
                      </a:lnTo>
                      <a:lnTo>
                        <a:pt x="5668" y="1690"/>
                      </a:lnTo>
                      <a:lnTo>
                        <a:pt x="5661" y="1680"/>
                      </a:lnTo>
                      <a:lnTo>
                        <a:pt x="5655" y="1672"/>
                      </a:lnTo>
                      <a:lnTo>
                        <a:pt x="5648" y="1665"/>
                      </a:lnTo>
                      <a:lnTo>
                        <a:pt x="5638" y="1660"/>
                      </a:lnTo>
                      <a:lnTo>
                        <a:pt x="5625" y="1657"/>
                      </a:lnTo>
                      <a:lnTo>
                        <a:pt x="5609" y="1655"/>
                      </a:lnTo>
                      <a:lnTo>
                        <a:pt x="5609" y="1655"/>
                      </a:lnTo>
                      <a:close/>
                      <a:moveTo>
                        <a:pt x="3747" y="5858"/>
                      </a:moveTo>
                      <a:lnTo>
                        <a:pt x="3747" y="5858"/>
                      </a:lnTo>
                      <a:lnTo>
                        <a:pt x="3772" y="5851"/>
                      </a:lnTo>
                      <a:lnTo>
                        <a:pt x="3784" y="5848"/>
                      </a:lnTo>
                      <a:lnTo>
                        <a:pt x="3792" y="5843"/>
                      </a:lnTo>
                      <a:lnTo>
                        <a:pt x="3800" y="5837"/>
                      </a:lnTo>
                      <a:lnTo>
                        <a:pt x="3807" y="5828"/>
                      </a:lnTo>
                      <a:lnTo>
                        <a:pt x="3812" y="5817"/>
                      </a:lnTo>
                      <a:lnTo>
                        <a:pt x="3817" y="5804"/>
                      </a:lnTo>
                      <a:lnTo>
                        <a:pt x="3817" y="5804"/>
                      </a:lnTo>
                      <a:lnTo>
                        <a:pt x="3737" y="5825"/>
                      </a:lnTo>
                      <a:lnTo>
                        <a:pt x="3660" y="5845"/>
                      </a:lnTo>
                      <a:lnTo>
                        <a:pt x="3660" y="5845"/>
                      </a:lnTo>
                      <a:lnTo>
                        <a:pt x="3671" y="5855"/>
                      </a:lnTo>
                      <a:lnTo>
                        <a:pt x="3681" y="5861"/>
                      </a:lnTo>
                      <a:lnTo>
                        <a:pt x="3691" y="5866"/>
                      </a:lnTo>
                      <a:lnTo>
                        <a:pt x="3701" y="5868"/>
                      </a:lnTo>
                      <a:lnTo>
                        <a:pt x="3711" y="5868"/>
                      </a:lnTo>
                      <a:lnTo>
                        <a:pt x="3721" y="5865"/>
                      </a:lnTo>
                      <a:lnTo>
                        <a:pt x="3747" y="5858"/>
                      </a:lnTo>
                      <a:lnTo>
                        <a:pt x="3747" y="5858"/>
                      </a:lnTo>
                      <a:close/>
                      <a:moveTo>
                        <a:pt x="5858" y="3748"/>
                      </a:moveTo>
                      <a:lnTo>
                        <a:pt x="5858" y="3748"/>
                      </a:lnTo>
                      <a:lnTo>
                        <a:pt x="5864" y="3721"/>
                      </a:lnTo>
                      <a:lnTo>
                        <a:pt x="5866" y="3711"/>
                      </a:lnTo>
                      <a:lnTo>
                        <a:pt x="5866" y="3701"/>
                      </a:lnTo>
                      <a:lnTo>
                        <a:pt x="5864" y="3692"/>
                      </a:lnTo>
                      <a:lnTo>
                        <a:pt x="5861" y="3682"/>
                      </a:lnTo>
                      <a:lnTo>
                        <a:pt x="5853" y="3670"/>
                      </a:lnTo>
                      <a:lnTo>
                        <a:pt x="5843" y="3659"/>
                      </a:lnTo>
                      <a:lnTo>
                        <a:pt x="5843" y="3659"/>
                      </a:lnTo>
                      <a:lnTo>
                        <a:pt x="5823" y="3741"/>
                      </a:lnTo>
                      <a:lnTo>
                        <a:pt x="5823" y="3741"/>
                      </a:lnTo>
                      <a:lnTo>
                        <a:pt x="5800" y="3817"/>
                      </a:lnTo>
                      <a:lnTo>
                        <a:pt x="5800" y="3817"/>
                      </a:lnTo>
                      <a:lnTo>
                        <a:pt x="5815" y="3814"/>
                      </a:lnTo>
                      <a:lnTo>
                        <a:pt x="5826" y="3807"/>
                      </a:lnTo>
                      <a:lnTo>
                        <a:pt x="5835" y="3800"/>
                      </a:lnTo>
                      <a:lnTo>
                        <a:pt x="5841" y="3794"/>
                      </a:lnTo>
                      <a:lnTo>
                        <a:pt x="5846" y="3784"/>
                      </a:lnTo>
                      <a:lnTo>
                        <a:pt x="5851" y="3774"/>
                      </a:lnTo>
                      <a:lnTo>
                        <a:pt x="5858" y="3748"/>
                      </a:lnTo>
                      <a:lnTo>
                        <a:pt x="5858" y="3748"/>
                      </a:lnTo>
                      <a:close/>
                      <a:moveTo>
                        <a:pt x="3747" y="92"/>
                      </a:moveTo>
                      <a:lnTo>
                        <a:pt x="3747" y="92"/>
                      </a:lnTo>
                      <a:lnTo>
                        <a:pt x="3721" y="86"/>
                      </a:lnTo>
                      <a:lnTo>
                        <a:pt x="3709" y="84"/>
                      </a:lnTo>
                      <a:lnTo>
                        <a:pt x="3698" y="84"/>
                      </a:lnTo>
                      <a:lnTo>
                        <a:pt x="3688" y="86"/>
                      </a:lnTo>
                      <a:lnTo>
                        <a:pt x="3678" y="91"/>
                      </a:lnTo>
                      <a:lnTo>
                        <a:pt x="3666" y="99"/>
                      </a:lnTo>
                      <a:lnTo>
                        <a:pt x="3655" y="110"/>
                      </a:lnTo>
                      <a:lnTo>
                        <a:pt x="3655" y="110"/>
                      </a:lnTo>
                      <a:lnTo>
                        <a:pt x="3739" y="132"/>
                      </a:lnTo>
                      <a:lnTo>
                        <a:pt x="3739" y="132"/>
                      </a:lnTo>
                      <a:lnTo>
                        <a:pt x="3818" y="153"/>
                      </a:lnTo>
                      <a:lnTo>
                        <a:pt x="3818" y="153"/>
                      </a:lnTo>
                      <a:lnTo>
                        <a:pt x="3813" y="138"/>
                      </a:lnTo>
                      <a:lnTo>
                        <a:pt x="3807" y="125"/>
                      </a:lnTo>
                      <a:lnTo>
                        <a:pt x="3802" y="115"/>
                      </a:lnTo>
                      <a:lnTo>
                        <a:pt x="3793" y="109"/>
                      </a:lnTo>
                      <a:lnTo>
                        <a:pt x="3784" y="104"/>
                      </a:lnTo>
                      <a:lnTo>
                        <a:pt x="3774" y="101"/>
                      </a:lnTo>
                      <a:lnTo>
                        <a:pt x="3747" y="92"/>
                      </a:lnTo>
                      <a:lnTo>
                        <a:pt x="3747" y="92"/>
                      </a:lnTo>
                      <a:close/>
                      <a:moveTo>
                        <a:pt x="2133" y="5802"/>
                      </a:moveTo>
                      <a:lnTo>
                        <a:pt x="2133" y="5802"/>
                      </a:lnTo>
                      <a:lnTo>
                        <a:pt x="2136" y="5817"/>
                      </a:lnTo>
                      <a:lnTo>
                        <a:pt x="2143" y="5828"/>
                      </a:lnTo>
                      <a:lnTo>
                        <a:pt x="2150" y="5837"/>
                      </a:lnTo>
                      <a:lnTo>
                        <a:pt x="2156" y="5843"/>
                      </a:lnTo>
                      <a:lnTo>
                        <a:pt x="2166" y="5848"/>
                      </a:lnTo>
                      <a:lnTo>
                        <a:pt x="2176" y="5851"/>
                      </a:lnTo>
                      <a:lnTo>
                        <a:pt x="2202" y="5858"/>
                      </a:lnTo>
                      <a:lnTo>
                        <a:pt x="2202" y="5858"/>
                      </a:lnTo>
                      <a:lnTo>
                        <a:pt x="2229" y="5865"/>
                      </a:lnTo>
                      <a:lnTo>
                        <a:pt x="2239" y="5868"/>
                      </a:lnTo>
                      <a:lnTo>
                        <a:pt x="2249" y="5868"/>
                      </a:lnTo>
                      <a:lnTo>
                        <a:pt x="2258" y="5866"/>
                      </a:lnTo>
                      <a:lnTo>
                        <a:pt x="2268" y="5861"/>
                      </a:lnTo>
                      <a:lnTo>
                        <a:pt x="2280" y="5855"/>
                      </a:lnTo>
                      <a:lnTo>
                        <a:pt x="2291" y="5845"/>
                      </a:lnTo>
                      <a:lnTo>
                        <a:pt x="2291" y="5845"/>
                      </a:lnTo>
                      <a:lnTo>
                        <a:pt x="2214" y="5825"/>
                      </a:lnTo>
                      <a:lnTo>
                        <a:pt x="2214" y="5825"/>
                      </a:lnTo>
                      <a:lnTo>
                        <a:pt x="2133" y="5802"/>
                      </a:lnTo>
                      <a:lnTo>
                        <a:pt x="2133" y="5802"/>
                      </a:lnTo>
                      <a:close/>
                      <a:moveTo>
                        <a:pt x="130" y="2216"/>
                      </a:moveTo>
                      <a:lnTo>
                        <a:pt x="130" y="2216"/>
                      </a:lnTo>
                      <a:lnTo>
                        <a:pt x="153" y="2132"/>
                      </a:lnTo>
                      <a:lnTo>
                        <a:pt x="153" y="2132"/>
                      </a:lnTo>
                      <a:lnTo>
                        <a:pt x="136" y="2137"/>
                      </a:lnTo>
                      <a:lnTo>
                        <a:pt x="125" y="2143"/>
                      </a:lnTo>
                      <a:lnTo>
                        <a:pt x="115" y="2148"/>
                      </a:lnTo>
                      <a:lnTo>
                        <a:pt x="108" y="2157"/>
                      </a:lnTo>
                      <a:lnTo>
                        <a:pt x="104" y="2166"/>
                      </a:lnTo>
                      <a:lnTo>
                        <a:pt x="99" y="2176"/>
                      </a:lnTo>
                      <a:lnTo>
                        <a:pt x="92" y="2203"/>
                      </a:lnTo>
                      <a:lnTo>
                        <a:pt x="92" y="2203"/>
                      </a:lnTo>
                      <a:lnTo>
                        <a:pt x="84" y="2229"/>
                      </a:lnTo>
                      <a:lnTo>
                        <a:pt x="82" y="2241"/>
                      </a:lnTo>
                      <a:lnTo>
                        <a:pt x="82" y="2252"/>
                      </a:lnTo>
                      <a:lnTo>
                        <a:pt x="85" y="2262"/>
                      </a:lnTo>
                      <a:lnTo>
                        <a:pt x="90" y="2272"/>
                      </a:lnTo>
                      <a:lnTo>
                        <a:pt x="99" y="2284"/>
                      </a:lnTo>
                      <a:lnTo>
                        <a:pt x="110" y="2295"/>
                      </a:lnTo>
                      <a:lnTo>
                        <a:pt x="110" y="2295"/>
                      </a:lnTo>
                      <a:lnTo>
                        <a:pt x="130" y="2216"/>
                      </a:lnTo>
                      <a:lnTo>
                        <a:pt x="130" y="2216"/>
                      </a:lnTo>
                      <a:close/>
                      <a:moveTo>
                        <a:pt x="4600" y="5438"/>
                      </a:moveTo>
                      <a:lnTo>
                        <a:pt x="4600" y="5438"/>
                      </a:lnTo>
                      <a:lnTo>
                        <a:pt x="4613" y="5443"/>
                      </a:lnTo>
                      <a:lnTo>
                        <a:pt x="4624" y="5446"/>
                      </a:lnTo>
                      <a:lnTo>
                        <a:pt x="4636" y="5446"/>
                      </a:lnTo>
                      <a:lnTo>
                        <a:pt x="4646" y="5444"/>
                      </a:lnTo>
                      <a:lnTo>
                        <a:pt x="4656" y="5441"/>
                      </a:lnTo>
                      <a:lnTo>
                        <a:pt x="4664" y="5436"/>
                      </a:lnTo>
                      <a:lnTo>
                        <a:pt x="4687" y="5421"/>
                      </a:lnTo>
                      <a:lnTo>
                        <a:pt x="4687" y="5421"/>
                      </a:lnTo>
                      <a:lnTo>
                        <a:pt x="4708" y="5405"/>
                      </a:lnTo>
                      <a:lnTo>
                        <a:pt x="4717" y="5398"/>
                      </a:lnTo>
                      <a:lnTo>
                        <a:pt x="4723" y="5390"/>
                      </a:lnTo>
                      <a:lnTo>
                        <a:pt x="4728" y="5382"/>
                      </a:lnTo>
                      <a:lnTo>
                        <a:pt x="4732" y="5372"/>
                      </a:lnTo>
                      <a:lnTo>
                        <a:pt x="4733" y="5358"/>
                      </a:lnTo>
                      <a:lnTo>
                        <a:pt x="4733" y="5344"/>
                      </a:lnTo>
                      <a:lnTo>
                        <a:pt x="4733" y="5344"/>
                      </a:lnTo>
                      <a:lnTo>
                        <a:pt x="4666" y="5391"/>
                      </a:lnTo>
                      <a:lnTo>
                        <a:pt x="4600" y="5438"/>
                      </a:lnTo>
                      <a:lnTo>
                        <a:pt x="4600" y="5438"/>
                      </a:lnTo>
                      <a:close/>
                      <a:moveTo>
                        <a:pt x="270" y="4237"/>
                      </a:moveTo>
                      <a:lnTo>
                        <a:pt x="270" y="4237"/>
                      </a:lnTo>
                      <a:lnTo>
                        <a:pt x="282" y="4262"/>
                      </a:lnTo>
                      <a:lnTo>
                        <a:pt x="287" y="4272"/>
                      </a:lnTo>
                      <a:lnTo>
                        <a:pt x="293" y="4279"/>
                      </a:lnTo>
                      <a:lnTo>
                        <a:pt x="301" y="4285"/>
                      </a:lnTo>
                      <a:lnTo>
                        <a:pt x="311" y="4290"/>
                      </a:lnTo>
                      <a:lnTo>
                        <a:pt x="324" y="4293"/>
                      </a:lnTo>
                      <a:lnTo>
                        <a:pt x="341" y="4295"/>
                      </a:lnTo>
                      <a:lnTo>
                        <a:pt x="341" y="4295"/>
                      </a:lnTo>
                      <a:lnTo>
                        <a:pt x="305" y="4221"/>
                      </a:lnTo>
                      <a:lnTo>
                        <a:pt x="270" y="4145"/>
                      </a:lnTo>
                      <a:lnTo>
                        <a:pt x="270" y="4145"/>
                      </a:lnTo>
                      <a:lnTo>
                        <a:pt x="262" y="4158"/>
                      </a:lnTo>
                      <a:lnTo>
                        <a:pt x="255" y="4170"/>
                      </a:lnTo>
                      <a:lnTo>
                        <a:pt x="254" y="4181"/>
                      </a:lnTo>
                      <a:lnTo>
                        <a:pt x="252" y="4191"/>
                      </a:lnTo>
                      <a:lnTo>
                        <a:pt x="254" y="4201"/>
                      </a:lnTo>
                      <a:lnTo>
                        <a:pt x="259" y="4213"/>
                      </a:lnTo>
                      <a:lnTo>
                        <a:pt x="270" y="4237"/>
                      </a:lnTo>
                      <a:lnTo>
                        <a:pt x="270" y="4237"/>
                      </a:lnTo>
                      <a:close/>
                      <a:moveTo>
                        <a:pt x="92" y="3748"/>
                      </a:moveTo>
                      <a:lnTo>
                        <a:pt x="92" y="3748"/>
                      </a:lnTo>
                      <a:lnTo>
                        <a:pt x="99" y="3774"/>
                      </a:lnTo>
                      <a:lnTo>
                        <a:pt x="104" y="3786"/>
                      </a:lnTo>
                      <a:lnTo>
                        <a:pt x="108" y="3794"/>
                      </a:lnTo>
                      <a:lnTo>
                        <a:pt x="115" y="3802"/>
                      </a:lnTo>
                      <a:lnTo>
                        <a:pt x="123" y="3809"/>
                      </a:lnTo>
                      <a:lnTo>
                        <a:pt x="135" y="3814"/>
                      </a:lnTo>
                      <a:lnTo>
                        <a:pt x="151" y="3819"/>
                      </a:lnTo>
                      <a:lnTo>
                        <a:pt x="151" y="3819"/>
                      </a:lnTo>
                      <a:lnTo>
                        <a:pt x="128" y="3738"/>
                      </a:lnTo>
                      <a:lnTo>
                        <a:pt x="108" y="3657"/>
                      </a:lnTo>
                      <a:lnTo>
                        <a:pt x="108" y="3657"/>
                      </a:lnTo>
                      <a:lnTo>
                        <a:pt x="97" y="3670"/>
                      </a:lnTo>
                      <a:lnTo>
                        <a:pt x="89" y="3680"/>
                      </a:lnTo>
                      <a:lnTo>
                        <a:pt x="85" y="3690"/>
                      </a:lnTo>
                      <a:lnTo>
                        <a:pt x="82" y="3700"/>
                      </a:lnTo>
                      <a:lnTo>
                        <a:pt x="82" y="3710"/>
                      </a:lnTo>
                      <a:lnTo>
                        <a:pt x="84" y="3721"/>
                      </a:lnTo>
                      <a:lnTo>
                        <a:pt x="92" y="3748"/>
                      </a:lnTo>
                      <a:lnTo>
                        <a:pt x="92" y="3748"/>
                      </a:lnTo>
                      <a:close/>
                      <a:moveTo>
                        <a:pt x="864" y="5086"/>
                      </a:moveTo>
                      <a:lnTo>
                        <a:pt x="864" y="5086"/>
                      </a:lnTo>
                      <a:lnTo>
                        <a:pt x="883" y="5105"/>
                      </a:lnTo>
                      <a:lnTo>
                        <a:pt x="892" y="5113"/>
                      </a:lnTo>
                      <a:lnTo>
                        <a:pt x="900" y="5118"/>
                      </a:lnTo>
                      <a:lnTo>
                        <a:pt x="910" y="5121"/>
                      </a:lnTo>
                      <a:lnTo>
                        <a:pt x="921" y="5121"/>
                      </a:lnTo>
                      <a:lnTo>
                        <a:pt x="933" y="5121"/>
                      </a:lnTo>
                      <a:lnTo>
                        <a:pt x="949" y="5118"/>
                      </a:lnTo>
                      <a:lnTo>
                        <a:pt x="949" y="5118"/>
                      </a:lnTo>
                      <a:lnTo>
                        <a:pt x="890" y="5060"/>
                      </a:lnTo>
                      <a:lnTo>
                        <a:pt x="832" y="5001"/>
                      </a:lnTo>
                      <a:lnTo>
                        <a:pt x="832" y="5001"/>
                      </a:lnTo>
                      <a:lnTo>
                        <a:pt x="829" y="5016"/>
                      </a:lnTo>
                      <a:lnTo>
                        <a:pt x="829" y="5029"/>
                      </a:lnTo>
                      <a:lnTo>
                        <a:pt x="829" y="5040"/>
                      </a:lnTo>
                      <a:lnTo>
                        <a:pt x="832" y="5050"/>
                      </a:lnTo>
                      <a:lnTo>
                        <a:pt x="837" y="5058"/>
                      </a:lnTo>
                      <a:lnTo>
                        <a:pt x="845" y="5067"/>
                      </a:lnTo>
                      <a:lnTo>
                        <a:pt x="864" y="5086"/>
                      </a:lnTo>
                      <a:lnTo>
                        <a:pt x="864" y="5086"/>
                      </a:lnTo>
                      <a:close/>
                      <a:moveTo>
                        <a:pt x="1263" y="5421"/>
                      </a:moveTo>
                      <a:lnTo>
                        <a:pt x="1263" y="5421"/>
                      </a:lnTo>
                      <a:lnTo>
                        <a:pt x="1284" y="5436"/>
                      </a:lnTo>
                      <a:lnTo>
                        <a:pt x="1294" y="5441"/>
                      </a:lnTo>
                      <a:lnTo>
                        <a:pt x="1304" y="5444"/>
                      </a:lnTo>
                      <a:lnTo>
                        <a:pt x="1314" y="5446"/>
                      </a:lnTo>
                      <a:lnTo>
                        <a:pt x="1324" y="5446"/>
                      </a:lnTo>
                      <a:lnTo>
                        <a:pt x="1337" y="5443"/>
                      </a:lnTo>
                      <a:lnTo>
                        <a:pt x="1352" y="5438"/>
                      </a:lnTo>
                      <a:lnTo>
                        <a:pt x="1352" y="5438"/>
                      </a:lnTo>
                      <a:lnTo>
                        <a:pt x="1282" y="5391"/>
                      </a:lnTo>
                      <a:lnTo>
                        <a:pt x="1216" y="5344"/>
                      </a:lnTo>
                      <a:lnTo>
                        <a:pt x="1216" y="5344"/>
                      </a:lnTo>
                      <a:lnTo>
                        <a:pt x="1216" y="5358"/>
                      </a:lnTo>
                      <a:lnTo>
                        <a:pt x="1218" y="5372"/>
                      </a:lnTo>
                      <a:lnTo>
                        <a:pt x="1221" y="5382"/>
                      </a:lnTo>
                      <a:lnTo>
                        <a:pt x="1226" y="5390"/>
                      </a:lnTo>
                      <a:lnTo>
                        <a:pt x="1233" y="5398"/>
                      </a:lnTo>
                      <a:lnTo>
                        <a:pt x="1241" y="5405"/>
                      </a:lnTo>
                      <a:lnTo>
                        <a:pt x="1263" y="5421"/>
                      </a:lnTo>
                      <a:lnTo>
                        <a:pt x="1263" y="5421"/>
                      </a:lnTo>
                      <a:close/>
                      <a:moveTo>
                        <a:pt x="1713" y="5680"/>
                      </a:moveTo>
                      <a:lnTo>
                        <a:pt x="1713" y="5680"/>
                      </a:lnTo>
                      <a:lnTo>
                        <a:pt x="1737" y="5691"/>
                      </a:lnTo>
                      <a:lnTo>
                        <a:pt x="1747" y="5695"/>
                      </a:lnTo>
                      <a:lnTo>
                        <a:pt x="1757" y="5698"/>
                      </a:lnTo>
                      <a:lnTo>
                        <a:pt x="1767" y="5698"/>
                      </a:lnTo>
                      <a:lnTo>
                        <a:pt x="1779" y="5695"/>
                      </a:lnTo>
                      <a:lnTo>
                        <a:pt x="1790" y="5690"/>
                      </a:lnTo>
                      <a:lnTo>
                        <a:pt x="1803" y="5682"/>
                      </a:lnTo>
                      <a:lnTo>
                        <a:pt x="1803" y="5682"/>
                      </a:lnTo>
                      <a:lnTo>
                        <a:pt x="1728" y="5649"/>
                      </a:lnTo>
                      <a:lnTo>
                        <a:pt x="1655" y="5612"/>
                      </a:lnTo>
                      <a:lnTo>
                        <a:pt x="1655" y="5612"/>
                      </a:lnTo>
                      <a:lnTo>
                        <a:pt x="1657" y="5627"/>
                      </a:lnTo>
                      <a:lnTo>
                        <a:pt x="1660" y="5640"/>
                      </a:lnTo>
                      <a:lnTo>
                        <a:pt x="1665" y="5650"/>
                      </a:lnTo>
                      <a:lnTo>
                        <a:pt x="1671" y="5657"/>
                      </a:lnTo>
                      <a:lnTo>
                        <a:pt x="1680" y="5663"/>
                      </a:lnTo>
                      <a:lnTo>
                        <a:pt x="1688" y="5668"/>
                      </a:lnTo>
                      <a:lnTo>
                        <a:pt x="1713" y="5680"/>
                      </a:lnTo>
                      <a:lnTo>
                        <a:pt x="1713" y="5680"/>
                      </a:lnTo>
                      <a:close/>
                      <a:moveTo>
                        <a:pt x="529" y="4687"/>
                      </a:moveTo>
                      <a:lnTo>
                        <a:pt x="529" y="4687"/>
                      </a:lnTo>
                      <a:lnTo>
                        <a:pt x="545" y="4710"/>
                      </a:lnTo>
                      <a:lnTo>
                        <a:pt x="552" y="4719"/>
                      </a:lnTo>
                      <a:lnTo>
                        <a:pt x="560" y="4725"/>
                      </a:lnTo>
                      <a:lnTo>
                        <a:pt x="568" y="4730"/>
                      </a:lnTo>
                      <a:lnTo>
                        <a:pt x="580" y="4732"/>
                      </a:lnTo>
                      <a:lnTo>
                        <a:pt x="593" y="4734"/>
                      </a:lnTo>
                      <a:lnTo>
                        <a:pt x="608" y="4734"/>
                      </a:lnTo>
                      <a:lnTo>
                        <a:pt x="608" y="4734"/>
                      </a:lnTo>
                      <a:lnTo>
                        <a:pt x="560" y="4666"/>
                      </a:lnTo>
                      <a:lnTo>
                        <a:pt x="514" y="4597"/>
                      </a:lnTo>
                      <a:lnTo>
                        <a:pt x="514" y="4597"/>
                      </a:lnTo>
                      <a:lnTo>
                        <a:pt x="507" y="4612"/>
                      </a:lnTo>
                      <a:lnTo>
                        <a:pt x="504" y="4625"/>
                      </a:lnTo>
                      <a:lnTo>
                        <a:pt x="504" y="4636"/>
                      </a:lnTo>
                      <a:lnTo>
                        <a:pt x="506" y="4646"/>
                      </a:lnTo>
                      <a:lnTo>
                        <a:pt x="509" y="4656"/>
                      </a:lnTo>
                      <a:lnTo>
                        <a:pt x="514" y="4664"/>
                      </a:lnTo>
                      <a:lnTo>
                        <a:pt x="529" y="4687"/>
                      </a:lnTo>
                      <a:lnTo>
                        <a:pt x="529" y="4687"/>
                      </a:lnTo>
                      <a:close/>
                      <a:moveTo>
                        <a:pt x="3235" y="5949"/>
                      </a:moveTo>
                      <a:lnTo>
                        <a:pt x="3235" y="5949"/>
                      </a:lnTo>
                      <a:lnTo>
                        <a:pt x="3261" y="5947"/>
                      </a:lnTo>
                      <a:lnTo>
                        <a:pt x="3272" y="5944"/>
                      </a:lnTo>
                      <a:lnTo>
                        <a:pt x="3281" y="5940"/>
                      </a:lnTo>
                      <a:lnTo>
                        <a:pt x="3291" y="5937"/>
                      </a:lnTo>
                      <a:lnTo>
                        <a:pt x="3297" y="5929"/>
                      </a:lnTo>
                      <a:lnTo>
                        <a:pt x="3305" y="5919"/>
                      </a:lnTo>
                      <a:lnTo>
                        <a:pt x="3312" y="5906"/>
                      </a:lnTo>
                      <a:lnTo>
                        <a:pt x="3312" y="5906"/>
                      </a:lnTo>
                      <a:lnTo>
                        <a:pt x="3231" y="5914"/>
                      </a:lnTo>
                      <a:lnTo>
                        <a:pt x="3150" y="5921"/>
                      </a:lnTo>
                      <a:lnTo>
                        <a:pt x="3150" y="5921"/>
                      </a:lnTo>
                      <a:lnTo>
                        <a:pt x="3160" y="5932"/>
                      </a:lnTo>
                      <a:lnTo>
                        <a:pt x="3169" y="5940"/>
                      </a:lnTo>
                      <a:lnTo>
                        <a:pt x="3178" y="5945"/>
                      </a:lnTo>
                      <a:lnTo>
                        <a:pt x="3187" y="5949"/>
                      </a:lnTo>
                      <a:lnTo>
                        <a:pt x="3197" y="5950"/>
                      </a:lnTo>
                      <a:lnTo>
                        <a:pt x="3208" y="5950"/>
                      </a:lnTo>
                      <a:lnTo>
                        <a:pt x="3235" y="5949"/>
                      </a:lnTo>
                      <a:lnTo>
                        <a:pt x="3235" y="5949"/>
                      </a:lnTo>
                      <a:close/>
                      <a:moveTo>
                        <a:pt x="3235" y="2"/>
                      </a:moveTo>
                      <a:lnTo>
                        <a:pt x="3235" y="2"/>
                      </a:lnTo>
                      <a:lnTo>
                        <a:pt x="3206" y="0"/>
                      </a:lnTo>
                      <a:lnTo>
                        <a:pt x="3197" y="0"/>
                      </a:lnTo>
                      <a:lnTo>
                        <a:pt x="3185" y="2"/>
                      </a:lnTo>
                      <a:lnTo>
                        <a:pt x="3177" y="7"/>
                      </a:lnTo>
                      <a:lnTo>
                        <a:pt x="3167" y="13"/>
                      </a:lnTo>
                      <a:lnTo>
                        <a:pt x="3157" y="21"/>
                      </a:lnTo>
                      <a:lnTo>
                        <a:pt x="3147" y="36"/>
                      </a:lnTo>
                      <a:lnTo>
                        <a:pt x="3147" y="36"/>
                      </a:lnTo>
                      <a:lnTo>
                        <a:pt x="3231" y="41"/>
                      </a:lnTo>
                      <a:lnTo>
                        <a:pt x="3315" y="51"/>
                      </a:lnTo>
                      <a:lnTo>
                        <a:pt x="3315" y="51"/>
                      </a:lnTo>
                      <a:lnTo>
                        <a:pt x="3307" y="36"/>
                      </a:lnTo>
                      <a:lnTo>
                        <a:pt x="3300" y="25"/>
                      </a:lnTo>
                      <a:lnTo>
                        <a:pt x="3292" y="16"/>
                      </a:lnTo>
                      <a:lnTo>
                        <a:pt x="3282" y="10"/>
                      </a:lnTo>
                      <a:lnTo>
                        <a:pt x="3274" y="7"/>
                      </a:lnTo>
                      <a:lnTo>
                        <a:pt x="3263" y="5"/>
                      </a:lnTo>
                      <a:lnTo>
                        <a:pt x="3235" y="2"/>
                      </a:lnTo>
                      <a:lnTo>
                        <a:pt x="3235" y="2"/>
                      </a:lnTo>
                      <a:close/>
                      <a:moveTo>
                        <a:pt x="4235" y="270"/>
                      </a:moveTo>
                      <a:lnTo>
                        <a:pt x="4235" y="270"/>
                      </a:lnTo>
                      <a:lnTo>
                        <a:pt x="4211" y="259"/>
                      </a:lnTo>
                      <a:lnTo>
                        <a:pt x="4201" y="256"/>
                      </a:lnTo>
                      <a:lnTo>
                        <a:pt x="4191" y="254"/>
                      </a:lnTo>
                      <a:lnTo>
                        <a:pt x="4179" y="254"/>
                      </a:lnTo>
                      <a:lnTo>
                        <a:pt x="4169" y="257"/>
                      </a:lnTo>
                      <a:lnTo>
                        <a:pt x="4156" y="262"/>
                      </a:lnTo>
                      <a:lnTo>
                        <a:pt x="4143" y="272"/>
                      </a:lnTo>
                      <a:lnTo>
                        <a:pt x="4143" y="272"/>
                      </a:lnTo>
                      <a:lnTo>
                        <a:pt x="4219" y="307"/>
                      </a:lnTo>
                      <a:lnTo>
                        <a:pt x="4295" y="343"/>
                      </a:lnTo>
                      <a:lnTo>
                        <a:pt x="4295" y="343"/>
                      </a:lnTo>
                      <a:lnTo>
                        <a:pt x="4293" y="326"/>
                      </a:lnTo>
                      <a:lnTo>
                        <a:pt x="4290" y="313"/>
                      </a:lnTo>
                      <a:lnTo>
                        <a:pt x="4285" y="303"/>
                      </a:lnTo>
                      <a:lnTo>
                        <a:pt x="4278" y="295"/>
                      </a:lnTo>
                      <a:lnTo>
                        <a:pt x="4270" y="289"/>
                      </a:lnTo>
                      <a:lnTo>
                        <a:pt x="4260" y="282"/>
                      </a:lnTo>
                      <a:lnTo>
                        <a:pt x="4235" y="270"/>
                      </a:lnTo>
                      <a:lnTo>
                        <a:pt x="4235" y="270"/>
                      </a:lnTo>
                      <a:close/>
                      <a:moveTo>
                        <a:pt x="2715" y="5949"/>
                      </a:moveTo>
                      <a:lnTo>
                        <a:pt x="2715" y="5949"/>
                      </a:lnTo>
                      <a:lnTo>
                        <a:pt x="2742" y="5950"/>
                      </a:lnTo>
                      <a:lnTo>
                        <a:pt x="2751" y="5950"/>
                      </a:lnTo>
                      <a:lnTo>
                        <a:pt x="2761" y="5949"/>
                      </a:lnTo>
                      <a:lnTo>
                        <a:pt x="2771" y="5945"/>
                      </a:lnTo>
                      <a:lnTo>
                        <a:pt x="2779" y="5940"/>
                      </a:lnTo>
                      <a:lnTo>
                        <a:pt x="2789" y="5932"/>
                      </a:lnTo>
                      <a:lnTo>
                        <a:pt x="2799" y="5921"/>
                      </a:lnTo>
                      <a:lnTo>
                        <a:pt x="2799" y="5921"/>
                      </a:lnTo>
                      <a:lnTo>
                        <a:pt x="2717" y="5914"/>
                      </a:lnTo>
                      <a:lnTo>
                        <a:pt x="2636" y="5906"/>
                      </a:lnTo>
                      <a:lnTo>
                        <a:pt x="2636" y="5906"/>
                      </a:lnTo>
                      <a:lnTo>
                        <a:pt x="2644" y="5919"/>
                      </a:lnTo>
                      <a:lnTo>
                        <a:pt x="2651" y="5929"/>
                      </a:lnTo>
                      <a:lnTo>
                        <a:pt x="2659" y="5936"/>
                      </a:lnTo>
                      <a:lnTo>
                        <a:pt x="2667" y="5940"/>
                      </a:lnTo>
                      <a:lnTo>
                        <a:pt x="2677" y="5944"/>
                      </a:lnTo>
                      <a:lnTo>
                        <a:pt x="2687" y="5947"/>
                      </a:lnTo>
                      <a:lnTo>
                        <a:pt x="2715" y="5949"/>
                      </a:lnTo>
                      <a:lnTo>
                        <a:pt x="2715" y="5949"/>
                      </a:lnTo>
                      <a:close/>
                    </a:path>
                  </a:pathLst>
                </a:custGeom>
                <a:gradFill rotWithShape="0">
                  <a:gsLst>
                    <a:gs pos="0">
                      <a:srgbClr val="74420d"/>
                    </a:gs>
                    <a:gs pos="100000">
                      <a:srgbClr val="f9db82"/>
                    </a:gs>
                  </a:gsLst>
                  <a:lin ang="13620000"/>
                </a:gradFill>
                <a:ln w="9525">
                  <a:noFill/>
                </a:ln>
              </p:spPr>
              <p:style>
                <a:lnRef idx="0"/>
                <a:fillRef idx="0"/>
                <a:effectRef idx="0"/>
                <a:fontRef idx="minor"/>
              </p:style>
              <p:txBody>
                <a:bodyPr numCol="1" spcCol="0" anchor="t">
                  <a:noAutofit/>
                </a:bodyPr>
                <a:p>
                  <a:pPr>
                    <a:lnSpc>
                      <a:spcPct val="85000"/>
                    </a:lnSpc>
                    <a:spcBef>
                      <a:spcPts val="360"/>
                    </a:spcBef>
                  </a:pPr>
                  <a:endParaRPr b="0" lang="en-US" sz="1800" spc="-1" strike="noStrike">
                    <a:solidFill>
                      <a:srgbClr val="000000"/>
                    </a:solidFill>
                    <a:latin typeface="Calibri"/>
                  </a:endParaRPr>
                </a:p>
              </p:txBody>
            </p:sp>
            <p:sp>
              <p:nvSpPr>
                <p:cNvPr id="610" name="Freeform 5"/>
                <p:cNvSpPr/>
                <p:nvPr/>
              </p:nvSpPr>
              <p:spPr>
                <a:xfrm>
                  <a:off x="1216080" y="668160"/>
                  <a:ext cx="1189080" cy="1189440"/>
                </a:xfrm>
                <a:custGeom>
                  <a:avLst/>
                  <a:gdLst>
                    <a:gd name="textAreaLeft" fmla="*/ 0 w 1189080"/>
                    <a:gd name="textAreaRight" fmla="*/ 1189440 w 1189080"/>
                    <a:gd name="textAreaTop" fmla="*/ 0 h 1189440"/>
                    <a:gd name="textAreaBottom" fmla="*/ 1189800 h 1189440"/>
                  </a:gdLst>
                  <a:ahLst/>
                  <a:rect l="textAreaLeft" t="textAreaTop" r="textAreaRight" b="textAreaBottom"/>
                  <a:pathLst>
                    <a:path w="6142" h="6144">
                      <a:moveTo>
                        <a:pt x="6038" y="3867"/>
                      </a:moveTo>
                      <a:lnTo>
                        <a:pt x="6038" y="3867"/>
                      </a:lnTo>
                      <a:lnTo>
                        <a:pt x="6017" y="3944"/>
                      </a:lnTo>
                      <a:lnTo>
                        <a:pt x="5993" y="4018"/>
                      </a:lnTo>
                      <a:lnTo>
                        <a:pt x="5968" y="4093"/>
                      </a:lnTo>
                      <a:lnTo>
                        <a:pt x="5942" y="4165"/>
                      </a:lnTo>
                      <a:lnTo>
                        <a:pt x="5913" y="4238"/>
                      </a:lnTo>
                      <a:lnTo>
                        <a:pt x="5883" y="4308"/>
                      </a:lnTo>
                      <a:lnTo>
                        <a:pt x="5850" y="4379"/>
                      </a:lnTo>
                      <a:lnTo>
                        <a:pt x="5817" y="4448"/>
                      </a:lnTo>
                      <a:lnTo>
                        <a:pt x="5781" y="4516"/>
                      </a:lnTo>
                      <a:lnTo>
                        <a:pt x="5746" y="4583"/>
                      </a:lnTo>
                      <a:lnTo>
                        <a:pt x="5707" y="4648"/>
                      </a:lnTo>
                      <a:lnTo>
                        <a:pt x="5668" y="4712"/>
                      </a:lnTo>
                      <a:lnTo>
                        <a:pt x="5626" y="4777"/>
                      </a:lnTo>
                      <a:lnTo>
                        <a:pt x="5585" y="4838"/>
                      </a:lnTo>
                      <a:lnTo>
                        <a:pt x="5540" y="4899"/>
                      </a:lnTo>
                      <a:lnTo>
                        <a:pt x="5495" y="4960"/>
                      </a:lnTo>
                      <a:lnTo>
                        <a:pt x="5448" y="5016"/>
                      </a:lnTo>
                      <a:lnTo>
                        <a:pt x="5401" y="5075"/>
                      </a:lnTo>
                      <a:lnTo>
                        <a:pt x="5352" y="5130"/>
                      </a:lnTo>
                      <a:lnTo>
                        <a:pt x="5301" y="5185"/>
                      </a:lnTo>
                      <a:lnTo>
                        <a:pt x="5250" y="5238"/>
                      </a:lnTo>
                      <a:lnTo>
                        <a:pt x="5197" y="5289"/>
                      </a:lnTo>
                      <a:lnTo>
                        <a:pt x="5142" y="5340"/>
                      </a:lnTo>
                      <a:lnTo>
                        <a:pt x="5087" y="5389"/>
                      </a:lnTo>
                      <a:lnTo>
                        <a:pt x="5030" y="5438"/>
                      </a:lnTo>
                      <a:lnTo>
                        <a:pt x="4974" y="5483"/>
                      </a:lnTo>
                      <a:lnTo>
                        <a:pt x="4915" y="5528"/>
                      </a:lnTo>
                      <a:lnTo>
                        <a:pt x="4854" y="5571"/>
                      </a:lnTo>
                      <a:lnTo>
                        <a:pt x="4795" y="5615"/>
                      </a:lnTo>
                      <a:lnTo>
                        <a:pt x="4732" y="5656"/>
                      </a:lnTo>
                      <a:lnTo>
                        <a:pt x="4670" y="5693"/>
                      </a:lnTo>
                      <a:lnTo>
                        <a:pt x="4607" y="5732"/>
                      </a:lnTo>
                      <a:lnTo>
                        <a:pt x="4542" y="5767"/>
                      </a:lnTo>
                      <a:lnTo>
                        <a:pt x="4478" y="5803"/>
                      </a:lnTo>
                      <a:lnTo>
                        <a:pt x="4411" y="5834"/>
                      </a:lnTo>
                      <a:lnTo>
                        <a:pt x="4344" y="5866"/>
                      </a:lnTo>
                      <a:lnTo>
                        <a:pt x="4278" y="5897"/>
                      </a:lnTo>
                      <a:lnTo>
                        <a:pt x="4209" y="5924"/>
                      </a:lnTo>
                      <a:lnTo>
                        <a:pt x="4140" y="5952"/>
                      </a:lnTo>
                      <a:lnTo>
                        <a:pt x="4072" y="5975"/>
                      </a:lnTo>
                      <a:lnTo>
                        <a:pt x="4001" y="5999"/>
                      </a:lnTo>
                      <a:lnTo>
                        <a:pt x="3931" y="6020"/>
                      </a:lnTo>
                      <a:lnTo>
                        <a:pt x="3858" y="6040"/>
                      </a:lnTo>
                      <a:lnTo>
                        <a:pt x="3788" y="6060"/>
                      </a:lnTo>
                      <a:lnTo>
                        <a:pt x="3715" y="6075"/>
                      </a:lnTo>
                      <a:lnTo>
                        <a:pt x="3641" y="6091"/>
                      </a:lnTo>
                      <a:lnTo>
                        <a:pt x="3568" y="6103"/>
                      </a:lnTo>
                      <a:lnTo>
                        <a:pt x="3493" y="6115"/>
                      </a:lnTo>
                      <a:lnTo>
                        <a:pt x="3419" y="6124"/>
                      </a:lnTo>
                      <a:lnTo>
                        <a:pt x="3345" y="6132"/>
                      </a:lnTo>
                      <a:lnTo>
                        <a:pt x="3270" y="6138"/>
                      </a:lnTo>
                      <a:lnTo>
                        <a:pt x="3196" y="6142"/>
                      </a:lnTo>
                      <a:lnTo>
                        <a:pt x="3119" y="6144"/>
                      </a:lnTo>
                      <a:lnTo>
                        <a:pt x="3043" y="6144"/>
                      </a:lnTo>
                      <a:lnTo>
                        <a:pt x="2968" y="6142"/>
                      </a:lnTo>
                      <a:lnTo>
                        <a:pt x="2892" y="6138"/>
                      </a:lnTo>
                      <a:lnTo>
                        <a:pt x="2815" y="6132"/>
                      </a:lnTo>
                      <a:lnTo>
                        <a:pt x="2739" y="6124"/>
                      </a:lnTo>
                      <a:lnTo>
                        <a:pt x="2662" y="6117"/>
                      </a:lnTo>
                      <a:lnTo>
                        <a:pt x="2584" y="6105"/>
                      </a:lnTo>
                      <a:lnTo>
                        <a:pt x="2507" y="6091"/>
                      </a:lnTo>
                      <a:lnTo>
                        <a:pt x="2431" y="6075"/>
                      </a:lnTo>
                      <a:lnTo>
                        <a:pt x="2354" y="6058"/>
                      </a:lnTo>
                      <a:lnTo>
                        <a:pt x="2278" y="6038"/>
                      </a:lnTo>
                      <a:lnTo>
                        <a:pt x="2278" y="6038"/>
                      </a:lnTo>
                      <a:lnTo>
                        <a:pt x="2202" y="6017"/>
                      </a:lnTo>
                      <a:lnTo>
                        <a:pt x="2125" y="5993"/>
                      </a:lnTo>
                      <a:lnTo>
                        <a:pt x="2051" y="5968"/>
                      </a:lnTo>
                      <a:lnTo>
                        <a:pt x="1978" y="5942"/>
                      </a:lnTo>
                      <a:lnTo>
                        <a:pt x="1906" y="5913"/>
                      </a:lnTo>
                      <a:lnTo>
                        <a:pt x="1835" y="5883"/>
                      </a:lnTo>
                      <a:lnTo>
                        <a:pt x="1764" y="5852"/>
                      </a:lnTo>
                      <a:lnTo>
                        <a:pt x="1696" y="5818"/>
                      </a:lnTo>
                      <a:lnTo>
                        <a:pt x="1627" y="5783"/>
                      </a:lnTo>
                      <a:lnTo>
                        <a:pt x="1561" y="5746"/>
                      </a:lnTo>
                      <a:lnTo>
                        <a:pt x="1496" y="5709"/>
                      </a:lnTo>
                      <a:lnTo>
                        <a:pt x="1431" y="5669"/>
                      </a:lnTo>
                      <a:lnTo>
                        <a:pt x="1368" y="5628"/>
                      </a:lnTo>
                      <a:lnTo>
                        <a:pt x="1306" y="5585"/>
                      </a:lnTo>
                      <a:lnTo>
                        <a:pt x="1245" y="5542"/>
                      </a:lnTo>
                      <a:lnTo>
                        <a:pt x="1186" y="5495"/>
                      </a:lnTo>
                      <a:lnTo>
                        <a:pt x="1127" y="5450"/>
                      </a:lnTo>
                      <a:lnTo>
                        <a:pt x="1070" y="5401"/>
                      </a:lnTo>
                      <a:lnTo>
                        <a:pt x="1014" y="5352"/>
                      </a:lnTo>
                      <a:lnTo>
                        <a:pt x="959" y="5301"/>
                      </a:lnTo>
                      <a:lnTo>
                        <a:pt x="906" y="5250"/>
                      </a:lnTo>
                      <a:lnTo>
                        <a:pt x="855" y="5197"/>
                      </a:lnTo>
                      <a:lnTo>
                        <a:pt x="804" y="5142"/>
                      </a:lnTo>
                      <a:lnTo>
                        <a:pt x="755" y="5087"/>
                      </a:lnTo>
                      <a:lnTo>
                        <a:pt x="708" y="5030"/>
                      </a:lnTo>
                      <a:lnTo>
                        <a:pt x="661" y="4973"/>
                      </a:lnTo>
                      <a:lnTo>
                        <a:pt x="616" y="4914"/>
                      </a:lnTo>
                      <a:lnTo>
                        <a:pt x="572" y="4856"/>
                      </a:lnTo>
                      <a:lnTo>
                        <a:pt x="529" y="4795"/>
                      </a:lnTo>
                      <a:lnTo>
                        <a:pt x="490" y="4734"/>
                      </a:lnTo>
                      <a:lnTo>
                        <a:pt x="451" y="4671"/>
                      </a:lnTo>
                      <a:lnTo>
                        <a:pt x="414" y="4607"/>
                      </a:lnTo>
                      <a:lnTo>
                        <a:pt x="376" y="4544"/>
                      </a:lnTo>
                      <a:lnTo>
                        <a:pt x="343" y="4477"/>
                      </a:lnTo>
                      <a:lnTo>
                        <a:pt x="310" y="4412"/>
                      </a:lnTo>
                      <a:lnTo>
                        <a:pt x="278" y="4346"/>
                      </a:lnTo>
                      <a:lnTo>
                        <a:pt x="249" y="4277"/>
                      </a:lnTo>
                      <a:lnTo>
                        <a:pt x="220" y="4210"/>
                      </a:lnTo>
                      <a:lnTo>
                        <a:pt x="194" y="4140"/>
                      </a:lnTo>
                      <a:lnTo>
                        <a:pt x="169" y="4071"/>
                      </a:lnTo>
                      <a:lnTo>
                        <a:pt x="145" y="4001"/>
                      </a:lnTo>
                      <a:lnTo>
                        <a:pt x="124" y="3930"/>
                      </a:lnTo>
                      <a:lnTo>
                        <a:pt x="104" y="3859"/>
                      </a:lnTo>
                      <a:lnTo>
                        <a:pt x="86" y="3787"/>
                      </a:lnTo>
                      <a:lnTo>
                        <a:pt x="69" y="3714"/>
                      </a:lnTo>
                      <a:lnTo>
                        <a:pt x="55" y="3642"/>
                      </a:lnTo>
                      <a:lnTo>
                        <a:pt x="41" y="3567"/>
                      </a:lnTo>
                      <a:lnTo>
                        <a:pt x="29" y="3495"/>
                      </a:lnTo>
                      <a:lnTo>
                        <a:pt x="20" y="3420"/>
                      </a:lnTo>
                      <a:lnTo>
                        <a:pt x="14" y="3346"/>
                      </a:lnTo>
                      <a:lnTo>
                        <a:pt x="8" y="3269"/>
                      </a:lnTo>
                      <a:lnTo>
                        <a:pt x="4" y="3195"/>
                      </a:lnTo>
                      <a:lnTo>
                        <a:pt x="2" y="3118"/>
                      </a:lnTo>
                      <a:lnTo>
                        <a:pt x="0" y="3044"/>
                      </a:lnTo>
                      <a:lnTo>
                        <a:pt x="2" y="2967"/>
                      </a:lnTo>
                      <a:lnTo>
                        <a:pt x="6" y="2891"/>
                      </a:lnTo>
                      <a:lnTo>
                        <a:pt x="12" y="2814"/>
                      </a:lnTo>
                      <a:lnTo>
                        <a:pt x="20" y="2738"/>
                      </a:lnTo>
                      <a:lnTo>
                        <a:pt x="29" y="2661"/>
                      </a:lnTo>
                      <a:lnTo>
                        <a:pt x="41" y="2585"/>
                      </a:lnTo>
                      <a:lnTo>
                        <a:pt x="53" y="2508"/>
                      </a:lnTo>
                      <a:lnTo>
                        <a:pt x="69" y="2430"/>
                      </a:lnTo>
                      <a:lnTo>
                        <a:pt x="86" y="2353"/>
                      </a:lnTo>
                      <a:lnTo>
                        <a:pt x="106" y="2277"/>
                      </a:lnTo>
                      <a:lnTo>
                        <a:pt x="106" y="2277"/>
                      </a:lnTo>
                      <a:lnTo>
                        <a:pt x="127" y="2200"/>
                      </a:lnTo>
                      <a:lnTo>
                        <a:pt x="151" y="2126"/>
                      </a:lnTo>
                      <a:lnTo>
                        <a:pt x="176" y="2051"/>
                      </a:lnTo>
                      <a:lnTo>
                        <a:pt x="202" y="1977"/>
                      </a:lnTo>
                      <a:lnTo>
                        <a:pt x="231" y="1906"/>
                      </a:lnTo>
                      <a:lnTo>
                        <a:pt x="261" y="1834"/>
                      </a:lnTo>
                      <a:lnTo>
                        <a:pt x="294" y="1763"/>
                      </a:lnTo>
                      <a:lnTo>
                        <a:pt x="327" y="1694"/>
                      </a:lnTo>
                      <a:lnTo>
                        <a:pt x="361" y="1628"/>
                      </a:lnTo>
                      <a:lnTo>
                        <a:pt x="398" y="1561"/>
                      </a:lnTo>
                      <a:lnTo>
                        <a:pt x="437" y="1494"/>
                      </a:lnTo>
                      <a:lnTo>
                        <a:pt x="476" y="1430"/>
                      </a:lnTo>
                      <a:lnTo>
                        <a:pt x="518" y="1367"/>
                      </a:lnTo>
                      <a:lnTo>
                        <a:pt x="559" y="1304"/>
                      </a:lnTo>
                      <a:lnTo>
                        <a:pt x="604" y="1243"/>
                      </a:lnTo>
                      <a:lnTo>
                        <a:pt x="649" y="1184"/>
                      </a:lnTo>
                      <a:lnTo>
                        <a:pt x="696" y="1126"/>
                      </a:lnTo>
                      <a:lnTo>
                        <a:pt x="743" y="1069"/>
                      </a:lnTo>
                      <a:lnTo>
                        <a:pt x="792" y="1014"/>
                      </a:lnTo>
                      <a:lnTo>
                        <a:pt x="843" y="959"/>
                      </a:lnTo>
                      <a:lnTo>
                        <a:pt x="894" y="906"/>
                      </a:lnTo>
                      <a:lnTo>
                        <a:pt x="947" y="853"/>
                      </a:lnTo>
                      <a:lnTo>
                        <a:pt x="1002" y="802"/>
                      </a:lnTo>
                      <a:lnTo>
                        <a:pt x="1057" y="753"/>
                      </a:lnTo>
                      <a:lnTo>
                        <a:pt x="1114" y="706"/>
                      </a:lnTo>
                      <a:lnTo>
                        <a:pt x="1170" y="659"/>
                      </a:lnTo>
                      <a:lnTo>
                        <a:pt x="1229" y="614"/>
                      </a:lnTo>
                      <a:lnTo>
                        <a:pt x="1288" y="571"/>
                      </a:lnTo>
                      <a:lnTo>
                        <a:pt x="1349" y="529"/>
                      </a:lnTo>
                      <a:lnTo>
                        <a:pt x="1412" y="488"/>
                      </a:lnTo>
                      <a:lnTo>
                        <a:pt x="1474" y="449"/>
                      </a:lnTo>
                      <a:lnTo>
                        <a:pt x="1537" y="412"/>
                      </a:lnTo>
                      <a:lnTo>
                        <a:pt x="1602" y="377"/>
                      </a:lnTo>
                      <a:lnTo>
                        <a:pt x="1666" y="341"/>
                      </a:lnTo>
                      <a:lnTo>
                        <a:pt x="1731" y="308"/>
                      </a:lnTo>
                      <a:lnTo>
                        <a:pt x="1798" y="277"/>
                      </a:lnTo>
                      <a:lnTo>
                        <a:pt x="1866" y="247"/>
                      </a:lnTo>
                      <a:lnTo>
                        <a:pt x="1935" y="220"/>
                      </a:lnTo>
                      <a:lnTo>
                        <a:pt x="2004" y="192"/>
                      </a:lnTo>
                      <a:lnTo>
                        <a:pt x="2072" y="167"/>
                      </a:lnTo>
                      <a:lnTo>
                        <a:pt x="2143" y="143"/>
                      </a:lnTo>
                      <a:lnTo>
                        <a:pt x="2213" y="122"/>
                      </a:lnTo>
                      <a:lnTo>
                        <a:pt x="2286" y="102"/>
                      </a:lnTo>
                      <a:lnTo>
                        <a:pt x="2356" y="84"/>
                      </a:lnTo>
                      <a:lnTo>
                        <a:pt x="2429" y="67"/>
                      </a:lnTo>
                      <a:lnTo>
                        <a:pt x="2503" y="53"/>
                      </a:lnTo>
                      <a:lnTo>
                        <a:pt x="2576" y="39"/>
                      </a:lnTo>
                      <a:lnTo>
                        <a:pt x="2651" y="29"/>
                      </a:lnTo>
                      <a:lnTo>
                        <a:pt x="2725" y="20"/>
                      </a:lnTo>
                      <a:lnTo>
                        <a:pt x="2799" y="12"/>
                      </a:lnTo>
                      <a:lnTo>
                        <a:pt x="2874" y="6"/>
                      </a:lnTo>
                      <a:lnTo>
                        <a:pt x="2948" y="2"/>
                      </a:lnTo>
                      <a:lnTo>
                        <a:pt x="3025" y="0"/>
                      </a:lnTo>
                      <a:lnTo>
                        <a:pt x="3099" y="0"/>
                      </a:lnTo>
                      <a:lnTo>
                        <a:pt x="3176" y="2"/>
                      </a:lnTo>
                      <a:lnTo>
                        <a:pt x="3252" y="6"/>
                      </a:lnTo>
                      <a:lnTo>
                        <a:pt x="3329" y="10"/>
                      </a:lnTo>
                      <a:lnTo>
                        <a:pt x="3405" y="18"/>
                      </a:lnTo>
                      <a:lnTo>
                        <a:pt x="3482" y="27"/>
                      </a:lnTo>
                      <a:lnTo>
                        <a:pt x="3560" y="39"/>
                      </a:lnTo>
                      <a:lnTo>
                        <a:pt x="3637" y="53"/>
                      </a:lnTo>
                      <a:lnTo>
                        <a:pt x="3713" y="69"/>
                      </a:lnTo>
                      <a:lnTo>
                        <a:pt x="3790" y="86"/>
                      </a:lnTo>
                      <a:lnTo>
                        <a:pt x="3866" y="106"/>
                      </a:lnTo>
                      <a:lnTo>
                        <a:pt x="3866" y="106"/>
                      </a:lnTo>
                      <a:lnTo>
                        <a:pt x="3942" y="126"/>
                      </a:lnTo>
                      <a:lnTo>
                        <a:pt x="4019" y="149"/>
                      </a:lnTo>
                      <a:lnTo>
                        <a:pt x="4093" y="175"/>
                      </a:lnTo>
                      <a:lnTo>
                        <a:pt x="4166" y="202"/>
                      </a:lnTo>
                      <a:lnTo>
                        <a:pt x="4238" y="229"/>
                      </a:lnTo>
                      <a:lnTo>
                        <a:pt x="4309" y="261"/>
                      </a:lnTo>
                      <a:lnTo>
                        <a:pt x="4380" y="292"/>
                      </a:lnTo>
                      <a:lnTo>
                        <a:pt x="4448" y="326"/>
                      </a:lnTo>
                      <a:lnTo>
                        <a:pt x="4517" y="361"/>
                      </a:lnTo>
                      <a:lnTo>
                        <a:pt x="4583" y="396"/>
                      </a:lnTo>
                      <a:lnTo>
                        <a:pt x="4648" y="435"/>
                      </a:lnTo>
                      <a:lnTo>
                        <a:pt x="4713" y="475"/>
                      </a:lnTo>
                      <a:lnTo>
                        <a:pt x="4776" y="516"/>
                      </a:lnTo>
                      <a:lnTo>
                        <a:pt x="4838" y="559"/>
                      </a:lnTo>
                      <a:lnTo>
                        <a:pt x="4899" y="602"/>
                      </a:lnTo>
                      <a:lnTo>
                        <a:pt x="4958" y="647"/>
                      </a:lnTo>
                      <a:lnTo>
                        <a:pt x="5017" y="694"/>
                      </a:lnTo>
                      <a:lnTo>
                        <a:pt x="5074" y="741"/>
                      </a:lnTo>
                      <a:lnTo>
                        <a:pt x="5130" y="792"/>
                      </a:lnTo>
                      <a:lnTo>
                        <a:pt x="5183" y="841"/>
                      </a:lnTo>
                      <a:lnTo>
                        <a:pt x="5238" y="894"/>
                      </a:lnTo>
                      <a:lnTo>
                        <a:pt x="5289" y="947"/>
                      </a:lnTo>
                      <a:lnTo>
                        <a:pt x="5340" y="1000"/>
                      </a:lnTo>
                      <a:lnTo>
                        <a:pt x="5389" y="1055"/>
                      </a:lnTo>
                      <a:lnTo>
                        <a:pt x="5436" y="1112"/>
                      </a:lnTo>
                      <a:lnTo>
                        <a:pt x="5483" y="1171"/>
                      </a:lnTo>
                      <a:lnTo>
                        <a:pt x="5528" y="1228"/>
                      </a:lnTo>
                      <a:lnTo>
                        <a:pt x="5572" y="1288"/>
                      </a:lnTo>
                      <a:lnTo>
                        <a:pt x="5613" y="1349"/>
                      </a:lnTo>
                      <a:lnTo>
                        <a:pt x="5654" y="1410"/>
                      </a:lnTo>
                      <a:lnTo>
                        <a:pt x="5693" y="1473"/>
                      </a:lnTo>
                      <a:lnTo>
                        <a:pt x="5730" y="1536"/>
                      </a:lnTo>
                      <a:lnTo>
                        <a:pt x="5768" y="1600"/>
                      </a:lnTo>
                      <a:lnTo>
                        <a:pt x="5801" y="1665"/>
                      </a:lnTo>
                      <a:lnTo>
                        <a:pt x="5834" y="1732"/>
                      </a:lnTo>
                      <a:lnTo>
                        <a:pt x="5866" y="1798"/>
                      </a:lnTo>
                      <a:lnTo>
                        <a:pt x="5895" y="1865"/>
                      </a:lnTo>
                      <a:lnTo>
                        <a:pt x="5924" y="1934"/>
                      </a:lnTo>
                      <a:lnTo>
                        <a:pt x="5950" y="2002"/>
                      </a:lnTo>
                      <a:lnTo>
                        <a:pt x="5975" y="2073"/>
                      </a:lnTo>
                      <a:lnTo>
                        <a:pt x="5999" y="2141"/>
                      </a:lnTo>
                      <a:lnTo>
                        <a:pt x="6020" y="2214"/>
                      </a:lnTo>
                      <a:lnTo>
                        <a:pt x="6040" y="2285"/>
                      </a:lnTo>
                      <a:lnTo>
                        <a:pt x="6058" y="2357"/>
                      </a:lnTo>
                      <a:lnTo>
                        <a:pt x="6075" y="2430"/>
                      </a:lnTo>
                      <a:lnTo>
                        <a:pt x="6089" y="2502"/>
                      </a:lnTo>
                      <a:lnTo>
                        <a:pt x="6103" y="2575"/>
                      </a:lnTo>
                      <a:lnTo>
                        <a:pt x="6115" y="2649"/>
                      </a:lnTo>
                      <a:lnTo>
                        <a:pt x="6122" y="2724"/>
                      </a:lnTo>
                      <a:lnTo>
                        <a:pt x="6130" y="2798"/>
                      </a:lnTo>
                      <a:lnTo>
                        <a:pt x="6136" y="2873"/>
                      </a:lnTo>
                      <a:lnTo>
                        <a:pt x="6140" y="2949"/>
                      </a:lnTo>
                      <a:lnTo>
                        <a:pt x="6142" y="3024"/>
                      </a:lnTo>
                      <a:lnTo>
                        <a:pt x="6142" y="3100"/>
                      </a:lnTo>
                      <a:lnTo>
                        <a:pt x="6142" y="3177"/>
                      </a:lnTo>
                      <a:lnTo>
                        <a:pt x="6138" y="3253"/>
                      </a:lnTo>
                      <a:lnTo>
                        <a:pt x="6132" y="3330"/>
                      </a:lnTo>
                      <a:lnTo>
                        <a:pt x="6124" y="3406"/>
                      </a:lnTo>
                      <a:lnTo>
                        <a:pt x="6115" y="3483"/>
                      </a:lnTo>
                      <a:lnTo>
                        <a:pt x="6103" y="3559"/>
                      </a:lnTo>
                      <a:lnTo>
                        <a:pt x="6091" y="3636"/>
                      </a:lnTo>
                      <a:lnTo>
                        <a:pt x="6075" y="3712"/>
                      </a:lnTo>
                      <a:lnTo>
                        <a:pt x="6058" y="3789"/>
                      </a:lnTo>
                      <a:lnTo>
                        <a:pt x="6038" y="3867"/>
                      </a:lnTo>
                      <a:lnTo>
                        <a:pt x="6038" y="3867"/>
                      </a:lnTo>
                      <a:close/>
                      <a:moveTo>
                        <a:pt x="3848" y="171"/>
                      </a:moveTo>
                      <a:lnTo>
                        <a:pt x="3848" y="171"/>
                      </a:lnTo>
                      <a:lnTo>
                        <a:pt x="3774" y="151"/>
                      </a:lnTo>
                      <a:lnTo>
                        <a:pt x="3699" y="133"/>
                      </a:lnTo>
                      <a:lnTo>
                        <a:pt x="3623" y="120"/>
                      </a:lnTo>
                      <a:lnTo>
                        <a:pt x="3548" y="106"/>
                      </a:lnTo>
                      <a:lnTo>
                        <a:pt x="3474" y="94"/>
                      </a:lnTo>
                      <a:lnTo>
                        <a:pt x="3399" y="84"/>
                      </a:lnTo>
                      <a:lnTo>
                        <a:pt x="3323" y="78"/>
                      </a:lnTo>
                      <a:lnTo>
                        <a:pt x="3248" y="73"/>
                      </a:lnTo>
                      <a:lnTo>
                        <a:pt x="3174" y="69"/>
                      </a:lnTo>
                      <a:lnTo>
                        <a:pt x="3099" y="67"/>
                      </a:lnTo>
                      <a:lnTo>
                        <a:pt x="3025" y="67"/>
                      </a:lnTo>
                      <a:lnTo>
                        <a:pt x="2952" y="69"/>
                      </a:lnTo>
                      <a:lnTo>
                        <a:pt x="2878" y="73"/>
                      </a:lnTo>
                      <a:lnTo>
                        <a:pt x="2805" y="78"/>
                      </a:lnTo>
                      <a:lnTo>
                        <a:pt x="2731" y="86"/>
                      </a:lnTo>
                      <a:lnTo>
                        <a:pt x="2658" y="96"/>
                      </a:lnTo>
                      <a:lnTo>
                        <a:pt x="2588" y="106"/>
                      </a:lnTo>
                      <a:lnTo>
                        <a:pt x="2515" y="120"/>
                      </a:lnTo>
                      <a:lnTo>
                        <a:pt x="2443" y="133"/>
                      </a:lnTo>
                      <a:lnTo>
                        <a:pt x="2372" y="149"/>
                      </a:lnTo>
                      <a:lnTo>
                        <a:pt x="2302" y="167"/>
                      </a:lnTo>
                      <a:lnTo>
                        <a:pt x="2233" y="186"/>
                      </a:lnTo>
                      <a:lnTo>
                        <a:pt x="2164" y="208"/>
                      </a:lnTo>
                      <a:lnTo>
                        <a:pt x="2094" y="231"/>
                      </a:lnTo>
                      <a:lnTo>
                        <a:pt x="2027" y="255"/>
                      </a:lnTo>
                      <a:lnTo>
                        <a:pt x="1958" y="282"/>
                      </a:lnTo>
                      <a:lnTo>
                        <a:pt x="1892" y="310"/>
                      </a:lnTo>
                      <a:lnTo>
                        <a:pt x="1827" y="337"/>
                      </a:lnTo>
                      <a:lnTo>
                        <a:pt x="1762" y="369"/>
                      </a:lnTo>
                      <a:lnTo>
                        <a:pt x="1698" y="402"/>
                      </a:lnTo>
                      <a:lnTo>
                        <a:pt x="1633" y="435"/>
                      </a:lnTo>
                      <a:lnTo>
                        <a:pt x="1570" y="471"/>
                      </a:lnTo>
                      <a:lnTo>
                        <a:pt x="1510" y="508"/>
                      </a:lnTo>
                      <a:lnTo>
                        <a:pt x="1447" y="545"/>
                      </a:lnTo>
                      <a:lnTo>
                        <a:pt x="1388" y="584"/>
                      </a:lnTo>
                      <a:lnTo>
                        <a:pt x="1327" y="626"/>
                      </a:lnTo>
                      <a:lnTo>
                        <a:pt x="1270" y="669"/>
                      </a:lnTo>
                      <a:lnTo>
                        <a:pt x="1214" y="712"/>
                      </a:lnTo>
                      <a:lnTo>
                        <a:pt x="1157" y="759"/>
                      </a:lnTo>
                      <a:lnTo>
                        <a:pt x="1102" y="804"/>
                      </a:lnTo>
                      <a:lnTo>
                        <a:pt x="1047" y="853"/>
                      </a:lnTo>
                      <a:lnTo>
                        <a:pt x="994" y="902"/>
                      </a:lnTo>
                      <a:lnTo>
                        <a:pt x="943" y="953"/>
                      </a:lnTo>
                      <a:lnTo>
                        <a:pt x="892" y="1004"/>
                      </a:lnTo>
                      <a:lnTo>
                        <a:pt x="843" y="1059"/>
                      </a:lnTo>
                      <a:lnTo>
                        <a:pt x="794" y="1114"/>
                      </a:lnTo>
                      <a:lnTo>
                        <a:pt x="747" y="1169"/>
                      </a:lnTo>
                      <a:lnTo>
                        <a:pt x="702" y="1226"/>
                      </a:lnTo>
                      <a:lnTo>
                        <a:pt x="657" y="1284"/>
                      </a:lnTo>
                      <a:lnTo>
                        <a:pt x="616" y="1343"/>
                      </a:lnTo>
                      <a:lnTo>
                        <a:pt x="572" y="1404"/>
                      </a:lnTo>
                      <a:lnTo>
                        <a:pt x="533" y="1467"/>
                      </a:lnTo>
                      <a:lnTo>
                        <a:pt x="494" y="1530"/>
                      </a:lnTo>
                      <a:lnTo>
                        <a:pt x="457" y="1594"/>
                      </a:lnTo>
                      <a:lnTo>
                        <a:pt x="421" y="1659"/>
                      </a:lnTo>
                      <a:lnTo>
                        <a:pt x="386" y="1726"/>
                      </a:lnTo>
                      <a:lnTo>
                        <a:pt x="355" y="1792"/>
                      </a:lnTo>
                      <a:lnTo>
                        <a:pt x="323" y="1861"/>
                      </a:lnTo>
                      <a:lnTo>
                        <a:pt x="294" y="1932"/>
                      </a:lnTo>
                      <a:lnTo>
                        <a:pt x="267" y="2002"/>
                      </a:lnTo>
                      <a:lnTo>
                        <a:pt x="239" y="2073"/>
                      </a:lnTo>
                      <a:lnTo>
                        <a:pt x="216" y="2145"/>
                      </a:lnTo>
                      <a:lnTo>
                        <a:pt x="192" y="2220"/>
                      </a:lnTo>
                      <a:lnTo>
                        <a:pt x="171" y="2294"/>
                      </a:lnTo>
                      <a:lnTo>
                        <a:pt x="171" y="2294"/>
                      </a:lnTo>
                      <a:lnTo>
                        <a:pt x="153" y="2369"/>
                      </a:lnTo>
                      <a:lnTo>
                        <a:pt x="135" y="2445"/>
                      </a:lnTo>
                      <a:lnTo>
                        <a:pt x="120" y="2520"/>
                      </a:lnTo>
                      <a:lnTo>
                        <a:pt x="108" y="2594"/>
                      </a:lnTo>
                      <a:lnTo>
                        <a:pt x="96" y="2669"/>
                      </a:lnTo>
                      <a:lnTo>
                        <a:pt x="86" y="2745"/>
                      </a:lnTo>
                      <a:lnTo>
                        <a:pt x="78" y="2820"/>
                      </a:lnTo>
                      <a:lnTo>
                        <a:pt x="74" y="2895"/>
                      </a:lnTo>
                      <a:lnTo>
                        <a:pt x="71" y="2969"/>
                      </a:lnTo>
                      <a:lnTo>
                        <a:pt x="69" y="3044"/>
                      </a:lnTo>
                      <a:lnTo>
                        <a:pt x="69" y="3118"/>
                      </a:lnTo>
                      <a:lnTo>
                        <a:pt x="71" y="3193"/>
                      </a:lnTo>
                      <a:lnTo>
                        <a:pt x="74" y="3265"/>
                      </a:lnTo>
                      <a:lnTo>
                        <a:pt x="80" y="3340"/>
                      </a:lnTo>
                      <a:lnTo>
                        <a:pt x="88" y="3412"/>
                      </a:lnTo>
                      <a:lnTo>
                        <a:pt x="96" y="3485"/>
                      </a:lnTo>
                      <a:lnTo>
                        <a:pt x="108" y="3557"/>
                      </a:lnTo>
                      <a:lnTo>
                        <a:pt x="120" y="3628"/>
                      </a:lnTo>
                      <a:lnTo>
                        <a:pt x="135" y="3701"/>
                      </a:lnTo>
                      <a:lnTo>
                        <a:pt x="151" y="3771"/>
                      </a:lnTo>
                      <a:lnTo>
                        <a:pt x="169" y="3842"/>
                      </a:lnTo>
                      <a:lnTo>
                        <a:pt x="188" y="3910"/>
                      </a:lnTo>
                      <a:lnTo>
                        <a:pt x="210" y="3981"/>
                      </a:lnTo>
                      <a:lnTo>
                        <a:pt x="231" y="4050"/>
                      </a:lnTo>
                      <a:lnTo>
                        <a:pt x="257" y="4116"/>
                      </a:lnTo>
                      <a:lnTo>
                        <a:pt x="282" y="4185"/>
                      </a:lnTo>
                      <a:lnTo>
                        <a:pt x="310" y="4252"/>
                      </a:lnTo>
                      <a:lnTo>
                        <a:pt x="339" y="4316"/>
                      </a:lnTo>
                      <a:lnTo>
                        <a:pt x="371" y="4383"/>
                      </a:lnTo>
                      <a:lnTo>
                        <a:pt x="402" y="4448"/>
                      </a:lnTo>
                      <a:lnTo>
                        <a:pt x="435" y="4510"/>
                      </a:lnTo>
                      <a:lnTo>
                        <a:pt x="471" y="4573"/>
                      </a:lnTo>
                      <a:lnTo>
                        <a:pt x="508" y="4636"/>
                      </a:lnTo>
                      <a:lnTo>
                        <a:pt x="547" y="4697"/>
                      </a:lnTo>
                      <a:lnTo>
                        <a:pt x="586" y="4758"/>
                      </a:lnTo>
                      <a:lnTo>
                        <a:pt x="627" y="4816"/>
                      </a:lnTo>
                      <a:lnTo>
                        <a:pt x="670" y="4875"/>
                      </a:lnTo>
                      <a:lnTo>
                        <a:pt x="714" y="4932"/>
                      </a:lnTo>
                      <a:lnTo>
                        <a:pt x="759" y="4987"/>
                      </a:lnTo>
                      <a:lnTo>
                        <a:pt x="806" y="5042"/>
                      </a:lnTo>
                      <a:lnTo>
                        <a:pt x="855" y="5097"/>
                      </a:lnTo>
                      <a:lnTo>
                        <a:pt x="904" y="5150"/>
                      </a:lnTo>
                      <a:lnTo>
                        <a:pt x="955" y="5201"/>
                      </a:lnTo>
                      <a:lnTo>
                        <a:pt x="1006" y="5252"/>
                      </a:lnTo>
                      <a:lnTo>
                        <a:pt x="1059" y="5301"/>
                      </a:lnTo>
                      <a:lnTo>
                        <a:pt x="1114" y="5350"/>
                      </a:lnTo>
                      <a:lnTo>
                        <a:pt x="1170" y="5397"/>
                      </a:lnTo>
                      <a:lnTo>
                        <a:pt x="1227" y="5442"/>
                      </a:lnTo>
                      <a:lnTo>
                        <a:pt x="1286" y="5487"/>
                      </a:lnTo>
                      <a:lnTo>
                        <a:pt x="1345" y="5530"/>
                      </a:lnTo>
                      <a:lnTo>
                        <a:pt x="1406" y="5571"/>
                      </a:lnTo>
                      <a:lnTo>
                        <a:pt x="1466" y="5611"/>
                      </a:lnTo>
                      <a:lnTo>
                        <a:pt x="1531" y="5650"/>
                      </a:lnTo>
                      <a:lnTo>
                        <a:pt x="1594" y="5687"/>
                      </a:lnTo>
                      <a:lnTo>
                        <a:pt x="1660" y="5722"/>
                      </a:lnTo>
                      <a:lnTo>
                        <a:pt x="1725" y="5758"/>
                      </a:lnTo>
                      <a:lnTo>
                        <a:pt x="1794" y="5791"/>
                      </a:lnTo>
                      <a:lnTo>
                        <a:pt x="1862" y="5820"/>
                      </a:lnTo>
                      <a:lnTo>
                        <a:pt x="1931" y="5850"/>
                      </a:lnTo>
                      <a:lnTo>
                        <a:pt x="2002" y="5879"/>
                      </a:lnTo>
                      <a:lnTo>
                        <a:pt x="2074" y="5905"/>
                      </a:lnTo>
                      <a:lnTo>
                        <a:pt x="2147" y="5930"/>
                      </a:lnTo>
                      <a:lnTo>
                        <a:pt x="2219" y="5952"/>
                      </a:lnTo>
                      <a:lnTo>
                        <a:pt x="2296" y="5973"/>
                      </a:lnTo>
                      <a:lnTo>
                        <a:pt x="2296" y="5973"/>
                      </a:lnTo>
                      <a:lnTo>
                        <a:pt x="2370" y="5993"/>
                      </a:lnTo>
                      <a:lnTo>
                        <a:pt x="2445" y="6009"/>
                      </a:lnTo>
                      <a:lnTo>
                        <a:pt x="2521" y="6024"/>
                      </a:lnTo>
                      <a:lnTo>
                        <a:pt x="2596" y="6038"/>
                      </a:lnTo>
                      <a:lnTo>
                        <a:pt x="2670" y="6048"/>
                      </a:lnTo>
                      <a:lnTo>
                        <a:pt x="2745" y="6058"/>
                      </a:lnTo>
                      <a:lnTo>
                        <a:pt x="2821" y="6066"/>
                      </a:lnTo>
                      <a:lnTo>
                        <a:pt x="2896" y="6071"/>
                      </a:lnTo>
                      <a:lnTo>
                        <a:pt x="2970" y="6073"/>
                      </a:lnTo>
                      <a:lnTo>
                        <a:pt x="3045" y="6075"/>
                      </a:lnTo>
                      <a:lnTo>
                        <a:pt x="3119" y="6075"/>
                      </a:lnTo>
                      <a:lnTo>
                        <a:pt x="3192" y="6073"/>
                      </a:lnTo>
                      <a:lnTo>
                        <a:pt x="3266" y="6069"/>
                      </a:lnTo>
                      <a:lnTo>
                        <a:pt x="3339" y="6064"/>
                      </a:lnTo>
                      <a:lnTo>
                        <a:pt x="3413" y="6058"/>
                      </a:lnTo>
                      <a:lnTo>
                        <a:pt x="3486" y="6048"/>
                      </a:lnTo>
                      <a:lnTo>
                        <a:pt x="3556" y="6036"/>
                      </a:lnTo>
                      <a:lnTo>
                        <a:pt x="3629" y="6024"/>
                      </a:lnTo>
                      <a:lnTo>
                        <a:pt x="3699" y="6009"/>
                      </a:lnTo>
                      <a:lnTo>
                        <a:pt x="3772" y="5993"/>
                      </a:lnTo>
                      <a:lnTo>
                        <a:pt x="3842" y="5975"/>
                      </a:lnTo>
                      <a:lnTo>
                        <a:pt x="3911" y="5956"/>
                      </a:lnTo>
                      <a:lnTo>
                        <a:pt x="3980" y="5934"/>
                      </a:lnTo>
                      <a:lnTo>
                        <a:pt x="4048" y="5913"/>
                      </a:lnTo>
                      <a:lnTo>
                        <a:pt x="4117" y="5887"/>
                      </a:lnTo>
                      <a:lnTo>
                        <a:pt x="4186" y="5862"/>
                      </a:lnTo>
                      <a:lnTo>
                        <a:pt x="4252" y="5834"/>
                      </a:lnTo>
                      <a:lnTo>
                        <a:pt x="4317" y="5805"/>
                      </a:lnTo>
                      <a:lnTo>
                        <a:pt x="4382" y="5773"/>
                      </a:lnTo>
                      <a:lnTo>
                        <a:pt x="4446" y="5742"/>
                      </a:lnTo>
                      <a:lnTo>
                        <a:pt x="4511" y="5709"/>
                      </a:lnTo>
                      <a:lnTo>
                        <a:pt x="4574" y="5673"/>
                      </a:lnTo>
                      <a:lnTo>
                        <a:pt x="4634" y="5636"/>
                      </a:lnTo>
                      <a:lnTo>
                        <a:pt x="4697" y="5599"/>
                      </a:lnTo>
                      <a:lnTo>
                        <a:pt x="4756" y="5558"/>
                      </a:lnTo>
                      <a:lnTo>
                        <a:pt x="4815" y="5516"/>
                      </a:lnTo>
                      <a:lnTo>
                        <a:pt x="4874" y="5475"/>
                      </a:lnTo>
                      <a:lnTo>
                        <a:pt x="4930" y="5430"/>
                      </a:lnTo>
                      <a:lnTo>
                        <a:pt x="4987" y="5385"/>
                      </a:lnTo>
                      <a:lnTo>
                        <a:pt x="5042" y="5338"/>
                      </a:lnTo>
                      <a:lnTo>
                        <a:pt x="5097" y="5291"/>
                      </a:lnTo>
                      <a:lnTo>
                        <a:pt x="5150" y="5242"/>
                      </a:lnTo>
                      <a:lnTo>
                        <a:pt x="5201" y="5191"/>
                      </a:lnTo>
                      <a:lnTo>
                        <a:pt x="5252" y="5138"/>
                      </a:lnTo>
                      <a:lnTo>
                        <a:pt x="5301" y="5085"/>
                      </a:lnTo>
                      <a:lnTo>
                        <a:pt x="5350" y="5030"/>
                      </a:lnTo>
                      <a:lnTo>
                        <a:pt x="5397" y="4975"/>
                      </a:lnTo>
                      <a:lnTo>
                        <a:pt x="5442" y="4916"/>
                      </a:lnTo>
                      <a:lnTo>
                        <a:pt x="5487" y="4860"/>
                      </a:lnTo>
                      <a:lnTo>
                        <a:pt x="5528" y="4799"/>
                      </a:lnTo>
                      <a:lnTo>
                        <a:pt x="5572" y="4738"/>
                      </a:lnTo>
                      <a:lnTo>
                        <a:pt x="5611" y="4677"/>
                      </a:lnTo>
                      <a:lnTo>
                        <a:pt x="5650" y="4614"/>
                      </a:lnTo>
                      <a:lnTo>
                        <a:pt x="5687" y="4550"/>
                      </a:lnTo>
                      <a:lnTo>
                        <a:pt x="5723" y="4485"/>
                      </a:lnTo>
                      <a:lnTo>
                        <a:pt x="5758" y="4418"/>
                      </a:lnTo>
                      <a:lnTo>
                        <a:pt x="5789" y="4350"/>
                      </a:lnTo>
                      <a:lnTo>
                        <a:pt x="5821" y="4281"/>
                      </a:lnTo>
                      <a:lnTo>
                        <a:pt x="5850" y="4212"/>
                      </a:lnTo>
                      <a:lnTo>
                        <a:pt x="5877" y="4142"/>
                      </a:lnTo>
                      <a:lnTo>
                        <a:pt x="5905" y="4069"/>
                      </a:lnTo>
                      <a:lnTo>
                        <a:pt x="5928" y="3997"/>
                      </a:lnTo>
                      <a:lnTo>
                        <a:pt x="5952" y="3924"/>
                      </a:lnTo>
                      <a:lnTo>
                        <a:pt x="5971" y="3850"/>
                      </a:lnTo>
                      <a:lnTo>
                        <a:pt x="5971" y="3850"/>
                      </a:lnTo>
                      <a:lnTo>
                        <a:pt x="5991" y="3773"/>
                      </a:lnTo>
                      <a:lnTo>
                        <a:pt x="6009" y="3699"/>
                      </a:lnTo>
                      <a:lnTo>
                        <a:pt x="6024" y="3624"/>
                      </a:lnTo>
                      <a:lnTo>
                        <a:pt x="6036" y="3548"/>
                      </a:lnTo>
                      <a:lnTo>
                        <a:pt x="6048" y="3473"/>
                      </a:lnTo>
                      <a:lnTo>
                        <a:pt x="6058" y="3399"/>
                      </a:lnTo>
                      <a:lnTo>
                        <a:pt x="6066" y="3324"/>
                      </a:lnTo>
                      <a:lnTo>
                        <a:pt x="6070" y="3248"/>
                      </a:lnTo>
                      <a:lnTo>
                        <a:pt x="6073" y="3173"/>
                      </a:lnTo>
                      <a:lnTo>
                        <a:pt x="6075" y="3098"/>
                      </a:lnTo>
                      <a:lnTo>
                        <a:pt x="6075" y="3026"/>
                      </a:lnTo>
                      <a:lnTo>
                        <a:pt x="6073" y="2951"/>
                      </a:lnTo>
                      <a:lnTo>
                        <a:pt x="6070" y="2877"/>
                      </a:lnTo>
                      <a:lnTo>
                        <a:pt x="6064" y="2804"/>
                      </a:lnTo>
                      <a:lnTo>
                        <a:pt x="6056" y="2732"/>
                      </a:lnTo>
                      <a:lnTo>
                        <a:pt x="6048" y="2659"/>
                      </a:lnTo>
                      <a:lnTo>
                        <a:pt x="6036" y="2587"/>
                      </a:lnTo>
                      <a:lnTo>
                        <a:pt x="6022" y="2514"/>
                      </a:lnTo>
                      <a:lnTo>
                        <a:pt x="6009" y="2443"/>
                      </a:lnTo>
                      <a:lnTo>
                        <a:pt x="5993" y="2373"/>
                      </a:lnTo>
                      <a:lnTo>
                        <a:pt x="5975" y="2302"/>
                      </a:lnTo>
                      <a:lnTo>
                        <a:pt x="5956" y="2232"/>
                      </a:lnTo>
                      <a:lnTo>
                        <a:pt x="5934" y="2163"/>
                      </a:lnTo>
                      <a:lnTo>
                        <a:pt x="5911" y="2094"/>
                      </a:lnTo>
                      <a:lnTo>
                        <a:pt x="5887" y="2026"/>
                      </a:lnTo>
                      <a:lnTo>
                        <a:pt x="5862" y="1959"/>
                      </a:lnTo>
                      <a:lnTo>
                        <a:pt x="5834" y="1892"/>
                      </a:lnTo>
                      <a:lnTo>
                        <a:pt x="5805" y="1826"/>
                      </a:lnTo>
                      <a:lnTo>
                        <a:pt x="5773" y="1761"/>
                      </a:lnTo>
                      <a:lnTo>
                        <a:pt x="5742" y="1696"/>
                      </a:lnTo>
                      <a:lnTo>
                        <a:pt x="5707" y="1632"/>
                      </a:lnTo>
                      <a:lnTo>
                        <a:pt x="5672" y="1569"/>
                      </a:lnTo>
                      <a:lnTo>
                        <a:pt x="5636" y="1508"/>
                      </a:lnTo>
                      <a:lnTo>
                        <a:pt x="5597" y="1447"/>
                      </a:lnTo>
                      <a:lnTo>
                        <a:pt x="5558" y="1386"/>
                      </a:lnTo>
                      <a:lnTo>
                        <a:pt x="5517" y="1328"/>
                      </a:lnTo>
                      <a:lnTo>
                        <a:pt x="5474" y="1269"/>
                      </a:lnTo>
                      <a:lnTo>
                        <a:pt x="5430" y="1212"/>
                      </a:lnTo>
                      <a:lnTo>
                        <a:pt x="5385" y="1155"/>
                      </a:lnTo>
                      <a:lnTo>
                        <a:pt x="5338" y="1100"/>
                      </a:lnTo>
                      <a:lnTo>
                        <a:pt x="5289" y="1047"/>
                      </a:lnTo>
                      <a:lnTo>
                        <a:pt x="5240" y="994"/>
                      </a:lnTo>
                      <a:lnTo>
                        <a:pt x="5189" y="941"/>
                      </a:lnTo>
                      <a:lnTo>
                        <a:pt x="5138" y="890"/>
                      </a:lnTo>
                      <a:lnTo>
                        <a:pt x="5085" y="841"/>
                      </a:lnTo>
                      <a:lnTo>
                        <a:pt x="5030" y="794"/>
                      </a:lnTo>
                      <a:lnTo>
                        <a:pt x="4974" y="747"/>
                      </a:lnTo>
                      <a:lnTo>
                        <a:pt x="4917" y="700"/>
                      </a:lnTo>
                      <a:lnTo>
                        <a:pt x="4858" y="657"/>
                      </a:lnTo>
                      <a:lnTo>
                        <a:pt x="4799" y="614"/>
                      </a:lnTo>
                      <a:lnTo>
                        <a:pt x="4738" y="573"/>
                      </a:lnTo>
                      <a:lnTo>
                        <a:pt x="4678" y="531"/>
                      </a:lnTo>
                      <a:lnTo>
                        <a:pt x="4613" y="492"/>
                      </a:lnTo>
                      <a:lnTo>
                        <a:pt x="4550" y="455"/>
                      </a:lnTo>
                      <a:lnTo>
                        <a:pt x="4484" y="420"/>
                      </a:lnTo>
                      <a:lnTo>
                        <a:pt x="4419" y="386"/>
                      </a:lnTo>
                      <a:lnTo>
                        <a:pt x="4350" y="353"/>
                      </a:lnTo>
                      <a:lnTo>
                        <a:pt x="4282" y="322"/>
                      </a:lnTo>
                      <a:lnTo>
                        <a:pt x="4213" y="292"/>
                      </a:lnTo>
                      <a:lnTo>
                        <a:pt x="4142" y="265"/>
                      </a:lnTo>
                      <a:lnTo>
                        <a:pt x="4070" y="239"/>
                      </a:lnTo>
                      <a:lnTo>
                        <a:pt x="3997" y="214"/>
                      </a:lnTo>
                      <a:lnTo>
                        <a:pt x="3923" y="190"/>
                      </a:lnTo>
                      <a:lnTo>
                        <a:pt x="3848" y="171"/>
                      </a:lnTo>
                      <a:lnTo>
                        <a:pt x="3848" y="171"/>
                      </a:lnTo>
                      <a:close/>
                    </a:path>
                  </a:pathLst>
                </a:custGeom>
                <a:gradFill rotWithShape="0">
                  <a:gsLst>
                    <a:gs pos="0">
                      <a:srgbClr val="74420d"/>
                    </a:gs>
                    <a:gs pos="100000">
                      <a:srgbClr val="c89834"/>
                    </a:gs>
                  </a:gsLst>
                  <a:lin ang="2460000"/>
                </a:gradFill>
                <a:ln w="9525">
                  <a:noFill/>
                </a:ln>
              </p:spPr>
              <p:style>
                <a:lnRef idx="0"/>
                <a:fillRef idx="0"/>
                <a:effectRef idx="0"/>
                <a:fontRef idx="minor"/>
              </p:style>
              <p:txBody>
                <a:bodyPr numCol="1" spcCol="0" anchor="t">
                  <a:noAutofit/>
                </a:bodyPr>
                <a:p>
                  <a:pPr>
                    <a:lnSpc>
                      <a:spcPct val="85000"/>
                    </a:lnSpc>
                    <a:spcBef>
                      <a:spcPts val="360"/>
                    </a:spcBef>
                  </a:pPr>
                  <a:endParaRPr b="0" lang="en-US" sz="1800" spc="-1" strike="noStrike">
                    <a:solidFill>
                      <a:srgbClr val="000000"/>
                    </a:solidFill>
                    <a:latin typeface="Calibri"/>
                  </a:endParaRPr>
                </a:p>
              </p:txBody>
            </p:sp>
            <p:sp>
              <p:nvSpPr>
                <p:cNvPr id="611" name="Freeform 9"/>
                <p:cNvSpPr/>
                <p:nvPr/>
              </p:nvSpPr>
              <p:spPr>
                <a:xfrm flipV="1" rot="10800000">
                  <a:off x="1677960" y="1129320"/>
                  <a:ext cx="266040" cy="266040"/>
                </a:xfrm>
                <a:custGeom>
                  <a:avLst/>
                  <a:gdLst>
                    <a:gd name="textAreaLeft" fmla="*/ 0 w 266040"/>
                    <a:gd name="textAreaRight" fmla="*/ 266400 w 266040"/>
                    <a:gd name="textAreaTop" fmla="*/ -360 h 266040"/>
                    <a:gd name="textAreaBottom" fmla="*/ 266040 h 266040"/>
                  </a:gdLst>
                  <a:ahLst/>
                  <a:rect l="textAreaLeft" t="textAreaTop" r="textAreaRight" b="textAreaBottom"/>
                  <a:pathLst>
                    <a:path w="4320" h="4320">
                      <a:moveTo>
                        <a:pt x="4245" y="2719"/>
                      </a:moveTo>
                      <a:lnTo>
                        <a:pt x="4245" y="2719"/>
                      </a:lnTo>
                      <a:lnTo>
                        <a:pt x="4231" y="2773"/>
                      </a:lnTo>
                      <a:lnTo>
                        <a:pt x="4215" y="2826"/>
                      </a:lnTo>
                      <a:lnTo>
                        <a:pt x="4197" y="2878"/>
                      </a:lnTo>
                      <a:lnTo>
                        <a:pt x="4178" y="2930"/>
                      </a:lnTo>
                      <a:lnTo>
                        <a:pt x="4158" y="2980"/>
                      </a:lnTo>
                      <a:lnTo>
                        <a:pt x="4138" y="3031"/>
                      </a:lnTo>
                      <a:lnTo>
                        <a:pt x="4115" y="3080"/>
                      </a:lnTo>
                      <a:lnTo>
                        <a:pt x="4091" y="3128"/>
                      </a:lnTo>
                      <a:lnTo>
                        <a:pt x="4067" y="3176"/>
                      </a:lnTo>
                      <a:lnTo>
                        <a:pt x="4040" y="3223"/>
                      </a:lnTo>
                      <a:lnTo>
                        <a:pt x="4014" y="3269"/>
                      </a:lnTo>
                      <a:lnTo>
                        <a:pt x="3986" y="3315"/>
                      </a:lnTo>
                      <a:lnTo>
                        <a:pt x="3958" y="3359"/>
                      </a:lnTo>
                      <a:lnTo>
                        <a:pt x="3927" y="3402"/>
                      </a:lnTo>
                      <a:lnTo>
                        <a:pt x="3897" y="3445"/>
                      </a:lnTo>
                      <a:lnTo>
                        <a:pt x="3865" y="3488"/>
                      </a:lnTo>
                      <a:lnTo>
                        <a:pt x="3831" y="3528"/>
                      </a:lnTo>
                      <a:lnTo>
                        <a:pt x="3798" y="3569"/>
                      </a:lnTo>
                      <a:lnTo>
                        <a:pt x="3763" y="3608"/>
                      </a:lnTo>
                      <a:lnTo>
                        <a:pt x="3727" y="3646"/>
                      </a:lnTo>
                      <a:lnTo>
                        <a:pt x="3691" y="3683"/>
                      </a:lnTo>
                      <a:lnTo>
                        <a:pt x="3654" y="3719"/>
                      </a:lnTo>
                      <a:lnTo>
                        <a:pt x="3617" y="3755"/>
                      </a:lnTo>
                      <a:lnTo>
                        <a:pt x="3577" y="3790"/>
                      </a:lnTo>
                      <a:lnTo>
                        <a:pt x="3538" y="3823"/>
                      </a:lnTo>
                      <a:lnTo>
                        <a:pt x="3497" y="3857"/>
                      </a:lnTo>
                      <a:lnTo>
                        <a:pt x="3456" y="3887"/>
                      </a:lnTo>
                      <a:lnTo>
                        <a:pt x="3414" y="3918"/>
                      </a:lnTo>
                      <a:lnTo>
                        <a:pt x="3372" y="3948"/>
                      </a:lnTo>
                      <a:lnTo>
                        <a:pt x="3328" y="3976"/>
                      </a:lnTo>
                      <a:lnTo>
                        <a:pt x="3284" y="4004"/>
                      </a:lnTo>
                      <a:lnTo>
                        <a:pt x="3240" y="4030"/>
                      </a:lnTo>
                      <a:lnTo>
                        <a:pt x="3195" y="4055"/>
                      </a:lnTo>
                      <a:lnTo>
                        <a:pt x="3149" y="4080"/>
                      </a:lnTo>
                      <a:lnTo>
                        <a:pt x="3103" y="4103"/>
                      </a:lnTo>
                      <a:lnTo>
                        <a:pt x="3056" y="4126"/>
                      </a:lnTo>
                      <a:lnTo>
                        <a:pt x="3008" y="4146"/>
                      </a:lnTo>
                      <a:lnTo>
                        <a:pt x="2960" y="4166"/>
                      </a:lnTo>
                      <a:lnTo>
                        <a:pt x="2912" y="4184"/>
                      </a:lnTo>
                      <a:lnTo>
                        <a:pt x="2863" y="4203"/>
                      </a:lnTo>
                      <a:lnTo>
                        <a:pt x="2814" y="4219"/>
                      </a:lnTo>
                      <a:lnTo>
                        <a:pt x="2765" y="4233"/>
                      </a:lnTo>
                      <a:lnTo>
                        <a:pt x="2714" y="4248"/>
                      </a:lnTo>
                      <a:lnTo>
                        <a:pt x="2663" y="4260"/>
                      </a:lnTo>
                      <a:lnTo>
                        <a:pt x="2613" y="4272"/>
                      </a:lnTo>
                      <a:lnTo>
                        <a:pt x="2561" y="4283"/>
                      </a:lnTo>
                      <a:lnTo>
                        <a:pt x="2509" y="4292"/>
                      </a:lnTo>
                      <a:lnTo>
                        <a:pt x="2457" y="4300"/>
                      </a:lnTo>
                      <a:lnTo>
                        <a:pt x="2405" y="4307"/>
                      </a:lnTo>
                      <a:lnTo>
                        <a:pt x="2353" y="4312"/>
                      </a:lnTo>
                      <a:lnTo>
                        <a:pt x="2300" y="4316"/>
                      </a:lnTo>
                      <a:lnTo>
                        <a:pt x="2247" y="4319"/>
                      </a:lnTo>
                      <a:lnTo>
                        <a:pt x="2193" y="4320"/>
                      </a:lnTo>
                      <a:lnTo>
                        <a:pt x="2140" y="4320"/>
                      </a:lnTo>
                      <a:lnTo>
                        <a:pt x="2087" y="4319"/>
                      </a:lnTo>
                      <a:lnTo>
                        <a:pt x="2033" y="4316"/>
                      </a:lnTo>
                      <a:lnTo>
                        <a:pt x="1979" y="4312"/>
                      </a:lnTo>
                      <a:lnTo>
                        <a:pt x="1926" y="4307"/>
                      </a:lnTo>
                      <a:lnTo>
                        <a:pt x="1871" y="4300"/>
                      </a:lnTo>
                      <a:lnTo>
                        <a:pt x="1818" y="4292"/>
                      </a:lnTo>
                      <a:lnTo>
                        <a:pt x="1763" y="4283"/>
                      </a:lnTo>
                      <a:lnTo>
                        <a:pt x="1710" y="4272"/>
                      </a:lnTo>
                      <a:lnTo>
                        <a:pt x="1655" y="4260"/>
                      </a:lnTo>
                      <a:lnTo>
                        <a:pt x="1602" y="4245"/>
                      </a:lnTo>
                      <a:lnTo>
                        <a:pt x="1602" y="4245"/>
                      </a:lnTo>
                      <a:lnTo>
                        <a:pt x="1547" y="4231"/>
                      </a:lnTo>
                      <a:lnTo>
                        <a:pt x="1495" y="4215"/>
                      </a:lnTo>
                      <a:lnTo>
                        <a:pt x="1442" y="4197"/>
                      </a:lnTo>
                      <a:lnTo>
                        <a:pt x="1392" y="4178"/>
                      </a:lnTo>
                      <a:lnTo>
                        <a:pt x="1341" y="4158"/>
                      </a:lnTo>
                      <a:lnTo>
                        <a:pt x="1290" y="4136"/>
                      </a:lnTo>
                      <a:lnTo>
                        <a:pt x="1241" y="4115"/>
                      </a:lnTo>
                      <a:lnTo>
                        <a:pt x="1193" y="4091"/>
                      </a:lnTo>
                      <a:lnTo>
                        <a:pt x="1145" y="4067"/>
                      </a:lnTo>
                      <a:lnTo>
                        <a:pt x="1097" y="4040"/>
                      </a:lnTo>
                      <a:lnTo>
                        <a:pt x="1052" y="4014"/>
                      </a:lnTo>
                      <a:lnTo>
                        <a:pt x="1007" y="3986"/>
                      </a:lnTo>
                      <a:lnTo>
                        <a:pt x="961" y="3958"/>
                      </a:lnTo>
                      <a:lnTo>
                        <a:pt x="919" y="3927"/>
                      </a:lnTo>
                      <a:lnTo>
                        <a:pt x="875" y="3897"/>
                      </a:lnTo>
                      <a:lnTo>
                        <a:pt x="834" y="3865"/>
                      </a:lnTo>
                      <a:lnTo>
                        <a:pt x="792" y="3831"/>
                      </a:lnTo>
                      <a:lnTo>
                        <a:pt x="752" y="3798"/>
                      </a:lnTo>
                      <a:lnTo>
                        <a:pt x="714" y="3763"/>
                      </a:lnTo>
                      <a:lnTo>
                        <a:pt x="675" y="3727"/>
                      </a:lnTo>
                      <a:lnTo>
                        <a:pt x="638" y="3691"/>
                      </a:lnTo>
                      <a:lnTo>
                        <a:pt x="601" y="3654"/>
                      </a:lnTo>
                      <a:lnTo>
                        <a:pt x="566" y="3616"/>
                      </a:lnTo>
                      <a:lnTo>
                        <a:pt x="531" y="3577"/>
                      </a:lnTo>
                      <a:lnTo>
                        <a:pt x="497" y="3538"/>
                      </a:lnTo>
                      <a:lnTo>
                        <a:pt x="465" y="3497"/>
                      </a:lnTo>
                      <a:lnTo>
                        <a:pt x="433" y="3456"/>
                      </a:lnTo>
                      <a:lnTo>
                        <a:pt x="402" y="3414"/>
                      </a:lnTo>
                      <a:lnTo>
                        <a:pt x="373" y="3372"/>
                      </a:lnTo>
                      <a:lnTo>
                        <a:pt x="345" y="3328"/>
                      </a:lnTo>
                      <a:lnTo>
                        <a:pt x="317" y="3284"/>
                      </a:lnTo>
                      <a:lnTo>
                        <a:pt x="290" y="3240"/>
                      </a:lnTo>
                      <a:lnTo>
                        <a:pt x="265" y="3195"/>
                      </a:lnTo>
                      <a:lnTo>
                        <a:pt x="241" y="3149"/>
                      </a:lnTo>
                      <a:lnTo>
                        <a:pt x="217" y="3103"/>
                      </a:lnTo>
                      <a:lnTo>
                        <a:pt x="196" y="3056"/>
                      </a:lnTo>
                      <a:lnTo>
                        <a:pt x="174" y="3008"/>
                      </a:lnTo>
                      <a:lnTo>
                        <a:pt x="154" y="2960"/>
                      </a:lnTo>
                      <a:lnTo>
                        <a:pt x="136" y="2912"/>
                      </a:lnTo>
                      <a:lnTo>
                        <a:pt x="119" y="2863"/>
                      </a:lnTo>
                      <a:lnTo>
                        <a:pt x="103" y="2814"/>
                      </a:lnTo>
                      <a:lnTo>
                        <a:pt x="87" y="2763"/>
                      </a:lnTo>
                      <a:lnTo>
                        <a:pt x="73" y="2714"/>
                      </a:lnTo>
                      <a:lnTo>
                        <a:pt x="60" y="2663"/>
                      </a:lnTo>
                      <a:lnTo>
                        <a:pt x="48" y="2611"/>
                      </a:lnTo>
                      <a:lnTo>
                        <a:pt x="39" y="2561"/>
                      </a:lnTo>
                      <a:lnTo>
                        <a:pt x="29" y="2509"/>
                      </a:lnTo>
                      <a:lnTo>
                        <a:pt x="21" y="2457"/>
                      </a:lnTo>
                      <a:lnTo>
                        <a:pt x="15" y="2405"/>
                      </a:lnTo>
                      <a:lnTo>
                        <a:pt x="9" y="2353"/>
                      </a:lnTo>
                      <a:lnTo>
                        <a:pt x="5" y="2300"/>
                      </a:lnTo>
                      <a:lnTo>
                        <a:pt x="3" y="2247"/>
                      </a:lnTo>
                      <a:lnTo>
                        <a:pt x="1" y="2193"/>
                      </a:lnTo>
                      <a:lnTo>
                        <a:pt x="0" y="2140"/>
                      </a:lnTo>
                      <a:lnTo>
                        <a:pt x="1" y="2087"/>
                      </a:lnTo>
                      <a:lnTo>
                        <a:pt x="4" y="2033"/>
                      </a:lnTo>
                      <a:lnTo>
                        <a:pt x="8" y="1979"/>
                      </a:lnTo>
                      <a:lnTo>
                        <a:pt x="13" y="1926"/>
                      </a:lnTo>
                      <a:lnTo>
                        <a:pt x="20" y="1871"/>
                      </a:lnTo>
                      <a:lnTo>
                        <a:pt x="28" y="1818"/>
                      </a:lnTo>
                      <a:lnTo>
                        <a:pt x="37" y="1763"/>
                      </a:lnTo>
                      <a:lnTo>
                        <a:pt x="49" y="1710"/>
                      </a:lnTo>
                      <a:lnTo>
                        <a:pt x="61" y="1655"/>
                      </a:lnTo>
                      <a:lnTo>
                        <a:pt x="75" y="1602"/>
                      </a:lnTo>
                      <a:lnTo>
                        <a:pt x="75" y="1602"/>
                      </a:lnTo>
                      <a:lnTo>
                        <a:pt x="89" y="1547"/>
                      </a:lnTo>
                      <a:lnTo>
                        <a:pt x="107" y="1494"/>
                      </a:lnTo>
                      <a:lnTo>
                        <a:pt x="124" y="1442"/>
                      </a:lnTo>
                      <a:lnTo>
                        <a:pt x="142" y="1392"/>
                      </a:lnTo>
                      <a:lnTo>
                        <a:pt x="162" y="1340"/>
                      </a:lnTo>
                      <a:lnTo>
                        <a:pt x="184" y="1290"/>
                      </a:lnTo>
                      <a:lnTo>
                        <a:pt x="206" y="1241"/>
                      </a:lnTo>
                      <a:lnTo>
                        <a:pt x="229" y="1192"/>
                      </a:lnTo>
                      <a:lnTo>
                        <a:pt x="254" y="1145"/>
                      </a:lnTo>
                      <a:lnTo>
                        <a:pt x="280" y="1097"/>
                      </a:lnTo>
                      <a:lnTo>
                        <a:pt x="306" y="1052"/>
                      </a:lnTo>
                      <a:lnTo>
                        <a:pt x="334" y="1007"/>
                      </a:lnTo>
                      <a:lnTo>
                        <a:pt x="364" y="961"/>
                      </a:lnTo>
                      <a:lnTo>
                        <a:pt x="393" y="918"/>
                      </a:lnTo>
                      <a:lnTo>
                        <a:pt x="425" y="875"/>
                      </a:lnTo>
                      <a:lnTo>
                        <a:pt x="457" y="834"/>
                      </a:lnTo>
                      <a:lnTo>
                        <a:pt x="489" y="792"/>
                      </a:lnTo>
                      <a:lnTo>
                        <a:pt x="522" y="752"/>
                      </a:lnTo>
                      <a:lnTo>
                        <a:pt x="557" y="712"/>
                      </a:lnTo>
                      <a:lnTo>
                        <a:pt x="593" y="675"/>
                      </a:lnTo>
                      <a:lnTo>
                        <a:pt x="629" y="638"/>
                      </a:lnTo>
                      <a:lnTo>
                        <a:pt x="666" y="601"/>
                      </a:lnTo>
                      <a:lnTo>
                        <a:pt x="704" y="565"/>
                      </a:lnTo>
                      <a:lnTo>
                        <a:pt x="743" y="531"/>
                      </a:lnTo>
                      <a:lnTo>
                        <a:pt x="783" y="497"/>
                      </a:lnTo>
                      <a:lnTo>
                        <a:pt x="823" y="465"/>
                      </a:lnTo>
                      <a:lnTo>
                        <a:pt x="864" y="433"/>
                      </a:lnTo>
                      <a:lnTo>
                        <a:pt x="907" y="402"/>
                      </a:lnTo>
                      <a:lnTo>
                        <a:pt x="949" y="373"/>
                      </a:lnTo>
                      <a:lnTo>
                        <a:pt x="992" y="344"/>
                      </a:lnTo>
                      <a:lnTo>
                        <a:pt x="1036" y="317"/>
                      </a:lnTo>
                      <a:lnTo>
                        <a:pt x="1081" y="290"/>
                      </a:lnTo>
                      <a:lnTo>
                        <a:pt x="1125" y="265"/>
                      </a:lnTo>
                      <a:lnTo>
                        <a:pt x="1172" y="241"/>
                      </a:lnTo>
                      <a:lnTo>
                        <a:pt x="1218" y="217"/>
                      </a:lnTo>
                      <a:lnTo>
                        <a:pt x="1265" y="196"/>
                      </a:lnTo>
                      <a:lnTo>
                        <a:pt x="1313" y="174"/>
                      </a:lnTo>
                      <a:lnTo>
                        <a:pt x="1361" y="154"/>
                      </a:lnTo>
                      <a:lnTo>
                        <a:pt x="1409" y="136"/>
                      </a:lnTo>
                      <a:lnTo>
                        <a:pt x="1458" y="119"/>
                      </a:lnTo>
                      <a:lnTo>
                        <a:pt x="1507" y="103"/>
                      </a:lnTo>
                      <a:lnTo>
                        <a:pt x="1557" y="87"/>
                      </a:lnTo>
                      <a:lnTo>
                        <a:pt x="1607" y="73"/>
                      </a:lnTo>
                      <a:lnTo>
                        <a:pt x="1658" y="60"/>
                      </a:lnTo>
                      <a:lnTo>
                        <a:pt x="1709" y="48"/>
                      </a:lnTo>
                      <a:lnTo>
                        <a:pt x="1760" y="37"/>
                      </a:lnTo>
                      <a:lnTo>
                        <a:pt x="1811" y="29"/>
                      </a:lnTo>
                      <a:lnTo>
                        <a:pt x="1863" y="21"/>
                      </a:lnTo>
                      <a:lnTo>
                        <a:pt x="1916" y="15"/>
                      </a:lnTo>
                      <a:lnTo>
                        <a:pt x="1968" y="9"/>
                      </a:lnTo>
                      <a:lnTo>
                        <a:pt x="2022" y="5"/>
                      </a:lnTo>
                      <a:lnTo>
                        <a:pt x="2073" y="3"/>
                      </a:lnTo>
                      <a:lnTo>
                        <a:pt x="2127" y="1"/>
                      </a:lnTo>
                      <a:lnTo>
                        <a:pt x="2180" y="0"/>
                      </a:lnTo>
                      <a:lnTo>
                        <a:pt x="2235" y="1"/>
                      </a:lnTo>
                      <a:lnTo>
                        <a:pt x="2288" y="4"/>
                      </a:lnTo>
                      <a:lnTo>
                        <a:pt x="2341" y="8"/>
                      </a:lnTo>
                      <a:lnTo>
                        <a:pt x="2396" y="13"/>
                      </a:lnTo>
                      <a:lnTo>
                        <a:pt x="2449" y="20"/>
                      </a:lnTo>
                      <a:lnTo>
                        <a:pt x="2504" y="28"/>
                      </a:lnTo>
                      <a:lnTo>
                        <a:pt x="2557" y="37"/>
                      </a:lnTo>
                      <a:lnTo>
                        <a:pt x="2611" y="48"/>
                      </a:lnTo>
                      <a:lnTo>
                        <a:pt x="2665" y="61"/>
                      </a:lnTo>
                      <a:lnTo>
                        <a:pt x="2719" y="75"/>
                      </a:lnTo>
                      <a:lnTo>
                        <a:pt x="2719" y="75"/>
                      </a:lnTo>
                      <a:lnTo>
                        <a:pt x="2773" y="89"/>
                      </a:lnTo>
                      <a:lnTo>
                        <a:pt x="2826" y="107"/>
                      </a:lnTo>
                      <a:lnTo>
                        <a:pt x="2878" y="124"/>
                      </a:lnTo>
                      <a:lnTo>
                        <a:pt x="2930" y="142"/>
                      </a:lnTo>
                      <a:lnTo>
                        <a:pt x="2980" y="162"/>
                      </a:lnTo>
                      <a:lnTo>
                        <a:pt x="3031" y="184"/>
                      </a:lnTo>
                      <a:lnTo>
                        <a:pt x="3080" y="206"/>
                      </a:lnTo>
                      <a:lnTo>
                        <a:pt x="3128" y="229"/>
                      </a:lnTo>
                      <a:lnTo>
                        <a:pt x="3176" y="254"/>
                      </a:lnTo>
                      <a:lnTo>
                        <a:pt x="3223" y="280"/>
                      </a:lnTo>
                      <a:lnTo>
                        <a:pt x="3269" y="306"/>
                      </a:lnTo>
                      <a:lnTo>
                        <a:pt x="3315" y="334"/>
                      </a:lnTo>
                      <a:lnTo>
                        <a:pt x="3359" y="364"/>
                      </a:lnTo>
                      <a:lnTo>
                        <a:pt x="3402" y="393"/>
                      </a:lnTo>
                      <a:lnTo>
                        <a:pt x="3445" y="425"/>
                      </a:lnTo>
                      <a:lnTo>
                        <a:pt x="3488" y="455"/>
                      </a:lnTo>
                      <a:lnTo>
                        <a:pt x="3528" y="489"/>
                      </a:lnTo>
                      <a:lnTo>
                        <a:pt x="3569" y="522"/>
                      </a:lnTo>
                      <a:lnTo>
                        <a:pt x="3608" y="557"/>
                      </a:lnTo>
                      <a:lnTo>
                        <a:pt x="3646" y="593"/>
                      </a:lnTo>
                      <a:lnTo>
                        <a:pt x="3683" y="629"/>
                      </a:lnTo>
                      <a:lnTo>
                        <a:pt x="3719" y="666"/>
                      </a:lnTo>
                      <a:lnTo>
                        <a:pt x="3755" y="704"/>
                      </a:lnTo>
                      <a:lnTo>
                        <a:pt x="3790" y="743"/>
                      </a:lnTo>
                      <a:lnTo>
                        <a:pt x="3823" y="783"/>
                      </a:lnTo>
                      <a:lnTo>
                        <a:pt x="3857" y="823"/>
                      </a:lnTo>
                      <a:lnTo>
                        <a:pt x="3887" y="864"/>
                      </a:lnTo>
                      <a:lnTo>
                        <a:pt x="3918" y="907"/>
                      </a:lnTo>
                      <a:lnTo>
                        <a:pt x="3948" y="949"/>
                      </a:lnTo>
                      <a:lnTo>
                        <a:pt x="3976" y="992"/>
                      </a:lnTo>
                      <a:lnTo>
                        <a:pt x="4004" y="1036"/>
                      </a:lnTo>
                      <a:lnTo>
                        <a:pt x="4031" y="1080"/>
                      </a:lnTo>
                      <a:lnTo>
                        <a:pt x="4056" y="1125"/>
                      </a:lnTo>
                      <a:lnTo>
                        <a:pt x="4080" y="1172"/>
                      </a:lnTo>
                      <a:lnTo>
                        <a:pt x="4103" y="1218"/>
                      </a:lnTo>
                      <a:lnTo>
                        <a:pt x="4126" y="1265"/>
                      </a:lnTo>
                      <a:lnTo>
                        <a:pt x="4147" y="1312"/>
                      </a:lnTo>
                      <a:lnTo>
                        <a:pt x="4166" y="1360"/>
                      </a:lnTo>
                      <a:lnTo>
                        <a:pt x="4184" y="1409"/>
                      </a:lnTo>
                      <a:lnTo>
                        <a:pt x="4203" y="1458"/>
                      </a:lnTo>
                      <a:lnTo>
                        <a:pt x="4219" y="1507"/>
                      </a:lnTo>
                      <a:lnTo>
                        <a:pt x="4233" y="1557"/>
                      </a:lnTo>
                      <a:lnTo>
                        <a:pt x="4248" y="1607"/>
                      </a:lnTo>
                      <a:lnTo>
                        <a:pt x="4261" y="1658"/>
                      </a:lnTo>
                      <a:lnTo>
                        <a:pt x="4272" y="1709"/>
                      </a:lnTo>
                      <a:lnTo>
                        <a:pt x="4283" y="1759"/>
                      </a:lnTo>
                      <a:lnTo>
                        <a:pt x="4292" y="1811"/>
                      </a:lnTo>
                      <a:lnTo>
                        <a:pt x="4300" y="1863"/>
                      </a:lnTo>
                      <a:lnTo>
                        <a:pt x="4307" y="1915"/>
                      </a:lnTo>
                      <a:lnTo>
                        <a:pt x="4312" y="1968"/>
                      </a:lnTo>
                      <a:lnTo>
                        <a:pt x="4316" y="2022"/>
                      </a:lnTo>
                      <a:lnTo>
                        <a:pt x="4319" y="2073"/>
                      </a:lnTo>
                      <a:lnTo>
                        <a:pt x="4320" y="2127"/>
                      </a:lnTo>
                      <a:lnTo>
                        <a:pt x="4320" y="2180"/>
                      </a:lnTo>
                      <a:lnTo>
                        <a:pt x="4319" y="2233"/>
                      </a:lnTo>
                      <a:lnTo>
                        <a:pt x="4316" y="2288"/>
                      </a:lnTo>
                      <a:lnTo>
                        <a:pt x="4312" y="2341"/>
                      </a:lnTo>
                      <a:lnTo>
                        <a:pt x="4307" y="2396"/>
                      </a:lnTo>
                      <a:lnTo>
                        <a:pt x="4300" y="2449"/>
                      </a:lnTo>
                      <a:lnTo>
                        <a:pt x="4292" y="2504"/>
                      </a:lnTo>
                      <a:lnTo>
                        <a:pt x="4283" y="2557"/>
                      </a:lnTo>
                      <a:lnTo>
                        <a:pt x="4272" y="2611"/>
                      </a:lnTo>
                      <a:lnTo>
                        <a:pt x="4260" y="2665"/>
                      </a:lnTo>
                      <a:lnTo>
                        <a:pt x="4245" y="2719"/>
                      </a:lnTo>
                      <a:lnTo>
                        <a:pt x="4245" y="2719"/>
                      </a:lnTo>
                      <a:close/>
                      <a:moveTo>
                        <a:pt x="2695" y="165"/>
                      </a:moveTo>
                      <a:lnTo>
                        <a:pt x="2695" y="165"/>
                      </a:lnTo>
                      <a:lnTo>
                        <a:pt x="2643" y="152"/>
                      </a:lnTo>
                      <a:lnTo>
                        <a:pt x="2591" y="141"/>
                      </a:lnTo>
                      <a:lnTo>
                        <a:pt x="2540" y="131"/>
                      </a:lnTo>
                      <a:lnTo>
                        <a:pt x="2488" y="121"/>
                      </a:lnTo>
                      <a:lnTo>
                        <a:pt x="2437" y="113"/>
                      </a:lnTo>
                      <a:lnTo>
                        <a:pt x="2385" y="107"/>
                      </a:lnTo>
                      <a:lnTo>
                        <a:pt x="2333" y="103"/>
                      </a:lnTo>
                      <a:lnTo>
                        <a:pt x="2283" y="99"/>
                      </a:lnTo>
                      <a:lnTo>
                        <a:pt x="2231" y="96"/>
                      </a:lnTo>
                      <a:lnTo>
                        <a:pt x="2180" y="95"/>
                      </a:lnTo>
                      <a:lnTo>
                        <a:pt x="2128" y="95"/>
                      </a:lnTo>
                      <a:lnTo>
                        <a:pt x="2077" y="96"/>
                      </a:lnTo>
                      <a:lnTo>
                        <a:pt x="2027" y="99"/>
                      </a:lnTo>
                      <a:lnTo>
                        <a:pt x="1976" y="103"/>
                      </a:lnTo>
                      <a:lnTo>
                        <a:pt x="1927" y="108"/>
                      </a:lnTo>
                      <a:lnTo>
                        <a:pt x="1876" y="115"/>
                      </a:lnTo>
                      <a:lnTo>
                        <a:pt x="1827" y="121"/>
                      </a:lnTo>
                      <a:lnTo>
                        <a:pt x="1778" y="131"/>
                      </a:lnTo>
                      <a:lnTo>
                        <a:pt x="1729" y="140"/>
                      </a:lnTo>
                      <a:lnTo>
                        <a:pt x="1679" y="152"/>
                      </a:lnTo>
                      <a:lnTo>
                        <a:pt x="1631" y="164"/>
                      </a:lnTo>
                      <a:lnTo>
                        <a:pt x="1583" y="177"/>
                      </a:lnTo>
                      <a:lnTo>
                        <a:pt x="1535" y="192"/>
                      </a:lnTo>
                      <a:lnTo>
                        <a:pt x="1489" y="208"/>
                      </a:lnTo>
                      <a:lnTo>
                        <a:pt x="1441" y="224"/>
                      </a:lnTo>
                      <a:lnTo>
                        <a:pt x="1396" y="242"/>
                      </a:lnTo>
                      <a:lnTo>
                        <a:pt x="1349" y="261"/>
                      </a:lnTo>
                      <a:lnTo>
                        <a:pt x="1304" y="281"/>
                      </a:lnTo>
                      <a:lnTo>
                        <a:pt x="1258" y="302"/>
                      </a:lnTo>
                      <a:lnTo>
                        <a:pt x="1215" y="325"/>
                      </a:lnTo>
                      <a:lnTo>
                        <a:pt x="1171" y="348"/>
                      </a:lnTo>
                      <a:lnTo>
                        <a:pt x="1128" y="372"/>
                      </a:lnTo>
                      <a:lnTo>
                        <a:pt x="1085" y="397"/>
                      </a:lnTo>
                      <a:lnTo>
                        <a:pt x="1043" y="423"/>
                      </a:lnTo>
                      <a:lnTo>
                        <a:pt x="1001" y="450"/>
                      </a:lnTo>
                      <a:lnTo>
                        <a:pt x="961" y="479"/>
                      </a:lnTo>
                      <a:lnTo>
                        <a:pt x="922" y="509"/>
                      </a:lnTo>
                      <a:lnTo>
                        <a:pt x="882" y="538"/>
                      </a:lnTo>
                      <a:lnTo>
                        <a:pt x="843" y="570"/>
                      </a:lnTo>
                      <a:lnTo>
                        <a:pt x="806" y="602"/>
                      </a:lnTo>
                      <a:lnTo>
                        <a:pt x="768" y="635"/>
                      </a:lnTo>
                      <a:lnTo>
                        <a:pt x="731" y="669"/>
                      </a:lnTo>
                      <a:lnTo>
                        <a:pt x="696" y="703"/>
                      </a:lnTo>
                      <a:lnTo>
                        <a:pt x="661" y="739"/>
                      </a:lnTo>
                      <a:lnTo>
                        <a:pt x="627" y="776"/>
                      </a:lnTo>
                      <a:lnTo>
                        <a:pt x="594" y="814"/>
                      </a:lnTo>
                      <a:lnTo>
                        <a:pt x="562" y="852"/>
                      </a:lnTo>
                      <a:lnTo>
                        <a:pt x="530" y="891"/>
                      </a:lnTo>
                      <a:lnTo>
                        <a:pt x="499" y="931"/>
                      </a:lnTo>
                      <a:lnTo>
                        <a:pt x="470" y="972"/>
                      </a:lnTo>
                      <a:lnTo>
                        <a:pt x="442" y="1013"/>
                      </a:lnTo>
                      <a:lnTo>
                        <a:pt x="414" y="1056"/>
                      </a:lnTo>
                      <a:lnTo>
                        <a:pt x="388" y="1100"/>
                      </a:lnTo>
                      <a:lnTo>
                        <a:pt x="362" y="1144"/>
                      </a:lnTo>
                      <a:lnTo>
                        <a:pt x="337" y="1189"/>
                      </a:lnTo>
                      <a:lnTo>
                        <a:pt x="314" y="1234"/>
                      </a:lnTo>
                      <a:lnTo>
                        <a:pt x="292" y="1281"/>
                      </a:lnTo>
                      <a:lnTo>
                        <a:pt x="270" y="1328"/>
                      </a:lnTo>
                      <a:lnTo>
                        <a:pt x="250" y="1376"/>
                      </a:lnTo>
                      <a:lnTo>
                        <a:pt x="230" y="1425"/>
                      </a:lnTo>
                      <a:lnTo>
                        <a:pt x="213" y="1474"/>
                      </a:lnTo>
                      <a:lnTo>
                        <a:pt x="196" y="1523"/>
                      </a:lnTo>
                      <a:lnTo>
                        <a:pt x="180" y="1574"/>
                      </a:lnTo>
                      <a:lnTo>
                        <a:pt x="165" y="1626"/>
                      </a:lnTo>
                      <a:lnTo>
                        <a:pt x="165" y="1626"/>
                      </a:lnTo>
                      <a:lnTo>
                        <a:pt x="152" y="1678"/>
                      </a:lnTo>
                      <a:lnTo>
                        <a:pt x="141" y="1729"/>
                      </a:lnTo>
                      <a:lnTo>
                        <a:pt x="131" y="1780"/>
                      </a:lnTo>
                      <a:lnTo>
                        <a:pt x="121" y="1832"/>
                      </a:lnTo>
                      <a:lnTo>
                        <a:pt x="113" y="1884"/>
                      </a:lnTo>
                      <a:lnTo>
                        <a:pt x="107" y="1936"/>
                      </a:lnTo>
                      <a:lnTo>
                        <a:pt x="103" y="1987"/>
                      </a:lnTo>
                      <a:lnTo>
                        <a:pt x="99" y="2039"/>
                      </a:lnTo>
                      <a:lnTo>
                        <a:pt x="96" y="2089"/>
                      </a:lnTo>
                      <a:lnTo>
                        <a:pt x="95" y="2141"/>
                      </a:lnTo>
                      <a:lnTo>
                        <a:pt x="95" y="2192"/>
                      </a:lnTo>
                      <a:lnTo>
                        <a:pt x="96" y="2243"/>
                      </a:lnTo>
                      <a:lnTo>
                        <a:pt x="99" y="2293"/>
                      </a:lnTo>
                      <a:lnTo>
                        <a:pt x="103" y="2344"/>
                      </a:lnTo>
                      <a:lnTo>
                        <a:pt x="108" y="2394"/>
                      </a:lnTo>
                      <a:lnTo>
                        <a:pt x="115" y="2444"/>
                      </a:lnTo>
                      <a:lnTo>
                        <a:pt x="121" y="2494"/>
                      </a:lnTo>
                      <a:lnTo>
                        <a:pt x="131" y="2544"/>
                      </a:lnTo>
                      <a:lnTo>
                        <a:pt x="140" y="2593"/>
                      </a:lnTo>
                      <a:lnTo>
                        <a:pt x="152" y="2641"/>
                      </a:lnTo>
                      <a:lnTo>
                        <a:pt x="164" y="2690"/>
                      </a:lnTo>
                      <a:lnTo>
                        <a:pt x="177" y="2738"/>
                      </a:lnTo>
                      <a:lnTo>
                        <a:pt x="192" y="2785"/>
                      </a:lnTo>
                      <a:lnTo>
                        <a:pt x="208" y="2833"/>
                      </a:lnTo>
                      <a:lnTo>
                        <a:pt x="224" y="2879"/>
                      </a:lnTo>
                      <a:lnTo>
                        <a:pt x="242" y="2926"/>
                      </a:lnTo>
                      <a:lnTo>
                        <a:pt x="261" y="2971"/>
                      </a:lnTo>
                      <a:lnTo>
                        <a:pt x="281" y="3016"/>
                      </a:lnTo>
                      <a:lnTo>
                        <a:pt x="302" y="3062"/>
                      </a:lnTo>
                      <a:lnTo>
                        <a:pt x="325" y="3105"/>
                      </a:lnTo>
                      <a:lnTo>
                        <a:pt x="348" y="3149"/>
                      </a:lnTo>
                      <a:lnTo>
                        <a:pt x="372" y="3193"/>
                      </a:lnTo>
                      <a:lnTo>
                        <a:pt x="397" y="3236"/>
                      </a:lnTo>
                      <a:lnTo>
                        <a:pt x="423" y="3277"/>
                      </a:lnTo>
                      <a:lnTo>
                        <a:pt x="450" y="3319"/>
                      </a:lnTo>
                      <a:lnTo>
                        <a:pt x="479" y="3360"/>
                      </a:lnTo>
                      <a:lnTo>
                        <a:pt x="509" y="3400"/>
                      </a:lnTo>
                      <a:lnTo>
                        <a:pt x="538" y="3438"/>
                      </a:lnTo>
                      <a:lnTo>
                        <a:pt x="570" y="3477"/>
                      </a:lnTo>
                      <a:lnTo>
                        <a:pt x="602" y="3516"/>
                      </a:lnTo>
                      <a:lnTo>
                        <a:pt x="635" y="3553"/>
                      </a:lnTo>
                      <a:lnTo>
                        <a:pt x="669" y="3589"/>
                      </a:lnTo>
                      <a:lnTo>
                        <a:pt x="703" y="3625"/>
                      </a:lnTo>
                      <a:lnTo>
                        <a:pt x="739" y="3659"/>
                      </a:lnTo>
                      <a:lnTo>
                        <a:pt x="776" y="3694"/>
                      </a:lnTo>
                      <a:lnTo>
                        <a:pt x="814" y="3726"/>
                      </a:lnTo>
                      <a:lnTo>
                        <a:pt x="852" y="3759"/>
                      </a:lnTo>
                      <a:lnTo>
                        <a:pt x="891" y="3790"/>
                      </a:lnTo>
                      <a:lnTo>
                        <a:pt x="932" y="3821"/>
                      </a:lnTo>
                      <a:lnTo>
                        <a:pt x="972" y="3850"/>
                      </a:lnTo>
                      <a:lnTo>
                        <a:pt x="1015" y="3879"/>
                      </a:lnTo>
                      <a:lnTo>
                        <a:pt x="1057" y="3906"/>
                      </a:lnTo>
                      <a:lnTo>
                        <a:pt x="1100" y="3932"/>
                      </a:lnTo>
                      <a:lnTo>
                        <a:pt x="1144" y="3959"/>
                      </a:lnTo>
                      <a:lnTo>
                        <a:pt x="1189" y="3983"/>
                      </a:lnTo>
                      <a:lnTo>
                        <a:pt x="1234" y="4007"/>
                      </a:lnTo>
                      <a:lnTo>
                        <a:pt x="1281" y="4030"/>
                      </a:lnTo>
                      <a:lnTo>
                        <a:pt x="1328" y="4051"/>
                      </a:lnTo>
                      <a:lnTo>
                        <a:pt x="1376" y="4071"/>
                      </a:lnTo>
                      <a:lnTo>
                        <a:pt x="1425" y="4090"/>
                      </a:lnTo>
                      <a:lnTo>
                        <a:pt x="1474" y="4108"/>
                      </a:lnTo>
                      <a:lnTo>
                        <a:pt x="1523" y="4126"/>
                      </a:lnTo>
                      <a:lnTo>
                        <a:pt x="1574" y="4140"/>
                      </a:lnTo>
                      <a:lnTo>
                        <a:pt x="1626" y="4155"/>
                      </a:lnTo>
                      <a:lnTo>
                        <a:pt x="1626" y="4155"/>
                      </a:lnTo>
                      <a:lnTo>
                        <a:pt x="1678" y="4168"/>
                      </a:lnTo>
                      <a:lnTo>
                        <a:pt x="1730" y="4180"/>
                      </a:lnTo>
                      <a:lnTo>
                        <a:pt x="1780" y="4191"/>
                      </a:lnTo>
                      <a:lnTo>
                        <a:pt x="1832" y="4199"/>
                      </a:lnTo>
                      <a:lnTo>
                        <a:pt x="1884" y="4207"/>
                      </a:lnTo>
                      <a:lnTo>
                        <a:pt x="1936" y="4213"/>
                      </a:lnTo>
                      <a:lnTo>
                        <a:pt x="1987" y="4219"/>
                      </a:lnTo>
                      <a:lnTo>
                        <a:pt x="2039" y="4223"/>
                      </a:lnTo>
                      <a:lnTo>
                        <a:pt x="2091" y="4224"/>
                      </a:lnTo>
                      <a:lnTo>
                        <a:pt x="2141" y="4225"/>
                      </a:lnTo>
                      <a:lnTo>
                        <a:pt x="2192" y="4225"/>
                      </a:lnTo>
                      <a:lnTo>
                        <a:pt x="2243" y="4224"/>
                      </a:lnTo>
                      <a:lnTo>
                        <a:pt x="2293" y="4221"/>
                      </a:lnTo>
                      <a:lnTo>
                        <a:pt x="2344" y="4217"/>
                      </a:lnTo>
                      <a:lnTo>
                        <a:pt x="2394" y="4212"/>
                      </a:lnTo>
                      <a:lnTo>
                        <a:pt x="2445" y="4207"/>
                      </a:lnTo>
                      <a:lnTo>
                        <a:pt x="2494" y="4199"/>
                      </a:lnTo>
                      <a:lnTo>
                        <a:pt x="2544" y="4189"/>
                      </a:lnTo>
                      <a:lnTo>
                        <a:pt x="2593" y="4180"/>
                      </a:lnTo>
                      <a:lnTo>
                        <a:pt x="2641" y="4170"/>
                      </a:lnTo>
                      <a:lnTo>
                        <a:pt x="2690" y="4156"/>
                      </a:lnTo>
                      <a:lnTo>
                        <a:pt x="2738" y="4143"/>
                      </a:lnTo>
                      <a:lnTo>
                        <a:pt x="2786" y="4130"/>
                      </a:lnTo>
                      <a:lnTo>
                        <a:pt x="2833" y="4114"/>
                      </a:lnTo>
                      <a:lnTo>
                        <a:pt x="2879" y="4096"/>
                      </a:lnTo>
                      <a:lnTo>
                        <a:pt x="2926" y="4079"/>
                      </a:lnTo>
                      <a:lnTo>
                        <a:pt x="2971" y="4059"/>
                      </a:lnTo>
                      <a:lnTo>
                        <a:pt x="3016" y="4039"/>
                      </a:lnTo>
                      <a:lnTo>
                        <a:pt x="3062" y="4019"/>
                      </a:lnTo>
                      <a:lnTo>
                        <a:pt x="3105" y="3996"/>
                      </a:lnTo>
                      <a:lnTo>
                        <a:pt x="3149" y="3972"/>
                      </a:lnTo>
                      <a:lnTo>
                        <a:pt x="3193" y="3948"/>
                      </a:lnTo>
                      <a:lnTo>
                        <a:pt x="3236" y="3923"/>
                      </a:lnTo>
                      <a:lnTo>
                        <a:pt x="3277" y="3898"/>
                      </a:lnTo>
                      <a:lnTo>
                        <a:pt x="3319" y="3870"/>
                      </a:lnTo>
                      <a:lnTo>
                        <a:pt x="3360" y="3842"/>
                      </a:lnTo>
                      <a:lnTo>
                        <a:pt x="3400" y="3813"/>
                      </a:lnTo>
                      <a:lnTo>
                        <a:pt x="3440" y="3782"/>
                      </a:lnTo>
                      <a:lnTo>
                        <a:pt x="3478" y="3751"/>
                      </a:lnTo>
                      <a:lnTo>
                        <a:pt x="3516" y="3719"/>
                      </a:lnTo>
                      <a:lnTo>
                        <a:pt x="3553" y="3686"/>
                      </a:lnTo>
                      <a:lnTo>
                        <a:pt x="3589" y="3651"/>
                      </a:lnTo>
                      <a:lnTo>
                        <a:pt x="3625" y="3617"/>
                      </a:lnTo>
                      <a:lnTo>
                        <a:pt x="3659" y="3581"/>
                      </a:lnTo>
                      <a:lnTo>
                        <a:pt x="3694" y="3545"/>
                      </a:lnTo>
                      <a:lnTo>
                        <a:pt x="3727" y="3506"/>
                      </a:lnTo>
                      <a:lnTo>
                        <a:pt x="3759" y="3469"/>
                      </a:lnTo>
                      <a:lnTo>
                        <a:pt x="3790" y="3429"/>
                      </a:lnTo>
                      <a:lnTo>
                        <a:pt x="3821" y="3389"/>
                      </a:lnTo>
                      <a:lnTo>
                        <a:pt x="3850" y="3348"/>
                      </a:lnTo>
                      <a:lnTo>
                        <a:pt x="3879" y="3307"/>
                      </a:lnTo>
                      <a:lnTo>
                        <a:pt x="3907" y="3264"/>
                      </a:lnTo>
                      <a:lnTo>
                        <a:pt x="3934" y="3220"/>
                      </a:lnTo>
                      <a:lnTo>
                        <a:pt x="3959" y="3176"/>
                      </a:lnTo>
                      <a:lnTo>
                        <a:pt x="3983" y="3132"/>
                      </a:lnTo>
                      <a:lnTo>
                        <a:pt x="4007" y="3086"/>
                      </a:lnTo>
                      <a:lnTo>
                        <a:pt x="4030" y="3039"/>
                      </a:lnTo>
                      <a:lnTo>
                        <a:pt x="4051" y="2992"/>
                      </a:lnTo>
                      <a:lnTo>
                        <a:pt x="4071" y="2944"/>
                      </a:lnTo>
                      <a:lnTo>
                        <a:pt x="4090" y="2896"/>
                      </a:lnTo>
                      <a:lnTo>
                        <a:pt x="4108" y="2847"/>
                      </a:lnTo>
                      <a:lnTo>
                        <a:pt x="4126" y="2797"/>
                      </a:lnTo>
                      <a:lnTo>
                        <a:pt x="4140" y="2746"/>
                      </a:lnTo>
                      <a:lnTo>
                        <a:pt x="4155" y="2695"/>
                      </a:lnTo>
                      <a:lnTo>
                        <a:pt x="4155" y="2695"/>
                      </a:lnTo>
                      <a:lnTo>
                        <a:pt x="4168" y="2643"/>
                      </a:lnTo>
                      <a:lnTo>
                        <a:pt x="4180" y="2591"/>
                      </a:lnTo>
                      <a:lnTo>
                        <a:pt x="4191" y="2540"/>
                      </a:lnTo>
                      <a:lnTo>
                        <a:pt x="4200" y="2488"/>
                      </a:lnTo>
                      <a:lnTo>
                        <a:pt x="4207" y="2437"/>
                      </a:lnTo>
                      <a:lnTo>
                        <a:pt x="4213" y="2385"/>
                      </a:lnTo>
                      <a:lnTo>
                        <a:pt x="4219" y="2333"/>
                      </a:lnTo>
                      <a:lnTo>
                        <a:pt x="4223" y="2283"/>
                      </a:lnTo>
                      <a:lnTo>
                        <a:pt x="4225" y="2231"/>
                      </a:lnTo>
                      <a:lnTo>
                        <a:pt x="4225" y="2180"/>
                      </a:lnTo>
                      <a:lnTo>
                        <a:pt x="4225" y="2128"/>
                      </a:lnTo>
                      <a:lnTo>
                        <a:pt x="4224" y="2077"/>
                      </a:lnTo>
                      <a:lnTo>
                        <a:pt x="4221" y="2027"/>
                      </a:lnTo>
                      <a:lnTo>
                        <a:pt x="4217" y="1976"/>
                      </a:lnTo>
                      <a:lnTo>
                        <a:pt x="4213" y="1926"/>
                      </a:lnTo>
                      <a:lnTo>
                        <a:pt x="4207" y="1876"/>
                      </a:lnTo>
                      <a:lnTo>
                        <a:pt x="4199" y="1827"/>
                      </a:lnTo>
                      <a:lnTo>
                        <a:pt x="4191" y="1778"/>
                      </a:lnTo>
                      <a:lnTo>
                        <a:pt x="4180" y="1729"/>
                      </a:lnTo>
                      <a:lnTo>
                        <a:pt x="4170" y="1679"/>
                      </a:lnTo>
                      <a:lnTo>
                        <a:pt x="4158" y="1631"/>
                      </a:lnTo>
                      <a:lnTo>
                        <a:pt x="4144" y="1583"/>
                      </a:lnTo>
                      <a:lnTo>
                        <a:pt x="4130" y="1535"/>
                      </a:lnTo>
                      <a:lnTo>
                        <a:pt x="4114" y="1489"/>
                      </a:lnTo>
                      <a:lnTo>
                        <a:pt x="4096" y="1441"/>
                      </a:lnTo>
                      <a:lnTo>
                        <a:pt x="4079" y="1396"/>
                      </a:lnTo>
                      <a:lnTo>
                        <a:pt x="4060" y="1349"/>
                      </a:lnTo>
                      <a:lnTo>
                        <a:pt x="4040" y="1304"/>
                      </a:lnTo>
                      <a:lnTo>
                        <a:pt x="4019" y="1258"/>
                      </a:lnTo>
                      <a:lnTo>
                        <a:pt x="3996" y="1215"/>
                      </a:lnTo>
                      <a:lnTo>
                        <a:pt x="3974" y="1171"/>
                      </a:lnTo>
                      <a:lnTo>
                        <a:pt x="3948" y="1128"/>
                      </a:lnTo>
                      <a:lnTo>
                        <a:pt x="3923" y="1085"/>
                      </a:lnTo>
                      <a:lnTo>
                        <a:pt x="3898" y="1043"/>
                      </a:lnTo>
                      <a:lnTo>
                        <a:pt x="3870" y="1001"/>
                      </a:lnTo>
                      <a:lnTo>
                        <a:pt x="3842" y="961"/>
                      </a:lnTo>
                      <a:lnTo>
                        <a:pt x="3813" y="922"/>
                      </a:lnTo>
                      <a:lnTo>
                        <a:pt x="3782" y="882"/>
                      </a:lnTo>
                      <a:lnTo>
                        <a:pt x="3751" y="843"/>
                      </a:lnTo>
                      <a:lnTo>
                        <a:pt x="3719" y="804"/>
                      </a:lnTo>
                      <a:lnTo>
                        <a:pt x="3686" y="768"/>
                      </a:lnTo>
                      <a:lnTo>
                        <a:pt x="3651" y="731"/>
                      </a:lnTo>
                      <a:lnTo>
                        <a:pt x="3617" y="696"/>
                      </a:lnTo>
                      <a:lnTo>
                        <a:pt x="3581" y="661"/>
                      </a:lnTo>
                      <a:lnTo>
                        <a:pt x="3545" y="627"/>
                      </a:lnTo>
                      <a:lnTo>
                        <a:pt x="3508" y="594"/>
                      </a:lnTo>
                      <a:lnTo>
                        <a:pt x="3469" y="562"/>
                      </a:lnTo>
                      <a:lnTo>
                        <a:pt x="3429" y="530"/>
                      </a:lnTo>
                      <a:lnTo>
                        <a:pt x="3389" y="499"/>
                      </a:lnTo>
                      <a:lnTo>
                        <a:pt x="3348" y="470"/>
                      </a:lnTo>
                      <a:lnTo>
                        <a:pt x="3307" y="442"/>
                      </a:lnTo>
                      <a:lnTo>
                        <a:pt x="3264" y="414"/>
                      </a:lnTo>
                      <a:lnTo>
                        <a:pt x="3221" y="388"/>
                      </a:lnTo>
                      <a:lnTo>
                        <a:pt x="3176" y="362"/>
                      </a:lnTo>
                      <a:lnTo>
                        <a:pt x="3132" y="337"/>
                      </a:lnTo>
                      <a:lnTo>
                        <a:pt x="3086" y="314"/>
                      </a:lnTo>
                      <a:lnTo>
                        <a:pt x="3040" y="292"/>
                      </a:lnTo>
                      <a:lnTo>
                        <a:pt x="2992" y="270"/>
                      </a:lnTo>
                      <a:lnTo>
                        <a:pt x="2944" y="249"/>
                      </a:lnTo>
                      <a:lnTo>
                        <a:pt x="2896" y="230"/>
                      </a:lnTo>
                      <a:lnTo>
                        <a:pt x="2847" y="213"/>
                      </a:lnTo>
                      <a:lnTo>
                        <a:pt x="2797" y="196"/>
                      </a:lnTo>
                      <a:lnTo>
                        <a:pt x="2746" y="180"/>
                      </a:lnTo>
                      <a:lnTo>
                        <a:pt x="2695" y="165"/>
                      </a:lnTo>
                      <a:lnTo>
                        <a:pt x="2695" y="165"/>
                      </a:lnTo>
                      <a:close/>
                    </a:path>
                  </a:pathLst>
                </a:custGeom>
                <a:gradFill rotWithShape="0">
                  <a:gsLst>
                    <a:gs pos="0">
                      <a:srgbClr val="74420d"/>
                    </a:gs>
                    <a:gs pos="100000">
                      <a:srgbClr val="c89834"/>
                    </a:gs>
                  </a:gsLst>
                  <a:lin ang="12420000"/>
                </a:gradFill>
                <a:ln w="9525">
                  <a:noFill/>
                </a:ln>
              </p:spPr>
              <p:style>
                <a:lnRef idx="0"/>
                <a:fillRef idx="0"/>
                <a:effectRef idx="0"/>
                <a:fontRef idx="minor"/>
              </p:style>
              <p:txBody>
                <a:bodyPr numCol="1" spcCol="0" anchor="t">
                  <a:noAutofit/>
                </a:bodyPr>
                <a:p>
                  <a:pPr>
                    <a:lnSpc>
                      <a:spcPct val="85000"/>
                    </a:lnSpc>
                    <a:spcBef>
                      <a:spcPts val="360"/>
                    </a:spcBef>
                  </a:pPr>
                  <a:endParaRPr b="0" lang="en-US" sz="1800" spc="-1" strike="noStrike">
                    <a:solidFill>
                      <a:srgbClr val="000000"/>
                    </a:solidFill>
                    <a:latin typeface="Calibri"/>
                  </a:endParaRPr>
                </a:p>
              </p:txBody>
            </p:sp>
          </p:grpSp>
          <p:sp>
            <p:nvSpPr>
              <p:cNvPr id="612" name="TextBox 510"/>
              <p:cNvSpPr txBox="1"/>
              <p:nvPr/>
            </p:nvSpPr>
            <p:spPr>
              <a:xfrm>
                <a:off x="1370160" y="808560"/>
                <a:ext cx="931320" cy="903240"/>
              </a:xfrm>
              <a:prstGeom prst="rect">
                <a:avLst/>
              </a:prstGeom>
            </p:spPr>
            <p:txBody>
              <a:bodyPr wrap="none" lIns="90000" rIns="90000" tIns="45000" bIns="45000" anchor="b" anchorCtr="1">
                <a:prstTxWarp prst="textArchUp">
                  <a:avLst>
                    <a:gd name="adj" fmla="val 10800000"/>
                  </a:avLst>
                </a:prstTxWarp>
                <a:noAutofit/>
              </a:bodyPr>
              <a:p>
                <a:pPr algn="ctr">
                  <a:lnSpc>
                    <a:spcPct val="100000"/>
                  </a:lnSpc>
                </a:pPr>
                <a:r>
                  <a:rPr b="0" lang="en-US" sz="1800" spc="97" strike="noStrike">
                    <a:ln w="0">
                      <a:noFill/>
                    </a:ln>
                    <a:solidFill>
                      <a:srgbClr val="ffffff"/>
                    </a:solidFill>
                    <a:latin typeface="Arial"/>
                  </a:rPr>
                  <a:t>Title Here</a:t>
                </a:r>
                <a:endParaRPr b="0" lang="en-US" sz="1800" spc="-1" strike="noStrike">
                  <a:ln w="0">
                    <a:noFill/>
                  </a:ln>
                  <a:solidFill>
                    <a:srgbClr val="ffffff"/>
                  </a:solidFill>
                  <a:latin typeface="Arial"/>
                </a:endParaRPr>
              </a:p>
            </p:txBody>
          </p:sp>
          <p:sp>
            <p:nvSpPr>
              <p:cNvPr id="613" name="Rectangle 70"/>
              <p:cNvSpPr/>
              <p:nvPr/>
            </p:nvSpPr>
            <p:spPr>
              <a:xfrm>
                <a:off x="1213920" y="1377360"/>
                <a:ext cx="1172160" cy="351360"/>
              </a:xfrm>
              <a:prstGeom prst="rect">
                <a:avLst/>
              </a:prstGeom>
              <a:noFill/>
              <a:ln w="9525">
                <a:noFill/>
              </a:ln>
            </p:spPr>
            <p:style>
              <a:lnRef idx="0"/>
              <a:fillRef idx="0"/>
              <a:effectRef idx="0"/>
              <a:fontRef idx="minor"/>
            </p:style>
            <p:txBody>
              <a:bodyPr lIns="45720" rIns="27360" tIns="18360" bIns="18360" anchor="t">
                <a:noAutofit/>
              </a:bodyPr>
              <a:p>
                <a:pPr algn="ctr">
                  <a:lnSpc>
                    <a:spcPct val="85000"/>
                  </a:lnSpc>
                  <a:spcBef>
                    <a:spcPts val="201"/>
                  </a:spcBef>
                </a:pPr>
                <a:r>
                  <a:rPr b="0" lang="en-US" sz="1200" spc="-1" strike="noStrike">
                    <a:solidFill>
                      <a:srgbClr val="ffffff">
                        <a:alpha val="50000"/>
                      </a:srgbClr>
                    </a:solidFill>
                    <a:latin typeface="Arial Narrow"/>
                  </a:rPr>
                  <a:t>Place additional content here.</a:t>
                </a:r>
                <a:endParaRPr b="0" lang="en-US" sz="1200" spc="-1" strike="noStrike">
                  <a:solidFill>
                    <a:srgbClr val="ffffff"/>
                  </a:solidFill>
                  <a:latin typeface="Arial"/>
                </a:endParaRPr>
              </a:p>
            </p:txBody>
          </p:sp>
        </p:grpSp>
        <p:grpSp>
          <p:nvGrpSpPr>
            <p:cNvPr id="614" name="Group 126"/>
            <p:cNvGrpSpPr/>
            <p:nvPr/>
          </p:nvGrpSpPr>
          <p:grpSpPr>
            <a:xfrm>
              <a:off x="2098800" y="1457280"/>
              <a:ext cx="1423440" cy="1423440"/>
              <a:chOff x="2098800" y="1457280"/>
              <a:chExt cx="1423440" cy="1423440"/>
            </a:xfrm>
          </p:grpSpPr>
          <p:grpSp>
            <p:nvGrpSpPr>
              <p:cNvPr id="615" name="Group 69"/>
              <p:cNvGrpSpPr/>
              <p:nvPr/>
            </p:nvGrpSpPr>
            <p:grpSpPr>
              <a:xfrm>
                <a:off x="2098800" y="1457280"/>
                <a:ext cx="1423440" cy="1423440"/>
                <a:chOff x="2098800" y="1457280"/>
                <a:chExt cx="1423440" cy="1423440"/>
              </a:xfrm>
            </p:grpSpPr>
            <p:sp>
              <p:nvSpPr>
                <p:cNvPr id="616" name="Freeform 5"/>
                <p:cNvSpPr/>
                <p:nvPr/>
              </p:nvSpPr>
              <p:spPr>
                <a:xfrm>
                  <a:off x="2098800" y="1457280"/>
                  <a:ext cx="1423440" cy="1423440"/>
                </a:xfrm>
                <a:custGeom>
                  <a:avLst/>
                  <a:gdLst>
                    <a:gd name="textAreaLeft" fmla="*/ 0 w 1423440"/>
                    <a:gd name="textAreaRight" fmla="*/ 1423800 w 1423440"/>
                    <a:gd name="textAreaTop" fmla="*/ 0 h 1423440"/>
                    <a:gd name="textAreaBottom" fmla="*/ 1423800 h 1423440"/>
                  </a:gdLst>
                  <a:ahLst/>
                  <a:rect l="textAreaLeft" t="textAreaTop" r="textAreaRight" b="textAreaBottom"/>
                  <a:pathLst>
                    <a:path w="5950" h="5950">
                      <a:moveTo>
                        <a:pt x="5840" y="3106"/>
                      </a:moveTo>
                      <a:lnTo>
                        <a:pt x="5840" y="3106"/>
                      </a:lnTo>
                      <a:lnTo>
                        <a:pt x="5808" y="3091"/>
                      </a:lnTo>
                      <a:lnTo>
                        <a:pt x="5780" y="3078"/>
                      </a:lnTo>
                      <a:lnTo>
                        <a:pt x="5727" y="3058"/>
                      </a:lnTo>
                      <a:lnTo>
                        <a:pt x="5685" y="3044"/>
                      </a:lnTo>
                      <a:lnTo>
                        <a:pt x="5650" y="3034"/>
                      </a:lnTo>
                      <a:lnTo>
                        <a:pt x="5650" y="3034"/>
                      </a:lnTo>
                      <a:lnTo>
                        <a:pt x="5650" y="2976"/>
                      </a:lnTo>
                      <a:lnTo>
                        <a:pt x="5650" y="2917"/>
                      </a:lnTo>
                      <a:lnTo>
                        <a:pt x="5650" y="2917"/>
                      </a:lnTo>
                      <a:lnTo>
                        <a:pt x="5685" y="2908"/>
                      </a:lnTo>
                      <a:lnTo>
                        <a:pt x="5727" y="2894"/>
                      </a:lnTo>
                      <a:lnTo>
                        <a:pt x="5780" y="2872"/>
                      </a:lnTo>
                      <a:lnTo>
                        <a:pt x="5808" y="2859"/>
                      </a:lnTo>
                      <a:lnTo>
                        <a:pt x="5840" y="2844"/>
                      </a:lnTo>
                      <a:lnTo>
                        <a:pt x="5840" y="2844"/>
                      </a:lnTo>
                      <a:lnTo>
                        <a:pt x="5879" y="2824"/>
                      </a:lnTo>
                      <a:lnTo>
                        <a:pt x="5907" y="2808"/>
                      </a:lnTo>
                      <a:lnTo>
                        <a:pt x="5927" y="2793"/>
                      </a:lnTo>
                      <a:lnTo>
                        <a:pt x="5935" y="2786"/>
                      </a:lnTo>
                      <a:lnTo>
                        <a:pt x="5940" y="2780"/>
                      </a:lnTo>
                      <a:lnTo>
                        <a:pt x="5945" y="2773"/>
                      </a:lnTo>
                      <a:lnTo>
                        <a:pt x="5947" y="2767"/>
                      </a:lnTo>
                      <a:lnTo>
                        <a:pt x="5950" y="2760"/>
                      </a:lnTo>
                      <a:lnTo>
                        <a:pt x="5950" y="2752"/>
                      </a:lnTo>
                      <a:lnTo>
                        <a:pt x="5950" y="2735"/>
                      </a:lnTo>
                      <a:lnTo>
                        <a:pt x="5948" y="2715"/>
                      </a:lnTo>
                      <a:lnTo>
                        <a:pt x="5948" y="2715"/>
                      </a:lnTo>
                      <a:lnTo>
                        <a:pt x="5947" y="2696"/>
                      </a:lnTo>
                      <a:lnTo>
                        <a:pt x="5943" y="2679"/>
                      </a:lnTo>
                      <a:lnTo>
                        <a:pt x="5942" y="2671"/>
                      </a:lnTo>
                      <a:lnTo>
                        <a:pt x="5938" y="2664"/>
                      </a:lnTo>
                      <a:lnTo>
                        <a:pt x="5935" y="2659"/>
                      </a:lnTo>
                      <a:lnTo>
                        <a:pt x="5929" y="2653"/>
                      </a:lnTo>
                      <a:lnTo>
                        <a:pt x="5922" y="2648"/>
                      </a:lnTo>
                      <a:lnTo>
                        <a:pt x="5914" y="2643"/>
                      </a:lnTo>
                      <a:lnTo>
                        <a:pt x="5892" y="2631"/>
                      </a:lnTo>
                      <a:lnTo>
                        <a:pt x="5861" y="2620"/>
                      </a:lnTo>
                      <a:lnTo>
                        <a:pt x="5818" y="2607"/>
                      </a:lnTo>
                      <a:lnTo>
                        <a:pt x="5818" y="2607"/>
                      </a:lnTo>
                      <a:lnTo>
                        <a:pt x="5785" y="2597"/>
                      </a:lnTo>
                      <a:lnTo>
                        <a:pt x="5755" y="2590"/>
                      </a:lnTo>
                      <a:lnTo>
                        <a:pt x="5699" y="2579"/>
                      </a:lnTo>
                      <a:lnTo>
                        <a:pt x="5655" y="2572"/>
                      </a:lnTo>
                      <a:lnTo>
                        <a:pt x="5619" y="2569"/>
                      </a:lnTo>
                      <a:lnTo>
                        <a:pt x="5619" y="2569"/>
                      </a:lnTo>
                      <a:lnTo>
                        <a:pt x="5609" y="2511"/>
                      </a:lnTo>
                      <a:lnTo>
                        <a:pt x="5599" y="2453"/>
                      </a:lnTo>
                      <a:lnTo>
                        <a:pt x="5599" y="2453"/>
                      </a:lnTo>
                      <a:lnTo>
                        <a:pt x="5630" y="2439"/>
                      </a:lnTo>
                      <a:lnTo>
                        <a:pt x="5671" y="2417"/>
                      </a:lnTo>
                      <a:lnTo>
                        <a:pt x="5719" y="2387"/>
                      </a:lnTo>
                      <a:lnTo>
                        <a:pt x="5746" y="2369"/>
                      </a:lnTo>
                      <a:lnTo>
                        <a:pt x="5774" y="2349"/>
                      </a:lnTo>
                      <a:lnTo>
                        <a:pt x="5774" y="2349"/>
                      </a:lnTo>
                      <a:lnTo>
                        <a:pt x="5808" y="2323"/>
                      </a:lnTo>
                      <a:lnTo>
                        <a:pt x="5833" y="2300"/>
                      </a:lnTo>
                      <a:lnTo>
                        <a:pt x="5851" y="2284"/>
                      </a:lnTo>
                      <a:lnTo>
                        <a:pt x="5858" y="2275"/>
                      </a:lnTo>
                      <a:lnTo>
                        <a:pt x="5861" y="2267"/>
                      </a:lnTo>
                      <a:lnTo>
                        <a:pt x="5864" y="2260"/>
                      </a:lnTo>
                      <a:lnTo>
                        <a:pt x="5866" y="2254"/>
                      </a:lnTo>
                      <a:lnTo>
                        <a:pt x="5866" y="2246"/>
                      </a:lnTo>
                      <a:lnTo>
                        <a:pt x="5866" y="2239"/>
                      </a:lnTo>
                      <a:lnTo>
                        <a:pt x="5863" y="2223"/>
                      </a:lnTo>
                      <a:lnTo>
                        <a:pt x="5858" y="2203"/>
                      </a:lnTo>
                      <a:lnTo>
                        <a:pt x="5858" y="2203"/>
                      </a:lnTo>
                      <a:lnTo>
                        <a:pt x="5853" y="2183"/>
                      </a:lnTo>
                      <a:lnTo>
                        <a:pt x="5848" y="2168"/>
                      </a:lnTo>
                      <a:lnTo>
                        <a:pt x="5843" y="2162"/>
                      </a:lnTo>
                      <a:lnTo>
                        <a:pt x="5840" y="2155"/>
                      </a:lnTo>
                      <a:lnTo>
                        <a:pt x="5835" y="2150"/>
                      </a:lnTo>
                      <a:lnTo>
                        <a:pt x="5828" y="2145"/>
                      </a:lnTo>
                      <a:lnTo>
                        <a:pt x="5821" y="2140"/>
                      </a:lnTo>
                      <a:lnTo>
                        <a:pt x="5812" y="2137"/>
                      </a:lnTo>
                      <a:lnTo>
                        <a:pt x="5788" y="2130"/>
                      </a:lnTo>
                      <a:lnTo>
                        <a:pt x="5755" y="2124"/>
                      </a:lnTo>
                      <a:lnTo>
                        <a:pt x="5711" y="2119"/>
                      </a:lnTo>
                      <a:lnTo>
                        <a:pt x="5711" y="2119"/>
                      </a:lnTo>
                      <a:lnTo>
                        <a:pt x="5676" y="2115"/>
                      </a:lnTo>
                      <a:lnTo>
                        <a:pt x="5645" y="2112"/>
                      </a:lnTo>
                      <a:lnTo>
                        <a:pt x="5589" y="2110"/>
                      </a:lnTo>
                      <a:lnTo>
                        <a:pt x="5543" y="2112"/>
                      </a:lnTo>
                      <a:lnTo>
                        <a:pt x="5508" y="2115"/>
                      </a:lnTo>
                      <a:lnTo>
                        <a:pt x="5508" y="2115"/>
                      </a:lnTo>
                      <a:lnTo>
                        <a:pt x="5488" y="2061"/>
                      </a:lnTo>
                      <a:lnTo>
                        <a:pt x="5467" y="2007"/>
                      </a:lnTo>
                      <a:lnTo>
                        <a:pt x="5467" y="2007"/>
                      </a:lnTo>
                      <a:lnTo>
                        <a:pt x="5497" y="1987"/>
                      </a:lnTo>
                      <a:lnTo>
                        <a:pt x="5533" y="1957"/>
                      </a:lnTo>
                      <a:lnTo>
                        <a:pt x="5574" y="1921"/>
                      </a:lnTo>
                      <a:lnTo>
                        <a:pt x="5597" y="1898"/>
                      </a:lnTo>
                      <a:lnTo>
                        <a:pt x="5622" y="1873"/>
                      </a:lnTo>
                      <a:lnTo>
                        <a:pt x="5622" y="1873"/>
                      </a:lnTo>
                      <a:lnTo>
                        <a:pt x="5652" y="1840"/>
                      </a:lnTo>
                      <a:lnTo>
                        <a:pt x="5673" y="1815"/>
                      </a:lnTo>
                      <a:lnTo>
                        <a:pt x="5688" y="1794"/>
                      </a:lnTo>
                      <a:lnTo>
                        <a:pt x="5691" y="1786"/>
                      </a:lnTo>
                      <a:lnTo>
                        <a:pt x="5694" y="1777"/>
                      </a:lnTo>
                      <a:lnTo>
                        <a:pt x="5696" y="1769"/>
                      </a:lnTo>
                      <a:lnTo>
                        <a:pt x="5696" y="1763"/>
                      </a:lnTo>
                      <a:lnTo>
                        <a:pt x="5696" y="1756"/>
                      </a:lnTo>
                      <a:lnTo>
                        <a:pt x="5694" y="1748"/>
                      </a:lnTo>
                      <a:lnTo>
                        <a:pt x="5688" y="1733"/>
                      </a:lnTo>
                      <a:lnTo>
                        <a:pt x="5680" y="1715"/>
                      </a:lnTo>
                      <a:lnTo>
                        <a:pt x="5680" y="1715"/>
                      </a:lnTo>
                      <a:lnTo>
                        <a:pt x="5671" y="1695"/>
                      </a:lnTo>
                      <a:lnTo>
                        <a:pt x="5663" y="1682"/>
                      </a:lnTo>
                      <a:lnTo>
                        <a:pt x="5658" y="1675"/>
                      </a:lnTo>
                      <a:lnTo>
                        <a:pt x="5653" y="1670"/>
                      </a:lnTo>
                      <a:lnTo>
                        <a:pt x="5648" y="1665"/>
                      </a:lnTo>
                      <a:lnTo>
                        <a:pt x="5642" y="1662"/>
                      </a:lnTo>
                      <a:lnTo>
                        <a:pt x="5633" y="1659"/>
                      </a:lnTo>
                      <a:lnTo>
                        <a:pt x="5624" y="1657"/>
                      </a:lnTo>
                      <a:lnTo>
                        <a:pt x="5599" y="1655"/>
                      </a:lnTo>
                      <a:lnTo>
                        <a:pt x="5566" y="1654"/>
                      </a:lnTo>
                      <a:lnTo>
                        <a:pt x="5521" y="1657"/>
                      </a:lnTo>
                      <a:lnTo>
                        <a:pt x="5521" y="1657"/>
                      </a:lnTo>
                      <a:lnTo>
                        <a:pt x="5487" y="1659"/>
                      </a:lnTo>
                      <a:lnTo>
                        <a:pt x="5454" y="1662"/>
                      </a:lnTo>
                      <a:lnTo>
                        <a:pt x="5398" y="1670"/>
                      </a:lnTo>
                      <a:lnTo>
                        <a:pt x="5353" y="1680"/>
                      </a:lnTo>
                      <a:lnTo>
                        <a:pt x="5319" y="1690"/>
                      </a:lnTo>
                      <a:lnTo>
                        <a:pt x="5319" y="1690"/>
                      </a:lnTo>
                      <a:lnTo>
                        <a:pt x="5290" y="1639"/>
                      </a:lnTo>
                      <a:lnTo>
                        <a:pt x="5261" y="1589"/>
                      </a:lnTo>
                      <a:lnTo>
                        <a:pt x="5261" y="1589"/>
                      </a:lnTo>
                      <a:lnTo>
                        <a:pt x="5286" y="1563"/>
                      </a:lnTo>
                      <a:lnTo>
                        <a:pt x="5317" y="1530"/>
                      </a:lnTo>
                      <a:lnTo>
                        <a:pt x="5352" y="1486"/>
                      </a:lnTo>
                      <a:lnTo>
                        <a:pt x="5371" y="1459"/>
                      </a:lnTo>
                      <a:lnTo>
                        <a:pt x="5391" y="1429"/>
                      </a:lnTo>
                      <a:lnTo>
                        <a:pt x="5391" y="1429"/>
                      </a:lnTo>
                      <a:lnTo>
                        <a:pt x="5414" y="1393"/>
                      </a:lnTo>
                      <a:lnTo>
                        <a:pt x="5431" y="1364"/>
                      </a:lnTo>
                      <a:lnTo>
                        <a:pt x="5441" y="1340"/>
                      </a:lnTo>
                      <a:lnTo>
                        <a:pt x="5444" y="1332"/>
                      </a:lnTo>
                      <a:lnTo>
                        <a:pt x="5445" y="1322"/>
                      </a:lnTo>
                      <a:lnTo>
                        <a:pt x="5445" y="1316"/>
                      </a:lnTo>
                      <a:lnTo>
                        <a:pt x="5444" y="1307"/>
                      </a:lnTo>
                      <a:lnTo>
                        <a:pt x="5442" y="1301"/>
                      </a:lnTo>
                      <a:lnTo>
                        <a:pt x="5441" y="1294"/>
                      </a:lnTo>
                      <a:lnTo>
                        <a:pt x="5431" y="1279"/>
                      </a:lnTo>
                      <a:lnTo>
                        <a:pt x="5419" y="1263"/>
                      </a:lnTo>
                      <a:lnTo>
                        <a:pt x="5419" y="1263"/>
                      </a:lnTo>
                      <a:lnTo>
                        <a:pt x="5408" y="1246"/>
                      </a:lnTo>
                      <a:lnTo>
                        <a:pt x="5398" y="1233"/>
                      </a:lnTo>
                      <a:lnTo>
                        <a:pt x="5393" y="1228"/>
                      </a:lnTo>
                      <a:lnTo>
                        <a:pt x="5386" y="1225"/>
                      </a:lnTo>
                      <a:lnTo>
                        <a:pt x="5380" y="1222"/>
                      </a:lnTo>
                      <a:lnTo>
                        <a:pt x="5373" y="1218"/>
                      </a:lnTo>
                      <a:lnTo>
                        <a:pt x="5363" y="1218"/>
                      </a:lnTo>
                      <a:lnTo>
                        <a:pt x="5355" y="1217"/>
                      </a:lnTo>
                      <a:lnTo>
                        <a:pt x="5330" y="1218"/>
                      </a:lnTo>
                      <a:lnTo>
                        <a:pt x="5297" y="1225"/>
                      </a:lnTo>
                      <a:lnTo>
                        <a:pt x="5253" y="1235"/>
                      </a:lnTo>
                      <a:lnTo>
                        <a:pt x="5253" y="1235"/>
                      </a:lnTo>
                      <a:lnTo>
                        <a:pt x="5220" y="1243"/>
                      </a:lnTo>
                      <a:lnTo>
                        <a:pt x="5188" y="1251"/>
                      </a:lnTo>
                      <a:lnTo>
                        <a:pt x="5134" y="1270"/>
                      </a:lnTo>
                      <a:lnTo>
                        <a:pt x="5091" y="1286"/>
                      </a:lnTo>
                      <a:lnTo>
                        <a:pt x="5060" y="1303"/>
                      </a:lnTo>
                      <a:lnTo>
                        <a:pt x="5060" y="1303"/>
                      </a:lnTo>
                      <a:lnTo>
                        <a:pt x="5022" y="1256"/>
                      </a:lnTo>
                      <a:lnTo>
                        <a:pt x="4985" y="1213"/>
                      </a:lnTo>
                      <a:lnTo>
                        <a:pt x="4985" y="1213"/>
                      </a:lnTo>
                      <a:lnTo>
                        <a:pt x="5005" y="1184"/>
                      </a:lnTo>
                      <a:lnTo>
                        <a:pt x="5030" y="1144"/>
                      </a:lnTo>
                      <a:lnTo>
                        <a:pt x="5056" y="1095"/>
                      </a:lnTo>
                      <a:lnTo>
                        <a:pt x="5071" y="1065"/>
                      </a:lnTo>
                      <a:lnTo>
                        <a:pt x="5084" y="1034"/>
                      </a:lnTo>
                      <a:lnTo>
                        <a:pt x="5084" y="1034"/>
                      </a:lnTo>
                      <a:lnTo>
                        <a:pt x="5103" y="993"/>
                      </a:lnTo>
                      <a:lnTo>
                        <a:pt x="5114" y="961"/>
                      </a:lnTo>
                      <a:lnTo>
                        <a:pt x="5119" y="938"/>
                      </a:lnTo>
                      <a:lnTo>
                        <a:pt x="5121" y="928"/>
                      </a:lnTo>
                      <a:lnTo>
                        <a:pt x="5121" y="918"/>
                      </a:lnTo>
                      <a:lnTo>
                        <a:pt x="5119" y="912"/>
                      </a:lnTo>
                      <a:lnTo>
                        <a:pt x="5117" y="905"/>
                      </a:lnTo>
                      <a:lnTo>
                        <a:pt x="5114" y="899"/>
                      </a:lnTo>
                      <a:lnTo>
                        <a:pt x="5111" y="892"/>
                      </a:lnTo>
                      <a:lnTo>
                        <a:pt x="5099" y="879"/>
                      </a:lnTo>
                      <a:lnTo>
                        <a:pt x="5084" y="866"/>
                      </a:lnTo>
                      <a:lnTo>
                        <a:pt x="5084" y="866"/>
                      </a:lnTo>
                      <a:lnTo>
                        <a:pt x="5071" y="851"/>
                      </a:lnTo>
                      <a:lnTo>
                        <a:pt x="5058" y="839"/>
                      </a:lnTo>
                      <a:lnTo>
                        <a:pt x="5051" y="836"/>
                      </a:lnTo>
                      <a:lnTo>
                        <a:pt x="5045" y="833"/>
                      </a:lnTo>
                      <a:lnTo>
                        <a:pt x="5038" y="831"/>
                      </a:lnTo>
                      <a:lnTo>
                        <a:pt x="5032" y="829"/>
                      </a:lnTo>
                      <a:lnTo>
                        <a:pt x="5022" y="829"/>
                      </a:lnTo>
                      <a:lnTo>
                        <a:pt x="5012" y="831"/>
                      </a:lnTo>
                      <a:lnTo>
                        <a:pt x="4989" y="838"/>
                      </a:lnTo>
                      <a:lnTo>
                        <a:pt x="4957" y="847"/>
                      </a:lnTo>
                      <a:lnTo>
                        <a:pt x="4916" y="866"/>
                      </a:lnTo>
                      <a:lnTo>
                        <a:pt x="4916" y="866"/>
                      </a:lnTo>
                      <a:lnTo>
                        <a:pt x="4885" y="879"/>
                      </a:lnTo>
                      <a:lnTo>
                        <a:pt x="4855" y="894"/>
                      </a:lnTo>
                      <a:lnTo>
                        <a:pt x="4806" y="920"/>
                      </a:lnTo>
                      <a:lnTo>
                        <a:pt x="4766" y="945"/>
                      </a:lnTo>
                      <a:lnTo>
                        <a:pt x="4737" y="965"/>
                      </a:lnTo>
                      <a:lnTo>
                        <a:pt x="4737" y="965"/>
                      </a:lnTo>
                      <a:lnTo>
                        <a:pt x="4694" y="928"/>
                      </a:lnTo>
                      <a:lnTo>
                        <a:pt x="4647" y="890"/>
                      </a:lnTo>
                      <a:lnTo>
                        <a:pt x="4647" y="890"/>
                      </a:lnTo>
                      <a:lnTo>
                        <a:pt x="4664" y="859"/>
                      </a:lnTo>
                      <a:lnTo>
                        <a:pt x="4680" y="816"/>
                      </a:lnTo>
                      <a:lnTo>
                        <a:pt x="4699" y="762"/>
                      </a:lnTo>
                      <a:lnTo>
                        <a:pt x="4707" y="730"/>
                      </a:lnTo>
                      <a:lnTo>
                        <a:pt x="4717" y="697"/>
                      </a:lnTo>
                      <a:lnTo>
                        <a:pt x="4717" y="697"/>
                      </a:lnTo>
                      <a:lnTo>
                        <a:pt x="4725" y="653"/>
                      </a:lnTo>
                      <a:lnTo>
                        <a:pt x="4732" y="620"/>
                      </a:lnTo>
                      <a:lnTo>
                        <a:pt x="4733" y="597"/>
                      </a:lnTo>
                      <a:lnTo>
                        <a:pt x="4733" y="587"/>
                      </a:lnTo>
                      <a:lnTo>
                        <a:pt x="4732" y="577"/>
                      </a:lnTo>
                      <a:lnTo>
                        <a:pt x="4728" y="570"/>
                      </a:lnTo>
                      <a:lnTo>
                        <a:pt x="4725" y="564"/>
                      </a:lnTo>
                      <a:lnTo>
                        <a:pt x="4722" y="557"/>
                      </a:lnTo>
                      <a:lnTo>
                        <a:pt x="4717" y="552"/>
                      </a:lnTo>
                      <a:lnTo>
                        <a:pt x="4704" y="542"/>
                      </a:lnTo>
                      <a:lnTo>
                        <a:pt x="4687" y="531"/>
                      </a:lnTo>
                      <a:lnTo>
                        <a:pt x="4687" y="531"/>
                      </a:lnTo>
                      <a:lnTo>
                        <a:pt x="4671" y="519"/>
                      </a:lnTo>
                      <a:lnTo>
                        <a:pt x="4656" y="511"/>
                      </a:lnTo>
                      <a:lnTo>
                        <a:pt x="4649" y="508"/>
                      </a:lnTo>
                      <a:lnTo>
                        <a:pt x="4643" y="506"/>
                      </a:lnTo>
                      <a:lnTo>
                        <a:pt x="4634" y="505"/>
                      </a:lnTo>
                      <a:lnTo>
                        <a:pt x="4628" y="505"/>
                      </a:lnTo>
                      <a:lnTo>
                        <a:pt x="4618" y="506"/>
                      </a:lnTo>
                      <a:lnTo>
                        <a:pt x="4610" y="509"/>
                      </a:lnTo>
                      <a:lnTo>
                        <a:pt x="4586" y="519"/>
                      </a:lnTo>
                      <a:lnTo>
                        <a:pt x="4557" y="536"/>
                      </a:lnTo>
                      <a:lnTo>
                        <a:pt x="4521" y="559"/>
                      </a:lnTo>
                      <a:lnTo>
                        <a:pt x="4521" y="559"/>
                      </a:lnTo>
                      <a:lnTo>
                        <a:pt x="4491" y="579"/>
                      </a:lnTo>
                      <a:lnTo>
                        <a:pt x="4464" y="598"/>
                      </a:lnTo>
                      <a:lnTo>
                        <a:pt x="4420" y="633"/>
                      </a:lnTo>
                      <a:lnTo>
                        <a:pt x="4385" y="664"/>
                      </a:lnTo>
                      <a:lnTo>
                        <a:pt x="4361" y="691"/>
                      </a:lnTo>
                      <a:lnTo>
                        <a:pt x="4361" y="691"/>
                      </a:lnTo>
                      <a:lnTo>
                        <a:pt x="4311" y="661"/>
                      </a:lnTo>
                      <a:lnTo>
                        <a:pt x="4260" y="633"/>
                      </a:lnTo>
                      <a:lnTo>
                        <a:pt x="4260" y="633"/>
                      </a:lnTo>
                      <a:lnTo>
                        <a:pt x="4270" y="598"/>
                      </a:lnTo>
                      <a:lnTo>
                        <a:pt x="4280" y="552"/>
                      </a:lnTo>
                      <a:lnTo>
                        <a:pt x="4288" y="496"/>
                      </a:lnTo>
                      <a:lnTo>
                        <a:pt x="4291" y="463"/>
                      </a:lnTo>
                      <a:lnTo>
                        <a:pt x="4293" y="429"/>
                      </a:lnTo>
                      <a:lnTo>
                        <a:pt x="4293" y="429"/>
                      </a:lnTo>
                      <a:lnTo>
                        <a:pt x="4296" y="384"/>
                      </a:lnTo>
                      <a:lnTo>
                        <a:pt x="4295" y="351"/>
                      </a:lnTo>
                      <a:lnTo>
                        <a:pt x="4293" y="326"/>
                      </a:lnTo>
                      <a:lnTo>
                        <a:pt x="4291" y="317"/>
                      </a:lnTo>
                      <a:lnTo>
                        <a:pt x="4288" y="308"/>
                      </a:lnTo>
                      <a:lnTo>
                        <a:pt x="4285" y="302"/>
                      </a:lnTo>
                      <a:lnTo>
                        <a:pt x="4280" y="297"/>
                      </a:lnTo>
                      <a:lnTo>
                        <a:pt x="4275" y="292"/>
                      </a:lnTo>
                      <a:lnTo>
                        <a:pt x="4268" y="287"/>
                      </a:lnTo>
                      <a:lnTo>
                        <a:pt x="4255" y="279"/>
                      </a:lnTo>
                      <a:lnTo>
                        <a:pt x="4235" y="270"/>
                      </a:lnTo>
                      <a:lnTo>
                        <a:pt x="4235" y="270"/>
                      </a:lnTo>
                      <a:lnTo>
                        <a:pt x="4217" y="262"/>
                      </a:lnTo>
                      <a:lnTo>
                        <a:pt x="4202" y="256"/>
                      </a:lnTo>
                      <a:lnTo>
                        <a:pt x="4194" y="254"/>
                      </a:lnTo>
                      <a:lnTo>
                        <a:pt x="4187" y="254"/>
                      </a:lnTo>
                      <a:lnTo>
                        <a:pt x="4181" y="254"/>
                      </a:lnTo>
                      <a:lnTo>
                        <a:pt x="4173" y="256"/>
                      </a:lnTo>
                      <a:lnTo>
                        <a:pt x="4164" y="259"/>
                      </a:lnTo>
                      <a:lnTo>
                        <a:pt x="4156" y="262"/>
                      </a:lnTo>
                      <a:lnTo>
                        <a:pt x="4136" y="277"/>
                      </a:lnTo>
                      <a:lnTo>
                        <a:pt x="4110" y="298"/>
                      </a:lnTo>
                      <a:lnTo>
                        <a:pt x="4077" y="328"/>
                      </a:lnTo>
                      <a:lnTo>
                        <a:pt x="4077" y="328"/>
                      </a:lnTo>
                      <a:lnTo>
                        <a:pt x="4052" y="353"/>
                      </a:lnTo>
                      <a:lnTo>
                        <a:pt x="4029" y="376"/>
                      </a:lnTo>
                      <a:lnTo>
                        <a:pt x="3991" y="419"/>
                      </a:lnTo>
                      <a:lnTo>
                        <a:pt x="3963" y="455"/>
                      </a:lnTo>
                      <a:lnTo>
                        <a:pt x="3942" y="485"/>
                      </a:lnTo>
                      <a:lnTo>
                        <a:pt x="3942" y="485"/>
                      </a:lnTo>
                      <a:lnTo>
                        <a:pt x="3889" y="465"/>
                      </a:lnTo>
                      <a:lnTo>
                        <a:pt x="3835" y="445"/>
                      </a:lnTo>
                      <a:lnTo>
                        <a:pt x="3835" y="445"/>
                      </a:lnTo>
                      <a:lnTo>
                        <a:pt x="3838" y="411"/>
                      </a:lnTo>
                      <a:lnTo>
                        <a:pt x="3840" y="364"/>
                      </a:lnTo>
                      <a:lnTo>
                        <a:pt x="3838" y="307"/>
                      </a:lnTo>
                      <a:lnTo>
                        <a:pt x="3835" y="274"/>
                      </a:lnTo>
                      <a:lnTo>
                        <a:pt x="3831" y="239"/>
                      </a:lnTo>
                      <a:lnTo>
                        <a:pt x="3831" y="239"/>
                      </a:lnTo>
                      <a:lnTo>
                        <a:pt x="3826" y="195"/>
                      </a:lnTo>
                      <a:lnTo>
                        <a:pt x="3820" y="162"/>
                      </a:lnTo>
                      <a:lnTo>
                        <a:pt x="3813" y="138"/>
                      </a:lnTo>
                      <a:lnTo>
                        <a:pt x="3810" y="129"/>
                      </a:lnTo>
                      <a:lnTo>
                        <a:pt x="3805" y="122"/>
                      </a:lnTo>
                      <a:lnTo>
                        <a:pt x="3800" y="115"/>
                      </a:lnTo>
                      <a:lnTo>
                        <a:pt x="3795" y="110"/>
                      </a:lnTo>
                      <a:lnTo>
                        <a:pt x="3788" y="107"/>
                      </a:lnTo>
                      <a:lnTo>
                        <a:pt x="3782" y="104"/>
                      </a:lnTo>
                      <a:lnTo>
                        <a:pt x="3767" y="97"/>
                      </a:lnTo>
                      <a:lnTo>
                        <a:pt x="3747" y="92"/>
                      </a:lnTo>
                      <a:lnTo>
                        <a:pt x="3747" y="92"/>
                      </a:lnTo>
                      <a:lnTo>
                        <a:pt x="3727" y="87"/>
                      </a:lnTo>
                      <a:lnTo>
                        <a:pt x="3711" y="84"/>
                      </a:lnTo>
                      <a:lnTo>
                        <a:pt x="3704" y="84"/>
                      </a:lnTo>
                      <a:lnTo>
                        <a:pt x="3696" y="84"/>
                      </a:lnTo>
                      <a:lnTo>
                        <a:pt x="3690" y="86"/>
                      </a:lnTo>
                      <a:lnTo>
                        <a:pt x="3683" y="89"/>
                      </a:lnTo>
                      <a:lnTo>
                        <a:pt x="3675" y="92"/>
                      </a:lnTo>
                      <a:lnTo>
                        <a:pt x="3666" y="99"/>
                      </a:lnTo>
                      <a:lnTo>
                        <a:pt x="3650" y="117"/>
                      </a:lnTo>
                      <a:lnTo>
                        <a:pt x="3627" y="142"/>
                      </a:lnTo>
                      <a:lnTo>
                        <a:pt x="3601" y="176"/>
                      </a:lnTo>
                      <a:lnTo>
                        <a:pt x="3601" y="176"/>
                      </a:lnTo>
                      <a:lnTo>
                        <a:pt x="3581" y="206"/>
                      </a:lnTo>
                      <a:lnTo>
                        <a:pt x="3561" y="232"/>
                      </a:lnTo>
                      <a:lnTo>
                        <a:pt x="3531" y="282"/>
                      </a:lnTo>
                      <a:lnTo>
                        <a:pt x="3510" y="323"/>
                      </a:lnTo>
                      <a:lnTo>
                        <a:pt x="3495" y="354"/>
                      </a:lnTo>
                      <a:lnTo>
                        <a:pt x="3495" y="354"/>
                      </a:lnTo>
                      <a:lnTo>
                        <a:pt x="3439" y="345"/>
                      </a:lnTo>
                      <a:lnTo>
                        <a:pt x="3381" y="335"/>
                      </a:lnTo>
                      <a:lnTo>
                        <a:pt x="3381" y="335"/>
                      </a:lnTo>
                      <a:lnTo>
                        <a:pt x="3380" y="300"/>
                      </a:lnTo>
                      <a:lnTo>
                        <a:pt x="3373" y="254"/>
                      </a:lnTo>
                      <a:lnTo>
                        <a:pt x="3361" y="198"/>
                      </a:lnTo>
                      <a:lnTo>
                        <a:pt x="3353" y="165"/>
                      </a:lnTo>
                      <a:lnTo>
                        <a:pt x="3343" y="132"/>
                      </a:lnTo>
                      <a:lnTo>
                        <a:pt x="3343" y="132"/>
                      </a:lnTo>
                      <a:lnTo>
                        <a:pt x="3330" y="89"/>
                      </a:lnTo>
                      <a:lnTo>
                        <a:pt x="3319" y="58"/>
                      </a:lnTo>
                      <a:lnTo>
                        <a:pt x="3307" y="36"/>
                      </a:lnTo>
                      <a:lnTo>
                        <a:pt x="3302" y="28"/>
                      </a:lnTo>
                      <a:lnTo>
                        <a:pt x="3297" y="21"/>
                      </a:lnTo>
                      <a:lnTo>
                        <a:pt x="3291" y="15"/>
                      </a:lnTo>
                      <a:lnTo>
                        <a:pt x="3286" y="12"/>
                      </a:lnTo>
                      <a:lnTo>
                        <a:pt x="3279" y="8"/>
                      </a:lnTo>
                      <a:lnTo>
                        <a:pt x="3271" y="7"/>
                      </a:lnTo>
                      <a:lnTo>
                        <a:pt x="3254" y="3"/>
                      </a:lnTo>
                      <a:lnTo>
                        <a:pt x="3235" y="2"/>
                      </a:lnTo>
                      <a:lnTo>
                        <a:pt x="3235" y="2"/>
                      </a:lnTo>
                      <a:lnTo>
                        <a:pt x="3215" y="0"/>
                      </a:lnTo>
                      <a:lnTo>
                        <a:pt x="3198" y="0"/>
                      </a:lnTo>
                      <a:lnTo>
                        <a:pt x="3190" y="2"/>
                      </a:lnTo>
                      <a:lnTo>
                        <a:pt x="3183" y="3"/>
                      </a:lnTo>
                      <a:lnTo>
                        <a:pt x="3177" y="5"/>
                      </a:lnTo>
                      <a:lnTo>
                        <a:pt x="3170" y="10"/>
                      </a:lnTo>
                      <a:lnTo>
                        <a:pt x="3164" y="15"/>
                      </a:lnTo>
                      <a:lnTo>
                        <a:pt x="3157" y="23"/>
                      </a:lnTo>
                      <a:lnTo>
                        <a:pt x="3142" y="43"/>
                      </a:lnTo>
                      <a:lnTo>
                        <a:pt x="3126" y="71"/>
                      </a:lnTo>
                      <a:lnTo>
                        <a:pt x="3106" y="110"/>
                      </a:lnTo>
                      <a:lnTo>
                        <a:pt x="3106" y="110"/>
                      </a:lnTo>
                      <a:lnTo>
                        <a:pt x="3089" y="142"/>
                      </a:lnTo>
                      <a:lnTo>
                        <a:pt x="3076" y="171"/>
                      </a:lnTo>
                      <a:lnTo>
                        <a:pt x="3055" y="226"/>
                      </a:lnTo>
                      <a:lnTo>
                        <a:pt x="3042" y="270"/>
                      </a:lnTo>
                      <a:lnTo>
                        <a:pt x="3032" y="305"/>
                      </a:lnTo>
                      <a:lnTo>
                        <a:pt x="3032" y="305"/>
                      </a:lnTo>
                      <a:lnTo>
                        <a:pt x="2974" y="303"/>
                      </a:lnTo>
                      <a:lnTo>
                        <a:pt x="2916" y="305"/>
                      </a:lnTo>
                      <a:lnTo>
                        <a:pt x="2916" y="305"/>
                      </a:lnTo>
                      <a:lnTo>
                        <a:pt x="2908" y="270"/>
                      </a:lnTo>
                      <a:lnTo>
                        <a:pt x="2893" y="226"/>
                      </a:lnTo>
                      <a:lnTo>
                        <a:pt x="2872" y="171"/>
                      </a:lnTo>
                      <a:lnTo>
                        <a:pt x="2859" y="142"/>
                      </a:lnTo>
                      <a:lnTo>
                        <a:pt x="2844" y="110"/>
                      </a:lnTo>
                      <a:lnTo>
                        <a:pt x="2844" y="110"/>
                      </a:lnTo>
                      <a:lnTo>
                        <a:pt x="2824" y="71"/>
                      </a:lnTo>
                      <a:lnTo>
                        <a:pt x="2806" y="43"/>
                      </a:lnTo>
                      <a:lnTo>
                        <a:pt x="2793" y="23"/>
                      </a:lnTo>
                      <a:lnTo>
                        <a:pt x="2786" y="15"/>
                      </a:lnTo>
                      <a:lnTo>
                        <a:pt x="2779" y="10"/>
                      </a:lnTo>
                      <a:lnTo>
                        <a:pt x="2773" y="5"/>
                      </a:lnTo>
                      <a:lnTo>
                        <a:pt x="2766" y="3"/>
                      </a:lnTo>
                      <a:lnTo>
                        <a:pt x="2758" y="2"/>
                      </a:lnTo>
                      <a:lnTo>
                        <a:pt x="2751" y="0"/>
                      </a:lnTo>
                      <a:lnTo>
                        <a:pt x="2735" y="0"/>
                      </a:lnTo>
                      <a:lnTo>
                        <a:pt x="2715" y="2"/>
                      </a:lnTo>
                      <a:lnTo>
                        <a:pt x="2715" y="2"/>
                      </a:lnTo>
                      <a:lnTo>
                        <a:pt x="2694" y="3"/>
                      </a:lnTo>
                      <a:lnTo>
                        <a:pt x="2677" y="7"/>
                      </a:lnTo>
                      <a:lnTo>
                        <a:pt x="2671" y="8"/>
                      </a:lnTo>
                      <a:lnTo>
                        <a:pt x="2664" y="12"/>
                      </a:lnTo>
                      <a:lnTo>
                        <a:pt x="2657" y="15"/>
                      </a:lnTo>
                      <a:lnTo>
                        <a:pt x="2652" y="21"/>
                      </a:lnTo>
                      <a:lnTo>
                        <a:pt x="2648" y="28"/>
                      </a:lnTo>
                      <a:lnTo>
                        <a:pt x="2641" y="36"/>
                      </a:lnTo>
                      <a:lnTo>
                        <a:pt x="2631" y="58"/>
                      </a:lnTo>
                      <a:lnTo>
                        <a:pt x="2620" y="89"/>
                      </a:lnTo>
                      <a:lnTo>
                        <a:pt x="2606" y="132"/>
                      </a:lnTo>
                      <a:lnTo>
                        <a:pt x="2606" y="132"/>
                      </a:lnTo>
                      <a:lnTo>
                        <a:pt x="2596" y="165"/>
                      </a:lnTo>
                      <a:lnTo>
                        <a:pt x="2588" y="198"/>
                      </a:lnTo>
                      <a:lnTo>
                        <a:pt x="2577" y="254"/>
                      </a:lnTo>
                      <a:lnTo>
                        <a:pt x="2570" y="300"/>
                      </a:lnTo>
                      <a:lnTo>
                        <a:pt x="2567" y="335"/>
                      </a:lnTo>
                      <a:lnTo>
                        <a:pt x="2567" y="335"/>
                      </a:lnTo>
                      <a:lnTo>
                        <a:pt x="2511" y="345"/>
                      </a:lnTo>
                      <a:lnTo>
                        <a:pt x="2455" y="354"/>
                      </a:lnTo>
                      <a:lnTo>
                        <a:pt x="2455" y="354"/>
                      </a:lnTo>
                      <a:lnTo>
                        <a:pt x="2440" y="323"/>
                      </a:lnTo>
                      <a:lnTo>
                        <a:pt x="2417" y="282"/>
                      </a:lnTo>
                      <a:lnTo>
                        <a:pt x="2387" y="232"/>
                      </a:lnTo>
                      <a:lnTo>
                        <a:pt x="2369" y="206"/>
                      </a:lnTo>
                      <a:lnTo>
                        <a:pt x="2347" y="176"/>
                      </a:lnTo>
                      <a:lnTo>
                        <a:pt x="2347" y="176"/>
                      </a:lnTo>
                      <a:lnTo>
                        <a:pt x="2321" y="142"/>
                      </a:lnTo>
                      <a:lnTo>
                        <a:pt x="2300" y="117"/>
                      </a:lnTo>
                      <a:lnTo>
                        <a:pt x="2282" y="99"/>
                      </a:lnTo>
                      <a:lnTo>
                        <a:pt x="2275" y="92"/>
                      </a:lnTo>
                      <a:lnTo>
                        <a:pt x="2267" y="89"/>
                      </a:lnTo>
                      <a:lnTo>
                        <a:pt x="2260" y="86"/>
                      </a:lnTo>
                      <a:lnTo>
                        <a:pt x="2252" y="84"/>
                      </a:lnTo>
                      <a:lnTo>
                        <a:pt x="2245" y="84"/>
                      </a:lnTo>
                      <a:lnTo>
                        <a:pt x="2239" y="84"/>
                      </a:lnTo>
                      <a:lnTo>
                        <a:pt x="2222" y="87"/>
                      </a:lnTo>
                      <a:lnTo>
                        <a:pt x="2202" y="92"/>
                      </a:lnTo>
                      <a:lnTo>
                        <a:pt x="2202" y="92"/>
                      </a:lnTo>
                      <a:lnTo>
                        <a:pt x="2183" y="97"/>
                      </a:lnTo>
                      <a:lnTo>
                        <a:pt x="2166" y="104"/>
                      </a:lnTo>
                      <a:lnTo>
                        <a:pt x="2160" y="107"/>
                      </a:lnTo>
                      <a:lnTo>
                        <a:pt x="2155" y="110"/>
                      </a:lnTo>
                      <a:lnTo>
                        <a:pt x="2148" y="115"/>
                      </a:lnTo>
                      <a:lnTo>
                        <a:pt x="2145" y="122"/>
                      </a:lnTo>
                      <a:lnTo>
                        <a:pt x="2140" y="129"/>
                      </a:lnTo>
                      <a:lnTo>
                        <a:pt x="2136" y="138"/>
                      </a:lnTo>
                      <a:lnTo>
                        <a:pt x="2130" y="162"/>
                      </a:lnTo>
                      <a:lnTo>
                        <a:pt x="2123" y="195"/>
                      </a:lnTo>
                      <a:lnTo>
                        <a:pt x="2118" y="239"/>
                      </a:lnTo>
                      <a:lnTo>
                        <a:pt x="2118" y="239"/>
                      </a:lnTo>
                      <a:lnTo>
                        <a:pt x="2113" y="274"/>
                      </a:lnTo>
                      <a:lnTo>
                        <a:pt x="2112" y="307"/>
                      </a:lnTo>
                      <a:lnTo>
                        <a:pt x="2110" y="364"/>
                      </a:lnTo>
                      <a:lnTo>
                        <a:pt x="2112" y="411"/>
                      </a:lnTo>
                      <a:lnTo>
                        <a:pt x="2115" y="447"/>
                      </a:lnTo>
                      <a:lnTo>
                        <a:pt x="2115" y="447"/>
                      </a:lnTo>
                      <a:lnTo>
                        <a:pt x="2061" y="465"/>
                      </a:lnTo>
                      <a:lnTo>
                        <a:pt x="2008" y="486"/>
                      </a:lnTo>
                      <a:lnTo>
                        <a:pt x="2008" y="486"/>
                      </a:lnTo>
                      <a:lnTo>
                        <a:pt x="1986" y="457"/>
                      </a:lnTo>
                      <a:lnTo>
                        <a:pt x="1958" y="419"/>
                      </a:lnTo>
                      <a:lnTo>
                        <a:pt x="1920" y="376"/>
                      </a:lnTo>
                      <a:lnTo>
                        <a:pt x="1897" y="353"/>
                      </a:lnTo>
                      <a:lnTo>
                        <a:pt x="1871" y="328"/>
                      </a:lnTo>
                      <a:lnTo>
                        <a:pt x="1871" y="328"/>
                      </a:lnTo>
                      <a:lnTo>
                        <a:pt x="1840" y="298"/>
                      </a:lnTo>
                      <a:lnTo>
                        <a:pt x="1813" y="277"/>
                      </a:lnTo>
                      <a:lnTo>
                        <a:pt x="1793" y="262"/>
                      </a:lnTo>
                      <a:lnTo>
                        <a:pt x="1784" y="259"/>
                      </a:lnTo>
                      <a:lnTo>
                        <a:pt x="1775" y="256"/>
                      </a:lnTo>
                      <a:lnTo>
                        <a:pt x="1769" y="254"/>
                      </a:lnTo>
                      <a:lnTo>
                        <a:pt x="1762" y="254"/>
                      </a:lnTo>
                      <a:lnTo>
                        <a:pt x="1754" y="254"/>
                      </a:lnTo>
                      <a:lnTo>
                        <a:pt x="1747" y="256"/>
                      </a:lnTo>
                      <a:lnTo>
                        <a:pt x="1731" y="262"/>
                      </a:lnTo>
                      <a:lnTo>
                        <a:pt x="1713" y="270"/>
                      </a:lnTo>
                      <a:lnTo>
                        <a:pt x="1713" y="270"/>
                      </a:lnTo>
                      <a:lnTo>
                        <a:pt x="1695" y="279"/>
                      </a:lnTo>
                      <a:lnTo>
                        <a:pt x="1680" y="287"/>
                      </a:lnTo>
                      <a:lnTo>
                        <a:pt x="1675" y="292"/>
                      </a:lnTo>
                      <a:lnTo>
                        <a:pt x="1670" y="297"/>
                      </a:lnTo>
                      <a:lnTo>
                        <a:pt x="1665" y="302"/>
                      </a:lnTo>
                      <a:lnTo>
                        <a:pt x="1662" y="308"/>
                      </a:lnTo>
                      <a:lnTo>
                        <a:pt x="1658" y="317"/>
                      </a:lnTo>
                      <a:lnTo>
                        <a:pt x="1657" y="326"/>
                      </a:lnTo>
                      <a:lnTo>
                        <a:pt x="1653" y="351"/>
                      </a:lnTo>
                      <a:lnTo>
                        <a:pt x="1653" y="384"/>
                      </a:lnTo>
                      <a:lnTo>
                        <a:pt x="1655" y="429"/>
                      </a:lnTo>
                      <a:lnTo>
                        <a:pt x="1655" y="429"/>
                      </a:lnTo>
                      <a:lnTo>
                        <a:pt x="1658" y="465"/>
                      </a:lnTo>
                      <a:lnTo>
                        <a:pt x="1662" y="498"/>
                      </a:lnTo>
                      <a:lnTo>
                        <a:pt x="1670" y="554"/>
                      </a:lnTo>
                      <a:lnTo>
                        <a:pt x="1680" y="600"/>
                      </a:lnTo>
                      <a:lnTo>
                        <a:pt x="1690" y="635"/>
                      </a:lnTo>
                      <a:lnTo>
                        <a:pt x="1690" y="635"/>
                      </a:lnTo>
                      <a:lnTo>
                        <a:pt x="1639" y="663"/>
                      </a:lnTo>
                      <a:lnTo>
                        <a:pt x="1591" y="692"/>
                      </a:lnTo>
                      <a:lnTo>
                        <a:pt x="1591" y="692"/>
                      </a:lnTo>
                      <a:lnTo>
                        <a:pt x="1564" y="666"/>
                      </a:lnTo>
                      <a:lnTo>
                        <a:pt x="1530" y="635"/>
                      </a:lnTo>
                      <a:lnTo>
                        <a:pt x="1485" y="598"/>
                      </a:lnTo>
                      <a:lnTo>
                        <a:pt x="1459" y="580"/>
                      </a:lnTo>
                      <a:lnTo>
                        <a:pt x="1429" y="559"/>
                      </a:lnTo>
                      <a:lnTo>
                        <a:pt x="1429" y="559"/>
                      </a:lnTo>
                      <a:lnTo>
                        <a:pt x="1391" y="536"/>
                      </a:lnTo>
                      <a:lnTo>
                        <a:pt x="1363" y="519"/>
                      </a:lnTo>
                      <a:lnTo>
                        <a:pt x="1340" y="509"/>
                      </a:lnTo>
                      <a:lnTo>
                        <a:pt x="1330" y="506"/>
                      </a:lnTo>
                      <a:lnTo>
                        <a:pt x="1322" y="505"/>
                      </a:lnTo>
                      <a:lnTo>
                        <a:pt x="1314" y="505"/>
                      </a:lnTo>
                      <a:lnTo>
                        <a:pt x="1307" y="506"/>
                      </a:lnTo>
                      <a:lnTo>
                        <a:pt x="1301" y="508"/>
                      </a:lnTo>
                      <a:lnTo>
                        <a:pt x="1294" y="511"/>
                      </a:lnTo>
                      <a:lnTo>
                        <a:pt x="1279" y="519"/>
                      </a:lnTo>
                      <a:lnTo>
                        <a:pt x="1263" y="531"/>
                      </a:lnTo>
                      <a:lnTo>
                        <a:pt x="1263" y="531"/>
                      </a:lnTo>
                      <a:lnTo>
                        <a:pt x="1246" y="542"/>
                      </a:lnTo>
                      <a:lnTo>
                        <a:pt x="1233" y="552"/>
                      </a:lnTo>
                      <a:lnTo>
                        <a:pt x="1228" y="557"/>
                      </a:lnTo>
                      <a:lnTo>
                        <a:pt x="1223" y="564"/>
                      </a:lnTo>
                      <a:lnTo>
                        <a:pt x="1220" y="570"/>
                      </a:lnTo>
                      <a:lnTo>
                        <a:pt x="1218" y="577"/>
                      </a:lnTo>
                      <a:lnTo>
                        <a:pt x="1216" y="587"/>
                      </a:lnTo>
                      <a:lnTo>
                        <a:pt x="1216" y="595"/>
                      </a:lnTo>
                      <a:lnTo>
                        <a:pt x="1218" y="620"/>
                      </a:lnTo>
                      <a:lnTo>
                        <a:pt x="1223" y="653"/>
                      </a:lnTo>
                      <a:lnTo>
                        <a:pt x="1233" y="697"/>
                      </a:lnTo>
                      <a:lnTo>
                        <a:pt x="1233" y="697"/>
                      </a:lnTo>
                      <a:lnTo>
                        <a:pt x="1241" y="732"/>
                      </a:lnTo>
                      <a:lnTo>
                        <a:pt x="1251" y="763"/>
                      </a:lnTo>
                      <a:lnTo>
                        <a:pt x="1269" y="818"/>
                      </a:lnTo>
                      <a:lnTo>
                        <a:pt x="1287" y="861"/>
                      </a:lnTo>
                      <a:lnTo>
                        <a:pt x="1302" y="894"/>
                      </a:lnTo>
                      <a:lnTo>
                        <a:pt x="1302" y="894"/>
                      </a:lnTo>
                      <a:lnTo>
                        <a:pt x="1258" y="930"/>
                      </a:lnTo>
                      <a:lnTo>
                        <a:pt x="1213" y="966"/>
                      </a:lnTo>
                      <a:lnTo>
                        <a:pt x="1213" y="966"/>
                      </a:lnTo>
                      <a:lnTo>
                        <a:pt x="1185" y="946"/>
                      </a:lnTo>
                      <a:lnTo>
                        <a:pt x="1146" y="922"/>
                      </a:lnTo>
                      <a:lnTo>
                        <a:pt x="1094" y="894"/>
                      </a:lnTo>
                      <a:lnTo>
                        <a:pt x="1065" y="879"/>
                      </a:lnTo>
                      <a:lnTo>
                        <a:pt x="1033" y="866"/>
                      </a:lnTo>
                      <a:lnTo>
                        <a:pt x="1033" y="866"/>
                      </a:lnTo>
                      <a:lnTo>
                        <a:pt x="992" y="847"/>
                      </a:lnTo>
                      <a:lnTo>
                        <a:pt x="961" y="838"/>
                      </a:lnTo>
                      <a:lnTo>
                        <a:pt x="936" y="831"/>
                      </a:lnTo>
                      <a:lnTo>
                        <a:pt x="926" y="829"/>
                      </a:lnTo>
                      <a:lnTo>
                        <a:pt x="918" y="829"/>
                      </a:lnTo>
                      <a:lnTo>
                        <a:pt x="910" y="831"/>
                      </a:lnTo>
                      <a:lnTo>
                        <a:pt x="903" y="833"/>
                      </a:lnTo>
                      <a:lnTo>
                        <a:pt x="897" y="836"/>
                      </a:lnTo>
                      <a:lnTo>
                        <a:pt x="892" y="839"/>
                      </a:lnTo>
                      <a:lnTo>
                        <a:pt x="878" y="851"/>
                      </a:lnTo>
                      <a:lnTo>
                        <a:pt x="864" y="866"/>
                      </a:lnTo>
                      <a:lnTo>
                        <a:pt x="864" y="866"/>
                      </a:lnTo>
                      <a:lnTo>
                        <a:pt x="850" y="879"/>
                      </a:lnTo>
                      <a:lnTo>
                        <a:pt x="839" y="892"/>
                      </a:lnTo>
                      <a:lnTo>
                        <a:pt x="834" y="899"/>
                      </a:lnTo>
                      <a:lnTo>
                        <a:pt x="832" y="905"/>
                      </a:lnTo>
                      <a:lnTo>
                        <a:pt x="829" y="912"/>
                      </a:lnTo>
                      <a:lnTo>
                        <a:pt x="829" y="918"/>
                      </a:lnTo>
                      <a:lnTo>
                        <a:pt x="829" y="928"/>
                      </a:lnTo>
                      <a:lnTo>
                        <a:pt x="829" y="938"/>
                      </a:lnTo>
                      <a:lnTo>
                        <a:pt x="836" y="961"/>
                      </a:lnTo>
                      <a:lnTo>
                        <a:pt x="847" y="993"/>
                      </a:lnTo>
                      <a:lnTo>
                        <a:pt x="864" y="1034"/>
                      </a:lnTo>
                      <a:lnTo>
                        <a:pt x="864" y="1034"/>
                      </a:lnTo>
                      <a:lnTo>
                        <a:pt x="878" y="1067"/>
                      </a:lnTo>
                      <a:lnTo>
                        <a:pt x="893" y="1095"/>
                      </a:lnTo>
                      <a:lnTo>
                        <a:pt x="920" y="1146"/>
                      </a:lnTo>
                      <a:lnTo>
                        <a:pt x="944" y="1185"/>
                      </a:lnTo>
                      <a:lnTo>
                        <a:pt x="966" y="1215"/>
                      </a:lnTo>
                      <a:lnTo>
                        <a:pt x="966" y="1215"/>
                      </a:lnTo>
                      <a:lnTo>
                        <a:pt x="928" y="1258"/>
                      </a:lnTo>
                      <a:lnTo>
                        <a:pt x="892" y="1303"/>
                      </a:lnTo>
                      <a:lnTo>
                        <a:pt x="892" y="1303"/>
                      </a:lnTo>
                      <a:lnTo>
                        <a:pt x="859" y="1288"/>
                      </a:lnTo>
                      <a:lnTo>
                        <a:pt x="816" y="1270"/>
                      </a:lnTo>
                      <a:lnTo>
                        <a:pt x="761" y="1251"/>
                      </a:lnTo>
                      <a:lnTo>
                        <a:pt x="730" y="1243"/>
                      </a:lnTo>
                      <a:lnTo>
                        <a:pt x="695" y="1235"/>
                      </a:lnTo>
                      <a:lnTo>
                        <a:pt x="695" y="1235"/>
                      </a:lnTo>
                      <a:lnTo>
                        <a:pt x="653" y="1225"/>
                      </a:lnTo>
                      <a:lnTo>
                        <a:pt x="620" y="1218"/>
                      </a:lnTo>
                      <a:lnTo>
                        <a:pt x="595" y="1217"/>
                      </a:lnTo>
                      <a:lnTo>
                        <a:pt x="585" y="1218"/>
                      </a:lnTo>
                      <a:lnTo>
                        <a:pt x="577" y="1218"/>
                      </a:lnTo>
                      <a:lnTo>
                        <a:pt x="570" y="1222"/>
                      </a:lnTo>
                      <a:lnTo>
                        <a:pt x="564" y="1225"/>
                      </a:lnTo>
                      <a:lnTo>
                        <a:pt x="557" y="1228"/>
                      </a:lnTo>
                      <a:lnTo>
                        <a:pt x="552" y="1233"/>
                      </a:lnTo>
                      <a:lnTo>
                        <a:pt x="540" y="1246"/>
                      </a:lnTo>
                      <a:lnTo>
                        <a:pt x="529" y="1263"/>
                      </a:lnTo>
                      <a:lnTo>
                        <a:pt x="529" y="1263"/>
                      </a:lnTo>
                      <a:lnTo>
                        <a:pt x="517" y="1279"/>
                      </a:lnTo>
                      <a:lnTo>
                        <a:pt x="509" y="1294"/>
                      </a:lnTo>
                      <a:lnTo>
                        <a:pt x="506" y="1301"/>
                      </a:lnTo>
                      <a:lnTo>
                        <a:pt x="504" y="1307"/>
                      </a:lnTo>
                      <a:lnTo>
                        <a:pt x="504" y="1316"/>
                      </a:lnTo>
                      <a:lnTo>
                        <a:pt x="504" y="1322"/>
                      </a:lnTo>
                      <a:lnTo>
                        <a:pt x="506" y="1332"/>
                      </a:lnTo>
                      <a:lnTo>
                        <a:pt x="509" y="1340"/>
                      </a:lnTo>
                      <a:lnTo>
                        <a:pt x="519" y="1364"/>
                      </a:lnTo>
                      <a:lnTo>
                        <a:pt x="535" y="1393"/>
                      </a:lnTo>
                      <a:lnTo>
                        <a:pt x="559" y="1429"/>
                      </a:lnTo>
                      <a:lnTo>
                        <a:pt x="559" y="1429"/>
                      </a:lnTo>
                      <a:lnTo>
                        <a:pt x="578" y="1459"/>
                      </a:lnTo>
                      <a:lnTo>
                        <a:pt x="598" y="1486"/>
                      </a:lnTo>
                      <a:lnTo>
                        <a:pt x="633" y="1530"/>
                      </a:lnTo>
                      <a:lnTo>
                        <a:pt x="664" y="1565"/>
                      </a:lnTo>
                      <a:lnTo>
                        <a:pt x="690" y="1589"/>
                      </a:lnTo>
                      <a:lnTo>
                        <a:pt x="690" y="1589"/>
                      </a:lnTo>
                      <a:lnTo>
                        <a:pt x="661" y="1639"/>
                      </a:lnTo>
                      <a:lnTo>
                        <a:pt x="633" y="1690"/>
                      </a:lnTo>
                      <a:lnTo>
                        <a:pt x="633" y="1690"/>
                      </a:lnTo>
                      <a:lnTo>
                        <a:pt x="598" y="1680"/>
                      </a:lnTo>
                      <a:lnTo>
                        <a:pt x="552" y="1670"/>
                      </a:lnTo>
                      <a:lnTo>
                        <a:pt x="496" y="1662"/>
                      </a:lnTo>
                      <a:lnTo>
                        <a:pt x="463" y="1659"/>
                      </a:lnTo>
                      <a:lnTo>
                        <a:pt x="428" y="1657"/>
                      </a:lnTo>
                      <a:lnTo>
                        <a:pt x="428" y="1657"/>
                      </a:lnTo>
                      <a:lnTo>
                        <a:pt x="384" y="1654"/>
                      </a:lnTo>
                      <a:lnTo>
                        <a:pt x="351" y="1655"/>
                      </a:lnTo>
                      <a:lnTo>
                        <a:pt x="326" y="1657"/>
                      </a:lnTo>
                      <a:lnTo>
                        <a:pt x="316" y="1659"/>
                      </a:lnTo>
                      <a:lnTo>
                        <a:pt x="308" y="1662"/>
                      </a:lnTo>
                      <a:lnTo>
                        <a:pt x="301" y="1665"/>
                      </a:lnTo>
                      <a:lnTo>
                        <a:pt x="295" y="1670"/>
                      </a:lnTo>
                      <a:lnTo>
                        <a:pt x="290" y="1675"/>
                      </a:lnTo>
                      <a:lnTo>
                        <a:pt x="287" y="1682"/>
                      </a:lnTo>
                      <a:lnTo>
                        <a:pt x="278" y="1695"/>
                      </a:lnTo>
                      <a:lnTo>
                        <a:pt x="270" y="1715"/>
                      </a:lnTo>
                      <a:lnTo>
                        <a:pt x="270" y="1715"/>
                      </a:lnTo>
                      <a:lnTo>
                        <a:pt x="260" y="1733"/>
                      </a:lnTo>
                      <a:lnTo>
                        <a:pt x="255" y="1748"/>
                      </a:lnTo>
                      <a:lnTo>
                        <a:pt x="254" y="1756"/>
                      </a:lnTo>
                      <a:lnTo>
                        <a:pt x="252" y="1763"/>
                      </a:lnTo>
                      <a:lnTo>
                        <a:pt x="254" y="1769"/>
                      </a:lnTo>
                      <a:lnTo>
                        <a:pt x="255" y="1777"/>
                      </a:lnTo>
                      <a:lnTo>
                        <a:pt x="257" y="1786"/>
                      </a:lnTo>
                      <a:lnTo>
                        <a:pt x="262" y="1794"/>
                      </a:lnTo>
                      <a:lnTo>
                        <a:pt x="277" y="1815"/>
                      </a:lnTo>
                      <a:lnTo>
                        <a:pt x="298" y="1840"/>
                      </a:lnTo>
                      <a:lnTo>
                        <a:pt x="328" y="1873"/>
                      </a:lnTo>
                      <a:lnTo>
                        <a:pt x="328" y="1873"/>
                      </a:lnTo>
                      <a:lnTo>
                        <a:pt x="351" y="1898"/>
                      </a:lnTo>
                      <a:lnTo>
                        <a:pt x="376" y="1921"/>
                      </a:lnTo>
                      <a:lnTo>
                        <a:pt x="418" y="1959"/>
                      </a:lnTo>
                      <a:lnTo>
                        <a:pt x="455" y="1987"/>
                      </a:lnTo>
                      <a:lnTo>
                        <a:pt x="484" y="2008"/>
                      </a:lnTo>
                      <a:lnTo>
                        <a:pt x="484" y="2008"/>
                      </a:lnTo>
                      <a:lnTo>
                        <a:pt x="465" y="2061"/>
                      </a:lnTo>
                      <a:lnTo>
                        <a:pt x="445" y="2115"/>
                      </a:lnTo>
                      <a:lnTo>
                        <a:pt x="445" y="2115"/>
                      </a:lnTo>
                      <a:lnTo>
                        <a:pt x="410" y="2112"/>
                      </a:lnTo>
                      <a:lnTo>
                        <a:pt x="362" y="2110"/>
                      </a:lnTo>
                      <a:lnTo>
                        <a:pt x="306" y="2112"/>
                      </a:lnTo>
                      <a:lnTo>
                        <a:pt x="273" y="2115"/>
                      </a:lnTo>
                      <a:lnTo>
                        <a:pt x="237" y="2119"/>
                      </a:lnTo>
                      <a:lnTo>
                        <a:pt x="237" y="2119"/>
                      </a:lnTo>
                      <a:lnTo>
                        <a:pt x="194" y="2124"/>
                      </a:lnTo>
                      <a:lnTo>
                        <a:pt x="161" y="2130"/>
                      </a:lnTo>
                      <a:lnTo>
                        <a:pt x="136" y="2137"/>
                      </a:lnTo>
                      <a:lnTo>
                        <a:pt x="128" y="2140"/>
                      </a:lnTo>
                      <a:lnTo>
                        <a:pt x="120" y="2145"/>
                      </a:lnTo>
                      <a:lnTo>
                        <a:pt x="115" y="2150"/>
                      </a:lnTo>
                      <a:lnTo>
                        <a:pt x="110" y="2155"/>
                      </a:lnTo>
                      <a:lnTo>
                        <a:pt x="105" y="2162"/>
                      </a:lnTo>
                      <a:lnTo>
                        <a:pt x="102" y="2168"/>
                      </a:lnTo>
                      <a:lnTo>
                        <a:pt x="97" y="2183"/>
                      </a:lnTo>
                      <a:lnTo>
                        <a:pt x="92" y="2203"/>
                      </a:lnTo>
                      <a:lnTo>
                        <a:pt x="92" y="2203"/>
                      </a:lnTo>
                      <a:lnTo>
                        <a:pt x="85" y="2223"/>
                      </a:lnTo>
                      <a:lnTo>
                        <a:pt x="84" y="2239"/>
                      </a:lnTo>
                      <a:lnTo>
                        <a:pt x="82" y="2246"/>
                      </a:lnTo>
                      <a:lnTo>
                        <a:pt x="84" y="2254"/>
                      </a:lnTo>
                      <a:lnTo>
                        <a:pt x="85" y="2260"/>
                      </a:lnTo>
                      <a:lnTo>
                        <a:pt x="87" y="2267"/>
                      </a:lnTo>
                      <a:lnTo>
                        <a:pt x="92" y="2275"/>
                      </a:lnTo>
                      <a:lnTo>
                        <a:pt x="99" y="2284"/>
                      </a:lnTo>
                      <a:lnTo>
                        <a:pt x="115" y="2300"/>
                      </a:lnTo>
                      <a:lnTo>
                        <a:pt x="141" y="2323"/>
                      </a:lnTo>
                      <a:lnTo>
                        <a:pt x="176" y="2349"/>
                      </a:lnTo>
                      <a:lnTo>
                        <a:pt x="176" y="2349"/>
                      </a:lnTo>
                      <a:lnTo>
                        <a:pt x="204" y="2369"/>
                      </a:lnTo>
                      <a:lnTo>
                        <a:pt x="232" y="2389"/>
                      </a:lnTo>
                      <a:lnTo>
                        <a:pt x="280" y="2419"/>
                      </a:lnTo>
                      <a:lnTo>
                        <a:pt x="321" y="2440"/>
                      </a:lnTo>
                      <a:lnTo>
                        <a:pt x="354" y="2455"/>
                      </a:lnTo>
                      <a:lnTo>
                        <a:pt x="354" y="2455"/>
                      </a:lnTo>
                      <a:lnTo>
                        <a:pt x="343" y="2511"/>
                      </a:lnTo>
                      <a:lnTo>
                        <a:pt x="333" y="2569"/>
                      </a:lnTo>
                      <a:lnTo>
                        <a:pt x="333" y="2569"/>
                      </a:lnTo>
                      <a:lnTo>
                        <a:pt x="298" y="2572"/>
                      </a:lnTo>
                      <a:lnTo>
                        <a:pt x="252" y="2579"/>
                      </a:lnTo>
                      <a:lnTo>
                        <a:pt x="196" y="2589"/>
                      </a:lnTo>
                      <a:lnTo>
                        <a:pt x="165" y="2597"/>
                      </a:lnTo>
                      <a:lnTo>
                        <a:pt x="130" y="2607"/>
                      </a:lnTo>
                      <a:lnTo>
                        <a:pt x="130" y="2607"/>
                      </a:lnTo>
                      <a:lnTo>
                        <a:pt x="89" y="2620"/>
                      </a:lnTo>
                      <a:lnTo>
                        <a:pt x="57" y="2631"/>
                      </a:lnTo>
                      <a:lnTo>
                        <a:pt x="34" y="2643"/>
                      </a:lnTo>
                      <a:lnTo>
                        <a:pt x="26" y="2648"/>
                      </a:lnTo>
                      <a:lnTo>
                        <a:pt x="19" y="2653"/>
                      </a:lnTo>
                      <a:lnTo>
                        <a:pt x="14" y="2659"/>
                      </a:lnTo>
                      <a:lnTo>
                        <a:pt x="11" y="2664"/>
                      </a:lnTo>
                      <a:lnTo>
                        <a:pt x="8" y="2671"/>
                      </a:lnTo>
                      <a:lnTo>
                        <a:pt x="5" y="2679"/>
                      </a:lnTo>
                      <a:lnTo>
                        <a:pt x="3" y="2696"/>
                      </a:lnTo>
                      <a:lnTo>
                        <a:pt x="1" y="2715"/>
                      </a:lnTo>
                      <a:lnTo>
                        <a:pt x="1" y="2715"/>
                      </a:lnTo>
                      <a:lnTo>
                        <a:pt x="0" y="2735"/>
                      </a:lnTo>
                      <a:lnTo>
                        <a:pt x="0" y="2752"/>
                      </a:lnTo>
                      <a:lnTo>
                        <a:pt x="0" y="2760"/>
                      </a:lnTo>
                      <a:lnTo>
                        <a:pt x="1" y="2767"/>
                      </a:lnTo>
                      <a:lnTo>
                        <a:pt x="5" y="2773"/>
                      </a:lnTo>
                      <a:lnTo>
                        <a:pt x="8" y="2780"/>
                      </a:lnTo>
                      <a:lnTo>
                        <a:pt x="14" y="2786"/>
                      </a:lnTo>
                      <a:lnTo>
                        <a:pt x="21" y="2793"/>
                      </a:lnTo>
                      <a:lnTo>
                        <a:pt x="41" y="2808"/>
                      </a:lnTo>
                      <a:lnTo>
                        <a:pt x="71" y="2824"/>
                      </a:lnTo>
                      <a:lnTo>
                        <a:pt x="110" y="2844"/>
                      </a:lnTo>
                      <a:lnTo>
                        <a:pt x="110" y="2844"/>
                      </a:lnTo>
                      <a:lnTo>
                        <a:pt x="141" y="2861"/>
                      </a:lnTo>
                      <a:lnTo>
                        <a:pt x="171" y="2874"/>
                      </a:lnTo>
                      <a:lnTo>
                        <a:pt x="224" y="2894"/>
                      </a:lnTo>
                      <a:lnTo>
                        <a:pt x="268" y="2908"/>
                      </a:lnTo>
                      <a:lnTo>
                        <a:pt x="303" y="2918"/>
                      </a:lnTo>
                      <a:lnTo>
                        <a:pt x="303" y="2918"/>
                      </a:lnTo>
                      <a:lnTo>
                        <a:pt x="301" y="2976"/>
                      </a:lnTo>
                      <a:lnTo>
                        <a:pt x="303" y="3034"/>
                      </a:lnTo>
                      <a:lnTo>
                        <a:pt x="303" y="3034"/>
                      </a:lnTo>
                      <a:lnTo>
                        <a:pt x="268" y="3042"/>
                      </a:lnTo>
                      <a:lnTo>
                        <a:pt x="224" y="3057"/>
                      </a:lnTo>
                      <a:lnTo>
                        <a:pt x="171" y="3078"/>
                      </a:lnTo>
                      <a:lnTo>
                        <a:pt x="141" y="3091"/>
                      </a:lnTo>
                      <a:lnTo>
                        <a:pt x="110" y="3106"/>
                      </a:lnTo>
                      <a:lnTo>
                        <a:pt x="110" y="3106"/>
                      </a:lnTo>
                      <a:lnTo>
                        <a:pt x="71" y="3126"/>
                      </a:lnTo>
                      <a:lnTo>
                        <a:pt x="41" y="3144"/>
                      </a:lnTo>
                      <a:lnTo>
                        <a:pt x="21" y="3157"/>
                      </a:lnTo>
                      <a:lnTo>
                        <a:pt x="14" y="3164"/>
                      </a:lnTo>
                      <a:lnTo>
                        <a:pt x="8" y="3171"/>
                      </a:lnTo>
                      <a:lnTo>
                        <a:pt x="5" y="3177"/>
                      </a:lnTo>
                      <a:lnTo>
                        <a:pt x="1" y="3184"/>
                      </a:lnTo>
                      <a:lnTo>
                        <a:pt x="0" y="3192"/>
                      </a:lnTo>
                      <a:lnTo>
                        <a:pt x="0" y="3199"/>
                      </a:lnTo>
                      <a:lnTo>
                        <a:pt x="0" y="3215"/>
                      </a:lnTo>
                      <a:lnTo>
                        <a:pt x="1" y="3237"/>
                      </a:lnTo>
                      <a:lnTo>
                        <a:pt x="1" y="3237"/>
                      </a:lnTo>
                      <a:lnTo>
                        <a:pt x="3" y="3256"/>
                      </a:lnTo>
                      <a:lnTo>
                        <a:pt x="5" y="3273"/>
                      </a:lnTo>
                      <a:lnTo>
                        <a:pt x="8" y="3279"/>
                      </a:lnTo>
                      <a:lnTo>
                        <a:pt x="11" y="3286"/>
                      </a:lnTo>
                      <a:lnTo>
                        <a:pt x="14" y="3293"/>
                      </a:lnTo>
                      <a:lnTo>
                        <a:pt x="19" y="3298"/>
                      </a:lnTo>
                      <a:lnTo>
                        <a:pt x="26" y="3302"/>
                      </a:lnTo>
                      <a:lnTo>
                        <a:pt x="34" y="3309"/>
                      </a:lnTo>
                      <a:lnTo>
                        <a:pt x="57" y="3319"/>
                      </a:lnTo>
                      <a:lnTo>
                        <a:pt x="89" y="3330"/>
                      </a:lnTo>
                      <a:lnTo>
                        <a:pt x="130" y="3344"/>
                      </a:lnTo>
                      <a:lnTo>
                        <a:pt x="130" y="3344"/>
                      </a:lnTo>
                      <a:lnTo>
                        <a:pt x="165" y="3354"/>
                      </a:lnTo>
                      <a:lnTo>
                        <a:pt x="196" y="3362"/>
                      </a:lnTo>
                      <a:lnTo>
                        <a:pt x="250" y="3373"/>
                      </a:lnTo>
                      <a:lnTo>
                        <a:pt x="296" y="3380"/>
                      </a:lnTo>
                      <a:lnTo>
                        <a:pt x="333" y="3383"/>
                      </a:lnTo>
                      <a:lnTo>
                        <a:pt x="333" y="3383"/>
                      </a:lnTo>
                      <a:lnTo>
                        <a:pt x="343" y="3439"/>
                      </a:lnTo>
                      <a:lnTo>
                        <a:pt x="352" y="3497"/>
                      </a:lnTo>
                      <a:lnTo>
                        <a:pt x="352" y="3497"/>
                      </a:lnTo>
                      <a:lnTo>
                        <a:pt x="320" y="3512"/>
                      </a:lnTo>
                      <a:lnTo>
                        <a:pt x="280" y="3533"/>
                      </a:lnTo>
                      <a:lnTo>
                        <a:pt x="230" y="3563"/>
                      </a:lnTo>
                      <a:lnTo>
                        <a:pt x="204" y="3581"/>
                      </a:lnTo>
                      <a:lnTo>
                        <a:pt x="176" y="3603"/>
                      </a:lnTo>
                      <a:lnTo>
                        <a:pt x="176" y="3603"/>
                      </a:lnTo>
                      <a:lnTo>
                        <a:pt x="141" y="3629"/>
                      </a:lnTo>
                      <a:lnTo>
                        <a:pt x="115" y="3650"/>
                      </a:lnTo>
                      <a:lnTo>
                        <a:pt x="99" y="3668"/>
                      </a:lnTo>
                      <a:lnTo>
                        <a:pt x="92" y="3677"/>
                      </a:lnTo>
                      <a:lnTo>
                        <a:pt x="87" y="3683"/>
                      </a:lnTo>
                      <a:lnTo>
                        <a:pt x="85" y="3690"/>
                      </a:lnTo>
                      <a:lnTo>
                        <a:pt x="84" y="3698"/>
                      </a:lnTo>
                      <a:lnTo>
                        <a:pt x="82" y="3705"/>
                      </a:lnTo>
                      <a:lnTo>
                        <a:pt x="84" y="3711"/>
                      </a:lnTo>
                      <a:lnTo>
                        <a:pt x="85" y="3728"/>
                      </a:lnTo>
                      <a:lnTo>
                        <a:pt x="92" y="3748"/>
                      </a:lnTo>
                      <a:lnTo>
                        <a:pt x="92" y="3748"/>
                      </a:lnTo>
                      <a:lnTo>
                        <a:pt x="97" y="3767"/>
                      </a:lnTo>
                      <a:lnTo>
                        <a:pt x="102" y="3784"/>
                      </a:lnTo>
                      <a:lnTo>
                        <a:pt x="105" y="3790"/>
                      </a:lnTo>
                      <a:lnTo>
                        <a:pt x="110" y="3795"/>
                      </a:lnTo>
                      <a:lnTo>
                        <a:pt x="115" y="3802"/>
                      </a:lnTo>
                      <a:lnTo>
                        <a:pt x="120" y="3805"/>
                      </a:lnTo>
                      <a:lnTo>
                        <a:pt x="128" y="3810"/>
                      </a:lnTo>
                      <a:lnTo>
                        <a:pt x="136" y="3814"/>
                      </a:lnTo>
                      <a:lnTo>
                        <a:pt x="161" y="3820"/>
                      </a:lnTo>
                      <a:lnTo>
                        <a:pt x="194" y="3827"/>
                      </a:lnTo>
                      <a:lnTo>
                        <a:pt x="237" y="3832"/>
                      </a:lnTo>
                      <a:lnTo>
                        <a:pt x="237" y="3832"/>
                      </a:lnTo>
                      <a:lnTo>
                        <a:pt x="272" y="3837"/>
                      </a:lnTo>
                      <a:lnTo>
                        <a:pt x="305" y="3838"/>
                      </a:lnTo>
                      <a:lnTo>
                        <a:pt x="361" y="3840"/>
                      </a:lnTo>
                      <a:lnTo>
                        <a:pt x="407" y="3838"/>
                      </a:lnTo>
                      <a:lnTo>
                        <a:pt x="443" y="3835"/>
                      </a:lnTo>
                      <a:lnTo>
                        <a:pt x="443" y="3835"/>
                      </a:lnTo>
                      <a:lnTo>
                        <a:pt x="463" y="3889"/>
                      </a:lnTo>
                      <a:lnTo>
                        <a:pt x="483" y="3944"/>
                      </a:lnTo>
                      <a:lnTo>
                        <a:pt x="483" y="3944"/>
                      </a:lnTo>
                      <a:lnTo>
                        <a:pt x="453" y="3965"/>
                      </a:lnTo>
                      <a:lnTo>
                        <a:pt x="417" y="3993"/>
                      </a:lnTo>
                      <a:lnTo>
                        <a:pt x="374" y="4031"/>
                      </a:lnTo>
                      <a:lnTo>
                        <a:pt x="351" y="4053"/>
                      </a:lnTo>
                      <a:lnTo>
                        <a:pt x="328" y="4079"/>
                      </a:lnTo>
                      <a:lnTo>
                        <a:pt x="328" y="4079"/>
                      </a:lnTo>
                      <a:lnTo>
                        <a:pt x="298" y="4110"/>
                      </a:lnTo>
                      <a:lnTo>
                        <a:pt x="277" y="4137"/>
                      </a:lnTo>
                      <a:lnTo>
                        <a:pt x="262" y="4157"/>
                      </a:lnTo>
                      <a:lnTo>
                        <a:pt x="257" y="4166"/>
                      </a:lnTo>
                      <a:lnTo>
                        <a:pt x="255" y="4175"/>
                      </a:lnTo>
                      <a:lnTo>
                        <a:pt x="254" y="4181"/>
                      </a:lnTo>
                      <a:lnTo>
                        <a:pt x="252" y="4189"/>
                      </a:lnTo>
                      <a:lnTo>
                        <a:pt x="254" y="4196"/>
                      </a:lnTo>
                      <a:lnTo>
                        <a:pt x="255" y="4203"/>
                      </a:lnTo>
                      <a:lnTo>
                        <a:pt x="260" y="4219"/>
                      </a:lnTo>
                      <a:lnTo>
                        <a:pt x="270" y="4237"/>
                      </a:lnTo>
                      <a:lnTo>
                        <a:pt x="270" y="4237"/>
                      </a:lnTo>
                      <a:lnTo>
                        <a:pt x="278" y="4255"/>
                      </a:lnTo>
                      <a:lnTo>
                        <a:pt x="287" y="4270"/>
                      </a:lnTo>
                      <a:lnTo>
                        <a:pt x="290" y="4275"/>
                      </a:lnTo>
                      <a:lnTo>
                        <a:pt x="295" y="4282"/>
                      </a:lnTo>
                      <a:lnTo>
                        <a:pt x="301" y="4285"/>
                      </a:lnTo>
                      <a:lnTo>
                        <a:pt x="308" y="4288"/>
                      </a:lnTo>
                      <a:lnTo>
                        <a:pt x="316" y="4292"/>
                      </a:lnTo>
                      <a:lnTo>
                        <a:pt x="326" y="4293"/>
                      </a:lnTo>
                      <a:lnTo>
                        <a:pt x="351" y="4297"/>
                      </a:lnTo>
                      <a:lnTo>
                        <a:pt x="384" y="4297"/>
                      </a:lnTo>
                      <a:lnTo>
                        <a:pt x="428" y="4295"/>
                      </a:lnTo>
                      <a:lnTo>
                        <a:pt x="428" y="4295"/>
                      </a:lnTo>
                      <a:lnTo>
                        <a:pt x="463" y="4292"/>
                      </a:lnTo>
                      <a:lnTo>
                        <a:pt x="494" y="4288"/>
                      </a:lnTo>
                      <a:lnTo>
                        <a:pt x="550" y="4280"/>
                      </a:lnTo>
                      <a:lnTo>
                        <a:pt x="596" y="4272"/>
                      </a:lnTo>
                      <a:lnTo>
                        <a:pt x="631" y="4262"/>
                      </a:lnTo>
                      <a:lnTo>
                        <a:pt x="631" y="4262"/>
                      </a:lnTo>
                      <a:lnTo>
                        <a:pt x="659" y="4311"/>
                      </a:lnTo>
                      <a:lnTo>
                        <a:pt x="689" y="4363"/>
                      </a:lnTo>
                      <a:lnTo>
                        <a:pt x="689" y="4363"/>
                      </a:lnTo>
                      <a:lnTo>
                        <a:pt x="664" y="4387"/>
                      </a:lnTo>
                      <a:lnTo>
                        <a:pt x="633" y="4422"/>
                      </a:lnTo>
                      <a:lnTo>
                        <a:pt x="596" y="4466"/>
                      </a:lnTo>
                      <a:lnTo>
                        <a:pt x="578" y="4493"/>
                      </a:lnTo>
                      <a:lnTo>
                        <a:pt x="559" y="4521"/>
                      </a:lnTo>
                      <a:lnTo>
                        <a:pt x="559" y="4521"/>
                      </a:lnTo>
                      <a:lnTo>
                        <a:pt x="535" y="4559"/>
                      </a:lnTo>
                      <a:lnTo>
                        <a:pt x="519" y="4587"/>
                      </a:lnTo>
                      <a:lnTo>
                        <a:pt x="509" y="4610"/>
                      </a:lnTo>
                      <a:lnTo>
                        <a:pt x="506" y="4620"/>
                      </a:lnTo>
                      <a:lnTo>
                        <a:pt x="504" y="4628"/>
                      </a:lnTo>
                      <a:lnTo>
                        <a:pt x="504" y="4636"/>
                      </a:lnTo>
                      <a:lnTo>
                        <a:pt x="504" y="4643"/>
                      </a:lnTo>
                      <a:lnTo>
                        <a:pt x="506" y="4649"/>
                      </a:lnTo>
                      <a:lnTo>
                        <a:pt x="509" y="4656"/>
                      </a:lnTo>
                      <a:lnTo>
                        <a:pt x="517" y="4671"/>
                      </a:lnTo>
                      <a:lnTo>
                        <a:pt x="529" y="4687"/>
                      </a:lnTo>
                      <a:lnTo>
                        <a:pt x="529" y="4687"/>
                      </a:lnTo>
                      <a:lnTo>
                        <a:pt x="540" y="4704"/>
                      </a:lnTo>
                      <a:lnTo>
                        <a:pt x="552" y="4717"/>
                      </a:lnTo>
                      <a:lnTo>
                        <a:pt x="557" y="4722"/>
                      </a:lnTo>
                      <a:lnTo>
                        <a:pt x="564" y="4727"/>
                      </a:lnTo>
                      <a:lnTo>
                        <a:pt x="570" y="4730"/>
                      </a:lnTo>
                      <a:lnTo>
                        <a:pt x="577" y="4732"/>
                      </a:lnTo>
                      <a:lnTo>
                        <a:pt x="585" y="4734"/>
                      </a:lnTo>
                      <a:lnTo>
                        <a:pt x="595" y="4734"/>
                      </a:lnTo>
                      <a:lnTo>
                        <a:pt x="620" y="4732"/>
                      </a:lnTo>
                      <a:lnTo>
                        <a:pt x="653" y="4727"/>
                      </a:lnTo>
                      <a:lnTo>
                        <a:pt x="695" y="4717"/>
                      </a:lnTo>
                      <a:lnTo>
                        <a:pt x="695" y="4717"/>
                      </a:lnTo>
                      <a:lnTo>
                        <a:pt x="730" y="4709"/>
                      </a:lnTo>
                      <a:lnTo>
                        <a:pt x="760" y="4699"/>
                      </a:lnTo>
                      <a:lnTo>
                        <a:pt x="814" y="4682"/>
                      </a:lnTo>
                      <a:lnTo>
                        <a:pt x="857" y="4664"/>
                      </a:lnTo>
                      <a:lnTo>
                        <a:pt x="888" y="4649"/>
                      </a:lnTo>
                      <a:lnTo>
                        <a:pt x="888" y="4649"/>
                      </a:lnTo>
                      <a:lnTo>
                        <a:pt x="926" y="4694"/>
                      </a:lnTo>
                      <a:lnTo>
                        <a:pt x="964" y="4739"/>
                      </a:lnTo>
                      <a:lnTo>
                        <a:pt x="964" y="4739"/>
                      </a:lnTo>
                      <a:lnTo>
                        <a:pt x="943" y="4768"/>
                      </a:lnTo>
                      <a:lnTo>
                        <a:pt x="918" y="4808"/>
                      </a:lnTo>
                      <a:lnTo>
                        <a:pt x="892" y="4857"/>
                      </a:lnTo>
                      <a:lnTo>
                        <a:pt x="878" y="4885"/>
                      </a:lnTo>
                      <a:lnTo>
                        <a:pt x="864" y="4917"/>
                      </a:lnTo>
                      <a:lnTo>
                        <a:pt x="864" y="4917"/>
                      </a:lnTo>
                      <a:lnTo>
                        <a:pt x="847" y="4958"/>
                      </a:lnTo>
                      <a:lnTo>
                        <a:pt x="836" y="4989"/>
                      </a:lnTo>
                      <a:lnTo>
                        <a:pt x="829" y="5014"/>
                      </a:lnTo>
                      <a:lnTo>
                        <a:pt x="829" y="5024"/>
                      </a:lnTo>
                      <a:lnTo>
                        <a:pt x="829" y="5032"/>
                      </a:lnTo>
                      <a:lnTo>
                        <a:pt x="829" y="5040"/>
                      </a:lnTo>
                      <a:lnTo>
                        <a:pt x="832" y="5047"/>
                      </a:lnTo>
                      <a:lnTo>
                        <a:pt x="834" y="5053"/>
                      </a:lnTo>
                      <a:lnTo>
                        <a:pt x="839" y="5060"/>
                      </a:lnTo>
                      <a:lnTo>
                        <a:pt x="850" y="5072"/>
                      </a:lnTo>
                      <a:lnTo>
                        <a:pt x="864" y="5086"/>
                      </a:lnTo>
                      <a:lnTo>
                        <a:pt x="864" y="5086"/>
                      </a:lnTo>
                      <a:lnTo>
                        <a:pt x="878" y="5101"/>
                      </a:lnTo>
                      <a:lnTo>
                        <a:pt x="892" y="5111"/>
                      </a:lnTo>
                      <a:lnTo>
                        <a:pt x="897" y="5116"/>
                      </a:lnTo>
                      <a:lnTo>
                        <a:pt x="903" y="5119"/>
                      </a:lnTo>
                      <a:lnTo>
                        <a:pt x="910" y="5121"/>
                      </a:lnTo>
                      <a:lnTo>
                        <a:pt x="918" y="5121"/>
                      </a:lnTo>
                      <a:lnTo>
                        <a:pt x="926" y="5121"/>
                      </a:lnTo>
                      <a:lnTo>
                        <a:pt x="936" y="5121"/>
                      </a:lnTo>
                      <a:lnTo>
                        <a:pt x="961" y="5114"/>
                      </a:lnTo>
                      <a:lnTo>
                        <a:pt x="992" y="5103"/>
                      </a:lnTo>
                      <a:lnTo>
                        <a:pt x="1033" y="5086"/>
                      </a:lnTo>
                      <a:lnTo>
                        <a:pt x="1033" y="5086"/>
                      </a:lnTo>
                      <a:lnTo>
                        <a:pt x="1065" y="5072"/>
                      </a:lnTo>
                      <a:lnTo>
                        <a:pt x="1093" y="5058"/>
                      </a:lnTo>
                      <a:lnTo>
                        <a:pt x="1142" y="5032"/>
                      </a:lnTo>
                      <a:lnTo>
                        <a:pt x="1182" y="5007"/>
                      </a:lnTo>
                      <a:lnTo>
                        <a:pt x="1211" y="4987"/>
                      </a:lnTo>
                      <a:lnTo>
                        <a:pt x="1211" y="4987"/>
                      </a:lnTo>
                      <a:lnTo>
                        <a:pt x="1254" y="5025"/>
                      </a:lnTo>
                      <a:lnTo>
                        <a:pt x="1301" y="5062"/>
                      </a:lnTo>
                      <a:lnTo>
                        <a:pt x="1301" y="5062"/>
                      </a:lnTo>
                      <a:lnTo>
                        <a:pt x="1286" y="5095"/>
                      </a:lnTo>
                      <a:lnTo>
                        <a:pt x="1268" y="5138"/>
                      </a:lnTo>
                      <a:lnTo>
                        <a:pt x="1249" y="5190"/>
                      </a:lnTo>
                      <a:lnTo>
                        <a:pt x="1241" y="5222"/>
                      </a:lnTo>
                      <a:lnTo>
                        <a:pt x="1233" y="5255"/>
                      </a:lnTo>
                      <a:lnTo>
                        <a:pt x="1233" y="5255"/>
                      </a:lnTo>
                      <a:lnTo>
                        <a:pt x="1223" y="5297"/>
                      </a:lnTo>
                      <a:lnTo>
                        <a:pt x="1218" y="5330"/>
                      </a:lnTo>
                      <a:lnTo>
                        <a:pt x="1216" y="5355"/>
                      </a:lnTo>
                      <a:lnTo>
                        <a:pt x="1216" y="5365"/>
                      </a:lnTo>
                      <a:lnTo>
                        <a:pt x="1218" y="5373"/>
                      </a:lnTo>
                      <a:lnTo>
                        <a:pt x="1220" y="5382"/>
                      </a:lnTo>
                      <a:lnTo>
                        <a:pt x="1223" y="5386"/>
                      </a:lnTo>
                      <a:lnTo>
                        <a:pt x="1228" y="5393"/>
                      </a:lnTo>
                      <a:lnTo>
                        <a:pt x="1233" y="5398"/>
                      </a:lnTo>
                      <a:lnTo>
                        <a:pt x="1246" y="5410"/>
                      </a:lnTo>
                      <a:lnTo>
                        <a:pt x="1263" y="5421"/>
                      </a:lnTo>
                      <a:lnTo>
                        <a:pt x="1263" y="5421"/>
                      </a:lnTo>
                      <a:lnTo>
                        <a:pt x="1279" y="5433"/>
                      </a:lnTo>
                      <a:lnTo>
                        <a:pt x="1294" y="5441"/>
                      </a:lnTo>
                      <a:lnTo>
                        <a:pt x="1301" y="5444"/>
                      </a:lnTo>
                      <a:lnTo>
                        <a:pt x="1307" y="5446"/>
                      </a:lnTo>
                      <a:lnTo>
                        <a:pt x="1314" y="5446"/>
                      </a:lnTo>
                      <a:lnTo>
                        <a:pt x="1322" y="5446"/>
                      </a:lnTo>
                      <a:lnTo>
                        <a:pt x="1330" y="5444"/>
                      </a:lnTo>
                      <a:lnTo>
                        <a:pt x="1340" y="5441"/>
                      </a:lnTo>
                      <a:lnTo>
                        <a:pt x="1363" y="5431"/>
                      </a:lnTo>
                      <a:lnTo>
                        <a:pt x="1391" y="5415"/>
                      </a:lnTo>
                      <a:lnTo>
                        <a:pt x="1429" y="5391"/>
                      </a:lnTo>
                      <a:lnTo>
                        <a:pt x="1429" y="5391"/>
                      </a:lnTo>
                      <a:lnTo>
                        <a:pt x="1457" y="5372"/>
                      </a:lnTo>
                      <a:lnTo>
                        <a:pt x="1484" y="5354"/>
                      </a:lnTo>
                      <a:lnTo>
                        <a:pt x="1526" y="5319"/>
                      </a:lnTo>
                      <a:lnTo>
                        <a:pt x="1561" y="5288"/>
                      </a:lnTo>
                      <a:lnTo>
                        <a:pt x="1586" y="5263"/>
                      </a:lnTo>
                      <a:lnTo>
                        <a:pt x="1586" y="5263"/>
                      </a:lnTo>
                      <a:lnTo>
                        <a:pt x="1637" y="5292"/>
                      </a:lnTo>
                      <a:lnTo>
                        <a:pt x="1688" y="5322"/>
                      </a:lnTo>
                      <a:lnTo>
                        <a:pt x="1688" y="5322"/>
                      </a:lnTo>
                      <a:lnTo>
                        <a:pt x="1678" y="5355"/>
                      </a:lnTo>
                      <a:lnTo>
                        <a:pt x="1670" y="5401"/>
                      </a:lnTo>
                      <a:lnTo>
                        <a:pt x="1662" y="5456"/>
                      </a:lnTo>
                      <a:lnTo>
                        <a:pt x="1658" y="5487"/>
                      </a:lnTo>
                      <a:lnTo>
                        <a:pt x="1655" y="5522"/>
                      </a:lnTo>
                      <a:lnTo>
                        <a:pt x="1655" y="5522"/>
                      </a:lnTo>
                      <a:lnTo>
                        <a:pt x="1653" y="5566"/>
                      </a:lnTo>
                      <a:lnTo>
                        <a:pt x="1653" y="5599"/>
                      </a:lnTo>
                      <a:lnTo>
                        <a:pt x="1657" y="5624"/>
                      </a:lnTo>
                      <a:lnTo>
                        <a:pt x="1658" y="5634"/>
                      </a:lnTo>
                      <a:lnTo>
                        <a:pt x="1662" y="5642"/>
                      </a:lnTo>
                      <a:lnTo>
                        <a:pt x="1665" y="5649"/>
                      </a:lnTo>
                      <a:lnTo>
                        <a:pt x="1670" y="5655"/>
                      </a:lnTo>
                      <a:lnTo>
                        <a:pt x="1675" y="5660"/>
                      </a:lnTo>
                      <a:lnTo>
                        <a:pt x="1680" y="5663"/>
                      </a:lnTo>
                      <a:lnTo>
                        <a:pt x="1695" y="5672"/>
                      </a:lnTo>
                      <a:lnTo>
                        <a:pt x="1713" y="5680"/>
                      </a:lnTo>
                      <a:lnTo>
                        <a:pt x="1713" y="5680"/>
                      </a:lnTo>
                      <a:lnTo>
                        <a:pt x="1731" y="5690"/>
                      </a:lnTo>
                      <a:lnTo>
                        <a:pt x="1747" y="5695"/>
                      </a:lnTo>
                      <a:lnTo>
                        <a:pt x="1754" y="5696"/>
                      </a:lnTo>
                      <a:lnTo>
                        <a:pt x="1762" y="5698"/>
                      </a:lnTo>
                      <a:lnTo>
                        <a:pt x="1769" y="5696"/>
                      </a:lnTo>
                      <a:lnTo>
                        <a:pt x="1775" y="5695"/>
                      </a:lnTo>
                      <a:lnTo>
                        <a:pt x="1784" y="5693"/>
                      </a:lnTo>
                      <a:lnTo>
                        <a:pt x="1793" y="5688"/>
                      </a:lnTo>
                      <a:lnTo>
                        <a:pt x="1813" y="5673"/>
                      </a:lnTo>
                      <a:lnTo>
                        <a:pt x="1840" y="5654"/>
                      </a:lnTo>
                      <a:lnTo>
                        <a:pt x="1871" y="5622"/>
                      </a:lnTo>
                      <a:lnTo>
                        <a:pt x="1871" y="5622"/>
                      </a:lnTo>
                      <a:lnTo>
                        <a:pt x="1896" y="5599"/>
                      </a:lnTo>
                      <a:lnTo>
                        <a:pt x="1919" y="5576"/>
                      </a:lnTo>
                      <a:lnTo>
                        <a:pt x="1955" y="5535"/>
                      </a:lnTo>
                      <a:lnTo>
                        <a:pt x="1985" y="5499"/>
                      </a:lnTo>
                      <a:lnTo>
                        <a:pt x="2005" y="5469"/>
                      </a:lnTo>
                      <a:lnTo>
                        <a:pt x="2005" y="5469"/>
                      </a:lnTo>
                      <a:lnTo>
                        <a:pt x="2059" y="5490"/>
                      </a:lnTo>
                      <a:lnTo>
                        <a:pt x="2115" y="5508"/>
                      </a:lnTo>
                      <a:lnTo>
                        <a:pt x="2115" y="5508"/>
                      </a:lnTo>
                      <a:lnTo>
                        <a:pt x="2112" y="5545"/>
                      </a:lnTo>
                      <a:lnTo>
                        <a:pt x="2110" y="5591"/>
                      </a:lnTo>
                      <a:lnTo>
                        <a:pt x="2112" y="5647"/>
                      </a:lnTo>
                      <a:lnTo>
                        <a:pt x="2113" y="5678"/>
                      </a:lnTo>
                      <a:lnTo>
                        <a:pt x="2118" y="5713"/>
                      </a:lnTo>
                      <a:lnTo>
                        <a:pt x="2118" y="5713"/>
                      </a:lnTo>
                      <a:lnTo>
                        <a:pt x="2123" y="5756"/>
                      </a:lnTo>
                      <a:lnTo>
                        <a:pt x="2130" y="5789"/>
                      </a:lnTo>
                      <a:lnTo>
                        <a:pt x="2136" y="5814"/>
                      </a:lnTo>
                      <a:lnTo>
                        <a:pt x="2140" y="5822"/>
                      </a:lnTo>
                      <a:lnTo>
                        <a:pt x="2145" y="5830"/>
                      </a:lnTo>
                      <a:lnTo>
                        <a:pt x="2148" y="5835"/>
                      </a:lnTo>
                      <a:lnTo>
                        <a:pt x="2155" y="5840"/>
                      </a:lnTo>
                      <a:lnTo>
                        <a:pt x="2160" y="5845"/>
                      </a:lnTo>
                      <a:lnTo>
                        <a:pt x="2166" y="5848"/>
                      </a:lnTo>
                      <a:lnTo>
                        <a:pt x="2183" y="5853"/>
                      </a:lnTo>
                      <a:lnTo>
                        <a:pt x="2202" y="5858"/>
                      </a:lnTo>
                      <a:lnTo>
                        <a:pt x="2202" y="5858"/>
                      </a:lnTo>
                      <a:lnTo>
                        <a:pt x="2222" y="5865"/>
                      </a:lnTo>
                      <a:lnTo>
                        <a:pt x="2239" y="5866"/>
                      </a:lnTo>
                      <a:lnTo>
                        <a:pt x="2245" y="5868"/>
                      </a:lnTo>
                      <a:lnTo>
                        <a:pt x="2252" y="5866"/>
                      </a:lnTo>
                      <a:lnTo>
                        <a:pt x="2260" y="5865"/>
                      </a:lnTo>
                      <a:lnTo>
                        <a:pt x="2267" y="5863"/>
                      </a:lnTo>
                      <a:lnTo>
                        <a:pt x="2275" y="5858"/>
                      </a:lnTo>
                      <a:lnTo>
                        <a:pt x="2282" y="5851"/>
                      </a:lnTo>
                      <a:lnTo>
                        <a:pt x="2300" y="5835"/>
                      </a:lnTo>
                      <a:lnTo>
                        <a:pt x="2321" y="5809"/>
                      </a:lnTo>
                      <a:lnTo>
                        <a:pt x="2347" y="5774"/>
                      </a:lnTo>
                      <a:lnTo>
                        <a:pt x="2347" y="5774"/>
                      </a:lnTo>
                      <a:lnTo>
                        <a:pt x="2369" y="5746"/>
                      </a:lnTo>
                      <a:lnTo>
                        <a:pt x="2385" y="5720"/>
                      </a:lnTo>
                      <a:lnTo>
                        <a:pt x="2415" y="5673"/>
                      </a:lnTo>
                      <a:lnTo>
                        <a:pt x="2437" y="5632"/>
                      </a:lnTo>
                      <a:lnTo>
                        <a:pt x="2453" y="5599"/>
                      </a:lnTo>
                      <a:lnTo>
                        <a:pt x="2453" y="5599"/>
                      </a:lnTo>
                      <a:lnTo>
                        <a:pt x="2511" y="5611"/>
                      </a:lnTo>
                      <a:lnTo>
                        <a:pt x="2568" y="5621"/>
                      </a:lnTo>
                      <a:lnTo>
                        <a:pt x="2568" y="5621"/>
                      </a:lnTo>
                      <a:lnTo>
                        <a:pt x="2570" y="5657"/>
                      </a:lnTo>
                      <a:lnTo>
                        <a:pt x="2577" y="5701"/>
                      </a:lnTo>
                      <a:lnTo>
                        <a:pt x="2588" y="5756"/>
                      </a:lnTo>
                      <a:lnTo>
                        <a:pt x="2596" y="5787"/>
                      </a:lnTo>
                      <a:lnTo>
                        <a:pt x="2606" y="5820"/>
                      </a:lnTo>
                      <a:lnTo>
                        <a:pt x="2606" y="5820"/>
                      </a:lnTo>
                      <a:lnTo>
                        <a:pt x="2620" y="5861"/>
                      </a:lnTo>
                      <a:lnTo>
                        <a:pt x="2631" y="5893"/>
                      </a:lnTo>
                      <a:lnTo>
                        <a:pt x="2641" y="5916"/>
                      </a:lnTo>
                      <a:lnTo>
                        <a:pt x="2648" y="5924"/>
                      </a:lnTo>
                      <a:lnTo>
                        <a:pt x="2652" y="5931"/>
                      </a:lnTo>
                      <a:lnTo>
                        <a:pt x="2657" y="5936"/>
                      </a:lnTo>
                      <a:lnTo>
                        <a:pt x="2664" y="5939"/>
                      </a:lnTo>
                      <a:lnTo>
                        <a:pt x="2671" y="5942"/>
                      </a:lnTo>
                      <a:lnTo>
                        <a:pt x="2677" y="5945"/>
                      </a:lnTo>
                      <a:lnTo>
                        <a:pt x="2694" y="5947"/>
                      </a:lnTo>
                      <a:lnTo>
                        <a:pt x="2715" y="5949"/>
                      </a:lnTo>
                      <a:lnTo>
                        <a:pt x="2715" y="5949"/>
                      </a:lnTo>
                      <a:lnTo>
                        <a:pt x="2735" y="5950"/>
                      </a:lnTo>
                      <a:lnTo>
                        <a:pt x="2751" y="5950"/>
                      </a:lnTo>
                      <a:lnTo>
                        <a:pt x="2758" y="5950"/>
                      </a:lnTo>
                      <a:lnTo>
                        <a:pt x="2766" y="5949"/>
                      </a:lnTo>
                      <a:lnTo>
                        <a:pt x="2773" y="5945"/>
                      </a:lnTo>
                      <a:lnTo>
                        <a:pt x="2779" y="5942"/>
                      </a:lnTo>
                      <a:lnTo>
                        <a:pt x="2786" y="5936"/>
                      </a:lnTo>
                      <a:lnTo>
                        <a:pt x="2793" y="5929"/>
                      </a:lnTo>
                      <a:lnTo>
                        <a:pt x="2806" y="5909"/>
                      </a:lnTo>
                      <a:lnTo>
                        <a:pt x="2824" y="5879"/>
                      </a:lnTo>
                      <a:lnTo>
                        <a:pt x="2844" y="5840"/>
                      </a:lnTo>
                      <a:lnTo>
                        <a:pt x="2844" y="5840"/>
                      </a:lnTo>
                      <a:lnTo>
                        <a:pt x="2859" y="5810"/>
                      </a:lnTo>
                      <a:lnTo>
                        <a:pt x="2872" y="5781"/>
                      </a:lnTo>
                      <a:lnTo>
                        <a:pt x="2892" y="5729"/>
                      </a:lnTo>
                      <a:lnTo>
                        <a:pt x="2906" y="5687"/>
                      </a:lnTo>
                      <a:lnTo>
                        <a:pt x="2916" y="5652"/>
                      </a:lnTo>
                      <a:lnTo>
                        <a:pt x="2916" y="5652"/>
                      </a:lnTo>
                      <a:lnTo>
                        <a:pt x="2974" y="5652"/>
                      </a:lnTo>
                      <a:lnTo>
                        <a:pt x="3033" y="5652"/>
                      </a:lnTo>
                      <a:lnTo>
                        <a:pt x="3033" y="5652"/>
                      </a:lnTo>
                      <a:lnTo>
                        <a:pt x="3043" y="5687"/>
                      </a:lnTo>
                      <a:lnTo>
                        <a:pt x="3056" y="5729"/>
                      </a:lnTo>
                      <a:lnTo>
                        <a:pt x="3078" y="5781"/>
                      </a:lnTo>
                      <a:lnTo>
                        <a:pt x="3091" y="5810"/>
                      </a:lnTo>
                      <a:lnTo>
                        <a:pt x="3106" y="5840"/>
                      </a:lnTo>
                      <a:lnTo>
                        <a:pt x="3106" y="5840"/>
                      </a:lnTo>
                      <a:lnTo>
                        <a:pt x="3126" y="5879"/>
                      </a:lnTo>
                      <a:lnTo>
                        <a:pt x="3142" y="5909"/>
                      </a:lnTo>
                      <a:lnTo>
                        <a:pt x="3157" y="5929"/>
                      </a:lnTo>
                      <a:lnTo>
                        <a:pt x="3164" y="5936"/>
                      </a:lnTo>
                      <a:lnTo>
                        <a:pt x="3170" y="5942"/>
                      </a:lnTo>
                      <a:lnTo>
                        <a:pt x="3177" y="5945"/>
                      </a:lnTo>
                      <a:lnTo>
                        <a:pt x="3183" y="5949"/>
                      </a:lnTo>
                      <a:lnTo>
                        <a:pt x="3190" y="5950"/>
                      </a:lnTo>
                      <a:lnTo>
                        <a:pt x="3198" y="5950"/>
                      </a:lnTo>
                      <a:lnTo>
                        <a:pt x="3215" y="5950"/>
                      </a:lnTo>
                      <a:lnTo>
                        <a:pt x="3235" y="5949"/>
                      </a:lnTo>
                      <a:lnTo>
                        <a:pt x="3235" y="5949"/>
                      </a:lnTo>
                      <a:lnTo>
                        <a:pt x="3254" y="5947"/>
                      </a:lnTo>
                      <a:lnTo>
                        <a:pt x="3271" y="5945"/>
                      </a:lnTo>
                      <a:lnTo>
                        <a:pt x="3279" y="5942"/>
                      </a:lnTo>
                      <a:lnTo>
                        <a:pt x="3286" y="5939"/>
                      </a:lnTo>
                      <a:lnTo>
                        <a:pt x="3291" y="5936"/>
                      </a:lnTo>
                      <a:lnTo>
                        <a:pt x="3297" y="5931"/>
                      </a:lnTo>
                      <a:lnTo>
                        <a:pt x="3302" y="5924"/>
                      </a:lnTo>
                      <a:lnTo>
                        <a:pt x="3307" y="5916"/>
                      </a:lnTo>
                      <a:lnTo>
                        <a:pt x="3319" y="5893"/>
                      </a:lnTo>
                      <a:lnTo>
                        <a:pt x="3330" y="5861"/>
                      </a:lnTo>
                      <a:lnTo>
                        <a:pt x="3343" y="5820"/>
                      </a:lnTo>
                      <a:lnTo>
                        <a:pt x="3343" y="5820"/>
                      </a:lnTo>
                      <a:lnTo>
                        <a:pt x="3353" y="5787"/>
                      </a:lnTo>
                      <a:lnTo>
                        <a:pt x="3360" y="5756"/>
                      </a:lnTo>
                      <a:lnTo>
                        <a:pt x="3371" y="5701"/>
                      </a:lnTo>
                      <a:lnTo>
                        <a:pt x="3378" y="5657"/>
                      </a:lnTo>
                      <a:lnTo>
                        <a:pt x="3381" y="5621"/>
                      </a:lnTo>
                      <a:lnTo>
                        <a:pt x="3381" y="5621"/>
                      </a:lnTo>
                      <a:lnTo>
                        <a:pt x="3439" y="5612"/>
                      </a:lnTo>
                      <a:lnTo>
                        <a:pt x="3497" y="5601"/>
                      </a:lnTo>
                      <a:lnTo>
                        <a:pt x="3497" y="5601"/>
                      </a:lnTo>
                      <a:lnTo>
                        <a:pt x="3511" y="5634"/>
                      </a:lnTo>
                      <a:lnTo>
                        <a:pt x="3535" y="5673"/>
                      </a:lnTo>
                      <a:lnTo>
                        <a:pt x="3563" y="5721"/>
                      </a:lnTo>
                      <a:lnTo>
                        <a:pt x="3581" y="5748"/>
                      </a:lnTo>
                      <a:lnTo>
                        <a:pt x="3601" y="5774"/>
                      </a:lnTo>
                      <a:lnTo>
                        <a:pt x="3601" y="5774"/>
                      </a:lnTo>
                      <a:lnTo>
                        <a:pt x="3627" y="5809"/>
                      </a:lnTo>
                      <a:lnTo>
                        <a:pt x="3650" y="5835"/>
                      </a:lnTo>
                      <a:lnTo>
                        <a:pt x="3666" y="5851"/>
                      </a:lnTo>
                      <a:lnTo>
                        <a:pt x="3675" y="5858"/>
                      </a:lnTo>
                      <a:lnTo>
                        <a:pt x="3683" y="5863"/>
                      </a:lnTo>
                      <a:lnTo>
                        <a:pt x="3690" y="5865"/>
                      </a:lnTo>
                      <a:lnTo>
                        <a:pt x="3696" y="5866"/>
                      </a:lnTo>
                      <a:lnTo>
                        <a:pt x="3704" y="5868"/>
                      </a:lnTo>
                      <a:lnTo>
                        <a:pt x="3711" y="5866"/>
                      </a:lnTo>
                      <a:lnTo>
                        <a:pt x="3727" y="5865"/>
                      </a:lnTo>
                      <a:lnTo>
                        <a:pt x="3747" y="5858"/>
                      </a:lnTo>
                      <a:lnTo>
                        <a:pt x="3747" y="5858"/>
                      </a:lnTo>
                      <a:lnTo>
                        <a:pt x="3767" y="5853"/>
                      </a:lnTo>
                      <a:lnTo>
                        <a:pt x="3782" y="5848"/>
                      </a:lnTo>
                      <a:lnTo>
                        <a:pt x="3788" y="5845"/>
                      </a:lnTo>
                      <a:lnTo>
                        <a:pt x="3795" y="5840"/>
                      </a:lnTo>
                      <a:lnTo>
                        <a:pt x="3800" y="5835"/>
                      </a:lnTo>
                      <a:lnTo>
                        <a:pt x="3805" y="5830"/>
                      </a:lnTo>
                      <a:lnTo>
                        <a:pt x="3810" y="5822"/>
                      </a:lnTo>
                      <a:lnTo>
                        <a:pt x="3813" y="5814"/>
                      </a:lnTo>
                      <a:lnTo>
                        <a:pt x="3820" y="5789"/>
                      </a:lnTo>
                      <a:lnTo>
                        <a:pt x="3826" y="5756"/>
                      </a:lnTo>
                      <a:lnTo>
                        <a:pt x="3831" y="5713"/>
                      </a:lnTo>
                      <a:lnTo>
                        <a:pt x="3831" y="5713"/>
                      </a:lnTo>
                      <a:lnTo>
                        <a:pt x="3835" y="5678"/>
                      </a:lnTo>
                      <a:lnTo>
                        <a:pt x="3838" y="5647"/>
                      </a:lnTo>
                      <a:lnTo>
                        <a:pt x="3840" y="5593"/>
                      </a:lnTo>
                      <a:lnTo>
                        <a:pt x="3838" y="5546"/>
                      </a:lnTo>
                      <a:lnTo>
                        <a:pt x="3835" y="5510"/>
                      </a:lnTo>
                      <a:lnTo>
                        <a:pt x="3835" y="5510"/>
                      </a:lnTo>
                      <a:lnTo>
                        <a:pt x="3891" y="5490"/>
                      </a:lnTo>
                      <a:lnTo>
                        <a:pt x="3945" y="5471"/>
                      </a:lnTo>
                      <a:lnTo>
                        <a:pt x="3945" y="5471"/>
                      </a:lnTo>
                      <a:lnTo>
                        <a:pt x="3965" y="5499"/>
                      </a:lnTo>
                      <a:lnTo>
                        <a:pt x="3995" y="5535"/>
                      </a:lnTo>
                      <a:lnTo>
                        <a:pt x="4031" y="5576"/>
                      </a:lnTo>
                      <a:lnTo>
                        <a:pt x="4052" y="5599"/>
                      </a:lnTo>
                      <a:lnTo>
                        <a:pt x="4077" y="5622"/>
                      </a:lnTo>
                      <a:lnTo>
                        <a:pt x="4077" y="5622"/>
                      </a:lnTo>
                      <a:lnTo>
                        <a:pt x="4110" y="5654"/>
                      </a:lnTo>
                      <a:lnTo>
                        <a:pt x="4136" y="5673"/>
                      </a:lnTo>
                      <a:lnTo>
                        <a:pt x="4156" y="5688"/>
                      </a:lnTo>
                      <a:lnTo>
                        <a:pt x="4164" y="5693"/>
                      </a:lnTo>
                      <a:lnTo>
                        <a:pt x="4173" y="5695"/>
                      </a:lnTo>
                      <a:lnTo>
                        <a:pt x="4181" y="5696"/>
                      </a:lnTo>
                      <a:lnTo>
                        <a:pt x="4187" y="5698"/>
                      </a:lnTo>
                      <a:lnTo>
                        <a:pt x="4194" y="5696"/>
                      </a:lnTo>
                      <a:lnTo>
                        <a:pt x="4202" y="5695"/>
                      </a:lnTo>
                      <a:lnTo>
                        <a:pt x="4217" y="5690"/>
                      </a:lnTo>
                      <a:lnTo>
                        <a:pt x="4235" y="5680"/>
                      </a:lnTo>
                      <a:lnTo>
                        <a:pt x="4235" y="5680"/>
                      </a:lnTo>
                      <a:lnTo>
                        <a:pt x="4255" y="5672"/>
                      </a:lnTo>
                      <a:lnTo>
                        <a:pt x="4268" y="5663"/>
                      </a:lnTo>
                      <a:lnTo>
                        <a:pt x="4275" y="5660"/>
                      </a:lnTo>
                      <a:lnTo>
                        <a:pt x="4280" y="5655"/>
                      </a:lnTo>
                      <a:lnTo>
                        <a:pt x="4285" y="5649"/>
                      </a:lnTo>
                      <a:lnTo>
                        <a:pt x="4288" y="5642"/>
                      </a:lnTo>
                      <a:lnTo>
                        <a:pt x="4291" y="5634"/>
                      </a:lnTo>
                      <a:lnTo>
                        <a:pt x="4293" y="5624"/>
                      </a:lnTo>
                      <a:lnTo>
                        <a:pt x="4295" y="5599"/>
                      </a:lnTo>
                      <a:lnTo>
                        <a:pt x="4296" y="5566"/>
                      </a:lnTo>
                      <a:lnTo>
                        <a:pt x="4293" y="5522"/>
                      </a:lnTo>
                      <a:lnTo>
                        <a:pt x="4293" y="5522"/>
                      </a:lnTo>
                      <a:lnTo>
                        <a:pt x="4291" y="5489"/>
                      </a:lnTo>
                      <a:lnTo>
                        <a:pt x="4288" y="5457"/>
                      </a:lnTo>
                      <a:lnTo>
                        <a:pt x="4280" y="5401"/>
                      </a:lnTo>
                      <a:lnTo>
                        <a:pt x="4272" y="5357"/>
                      </a:lnTo>
                      <a:lnTo>
                        <a:pt x="4262" y="5322"/>
                      </a:lnTo>
                      <a:lnTo>
                        <a:pt x="4262" y="5322"/>
                      </a:lnTo>
                      <a:lnTo>
                        <a:pt x="4313" y="5292"/>
                      </a:lnTo>
                      <a:lnTo>
                        <a:pt x="4364" y="5263"/>
                      </a:lnTo>
                      <a:lnTo>
                        <a:pt x="4364" y="5263"/>
                      </a:lnTo>
                      <a:lnTo>
                        <a:pt x="4389" y="5289"/>
                      </a:lnTo>
                      <a:lnTo>
                        <a:pt x="4423" y="5319"/>
                      </a:lnTo>
                      <a:lnTo>
                        <a:pt x="4466" y="5354"/>
                      </a:lnTo>
                      <a:lnTo>
                        <a:pt x="4493" y="5372"/>
                      </a:lnTo>
                      <a:lnTo>
                        <a:pt x="4521" y="5391"/>
                      </a:lnTo>
                      <a:lnTo>
                        <a:pt x="4521" y="5391"/>
                      </a:lnTo>
                      <a:lnTo>
                        <a:pt x="4557" y="5415"/>
                      </a:lnTo>
                      <a:lnTo>
                        <a:pt x="4586" y="5431"/>
                      </a:lnTo>
                      <a:lnTo>
                        <a:pt x="4610" y="5443"/>
                      </a:lnTo>
                      <a:lnTo>
                        <a:pt x="4618" y="5444"/>
                      </a:lnTo>
                      <a:lnTo>
                        <a:pt x="4628" y="5446"/>
                      </a:lnTo>
                      <a:lnTo>
                        <a:pt x="4634" y="5446"/>
                      </a:lnTo>
                      <a:lnTo>
                        <a:pt x="4643" y="5446"/>
                      </a:lnTo>
                      <a:lnTo>
                        <a:pt x="4649" y="5444"/>
                      </a:lnTo>
                      <a:lnTo>
                        <a:pt x="4656" y="5441"/>
                      </a:lnTo>
                      <a:lnTo>
                        <a:pt x="4671" y="5433"/>
                      </a:lnTo>
                      <a:lnTo>
                        <a:pt x="4687" y="5421"/>
                      </a:lnTo>
                      <a:lnTo>
                        <a:pt x="4687" y="5421"/>
                      </a:lnTo>
                      <a:lnTo>
                        <a:pt x="4704" y="5410"/>
                      </a:lnTo>
                      <a:lnTo>
                        <a:pt x="4717" y="5398"/>
                      </a:lnTo>
                      <a:lnTo>
                        <a:pt x="4722" y="5393"/>
                      </a:lnTo>
                      <a:lnTo>
                        <a:pt x="4725" y="5386"/>
                      </a:lnTo>
                      <a:lnTo>
                        <a:pt x="4728" y="5382"/>
                      </a:lnTo>
                      <a:lnTo>
                        <a:pt x="4732" y="5373"/>
                      </a:lnTo>
                      <a:lnTo>
                        <a:pt x="4733" y="5365"/>
                      </a:lnTo>
                      <a:lnTo>
                        <a:pt x="4733" y="5355"/>
                      </a:lnTo>
                      <a:lnTo>
                        <a:pt x="4732" y="5330"/>
                      </a:lnTo>
                      <a:lnTo>
                        <a:pt x="4725" y="5297"/>
                      </a:lnTo>
                      <a:lnTo>
                        <a:pt x="4717" y="5255"/>
                      </a:lnTo>
                      <a:lnTo>
                        <a:pt x="4717" y="5255"/>
                      </a:lnTo>
                      <a:lnTo>
                        <a:pt x="4707" y="5222"/>
                      </a:lnTo>
                      <a:lnTo>
                        <a:pt x="4699" y="5190"/>
                      </a:lnTo>
                      <a:lnTo>
                        <a:pt x="4682" y="5138"/>
                      </a:lnTo>
                      <a:lnTo>
                        <a:pt x="4664" y="5096"/>
                      </a:lnTo>
                      <a:lnTo>
                        <a:pt x="4649" y="5063"/>
                      </a:lnTo>
                      <a:lnTo>
                        <a:pt x="4649" y="5063"/>
                      </a:lnTo>
                      <a:lnTo>
                        <a:pt x="4695" y="5025"/>
                      </a:lnTo>
                      <a:lnTo>
                        <a:pt x="4740" y="4987"/>
                      </a:lnTo>
                      <a:lnTo>
                        <a:pt x="4740" y="4987"/>
                      </a:lnTo>
                      <a:lnTo>
                        <a:pt x="4769" y="5009"/>
                      </a:lnTo>
                      <a:lnTo>
                        <a:pt x="4807" y="5032"/>
                      </a:lnTo>
                      <a:lnTo>
                        <a:pt x="4857" y="5058"/>
                      </a:lnTo>
                      <a:lnTo>
                        <a:pt x="4885" y="5072"/>
                      </a:lnTo>
                      <a:lnTo>
                        <a:pt x="4916" y="5086"/>
                      </a:lnTo>
                      <a:lnTo>
                        <a:pt x="4916" y="5086"/>
                      </a:lnTo>
                      <a:lnTo>
                        <a:pt x="4957" y="5103"/>
                      </a:lnTo>
                      <a:lnTo>
                        <a:pt x="4989" y="5114"/>
                      </a:lnTo>
                      <a:lnTo>
                        <a:pt x="5012" y="5121"/>
                      </a:lnTo>
                      <a:lnTo>
                        <a:pt x="5022" y="5121"/>
                      </a:lnTo>
                      <a:lnTo>
                        <a:pt x="5032" y="5121"/>
                      </a:lnTo>
                      <a:lnTo>
                        <a:pt x="5038" y="5121"/>
                      </a:lnTo>
                      <a:lnTo>
                        <a:pt x="5045" y="5119"/>
                      </a:lnTo>
                      <a:lnTo>
                        <a:pt x="5051" y="5116"/>
                      </a:lnTo>
                      <a:lnTo>
                        <a:pt x="5058" y="5111"/>
                      </a:lnTo>
                      <a:lnTo>
                        <a:pt x="5071" y="5101"/>
                      </a:lnTo>
                      <a:lnTo>
                        <a:pt x="5084" y="5086"/>
                      </a:lnTo>
                      <a:lnTo>
                        <a:pt x="5084" y="5086"/>
                      </a:lnTo>
                      <a:lnTo>
                        <a:pt x="5099" y="5072"/>
                      </a:lnTo>
                      <a:lnTo>
                        <a:pt x="5111" y="5060"/>
                      </a:lnTo>
                      <a:lnTo>
                        <a:pt x="5114" y="5053"/>
                      </a:lnTo>
                      <a:lnTo>
                        <a:pt x="5117" y="5047"/>
                      </a:lnTo>
                      <a:lnTo>
                        <a:pt x="5119" y="5040"/>
                      </a:lnTo>
                      <a:lnTo>
                        <a:pt x="5121" y="5032"/>
                      </a:lnTo>
                      <a:lnTo>
                        <a:pt x="5121" y="5024"/>
                      </a:lnTo>
                      <a:lnTo>
                        <a:pt x="5119" y="5014"/>
                      </a:lnTo>
                      <a:lnTo>
                        <a:pt x="5114" y="4989"/>
                      </a:lnTo>
                      <a:lnTo>
                        <a:pt x="5103" y="4958"/>
                      </a:lnTo>
                      <a:lnTo>
                        <a:pt x="5084" y="4917"/>
                      </a:lnTo>
                      <a:lnTo>
                        <a:pt x="5084" y="4917"/>
                      </a:lnTo>
                      <a:lnTo>
                        <a:pt x="5071" y="4887"/>
                      </a:lnTo>
                      <a:lnTo>
                        <a:pt x="5058" y="4857"/>
                      </a:lnTo>
                      <a:lnTo>
                        <a:pt x="5032" y="4809"/>
                      </a:lnTo>
                      <a:lnTo>
                        <a:pt x="5007" y="4770"/>
                      </a:lnTo>
                      <a:lnTo>
                        <a:pt x="4987" y="4740"/>
                      </a:lnTo>
                      <a:lnTo>
                        <a:pt x="4987" y="4740"/>
                      </a:lnTo>
                      <a:lnTo>
                        <a:pt x="5025" y="4696"/>
                      </a:lnTo>
                      <a:lnTo>
                        <a:pt x="5063" y="4651"/>
                      </a:lnTo>
                      <a:lnTo>
                        <a:pt x="5063" y="4651"/>
                      </a:lnTo>
                      <a:lnTo>
                        <a:pt x="5094" y="4666"/>
                      </a:lnTo>
                      <a:lnTo>
                        <a:pt x="5137" y="4682"/>
                      </a:lnTo>
                      <a:lnTo>
                        <a:pt x="5190" y="4701"/>
                      </a:lnTo>
                      <a:lnTo>
                        <a:pt x="5220" y="4709"/>
                      </a:lnTo>
                      <a:lnTo>
                        <a:pt x="5253" y="4717"/>
                      </a:lnTo>
                      <a:lnTo>
                        <a:pt x="5253" y="4717"/>
                      </a:lnTo>
                      <a:lnTo>
                        <a:pt x="5297" y="4727"/>
                      </a:lnTo>
                      <a:lnTo>
                        <a:pt x="5330" y="4732"/>
                      </a:lnTo>
                      <a:lnTo>
                        <a:pt x="5355" y="4734"/>
                      </a:lnTo>
                      <a:lnTo>
                        <a:pt x="5363" y="4734"/>
                      </a:lnTo>
                      <a:lnTo>
                        <a:pt x="5373" y="4732"/>
                      </a:lnTo>
                      <a:lnTo>
                        <a:pt x="5380" y="4730"/>
                      </a:lnTo>
                      <a:lnTo>
                        <a:pt x="5386" y="4727"/>
                      </a:lnTo>
                      <a:lnTo>
                        <a:pt x="5393" y="4722"/>
                      </a:lnTo>
                      <a:lnTo>
                        <a:pt x="5398" y="4717"/>
                      </a:lnTo>
                      <a:lnTo>
                        <a:pt x="5408" y="4704"/>
                      </a:lnTo>
                      <a:lnTo>
                        <a:pt x="5419" y="4687"/>
                      </a:lnTo>
                      <a:lnTo>
                        <a:pt x="5419" y="4687"/>
                      </a:lnTo>
                      <a:lnTo>
                        <a:pt x="5431" y="4671"/>
                      </a:lnTo>
                      <a:lnTo>
                        <a:pt x="5441" y="4656"/>
                      </a:lnTo>
                      <a:lnTo>
                        <a:pt x="5442" y="4649"/>
                      </a:lnTo>
                      <a:lnTo>
                        <a:pt x="5444" y="4643"/>
                      </a:lnTo>
                      <a:lnTo>
                        <a:pt x="5445" y="4636"/>
                      </a:lnTo>
                      <a:lnTo>
                        <a:pt x="5445" y="4628"/>
                      </a:lnTo>
                      <a:lnTo>
                        <a:pt x="5444" y="4620"/>
                      </a:lnTo>
                      <a:lnTo>
                        <a:pt x="5441" y="4610"/>
                      </a:lnTo>
                      <a:lnTo>
                        <a:pt x="5431" y="4587"/>
                      </a:lnTo>
                      <a:lnTo>
                        <a:pt x="5414" y="4559"/>
                      </a:lnTo>
                      <a:lnTo>
                        <a:pt x="5391" y="4521"/>
                      </a:lnTo>
                      <a:lnTo>
                        <a:pt x="5391" y="4521"/>
                      </a:lnTo>
                      <a:lnTo>
                        <a:pt x="5371" y="4493"/>
                      </a:lnTo>
                      <a:lnTo>
                        <a:pt x="5353" y="4468"/>
                      </a:lnTo>
                      <a:lnTo>
                        <a:pt x="5319" y="4424"/>
                      </a:lnTo>
                      <a:lnTo>
                        <a:pt x="5287" y="4389"/>
                      </a:lnTo>
                      <a:lnTo>
                        <a:pt x="5262" y="4364"/>
                      </a:lnTo>
                      <a:lnTo>
                        <a:pt x="5262" y="4364"/>
                      </a:lnTo>
                      <a:lnTo>
                        <a:pt x="5292" y="4313"/>
                      </a:lnTo>
                      <a:lnTo>
                        <a:pt x="5322" y="4262"/>
                      </a:lnTo>
                      <a:lnTo>
                        <a:pt x="5322" y="4262"/>
                      </a:lnTo>
                      <a:lnTo>
                        <a:pt x="5356" y="4272"/>
                      </a:lnTo>
                      <a:lnTo>
                        <a:pt x="5401" y="4282"/>
                      </a:lnTo>
                      <a:lnTo>
                        <a:pt x="5455" y="4288"/>
                      </a:lnTo>
                      <a:lnTo>
                        <a:pt x="5487" y="4292"/>
                      </a:lnTo>
                      <a:lnTo>
                        <a:pt x="5521" y="4295"/>
                      </a:lnTo>
                      <a:lnTo>
                        <a:pt x="5521" y="4295"/>
                      </a:lnTo>
                      <a:lnTo>
                        <a:pt x="5566" y="4297"/>
                      </a:lnTo>
                      <a:lnTo>
                        <a:pt x="5599" y="4297"/>
                      </a:lnTo>
                      <a:lnTo>
                        <a:pt x="5624" y="4293"/>
                      </a:lnTo>
                      <a:lnTo>
                        <a:pt x="5633" y="4292"/>
                      </a:lnTo>
                      <a:lnTo>
                        <a:pt x="5642" y="4288"/>
                      </a:lnTo>
                      <a:lnTo>
                        <a:pt x="5648" y="4285"/>
                      </a:lnTo>
                      <a:lnTo>
                        <a:pt x="5653" y="4282"/>
                      </a:lnTo>
                      <a:lnTo>
                        <a:pt x="5658" y="4275"/>
                      </a:lnTo>
                      <a:lnTo>
                        <a:pt x="5663" y="4270"/>
                      </a:lnTo>
                      <a:lnTo>
                        <a:pt x="5671" y="4255"/>
                      </a:lnTo>
                      <a:lnTo>
                        <a:pt x="5680" y="4237"/>
                      </a:lnTo>
                      <a:lnTo>
                        <a:pt x="5680" y="4237"/>
                      </a:lnTo>
                      <a:lnTo>
                        <a:pt x="5688" y="4219"/>
                      </a:lnTo>
                      <a:lnTo>
                        <a:pt x="5694" y="4203"/>
                      </a:lnTo>
                      <a:lnTo>
                        <a:pt x="5696" y="4196"/>
                      </a:lnTo>
                      <a:lnTo>
                        <a:pt x="5696" y="4189"/>
                      </a:lnTo>
                      <a:lnTo>
                        <a:pt x="5696" y="4181"/>
                      </a:lnTo>
                      <a:lnTo>
                        <a:pt x="5694" y="4175"/>
                      </a:lnTo>
                      <a:lnTo>
                        <a:pt x="5691" y="4166"/>
                      </a:lnTo>
                      <a:lnTo>
                        <a:pt x="5688" y="4157"/>
                      </a:lnTo>
                      <a:lnTo>
                        <a:pt x="5673" y="4137"/>
                      </a:lnTo>
                      <a:lnTo>
                        <a:pt x="5652" y="4110"/>
                      </a:lnTo>
                      <a:lnTo>
                        <a:pt x="5622" y="4079"/>
                      </a:lnTo>
                      <a:lnTo>
                        <a:pt x="5622" y="4079"/>
                      </a:lnTo>
                      <a:lnTo>
                        <a:pt x="5599" y="4054"/>
                      </a:lnTo>
                      <a:lnTo>
                        <a:pt x="5576" y="4031"/>
                      </a:lnTo>
                      <a:lnTo>
                        <a:pt x="5535" y="3995"/>
                      </a:lnTo>
                      <a:lnTo>
                        <a:pt x="5498" y="3967"/>
                      </a:lnTo>
                      <a:lnTo>
                        <a:pt x="5469" y="3945"/>
                      </a:lnTo>
                      <a:lnTo>
                        <a:pt x="5469" y="3945"/>
                      </a:lnTo>
                      <a:lnTo>
                        <a:pt x="5488" y="3891"/>
                      </a:lnTo>
                      <a:lnTo>
                        <a:pt x="5508" y="3835"/>
                      </a:lnTo>
                      <a:lnTo>
                        <a:pt x="5508" y="3835"/>
                      </a:lnTo>
                      <a:lnTo>
                        <a:pt x="5544" y="3838"/>
                      </a:lnTo>
                      <a:lnTo>
                        <a:pt x="5591" y="3840"/>
                      </a:lnTo>
                      <a:lnTo>
                        <a:pt x="5645" y="3838"/>
                      </a:lnTo>
                      <a:lnTo>
                        <a:pt x="5678" y="3837"/>
                      </a:lnTo>
                      <a:lnTo>
                        <a:pt x="5711" y="3832"/>
                      </a:lnTo>
                      <a:lnTo>
                        <a:pt x="5711" y="3832"/>
                      </a:lnTo>
                      <a:lnTo>
                        <a:pt x="5755" y="3827"/>
                      </a:lnTo>
                      <a:lnTo>
                        <a:pt x="5788" y="3820"/>
                      </a:lnTo>
                      <a:lnTo>
                        <a:pt x="5812" y="3814"/>
                      </a:lnTo>
                      <a:lnTo>
                        <a:pt x="5821" y="3810"/>
                      </a:lnTo>
                      <a:lnTo>
                        <a:pt x="5828" y="3805"/>
                      </a:lnTo>
                      <a:lnTo>
                        <a:pt x="5835" y="3802"/>
                      </a:lnTo>
                      <a:lnTo>
                        <a:pt x="5840" y="3795"/>
                      </a:lnTo>
                      <a:lnTo>
                        <a:pt x="5843" y="3790"/>
                      </a:lnTo>
                      <a:lnTo>
                        <a:pt x="5848" y="3784"/>
                      </a:lnTo>
                      <a:lnTo>
                        <a:pt x="5853" y="3767"/>
                      </a:lnTo>
                      <a:lnTo>
                        <a:pt x="5858" y="3748"/>
                      </a:lnTo>
                      <a:lnTo>
                        <a:pt x="5858" y="3748"/>
                      </a:lnTo>
                      <a:lnTo>
                        <a:pt x="5863" y="3728"/>
                      </a:lnTo>
                      <a:lnTo>
                        <a:pt x="5866" y="3711"/>
                      </a:lnTo>
                      <a:lnTo>
                        <a:pt x="5866" y="3705"/>
                      </a:lnTo>
                      <a:lnTo>
                        <a:pt x="5866" y="3698"/>
                      </a:lnTo>
                      <a:lnTo>
                        <a:pt x="5864" y="3690"/>
                      </a:lnTo>
                      <a:lnTo>
                        <a:pt x="5861" y="3683"/>
                      </a:lnTo>
                      <a:lnTo>
                        <a:pt x="5858" y="3677"/>
                      </a:lnTo>
                      <a:lnTo>
                        <a:pt x="5851" y="3668"/>
                      </a:lnTo>
                      <a:lnTo>
                        <a:pt x="5833" y="3650"/>
                      </a:lnTo>
                      <a:lnTo>
                        <a:pt x="5808" y="3629"/>
                      </a:lnTo>
                      <a:lnTo>
                        <a:pt x="5774" y="3603"/>
                      </a:lnTo>
                      <a:lnTo>
                        <a:pt x="5774" y="3603"/>
                      </a:lnTo>
                      <a:lnTo>
                        <a:pt x="5746" y="3581"/>
                      </a:lnTo>
                      <a:lnTo>
                        <a:pt x="5719" y="3565"/>
                      </a:lnTo>
                      <a:lnTo>
                        <a:pt x="5671" y="3535"/>
                      </a:lnTo>
                      <a:lnTo>
                        <a:pt x="5630" y="3512"/>
                      </a:lnTo>
                      <a:lnTo>
                        <a:pt x="5599" y="3497"/>
                      </a:lnTo>
                      <a:lnTo>
                        <a:pt x="5599" y="3497"/>
                      </a:lnTo>
                      <a:lnTo>
                        <a:pt x="5609" y="3439"/>
                      </a:lnTo>
                      <a:lnTo>
                        <a:pt x="5619" y="3383"/>
                      </a:lnTo>
                      <a:lnTo>
                        <a:pt x="5619" y="3383"/>
                      </a:lnTo>
                      <a:lnTo>
                        <a:pt x="5655" y="3380"/>
                      </a:lnTo>
                      <a:lnTo>
                        <a:pt x="5699" y="3373"/>
                      </a:lnTo>
                      <a:lnTo>
                        <a:pt x="5755" y="3362"/>
                      </a:lnTo>
                      <a:lnTo>
                        <a:pt x="5785" y="3354"/>
                      </a:lnTo>
                      <a:lnTo>
                        <a:pt x="5818" y="3344"/>
                      </a:lnTo>
                      <a:lnTo>
                        <a:pt x="5818" y="3344"/>
                      </a:lnTo>
                      <a:lnTo>
                        <a:pt x="5861" y="3330"/>
                      </a:lnTo>
                      <a:lnTo>
                        <a:pt x="5892" y="3319"/>
                      </a:lnTo>
                      <a:lnTo>
                        <a:pt x="5914" y="3309"/>
                      </a:lnTo>
                      <a:lnTo>
                        <a:pt x="5922" y="3302"/>
                      </a:lnTo>
                      <a:lnTo>
                        <a:pt x="5929" y="3298"/>
                      </a:lnTo>
                      <a:lnTo>
                        <a:pt x="5935" y="3293"/>
                      </a:lnTo>
                      <a:lnTo>
                        <a:pt x="5938" y="3286"/>
                      </a:lnTo>
                      <a:lnTo>
                        <a:pt x="5942" y="3279"/>
                      </a:lnTo>
                      <a:lnTo>
                        <a:pt x="5943" y="3273"/>
                      </a:lnTo>
                      <a:lnTo>
                        <a:pt x="5947" y="3256"/>
                      </a:lnTo>
                      <a:lnTo>
                        <a:pt x="5948" y="3237"/>
                      </a:lnTo>
                      <a:lnTo>
                        <a:pt x="5948" y="3237"/>
                      </a:lnTo>
                      <a:lnTo>
                        <a:pt x="5950" y="3215"/>
                      </a:lnTo>
                      <a:lnTo>
                        <a:pt x="5950" y="3199"/>
                      </a:lnTo>
                      <a:lnTo>
                        <a:pt x="5950" y="3192"/>
                      </a:lnTo>
                      <a:lnTo>
                        <a:pt x="5947" y="3184"/>
                      </a:lnTo>
                      <a:lnTo>
                        <a:pt x="5945" y="3177"/>
                      </a:lnTo>
                      <a:lnTo>
                        <a:pt x="5940" y="3171"/>
                      </a:lnTo>
                      <a:lnTo>
                        <a:pt x="5935" y="3164"/>
                      </a:lnTo>
                      <a:lnTo>
                        <a:pt x="5927" y="3157"/>
                      </a:lnTo>
                      <a:lnTo>
                        <a:pt x="5907" y="3144"/>
                      </a:lnTo>
                      <a:lnTo>
                        <a:pt x="5879" y="3126"/>
                      </a:lnTo>
                      <a:lnTo>
                        <a:pt x="5840" y="3106"/>
                      </a:lnTo>
                      <a:lnTo>
                        <a:pt x="5840" y="3106"/>
                      </a:lnTo>
                      <a:close/>
                      <a:moveTo>
                        <a:pt x="2885" y="3319"/>
                      </a:moveTo>
                      <a:lnTo>
                        <a:pt x="2885" y="3319"/>
                      </a:lnTo>
                      <a:lnTo>
                        <a:pt x="2850" y="3307"/>
                      </a:lnTo>
                      <a:lnTo>
                        <a:pt x="2817" y="3294"/>
                      </a:lnTo>
                      <a:lnTo>
                        <a:pt x="2788" y="3276"/>
                      </a:lnTo>
                      <a:lnTo>
                        <a:pt x="2760" y="3256"/>
                      </a:lnTo>
                      <a:lnTo>
                        <a:pt x="2733" y="3235"/>
                      </a:lnTo>
                      <a:lnTo>
                        <a:pt x="2710" y="3210"/>
                      </a:lnTo>
                      <a:lnTo>
                        <a:pt x="2689" y="3184"/>
                      </a:lnTo>
                      <a:lnTo>
                        <a:pt x="2671" y="3154"/>
                      </a:lnTo>
                      <a:lnTo>
                        <a:pt x="2654" y="3124"/>
                      </a:lnTo>
                      <a:lnTo>
                        <a:pt x="2643" y="3093"/>
                      </a:lnTo>
                      <a:lnTo>
                        <a:pt x="2633" y="3060"/>
                      </a:lnTo>
                      <a:lnTo>
                        <a:pt x="2626" y="3027"/>
                      </a:lnTo>
                      <a:lnTo>
                        <a:pt x="2623" y="2992"/>
                      </a:lnTo>
                      <a:lnTo>
                        <a:pt x="2623" y="2958"/>
                      </a:lnTo>
                      <a:lnTo>
                        <a:pt x="2628" y="2922"/>
                      </a:lnTo>
                      <a:lnTo>
                        <a:pt x="2634" y="2887"/>
                      </a:lnTo>
                      <a:lnTo>
                        <a:pt x="2634" y="2887"/>
                      </a:lnTo>
                      <a:lnTo>
                        <a:pt x="2646" y="2852"/>
                      </a:lnTo>
                      <a:lnTo>
                        <a:pt x="2661" y="2819"/>
                      </a:lnTo>
                      <a:lnTo>
                        <a:pt x="2677" y="2790"/>
                      </a:lnTo>
                      <a:lnTo>
                        <a:pt x="2697" y="2762"/>
                      </a:lnTo>
                      <a:lnTo>
                        <a:pt x="2720" y="2735"/>
                      </a:lnTo>
                      <a:lnTo>
                        <a:pt x="2745" y="2712"/>
                      </a:lnTo>
                      <a:lnTo>
                        <a:pt x="2771" y="2691"/>
                      </a:lnTo>
                      <a:lnTo>
                        <a:pt x="2799" y="2673"/>
                      </a:lnTo>
                      <a:lnTo>
                        <a:pt x="2829" y="2656"/>
                      </a:lnTo>
                      <a:lnTo>
                        <a:pt x="2860" y="2645"/>
                      </a:lnTo>
                      <a:lnTo>
                        <a:pt x="2893" y="2635"/>
                      </a:lnTo>
                      <a:lnTo>
                        <a:pt x="2928" y="2628"/>
                      </a:lnTo>
                      <a:lnTo>
                        <a:pt x="2962" y="2625"/>
                      </a:lnTo>
                      <a:lnTo>
                        <a:pt x="2997" y="2625"/>
                      </a:lnTo>
                      <a:lnTo>
                        <a:pt x="3032" y="2630"/>
                      </a:lnTo>
                      <a:lnTo>
                        <a:pt x="3068" y="2636"/>
                      </a:lnTo>
                      <a:lnTo>
                        <a:pt x="3068" y="2636"/>
                      </a:lnTo>
                      <a:lnTo>
                        <a:pt x="3101" y="2648"/>
                      </a:lnTo>
                      <a:lnTo>
                        <a:pt x="3134" y="2663"/>
                      </a:lnTo>
                      <a:lnTo>
                        <a:pt x="3165" y="2679"/>
                      </a:lnTo>
                      <a:lnTo>
                        <a:pt x="3193" y="2699"/>
                      </a:lnTo>
                      <a:lnTo>
                        <a:pt x="3218" y="2722"/>
                      </a:lnTo>
                      <a:lnTo>
                        <a:pt x="3243" y="2747"/>
                      </a:lnTo>
                      <a:lnTo>
                        <a:pt x="3263" y="2773"/>
                      </a:lnTo>
                      <a:lnTo>
                        <a:pt x="3282" y="2801"/>
                      </a:lnTo>
                      <a:lnTo>
                        <a:pt x="3297" y="2831"/>
                      </a:lnTo>
                      <a:lnTo>
                        <a:pt x="3310" y="2864"/>
                      </a:lnTo>
                      <a:lnTo>
                        <a:pt x="3319" y="2895"/>
                      </a:lnTo>
                      <a:lnTo>
                        <a:pt x="3325" y="2930"/>
                      </a:lnTo>
                      <a:lnTo>
                        <a:pt x="3328" y="2964"/>
                      </a:lnTo>
                      <a:lnTo>
                        <a:pt x="3328" y="2999"/>
                      </a:lnTo>
                      <a:lnTo>
                        <a:pt x="3325" y="3034"/>
                      </a:lnTo>
                      <a:lnTo>
                        <a:pt x="3317" y="3070"/>
                      </a:lnTo>
                      <a:lnTo>
                        <a:pt x="3317" y="3070"/>
                      </a:lnTo>
                      <a:lnTo>
                        <a:pt x="3305" y="3103"/>
                      </a:lnTo>
                      <a:lnTo>
                        <a:pt x="3292" y="3136"/>
                      </a:lnTo>
                      <a:lnTo>
                        <a:pt x="3274" y="3167"/>
                      </a:lnTo>
                      <a:lnTo>
                        <a:pt x="3254" y="3195"/>
                      </a:lnTo>
                      <a:lnTo>
                        <a:pt x="3233" y="3222"/>
                      </a:lnTo>
                      <a:lnTo>
                        <a:pt x="3208" y="3245"/>
                      </a:lnTo>
                      <a:lnTo>
                        <a:pt x="3180" y="3266"/>
                      </a:lnTo>
                      <a:lnTo>
                        <a:pt x="3152" y="3284"/>
                      </a:lnTo>
                      <a:lnTo>
                        <a:pt x="3122" y="3299"/>
                      </a:lnTo>
                      <a:lnTo>
                        <a:pt x="3091" y="3312"/>
                      </a:lnTo>
                      <a:lnTo>
                        <a:pt x="3058" y="3321"/>
                      </a:lnTo>
                      <a:lnTo>
                        <a:pt x="3025" y="3327"/>
                      </a:lnTo>
                      <a:lnTo>
                        <a:pt x="2990" y="3330"/>
                      </a:lnTo>
                      <a:lnTo>
                        <a:pt x="2956" y="3330"/>
                      </a:lnTo>
                      <a:lnTo>
                        <a:pt x="2920" y="3327"/>
                      </a:lnTo>
                      <a:lnTo>
                        <a:pt x="2885" y="3319"/>
                      </a:lnTo>
                      <a:lnTo>
                        <a:pt x="2885" y="3319"/>
                      </a:lnTo>
                      <a:close/>
                    </a:path>
                  </a:pathLst>
                </a:custGeom>
                <a:gradFill rotWithShape="0">
                  <a:gsLst>
                    <a:gs pos="0">
                      <a:srgbClr val="a45200"/>
                    </a:gs>
                    <a:gs pos="100000">
                      <a:srgbClr val="c89834"/>
                    </a:gs>
                  </a:gsLst>
                  <a:lin ang="13500000"/>
                </a:gradFill>
                <a:ln w="9525">
                  <a:noFill/>
                </a:ln>
                <a:effectLst>
                  <a:outerShdw algn="tl" blurRad="50760" dir="2700000" dist="37674" rotWithShape="0">
                    <a:srgbClr val="000000">
                      <a:alpha val="20000"/>
                    </a:srgbClr>
                  </a:outerShdw>
                </a:effectLst>
              </p:spPr>
              <p:style>
                <a:lnRef idx="0"/>
                <a:fillRef idx="0"/>
                <a:effectRef idx="0"/>
                <a:fontRef idx="minor"/>
              </p:style>
              <p:txBody>
                <a:bodyPr numCol="1" spcCol="0" anchor="t">
                  <a:noAutofit/>
                </a:bodyPr>
                <a:p>
                  <a:pPr>
                    <a:lnSpc>
                      <a:spcPct val="85000"/>
                    </a:lnSpc>
                    <a:spcBef>
                      <a:spcPts val="360"/>
                    </a:spcBef>
                  </a:pPr>
                  <a:endParaRPr b="0" lang="en-US" sz="1800" spc="-1" strike="noStrike">
                    <a:solidFill>
                      <a:srgbClr val="000000"/>
                    </a:solidFill>
                    <a:latin typeface="Calibri"/>
                  </a:endParaRPr>
                </a:p>
              </p:txBody>
            </p:sp>
            <p:sp>
              <p:nvSpPr>
                <p:cNvPr id="617" name="Freeform 6"/>
                <p:cNvSpPr/>
                <p:nvPr/>
              </p:nvSpPr>
              <p:spPr>
                <a:xfrm>
                  <a:off x="2098800" y="1457280"/>
                  <a:ext cx="1423440" cy="1423440"/>
                </a:xfrm>
                <a:custGeom>
                  <a:avLst/>
                  <a:gdLst>
                    <a:gd name="textAreaLeft" fmla="*/ 0 w 1423440"/>
                    <a:gd name="textAreaRight" fmla="*/ 1423800 w 1423440"/>
                    <a:gd name="textAreaTop" fmla="*/ 0 h 1423440"/>
                    <a:gd name="textAreaBottom" fmla="*/ 1423800 h 1423440"/>
                  </a:gdLst>
                  <a:ahLst/>
                  <a:rect l="textAreaLeft" t="textAreaTop" r="textAreaRight" b="textAreaBottom"/>
                  <a:pathLst>
                    <a:path w="5950" h="5950">
                      <a:moveTo>
                        <a:pt x="5904" y="2636"/>
                      </a:moveTo>
                      <a:lnTo>
                        <a:pt x="5904" y="2636"/>
                      </a:lnTo>
                      <a:lnTo>
                        <a:pt x="5912" y="2719"/>
                      </a:lnTo>
                      <a:lnTo>
                        <a:pt x="5919" y="2800"/>
                      </a:lnTo>
                      <a:lnTo>
                        <a:pt x="5919" y="2800"/>
                      </a:lnTo>
                      <a:lnTo>
                        <a:pt x="5930" y="2791"/>
                      </a:lnTo>
                      <a:lnTo>
                        <a:pt x="5938" y="2781"/>
                      </a:lnTo>
                      <a:lnTo>
                        <a:pt x="5945" y="2773"/>
                      </a:lnTo>
                      <a:lnTo>
                        <a:pt x="5948" y="2763"/>
                      </a:lnTo>
                      <a:lnTo>
                        <a:pt x="5950" y="2753"/>
                      </a:lnTo>
                      <a:lnTo>
                        <a:pt x="5950" y="2742"/>
                      </a:lnTo>
                      <a:lnTo>
                        <a:pt x="5948" y="2715"/>
                      </a:lnTo>
                      <a:lnTo>
                        <a:pt x="5948" y="2715"/>
                      </a:lnTo>
                      <a:lnTo>
                        <a:pt x="5945" y="2689"/>
                      </a:lnTo>
                      <a:lnTo>
                        <a:pt x="5943" y="2678"/>
                      </a:lnTo>
                      <a:lnTo>
                        <a:pt x="5940" y="2668"/>
                      </a:lnTo>
                      <a:lnTo>
                        <a:pt x="5935" y="2659"/>
                      </a:lnTo>
                      <a:lnTo>
                        <a:pt x="5927" y="2651"/>
                      </a:lnTo>
                      <a:lnTo>
                        <a:pt x="5917" y="2645"/>
                      </a:lnTo>
                      <a:lnTo>
                        <a:pt x="5904" y="2636"/>
                      </a:lnTo>
                      <a:lnTo>
                        <a:pt x="5904" y="2636"/>
                      </a:lnTo>
                      <a:close/>
                      <a:moveTo>
                        <a:pt x="2202" y="92"/>
                      </a:moveTo>
                      <a:lnTo>
                        <a:pt x="2202" y="92"/>
                      </a:lnTo>
                      <a:lnTo>
                        <a:pt x="2176" y="101"/>
                      </a:lnTo>
                      <a:lnTo>
                        <a:pt x="2164" y="104"/>
                      </a:lnTo>
                      <a:lnTo>
                        <a:pt x="2156" y="109"/>
                      </a:lnTo>
                      <a:lnTo>
                        <a:pt x="2148" y="117"/>
                      </a:lnTo>
                      <a:lnTo>
                        <a:pt x="2141" y="125"/>
                      </a:lnTo>
                      <a:lnTo>
                        <a:pt x="2136" y="138"/>
                      </a:lnTo>
                      <a:lnTo>
                        <a:pt x="2131" y="155"/>
                      </a:lnTo>
                      <a:lnTo>
                        <a:pt x="2131" y="155"/>
                      </a:lnTo>
                      <a:lnTo>
                        <a:pt x="2212" y="132"/>
                      </a:lnTo>
                      <a:lnTo>
                        <a:pt x="2295" y="110"/>
                      </a:lnTo>
                      <a:lnTo>
                        <a:pt x="2295" y="110"/>
                      </a:lnTo>
                      <a:lnTo>
                        <a:pt x="2282" y="99"/>
                      </a:lnTo>
                      <a:lnTo>
                        <a:pt x="2272" y="91"/>
                      </a:lnTo>
                      <a:lnTo>
                        <a:pt x="2260" y="86"/>
                      </a:lnTo>
                      <a:lnTo>
                        <a:pt x="2250" y="84"/>
                      </a:lnTo>
                      <a:lnTo>
                        <a:pt x="2240" y="84"/>
                      </a:lnTo>
                      <a:lnTo>
                        <a:pt x="2229" y="86"/>
                      </a:lnTo>
                      <a:lnTo>
                        <a:pt x="2202" y="92"/>
                      </a:lnTo>
                      <a:lnTo>
                        <a:pt x="2202" y="92"/>
                      </a:lnTo>
                      <a:close/>
                      <a:moveTo>
                        <a:pt x="5419" y="1263"/>
                      </a:moveTo>
                      <a:lnTo>
                        <a:pt x="5419" y="1263"/>
                      </a:lnTo>
                      <a:lnTo>
                        <a:pt x="5404" y="1242"/>
                      </a:lnTo>
                      <a:lnTo>
                        <a:pt x="5396" y="1233"/>
                      </a:lnTo>
                      <a:lnTo>
                        <a:pt x="5388" y="1227"/>
                      </a:lnTo>
                      <a:lnTo>
                        <a:pt x="5380" y="1222"/>
                      </a:lnTo>
                      <a:lnTo>
                        <a:pt x="5368" y="1218"/>
                      </a:lnTo>
                      <a:lnTo>
                        <a:pt x="5355" y="1217"/>
                      </a:lnTo>
                      <a:lnTo>
                        <a:pt x="5340" y="1218"/>
                      </a:lnTo>
                      <a:lnTo>
                        <a:pt x="5340" y="1218"/>
                      </a:lnTo>
                      <a:lnTo>
                        <a:pt x="5388" y="1286"/>
                      </a:lnTo>
                      <a:lnTo>
                        <a:pt x="5436" y="1354"/>
                      </a:lnTo>
                      <a:lnTo>
                        <a:pt x="5436" y="1354"/>
                      </a:lnTo>
                      <a:lnTo>
                        <a:pt x="5441" y="1339"/>
                      </a:lnTo>
                      <a:lnTo>
                        <a:pt x="5444" y="1327"/>
                      </a:lnTo>
                      <a:lnTo>
                        <a:pt x="5445" y="1316"/>
                      </a:lnTo>
                      <a:lnTo>
                        <a:pt x="5444" y="1306"/>
                      </a:lnTo>
                      <a:lnTo>
                        <a:pt x="5441" y="1296"/>
                      </a:lnTo>
                      <a:lnTo>
                        <a:pt x="5436" y="1286"/>
                      </a:lnTo>
                      <a:lnTo>
                        <a:pt x="5419" y="1263"/>
                      </a:lnTo>
                      <a:lnTo>
                        <a:pt x="5419" y="1263"/>
                      </a:lnTo>
                      <a:close/>
                      <a:moveTo>
                        <a:pt x="5919" y="3151"/>
                      </a:moveTo>
                      <a:lnTo>
                        <a:pt x="5919" y="3151"/>
                      </a:lnTo>
                      <a:lnTo>
                        <a:pt x="5912" y="3233"/>
                      </a:lnTo>
                      <a:lnTo>
                        <a:pt x="5904" y="3314"/>
                      </a:lnTo>
                      <a:lnTo>
                        <a:pt x="5904" y="3314"/>
                      </a:lnTo>
                      <a:lnTo>
                        <a:pt x="5917" y="3307"/>
                      </a:lnTo>
                      <a:lnTo>
                        <a:pt x="5927" y="3299"/>
                      </a:lnTo>
                      <a:lnTo>
                        <a:pt x="5935" y="3291"/>
                      </a:lnTo>
                      <a:lnTo>
                        <a:pt x="5940" y="3283"/>
                      </a:lnTo>
                      <a:lnTo>
                        <a:pt x="5943" y="3273"/>
                      </a:lnTo>
                      <a:lnTo>
                        <a:pt x="5945" y="3263"/>
                      </a:lnTo>
                      <a:lnTo>
                        <a:pt x="5948" y="3237"/>
                      </a:lnTo>
                      <a:lnTo>
                        <a:pt x="5948" y="3237"/>
                      </a:lnTo>
                      <a:lnTo>
                        <a:pt x="5950" y="3208"/>
                      </a:lnTo>
                      <a:lnTo>
                        <a:pt x="5950" y="3199"/>
                      </a:lnTo>
                      <a:lnTo>
                        <a:pt x="5948" y="3187"/>
                      </a:lnTo>
                      <a:lnTo>
                        <a:pt x="5945" y="3179"/>
                      </a:lnTo>
                      <a:lnTo>
                        <a:pt x="5938" y="3169"/>
                      </a:lnTo>
                      <a:lnTo>
                        <a:pt x="5930" y="3161"/>
                      </a:lnTo>
                      <a:lnTo>
                        <a:pt x="5919" y="3151"/>
                      </a:lnTo>
                      <a:lnTo>
                        <a:pt x="5919" y="3151"/>
                      </a:lnTo>
                      <a:close/>
                      <a:moveTo>
                        <a:pt x="5800" y="2133"/>
                      </a:moveTo>
                      <a:lnTo>
                        <a:pt x="5800" y="2133"/>
                      </a:lnTo>
                      <a:lnTo>
                        <a:pt x="5821" y="2213"/>
                      </a:lnTo>
                      <a:lnTo>
                        <a:pt x="5843" y="2292"/>
                      </a:lnTo>
                      <a:lnTo>
                        <a:pt x="5843" y="2292"/>
                      </a:lnTo>
                      <a:lnTo>
                        <a:pt x="5853" y="2280"/>
                      </a:lnTo>
                      <a:lnTo>
                        <a:pt x="5859" y="2270"/>
                      </a:lnTo>
                      <a:lnTo>
                        <a:pt x="5864" y="2260"/>
                      </a:lnTo>
                      <a:lnTo>
                        <a:pt x="5866" y="2251"/>
                      </a:lnTo>
                      <a:lnTo>
                        <a:pt x="5866" y="2241"/>
                      </a:lnTo>
                      <a:lnTo>
                        <a:pt x="5864" y="2229"/>
                      </a:lnTo>
                      <a:lnTo>
                        <a:pt x="5858" y="2203"/>
                      </a:lnTo>
                      <a:lnTo>
                        <a:pt x="5858" y="2203"/>
                      </a:lnTo>
                      <a:lnTo>
                        <a:pt x="5851" y="2176"/>
                      </a:lnTo>
                      <a:lnTo>
                        <a:pt x="5846" y="2166"/>
                      </a:lnTo>
                      <a:lnTo>
                        <a:pt x="5841" y="2158"/>
                      </a:lnTo>
                      <a:lnTo>
                        <a:pt x="5835" y="2150"/>
                      </a:lnTo>
                      <a:lnTo>
                        <a:pt x="5826" y="2143"/>
                      </a:lnTo>
                      <a:lnTo>
                        <a:pt x="5815" y="2138"/>
                      </a:lnTo>
                      <a:lnTo>
                        <a:pt x="5800" y="2133"/>
                      </a:lnTo>
                      <a:lnTo>
                        <a:pt x="5800" y="2133"/>
                      </a:lnTo>
                      <a:close/>
                      <a:moveTo>
                        <a:pt x="2715" y="2"/>
                      </a:moveTo>
                      <a:lnTo>
                        <a:pt x="2715" y="2"/>
                      </a:lnTo>
                      <a:lnTo>
                        <a:pt x="2687" y="5"/>
                      </a:lnTo>
                      <a:lnTo>
                        <a:pt x="2676" y="7"/>
                      </a:lnTo>
                      <a:lnTo>
                        <a:pt x="2666" y="10"/>
                      </a:lnTo>
                      <a:lnTo>
                        <a:pt x="2657" y="16"/>
                      </a:lnTo>
                      <a:lnTo>
                        <a:pt x="2649" y="25"/>
                      </a:lnTo>
                      <a:lnTo>
                        <a:pt x="2641" y="35"/>
                      </a:lnTo>
                      <a:lnTo>
                        <a:pt x="2634" y="51"/>
                      </a:lnTo>
                      <a:lnTo>
                        <a:pt x="2634" y="51"/>
                      </a:lnTo>
                      <a:lnTo>
                        <a:pt x="2718" y="41"/>
                      </a:lnTo>
                      <a:lnTo>
                        <a:pt x="2803" y="36"/>
                      </a:lnTo>
                      <a:lnTo>
                        <a:pt x="2803" y="36"/>
                      </a:lnTo>
                      <a:lnTo>
                        <a:pt x="2791" y="21"/>
                      </a:lnTo>
                      <a:lnTo>
                        <a:pt x="2783" y="13"/>
                      </a:lnTo>
                      <a:lnTo>
                        <a:pt x="2773" y="7"/>
                      </a:lnTo>
                      <a:lnTo>
                        <a:pt x="2763" y="2"/>
                      </a:lnTo>
                      <a:lnTo>
                        <a:pt x="2753" y="0"/>
                      </a:lnTo>
                      <a:lnTo>
                        <a:pt x="2742" y="0"/>
                      </a:lnTo>
                      <a:lnTo>
                        <a:pt x="2715" y="2"/>
                      </a:lnTo>
                      <a:lnTo>
                        <a:pt x="2715" y="2"/>
                      </a:lnTo>
                      <a:close/>
                      <a:moveTo>
                        <a:pt x="4687" y="531"/>
                      </a:moveTo>
                      <a:lnTo>
                        <a:pt x="4687" y="531"/>
                      </a:lnTo>
                      <a:lnTo>
                        <a:pt x="4664" y="514"/>
                      </a:lnTo>
                      <a:lnTo>
                        <a:pt x="4654" y="509"/>
                      </a:lnTo>
                      <a:lnTo>
                        <a:pt x="4644" y="506"/>
                      </a:lnTo>
                      <a:lnTo>
                        <a:pt x="4634" y="505"/>
                      </a:lnTo>
                      <a:lnTo>
                        <a:pt x="4623" y="506"/>
                      </a:lnTo>
                      <a:lnTo>
                        <a:pt x="4611" y="509"/>
                      </a:lnTo>
                      <a:lnTo>
                        <a:pt x="4595" y="514"/>
                      </a:lnTo>
                      <a:lnTo>
                        <a:pt x="4595" y="514"/>
                      </a:lnTo>
                      <a:lnTo>
                        <a:pt x="4664" y="562"/>
                      </a:lnTo>
                      <a:lnTo>
                        <a:pt x="4732" y="610"/>
                      </a:lnTo>
                      <a:lnTo>
                        <a:pt x="4732" y="610"/>
                      </a:lnTo>
                      <a:lnTo>
                        <a:pt x="4733" y="595"/>
                      </a:lnTo>
                      <a:lnTo>
                        <a:pt x="4732" y="582"/>
                      </a:lnTo>
                      <a:lnTo>
                        <a:pt x="4728" y="570"/>
                      </a:lnTo>
                      <a:lnTo>
                        <a:pt x="4723" y="562"/>
                      </a:lnTo>
                      <a:lnTo>
                        <a:pt x="4717" y="554"/>
                      </a:lnTo>
                      <a:lnTo>
                        <a:pt x="4708" y="546"/>
                      </a:lnTo>
                      <a:lnTo>
                        <a:pt x="4687" y="531"/>
                      </a:lnTo>
                      <a:lnTo>
                        <a:pt x="4687" y="531"/>
                      </a:lnTo>
                      <a:close/>
                      <a:moveTo>
                        <a:pt x="5084" y="866"/>
                      </a:moveTo>
                      <a:lnTo>
                        <a:pt x="5084" y="866"/>
                      </a:lnTo>
                      <a:lnTo>
                        <a:pt x="5066" y="846"/>
                      </a:lnTo>
                      <a:lnTo>
                        <a:pt x="5056" y="839"/>
                      </a:lnTo>
                      <a:lnTo>
                        <a:pt x="5048" y="834"/>
                      </a:lnTo>
                      <a:lnTo>
                        <a:pt x="5038" y="831"/>
                      </a:lnTo>
                      <a:lnTo>
                        <a:pt x="5027" y="829"/>
                      </a:lnTo>
                      <a:lnTo>
                        <a:pt x="5014" y="831"/>
                      </a:lnTo>
                      <a:lnTo>
                        <a:pt x="4999" y="834"/>
                      </a:lnTo>
                      <a:lnTo>
                        <a:pt x="4999" y="834"/>
                      </a:lnTo>
                      <a:lnTo>
                        <a:pt x="5058" y="892"/>
                      </a:lnTo>
                      <a:lnTo>
                        <a:pt x="5116" y="951"/>
                      </a:lnTo>
                      <a:lnTo>
                        <a:pt x="5116" y="951"/>
                      </a:lnTo>
                      <a:lnTo>
                        <a:pt x="5119" y="936"/>
                      </a:lnTo>
                      <a:lnTo>
                        <a:pt x="5121" y="923"/>
                      </a:lnTo>
                      <a:lnTo>
                        <a:pt x="5119" y="912"/>
                      </a:lnTo>
                      <a:lnTo>
                        <a:pt x="5116" y="902"/>
                      </a:lnTo>
                      <a:lnTo>
                        <a:pt x="5111" y="894"/>
                      </a:lnTo>
                      <a:lnTo>
                        <a:pt x="5104" y="884"/>
                      </a:lnTo>
                      <a:lnTo>
                        <a:pt x="5084" y="866"/>
                      </a:lnTo>
                      <a:lnTo>
                        <a:pt x="5084" y="866"/>
                      </a:lnTo>
                      <a:close/>
                      <a:moveTo>
                        <a:pt x="5681" y="4148"/>
                      </a:moveTo>
                      <a:lnTo>
                        <a:pt x="5681" y="4148"/>
                      </a:lnTo>
                      <a:lnTo>
                        <a:pt x="5648" y="4222"/>
                      </a:lnTo>
                      <a:lnTo>
                        <a:pt x="5612" y="4295"/>
                      </a:lnTo>
                      <a:lnTo>
                        <a:pt x="5612" y="4295"/>
                      </a:lnTo>
                      <a:lnTo>
                        <a:pt x="5627" y="4293"/>
                      </a:lnTo>
                      <a:lnTo>
                        <a:pt x="5640" y="4290"/>
                      </a:lnTo>
                      <a:lnTo>
                        <a:pt x="5648" y="4285"/>
                      </a:lnTo>
                      <a:lnTo>
                        <a:pt x="5657" y="4279"/>
                      </a:lnTo>
                      <a:lnTo>
                        <a:pt x="5663" y="4270"/>
                      </a:lnTo>
                      <a:lnTo>
                        <a:pt x="5668" y="4260"/>
                      </a:lnTo>
                      <a:lnTo>
                        <a:pt x="5680" y="4237"/>
                      </a:lnTo>
                      <a:lnTo>
                        <a:pt x="5680" y="4237"/>
                      </a:lnTo>
                      <a:lnTo>
                        <a:pt x="5691" y="4213"/>
                      </a:lnTo>
                      <a:lnTo>
                        <a:pt x="5694" y="4203"/>
                      </a:lnTo>
                      <a:lnTo>
                        <a:pt x="5696" y="4193"/>
                      </a:lnTo>
                      <a:lnTo>
                        <a:pt x="5696" y="4183"/>
                      </a:lnTo>
                      <a:lnTo>
                        <a:pt x="5694" y="4171"/>
                      </a:lnTo>
                      <a:lnTo>
                        <a:pt x="5689" y="4160"/>
                      </a:lnTo>
                      <a:lnTo>
                        <a:pt x="5681" y="4148"/>
                      </a:lnTo>
                      <a:lnTo>
                        <a:pt x="5681" y="4148"/>
                      </a:lnTo>
                      <a:close/>
                      <a:moveTo>
                        <a:pt x="4146" y="5682"/>
                      </a:moveTo>
                      <a:lnTo>
                        <a:pt x="4146" y="5682"/>
                      </a:lnTo>
                      <a:lnTo>
                        <a:pt x="4159" y="5690"/>
                      </a:lnTo>
                      <a:lnTo>
                        <a:pt x="4171" y="5695"/>
                      </a:lnTo>
                      <a:lnTo>
                        <a:pt x="4181" y="5698"/>
                      </a:lnTo>
                      <a:lnTo>
                        <a:pt x="4191" y="5698"/>
                      </a:lnTo>
                      <a:lnTo>
                        <a:pt x="4201" y="5695"/>
                      </a:lnTo>
                      <a:lnTo>
                        <a:pt x="4212" y="5691"/>
                      </a:lnTo>
                      <a:lnTo>
                        <a:pt x="4235" y="5680"/>
                      </a:lnTo>
                      <a:lnTo>
                        <a:pt x="4235" y="5680"/>
                      </a:lnTo>
                      <a:lnTo>
                        <a:pt x="4260" y="5668"/>
                      </a:lnTo>
                      <a:lnTo>
                        <a:pt x="4270" y="5663"/>
                      </a:lnTo>
                      <a:lnTo>
                        <a:pt x="4278" y="5657"/>
                      </a:lnTo>
                      <a:lnTo>
                        <a:pt x="4283" y="5650"/>
                      </a:lnTo>
                      <a:lnTo>
                        <a:pt x="4288" y="5640"/>
                      </a:lnTo>
                      <a:lnTo>
                        <a:pt x="4291" y="5629"/>
                      </a:lnTo>
                      <a:lnTo>
                        <a:pt x="4295" y="5614"/>
                      </a:lnTo>
                      <a:lnTo>
                        <a:pt x="4295" y="5614"/>
                      </a:lnTo>
                      <a:lnTo>
                        <a:pt x="4220" y="5649"/>
                      </a:lnTo>
                      <a:lnTo>
                        <a:pt x="4146" y="5682"/>
                      </a:lnTo>
                      <a:lnTo>
                        <a:pt x="4146" y="5682"/>
                      </a:lnTo>
                      <a:close/>
                      <a:moveTo>
                        <a:pt x="1" y="2715"/>
                      </a:moveTo>
                      <a:lnTo>
                        <a:pt x="1" y="2715"/>
                      </a:lnTo>
                      <a:lnTo>
                        <a:pt x="0" y="2744"/>
                      </a:lnTo>
                      <a:lnTo>
                        <a:pt x="0" y="2753"/>
                      </a:lnTo>
                      <a:lnTo>
                        <a:pt x="1" y="2765"/>
                      </a:lnTo>
                      <a:lnTo>
                        <a:pt x="5" y="2773"/>
                      </a:lnTo>
                      <a:lnTo>
                        <a:pt x="11" y="2783"/>
                      </a:lnTo>
                      <a:lnTo>
                        <a:pt x="21" y="2793"/>
                      </a:lnTo>
                      <a:lnTo>
                        <a:pt x="34" y="2803"/>
                      </a:lnTo>
                      <a:lnTo>
                        <a:pt x="34" y="2803"/>
                      </a:lnTo>
                      <a:lnTo>
                        <a:pt x="41" y="2719"/>
                      </a:lnTo>
                      <a:lnTo>
                        <a:pt x="49" y="2635"/>
                      </a:lnTo>
                      <a:lnTo>
                        <a:pt x="49" y="2635"/>
                      </a:lnTo>
                      <a:lnTo>
                        <a:pt x="34" y="2643"/>
                      </a:lnTo>
                      <a:lnTo>
                        <a:pt x="23" y="2651"/>
                      </a:lnTo>
                      <a:lnTo>
                        <a:pt x="14" y="2658"/>
                      </a:lnTo>
                      <a:lnTo>
                        <a:pt x="10" y="2668"/>
                      </a:lnTo>
                      <a:lnTo>
                        <a:pt x="6" y="2678"/>
                      </a:lnTo>
                      <a:lnTo>
                        <a:pt x="3" y="2687"/>
                      </a:lnTo>
                      <a:lnTo>
                        <a:pt x="1" y="2715"/>
                      </a:lnTo>
                      <a:lnTo>
                        <a:pt x="1" y="2715"/>
                      </a:lnTo>
                      <a:close/>
                      <a:moveTo>
                        <a:pt x="1713" y="270"/>
                      </a:moveTo>
                      <a:lnTo>
                        <a:pt x="1713" y="270"/>
                      </a:lnTo>
                      <a:lnTo>
                        <a:pt x="1688" y="282"/>
                      </a:lnTo>
                      <a:lnTo>
                        <a:pt x="1678" y="289"/>
                      </a:lnTo>
                      <a:lnTo>
                        <a:pt x="1670" y="295"/>
                      </a:lnTo>
                      <a:lnTo>
                        <a:pt x="1663" y="303"/>
                      </a:lnTo>
                      <a:lnTo>
                        <a:pt x="1660" y="313"/>
                      </a:lnTo>
                      <a:lnTo>
                        <a:pt x="1657" y="328"/>
                      </a:lnTo>
                      <a:lnTo>
                        <a:pt x="1653" y="345"/>
                      </a:lnTo>
                      <a:lnTo>
                        <a:pt x="1653" y="345"/>
                      </a:lnTo>
                      <a:lnTo>
                        <a:pt x="1731" y="307"/>
                      </a:lnTo>
                      <a:lnTo>
                        <a:pt x="1808" y="272"/>
                      </a:lnTo>
                      <a:lnTo>
                        <a:pt x="1808" y="272"/>
                      </a:lnTo>
                      <a:lnTo>
                        <a:pt x="1793" y="264"/>
                      </a:lnTo>
                      <a:lnTo>
                        <a:pt x="1780" y="257"/>
                      </a:lnTo>
                      <a:lnTo>
                        <a:pt x="1770" y="254"/>
                      </a:lnTo>
                      <a:lnTo>
                        <a:pt x="1759" y="254"/>
                      </a:lnTo>
                      <a:lnTo>
                        <a:pt x="1749" y="256"/>
                      </a:lnTo>
                      <a:lnTo>
                        <a:pt x="1739" y="259"/>
                      </a:lnTo>
                      <a:lnTo>
                        <a:pt x="1713" y="270"/>
                      </a:lnTo>
                      <a:lnTo>
                        <a:pt x="1713" y="270"/>
                      </a:lnTo>
                      <a:close/>
                      <a:moveTo>
                        <a:pt x="5343" y="4734"/>
                      </a:moveTo>
                      <a:lnTo>
                        <a:pt x="5343" y="4734"/>
                      </a:lnTo>
                      <a:lnTo>
                        <a:pt x="5358" y="4734"/>
                      </a:lnTo>
                      <a:lnTo>
                        <a:pt x="5371" y="4732"/>
                      </a:lnTo>
                      <a:lnTo>
                        <a:pt x="5381" y="4729"/>
                      </a:lnTo>
                      <a:lnTo>
                        <a:pt x="5389" y="4724"/>
                      </a:lnTo>
                      <a:lnTo>
                        <a:pt x="5398" y="4717"/>
                      </a:lnTo>
                      <a:lnTo>
                        <a:pt x="5404" y="4709"/>
                      </a:lnTo>
                      <a:lnTo>
                        <a:pt x="5419" y="4687"/>
                      </a:lnTo>
                      <a:lnTo>
                        <a:pt x="5419" y="4687"/>
                      </a:lnTo>
                      <a:lnTo>
                        <a:pt x="5434" y="4666"/>
                      </a:lnTo>
                      <a:lnTo>
                        <a:pt x="5441" y="4656"/>
                      </a:lnTo>
                      <a:lnTo>
                        <a:pt x="5444" y="4646"/>
                      </a:lnTo>
                      <a:lnTo>
                        <a:pt x="5445" y="4636"/>
                      </a:lnTo>
                      <a:lnTo>
                        <a:pt x="5445" y="4626"/>
                      </a:lnTo>
                      <a:lnTo>
                        <a:pt x="5442" y="4615"/>
                      </a:lnTo>
                      <a:lnTo>
                        <a:pt x="5437" y="4600"/>
                      </a:lnTo>
                      <a:lnTo>
                        <a:pt x="5437" y="4600"/>
                      </a:lnTo>
                      <a:lnTo>
                        <a:pt x="5391" y="4668"/>
                      </a:lnTo>
                      <a:lnTo>
                        <a:pt x="5343" y="4734"/>
                      </a:lnTo>
                      <a:lnTo>
                        <a:pt x="5343" y="4734"/>
                      </a:lnTo>
                      <a:close/>
                      <a:moveTo>
                        <a:pt x="5002" y="5118"/>
                      </a:moveTo>
                      <a:lnTo>
                        <a:pt x="5002" y="5118"/>
                      </a:lnTo>
                      <a:lnTo>
                        <a:pt x="5017" y="5121"/>
                      </a:lnTo>
                      <a:lnTo>
                        <a:pt x="5030" y="5121"/>
                      </a:lnTo>
                      <a:lnTo>
                        <a:pt x="5040" y="5121"/>
                      </a:lnTo>
                      <a:lnTo>
                        <a:pt x="5050" y="5118"/>
                      </a:lnTo>
                      <a:lnTo>
                        <a:pt x="5058" y="5111"/>
                      </a:lnTo>
                      <a:lnTo>
                        <a:pt x="5066" y="5105"/>
                      </a:lnTo>
                      <a:lnTo>
                        <a:pt x="5084" y="5086"/>
                      </a:lnTo>
                      <a:lnTo>
                        <a:pt x="5084" y="5086"/>
                      </a:lnTo>
                      <a:lnTo>
                        <a:pt x="5104" y="5067"/>
                      </a:lnTo>
                      <a:lnTo>
                        <a:pt x="5111" y="5058"/>
                      </a:lnTo>
                      <a:lnTo>
                        <a:pt x="5116" y="5050"/>
                      </a:lnTo>
                      <a:lnTo>
                        <a:pt x="5119" y="5040"/>
                      </a:lnTo>
                      <a:lnTo>
                        <a:pt x="5121" y="5030"/>
                      </a:lnTo>
                      <a:lnTo>
                        <a:pt x="5121" y="5019"/>
                      </a:lnTo>
                      <a:lnTo>
                        <a:pt x="5117" y="5004"/>
                      </a:lnTo>
                      <a:lnTo>
                        <a:pt x="5117" y="5004"/>
                      </a:lnTo>
                      <a:lnTo>
                        <a:pt x="5060" y="5062"/>
                      </a:lnTo>
                      <a:lnTo>
                        <a:pt x="5002" y="5118"/>
                      </a:lnTo>
                      <a:lnTo>
                        <a:pt x="5002" y="5118"/>
                      </a:lnTo>
                      <a:close/>
                      <a:moveTo>
                        <a:pt x="1" y="3237"/>
                      </a:moveTo>
                      <a:lnTo>
                        <a:pt x="1" y="3237"/>
                      </a:lnTo>
                      <a:lnTo>
                        <a:pt x="3" y="3263"/>
                      </a:lnTo>
                      <a:lnTo>
                        <a:pt x="6" y="3274"/>
                      </a:lnTo>
                      <a:lnTo>
                        <a:pt x="10" y="3284"/>
                      </a:lnTo>
                      <a:lnTo>
                        <a:pt x="14" y="3293"/>
                      </a:lnTo>
                      <a:lnTo>
                        <a:pt x="23" y="3301"/>
                      </a:lnTo>
                      <a:lnTo>
                        <a:pt x="33" y="3307"/>
                      </a:lnTo>
                      <a:lnTo>
                        <a:pt x="47" y="3316"/>
                      </a:lnTo>
                      <a:lnTo>
                        <a:pt x="47" y="3316"/>
                      </a:lnTo>
                      <a:lnTo>
                        <a:pt x="39" y="3233"/>
                      </a:lnTo>
                      <a:lnTo>
                        <a:pt x="33" y="3149"/>
                      </a:lnTo>
                      <a:lnTo>
                        <a:pt x="33" y="3149"/>
                      </a:lnTo>
                      <a:lnTo>
                        <a:pt x="21" y="3159"/>
                      </a:lnTo>
                      <a:lnTo>
                        <a:pt x="11" y="3169"/>
                      </a:lnTo>
                      <a:lnTo>
                        <a:pt x="5" y="3177"/>
                      </a:lnTo>
                      <a:lnTo>
                        <a:pt x="1" y="3187"/>
                      </a:lnTo>
                      <a:lnTo>
                        <a:pt x="0" y="3197"/>
                      </a:lnTo>
                      <a:lnTo>
                        <a:pt x="0" y="3208"/>
                      </a:lnTo>
                      <a:lnTo>
                        <a:pt x="1" y="3237"/>
                      </a:lnTo>
                      <a:lnTo>
                        <a:pt x="1" y="3237"/>
                      </a:lnTo>
                      <a:close/>
                      <a:moveTo>
                        <a:pt x="270" y="1715"/>
                      </a:moveTo>
                      <a:lnTo>
                        <a:pt x="270" y="1715"/>
                      </a:lnTo>
                      <a:lnTo>
                        <a:pt x="259" y="1739"/>
                      </a:lnTo>
                      <a:lnTo>
                        <a:pt x="254" y="1749"/>
                      </a:lnTo>
                      <a:lnTo>
                        <a:pt x="252" y="1761"/>
                      </a:lnTo>
                      <a:lnTo>
                        <a:pt x="254" y="1771"/>
                      </a:lnTo>
                      <a:lnTo>
                        <a:pt x="255" y="1782"/>
                      </a:lnTo>
                      <a:lnTo>
                        <a:pt x="262" y="1794"/>
                      </a:lnTo>
                      <a:lnTo>
                        <a:pt x="272" y="1809"/>
                      </a:lnTo>
                      <a:lnTo>
                        <a:pt x="272" y="1809"/>
                      </a:lnTo>
                      <a:lnTo>
                        <a:pt x="306" y="1731"/>
                      </a:lnTo>
                      <a:lnTo>
                        <a:pt x="343" y="1655"/>
                      </a:lnTo>
                      <a:lnTo>
                        <a:pt x="343" y="1655"/>
                      </a:lnTo>
                      <a:lnTo>
                        <a:pt x="326" y="1657"/>
                      </a:lnTo>
                      <a:lnTo>
                        <a:pt x="313" y="1660"/>
                      </a:lnTo>
                      <a:lnTo>
                        <a:pt x="301" y="1665"/>
                      </a:lnTo>
                      <a:lnTo>
                        <a:pt x="293" y="1672"/>
                      </a:lnTo>
                      <a:lnTo>
                        <a:pt x="287" y="1680"/>
                      </a:lnTo>
                      <a:lnTo>
                        <a:pt x="282" y="1688"/>
                      </a:lnTo>
                      <a:lnTo>
                        <a:pt x="270" y="1715"/>
                      </a:lnTo>
                      <a:lnTo>
                        <a:pt x="270" y="1715"/>
                      </a:lnTo>
                      <a:close/>
                      <a:moveTo>
                        <a:pt x="529" y="1263"/>
                      </a:moveTo>
                      <a:lnTo>
                        <a:pt x="529" y="1263"/>
                      </a:lnTo>
                      <a:lnTo>
                        <a:pt x="514" y="1286"/>
                      </a:lnTo>
                      <a:lnTo>
                        <a:pt x="509" y="1296"/>
                      </a:lnTo>
                      <a:lnTo>
                        <a:pt x="504" y="1306"/>
                      </a:lnTo>
                      <a:lnTo>
                        <a:pt x="504" y="1316"/>
                      </a:lnTo>
                      <a:lnTo>
                        <a:pt x="504" y="1327"/>
                      </a:lnTo>
                      <a:lnTo>
                        <a:pt x="507" y="1340"/>
                      </a:lnTo>
                      <a:lnTo>
                        <a:pt x="514" y="1355"/>
                      </a:lnTo>
                      <a:lnTo>
                        <a:pt x="514" y="1355"/>
                      </a:lnTo>
                      <a:lnTo>
                        <a:pt x="562" y="1286"/>
                      </a:lnTo>
                      <a:lnTo>
                        <a:pt x="611" y="1218"/>
                      </a:lnTo>
                      <a:lnTo>
                        <a:pt x="611" y="1218"/>
                      </a:lnTo>
                      <a:lnTo>
                        <a:pt x="595" y="1217"/>
                      </a:lnTo>
                      <a:lnTo>
                        <a:pt x="582" y="1218"/>
                      </a:lnTo>
                      <a:lnTo>
                        <a:pt x="570" y="1222"/>
                      </a:lnTo>
                      <a:lnTo>
                        <a:pt x="560" y="1225"/>
                      </a:lnTo>
                      <a:lnTo>
                        <a:pt x="554" y="1233"/>
                      </a:lnTo>
                      <a:lnTo>
                        <a:pt x="545" y="1242"/>
                      </a:lnTo>
                      <a:lnTo>
                        <a:pt x="529" y="1263"/>
                      </a:lnTo>
                      <a:lnTo>
                        <a:pt x="529" y="1263"/>
                      </a:lnTo>
                      <a:close/>
                      <a:moveTo>
                        <a:pt x="864" y="866"/>
                      </a:moveTo>
                      <a:lnTo>
                        <a:pt x="864" y="866"/>
                      </a:lnTo>
                      <a:lnTo>
                        <a:pt x="844" y="885"/>
                      </a:lnTo>
                      <a:lnTo>
                        <a:pt x="837" y="894"/>
                      </a:lnTo>
                      <a:lnTo>
                        <a:pt x="832" y="902"/>
                      </a:lnTo>
                      <a:lnTo>
                        <a:pt x="829" y="912"/>
                      </a:lnTo>
                      <a:lnTo>
                        <a:pt x="829" y="923"/>
                      </a:lnTo>
                      <a:lnTo>
                        <a:pt x="829" y="938"/>
                      </a:lnTo>
                      <a:lnTo>
                        <a:pt x="834" y="955"/>
                      </a:lnTo>
                      <a:lnTo>
                        <a:pt x="834" y="955"/>
                      </a:lnTo>
                      <a:lnTo>
                        <a:pt x="893" y="894"/>
                      </a:lnTo>
                      <a:lnTo>
                        <a:pt x="953" y="834"/>
                      </a:lnTo>
                      <a:lnTo>
                        <a:pt x="953" y="834"/>
                      </a:lnTo>
                      <a:lnTo>
                        <a:pt x="936" y="831"/>
                      </a:lnTo>
                      <a:lnTo>
                        <a:pt x="923" y="829"/>
                      </a:lnTo>
                      <a:lnTo>
                        <a:pt x="911" y="831"/>
                      </a:lnTo>
                      <a:lnTo>
                        <a:pt x="902" y="833"/>
                      </a:lnTo>
                      <a:lnTo>
                        <a:pt x="893" y="839"/>
                      </a:lnTo>
                      <a:lnTo>
                        <a:pt x="883" y="846"/>
                      </a:lnTo>
                      <a:lnTo>
                        <a:pt x="864" y="866"/>
                      </a:lnTo>
                      <a:lnTo>
                        <a:pt x="864" y="866"/>
                      </a:lnTo>
                      <a:close/>
                      <a:moveTo>
                        <a:pt x="1263" y="531"/>
                      </a:moveTo>
                      <a:lnTo>
                        <a:pt x="1263" y="531"/>
                      </a:lnTo>
                      <a:lnTo>
                        <a:pt x="1240" y="547"/>
                      </a:lnTo>
                      <a:lnTo>
                        <a:pt x="1231" y="554"/>
                      </a:lnTo>
                      <a:lnTo>
                        <a:pt x="1225" y="562"/>
                      </a:lnTo>
                      <a:lnTo>
                        <a:pt x="1220" y="572"/>
                      </a:lnTo>
                      <a:lnTo>
                        <a:pt x="1216" y="582"/>
                      </a:lnTo>
                      <a:lnTo>
                        <a:pt x="1216" y="597"/>
                      </a:lnTo>
                      <a:lnTo>
                        <a:pt x="1216" y="613"/>
                      </a:lnTo>
                      <a:lnTo>
                        <a:pt x="1216" y="613"/>
                      </a:lnTo>
                      <a:lnTo>
                        <a:pt x="1286" y="564"/>
                      </a:lnTo>
                      <a:lnTo>
                        <a:pt x="1357" y="516"/>
                      </a:lnTo>
                      <a:lnTo>
                        <a:pt x="1357" y="516"/>
                      </a:lnTo>
                      <a:lnTo>
                        <a:pt x="1340" y="509"/>
                      </a:lnTo>
                      <a:lnTo>
                        <a:pt x="1327" y="506"/>
                      </a:lnTo>
                      <a:lnTo>
                        <a:pt x="1315" y="505"/>
                      </a:lnTo>
                      <a:lnTo>
                        <a:pt x="1305" y="506"/>
                      </a:lnTo>
                      <a:lnTo>
                        <a:pt x="1296" y="509"/>
                      </a:lnTo>
                      <a:lnTo>
                        <a:pt x="1286" y="514"/>
                      </a:lnTo>
                      <a:lnTo>
                        <a:pt x="1263" y="531"/>
                      </a:lnTo>
                      <a:lnTo>
                        <a:pt x="1263" y="531"/>
                      </a:lnTo>
                      <a:close/>
                      <a:moveTo>
                        <a:pt x="5609" y="1655"/>
                      </a:moveTo>
                      <a:lnTo>
                        <a:pt x="5609" y="1655"/>
                      </a:lnTo>
                      <a:lnTo>
                        <a:pt x="5645" y="1730"/>
                      </a:lnTo>
                      <a:lnTo>
                        <a:pt x="5680" y="1805"/>
                      </a:lnTo>
                      <a:lnTo>
                        <a:pt x="5680" y="1805"/>
                      </a:lnTo>
                      <a:lnTo>
                        <a:pt x="5688" y="1792"/>
                      </a:lnTo>
                      <a:lnTo>
                        <a:pt x="5693" y="1781"/>
                      </a:lnTo>
                      <a:lnTo>
                        <a:pt x="5696" y="1769"/>
                      </a:lnTo>
                      <a:lnTo>
                        <a:pt x="5696" y="1759"/>
                      </a:lnTo>
                      <a:lnTo>
                        <a:pt x="5694" y="1749"/>
                      </a:lnTo>
                      <a:lnTo>
                        <a:pt x="5691" y="1739"/>
                      </a:lnTo>
                      <a:lnTo>
                        <a:pt x="5680" y="1715"/>
                      </a:lnTo>
                      <a:lnTo>
                        <a:pt x="5680" y="1715"/>
                      </a:lnTo>
                      <a:lnTo>
                        <a:pt x="5668" y="1690"/>
                      </a:lnTo>
                      <a:lnTo>
                        <a:pt x="5661" y="1680"/>
                      </a:lnTo>
                      <a:lnTo>
                        <a:pt x="5655" y="1672"/>
                      </a:lnTo>
                      <a:lnTo>
                        <a:pt x="5648" y="1665"/>
                      </a:lnTo>
                      <a:lnTo>
                        <a:pt x="5638" y="1660"/>
                      </a:lnTo>
                      <a:lnTo>
                        <a:pt x="5625" y="1657"/>
                      </a:lnTo>
                      <a:lnTo>
                        <a:pt x="5609" y="1655"/>
                      </a:lnTo>
                      <a:lnTo>
                        <a:pt x="5609" y="1655"/>
                      </a:lnTo>
                      <a:close/>
                      <a:moveTo>
                        <a:pt x="3747" y="5858"/>
                      </a:moveTo>
                      <a:lnTo>
                        <a:pt x="3747" y="5858"/>
                      </a:lnTo>
                      <a:lnTo>
                        <a:pt x="3772" y="5851"/>
                      </a:lnTo>
                      <a:lnTo>
                        <a:pt x="3784" y="5848"/>
                      </a:lnTo>
                      <a:lnTo>
                        <a:pt x="3792" y="5843"/>
                      </a:lnTo>
                      <a:lnTo>
                        <a:pt x="3800" y="5837"/>
                      </a:lnTo>
                      <a:lnTo>
                        <a:pt x="3807" y="5828"/>
                      </a:lnTo>
                      <a:lnTo>
                        <a:pt x="3812" y="5817"/>
                      </a:lnTo>
                      <a:lnTo>
                        <a:pt x="3817" y="5804"/>
                      </a:lnTo>
                      <a:lnTo>
                        <a:pt x="3817" y="5804"/>
                      </a:lnTo>
                      <a:lnTo>
                        <a:pt x="3737" y="5825"/>
                      </a:lnTo>
                      <a:lnTo>
                        <a:pt x="3660" y="5845"/>
                      </a:lnTo>
                      <a:lnTo>
                        <a:pt x="3660" y="5845"/>
                      </a:lnTo>
                      <a:lnTo>
                        <a:pt x="3671" y="5855"/>
                      </a:lnTo>
                      <a:lnTo>
                        <a:pt x="3681" y="5861"/>
                      </a:lnTo>
                      <a:lnTo>
                        <a:pt x="3691" y="5866"/>
                      </a:lnTo>
                      <a:lnTo>
                        <a:pt x="3701" y="5868"/>
                      </a:lnTo>
                      <a:lnTo>
                        <a:pt x="3711" y="5868"/>
                      </a:lnTo>
                      <a:lnTo>
                        <a:pt x="3721" y="5865"/>
                      </a:lnTo>
                      <a:lnTo>
                        <a:pt x="3747" y="5858"/>
                      </a:lnTo>
                      <a:lnTo>
                        <a:pt x="3747" y="5858"/>
                      </a:lnTo>
                      <a:close/>
                      <a:moveTo>
                        <a:pt x="5858" y="3748"/>
                      </a:moveTo>
                      <a:lnTo>
                        <a:pt x="5858" y="3748"/>
                      </a:lnTo>
                      <a:lnTo>
                        <a:pt x="5864" y="3721"/>
                      </a:lnTo>
                      <a:lnTo>
                        <a:pt x="5866" y="3711"/>
                      </a:lnTo>
                      <a:lnTo>
                        <a:pt x="5866" y="3701"/>
                      </a:lnTo>
                      <a:lnTo>
                        <a:pt x="5864" y="3692"/>
                      </a:lnTo>
                      <a:lnTo>
                        <a:pt x="5861" y="3682"/>
                      </a:lnTo>
                      <a:lnTo>
                        <a:pt x="5853" y="3670"/>
                      </a:lnTo>
                      <a:lnTo>
                        <a:pt x="5843" y="3659"/>
                      </a:lnTo>
                      <a:lnTo>
                        <a:pt x="5843" y="3659"/>
                      </a:lnTo>
                      <a:lnTo>
                        <a:pt x="5823" y="3741"/>
                      </a:lnTo>
                      <a:lnTo>
                        <a:pt x="5823" y="3741"/>
                      </a:lnTo>
                      <a:lnTo>
                        <a:pt x="5800" y="3817"/>
                      </a:lnTo>
                      <a:lnTo>
                        <a:pt x="5800" y="3817"/>
                      </a:lnTo>
                      <a:lnTo>
                        <a:pt x="5815" y="3814"/>
                      </a:lnTo>
                      <a:lnTo>
                        <a:pt x="5826" y="3807"/>
                      </a:lnTo>
                      <a:lnTo>
                        <a:pt x="5835" y="3800"/>
                      </a:lnTo>
                      <a:lnTo>
                        <a:pt x="5841" y="3794"/>
                      </a:lnTo>
                      <a:lnTo>
                        <a:pt x="5846" y="3784"/>
                      </a:lnTo>
                      <a:lnTo>
                        <a:pt x="5851" y="3774"/>
                      </a:lnTo>
                      <a:lnTo>
                        <a:pt x="5858" y="3748"/>
                      </a:lnTo>
                      <a:lnTo>
                        <a:pt x="5858" y="3748"/>
                      </a:lnTo>
                      <a:close/>
                      <a:moveTo>
                        <a:pt x="3747" y="92"/>
                      </a:moveTo>
                      <a:lnTo>
                        <a:pt x="3747" y="92"/>
                      </a:lnTo>
                      <a:lnTo>
                        <a:pt x="3721" y="86"/>
                      </a:lnTo>
                      <a:lnTo>
                        <a:pt x="3709" y="84"/>
                      </a:lnTo>
                      <a:lnTo>
                        <a:pt x="3698" y="84"/>
                      </a:lnTo>
                      <a:lnTo>
                        <a:pt x="3688" y="86"/>
                      </a:lnTo>
                      <a:lnTo>
                        <a:pt x="3678" y="91"/>
                      </a:lnTo>
                      <a:lnTo>
                        <a:pt x="3666" y="99"/>
                      </a:lnTo>
                      <a:lnTo>
                        <a:pt x="3655" y="110"/>
                      </a:lnTo>
                      <a:lnTo>
                        <a:pt x="3655" y="110"/>
                      </a:lnTo>
                      <a:lnTo>
                        <a:pt x="3739" y="132"/>
                      </a:lnTo>
                      <a:lnTo>
                        <a:pt x="3739" y="132"/>
                      </a:lnTo>
                      <a:lnTo>
                        <a:pt x="3818" y="153"/>
                      </a:lnTo>
                      <a:lnTo>
                        <a:pt x="3818" y="153"/>
                      </a:lnTo>
                      <a:lnTo>
                        <a:pt x="3813" y="138"/>
                      </a:lnTo>
                      <a:lnTo>
                        <a:pt x="3807" y="125"/>
                      </a:lnTo>
                      <a:lnTo>
                        <a:pt x="3802" y="115"/>
                      </a:lnTo>
                      <a:lnTo>
                        <a:pt x="3793" y="109"/>
                      </a:lnTo>
                      <a:lnTo>
                        <a:pt x="3784" y="104"/>
                      </a:lnTo>
                      <a:lnTo>
                        <a:pt x="3774" y="101"/>
                      </a:lnTo>
                      <a:lnTo>
                        <a:pt x="3747" y="92"/>
                      </a:lnTo>
                      <a:lnTo>
                        <a:pt x="3747" y="92"/>
                      </a:lnTo>
                      <a:close/>
                      <a:moveTo>
                        <a:pt x="2133" y="5802"/>
                      </a:moveTo>
                      <a:lnTo>
                        <a:pt x="2133" y="5802"/>
                      </a:lnTo>
                      <a:lnTo>
                        <a:pt x="2136" y="5817"/>
                      </a:lnTo>
                      <a:lnTo>
                        <a:pt x="2143" y="5828"/>
                      </a:lnTo>
                      <a:lnTo>
                        <a:pt x="2150" y="5837"/>
                      </a:lnTo>
                      <a:lnTo>
                        <a:pt x="2156" y="5843"/>
                      </a:lnTo>
                      <a:lnTo>
                        <a:pt x="2166" y="5848"/>
                      </a:lnTo>
                      <a:lnTo>
                        <a:pt x="2176" y="5851"/>
                      </a:lnTo>
                      <a:lnTo>
                        <a:pt x="2202" y="5858"/>
                      </a:lnTo>
                      <a:lnTo>
                        <a:pt x="2202" y="5858"/>
                      </a:lnTo>
                      <a:lnTo>
                        <a:pt x="2229" y="5865"/>
                      </a:lnTo>
                      <a:lnTo>
                        <a:pt x="2239" y="5868"/>
                      </a:lnTo>
                      <a:lnTo>
                        <a:pt x="2249" y="5868"/>
                      </a:lnTo>
                      <a:lnTo>
                        <a:pt x="2258" y="5866"/>
                      </a:lnTo>
                      <a:lnTo>
                        <a:pt x="2268" y="5861"/>
                      </a:lnTo>
                      <a:lnTo>
                        <a:pt x="2280" y="5855"/>
                      </a:lnTo>
                      <a:lnTo>
                        <a:pt x="2291" y="5845"/>
                      </a:lnTo>
                      <a:lnTo>
                        <a:pt x="2291" y="5845"/>
                      </a:lnTo>
                      <a:lnTo>
                        <a:pt x="2214" y="5825"/>
                      </a:lnTo>
                      <a:lnTo>
                        <a:pt x="2214" y="5825"/>
                      </a:lnTo>
                      <a:lnTo>
                        <a:pt x="2133" y="5802"/>
                      </a:lnTo>
                      <a:lnTo>
                        <a:pt x="2133" y="5802"/>
                      </a:lnTo>
                      <a:close/>
                      <a:moveTo>
                        <a:pt x="130" y="2216"/>
                      </a:moveTo>
                      <a:lnTo>
                        <a:pt x="130" y="2216"/>
                      </a:lnTo>
                      <a:lnTo>
                        <a:pt x="153" y="2132"/>
                      </a:lnTo>
                      <a:lnTo>
                        <a:pt x="153" y="2132"/>
                      </a:lnTo>
                      <a:lnTo>
                        <a:pt x="136" y="2137"/>
                      </a:lnTo>
                      <a:lnTo>
                        <a:pt x="125" y="2143"/>
                      </a:lnTo>
                      <a:lnTo>
                        <a:pt x="115" y="2148"/>
                      </a:lnTo>
                      <a:lnTo>
                        <a:pt x="108" y="2157"/>
                      </a:lnTo>
                      <a:lnTo>
                        <a:pt x="104" y="2166"/>
                      </a:lnTo>
                      <a:lnTo>
                        <a:pt x="99" y="2176"/>
                      </a:lnTo>
                      <a:lnTo>
                        <a:pt x="92" y="2203"/>
                      </a:lnTo>
                      <a:lnTo>
                        <a:pt x="92" y="2203"/>
                      </a:lnTo>
                      <a:lnTo>
                        <a:pt x="84" y="2229"/>
                      </a:lnTo>
                      <a:lnTo>
                        <a:pt x="82" y="2241"/>
                      </a:lnTo>
                      <a:lnTo>
                        <a:pt x="82" y="2252"/>
                      </a:lnTo>
                      <a:lnTo>
                        <a:pt x="85" y="2262"/>
                      </a:lnTo>
                      <a:lnTo>
                        <a:pt x="90" y="2272"/>
                      </a:lnTo>
                      <a:lnTo>
                        <a:pt x="99" y="2284"/>
                      </a:lnTo>
                      <a:lnTo>
                        <a:pt x="110" y="2295"/>
                      </a:lnTo>
                      <a:lnTo>
                        <a:pt x="110" y="2295"/>
                      </a:lnTo>
                      <a:lnTo>
                        <a:pt x="130" y="2216"/>
                      </a:lnTo>
                      <a:lnTo>
                        <a:pt x="130" y="2216"/>
                      </a:lnTo>
                      <a:close/>
                      <a:moveTo>
                        <a:pt x="4600" y="5438"/>
                      </a:moveTo>
                      <a:lnTo>
                        <a:pt x="4600" y="5438"/>
                      </a:lnTo>
                      <a:lnTo>
                        <a:pt x="4613" y="5443"/>
                      </a:lnTo>
                      <a:lnTo>
                        <a:pt x="4624" y="5446"/>
                      </a:lnTo>
                      <a:lnTo>
                        <a:pt x="4636" y="5446"/>
                      </a:lnTo>
                      <a:lnTo>
                        <a:pt x="4646" y="5444"/>
                      </a:lnTo>
                      <a:lnTo>
                        <a:pt x="4656" y="5441"/>
                      </a:lnTo>
                      <a:lnTo>
                        <a:pt x="4664" y="5436"/>
                      </a:lnTo>
                      <a:lnTo>
                        <a:pt x="4687" y="5421"/>
                      </a:lnTo>
                      <a:lnTo>
                        <a:pt x="4687" y="5421"/>
                      </a:lnTo>
                      <a:lnTo>
                        <a:pt x="4708" y="5405"/>
                      </a:lnTo>
                      <a:lnTo>
                        <a:pt x="4717" y="5398"/>
                      </a:lnTo>
                      <a:lnTo>
                        <a:pt x="4723" y="5390"/>
                      </a:lnTo>
                      <a:lnTo>
                        <a:pt x="4728" y="5382"/>
                      </a:lnTo>
                      <a:lnTo>
                        <a:pt x="4732" y="5372"/>
                      </a:lnTo>
                      <a:lnTo>
                        <a:pt x="4733" y="5358"/>
                      </a:lnTo>
                      <a:lnTo>
                        <a:pt x="4733" y="5344"/>
                      </a:lnTo>
                      <a:lnTo>
                        <a:pt x="4733" y="5344"/>
                      </a:lnTo>
                      <a:lnTo>
                        <a:pt x="4666" y="5391"/>
                      </a:lnTo>
                      <a:lnTo>
                        <a:pt x="4600" y="5438"/>
                      </a:lnTo>
                      <a:lnTo>
                        <a:pt x="4600" y="5438"/>
                      </a:lnTo>
                      <a:close/>
                      <a:moveTo>
                        <a:pt x="270" y="4237"/>
                      </a:moveTo>
                      <a:lnTo>
                        <a:pt x="270" y="4237"/>
                      </a:lnTo>
                      <a:lnTo>
                        <a:pt x="282" y="4262"/>
                      </a:lnTo>
                      <a:lnTo>
                        <a:pt x="287" y="4272"/>
                      </a:lnTo>
                      <a:lnTo>
                        <a:pt x="293" y="4279"/>
                      </a:lnTo>
                      <a:lnTo>
                        <a:pt x="301" y="4285"/>
                      </a:lnTo>
                      <a:lnTo>
                        <a:pt x="311" y="4290"/>
                      </a:lnTo>
                      <a:lnTo>
                        <a:pt x="324" y="4293"/>
                      </a:lnTo>
                      <a:lnTo>
                        <a:pt x="341" y="4295"/>
                      </a:lnTo>
                      <a:lnTo>
                        <a:pt x="341" y="4295"/>
                      </a:lnTo>
                      <a:lnTo>
                        <a:pt x="305" y="4221"/>
                      </a:lnTo>
                      <a:lnTo>
                        <a:pt x="270" y="4145"/>
                      </a:lnTo>
                      <a:lnTo>
                        <a:pt x="270" y="4145"/>
                      </a:lnTo>
                      <a:lnTo>
                        <a:pt x="262" y="4158"/>
                      </a:lnTo>
                      <a:lnTo>
                        <a:pt x="255" y="4170"/>
                      </a:lnTo>
                      <a:lnTo>
                        <a:pt x="254" y="4181"/>
                      </a:lnTo>
                      <a:lnTo>
                        <a:pt x="252" y="4191"/>
                      </a:lnTo>
                      <a:lnTo>
                        <a:pt x="254" y="4201"/>
                      </a:lnTo>
                      <a:lnTo>
                        <a:pt x="259" y="4213"/>
                      </a:lnTo>
                      <a:lnTo>
                        <a:pt x="270" y="4237"/>
                      </a:lnTo>
                      <a:lnTo>
                        <a:pt x="270" y="4237"/>
                      </a:lnTo>
                      <a:close/>
                      <a:moveTo>
                        <a:pt x="92" y="3748"/>
                      </a:moveTo>
                      <a:lnTo>
                        <a:pt x="92" y="3748"/>
                      </a:lnTo>
                      <a:lnTo>
                        <a:pt x="99" y="3774"/>
                      </a:lnTo>
                      <a:lnTo>
                        <a:pt x="104" y="3786"/>
                      </a:lnTo>
                      <a:lnTo>
                        <a:pt x="108" y="3794"/>
                      </a:lnTo>
                      <a:lnTo>
                        <a:pt x="115" y="3802"/>
                      </a:lnTo>
                      <a:lnTo>
                        <a:pt x="123" y="3809"/>
                      </a:lnTo>
                      <a:lnTo>
                        <a:pt x="135" y="3814"/>
                      </a:lnTo>
                      <a:lnTo>
                        <a:pt x="151" y="3819"/>
                      </a:lnTo>
                      <a:lnTo>
                        <a:pt x="151" y="3819"/>
                      </a:lnTo>
                      <a:lnTo>
                        <a:pt x="128" y="3738"/>
                      </a:lnTo>
                      <a:lnTo>
                        <a:pt x="108" y="3657"/>
                      </a:lnTo>
                      <a:lnTo>
                        <a:pt x="108" y="3657"/>
                      </a:lnTo>
                      <a:lnTo>
                        <a:pt x="97" y="3670"/>
                      </a:lnTo>
                      <a:lnTo>
                        <a:pt x="89" y="3680"/>
                      </a:lnTo>
                      <a:lnTo>
                        <a:pt x="85" y="3690"/>
                      </a:lnTo>
                      <a:lnTo>
                        <a:pt x="82" y="3700"/>
                      </a:lnTo>
                      <a:lnTo>
                        <a:pt x="82" y="3710"/>
                      </a:lnTo>
                      <a:lnTo>
                        <a:pt x="84" y="3721"/>
                      </a:lnTo>
                      <a:lnTo>
                        <a:pt x="92" y="3748"/>
                      </a:lnTo>
                      <a:lnTo>
                        <a:pt x="92" y="3748"/>
                      </a:lnTo>
                      <a:close/>
                      <a:moveTo>
                        <a:pt x="864" y="5086"/>
                      </a:moveTo>
                      <a:lnTo>
                        <a:pt x="864" y="5086"/>
                      </a:lnTo>
                      <a:lnTo>
                        <a:pt x="883" y="5105"/>
                      </a:lnTo>
                      <a:lnTo>
                        <a:pt x="892" y="5113"/>
                      </a:lnTo>
                      <a:lnTo>
                        <a:pt x="900" y="5118"/>
                      </a:lnTo>
                      <a:lnTo>
                        <a:pt x="910" y="5121"/>
                      </a:lnTo>
                      <a:lnTo>
                        <a:pt x="921" y="5121"/>
                      </a:lnTo>
                      <a:lnTo>
                        <a:pt x="933" y="5121"/>
                      </a:lnTo>
                      <a:lnTo>
                        <a:pt x="949" y="5118"/>
                      </a:lnTo>
                      <a:lnTo>
                        <a:pt x="949" y="5118"/>
                      </a:lnTo>
                      <a:lnTo>
                        <a:pt x="890" y="5060"/>
                      </a:lnTo>
                      <a:lnTo>
                        <a:pt x="832" y="5001"/>
                      </a:lnTo>
                      <a:lnTo>
                        <a:pt x="832" y="5001"/>
                      </a:lnTo>
                      <a:lnTo>
                        <a:pt x="829" y="5016"/>
                      </a:lnTo>
                      <a:lnTo>
                        <a:pt x="829" y="5029"/>
                      </a:lnTo>
                      <a:lnTo>
                        <a:pt x="829" y="5040"/>
                      </a:lnTo>
                      <a:lnTo>
                        <a:pt x="832" y="5050"/>
                      </a:lnTo>
                      <a:lnTo>
                        <a:pt x="837" y="5058"/>
                      </a:lnTo>
                      <a:lnTo>
                        <a:pt x="845" y="5067"/>
                      </a:lnTo>
                      <a:lnTo>
                        <a:pt x="864" y="5086"/>
                      </a:lnTo>
                      <a:lnTo>
                        <a:pt x="864" y="5086"/>
                      </a:lnTo>
                      <a:close/>
                      <a:moveTo>
                        <a:pt x="1263" y="5421"/>
                      </a:moveTo>
                      <a:lnTo>
                        <a:pt x="1263" y="5421"/>
                      </a:lnTo>
                      <a:lnTo>
                        <a:pt x="1284" y="5436"/>
                      </a:lnTo>
                      <a:lnTo>
                        <a:pt x="1294" y="5441"/>
                      </a:lnTo>
                      <a:lnTo>
                        <a:pt x="1304" y="5444"/>
                      </a:lnTo>
                      <a:lnTo>
                        <a:pt x="1314" y="5446"/>
                      </a:lnTo>
                      <a:lnTo>
                        <a:pt x="1324" y="5446"/>
                      </a:lnTo>
                      <a:lnTo>
                        <a:pt x="1337" y="5443"/>
                      </a:lnTo>
                      <a:lnTo>
                        <a:pt x="1352" y="5438"/>
                      </a:lnTo>
                      <a:lnTo>
                        <a:pt x="1352" y="5438"/>
                      </a:lnTo>
                      <a:lnTo>
                        <a:pt x="1282" y="5391"/>
                      </a:lnTo>
                      <a:lnTo>
                        <a:pt x="1216" y="5344"/>
                      </a:lnTo>
                      <a:lnTo>
                        <a:pt x="1216" y="5344"/>
                      </a:lnTo>
                      <a:lnTo>
                        <a:pt x="1216" y="5358"/>
                      </a:lnTo>
                      <a:lnTo>
                        <a:pt x="1218" y="5372"/>
                      </a:lnTo>
                      <a:lnTo>
                        <a:pt x="1221" y="5382"/>
                      </a:lnTo>
                      <a:lnTo>
                        <a:pt x="1226" y="5390"/>
                      </a:lnTo>
                      <a:lnTo>
                        <a:pt x="1233" y="5398"/>
                      </a:lnTo>
                      <a:lnTo>
                        <a:pt x="1241" y="5405"/>
                      </a:lnTo>
                      <a:lnTo>
                        <a:pt x="1263" y="5421"/>
                      </a:lnTo>
                      <a:lnTo>
                        <a:pt x="1263" y="5421"/>
                      </a:lnTo>
                      <a:close/>
                      <a:moveTo>
                        <a:pt x="1713" y="5680"/>
                      </a:moveTo>
                      <a:lnTo>
                        <a:pt x="1713" y="5680"/>
                      </a:lnTo>
                      <a:lnTo>
                        <a:pt x="1737" y="5691"/>
                      </a:lnTo>
                      <a:lnTo>
                        <a:pt x="1747" y="5695"/>
                      </a:lnTo>
                      <a:lnTo>
                        <a:pt x="1757" y="5698"/>
                      </a:lnTo>
                      <a:lnTo>
                        <a:pt x="1767" y="5698"/>
                      </a:lnTo>
                      <a:lnTo>
                        <a:pt x="1779" y="5695"/>
                      </a:lnTo>
                      <a:lnTo>
                        <a:pt x="1790" y="5690"/>
                      </a:lnTo>
                      <a:lnTo>
                        <a:pt x="1803" y="5682"/>
                      </a:lnTo>
                      <a:lnTo>
                        <a:pt x="1803" y="5682"/>
                      </a:lnTo>
                      <a:lnTo>
                        <a:pt x="1728" y="5649"/>
                      </a:lnTo>
                      <a:lnTo>
                        <a:pt x="1655" y="5612"/>
                      </a:lnTo>
                      <a:lnTo>
                        <a:pt x="1655" y="5612"/>
                      </a:lnTo>
                      <a:lnTo>
                        <a:pt x="1657" y="5627"/>
                      </a:lnTo>
                      <a:lnTo>
                        <a:pt x="1660" y="5640"/>
                      </a:lnTo>
                      <a:lnTo>
                        <a:pt x="1665" y="5650"/>
                      </a:lnTo>
                      <a:lnTo>
                        <a:pt x="1671" y="5657"/>
                      </a:lnTo>
                      <a:lnTo>
                        <a:pt x="1680" y="5663"/>
                      </a:lnTo>
                      <a:lnTo>
                        <a:pt x="1688" y="5668"/>
                      </a:lnTo>
                      <a:lnTo>
                        <a:pt x="1713" y="5680"/>
                      </a:lnTo>
                      <a:lnTo>
                        <a:pt x="1713" y="5680"/>
                      </a:lnTo>
                      <a:close/>
                      <a:moveTo>
                        <a:pt x="529" y="4687"/>
                      </a:moveTo>
                      <a:lnTo>
                        <a:pt x="529" y="4687"/>
                      </a:lnTo>
                      <a:lnTo>
                        <a:pt x="545" y="4710"/>
                      </a:lnTo>
                      <a:lnTo>
                        <a:pt x="552" y="4719"/>
                      </a:lnTo>
                      <a:lnTo>
                        <a:pt x="560" y="4725"/>
                      </a:lnTo>
                      <a:lnTo>
                        <a:pt x="568" y="4730"/>
                      </a:lnTo>
                      <a:lnTo>
                        <a:pt x="580" y="4732"/>
                      </a:lnTo>
                      <a:lnTo>
                        <a:pt x="593" y="4734"/>
                      </a:lnTo>
                      <a:lnTo>
                        <a:pt x="608" y="4734"/>
                      </a:lnTo>
                      <a:lnTo>
                        <a:pt x="608" y="4734"/>
                      </a:lnTo>
                      <a:lnTo>
                        <a:pt x="560" y="4666"/>
                      </a:lnTo>
                      <a:lnTo>
                        <a:pt x="514" y="4597"/>
                      </a:lnTo>
                      <a:lnTo>
                        <a:pt x="514" y="4597"/>
                      </a:lnTo>
                      <a:lnTo>
                        <a:pt x="507" y="4612"/>
                      </a:lnTo>
                      <a:lnTo>
                        <a:pt x="504" y="4625"/>
                      </a:lnTo>
                      <a:lnTo>
                        <a:pt x="504" y="4636"/>
                      </a:lnTo>
                      <a:lnTo>
                        <a:pt x="506" y="4646"/>
                      </a:lnTo>
                      <a:lnTo>
                        <a:pt x="509" y="4656"/>
                      </a:lnTo>
                      <a:lnTo>
                        <a:pt x="514" y="4664"/>
                      </a:lnTo>
                      <a:lnTo>
                        <a:pt x="529" y="4687"/>
                      </a:lnTo>
                      <a:lnTo>
                        <a:pt x="529" y="4687"/>
                      </a:lnTo>
                      <a:close/>
                      <a:moveTo>
                        <a:pt x="3235" y="5949"/>
                      </a:moveTo>
                      <a:lnTo>
                        <a:pt x="3235" y="5949"/>
                      </a:lnTo>
                      <a:lnTo>
                        <a:pt x="3261" y="5947"/>
                      </a:lnTo>
                      <a:lnTo>
                        <a:pt x="3272" y="5944"/>
                      </a:lnTo>
                      <a:lnTo>
                        <a:pt x="3281" y="5940"/>
                      </a:lnTo>
                      <a:lnTo>
                        <a:pt x="3291" y="5937"/>
                      </a:lnTo>
                      <a:lnTo>
                        <a:pt x="3297" y="5929"/>
                      </a:lnTo>
                      <a:lnTo>
                        <a:pt x="3305" y="5919"/>
                      </a:lnTo>
                      <a:lnTo>
                        <a:pt x="3312" y="5906"/>
                      </a:lnTo>
                      <a:lnTo>
                        <a:pt x="3312" y="5906"/>
                      </a:lnTo>
                      <a:lnTo>
                        <a:pt x="3231" y="5914"/>
                      </a:lnTo>
                      <a:lnTo>
                        <a:pt x="3150" y="5921"/>
                      </a:lnTo>
                      <a:lnTo>
                        <a:pt x="3150" y="5921"/>
                      </a:lnTo>
                      <a:lnTo>
                        <a:pt x="3160" y="5932"/>
                      </a:lnTo>
                      <a:lnTo>
                        <a:pt x="3169" y="5940"/>
                      </a:lnTo>
                      <a:lnTo>
                        <a:pt x="3178" y="5945"/>
                      </a:lnTo>
                      <a:lnTo>
                        <a:pt x="3187" y="5949"/>
                      </a:lnTo>
                      <a:lnTo>
                        <a:pt x="3197" y="5950"/>
                      </a:lnTo>
                      <a:lnTo>
                        <a:pt x="3208" y="5950"/>
                      </a:lnTo>
                      <a:lnTo>
                        <a:pt x="3235" y="5949"/>
                      </a:lnTo>
                      <a:lnTo>
                        <a:pt x="3235" y="5949"/>
                      </a:lnTo>
                      <a:close/>
                      <a:moveTo>
                        <a:pt x="3235" y="2"/>
                      </a:moveTo>
                      <a:lnTo>
                        <a:pt x="3235" y="2"/>
                      </a:lnTo>
                      <a:lnTo>
                        <a:pt x="3206" y="0"/>
                      </a:lnTo>
                      <a:lnTo>
                        <a:pt x="3197" y="0"/>
                      </a:lnTo>
                      <a:lnTo>
                        <a:pt x="3185" y="2"/>
                      </a:lnTo>
                      <a:lnTo>
                        <a:pt x="3177" y="7"/>
                      </a:lnTo>
                      <a:lnTo>
                        <a:pt x="3167" y="13"/>
                      </a:lnTo>
                      <a:lnTo>
                        <a:pt x="3157" y="21"/>
                      </a:lnTo>
                      <a:lnTo>
                        <a:pt x="3147" y="36"/>
                      </a:lnTo>
                      <a:lnTo>
                        <a:pt x="3147" y="36"/>
                      </a:lnTo>
                      <a:lnTo>
                        <a:pt x="3231" y="41"/>
                      </a:lnTo>
                      <a:lnTo>
                        <a:pt x="3315" y="51"/>
                      </a:lnTo>
                      <a:lnTo>
                        <a:pt x="3315" y="51"/>
                      </a:lnTo>
                      <a:lnTo>
                        <a:pt x="3307" y="36"/>
                      </a:lnTo>
                      <a:lnTo>
                        <a:pt x="3300" y="25"/>
                      </a:lnTo>
                      <a:lnTo>
                        <a:pt x="3292" y="16"/>
                      </a:lnTo>
                      <a:lnTo>
                        <a:pt x="3282" y="10"/>
                      </a:lnTo>
                      <a:lnTo>
                        <a:pt x="3274" y="7"/>
                      </a:lnTo>
                      <a:lnTo>
                        <a:pt x="3263" y="5"/>
                      </a:lnTo>
                      <a:lnTo>
                        <a:pt x="3235" y="2"/>
                      </a:lnTo>
                      <a:lnTo>
                        <a:pt x="3235" y="2"/>
                      </a:lnTo>
                      <a:close/>
                      <a:moveTo>
                        <a:pt x="4235" y="270"/>
                      </a:moveTo>
                      <a:lnTo>
                        <a:pt x="4235" y="270"/>
                      </a:lnTo>
                      <a:lnTo>
                        <a:pt x="4211" y="259"/>
                      </a:lnTo>
                      <a:lnTo>
                        <a:pt x="4201" y="256"/>
                      </a:lnTo>
                      <a:lnTo>
                        <a:pt x="4191" y="254"/>
                      </a:lnTo>
                      <a:lnTo>
                        <a:pt x="4179" y="254"/>
                      </a:lnTo>
                      <a:lnTo>
                        <a:pt x="4169" y="257"/>
                      </a:lnTo>
                      <a:lnTo>
                        <a:pt x="4156" y="262"/>
                      </a:lnTo>
                      <a:lnTo>
                        <a:pt x="4143" y="272"/>
                      </a:lnTo>
                      <a:lnTo>
                        <a:pt x="4143" y="272"/>
                      </a:lnTo>
                      <a:lnTo>
                        <a:pt x="4219" y="307"/>
                      </a:lnTo>
                      <a:lnTo>
                        <a:pt x="4295" y="343"/>
                      </a:lnTo>
                      <a:lnTo>
                        <a:pt x="4295" y="343"/>
                      </a:lnTo>
                      <a:lnTo>
                        <a:pt x="4293" y="326"/>
                      </a:lnTo>
                      <a:lnTo>
                        <a:pt x="4290" y="313"/>
                      </a:lnTo>
                      <a:lnTo>
                        <a:pt x="4285" y="303"/>
                      </a:lnTo>
                      <a:lnTo>
                        <a:pt x="4278" y="295"/>
                      </a:lnTo>
                      <a:lnTo>
                        <a:pt x="4270" y="289"/>
                      </a:lnTo>
                      <a:lnTo>
                        <a:pt x="4260" y="282"/>
                      </a:lnTo>
                      <a:lnTo>
                        <a:pt x="4235" y="270"/>
                      </a:lnTo>
                      <a:lnTo>
                        <a:pt x="4235" y="270"/>
                      </a:lnTo>
                      <a:close/>
                      <a:moveTo>
                        <a:pt x="2715" y="5949"/>
                      </a:moveTo>
                      <a:lnTo>
                        <a:pt x="2715" y="5949"/>
                      </a:lnTo>
                      <a:lnTo>
                        <a:pt x="2742" y="5950"/>
                      </a:lnTo>
                      <a:lnTo>
                        <a:pt x="2751" y="5950"/>
                      </a:lnTo>
                      <a:lnTo>
                        <a:pt x="2761" y="5949"/>
                      </a:lnTo>
                      <a:lnTo>
                        <a:pt x="2771" y="5945"/>
                      </a:lnTo>
                      <a:lnTo>
                        <a:pt x="2779" y="5940"/>
                      </a:lnTo>
                      <a:lnTo>
                        <a:pt x="2789" y="5932"/>
                      </a:lnTo>
                      <a:lnTo>
                        <a:pt x="2799" y="5921"/>
                      </a:lnTo>
                      <a:lnTo>
                        <a:pt x="2799" y="5921"/>
                      </a:lnTo>
                      <a:lnTo>
                        <a:pt x="2717" y="5914"/>
                      </a:lnTo>
                      <a:lnTo>
                        <a:pt x="2636" y="5906"/>
                      </a:lnTo>
                      <a:lnTo>
                        <a:pt x="2636" y="5906"/>
                      </a:lnTo>
                      <a:lnTo>
                        <a:pt x="2644" y="5919"/>
                      </a:lnTo>
                      <a:lnTo>
                        <a:pt x="2651" y="5929"/>
                      </a:lnTo>
                      <a:lnTo>
                        <a:pt x="2659" y="5936"/>
                      </a:lnTo>
                      <a:lnTo>
                        <a:pt x="2667" y="5940"/>
                      </a:lnTo>
                      <a:lnTo>
                        <a:pt x="2677" y="5944"/>
                      </a:lnTo>
                      <a:lnTo>
                        <a:pt x="2687" y="5947"/>
                      </a:lnTo>
                      <a:lnTo>
                        <a:pt x="2715" y="5949"/>
                      </a:lnTo>
                      <a:lnTo>
                        <a:pt x="2715" y="5949"/>
                      </a:lnTo>
                      <a:close/>
                    </a:path>
                  </a:pathLst>
                </a:custGeom>
                <a:gradFill rotWithShape="0">
                  <a:gsLst>
                    <a:gs pos="0">
                      <a:srgbClr val="74420d"/>
                    </a:gs>
                    <a:gs pos="100000">
                      <a:srgbClr val="f9db82"/>
                    </a:gs>
                  </a:gsLst>
                  <a:lin ang="13620000"/>
                </a:gradFill>
                <a:ln w="9525">
                  <a:noFill/>
                </a:ln>
              </p:spPr>
              <p:style>
                <a:lnRef idx="0"/>
                <a:fillRef idx="0"/>
                <a:effectRef idx="0"/>
                <a:fontRef idx="minor"/>
              </p:style>
              <p:txBody>
                <a:bodyPr numCol="1" spcCol="0" anchor="t">
                  <a:noAutofit/>
                </a:bodyPr>
                <a:p>
                  <a:pPr>
                    <a:lnSpc>
                      <a:spcPct val="85000"/>
                    </a:lnSpc>
                    <a:spcBef>
                      <a:spcPts val="360"/>
                    </a:spcBef>
                  </a:pPr>
                  <a:endParaRPr b="0" lang="en-US" sz="1800" spc="-1" strike="noStrike">
                    <a:solidFill>
                      <a:srgbClr val="000000"/>
                    </a:solidFill>
                    <a:latin typeface="Calibri"/>
                  </a:endParaRPr>
                </a:p>
              </p:txBody>
            </p:sp>
            <p:sp>
              <p:nvSpPr>
                <p:cNvPr id="618" name="Freeform 5"/>
                <p:cNvSpPr/>
                <p:nvPr/>
              </p:nvSpPr>
              <p:spPr>
                <a:xfrm>
                  <a:off x="2215800" y="1574640"/>
                  <a:ext cx="1189080" cy="1189440"/>
                </a:xfrm>
                <a:custGeom>
                  <a:avLst/>
                  <a:gdLst>
                    <a:gd name="textAreaLeft" fmla="*/ 0 w 1189080"/>
                    <a:gd name="textAreaRight" fmla="*/ 1189440 w 1189080"/>
                    <a:gd name="textAreaTop" fmla="*/ 0 h 1189440"/>
                    <a:gd name="textAreaBottom" fmla="*/ 1189800 h 1189440"/>
                  </a:gdLst>
                  <a:ahLst/>
                  <a:rect l="textAreaLeft" t="textAreaTop" r="textAreaRight" b="textAreaBottom"/>
                  <a:pathLst>
                    <a:path w="6142" h="6144">
                      <a:moveTo>
                        <a:pt x="6038" y="3867"/>
                      </a:moveTo>
                      <a:lnTo>
                        <a:pt x="6038" y="3867"/>
                      </a:lnTo>
                      <a:lnTo>
                        <a:pt x="6017" y="3944"/>
                      </a:lnTo>
                      <a:lnTo>
                        <a:pt x="5993" y="4018"/>
                      </a:lnTo>
                      <a:lnTo>
                        <a:pt x="5968" y="4093"/>
                      </a:lnTo>
                      <a:lnTo>
                        <a:pt x="5942" y="4165"/>
                      </a:lnTo>
                      <a:lnTo>
                        <a:pt x="5913" y="4238"/>
                      </a:lnTo>
                      <a:lnTo>
                        <a:pt x="5883" y="4308"/>
                      </a:lnTo>
                      <a:lnTo>
                        <a:pt x="5850" y="4379"/>
                      </a:lnTo>
                      <a:lnTo>
                        <a:pt x="5817" y="4448"/>
                      </a:lnTo>
                      <a:lnTo>
                        <a:pt x="5781" y="4516"/>
                      </a:lnTo>
                      <a:lnTo>
                        <a:pt x="5746" y="4583"/>
                      </a:lnTo>
                      <a:lnTo>
                        <a:pt x="5707" y="4648"/>
                      </a:lnTo>
                      <a:lnTo>
                        <a:pt x="5668" y="4712"/>
                      </a:lnTo>
                      <a:lnTo>
                        <a:pt x="5626" y="4777"/>
                      </a:lnTo>
                      <a:lnTo>
                        <a:pt x="5585" y="4838"/>
                      </a:lnTo>
                      <a:lnTo>
                        <a:pt x="5540" y="4899"/>
                      </a:lnTo>
                      <a:lnTo>
                        <a:pt x="5495" y="4960"/>
                      </a:lnTo>
                      <a:lnTo>
                        <a:pt x="5448" y="5016"/>
                      </a:lnTo>
                      <a:lnTo>
                        <a:pt x="5401" y="5075"/>
                      </a:lnTo>
                      <a:lnTo>
                        <a:pt x="5352" y="5130"/>
                      </a:lnTo>
                      <a:lnTo>
                        <a:pt x="5301" y="5185"/>
                      </a:lnTo>
                      <a:lnTo>
                        <a:pt x="5250" y="5238"/>
                      </a:lnTo>
                      <a:lnTo>
                        <a:pt x="5197" y="5289"/>
                      </a:lnTo>
                      <a:lnTo>
                        <a:pt x="5142" y="5340"/>
                      </a:lnTo>
                      <a:lnTo>
                        <a:pt x="5087" y="5389"/>
                      </a:lnTo>
                      <a:lnTo>
                        <a:pt x="5030" y="5438"/>
                      </a:lnTo>
                      <a:lnTo>
                        <a:pt x="4974" y="5483"/>
                      </a:lnTo>
                      <a:lnTo>
                        <a:pt x="4915" y="5528"/>
                      </a:lnTo>
                      <a:lnTo>
                        <a:pt x="4854" y="5571"/>
                      </a:lnTo>
                      <a:lnTo>
                        <a:pt x="4795" y="5615"/>
                      </a:lnTo>
                      <a:lnTo>
                        <a:pt x="4732" y="5656"/>
                      </a:lnTo>
                      <a:lnTo>
                        <a:pt x="4670" y="5693"/>
                      </a:lnTo>
                      <a:lnTo>
                        <a:pt x="4607" y="5732"/>
                      </a:lnTo>
                      <a:lnTo>
                        <a:pt x="4542" y="5767"/>
                      </a:lnTo>
                      <a:lnTo>
                        <a:pt x="4478" y="5803"/>
                      </a:lnTo>
                      <a:lnTo>
                        <a:pt x="4411" y="5834"/>
                      </a:lnTo>
                      <a:lnTo>
                        <a:pt x="4344" y="5866"/>
                      </a:lnTo>
                      <a:lnTo>
                        <a:pt x="4278" y="5897"/>
                      </a:lnTo>
                      <a:lnTo>
                        <a:pt x="4209" y="5924"/>
                      </a:lnTo>
                      <a:lnTo>
                        <a:pt x="4140" y="5952"/>
                      </a:lnTo>
                      <a:lnTo>
                        <a:pt x="4072" y="5975"/>
                      </a:lnTo>
                      <a:lnTo>
                        <a:pt x="4001" y="5999"/>
                      </a:lnTo>
                      <a:lnTo>
                        <a:pt x="3931" y="6020"/>
                      </a:lnTo>
                      <a:lnTo>
                        <a:pt x="3858" y="6040"/>
                      </a:lnTo>
                      <a:lnTo>
                        <a:pt x="3788" y="6060"/>
                      </a:lnTo>
                      <a:lnTo>
                        <a:pt x="3715" y="6075"/>
                      </a:lnTo>
                      <a:lnTo>
                        <a:pt x="3641" y="6091"/>
                      </a:lnTo>
                      <a:lnTo>
                        <a:pt x="3568" y="6103"/>
                      </a:lnTo>
                      <a:lnTo>
                        <a:pt x="3493" y="6115"/>
                      </a:lnTo>
                      <a:lnTo>
                        <a:pt x="3419" y="6124"/>
                      </a:lnTo>
                      <a:lnTo>
                        <a:pt x="3345" y="6132"/>
                      </a:lnTo>
                      <a:lnTo>
                        <a:pt x="3270" y="6138"/>
                      </a:lnTo>
                      <a:lnTo>
                        <a:pt x="3196" y="6142"/>
                      </a:lnTo>
                      <a:lnTo>
                        <a:pt x="3119" y="6144"/>
                      </a:lnTo>
                      <a:lnTo>
                        <a:pt x="3043" y="6144"/>
                      </a:lnTo>
                      <a:lnTo>
                        <a:pt x="2968" y="6142"/>
                      </a:lnTo>
                      <a:lnTo>
                        <a:pt x="2892" y="6138"/>
                      </a:lnTo>
                      <a:lnTo>
                        <a:pt x="2815" y="6132"/>
                      </a:lnTo>
                      <a:lnTo>
                        <a:pt x="2739" y="6124"/>
                      </a:lnTo>
                      <a:lnTo>
                        <a:pt x="2662" y="6117"/>
                      </a:lnTo>
                      <a:lnTo>
                        <a:pt x="2584" y="6105"/>
                      </a:lnTo>
                      <a:lnTo>
                        <a:pt x="2507" y="6091"/>
                      </a:lnTo>
                      <a:lnTo>
                        <a:pt x="2431" y="6075"/>
                      </a:lnTo>
                      <a:lnTo>
                        <a:pt x="2354" y="6058"/>
                      </a:lnTo>
                      <a:lnTo>
                        <a:pt x="2278" y="6038"/>
                      </a:lnTo>
                      <a:lnTo>
                        <a:pt x="2278" y="6038"/>
                      </a:lnTo>
                      <a:lnTo>
                        <a:pt x="2202" y="6017"/>
                      </a:lnTo>
                      <a:lnTo>
                        <a:pt x="2125" y="5993"/>
                      </a:lnTo>
                      <a:lnTo>
                        <a:pt x="2051" y="5968"/>
                      </a:lnTo>
                      <a:lnTo>
                        <a:pt x="1978" y="5942"/>
                      </a:lnTo>
                      <a:lnTo>
                        <a:pt x="1906" y="5913"/>
                      </a:lnTo>
                      <a:lnTo>
                        <a:pt x="1835" y="5883"/>
                      </a:lnTo>
                      <a:lnTo>
                        <a:pt x="1764" y="5852"/>
                      </a:lnTo>
                      <a:lnTo>
                        <a:pt x="1696" y="5818"/>
                      </a:lnTo>
                      <a:lnTo>
                        <a:pt x="1627" y="5783"/>
                      </a:lnTo>
                      <a:lnTo>
                        <a:pt x="1561" y="5746"/>
                      </a:lnTo>
                      <a:lnTo>
                        <a:pt x="1496" y="5709"/>
                      </a:lnTo>
                      <a:lnTo>
                        <a:pt x="1431" y="5669"/>
                      </a:lnTo>
                      <a:lnTo>
                        <a:pt x="1368" y="5628"/>
                      </a:lnTo>
                      <a:lnTo>
                        <a:pt x="1306" y="5585"/>
                      </a:lnTo>
                      <a:lnTo>
                        <a:pt x="1245" y="5542"/>
                      </a:lnTo>
                      <a:lnTo>
                        <a:pt x="1186" y="5495"/>
                      </a:lnTo>
                      <a:lnTo>
                        <a:pt x="1127" y="5450"/>
                      </a:lnTo>
                      <a:lnTo>
                        <a:pt x="1070" y="5401"/>
                      </a:lnTo>
                      <a:lnTo>
                        <a:pt x="1014" y="5352"/>
                      </a:lnTo>
                      <a:lnTo>
                        <a:pt x="959" y="5301"/>
                      </a:lnTo>
                      <a:lnTo>
                        <a:pt x="906" y="5250"/>
                      </a:lnTo>
                      <a:lnTo>
                        <a:pt x="855" y="5197"/>
                      </a:lnTo>
                      <a:lnTo>
                        <a:pt x="804" y="5142"/>
                      </a:lnTo>
                      <a:lnTo>
                        <a:pt x="755" y="5087"/>
                      </a:lnTo>
                      <a:lnTo>
                        <a:pt x="708" y="5030"/>
                      </a:lnTo>
                      <a:lnTo>
                        <a:pt x="661" y="4973"/>
                      </a:lnTo>
                      <a:lnTo>
                        <a:pt x="616" y="4914"/>
                      </a:lnTo>
                      <a:lnTo>
                        <a:pt x="572" y="4856"/>
                      </a:lnTo>
                      <a:lnTo>
                        <a:pt x="529" y="4795"/>
                      </a:lnTo>
                      <a:lnTo>
                        <a:pt x="490" y="4734"/>
                      </a:lnTo>
                      <a:lnTo>
                        <a:pt x="451" y="4671"/>
                      </a:lnTo>
                      <a:lnTo>
                        <a:pt x="414" y="4607"/>
                      </a:lnTo>
                      <a:lnTo>
                        <a:pt x="376" y="4544"/>
                      </a:lnTo>
                      <a:lnTo>
                        <a:pt x="343" y="4477"/>
                      </a:lnTo>
                      <a:lnTo>
                        <a:pt x="310" y="4412"/>
                      </a:lnTo>
                      <a:lnTo>
                        <a:pt x="278" y="4346"/>
                      </a:lnTo>
                      <a:lnTo>
                        <a:pt x="249" y="4277"/>
                      </a:lnTo>
                      <a:lnTo>
                        <a:pt x="220" y="4210"/>
                      </a:lnTo>
                      <a:lnTo>
                        <a:pt x="194" y="4140"/>
                      </a:lnTo>
                      <a:lnTo>
                        <a:pt x="169" y="4071"/>
                      </a:lnTo>
                      <a:lnTo>
                        <a:pt x="145" y="4001"/>
                      </a:lnTo>
                      <a:lnTo>
                        <a:pt x="124" y="3930"/>
                      </a:lnTo>
                      <a:lnTo>
                        <a:pt x="104" y="3859"/>
                      </a:lnTo>
                      <a:lnTo>
                        <a:pt x="86" y="3787"/>
                      </a:lnTo>
                      <a:lnTo>
                        <a:pt x="69" y="3714"/>
                      </a:lnTo>
                      <a:lnTo>
                        <a:pt x="55" y="3642"/>
                      </a:lnTo>
                      <a:lnTo>
                        <a:pt x="41" y="3567"/>
                      </a:lnTo>
                      <a:lnTo>
                        <a:pt x="29" y="3495"/>
                      </a:lnTo>
                      <a:lnTo>
                        <a:pt x="20" y="3420"/>
                      </a:lnTo>
                      <a:lnTo>
                        <a:pt x="14" y="3346"/>
                      </a:lnTo>
                      <a:lnTo>
                        <a:pt x="8" y="3269"/>
                      </a:lnTo>
                      <a:lnTo>
                        <a:pt x="4" y="3195"/>
                      </a:lnTo>
                      <a:lnTo>
                        <a:pt x="2" y="3118"/>
                      </a:lnTo>
                      <a:lnTo>
                        <a:pt x="0" y="3044"/>
                      </a:lnTo>
                      <a:lnTo>
                        <a:pt x="2" y="2967"/>
                      </a:lnTo>
                      <a:lnTo>
                        <a:pt x="6" y="2891"/>
                      </a:lnTo>
                      <a:lnTo>
                        <a:pt x="12" y="2814"/>
                      </a:lnTo>
                      <a:lnTo>
                        <a:pt x="20" y="2738"/>
                      </a:lnTo>
                      <a:lnTo>
                        <a:pt x="29" y="2661"/>
                      </a:lnTo>
                      <a:lnTo>
                        <a:pt x="41" y="2585"/>
                      </a:lnTo>
                      <a:lnTo>
                        <a:pt x="53" y="2508"/>
                      </a:lnTo>
                      <a:lnTo>
                        <a:pt x="69" y="2430"/>
                      </a:lnTo>
                      <a:lnTo>
                        <a:pt x="86" y="2353"/>
                      </a:lnTo>
                      <a:lnTo>
                        <a:pt x="106" y="2277"/>
                      </a:lnTo>
                      <a:lnTo>
                        <a:pt x="106" y="2277"/>
                      </a:lnTo>
                      <a:lnTo>
                        <a:pt x="127" y="2200"/>
                      </a:lnTo>
                      <a:lnTo>
                        <a:pt x="151" y="2126"/>
                      </a:lnTo>
                      <a:lnTo>
                        <a:pt x="176" y="2051"/>
                      </a:lnTo>
                      <a:lnTo>
                        <a:pt x="202" y="1977"/>
                      </a:lnTo>
                      <a:lnTo>
                        <a:pt x="231" y="1906"/>
                      </a:lnTo>
                      <a:lnTo>
                        <a:pt x="261" y="1834"/>
                      </a:lnTo>
                      <a:lnTo>
                        <a:pt x="294" y="1763"/>
                      </a:lnTo>
                      <a:lnTo>
                        <a:pt x="327" y="1694"/>
                      </a:lnTo>
                      <a:lnTo>
                        <a:pt x="361" y="1628"/>
                      </a:lnTo>
                      <a:lnTo>
                        <a:pt x="398" y="1561"/>
                      </a:lnTo>
                      <a:lnTo>
                        <a:pt x="437" y="1494"/>
                      </a:lnTo>
                      <a:lnTo>
                        <a:pt x="476" y="1430"/>
                      </a:lnTo>
                      <a:lnTo>
                        <a:pt x="518" y="1367"/>
                      </a:lnTo>
                      <a:lnTo>
                        <a:pt x="559" y="1304"/>
                      </a:lnTo>
                      <a:lnTo>
                        <a:pt x="604" y="1243"/>
                      </a:lnTo>
                      <a:lnTo>
                        <a:pt x="649" y="1184"/>
                      </a:lnTo>
                      <a:lnTo>
                        <a:pt x="696" y="1126"/>
                      </a:lnTo>
                      <a:lnTo>
                        <a:pt x="743" y="1069"/>
                      </a:lnTo>
                      <a:lnTo>
                        <a:pt x="792" y="1014"/>
                      </a:lnTo>
                      <a:lnTo>
                        <a:pt x="843" y="959"/>
                      </a:lnTo>
                      <a:lnTo>
                        <a:pt x="894" y="906"/>
                      </a:lnTo>
                      <a:lnTo>
                        <a:pt x="947" y="853"/>
                      </a:lnTo>
                      <a:lnTo>
                        <a:pt x="1002" y="802"/>
                      </a:lnTo>
                      <a:lnTo>
                        <a:pt x="1057" y="753"/>
                      </a:lnTo>
                      <a:lnTo>
                        <a:pt x="1114" y="706"/>
                      </a:lnTo>
                      <a:lnTo>
                        <a:pt x="1170" y="659"/>
                      </a:lnTo>
                      <a:lnTo>
                        <a:pt x="1229" y="614"/>
                      </a:lnTo>
                      <a:lnTo>
                        <a:pt x="1288" y="571"/>
                      </a:lnTo>
                      <a:lnTo>
                        <a:pt x="1349" y="529"/>
                      </a:lnTo>
                      <a:lnTo>
                        <a:pt x="1412" y="488"/>
                      </a:lnTo>
                      <a:lnTo>
                        <a:pt x="1474" y="449"/>
                      </a:lnTo>
                      <a:lnTo>
                        <a:pt x="1537" y="412"/>
                      </a:lnTo>
                      <a:lnTo>
                        <a:pt x="1602" y="377"/>
                      </a:lnTo>
                      <a:lnTo>
                        <a:pt x="1666" y="341"/>
                      </a:lnTo>
                      <a:lnTo>
                        <a:pt x="1731" y="308"/>
                      </a:lnTo>
                      <a:lnTo>
                        <a:pt x="1798" y="277"/>
                      </a:lnTo>
                      <a:lnTo>
                        <a:pt x="1866" y="247"/>
                      </a:lnTo>
                      <a:lnTo>
                        <a:pt x="1935" y="220"/>
                      </a:lnTo>
                      <a:lnTo>
                        <a:pt x="2004" y="192"/>
                      </a:lnTo>
                      <a:lnTo>
                        <a:pt x="2072" y="167"/>
                      </a:lnTo>
                      <a:lnTo>
                        <a:pt x="2143" y="143"/>
                      </a:lnTo>
                      <a:lnTo>
                        <a:pt x="2213" y="122"/>
                      </a:lnTo>
                      <a:lnTo>
                        <a:pt x="2286" y="102"/>
                      </a:lnTo>
                      <a:lnTo>
                        <a:pt x="2356" y="84"/>
                      </a:lnTo>
                      <a:lnTo>
                        <a:pt x="2429" y="67"/>
                      </a:lnTo>
                      <a:lnTo>
                        <a:pt x="2503" y="53"/>
                      </a:lnTo>
                      <a:lnTo>
                        <a:pt x="2576" y="39"/>
                      </a:lnTo>
                      <a:lnTo>
                        <a:pt x="2651" y="29"/>
                      </a:lnTo>
                      <a:lnTo>
                        <a:pt x="2725" y="20"/>
                      </a:lnTo>
                      <a:lnTo>
                        <a:pt x="2799" y="12"/>
                      </a:lnTo>
                      <a:lnTo>
                        <a:pt x="2874" y="6"/>
                      </a:lnTo>
                      <a:lnTo>
                        <a:pt x="2948" y="2"/>
                      </a:lnTo>
                      <a:lnTo>
                        <a:pt x="3025" y="0"/>
                      </a:lnTo>
                      <a:lnTo>
                        <a:pt x="3099" y="0"/>
                      </a:lnTo>
                      <a:lnTo>
                        <a:pt x="3176" y="2"/>
                      </a:lnTo>
                      <a:lnTo>
                        <a:pt x="3252" y="6"/>
                      </a:lnTo>
                      <a:lnTo>
                        <a:pt x="3329" y="10"/>
                      </a:lnTo>
                      <a:lnTo>
                        <a:pt x="3405" y="18"/>
                      </a:lnTo>
                      <a:lnTo>
                        <a:pt x="3482" y="27"/>
                      </a:lnTo>
                      <a:lnTo>
                        <a:pt x="3560" y="39"/>
                      </a:lnTo>
                      <a:lnTo>
                        <a:pt x="3637" y="53"/>
                      </a:lnTo>
                      <a:lnTo>
                        <a:pt x="3713" y="69"/>
                      </a:lnTo>
                      <a:lnTo>
                        <a:pt x="3790" y="86"/>
                      </a:lnTo>
                      <a:lnTo>
                        <a:pt x="3866" y="106"/>
                      </a:lnTo>
                      <a:lnTo>
                        <a:pt x="3866" y="106"/>
                      </a:lnTo>
                      <a:lnTo>
                        <a:pt x="3942" y="126"/>
                      </a:lnTo>
                      <a:lnTo>
                        <a:pt x="4019" y="149"/>
                      </a:lnTo>
                      <a:lnTo>
                        <a:pt x="4093" y="175"/>
                      </a:lnTo>
                      <a:lnTo>
                        <a:pt x="4166" y="202"/>
                      </a:lnTo>
                      <a:lnTo>
                        <a:pt x="4238" y="229"/>
                      </a:lnTo>
                      <a:lnTo>
                        <a:pt x="4309" y="261"/>
                      </a:lnTo>
                      <a:lnTo>
                        <a:pt x="4380" y="292"/>
                      </a:lnTo>
                      <a:lnTo>
                        <a:pt x="4448" y="326"/>
                      </a:lnTo>
                      <a:lnTo>
                        <a:pt x="4517" y="361"/>
                      </a:lnTo>
                      <a:lnTo>
                        <a:pt x="4583" y="396"/>
                      </a:lnTo>
                      <a:lnTo>
                        <a:pt x="4648" y="435"/>
                      </a:lnTo>
                      <a:lnTo>
                        <a:pt x="4713" y="475"/>
                      </a:lnTo>
                      <a:lnTo>
                        <a:pt x="4776" y="516"/>
                      </a:lnTo>
                      <a:lnTo>
                        <a:pt x="4838" y="559"/>
                      </a:lnTo>
                      <a:lnTo>
                        <a:pt x="4899" y="602"/>
                      </a:lnTo>
                      <a:lnTo>
                        <a:pt x="4958" y="647"/>
                      </a:lnTo>
                      <a:lnTo>
                        <a:pt x="5017" y="694"/>
                      </a:lnTo>
                      <a:lnTo>
                        <a:pt x="5074" y="741"/>
                      </a:lnTo>
                      <a:lnTo>
                        <a:pt x="5130" y="792"/>
                      </a:lnTo>
                      <a:lnTo>
                        <a:pt x="5183" y="841"/>
                      </a:lnTo>
                      <a:lnTo>
                        <a:pt x="5238" y="894"/>
                      </a:lnTo>
                      <a:lnTo>
                        <a:pt x="5289" y="947"/>
                      </a:lnTo>
                      <a:lnTo>
                        <a:pt x="5340" y="1000"/>
                      </a:lnTo>
                      <a:lnTo>
                        <a:pt x="5389" y="1055"/>
                      </a:lnTo>
                      <a:lnTo>
                        <a:pt x="5436" y="1112"/>
                      </a:lnTo>
                      <a:lnTo>
                        <a:pt x="5483" y="1171"/>
                      </a:lnTo>
                      <a:lnTo>
                        <a:pt x="5528" y="1228"/>
                      </a:lnTo>
                      <a:lnTo>
                        <a:pt x="5572" y="1288"/>
                      </a:lnTo>
                      <a:lnTo>
                        <a:pt x="5613" y="1349"/>
                      </a:lnTo>
                      <a:lnTo>
                        <a:pt x="5654" y="1410"/>
                      </a:lnTo>
                      <a:lnTo>
                        <a:pt x="5693" y="1473"/>
                      </a:lnTo>
                      <a:lnTo>
                        <a:pt x="5730" y="1536"/>
                      </a:lnTo>
                      <a:lnTo>
                        <a:pt x="5768" y="1600"/>
                      </a:lnTo>
                      <a:lnTo>
                        <a:pt x="5801" y="1665"/>
                      </a:lnTo>
                      <a:lnTo>
                        <a:pt x="5834" y="1732"/>
                      </a:lnTo>
                      <a:lnTo>
                        <a:pt x="5866" y="1798"/>
                      </a:lnTo>
                      <a:lnTo>
                        <a:pt x="5895" y="1865"/>
                      </a:lnTo>
                      <a:lnTo>
                        <a:pt x="5924" y="1934"/>
                      </a:lnTo>
                      <a:lnTo>
                        <a:pt x="5950" y="2002"/>
                      </a:lnTo>
                      <a:lnTo>
                        <a:pt x="5975" y="2073"/>
                      </a:lnTo>
                      <a:lnTo>
                        <a:pt x="5999" y="2141"/>
                      </a:lnTo>
                      <a:lnTo>
                        <a:pt x="6020" y="2214"/>
                      </a:lnTo>
                      <a:lnTo>
                        <a:pt x="6040" y="2285"/>
                      </a:lnTo>
                      <a:lnTo>
                        <a:pt x="6058" y="2357"/>
                      </a:lnTo>
                      <a:lnTo>
                        <a:pt x="6075" y="2430"/>
                      </a:lnTo>
                      <a:lnTo>
                        <a:pt x="6089" y="2502"/>
                      </a:lnTo>
                      <a:lnTo>
                        <a:pt x="6103" y="2575"/>
                      </a:lnTo>
                      <a:lnTo>
                        <a:pt x="6115" y="2649"/>
                      </a:lnTo>
                      <a:lnTo>
                        <a:pt x="6122" y="2724"/>
                      </a:lnTo>
                      <a:lnTo>
                        <a:pt x="6130" y="2798"/>
                      </a:lnTo>
                      <a:lnTo>
                        <a:pt x="6136" y="2873"/>
                      </a:lnTo>
                      <a:lnTo>
                        <a:pt x="6140" y="2949"/>
                      </a:lnTo>
                      <a:lnTo>
                        <a:pt x="6142" y="3024"/>
                      </a:lnTo>
                      <a:lnTo>
                        <a:pt x="6142" y="3100"/>
                      </a:lnTo>
                      <a:lnTo>
                        <a:pt x="6142" y="3177"/>
                      </a:lnTo>
                      <a:lnTo>
                        <a:pt x="6138" y="3253"/>
                      </a:lnTo>
                      <a:lnTo>
                        <a:pt x="6132" y="3330"/>
                      </a:lnTo>
                      <a:lnTo>
                        <a:pt x="6124" y="3406"/>
                      </a:lnTo>
                      <a:lnTo>
                        <a:pt x="6115" y="3483"/>
                      </a:lnTo>
                      <a:lnTo>
                        <a:pt x="6103" y="3559"/>
                      </a:lnTo>
                      <a:lnTo>
                        <a:pt x="6091" y="3636"/>
                      </a:lnTo>
                      <a:lnTo>
                        <a:pt x="6075" y="3712"/>
                      </a:lnTo>
                      <a:lnTo>
                        <a:pt x="6058" y="3789"/>
                      </a:lnTo>
                      <a:lnTo>
                        <a:pt x="6038" y="3867"/>
                      </a:lnTo>
                      <a:lnTo>
                        <a:pt x="6038" y="3867"/>
                      </a:lnTo>
                      <a:close/>
                      <a:moveTo>
                        <a:pt x="3848" y="171"/>
                      </a:moveTo>
                      <a:lnTo>
                        <a:pt x="3848" y="171"/>
                      </a:lnTo>
                      <a:lnTo>
                        <a:pt x="3774" y="151"/>
                      </a:lnTo>
                      <a:lnTo>
                        <a:pt x="3699" y="133"/>
                      </a:lnTo>
                      <a:lnTo>
                        <a:pt x="3623" y="120"/>
                      </a:lnTo>
                      <a:lnTo>
                        <a:pt x="3548" y="106"/>
                      </a:lnTo>
                      <a:lnTo>
                        <a:pt x="3474" y="94"/>
                      </a:lnTo>
                      <a:lnTo>
                        <a:pt x="3399" y="84"/>
                      </a:lnTo>
                      <a:lnTo>
                        <a:pt x="3323" y="78"/>
                      </a:lnTo>
                      <a:lnTo>
                        <a:pt x="3248" y="73"/>
                      </a:lnTo>
                      <a:lnTo>
                        <a:pt x="3174" y="69"/>
                      </a:lnTo>
                      <a:lnTo>
                        <a:pt x="3099" y="67"/>
                      </a:lnTo>
                      <a:lnTo>
                        <a:pt x="3025" y="67"/>
                      </a:lnTo>
                      <a:lnTo>
                        <a:pt x="2952" y="69"/>
                      </a:lnTo>
                      <a:lnTo>
                        <a:pt x="2878" y="73"/>
                      </a:lnTo>
                      <a:lnTo>
                        <a:pt x="2805" y="78"/>
                      </a:lnTo>
                      <a:lnTo>
                        <a:pt x="2731" y="86"/>
                      </a:lnTo>
                      <a:lnTo>
                        <a:pt x="2658" y="96"/>
                      </a:lnTo>
                      <a:lnTo>
                        <a:pt x="2588" y="106"/>
                      </a:lnTo>
                      <a:lnTo>
                        <a:pt x="2515" y="120"/>
                      </a:lnTo>
                      <a:lnTo>
                        <a:pt x="2443" y="133"/>
                      </a:lnTo>
                      <a:lnTo>
                        <a:pt x="2372" y="149"/>
                      </a:lnTo>
                      <a:lnTo>
                        <a:pt x="2302" y="167"/>
                      </a:lnTo>
                      <a:lnTo>
                        <a:pt x="2233" y="186"/>
                      </a:lnTo>
                      <a:lnTo>
                        <a:pt x="2164" y="208"/>
                      </a:lnTo>
                      <a:lnTo>
                        <a:pt x="2094" y="231"/>
                      </a:lnTo>
                      <a:lnTo>
                        <a:pt x="2027" y="255"/>
                      </a:lnTo>
                      <a:lnTo>
                        <a:pt x="1958" y="282"/>
                      </a:lnTo>
                      <a:lnTo>
                        <a:pt x="1892" y="310"/>
                      </a:lnTo>
                      <a:lnTo>
                        <a:pt x="1827" y="337"/>
                      </a:lnTo>
                      <a:lnTo>
                        <a:pt x="1762" y="369"/>
                      </a:lnTo>
                      <a:lnTo>
                        <a:pt x="1698" y="402"/>
                      </a:lnTo>
                      <a:lnTo>
                        <a:pt x="1633" y="435"/>
                      </a:lnTo>
                      <a:lnTo>
                        <a:pt x="1570" y="471"/>
                      </a:lnTo>
                      <a:lnTo>
                        <a:pt x="1510" y="508"/>
                      </a:lnTo>
                      <a:lnTo>
                        <a:pt x="1447" y="545"/>
                      </a:lnTo>
                      <a:lnTo>
                        <a:pt x="1388" y="584"/>
                      </a:lnTo>
                      <a:lnTo>
                        <a:pt x="1327" y="626"/>
                      </a:lnTo>
                      <a:lnTo>
                        <a:pt x="1270" y="669"/>
                      </a:lnTo>
                      <a:lnTo>
                        <a:pt x="1214" y="712"/>
                      </a:lnTo>
                      <a:lnTo>
                        <a:pt x="1157" y="759"/>
                      </a:lnTo>
                      <a:lnTo>
                        <a:pt x="1102" y="804"/>
                      </a:lnTo>
                      <a:lnTo>
                        <a:pt x="1047" y="853"/>
                      </a:lnTo>
                      <a:lnTo>
                        <a:pt x="994" y="902"/>
                      </a:lnTo>
                      <a:lnTo>
                        <a:pt x="943" y="953"/>
                      </a:lnTo>
                      <a:lnTo>
                        <a:pt x="892" y="1004"/>
                      </a:lnTo>
                      <a:lnTo>
                        <a:pt x="843" y="1059"/>
                      </a:lnTo>
                      <a:lnTo>
                        <a:pt x="794" y="1114"/>
                      </a:lnTo>
                      <a:lnTo>
                        <a:pt x="747" y="1169"/>
                      </a:lnTo>
                      <a:lnTo>
                        <a:pt x="702" y="1226"/>
                      </a:lnTo>
                      <a:lnTo>
                        <a:pt x="657" y="1284"/>
                      </a:lnTo>
                      <a:lnTo>
                        <a:pt x="616" y="1343"/>
                      </a:lnTo>
                      <a:lnTo>
                        <a:pt x="572" y="1404"/>
                      </a:lnTo>
                      <a:lnTo>
                        <a:pt x="533" y="1467"/>
                      </a:lnTo>
                      <a:lnTo>
                        <a:pt x="494" y="1530"/>
                      </a:lnTo>
                      <a:lnTo>
                        <a:pt x="457" y="1594"/>
                      </a:lnTo>
                      <a:lnTo>
                        <a:pt x="421" y="1659"/>
                      </a:lnTo>
                      <a:lnTo>
                        <a:pt x="386" y="1726"/>
                      </a:lnTo>
                      <a:lnTo>
                        <a:pt x="355" y="1792"/>
                      </a:lnTo>
                      <a:lnTo>
                        <a:pt x="323" y="1861"/>
                      </a:lnTo>
                      <a:lnTo>
                        <a:pt x="294" y="1932"/>
                      </a:lnTo>
                      <a:lnTo>
                        <a:pt x="267" y="2002"/>
                      </a:lnTo>
                      <a:lnTo>
                        <a:pt x="239" y="2073"/>
                      </a:lnTo>
                      <a:lnTo>
                        <a:pt x="216" y="2145"/>
                      </a:lnTo>
                      <a:lnTo>
                        <a:pt x="192" y="2220"/>
                      </a:lnTo>
                      <a:lnTo>
                        <a:pt x="171" y="2294"/>
                      </a:lnTo>
                      <a:lnTo>
                        <a:pt x="171" y="2294"/>
                      </a:lnTo>
                      <a:lnTo>
                        <a:pt x="153" y="2369"/>
                      </a:lnTo>
                      <a:lnTo>
                        <a:pt x="135" y="2445"/>
                      </a:lnTo>
                      <a:lnTo>
                        <a:pt x="120" y="2520"/>
                      </a:lnTo>
                      <a:lnTo>
                        <a:pt x="108" y="2594"/>
                      </a:lnTo>
                      <a:lnTo>
                        <a:pt x="96" y="2669"/>
                      </a:lnTo>
                      <a:lnTo>
                        <a:pt x="86" y="2745"/>
                      </a:lnTo>
                      <a:lnTo>
                        <a:pt x="78" y="2820"/>
                      </a:lnTo>
                      <a:lnTo>
                        <a:pt x="74" y="2895"/>
                      </a:lnTo>
                      <a:lnTo>
                        <a:pt x="71" y="2969"/>
                      </a:lnTo>
                      <a:lnTo>
                        <a:pt x="69" y="3044"/>
                      </a:lnTo>
                      <a:lnTo>
                        <a:pt x="69" y="3118"/>
                      </a:lnTo>
                      <a:lnTo>
                        <a:pt x="71" y="3193"/>
                      </a:lnTo>
                      <a:lnTo>
                        <a:pt x="74" y="3265"/>
                      </a:lnTo>
                      <a:lnTo>
                        <a:pt x="80" y="3340"/>
                      </a:lnTo>
                      <a:lnTo>
                        <a:pt x="88" y="3412"/>
                      </a:lnTo>
                      <a:lnTo>
                        <a:pt x="96" y="3485"/>
                      </a:lnTo>
                      <a:lnTo>
                        <a:pt x="108" y="3557"/>
                      </a:lnTo>
                      <a:lnTo>
                        <a:pt x="120" y="3628"/>
                      </a:lnTo>
                      <a:lnTo>
                        <a:pt x="135" y="3701"/>
                      </a:lnTo>
                      <a:lnTo>
                        <a:pt x="151" y="3771"/>
                      </a:lnTo>
                      <a:lnTo>
                        <a:pt x="169" y="3842"/>
                      </a:lnTo>
                      <a:lnTo>
                        <a:pt x="188" y="3910"/>
                      </a:lnTo>
                      <a:lnTo>
                        <a:pt x="210" y="3981"/>
                      </a:lnTo>
                      <a:lnTo>
                        <a:pt x="231" y="4050"/>
                      </a:lnTo>
                      <a:lnTo>
                        <a:pt x="257" y="4116"/>
                      </a:lnTo>
                      <a:lnTo>
                        <a:pt x="282" y="4185"/>
                      </a:lnTo>
                      <a:lnTo>
                        <a:pt x="310" y="4252"/>
                      </a:lnTo>
                      <a:lnTo>
                        <a:pt x="339" y="4316"/>
                      </a:lnTo>
                      <a:lnTo>
                        <a:pt x="371" y="4383"/>
                      </a:lnTo>
                      <a:lnTo>
                        <a:pt x="402" y="4448"/>
                      </a:lnTo>
                      <a:lnTo>
                        <a:pt x="435" y="4510"/>
                      </a:lnTo>
                      <a:lnTo>
                        <a:pt x="471" y="4573"/>
                      </a:lnTo>
                      <a:lnTo>
                        <a:pt x="508" y="4636"/>
                      </a:lnTo>
                      <a:lnTo>
                        <a:pt x="547" y="4697"/>
                      </a:lnTo>
                      <a:lnTo>
                        <a:pt x="586" y="4758"/>
                      </a:lnTo>
                      <a:lnTo>
                        <a:pt x="627" y="4816"/>
                      </a:lnTo>
                      <a:lnTo>
                        <a:pt x="670" y="4875"/>
                      </a:lnTo>
                      <a:lnTo>
                        <a:pt x="714" y="4932"/>
                      </a:lnTo>
                      <a:lnTo>
                        <a:pt x="759" y="4987"/>
                      </a:lnTo>
                      <a:lnTo>
                        <a:pt x="806" y="5042"/>
                      </a:lnTo>
                      <a:lnTo>
                        <a:pt x="855" y="5097"/>
                      </a:lnTo>
                      <a:lnTo>
                        <a:pt x="904" y="5150"/>
                      </a:lnTo>
                      <a:lnTo>
                        <a:pt x="955" y="5201"/>
                      </a:lnTo>
                      <a:lnTo>
                        <a:pt x="1006" y="5252"/>
                      </a:lnTo>
                      <a:lnTo>
                        <a:pt x="1059" y="5301"/>
                      </a:lnTo>
                      <a:lnTo>
                        <a:pt x="1114" y="5350"/>
                      </a:lnTo>
                      <a:lnTo>
                        <a:pt x="1170" y="5397"/>
                      </a:lnTo>
                      <a:lnTo>
                        <a:pt x="1227" y="5442"/>
                      </a:lnTo>
                      <a:lnTo>
                        <a:pt x="1286" y="5487"/>
                      </a:lnTo>
                      <a:lnTo>
                        <a:pt x="1345" y="5530"/>
                      </a:lnTo>
                      <a:lnTo>
                        <a:pt x="1406" y="5571"/>
                      </a:lnTo>
                      <a:lnTo>
                        <a:pt x="1466" y="5611"/>
                      </a:lnTo>
                      <a:lnTo>
                        <a:pt x="1531" y="5650"/>
                      </a:lnTo>
                      <a:lnTo>
                        <a:pt x="1594" y="5687"/>
                      </a:lnTo>
                      <a:lnTo>
                        <a:pt x="1660" y="5722"/>
                      </a:lnTo>
                      <a:lnTo>
                        <a:pt x="1725" y="5758"/>
                      </a:lnTo>
                      <a:lnTo>
                        <a:pt x="1794" y="5791"/>
                      </a:lnTo>
                      <a:lnTo>
                        <a:pt x="1862" y="5820"/>
                      </a:lnTo>
                      <a:lnTo>
                        <a:pt x="1931" y="5850"/>
                      </a:lnTo>
                      <a:lnTo>
                        <a:pt x="2002" y="5879"/>
                      </a:lnTo>
                      <a:lnTo>
                        <a:pt x="2074" y="5905"/>
                      </a:lnTo>
                      <a:lnTo>
                        <a:pt x="2147" y="5930"/>
                      </a:lnTo>
                      <a:lnTo>
                        <a:pt x="2219" y="5952"/>
                      </a:lnTo>
                      <a:lnTo>
                        <a:pt x="2296" y="5973"/>
                      </a:lnTo>
                      <a:lnTo>
                        <a:pt x="2296" y="5973"/>
                      </a:lnTo>
                      <a:lnTo>
                        <a:pt x="2370" y="5993"/>
                      </a:lnTo>
                      <a:lnTo>
                        <a:pt x="2445" y="6009"/>
                      </a:lnTo>
                      <a:lnTo>
                        <a:pt x="2521" y="6024"/>
                      </a:lnTo>
                      <a:lnTo>
                        <a:pt x="2596" y="6038"/>
                      </a:lnTo>
                      <a:lnTo>
                        <a:pt x="2670" y="6048"/>
                      </a:lnTo>
                      <a:lnTo>
                        <a:pt x="2745" y="6058"/>
                      </a:lnTo>
                      <a:lnTo>
                        <a:pt x="2821" y="6066"/>
                      </a:lnTo>
                      <a:lnTo>
                        <a:pt x="2896" y="6071"/>
                      </a:lnTo>
                      <a:lnTo>
                        <a:pt x="2970" y="6073"/>
                      </a:lnTo>
                      <a:lnTo>
                        <a:pt x="3045" y="6075"/>
                      </a:lnTo>
                      <a:lnTo>
                        <a:pt x="3119" y="6075"/>
                      </a:lnTo>
                      <a:lnTo>
                        <a:pt x="3192" y="6073"/>
                      </a:lnTo>
                      <a:lnTo>
                        <a:pt x="3266" y="6069"/>
                      </a:lnTo>
                      <a:lnTo>
                        <a:pt x="3339" y="6064"/>
                      </a:lnTo>
                      <a:lnTo>
                        <a:pt x="3413" y="6058"/>
                      </a:lnTo>
                      <a:lnTo>
                        <a:pt x="3486" y="6048"/>
                      </a:lnTo>
                      <a:lnTo>
                        <a:pt x="3556" y="6036"/>
                      </a:lnTo>
                      <a:lnTo>
                        <a:pt x="3629" y="6024"/>
                      </a:lnTo>
                      <a:lnTo>
                        <a:pt x="3699" y="6009"/>
                      </a:lnTo>
                      <a:lnTo>
                        <a:pt x="3772" y="5993"/>
                      </a:lnTo>
                      <a:lnTo>
                        <a:pt x="3842" y="5975"/>
                      </a:lnTo>
                      <a:lnTo>
                        <a:pt x="3911" y="5956"/>
                      </a:lnTo>
                      <a:lnTo>
                        <a:pt x="3980" y="5934"/>
                      </a:lnTo>
                      <a:lnTo>
                        <a:pt x="4048" y="5913"/>
                      </a:lnTo>
                      <a:lnTo>
                        <a:pt x="4117" y="5887"/>
                      </a:lnTo>
                      <a:lnTo>
                        <a:pt x="4186" y="5862"/>
                      </a:lnTo>
                      <a:lnTo>
                        <a:pt x="4252" y="5834"/>
                      </a:lnTo>
                      <a:lnTo>
                        <a:pt x="4317" y="5805"/>
                      </a:lnTo>
                      <a:lnTo>
                        <a:pt x="4382" y="5773"/>
                      </a:lnTo>
                      <a:lnTo>
                        <a:pt x="4446" y="5742"/>
                      </a:lnTo>
                      <a:lnTo>
                        <a:pt x="4511" y="5709"/>
                      </a:lnTo>
                      <a:lnTo>
                        <a:pt x="4574" y="5673"/>
                      </a:lnTo>
                      <a:lnTo>
                        <a:pt x="4634" y="5636"/>
                      </a:lnTo>
                      <a:lnTo>
                        <a:pt x="4697" y="5599"/>
                      </a:lnTo>
                      <a:lnTo>
                        <a:pt x="4756" y="5558"/>
                      </a:lnTo>
                      <a:lnTo>
                        <a:pt x="4815" y="5516"/>
                      </a:lnTo>
                      <a:lnTo>
                        <a:pt x="4874" y="5475"/>
                      </a:lnTo>
                      <a:lnTo>
                        <a:pt x="4930" y="5430"/>
                      </a:lnTo>
                      <a:lnTo>
                        <a:pt x="4987" y="5385"/>
                      </a:lnTo>
                      <a:lnTo>
                        <a:pt x="5042" y="5338"/>
                      </a:lnTo>
                      <a:lnTo>
                        <a:pt x="5097" y="5291"/>
                      </a:lnTo>
                      <a:lnTo>
                        <a:pt x="5150" y="5242"/>
                      </a:lnTo>
                      <a:lnTo>
                        <a:pt x="5201" y="5191"/>
                      </a:lnTo>
                      <a:lnTo>
                        <a:pt x="5252" y="5138"/>
                      </a:lnTo>
                      <a:lnTo>
                        <a:pt x="5301" y="5085"/>
                      </a:lnTo>
                      <a:lnTo>
                        <a:pt x="5350" y="5030"/>
                      </a:lnTo>
                      <a:lnTo>
                        <a:pt x="5397" y="4975"/>
                      </a:lnTo>
                      <a:lnTo>
                        <a:pt x="5442" y="4916"/>
                      </a:lnTo>
                      <a:lnTo>
                        <a:pt x="5487" y="4860"/>
                      </a:lnTo>
                      <a:lnTo>
                        <a:pt x="5528" y="4799"/>
                      </a:lnTo>
                      <a:lnTo>
                        <a:pt x="5572" y="4738"/>
                      </a:lnTo>
                      <a:lnTo>
                        <a:pt x="5611" y="4677"/>
                      </a:lnTo>
                      <a:lnTo>
                        <a:pt x="5650" y="4614"/>
                      </a:lnTo>
                      <a:lnTo>
                        <a:pt x="5687" y="4550"/>
                      </a:lnTo>
                      <a:lnTo>
                        <a:pt x="5723" y="4485"/>
                      </a:lnTo>
                      <a:lnTo>
                        <a:pt x="5758" y="4418"/>
                      </a:lnTo>
                      <a:lnTo>
                        <a:pt x="5789" y="4350"/>
                      </a:lnTo>
                      <a:lnTo>
                        <a:pt x="5821" y="4281"/>
                      </a:lnTo>
                      <a:lnTo>
                        <a:pt x="5850" y="4212"/>
                      </a:lnTo>
                      <a:lnTo>
                        <a:pt x="5877" y="4142"/>
                      </a:lnTo>
                      <a:lnTo>
                        <a:pt x="5905" y="4069"/>
                      </a:lnTo>
                      <a:lnTo>
                        <a:pt x="5928" y="3997"/>
                      </a:lnTo>
                      <a:lnTo>
                        <a:pt x="5952" y="3924"/>
                      </a:lnTo>
                      <a:lnTo>
                        <a:pt x="5971" y="3850"/>
                      </a:lnTo>
                      <a:lnTo>
                        <a:pt x="5971" y="3850"/>
                      </a:lnTo>
                      <a:lnTo>
                        <a:pt x="5991" y="3773"/>
                      </a:lnTo>
                      <a:lnTo>
                        <a:pt x="6009" y="3699"/>
                      </a:lnTo>
                      <a:lnTo>
                        <a:pt x="6024" y="3624"/>
                      </a:lnTo>
                      <a:lnTo>
                        <a:pt x="6036" y="3548"/>
                      </a:lnTo>
                      <a:lnTo>
                        <a:pt x="6048" y="3473"/>
                      </a:lnTo>
                      <a:lnTo>
                        <a:pt x="6058" y="3399"/>
                      </a:lnTo>
                      <a:lnTo>
                        <a:pt x="6066" y="3324"/>
                      </a:lnTo>
                      <a:lnTo>
                        <a:pt x="6070" y="3248"/>
                      </a:lnTo>
                      <a:lnTo>
                        <a:pt x="6073" y="3173"/>
                      </a:lnTo>
                      <a:lnTo>
                        <a:pt x="6075" y="3098"/>
                      </a:lnTo>
                      <a:lnTo>
                        <a:pt x="6075" y="3026"/>
                      </a:lnTo>
                      <a:lnTo>
                        <a:pt x="6073" y="2951"/>
                      </a:lnTo>
                      <a:lnTo>
                        <a:pt x="6070" y="2877"/>
                      </a:lnTo>
                      <a:lnTo>
                        <a:pt x="6064" y="2804"/>
                      </a:lnTo>
                      <a:lnTo>
                        <a:pt x="6056" y="2732"/>
                      </a:lnTo>
                      <a:lnTo>
                        <a:pt x="6048" y="2659"/>
                      </a:lnTo>
                      <a:lnTo>
                        <a:pt x="6036" y="2587"/>
                      </a:lnTo>
                      <a:lnTo>
                        <a:pt x="6022" y="2514"/>
                      </a:lnTo>
                      <a:lnTo>
                        <a:pt x="6009" y="2443"/>
                      </a:lnTo>
                      <a:lnTo>
                        <a:pt x="5993" y="2373"/>
                      </a:lnTo>
                      <a:lnTo>
                        <a:pt x="5975" y="2302"/>
                      </a:lnTo>
                      <a:lnTo>
                        <a:pt x="5956" y="2232"/>
                      </a:lnTo>
                      <a:lnTo>
                        <a:pt x="5934" y="2163"/>
                      </a:lnTo>
                      <a:lnTo>
                        <a:pt x="5911" y="2094"/>
                      </a:lnTo>
                      <a:lnTo>
                        <a:pt x="5887" y="2026"/>
                      </a:lnTo>
                      <a:lnTo>
                        <a:pt x="5862" y="1959"/>
                      </a:lnTo>
                      <a:lnTo>
                        <a:pt x="5834" y="1892"/>
                      </a:lnTo>
                      <a:lnTo>
                        <a:pt x="5805" y="1826"/>
                      </a:lnTo>
                      <a:lnTo>
                        <a:pt x="5773" y="1761"/>
                      </a:lnTo>
                      <a:lnTo>
                        <a:pt x="5742" y="1696"/>
                      </a:lnTo>
                      <a:lnTo>
                        <a:pt x="5707" y="1632"/>
                      </a:lnTo>
                      <a:lnTo>
                        <a:pt x="5672" y="1569"/>
                      </a:lnTo>
                      <a:lnTo>
                        <a:pt x="5636" y="1508"/>
                      </a:lnTo>
                      <a:lnTo>
                        <a:pt x="5597" y="1447"/>
                      </a:lnTo>
                      <a:lnTo>
                        <a:pt x="5558" y="1386"/>
                      </a:lnTo>
                      <a:lnTo>
                        <a:pt x="5517" y="1328"/>
                      </a:lnTo>
                      <a:lnTo>
                        <a:pt x="5474" y="1269"/>
                      </a:lnTo>
                      <a:lnTo>
                        <a:pt x="5430" y="1212"/>
                      </a:lnTo>
                      <a:lnTo>
                        <a:pt x="5385" y="1155"/>
                      </a:lnTo>
                      <a:lnTo>
                        <a:pt x="5338" y="1100"/>
                      </a:lnTo>
                      <a:lnTo>
                        <a:pt x="5289" y="1047"/>
                      </a:lnTo>
                      <a:lnTo>
                        <a:pt x="5240" y="994"/>
                      </a:lnTo>
                      <a:lnTo>
                        <a:pt x="5189" y="941"/>
                      </a:lnTo>
                      <a:lnTo>
                        <a:pt x="5138" y="890"/>
                      </a:lnTo>
                      <a:lnTo>
                        <a:pt x="5085" y="841"/>
                      </a:lnTo>
                      <a:lnTo>
                        <a:pt x="5030" y="794"/>
                      </a:lnTo>
                      <a:lnTo>
                        <a:pt x="4974" y="747"/>
                      </a:lnTo>
                      <a:lnTo>
                        <a:pt x="4917" y="700"/>
                      </a:lnTo>
                      <a:lnTo>
                        <a:pt x="4858" y="657"/>
                      </a:lnTo>
                      <a:lnTo>
                        <a:pt x="4799" y="614"/>
                      </a:lnTo>
                      <a:lnTo>
                        <a:pt x="4738" y="573"/>
                      </a:lnTo>
                      <a:lnTo>
                        <a:pt x="4678" y="531"/>
                      </a:lnTo>
                      <a:lnTo>
                        <a:pt x="4613" y="492"/>
                      </a:lnTo>
                      <a:lnTo>
                        <a:pt x="4550" y="455"/>
                      </a:lnTo>
                      <a:lnTo>
                        <a:pt x="4484" y="420"/>
                      </a:lnTo>
                      <a:lnTo>
                        <a:pt x="4419" y="386"/>
                      </a:lnTo>
                      <a:lnTo>
                        <a:pt x="4350" y="353"/>
                      </a:lnTo>
                      <a:lnTo>
                        <a:pt x="4282" y="322"/>
                      </a:lnTo>
                      <a:lnTo>
                        <a:pt x="4213" y="292"/>
                      </a:lnTo>
                      <a:lnTo>
                        <a:pt x="4142" y="265"/>
                      </a:lnTo>
                      <a:lnTo>
                        <a:pt x="4070" y="239"/>
                      </a:lnTo>
                      <a:lnTo>
                        <a:pt x="3997" y="214"/>
                      </a:lnTo>
                      <a:lnTo>
                        <a:pt x="3923" y="190"/>
                      </a:lnTo>
                      <a:lnTo>
                        <a:pt x="3848" y="171"/>
                      </a:lnTo>
                      <a:lnTo>
                        <a:pt x="3848" y="171"/>
                      </a:lnTo>
                      <a:close/>
                    </a:path>
                  </a:pathLst>
                </a:custGeom>
                <a:gradFill rotWithShape="0">
                  <a:gsLst>
                    <a:gs pos="0">
                      <a:srgbClr val="74420d"/>
                    </a:gs>
                    <a:gs pos="100000">
                      <a:srgbClr val="c89834"/>
                    </a:gs>
                  </a:gsLst>
                  <a:lin ang="2460000"/>
                </a:gradFill>
                <a:ln w="9525">
                  <a:noFill/>
                </a:ln>
              </p:spPr>
              <p:style>
                <a:lnRef idx="0"/>
                <a:fillRef idx="0"/>
                <a:effectRef idx="0"/>
                <a:fontRef idx="minor"/>
              </p:style>
              <p:txBody>
                <a:bodyPr numCol="1" spcCol="0" anchor="t">
                  <a:noAutofit/>
                </a:bodyPr>
                <a:p>
                  <a:pPr>
                    <a:lnSpc>
                      <a:spcPct val="85000"/>
                    </a:lnSpc>
                    <a:spcBef>
                      <a:spcPts val="360"/>
                    </a:spcBef>
                  </a:pPr>
                  <a:endParaRPr b="0" lang="en-US" sz="1800" spc="-1" strike="noStrike">
                    <a:solidFill>
                      <a:srgbClr val="000000"/>
                    </a:solidFill>
                    <a:latin typeface="Calibri"/>
                  </a:endParaRPr>
                </a:p>
              </p:txBody>
            </p:sp>
            <p:sp>
              <p:nvSpPr>
                <p:cNvPr id="619" name="Freeform 9"/>
                <p:cNvSpPr/>
                <p:nvPr/>
              </p:nvSpPr>
              <p:spPr>
                <a:xfrm flipV="1" rot="10800000">
                  <a:off x="2677680" y="2035800"/>
                  <a:ext cx="266040" cy="266040"/>
                </a:xfrm>
                <a:custGeom>
                  <a:avLst/>
                  <a:gdLst>
                    <a:gd name="textAreaLeft" fmla="*/ 0 w 266040"/>
                    <a:gd name="textAreaRight" fmla="*/ 266400 w 266040"/>
                    <a:gd name="textAreaTop" fmla="*/ -360 h 266040"/>
                    <a:gd name="textAreaBottom" fmla="*/ 266040 h 266040"/>
                  </a:gdLst>
                  <a:ahLst/>
                  <a:rect l="textAreaLeft" t="textAreaTop" r="textAreaRight" b="textAreaBottom"/>
                  <a:pathLst>
                    <a:path w="4320" h="4320">
                      <a:moveTo>
                        <a:pt x="4245" y="2719"/>
                      </a:moveTo>
                      <a:lnTo>
                        <a:pt x="4245" y="2719"/>
                      </a:lnTo>
                      <a:lnTo>
                        <a:pt x="4231" y="2773"/>
                      </a:lnTo>
                      <a:lnTo>
                        <a:pt x="4215" y="2826"/>
                      </a:lnTo>
                      <a:lnTo>
                        <a:pt x="4197" y="2878"/>
                      </a:lnTo>
                      <a:lnTo>
                        <a:pt x="4178" y="2930"/>
                      </a:lnTo>
                      <a:lnTo>
                        <a:pt x="4158" y="2980"/>
                      </a:lnTo>
                      <a:lnTo>
                        <a:pt x="4138" y="3031"/>
                      </a:lnTo>
                      <a:lnTo>
                        <a:pt x="4115" y="3080"/>
                      </a:lnTo>
                      <a:lnTo>
                        <a:pt x="4091" y="3128"/>
                      </a:lnTo>
                      <a:lnTo>
                        <a:pt x="4067" y="3176"/>
                      </a:lnTo>
                      <a:lnTo>
                        <a:pt x="4040" y="3223"/>
                      </a:lnTo>
                      <a:lnTo>
                        <a:pt x="4014" y="3269"/>
                      </a:lnTo>
                      <a:lnTo>
                        <a:pt x="3986" y="3315"/>
                      </a:lnTo>
                      <a:lnTo>
                        <a:pt x="3958" y="3359"/>
                      </a:lnTo>
                      <a:lnTo>
                        <a:pt x="3927" y="3402"/>
                      </a:lnTo>
                      <a:lnTo>
                        <a:pt x="3897" y="3445"/>
                      </a:lnTo>
                      <a:lnTo>
                        <a:pt x="3865" y="3488"/>
                      </a:lnTo>
                      <a:lnTo>
                        <a:pt x="3831" y="3528"/>
                      </a:lnTo>
                      <a:lnTo>
                        <a:pt x="3798" y="3569"/>
                      </a:lnTo>
                      <a:lnTo>
                        <a:pt x="3763" y="3608"/>
                      </a:lnTo>
                      <a:lnTo>
                        <a:pt x="3727" y="3646"/>
                      </a:lnTo>
                      <a:lnTo>
                        <a:pt x="3691" y="3683"/>
                      </a:lnTo>
                      <a:lnTo>
                        <a:pt x="3654" y="3719"/>
                      </a:lnTo>
                      <a:lnTo>
                        <a:pt x="3617" y="3755"/>
                      </a:lnTo>
                      <a:lnTo>
                        <a:pt x="3577" y="3790"/>
                      </a:lnTo>
                      <a:lnTo>
                        <a:pt x="3538" y="3823"/>
                      </a:lnTo>
                      <a:lnTo>
                        <a:pt x="3497" y="3857"/>
                      </a:lnTo>
                      <a:lnTo>
                        <a:pt x="3456" y="3887"/>
                      </a:lnTo>
                      <a:lnTo>
                        <a:pt x="3414" y="3918"/>
                      </a:lnTo>
                      <a:lnTo>
                        <a:pt x="3372" y="3948"/>
                      </a:lnTo>
                      <a:lnTo>
                        <a:pt x="3328" y="3976"/>
                      </a:lnTo>
                      <a:lnTo>
                        <a:pt x="3284" y="4004"/>
                      </a:lnTo>
                      <a:lnTo>
                        <a:pt x="3240" y="4030"/>
                      </a:lnTo>
                      <a:lnTo>
                        <a:pt x="3195" y="4055"/>
                      </a:lnTo>
                      <a:lnTo>
                        <a:pt x="3149" y="4080"/>
                      </a:lnTo>
                      <a:lnTo>
                        <a:pt x="3103" y="4103"/>
                      </a:lnTo>
                      <a:lnTo>
                        <a:pt x="3056" y="4126"/>
                      </a:lnTo>
                      <a:lnTo>
                        <a:pt x="3008" y="4146"/>
                      </a:lnTo>
                      <a:lnTo>
                        <a:pt x="2960" y="4166"/>
                      </a:lnTo>
                      <a:lnTo>
                        <a:pt x="2912" y="4184"/>
                      </a:lnTo>
                      <a:lnTo>
                        <a:pt x="2863" y="4203"/>
                      </a:lnTo>
                      <a:lnTo>
                        <a:pt x="2814" y="4219"/>
                      </a:lnTo>
                      <a:lnTo>
                        <a:pt x="2765" y="4233"/>
                      </a:lnTo>
                      <a:lnTo>
                        <a:pt x="2714" y="4248"/>
                      </a:lnTo>
                      <a:lnTo>
                        <a:pt x="2663" y="4260"/>
                      </a:lnTo>
                      <a:lnTo>
                        <a:pt x="2613" y="4272"/>
                      </a:lnTo>
                      <a:lnTo>
                        <a:pt x="2561" y="4283"/>
                      </a:lnTo>
                      <a:lnTo>
                        <a:pt x="2509" y="4292"/>
                      </a:lnTo>
                      <a:lnTo>
                        <a:pt x="2457" y="4300"/>
                      </a:lnTo>
                      <a:lnTo>
                        <a:pt x="2405" y="4307"/>
                      </a:lnTo>
                      <a:lnTo>
                        <a:pt x="2353" y="4312"/>
                      </a:lnTo>
                      <a:lnTo>
                        <a:pt x="2300" y="4316"/>
                      </a:lnTo>
                      <a:lnTo>
                        <a:pt x="2247" y="4319"/>
                      </a:lnTo>
                      <a:lnTo>
                        <a:pt x="2193" y="4320"/>
                      </a:lnTo>
                      <a:lnTo>
                        <a:pt x="2140" y="4320"/>
                      </a:lnTo>
                      <a:lnTo>
                        <a:pt x="2087" y="4319"/>
                      </a:lnTo>
                      <a:lnTo>
                        <a:pt x="2033" y="4316"/>
                      </a:lnTo>
                      <a:lnTo>
                        <a:pt x="1979" y="4312"/>
                      </a:lnTo>
                      <a:lnTo>
                        <a:pt x="1926" y="4307"/>
                      </a:lnTo>
                      <a:lnTo>
                        <a:pt x="1871" y="4300"/>
                      </a:lnTo>
                      <a:lnTo>
                        <a:pt x="1818" y="4292"/>
                      </a:lnTo>
                      <a:lnTo>
                        <a:pt x="1763" y="4283"/>
                      </a:lnTo>
                      <a:lnTo>
                        <a:pt x="1710" y="4272"/>
                      </a:lnTo>
                      <a:lnTo>
                        <a:pt x="1655" y="4260"/>
                      </a:lnTo>
                      <a:lnTo>
                        <a:pt x="1602" y="4245"/>
                      </a:lnTo>
                      <a:lnTo>
                        <a:pt x="1602" y="4245"/>
                      </a:lnTo>
                      <a:lnTo>
                        <a:pt x="1547" y="4231"/>
                      </a:lnTo>
                      <a:lnTo>
                        <a:pt x="1495" y="4215"/>
                      </a:lnTo>
                      <a:lnTo>
                        <a:pt x="1442" y="4197"/>
                      </a:lnTo>
                      <a:lnTo>
                        <a:pt x="1392" y="4178"/>
                      </a:lnTo>
                      <a:lnTo>
                        <a:pt x="1341" y="4158"/>
                      </a:lnTo>
                      <a:lnTo>
                        <a:pt x="1290" y="4136"/>
                      </a:lnTo>
                      <a:lnTo>
                        <a:pt x="1241" y="4115"/>
                      </a:lnTo>
                      <a:lnTo>
                        <a:pt x="1193" y="4091"/>
                      </a:lnTo>
                      <a:lnTo>
                        <a:pt x="1145" y="4067"/>
                      </a:lnTo>
                      <a:lnTo>
                        <a:pt x="1097" y="4040"/>
                      </a:lnTo>
                      <a:lnTo>
                        <a:pt x="1052" y="4014"/>
                      </a:lnTo>
                      <a:lnTo>
                        <a:pt x="1007" y="3986"/>
                      </a:lnTo>
                      <a:lnTo>
                        <a:pt x="961" y="3958"/>
                      </a:lnTo>
                      <a:lnTo>
                        <a:pt x="919" y="3927"/>
                      </a:lnTo>
                      <a:lnTo>
                        <a:pt x="875" y="3897"/>
                      </a:lnTo>
                      <a:lnTo>
                        <a:pt x="834" y="3865"/>
                      </a:lnTo>
                      <a:lnTo>
                        <a:pt x="792" y="3831"/>
                      </a:lnTo>
                      <a:lnTo>
                        <a:pt x="752" y="3798"/>
                      </a:lnTo>
                      <a:lnTo>
                        <a:pt x="714" y="3763"/>
                      </a:lnTo>
                      <a:lnTo>
                        <a:pt x="675" y="3727"/>
                      </a:lnTo>
                      <a:lnTo>
                        <a:pt x="638" y="3691"/>
                      </a:lnTo>
                      <a:lnTo>
                        <a:pt x="601" y="3654"/>
                      </a:lnTo>
                      <a:lnTo>
                        <a:pt x="566" y="3616"/>
                      </a:lnTo>
                      <a:lnTo>
                        <a:pt x="531" y="3577"/>
                      </a:lnTo>
                      <a:lnTo>
                        <a:pt x="497" y="3538"/>
                      </a:lnTo>
                      <a:lnTo>
                        <a:pt x="465" y="3497"/>
                      </a:lnTo>
                      <a:lnTo>
                        <a:pt x="433" y="3456"/>
                      </a:lnTo>
                      <a:lnTo>
                        <a:pt x="402" y="3414"/>
                      </a:lnTo>
                      <a:lnTo>
                        <a:pt x="373" y="3372"/>
                      </a:lnTo>
                      <a:lnTo>
                        <a:pt x="345" y="3328"/>
                      </a:lnTo>
                      <a:lnTo>
                        <a:pt x="317" y="3284"/>
                      </a:lnTo>
                      <a:lnTo>
                        <a:pt x="290" y="3240"/>
                      </a:lnTo>
                      <a:lnTo>
                        <a:pt x="265" y="3195"/>
                      </a:lnTo>
                      <a:lnTo>
                        <a:pt x="241" y="3149"/>
                      </a:lnTo>
                      <a:lnTo>
                        <a:pt x="217" y="3103"/>
                      </a:lnTo>
                      <a:lnTo>
                        <a:pt x="196" y="3056"/>
                      </a:lnTo>
                      <a:lnTo>
                        <a:pt x="174" y="3008"/>
                      </a:lnTo>
                      <a:lnTo>
                        <a:pt x="154" y="2960"/>
                      </a:lnTo>
                      <a:lnTo>
                        <a:pt x="136" y="2912"/>
                      </a:lnTo>
                      <a:lnTo>
                        <a:pt x="119" y="2863"/>
                      </a:lnTo>
                      <a:lnTo>
                        <a:pt x="103" y="2814"/>
                      </a:lnTo>
                      <a:lnTo>
                        <a:pt x="87" y="2763"/>
                      </a:lnTo>
                      <a:lnTo>
                        <a:pt x="73" y="2714"/>
                      </a:lnTo>
                      <a:lnTo>
                        <a:pt x="60" y="2663"/>
                      </a:lnTo>
                      <a:lnTo>
                        <a:pt x="48" y="2611"/>
                      </a:lnTo>
                      <a:lnTo>
                        <a:pt x="39" y="2561"/>
                      </a:lnTo>
                      <a:lnTo>
                        <a:pt x="29" y="2509"/>
                      </a:lnTo>
                      <a:lnTo>
                        <a:pt x="21" y="2457"/>
                      </a:lnTo>
                      <a:lnTo>
                        <a:pt x="15" y="2405"/>
                      </a:lnTo>
                      <a:lnTo>
                        <a:pt x="9" y="2353"/>
                      </a:lnTo>
                      <a:lnTo>
                        <a:pt x="5" y="2300"/>
                      </a:lnTo>
                      <a:lnTo>
                        <a:pt x="3" y="2247"/>
                      </a:lnTo>
                      <a:lnTo>
                        <a:pt x="1" y="2193"/>
                      </a:lnTo>
                      <a:lnTo>
                        <a:pt x="0" y="2140"/>
                      </a:lnTo>
                      <a:lnTo>
                        <a:pt x="1" y="2087"/>
                      </a:lnTo>
                      <a:lnTo>
                        <a:pt x="4" y="2033"/>
                      </a:lnTo>
                      <a:lnTo>
                        <a:pt x="8" y="1979"/>
                      </a:lnTo>
                      <a:lnTo>
                        <a:pt x="13" y="1926"/>
                      </a:lnTo>
                      <a:lnTo>
                        <a:pt x="20" y="1871"/>
                      </a:lnTo>
                      <a:lnTo>
                        <a:pt x="28" y="1818"/>
                      </a:lnTo>
                      <a:lnTo>
                        <a:pt x="37" y="1763"/>
                      </a:lnTo>
                      <a:lnTo>
                        <a:pt x="49" y="1710"/>
                      </a:lnTo>
                      <a:lnTo>
                        <a:pt x="61" y="1655"/>
                      </a:lnTo>
                      <a:lnTo>
                        <a:pt x="75" y="1602"/>
                      </a:lnTo>
                      <a:lnTo>
                        <a:pt x="75" y="1602"/>
                      </a:lnTo>
                      <a:lnTo>
                        <a:pt x="89" y="1547"/>
                      </a:lnTo>
                      <a:lnTo>
                        <a:pt x="107" y="1494"/>
                      </a:lnTo>
                      <a:lnTo>
                        <a:pt x="124" y="1442"/>
                      </a:lnTo>
                      <a:lnTo>
                        <a:pt x="142" y="1392"/>
                      </a:lnTo>
                      <a:lnTo>
                        <a:pt x="162" y="1340"/>
                      </a:lnTo>
                      <a:lnTo>
                        <a:pt x="184" y="1290"/>
                      </a:lnTo>
                      <a:lnTo>
                        <a:pt x="206" y="1241"/>
                      </a:lnTo>
                      <a:lnTo>
                        <a:pt x="229" y="1192"/>
                      </a:lnTo>
                      <a:lnTo>
                        <a:pt x="254" y="1145"/>
                      </a:lnTo>
                      <a:lnTo>
                        <a:pt x="280" y="1097"/>
                      </a:lnTo>
                      <a:lnTo>
                        <a:pt x="306" y="1052"/>
                      </a:lnTo>
                      <a:lnTo>
                        <a:pt x="334" y="1007"/>
                      </a:lnTo>
                      <a:lnTo>
                        <a:pt x="364" y="961"/>
                      </a:lnTo>
                      <a:lnTo>
                        <a:pt x="393" y="918"/>
                      </a:lnTo>
                      <a:lnTo>
                        <a:pt x="425" y="875"/>
                      </a:lnTo>
                      <a:lnTo>
                        <a:pt x="457" y="834"/>
                      </a:lnTo>
                      <a:lnTo>
                        <a:pt x="489" y="792"/>
                      </a:lnTo>
                      <a:lnTo>
                        <a:pt x="522" y="752"/>
                      </a:lnTo>
                      <a:lnTo>
                        <a:pt x="557" y="712"/>
                      </a:lnTo>
                      <a:lnTo>
                        <a:pt x="593" y="675"/>
                      </a:lnTo>
                      <a:lnTo>
                        <a:pt x="629" y="638"/>
                      </a:lnTo>
                      <a:lnTo>
                        <a:pt x="666" y="601"/>
                      </a:lnTo>
                      <a:lnTo>
                        <a:pt x="704" y="565"/>
                      </a:lnTo>
                      <a:lnTo>
                        <a:pt x="743" y="531"/>
                      </a:lnTo>
                      <a:lnTo>
                        <a:pt x="783" y="497"/>
                      </a:lnTo>
                      <a:lnTo>
                        <a:pt x="823" y="465"/>
                      </a:lnTo>
                      <a:lnTo>
                        <a:pt x="864" y="433"/>
                      </a:lnTo>
                      <a:lnTo>
                        <a:pt x="907" y="402"/>
                      </a:lnTo>
                      <a:lnTo>
                        <a:pt x="949" y="373"/>
                      </a:lnTo>
                      <a:lnTo>
                        <a:pt x="992" y="344"/>
                      </a:lnTo>
                      <a:lnTo>
                        <a:pt x="1036" y="317"/>
                      </a:lnTo>
                      <a:lnTo>
                        <a:pt x="1081" y="290"/>
                      </a:lnTo>
                      <a:lnTo>
                        <a:pt x="1125" y="265"/>
                      </a:lnTo>
                      <a:lnTo>
                        <a:pt x="1172" y="241"/>
                      </a:lnTo>
                      <a:lnTo>
                        <a:pt x="1218" y="217"/>
                      </a:lnTo>
                      <a:lnTo>
                        <a:pt x="1265" y="196"/>
                      </a:lnTo>
                      <a:lnTo>
                        <a:pt x="1313" y="174"/>
                      </a:lnTo>
                      <a:lnTo>
                        <a:pt x="1361" y="154"/>
                      </a:lnTo>
                      <a:lnTo>
                        <a:pt x="1409" y="136"/>
                      </a:lnTo>
                      <a:lnTo>
                        <a:pt x="1458" y="119"/>
                      </a:lnTo>
                      <a:lnTo>
                        <a:pt x="1507" y="103"/>
                      </a:lnTo>
                      <a:lnTo>
                        <a:pt x="1557" y="87"/>
                      </a:lnTo>
                      <a:lnTo>
                        <a:pt x="1607" y="73"/>
                      </a:lnTo>
                      <a:lnTo>
                        <a:pt x="1658" y="60"/>
                      </a:lnTo>
                      <a:lnTo>
                        <a:pt x="1709" y="48"/>
                      </a:lnTo>
                      <a:lnTo>
                        <a:pt x="1760" y="37"/>
                      </a:lnTo>
                      <a:lnTo>
                        <a:pt x="1811" y="29"/>
                      </a:lnTo>
                      <a:lnTo>
                        <a:pt x="1863" y="21"/>
                      </a:lnTo>
                      <a:lnTo>
                        <a:pt x="1916" y="15"/>
                      </a:lnTo>
                      <a:lnTo>
                        <a:pt x="1968" y="9"/>
                      </a:lnTo>
                      <a:lnTo>
                        <a:pt x="2022" y="5"/>
                      </a:lnTo>
                      <a:lnTo>
                        <a:pt x="2073" y="3"/>
                      </a:lnTo>
                      <a:lnTo>
                        <a:pt x="2127" y="1"/>
                      </a:lnTo>
                      <a:lnTo>
                        <a:pt x="2180" y="0"/>
                      </a:lnTo>
                      <a:lnTo>
                        <a:pt x="2235" y="1"/>
                      </a:lnTo>
                      <a:lnTo>
                        <a:pt x="2288" y="4"/>
                      </a:lnTo>
                      <a:lnTo>
                        <a:pt x="2341" y="8"/>
                      </a:lnTo>
                      <a:lnTo>
                        <a:pt x="2396" y="13"/>
                      </a:lnTo>
                      <a:lnTo>
                        <a:pt x="2449" y="20"/>
                      </a:lnTo>
                      <a:lnTo>
                        <a:pt x="2504" y="28"/>
                      </a:lnTo>
                      <a:lnTo>
                        <a:pt x="2557" y="37"/>
                      </a:lnTo>
                      <a:lnTo>
                        <a:pt x="2611" y="48"/>
                      </a:lnTo>
                      <a:lnTo>
                        <a:pt x="2665" y="61"/>
                      </a:lnTo>
                      <a:lnTo>
                        <a:pt x="2719" y="75"/>
                      </a:lnTo>
                      <a:lnTo>
                        <a:pt x="2719" y="75"/>
                      </a:lnTo>
                      <a:lnTo>
                        <a:pt x="2773" y="89"/>
                      </a:lnTo>
                      <a:lnTo>
                        <a:pt x="2826" y="107"/>
                      </a:lnTo>
                      <a:lnTo>
                        <a:pt x="2878" y="124"/>
                      </a:lnTo>
                      <a:lnTo>
                        <a:pt x="2930" y="142"/>
                      </a:lnTo>
                      <a:lnTo>
                        <a:pt x="2980" y="162"/>
                      </a:lnTo>
                      <a:lnTo>
                        <a:pt x="3031" y="184"/>
                      </a:lnTo>
                      <a:lnTo>
                        <a:pt x="3080" y="206"/>
                      </a:lnTo>
                      <a:lnTo>
                        <a:pt x="3128" y="229"/>
                      </a:lnTo>
                      <a:lnTo>
                        <a:pt x="3176" y="254"/>
                      </a:lnTo>
                      <a:lnTo>
                        <a:pt x="3223" y="280"/>
                      </a:lnTo>
                      <a:lnTo>
                        <a:pt x="3269" y="306"/>
                      </a:lnTo>
                      <a:lnTo>
                        <a:pt x="3315" y="334"/>
                      </a:lnTo>
                      <a:lnTo>
                        <a:pt x="3359" y="364"/>
                      </a:lnTo>
                      <a:lnTo>
                        <a:pt x="3402" y="393"/>
                      </a:lnTo>
                      <a:lnTo>
                        <a:pt x="3445" y="425"/>
                      </a:lnTo>
                      <a:lnTo>
                        <a:pt x="3488" y="455"/>
                      </a:lnTo>
                      <a:lnTo>
                        <a:pt x="3528" y="489"/>
                      </a:lnTo>
                      <a:lnTo>
                        <a:pt x="3569" y="522"/>
                      </a:lnTo>
                      <a:lnTo>
                        <a:pt x="3608" y="557"/>
                      </a:lnTo>
                      <a:lnTo>
                        <a:pt x="3646" y="593"/>
                      </a:lnTo>
                      <a:lnTo>
                        <a:pt x="3683" y="629"/>
                      </a:lnTo>
                      <a:lnTo>
                        <a:pt x="3719" y="666"/>
                      </a:lnTo>
                      <a:lnTo>
                        <a:pt x="3755" y="704"/>
                      </a:lnTo>
                      <a:lnTo>
                        <a:pt x="3790" y="743"/>
                      </a:lnTo>
                      <a:lnTo>
                        <a:pt x="3823" y="783"/>
                      </a:lnTo>
                      <a:lnTo>
                        <a:pt x="3857" y="823"/>
                      </a:lnTo>
                      <a:lnTo>
                        <a:pt x="3887" y="864"/>
                      </a:lnTo>
                      <a:lnTo>
                        <a:pt x="3918" y="907"/>
                      </a:lnTo>
                      <a:lnTo>
                        <a:pt x="3948" y="949"/>
                      </a:lnTo>
                      <a:lnTo>
                        <a:pt x="3976" y="992"/>
                      </a:lnTo>
                      <a:lnTo>
                        <a:pt x="4004" y="1036"/>
                      </a:lnTo>
                      <a:lnTo>
                        <a:pt x="4031" y="1080"/>
                      </a:lnTo>
                      <a:lnTo>
                        <a:pt x="4056" y="1125"/>
                      </a:lnTo>
                      <a:lnTo>
                        <a:pt x="4080" y="1172"/>
                      </a:lnTo>
                      <a:lnTo>
                        <a:pt x="4103" y="1218"/>
                      </a:lnTo>
                      <a:lnTo>
                        <a:pt x="4126" y="1265"/>
                      </a:lnTo>
                      <a:lnTo>
                        <a:pt x="4147" y="1312"/>
                      </a:lnTo>
                      <a:lnTo>
                        <a:pt x="4166" y="1360"/>
                      </a:lnTo>
                      <a:lnTo>
                        <a:pt x="4184" y="1409"/>
                      </a:lnTo>
                      <a:lnTo>
                        <a:pt x="4203" y="1458"/>
                      </a:lnTo>
                      <a:lnTo>
                        <a:pt x="4219" y="1507"/>
                      </a:lnTo>
                      <a:lnTo>
                        <a:pt x="4233" y="1557"/>
                      </a:lnTo>
                      <a:lnTo>
                        <a:pt x="4248" y="1607"/>
                      </a:lnTo>
                      <a:lnTo>
                        <a:pt x="4261" y="1658"/>
                      </a:lnTo>
                      <a:lnTo>
                        <a:pt x="4272" y="1709"/>
                      </a:lnTo>
                      <a:lnTo>
                        <a:pt x="4283" y="1759"/>
                      </a:lnTo>
                      <a:lnTo>
                        <a:pt x="4292" y="1811"/>
                      </a:lnTo>
                      <a:lnTo>
                        <a:pt x="4300" y="1863"/>
                      </a:lnTo>
                      <a:lnTo>
                        <a:pt x="4307" y="1915"/>
                      </a:lnTo>
                      <a:lnTo>
                        <a:pt x="4312" y="1968"/>
                      </a:lnTo>
                      <a:lnTo>
                        <a:pt x="4316" y="2022"/>
                      </a:lnTo>
                      <a:lnTo>
                        <a:pt x="4319" y="2073"/>
                      </a:lnTo>
                      <a:lnTo>
                        <a:pt x="4320" y="2127"/>
                      </a:lnTo>
                      <a:lnTo>
                        <a:pt x="4320" y="2180"/>
                      </a:lnTo>
                      <a:lnTo>
                        <a:pt x="4319" y="2233"/>
                      </a:lnTo>
                      <a:lnTo>
                        <a:pt x="4316" y="2288"/>
                      </a:lnTo>
                      <a:lnTo>
                        <a:pt x="4312" y="2341"/>
                      </a:lnTo>
                      <a:lnTo>
                        <a:pt x="4307" y="2396"/>
                      </a:lnTo>
                      <a:lnTo>
                        <a:pt x="4300" y="2449"/>
                      </a:lnTo>
                      <a:lnTo>
                        <a:pt x="4292" y="2504"/>
                      </a:lnTo>
                      <a:lnTo>
                        <a:pt x="4283" y="2557"/>
                      </a:lnTo>
                      <a:lnTo>
                        <a:pt x="4272" y="2611"/>
                      </a:lnTo>
                      <a:lnTo>
                        <a:pt x="4260" y="2665"/>
                      </a:lnTo>
                      <a:lnTo>
                        <a:pt x="4245" y="2719"/>
                      </a:lnTo>
                      <a:lnTo>
                        <a:pt x="4245" y="2719"/>
                      </a:lnTo>
                      <a:close/>
                      <a:moveTo>
                        <a:pt x="2695" y="165"/>
                      </a:moveTo>
                      <a:lnTo>
                        <a:pt x="2695" y="165"/>
                      </a:lnTo>
                      <a:lnTo>
                        <a:pt x="2643" y="152"/>
                      </a:lnTo>
                      <a:lnTo>
                        <a:pt x="2591" y="141"/>
                      </a:lnTo>
                      <a:lnTo>
                        <a:pt x="2540" y="131"/>
                      </a:lnTo>
                      <a:lnTo>
                        <a:pt x="2488" y="121"/>
                      </a:lnTo>
                      <a:lnTo>
                        <a:pt x="2437" y="113"/>
                      </a:lnTo>
                      <a:lnTo>
                        <a:pt x="2385" y="107"/>
                      </a:lnTo>
                      <a:lnTo>
                        <a:pt x="2333" y="103"/>
                      </a:lnTo>
                      <a:lnTo>
                        <a:pt x="2283" y="99"/>
                      </a:lnTo>
                      <a:lnTo>
                        <a:pt x="2231" y="96"/>
                      </a:lnTo>
                      <a:lnTo>
                        <a:pt x="2180" y="95"/>
                      </a:lnTo>
                      <a:lnTo>
                        <a:pt x="2128" y="95"/>
                      </a:lnTo>
                      <a:lnTo>
                        <a:pt x="2077" y="96"/>
                      </a:lnTo>
                      <a:lnTo>
                        <a:pt x="2027" y="99"/>
                      </a:lnTo>
                      <a:lnTo>
                        <a:pt x="1976" y="103"/>
                      </a:lnTo>
                      <a:lnTo>
                        <a:pt x="1927" y="108"/>
                      </a:lnTo>
                      <a:lnTo>
                        <a:pt x="1876" y="115"/>
                      </a:lnTo>
                      <a:lnTo>
                        <a:pt x="1827" y="121"/>
                      </a:lnTo>
                      <a:lnTo>
                        <a:pt x="1778" y="131"/>
                      </a:lnTo>
                      <a:lnTo>
                        <a:pt x="1729" y="140"/>
                      </a:lnTo>
                      <a:lnTo>
                        <a:pt x="1679" y="152"/>
                      </a:lnTo>
                      <a:lnTo>
                        <a:pt x="1631" y="164"/>
                      </a:lnTo>
                      <a:lnTo>
                        <a:pt x="1583" y="177"/>
                      </a:lnTo>
                      <a:lnTo>
                        <a:pt x="1535" y="192"/>
                      </a:lnTo>
                      <a:lnTo>
                        <a:pt x="1489" y="208"/>
                      </a:lnTo>
                      <a:lnTo>
                        <a:pt x="1441" y="224"/>
                      </a:lnTo>
                      <a:lnTo>
                        <a:pt x="1396" y="242"/>
                      </a:lnTo>
                      <a:lnTo>
                        <a:pt x="1349" y="261"/>
                      </a:lnTo>
                      <a:lnTo>
                        <a:pt x="1304" y="281"/>
                      </a:lnTo>
                      <a:lnTo>
                        <a:pt x="1258" y="302"/>
                      </a:lnTo>
                      <a:lnTo>
                        <a:pt x="1215" y="325"/>
                      </a:lnTo>
                      <a:lnTo>
                        <a:pt x="1171" y="348"/>
                      </a:lnTo>
                      <a:lnTo>
                        <a:pt x="1128" y="372"/>
                      </a:lnTo>
                      <a:lnTo>
                        <a:pt x="1085" y="397"/>
                      </a:lnTo>
                      <a:lnTo>
                        <a:pt x="1043" y="423"/>
                      </a:lnTo>
                      <a:lnTo>
                        <a:pt x="1001" y="450"/>
                      </a:lnTo>
                      <a:lnTo>
                        <a:pt x="961" y="479"/>
                      </a:lnTo>
                      <a:lnTo>
                        <a:pt x="922" y="509"/>
                      </a:lnTo>
                      <a:lnTo>
                        <a:pt x="882" y="538"/>
                      </a:lnTo>
                      <a:lnTo>
                        <a:pt x="843" y="570"/>
                      </a:lnTo>
                      <a:lnTo>
                        <a:pt x="806" y="602"/>
                      </a:lnTo>
                      <a:lnTo>
                        <a:pt x="768" y="635"/>
                      </a:lnTo>
                      <a:lnTo>
                        <a:pt x="731" y="669"/>
                      </a:lnTo>
                      <a:lnTo>
                        <a:pt x="696" y="703"/>
                      </a:lnTo>
                      <a:lnTo>
                        <a:pt x="661" y="739"/>
                      </a:lnTo>
                      <a:lnTo>
                        <a:pt x="627" y="776"/>
                      </a:lnTo>
                      <a:lnTo>
                        <a:pt x="594" y="814"/>
                      </a:lnTo>
                      <a:lnTo>
                        <a:pt x="562" y="852"/>
                      </a:lnTo>
                      <a:lnTo>
                        <a:pt x="530" y="891"/>
                      </a:lnTo>
                      <a:lnTo>
                        <a:pt x="499" y="931"/>
                      </a:lnTo>
                      <a:lnTo>
                        <a:pt x="470" y="972"/>
                      </a:lnTo>
                      <a:lnTo>
                        <a:pt x="442" y="1013"/>
                      </a:lnTo>
                      <a:lnTo>
                        <a:pt x="414" y="1056"/>
                      </a:lnTo>
                      <a:lnTo>
                        <a:pt x="388" y="1100"/>
                      </a:lnTo>
                      <a:lnTo>
                        <a:pt x="362" y="1144"/>
                      </a:lnTo>
                      <a:lnTo>
                        <a:pt x="337" y="1189"/>
                      </a:lnTo>
                      <a:lnTo>
                        <a:pt x="314" y="1234"/>
                      </a:lnTo>
                      <a:lnTo>
                        <a:pt x="292" y="1281"/>
                      </a:lnTo>
                      <a:lnTo>
                        <a:pt x="270" y="1328"/>
                      </a:lnTo>
                      <a:lnTo>
                        <a:pt x="250" y="1376"/>
                      </a:lnTo>
                      <a:lnTo>
                        <a:pt x="230" y="1425"/>
                      </a:lnTo>
                      <a:lnTo>
                        <a:pt x="213" y="1474"/>
                      </a:lnTo>
                      <a:lnTo>
                        <a:pt x="196" y="1523"/>
                      </a:lnTo>
                      <a:lnTo>
                        <a:pt x="180" y="1574"/>
                      </a:lnTo>
                      <a:lnTo>
                        <a:pt x="165" y="1626"/>
                      </a:lnTo>
                      <a:lnTo>
                        <a:pt x="165" y="1626"/>
                      </a:lnTo>
                      <a:lnTo>
                        <a:pt x="152" y="1678"/>
                      </a:lnTo>
                      <a:lnTo>
                        <a:pt x="141" y="1729"/>
                      </a:lnTo>
                      <a:lnTo>
                        <a:pt x="131" y="1780"/>
                      </a:lnTo>
                      <a:lnTo>
                        <a:pt x="121" y="1832"/>
                      </a:lnTo>
                      <a:lnTo>
                        <a:pt x="113" y="1884"/>
                      </a:lnTo>
                      <a:lnTo>
                        <a:pt x="107" y="1936"/>
                      </a:lnTo>
                      <a:lnTo>
                        <a:pt x="103" y="1987"/>
                      </a:lnTo>
                      <a:lnTo>
                        <a:pt x="99" y="2039"/>
                      </a:lnTo>
                      <a:lnTo>
                        <a:pt x="96" y="2089"/>
                      </a:lnTo>
                      <a:lnTo>
                        <a:pt x="95" y="2141"/>
                      </a:lnTo>
                      <a:lnTo>
                        <a:pt x="95" y="2192"/>
                      </a:lnTo>
                      <a:lnTo>
                        <a:pt x="96" y="2243"/>
                      </a:lnTo>
                      <a:lnTo>
                        <a:pt x="99" y="2293"/>
                      </a:lnTo>
                      <a:lnTo>
                        <a:pt x="103" y="2344"/>
                      </a:lnTo>
                      <a:lnTo>
                        <a:pt x="108" y="2394"/>
                      </a:lnTo>
                      <a:lnTo>
                        <a:pt x="115" y="2444"/>
                      </a:lnTo>
                      <a:lnTo>
                        <a:pt x="121" y="2494"/>
                      </a:lnTo>
                      <a:lnTo>
                        <a:pt x="131" y="2544"/>
                      </a:lnTo>
                      <a:lnTo>
                        <a:pt x="140" y="2593"/>
                      </a:lnTo>
                      <a:lnTo>
                        <a:pt x="152" y="2641"/>
                      </a:lnTo>
                      <a:lnTo>
                        <a:pt x="164" y="2690"/>
                      </a:lnTo>
                      <a:lnTo>
                        <a:pt x="177" y="2738"/>
                      </a:lnTo>
                      <a:lnTo>
                        <a:pt x="192" y="2785"/>
                      </a:lnTo>
                      <a:lnTo>
                        <a:pt x="208" y="2833"/>
                      </a:lnTo>
                      <a:lnTo>
                        <a:pt x="224" y="2879"/>
                      </a:lnTo>
                      <a:lnTo>
                        <a:pt x="242" y="2926"/>
                      </a:lnTo>
                      <a:lnTo>
                        <a:pt x="261" y="2971"/>
                      </a:lnTo>
                      <a:lnTo>
                        <a:pt x="281" y="3016"/>
                      </a:lnTo>
                      <a:lnTo>
                        <a:pt x="302" y="3062"/>
                      </a:lnTo>
                      <a:lnTo>
                        <a:pt x="325" y="3105"/>
                      </a:lnTo>
                      <a:lnTo>
                        <a:pt x="348" y="3149"/>
                      </a:lnTo>
                      <a:lnTo>
                        <a:pt x="372" y="3193"/>
                      </a:lnTo>
                      <a:lnTo>
                        <a:pt x="397" y="3236"/>
                      </a:lnTo>
                      <a:lnTo>
                        <a:pt x="423" y="3277"/>
                      </a:lnTo>
                      <a:lnTo>
                        <a:pt x="450" y="3319"/>
                      </a:lnTo>
                      <a:lnTo>
                        <a:pt x="479" y="3360"/>
                      </a:lnTo>
                      <a:lnTo>
                        <a:pt x="509" y="3400"/>
                      </a:lnTo>
                      <a:lnTo>
                        <a:pt x="538" y="3438"/>
                      </a:lnTo>
                      <a:lnTo>
                        <a:pt x="570" y="3477"/>
                      </a:lnTo>
                      <a:lnTo>
                        <a:pt x="602" y="3516"/>
                      </a:lnTo>
                      <a:lnTo>
                        <a:pt x="635" y="3553"/>
                      </a:lnTo>
                      <a:lnTo>
                        <a:pt x="669" y="3589"/>
                      </a:lnTo>
                      <a:lnTo>
                        <a:pt x="703" y="3625"/>
                      </a:lnTo>
                      <a:lnTo>
                        <a:pt x="739" y="3659"/>
                      </a:lnTo>
                      <a:lnTo>
                        <a:pt x="776" y="3694"/>
                      </a:lnTo>
                      <a:lnTo>
                        <a:pt x="814" y="3726"/>
                      </a:lnTo>
                      <a:lnTo>
                        <a:pt x="852" y="3759"/>
                      </a:lnTo>
                      <a:lnTo>
                        <a:pt x="891" y="3790"/>
                      </a:lnTo>
                      <a:lnTo>
                        <a:pt x="932" y="3821"/>
                      </a:lnTo>
                      <a:lnTo>
                        <a:pt x="972" y="3850"/>
                      </a:lnTo>
                      <a:lnTo>
                        <a:pt x="1015" y="3879"/>
                      </a:lnTo>
                      <a:lnTo>
                        <a:pt x="1057" y="3906"/>
                      </a:lnTo>
                      <a:lnTo>
                        <a:pt x="1100" y="3932"/>
                      </a:lnTo>
                      <a:lnTo>
                        <a:pt x="1144" y="3959"/>
                      </a:lnTo>
                      <a:lnTo>
                        <a:pt x="1189" y="3983"/>
                      </a:lnTo>
                      <a:lnTo>
                        <a:pt x="1234" y="4007"/>
                      </a:lnTo>
                      <a:lnTo>
                        <a:pt x="1281" y="4030"/>
                      </a:lnTo>
                      <a:lnTo>
                        <a:pt x="1328" y="4051"/>
                      </a:lnTo>
                      <a:lnTo>
                        <a:pt x="1376" y="4071"/>
                      </a:lnTo>
                      <a:lnTo>
                        <a:pt x="1425" y="4090"/>
                      </a:lnTo>
                      <a:lnTo>
                        <a:pt x="1474" y="4108"/>
                      </a:lnTo>
                      <a:lnTo>
                        <a:pt x="1523" y="4126"/>
                      </a:lnTo>
                      <a:lnTo>
                        <a:pt x="1574" y="4140"/>
                      </a:lnTo>
                      <a:lnTo>
                        <a:pt x="1626" y="4155"/>
                      </a:lnTo>
                      <a:lnTo>
                        <a:pt x="1626" y="4155"/>
                      </a:lnTo>
                      <a:lnTo>
                        <a:pt x="1678" y="4168"/>
                      </a:lnTo>
                      <a:lnTo>
                        <a:pt x="1730" y="4180"/>
                      </a:lnTo>
                      <a:lnTo>
                        <a:pt x="1780" y="4191"/>
                      </a:lnTo>
                      <a:lnTo>
                        <a:pt x="1832" y="4199"/>
                      </a:lnTo>
                      <a:lnTo>
                        <a:pt x="1884" y="4207"/>
                      </a:lnTo>
                      <a:lnTo>
                        <a:pt x="1936" y="4213"/>
                      </a:lnTo>
                      <a:lnTo>
                        <a:pt x="1987" y="4219"/>
                      </a:lnTo>
                      <a:lnTo>
                        <a:pt x="2039" y="4223"/>
                      </a:lnTo>
                      <a:lnTo>
                        <a:pt x="2091" y="4224"/>
                      </a:lnTo>
                      <a:lnTo>
                        <a:pt x="2141" y="4225"/>
                      </a:lnTo>
                      <a:lnTo>
                        <a:pt x="2192" y="4225"/>
                      </a:lnTo>
                      <a:lnTo>
                        <a:pt x="2243" y="4224"/>
                      </a:lnTo>
                      <a:lnTo>
                        <a:pt x="2293" y="4221"/>
                      </a:lnTo>
                      <a:lnTo>
                        <a:pt x="2344" y="4217"/>
                      </a:lnTo>
                      <a:lnTo>
                        <a:pt x="2394" y="4212"/>
                      </a:lnTo>
                      <a:lnTo>
                        <a:pt x="2445" y="4207"/>
                      </a:lnTo>
                      <a:lnTo>
                        <a:pt x="2494" y="4199"/>
                      </a:lnTo>
                      <a:lnTo>
                        <a:pt x="2544" y="4189"/>
                      </a:lnTo>
                      <a:lnTo>
                        <a:pt x="2593" y="4180"/>
                      </a:lnTo>
                      <a:lnTo>
                        <a:pt x="2641" y="4170"/>
                      </a:lnTo>
                      <a:lnTo>
                        <a:pt x="2690" y="4156"/>
                      </a:lnTo>
                      <a:lnTo>
                        <a:pt x="2738" y="4143"/>
                      </a:lnTo>
                      <a:lnTo>
                        <a:pt x="2786" y="4130"/>
                      </a:lnTo>
                      <a:lnTo>
                        <a:pt x="2833" y="4114"/>
                      </a:lnTo>
                      <a:lnTo>
                        <a:pt x="2879" y="4096"/>
                      </a:lnTo>
                      <a:lnTo>
                        <a:pt x="2926" y="4079"/>
                      </a:lnTo>
                      <a:lnTo>
                        <a:pt x="2971" y="4059"/>
                      </a:lnTo>
                      <a:lnTo>
                        <a:pt x="3016" y="4039"/>
                      </a:lnTo>
                      <a:lnTo>
                        <a:pt x="3062" y="4019"/>
                      </a:lnTo>
                      <a:lnTo>
                        <a:pt x="3105" y="3996"/>
                      </a:lnTo>
                      <a:lnTo>
                        <a:pt x="3149" y="3972"/>
                      </a:lnTo>
                      <a:lnTo>
                        <a:pt x="3193" y="3948"/>
                      </a:lnTo>
                      <a:lnTo>
                        <a:pt x="3236" y="3923"/>
                      </a:lnTo>
                      <a:lnTo>
                        <a:pt x="3277" y="3898"/>
                      </a:lnTo>
                      <a:lnTo>
                        <a:pt x="3319" y="3870"/>
                      </a:lnTo>
                      <a:lnTo>
                        <a:pt x="3360" y="3842"/>
                      </a:lnTo>
                      <a:lnTo>
                        <a:pt x="3400" y="3813"/>
                      </a:lnTo>
                      <a:lnTo>
                        <a:pt x="3440" y="3782"/>
                      </a:lnTo>
                      <a:lnTo>
                        <a:pt x="3478" y="3751"/>
                      </a:lnTo>
                      <a:lnTo>
                        <a:pt x="3516" y="3719"/>
                      </a:lnTo>
                      <a:lnTo>
                        <a:pt x="3553" y="3686"/>
                      </a:lnTo>
                      <a:lnTo>
                        <a:pt x="3589" y="3651"/>
                      </a:lnTo>
                      <a:lnTo>
                        <a:pt x="3625" y="3617"/>
                      </a:lnTo>
                      <a:lnTo>
                        <a:pt x="3659" y="3581"/>
                      </a:lnTo>
                      <a:lnTo>
                        <a:pt x="3694" y="3545"/>
                      </a:lnTo>
                      <a:lnTo>
                        <a:pt x="3727" y="3506"/>
                      </a:lnTo>
                      <a:lnTo>
                        <a:pt x="3759" y="3469"/>
                      </a:lnTo>
                      <a:lnTo>
                        <a:pt x="3790" y="3429"/>
                      </a:lnTo>
                      <a:lnTo>
                        <a:pt x="3821" y="3389"/>
                      </a:lnTo>
                      <a:lnTo>
                        <a:pt x="3850" y="3348"/>
                      </a:lnTo>
                      <a:lnTo>
                        <a:pt x="3879" y="3307"/>
                      </a:lnTo>
                      <a:lnTo>
                        <a:pt x="3907" y="3264"/>
                      </a:lnTo>
                      <a:lnTo>
                        <a:pt x="3934" y="3220"/>
                      </a:lnTo>
                      <a:lnTo>
                        <a:pt x="3959" y="3176"/>
                      </a:lnTo>
                      <a:lnTo>
                        <a:pt x="3983" y="3132"/>
                      </a:lnTo>
                      <a:lnTo>
                        <a:pt x="4007" y="3086"/>
                      </a:lnTo>
                      <a:lnTo>
                        <a:pt x="4030" y="3039"/>
                      </a:lnTo>
                      <a:lnTo>
                        <a:pt x="4051" y="2992"/>
                      </a:lnTo>
                      <a:lnTo>
                        <a:pt x="4071" y="2944"/>
                      </a:lnTo>
                      <a:lnTo>
                        <a:pt x="4090" y="2896"/>
                      </a:lnTo>
                      <a:lnTo>
                        <a:pt x="4108" y="2847"/>
                      </a:lnTo>
                      <a:lnTo>
                        <a:pt x="4126" y="2797"/>
                      </a:lnTo>
                      <a:lnTo>
                        <a:pt x="4140" y="2746"/>
                      </a:lnTo>
                      <a:lnTo>
                        <a:pt x="4155" y="2695"/>
                      </a:lnTo>
                      <a:lnTo>
                        <a:pt x="4155" y="2695"/>
                      </a:lnTo>
                      <a:lnTo>
                        <a:pt x="4168" y="2643"/>
                      </a:lnTo>
                      <a:lnTo>
                        <a:pt x="4180" y="2591"/>
                      </a:lnTo>
                      <a:lnTo>
                        <a:pt x="4191" y="2540"/>
                      </a:lnTo>
                      <a:lnTo>
                        <a:pt x="4200" y="2488"/>
                      </a:lnTo>
                      <a:lnTo>
                        <a:pt x="4207" y="2437"/>
                      </a:lnTo>
                      <a:lnTo>
                        <a:pt x="4213" y="2385"/>
                      </a:lnTo>
                      <a:lnTo>
                        <a:pt x="4219" y="2333"/>
                      </a:lnTo>
                      <a:lnTo>
                        <a:pt x="4223" y="2283"/>
                      </a:lnTo>
                      <a:lnTo>
                        <a:pt x="4225" y="2231"/>
                      </a:lnTo>
                      <a:lnTo>
                        <a:pt x="4225" y="2180"/>
                      </a:lnTo>
                      <a:lnTo>
                        <a:pt x="4225" y="2128"/>
                      </a:lnTo>
                      <a:lnTo>
                        <a:pt x="4224" y="2077"/>
                      </a:lnTo>
                      <a:lnTo>
                        <a:pt x="4221" y="2027"/>
                      </a:lnTo>
                      <a:lnTo>
                        <a:pt x="4217" y="1976"/>
                      </a:lnTo>
                      <a:lnTo>
                        <a:pt x="4213" y="1926"/>
                      </a:lnTo>
                      <a:lnTo>
                        <a:pt x="4207" y="1876"/>
                      </a:lnTo>
                      <a:lnTo>
                        <a:pt x="4199" y="1827"/>
                      </a:lnTo>
                      <a:lnTo>
                        <a:pt x="4191" y="1778"/>
                      </a:lnTo>
                      <a:lnTo>
                        <a:pt x="4180" y="1729"/>
                      </a:lnTo>
                      <a:lnTo>
                        <a:pt x="4170" y="1679"/>
                      </a:lnTo>
                      <a:lnTo>
                        <a:pt x="4158" y="1631"/>
                      </a:lnTo>
                      <a:lnTo>
                        <a:pt x="4144" y="1583"/>
                      </a:lnTo>
                      <a:lnTo>
                        <a:pt x="4130" y="1535"/>
                      </a:lnTo>
                      <a:lnTo>
                        <a:pt x="4114" y="1489"/>
                      </a:lnTo>
                      <a:lnTo>
                        <a:pt x="4096" y="1441"/>
                      </a:lnTo>
                      <a:lnTo>
                        <a:pt x="4079" y="1396"/>
                      </a:lnTo>
                      <a:lnTo>
                        <a:pt x="4060" y="1349"/>
                      </a:lnTo>
                      <a:lnTo>
                        <a:pt x="4040" y="1304"/>
                      </a:lnTo>
                      <a:lnTo>
                        <a:pt x="4019" y="1258"/>
                      </a:lnTo>
                      <a:lnTo>
                        <a:pt x="3996" y="1215"/>
                      </a:lnTo>
                      <a:lnTo>
                        <a:pt x="3974" y="1171"/>
                      </a:lnTo>
                      <a:lnTo>
                        <a:pt x="3948" y="1128"/>
                      </a:lnTo>
                      <a:lnTo>
                        <a:pt x="3923" y="1085"/>
                      </a:lnTo>
                      <a:lnTo>
                        <a:pt x="3898" y="1043"/>
                      </a:lnTo>
                      <a:lnTo>
                        <a:pt x="3870" y="1001"/>
                      </a:lnTo>
                      <a:lnTo>
                        <a:pt x="3842" y="961"/>
                      </a:lnTo>
                      <a:lnTo>
                        <a:pt x="3813" y="922"/>
                      </a:lnTo>
                      <a:lnTo>
                        <a:pt x="3782" y="882"/>
                      </a:lnTo>
                      <a:lnTo>
                        <a:pt x="3751" y="843"/>
                      </a:lnTo>
                      <a:lnTo>
                        <a:pt x="3719" y="804"/>
                      </a:lnTo>
                      <a:lnTo>
                        <a:pt x="3686" y="768"/>
                      </a:lnTo>
                      <a:lnTo>
                        <a:pt x="3651" y="731"/>
                      </a:lnTo>
                      <a:lnTo>
                        <a:pt x="3617" y="696"/>
                      </a:lnTo>
                      <a:lnTo>
                        <a:pt x="3581" y="661"/>
                      </a:lnTo>
                      <a:lnTo>
                        <a:pt x="3545" y="627"/>
                      </a:lnTo>
                      <a:lnTo>
                        <a:pt x="3508" y="594"/>
                      </a:lnTo>
                      <a:lnTo>
                        <a:pt x="3469" y="562"/>
                      </a:lnTo>
                      <a:lnTo>
                        <a:pt x="3429" y="530"/>
                      </a:lnTo>
                      <a:lnTo>
                        <a:pt x="3389" y="499"/>
                      </a:lnTo>
                      <a:lnTo>
                        <a:pt x="3348" y="470"/>
                      </a:lnTo>
                      <a:lnTo>
                        <a:pt x="3307" y="442"/>
                      </a:lnTo>
                      <a:lnTo>
                        <a:pt x="3264" y="414"/>
                      </a:lnTo>
                      <a:lnTo>
                        <a:pt x="3221" y="388"/>
                      </a:lnTo>
                      <a:lnTo>
                        <a:pt x="3176" y="362"/>
                      </a:lnTo>
                      <a:lnTo>
                        <a:pt x="3132" y="337"/>
                      </a:lnTo>
                      <a:lnTo>
                        <a:pt x="3086" y="314"/>
                      </a:lnTo>
                      <a:lnTo>
                        <a:pt x="3040" y="292"/>
                      </a:lnTo>
                      <a:lnTo>
                        <a:pt x="2992" y="270"/>
                      </a:lnTo>
                      <a:lnTo>
                        <a:pt x="2944" y="249"/>
                      </a:lnTo>
                      <a:lnTo>
                        <a:pt x="2896" y="230"/>
                      </a:lnTo>
                      <a:lnTo>
                        <a:pt x="2847" y="213"/>
                      </a:lnTo>
                      <a:lnTo>
                        <a:pt x="2797" y="196"/>
                      </a:lnTo>
                      <a:lnTo>
                        <a:pt x="2746" y="180"/>
                      </a:lnTo>
                      <a:lnTo>
                        <a:pt x="2695" y="165"/>
                      </a:lnTo>
                      <a:lnTo>
                        <a:pt x="2695" y="165"/>
                      </a:lnTo>
                      <a:close/>
                    </a:path>
                  </a:pathLst>
                </a:custGeom>
                <a:gradFill rotWithShape="0">
                  <a:gsLst>
                    <a:gs pos="0">
                      <a:srgbClr val="74420d"/>
                    </a:gs>
                    <a:gs pos="100000">
                      <a:srgbClr val="c89834"/>
                    </a:gs>
                  </a:gsLst>
                  <a:lin ang="12420000"/>
                </a:gradFill>
                <a:ln w="9525">
                  <a:noFill/>
                </a:ln>
              </p:spPr>
              <p:style>
                <a:lnRef idx="0"/>
                <a:fillRef idx="0"/>
                <a:effectRef idx="0"/>
                <a:fontRef idx="minor"/>
              </p:style>
              <p:txBody>
                <a:bodyPr numCol="1" spcCol="0" anchor="t">
                  <a:noAutofit/>
                </a:bodyPr>
                <a:p>
                  <a:pPr>
                    <a:lnSpc>
                      <a:spcPct val="85000"/>
                    </a:lnSpc>
                    <a:spcBef>
                      <a:spcPts val="360"/>
                    </a:spcBef>
                  </a:pPr>
                  <a:endParaRPr b="0" lang="en-US" sz="1800" spc="-1" strike="noStrike">
                    <a:solidFill>
                      <a:srgbClr val="000000"/>
                    </a:solidFill>
                    <a:latin typeface="Calibri"/>
                  </a:endParaRPr>
                </a:p>
              </p:txBody>
            </p:sp>
          </p:grpSp>
          <p:sp>
            <p:nvSpPr>
              <p:cNvPr id="620" name="TextBox 518"/>
              <p:cNvSpPr txBox="1"/>
              <p:nvPr/>
            </p:nvSpPr>
            <p:spPr>
              <a:xfrm>
                <a:off x="2369880" y="1715040"/>
                <a:ext cx="931320" cy="903240"/>
              </a:xfrm>
              <a:prstGeom prst="rect">
                <a:avLst/>
              </a:prstGeom>
            </p:spPr>
            <p:txBody>
              <a:bodyPr wrap="none" lIns="90000" rIns="90000" tIns="45000" bIns="45000" anchor="b" anchorCtr="1">
                <a:prstTxWarp prst="textArchUp">
                  <a:avLst>
                    <a:gd name="adj" fmla="val 10800000"/>
                  </a:avLst>
                </a:prstTxWarp>
                <a:noAutofit/>
              </a:bodyPr>
              <a:p>
                <a:pPr algn="ctr">
                  <a:lnSpc>
                    <a:spcPct val="100000"/>
                  </a:lnSpc>
                </a:pPr>
                <a:r>
                  <a:rPr b="0" lang="en-US" sz="1800" spc="97" strike="noStrike">
                    <a:ln w="0">
                      <a:noFill/>
                    </a:ln>
                    <a:solidFill>
                      <a:srgbClr val="ffffff"/>
                    </a:solidFill>
                    <a:latin typeface="Arial"/>
                  </a:rPr>
                  <a:t>Title Here</a:t>
                </a:r>
                <a:endParaRPr b="0" lang="en-US" sz="1800" spc="-1" strike="noStrike">
                  <a:ln w="0">
                    <a:noFill/>
                  </a:ln>
                  <a:solidFill>
                    <a:srgbClr val="ffffff"/>
                  </a:solidFill>
                  <a:latin typeface="Arial"/>
                </a:endParaRPr>
              </a:p>
            </p:txBody>
          </p:sp>
          <p:sp>
            <p:nvSpPr>
              <p:cNvPr id="621" name="Rectangle 70"/>
              <p:cNvSpPr/>
              <p:nvPr/>
            </p:nvSpPr>
            <p:spPr>
              <a:xfrm>
                <a:off x="2214000" y="2283840"/>
                <a:ext cx="1172160" cy="351360"/>
              </a:xfrm>
              <a:prstGeom prst="rect">
                <a:avLst/>
              </a:prstGeom>
              <a:noFill/>
              <a:ln w="9525">
                <a:noFill/>
              </a:ln>
            </p:spPr>
            <p:style>
              <a:lnRef idx="0"/>
              <a:fillRef idx="0"/>
              <a:effectRef idx="0"/>
              <a:fontRef idx="minor"/>
            </p:style>
            <p:txBody>
              <a:bodyPr lIns="45720" rIns="27360" tIns="18360" bIns="18360" anchor="t">
                <a:noAutofit/>
              </a:bodyPr>
              <a:p>
                <a:pPr algn="ctr">
                  <a:lnSpc>
                    <a:spcPct val="85000"/>
                  </a:lnSpc>
                  <a:spcBef>
                    <a:spcPts val="201"/>
                  </a:spcBef>
                </a:pPr>
                <a:r>
                  <a:rPr b="0" lang="en-US" sz="1200" spc="-1" strike="noStrike">
                    <a:solidFill>
                      <a:srgbClr val="ffffff">
                        <a:alpha val="50000"/>
                      </a:srgbClr>
                    </a:solidFill>
                    <a:latin typeface="Arial Narrow"/>
                  </a:rPr>
                  <a:t>Place additional content here.</a:t>
                </a:r>
                <a:endParaRPr b="0" lang="en-US" sz="1200" spc="-1" strike="noStrike">
                  <a:solidFill>
                    <a:srgbClr val="ffffff"/>
                  </a:solidFill>
                  <a:latin typeface="Arial"/>
                </a:endParaRPr>
              </a:p>
            </p:txBody>
          </p:sp>
        </p:grpSp>
        <p:grpSp>
          <p:nvGrpSpPr>
            <p:cNvPr id="622" name="Group 136"/>
            <p:cNvGrpSpPr/>
            <p:nvPr/>
          </p:nvGrpSpPr>
          <p:grpSpPr>
            <a:xfrm>
              <a:off x="1087200" y="2367720"/>
              <a:ext cx="1423440" cy="1423440"/>
              <a:chOff x="1087200" y="2367720"/>
              <a:chExt cx="1423440" cy="1423440"/>
            </a:xfrm>
          </p:grpSpPr>
          <p:grpSp>
            <p:nvGrpSpPr>
              <p:cNvPr id="623" name="Group 77"/>
              <p:cNvGrpSpPr/>
              <p:nvPr/>
            </p:nvGrpSpPr>
            <p:grpSpPr>
              <a:xfrm>
                <a:off x="1087200" y="2367720"/>
                <a:ext cx="1423440" cy="1423440"/>
                <a:chOff x="1087200" y="2367720"/>
                <a:chExt cx="1423440" cy="1423440"/>
              </a:xfrm>
            </p:grpSpPr>
            <p:sp>
              <p:nvSpPr>
                <p:cNvPr id="624" name="Freeform 5"/>
                <p:cNvSpPr/>
                <p:nvPr/>
              </p:nvSpPr>
              <p:spPr>
                <a:xfrm>
                  <a:off x="1087200" y="2367720"/>
                  <a:ext cx="1423440" cy="1423440"/>
                </a:xfrm>
                <a:custGeom>
                  <a:avLst/>
                  <a:gdLst>
                    <a:gd name="textAreaLeft" fmla="*/ 0 w 1423440"/>
                    <a:gd name="textAreaRight" fmla="*/ 1423800 w 1423440"/>
                    <a:gd name="textAreaTop" fmla="*/ 0 h 1423440"/>
                    <a:gd name="textAreaBottom" fmla="*/ 1423800 h 1423440"/>
                  </a:gdLst>
                  <a:ahLst/>
                  <a:rect l="textAreaLeft" t="textAreaTop" r="textAreaRight" b="textAreaBottom"/>
                  <a:pathLst>
                    <a:path w="5950" h="5950">
                      <a:moveTo>
                        <a:pt x="5840" y="3106"/>
                      </a:moveTo>
                      <a:lnTo>
                        <a:pt x="5840" y="3106"/>
                      </a:lnTo>
                      <a:lnTo>
                        <a:pt x="5808" y="3091"/>
                      </a:lnTo>
                      <a:lnTo>
                        <a:pt x="5780" y="3078"/>
                      </a:lnTo>
                      <a:lnTo>
                        <a:pt x="5727" y="3058"/>
                      </a:lnTo>
                      <a:lnTo>
                        <a:pt x="5685" y="3044"/>
                      </a:lnTo>
                      <a:lnTo>
                        <a:pt x="5650" y="3034"/>
                      </a:lnTo>
                      <a:lnTo>
                        <a:pt x="5650" y="3034"/>
                      </a:lnTo>
                      <a:lnTo>
                        <a:pt x="5650" y="2976"/>
                      </a:lnTo>
                      <a:lnTo>
                        <a:pt x="5650" y="2917"/>
                      </a:lnTo>
                      <a:lnTo>
                        <a:pt x="5650" y="2917"/>
                      </a:lnTo>
                      <a:lnTo>
                        <a:pt x="5685" y="2908"/>
                      </a:lnTo>
                      <a:lnTo>
                        <a:pt x="5727" y="2894"/>
                      </a:lnTo>
                      <a:lnTo>
                        <a:pt x="5780" y="2872"/>
                      </a:lnTo>
                      <a:lnTo>
                        <a:pt x="5808" y="2859"/>
                      </a:lnTo>
                      <a:lnTo>
                        <a:pt x="5840" y="2844"/>
                      </a:lnTo>
                      <a:lnTo>
                        <a:pt x="5840" y="2844"/>
                      </a:lnTo>
                      <a:lnTo>
                        <a:pt x="5879" y="2824"/>
                      </a:lnTo>
                      <a:lnTo>
                        <a:pt x="5907" y="2808"/>
                      </a:lnTo>
                      <a:lnTo>
                        <a:pt x="5927" y="2793"/>
                      </a:lnTo>
                      <a:lnTo>
                        <a:pt x="5935" y="2786"/>
                      </a:lnTo>
                      <a:lnTo>
                        <a:pt x="5940" y="2780"/>
                      </a:lnTo>
                      <a:lnTo>
                        <a:pt x="5945" y="2773"/>
                      </a:lnTo>
                      <a:lnTo>
                        <a:pt x="5947" y="2767"/>
                      </a:lnTo>
                      <a:lnTo>
                        <a:pt x="5950" y="2760"/>
                      </a:lnTo>
                      <a:lnTo>
                        <a:pt x="5950" y="2752"/>
                      </a:lnTo>
                      <a:lnTo>
                        <a:pt x="5950" y="2735"/>
                      </a:lnTo>
                      <a:lnTo>
                        <a:pt x="5948" y="2715"/>
                      </a:lnTo>
                      <a:lnTo>
                        <a:pt x="5948" y="2715"/>
                      </a:lnTo>
                      <a:lnTo>
                        <a:pt x="5947" y="2696"/>
                      </a:lnTo>
                      <a:lnTo>
                        <a:pt x="5943" y="2679"/>
                      </a:lnTo>
                      <a:lnTo>
                        <a:pt x="5942" y="2671"/>
                      </a:lnTo>
                      <a:lnTo>
                        <a:pt x="5938" y="2664"/>
                      </a:lnTo>
                      <a:lnTo>
                        <a:pt x="5935" y="2659"/>
                      </a:lnTo>
                      <a:lnTo>
                        <a:pt x="5929" y="2653"/>
                      </a:lnTo>
                      <a:lnTo>
                        <a:pt x="5922" y="2648"/>
                      </a:lnTo>
                      <a:lnTo>
                        <a:pt x="5914" y="2643"/>
                      </a:lnTo>
                      <a:lnTo>
                        <a:pt x="5892" y="2631"/>
                      </a:lnTo>
                      <a:lnTo>
                        <a:pt x="5861" y="2620"/>
                      </a:lnTo>
                      <a:lnTo>
                        <a:pt x="5818" y="2607"/>
                      </a:lnTo>
                      <a:lnTo>
                        <a:pt x="5818" y="2607"/>
                      </a:lnTo>
                      <a:lnTo>
                        <a:pt x="5785" y="2597"/>
                      </a:lnTo>
                      <a:lnTo>
                        <a:pt x="5755" y="2590"/>
                      </a:lnTo>
                      <a:lnTo>
                        <a:pt x="5699" y="2579"/>
                      </a:lnTo>
                      <a:lnTo>
                        <a:pt x="5655" y="2572"/>
                      </a:lnTo>
                      <a:lnTo>
                        <a:pt x="5619" y="2569"/>
                      </a:lnTo>
                      <a:lnTo>
                        <a:pt x="5619" y="2569"/>
                      </a:lnTo>
                      <a:lnTo>
                        <a:pt x="5609" y="2511"/>
                      </a:lnTo>
                      <a:lnTo>
                        <a:pt x="5599" y="2453"/>
                      </a:lnTo>
                      <a:lnTo>
                        <a:pt x="5599" y="2453"/>
                      </a:lnTo>
                      <a:lnTo>
                        <a:pt x="5630" y="2439"/>
                      </a:lnTo>
                      <a:lnTo>
                        <a:pt x="5671" y="2417"/>
                      </a:lnTo>
                      <a:lnTo>
                        <a:pt x="5719" y="2387"/>
                      </a:lnTo>
                      <a:lnTo>
                        <a:pt x="5746" y="2369"/>
                      </a:lnTo>
                      <a:lnTo>
                        <a:pt x="5774" y="2349"/>
                      </a:lnTo>
                      <a:lnTo>
                        <a:pt x="5774" y="2349"/>
                      </a:lnTo>
                      <a:lnTo>
                        <a:pt x="5808" y="2323"/>
                      </a:lnTo>
                      <a:lnTo>
                        <a:pt x="5833" y="2300"/>
                      </a:lnTo>
                      <a:lnTo>
                        <a:pt x="5851" y="2284"/>
                      </a:lnTo>
                      <a:lnTo>
                        <a:pt x="5858" y="2275"/>
                      </a:lnTo>
                      <a:lnTo>
                        <a:pt x="5861" y="2267"/>
                      </a:lnTo>
                      <a:lnTo>
                        <a:pt x="5864" y="2260"/>
                      </a:lnTo>
                      <a:lnTo>
                        <a:pt x="5866" y="2254"/>
                      </a:lnTo>
                      <a:lnTo>
                        <a:pt x="5866" y="2246"/>
                      </a:lnTo>
                      <a:lnTo>
                        <a:pt x="5866" y="2239"/>
                      </a:lnTo>
                      <a:lnTo>
                        <a:pt x="5863" y="2223"/>
                      </a:lnTo>
                      <a:lnTo>
                        <a:pt x="5858" y="2203"/>
                      </a:lnTo>
                      <a:lnTo>
                        <a:pt x="5858" y="2203"/>
                      </a:lnTo>
                      <a:lnTo>
                        <a:pt x="5853" y="2183"/>
                      </a:lnTo>
                      <a:lnTo>
                        <a:pt x="5848" y="2168"/>
                      </a:lnTo>
                      <a:lnTo>
                        <a:pt x="5843" y="2162"/>
                      </a:lnTo>
                      <a:lnTo>
                        <a:pt x="5840" y="2155"/>
                      </a:lnTo>
                      <a:lnTo>
                        <a:pt x="5835" y="2150"/>
                      </a:lnTo>
                      <a:lnTo>
                        <a:pt x="5828" y="2145"/>
                      </a:lnTo>
                      <a:lnTo>
                        <a:pt x="5821" y="2140"/>
                      </a:lnTo>
                      <a:lnTo>
                        <a:pt x="5812" y="2137"/>
                      </a:lnTo>
                      <a:lnTo>
                        <a:pt x="5788" y="2130"/>
                      </a:lnTo>
                      <a:lnTo>
                        <a:pt x="5755" y="2124"/>
                      </a:lnTo>
                      <a:lnTo>
                        <a:pt x="5711" y="2119"/>
                      </a:lnTo>
                      <a:lnTo>
                        <a:pt x="5711" y="2119"/>
                      </a:lnTo>
                      <a:lnTo>
                        <a:pt x="5676" y="2115"/>
                      </a:lnTo>
                      <a:lnTo>
                        <a:pt x="5645" y="2112"/>
                      </a:lnTo>
                      <a:lnTo>
                        <a:pt x="5589" y="2110"/>
                      </a:lnTo>
                      <a:lnTo>
                        <a:pt x="5543" y="2112"/>
                      </a:lnTo>
                      <a:lnTo>
                        <a:pt x="5508" y="2115"/>
                      </a:lnTo>
                      <a:lnTo>
                        <a:pt x="5508" y="2115"/>
                      </a:lnTo>
                      <a:lnTo>
                        <a:pt x="5488" y="2061"/>
                      </a:lnTo>
                      <a:lnTo>
                        <a:pt x="5467" y="2007"/>
                      </a:lnTo>
                      <a:lnTo>
                        <a:pt x="5467" y="2007"/>
                      </a:lnTo>
                      <a:lnTo>
                        <a:pt x="5497" y="1987"/>
                      </a:lnTo>
                      <a:lnTo>
                        <a:pt x="5533" y="1957"/>
                      </a:lnTo>
                      <a:lnTo>
                        <a:pt x="5574" y="1921"/>
                      </a:lnTo>
                      <a:lnTo>
                        <a:pt x="5597" y="1898"/>
                      </a:lnTo>
                      <a:lnTo>
                        <a:pt x="5622" y="1873"/>
                      </a:lnTo>
                      <a:lnTo>
                        <a:pt x="5622" y="1873"/>
                      </a:lnTo>
                      <a:lnTo>
                        <a:pt x="5652" y="1840"/>
                      </a:lnTo>
                      <a:lnTo>
                        <a:pt x="5673" y="1815"/>
                      </a:lnTo>
                      <a:lnTo>
                        <a:pt x="5688" y="1794"/>
                      </a:lnTo>
                      <a:lnTo>
                        <a:pt x="5691" y="1786"/>
                      </a:lnTo>
                      <a:lnTo>
                        <a:pt x="5694" y="1777"/>
                      </a:lnTo>
                      <a:lnTo>
                        <a:pt x="5696" y="1769"/>
                      </a:lnTo>
                      <a:lnTo>
                        <a:pt x="5696" y="1763"/>
                      </a:lnTo>
                      <a:lnTo>
                        <a:pt x="5696" y="1756"/>
                      </a:lnTo>
                      <a:lnTo>
                        <a:pt x="5694" y="1748"/>
                      </a:lnTo>
                      <a:lnTo>
                        <a:pt x="5688" y="1733"/>
                      </a:lnTo>
                      <a:lnTo>
                        <a:pt x="5680" y="1715"/>
                      </a:lnTo>
                      <a:lnTo>
                        <a:pt x="5680" y="1715"/>
                      </a:lnTo>
                      <a:lnTo>
                        <a:pt x="5671" y="1695"/>
                      </a:lnTo>
                      <a:lnTo>
                        <a:pt x="5663" y="1682"/>
                      </a:lnTo>
                      <a:lnTo>
                        <a:pt x="5658" y="1675"/>
                      </a:lnTo>
                      <a:lnTo>
                        <a:pt x="5653" y="1670"/>
                      </a:lnTo>
                      <a:lnTo>
                        <a:pt x="5648" y="1665"/>
                      </a:lnTo>
                      <a:lnTo>
                        <a:pt x="5642" y="1662"/>
                      </a:lnTo>
                      <a:lnTo>
                        <a:pt x="5633" y="1659"/>
                      </a:lnTo>
                      <a:lnTo>
                        <a:pt x="5624" y="1657"/>
                      </a:lnTo>
                      <a:lnTo>
                        <a:pt x="5599" y="1655"/>
                      </a:lnTo>
                      <a:lnTo>
                        <a:pt x="5566" y="1654"/>
                      </a:lnTo>
                      <a:lnTo>
                        <a:pt x="5521" y="1657"/>
                      </a:lnTo>
                      <a:lnTo>
                        <a:pt x="5521" y="1657"/>
                      </a:lnTo>
                      <a:lnTo>
                        <a:pt x="5487" y="1659"/>
                      </a:lnTo>
                      <a:lnTo>
                        <a:pt x="5454" y="1662"/>
                      </a:lnTo>
                      <a:lnTo>
                        <a:pt x="5398" y="1670"/>
                      </a:lnTo>
                      <a:lnTo>
                        <a:pt x="5353" y="1680"/>
                      </a:lnTo>
                      <a:lnTo>
                        <a:pt x="5319" y="1690"/>
                      </a:lnTo>
                      <a:lnTo>
                        <a:pt x="5319" y="1690"/>
                      </a:lnTo>
                      <a:lnTo>
                        <a:pt x="5290" y="1639"/>
                      </a:lnTo>
                      <a:lnTo>
                        <a:pt x="5261" y="1589"/>
                      </a:lnTo>
                      <a:lnTo>
                        <a:pt x="5261" y="1589"/>
                      </a:lnTo>
                      <a:lnTo>
                        <a:pt x="5286" y="1563"/>
                      </a:lnTo>
                      <a:lnTo>
                        <a:pt x="5317" y="1530"/>
                      </a:lnTo>
                      <a:lnTo>
                        <a:pt x="5352" y="1486"/>
                      </a:lnTo>
                      <a:lnTo>
                        <a:pt x="5371" y="1459"/>
                      </a:lnTo>
                      <a:lnTo>
                        <a:pt x="5391" y="1429"/>
                      </a:lnTo>
                      <a:lnTo>
                        <a:pt x="5391" y="1429"/>
                      </a:lnTo>
                      <a:lnTo>
                        <a:pt x="5414" y="1393"/>
                      </a:lnTo>
                      <a:lnTo>
                        <a:pt x="5431" y="1364"/>
                      </a:lnTo>
                      <a:lnTo>
                        <a:pt x="5441" y="1340"/>
                      </a:lnTo>
                      <a:lnTo>
                        <a:pt x="5444" y="1332"/>
                      </a:lnTo>
                      <a:lnTo>
                        <a:pt x="5445" y="1322"/>
                      </a:lnTo>
                      <a:lnTo>
                        <a:pt x="5445" y="1316"/>
                      </a:lnTo>
                      <a:lnTo>
                        <a:pt x="5444" y="1307"/>
                      </a:lnTo>
                      <a:lnTo>
                        <a:pt x="5442" y="1301"/>
                      </a:lnTo>
                      <a:lnTo>
                        <a:pt x="5441" y="1294"/>
                      </a:lnTo>
                      <a:lnTo>
                        <a:pt x="5431" y="1279"/>
                      </a:lnTo>
                      <a:lnTo>
                        <a:pt x="5419" y="1263"/>
                      </a:lnTo>
                      <a:lnTo>
                        <a:pt x="5419" y="1263"/>
                      </a:lnTo>
                      <a:lnTo>
                        <a:pt x="5408" y="1246"/>
                      </a:lnTo>
                      <a:lnTo>
                        <a:pt x="5398" y="1233"/>
                      </a:lnTo>
                      <a:lnTo>
                        <a:pt x="5393" y="1228"/>
                      </a:lnTo>
                      <a:lnTo>
                        <a:pt x="5386" y="1225"/>
                      </a:lnTo>
                      <a:lnTo>
                        <a:pt x="5380" y="1222"/>
                      </a:lnTo>
                      <a:lnTo>
                        <a:pt x="5373" y="1218"/>
                      </a:lnTo>
                      <a:lnTo>
                        <a:pt x="5363" y="1218"/>
                      </a:lnTo>
                      <a:lnTo>
                        <a:pt x="5355" y="1217"/>
                      </a:lnTo>
                      <a:lnTo>
                        <a:pt x="5330" y="1218"/>
                      </a:lnTo>
                      <a:lnTo>
                        <a:pt x="5297" y="1225"/>
                      </a:lnTo>
                      <a:lnTo>
                        <a:pt x="5253" y="1235"/>
                      </a:lnTo>
                      <a:lnTo>
                        <a:pt x="5253" y="1235"/>
                      </a:lnTo>
                      <a:lnTo>
                        <a:pt x="5220" y="1243"/>
                      </a:lnTo>
                      <a:lnTo>
                        <a:pt x="5188" y="1251"/>
                      </a:lnTo>
                      <a:lnTo>
                        <a:pt x="5134" y="1270"/>
                      </a:lnTo>
                      <a:lnTo>
                        <a:pt x="5091" y="1286"/>
                      </a:lnTo>
                      <a:lnTo>
                        <a:pt x="5060" y="1303"/>
                      </a:lnTo>
                      <a:lnTo>
                        <a:pt x="5060" y="1303"/>
                      </a:lnTo>
                      <a:lnTo>
                        <a:pt x="5022" y="1256"/>
                      </a:lnTo>
                      <a:lnTo>
                        <a:pt x="4985" y="1213"/>
                      </a:lnTo>
                      <a:lnTo>
                        <a:pt x="4985" y="1213"/>
                      </a:lnTo>
                      <a:lnTo>
                        <a:pt x="5005" y="1184"/>
                      </a:lnTo>
                      <a:lnTo>
                        <a:pt x="5030" y="1144"/>
                      </a:lnTo>
                      <a:lnTo>
                        <a:pt x="5056" y="1095"/>
                      </a:lnTo>
                      <a:lnTo>
                        <a:pt x="5071" y="1065"/>
                      </a:lnTo>
                      <a:lnTo>
                        <a:pt x="5084" y="1034"/>
                      </a:lnTo>
                      <a:lnTo>
                        <a:pt x="5084" y="1034"/>
                      </a:lnTo>
                      <a:lnTo>
                        <a:pt x="5103" y="993"/>
                      </a:lnTo>
                      <a:lnTo>
                        <a:pt x="5114" y="961"/>
                      </a:lnTo>
                      <a:lnTo>
                        <a:pt x="5119" y="938"/>
                      </a:lnTo>
                      <a:lnTo>
                        <a:pt x="5121" y="928"/>
                      </a:lnTo>
                      <a:lnTo>
                        <a:pt x="5121" y="918"/>
                      </a:lnTo>
                      <a:lnTo>
                        <a:pt x="5119" y="912"/>
                      </a:lnTo>
                      <a:lnTo>
                        <a:pt x="5117" y="905"/>
                      </a:lnTo>
                      <a:lnTo>
                        <a:pt x="5114" y="899"/>
                      </a:lnTo>
                      <a:lnTo>
                        <a:pt x="5111" y="892"/>
                      </a:lnTo>
                      <a:lnTo>
                        <a:pt x="5099" y="879"/>
                      </a:lnTo>
                      <a:lnTo>
                        <a:pt x="5084" y="866"/>
                      </a:lnTo>
                      <a:lnTo>
                        <a:pt x="5084" y="866"/>
                      </a:lnTo>
                      <a:lnTo>
                        <a:pt x="5071" y="851"/>
                      </a:lnTo>
                      <a:lnTo>
                        <a:pt x="5058" y="839"/>
                      </a:lnTo>
                      <a:lnTo>
                        <a:pt x="5051" y="836"/>
                      </a:lnTo>
                      <a:lnTo>
                        <a:pt x="5045" y="833"/>
                      </a:lnTo>
                      <a:lnTo>
                        <a:pt x="5038" y="831"/>
                      </a:lnTo>
                      <a:lnTo>
                        <a:pt x="5032" y="829"/>
                      </a:lnTo>
                      <a:lnTo>
                        <a:pt x="5022" y="829"/>
                      </a:lnTo>
                      <a:lnTo>
                        <a:pt x="5012" y="831"/>
                      </a:lnTo>
                      <a:lnTo>
                        <a:pt x="4989" y="838"/>
                      </a:lnTo>
                      <a:lnTo>
                        <a:pt x="4957" y="847"/>
                      </a:lnTo>
                      <a:lnTo>
                        <a:pt x="4916" y="866"/>
                      </a:lnTo>
                      <a:lnTo>
                        <a:pt x="4916" y="866"/>
                      </a:lnTo>
                      <a:lnTo>
                        <a:pt x="4885" y="879"/>
                      </a:lnTo>
                      <a:lnTo>
                        <a:pt x="4855" y="894"/>
                      </a:lnTo>
                      <a:lnTo>
                        <a:pt x="4806" y="920"/>
                      </a:lnTo>
                      <a:lnTo>
                        <a:pt x="4766" y="945"/>
                      </a:lnTo>
                      <a:lnTo>
                        <a:pt x="4737" y="965"/>
                      </a:lnTo>
                      <a:lnTo>
                        <a:pt x="4737" y="965"/>
                      </a:lnTo>
                      <a:lnTo>
                        <a:pt x="4694" y="928"/>
                      </a:lnTo>
                      <a:lnTo>
                        <a:pt x="4647" y="890"/>
                      </a:lnTo>
                      <a:lnTo>
                        <a:pt x="4647" y="890"/>
                      </a:lnTo>
                      <a:lnTo>
                        <a:pt x="4664" y="859"/>
                      </a:lnTo>
                      <a:lnTo>
                        <a:pt x="4680" y="816"/>
                      </a:lnTo>
                      <a:lnTo>
                        <a:pt x="4699" y="762"/>
                      </a:lnTo>
                      <a:lnTo>
                        <a:pt x="4707" y="730"/>
                      </a:lnTo>
                      <a:lnTo>
                        <a:pt x="4717" y="697"/>
                      </a:lnTo>
                      <a:lnTo>
                        <a:pt x="4717" y="697"/>
                      </a:lnTo>
                      <a:lnTo>
                        <a:pt x="4725" y="653"/>
                      </a:lnTo>
                      <a:lnTo>
                        <a:pt x="4732" y="620"/>
                      </a:lnTo>
                      <a:lnTo>
                        <a:pt x="4733" y="597"/>
                      </a:lnTo>
                      <a:lnTo>
                        <a:pt x="4733" y="587"/>
                      </a:lnTo>
                      <a:lnTo>
                        <a:pt x="4732" y="577"/>
                      </a:lnTo>
                      <a:lnTo>
                        <a:pt x="4728" y="570"/>
                      </a:lnTo>
                      <a:lnTo>
                        <a:pt x="4725" y="564"/>
                      </a:lnTo>
                      <a:lnTo>
                        <a:pt x="4722" y="557"/>
                      </a:lnTo>
                      <a:lnTo>
                        <a:pt x="4717" y="552"/>
                      </a:lnTo>
                      <a:lnTo>
                        <a:pt x="4704" y="542"/>
                      </a:lnTo>
                      <a:lnTo>
                        <a:pt x="4687" y="531"/>
                      </a:lnTo>
                      <a:lnTo>
                        <a:pt x="4687" y="531"/>
                      </a:lnTo>
                      <a:lnTo>
                        <a:pt x="4671" y="519"/>
                      </a:lnTo>
                      <a:lnTo>
                        <a:pt x="4656" y="511"/>
                      </a:lnTo>
                      <a:lnTo>
                        <a:pt x="4649" y="508"/>
                      </a:lnTo>
                      <a:lnTo>
                        <a:pt x="4643" y="506"/>
                      </a:lnTo>
                      <a:lnTo>
                        <a:pt x="4634" y="505"/>
                      </a:lnTo>
                      <a:lnTo>
                        <a:pt x="4628" y="505"/>
                      </a:lnTo>
                      <a:lnTo>
                        <a:pt x="4618" y="506"/>
                      </a:lnTo>
                      <a:lnTo>
                        <a:pt x="4610" y="509"/>
                      </a:lnTo>
                      <a:lnTo>
                        <a:pt x="4586" y="519"/>
                      </a:lnTo>
                      <a:lnTo>
                        <a:pt x="4557" y="536"/>
                      </a:lnTo>
                      <a:lnTo>
                        <a:pt x="4521" y="559"/>
                      </a:lnTo>
                      <a:lnTo>
                        <a:pt x="4521" y="559"/>
                      </a:lnTo>
                      <a:lnTo>
                        <a:pt x="4491" y="579"/>
                      </a:lnTo>
                      <a:lnTo>
                        <a:pt x="4464" y="598"/>
                      </a:lnTo>
                      <a:lnTo>
                        <a:pt x="4420" y="633"/>
                      </a:lnTo>
                      <a:lnTo>
                        <a:pt x="4385" y="664"/>
                      </a:lnTo>
                      <a:lnTo>
                        <a:pt x="4361" y="691"/>
                      </a:lnTo>
                      <a:lnTo>
                        <a:pt x="4361" y="691"/>
                      </a:lnTo>
                      <a:lnTo>
                        <a:pt x="4311" y="661"/>
                      </a:lnTo>
                      <a:lnTo>
                        <a:pt x="4260" y="633"/>
                      </a:lnTo>
                      <a:lnTo>
                        <a:pt x="4260" y="633"/>
                      </a:lnTo>
                      <a:lnTo>
                        <a:pt x="4270" y="598"/>
                      </a:lnTo>
                      <a:lnTo>
                        <a:pt x="4280" y="552"/>
                      </a:lnTo>
                      <a:lnTo>
                        <a:pt x="4288" y="496"/>
                      </a:lnTo>
                      <a:lnTo>
                        <a:pt x="4291" y="463"/>
                      </a:lnTo>
                      <a:lnTo>
                        <a:pt x="4293" y="429"/>
                      </a:lnTo>
                      <a:lnTo>
                        <a:pt x="4293" y="429"/>
                      </a:lnTo>
                      <a:lnTo>
                        <a:pt x="4296" y="384"/>
                      </a:lnTo>
                      <a:lnTo>
                        <a:pt x="4295" y="351"/>
                      </a:lnTo>
                      <a:lnTo>
                        <a:pt x="4293" y="326"/>
                      </a:lnTo>
                      <a:lnTo>
                        <a:pt x="4291" y="317"/>
                      </a:lnTo>
                      <a:lnTo>
                        <a:pt x="4288" y="308"/>
                      </a:lnTo>
                      <a:lnTo>
                        <a:pt x="4285" y="302"/>
                      </a:lnTo>
                      <a:lnTo>
                        <a:pt x="4280" y="297"/>
                      </a:lnTo>
                      <a:lnTo>
                        <a:pt x="4275" y="292"/>
                      </a:lnTo>
                      <a:lnTo>
                        <a:pt x="4268" y="287"/>
                      </a:lnTo>
                      <a:lnTo>
                        <a:pt x="4255" y="279"/>
                      </a:lnTo>
                      <a:lnTo>
                        <a:pt x="4235" y="270"/>
                      </a:lnTo>
                      <a:lnTo>
                        <a:pt x="4235" y="270"/>
                      </a:lnTo>
                      <a:lnTo>
                        <a:pt x="4217" y="262"/>
                      </a:lnTo>
                      <a:lnTo>
                        <a:pt x="4202" y="256"/>
                      </a:lnTo>
                      <a:lnTo>
                        <a:pt x="4194" y="254"/>
                      </a:lnTo>
                      <a:lnTo>
                        <a:pt x="4187" y="254"/>
                      </a:lnTo>
                      <a:lnTo>
                        <a:pt x="4181" y="254"/>
                      </a:lnTo>
                      <a:lnTo>
                        <a:pt x="4173" y="256"/>
                      </a:lnTo>
                      <a:lnTo>
                        <a:pt x="4164" y="259"/>
                      </a:lnTo>
                      <a:lnTo>
                        <a:pt x="4156" y="262"/>
                      </a:lnTo>
                      <a:lnTo>
                        <a:pt x="4136" y="277"/>
                      </a:lnTo>
                      <a:lnTo>
                        <a:pt x="4110" y="298"/>
                      </a:lnTo>
                      <a:lnTo>
                        <a:pt x="4077" y="328"/>
                      </a:lnTo>
                      <a:lnTo>
                        <a:pt x="4077" y="328"/>
                      </a:lnTo>
                      <a:lnTo>
                        <a:pt x="4052" y="353"/>
                      </a:lnTo>
                      <a:lnTo>
                        <a:pt x="4029" y="376"/>
                      </a:lnTo>
                      <a:lnTo>
                        <a:pt x="3991" y="419"/>
                      </a:lnTo>
                      <a:lnTo>
                        <a:pt x="3963" y="455"/>
                      </a:lnTo>
                      <a:lnTo>
                        <a:pt x="3942" y="485"/>
                      </a:lnTo>
                      <a:lnTo>
                        <a:pt x="3942" y="485"/>
                      </a:lnTo>
                      <a:lnTo>
                        <a:pt x="3889" y="465"/>
                      </a:lnTo>
                      <a:lnTo>
                        <a:pt x="3835" y="445"/>
                      </a:lnTo>
                      <a:lnTo>
                        <a:pt x="3835" y="445"/>
                      </a:lnTo>
                      <a:lnTo>
                        <a:pt x="3838" y="411"/>
                      </a:lnTo>
                      <a:lnTo>
                        <a:pt x="3840" y="364"/>
                      </a:lnTo>
                      <a:lnTo>
                        <a:pt x="3838" y="307"/>
                      </a:lnTo>
                      <a:lnTo>
                        <a:pt x="3835" y="274"/>
                      </a:lnTo>
                      <a:lnTo>
                        <a:pt x="3831" y="239"/>
                      </a:lnTo>
                      <a:lnTo>
                        <a:pt x="3831" y="239"/>
                      </a:lnTo>
                      <a:lnTo>
                        <a:pt x="3826" y="195"/>
                      </a:lnTo>
                      <a:lnTo>
                        <a:pt x="3820" y="162"/>
                      </a:lnTo>
                      <a:lnTo>
                        <a:pt x="3813" y="138"/>
                      </a:lnTo>
                      <a:lnTo>
                        <a:pt x="3810" y="129"/>
                      </a:lnTo>
                      <a:lnTo>
                        <a:pt x="3805" y="122"/>
                      </a:lnTo>
                      <a:lnTo>
                        <a:pt x="3800" y="115"/>
                      </a:lnTo>
                      <a:lnTo>
                        <a:pt x="3795" y="110"/>
                      </a:lnTo>
                      <a:lnTo>
                        <a:pt x="3788" y="107"/>
                      </a:lnTo>
                      <a:lnTo>
                        <a:pt x="3782" y="104"/>
                      </a:lnTo>
                      <a:lnTo>
                        <a:pt x="3767" y="97"/>
                      </a:lnTo>
                      <a:lnTo>
                        <a:pt x="3747" y="92"/>
                      </a:lnTo>
                      <a:lnTo>
                        <a:pt x="3747" y="92"/>
                      </a:lnTo>
                      <a:lnTo>
                        <a:pt x="3727" y="87"/>
                      </a:lnTo>
                      <a:lnTo>
                        <a:pt x="3711" y="84"/>
                      </a:lnTo>
                      <a:lnTo>
                        <a:pt x="3704" y="84"/>
                      </a:lnTo>
                      <a:lnTo>
                        <a:pt x="3696" y="84"/>
                      </a:lnTo>
                      <a:lnTo>
                        <a:pt x="3690" y="86"/>
                      </a:lnTo>
                      <a:lnTo>
                        <a:pt x="3683" y="89"/>
                      </a:lnTo>
                      <a:lnTo>
                        <a:pt x="3675" y="92"/>
                      </a:lnTo>
                      <a:lnTo>
                        <a:pt x="3666" y="99"/>
                      </a:lnTo>
                      <a:lnTo>
                        <a:pt x="3650" y="117"/>
                      </a:lnTo>
                      <a:lnTo>
                        <a:pt x="3627" y="142"/>
                      </a:lnTo>
                      <a:lnTo>
                        <a:pt x="3601" y="176"/>
                      </a:lnTo>
                      <a:lnTo>
                        <a:pt x="3601" y="176"/>
                      </a:lnTo>
                      <a:lnTo>
                        <a:pt x="3581" y="206"/>
                      </a:lnTo>
                      <a:lnTo>
                        <a:pt x="3561" y="232"/>
                      </a:lnTo>
                      <a:lnTo>
                        <a:pt x="3531" y="282"/>
                      </a:lnTo>
                      <a:lnTo>
                        <a:pt x="3510" y="323"/>
                      </a:lnTo>
                      <a:lnTo>
                        <a:pt x="3495" y="354"/>
                      </a:lnTo>
                      <a:lnTo>
                        <a:pt x="3495" y="354"/>
                      </a:lnTo>
                      <a:lnTo>
                        <a:pt x="3439" y="345"/>
                      </a:lnTo>
                      <a:lnTo>
                        <a:pt x="3381" y="335"/>
                      </a:lnTo>
                      <a:lnTo>
                        <a:pt x="3381" y="335"/>
                      </a:lnTo>
                      <a:lnTo>
                        <a:pt x="3380" y="300"/>
                      </a:lnTo>
                      <a:lnTo>
                        <a:pt x="3373" y="254"/>
                      </a:lnTo>
                      <a:lnTo>
                        <a:pt x="3361" y="198"/>
                      </a:lnTo>
                      <a:lnTo>
                        <a:pt x="3353" y="165"/>
                      </a:lnTo>
                      <a:lnTo>
                        <a:pt x="3343" y="132"/>
                      </a:lnTo>
                      <a:lnTo>
                        <a:pt x="3343" y="132"/>
                      </a:lnTo>
                      <a:lnTo>
                        <a:pt x="3330" y="89"/>
                      </a:lnTo>
                      <a:lnTo>
                        <a:pt x="3319" y="58"/>
                      </a:lnTo>
                      <a:lnTo>
                        <a:pt x="3307" y="36"/>
                      </a:lnTo>
                      <a:lnTo>
                        <a:pt x="3302" y="28"/>
                      </a:lnTo>
                      <a:lnTo>
                        <a:pt x="3297" y="21"/>
                      </a:lnTo>
                      <a:lnTo>
                        <a:pt x="3291" y="15"/>
                      </a:lnTo>
                      <a:lnTo>
                        <a:pt x="3286" y="12"/>
                      </a:lnTo>
                      <a:lnTo>
                        <a:pt x="3279" y="8"/>
                      </a:lnTo>
                      <a:lnTo>
                        <a:pt x="3271" y="7"/>
                      </a:lnTo>
                      <a:lnTo>
                        <a:pt x="3254" y="3"/>
                      </a:lnTo>
                      <a:lnTo>
                        <a:pt x="3235" y="2"/>
                      </a:lnTo>
                      <a:lnTo>
                        <a:pt x="3235" y="2"/>
                      </a:lnTo>
                      <a:lnTo>
                        <a:pt x="3215" y="0"/>
                      </a:lnTo>
                      <a:lnTo>
                        <a:pt x="3198" y="0"/>
                      </a:lnTo>
                      <a:lnTo>
                        <a:pt x="3190" y="2"/>
                      </a:lnTo>
                      <a:lnTo>
                        <a:pt x="3183" y="3"/>
                      </a:lnTo>
                      <a:lnTo>
                        <a:pt x="3177" y="5"/>
                      </a:lnTo>
                      <a:lnTo>
                        <a:pt x="3170" y="10"/>
                      </a:lnTo>
                      <a:lnTo>
                        <a:pt x="3164" y="15"/>
                      </a:lnTo>
                      <a:lnTo>
                        <a:pt x="3157" y="23"/>
                      </a:lnTo>
                      <a:lnTo>
                        <a:pt x="3142" y="43"/>
                      </a:lnTo>
                      <a:lnTo>
                        <a:pt x="3126" y="71"/>
                      </a:lnTo>
                      <a:lnTo>
                        <a:pt x="3106" y="110"/>
                      </a:lnTo>
                      <a:lnTo>
                        <a:pt x="3106" y="110"/>
                      </a:lnTo>
                      <a:lnTo>
                        <a:pt x="3089" y="142"/>
                      </a:lnTo>
                      <a:lnTo>
                        <a:pt x="3076" y="171"/>
                      </a:lnTo>
                      <a:lnTo>
                        <a:pt x="3055" y="226"/>
                      </a:lnTo>
                      <a:lnTo>
                        <a:pt x="3042" y="270"/>
                      </a:lnTo>
                      <a:lnTo>
                        <a:pt x="3032" y="305"/>
                      </a:lnTo>
                      <a:lnTo>
                        <a:pt x="3032" y="305"/>
                      </a:lnTo>
                      <a:lnTo>
                        <a:pt x="2974" y="303"/>
                      </a:lnTo>
                      <a:lnTo>
                        <a:pt x="2916" y="305"/>
                      </a:lnTo>
                      <a:lnTo>
                        <a:pt x="2916" y="305"/>
                      </a:lnTo>
                      <a:lnTo>
                        <a:pt x="2908" y="270"/>
                      </a:lnTo>
                      <a:lnTo>
                        <a:pt x="2893" y="226"/>
                      </a:lnTo>
                      <a:lnTo>
                        <a:pt x="2872" y="171"/>
                      </a:lnTo>
                      <a:lnTo>
                        <a:pt x="2859" y="142"/>
                      </a:lnTo>
                      <a:lnTo>
                        <a:pt x="2844" y="110"/>
                      </a:lnTo>
                      <a:lnTo>
                        <a:pt x="2844" y="110"/>
                      </a:lnTo>
                      <a:lnTo>
                        <a:pt x="2824" y="71"/>
                      </a:lnTo>
                      <a:lnTo>
                        <a:pt x="2806" y="43"/>
                      </a:lnTo>
                      <a:lnTo>
                        <a:pt x="2793" y="23"/>
                      </a:lnTo>
                      <a:lnTo>
                        <a:pt x="2786" y="15"/>
                      </a:lnTo>
                      <a:lnTo>
                        <a:pt x="2779" y="10"/>
                      </a:lnTo>
                      <a:lnTo>
                        <a:pt x="2773" y="5"/>
                      </a:lnTo>
                      <a:lnTo>
                        <a:pt x="2766" y="3"/>
                      </a:lnTo>
                      <a:lnTo>
                        <a:pt x="2758" y="2"/>
                      </a:lnTo>
                      <a:lnTo>
                        <a:pt x="2751" y="0"/>
                      </a:lnTo>
                      <a:lnTo>
                        <a:pt x="2735" y="0"/>
                      </a:lnTo>
                      <a:lnTo>
                        <a:pt x="2715" y="2"/>
                      </a:lnTo>
                      <a:lnTo>
                        <a:pt x="2715" y="2"/>
                      </a:lnTo>
                      <a:lnTo>
                        <a:pt x="2694" y="3"/>
                      </a:lnTo>
                      <a:lnTo>
                        <a:pt x="2677" y="7"/>
                      </a:lnTo>
                      <a:lnTo>
                        <a:pt x="2671" y="8"/>
                      </a:lnTo>
                      <a:lnTo>
                        <a:pt x="2664" y="12"/>
                      </a:lnTo>
                      <a:lnTo>
                        <a:pt x="2657" y="15"/>
                      </a:lnTo>
                      <a:lnTo>
                        <a:pt x="2652" y="21"/>
                      </a:lnTo>
                      <a:lnTo>
                        <a:pt x="2648" y="28"/>
                      </a:lnTo>
                      <a:lnTo>
                        <a:pt x="2641" y="36"/>
                      </a:lnTo>
                      <a:lnTo>
                        <a:pt x="2631" y="58"/>
                      </a:lnTo>
                      <a:lnTo>
                        <a:pt x="2620" y="89"/>
                      </a:lnTo>
                      <a:lnTo>
                        <a:pt x="2606" y="132"/>
                      </a:lnTo>
                      <a:lnTo>
                        <a:pt x="2606" y="132"/>
                      </a:lnTo>
                      <a:lnTo>
                        <a:pt x="2596" y="165"/>
                      </a:lnTo>
                      <a:lnTo>
                        <a:pt x="2588" y="198"/>
                      </a:lnTo>
                      <a:lnTo>
                        <a:pt x="2577" y="254"/>
                      </a:lnTo>
                      <a:lnTo>
                        <a:pt x="2570" y="300"/>
                      </a:lnTo>
                      <a:lnTo>
                        <a:pt x="2567" y="335"/>
                      </a:lnTo>
                      <a:lnTo>
                        <a:pt x="2567" y="335"/>
                      </a:lnTo>
                      <a:lnTo>
                        <a:pt x="2511" y="345"/>
                      </a:lnTo>
                      <a:lnTo>
                        <a:pt x="2455" y="354"/>
                      </a:lnTo>
                      <a:lnTo>
                        <a:pt x="2455" y="354"/>
                      </a:lnTo>
                      <a:lnTo>
                        <a:pt x="2440" y="323"/>
                      </a:lnTo>
                      <a:lnTo>
                        <a:pt x="2417" y="282"/>
                      </a:lnTo>
                      <a:lnTo>
                        <a:pt x="2387" y="232"/>
                      </a:lnTo>
                      <a:lnTo>
                        <a:pt x="2369" y="206"/>
                      </a:lnTo>
                      <a:lnTo>
                        <a:pt x="2347" y="176"/>
                      </a:lnTo>
                      <a:lnTo>
                        <a:pt x="2347" y="176"/>
                      </a:lnTo>
                      <a:lnTo>
                        <a:pt x="2321" y="142"/>
                      </a:lnTo>
                      <a:lnTo>
                        <a:pt x="2300" y="117"/>
                      </a:lnTo>
                      <a:lnTo>
                        <a:pt x="2282" y="99"/>
                      </a:lnTo>
                      <a:lnTo>
                        <a:pt x="2275" y="92"/>
                      </a:lnTo>
                      <a:lnTo>
                        <a:pt x="2267" y="89"/>
                      </a:lnTo>
                      <a:lnTo>
                        <a:pt x="2260" y="86"/>
                      </a:lnTo>
                      <a:lnTo>
                        <a:pt x="2252" y="84"/>
                      </a:lnTo>
                      <a:lnTo>
                        <a:pt x="2245" y="84"/>
                      </a:lnTo>
                      <a:lnTo>
                        <a:pt x="2239" y="84"/>
                      </a:lnTo>
                      <a:lnTo>
                        <a:pt x="2222" y="87"/>
                      </a:lnTo>
                      <a:lnTo>
                        <a:pt x="2202" y="92"/>
                      </a:lnTo>
                      <a:lnTo>
                        <a:pt x="2202" y="92"/>
                      </a:lnTo>
                      <a:lnTo>
                        <a:pt x="2183" y="97"/>
                      </a:lnTo>
                      <a:lnTo>
                        <a:pt x="2166" y="104"/>
                      </a:lnTo>
                      <a:lnTo>
                        <a:pt x="2160" y="107"/>
                      </a:lnTo>
                      <a:lnTo>
                        <a:pt x="2155" y="110"/>
                      </a:lnTo>
                      <a:lnTo>
                        <a:pt x="2148" y="115"/>
                      </a:lnTo>
                      <a:lnTo>
                        <a:pt x="2145" y="122"/>
                      </a:lnTo>
                      <a:lnTo>
                        <a:pt x="2140" y="129"/>
                      </a:lnTo>
                      <a:lnTo>
                        <a:pt x="2136" y="138"/>
                      </a:lnTo>
                      <a:lnTo>
                        <a:pt x="2130" y="162"/>
                      </a:lnTo>
                      <a:lnTo>
                        <a:pt x="2123" y="195"/>
                      </a:lnTo>
                      <a:lnTo>
                        <a:pt x="2118" y="239"/>
                      </a:lnTo>
                      <a:lnTo>
                        <a:pt x="2118" y="239"/>
                      </a:lnTo>
                      <a:lnTo>
                        <a:pt x="2113" y="274"/>
                      </a:lnTo>
                      <a:lnTo>
                        <a:pt x="2112" y="307"/>
                      </a:lnTo>
                      <a:lnTo>
                        <a:pt x="2110" y="364"/>
                      </a:lnTo>
                      <a:lnTo>
                        <a:pt x="2112" y="411"/>
                      </a:lnTo>
                      <a:lnTo>
                        <a:pt x="2115" y="447"/>
                      </a:lnTo>
                      <a:lnTo>
                        <a:pt x="2115" y="447"/>
                      </a:lnTo>
                      <a:lnTo>
                        <a:pt x="2061" y="465"/>
                      </a:lnTo>
                      <a:lnTo>
                        <a:pt x="2008" y="486"/>
                      </a:lnTo>
                      <a:lnTo>
                        <a:pt x="2008" y="486"/>
                      </a:lnTo>
                      <a:lnTo>
                        <a:pt x="1986" y="457"/>
                      </a:lnTo>
                      <a:lnTo>
                        <a:pt x="1958" y="419"/>
                      </a:lnTo>
                      <a:lnTo>
                        <a:pt x="1920" y="376"/>
                      </a:lnTo>
                      <a:lnTo>
                        <a:pt x="1897" y="353"/>
                      </a:lnTo>
                      <a:lnTo>
                        <a:pt x="1871" y="328"/>
                      </a:lnTo>
                      <a:lnTo>
                        <a:pt x="1871" y="328"/>
                      </a:lnTo>
                      <a:lnTo>
                        <a:pt x="1840" y="298"/>
                      </a:lnTo>
                      <a:lnTo>
                        <a:pt x="1813" y="277"/>
                      </a:lnTo>
                      <a:lnTo>
                        <a:pt x="1793" y="262"/>
                      </a:lnTo>
                      <a:lnTo>
                        <a:pt x="1784" y="259"/>
                      </a:lnTo>
                      <a:lnTo>
                        <a:pt x="1775" y="256"/>
                      </a:lnTo>
                      <a:lnTo>
                        <a:pt x="1769" y="254"/>
                      </a:lnTo>
                      <a:lnTo>
                        <a:pt x="1762" y="254"/>
                      </a:lnTo>
                      <a:lnTo>
                        <a:pt x="1754" y="254"/>
                      </a:lnTo>
                      <a:lnTo>
                        <a:pt x="1747" y="256"/>
                      </a:lnTo>
                      <a:lnTo>
                        <a:pt x="1731" y="262"/>
                      </a:lnTo>
                      <a:lnTo>
                        <a:pt x="1713" y="270"/>
                      </a:lnTo>
                      <a:lnTo>
                        <a:pt x="1713" y="270"/>
                      </a:lnTo>
                      <a:lnTo>
                        <a:pt x="1695" y="279"/>
                      </a:lnTo>
                      <a:lnTo>
                        <a:pt x="1680" y="287"/>
                      </a:lnTo>
                      <a:lnTo>
                        <a:pt x="1675" y="292"/>
                      </a:lnTo>
                      <a:lnTo>
                        <a:pt x="1670" y="297"/>
                      </a:lnTo>
                      <a:lnTo>
                        <a:pt x="1665" y="302"/>
                      </a:lnTo>
                      <a:lnTo>
                        <a:pt x="1662" y="308"/>
                      </a:lnTo>
                      <a:lnTo>
                        <a:pt x="1658" y="317"/>
                      </a:lnTo>
                      <a:lnTo>
                        <a:pt x="1657" y="326"/>
                      </a:lnTo>
                      <a:lnTo>
                        <a:pt x="1653" y="351"/>
                      </a:lnTo>
                      <a:lnTo>
                        <a:pt x="1653" y="384"/>
                      </a:lnTo>
                      <a:lnTo>
                        <a:pt x="1655" y="429"/>
                      </a:lnTo>
                      <a:lnTo>
                        <a:pt x="1655" y="429"/>
                      </a:lnTo>
                      <a:lnTo>
                        <a:pt x="1658" y="465"/>
                      </a:lnTo>
                      <a:lnTo>
                        <a:pt x="1662" y="498"/>
                      </a:lnTo>
                      <a:lnTo>
                        <a:pt x="1670" y="554"/>
                      </a:lnTo>
                      <a:lnTo>
                        <a:pt x="1680" y="600"/>
                      </a:lnTo>
                      <a:lnTo>
                        <a:pt x="1690" y="635"/>
                      </a:lnTo>
                      <a:lnTo>
                        <a:pt x="1690" y="635"/>
                      </a:lnTo>
                      <a:lnTo>
                        <a:pt x="1639" y="663"/>
                      </a:lnTo>
                      <a:lnTo>
                        <a:pt x="1591" y="692"/>
                      </a:lnTo>
                      <a:lnTo>
                        <a:pt x="1591" y="692"/>
                      </a:lnTo>
                      <a:lnTo>
                        <a:pt x="1564" y="666"/>
                      </a:lnTo>
                      <a:lnTo>
                        <a:pt x="1530" y="635"/>
                      </a:lnTo>
                      <a:lnTo>
                        <a:pt x="1485" y="598"/>
                      </a:lnTo>
                      <a:lnTo>
                        <a:pt x="1459" y="580"/>
                      </a:lnTo>
                      <a:lnTo>
                        <a:pt x="1429" y="559"/>
                      </a:lnTo>
                      <a:lnTo>
                        <a:pt x="1429" y="559"/>
                      </a:lnTo>
                      <a:lnTo>
                        <a:pt x="1391" y="536"/>
                      </a:lnTo>
                      <a:lnTo>
                        <a:pt x="1363" y="519"/>
                      </a:lnTo>
                      <a:lnTo>
                        <a:pt x="1340" y="509"/>
                      </a:lnTo>
                      <a:lnTo>
                        <a:pt x="1330" y="506"/>
                      </a:lnTo>
                      <a:lnTo>
                        <a:pt x="1322" y="505"/>
                      </a:lnTo>
                      <a:lnTo>
                        <a:pt x="1314" y="505"/>
                      </a:lnTo>
                      <a:lnTo>
                        <a:pt x="1307" y="506"/>
                      </a:lnTo>
                      <a:lnTo>
                        <a:pt x="1301" y="508"/>
                      </a:lnTo>
                      <a:lnTo>
                        <a:pt x="1294" y="511"/>
                      </a:lnTo>
                      <a:lnTo>
                        <a:pt x="1279" y="519"/>
                      </a:lnTo>
                      <a:lnTo>
                        <a:pt x="1263" y="531"/>
                      </a:lnTo>
                      <a:lnTo>
                        <a:pt x="1263" y="531"/>
                      </a:lnTo>
                      <a:lnTo>
                        <a:pt x="1246" y="542"/>
                      </a:lnTo>
                      <a:lnTo>
                        <a:pt x="1233" y="552"/>
                      </a:lnTo>
                      <a:lnTo>
                        <a:pt x="1228" y="557"/>
                      </a:lnTo>
                      <a:lnTo>
                        <a:pt x="1223" y="564"/>
                      </a:lnTo>
                      <a:lnTo>
                        <a:pt x="1220" y="570"/>
                      </a:lnTo>
                      <a:lnTo>
                        <a:pt x="1218" y="577"/>
                      </a:lnTo>
                      <a:lnTo>
                        <a:pt x="1216" y="587"/>
                      </a:lnTo>
                      <a:lnTo>
                        <a:pt x="1216" y="595"/>
                      </a:lnTo>
                      <a:lnTo>
                        <a:pt x="1218" y="620"/>
                      </a:lnTo>
                      <a:lnTo>
                        <a:pt x="1223" y="653"/>
                      </a:lnTo>
                      <a:lnTo>
                        <a:pt x="1233" y="697"/>
                      </a:lnTo>
                      <a:lnTo>
                        <a:pt x="1233" y="697"/>
                      </a:lnTo>
                      <a:lnTo>
                        <a:pt x="1241" y="732"/>
                      </a:lnTo>
                      <a:lnTo>
                        <a:pt x="1251" y="763"/>
                      </a:lnTo>
                      <a:lnTo>
                        <a:pt x="1269" y="818"/>
                      </a:lnTo>
                      <a:lnTo>
                        <a:pt x="1287" y="861"/>
                      </a:lnTo>
                      <a:lnTo>
                        <a:pt x="1302" y="894"/>
                      </a:lnTo>
                      <a:lnTo>
                        <a:pt x="1302" y="894"/>
                      </a:lnTo>
                      <a:lnTo>
                        <a:pt x="1258" y="930"/>
                      </a:lnTo>
                      <a:lnTo>
                        <a:pt x="1213" y="966"/>
                      </a:lnTo>
                      <a:lnTo>
                        <a:pt x="1213" y="966"/>
                      </a:lnTo>
                      <a:lnTo>
                        <a:pt x="1185" y="946"/>
                      </a:lnTo>
                      <a:lnTo>
                        <a:pt x="1146" y="922"/>
                      </a:lnTo>
                      <a:lnTo>
                        <a:pt x="1094" y="894"/>
                      </a:lnTo>
                      <a:lnTo>
                        <a:pt x="1065" y="879"/>
                      </a:lnTo>
                      <a:lnTo>
                        <a:pt x="1033" y="866"/>
                      </a:lnTo>
                      <a:lnTo>
                        <a:pt x="1033" y="866"/>
                      </a:lnTo>
                      <a:lnTo>
                        <a:pt x="992" y="847"/>
                      </a:lnTo>
                      <a:lnTo>
                        <a:pt x="961" y="838"/>
                      </a:lnTo>
                      <a:lnTo>
                        <a:pt x="936" y="831"/>
                      </a:lnTo>
                      <a:lnTo>
                        <a:pt x="926" y="829"/>
                      </a:lnTo>
                      <a:lnTo>
                        <a:pt x="918" y="829"/>
                      </a:lnTo>
                      <a:lnTo>
                        <a:pt x="910" y="831"/>
                      </a:lnTo>
                      <a:lnTo>
                        <a:pt x="903" y="833"/>
                      </a:lnTo>
                      <a:lnTo>
                        <a:pt x="897" y="836"/>
                      </a:lnTo>
                      <a:lnTo>
                        <a:pt x="892" y="839"/>
                      </a:lnTo>
                      <a:lnTo>
                        <a:pt x="878" y="851"/>
                      </a:lnTo>
                      <a:lnTo>
                        <a:pt x="864" y="866"/>
                      </a:lnTo>
                      <a:lnTo>
                        <a:pt x="864" y="866"/>
                      </a:lnTo>
                      <a:lnTo>
                        <a:pt x="850" y="879"/>
                      </a:lnTo>
                      <a:lnTo>
                        <a:pt x="839" y="892"/>
                      </a:lnTo>
                      <a:lnTo>
                        <a:pt x="834" y="899"/>
                      </a:lnTo>
                      <a:lnTo>
                        <a:pt x="832" y="905"/>
                      </a:lnTo>
                      <a:lnTo>
                        <a:pt x="829" y="912"/>
                      </a:lnTo>
                      <a:lnTo>
                        <a:pt x="829" y="918"/>
                      </a:lnTo>
                      <a:lnTo>
                        <a:pt x="829" y="928"/>
                      </a:lnTo>
                      <a:lnTo>
                        <a:pt x="829" y="938"/>
                      </a:lnTo>
                      <a:lnTo>
                        <a:pt x="836" y="961"/>
                      </a:lnTo>
                      <a:lnTo>
                        <a:pt x="847" y="993"/>
                      </a:lnTo>
                      <a:lnTo>
                        <a:pt x="864" y="1034"/>
                      </a:lnTo>
                      <a:lnTo>
                        <a:pt x="864" y="1034"/>
                      </a:lnTo>
                      <a:lnTo>
                        <a:pt x="878" y="1067"/>
                      </a:lnTo>
                      <a:lnTo>
                        <a:pt x="893" y="1095"/>
                      </a:lnTo>
                      <a:lnTo>
                        <a:pt x="920" y="1146"/>
                      </a:lnTo>
                      <a:lnTo>
                        <a:pt x="944" y="1185"/>
                      </a:lnTo>
                      <a:lnTo>
                        <a:pt x="966" y="1215"/>
                      </a:lnTo>
                      <a:lnTo>
                        <a:pt x="966" y="1215"/>
                      </a:lnTo>
                      <a:lnTo>
                        <a:pt x="928" y="1258"/>
                      </a:lnTo>
                      <a:lnTo>
                        <a:pt x="892" y="1303"/>
                      </a:lnTo>
                      <a:lnTo>
                        <a:pt x="892" y="1303"/>
                      </a:lnTo>
                      <a:lnTo>
                        <a:pt x="859" y="1288"/>
                      </a:lnTo>
                      <a:lnTo>
                        <a:pt x="816" y="1270"/>
                      </a:lnTo>
                      <a:lnTo>
                        <a:pt x="761" y="1251"/>
                      </a:lnTo>
                      <a:lnTo>
                        <a:pt x="730" y="1243"/>
                      </a:lnTo>
                      <a:lnTo>
                        <a:pt x="695" y="1235"/>
                      </a:lnTo>
                      <a:lnTo>
                        <a:pt x="695" y="1235"/>
                      </a:lnTo>
                      <a:lnTo>
                        <a:pt x="653" y="1225"/>
                      </a:lnTo>
                      <a:lnTo>
                        <a:pt x="620" y="1218"/>
                      </a:lnTo>
                      <a:lnTo>
                        <a:pt x="595" y="1217"/>
                      </a:lnTo>
                      <a:lnTo>
                        <a:pt x="585" y="1218"/>
                      </a:lnTo>
                      <a:lnTo>
                        <a:pt x="577" y="1218"/>
                      </a:lnTo>
                      <a:lnTo>
                        <a:pt x="570" y="1222"/>
                      </a:lnTo>
                      <a:lnTo>
                        <a:pt x="564" y="1225"/>
                      </a:lnTo>
                      <a:lnTo>
                        <a:pt x="557" y="1228"/>
                      </a:lnTo>
                      <a:lnTo>
                        <a:pt x="552" y="1233"/>
                      </a:lnTo>
                      <a:lnTo>
                        <a:pt x="540" y="1246"/>
                      </a:lnTo>
                      <a:lnTo>
                        <a:pt x="529" y="1263"/>
                      </a:lnTo>
                      <a:lnTo>
                        <a:pt x="529" y="1263"/>
                      </a:lnTo>
                      <a:lnTo>
                        <a:pt x="517" y="1279"/>
                      </a:lnTo>
                      <a:lnTo>
                        <a:pt x="509" y="1294"/>
                      </a:lnTo>
                      <a:lnTo>
                        <a:pt x="506" y="1301"/>
                      </a:lnTo>
                      <a:lnTo>
                        <a:pt x="504" y="1307"/>
                      </a:lnTo>
                      <a:lnTo>
                        <a:pt x="504" y="1316"/>
                      </a:lnTo>
                      <a:lnTo>
                        <a:pt x="504" y="1322"/>
                      </a:lnTo>
                      <a:lnTo>
                        <a:pt x="506" y="1332"/>
                      </a:lnTo>
                      <a:lnTo>
                        <a:pt x="509" y="1340"/>
                      </a:lnTo>
                      <a:lnTo>
                        <a:pt x="519" y="1364"/>
                      </a:lnTo>
                      <a:lnTo>
                        <a:pt x="535" y="1393"/>
                      </a:lnTo>
                      <a:lnTo>
                        <a:pt x="559" y="1429"/>
                      </a:lnTo>
                      <a:lnTo>
                        <a:pt x="559" y="1429"/>
                      </a:lnTo>
                      <a:lnTo>
                        <a:pt x="578" y="1459"/>
                      </a:lnTo>
                      <a:lnTo>
                        <a:pt x="598" y="1486"/>
                      </a:lnTo>
                      <a:lnTo>
                        <a:pt x="633" y="1530"/>
                      </a:lnTo>
                      <a:lnTo>
                        <a:pt x="664" y="1565"/>
                      </a:lnTo>
                      <a:lnTo>
                        <a:pt x="690" y="1589"/>
                      </a:lnTo>
                      <a:lnTo>
                        <a:pt x="690" y="1589"/>
                      </a:lnTo>
                      <a:lnTo>
                        <a:pt x="661" y="1639"/>
                      </a:lnTo>
                      <a:lnTo>
                        <a:pt x="633" y="1690"/>
                      </a:lnTo>
                      <a:lnTo>
                        <a:pt x="633" y="1690"/>
                      </a:lnTo>
                      <a:lnTo>
                        <a:pt x="598" y="1680"/>
                      </a:lnTo>
                      <a:lnTo>
                        <a:pt x="552" y="1670"/>
                      </a:lnTo>
                      <a:lnTo>
                        <a:pt x="496" y="1662"/>
                      </a:lnTo>
                      <a:lnTo>
                        <a:pt x="463" y="1659"/>
                      </a:lnTo>
                      <a:lnTo>
                        <a:pt x="428" y="1657"/>
                      </a:lnTo>
                      <a:lnTo>
                        <a:pt x="428" y="1657"/>
                      </a:lnTo>
                      <a:lnTo>
                        <a:pt x="384" y="1654"/>
                      </a:lnTo>
                      <a:lnTo>
                        <a:pt x="351" y="1655"/>
                      </a:lnTo>
                      <a:lnTo>
                        <a:pt x="326" y="1657"/>
                      </a:lnTo>
                      <a:lnTo>
                        <a:pt x="316" y="1659"/>
                      </a:lnTo>
                      <a:lnTo>
                        <a:pt x="308" y="1662"/>
                      </a:lnTo>
                      <a:lnTo>
                        <a:pt x="301" y="1665"/>
                      </a:lnTo>
                      <a:lnTo>
                        <a:pt x="295" y="1670"/>
                      </a:lnTo>
                      <a:lnTo>
                        <a:pt x="290" y="1675"/>
                      </a:lnTo>
                      <a:lnTo>
                        <a:pt x="287" y="1682"/>
                      </a:lnTo>
                      <a:lnTo>
                        <a:pt x="278" y="1695"/>
                      </a:lnTo>
                      <a:lnTo>
                        <a:pt x="270" y="1715"/>
                      </a:lnTo>
                      <a:lnTo>
                        <a:pt x="270" y="1715"/>
                      </a:lnTo>
                      <a:lnTo>
                        <a:pt x="260" y="1733"/>
                      </a:lnTo>
                      <a:lnTo>
                        <a:pt x="255" y="1748"/>
                      </a:lnTo>
                      <a:lnTo>
                        <a:pt x="254" y="1756"/>
                      </a:lnTo>
                      <a:lnTo>
                        <a:pt x="252" y="1763"/>
                      </a:lnTo>
                      <a:lnTo>
                        <a:pt x="254" y="1769"/>
                      </a:lnTo>
                      <a:lnTo>
                        <a:pt x="255" y="1777"/>
                      </a:lnTo>
                      <a:lnTo>
                        <a:pt x="257" y="1786"/>
                      </a:lnTo>
                      <a:lnTo>
                        <a:pt x="262" y="1794"/>
                      </a:lnTo>
                      <a:lnTo>
                        <a:pt x="277" y="1815"/>
                      </a:lnTo>
                      <a:lnTo>
                        <a:pt x="298" y="1840"/>
                      </a:lnTo>
                      <a:lnTo>
                        <a:pt x="328" y="1873"/>
                      </a:lnTo>
                      <a:lnTo>
                        <a:pt x="328" y="1873"/>
                      </a:lnTo>
                      <a:lnTo>
                        <a:pt x="351" y="1898"/>
                      </a:lnTo>
                      <a:lnTo>
                        <a:pt x="376" y="1921"/>
                      </a:lnTo>
                      <a:lnTo>
                        <a:pt x="418" y="1959"/>
                      </a:lnTo>
                      <a:lnTo>
                        <a:pt x="455" y="1987"/>
                      </a:lnTo>
                      <a:lnTo>
                        <a:pt x="484" y="2008"/>
                      </a:lnTo>
                      <a:lnTo>
                        <a:pt x="484" y="2008"/>
                      </a:lnTo>
                      <a:lnTo>
                        <a:pt x="465" y="2061"/>
                      </a:lnTo>
                      <a:lnTo>
                        <a:pt x="445" y="2115"/>
                      </a:lnTo>
                      <a:lnTo>
                        <a:pt x="445" y="2115"/>
                      </a:lnTo>
                      <a:lnTo>
                        <a:pt x="410" y="2112"/>
                      </a:lnTo>
                      <a:lnTo>
                        <a:pt x="362" y="2110"/>
                      </a:lnTo>
                      <a:lnTo>
                        <a:pt x="306" y="2112"/>
                      </a:lnTo>
                      <a:lnTo>
                        <a:pt x="273" y="2115"/>
                      </a:lnTo>
                      <a:lnTo>
                        <a:pt x="237" y="2119"/>
                      </a:lnTo>
                      <a:lnTo>
                        <a:pt x="237" y="2119"/>
                      </a:lnTo>
                      <a:lnTo>
                        <a:pt x="194" y="2124"/>
                      </a:lnTo>
                      <a:lnTo>
                        <a:pt x="161" y="2130"/>
                      </a:lnTo>
                      <a:lnTo>
                        <a:pt x="136" y="2137"/>
                      </a:lnTo>
                      <a:lnTo>
                        <a:pt x="128" y="2140"/>
                      </a:lnTo>
                      <a:lnTo>
                        <a:pt x="120" y="2145"/>
                      </a:lnTo>
                      <a:lnTo>
                        <a:pt x="115" y="2150"/>
                      </a:lnTo>
                      <a:lnTo>
                        <a:pt x="110" y="2155"/>
                      </a:lnTo>
                      <a:lnTo>
                        <a:pt x="105" y="2162"/>
                      </a:lnTo>
                      <a:lnTo>
                        <a:pt x="102" y="2168"/>
                      </a:lnTo>
                      <a:lnTo>
                        <a:pt x="97" y="2183"/>
                      </a:lnTo>
                      <a:lnTo>
                        <a:pt x="92" y="2203"/>
                      </a:lnTo>
                      <a:lnTo>
                        <a:pt x="92" y="2203"/>
                      </a:lnTo>
                      <a:lnTo>
                        <a:pt x="85" y="2223"/>
                      </a:lnTo>
                      <a:lnTo>
                        <a:pt x="84" y="2239"/>
                      </a:lnTo>
                      <a:lnTo>
                        <a:pt x="82" y="2246"/>
                      </a:lnTo>
                      <a:lnTo>
                        <a:pt x="84" y="2254"/>
                      </a:lnTo>
                      <a:lnTo>
                        <a:pt x="85" y="2260"/>
                      </a:lnTo>
                      <a:lnTo>
                        <a:pt x="87" y="2267"/>
                      </a:lnTo>
                      <a:lnTo>
                        <a:pt x="92" y="2275"/>
                      </a:lnTo>
                      <a:lnTo>
                        <a:pt x="99" y="2284"/>
                      </a:lnTo>
                      <a:lnTo>
                        <a:pt x="115" y="2300"/>
                      </a:lnTo>
                      <a:lnTo>
                        <a:pt x="141" y="2323"/>
                      </a:lnTo>
                      <a:lnTo>
                        <a:pt x="176" y="2349"/>
                      </a:lnTo>
                      <a:lnTo>
                        <a:pt x="176" y="2349"/>
                      </a:lnTo>
                      <a:lnTo>
                        <a:pt x="204" y="2369"/>
                      </a:lnTo>
                      <a:lnTo>
                        <a:pt x="232" y="2389"/>
                      </a:lnTo>
                      <a:lnTo>
                        <a:pt x="280" y="2419"/>
                      </a:lnTo>
                      <a:lnTo>
                        <a:pt x="321" y="2440"/>
                      </a:lnTo>
                      <a:lnTo>
                        <a:pt x="354" y="2455"/>
                      </a:lnTo>
                      <a:lnTo>
                        <a:pt x="354" y="2455"/>
                      </a:lnTo>
                      <a:lnTo>
                        <a:pt x="343" y="2511"/>
                      </a:lnTo>
                      <a:lnTo>
                        <a:pt x="333" y="2569"/>
                      </a:lnTo>
                      <a:lnTo>
                        <a:pt x="333" y="2569"/>
                      </a:lnTo>
                      <a:lnTo>
                        <a:pt x="298" y="2572"/>
                      </a:lnTo>
                      <a:lnTo>
                        <a:pt x="252" y="2579"/>
                      </a:lnTo>
                      <a:lnTo>
                        <a:pt x="196" y="2589"/>
                      </a:lnTo>
                      <a:lnTo>
                        <a:pt x="165" y="2597"/>
                      </a:lnTo>
                      <a:lnTo>
                        <a:pt x="130" y="2607"/>
                      </a:lnTo>
                      <a:lnTo>
                        <a:pt x="130" y="2607"/>
                      </a:lnTo>
                      <a:lnTo>
                        <a:pt x="89" y="2620"/>
                      </a:lnTo>
                      <a:lnTo>
                        <a:pt x="57" y="2631"/>
                      </a:lnTo>
                      <a:lnTo>
                        <a:pt x="34" y="2643"/>
                      </a:lnTo>
                      <a:lnTo>
                        <a:pt x="26" y="2648"/>
                      </a:lnTo>
                      <a:lnTo>
                        <a:pt x="19" y="2653"/>
                      </a:lnTo>
                      <a:lnTo>
                        <a:pt x="14" y="2659"/>
                      </a:lnTo>
                      <a:lnTo>
                        <a:pt x="11" y="2664"/>
                      </a:lnTo>
                      <a:lnTo>
                        <a:pt x="8" y="2671"/>
                      </a:lnTo>
                      <a:lnTo>
                        <a:pt x="5" y="2679"/>
                      </a:lnTo>
                      <a:lnTo>
                        <a:pt x="3" y="2696"/>
                      </a:lnTo>
                      <a:lnTo>
                        <a:pt x="1" y="2715"/>
                      </a:lnTo>
                      <a:lnTo>
                        <a:pt x="1" y="2715"/>
                      </a:lnTo>
                      <a:lnTo>
                        <a:pt x="0" y="2735"/>
                      </a:lnTo>
                      <a:lnTo>
                        <a:pt x="0" y="2752"/>
                      </a:lnTo>
                      <a:lnTo>
                        <a:pt x="0" y="2760"/>
                      </a:lnTo>
                      <a:lnTo>
                        <a:pt x="1" y="2767"/>
                      </a:lnTo>
                      <a:lnTo>
                        <a:pt x="5" y="2773"/>
                      </a:lnTo>
                      <a:lnTo>
                        <a:pt x="8" y="2780"/>
                      </a:lnTo>
                      <a:lnTo>
                        <a:pt x="14" y="2786"/>
                      </a:lnTo>
                      <a:lnTo>
                        <a:pt x="21" y="2793"/>
                      </a:lnTo>
                      <a:lnTo>
                        <a:pt x="41" y="2808"/>
                      </a:lnTo>
                      <a:lnTo>
                        <a:pt x="71" y="2824"/>
                      </a:lnTo>
                      <a:lnTo>
                        <a:pt x="110" y="2844"/>
                      </a:lnTo>
                      <a:lnTo>
                        <a:pt x="110" y="2844"/>
                      </a:lnTo>
                      <a:lnTo>
                        <a:pt x="141" y="2861"/>
                      </a:lnTo>
                      <a:lnTo>
                        <a:pt x="171" y="2874"/>
                      </a:lnTo>
                      <a:lnTo>
                        <a:pt x="224" y="2894"/>
                      </a:lnTo>
                      <a:lnTo>
                        <a:pt x="268" y="2908"/>
                      </a:lnTo>
                      <a:lnTo>
                        <a:pt x="303" y="2918"/>
                      </a:lnTo>
                      <a:lnTo>
                        <a:pt x="303" y="2918"/>
                      </a:lnTo>
                      <a:lnTo>
                        <a:pt x="301" y="2976"/>
                      </a:lnTo>
                      <a:lnTo>
                        <a:pt x="303" y="3034"/>
                      </a:lnTo>
                      <a:lnTo>
                        <a:pt x="303" y="3034"/>
                      </a:lnTo>
                      <a:lnTo>
                        <a:pt x="268" y="3042"/>
                      </a:lnTo>
                      <a:lnTo>
                        <a:pt x="224" y="3057"/>
                      </a:lnTo>
                      <a:lnTo>
                        <a:pt x="171" y="3078"/>
                      </a:lnTo>
                      <a:lnTo>
                        <a:pt x="141" y="3091"/>
                      </a:lnTo>
                      <a:lnTo>
                        <a:pt x="110" y="3106"/>
                      </a:lnTo>
                      <a:lnTo>
                        <a:pt x="110" y="3106"/>
                      </a:lnTo>
                      <a:lnTo>
                        <a:pt x="71" y="3126"/>
                      </a:lnTo>
                      <a:lnTo>
                        <a:pt x="41" y="3144"/>
                      </a:lnTo>
                      <a:lnTo>
                        <a:pt x="21" y="3157"/>
                      </a:lnTo>
                      <a:lnTo>
                        <a:pt x="14" y="3164"/>
                      </a:lnTo>
                      <a:lnTo>
                        <a:pt x="8" y="3171"/>
                      </a:lnTo>
                      <a:lnTo>
                        <a:pt x="5" y="3177"/>
                      </a:lnTo>
                      <a:lnTo>
                        <a:pt x="1" y="3184"/>
                      </a:lnTo>
                      <a:lnTo>
                        <a:pt x="0" y="3192"/>
                      </a:lnTo>
                      <a:lnTo>
                        <a:pt x="0" y="3199"/>
                      </a:lnTo>
                      <a:lnTo>
                        <a:pt x="0" y="3215"/>
                      </a:lnTo>
                      <a:lnTo>
                        <a:pt x="1" y="3237"/>
                      </a:lnTo>
                      <a:lnTo>
                        <a:pt x="1" y="3237"/>
                      </a:lnTo>
                      <a:lnTo>
                        <a:pt x="3" y="3256"/>
                      </a:lnTo>
                      <a:lnTo>
                        <a:pt x="5" y="3273"/>
                      </a:lnTo>
                      <a:lnTo>
                        <a:pt x="8" y="3279"/>
                      </a:lnTo>
                      <a:lnTo>
                        <a:pt x="11" y="3286"/>
                      </a:lnTo>
                      <a:lnTo>
                        <a:pt x="14" y="3293"/>
                      </a:lnTo>
                      <a:lnTo>
                        <a:pt x="19" y="3298"/>
                      </a:lnTo>
                      <a:lnTo>
                        <a:pt x="26" y="3302"/>
                      </a:lnTo>
                      <a:lnTo>
                        <a:pt x="34" y="3309"/>
                      </a:lnTo>
                      <a:lnTo>
                        <a:pt x="57" y="3319"/>
                      </a:lnTo>
                      <a:lnTo>
                        <a:pt x="89" y="3330"/>
                      </a:lnTo>
                      <a:lnTo>
                        <a:pt x="130" y="3344"/>
                      </a:lnTo>
                      <a:lnTo>
                        <a:pt x="130" y="3344"/>
                      </a:lnTo>
                      <a:lnTo>
                        <a:pt x="165" y="3354"/>
                      </a:lnTo>
                      <a:lnTo>
                        <a:pt x="196" y="3362"/>
                      </a:lnTo>
                      <a:lnTo>
                        <a:pt x="250" y="3373"/>
                      </a:lnTo>
                      <a:lnTo>
                        <a:pt x="296" y="3380"/>
                      </a:lnTo>
                      <a:lnTo>
                        <a:pt x="333" y="3383"/>
                      </a:lnTo>
                      <a:lnTo>
                        <a:pt x="333" y="3383"/>
                      </a:lnTo>
                      <a:lnTo>
                        <a:pt x="343" y="3439"/>
                      </a:lnTo>
                      <a:lnTo>
                        <a:pt x="352" y="3497"/>
                      </a:lnTo>
                      <a:lnTo>
                        <a:pt x="352" y="3497"/>
                      </a:lnTo>
                      <a:lnTo>
                        <a:pt x="320" y="3512"/>
                      </a:lnTo>
                      <a:lnTo>
                        <a:pt x="280" y="3533"/>
                      </a:lnTo>
                      <a:lnTo>
                        <a:pt x="230" y="3563"/>
                      </a:lnTo>
                      <a:lnTo>
                        <a:pt x="204" y="3581"/>
                      </a:lnTo>
                      <a:lnTo>
                        <a:pt x="176" y="3603"/>
                      </a:lnTo>
                      <a:lnTo>
                        <a:pt x="176" y="3603"/>
                      </a:lnTo>
                      <a:lnTo>
                        <a:pt x="141" y="3629"/>
                      </a:lnTo>
                      <a:lnTo>
                        <a:pt x="115" y="3650"/>
                      </a:lnTo>
                      <a:lnTo>
                        <a:pt x="99" y="3668"/>
                      </a:lnTo>
                      <a:lnTo>
                        <a:pt x="92" y="3677"/>
                      </a:lnTo>
                      <a:lnTo>
                        <a:pt x="87" y="3683"/>
                      </a:lnTo>
                      <a:lnTo>
                        <a:pt x="85" y="3690"/>
                      </a:lnTo>
                      <a:lnTo>
                        <a:pt x="84" y="3698"/>
                      </a:lnTo>
                      <a:lnTo>
                        <a:pt x="82" y="3705"/>
                      </a:lnTo>
                      <a:lnTo>
                        <a:pt x="84" y="3711"/>
                      </a:lnTo>
                      <a:lnTo>
                        <a:pt x="85" y="3728"/>
                      </a:lnTo>
                      <a:lnTo>
                        <a:pt x="92" y="3748"/>
                      </a:lnTo>
                      <a:lnTo>
                        <a:pt x="92" y="3748"/>
                      </a:lnTo>
                      <a:lnTo>
                        <a:pt x="97" y="3767"/>
                      </a:lnTo>
                      <a:lnTo>
                        <a:pt x="102" y="3784"/>
                      </a:lnTo>
                      <a:lnTo>
                        <a:pt x="105" y="3790"/>
                      </a:lnTo>
                      <a:lnTo>
                        <a:pt x="110" y="3795"/>
                      </a:lnTo>
                      <a:lnTo>
                        <a:pt x="115" y="3802"/>
                      </a:lnTo>
                      <a:lnTo>
                        <a:pt x="120" y="3805"/>
                      </a:lnTo>
                      <a:lnTo>
                        <a:pt x="128" y="3810"/>
                      </a:lnTo>
                      <a:lnTo>
                        <a:pt x="136" y="3814"/>
                      </a:lnTo>
                      <a:lnTo>
                        <a:pt x="161" y="3820"/>
                      </a:lnTo>
                      <a:lnTo>
                        <a:pt x="194" y="3827"/>
                      </a:lnTo>
                      <a:lnTo>
                        <a:pt x="237" y="3832"/>
                      </a:lnTo>
                      <a:lnTo>
                        <a:pt x="237" y="3832"/>
                      </a:lnTo>
                      <a:lnTo>
                        <a:pt x="272" y="3837"/>
                      </a:lnTo>
                      <a:lnTo>
                        <a:pt x="305" y="3838"/>
                      </a:lnTo>
                      <a:lnTo>
                        <a:pt x="361" y="3840"/>
                      </a:lnTo>
                      <a:lnTo>
                        <a:pt x="407" y="3838"/>
                      </a:lnTo>
                      <a:lnTo>
                        <a:pt x="443" y="3835"/>
                      </a:lnTo>
                      <a:lnTo>
                        <a:pt x="443" y="3835"/>
                      </a:lnTo>
                      <a:lnTo>
                        <a:pt x="463" y="3889"/>
                      </a:lnTo>
                      <a:lnTo>
                        <a:pt x="483" y="3944"/>
                      </a:lnTo>
                      <a:lnTo>
                        <a:pt x="483" y="3944"/>
                      </a:lnTo>
                      <a:lnTo>
                        <a:pt x="453" y="3965"/>
                      </a:lnTo>
                      <a:lnTo>
                        <a:pt x="417" y="3993"/>
                      </a:lnTo>
                      <a:lnTo>
                        <a:pt x="374" y="4031"/>
                      </a:lnTo>
                      <a:lnTo>
                        <a:pt x="351" y="4053"/>
                      </a:lnTo>
                      <a:lnTo>
                        <a:pt x="328" y="4079"/>
                      </a:lnTo>
                      <a:lnTo>
                        <a:pt x="328" y="4079"/>
                      </a:lnTo>
                      <a:lnTo>
                        <a:pt x="298" y="4110"/>
                      </a:lnTo>
                      <a:lnTo>
                        <a:pt x="277" y="4137"/>
                      </a:lnTo>
                      <a:lnTo>
                        <a:pt x="262" y="4157"/>
                      </a:lnTo>
                      <a:lnTo>
                        <a:pt x="257" y="4166"/>
                      </a:lnTo>
                      <a:lnTo>
                        <a:pt x="255" y="4175"/>
                      </a:lnTo>
                      <a:lnTo>
                        <a:pt x="254" y="4181"/>
                      </a:lnTo>
                      <a:lnTo>
                        <a:pt x="252" y="4189"/>
                      </a:lnTo>
                      <a:lnTo>
                        <a:pt x="254" y="4196"/>
                      </a:lnTo>
                      <a:lnTo>
                        <a:pt x="255" y="4203"/>
                      </a:lnTo>
                      <a:lnTo>
                        <a:pt x="260" y="4219"/>
                      </a:lnTo>
                      <a:lnTo>
                        <a:pt x="270" y="4237"/>
                      </a:lnTo>
                      <a:lnTo>
                        <a:pt x="270" y="4237"/>
                      </a:lnTo>
                      <a:lnTo>
                        <a:pt x="278" y="4255"/>
                      </a:lnTo>
                      <a:lnTo>
                        <a:pt x="287" y="4270"/>
                      </a:lnTo>
                      <a:lnTo>
                        <a:pt x="290" y="4275"/>
                      </a:lnTo>
                      <a:lnTo>
                        <a:pt x="295" y="4282"/>
                      </a:lnTo>
                      <a:lnTo>
                        <a:pt x="301" y="4285"/>
                      </a:lnTo>
                      <a:lnTo>
                        <a:pt x="308" y="4288"/>
                      </a:lnTo>
                      <a:lnTo>
                        <a:pt x="316" y="4292"/>
                      </a:lnTo>
                      <a:lnTo>
                        <a:pt x="326" y="4293"/>
                      </a:lnTo>
                      <a:lnTo>
                        <a:pt x="351" y="4297"/>
                      </a:lnTo>
                      <a:lnTo>
                        <a:pt x="384" y="4297"/>
                      </a:lnTo>
                      <a:lnTo>
                        <a:pt x="428" y="4295"/>
                      </a:lnTo>
                      <a:lnTo>
                        <a:pt x="428" y="4295"/>
                      </a:lnTo>
                      <a:lnTo>
                        <a:pt x="463" y="4292"/>
                      </a:lnTo>
                      <a:lnTo>
                        <a:pt x="494" y="4288"/>
                      </a:lnTo>
                      <a:lnTo>
                        <a:pt x="550" y="4280"/>
                      </a:lnTo>
                      <a:lnTo>
                        <a:pt x="596" y="4272"/>
                      </a:lnTo>
                      <a:lnTo>
                        <a:pt x="631" y="4262"/>
                      </a:lnTo>
                      <a:lnTo>
                        <a:pt x="631" y="4262"/>
                      </a:lnTo>
                      <a:lnTo>
                        <a:pt x="659" y="4311"/>
                      </a:lnTo>
                      <a:lnTo>
                        <a:pt x="689" y="4363"/>
                      </a:lnTo>
                      <a:lnTo>
                        <a:pt x="689" y="4363"/>
                      </a:lnTo>
                      <a:lnTo>
                        <a:pt x="664" y="4387"/>
                      </a:lnTo>
                      <a:lnTo>
                        <a:pt x="633" y="4422"/>
                      </a:lnTo>
                      <a:lnTo>
                        <a:pt x="596" y="4466"/>
                      </a:lnTo>
                      <a:lnTo>
                        <a:pt x="578" y="4493"/>
                      </a:lnTo>
                      <a:lnTo>
                        <a:pt x="559" y="4521"/>
                      </a:lnTo>
                      <a:lnTo>
                        <a:pt x="559" y="4521"/>
                      </a:lnTo>
                      <a:lnTo>
                        <a:pt x="535" y="4559"/>
                      </a:lnTo>
                      <a:lnTo>
                        <a:pt x="519" y="4587"/>
                      </a:lnTo>
                      <a:lnTo>
                        <a:pt x="509" y="4610"/>
                      </a:lnTo>
                      <a:lnTo>
                        <a:pt x="506" y="4620"/>
                      </a:lnTo>
                      <a:lnTo>
                        <a:pt x="504" y="4628"/>
                      </a:lnTo>
                      <a:lnTo>
                        <a:pt x="504" y="4636"/>
                      </a:lnTo>
                      <a:lnTo>
                        <a:pt x="504" y="4643"/>
                      </a:lnTo>
                      <a:lnTo>
                        <a:pt x="506" y="4649"/>
                      </a:lnTo>
                      <a:lnTo>
                        <a:pt x="509" y="4656"/>
                      </a:lnTo>
                      <a:lnTo>
                        <a:pt x="517" y="4671"/>
                      </a:lnTo>
                      <a:lnTo>
                        <a:pt x="529" y="4687"/>
                      </a:lnTo>
                      <a:lnTo>
                        <a:pt x="529" y="4687"/>
                      </a:lnTo>
                      <a:lnTo>
                        <a:pt x="540" y="4704"/>
                      </a:lnTo>
                      <a:lnTo>
                        <a:pt x="552" y="4717"/>
                      </a:lnTo>
                      <a:lnTo>
                        <a:pt x="557" y="4722"/>
                      </a:lnTo>
                      <a:lnTo>
                        <a:pt x="564" y="4727"/>
                      </a:lnTo>
                      <a:lnTo>
                        <a:pt x="570" y="4730"/>
                      </a:lnTo>
                      <a:lnTo>
                        <a:pt x="577" y="4732"/>
                      </a:lnTo>
                      <a:lnTo>
                        <a:pt x="585" y="4734"/>
                      </a:lnTo>
                      <a:lnTo>
                        <a:pt x="595" y="4734"/>
                      </a:lnTo>
                      <a:lnTo>
                        <a:pt x="620" y="4732"/>
                      </a:lnTo>
                      <a:lnTo>
                        <a:pt x="653" y="4727"/>
                      </a:lnTo>
                      <a:lnTo>
                        <a:pt x="695" y="4717"/>
                      </a:lnTo>
                      <a:lnTo>
                        <a:pt x="695" y="4717"/>
                      </a:lnTo>
                      <a:lnTo>
                        <a:pt x="730" y="4709"/>
                      </a:lnTo>
                      <a:lnTo>
                        <a:pt x="760" y="4699"/>
                      </a:lnTo>
                      <a:lnTo>
                        <a:pt x="814" y="4682"/>
                      </a:lnTo>
                      <a:lnTo>
                        <a:pt x="857" y="4664"/>
                      </a:lnTo>
                      <a:lnTo>
                        <a:pt x="888" y="4649"/>
                      </a:lnTo>
                      <a:lnTo>
                        <a:pt x="888" y="4649"/>
                      </a:lnTo>
                      <a:lnTo>
                        <a:pt x="926" y="4694"/>
                      </a:lnTo>
                      <a:lnTo>
                        <a:pt x="964" y="4739"/>
                      </a:lnTo>
                      <a:lnTo>
                        <a:pt x="964" y="4739"/>
                      </a:lnTo>
                      <a:lnTo>
                        <a:pt x="943" y="4768"/>
                      </a:lnTo>
                      <a:lnTo>
                        <a:pt x="918" y="4808"/>
                      </a:lnTo>
                      <a:lnTo>
                        <a:pt x="892" y="4857"/>
                      </a:lnTo>
                      <a:lnTo>
                        <a:pt x="878" y="4885"/>
                      </a:lnTo>
                      <a:lnTo>
                        <a:pt x="864" y="4917"/>
                      </a:lnTo>
                      <a:lnTo>
                        <a:pt x="864" y="4917"/>
                      </a:lnTo>
                      <a:lnTo>
                        <a:pt x="847" y="4958"/>
                      </a:lnTo>
                      <a:lnTo>
                        <a:pt x="836" y="4989"/>
                      </a:lnTo>
                      <a:lnTo>
                        <a:pt x="829" y="5014"/>
                      </a:lnTo>
                      <a:lnTo>
                        <a:pt x="829" y="5024"/>
                      </a:lnTo>
                      <a:lnTo>
                        <a:pt x="829" y="5032"/>
                      </a:lnTo>
                      <a:lnTo>
                        <a:pt x="829" y="5040"/>
                      </a:lnTo>
                      <a:lnTo>
                        <a:pt x="832" y="5047"/>
                      </a:lnTo>
                      <a:lnTo>
                        <a:pt x="834" y="5053"/>
                      </a:lnTo>
                      <a:lnTo>
                        <a:pt x="839" y="5060"/>
                      </a:lnTo>
                      <a:lnTo>
                        <a:pt x="850" y="5072"/>
                      </a:lnTo>
                      <a:lnTo>
                        <a:pt x="864" y="5086"/>
                      </a:lnTo>
                      <a:lnTo>
                        <a:pt x="864" y="5086"/>
                      </a:lnTo>
                      <a:lnTo>
                        <a:pt x="878" y="5101"/>
                      </a:lnTo>
                      <a:lnTo>
                        <a:pt x="892" y="5111"/>
                      </a:lnTo>
                      <a:lnTo>
                        <a:pt x="897" y="5116"/>
                      </a:lnTo>
                      <a:lnTo>
                        <a:pt x="903" y="5119"/>
                      </a:lnTo>
                      <a:lnTo>
                        <a:pt x="910" y="5121"/>
                      </a:lnTo>
                      <a:lnTo>
                        <a:pt x="918" y="5121"/>
                      </a:lnTo>
                      <a:lnTo>
                        <a:pt x="926" y="5121"/>
                      </a:lnTo>
                      <a:lnTo>
                        <a:pt x="936" y="5121"/>
                      </a:lnTo>
                      <a:lnTo>
                        <a:pt x="961" y="5114"/>
                      </a:lnTo>
                      <a:lnTo>
                        <a:pt x="992" y="5103"/>
                      </a:lnTo>
                      <a:lnTo>
                        <a:pt x="1033" y="5086"/>
                      </a:lnTo>
                      <a:lnTo>
                        <a:pt x="1033" y="5086"/>
                      </a:lnTo>
                      <a:lnTo>
                        <a:pt x="1065" y="5072"/>
                      </a:lnTo>
                      <a:lnTo>
                        <a:pt x="1093" y="5058"/>
                      </a:lnTo>
                      <a:lnTo>
                        <a:pt x="1142" y="5032"/>
                      </a:lnTo>
                      <a:lnTo>
                        <a:pt x="1182" y="5007"/>
                      </a:lnTo>
                      <a:lnTo>
                        <a:pt x="1211" y="4987"/>
                      </a:lnTo>
                      <a:lnTo>
                        <a:pt x="1211" y="4987"/>
                      </a:lnTo>
                      <a:lnTo>
                        <a:pt x="1254" y="5025"/>
                      </a:lnTo>
                      <a:lnTo>
                        <a:pt x="1301" y="5062"/>
                      </a:lnTo>
                      <a:lnTo>
                        <a:pt x="1301" y="5062"/>
                      </a:lnTo>
                      <a:lnTo>
                        <a:pt x="1286" y="5095"/>
                      </a:lnTo>
                      <a:lnTo>
                        <a:pt x="1268" y="5138"/>
                      </a:lnTo>
                      <a:lnTo>
                        <a:pt x="1249" y="5190"/>
                      </a:lnTo>
                      <a:lnTo>
                        <a:pt x="1241" y="5222"/>
                      </a:lnTo>
                      <a:lnTo>
                        <a:pt x="1233" y="5255"/>
                      </a:lnTo>
                      <a:lnTo>
                        <a:pt x="1233" y="5255"/>
                      </a:lnTo>
                      <a:lnTo>
                        <a:pt x="1223" y="5297"/>
                      </a:lnTo>
                      <a:lnTo>
                        <a:pt x="1218" y="5330"/>
                      </a:lnTo>
                      <a:lnTo>
                        <a:pt x="1216" y="5355"/>
                      </a:lnTo>
                      <a:lnTo>
                        <a:pt x="1216" y="5365"/>
                      </a:lnTo>
                      <a:lnTo>
                        <a:pt x="1218" y="5373"/>
                      </a:lnTo>
                      <a:lnTo>
                        <a:pt x="1220" y="5382"/>
                      </a:lnTo>
                      <a:lnTo>
                        <a:pt x="1223" y="5386"/>
                      </a:lnTo>
                      <a:lnTo>
                        <a:pt x="1228" y="5393"/>
                      </a:lnTo>
                      <a:lnTo>
                        <a:pt x="1233" y="5398"/>
                      </a:lnTo>
                      <a:lnTo>
                        <a:pt x="1246" y="5410"/>
                      </a:lnTo>
                      <a:lnTo>
                        <a:pt x="1263" y="5421"/>
                      </a:lnTo>
                      <a:lnTo>
                        <a:pt x="1263" y="5421"/>
                      </a:lnTo>
                      <a:lnTo>
                        <a:pt x="1279" y="5433"/>
                      </a:lnTo>
                      <a:lnTo>
                        <a:pt x="1294" y="5441"/>
                      </a:lnTo>
                      <a:lnTo>
                        <a:pt x="1301" y="5444"/>
                      </a:lnTo>
                      <a:lnTo>
                        <a:pt x="1307" y="5446"/>
                      </a:lnTo>
                      <a:lnTo>
                        <a:pt x="1314" y="5446"/>
                      </a:lnTo>
                      <a:lnTo>
                        <a:pt x="1322" y="5446"/>
                      </a:lnTo>
                      <a:lnTo>
                        <a:pt x="1330" y="5444"/>
                      </a:lnTo>
                      <a:lnTo>
                        <a:pt x="1340" y="5441"/>
                      </a:lnTo>
                      <a:lnTo>
                        <a:pt x="1363" y="5431"/>
                      </a:lnTo>
                      <a:lnTo>
                        <a:pt x="1391" y="5415"/>
                      </a:lnTo>
                      <a:lnTo>
                        <a:pt x="1429" y="5391"/>
                      </a:lnTo>
                      <a:lnTo>
                        <a:pt x="1429" y="5391"/>
                      </a:lnTo>
                      <a:lnTo>
                        <a:pt x="1457" y="5372"/>
                      </a:lnTo>
                      <a:lnTo>
                        <a:pt x="1484" y="5354"/>
                      </a:lnTo>
                      <a:lnTo>
                        <a:pt x="1526" y="5319"/>
                      </a:lnTo>
                      <a:lnTo>
                        <a:pt x="1561" y="5288"/>
                      </a:lnTo>
                      <a:lnTo>
                        <a:pt x="1586" y="5263"/>
                      </a:lnTo>
                      <a:lnTo>
                        <a:pt x="1586" y="5263"/>
                      </a:lnTo>
                      <a:lnTo>
                        <a:pt x="1637" y="5292"/>
                      </a:lnTo>
                      <a:lnTo>
                        <a:pt x="1688" y="5322"/>
                      </a:lnTo>
                      <a:lnTo>
                        <a:pt x="1688" y="5322"/>
                      </a:lnTo>
                      <a:lnTo>
                        <a:pt x="1678" y="5355"/>
                      </a:lnTo>
                      <a:lnTo>
                        <a:pt x="1670" y="5401"/>
                      </a:lnTo>
                      <a:lnTo>
                        <a:pt x="1662" y="5456"/>
                      </a:lnTo>
                      <a:lnTo>
                        <a:pt x="1658" y="5487"/>
                      </a:lnTo>
                      <a:lnTo>
                        <a:pt x="1655" y="5522"/>
                      </a:lnTo>
                      <a:lnTo>
                        <a:pt x="1655" y="5522"/>
                      </a:lnTo>
                      <a:lnTo>
                        <a:pt x="1653" y="5566"/>
                      </a:lnTo>
                      <a:lnTo>
                        <a:pt x="1653" y="5599"/>
                      </a:lnTo>
                      <a:lnTo>
                        <a:pt x="1657" y="5624"/>
                      </a:lnTo>
                      <a:lnTo>
                        <a:pt x="1658" y="5634"/>
                      </a:lnTo>
                      <a:lnTo>
                        <a:pt x="1662" y="5642"/>
                      </a:lnTo>
                      <a:lnTo>
                        <a:pt x="1665" y="5649"/>
                      </a:lnTo>
                      <a:lnTo>
                        <a:pt x="1670" y="5655"/>
                      </a:lnTo>
                      <a:lnTo>
                        <a:pt x="1675" y="5660"/>
                      </a:lnTo>
                      <a:lnTo>
                        <a:pt x="1680" y="5663"/>
                      </a:lnTo>
                      <a:lnTo>
                        <a:pt x="1695" y="5672"/>
                      </a:lnTo>
                      <a:lnTo>
                        <a:pt x="1713" y="5680"/>
                      </a:lnTo>
                      <a:lnTo>
                        <a:pt x="1713" y="5680"/>
                      </a:lnTo>
                      <a:lnTo>
                        <a:pt x="1731" y="5690"/>
                      </a:lnTo>
                      <a:lnTo>
                        <a:pt x="1747" y="5695"/>
                      </a:lnTo>
                      <a:lnTo>
                        <a:pt x="1754" y="5696"/>
                      </a:lnTo>
                      <a:lnTo>
                        <a:pt x="1762" y="5698"/>
                      </a:lnTo>
                      <a:lnTo>
                        <a:pt x="1769" y="5696"/>
                      </a:lnTo>
                      <a:lnTo>
                        <a:pt x="1775" y="5695"/>
                      </a:lnTo>
                      <a:lnTo>
                        <a:pt x="1784" y="5693"/>
                      </a:lnTo>
                      <a:lnTo>
                        <a:pt x="1793" y="5688"/>
                      </a:lnTo>
                      <a:lnTo>
                        <a:pt x="1813" y="5673"/>
                      </a:lnTo>
                      <a:lnTo>
                        <a:pt x="1840" y="5654"/>
                      </a:lnTo>
                      <a:lnTo>
                        <a:pt x="1871" y="5622"/>
                      </a:lnTo>
                      <a:lnTo>
                        <a:pt x="1871" y="5622"/>
                      </a:lnTo>
                      <a:lnTo>
                        <a:pt x="1896" y="5599"/>
                      </a:lnTo>
                      <a:lnTo>
                        <a:pt x="1919" y="5576"/>
                      </a:lnTo>
                      <a:lnTo>
                        <a:pt x="1955" y="5535"/>
                      </a:lnTo>
                      <a:lnTo>
                        <a:pt x="1985" y="5499"/>
                      </a:lnTo>
                      <a:lnTo>
                        <a:pt x="2005" y="5469"/>
                      </a:lnTo>
                      <a:lnTo>
                        <a:pt x="2005" y="5469"/>
                      </a:lnTo>
                      <a:lnTo>
                        <a:pt x="2059" y="5490"/>
                      </a:lnTo>
                      <a:lnTo>
                        <a:pt x="2115" y="5508"/>
                      </a:lnTo>
                      <a:lnTo>
                        <a:pt x="2115" y="5508"/>
                      </a:lnTo>
                      <a:lnTo>
                        <a:pt x="2112" y="5545"/>
                      </a:lnTo>
                      <a:lnTo>
                        <a:pt x="2110" y="5591"/>
                      </a:lnTo>
                      <a:lnTo>
                        <a:pt x="2112" y="5647"/>
                      </a:lnTo>
                      <a:lnTo>
                        <a:pt x="2113" y="5678"/>
                      </a:lnTo>
                      <a:lnTo>
                        <a:pt x="2118" y="5713"/>
                      </a:lnTo>
                      <a:lnTo>
                        <a:pt x="2118" y="5713"/>
                      </a:lnTo>
                      <a:lnTo>
                        <a:pt x="2123" y="5756"/>
                      </a:lnTo>
                      <a:lnTo>
                        <a:pt x="2130" y="5789"/>
                      </a:lnTo>
                      <a:lnTo>
                        <a:pt x="2136" y="5814"/>
                      </a:lnTo>
                      <a:lnTo>
                        <a:pt x="2140" y="5822"/>
                      </a:lnTo>
                      <a:lnTo>
                        <a:pt x="2145" y="5830"/>
                      </a:lnTo>
                      <a:lnTo>
                        <a:pt x="2148" y="5835"/>
                      </a:lnTo>
                      <a:lnTo>
                        <a:pt x="2155" y="5840"/>
                      </a:lnTo>
                      <a:lnTo>
                        <a:pt x="2160" y="5845"/>
                      </a:lnTo>
                      <a:lnTo>
                        <a:pt x="2166" y="5848"/>
                      </a:lnTo>
                      <a:lnTo>
                        <a:pt x="2183" y="5853"/>
                      </a:lnTo>
                      <a:lnTo>
                        <a:pt x="2202" y="5858"/>
                      </a:lnTo>
                      <a:lnTo>
                        <a:pt x="2202" y="5858"/>
                      </a:lnTo>
                      <a:lnTo>
                        <a:pt x="2222" y="5865"/>
                      </a:lnTo>
                      <a:lnTo>
                        <a:pt x="2239" y="5866"/>
                      </a:lnTo>
                      <a:lnTo>
                        <a:pt x="2245" y="5868"/>
                      </a:lnTo>
                      <a:lnTo>
                        <a:pt x="2252" y="5866"/>
                      </a:lnTo>
                      <a:lnTo>
                        <a:pt x="2260" y="5865"/>
                      </a:lnTo>
                      <a:lnTo>
                        <a:pt x="2267" y="5863"/>
                      </a:lnTo>
                      <a:lnTo>
                        <a:pt x="2275" y="5858"/>
                      </a:lnTo>
                      <a:lnTo>
                        <a:pt x="2282" y="5851"/>
                      </a:lnTo>
                      <a:lnTo>
                        <a:pt x="2300" y="5835"/>
                      </a:lnTo>
                      <a:lnTo>
                        <a:pt x="2321" y="5809"/>
                      </a:lnTo>
                      <a:lnTo>
                        <a:pt x="2347" y="5774"/>
                      </a:lnTo>
                      <a:lnTo>
                        <a:pt x="2347" y="5774"/>
                      </a:lnTo>
                      <a:lnTo>
                        <a:pt x="2369" y="5746"/>
                      </a:lnTo>
                      <a:lnTo>
                        <a:pt x="2385" y="5720"/>
                      </a:lnTo>
                      <a:lnTo>
                        <a:pt x="2415" y="5673"/>
                      </a:lnTo>
                      <a:lnTo>
                        <a:pt x="2437" y="5632"/>
                      </a:lnTo>
                      <a:lnTo>
                        <a:pt x="2453" y="5599"/>
                      </a:lnTo>
                      <a:lnTo>
                        <a:pt x="2453" y="5599"/>
                      </a:lnTo>
                      <a:lnTo>
                        <a:pt x="2511" y="5611"/>
                      </a:lnTo>
                      <a:lnTo>
                        <a:pt x="2568" y="5621"/>
                      </a:lnTo>
                      <a:lnTo>
                        <a:pt x="2568" y="5621"/>
                      </a:lnTo>
                      <a:lnTo>
                        <a:pt x="2570" y="5657"/>
                      </a:lnTo>
                      <a:lnTo>
                        <a:pt x="2577" y="5701"/>
                      </a:lnTo>
                      <a:lnTo>
                        <a:pt x="2588" y="5756"/>
                      </a:lnTo>
                      <a:lnTo>
                        <a:pt x="2596" y="5787"/>
                      </a:lnTo>
                      <a:lnTo>
                        <a:pt x="2606" y="5820"/>
                      </a:lnTo>
                      <a:lnTo>
                        <a:pt x="2606" y="5820"/>
                      </a:lnTo>
                      <a:lnTo>
                        <a:pt x="2620" y="5861"/>
                      </a:lnTo>
                      <a:lnTo>
                        <a:pt x="2631" y="5893"/>
                      </a:lnTo>
                      <a:lnTo>
                        <a:pt x="2641" y="5916"/>
                      </a:lnTo>
                      <a:lnTo>
                        <a:pt x="2648" y="5924"/>
                      </a:lnTo>
                      <a:lnTo>
                        <a:pt x="2652" y="5931"/>
                      </a:lnTo>
                      <a:lnTo>
                        <a:pt x="2657" y="5936"/>
                      </a:lnTo>
                      <a:lnTo>
                        <a:pt x="2664" y="5939"/>
                      </a:lnTo>
                      <a:lnTo>
                        <a:pt x="2671" y="5942"/>
                      </a:lnTo>
                      <a:lnTo>
                        <a:pt x="2677" y="5945"/>
                      </a:lnTo>
                      <a:lnTo>
                        <a:pt x="2694" y="5947"/>
                      </a:lnTo>
                      <a:lnTo>
                        <a:pt x="2715" y="5949"/>
                      </a:lnTo>
                      <a:lnTo>
                        <a:pt x="2715" y="5949"/>
                      </a:lnTo>
                      <a:lnTo>
                        <a:pt x="2735" y="5950"/>
                      </a:lnTo>
                      <a:lnTo>
                        <a:pt x="2751" y="5950"/>
                      </a:lnTo>
                      <a:lnTo>
                        <a:pt x="2758" y="5950"/>
                      </a:lnTo>
                      <a:lnTo>
                        <a:pt x="2766" y="5949"/>
                      </a:lnTo>
                      <a:lnTo>
                        <a:pt x="2773" y="5945"/>
                      </a:lnTo>
                      <a:lnTo>
                        <a:pt x="2779" y="5942"/>
                      </a:lnTo>
                      <a:lnTo>
                        <a:pt x="2786" y="5936"/>
                      </a:lnTo>
                      <a:lnTo>
                        <a:pt x="2793" y="5929"/>
                      </a:lnTo>
                      <a:lnTo>
                        <a:pt x="2806" y="5909"/>
                      </a:lnTo>
                      <a:lnTo>
                        <a:pt x="2824" y="5879"/>
                      </a:lnTo>
                      <a:lnTo>
                        <a:pt x="2844" y="5840"/>
                      </a:lnTo>
                      <a:lnTo>
                        <a:pt x="2844" y="5840"/>
                      </a:lnTo>
                      <a:lnTo>
                        <a:pt x="2859" y="5810"/>
                      </a:lnTo>
                      <a:lnTo>
                        <a:pt x="2872" y="5781"/>
                      </a:lnTo>
                      <a:lnTo>
                        <a:pt x="2892" y="5729"/>
                      </a:lnTo>
                      <a:lnTo>
                        <a:pt x="2906" y="5687"/>
                      </a:lnTo>
                      <a:lnTo>
                        <a:pt x="2916" y="5652"/>
                      </a:lnTo>
                      <a:lnTo>
                        <a:pt x="2916" y="5652"/>
                      </a:lnTo>
                      <a:lnTo>
                        <a:pt x="2974" y="5652"/>
                      </a:lnTo>
                      <a:lnTo>
                        <a:pt x="3033" y="5652"/>
                      </a:lnTo>
                      <a:lnTo>
                        <a:pt x="3033" y="5652"/>
                      </a:lnTo>
                      <a:lnTo>
                        <a:pt x="3043" y="5687"/>
                      </a:lnTo>
                      <a:lnTo>
                        <a:pt x="3056" y="5729"/>
                      </a:lnTo>
                      <a:lnTo>
                        <a:pt x="3078" y="5781"/>
                      </a:lnTo>
                      <a:lnTo>
                        <a:pt x="3091" y="5810"/>
                      </a:lnTo>
                      <a:lnTo>
                        <a:pt x="3106" y="5840"/>
                      </a:lnTo>
                      <a:lnTo>
                        <a:pt x="3106" y="5840"/>
                      </a:lnTo>
                      <a:lnTo>
                        <a:pt x="3126" y="5879"/>
                      </a:lnTo>
                      <a:lnTo>
                        <a:pt x="3142" y="5909"/>
                      </a:lnTo>
                      <a:lnTo>
                        <a:pt x="3157" y="5929"/>
                      </a:lnTo>
                      <a:lnTo>
                        <a:pt x="3164" y="5936"/>
                      </a:lnTo>
                      <a:lnTo>
                        <a:pt x="3170" y="5942"/>
                      </a:lnTo>
                      <a:lnTo>
                        <a:pt x="3177" y="5945"/>
                      </a:lnTo>
                      <a:lnTo>
                        <a:pt x="3183" y="5949"/>
                      </a:lnTo>
                      <a:lnTo>
                        <a:pt x="3190" y="5950"/>
                      </a:lnTo>
                      <a:lnTo>
                        <a:pt x="3198" y="5950"/>
                      </a:lnTo>
                      <a:lnTo>
                        <a:pt x="3215" y="5950"/>
                      </a:lnTo>
                      <a:lnTo>
                        <a:pt x="3235" y="5949"/>
                      </a:lnTo>
                      <a:lnTo>
                        <a:pt x="3235" y="5949"/>
                      </a:lnTo>
                      <a:lnTo>
                        <a:pt x="3254" y="5947"/>
                      </a:lnTo>
                      <a:lnTo>
                        <a:pt x="3271" y="5945"/>
                      </a:lnTo>
                      <a:lnTo>
                        <a:pt x="3279" y="5942"/>
                      </a:lnTo>
                      <a:lnTo>
                        <a:pt x="3286" y="5939"/>
                      </a:lnTo>
                      <a:lnTo>
                        <a:pt x="3291" y="5936"/>
                      </a:lnTo>
                      <a:lnTo>
                        <a:pt x="3297" y="5931"/>
                      </a:lnTo>
                      <a:lnTo>
                        <a:pt x="3302" y="5924"/>
                      </a:lnTo>
                      <a:lnTo>
                        <a:pt x="3307" y="5916"/>
                      </a:lnTo>
                      <a:lnTo>
                        <a:pt x="3319" y="5893"/>
                      </a:lnTo>
                      <a:lnTo>
                        <a:pt x="3330" y="5861"/>
                      </a:lnTo>
                      <a:lnTo>
                        <a:pt x="3343" y="5820"/>
                      </a:lnTo>
                      <a:lnTo>
                        <a:pt x="3343" y="5820"/>
                      </a:lnTo>
                      <a:lnTo>
                        <a:pt x="3353" y="5787"/>
                      </a:lnTo>
                      <a:lnTo>
                        <a:pt x="3360" y="5756"/>
                      </a:lnTo>
                      <a:lnTo>
                        <a:pt x="3371" y="5701"/>
                      </a:lnTo>
                      <a:lnTo>
                        <a:pt x="3378" y="5657"/>
                      </a:lnTo>
                      <a:lnTo>
                        <a:pt x="3381" y="5621"/>
                      </a:lnTo>
                      <a:lnTo>
                        <a:pt x="3381" y="5621"/>
                      </a:lnTo>
                      <a:lnTo>
                        <a:pt x="3439" y="5612"/>
                      </a:lnTo>
                      <a:lnTo>
                        <a:pt x="3497" y="5601"/>
                      </a:lnTo>
                      <a:lnTo>
                        <a:pt x="3497" y="5601"/>
                      </a:lnTo>
                      <a:lnTo>
                        <a:pt x="3511" y="5634"/>
                      </a:lnTo>
                      <a:lnTo>
                        <a:pt x="3535" y="5673"/>
                      </a:lnTo>
                      <a:lnTo>
                        <a:pt x="3563" y="5721"/>
                      </a:lnTo>
                      <a:lnTo>
                        <a:pt x="3581" y="5748"/>
                      </a:lnTo>
                      <a:lnTo>
                        <a:pt x="3601" y="5774"/>
                      </a:lnTo>
                      <a:lnTo>
                        <a:pt x="3601" y="5774"/>
                      </a:lnTo>
                      <a:lnTo>
                        <a:pt x="3627" y="5809"/>
                      </a:lnTo>
                      <a:lnTo>
                        <a:pt x="3650" y="5835"/>
                      </a:lnTo>
                      <a:lnTo>
                        <a:pt x="3666" y="5851"/>
                      </a:lnTo>
                      <a:lnTo>
                        <a:pt x="3675" y="5858"/>
                      </a:lnTo>
                      <a:lnTo>
                        <a:pt x="3683" y="5863"/>
                      </a:lnTo>
                      <a:lnTo>
                        <a:pt x="3690" y="5865"/>
                      </a:lnTo>
                      <a:lnTo>
                        <a:pt x="3696" y="5866"/>
                      </a:lnTo>
                      <a:lnTo>
                        <a:pt x="3704" y="5868"/>
                      </a:lnTo>
                      <a:lnTo>
                        <a:pt x="3711" y="5866"/>
                      </a:lnTo>
                      <a:lnTo>
                        <a:pt x="3727" y="5865"/>
                      </a:lnTo>
                      <a:lnTo>
                        <a:pt x="3747" y="5858"/>
                      </a:lnTo>
                      <a:lnTo>
                        <a:pt x="3747" y="5858"/>
                      </a:lnTo>
                      <a:lnTo>
                        <a:pt x="3767" y="5853"/>
                      </a:lnTo>
                      <a:lnTo>
                        <a:pt x="3782" y="5848"/>
                      </a:lnTo>
                      <a:lnTo>
                        <a:pt x="3788" y="5845"/>
                      </a:lnTo>
                      <a:lnTo>
                        <a:pt x="3795" y="5840"/>
                      </a:lnTo>
                      <a:lnTo>
                        <a:pt x="3800" y="5835"/>
                      </a:lnTo>
                      <a:lnTo>
                        <a:pt x="3805" y="5830"/>
                      </a:lnTo>
                      <a:lnTo>
                        <a:pt x="3810" y="5822"/>
                      </a:lnTo>
                      <a:lnTo>
                        <a:pt x="3813" y="5814"/>
                      </a:lnTo>
                      <a:lnTo>
                        <a:pt x="3820" y="5789"/>
                      </a:lnTo>
                      <a:lnTo>
                        <a:pt x="3826" y="5756"/>
                      </a:lnTo>
                      <a:lnTo>
                        <a:pt x="3831" y="5713"/>
                      </a:lnTo>
                      <a:lnTo>
                        <a:pt x="3831" y="5713"/>
                      </a:lnTo>
                      <a:lnTo>
                        <a:pt x="3835" y="5678"/>
                      </a:lnTo>
                      <a:lnTo>
                        <a:pt x="3838" y="5647"/>
                      </a:lnTo>
                      <a:lnTo>
                        <a:pt x="3840" y="5593"/>
                      </a:lnTo>
                      <a:lnTo>
                        <a:pt x="3838" y="5546"/>
                      </a:lnTo>
                      <a:lnTo>
                        <a:pt x="3835" y="5510"/>
                      </a:lnTo>
                      <a:lnTo>
                        <a:pt x="3835" y="5510"/>
                      </a:lnTo>
                      <a:lnTo>
                        <a:pt x="3891" y="5490"/>
                      </a:lnTo>
                      <a:lnTo>
                        <a:pt x="3945" y="5471"/>
                      </a:lnTo>
                      <a:lnTo>
                        <a:pt x="3945" y="5471"/>
                      </a:lnTo>
                      <a:lnTo>
                        <a:pt x="3965" y="5499"/>
                      </a:lnTo>
                      <a:lnTo>
                        <a:pt x="3995" y="5535"/>
                      </a:lnTo>
                      <a:lnTo>
                        <a:pt x="4031" y="5576"/>
                      </a:lnTo>
                      <a:lnTo>
                        <a:pt x="4052" y="5599"/>
                      </a:lnTo>
                      <a:lnTo>
                        <a:pt x="4077" y="5622"/>
                      </a:lnTo>
                      <a:lnTo>
                        <a:pt x="4077" y="5622"/>
                      </a:lnTo>
                      <a:lnTo>
                        <a:pt x="4110" y="5654"/>
                      </a:lnTo>
                      <a:lnTo>
                        <a:pt x="4136" y="5673"/>
                      </a:lnTo>
                      <a:lnTo>
                        <a:pt x="4156" y="5688"/>
                      </a:lnTo>
                      <a:lnTo>
                        <a:pt x="4164" y="5693"/>
                      </a:lnTo>
                      <a:lnTo>
                        <a:pt x="4173" y="5695"/>
                      </a:lnTo>
                      <a:lnTo>
                        <a:pt x="4181" y="5696"/>
                      </a:lnTo>
                      <a:lnTo>
                        <a:pt x="4187" y="5698"/>
                      </a:lnTo>
                      <a:lnTo>
                        <a:pt x="4194" y="5696"/>
                      </a:lnTo>
                      <a:lnTo>
                        <a:pt x="4202" y="5695"/>
                      </a:lnTo>
                      <a:lnTo>
                        <a:pt x="4217" y="5690"/>
                      </a:lnTo>
                      <a:lnTo>
                        <a:pt x="4235" y="5680"/>
                      </a:lnTo>
                      <a:lnTo>
                        <a:pt x="4235" y="5680"/>
                      </a:lnTo>
                      <a:lnTo>
                        <a:pt x="4255" y="5672"/>
                      </a:lnTo>
                      <a:lnTo>
                        <a:pt x="4268" y="5663"/>
                      </a:lnTo>
                      <a:lnTo>
                        <a:pt x="4275" y="5660"/>
                      </a:lnTo>
                      <a:lnTo>
                        <a:pt x="4280" y="5655"/>
                      </a:lnTo>
                      <a:lnTo>
                        <a:pt x="4285" y="5649"/>
                      </a:lnTo>
                      <a:lnTo>
                        <a:pt x="4288" y="5642"/>
                      </a:lnTo>
                      <a:lnTo>
                        <a:pt x="4291" y="5634"/>
                      </a:lnTo>
                      <a:lnTo>
                        <a:pt x="4293" y="5624"/>
                      </a:lnTo>
                      <a:lnTo>
                        <a:pt x="4295" y="5599"/>
                      </a:lnTo>
                      <a:lnTo>
                        <a:pt x="4296" y="5566"/>
                      </a:lnTo>
                      <a:lnTo>
                        <a:pt x="4293" y="5522"/>
                      </a:lnTo>
                      <a:lnTo>
                        <a:pt x="4293" y="5522"/>
                      </a:lnTo>
                      <a:lnTo>
                        <a:pt x="4291" y="5489"/>
                      </a:lnTo>
                      <a:lnTo>
                        <a:pt x="4288" y="5457"/>
                      </a:lnTo>
                      <a:lnTo>
                        <a:pt x="4280" y="5401"/>
                      </a:lnTo>
                      <a:lnTo>
                        <a:pt x="4272" y="5357"/>
                      </a:lnTo>
                      <a:lnTo>
                        <a:pt x="4262" y="5322"/>
                      </a:lnTo>
                      <a:lnTo>
                        <a:pt x="4262" y="5322"/>
                      </a:lnTo>
                      <a:lnTo>
                        <a:pt x="4313" y="5292"/>
                      </a:lnTo>
                      <a:lnTo>
                        <a:pt x="4364" y="5263"/>
                      </a:lnTo>
                      <a:lnTo>
                        <a:pt x="4364" y="5263"/>
                      </a:lnTo>
                      <a:lnTo>
                        <a:pt x="4389" y="5289"/>
                      </a:lnTo>
                      <a:lnTo>
                        <a:pt x="4423" y="5319"/>
                      </a:lnTo>
                      <a:lnTo>
                        <a:pt x="4466" y="5354"/>
                      </a:lnTo>
                      <a:lnTo>
                        <a:pt x="4493" y="5372"/>
                      </a:lnTo>
                      <a:lnTo>
                        <a:pt x="4521" y="5391"/>
                      </a:lnTo>
                      <a:lnTo>
                        <a:pt x="4521" y="5391"/>
                      </a:lnTo>
                      <a:lnTo>
                        <a:pt x="4557" y="5415"/>
                      </a:lnTo>
                      <a:lnTo>
                        <a:pt x="4586" y="5431"/>
                      </a:lnTo>
                      <a:lnTo>
                        <a:pt x="4610" y="5443"/>
                      </a:lnTo>
                      <a:lnTo>
                        <a:pt x="4618" y="5444"/>
                      </a:lnTo>
                      <a:lnTo>
                        <a:pt x="4628" y="5446"/>
                      </a:lnTo>
                      <a:lnTo>
                        <a:pt x="4634" y="5446"/>
                      </a:lnTo>
                      <a:lnTo>
                        <a:pt x="4643" y="5446"/>
                      </a:lnTo>
                      <a:lnTo>
                        <a:pt x="4649" y="5444"/>
                      </a:lnTo>
                      <a:lnTo>
                        <a:pt x="4656" y="5441"/>
                      </a:lnTo>
                      <a:lnTo>
                        <a:pt x="4671" y="5433"/>
                      </a:lnTo>
                      <a:lnTo>
                        <a:pt x="4687" y="5421"/>
                      </a:lnTo>
                      <a:lnTo>
                        <a:pt x="4687" y="5421"/>
                      </a:lnTo>
                      <a:lnTo>
                        <a:pt x="4704" y="5410"/>
                      </a:lnTo>
                      <a:lnTo>
                        <a:pt x="4717" y="5398"/>
                      </a:lnTo>
                      <a:lnTo>
                        <a:pt x="4722" y="5393"/>
                      </a:lnTo>
                      <a:lnTo>
                        <a:pt x="4725" y="5386"/>
                      </a:lnTo>
                      <a:lnTo>
                        <a:pt x="4728" y="5382"/>
                      </a:lnTo>
                      <a:lnTo>
                        <a:pt x="4732" y="5373"/>
                      </a:lnTo>
                      <a:lnTo>
                        <a:pt x="4733" y="5365"/>
                      </a:lnTo>
                      <a:lnTo>
                        <a:pt x="4733" y="5355"/>
                      </a:lnTo>
                      <a:lnTo>
                        <a:pt x="4732" y="5330"/>
                      </a:lnTo>
                      <a:lnTo>
                        <a:pt x="4725" y="5297"/>
                      </a:lnTo>
                      <a:lnTo>
                        <a:pt x="4717" y="5255"/>
                      </a:lnTo>
                      <a:lnTo>
                        <a:pt x="4717" y="5255"/>
                      </a:lnTo>
                      <a:lnTo>
                        <a:pt x="4707" y="5222"/>
                      </a:lnTo>
                      <a:lnTo>
                        <a:pt x="4699" y="5190"/>
                      </a:lnTo>
                      <a:lnTo>
                        <a:pt x="4682" y="5138"/>
                      </a:lnTo>
                      <a:lnTo>
                        <a:pt x="4664" y="5096"/>
                      </a:lnTo>
                      <a:lnTo>
                        <a:pt x="4649" y="5063"/>
                      </a:lnTo>
                      <a:lnTo>
                        <a:pt x="4649" y="5063"/>
                      </a:lnTo>
                      <a:lnTo>
                        <a:pt x="4695" y="5025"/>
                      </a:lnTo>
                      <a:lnTo>
                        <a:pt x="4740" y="4987"/>
                      </a:lnTo>
                      <a:lnTo>
                        <a:pt x="4740" y="4987"/>
                      </a:lnTo>
                      <a:lnTo>
                        <a:pt x="4769" y="5009"/>
                      </a:lnTo>
                      <a:lnTo>
                        <a:pt x="4807" y="5032"/>
                      </a:lnTo>
                      <a:lnTo>
                        <a:pt x="4857" y="5058"/>
                      </a:lnTo>
                      <a:lnTo>
                        <a:pt x="4885" y="5072"/>
                      </a:lnTo>
                      <a:lnTo>
                        <a:pt x="4916" y="5086"/>
                      </a:lnTo>
                      <a:lnTo>
                        <a:pt x="4916" y="5086"/>
                      </a:lnTo>
                      <a:lnTo>
                        <a:pt x="4957" y="5103"/>
                      </a:lnTo>
                      <a:lnTo>
                        <a:pt x="4989" y="5114"/>
                      </a:lnTo>
                      <a:lnTo>
                        <a:pt x="5012" y="5121"/>
                      </a:lnTo>
                      <a:lnTo>
                        <a:pt x="5022" y="5121"/>
                      </a:lnTo>
                      <a:lnTo>
                        <a:pt x="5032" y="5121"/>
                      </a:lnTo>
                      <a:lnTo>
                        <a:pt x="5038" y="5121"/>
                      </a:lnTo>
                      <a:lnTo>
                        <a:pt x="5045" y="5119"/>
                      </a:lnTo>
                      <a:lnTo>
                        <a:pt x="5051" y="5116"/>
                      </a:lnTo>
                      <a:lnTo>
                        <a:pt x="5058" y="5111"/>
                      </a:lnTo>
                      <a:lnTo>
                        <a:pt x="5071" y="5101"/>
                      </a:lnTo>
                      <a:lnTo>
                        <a:pt x="5084" y="5086"/>
                      </a:lnTo>
                      <a:lnTo>
                        <a:pt x="5084" y="5086"/>
                      </a:lnTo>
                      <a:lnTo>
                        <a:pt x="5099" y="5072"/>
                      </a:lnTo>
                      <a:lnTo>
                        <a:pt x="5111" y="5060"/>
                      </a:lnTo>
                      <a:lnTo>
                        <a:pt x="5114" y="5053"/>
                      </a:lnTo>
                      <a:lnTo>
                        <a:pt x="5117" y="5047"/>
                      </a:lnTo>
                      <a:lnTo>
                        <a:pt x="5119" y="5040"/>
                      </a:lnTo>
                      <a:lnTo>
                        <a:pt x="5121" y="5032"/>
                      </a:lnTo>
                      <a:lnTo>
                        <a:pt x="5121" y="5024"/>
                      </a:lnTo>
                      <a:lnTo>
                        <a:pt x="5119" y="5014"/>
                      </a:lnTo>
                      <a:lnTo>
                        <a:pt x="5114" y="4989"/>
                      </a:lnTo>
                      <a:lnTo>
                        <a:pt x="5103" y="4958"/>
                      </a:lnTo>
                      <a:lnTo>
                        <a:pt x="5084" y="4917"/>
                      </a:lnTo>
                      <a:lnTo>
                        <a:pt x="5084" y="4917"/>
                      </a:lnTo>
                      <a:lnTo>
                        <a:pt x="5071" y="4887"/>
                      </a:lnTo>
                      <a:lnTo>
                        <a:pt x="5058" y="4857"/>
                      </a:lnTo>
                      <a:lnTo>
                        <a:pt x="5032" y="4809"/>
                      </a:lnTo>
                      <a:lnTo>
                        <a:pt x="5007" y="4770"/>
                      </a:lnTo>
                      <a:lnTo>
                        <a:pt x="4987" y="4740"/>
                      </a:lnTo>
                      <a:lnTo>
                        <a:pt x="4987" y="4740"/>
                      </a:lnTo>
                      <a:lnTo>
                        <a:pt x="5025" y="4696"/>
                      </a:lnTo>
                      <a:lnTo>
                        <a:pt x="5063" y="4651"/>
                      </a:lnTo>
                      <a:lnTo>
                        <a:pt x="5063" y="4651"/>
                      </a:lnTo>
                      <a:lnTo>
                        <a:pt x="5094" y="4666"/>
                      </a:lnTo>
                      <a:lnTo>
                        <a:pt x="5137" y="4682"/>
                      </a:lnTo>
                      <a:lnTo>
                        <a:pt x="5190" y="4701"/>
                      </a:lnTo>
                      <a:lnTo>
                        <a:pt x="5220" y="4709"/>
                      </a:lnTo>
                      <a:lnTo>
                        <a:pt x="5253" y="4717"/>
                      </a:lnTo>
                      <a:lnTo>
                        <a:pt x="5253" y="4717"/>
                      </a:lnTo>
                      <a:lnTo>
                        <a:pt x="5297" y="4727"/>
                      </a:lnTo>
                      <a:lnTo>
                        <a:pt x="5330" y="4732"/>
                      </a:lnTo>
                      <a:lnTo>
                        <a:pt x="5355" y="4734"/>
                      </a:lnTo>
                      <a:lnTo>
                        <a:pt x="5363" y="4734"/>
                      </a:lnTo>
                      <a:lnTo>
                        <a:pt x="5373" y="4732"/>
                      </a:lnTo>
                      <a:lnTo>
                        <a:pt x="5380" y="4730"/>
                      </a:lnTo>
                      <a:lnTo>
                        <a:pt x="5386" y="4727"/>
                      </a:lnTo>
                      <a:lnTo>
                        <a:pt x="5393" y="4722"/>
                      </a:lnTo>
                      <a:lnTo>
                        <a:pt x="5398" y="4717"/>
                      </a:lnTo>
                      <a:lnTo>
                        <a:pt x="5408" y="4704"/>
                      </a:lnTo>
                      <a:lnTo>
                        <a:pt x="5419" y="4687"/>
                      </a:lnTo>
                      <a:lnTo>
                        <a:pt x="5419" y="4687"/>
                      </a:lnTo>
                      <a:lnTo>
                        <a:pt x="5431" y="4671"/>
                      </a:lnTo>
                      <a:lnTo>
                        <a:pt x="5441" y="4656"/>
                      </a:lnTo>
                      <a:lnTo>
                        <a:pt x="5442" y="4649"/>
                      </a:lnTo>
                      <a:lnTo>
                        <a:pt x="5444" y="4643"/>
                      </a:lnTo>
                      <a:lnTo>
                        <a:pt x="5445" y="4636"/>
                      </a:lnTo>
                      <a:lnTo>
                        <a:pt x="5445" y="4628"/>
                      </a:lnTo>
                      <a:lnTo>
                        <a:pt x="5444" y="4620"/>
                      </a:lnTo>
                      <a:lnTo>
                        <a:pt x="5441" y="4610"/>
                      </a:lnTo>
                      <a:lnTo>
                        <a:pt x="5431" y="4587"/>
                      </a:lnTo>
                      <a:lnTo>
                        <a:pt x="5414" y="4559"/>
                      </a:lnTo>
                      <a:lnTo>
                        <a:pt x="5391" y="4521"/>
                      </a:lnTo>
                      <a:lnTo>
                        <a:pt x="5391" y="4521"/>
                      </a:lnTo>
                      <a:lnTo>
                        <a:pt x="5371" y="4493"/>
                      </a:lnTo>
                      <a:lnTo>
                        <a:pt x="5353" y="4468"/>
                      </a:lnTo>
                      <a:lnTo>
                        <a:pt x="5319" y="4424"/>
                      </a:lnTo>
                      <a:lnTo>
                        <a:pt x="5287" y="4389"/>
                      </a:lnTo>
                      <a:lnTo>
                        <a:pt x="5262" y="4364"/>
                      </a:lnTo>
                      <a:lnTo>
                        <a:pt x="5262" y="4364"/>
                      </a:lnTo>
                      <a:lnTo>
                        <a:pt x="5292" y="4313"/>
                      </a:lnTo>
                      <a:lnTo>
                        <a:pt x="5322" y="4262"/>
                      </a:lnTo>
                      <a:lnTo>
                        <a:pt x="5322" y="4262"/>
                      </a:lnTo>
                      <a:lnTo>
                        <a:pt x="5356" y="4272"/>
                      </a:lnTo>
                      <a:lnTo>
                        <a:pt x="5401" y="4282"/>
                      </a:lnTo>
                      <a:lnTo>
                        <a:pt x="5455" y="4288"/>
                      </a:lnTo>
                      <a:lnTo>
                        <a:pt x="5487" y="4292"/>
                      </a:lnTo>
                      <a:lnTo>
                        <a:pt x="5521" y="4295"/>
                      </a:lnTo>
                      <a:lnTo>
                        <a:pt x="5521" y="4295"/>
                      </a:lnTo>
                      <a:lnTo>
                        <a:pt x="5566" y="4297"/>
                      </a:lnTo>
                      <a:lnTo>
                        <a:pt x="5599" y="4297"/>
                      </a:lnTo>
                      <a:lnTo>
                        <a:pt x="5624" y="4293"/>
                      </a:lnTo>
                      <a:lnTo>
                        <a:pt x="5633" y="4292"/>
                      </a:lnTo>
                      <a:lnTo>
                        <a:pt x="5642" y="4288"/>
                      </a:lnTo>
                      <a:lnTo>
                        <a:pt x="5648" y="4285"/>
                      </a:lnTo>
                      <a:lnTo>
                        <a:pt x="5653" y="4282"/>
                      </a:lnTo>
                      <a:lnTo>
                        <a:pt x="5658" y="4275"/>
                      </a:lnTo>
                      <a:lnTo>
                        <a:pt x="5663" y="4270"/>
                      </a:lnTo>
                      <a:lnTo>
                        <a:pt x="5671" y="4255"/>
                      </a:lnTo>
                      <a:lnTo>
                        <a:pt x="5680" y="4237"/>
                      </a:lnTo>
                      <a:lnTo>
                        <a:pt x="5680" y="4237"/>
                      </a:lnTo>
                      <a:lnTo>
                        <a:pt x="5688" y="4219"/>
                      </a:lnTo>
                      <a:lnTo>
                        <a:pt x="5694" y="4203"/>
                      </a:lnTo>
                      <a:lnTo>
                        <a:pt x="5696" y="4196"/>
                      </a:lnTo>
                      <a:lnTo>
                        <a:pt x="5696" y="4189"/>
                      </a:lnTo>
                      <a:lnTo>
                        <a:pt x="5696" y="4181"/>
                      </a:lnTo>
                      <a:lnTo>
                        <a:pt x="5694" y="4175"/>
                      </a:lnTo>
                      <a:lnTo>
                        <a:pt x="5691" y="4166"/>
                      </a:lnTo>
                      <a:lnTo>
                        <a:pt x="5688" y="4157"/>
                      </a:lnTo>
                      <a:lnTo>
                        <a:pt x="5673" y="4137"/>
                      </a:lnTo>
                      <a:lnTo>
                        <a:pt x="5652" y="4110"/>
                      </a:lnTo>
                      <a:lnTo>
                        <a:pt x="5622" y="4079"/>
                      </a:lnTo>
                      <a:lnTo>
                        <a:pt x="5622" y="4079"/>
                      </a:lnTo>
                      <a:lnTo>
                        <a:pt x="5599" y="4054"/>
                      </a:lnTo>
                      <a:lnTo>
                        <a:pt x="5576" y="4031"/>
                      </a:lnTo>
                      <a:lnTo>
                        <a:pt x="5535" y="3995"/>
                      </a:lnTo>
                      <a:lnTo>
                        <a:pt x="5498" y="3967"/>
                      </a:lnTo>
                      <a:lnTo>
                        <a:pt x="5469" y="3945"/>
                      </a:lnTo>
                      <a:lnTo>
                        <a:pt x="5469" y="3945"/>
                      </a:lnTo>
                      <a:lnTo>
                        <a:pt x="5488" y="3891"/>
                      </a:lnTo>
                      <a:lnTo>
                        <a:pt x="5508" y="3835"/>
                      </a:lnTo>
                      <a:lnTo>
                        <a:pt x="5508" y="3835"/>
                      </a:lnTo>
                      <a:lnTo>
                        <a:pt x="5544" y="3838"/>
                      </a:lnTo>
                      <a:lnTo>
                        <a:pt x="5591" y="3840"/>
                      </a:lnTo>
                      <a:lnTo>
                        <a:pt x="5645" y="3838"/>
                      </a:lnTo>
                      <a:lnTo>
                        <a:pt x="5678" y="3837"/>
                      </a:lnTo>
                      <a:lnTo>
                        <a:pt x="5711" y="3832"/>
                      </a:lnTo>
                      <a:lnTo>
                        <a:pt x="5711" y="3832"/>
                      </a:lnTo>
                      <a:lnTo>
                        <a:pt x="5755" y="3827"/>
                      </a:lnTo>
                      <a:lnTo>
                        <a:pt x="5788" y="3820"/>
                      </a:lnTo>
                      <a:lnTo>
                        <a:pt x="5812" y="3814"/>
                      </a:lnTo>
                      <a:lnTo>
                        <a:pt x="5821" y="3810"/>
                      </a:lnTo>
                      <a:lnTo>
                        <a:pt x="5828" y="3805"/>
                      </a:lnTo>
                      <a:lnTo>
                        <a:pt x="5835" y="3802"/>
                      </a:lnTo>
                      <a:lnTo>
                        <a:pt x="5840" y="3795"/>
                      </a:lnTo>
                      <a:lnTo>
                        <a:pt x="5843" y="3790"/>
                      </a:lnTo>
                      <a:lnTo>
                        <a:pt x="5848" y="3784"/>
                      </a:lnTo>
                      <a:lnTo>
                        <a:pt x="5853" y="3767"/>
                      </a:lnTo>
                      <a:lnTo>
                        <a:pt x="5858" y="3748"/>
                      </a:lnTo>
                      <a:lnTo>
                        <a:pt x="5858" y="3748"/>
                      </a:lnTo>
                      <a:lnTo>
                        <a:pt x="5863" y="3728"/>
                      </a:lnTo>
                      <a:lnTo>
                        <a:pt x="5866" y="3711"/>
                      </a:lnTo>
                      <a:lnTo>
                        <a:pt x="5866" y="3705"/>
                      </a:lnTo>
                      <a:lnTo>
                        <a:pt x="5866" y="3698"/>
                      </a:lnTo>
                      <a:lnTo>
                        <a:pt x="5864" y="3690"/>
                      </a:lnTo>
                      <a:lnTo>
                        <a:pt x="5861" y="3683"/>
                      </a:lnTo>
                      <a:lnTo>
                        <a:pt x="5858" y="3677"/>
                      </a:lnTo>
                      <a:lnTo>
                        <a:pt x="5851" y="3668"/>
                      </a:lnTo>
                      <a:lnTo>
                        <a:pt x="5833" y="3650"/>
                      </a:lnTo>
                      <a:lnTo>
                        <a:pt x="5808" y="3629"/>
                      </a:lnTo>
                      <a:lnTo>
                        <a:pt x="5774" y="3603"/>
                      </a:lnTo>
                      <a:lnTo>
                        <a:pt x="5774" y="3603"/>
                      </a:lnTo>
                      <a:lnTo>
                        <a:pt x="5746" y="3581"/>
                      </a:lnTo>
                      <a:lnTo>
                        <a:pt x="5719" y="3565"/>
                      </a:lnTo>
                      <a:lnTo>
                        <a:pt x="5671" y="3535"/>
                      </a:lnTo>
                      <a:lnTo>
                        <a:pt x="5630" y="3512"/>
                      </a:lnTo>
                      <a:lnTo>
                        <a:pt x="5599" y="3497"/>
                      </a:lnTo>
                      <a:lnTo>
                        <a:pt x="5599" y="3497"/>
                      </a:lnTo>
                      <a:lnTo>
                        <a:pt x="5609" y="3439"/>
                      </a:lnTo>
                      <a:lnTo>
                        <a:pt x="5619" y="3383"/>
                      </a:lnTo>
                      <a:lnTo>
                        <a:pt x="5619" y="3383"/>
                      </a:lnTo>
                      <a:lnTo>
                        <a:pt x="5655" y="3380"/>
                      </a:lnTo>
                      <a:lnTo>
                        <a:pt x="5699" y="3373"/>
                      </a:lnTo>
                      <a:lnTo>
                        <a:pt x="5755" y="3362"/>
                      </a:lnTo>
                      <a:lnTo>
                        <a:pt x="5785" y="3354"/>
                      </a:lnTo>
                      <a:lnTo>
                        <a:pt x="5818" y="3344"/>
                      </a:lnTo>
                      <a:lnTo>
                        <a:pt x="5818" y="3344"/>
                      </a:lnTo>
                      <a:lnTo>
                        <a:pt x="5861" y="3330"/>
                      </a:lnTo>
                      <a:lnTo>
                        <a:pt x="5892" y="3319"/>
                      </a:lnTo>
                      <a:lnTo>
                        <a:pt x="5914" y="3309"/>
                      </a:lnTo>
                      <a:lnTo>
                        <a:pt x="5922" y="3302"/>
                      </a:lnTo>
                      <a:lnTo>
                        <a:pt x="5929" y="3298"/>
                      </a:lnTo>
                      <a:lnTo>
                        <a:pt x="5935" y="3293"/>
                      </a:lnTo>
                      <a:lnTo>
                        <a:pt x="5938" y="3286"/>
                      </a:lnTo>
                      <a:lnTo>
                        <a:pt x="5942" y="3279"/>
                      </a:lnTo>
                      <a:lnTo>
                        <a:pt x="5943" y="3273"/>
                      </a:lnTo>
                      <a:lnTo>
                        <a:pt x="5947" y="3256"/>
                      </a:lnTo>
                      <a:lnTo>
                        <a:pt x="5948" y="3237"/>
                      </a:lnTo>
                      <a:lnTo>
                        <a:pt x="5948" y="3237"/>
                      </a:lnTo>
                      <a:lnTo>
                        <a:pt x="5950" y="3215"/>
                      </a:lnTo>
                      <a:lnTo>
                        <a:pt x="5950" y="3199"/>
                      </a:lnTo>
                      <a:lnTo>
                        <a:pt x="5950" y="3192"/>
                      </a:lnTo>
                      <a:lnTo>
                        <a:pt x="5947" y="3184"/>
                      </a:lnTo>
                      <a:lnTo>
                        <a:pt x="5945" y="3177"/>
                      </a:lnTo>
                      <a:lnTo>
                        <a:pt x="5940" y="3171"/>
                      </a:lnTo>
                      <a:lnTo>
                        <a:pt x="5935" y="3164"/>
                      </a:lnTo>
                      <a:lnTo>
                        <a:pt x="5927" y="3157"/>
                      </a:lnTo>
                      <a:lnTo>
                        <a:pt x="5907" y="3144"/>
                      </a:lnTo>
                      <a:lnTo>
                        <a:pt x="5879" y="3126"/>
                      </a:lnTo>
                      <a:lnTo>
                        <a:pt x="5840" y="3106"/>
                      </a:lnTo>
                      <a:lnTo>
                        <a:pt x="5840" y="3106"/>
                      </a:lnTo>
                      <a:close/>
                      <a:moveTo>
                        <a:pt x="2885" y="3319"/>
                      </a:moveTo>
                      <a:lnTo>
                        <a:pt x="2885" y="3319"/>
                      </a:lnTo>
                      <a:lnTo>
                        <a:pt x="2850" y="3307"/>
                      </a:lnTo>
                      <a:lnTo>
                        <a:pt x="2817" y="3294"/>
                      </a:lnTo>
                      <a:lnTo>
                        <a:pt x="2788" y="3276"/>
                      </a:lnTo>
                      <a:lnTo>
                        <a:pt x="2760" y="3256"/>
                      </a:lnTo>
                      <a:lnTo>
                        <a:pt x="2733" y="3235"/>
                      </a:lnTo>
                      <a:lnTo>
                        <a:pt x="2710" y="3210"/>
                      </a:lnTo>
                      <a:lnTo>
                        <a:pt x="2689" y="3184"/>
                      </a:lnTo>
                      <a:lnTo>
                        <a:pt x="2671" y="3154"/>
                      </a:lnTo>
                      <a:lnTo>
                        <a:pt x="2654" y="3124"/>
                      </a:lnTo>
                      <a:lnTo>
                        <a:pt x="2643" y="3093"/>
                      </a:lnTo>
                      <a:lnTo>
                        <a:pt x="2633" y="3060"/>
                      </a:lnTo>
                      <a:lnTo>
                        <a:pt x="2626" y="3027"/>
                      </a:lnTo>
                      <a:lnTo>
                        <a:pt x="2623" y="2992"/>
                      </a:lnTo>
                      <a:lnTo>
                        <a:pt x="2623" y="2958"/>
                      </a:lnTo>
                      <a:lnTo>
                        <a:pt x="2628" y="2922"/>
                      </a:lnTo>
                      <a:lnTo>
                        <a:pt x="2634" y="2887"/>
                      </a:lnTo>
                      <a:lnTo>
                        <a:pt x="2634" y="2887"/>
                      </a:lnTo>
                      <a:lnTo>
                        <a:pt x="2646" y="2852"/>
                      </a:lnTo>
                      <a:lnTo>
                        <a:pt x="2661" y="2819"/>
                      </a:lnTo>
                      <a:lnTo>
                        <a:pt x="2677" y="2790"/>
                      </a:lnTo>
                      <a:lnTo>
                        <a:pt x="2697" y="2762"/>
                      </a:lnTo>
                      <a:lnTo>
                        <a:pt x="2720" y="2735"/>
                      </a:lnTo>
                      <a:lnTo>
                        <a:pt x="2745" y="2712"/>
                      </a:lnTo>
                      <a:lnTo>
                        <a:pt x="2771" y="2691"/>
                      </a:lnTo>
                      <a:lnTo>
                        <a:pt x="2799" y="2673"/>
                      </a:lnTo>
                      <a:lnTo>
                        <a:pt x="2829" y="2656"/>
                      </a:lnTo>
                      <a:lnTo>
                        <a:pt x="2860" y="2645"/>
                      </a:lnTo>
                      <a:lnTo>
                        <a:pt x="2893" y="2635"/>
                      </a:lnTo>
                      <a:lnTo>
                        <a:pt x="2928" y="2628"/>
                      </a:lnTo>
                      <a:lnTo>
                        <a:pt x="2962" y="2625"/>
                      </a:lnTo>
                      <a:lnTo>
                        <a:pt x="2997" y="2625"/>
                      </a:lnTo>
                      <a:lnTo>
                        <a:pt x="3032" y="2630"/>
                      </a:lnTo>
                      <a:lnTo>
                        <a:pt x="3068" y="2636"/>
                      </a:lnTo>
                      <a:lnTo>
                        <a:pt x="3068" y="2636"/>
                      </a:lnTo>
                      <a:lnTo>
                        <a:pt x="3101" y="2648"/>
                      </a:lnTo>
                      <a:lnTo>
                        <a:pt x="3134" y="2663"/>
                      </a:lnTo>
                      <a:lnTo>
                        <a:pt x="3165" y="2679"/>
                      </a:lnTo>
                      <a:lnTo>
                        <a:pt x="3193" y="2699"/>
                      </a:lnTo>
                      <a:lnTo>
                        <a:pt x="3218" y="2722"/>
                      </a:lnTo>
                      <a:lnTo>
                        <a:pt x="3243" y="2747"/>
                      </a:lnTo>
                      <a:lnTo>
                        <a:pt x="3263" y="2773"/>
                      </a:lnTo>
                      <a:lnTo>
                        <a:pt x="3282" y="2801"/>
                      </a:lnTo>
                      <a:lnTo>
                        <a:pt x="3297" y="2831"/>
                      </a:lnTo>
                      <a:lnTo>
                        <a:pt x="3310" y="2864"/>
                      </a:lnTo>
                      <a:lnTo>
                        <a:pt x="3319" y="2895"/>
                      </a:lnTo>
                      <a:lnTo>
                        <a:pt x="3325" y="2930"/>
                      </a:lnTo>
                      <a:lnTo>
                        <a:pt x="3328" y="2964"/>
                      </a:lnTo>
                      <a:lnTo>
                        <a:pt x="3328" y="2999"/>
                      </a:lnTo>
                      <a:lnTo>
                        <a:pt x="3325" y="3034"/>
                      </a:lnTo>
                      <a:lnTo>
                        <a:pt x="3317" y="3070"/>
                      </a:lnTo>
                      <a:lnTo>
                        <a:pt x="3317" y="3070"/>
                      </a:lnTo>
                      <a:lnTo>
                        <a:pt x="3305" y="3103"/>
                      </a:lnTo>
                      <a:lnTo>
                        <a:pt x="3292" y="3136"/>
                      </a:lnTo>
                      <a:lnTo>
                        <a:pt x="3274" y="3167"/>
                      </a:lnTo>
                      <a:lnTo>
                        <a:pt x="3254" y="3195"/>
                      </a:lnTo>
                      <a:lnTo>
                        <a:pt x="3233" y="3222"/>
                      </a:lnTo>
                      <a:lnTo>
                        <a:pt x="3208" y="3245"/>
                      </a:lnTo>
                      <a:lnTo>
                        <a:pt x="3180" y="3266"/>
                      </a:lnTo>
                      <a:lnTo>
                        <a:pt x="3152" y="3284"/>
                      </a:lnTo>
                      <a:lnTo>
                        <a:pt x="3122" y="3299"/>
                      </a:lnTo>
                      <a:lnTo>
                        <a:pt x="3091" y="3312"/>
                      </a:lnTo>
                      <a:lnTo>
                        <a:pt x="3058" y="3321"/>
                      </a:lnTo>
                      <a:lnTo>
                        <a:pt x="3025" y="3327"/>
                      </a:lnTo>
                      <a:lnTo>
                        <a:pt x="2990" y="3330"/>
                      </a:lnTo>
                      <a:lnTo>
                        <a:pt x="2956" y="3330"/>
                      </a:lnTo>
                      <a:lnTo>
                        <a:pt x="2920" y="3327"/>
                      </a:lnTo>
                      <a:lnTo>
                        <a:pt x="2885" y="3319"/>
                      </a:lnTo>
                      <a:lnTo>
                        <a:pt x="2885" y="3319"/>
                      </a:lnTo>
                      <a:close/>
                    </a:path>
                  </a:pathLst>
                </a:custGeom>
                <a:gradFill rotWithShape="0">
                  <a:gsLst>
                    <a:gs pos="0">
                      <a:srgbClr val="a45200"/>
                    </a:gs>
                    <a:gs pos="100000">
                      <a:srgbClr val="c89834"/>
                    </a:gs>
                  </a:gsLst>
                  <a:lin ang="13500000"/>
                </a:gradFill>
                <a:ln w="9525">
                  <a:noFill/>
                </a:ln>
                <a:effectLst>
                  <a:outerShdw algn="tl" blurRad="50760" dir="2700000" dist="37674" rotWithShape="0">
                    <a:srgbClr val="000000">
                      <a:alpha val="20000"/>
                    </a:srgbClr>
                  </a:outerShdw>
                </a:effectLst>
              </p:spPr>
              <p:style>
                <a:lnRef idx="0"/>
                <a:fillRef idx="0"/>
                <a:effectRef idx="0"/>
                <a:fontRef idx="minor"/>
              </p:style>
              <p:txBody>
                <a:bodyPr numCol="1" spcCol="0" anchor="t">
                  <a:noAutofit/>
                </a:bodyPr>
                <a:p>
                  <a:pPr>
                    <a:lnSpc>
                      <a:spcPct val="85000"/>
                    </a:lnSpc>
                    <a:spcBef>
                      <a:spcPts val="360"/>
                    </a:spcBef>
                  </a:pPr>
                  <a:endParaRPr b="0" lang="en-US" sz="1800" spc="-1" strike="noStrike">
                    <a:solidFill>
                      <a:srgbClr val="000000"/>
                    </a:solidFill>
                    <a:latin typeface="Calibri"/>
                  </a:endParaRPr>
                </a:p>
              </p:txBody>
            </p:sp>
            <p:sp>
              <p:nvSpPr>
                <p:cNvPr id="625" name="Freeform 6"/>
                <p:cNvSpPr/>
                <p:nvPr/>
              </p:nvSpPr>
              <p:spPr>
                <a:xfrm>
                  <a:off x="1087200" y="2367720"/>
                  <a:ext cx="1423440" cy="1423440"/>
                </a:xfrm>
                <a:custGeom>
                  <a:avLst/>
                  <a:gdLst>
                    <a:gd name="textAreaLeft" fmla="*/ 0 w 1423440"/>
                    <a:gd name="textAreaRight" fmla="*/ 1423800 w 1423440"/>
                    <a:gd name="textAreaTop" fmla="*/ 0 h 1423440"/>
                    <a:gd name="textAreaBottom" fmla="*/ 1423800 h 1423440"/>
                  </a:gdLst>
                  <a:ahLst/>
                  <a:rect l="textAreaLeft" t="textAreaTop" r="textAreaRight" b="textAreaBottom"/>
                  <a:pathLst>
                    <a:path w="5950" h="5950">
                      <a:moveTo>
                        <a:pt x="5904" y="2636"/>
                      </a:moveTo>
                      <a:lnTo>
                        <a:pt x="5904" y="2636"/>
                      </a:lnTo>
                      <a:lnTo>
                        <a:pt x="5912" y="2719"/>
                      </a:lnTo>
                      <a:lnTo>
                        <a:pt x="5919" y="2800"/>
                      </a:lnTo>
                      <a:lnTo>
                        <a:pt x="5919" y="2800"/>
                      </a:lnTo>
                      <a:lnTo>
                        <a:pt x="5930" y="2791"/>
                      </a:lnTo>
                      <a:lnTo>
                        <a:pt x="5938" y="2781"/>
                      </a:lnTo>
                      <a:lnTo>
                        <a:pt x="5945" y="2773"/>
                      </a:lnTo>
                      <a:lnTo>
                        <a:pt x="5948" y="2763"/>
                      </a:lnTo>
                      <a:lnTo>
                        <a:pt x="5950" y="2753"/>
                      </a:lnTo>
                      <a:lnTo>
                        <a:pt x="5950" y="2742"/>
                      </a:lnTo>
                      <a:lnTo>
                        <a:pt x="5948" y="2715"/>
                      </a:lnTo>
                      <a:lnTo>
                        <a:pt x="5948" y="2715"/>
                      </a:lnTo>
                      <a:lnTo>
                        <a:pt x="5945" y="2689"/>
                      </a:lnTo>
                      <a:lnTo>
                        <a:pt x="5943" y="2678"/>
                      </a:lnTo>
                      <a:lnTo>
                        <a:pt x="5940" y="2668"/>
                      </a:lnTo>
                      <a:lnTo>
                        <a:pt x="5935" y="2659"/>
                      </a:lnTo>
                      <a:lnTo>
                        <a:pt x="5927" y="2651"/>
                      </a:lnTo>
                      <a:lnTo>
                        <a:pt x="5917" y="2645"/>
                      </a:lnTo>
                      <a:lnTo>
                        <a:pt x="5904" y="2636"/>
                      </a:lnTo>
                      <a:lnTo>
                        <a:pt x="5904" y="2636"/>
                      </a:lnTo>
                      <a:close/>
                      <a:moveTo>
                        <a:pt x="2202" y="92"/>
                      </a:moveTo>
                      <a:lnTo>
                        <a:pt x="2202" y="92"/>
                      </a:lnTo>
                      <a:lnTo>
                        <a:pt x="2176" y="101"/>
                      </a:lnTo>
                      <a:lnTo>
                        <a:pt x="2164" y="104"/>
                      </a:lnTo>
                      <a:lnTo>
                        <a:pt x="2156" y="109"/>
                      </a:lnTo>
                      <a:lnTo>
                        <a:pt x="2148" y="117"/>
                      </a:lnTo>
                      <a:lnTo>
                        <a:pt x="2141" y="125"/>
                      </a:lnTo>
                      <a:lnTo>
                        <a:pt x="2136" y="138"/>
                      </a:lnTo>
                      <a:lnTo>
                        <a:pt x="2131" y="155"/>
                      </a:lnTo>
                      <a:lnTo>
                        <a:pt x="2131" y="155"/>
                      </a:lnTo>
                      <a:lnTo>
                        <a:pt x="2212" y="132"/>
                      </a:lnTo>
                      <a:lnTo>
                        <a:pt x="2295" y="110"/>
                      </a:lnTo>
                      <a:lnTo>
                        <a:pt x="2295" y="110"/>
                      </a:lnTo>
                      <a:lnTo>
                        <a:pt x="2282" y="99"/>
                      </a:lnTo>
                      <a:lnTo>
                        <a:pt x="2272" y="91"/>
                      </a:lnTo>
                      <a:lnTo>
                        <a:pt x="2260" y="86"/>
                      </a:lnTo>
                      <a:lnTo>
                        <a:pt x="2250" y="84"/>
                      </a:lnTo>
                      <a:lnTo>
                        <a:pt x="2240" y="84"/>
                      </a:lnTo>
                      <a:lnTo>
                        <a:pt x="2229" y="86"/>
                      </a:lnTo>
                      <a:lnTo>
                        <a:pt x="2202" y="92"/>
                      </a:lnTo>
                      <a:lnTo>
                        <a:pt x="2202" y="92"/>
                      </a:lnTo>
                      <a:close/>
                      <a:moveTo>
                        <a:pt x="5419" y="1263"/>
                      </a:moveTo>
                      <a:lnTo>
                        <a:pt x="5419" y="1263"/>
                      </a:lnTo>
                      <a:lnTo>
                        <a:pt x="5404" y="1242"/>
                      </a:lnTo>
                      <a:lnTo>
                        <a:pt x="5396" y="1233"/>
                      </a:lnTo>
                      <a:lnTo>
                        <a:pt x="5388" y="1227"/>
                      </a:lnTo>
                      <a:lnTo>
                        <a:pt x="5380" y="1222"/>
                      </a:lnTo>
                      <a:lnTo>
                        <a:pt x="5368" y="1218"/>
                      </a:lnTo>
                      <a:lnTo>
                        <a:pt x="5355" y="1217"/>
                      </a:lnTo>
                      <a:lnTo>
                        <a:pt x="5340" y="1218"/>
                      </a:lnTo>
                      <a:lnTo>
                        <a:pt x="5340" y="1218"/>
                      </a:lnTo>
                      <a:lnTo>
                        <a:pt x="5388" y="1286"/>
                      </a:lnTo>
                      <a:lnTo>
                        <a:pt x="5436" y="1354"/>
                      </a:lnTo>
                      <a:lnTo>
                        <a:pt x="5436" y="1354"/>
                      </a:lnTo>
                      <a:lnTo>
                        <a:pt x="5441" y="1339"/>
                      </a:lnTo>
                      <a:lnTo>
                        <a:pt x="5444" y="1327"/>
                      </a:lnTo>
                      <a:lnTo>
                        <a:pt x="5445" y="1316"/>
                      </a:lnTo>
                      <a:lnTo>
                        <a:pt x="5444" y="1306"/>
                      </a:lnTo>
                      <a:lnTo>
                        <a:pt x="5441" y="1296"/>
                      </a:lnTo>
                      <a:lnTo>
                        <a:pt x="5436" y="1286"/>
                      </a:lnTo>
                      <a:lnTo>
                        <a:pt x="5419" y="1263"/>
                      </a:lnTo>
                      <a:lnTo>
                        <a:pt x="5419" y="1263"/>
                      </a:lnTo>
                      <a:close/>
                      <a:moveTo>
                        <a:pt x="5919" y="3151"/>
                      </a:moveTo>
                      <a:lnTo>
                        <a:pt x="5919" y="3151"/>
                      </a:lnTo>
                      <a:lnTo>
                        <a:pt x="5912" y="3233"/>
                      </a:lnTo>
                      <a:lnTo>
                        <a:pt x="5904" y="3314"/>
                      </a:lnTo>
                      <a:lnTo>
                        <a:pt x="5904" y="3314"/>
                      </a:lnTo>
                      <a:lnTo>
                        <a:pt x="5917" y="3307"/>
                      </a:lnTo>
                      <a:lnTo>
                        <a:pt x="5927" y="3299"/>
                      </a:lnTo>
                      <a:lnTo>
                        <a:pt x="5935" y="3291"/>
                      </a:lnTo>
                      <a:lnTo>
                        <a:pt x="5940" y="3283"/>
                      </a:lnTo>
                      <a:lnTo>
                        <a:pt x="5943" y="3273"/>
                      </a:lnTo>
                      <a:lnTo>
                        <a:pt x="5945" y="3263"/>
                      </a:lnTo>
                      <a:lnTo>
                        <a:pt x="5948" y="3237"/>
                      </a:lnTo>
                      <a:lnTo>
                        <a:pt x="5948" y="3237"/>
                      </a:lnTo>
                      <a:lnTo>
                        <a:pt x="5950" y="3208"/>
                      </a:lnTo>
                      <a:lnTo>
                        <a:pt x="5950" y="3199"/>
                      </a:lnTo>
                      <a:lnTo>
                        <a:pt x="5948" y="3187"/>
                      </a:lnTo>
                      <a:lnTo>
                        <a:pt x="5945" y="3179"/>
                      </a:lnTo>
                      <a:lnTo>
                        <a:pt x="5938" y="3169"/>
                      </a:lnTo>
                      <a:lnTo>
                        <a:pt x="5930" y="3161"/>
                      </a:lnTo>
                      <a:lnTo>
                        <a:pt x="5919" y="3151"/>
                      </a:lnTo>
                      <a:lnTo>
                        <a:pt x="5919" y="3151"/>
                      </a:lnTo>
                      <a:close/>
                      <a:moveTo>
                        <a:pt x="5800" y="2133"/>
                      </a:moveTo>
                      <a:lnTo>
                        <a:pt x="5800" y="2133"/>
                      </a:lnTo>
                      <a:lnTo>
                        <a:pt x="5821" y="2213"/>
                      </a:lnTo>
                      <a:lnTo>
                        <a:pt x="5843" y="2292"/>
                      </a:lnTo>
                      <a:lnTo>
                        <a:pt x="5843" y="2292"/>
                      </a:lnTo>
                      <a:lnTo>
                        <a:pt x="5853" y="2280"/>
                      </a:lnTo>
                      <a:lnTo>
                        <a:pt x="5859" y="2270"/>
                      </a:lnTo>
                      <a:lnTo>
                        <a:pt x="5864" y="2260"/>
                      </a:lnTo>
                      <a:lnTo>
                        <a:pt x="5866" y="2251"/>
                      </a:lnTo>
                      <a:lnTo>
                        <a:pt x="5866" y="2241"/>
                      </a:lnTo>
                      <a:lnTo>
                        <a:pt x="5864" y="2229"/>
                      </a:lnTo>
                      <a:lnTo>
                        <a:pt x="5858" y="2203"/>
                      </a:lnTo>
                      <a:lnTo>
                        <a:pt x="5858" y="2203"/>
                      </a:lnTo>
                      <a:lnTo>
                        <a:pt x="5851" y="2176"/>
                      </a:lnTo>
                      <a:lnTo>
                        <a:pt x="5846" y="2166"/>
                      </a:lnTo>
                      <a:lnTo>
                        <a:pt x="5841" y="2158"/>
                      </a:lnTo>
                      <a:lnTo>
                        <a:pt x="5835" y="2150"/>
                      </a:lnTo>
                      <a:lnTo>
                        <a:pt x="5826" y="2143"/>
                      </a:lnTo>
                      <a:lnTo>
                        <a:pt x="5815" y="2138"/>
                      </a:lnTo>
                      <a:lnTo>
                        <a:pt x="5800" y="2133"/>
                      </a:lnTo>
                      <a:lnTo>
                        <a:pt x="5800" y="2133"/>
                      </a:lnTo>
                      <a:close/>
                      <a:moveTo>
                        <a:pt x="2715" y="2"/>
                      </a:moveTo>
                      <a:lnTo>
                        <a:pt x="2715" y="2"/>
                      </a:lnTo>
                      <a:lnTo>
                        <a:pt x="2687" y="5"/>
                      </a:lnTo>
                      <a:lnTo>
                        <a:pt x="2676" y="7"/>
                      </a:lnTo>
                      <a:lnTo>
                        <a:pt x="2666" y="10"/>
                      </a:lnTo>
                      <a:lnTo>
                        <a:pt x="2657" y="16"/>
                      </a:lnTo>
                      <a:lnTo>
                        <a:pt x="2649" y="25"/>
                      </a:lnTo>
                      <a:lnTo>
                        <a:pt x="2641" y="35"/>
                      </a:lnTo>
                      <a:lnTo>
                        <a:pt x="2634" y="51"/>
                      </a:lnTo>
                      <a:lnTo>
                        <a:pt x="2634" y="51"/>
                      </a:lnTo>
                      <a:lnTo>
                        <a:pt x="2718" y="41"/>
                      </a:lnTo>
                      <a:lnTo>
                        <a:pt x="2803" y="36"/>
                      </a:lnTo>
                      <a:lnTo>
                        <a:pt x="2803" y="36"/>
                      </a:lnTo>
                      <a:lnTo>
                        <a:pt x="2791" y="21"/>
                      </a:lnTo>
                      <a:lnTo>
                        <a:pt x="2783" y="13"/>
                      </a:lnTo>
                      <a:lnTo>
                        <a:pt x="2773" y="7"/>
                      </a:lnTo>
                      <a:lnTo>
                        <a:pt x="2763" y="2"/>
                      </a:lnTo>
                      <a:lnTo>
                        <a:pt x="2753" y="0"/>
                      </a:lnTo>
                      <a:lnTo>
                        <a:pt x="2742" y="0"/>
                      </a:lnTo>
                      <a:lnTo>
                        <a:pt x="2715" y="2"/>
                      </a:lnTo>
                      <a:lnTo>
                        <a:pt x="2715" y="2"/>
                      </a:lnTo>
                      <a:close/>
                      <a:moveTo>
                        <a:pt x="4687" y="531"/>
                      </a:moveTo>
                      <a:lnTo>
                        <a:pt x="4687" y="531"/>
                      </a:lnTo>
                      <a:lnTo>
                        <a:pt x="4664" y="514"/>
                      </a:lnTo>
                      <a:lnTo>
                        <a:pt x="4654" y="509"/>
                      </a:lnTo>
                      <a:lnTo>
                        <a:pt x="4644" y="506"/>
                      </a:lnTo>
                      <a:lnTo>
                        <a:pt x="4634" y="505"/>
                      </a:lnTo>
                      <a:lnTo>
                        <a:pt x="4623" y="506"/>
                      </a:lnTo>
                      <a:lnTo>
                        <a:pt x="4611" y="509"/>
                      </a:lnTo>
                      <a:lnTo>
                        <a:pt x="4595" y="514"/>
                      </a:lnTo>
                      <a:lnTo>
                        <a:pt x="4595" y="514"/>
                      </a:lnTo>
                      <a:lnTo>
                        <a:pt x="4664" y="562"/>
                      </a:lnTo>
                      <a:lnTo>
                        <a:pt x="4732" y="610"/>
                      </a:lnTo>
                      <a:lnTo>
                        <a:pt x="4732" y="610"/>
                      </a:lnTo>
                      <a:lnTo>
                        <a:pt x="4733" y="595"/>
                      </a:lnTo>
                      <a:lnTo>
                        <a:pt x="4732" y="582"/>
                      </a:lnTo>
                      <a:lnTo>
                        <a:pt x="4728" y="570"/>
                      </a:lnTo>
                      <a:lnTo>
                        <a:pt x="4723" y="562"/>
                      </a:lnTo>
                      <a:lnTo>
                        <a:pt x="4717" y="554"/>
                      </a:lnTo>
                      <a:lnTo>
                        <a:pt x="4708" y="546"/>
                      </a:lnTo>
                      <a:lnTo>
                        <a:pt x="4687" y="531"/>
                      </a:lnTo>
                      <a:lnTo>
                        <a:pt x="4687" y="531"/>
                      </a:lnTo>
                      <a:close/>
                      <a:moveTo>
                        <a:pt x="5084" y="866"/>
                      </a:moveTo>
                      <a:lnTo>
                        <a:pt x="5084" y="866"/>
                      </a:lnTo>
                      <a:lnTo>
                        <a:pt x="5066" y="846"/>
                      </a:lnTo>
                      <a:lnTo>
                        <a:pt x="5056" y="839"/>
                      </a:lnTo>
                      <a:lnTo>
                        <a:pt x="5048" y="834"/>
                      </a:lnTo>
                      <a:lnTo>
                        <a:pt x="5038" y="831"/>
                      </a:lnTo>
                      <a:lnTo>
                        <a:pt x="5027" y="829"/>
                      </a:lnTo>
                      <a:lnTo>
                        <a:pt x="5014" y="831"/>
                      </a:lnTo>
                      <a:lnTo>
                        <a:pt x="4999" y="834"/>
                      </a:lnTo>
                      <a:lnTo>
                        <a:pt x="4999" y="834"/>
                      </a:lnTo>
                      <a:lnTo>
                        <a:pt x="5058" y="892"/>
                      </a:lnTo>
                      <a:lnTo>
                        <a:pt x="5116" y="951"/>
                      </a:lnTo>
                      <a:lnTo>
                        <a:pt x="5116" y="951"/>
                      </a:lnTo>
                      <a:lnTo>
                        <a:pt x="5119" y="936"/>
                      </a:lnTo>
                      <a:lnTo>
                        <a:pt x="5121" y="923"/>
                      </a:lnTo>
                      <a:lnTo>
                        <a:pt x="5119" y="912"/>
                      </a:lnTo>
                      <a:lnTo>
                        <a:pt x="5116" y="902"/>
                      </a:lnTo>
                      <a:lnTo>
                        <a:pt x="5111" y="894"/>
                      </a:lnTo>
                      <a:lnTo>
                        <a:pt x="5104" y="884"/>
                      </a:lnTo>
                      <a:lnTo>
                        <a:pt x="5084" y="866"/>
                      </a:lnTo>
                      <a:lnTo>
                        <a:pt x="5084" y="866"/>
                      </a:lnTo>
                      <a:close/>
                      <a:moveTo>
                        <a:pt x="5681" y="4148"/>
                      </a:moveTo>
                      <a:lnTo>
                        <a:pt x="5681" y="4148"/>
                      </a:lnTo>
                      <a:lnTo>
                        <a:pt x="5648" y="4222"/>
                      </a:lnTo>
                      <a:lnTo>
                        <a:pt x="5612" y="4295"/>
                      </a:lnTo>
                      <a:lnTo>
                        <a:pt x="5612" y="4295"/>
                      </a:lnTo>
                      <a:lnTo>
                        <a:pt x="5627" y="4293"/>
                      </a:lnTo>
                      <a:lnTo>
                        <a:pt x="5640" y="4290"/>
                      </a:lnTo>
                      <a:lnTo>
                        <a:pt x="5648" y="4285"/>
                      </a:lnTo>
                      <a:lnTo>
                        <a:pt x="5657" y="4279"/>
                      </a:lnTo>
                      <a:lnTo>
                        <a:pt x="5663" y="4270"/>
                      </a:lnTo>
                      <a:lnTo>
                        <a:pt x="5668" y="4260"/>
                      </a:lnTo>
                      <a:lnTo>
                        <a:pt x="5680" y="4237"/>
                      </a:lnTo>
                      <a:lnTo>
                        <a:pt x="5680" y="4237"/>
                      </a:lnTo>
                      <a:lnTo>
                        <a:pt x="5691" y="4213"/>
                      </a:lnTo>
                      <a:lnTo>
                        <a:pt x="5694" y="4203"/>
                      </a:lnTo>
                      <a:lnTo>
                        <a:pt x="5696" y="4193"/>
                      </a:lnTo>
                      <a:lnTo>
                        <a:pt x="5696" y="4183"/>
                      </a:lnTo>
                      <a:lnTo>
                        <a:pt x="5694" y="4171"/>
                      </a:lnTo>
                      <a:lnTo>
                        <a:pt x="5689" y="4160"/>
                      </a:lnTo>
                      <a:lnTo>
                        <a:pt x="5681" y="4148"/>
                      </a:lnTo>
                      <a:lnTo>
                        <a:pt x="5681" y="4148"/>
                      </a:lnTo>
                      <a:close/>
                      <a:moveTo>
                        <a:pt x="4146" y="5682"/>
                      </a:moveTo>
                      <a:lnTo>
                        <a:pt x="4146" y="5682"/>
                      </a:lnTo>
                      <a:lnTo>
                        <a:pt x="4159" y="5690"/>
                      </a:lnTo>
                      <a:lnTo>
                        <a:pt x="4171" y="5695"/>
                      </a:lnTo>
                      <a:lnTo>
                        <a:pt x="4181" y="5698"/>
                      </a:lnTo>
                      <a:lnTo>
                        <a:pt x="4191" y="5698"/>
                      </a:lnTo>
                      <a:lnTo>
                        <a:pt x="4201" y="5695"/>
                      </a:lnTo>
                      <a:lnTo>
                        <a:pt x="4212" y="5691"/>
                      </a:lnTo>
                      <a:lnTo>
                        <a:pt x="4235" y="5680"/>
                      </a:lnTo>
                      <a:lnTo>
                        <a:pt x="4235" y="5680"/>
                      </a:lnTo>
                      <a:lnTo>
                        <a:pt x="4260" y="5668"/>
                      </a:lnTo>
                      <a:lnTo>
                        <a:pt x="4270" y="5663"/>
                      </a:lnTo>
                      <a:lnTo>
                        <a:pt x="4278" y="5657"/>
                      </a:lnTo>
                      <a:lnTo>
                        <a:pt x="4283" y="5650"/>
                      </a:lnTo>
                      <a:lnTo>
                        <a:pt x="4288" y="5640"/>
                      </a:lnTo>
                      <a:lnTo>
                        <a:pt x="4291" y="5629"/>
                      </a:lnTo>
                      <a:lnTo>
                        <a:pt x="4295" y="5614"/>
                      </a:lnTo>
                      <a:lnTo>
                        <a:pt x="4295" y="5614"/>
                      </a:lnTo>
                      <a:lnTo>
                        <a:pt x="4220" y="5649"/>
                      </a:lnTo>
                      <a:lnTo>
                        <a:pt x="4146" y="5682"/>
                      </a:lnTo>
                      <a:lnTo>
                        <a:pt x="4146" y="5682"/>
                      </a:lnTo>
                      <a:close/>
                      <a:moveTo>
                        <a:pt x="1" y="2715"/>
                      </a:moveTo>
                      <a:lnTo>
                        <a:pt x="1" y="2715"/>
                      </a:lnTo>
                      <a:lnTo>
                        <a:pt x="0" y="2744"/>
                      </a:lnTo>
                      <a:lnTo>
                        <a:pt x="0" y="2753"/>
                      </a:lnTo>
                      <a:lnTo>
                        <a:pt x="1" y="2765"/>
                      </a:lnTo>
                      <a:lnTo>
                        <a:pt x="5" y="2773"/>
                      </a:lnTo>
                      <a:lnTo>
                        <a:pt x="11" y="2783"/>
                      </a:lnTo>
                      <a:lnTo>
                        <a:pt x="21" y="2793"/>
                      </a:lnTo>
                      <a:lnTo>
                        <a:pt x="34" y="2803"/>
                      </a:lnTo>
                      <a:lnTo>
                        <a:pt x="34" y="2803"/>
                      </a:lnTo>
                      <a:lnTo>
                        <a:pt x="41" y="2719"/>
                      </a:lnTo>
                      <a:lnTo>
                        <a:pt x="49" y="2635"/>
                      </a:lnTo>
                      <a:lnTo>
                        <a:pt x="49" y="2635"/>
                      </a:lnTo>
                      <a:lnTo>
                        <a:pt x="34" y="2643"/>
                      </a:lnTo>
                      <a:lnTo>
                        <a:pt x="23" y="2651"/>
                      </a:lnTo>
                      <a:lnTo>
                        <a:pt x="14" y="2658"/>
                      </a:lnTo>
                      <a:lnTo>
                        <a:pt x="10" y="2668"/>
                      </a:lnTo>
                      <a:lnTo>
                        <a:pt x="6" y="2678"/>
                      </a:lnTo>
                      <a:lnTo>
                        <a:pt x="3" y="2687"/>
                      </a:lnTo>
                      <a:lnTo>
                        <a:pt x="1" y="2715"/>
                      </a:lnTo>
                      <a:lnTo>
                        <a:pt x="1" y="2715"/>
                      </a:lnTo>
                      <a:close/>
                      <a:moveTo>
                        <a:pt x="1713" y="270"/>
                      </a:moveTo>
                      <a:lnTo>
                        <a:pt x="1713" y="270"/>
                      </a:lnTo>
                      <a:lnTo>
                        <a:pt x="1688" y="282"/>
                      </a:lnTo>
                      <a:lnTo>
                        <a:pt x="1678" y="289"/>
                      </a:lnTo>
                      <a:lnTo>
                        <a:pt x="1670" y="295"/>
                      </a:lnTo>
                      <a:lnTo>
                        <a:pt x="1663" y="303"/>
                      </a:lnTo>
                      <a:lnTo>
                        <a:pt x="1660" y="313"/>
                      </a:lnTo>
                      <a:lnTo>
                        <a:pt x="1657" y="328"/>
                      </a:lnTo>
                      <a:lnTo>
                        <a:pt x="1653" y="345"/>
                      </a:lnTo>
                      <a:lnTo>
                        <a:pt x="1653" y="345"/>
                      </a:lnTo>
                      <a:lnTo>
                        <a:pt x="1731" y="307"/>
                      </a:lnTo>
                      <a:lnTo>
                        <a:pt x="1808" y="272"/>
                      </a:lnTo>
                      <a:lnTo>
                        <a:pt x="1808" y="272"/>
                      </a:lnTo>
                      <a:lnTo>
                        <a:pt x="1793" y="264"/>
                      </a:lnTo>
                      <a:lnTo>
                        <a:pt x="1780" y="257"/>
                      </a:lnTo>
                      <a:lnTo>
                        <a:pt x="1770" y="254"/>
                      </a:lnTo>
                      <a:lnTo>
                        <a:pt x="1759" y="254"/>
                      </a:lnTo>
                      <a:lnTo>
                        <a:pt x="1749" y="256"/>
                      </a:lnTo>
                      <a:lnTo>
                        <a:pt x="1739" y="259"/>
                      </a:lnTo>
                      <a:lnTo>
                        <a:pt x="1713" y="270"/>
                      </a:lnTo>
                      <a:lnTo>
                        <a:pt x="1713" y="270"/>
                      </a:lnTo>
                      <a:close/>
                      <a:moveTo>
                        <a:pt x="5343" y="4734"/>
                      </a:moveTo>
                      <a:lnTo>
                        <a:pt x="5343" y="4734"/>
                      </a:lnTo>
                      <a:lnTo>
                        <a:pt x="5358" y="4734"/>
                      </a:lnTo>
                      <a:lnTo>
                        <a:pt x="5371" y="4732"/>
                      </a:lnTo>
                      <a:lnTo>
                        <a:pt x="5381" y="4729"/>
                      </a:lnTo>
                      <a:lnTo>
                        <a:pt x="5389" y="4724"/>
                      </a:lnTo>
                      <a:lnTo>
                        <a:pt x="5398" y="4717"/>
                      </a:lnTo>
                      <a:lnTo>
                        <a:pt x="5404" y="4709"/>
                      </a:lnTo>
                      <a:lnTo>
                        <a:pt x="5419" y="4687"/>
                      </a:lnTo>
                      <a:lnTo>
                        <a:pt x="5419" y="4687"/>
                      </a:lnTo>
                      <a:lnTo>
                        <a:pt x="5434" y="4666"/>
                      </a:lnTo>
                      <a:lnTo>
                        <a:pt x="5441" y="4656"/>
                      </a:lnTo>
                      <a:lnTo>
                        <a:pt x="5444" y="4646"/>
                      </a:lnTo>
                      <a:lnTo>
                        <a:pt x="5445" y="4636"/>
                      </a:lnTo>
                      <a:lnTo>
                        <a:pt x="5445" y="4626"/>
                      </a:lnTo>
                      <a:lnTo>
                        <a:pt x="5442" y="4615"/>
                      </a:lnTo>
                      <a:lnTo>
                        <a:pt x="5437" y="4600"/>
                      </a:lnTo>
                      <a:lnTo>
                        <a:pt x="5437" y="4600"/>
                      </a:lnTo>
                      <a:lnTo>
                        <a:pt x="5391" y="4668"/>
                      </a:lnTo>
                      <a:lnTo>
                        <a:pt x="5343" y="4734"/>
                      </a:lnTo>
                      <a:lnTo>
                        <a:pt x="5343" y="4734"/>
                      </a:lnTo>
                      <a:close/>
                      <a:moveTo>
                        <a:pt x="5002" y="5118"/>
                      </a:moveTo>
                      <a:lnTo>
                        <a:pt x="5002" y="5118"/>
                      </a:lnTo>
                      <a:lnTo>
                        <a:pt x="5017" y="5121"/>
                      </a:lnTo>
                      <a:lnTo>
                        <a:pt x="5030" y="5121"/>
                      </a:lnTo>
                      <a:lnTo>
                        <a:pt x="5040" y="5121"/>
                      </a:lnTo>
                      <a:lnTo>
                        <a:pt x="5050" y="5118"/>
                      </a:lnTo>
                      <a:lnTo>
                        <a:pt x="5058" y="5111"/>
                      </a:lnTo>
                      <a:lnTo>
                        <a:pt x="5066" y="5105"/>
                      </a:lnTo>
                      <a:lnTo>
                        <a:pt x="5084" y="5086"/>
                      </a:lnTo>
                      <a:lnTo>
                        <a:pt x="5084" y="5086"/>
                      </a:lnTo>
                      <a:lnTo>
                        <a:pt x="5104" y="5067"/>
                      </a:lnTo>
                      <a:lnTo>
                        <a:pt x="5111" y="5058"/>
                      </a:lnTo>
                      <a:lnTo>
                        <a:pt x="5116" y="5050"/>
                      </a:lnTo>
                      <a:lnTo>
                        <a:pt x="5119" y="5040"/>
                      </a:lnTo>
                      <a:lnTo>
                        <a:pt x="5121" y="5030"/>
                      </a:lnTo>
                      <a:lnTo>
                        <a:pt x="5121" y="5019"/>
                      </a:lnTo>
                      <a:lnTo>
                        <a:pt x="5117" y="5004"/>
                      </a:lnTo>
                      <a:lnTo>
                        <a:pt x="5117" y="5004"/>
                      </a:lnTo>
                      <a:lnTo>
                        <a:pt x="5060" y="5062"/>
                      </a:lnTo>
                      <a:lnTo>
                        <a:pt x="5002" y="5118"/>
                      </a:lnTo>
                      <a:lnTo>
                        <a:pt x="5002" y="5118"/>
                      </a:lnTo>
                      <a:close/>
                      <a:moveTo>
                        <a:pt x="1" y="3237"/>
                      </a:moveTo>
                      <a:lnTo>
                        <a:pt x="1" y="3237"/>
                      </a:lnTo>
                      <a:lnTo>
                        <a:pt x="3" y="3263"/>
                      </a:lnTo>
                      <a:lnTo>
                        <a:pt x="6" y="3274"/>
                      </a:lnTo>
                      <a:lnTo>
                        <a:pt x="10" y="3284"/>
                      </a:lnTo>
                      <a:lnTo>
                        <a:pt x="14" y="3293"/>
                      </a:lnTo>
                      <a:lnTo>
                        <a:pt x="23" y="3301"/>
                      </a:lnTo>
                      <a:lnTo>
                        <a:pt x="33" y="3307"/>
                      </a:lnTo>
                      <a:lnTo>
                        <a:pt x="47" y="3316"/>
                      </a:lnTo>
                      <a:lnTo>
                        <a:pt x="47" y="3316"/>
                      </a:lnTo>
                      <a:lnTo>
                        <a:pt x="39" y="3233"/>
                      </a:lnTo>
                      <a:lnTo>
                        <a:pt x="33" y="3149"/>
                      </a:lnTo>
                      <a:lnTo>
                        <a:pt x="33" y="3149"/>
                      </a:lnTo>
                      <a:lnTo>
                        <a:pt x="21" y="3159"/>
                      </a:lnTo>
                      <a:lnTo>
                        <a:pt x="11" y="3169"/>
                      </a:lnTo>
                      <a:lnTo>
                        <a:pt x="5" y="3177"/>
                      </a:lnTo>
                      <a:lnTo>
                        <a:pt x="1" y="3187"/>
                      </a:lnTo>
                      <a:lnTo>
                        <a:pt x="0" y="3197"/>
                      </a:lnTo>
                      <a:lnTo>
                        <a:pt x="0" y="3208"/>
                      </a:lnTo>
                      <a:lnTo>
                        <a:pt x="1" y="3237"/>
                      </a:lnTo>
                      <a:lnTo>
                        <a:pt x="1" y="3237"/>
                      </a:lnTo>
                      <a:close/>
                      <a:moveTo>
                        <a:pt x="270" y="1715"/>
                      </a:moveTo>
                      <a:lnTo>
                        <a:pt x="270" y="1715"/>
                      </a:lnTo>
                      <a:lnTo>
                        <a:pt x="259" y="1739"/>
                      </a:lnTo>
                      <a:lnTo>
                        <a:pt x="254" y="1749"/>
                      </a:lnTo>
                      <a:lnTo>
                        <a:pt x="252" y="1761"/>
                      </a:lnTo>
                      <a:lnTo>
                        <a:pt x="254" y="1771"/>
                      </a:lnTo>
                      <a:lnTo>
                        <a:pt x="255" y="1782"/>
                      </a:lnTo>
                      <a:lnTo>
                        <a:pt x="262" y="1794"/>
                      </a:lnTo>
                      <a:lnTo>
                        <a:pt x="272" y="1809"/>
                      </a:lnTo>
                      <a:lnTo>
                        <a:pt x="272" y="1809"/>
                      </a:lnTo>
                      <a:lnTo>
                        <a:pt x="306" y="1731"/>
                      </a:lnTo>
                      <a:lnTo>
                        <a:pt x="343" y="1655"/>
                      </a:lnTo>
                      <a:lnTo>
                        <a:pt x="343" y="1655"/>
                      </a:lnTo>
                      <a:lnTo>
                        <a:pt x="326" y="1657"/>
                      </a:lnTo>
                      <a:lnTo>
                        <a:pt x="313" y="1660"/>
                      </a:lnTo>
                      <a:lnTo>
                        <a:pt x="301" y="1665"/>
                      </a:lnTo>
                      <a:lnTo>
                        <a:pt x="293" y="1672"/>
                      </a:lnTo>
                      <a:lnTo>
                        <a:pt x="287" y="1680"/>
                      </a:lnTo>
                      <a:lnTo>
                        <a:pt x="282" y="1688"/>
                      </a:lnTo>
                      <a:lnTo>
                        <a:pt x="270" y="1715"/>
                      </a:lnTo>
                      <a:lnTo>
                        <a:pt x="270" y="1715"/>
                      </a:lnTo>
                      <a:close/>
                      <a:moveTo>
                        <a:pt x="529" y="1263"/>
                      </a:moveTo>
                      <a:lnTo>
                        <a:pt x="529" y="1263"/>
                      </a:lnTo>
                      <a:lnTo>
                        <a:pt x="514" y="1286"/>
                      </a:lnTo>
                      <a:lnTo>
                        <a:pt x="509" y="1296"/>
                      </a:lnTo>
                      <a:lnTo>
                        <a:pt x="504" y="1306"/>
                      </a:lnTo>
                      <a:lnTo>
                        <a:pt x="504" y="1316"/>
                      </a:lnTo>
                      <a:lnTo>
                        <a:pt x="504" y="1327"/>
                      </a:lnTo>
                      <a:lnTo>
                        <a:pt x="507" y="1340"/>
                      </a:lnTo>
                      <a:lnTo>
                        <a:pt x="514" y="1355"/>
                      </a:lnTo>
                      <a:lnTo>
                        <a:pt x="514" y="1355"/>
                      </a:lnTo>
                      <a:lnTo>
                        <a:pt x="562" y="1286"/>
                      </a:lnTo>
                      <a:lnTo>
                        <a:pt x="611" y="1218"/>
                      </a:lnTo>
                      <a:lnTo>
                        <a:pt x="611" y="1218"/>
                      </a:lnTo>
                      <a:lnTo>
                        <a:pt x="595" y="1217"/>
                      </a:lnTo>
                      <a:lnTo>
                        <a:pt x="582" y="1218"/>
                      </a:lnTo>
                      <a:lnTo>
                        <a:pt x="570" y="1222"/>
                      </a:lnTo>
                      <a:lnTo>
                        <a:pt x="560" y="1225"/>
                      </a:lnTo>
                      <a:lnTo>
                        <a:pt x="554" y="1233"/>
                      </a:lnTo>
                      <a:lnTo>
                        <a:pt x="545" y="1242"/>
                      </a:lnTo>
                      <a:lnTo>
                        <a:pt x="529" y="1263"/>
                      </a:lnTo>
                      <a:lnTo>
                        <a:pt x="529" y="1263"/>
                      </a:lnTo>
                      <a:close/>
                      <a:moveTo>
                        <a:pt x="864" y="866"/>
                      </a:moveTo>
                      <a:lnTo>
                        <a:pt x="864" y="866"/>
                      </a:lnTo>
                      <a:lnTo>
                        <a:pt x="844" y="885"/>
                      </a:lnTo>
                      <a:lnTo>
                        <a:pt x="837" y="894"/>
                      </a:lnTo>
                      <a:lnTo>
                        <a:pt x="832" y="902"/>
                      </a:lnTo>
                      <a:lnTo>
                        <a:pt x="829" y="912"/>
                      </a:lnTo>
                      <a:lnTo>
                        <a:pt x="829" y="923"/>
                      </a:lnTo>
                      <a:lnTo>
                        <a:pt x="829" y="938"/>
                      </a:lnTo>
                      <a:lnTo>
                        <a:pt x="834" y="955"/>
                      </a:lnTo>
                      <a:lnTo>
                        <a:pt x="834" y="955"/>
                      </a:lnTo>
                      <a:lnTo>
                        <a:pt x="893" y="894"/>
                      </a:lnTo>
                      <a:lnTo>
                        <a:pt x="953" y="834"/>
                      </a:lnTo>
                      <a:lnTo>
                        <a:pt x="953" y="834"/>
                      </a:lnTo>
                      <a:lnTo>
                        <a:pt x="936" y="831"/>
                      </a:lnTo>
                      <a:lnTo>
                        <a:pt x="923" y="829"/>
                      </a:lnTo>
                      <a:lnTo>
                        <a:pt x="911" y="831"/>
                      </a:lnTo>
                      <a:lnTo>
                        <a:pt x="902" y="833"/>
                      </a:lnTo>
                      <a:lnTo>
                        <a:pt x="893" y="839"/>
                      </a:lnTo>
                      <a:lnTo>
                        <a:pt x="883" y="846"/>
                      </a:lnTo>
                      <a:lnTo>
                        <a:pt x="864" y="866"/>
                      </a:lnTo>
                      <a:lnTo>
                        <a:pt x="864" y="866"/>
                      </a:lnTo>
                      <a:close/>
                      <a:moveTo>
                        <a:pt x="1263" y="531"/>
                      </a:moveTo>
                      <a:lnTo>
                        <a:pt x="1263" y="531"/>
                      </a:lnTo>
                      <a:lnTo>
                        <a:pt x="1240" y="547"/>
                      </a:lnTo>
                      <a:lnTo>
                        <a:pt x="1231" y="554"/>
                      </a:lnTo>
                      <a:lnTo>
                        <a:pt x="1225" y="562"/>
                      </a:lnTo>
                      <a:lnTo>
                        <a:pt x="1220" y="572"/>
                      </a:lnTo>
                      <a:lnTo>
                        <a:pt x="1216" y="582"/>
                      </a:lnTo>
                      <a:lnTo>
                        <a:pt x="1216" y="597"/>
                      </a:lnTo>
                      <a:lnTo>
                        <a:pt x="1216" y="613"/>
                      </a:lnTo>
                      <a:lnTo>
                        <a:pt x="1216" y="613"/>
                      </a:lnTo>
                      <a:lnTo>
                        <a:pt x="1286" y="564"/>
                      </a:lnTo>
                      <a:lnTo>
                        <a:pt x="1357" y="516"/>
                      </a:lnTo>
                      <a:lnTo>
                        <a:pt x="1357" y="516"/>
                      </a:lnTo>
                      <a:lnTo>
                        <a:pt x="1340" y="509"/>
                      </a:lnTo>
                      <a:lnTo>
                        <a:pt x="1327" y="506"/>
                      </a:lnTo>
                      <a:lnTo>
                        <a:pt x="1315" y="505"/>
                      </a:lnTo>
                      <a:lnTo>
                        <a:pt x="1305" y="506"/>
                      </a:lnTo>
                      <a:lnTo>
                        <a:pt x="1296" y="509"/>
                      </a:lnTo>
                      <a:lnTo>
                        <a:pt x="1286" y="514"/>
                      </a:lnTo>
                      <a:lnTo>
                        <a:pt x="1263" y="531"/>
                      </a:lnTo>
                      <a:lnTo>
                        <a:pt x="1263" y="531"/>
                      </a:lnTo>
                      <a:close/>
                      <a:moveTo>
                        <a:pt x="5609" y="1655"/>
                      </a:moveTo>
                      <a:lnTo>
                        <a:pt x="5609" y="1655"/>
                      </a:lnTo>
                      <a:lnTo>
                        <a:pt x="5645" y="1730"/>
                      </a:lnTo>
                      <a:lnTo>
                        <a:pt x="5680" y="1805"/>
                      </a:lnTo>
                      <a:lnTo>
                        <a:pt x="5680" y="1805"/>
                      </a:lnTo>
                      <a:lnTo>
                        <a:pt x="5688" y="1792"/>
                      </a:lnTo>
                      <a:lnTo>
                        <a:pt x="5693" y="1781"/>
                      </a:lnTo>
                      <a:lnTo>
                        <a:pt x="5696" y="1769"/>
                      </a:lnTo>
                      <a:lnTo>
                        <a:pt x="5696" y="1759"/>
                      </a:lnTo>
                      <a:lnTo>
                        <a:pt x="5694" y="1749"/>
                      </a:lnTo>
                      <a:lnTo>
                        <a:pt x="5691" y="1739"/>
                      </a:lnTo>
                      <a:lnTo>
                        <a:pt x="5680" y="1715"/>
                      </a:lnTo>
                      <a:lnTo>
                        <a:pt x="5680" y="1715"/>
                      </a:lnTo>
                      <a:lnTo>
                        <a:pt x="5668" y="1690"/>
                      </a:lnTo>
                      <a:lnTo>
                        <a:pt x="5661" y="1680"/>
                      </a:lnTo>
                      <a:lnTo>
                        <a:pt x="5655" y="1672"/>
                      </a:lnTo>
                      <a:lnTo>
                        <a:pt x="5648" y="1665"/>
                      </a:lnTo>
                      <a:lnTo>
                        <a:pt x="5638" y="1660"/>
                      </a:lnTo>
                      <a:lnTo>
                        <a:pt x="5625" y="1657"/>
                      </a:lnTo>
                      <a:lnTo>
                        <a:pt x="5609" y="1655"/>
                      </a:lnTo>
                      <a:lnTo>
                        <a:pt x="5609" y="1655"/>
                      </a:lnTo>
                      <a:close/>
                      <a:moveTo>
                        <a:pt x="3747" y="5858"/>
                      </a:moveTo>
                      <a:lnTo>
                        <a:pt x="3747" y="5858"/>
                      </a:lnTo>
                      <a:lnTo>
                        <a:pt x="3772" y="5851"/>
                      </a:lnTo>
                      <a:lnTo>
                        <a:pt x="3784" y="5848"/>
                      </a:lnTo>
                      <a:lnTo>
                        <a:pt x="3792" y="5843"/>
                      </a:lnTo>
                      <a:lnTo>
                        <a:pt x="3800" y="5837"/>
                      </a:lnTo>
                      <a:lnTo>
                        <a:pt x="3807" y="5828"/>
                      </a:lnTo>
                      <a:lnTo>
                        <a:pt x="3812" y="5817"/>
                      </a:lnTo>
                      <a:lnTo>
                        <a:pt x="3817" y="5804"/>
                      </a:lnTo>
                      <a:lnTo>
                        <a:pt x="3817" y="5804"/>
                      </a:lnTo>
                      <a:lnTo>
                        <a:pt x="3737" y="5825"/>
                      </a:lnTo>
                      <a:lnTo>
                        <a:pt x="3660" y="5845"/>
                      </a:lnTo>
                      <a:lnTo>
                        <a:pt x="3660" y="5845"/>
                      </a:lnTo>
                      <a:lnTo>
                        <a:pt x="3671" y="5855"/>
                      </a:lnTo>
                      <a:lnTo>
                        <a:pt x="3681" y="5861"/>
                      </a:lnTo>
                      <a:lnTo>
                        <a:pt x="3691" y="5866"/>
                      </a:lnTo>
                      <a:lnTo>
                        <a:pt x="3701" y="5868"/>
                      </a:lnTo>
                      <a:lnTo>
                        <a:pt x="3711" y="5868"/>
                      </a:lnTo>
                      <a:lnTo>
                        <a:pt x="3721" y="5865"/>
                      </a:lnTo>
                      <a:lnTo>
                        <a:pt x="3747" y="5858"/>
                      </a:lnTo>
                      <a:lnTo>
                        <a:pt x="3747" y="5858"/>
                      </a:lnTo>
                      <a:close/>
                      <a:moveTo>
                        <a:pt x="5858" y="3748"/>
                      </a:moveTo>
                      <a:lnTo>
                        <a:pt x="5858" y="3748"/>
                      </a:lnTo>
                      <a:lnTo>
                        <a:pt x="5864" y="3721"/>
                      </a:lnTo>
                      <a:lnTo>
                        <a:pt x="5866" y="3711"/>
                      </a:lnTo>
                      <a:lnTo>
                        <a:pt x="5866" y="3701"/>
                      </a:lnTo>
                      <a:lnTo>
                        <a:pt x="5864" y="3692"/>
                      </a:lnTo>
                      <a:lnTo>
                        <a:pt x="5861" y="3682"/>
                      </a:lnTo>
                      <a:lnTo>
                        <a:pt x="5853" y="3670"/>
                      </a:lnTo>
                      <a:lnTo>
                        <a:pt x="5843" y="3659"/>
                      </a:lnTo>
                      <a:lnTo>
                        <a:pt x="5843" y="3659"/>
                      </a:lnTo>
                      <a:lnTo>
                        <a:pt x="5823" y="3741"/>
                      </a:lnTo>
                      <a:lnTo>
                        <a:pt x="5823" y="3741"/>
                      </a:lnTo>
                      <a:lnTo>
                        <a:pt x="5800" y="3817"/>
                      </a:lnTo>
                      <a:lnTo>
                        <a:pt x="5800" y="3817"/>
                      </a:lnTo>
                      <a:lnTo>
                        <a:pt x="5815" y="3814"/>
                      </a:lnTo>
                      <a:lnTo>
                        <a:pt x="5826" y="3807"/>
                      </a:lnTo>
                      <a:lnTo>
                        <a:pt x="5835" y="3800"/>
                      </a:lnTo>
                      <a:lnTo>
                        <a:pt x="5841" y="3794"/>
                      </a:lnTo>
                      <a:lnTo>
                        <a:pt x="5846" y="3784"/>
                      </a:lnTo>
                      <a:lnTo>
                        <a:pt x="5851" y="3774"/>
                      </a:lnTo>
                      <a:lnTo>
                        <a:pt x="5858" y="3748"/>
                      </a:lnTo>
                      <a:lnTo>
                        <a:pt x="5858" y="3748"/>
                      </a:lnTo>
                      <a:close/>
                      <a:moveTo>
                        <a:pt x="3747" y="92"/>
                      </a:moveTo>
                      <a:lnTo>
                        <a:pt x="3747" y="92"/>
                      </a:lnTo>
                      <a:lnTo>
                        <a:pt x="3721" y="86"/>
                      </a:lnTo>
                      <a:lnTo>
                        <a:pt x="3709" y="84"/>
                      </a:lnTo>
                      <a:lnTo>
                        <a:pt x="3698" y="84"/>
                      </a:lnTo>
                      <a:lnTo>
                        <a:pt x="3688" y="86"/>
                      </a:lnTo>
                      <a:lnTo>
                        <a:pt x="3678" y="91"/>
                      </a:lnTo>
                      <a:lnTo>
                        <a:pt x="3666" y="99"/>
                      </a:lnTo>
                      <a:lnTo>
                        <a:pt x="3655" y="110"/>
                      </a:lnTo>
                      <a:lnTo>
                        <a:pt x="3655" y="110"/>
                      </a:lnTo>
                      <a:lnTo>
                        <a:pt x="3739" y="132"/>
                      </a:lnTo>
                      <a:lnTo>
                        <a:pt x="3739" y="132"/>
                      </a:lnTo>
                      <a:lnTo>
                        <a:pt x="3818" y="153"/>
                      </a:lnTo>
                      <a:lnTo>
                        <a:pt x="3818" y="153"/>
                      </a:lnTo>
                      <a:lnTo>
                        <a:pt x="3813" y="138"/>
                      </a:lnTo>
                      <a:lnTo>
                        <a:pt x="3807" y="125"/>
                      </a:lnTo>
                      <a:lnTo>
                        <a:pt x="3802" y="115"/>
                      </a:lnTo>
                      <a:lnTo>
                        <a:pt x="3793" y="109"/>
                      </a:lnTo>
                      <a:lnTo>
                        <a:pt x="3784" y="104"/>
                      </a:lnTo>
                      <a:lnTo>
                        <a:pt x="3774" y="101"/>
                      </a:lnTo>
                      <a:lnTo>
                        <a:pt x="3747" y="92"/>
                      </a:lnTo>
                      <a:lnTo>
                        <a:pt x="3747" y="92"/>
                      </a:lnTo>
                      <a:close/>
                      <a:moveTo>
                        <a:pt x="2133" y="5802"/>
                      </a:moveTo>
                      <a:lnTo>
                        <a:pt x="2133" y="5802"/>
                      </a:lnTo>
                      <a:lnTo>
                        <a:pt x="2136" y="5817"/>
                      </a:lnTo>
                      <a:lnTo>
                        <a:pt x="2143" y="5828"/>
                      </a:lnTo>
                      <a:lnTo>
                        <a:pt x="2150" y="5837"/>
                      </a:lnTo>
                      <a:lnTo>
                        <a:pt x="2156" y="5843"/>
                      </a:lnTo>
                      <a:lnTo>
                        <a:pt x="2166" y="5848"/>
                      </a:lnTo>
                      <a:lnTo>
                        <a:pt x="2176" y="5851"/>
                      </a:lnTo>
                      <a:lnTo>
                        <a:pt x="2202" y="5858"/>
                      </a:lnTo>
                      <a:lnTo>
                        <a:pt x="2202" y="5858"/>
                      </a:lnTo>
                      <a:lnTo>
                        <a:pt x="2229" y="5865"/>
                      </a:lnTo>
                      <a:lnTo>
                        <a:pt x="2239" y="5868"/>
                      </a:lnTo>
                      <a:lnTo>
                        <a:pt x="2249" y="5868"/>
                      </a:lnTo>
                      <a:lnTo>
                        <a:pt x="2258" y="5866"/>
                      </a:lnTo>
                      <a:lnTo>
                        <a:pt x="2268" y="5861"/>
                      </a:lnTo>
                      <a:lnTo>
                        <a:pt x="2280" y="5855"/>
                      </a:lnTo>
                      <a:lnTo>
                        <a:pt x="2291" y="5845"/>
                      </a:lnTo>
                      <a:lnTo>
                        <a:pt x="2291" y="5845"/>
                      </a:lnTo>
                      <a:lnTo>
                        <a:pt x="2214" y="5825"/>
                      </a:lnTo>
                      <a:lnTo>
                        <a:pt x="2214" y="5825"/>
                      </a:lnTo>
                      <a:lnTo>
                        <a:pt x="2133" y="5802"/>
                      </a:lnTo>
                      <a:lnTo>
                        <a:pt x="2133" y="5802"/>
                      </a:lnTo>
                      <a:close/>
                      <a:moveTo>
                        <a:pt x="130" y="2216"/>
                      </a:moveTo>
                      <a:lnTo>
                        <a:pt x="130" y="2216"/>
                      </a:lnTo>
                      <a:lnTo>
                        <a:pt x="153" y="2132"/>
                      </a:lnTo>
                      <a:lnTo>
                        <a:pt x="153" y="2132"/>
                      </a:lnTo>
                      <a:lnTo>
                        <a:pt x="136" y="2137"/>
                      </a:lnTo>
                      <a:lnTo>
                        <a:pt x="125" y="2143"/>
                      </a:lnTo>
                      <a:lnTo>
                        <a:pt x="115" y="2148"/>
                      </a:lnTo>
                      <a:lnTo>
                        <a:pt x="108" y="2157"/>
                      </a:lnTo>
                      <a:lnTo>
                        <a:pt x="104" y="2166"/>
                      </a:lnTo>
                      <a:lnTo>
                        <a:pt x="99" y="2176"/>
                      </a:lnTo>
                      <a:lnTo>
                        <a:pt x="92" y="2203"/>
                      </a:lnTo>
                      <a:lnTo>
                        <a:pt x="92" y="2203"/>
                      </a:lnTo>
                      <a:lnTo>
                        <a:pt x="84" y="2229"/>
                      </a:lnTo>
                      <a:lnTo>
                        <a:pt x="82" y="2241"/>
                      </a:lnTo>
                      <a:lnTo>
                        <a:pt x="82" y="2252"/>
                      </a:lnTo>
                      <a:lnTo>
                        <a:pt x="85" y="2262"/>
                      </a:lnTo>
                      <a:lnTo>
                        <a:pt x="90" y="2272"/>
                      </a:lnTo>
                      <a:lnTo>
                        <a:pt x="99" y="2284"/>
                      </a:lnTo>
                      <a:lnTo>
                        <a:pt x="110" y="2295"/>
                      </a:lnTo>
                      <a:lnTo>
                        <a:pt x="110" y="2295"/>
                      </a:lnTo>
                      <a:lnTo>
                        <a:pt x="130" y="2216"/>
                      </a:lnTo>
                      <a:lnTo>
                        <a:pt x="130" y="2216"/>
                      </a:lnTo>
                      <a:close/>
                      <a:moveTo>
                        <a:pt x="4600" y="5438"/>
                      </a:moveTo>
                      <a:lnTo>
                        <a:pt x="4600" y="5438"/>
                      </a:lnTo>
                      <a:lnTo>
                        <a:pt x="4613" y="5443"/>
                      </a:lnTo>
                      <a:lnTo>
                        <a:pt x="4624" y="5446"/>
                      </a:lnTo>
                      <a:lnTo>
                        <a:pt x="4636" y="5446"/>
                      </a:lnTo>
                      <a:lnTo>
                        <a:pt x="4646" y="5444"/>
                      </a:lnTo>
                      <a:lnTo>
                        <a:pt x="4656" y="5441"/>
                      </a:lnTo>
                      <a:lnTo>
                        <a:pt x="4664" y="5436"/>
                      </a:lnTo>
                      <a:lnTo>
                        <a:pt x="4687" y="5421"/>
                      </a:lnTo>
                      <a:lnTo>
                        <a:pt x="4687" y="5421"/>
                      </a:lnTo>
                      <a:lnTo>
                        <a:pt x="4708" y="5405"/>
                      </a:lnTo>
                      <a:lnTo>
                        <a:pt x="4717" y="5398"/>
                      </a:lnTo>
                      <a:lnTo>
                        <a:pt x="4723" y="5390"/>
                      </a:lnTo>
                      <a:lnTo>
                        <a:pt x="4728" y="5382"/>
                      </a:lnTo>
                      <a:lnTo>
                        <a:pt x="4732" y="5372"/>
                      </a:lnTo>
                      <a:lnTo>
                        <a:pt x="4733" y="5358"/>
                      </a:lnTo>
                      <a:lnTo>
                        <a:pt x="4733" y="5344"/>
                      </a:lnTo>
                      <a:lnTo>
                        <a:pt x="4733" y="5344"/>
                      </a:lnTo>
                      <a:lnTo>
                        <a:pt x="4666" y="5391"/>
                      </a:lnTo>
                      <a:lnTo>
                        <a:pt x="4600" y="5438"/>
                      </a:lnTo>
                      <a:lnTo>
                        <a:pt x="4600" y="5438"/>
                      </a:lnTo>
                      <a:close/>
                      <a:moveTo>
                        <a:pt x="270" y="4237"/>
                      </a:moveTo>
                      <a:lnTo>
                        <a:pt x="270" y="4237"/>
                      </a:lnTo>
                      <a:lnTo>
                        <a:pt x="282" y="4262"/>
                      </a:lnTo>
                      <a:lnTo>
                        <a:pt x="287" y="4272"/>
                      </a:lnTo>
                      <a:lnTo>
                        <a:pt x="293" y="4279"/>
                      </a:lnTo>
                      <a:lnTo>
                        <a:pt x="301" y="4285"/>
                      </a:lnTo>
                      <a:lnTo>
                        <a:pt x="311" y="4290"/>
                      </a:lnTo>
                      <a:lnTo>
                        <a:pt x="324" y="4293"/>
                      </a:lnTo>
                      <a:lnTo>
                        <a:pt x="341" y="4295"/>
                      </a:lnTo>
                      <a:lnTo>
                        <a:pt x="341" y="4295"/>
                      </a:lnTo>
                      <a:lnTo>
                        <a:pt x="305" y="4221"/>
                      </a:lnTo>
                      <a:lnTo>
                        <a:pt x="270" y="4145"/>
                      </a:lnTo>
                      <a:lnTo>
                        <a:pt x="270" y="4145"/>
                      </a:lnTo>
                      <a:lnTo>
                        <a:pt x="262" y="4158"/>
                      </a:lnTo>
                      <a:lnTo>
                        <a:pt x="255" y="4170"/>
                      </a:lnTo>
                      <a:lnTo>
                        <a:pt x="254" y="4181"/>
                      </a:lnTo>
                      <a:lnTo>
                        <a:pt x="252" y="4191"/>
                      </a:lnTo>
                      <a:lnTo>
                        <a:pt x="254" y="4201"/>
                      </a:lnTo>
                      <a:lnTo>
                        <a:pt x="259" y="4213"/>
                      </a:lnTo>
                      <a:lnTo>
                        <a:pt x="270" y="4237"/>
                      </a:lnTo>
                      <a:lnTo>
                        <a:pt x="270" y="4237"/>
                      </a:lnTo>
                      <a:close/>
                      <a:moveTo>
                        <a:pt x="92" y="3748"/>
                      </a:moveTo>
                      <a:lnTo>
                        <a:pt x="92" y="3748"/>
                      </a:lnTo>
                      <a:lnTo>
                        <a:pt x="99" y="3774"/>
                      </a:lnTo>
                      <a:lnTo>
                        <a:pt x="104" y="3786"/>
                      </a:lnTo>
                      <a:lnTo>
                        <a:pt x="108" y="3794"/>
                      </a:lnTo>
                      <a:lnTo>
                        <a:pt x="115" y="3802"/>
                      </a:lnTo>
                      <a:lnTo>
                        <a:pt x="123" y="3809"/>
                      </a:lnTo>
                      <a:lnTo>
                        <a:pt x="135" y="3814"/>
                      </a:lnTo>
                      <a:lnTo>
                        <a:pt x="151" y="3819"/>
                      </a:lnTo>
                      <a:lnTo>
                        <a:pt x="151" y="3819"/>
                      </a:lnTo>
                      <a:lnTo>
                        <a:pt x="128" y="3738"/>
                      </a:lnTo>
                      <a:lnTo>
                        <a:pt x="108" y="3657"/>
                      </a:lnTo>
                      <a:lnTo>
                        <a:pt x="108" y="3657"/>
                      </a:lnTo>
                      <a:lnTo>
                        <a:pt x="97" y="3670"/>
                      </a:lnTo>
                      <a:lnTo>
                        <a:pt x="89" y="3680"/>
                      </a:lnTo>
                      <a:lnTo>
                        <a:pt x="85" y="3690"/>
                      </a:lnTo>
                      <a:lnTo>
                        <a:pt x="82" y="3700"/>
                      </a:lnTo>
                      <a:lnTo>
                        <a:pt x="82" y="3710"/>
                      </a:lnTo>
                      <a:lnTo>
                        <a:pt x="84" y="3721"/>
                      </a:lnTo>
                      <a:lnTo>
                        <a:pt x="92" y="3748"/>
                      </a:lnTo>
                      <a:lnTo>
                        <a:pt x="92" y="3748"/>
                      </a:lnTo>
                      <a:close/>
                      <a:moveTo>
                        <a:pt x="864" y="5086"/>
                      </a:moveTo>
                      <a:lnTo>
                        <a:pt x="864" y="5086"/>
                      </a:lnTo>
                      <a:lnTo>
                        <a:pt x="883" y="5105"/>
                      </a:lnTo>
                      <a:lnTo>
                        <a:pt x="892" y="5113"/>
                      </a:lnTo>
                      <a:lnTo>
                        <a:pt x="900" y="5118"/>
                      </a:lnTo>
                      <a:lnTo>
                        <a:pt x="910" y="5121"/>
                      </a:lnTo>
                      <a:lnTo>
                        <a:pt x="921" y="5121"/>
                      </a:lnTo>
                      <a:lnTo>
                        <a:pt x="933" y="5121"/>
                      </a:lnTo>
                      <a:lnTo>
                        <a:pt x="949" y="5118"/>
                      </a:lnTo>
                      <a:lnTo>
                        <a:pt x="949" y="5118"/>
                      </a:lnTo>
                      <a:lnTo>
                        <a:pt x="890" y="5060"/>
                      </a:lnTo>
                      <a:lnTo>
                        <a:pt x="832" y="5001"/>
                      </a:lnTo>
                      <a:lnTo>
                        <a:pt x="832" y="5001"/>
                      </a:lnTo>
                      <a:lnTo>
                        <a:pt x="829" y="5016"/>
                      </a:lnTo>
                      <a:lnTo>
                        <a:pt x="829" y="5029"/>
                      </a:lnTo>
                      <a:lnTo>
                        <a:pt x="829" y="5040"/>
                      </a:lnTo>
                      <a:lnTo>
                        <a:pt x="832" y="5050"/>
                      </a:lnTo>
                      <a:lnTo>
                        <a:pt x="837" y="5058"/>
                      </a:lnTo>
                      <a:lnTo>
                        <a:pt x="845" y="5067"/>
                      </a:lnTo>
                      <a:lnTo>
                        <a:pt x="864" y="5086"/>
                      </a:lnTo>
                      <a:lnTo>
                        <a:pt x="864" y="5086"/>
                      </a:lnTo>
                      <a:close/>
                      <a:moveTo>
                        <a:pt x="1263" y="5421"/>
                      </a:moveTo>
                      <a:lnTo>
                        <a:pt x="1263" y="5421"/>
                      </a:lnTo>
                      <a:lnTo>
                        <a:pt x="1284" y="5436"/>
                      </a:lnTo>
                      <a:lnTo>
                        <a:pt x="1294" y="5441"/>
                      </a:lnTo>
                      <a:lnTo>
                        <a:pt x="1304" y="5444"/>
                      </a:lnTo>
                      <a:lnTo>
                        <a:pt x="1314" y="5446"/>
                      </a:lnTo>
                      <a:lnTo>
                        <a:pt x="1324" y="5446"/>
                      </a:lnTo>
                      <a:lnTo>
                        <a:pt x="1337" y="5443"/>
                      </a:lnTo>
                      <a:lnTo>
                        <a:pt x="1352" y="5438"/>
                      </a:lnTo>
                      <a:lnTo>
                        <a:pt x="1352" y="5438"/>
                      </a:lnTo>
                      <a:lnTo>
                        <a:pt x="1282" y="5391"/>
                      </a:lnTo>
                      <a:lnTo>
                        <a:pt x="1216" y="5344"/>
                      </a:lnTo>
                      <a:lnTo>
                        <a:pt x="1216" y="5344"/>
                      </a:lnTo>
                      <a:lnTo>
                        <a:pt x="1216" y="5358"/>
                      </a:lnTo>
                      <a:lnTo>
                        <a:pt x="1218" y="5372"/>
                      </a:lnTo>
                      <a:lnTo>
                        <a:pt x="1221" y="5382"/>
                      </a:lnTo>
                      <a:lnTo>
                        <a:pt x="1226" y="5390"/>
                      </a:lnTo>
                      <a:lnTo>
                        <a:pt x="1233" y="5398"/>
                      </a:lnTo>
                      <a:lnTo>
                        <a:pt x="1241" y="5405"/>
                      </a:lnTo>
                      <a:lnTo>
                        <a:pt x="1263" y="5421"/>
                      </a:lnTo>
                      <a:lnTo>
                        <a:pt x="1263" y="5421"/>
                      </a:lnTo>
                      <a:close/>
                      <a:moveTo>
                        <a:pt x="1713" y="5680"/>
                      </a:moveTo>
                      <a:lnTo>
                        <a:pt x="1713" y="5680"/>
                      </a:lnTo>
                      <a:lnTo>
                        <a:pt x="1737" y="5691"/>
                      </a:lnTo>
                      <a:lnTo>
                        <a:pt x="1747" y="5695"/>
                      </a:lnTo>
                      <a:lnTo>
                        <a:pt x="1757" y="5698"/>
                      </a:lnTo>
                      <a:lnTo>
                        <a:pt x="1767" y="5698"/>
                      </a:lnTo>
                      <a:lnTo>
                        <a:pt x="1779" y="5695"/>
                      </a:lnTo>
                      <a:lnTo>
                        <a:pt x="1790" y="5690"/>
                      </a:lnTo>
                      <a:lnTo>
                        <a:pt x="1803" y="5682"/>
                      </a:lnTo>
                      <a:lnTo>
                        <a:pt x="1803" y="5682"/>
                      </a:lnTo>
                      <a:lnTo>
                        <a:pt x="1728" y="5649"/>
                      </a:lnTo>
                      <a:lnTo>
                        <a:pt x="1655" y="5612"/>
                      </a:lnTo>
                      <a:lnTo>
                        <a:pt x="1655" y="5612"/>
                      </a:lnTo>
                      <a:lnTo>
                        <a:pt x="1657" y="5627"/>
                      </a:lnTo>
                      <a:lnTo>
                        <a:pt x="1660" y="5640"/>
                      </a:lnTo>
                      <a:lnTo>
                        <a:pt x="1665" y="5650"/>
                      </a:lnTo>
                      <a:lnTo>
                        <a:pt x="1671" y="5657"/>
                      </a:lnTo>
                      <a:lnTo>
                        <a:pt x="1680" y="5663"/>
                      </a:lnTo>
                      <a:lnTo>
                        <a:pt x="1688" y="5668"/>
                      </a:lnTo>
                      <a:lnTo>
                        <a:pt x="1713" y="5680"/>
                      </a:lnTo>
                      <a:lnTo>
                        <a:pt x="1713" y="5680"/>
                      </a:lnTo>
                      <a:close/>
                      <a:moveTo>
                        <a:pt x="529" y="4687"/>
                      </a:moveTo>
                      <a:lnTo>
                        <a:pt x="529" y="4687"/>
                      </a:lnTo>
                      <a:lnTo>
                        <a:pt x="545" y="4710"/>
                      </a:lnTo>
                      <a:lnTo>
                        <a:pt x="552" y="4719"/>
                      </a:lnTo>
                      <a:lnTo>
                        <a:pt x="560" y="4725"/>
                      </a:lnTo>
                      <a:lnTo>
                        <a:pt x="568" y="4730"/>
                      </a:lnTo>
                      <a:lnTo>
                        <a:pt x="580" y="4732"/>
                      </a:lnTo>
                      <a:lnTo>
                        <a:pt x="593" y="4734"/>
                      </a:lnTo>
                      <a:lnTo>
                        <a:pt x="608" y="4734"/>
                      </a:lnTo>
                      <a:lnTo>
                        <a:pt x="608" y="4734"/>
                      </a:lnTo>
                      <a:lnTo>
                        <a:pt x="560" y="4666"/>
                      </a:lnTo>
                      <a:lnTo>
                        <a:pt x="514" y="4597"/>
                      </a:lnTo>
                      <a:lnTo>
                        <a:pt x="514" y="4597"/>
                      </a:lnTo>
                      <a:lnTo>
                        <a:pt x="507" y="4612"/>
                      </a:lnTo>
                      <a:lnTo>
                        <a:pt x="504" y="4625"/>
                      </a:lnTo>
                      <a:lnTo>
                        <a:pt x="504" y="4636"/>
                      </a:lnTo>
                      <a:lnTo>
                        <a:pt x="506" y="4646"/>
                      </a:lnTo>
                      <a:lnTo>
                        <a:pt x="509" y="4656"/>
                      </a:lnTo>
                      <a:lnTo>
                        <a:pt x="514" y="4664"/>
                      </a:lnTo>
                      <a:lnTo>
                        <a:pt x="529" y="4687"/>
                      </a:lnTo>
                      <a:lnTo>
                        <a:pt x="529" y="4687"/>
                      </a:lnTo>
                      <a:close/>
                      <a:moveTo>
                        <a:pt x="3235" y="5949"/>
                      </a:moveTo>
                      <a:lnTo>
                        <a:pt x="3235" y="5949"/>
                      </a:lnTo>
                      <a:lnTo>
                        <a:pt x="3261" y="5947"/>
                      </a:lnTo>
                      <a:lnTo>
                        <a:pt x="3272" y="5944"/>
                      </a:lnTo>
                      <a:lnTo>
                        <a:pt x="3281" y="5940"/>
                      </a:lnTo>
                      <a:lnTo>
                        <a:pt x="3291" y="5937"/>
                      </a:lnTo>
                      <a:lnTo>
                        <a:pt x="3297" y="5929"/>
                      </a:lnTo>
                      <a:lnTo>
                        <a:pt x="3305" y="5919"/>
                      </a:lnTo>
                      <a:lnTo>
                        <a:pt x="3312" y="5906"/>
                      </a:lnTo>
                      <a:lnTo>
                        <a:pt x="3312" y="5906"/>
                      </a:lnTo>
                      <a:lnTo>
                        <a:pt x="3231" y="5914"/>
                      </a:lnTo>
                      <a:lnTo>
                        <a:pt x="3150" y="5921"/>
                      </a:lnTo>
                      <a:lnTo>
                        <a:pt x="3150" y="5921"/>
                      </a:lnTo>
                      <a:lnTo>
                        <a:pt x="3160" y="5932"/>
                      </a:lnTo>
                      <a:lnTo>
                        <a:pt x="3169" y="5940"/>
                      </a:lnTo>
                      <a:lnTo>
                        <a:pt x="3178" y="5945"/>
                      </a:lnTo>
                      <a:lnTo>
                        <a:pt x="3187" y="5949"/>
                      </a:lnTo>
                      <a:lnTo>
                        <a:pt x="3197" y="5950"/>
                      </a:lnTo>
                      <a:lnTo>
                        <a:pt x="3208" y="5950"/>
                      </a:lnTo>
                      <a:lnTo>
                        <a:pt x="3235" y="5949"/>
                      </a:lnTo>
                      <a:lnTo>
                        <a:pt x="3235" y="5949"/>
                      </a:lnTo>
                      <a:close/>
                      <a:moveTo>
                        <a:pt x="3235" y="2"/>
                      </a:moveTo>
                      <a:lnTo>
                        <a:pt x="3235" y="2"/>
                      </a:lnTo>
                      <a:lnTo>
                        <a:pt x="3206" y="0"/>
                      </a:lnTo>
                      <a:lnTo>
                        <a:pt x="3197" y="0"/>
                      </a:lnTo>
                      <a:lnTo>
                        <a:pt x="3185" y="2"/>
                      </a:lnTo>
                      <a:lnTo>
                        <a:pt x="3177" y="7"/>
                      </a:lnTo>
                      <a:lnTo>
                        <a:pt x="3167" y="13"/>
                      </a:lnTo>
                      <a:lnTo>
                        <a:pt x="3157" y="21"/>
                      </a:lnTo>
                      <a:lnTo>
                        <a:pt x="3147" y="36"/>
                      </a:lnTo>
                      <a:lnTo>
                        <a:pt x="3147" y="36"/>
                      </a:lnTo>
                      <a:lnTo>
                        <a:pt x="3231" y="41"/>
                      </a:lnTo>
                      <a:lnTo>
                        <a:pt x="3315" y="51"/>
                      </a:lnTo>
                      <a:lnTo>
                        <a:pt x="3315" y="51"/>
                      </a:lnTo>
                      <a:lnTo>
                        <a:pt x="3307" y="36"/>
                      </a:lnTo>
                      <a:lnTo>
                        <a:pt x="3300" y="25"/>
                      </a:lnTo>
                      <a:lnTo>
                        <a:pt x="3292" y="16"/>
                      </a:lnTo>
                      <a:lnTo>
                        <a:pt x="3282" y="10"/>
                      </a:lnTo>
                      <a:lnTo>
                        <a:pt x="3274" y="7"/>
                      </a:lnTo>
                      <a:lnTo>
                        <a:pt x="3263" y="5"/>
                      </a:lnTo>
                      <a:lnTo>
                        <a:pt x="3235" y="2"/>
                      </a:lnTo>
                      <a:lnTo>
                        <a:pt x="3235" y="2"/>
                      </a:lnTo>
                      <a:close/>
                      <a:moveTo>
                        <a:pt x="4235" y="270"/>
                      </a:moveTo>
                      <a:lnTo>
                        <a:pt x="4235" y="270"/>
                      </a:lnTo>
                      <a:lnTo>
                        <a:pt x="4211" y="259"/>
                      </a:lnTo>
                      <a:lnTo>
                        <a:pt x="4201" y="256"/>
                      </a:lnTo>
                      <a:lnTo>
                        <a:pt x="4191" y="254"/>
                      </a:lnTo>
                      <a:lnTo>
                        <a:pt x="4179" y="254"/>
                      </a:lnTo>
                      <a:lnTo>
                        <a:pt x="4169" y="257"/>
                      </a:lnTo>
                      <a:lnTo>
                        <a:pt x="4156" y="262"/>
                      </a:lnTo>
                      <a:lnTo>
                        <a:pt x="4143" y="272"/>
                      </a:lnTo>
                      <a:lnTo>
                        <a:pt x="4143" y="272"/>
                      </a:lnTo>
                      <a:lnTo>
                        <a:pt x="4219" y="307"/>
                      </a:lnTo>
                      <a:lnTo>
                        <a:pt x="4295" y="343"/>
                      </a:lnTo>
                      <a:lnTo>
                        <a:pt x="4295" y="343"/>
                      </a:lnTo>
                      <a:lnTo>
                        <a:pt x="4293" y="326"/>
                      </a:lnTo>
                      <a:lnTo>
                        <a:pt x="4290" y="313"/>
                      </a:lnTo>
                      <a:lnTo>
                        <a:pt x="4285" y="303"/>
                      </a:lnTo>
                      <a:lnTo>
                        <a:pt x="4278" y="295"/>
                      </a:lnTo>
                      <a:lnTo>
                        <a:pt x="4270" y="289"/>
                      </a:lnTo>
                      <a:lnTo>
                        <a:pt x="4260" y="282"/>
                      </a:lnTo>
                      <a:lnTo>
                        <a:pt x="4235" y="270"/>
                      </a:lnTo>
                      <a:lnTo>
                        <a:pt x="4235" y="270"/>
                      </a:lnTo>
                      <a:close/>
                      <a:moveTo>
                        <a:pt x="2715" y="5949"/>
                      </a:moveTo>
                      <a:lnTo>
                        <a:pt x="2715" y="5949"/>
                      </a:lnTo>
                      <a:lnTo>
                        <a:pt x="2742" y="5950"/>
                      </a:lnTo>
                      <a:lnTo>
                        <a:pt x="2751" y="5950"/>
                      </a:lnTo>
                      <a:lnTo>
                        <a:pt x="2761" y="5949"/>
                      </a:lnTo>
                      <a:lnTo>
                        <a:pt x="2771" y="5945"/>
                      </a:lnTo>
                      <a:lnTo>
                        <a:pt x="2779" y="5940"/>
                      </a:lnTo>
                      <a:lnTo>
                        <a:pt x="2789" y="5932"/>
                      </a:lnTo>
                      <a:lnTo>
                        <a:pt x="2799" y="5921"/>
                      </a:lnTo>
                      <a:lnTo>
                        <a:pt x="2799" y="5921"/>
                      </a:lnTo>
                      <a:lnTo>
                        <a:pt x="2717" y="5914"/>
                      </a:lnTo>
                      <a:lnTo>
                        <a:pt x="2636" y="5906"/>
                      </a:lnTo>
                      <a:lnTo>
                        <a:pt x="2636" y="5906"/>
                      </a:lnTo>
                      <a:lnTo>
                        <a:pt x="2644" y="5919"/>
                      </a:lnTo>
                      <a:lnTo>
                        <a:pt x="2651" y="5929"/>
                      </a:lnTo>
                      <a:lnTo>
                        <a:pt x="2659" y="5936"/>
                      </a:lnTo>
                      <a:lnTo>
                        <a:pt x="2667" y="5940"/>
                      </a:lnTo>
                      <a:lnTo>
                        <a:pt x="2677" y="5944"/>
                      </a:lnTo>
                      <a:lnTo>
                        <a:pt x="2687" y="5947"/>
                      </a:lnTo>
                      <a:lnTo>
                        <a:pt x="2715" y="5949"/>
                      </a:lnTo>
                      <a:lnTo>
                        <a:pt x="2715" y="5949"/>
                      </a:lnTo>
                      <a:close/>
                    </a:path>
                  </a:pathLst>
                </a:custGeom>
                <a:gradFill rotWithShape="0">
                  <a:gsLst>
                    <a:gs pos="0">
                      <a:srgbClr val="74420d"/>
                    </a:gs>
                    <a:gs pos="100000">
                      <a:srgbClr val="f9db82"/>
                    </a:gs>
                  </a:gsLst>
                  <a:lin ang="13620000"/>
                </a:gradFill>
                <a:ln w="9525">
                  <a:noFill/>
                </a:ln>
              </p:spPr>
              <p:style>
                <a:lnRef idx="0"/>
                <a:fillRef idx="0"/>
                <a:effectRef idx="0"/>
                <a:fontRef idx="minor"/>
              </p:style>
              <p:txBody>
                <a:bodyPr numCol="1" spcCol="0" anchor="t">
                  <a:noAutofit/>
                </a:bodyPr>
                <a:p>
                  <a:pPr>
                    <a:lnSpc>
                      <a:spcPct val="85000"/>
                    </a:lnSpc>
                    <a:spcBef>
                      <a:spcPts val="360"/>
                    </a:spcBef>
                  </a:pPr>
                  <a:endParaRPr b="0" lang="en-US" sz="1800" spc="-1" strike="noStrike">
                    <a:solidFill>
                      <a:srgbClr val="000000"/>
                    </a:solidFill>
                    <a:latin typeface="Calibri"/>
                  </a:endParaRPr>
                </a:p>
              </p:txBody>
            </p:sp>
            <p:sp>
              <p:nvSpPr>
                <p:cNvPr id="626" name="Freeform 5"/>
                <p:cNvSpPr/>
                <p:nvPr/>
              </p:nvSpPr>
              <p:spPr>
                <a:xfrm>
                  <a:off x="1204560" y="2484720"/>
                  <a:ext cx="1189080" cy="1189440"/>
                </a:xfrm>
                <a:custGeom>
                  <a:avLst/>
                  <a:gdLst>
                    <a:gd name="textAreaLeft" fmla="*/ 0 w 1189080"/>
                    <a:gd name="textAreaRight" fmla="*/ 1189440 w 1189080"/>
                    <a:gd name="textAreaTop" fmla="*/ 0 h 1189440"/>
                    <a:gd name="textAreaBottom" fmla="*/ 1189800 h 1189440"/>
                  </a:gdLst>
                  <a:ahLst/>
                  <a:rect l="textAreaLeft" t="textAreaTop" r="textAreaRight" b="textAreaBottom"/>
                  <a:pathLst>
                    <a:path w="6142" h="6144">
                      <a:moveTo>
                        <a:pt x="6038" y="3867"/>
                      </a:moveTo>
                      <a:lnTo>
                        <a:pt x="6038" y="3867"/>
                      </a:lnTo>
                      <a:lnTo>
                        <a:pt x="6017" y="3944"/>
                      </a:lnTo>
                      <a:lnTo>
                        <a:pt x="5993" y="4018"/>
                      </a:lnTo>
                      <a:lnTo>
                        <a:pt x="5968" y="4093"/>
                      </a:lnTo>
                      <a:lnTo>
                        <a:pt x="5942" y="4165"/>
                      </a:lnTo>
                      <a:lnTo>
                        <a:pt x="5913" y="4238"/>
                      </a:lnTo>
                      <a:lnTo>
                        <a:pt x="5883" y="4308"/>
                      </a:lnTo>
                      <a:lnTo>
                        <a:pt x="5850" y="4379"/>
                      </a:lnTo>
                      <a:lnTo>
                        <a:pt x="5817" y="4448"/>
                      </a:lnTo>
                      <a:lnTo>
                        <a:pt x="5781" y="4516"/>
                      </a:lnTo>
                      <a:lnTo>
                        <a:pt x="5746" y="4583"/>
                      </a:lnTo>
                      <a:lnTo>
                        <a:pt x="5707" y="4648"/>
                      </a:lnTo>
                      <a:lnTo>
                        <a:pt x="5668" y="4712"/>
                      </a:lnTo>
                      <a:lnTo>
                        <a:pt x="5626" y="4777"/>
                      </a:lnTo>
                      <a:lnTo>
                        <a:pt x="5585" y="4838"/>
                      </a:lnTo>
                      <a:lnTo>
                        <a:pt x="5540" y="4899"/>
                      </a:lnTo>
                      <a:lnTo>
                        <a:pt x="5495" y="4960"/>
                      </a:lnTo>
                      <a:lnTo>
                        <a:pt x="5448" y="5016"/>
                      </a:lnTo>
                      <a:lnTo>
                        <a:pt x="5401" y="5075"/>
                      </a:lnTo>
                      <a:lnTo>
                        <a:pt x="5352" y="5130"/>
                      </a:lnTo>
                      <a:lnTo>
                        <a:pt x="5301" y="5185"/>
                      </a:lnTo>
                      <a:lnTo>
                        <a:pt x="5250" y="5238"/>
                      </a:lnTo>
                      <a:lnTo>
                        <a:pt x="5197" y="5289"/>
                      </a:lnTo>
                      <a:lnTo>
                        <a:pt x="5142" y="5340"/>
                      </a:lnTo>
                      <a:lnTo>
                        <a:pt x="5087" y="5389"/>
                      </a:lnTo>
                      <a:lnTo>
                        <a:pt x="5030" y="5438"/>
                      </a:lnTo>
                      <a:lnTo>
                        <a:pt x="4974" y="5483"/>
                      </a:lnTo>
                      <a:lnTo>
                        <a:pt x="4915" y="5528"/>
                      </a:lnTo>
                      <a:lnTo>
                        <a:pt x="4854" y="5571"/>
                      </a:lnTo>
                      <a:lnTo>
                        <a:pt x="4795" y="5615"/>
                      </a:lnTo>
                      <a:lnTo>
                        <a:pt x="4732" y="5656"/>
                      </a:lnTo>
                      <a:lnTo>
                        <a:pt x="4670" y="5693"/>
                      </a:lnTo>
                      <a:lnTo>
                        <a:pt x="4607" y="5732"/>
                      </a:lnTo>
                      <a:lnTo>
                        <a:pt x="4542" y="5767"/>
                      </a:lnTo>
                      <a:lnTo>
                        <a:pt x="4478" y="5803"/>
                      </a:lnTo>
                      <a:lnTo>
                        <a:pt x="4411" y="5834"/>
                      </a:lnTo>
                      <a:lnTo>
                        <a:pt x="4344" y="5866"/>
                      </a:lnTo>
                      <a:lnTo>
                        <a:pt x="4278" y="5897"/>
                      </a:lnTo>
                      <a:lnTo>
                        <a:pt x="4209" y="5924"/>
                      </a:lnTo>
                      <a:lnTo>
                        <a:pt x="4140" y="5952"/>
                      </a:lnTo>
                      <a:lnTo>
                        <a:pt x="4072" y="5975"/>
                      </a:lnTo>
                      <a:lnTo>
                        <a:pt x="4001" y="5999"/>
                      </a:lnTo>
                      <a:lnTo>
                        <a:pt x="3931" y="6020"/>
                      </a:lnTo>
                      <a:lnTo>
                        <a:pt x="3858" y="6040"/>
                      </a:lnTo>
                      <a:lnTo>
                        <a:pt x="3788" y="6060"/>
                      </a:lnTo>
                      <a:lnTo>
                        <a:pt x="3715" y="6075"/>
                      </a:lnTo>
                      <a:lnTo>
                        <a:pt x="3641" y="6091"/>
                      </a:lnTo>
                      <a:lnTo>
                        <a:pt x="3568" y="6103"/>
                      </a:lnTo>
                      <a:lnTo>
                        <a:pt x="3493" y="6115"/>
                      </a:lnTo>
                      <a:lnTo>
                        <a:pt x="3419" y="6124"/>
                      </a:lnTo>
                      <a:lnTo>
                        <a:pt x="3345" y="6132"/>
                      </a:lnTo>
                      <a:lnTo>
                        <a:pt x="3270" y="6138"/>
                      </a:lnTo>
                      <a:lnTo>
                        <a:pt x="3196" y="6142"/>
                      </a:lnTo>
                      <a:lnTo>
                        <a:pt x="3119" y="6144"/>
                      </a:lnTo>
                      <a:lnTo>
                        <a:pt x="3043" y="6144"/>
                      </a:lnTo>
                      <a:lnTo>
                        <a:pt x="2968" y="6142"/>
                      </a:lnTo>
                      <a:lnTo>
                        <a:pt x="2892" y="6138"/>
                      </a:lnTo>
                      <a:lnTo>
                        <a:pt x="2815" y="6132"/>
                      </a:lnTo>
                      <a:lnTo>
                        <a:pt x="2739" y="6124"/>
                      </a:lnTo>
                      <a:lnTo>
                        <a:pt x="2662" y="6117"/>
                      </a:lnTo>
                      <a:lnTo>
                        <a:pt x="2584" y="6105"/>
                      </a:lnTo>
                      <a:lnTo>
                        <a:pt x="2507" y="6091"/>
                      </a:lnTo>
                      <a:lnTo>
                        <a:pt x="2431" y="6075"/>
                      </a:lnTo>
                      <a:lnTo>
                        <a:pt x="2354" y="6058"/>
                      </a:lnTo>
                      <a:lnTo>
                        <a:pt x="2278" y="6038"/>
                      </a:lnTo>
                      <a:lnTo>
                        <a:pt x="2278" y="6038"/>
                      </a:lnTo>
                      <a:lnTo>
                        <a:pt x="2202" y="6017"/>
                      </a:lnTo>
                      <a:lnTo>
                        <a:pt x="2125" y="5993"/>
                      </a:lnTo>
                      <a:lnTo>
                        <a:pt x="2051" y="5968"/>
                      </a:lnTo>
                      <a:lnTo>
                        <a:pt x="1978" y="5942"/>
                      </a:lnTo>
                      <a:lnTo>
                        <a:pt x="1906" y="5913"/>
                      </a:lnTo>
                      <a:lnTo>
                        <a:pt x="1835" y="5883"/>
                      </a:lnTo>
                      <a:lnTo>
                        <a:pt x="1764" y="5852"/>
                      </a:lnTo>
                      <a:lnTo>
                        <a:pt x="1696" y="5818"/>
                      </a:lnTo>
                      <a:lnTo>
                        <a:pt x="1627" y="5783"/>
                      </a:lnTo>
                      <a:lnTo>
                        <a:pt x="1561" y="5746"/>
                      </a:lnTo>
                      <a:lnTo>
                        <a:pt x="1496" y="5709"/>
                      </a:lnTo>
                      <a:lnTo>
                        <a:pt x="1431" y="5669"/>
                      </a:lnTo>
                      <a:lnTo>
                        <a:pt x="1368" y="5628"/>
                      </a:lnTo>
                      <a:lnTo>
                        <a:pt x="1306" y="5585"/>
                      </a:lnTo>
                      <a:lnTo>
                        <a:pt x="1245" y="5542"/>
                      </a:lnTo>
                      <a:lnTo>
                        <a:pt x="1186" y="5495"/>
                      </a:lnTo>
                      <a:lnTo>
                        <a:pt x="1127" y="5450"/>
                      </a:lnTo>
                      <a:lnTo>
                        <a:pt x="1070" y="5401"/>
                      </a:lnTo>
                      <a:lnTo>
                        <a:pt x="1014" y="5352"/>
                      </a:lnTo>
                      <a:lnTo>
                        <a:pt x="959" y="5301"/>
                      </a:lnTo>
                      <a:lnTo>
                        <a:pt x="906" y="5250"/>
                      </a:lnTo>
                      <a:lnTo>
                        <a:pt x="855" y="5197"/>
                      </a:lnTo>
                      <a:lnTo>
                        <a:pt x="804" y="5142"/>
                      </a:lnTo>
                      <a:lnTo>
                        <a:pt x="755" y="5087"/>
                      </a:lnTo>
                      <a:lnTo>
                        <a:pt x="708" y="5030"/>
                      </a:lnTo>
                      <a:lnTo>
                        <a:pt x="661" y="4973"/>
                      </a:lnTo>
                      <a:lnTo>
                        <a:pt x="616" y="4914"/>
                      </a:lnTo>
                      <a:lnTo>
                        <a:pt x="572" y="4856"/>
                      </a:lnTo>
                      <a:lnTo>
                        <a:pt x="529" y="4795"/>
                      </a:lnTo>
                      <a:lnTo>
                        <a:pt x="490" y="4734"/>
                      </a:lnTo>
                      <a:lnTo>
                        <a:pt x="451" y="4671"/>
                      </a:lnTo>
                      <a:lnTo>
                        <a:pt x="414" y="4607"/>
                      </a:lnTo>
                      <a:lnTo>
                        <a:pt x="376" y="4544"/>
                      </a:lnTo>
                      <a:lnTo>
                        <a:pt x="343" y="4477"/>
                      </a:lnTo>
                      <a:lnTo>
                        <a:pt x="310" y="4412"/>
                      </a:lnTo>
                      <a:lnTo>
                        <a:pt x="278" y="4346"/>
                      </a:lnTo>
                      <a:lnTo>
                        <a:pt x="249" y="4277"/>
                      </a:lnTo>
                      <a:lnTo>
                        <a:pt x="220" y="4210"/>
                      </a:lnTo>
                      <a:lnTo>
                        <a:pt x="194" y="4140"/>
                      </a:lnTo>
                      <a:lnTo>
                        <a:pt x="169" y="4071"/>
                      </a:lnTo>
                      <a:lnTo>
                        <a:pt x="145" y="4001"/>
                      </a:lnTo>
                      <a:lnTo>
                        <a:pt x="124" y="3930"/>
                      </a:lnTo>
                      <a:lnTo>
                        <a:pt x="104" y="3859"/>
                      </a:lnTo>
                      <a:lnTo>
                        <a:pt x="86" y="3787"/>
                      </a:lnTo>
                      <a:lnTo>
                        <a:pt x="69" y="3714"/>
                      </a:lnTo>
                      <a:lnTo>
                        <a:pt x="55" y="3642"/>
                      </a:lnTo>
                      <a:lnTo>
                        <a:pt x="41" y="3567"/>
                      </a:lnTo>
                      <a:lnTo>
                        <a:pt x="29" y="3495"/>
                      </a:lnTo>
                      <a:lnTo>
                        <a:pt x="20" y="3420"/>
                      </a:lnTo>
                      <a:lnTo>
                        <a:pt x="14" y="3346"/>
                      </a:lnTo>
                      <a:lnTo>
                        <a:pt x="8" y="3269"/>
                      </a:lnTo>
                      <a:lnTo>
                        <a:pt x="4" y="3195"/>
                      </a:lnTo>
                      <a:lnTo>
                        <a:pt x="2" y="3118"/>
                      </a:lnTo>
                      <a:lnTo>
                        <a:pt x="0" y="3044"/>
                      </a:lnTo>
                      <a:lnTo>
                        <a:pt x="2" y="2967"/>
                      </a:lnTo>
                      <a:lnTo>
                        <a:pt x="6" y="2891"/>
                      </a:lnTo>
                      <a:lnTo>
                        <a:pt x="12" y="2814"/>
                      </a:lnTo>
                      <a:lnTo>
                        <a:pt x="20" y="2738"/>
                      </a:lnTo>
                      <a:lnTo>
                        <a:pt x="29" y="2661"/>
                      </a:lnTo>
                      <a:lnTo>
                        <a:pt x="41" y="2585"/>
                      </a:lnTo>
                      <a:lnTo>
                        <a:pt x="53" y="2508"/>
                      </a:lnTo>
                      <a:lnTo>
                        <a:pt x="69" y="2430"/>
                      </a:lnTo>
                      <a:lnTo>
                        <a:pt x="86" y="2353"/>
                      </a:lnTo>
                      <a:lnTo>
                        <a:pt x="106" y="2277"/>
                      </a:lnTo>
                      <a:lnTo>
                        <a:pt x="106" y="2277"/>
                      </a:lnTo>
                      <a:lnTo>
                        <a:pt x="127" y="2200"/>
                      </a:lnTo>
                      <a:lnTo>
                        <a:pt x="151" y="2126"/>
                      </a:lnTo>
                      <a:lnTo>
                        <a:pt x="176" y="2051"/>
                      </a:lnTo>
                      <a:lnTo>
                        <a:pt x="202" y="1977"/>
                      </a:lnTo>
                      <a:lnTo>
                        <a:pt x="231" y="1906"/>
                      </a:lnTo>
                      <a:lnTo>
                        <a:pt x="261" y="1834"/>
                      </a:lnTo>
                      <a:lnTo>
                        <a:pt x="294" y="1763"/>
                      </a:lnTo>
                      <a:lnTo>
                        <a:pt x="327" y="1694"/>
                      </a:lnTo>
                      <a:lnTo>
                        <a:pt x="361" y="1628"/>
                      </a:lnTo>
                      <a:lnTo>
                        <a:pt x="398" y="1561"/>
                      </a:lnTo>
                      <a:lnTo>
                        <a:pt x="437" y="1494"/>
                      </a:lnTo>
                      <a:lnTo>
                        <a:pt x="476" y="1430"/>
                      </a:lnTo>
                      <a:lnTo>
                        <a:pt x="518" y="1367"/>
                      </a:lnTo>
                      <a:lnTo>
                        <a:pt x="559" y="1304"/>
                      </a:lnTo>
                      <a:lnTo>
                        <a:pt x="604" y="1243"/>
                      </a:lnTo>
                      <a:lnTo>
                        <a:pt x="649" y="1184"/>
                      </a:lnTo>
                      <a:lnTo>
                        <a:pt x="696" y="1126"/>
                      </a:lnTo>
                      <a:lnTo>
                        <a:pt x="743" y="1069"/>
                      </a:lnTo>
                      <a:lnTo>
                        <a:pt x="792" y="1014"/>
                      </a:lnTo>
                      <a:lnTo>
                        <a:pt x="843" y="959"/>
                      </a:lnTo>
                      <a:lnTo>
                        <a:pt x="894" y="906"/>
                      </a:lnTo>
                      <a:lnTo>
                        <a:pt x="947" y="853"/>
                      </a:lnTo>
                      <a:lnTo>
                        <a:pt x="1002" y="802"/>
                      </a:lnTo>
                      <a:lnTo>
                        <a:pt x="1057" y="753"/>
                      </a:lnTo>
                      <a:lnTo>
                        <a:pt x="1114" y="706"/>
                      </a:lnTo>
                      <a:lnTo>
                        <a:pt x="1170" y="659"/>
                      </a:lnTo>
                      <a:lnTo>
                        <a:pt x="1229" y="614"/>
                      </a:lnTo>
                      <a:lnTo>
                        <a:pt x="1288" y="571"/>
                      </a:lnTo>
                      <a:lnTo>
                        <a:pt x="1349" y="529"/>
                      </a:lnTo>
                      <a:lnTo>
                        <a:pt x="1412" y="488"/>
                      </a:lnTo>
                      <a:lnTo>
                        <a:pt x="1474" y="449"/>
                      </a:lnTo>
                      <a:lnTo>
                        <a:pt x="1537" y="412"/>
                      </a:lnTo>
                      <a:lnTo>
                        <a:pt x="1602" y="377"/>
                      </a:lnTo>
                      <a:lnTo>
                        <a:pt x="1666" y="341"/>
                      </a:lnTo>
                      <a:lnTo>
                        <a:pt x="1731" y="308"/>
                      </a:lnTo>
                      <a:lnTo>
                        <a:pt x="1798" y="277"/>
                      </a:lnTo>
                      <a:lnTo>
                        <a:pt x="1866" y="247"/>
                      </a:lnTo>
                      <a:lnTo>
                        <a:pt x="1935" y="220"/>
                      </a:lnTo>
                      <a:lnTo>
                        <a:pt x="2004" y="192"/>
                      </a:lnTo>
                      <a:lnTo>
                        <a:pt x="2072" y="167"/>
                      </a:lnTo>
                      <a:lnTo>
                        <a:pt x="2143" y="143"/>
                      </a:lnTo>
                      <a:lnTo>
                        <a:pt x="2213" y="122"/>
                      </a:lnTo>
                      <a:lnTo>
                        <a:pt x="2286" y="102"/>
                      </a:lnTo>
                      <a:lnTo>
                        <a:pt x="2356" y="84"/>
                      </a:lnTo>
                      <a:lnTo>
                        <a:pt x="2429" y="67"/>
                      </a:lnTo>
                      <a:lnTo>
                        <a:pt x="2503" y="53"/>
                      </a:lnTo>
                      <a:lnTo>
                        <a:pt x="2576" y="39"/>
                      </a:lnTo>
                      <a:lnTo>
                        <a:pt x="2651" y="29"/>
                      </a:lnTo>
                      <a:lnTo>
                        <a:pt x="2725" y="20"/>
                      </a:lnTo>
                      <a:lnTo>
                        <a:pt x="2799" y="12"/>
                      </a:lnTo>
                      <a:lnTo>
                        <a:pt x="2874" y="6"/>
                      </a:lnTo>
                      <a:lnTo>
                        <a:pt x="2948" y="2"/>
                      </a:lnTo>
                      <a:lnTo>
                        <a:pt x="3025" y="0"/>
                      </a:lnTo>
                      <a:lnTo>
                        <a:pt x="3099" y="0"/>
                      </a:lnTo>
                      <a:lnTo>
                        <a:pt x="3176" y="2"/>
                      </a:lnTo>
                      <a:lnTo>
                        <a:pt x="3252" y="6"/>
                      </a:lnTo>
                      <a:lnTo>
                        <a:pt x="3329" y="10"/>
                      </a:lnTo>
                      <a:lnTo>
                        <a:pt x="3405" y="18"/>
                      </a:lnTo>
                      <a:lnTo>
                        <a:pt x="3482" y="27"/>
                      </a:lnTo>
                      <a:lnTo>
                        <a:pt x="3560" y="39"/>
                      </a:lnTo>
                      <a:lnTo>
                        <a:pt x="3637" y="53"/>
                      </a:lnTo>
                      <a:lnTo>
                        <a:pt x="3713" y="69"/>
                      </a:lnTo>
                      <a:lnTo>
                        <a:pt x="3790" y="86"/>
                      </a:lnTo>
                      <a:lnTo>
                        <a:pt x="3866" y="106"/>
                      </a:lnTo>
                      <a:lnTo>
                        <a:pt x="3866" y="106"/>
                      </a:lnTo>
                      <a:lnTo>
                        <a:pt x="3942" y="126"/>
                      </a:lnTo>
                      <a:lnTo>
                        <a:pt x="4019" y="149"/>
                      </a:lnTo>
                      <a:lnTo>
                        <a:pt x="4093" y="175"/>
                      </a:lnTo>
                      <a:lnTo>
                        <a:pt x="4166" y="202"/>
                      </a:lnTo>
                      <a:lnTo>
                        <a:pt x="4238" y="229"/>
                      </a:lnTo>
                      <a:lnTo>
                        <a:pt x="4309" y="261"/>
                      </a:lnTo>
                      <a:lnTo>
                        <a:pt x="4380" y="292"/>
                      </a:lnTo>
                      <a:lnTo>
                        <a:pt x="4448" y="326"/>
                      </a:lnTo>
                      <a:lnTo>
                        <a:pt x="4517" y="361"/>
                      </a:lnTo>
                      <a:lnTo>
                        <a:pt x="4583" y="396"/>
                      </a:lnTo>
                      <a:lnTo>
                        <a:pt x="4648" y="435"/>
                      </a:lnTo>
                      <a:lnTo>
                        <a:pt x="4713" y="475"/>
                      </a:lnTo>
                      <a:lnTo>
                        <a:pt x="4776" y="516"/>
                      </a:lnTo>
                      <a:lnTo>
                        <a:pt x="4838" y="559"/>
                      </a:lnTo>
                      <a:lnTo>
                        <a:pt x="4899" y="602"/>
                      </a:lnTo>
                      <a:lnTo>
                        <a:pt x="4958" y="647"/>
                      </a:lnTo>
                      <a:lnTo>
                        <a:pt x="5017" y="694"/>
                      </a:lnTo>
                      <a:lnTo>
                        <a:pt x="5074" y="741"/>
                      </a:lnTo>
                      <a:lnTo>
                        <a:pt x="5130" y="792"/>
                      </a:lnTo>
                      <a:lnTo>
                        <a:pt x="5183" y="841"/>
                      </a:lnTo>
                      <a:lnTo>
                        <a:pt x="5238" y="894"/>
                      </a:lnTo>
                      <a:lnTo>
                        <a:pt x="5289" y="947"/>
                      </a:lnTo>
                      <a:lnTo>
                        <a:pt x="5340" y="1000"/>
                      </a:lnTo>
                      <a:lnTo>
                        <a:pt x="5389" y="1055"/>
                      </a:lnTo>
                      <a:lnTo>
                        <a:pt x="5436" y="1112"/>
                      </a:lnTo>
                      <a:lnTo>
                        <a:pt x="5483" y="1171"/>
                      </a:lnTo>
                      <a:lnTo>
                        <a:pt x="5528" y="1228"/>
                      </a:lnTo>
                      <a:lnTo>
                        <a:pt x="5572" y="1288"/>
                      </a:lnTo>
                      <a:lnTo>
                        <a:pt x="5613" y="1349"/>
                      </a:lnTo>
                      <a:lnTo>
                        <a:pt x="5654" y="1410"/>
                      </a:lnTo>
                      <a:lnTo>
                        <a:pt x="5693" y="1473"/>
                      </a:lnTo>
                      <a:lnTo>
                        <a:pt x="5730" y="1536"/>
                      </a:lnTo>
                      <a:lnTo>
                        <a:pt x="5768" y="1600"/>
                      </a:lnTo>
                      <a:lnTo>
                        <a:pt x="5801" y="1665"/>
                      </a:lnTo>
                      <a:lnTo>
                        <a:pt x="5834" y="1732"/>
                      </a:lnTo>
                      <a:lnTo>
                        <a:pt x="5866" y="1798"/>
                      </a:lnTo>
                      <a:lnTo>
                        <a:pt x="5895" y="1865"/>
                      </a:lnTo>
                      <a:lnTo>
                        <a:pt x="5924" y="1934"/>
                      </a:lnTo>
                      <a:lnTo>
                        <a:pt x="5950" y="2002"/>
                      </a:lnTo>
                      <a:lnTo>
                        <a:pt x="5975" y="2073"/>
                      </a:lnTo>
                      <a:lnTo>
                        <a:pt x="5999" y="2141"/>
                      </a:lnTo>
                      <a:lnTo>
                        <a:pt x="6020" y="2214"/>
                      </a:lnTo>
                      <a:lnTo>
                        <a:pt x="6040" y="2285"/>
                      </a:lnTo>
                      <a:lnTo>
                        <a:pt x="6058" y="2357"/>
                      </a:lnTo>
                      <a:lnTo>
                        <a:pt x="6075" y="2430"/>
                      </a:lnTo>
                      <a:lnTo>
                        <a:pt x="6089" y="2502"/>
                      </a:lnTo>
                      <a:lnTo>
                        <a:pt x="6103" y="2575"/>
                      </a:lnTo>
                      <a:lnTo>
                        <a:pt x="6115" y="2649"/>
                      </a:lnTo>
                      <a:lnTo>
                        <a:pt x="6122" y="2724"/>
                      </a:lnTo>
                      <a:lnTo>
                        <a:pt x="6130" y="2798"/>
                      </a:lnTo>
                      <a:lnTo>
                        <a:pt x="6136" y="2873"/>
                      </a:lnTo>
                      <a:lnTo>
                        <a:pt x="6140" y="2949"/>
                      </a:lnTo>
                      <a:lnTo>
                        <a:pt x="6142" y="3024"/>
                      </a:lnTo>
                      <a:lnTo>
                        <a:pt x="6142" y="3100"/>
                      </a:lnTo>
                      <a:lnTo>
                        <a:pt x="6142" y="3177"/>
                      </a:lnTo>
                      <a:lnTo>
                        <a:pt x="6138" y="3253"/>
                      </a:lnTo>
                      <a:lnTo>
                        <a:pt x="6132" y="3330"/>
                      </a:lnTo>
                      <a:lnTo>
                        <a:pt x="6124" y="3406"/>
                      </a:lnTo>
                      <a:lnTo>
                        <a:pt x="6115" y="3483"/>
                      </a:lnTo>
                      <a:lnTo>
                        <a:pt x="6103" y="3559"/>
                      </a:lnTo>
                      <a:lnTo>
                        <a:pt x="6091" y="3636"/>
                      </a:lnTo>
                      <a:lnTo>
                        <a:pt x="6075" y="3712"/>
                      </a:lnTo>
                      <a:lnTo>
                        <a:pt x="6058" y="3789"/>
                      </a:lnTo>
                      <a:lnTo>
                        <a:pt x="6038" y="3867"/>
                      </a:lnTo>
                      <a:lnTo>
                        <a:pt x="6038" y="3867"/>
                      </a:lnTo>
                      <a:close/>
                      <a:moveTo>
                        <a:pt x="3848" y="171"/>
                      </a:moveTo>
                      <a:lnTo>
                        <a:pt x="3848" y="171"/>
                      </a:lnTo>
                      <a:lnTo>
                        <a:pt x="3774" y="151"/>
                      </a:lnTo>
                      <a:lnTo>
                        <a:pt x="3699" y="133"/>
                      </a:lnTo>
                      <a:lnTo>
                        <a:pt x="3623" y="120"/>
                      </a:lnTo>
                      <a:lnTo>
                        <a:pt x="3548" y="106"/>
                      </a:lnTo>
                      <a:lnTo>
                        <a:pt x="3474" y="94"/>
                      </a:lnTo>
                      <a:lnTo>
                        <a:pt x="3399" y="84"/>
                      </a:lnTo>
                      <a:lnTo>
                        <a:pt x="3323" y="78"/>
                      </a:lnTo>
                      <a:lnTo>
                        <a:pt x="3248" y="73"/>
                      </a:lnTo>
                      <a:lnTo>
                        <a:pt x="3174" y="69"/>
                      </a:lnTo>
                      <a:lnTo>
                        <a:pt x="3099" y="67"/>
                      </a:lnTo>
                      <a:lnTo>
                        <a:pt x="3025" y="67"/>
                      </a:lnTo>
                      <a:lnTo>
                        <a:pt x="2952" y="69"/>
                      </a:lnTo>
                      <a:lnTo>
                        <a:pt x="2878" y="73"/>
                      </a:lnTo>
                      <a:lnTo>
                        <a:pt x="2805" y="78"/>
                      </a:lnTo>
                      <a:lnTo>
                        <a:pt x="2731" y="86"/>
                      </a:lnTo>
                      <a:lnTo>
                        <a:pt x="2658" y="96"/>
                      </a:lnTo>
                      <a:lnTo>
                        <a:pt x="2588" y="106"/>
                      </a:lnTo>
                      <a:lnTo>
                        <a:pt x="2515" y="120"/>
                      </a:lnTo>
                      <a:lnTo>
                        <a:pt x="2443" y="133"/>
                      </a:lnTo>
                      <a:lnTo>
                        <a:pt x="2372" y="149"/>
                      </a:lnTo>
                      <a:lnTo>
                        <a:pt x="2302" y="167"/>
                      </a:lnTo>
                      <a:lnTo>
                        <a:pt x="2233" y="186"/>
                      </a:lnTo>
                      <a:lnTo>
                        <a:pt x="2164" y="208"/>
                      </a:lnTo>
                      <a:lnTo>
                        <a:pt x="2094" y="231"/>
                      </a:lnTo>
                      <a:lnTo>
                        <a:pt x="2027" y="255"/>
                      </a:lnTo>
                      <a:lnTo>
                        <a:pt x="1958" y="282"/>
                      </a:lnTo>
                      <a:lnTo>
                        <a:pt x="1892" y="310"/>
                      </a:lnTo>
                      <a:lnTo>
                        <a:pt x="1827" y="337"/>
                      </a:lnTo>
                      <a:lnTo>
                        <a:pt x="1762" y="369"/>
                      </a:lnTo>
                      <a:lnTo>
                        <a:pt x="1698" y="402"/>
                      </a:lnTo>
                      <a:lnTo>
                        <a:pt x="1633" y="435"/>
                      </a:lnTo>
                      <a:lnTo>
                        <a:pt x="1570" y="471"/>
                      </a:lnTo>
                      <a:lnTo>
                        <a:pt x="1510" y="508"/>
                      </a:lnTo>
                      <a:lnTo>
                        <a:pt x="1447" y="545"/>
                      </a:lnTo>
                      <a:lnTo>
                        <a:pt x="1388" y="584"/>
                      </a:lnTo>
                      <a:lnTo>
                        <a:pt x="1327" y="626"/>
                      </a:lnTo>
                      <a:lnTo>
                        <a:pt x="1270" y="669"/>
                      </a:lnTo>
                      <a:lnTo>
                        <a:pt x="1214" y="712"/>
                      </a:lnTo>
                      <a:lnTo>
                        <a:pt x="1157" y="759"/>
                      </a:lnTo>
                      <a:lnTo>
                        <a:pt x="1102" y="804"/>
                      </a:lnTo>
                      <a:lnTo>
                        <a:pt x="1047" y="853"/>
                      </a:lnTo>
                      <a:lnTo>
                        <a:pt x="994" y="902"/>
                      </a:lnTo>
                      <a:lnTo>
                        <a:pt x="943" y="953"/>
                      </a:lnTo>
                      <a:lnTo>
                        <a:pt x="892" y="1004"/>
                      </a:lnTo>
                      <a:lnTo>
                        <a:pt x="843" y="1059"/>
                      </a:lnTo>
                      <a:lnTo>
                        <a:pt x="794" y="1114"/>
                      </a:lnTo>
                      <a:lnTo>
                        <a:pt x="747" y="1169"/>
                      </a:lnTo>
                      <a:lnTo>
                        <a:pt x="702" y="1226"/>
                      </a:lnTo>
                      <a:lnTo>
                        <a:pt x="657" y="1284"/>
                      </a:lnTo>
                      <a:lnTo>
                        <a:pt x="616" y="1343"/>
                      </a:lnTo>
                      <a:lnTo>
                        <a:pt x="572" y="1404"/>
                      </a:lnTo>
                      <a:lnTo>
                        <a:pt x="533" y="1467"/>
                      </a:lnTo>
                      <a:lnTo>
                        <a:pt x="494" y="1530"/>
                      </a:lnTo>
                      <a:lnTo>
                        <a:pt x="457" y="1594"/>
                      </a:lnTo>
                      <a:lnTo>
                        <a:pt x="421" y="1659"/>
                      </a:lnTo>
                      <a:lnTo>
                        <a:pt x="386" y="1726"/>
                      </a:lnTo>
                      <a:lnTo>
                        <a:pt x="355" y="1792"/>
                      </a:lnTo>
                      <a:lnTo>
                        <a:pt x="323" y="1861"/>
                      </a:lnTo>
                      <a:lnTo>
                        <a:pt x="294" y="1932"/>
                      </a:lnTo>
                      <a:lnTo>
                        <a:pt x="267" y="2002"/>
                      </a:lnTo>
                      <a:lnTo>
                        <a:pt x="239" y="2073"/>
                      </a:lnTo>
                      <a:lnTo>
                        <a:pt x="216" y="2145"/>
                      </a:lnTo>
                      <a:lnTo>
                        <a:pt x="192" y="2220"/>
                      </a:lnTo>
                      <a:lnTo>
                        <a:pt x="171" y="2294"/>
                      </a:lnTo>
                      <a:lnTo>
                        <a:pt x="171" y="2294"/>
                      </a:lnTo>
                      <a:lnTo>
                        <a:pt x="153" y="2369"/>
                      </a:lnTo>
                      <a:lnTo>
                        <a:pt x="135" y="2445"/>
                      </a:lnTo>
                      <a:lnTo>
                        <a:pt x="120" y="2520"/>
                      </a:lnTo>
                      <a:lnTo>
                        <a:pt x="108" y="2594"/>
                      </a:lnTo>
                      <a:lnTo>
                        <a:pt x="96" y="2669"/>
                      </a:lnTo>
                      <a:lnTo>
                        <a:pt x="86" y="2745"/>
                      </a:lnTo>
                      <a:lnTo>
                        <a:pt x="78" y="2820"/>
                      </a:lnTo>
                      <a:lnTo>
                        <a:pt x="74" y="2895"/>
                      </a:lnTo>
                      <a:lnTo>
                        <a:pt x="71" y="2969"/>
                      </a:lnTo>
                      <a:lnTo>
                        <a:pt x="69" y="3044"/>
                      </a:lnTo>
                      <a:lnTo>
                        <a:pt x="69" y="3118"/>
                      </a:lnTo>
                      <a:lnTo>
                        <a:pt x="71" y="3193"/>
                      </a:lnTo>
                      <a:lnTo>
                        <a:pt x="74" y="3265"/>
                      </a:lnTo>
                      <a:lnTo>
                        <a:pt x="80" y="3340"/>
                      </a:lnTo>
                      <a:lnTo>
                        <a:pt x="88" y="3412"/>
                      </a:lnTo>
                      <a:lnTo>
                        <a:pt x="96" y="3485"/>
                      </a:lnTo>
                      <a:lnTo>
                        <a:pt x="108" y="3557"/>
                      </a:lnTo>
                      <a:lnTo>
                        <a:pt x="120" y="3628"/>
                      </a:lnTo>
                      <a:lnTo>
                        <a:pt x="135" y="3701"/>
                      </a:lnTo>
                      <a:lnTo>
                        <a:pt x="151" y="3771"/>
                      </a:lnTo>
                      <a:lnTo>
                        <a:pt x="169" y="3842"/>
                      </a:lnTo>
                      <a:lnTo>
                        <a:pt x="188" y="3910"/>
                      </a:lnTo>
                      <a:lnTo>
                        <a:pt x="210" y="3981"/>
                      </a:lnTo>
                      <a:lnTo>
                        <a:pt x="231" y="4050"/>
                      </a:lnTo>
                      <a:lnTo>
                        <a:pt x="257" y="4116"/>
                      </a:lnTo>
                      <a:lnTo>
                        <a:pt x="282" y="4185"/>
                      </a:lnTo>
                      <a:lnTo>
                        <a:pt x="310" y="4252"/>
                      </a:lnTo>
                      <a:lnTo>
                        <a:pt x="339" y="4316"/>
                      </a:lnTo>
                      <a:lnTo>
                        <a:pt x="371" y="4383"/>
                      </a:lnTo>
                      <a:lnTo>
                        <a:pt x="402" y="4448"/>
                      </a:lnTo>
                      <a:lnTo>
                        <a:pt x="435" y="4510"/>
                      </a:lnTo>
                      <a:lnTo>
                        <a:pt x="471" y="4573"/>
                      </a:lnTo>
                      <a:lnTo>
                        <a:pt x="508" y="4636"/>
                      </a:lnTo>
                      <a:lnTo>
                        <a:pt x="547" y="4697"/>
                      </a:lnTo>
                      <a:lnTo>
                        <a:pt x="586" y="4758"/>
                      </a:lnTo>
                      <a:lnTo>
                        <a:pt x="627" y="4816"/>
                      </a:lnTo>
                      <a:lnTo>
                        <a:pt x="670" y="4875"/>
                      </a:lnTo>
                      <a:lnTo>
                        <a:pt x="714" y="4932"/>
                      </a:lnTo>
                      <a:lnTo>
                        <a:pt x="759" y="4987"/>
                      </a:lnTo>
                      <a:lnTo>
                        <a:pt x="806" y="5042"/>
                      </a:lnTo>
                      <a:lnTo>
                        <a:pt x="855" y="5097"/>
                      </a:lnTo>
                      <a:lnTo>
                        <a:pt x="904" y="5150"/>
                      </a:lnTo>
                      <a:lnTo>
                        <a:pt x="955" y="5201"/>
                      </a:lnTo>
                      <a:lnTo>
                        <a:pt x="1006" y="5252"/>
                      </a:lnTo>
                      <a:lnTo>
                        <a:pt x="1059" y="5301"/>
                      </a:lnTo>
                      <a:lnTo>
                        <a:pt x="1114" y="5350"/>
                      </a:lnTo>
                      <a:lnTo>
                        <a:pt x="1170" y="5397"/>
                      </a:lnTo>
                      <a:lnTo>
                        <a:pt x="1227" y="5442"/>
                      </a:lnTo>
                      <a:lnTo>
                        <a:pt x="1286" y="5487"/>
                      </a:lnTo>
                      <a:lnTo>
                        <a:pt x="1345" y="5530"/>
                      </a:lnTo>
                      <a:lnTo>
                        <a:pt x="1406" y="5571"/>
                      </a:lnTo>
                      <a:lnTo>
                        <a:pt x="1466" y="5611"/>
                      </a:lnTo>
                      <a:lnTo>
                        <a:pt x="1531" y="5650"/>
                      </a:lnTo>
                      <a:lnTo>
                        <a:pt x="1594" y="5687"/>
                      </a:lnTo>
                      <a:lnTo>
                        <a:pt x="1660" y="5722"/>
                      </a:lnTo>
                      <a:lnTo>
                        <a:pt x="1725" y="5758"/>
                      </a:lnTo>
                      <a:lnTo>
                        <a:pt x="1794" y="5791"/>
                      </a:lnTo>
                      <a:lnTo>
                        <a:pt x="1862" y="5820"/>
                      </a:lnTo>
                      <a:lnTo>
                        <a:pt x="1931" y="5850"/>
                      </a:lnTo>
                      <a:lnTo>
                        <a:pt x="2002" y="5879"/>
                      </a:lnTo>
                      <a:lnTo>
                        <a:pt x="2074" y="5905"/>
                      </a:lnTo>
                      <a:lnTo>
                        <a:pt x="2147" y="5930"/>
                      </a:lnTo>
                      <a:lnTo>
                        <a:pt x="2219" y="5952"/>
                      </a:lnTo>
                      <a:lnTo>
                        <a:pt x="2296" y="5973"/>
                      </a:lnTo>
                      <a:lnTo>
                        <a:pt x="2296" y="5973"/>
                      </a:lnTo>
                      <a:lnTo>
                        <a:pt x="2370" y="5993"/>
                      </a:lnTo>
                      <a:lnTo>
                        <a:pt x="2445" y="6009"/>
                      </a:lnTo>
                      <a:lnTo>
                        <a:pt x="2521" y="6024"/>
                      </a:lnTo>
                      <a:lnTo>
                        <a:pt x="2596" y="6038"/>
                      </a:lnTo>
                      <a:lnTo>
                        <a:pt x="2670" y="6048"/>
                      </a:lnTo>
                      <a:lnTo>
                        <a:pt x="2745" y="6058"/>
                      </a:lnTo>
                      <a:lnTo>
                        <a:pt x="2821" y="6066"/>
                      </a:lnTo>
                      <a:lnTo>
                        <a:pt x="2896" y="6071"/>
                      </a:lnTo>
                      <a:lnTo>
                        <a:pt x="2970" y="6073"/>
                      </a:lnTo>
                      <a:lnTo>
                        <a:pt x="3045" y="6075"/>
                      </a:lnTo>
                      <a:lnTo>
                        <a:pt x="3119" y="6075"/>
                      </a:lnTo>
                      <a:lnTo>
                        <a:pt x="3192" y="6073"/>
                      </a:lnTo>
                      <a:lnTo>
                        <a:pt x="3266" y="6069"/>
                      </a:lnTo>
                      <a:lnTo>
                        <a:pt x="3339" y="6064"/>
                      </a:lnTo>
                      <a:lnTo>
                        <a:pt x="3413" y="6058"/>
                      </a:lnTo>
                      <a:lnTo>
                        <a:pt x="3486" y="6048"/>
                      </a:lnTo>
                      <a:lnTo>
                        <a:pt x="3556" y="6036"/>
                      </a:lnTo>
                      <a:lnTo>
                        <a:pt x="3629" y="6024"/>
                      </a:lnTo>
                      <a:lnTo>
                        <a:pt x="3699" y="6009"/>
                      </a:lnTo>
                      <a:lnTo>
                        <a:pt x="3772" y="5993"/>
                      </a:lnTo>
                      <a:lnTo>
                        <a:pt x="3842" y="5975"/>
                      </a:lnTo>
                      <a:lnTo>
                        <a:pt x="3911" y="5956"/>
                      </a:lnTo>
                      <a:lnTo>
                        <a:pt x="3980" y="5934"/>
                      </a:lnTo>
                      <a:lnTo>
                        <a:pt x="4048" y="5913"/>
                      </a:lnTo>
                      <a:lnTo>
                        <a:pt x="4117" y="5887"/>
                      </a:lnTo>
                      <a:lnTo>
                        <a:pt x="4186" y="5862"/>
                      </a:lnTo>
                      <a:lnTo>
                        <a:pt x="4252" y="5834"/>
                      </a:lnTo>
                      <a:lnTo>
                        <a:pt x="4317" y="5805"/>
                      </a:lnTo>
                      <a:lnTo>
                        <a:pt x="4382" y="5773"/>
                      </a:lnTo>
                      <a:lnTo>
                        <a:pt x="4446" y="5742"/>
                      </a:lnTo>
                      <a:lnTo>
                        <a:pt x="4511" y="5709"/>
                      </a:lnTo>
                      <a:lnTo>
                        <a:pt x="4574" y="5673"/>
                      </a:lnTo>
                      <a:lnTo>
                        <a:pt x="4634" y="5636"/>
                      </a:lnTo>
                      <a:lnTo>
                        <a:pt x="4697" y="5599"/>
                      </a:lnTo>
                      <a:lnTo>
                        <a:pt x="4756" y="5558"/>
                      </a:lnTo>
                      <a:lnTo>
                        <a:pt x="4815" y="5516"/>
                      </a:lnTo>
                      <a:lnTo>
                        <a:pt x="4874" y="5475"/>
                      </a:lnTo>
                      <a:lnTo>
                        <a:pt x="4930" y="5430"/>
                      </a:lnTo>
                      <a:lnTo>
                        <a:pt x="4987" y="5385"/>
                      </a:lnTo>
                      <a:lnTo>
                        <a:pt x="5042" y="5338"/>
                      </a:lnTo>
                      <a:lnTo>
                        <a:pt x="5097" y="5291"/>
                      </a:lnTo>
                      <a:lnTo>
                        <a:pt x="5150" y="5242"/>
                      </a:lnTo>
                      <a:lnTo>
                        <a:pt x="5201" y="5191"/>
                      </a:lnTo>
                      <a:lnTo>
                        <a:pt x="5252" y="5138"/>
                      </a:lnTo>
                      <a:lnTo>
                        <a:pt x="5301" y="5085"/>
                      </a:lnTo>
                      <a:lnTo>
                        <a:pt x="5350" y="5030"/>
                      </a:lnTo>
                      <a:lnTo>
                        <a:pt x="5397" y="4975"/>
                      </a:lnTo>
                      <a:lnTo>
                        <a:pt x="5442" y="4916"/>
                      </a:lnTo>
                      <a:lnTo>
                        <a:pt x="5487" y="4860"/>
                      </a:lnTo>
                      <a:lnTo>
                        <a:pt x="5528" y="4799"/>
                      </a:lnTo>
                      <a:lnTo>
                        <a:pt x="5572" y="4738"/>
                      </a:lnTo>
                      <a:lnTo>
                        <a:pt x="5611" y="4677"/>
                      </a:lnTo>
                      <a:lnTo>
                        <a:pt x="5650" y="4614"/>
                      </a:lnTo>
                      <a:lnTo>
                        <a:pt x="5687" y="4550"/>
                      </a:lnTo>
                      <a:lnTo>
                        <a:pt x="5723" y="4485"/>
                      </a:lnTo>
                      <a:lnTo>
                        <a:pt x="5758" y="4418"/>
                      </a:lnTo>
                      <a:lnTo>
                        <a:pt x="5789" y="4350"/>
                      </a:lnTo>
                      <a:lnTo>
                        <a:pt x="5821" y="4281"/>
                      </a:lnTo>
                      <a:lnTo>
                        <a:pt x="5850" y="4212"/>
                      </a:lnTo>
                      <a:lnTo>
                        <a:pt x="5877" y="4142"/>
                      </a:lnTo>
                      <a:lnTo>
                        <a:pt x="5905" y="4069"/>
                      </a:lnTo>
                      <a:lnTo>
                        <a:pt x="5928" y="3997"/>
                      </a:lnTo>
                      <a:lnTo>
                        <a:pt x="5952" y="3924"/>
                      </a:lnTo>
                      <a:lnTo>
                        <a:pt x="5971" y="3850"/>
                      </a:lnTo>
                      <a:lnTo>
                        <a:pt x="5971" y="3850"/>
                      </a:lnTo>
                      <a:lnTo>
                        <a:pt x="5991" y="3773"/>
                      </a:lnTo>
                      <a:lnTo>
                        <a:pt x="6009" y="3699"/>
                      </a:lnTo>
                      <a:lnTo>
                        <a:pt x="6024" y="3624"/>
                      </a:lnTo>
                      <a:lnTo>
                        <a:pt x="6036" y="3548"/>
                      </a:lnTo>
                      <a:lnTo>
                        <a:pt x="6048" y="3473"/>
                      </a:lnTo>
                      <a:lnTo>
                        <a:pt x="6058" y="3399"/>
                      </a:lnTo>
                      <a:lnTo>
                        <a:pt x="6066" y="3324"/>
                      </a:lnTo>
                      <a:lnTo>
                        <a:pt x="6070" y="3248"/>
                      </a:lnTo>
                      <a:lnTo>
                        <a:pt x="6073" y="3173"/>
                      </a:lnTo>
                      <a:lnTo>
                        <a:pt x="6075" y="3098"/>
                      </a:lnTo>
                      <a:lnTo>
                        <a:pt x="6075" y="3026"/>
                      </a:lnTo>
                      <a:lnTo>
                        <a:pt x="6073" y="2951"/>
                      </a:lnTo>
                      <a:lnTo>
                        <a:pt x="6070" y="2877"/>
                      </a:lnTo>
                      <a:lnTo>
                        <a:pt x="6064" y="2804"/>
                      </a:lnTo>
                      <a:lnTo>
                        <a:pt x="6056" y="2732"/>
                      </a:lnTo>
                      <a:lnTo>
                        <a:pt x="6048" y="2659"/>
                      </a:lnTo>
                      <a:lnTo>
                        <a:pt x="6036" y="2587"/>
                      </a:lnTo>
                      <a:lnTo>
                        <a:pt x="6022" y="2514"/>
                      </a:lnTo>
                      <a:lnTo>
                        <a:pt x="6009" y="2443"/>
                      </a:lnTo>
                      <a:lnTo>
                        <a:pt x="5993" y="2373"/>
                      </a:lnTo>
                      <a:lnTo>
                        <a:pt x="5975" y="2302"/>
                      </a:lnTo>
                      <a:lnTo>
                        <a:pt x="5956" y="2232"/>
                      </a:lnTo>
                      <a:lnTo>
                        <a:pt x="5934" y="2163"/>
                      </a:lnTo>
                      <a:lnTo>
                        <a:pt x="5911" y="2094"/>
                      </a:lnTo>
                      <a:lnTo>
                        <a:pt x="5887" y="2026"/>
                      </a:lnTo>
                      <a:lnTo>
                        <a:pt x="5862" y="1959"/>
                      </a:lnTo>
                      <a:lnTo>
                        <a:pt x="5834" y="1892"/>
                      </a:lnTo>
                      <a:lnTo>
                        <a:pt x="5805" y="1826"/>
                      </a:lnTo>
                      <a:lnTo>
                        <a:pt x="5773" y="1761"/>
                      </a:lnTo>
                      <a:lnTo>
                        <a:pt x="5742" y="1696"/>
                      </a:lnTo>
                      <a:lnTo>
                        <a:pt x="5707" y="1632"/>
                      </a:lnTo>
                      <a:lnTo>
                        <a:pt x="5672" y="1569"/>
                      </a:lnTo>
                      <a:lnTo>
                        <a:pt x="5636" y="1508"/>
                      </a:lnTo>
                      <a:lnTo>
                        <a:pt x="5597" y="1447"/>
                      </a:lnTo>
                      <a:lnTo>
                        <a:pt x="5558" y="1386"/>
                      </a:lnTo>
                      <a:lnTo>
                        <a:pt x="5517" y="1328"/>
                      </a:lnTo>
                      <a:lnTo>
                        <a:pt x="5474" y="1269"/>
                      </a:lnTo>
                      <a:lnTo>
                        <a:pt x="5430" y="1212"/>
                      </a:lnTo>
                      <a:lnTo>
                        <a:pt x="5385" y="1155"/>
                      </a:lnTo>
                      <a:lnTo>
                        <a:pt x="5338" y="1100"/>
                      </a:lnTo>
                      <a:lnTo>
                        <a:pt x="5289" y="1047"/>
                      </a:lnTo>
                      <a:lnTo>
                        <a:pt x="5240" y="994"/>
                      </a:lnTo>
                      <a:lnTo>
                        <a:pt x="5189" y="941"/>
                      </a:lnTo>
                      <a:lnTo>
                        <a:pt x="5138" y="890"/>
                      </a:lnTo>
                      <a:lnTo>
                        <a:pt x="5085" y="841"/>
                      </a:lnTo>
                      <a:lnTo>
                        <a:pt x="5030" y="794"/>
                      </a:lnTo>
                      <a:lnTo>
                        <a:pt x="4974" y="747"/>
                      </a:lnTo>
                      <a:lnTo>
                        <a:pt x="4917" y="700"/>
                      </a:lnTo>
                      <a:lnTo>
                        <a:pt x="4858" y="657"/>
                      </a:lnTo>
                      <a:lnTo>
                        <a:pt x="4799" y="614"/>
                      </a:lnTo>
                      <a:lnTo>
                        <a:pt x="4738" y="573"/>
                      </a:lnTo>
                      <a:lnTo>
                        <a:pt x="4678" y="531"/>
                      </a:lnTo>
                      <a:lnTo>
                        <a:pt x="4613" y="492"/>
                      </a:lnTo>
                      <a:lnTo>
                        <a:pt x="4550" y="455"/>
                      </a:lnTo>
                      <a:lnTo>
                        <a:pt x="4484" y="420"/>
                      </a:lnTo>
                      <a:lnTo>
                        <a:pt x="4419" y="386"/>
                      </a:lnTo>
                      <a:lnTo>
                        <a:pt x="4350" y="353"/>
                      </a:lnTo>
                      <a:lnTo>
                        <a:pt x="4282" y="322"/>
                      </a:lnTo>
                      <a:lnTo>
                        <a:pt x="4213" y="292"/>
                      </a:lnTo>
                      <a:lnTo>
                        <a:pt x="4142" y="265"/>
                      </a:lnTo>
                      <a:lnTo>
                        <a:pt x="4070" y="239"/>
                      </a:lnTo>
                      <a:lnTo>
                        <a:pt x="3997" y="214"/>
                      </a:lnTo>
                      <a:lnTo>
                        <a:pt x="3923" y="190"/>
                      </a:lnTo>
                      <a:lnTo>
                        <a:pt x="3848" y="171"/>
                      </a:lnTo>
                      <a:lnTo>
                        <a:pt x="3848" y="171"/>
                      </a:lnTo>
                      <a:close/>
                    </a:path>
                  </a:pathLst>
                </a:custGeom>
                <a:gradFill rotWithShape="0">
                  <a:gsLst>
                    <a:gs pos="0">
                      <a:srgbClr val="74420d"/>
                    </a:gs>
                    <a:gs pos="100000">
                      <a:srgbClr val="c89834"/>
                    </a:gs>
                  </a:gsLst>
                  <a:lin ang="2460000"/>
                </a:gradFill>
                <a:ln w="9525">
                  <a:noFill/>
                </a:ln>
              </p:spPr>
              <p:style>
                <a:lnRef idx="0"/>
                <a:fillRef idx="0"/>
                <a:effectRef idx="0"/>
                <a:fontRef idx="minor"/>
              </p:style>
              <p:txBody>
                <a:bodyPr numCol="1" spcCol="0" anchor="t">
                  <a:noAutofit/>
                </a:bodyPr>
                <a:p>
                  <a:pPr>
                    <a:lnSpc>
                      <a:spcPct val="85000"/>
                    </a:lnSpc>
                    <a:spcBef>
                      <a:spcPts val="360"/>
                    </a:spcBef>
                  </a:pPr>
                  <a:endParaRPr b="0" lang="en-US" sz="1800" spc="-1" strike="noStrike">
                    <a:solidFill>
                      <a:srgbClr val="000000"/>
                    </a:solidFill>
                    <a:latin typeface="Calibri"/>
                  </a:endParaRPr>
                </a:p>
              </p:txBody>
            </p:sp>
            <p:sp>
              <p:nvSpPr>
                <p:cNvPr id="627" name="Freeform 9"/>
                <p:cNvSpPr/>
                <p:nvPr/>
              </p:nvSpPr>
              <p:spPr>
                <a:xfrm flipV="1" rot="10800000">
                  <a:off x="1666080" y="2946240"/>
                  <a:ext cx="266040" cy="266040"/>
                </a:xfrm>
                <a:custGeom>
                  <a:avLst/>
                  <a:gdLst>
                    <a:gd name="textAreaLeft" fmla="*/ 0 w 266040"/>
                    <a:gd name="textAreaRight" fmla="*/ 266400 w 266040"/>
                    <a:gd name="textAreaTop" fmla="*/ -360 h 266040"/>
                    <a:gd name="textAreaBottom" fmla="*/ 266040 h 266040"/>
                  </a:gdLst>
                  <a:ahLst/>
                  <a:rect l="textAreaLeft" t="textAreaTop" r="textAreaRight" b="textAreaBottom"/>
                  <a:pathLst>
                    <a:path w="4320" h="4320">
                      <a:moveTo>
                        <a:pt x="4245" y="2719"/>
                      </a:moveTo>
                      <a:lnTo>
                        <a:pt x="4245" y="2719"/>
                      </a:lnTo>
                      <a:lnTo>
                        <a:pt x="4231" y="2773"/>
                      </a:lnTo>
                      <a:lnTo>
                        <a:pt x="4215" y="2826"/>
                      </a:lnTo>
                      <a:lnTo>
                        <a:pt x="4197" y="2878"/>
                      </a:lnTo>
                      <a:lnTo>
                        <a:pt x="4178" y="2930"/>
                      </a:lnTo>
                      <a:lnTo>
                        <a:pt x="4158" y="2980"/>
                      </a:lnTo>
                      <a:lnTo>
                        <a:pt x="4138" y="3031"/>
                      </a:lnTo>
                      <a:lnTo>
                        <a:pt x="4115" y="3080"/>
                      </a:lnTo>
                      <a:lnTo>
                        <a:pt x="4091" y="3128"/>
                      </a:lnTo>
                      <a:lnTo>
                        <a:pt x="4067" y="3176"/>
                      </a:lnTo>
                      <a:lnTo>
                        <a:pt x="4040" y="3223"/>
                      </a:lnTo>
                      <a:lnTo>
                        <a:pt x="4014" y="3269"/>
                      </a:lnTo>
                      <a:lnTo>
                        <a:pt x="3986" y="3315"/>
                      </a:lnTo>
                      <a:lnTo>
                        <a:pt x="3958" y="3359"/>
                      </a:lnTo>
                      <a:lnTo>
                        <a:pt x="3927" y="3402"/>
                      </a:lnTo>
                      <a:lnTo>
                        <a:pt x="3897" y="3445"/>
                      </a:lnTo>
                      <a:lnTo>
                        <a:pt x="3865" y="3488"/>
                      </a:lnTo>
                      <a:lnTo>
                        <a:pt x="3831" y="3528"/>
                      </a:lnTo>
                      <a:lnTo>
                        <a:pt x="3798" y="3569"/>
                      </a:lnTo>
                      <a:lnTo>
                        <a:pt x="3763" y="3608"/>
                      </a:lnTo>
                      <a:lnTo>
                        <a:pt x="3727" y="3646"/>
                      </a:lnTo>
                      <a:lnTo>
                        <a:pt x="3691" y="3683"/>
                      </a:lnTo>
                      <a:lnTo>
                        <a:pt x="3654" y="3719"/>
                      </a:lnTo>
                      <a:lnTo>
                        <a:pt x="3617" y="3755"/>
                      </a:lnTo>
                      <a:lnTo>
                        <a:pt x="3577" y="3790"/>
                      </a:lnTo>
                      <a:lnTo>
                        <a:pt x="3538" y="3823"/>
                      </a:lnTo>
                      <a:lnTo>
                        <a:pt x="3497" y="3857"/>
                      </a:lnTo>
                      <a:lnTo>
                        <a:pt x="3456" y="3887"/>
                      </a:lnTo>
                      <a:lnTo>
                        <a:pt x="3414" y="3918"/>
                      </a:lnTo>
                      <a:lnTo>
                        <a:pt x="3372" y="3948"/>
                      </a:lnTo>
                      <a:lnTo>
                        <a:pt x="3328" y="3976"/>
                      </a:lnTo>
                      <a:lnTo>
                        <a:pt x="3284" y="4004"/>
                      </a:lnTo>
                      <a:lnTo>
                        <a:pt x="3240" y="4030"/>
                      </a:lnTo>
                      <a:lnTo>
                        <a:pt x="3195" y="4055"/>
                      </a:lnTo>
                      <a:lnTo>
                        <a:pt x="3149" y="4080"/>
                      </a:lnTo>
                      <a:lnTo>
                        <a:pt x="3103" y="4103"/>
                      </a:lnTo>
                      <a:lnTo>
                        <a:pt x="3056" y="4126"/>
                      </a:lnTo>
                      <a:lnTo>
                        <a:pt x="3008" y="4146"/>
                      </a:lnTo>
                      <a:lnTo>
                        <a:pt x="2960" y="4166"/>
                      </a:lnTo>
                      <a:lnTo>
                        <a:pt x="2912" y="4184"/>
                      </a:lnTo>
                      <a:lnTo>
                        <a:pt x="2863" y="4203"/>
                      </a:lnTo>
                      <a:lnTo>
                        <a:pt x="2814" y="4219"/>
                      </a:lnTo>
                      <a:lnTo>
                        <a:pt x="2765" y="4233"/>
                      </a:lnTo>
                      <a:lnTo>
                        <a:pt x="2714" y="4248"/>
                      </a:lnTo>
                      <a:lnTo>
                        <a:pt x="2663" y="4260"/>
                      </a:lnTo>
                      <a:lnTo>
                        <a:pt x="2613" y="4272"/>
                      </a:lnTo>
                      <a:lnTo>
                        <a:pt x="2561" y="4283"/>
                      </a:lnTo>
                      <a:lnTo>
                        <a:pt x="2509" y="4292"/>
                      </a:lnTo>
                      <a:lnTo>
                        <a:pt x="2457" y="4300"/>
                      </a:lnTo>
                      <a:lnTo>
                        <a:pt x="2405" y="4307"/>
                      </a:lnTo>
                      <a:lnTo>
                        <a:pt x="2353" y="4312"/>
                      </a:lnTo>
                      <a:lnTo>
                        <a:pt x="2300" y="4316"/>
                      </a:lnTo>
                      <a:lnTo>
                        <a:pt x="2247" y="4319"/>
                      </a:lnTo>
                      <a:lnTo>
                        <a:pt x="2193" y="4320"/>
                      </a:lnTo>
                      <a:lnTo>
                        <a:pt x="2140" y="4320"/>
                      </a:lnTo>
                      <a:lnTo>
                        <a:pt x="2087" y="4319"/>
                      </a:lnTo>
                      <a:lnTo>
                        <a:pt x="2033" y="4316"/>
                      </a:lnTo>
                      <a:lnTo>
                        <a:pt x="1979" y="4312"/>
                      </a:lnTo>
                      <a:lnTo>
                        <a:pt x="1926" y="4307"/>
                      </a:lnTo>
                      <a:lnTo>
                        <a:pt x="1871" y="4300"/>
                      </a:lnTo>
                      <a:lnTo>
                        <a:pt x="1818" y="4292"/>
                      </a:lnTo>
                      <a:lnTo>
                        <a:pt x="1763" y="4283"/>
                      </a:lnTo>
                      <a:lnTo>
                        <a:pt x="1710" y="4272"/>
                      </a:lnTo>
                      <a:lnTo>
                        <a:pt x="1655" y="4260"/>
                      </a:lnTo>
                      <a:lnTo>
                        <a:pt x="1602" y="4245"/>
                      </a:lnTo>
                      <a:lnTo>
                        <a:pt x="1602" y="4245"/>
                      </a:lnTo>
                      <a:lnTo>
                        <a:pt x="1547" y="4231"/>
                      </a:lnTo>
                      <a:lnTo>
                        <a:pt x="1495" y="4215"/>
                      </a:lnTo>
                      <a:lnTo>
                        <a:pt x="1442" y="4197"/>
                      </a:lnTo>
                      <a:lnTo>
                        <a:pt x="1392" y="4178"/>
                      </a:lnTo>
                      <a:lnTo>
                        <a:pt x="1341" y="4158"/>
                      </a:lnTo>
                      <a:lnTo>
                        <a:pt x="1290" y="4136"/>
                      </a:lnTo>
                      <a:lnTo>
                        <a:pt x="1241" y="4115"/>
                      </a:lnTo>
                      <a:lnTo>
                        <a:pt x="1193" y="4091"/>
                      </a:lnTo>
                      <a:lnTo>
                        <a:pt x="1145" y="4067"/>
                      </a:lnTo>
                      <a:lnTo>
                        <a:pt x="1097" y="4040"/>
                      </a:lnTo>
                      <a:lnTo>
                        <a:pt x="1052" y="4014"/>
                      </a:lnTo>
                      <a:lnTo>
                        <a:pt x="1007" y="3986"/>
                      </a:lnTo>
                      <a:lnTo>
                        <a:pt x="961" y="3958"/>
                      </a:lnTo>
                      <a:lnTo>
                        <a:pt x="919" y="3927"/>
                      </a:lnTo>
                      <a:lnTo>
                        <a:pt x="875" y="3897"/>
                      </a:lnTo>
                      <a:lnTo>
                        <a:pt x="834" y="3865"/>
                      </a:lnTo>
                      <a:lnTo>
                        <a:pt x="792" y="3831"/>
                      </a:lnTo>
                      <a:lnTo>
                        <a:pt x="752" y="3798"/>
                      </a:lnTo>
                      <a:lnTo>
                        <a:pt x="714" y="3763"/>
                      </a:lnTo>
                      <a:lnTo>
                        <a:pt x="675" y="3727"/>
                      </a:lnTo>
                      <a:lnTo>
                        <a:pt x="638" y="3691"/>
                      </a:lnTo>
                      <a:lnTo>
                        <a:pt x="601" y="3654"/>
                      </a:lnTo>
                      <a:lnTo>
                        <a:pt x="566" y="3616"/>
                      </a:lnTo>
                      <a:lnTo>
                        <a:pt x="531" y="3577"/>
                      </a:lnTo>
                      <a:lnTo>
                        <a:pt x="497" y="3538"/>
                      </a:lnTo>
                      <a:lnTo>
                        <a:pt x="465" y="3497"/>
                      </a:lnTo>
                      <a:lnTo>
                        <a:pt x="433" y="3456"/>
                      </a:lnTo>
                      <a:lnTo>
                        <a:pt x="402" y="3414"/>
                      </a:lnTo>
                      <a:lnTo>
                        <a:pt x="373" y="3372"/>
                      </a:lnTo>
                      <a:lnTo>
                        <a:pt x="345" y="3328"/>
                      </a:lnTo>
                      <a:lnTo>
                        <a:pt x="317" y="3284"/>
                      </a:lnTo>
                      <a:lnTo>
                        <a:pt x="290" y="3240"/>
                      </a:lnTo>
                      <a:lnTo>
                        <a:pt x="265" y="3195"/>
                      </a:lnTo>
                      <a:lnTo>
                        <a:pt x="241" y="3149"/>
                      </a:lnTo>
                      <a:lnTo>
                        <a:pt x="217" y="3103"/>
                      </a:lnTo>
                      <a:lnTo>
                        <a:pt x="196" y="3056"/>
                      </a:lnTo>
                      <a:lnTo>
                        <a:pt x="174" y="3008"/>
                      </a:lnTo>
                      <a:lnTo>
                        <a:pt x="154" y="2960"/>
                      </a:lnTo>
                      <a:lnTo>
                        <a:pt x="136" y="2912"/>
                      </a:lnTo>
                      <a:lnTo>
                        <a:pt x="119" y="2863"/>
                      </a:lnTo>
                      <a:lnTo>
                        <a:pt x="103" y="2814"/>
                      </a:lnTo>
                      <a:lnTo>
                        <a:pt x="87" y="2763"/>
                      </a:lnTo>
                      <a:lnTo>
                        <a:pt x="73" y="2714"/>
                      </a:lnTo>
                      <a:lnTo>
                        <a:pt x="60" y="2663"/>
                      </a:lnTo>
                      <a:lnTo>
                        <a:pt x="48" y="2611"/>
                      </a:lnTo>
                      <a:lnTo>
                        <a:pt x="39" y="2561"/>
                      </a:lnTo>
                      <a:lnTo>
                        <a:pt x="29" y="2509"/>
                      </a:lnTo>
                      <a:lnTo>
                        <a:pt x="21" y="2457"/>
                      </a:lnTo>
                      <a:lnTo>
                        <a:pt x="15" y="2405"/>
                      </a:lnTo>
                      <a:lnTo>
                        <a:pt x="9" y="2353"/>
                      </a:lnTo>
                      <a:lnTo>
                        <a:pt x="5" y="2300"/>
                      </a:lnTo>
                      <a:lnTo>
                        <a:pt x="3" y="2247"/>
                      </a:lnTo>
                      <a:lnTo>
                        <a:pt x="1" y="2193"/>
                      </a:lnTo>
                      <a:lnTo>
                        <a:pt x="0" y="2140"/>
                      </a:lnTo>
                      <a:lnTo>
                        <a:pt x="1" y="2087"/>
                      </a:lnTo>
                      <a:lnTo>
                        <a:pt x="4" y="2033"/>
                      </a:lnTo>
                      <a:lnTo>
                        <a:pt x="8" y="1979"/>
                      </a:lnTo>
                      <a:lnTo>
                        <a:pt x="13" y="1926"/>
                      </a:lnTo>
                      <a:lnTo>
                        <a:pt x="20" y="1871"/>
                      </a:lnTo>
                      <a:lnTo>
                        <a:pt x="28" y="1818"/>
                      </a:lnTo>
                      <a:lnTo>
                        <a:pt x="37" y="1763"/>
                      </a:lnTo>
                      <a:lnTo>
                        <a:pt x="49" y="1710"/>
                      </a:lnTo>
                      <a:lnTo>
                        <a:pt x="61" y="1655"/>
                      </a:lnTo>
                      <a:lnTo>
                        <a:pt x="75" y="1602"/>
                      </a:lnTo>
                      <a:lnTo>
                        <a:pt x="75" y="1602"/>
                      </a:lnTo>
                      <a:lnTo>
                        <a:pt x="89" y="1547"/>
                      </a:lnTo>
                      <a:lnTo>
                        <a:pt x="107" y="1494"/>
                      </a:lnTo>
                      <a:lnTo>
                        <a:pt x="124" y="1442"/>
                      </a:lnTo>
                      <a:lnTo>
                        <a:pt x="142" y="1392"/>
                      </a:lnTo>
                      <a:lnTo>
                        <a:pt x="162" y="1340"/>
                      </a:lnTo>
                      <a:lnTo>
                        <a:pt x="184" y="1290"/>
                      </a:lnTo>
                      <a:lnTo>
                        <a:pt x="206" y="1241"/>
                      </a:lnTo>
                      <a:lnTo>
                        <a:pt x="229" y="1192"/>
                      </a:lnTo>
                      <a:lnTo>
                        <a:pt x="254" y="1145"/>
                      </a:lnTo>
                      <a:lnTo>
                        <a:pt x="280" y="1097"/>
                      </a:lnTo>
                      <a:lnTo>
                        <a:pt x="306" y="1052"/>
                      </a:lnTo>
                      <a:lnTo>
                        <a:pt x="334" y="1007"/>
                      </a:lnTo>
                      <a:lnTo>
                        <a:pt x="364" y="961"/>
                      </a:lnTo>
                      <a:lnTo>
                        <a:pt x="393" y="918"/>
                      </a:lnTo>
                      <a:lnTo>
                        <a:pt x="425" y="875"/>
                      </a:lnTo>
                      <a:lnTo>
                        <a:pt x="457" y="834"/>
                      </a:lnTo>
                      <a:lnTo>
                        <a:pt x="489" y="792"/>
                      </a:lnTo>
                      <a:lnTo>
                        <a:pt x="522" y="752"/>
                      </a:lnTo>
                      <a:lnTo>
                        <a:pt x="557" y="712"/>
                      </a:lnTo>
                      <a:lnTo>
                        <a:pt x="593" y="675"/>
                      </a:lnTo>
                      <a:lnTo>
                        <a:pt x="629" y="638"/>
                      </a:lnTo>
                      <a:lnTo>
                        <a:pt x="666" y="601"/>
                      </a:lnTo>
                      <a:lnTo>
                        <a:pt x="704" y="565"/>
                      </a:lnTo>
                      <a:lnTo>
                        <a:pt x="743" y="531"/>
                      </a:lnTo>
                      <a:lnTo>
                        <a:pt x="783" y="497"/>
                      </a:lnTo>
                      <a:lnTo>
                        <a:pt x="823" y="465"/>
                      </a:lnTo>
                      <a:lnTo>
                        <a:pt x="864" y="433"/>
                      </a:lnTo>
                      <a:lnTo>
                        <a:pt x="907" y="402"/>
                      </a:lnTo>
                      <a:lnTo>
                        <a:pt x="949" y="373"/>
                      </a:lnTo>
                      <a:lnTo>
                        <a:pt x="992" y="344"/>
                      </a:lnTo>
                      <a:lnTo>
                        <a:pt x="1036" y="317"/>
                      </a:lnTo>
                      <a:lnTo>
                        <a:pt x="1081" y="290"/>
                      </a:lnTo>
                      <a:lnTo>
                        <a:pt x="1125" y="265"/>
                      </a:lnTo>
                      <a:lnTo>
                        <a:pt x="1172" y="241"/>
                      </a:lnTo>
                      <a:lnTo>
                        <a:pt x="1218" y="217"/>
                      </a:lnTo>
                      <a:lnTo>
                        <a:pt x="1265" y="196"/>
                      </a:lnTo>
                      <a:lnTo>
                        <a:pt x="1313" y="174"/>
                      </a:lnTo>
                      <a:lnTo>
                        <a:pt x="1361" y="154"/>
                      </a:lnTo>
                      <a:lnTo>
                        <a:pt x="1409" y="136"/>
                      </a:lnTo>
                      <a:lnTo>
                        <a:pt x="1458" y="119"/>
                      </a:lnTo>
                      <a:lnTo>
                        <a:pt x="1507" y="103"/>
                      </a:lnTo>
                      <a:lnTo>
                        <a:pt x="1557" y="87"/>
                      </a:lnTo>
                      <a:lnTo>
                        <a:pt x="1607" y="73"/>
                      </a:lnTo>
                      <a:lnTo>
                        <a:pt x="1658" y="60"/>
                      </a:lnTo>
                      <a:lnTo>
                        <a:pt x="1709" y="48"/>
                      </a:lnTo>
                      <a:lnTo>
                        <a:pt x="1760" y="37"/>
                      </a:lnTo>
                      <a:lnTo>
                        <a:pt x="1811" y="29"/>
                      </a:lnTo>
                      <a:lnTo>
                        <a:pt x="1863" y="21"/>
                      </a:lnTo>
                      <a:lnTo>
                        <a:pt x="1916" y="15"/>
                      </a:lnTo>
                      <a:lnTo>
                        <a:pt x="1968" y="9"/>
                      </a:lnTo>
                      <a:lnTo>
                        <a:pt x="2022" y="5"/>
                      </a:lnTo>
                      <a:lnTo>
                        <a:pt x="2073" y="3"/>
                      </a:lnTo>
                      <a:lnTo>
                        <a:pt x="2127" y="1"/>
                      </a:lnTo>
                      <a:lnTo>
                        <a:pt x="2180" y="0"/>
                      </a:lnTo>
                      <a:lnTo>
                        <a:pt x="2235" y="1"/>
                      </a:lnTo>
                      <a:lnTo>
                        <a:pt x="2288" y="4"/>
                      </a:lnTo>
                      <a:lnTo>
                        <a:pt x="2341" y="8"/>
                      </a:lnTo>
                      <a:lnTo>
                        <a:pt x="2396" y="13"/>
                      </a:lnTo>
                      <a:lnTo>
                        <a:pt x="2449" y="20"/>
                      </a:lnTo>
                      <a:lnTo>
                        <a:pt x="2504" y="28"/>
                      </a:lnTo>
                      <a:lnTo>
                        <a:pt x="2557" y="37"/>
                      </a:lnTo>
                      <a:lnTo>
                        <a:pt x="2611" y="48"/>
                      </a:lnTo>
                      <a:lnTo>
                        <a:pt x="2665" y="61"/>
                      </a:lnTo>
                      <a:lnTo>
                        <a:pt x="2719" y="75"/>
                      </a:lnTo>
                      <a:lnTo>
                        <a:pt x="2719" y="75"/>
                      </a:lnTo>
                      <a:lnTo>
                        <a:pt x="2773" y="89"/>
                      </a:lnTo>
                      <a:lnTo>
                        <a:pt x="2826" y="107"/>
                      </a:lnTo>
                      <a:lnTo>
                        <a:pt x="2878" y="124"/>
                      </a:lnTo>
                      <a:lnTo>
                        <a:pt x="2930" y="142"/>
                      </a:lnTo>
                      <a:lnTo>
                        <a:pt x="2980" y="162"/>
                      </a:lnTo>
                      <a:lnTo>
                        <a:pt x="3031" y="184"/>
                      </a:lnTo>
                      <a:lnTo>
                        <a:pt x="3080" y="206"/>
                      </a:lnTo>
                      <a:lnTo>
                        <a:pt x="3128" y="229"/>
                      </a:lnTo>
                      <a:lnTo>
                        <a:pt x="3176" y="254"/>
                      </a:lnTo>
                      <a:lnTo>
                        <a:pt x="3223" y="280"/>
                      </a:lnTo>
                      <a:lnTo>
                        <a:pt x="3269" y="306"/>
                      </a:lnTo>
                      <a:lnTo>
                        <a:pt x="3315" y="334"/>
                      </a:lnTo>
                      <a:lnTo>
                        <a:pt x="3359" y="364"/>
                      </a:lnTo>
                      <a:lnTo>
                        <a:pt x="3402" y="393"/>
                      </a:lnTo>
                      <a:lnTo>
                        <a:pt x="3445" y="425"/>
                      </a:lnTo>
                      <a:lnTo>
                        <a:pt x="3488" y="455"/>
                      </a:lnTo>
                      <a:lnTo>
                        <a:pt x="3528" y="489"/>
                      </a:lnTo>
                      <a:lnTo>
                        <a:pt x="3569" y="522"/>
                      </a:lnTo>
                      <a:lnTo>
                        <a:pt x="3608" y="557"/>
                      </a:lnTo>
                      <a:lnTo>
                        <a:pt x="3646" y="593"/>
                      </a:lnTo>
                      <a:lnTo>
                        <a:pt x="3683" y="629"/>
                      </a:lnTo>
                      <a:lnTo>
                        <a:pt x="3719" y="666"/>
                      </a:lnTo>
                      <a:lnTo>
                        <a:pt x="3755" y="704"/>
                      </a:lnTo>
                      <a:lnTo>
                        <a:pt x="3790" y="743"/>
                      </a:lnTo>
                      <a:lnTo>
                        <a:pt x="3823" y="783"/>
                      </a:lnTo>
                      <a:lnTo>
                        <a:pt x="3857" y="823"/>
                      </a:lnTo>
                      <a:lnTo>
                        <a:pt x="3887" y="864"/>
                      </a:lnTo>
                      <a:lnTo>
                        <a:pt x="3918" y="907"/>
                      </a:lnTo>
                      <a:lnTo>
                        <a:pt x="3948" y="949"/>
                      </a:lnTo>
                      <a:lnTo>
                        <a:pt x="3976" y="992"/>
                      </a:lnTo>
                      <a:lnTo>
                        <a:pt x="4004" y="1036"/>
                      </a:lnTo>
                      <a:lnTo>
                        <a:pt x="4031" y="1080"/>
                      </a:lnTo>
                      <a:lnTo>
                        <a:pt x="4056" y="1125"/>
                      </a:lnTo>
                      <a:lnTo>
                        <a:pt x="4080" y="1172"/>
                      </a:lnTo>
                      <a:lnTo>
                        <a:pt x="4103" y="1218"/>
                      </a:lnTo>
                      <a:lnTo>
                        <a:pt x="4126" y="1265"/>
                      </a:lnTo>
                      <a:lnTo>
                        <a:pt x="4147" y="1312"/>
                      </a:lnTo>
                      <a:lnTo>
                        <a:pt x="4166" y="1360"/>
                      </a:lnTo>
                      <a:lnTo>
                        <a:pt x="4184" y="1409"/>
                      </a:lnTo>
                      <a:lnTo>
                        <a:pt x="4203" y="1458"/>
                      </a:lnTo>
                      <a:lnTo>
                        <a:pt x="4219" y="1507"/>
                      </a:lnTo>
                      <a:lnTo>
                        <a:pt x="4233" y="1557"/>
                      </a:lnTo>
                      <a:lnTo>
                        <a:pt x="4248" y="1607"/>
                      </a:lnTo>
                      <a:lnTo>
                        <a:pt x="4261" y="1658"/>
                      </a:lnTo>
                      <a:lnTo>
                        <a:pt x="4272" y="1709"/>
                      </a:lnTo>
                      <a:lnTo>
                        <a:pt x="4283" y="1759"/>
                      </a:lnTo>
                      <a:lnTo>
                        <a:pt x="4292" y="1811"/>
                      </a:lnTo>
                      <a:lnTo>
                        <a:pt x="4300" y="1863"/>
                      </a:lnTo>
                      <a:lnTo>
                        <a:pt x="4307" y="1915"/>
                      </a:lnTo>
                      <a:lnTo>
                        <a:pt x="4312" y="1968"/>
                      </a:lnTo>
                      <a:lnTo>
                        <a:pt x="4316" y="2022"/>
                      </a:lnTo>
                      <a:lnTo>
                        <a:pt x="4319" y="2073"/>
                      </a:lnTo>
                      <a:lnTo>
                        <a:pt x="4320" y="2127"/>
                      </a:lnTo>
                      <a:lnTo>
                        <a:pt x="4320" y="2180"/>
                      </a:lnTo>
                      <a:lnTo>
                        <a:pt x="4319" y="2233"/>
                      </a:lnTo>
                      <a:lnTo>
                        <a:pt x="4316" y="2288"/>
                      </a:lnTo>
                      <a:lnTo>
                        <a:pt x="4312" y="2341"/>
                      </a:lnTo>
                      <a:lnTo>
                        <a:pt x="4307" y="2396"/>
                      </a:lnTo>
                      <a:lnTo>
                        <a:pt x="4300" y="2449"/>
                      </a:lnTo>
                      <a:lnTo>
                        <a:pt x="4292" y="2504"/>
                      </a:lnTo>
                      <a:lnTo>
                        <a:pt x="4283" y="2557"/>
                      </a:lnTo>
                      <a:lnTo>
                        <a:pt x="4272" y="2611"/>
                      </a:lnTo>
                      <a:lnTo>
                        <a:pt x="4260" y="2665"/>
                      </a:lnTo>
                      <a:lnTo>
                        <a:pt x="4245" y="2719"/>
                      </a:lnTo>
                      <a:lnTo>
                        <a:pt x="4245" y="2719"/>
                      </a:lnTo>
                      <a:close/>
                      <a:moveTo>
                        <a:pt x="2695" y="165"/>
                      </a:moveTo>
                      <a:lnTo>
                        <a:pt x="2695" y="165"/>
                      </a:lnTo>
                      <a:lnTo>
                        <a:pt x="2643" y="152"/>
                      </a:lnTo>
                      <a:lnTo>
                        <a:pt x="2591" y="141"/>
                      </a:lnTo>
                      <a:lnTo>
                        <a:pt x="2540" y="131"/>
                      </a:lnTo>
                      <a:lnTo>
                        <a:pt x="2488" y="121"/>
                      </a:lnTo>
                      <a:lnTo>
                        <a:pt x="2437" y="113"/>
                      </a:lnTo>
                      <a:lnTo>
                        <a:pt x="2385" y="107"/>
                      </a:lnTo>
                      <a:lnTo>
                        <a:pt x="2333" y="103"/>
                      </a:lnTo>
                      <a:lnTo>
                        <a:pt x="2283" y="99"/>
                      </a:lnTo>
                      <a:lnTo>
                        <a:pt x="2231" y="96"/>
                      </a:lnTo>
                      <a:lnTo>
                        <a:pt x="2180" y="95"/>
                      </a:lnTo>
                      <a:lnTo>
                        <a:pt x="2128" y="95"/>
                      </a:lnTo>
                      <a:lnTo>
                        <a:pt x="2077" y="96"/>
                      </a:lnTo>
                      <a:lnTo>
                        <a:pt x="2027" y="99"/>
                      </a:lnTo>
                      <a:lnTo>
                        <a:pt x="1976" y="103"/>
                      </a:lnTo>
                      <a:lnTo>
                        <a:pt x="1927" y="108"/>
                      </a:lnTo>
                      <a:lnTo>
                        <a:pt x="1876" y="115"/>
                      </a:lnTo>
                      <a:lnTo>
                        <a:pt x="1827" y="121"/>
                      </a:lnTo>
                      <a:lnTo>
                        <a:pt x="1778" y="131"/>
                      </a:lnTo>
                      <a:lnTo>
                        <a:pt x="1729" y="140"/>
                      </a:lnTo>
                      <a:lnTo>
                        <a:pt x="1679" y="152"/>
                      </a:lnTo>
                      <a:lnTo>
                        <a:pt x="1631" y="164"/>
                      </a:lnTo>
                      <a:lnTo>
                        <a:pt x="1583" y="177"/>
                      </a:lnTo>
                      <a:lnTo>
                        <a:pt x="1535" y="192"/>
                      </a:lnTo>
                      <a:lnTo>
                        <a:pt x="1489" y="208"/>
                      </a:lnTo>
                      <a:lnTo>
                        <a:pt x="1441" y="224"/>
                      </a:lnTo>
                      <a:lnTo>
                        <a:pt x="1396" y="242"/>
                      </a:lnTo>
                      <a:lnTo>
                        <a:pt x="1349" y="261"/>
                      </a:lnTo>
                      <a:lnTo>
                        <a:pt x="1304" y="281"/>
                      </a:lnTo>
                      <a:lnTo>
                        <a:pt x="1258" y="302"/>
                      </a:lnTo>
                      <a:lnTo>
                        <a:pt x="1215" y="325"/>
                      </a:lnTo>
                      <a:lnTo>
                        <a:pt x="1171" y="348"/>
                      </a:lnTo>
                      <a:lnTo>
                        <a:pt x="1128" y="372"/>
                      </a:lnTo>
                      <a:lnTo>
                        <a:pt x="1085" y="397"/>
                      </a:lnTo>
                      <a:lnTo>
                        <a:pt x="1043" y="423"/>
                      </a:lnTo>
                      <a:lnTo>
                        <a:pt x="1001" y="450"/>
                      </a:lnTo>
                      <a:lnTo>
                        <a:pt x="961" y="479"/>
                      </a:lnTo>
                      <a:lnTo>
                        <a:pt x="922" y="509"/>
                      </a:lnTo>
                      <a:lnTo>
                        <a:pt x="882" y="538"/>
                      </a:lnTo>
                      <a:lnTo>
                        <a:pt x="843" y="570"/>
                      </a:lnTo>
                      <a:lnTo>
                        <a:pt x="806" y="602"/>
                      </a:lnTo>
                      <a:lnTo>
                        <a:pt x="768" y="635"/>
                      </a:lnTo>
                      <a:lnTo>
                        <a:pt x="731" y="669"/>
                      </a:lnTo>
                      <a:lnTo>
                        <a:pt x="696" y="703"/>
                      </a:lnTo>
                      <a:lnTo>
                        <a:pt x="661" y="739"/>
                      </a:lnTo>
                      <a:lnTo>
                        <a:pt x="627" y="776"/>
                      </a:lnTo>
                      <a:lnTo>
                        <a:pt x="594" y="814"/>
                      </a:lnTo>
                      <a:lnTo>
                        <a:pt x="562" y="852"/>
                      </a:lnTo>
                      <a:lnTo>
                        <a:pt x="530" y="891"/>
                      </a:lnTo>
                      <a:lnTo>
                        <a:pt x="499" y="931"/>
                      </a:lnTo>
                      <a:lnTo>
                        <a:pt x="470" y="972"/>
                      </a:lnTo>
                      <a:lnTo>
                        <a:pt x="442" y="1013"/>
                      </a:lnTo>
                      <a:lnTo>
                        <a:pt x="414" y="1056"/>
                      </a:lnTo>
                      <a:lnTo>
                        <a:pt x="388" y="1100"/>
                      </a:lnTo>
                      <a:lnTo>
                        <a:pt x="362" y="1144"/>
                      </a:lnTo>
                      <a:lnTo>
                        <a:pt x="337" y="1189"/>
                      </a:lnTo>
                      <a:lnTo>
                        <a:pt x="314" y="1234"/>
                      </a:lnTo>
                      <a:lnTo>
                        <a:pt x="292" y="1281"/>
                      </a:lnTo>
                      <a:lnTo>
                        <a:pt x="270" y="1328"/>
                      </a:lnTo>
                      <a:lnTo>
                        <a:pt x="250" y="1376"/>
                      </a:lnTo>
                      <a:lnTo>
                        <a:pt x="230" y="1425"/>
                      </a:lnTo>
                      <a:lnTo>
                        <a:pt x="213" y="1474"/>
                      </a:lnTo>
                      <a:lnTo>
                        <a:pt x="196" y="1523"/>
                      </a:lnTo>
                      <a:lnTo>
                        <a:pt x="180" y="1574"/>
                      </a:lnTo>
                      <a:lnTo>
                        <a:pt x="165" y="1626"/>
                      </a:lnTo>
                      <a:lnTo>
                        <a:pt x="165" y="1626"/>
                      </a:lnTo>
                      <a:lnTo>
                        <a:pt x="152" y="1678"/>
                      </a:lnTo>
                      <a:lnTo>
                        <a:pt x="141" y="1729"/>
                      </a:lnTo>
                      <a:lnTo>
                        <a:pt x="131" y="1780"/>
                      </a:lnTo>
                      <a:lnTo>
                        <a:pt x="121" y="1832"/>
                      </a:lnTo>
                      <a:lnTo>
                        <a:pt x="113" y="1884"/>
                      </a:lnTo>
                      <a:lnTo>
                        <a:pt x="107" y="1936"/>
                      </a:lnTo>
                      <a:lnTo>
                        <a:pt x="103" y="1987"/>
                      </a:lnTo>
                      <a:lnTo>
                        <a:pt x="99" y="2039"/>
                      </a:lnTo>
                      <a:lnTo>
                        <a:pt x="96" y="2089"/>
                      </a:lnTo>
                      <a:lnTo>
                        <a:pt x="95" y="2141"/>
                      </a:lnTo>
                      <a:lnTo>
                        <a:pt x="95" y="2192"/>
                      </a:lnTo>
                      <a:lnTo>
                        <a:pt x="96" y="2243"/>
                      </a:lnTo>
                      <a:lnTo>
                        <a:pt x="99" y="2293"/>
                      </a:lnTo>
                      <a:lnTo>
                        <a:pt x="103" y="2344"/>
                      </a:lnTo>
                      <a:lnTo>
                        <a:pt x="108" y="2394"/>
                      </a:lnTo>
                      <a:lnTo>
                        <a:pt x="115" y="2444"/>
                      </a:lnTo>
                      <a:lnTo>
                        <a:pt x="121" y="2494"/>
                      </a:lnTo>
                      <a:lnTo>
                        <a:pt x="131" y="2544"/>
                      </a:lnTo>
                      <a:lnTo>
                        <a:pt x="140" y="2593"/>
                      </a:lnTo>
                      <a:lnTo>
                        <a:pt x="152" y="2641"/>
                      </a:lnTo>
                      <a:lnTo>
                        <a:pt x="164" y="2690"/>
                      </a:lnTo>
                      <a:lnTo>
                        <a:pt x="177" y="2738"/>
                      </a:lnTo>
                      <a:lnTo>
                        <a:pt x="192" y="2785"/>
                      </a:lnTo>
                      <a:lnTo>
                        <a:pt x="208" y="2833"/>
                      </a:lnTo>
                      <a:lnTo>
                        <a:pt x="224" y="2879"/>
                      </a:lnTo>
                      <a:lnTo>
                        <a:pt x="242" y="2926"/>
                      </a:lnTo>
                      <a:lnTo>
                        <a:pt x="261" y="2971"/>
                      </a:lnTo>
                      <a:lnTo>
                        <a:pt x="281" y="3016"/>
                      </a:lnTo>
                      <a:lnTo>
                        <a:pt x="302" y="3062"/>
                      </a:lnTo>
                      <a:lnTo>
                        <a:pt x="325" y="3105"/>
                      </a:lnTo>
                      <a:lnTo>
                        <a:pt x="348" y="3149"/>
                      </a:lnTo>
                      <a:lnTo>
                        <a:pt x="372" y="3193"/>
                      </a:lnTo>
                      <a:lnTo>
                        <a:pt x="397" y="3236"/>
                      </a:lnTo>
                      <a:lnTo>
                        <a:pt x="423" y="3277"/>
                      </a:lnTo>
                      <a:lnTo>
                        <a:pt x="450" y="3319"/>
                      </a:lnTo>
                      <a:lnTo>
                        <a:pt x="479" y="3360"/>
                      </a:lnTo>
                      <a:lnTo>
                        <a:pt x="509" y="3400"/>
                      </a:lnTo>
                      <a:lnTo>
                        <a:pt x="538" y="3438"/>
                      </a:lnTo>
                      <a:lnTo>
                        <a:pt x="570" y="3477"/>
                      </a:lnTo>
                      <a:lnTo>
                        <a:pt x="602" y="3516"/>
                      </a:lnTo>
                      <a:lnTo>
                        <a:pt x="635" y="3553"/>
                      </a:lnTo>
                      <a:lnTo>
                        <a:pt x="669" y="3589"/>
                      </a:lnTo>
                      <a:lnTo>
                        <a:pt x="703" y="3625"/>
                      </a:lnTo>
                      <a:lnTo>
                        <a:pt x="739" y="3659"/>
                      </a:lnTo>
                      <a:lnTo>
                        <a:pt x="776" y="3694"/>
                      </a:lnTo>
                      <a:lnTo>
                        <a:pt x="814" y="3726"/>
                      </a:lnTo>
                      <a:lnTo>
                        <a:pt x="852" y="3759"/>
                      </a:lnTo>
                      <a:lnTo>
                        <a:pt x="891" y="3790"/>
                      </a:lnTo>
                      <a:lnTo>
                        <a:pt x="932" y="3821"/>
                      </a:lnTo>
                      <a:lnTo>
                        <a:pt x="972" y="3850"/>
                      </a:lnTo>
                      <a:lnTo>
                        <a:pt x="1015" y="3879"/>
                      </a:lnTo>
                      <a:lnTo>
                        <a:pt x="1057" y="3906"/>
                      </a:lnTo>
                      <a:lnTo>
                        <a:pt x="1100" y="3932"/>
                      </a:lnTo>
                      <a:lnTo>
                        <a:pt x="1144" y="3959"/>
                      </a:lnTo>
                      <a:lnTo>
                        <a:pt x="1189" y="3983"/>
                      </a:lnTo>
                      <a:lnTo>
                        <a:pt x="1234" y="4007"/>
                      </a:lnTo>
                      <a:lnTo>
                        <a:pt x="1281" y="4030"/>
                      </a:lnTo>
                      <a:lnTo>
                        <a:pt x="1328" y="4051"/>
                      </a:lnTo>
                      <a:lnTo>
                        <a:pt x="1376" y="4071"/>
                      </a:lnTo>
                      <a:lnTo>
                        <a:pt x="1425" y="4090"/>
                      </a:lnTo>
                      <a:lnTo>
                        <a:pt x="1474" y="4108"/>
                      </a:lnTo>
                      <a:lnTo>
                        <a:pt x="1523" y="4126"/>
                      </a:lnTo>
                      <a:lnTo>
                        <a:pt x="1574" y="4140"/>
                      </a:lnTo>
                      <a:lnTo>
                        <a:pt x="1626" y="4155"/>
                      </a:lnTo>
                      <a:lnTo>
                        <a:pt x="1626" y="4155"/>
                      </a:lnTo>
                      <a:lnTo>
                        <a:pt x="1678" y="4168"/>
                      </a:lnTo>
                      <a:lnTo>
                        <a:pt x="1730" y="4180"/>
                      </a:lnTo>
                      <a:lnTo>
                        <a:pt x="1780" y="4191"/>
                      </a:lnTo>
                      <a:lnTo>
                        <a:pt x="1832" y="4199"/>
                      </a:lnTo>
                      <a:lnTo>
                        <a:pt x="1884" y="4207"/>
                      </a:lnTo>
                      <a:lnTo>
                        <a:pt x="1936" y="4213"/>
                      </a:lnTo>
                      <a:lnTo>
                        <a:pt x="1987" y="4219"/>
                      </a:lnTo>
                      <a:lnTo>
                        <a:pt x="2039" y="4223"/>
                      </a:lnTo>
                      <a:lnTo>
                        <a:pt x="2091" y="4224"/>
                      </a:lnTo>
                      <a:lnTo>
                        <a:pt x="2141" y="4225"/>
                      </a:lnTo>
                      <a:lnTo>
                        <a:pt x="2192" y="4225"/>
                      </a:lnTo>
                      <a:lnTo>
                        <a:pt x="2243" y="4224"/>
                      </a:lnTo>
                      <a:lnTo>
                        <a:pt x="2293" y="4221"/>
                      </a:lnTo>
                      <a:lnTo>
                        <a:pt x="2344" y="4217"/>
                      </a:lnTo>
                      <a:lnTo>
                        <a:pt x="2394" y="4212"/>
                      </a:lnTo>
                      <a:lnTo>
                        <a:pt x="2445" y="4207"/>
                      </a:lnTo>
                      <a:lnTo>
                        <a:pt x="2494" y="4199"/>
                      </a:lnTo>
                      <a:lnTo>
                        <a:pt x="2544" y="4189"/>
                      </a:lnTo>
                      <a:lnTo>
                        <a:pt x="2593" y="4180"/>
                      </a:lnTo>
                      <a:lnTo>
                        <a:pt x="2641" y="4170"/>
                      </a:lnTo>
                      <a:lnTo>
                        <a:pt x="2690" y="4156"/>
                      </a:lnTo>
                      <a:lnTo>
                        <a:pt x="2738" y="4143"/>
                      </a:lnTo>
                      <a:lnTo>
                        <a:pt x="2786" y="4130"/>
                      </a:lnTo>
                      <a:lnTo>
                        <a:pt x="2833" y="4114"/>
                      </a:lnTo>
                      <a:lnTo>
                        <a:pt x="2879" y="4096"/>
                      </a:lnTo>
                      <a:lnTo>
                        <a:pt x="2926" y="4079"/>
                      </a:lnTo>
                      <a:lnTo>
                        <a:pt x="2971" y="4059"/>
                      </a:lnTo>
                      <a:lnTo>
                        <a:pt x="3016" y="4039"/>
                      </a:lnTo>
                      <a:lnTo>
                        <a:pt x="3062" y="4019"/>
                      </a:lnTo>
                      <a:lnTo>
                        <a:pt x="3105" y="3996"/>
                      </a:lnTo>
                      <a:lnTo>
                        <a:pt x="3149" y="3972"/>
                      </a:lnTo>
                      <a:lnTo>
                        <a:pt x="3193" y="3948"/>
                      </a:lnTo>
                      <a:lnTo>
                        <a:pt x="3236" y="3923"/>
                      </a:lnTo>
                      <a:lnTo>
                        <a:pt x="3277" y="3898"/>
                      </a:lnTo>
                      <a:lnTo>
                        <a:pt x="3319" y="3870"/>
                      </a:lnTo>
                      <a:lnTo>
                        <a:pt x="3360" y="3842"/>
                      </a:lnTo>
                      <a:lnTo>
                        <a:pt x="3400" y="3813"/>
                      </a:lnTo>
                      <a:lnTo>
                        <a:pt x="3440" y="3782"/>
                      </a:lnTo>
                      <a:lnTo>
                        <a:pt x="3478" y="3751"/>
                      </a:lnTo>
                      <a:lnTo>
                        <a:pt x="3516" y="3719"/>
                      </a:lnTo>
                      <a:lnTo>
                        <a:pt x="3553" y="3686"/>
                      </a:lnTo>
                      <a:lnTo>
                        <a:pt x="3589" y="3651"/>
                      </a:lnTo>
                      <a:lnTo>
                        <a:pt x="3625" y="3617"/>
                      </a:lnTo>
                      <a:lnTo>
                        <a:pt x="3659" y="3581"/>
                      </a:lnTo>
                      <a:lnTo>
                        <a:pt x="3694" y="3545"/>
                      </a:lnTo>
                      <a:lnTo>
                        <a:pt x="3727" y="3506"/>
                      </a:lnTo>
                      <a:lnTo>
                        <a:pt x="3759" y="3469"/>
                      </a:lnTo>
                      <a:lnTo>
                        <a:pt x="3790" y="3429"/>
                      </a:lnTo>
                      <a:lnTo>
                        <a:pt x="3821" y="3389"/>
                      </a:lnTo>
                      <a:lnTo>
                        <a:pt x="3850" y="3348"/>
                      </a:lnTo>
                      <a:lnTo>
                        <a:pt x="3879" y="3307"/>
                      </a:lnTo>
                      <a:lnTo>
                        <a:pt x="3907" y="3264"/>
                      </a:lnTo>
                      <a:lnTo>
                        <a:pt x="3934" y="3220"/>
                      </a:lnTo>
                      <a:lnTo>
                        <a:pt x="3959" y="3176"/>
                      </a:lnTo>
                      <a:lnTo>
                        <a:pt x="3983" y="3132"/>
                      </a:lnTo>
                      <a:lnTo>
                        <a:pt x="4007" y="3086"/>
                      </a:lnTo>
                      <a:lnTo>
                        <a:pt x="4030" y="3039"/>
                      </a:lnTo>
                      <a:lnTo>
                        <a:pt x="4051" y="2992"/>
                      </a:lnTo>
                      <a:lnTo>
                        <a:pt x="4071" y="2944"/>
                      </a:lnTo>
                      <a:lnTo>
                        <a:pt x="4090" y="2896"/>
                      </a:lnTo>
                      <a:lnTo>
                        <a:pt x="4108" y="2847"/>
                      </a:lnTo>
                      <a:lnTo>
                        <a:pt x="4126" y="2797"/>
                      </a:lnTo>
                      <a:lnTo>
                        <a:pt x="4140" y="2746"/>
                      </a:lnTo>
                      <a:lnTo>
                        <a:pt x="4155" y="2695"/>
                      </a:lnTo>
                      <a:lnTo>
                        <a:pt x="4155" y="2695"/>
                      </a:lnTo>
                      <a:lnTo>
                        <a:pt x="4168" y="2643"/>
                      </a:lnTo>
                      <a:lnTo>
                        <a:pt x="4180" y="2591"/>
                      </a:lnTo>
                      <a:lnTo>
                        <a:pt x="4191" y="2540"/>
                      </a:lnTo>
                      <a:lnTo>
                        <a:pt x="4200" y="2488"/>
                      </a:lnTo>
                      <a:lnTo>
                        <a:pt x="4207" y="2437"/>
                      </a:lnTo>
                      <a:lnTo>
                        <a:pt x="4213" y="2385"/>
                      </a:lnTo>
                      <a:lnTo>
                        <a:pt x="4219" y="2333"/>
                      </a:lnTo>
                      <a:lnTo>
                        <a:pt x="4223" y="2283"/>
                      </a:lnTo>
                      <a:lnTo>
                        <a:pt x="4225" y="2231"/>
                      </a:lnTo>
                      <a:lnTo>
                        <a:pt x="4225" y="2180"/>
                      </a:lnTo>
                      <a:lnTo>
                        <a:pt x="4225" y="2128"/>
                      </a:lnTo>
                      <a:lnTo>
                        <a:pt x="4224" y="2077"/>
                      </a:lnTo>
                      <a:lnTo>
                        <a:pt x="4221" y="2027"/>
                      </a:lnTo>
                      <a:lnTo>
                        <a:pt x="4217" y="1976"/>
                      </a:lnTo>
                      <a:lnTo>
                        <a:pt x="4213" y="1926"/>
                      </a:lnTo>
                      <a:lnTo>
                        <a:pt x="4207" y="1876"/>
                      </a:lnTo>
                      <a:lnTo>
                        <a:pt x="4199" y="1827"/>
                      </a:lnTo>
                      <a:lnTo>
                        <a:pt x="4191" y="1778"/>
                      </a:lnTo>
                      <a:lnTo>
                        <a:pt x="4180" y="1729"/>
                      </a:lnTo>
                      <a:lnTo>
                        <a:pt x="4170" y="1679"/>
                      </a:lnTo>
                      <a:lnTo>
                        <a:pt x="4158" y="1631"/>
                      </a:lnTo>
                      <a:lnTo>
                        <a:pt x="4144" y="1583"/>
                      </a:lnTo>
                      <a:lnTo>
                        <a:pt x="4130" y="1535"/>
                      </a:lnTo>
                      <a:lnTo>
                        <a:pt x="4114" y="1489"/>
                      </a:lnTo>
                      <a:lnTo>
                        <a:pt x="4096" y="1441"/>
                      </a:lnTo>
                      <a:lnTo>
                        <a:pt x="4079" y="1396"/>
                      </a:lnTo>
                      <a:lnTo>
                        <a:pt x="4060" y="1349"/>
                      </a:lnTo>
                      <a:lnTo>
                        <a:pt x="4040" y="1304"/>
                      </a:lnTo>
                      <a:lnTo>
                        <a:pt x="4019" y="1258"/>
                      </a:lnTo>
                      <a:lnTo>
                        <a:pt x="3996" y="1215"/>
                      </a:lnTo>
                      <a:lnTo>
                        <a:pt x="3974" y="1171"/>
                      </a:lnTo>
                      <a:lnTo>
                        <a:pt x="3948" y="1128"/>
                      </a:lnTo>
                      <a:lnTo>
                        <a:pt x="3923" y="1085"/>
                      </a:lnTo>
                      <a:lnTo>
                        <a:pt x="3898" y="1043"/>
                      </a:lnTo>
                      <a:lnTo>
                        <a:pt x="3870" y="1001"/>
                      </a:lnTo>
                      <a:lnTo>
                        <a:pt x="3842" y="961"/>
                      </a:lnTo>
                      <a:lnTo>
                        <a:pt x="3813" y="922"/>
                      </a:lnTo>
                      <a:lnTo>
                        <a:pt x="3782" y="882"/>
                      </a:lnTo>
                      <a:lnTo>
                        <a:pt x="3751" y="843"/>
                      </a:lnTo>
                      <a:lnTo>
                        <a:pt x="3719" y="804"/>
                      </a:lnTo>
                      <a:lnTo>
                        <a:pt x="3686" y="768"/>
                      </a:lnTo>
                      <a:lnTo>
                        <a:pt x="3651" y="731"/>
                      </a:lnTo>
                      <a:lnTo>
                        <a:pt x="3617" y="696"/>
                      </a:lnTo>
                      <a:lnTo>
                        <a:pt x="3581" y="661"/>
                      </a:lnTo>
                      <a:lnTo>
                        <a:pt x="3545" y="627"/>
                      </a:lnTo>
                      <a:lnTo>
                        <a:pt x="3508" y="594"/>
                      </a:lnTo>
                      <a:lnTo>
                        <a:pt x="3469" y="562"/>
                      </a:lnTo>
                      <a:lnTo>
                        <a:pt x="3429" y="530"/>
                      </a:lnTo>
                      <a:lnTo>
                        <a:pt x="3389" y="499"/>
                      </a:lnTo>
                      <a:lnTo>
                        <a:pt x="3348" y="470"/>
                      </a:lnTo>
                      <a:lnTo>
                        <a:pt x="3307" y="442"/>
                      </a:lnTo>
                      <a:lnTo>
                        <a:pt x="3264" y="414"/>
                      </a:lnTo>
                      <a:lnTo>
                        <a:pt x="3221" y="388"/>
                      </a:lnTo>
                      <a:lnTo>
                        <a:pt x="3176" y="362"/>
                      </a:lnTo>
                      <a:lnTo>
                        <a:pt x="3132" y="337"/>
                      </a:lnTo>
                      <a:lnTo>
                        <a:pt x="3086" y="314"/>
                      </a:lnTo>
                      <a:lnTo>
                        <a:pt x="3040" y="292"/>
                      </a:lnTo>
                      <a:lnTo>
                        <a:pt x="2992" y="270"/>
                      </a:lnTo>
                      <a:lnTo>
                        <a:pt x="2944" y="249"/>
                      </a:lnTo>
                      <a:lnTo>
                        <a:pt x="2896" y="230"/>
                      </a:lnTo>
                      <a:lnTo>
                        <a:pt x="2847" y="213"/>
                      </a:lnTo>
                      <a:lnTo>
                        <a:pt x="2797" y="196"/>
                      </a:lnTo>
                      <a:lnTo>
                        <a:pt x="2746" y="180"/>
                      </a:lnTo>
                      <a:lnTo>
                        <a:pt x="2695" y="165"/>
                      </a:lnTo>
                      <a:lnTo>
                        <a:pt x="2695" y="165"/>
                      </a:lnTo>
                      <a:close/>
                    </a:path>
                  </a:pathLst>
                </a:custGeom>
                <a:gradFill rotWithShape="0">
                  <a:gsLst>
                    <a:gs pos="0">
                      <a:srgbClr val="74420d"/>
                    </a:gs>
                    <a:gs pos="100000">
                      <a:srgbClr val="c89834"/>
                    </a:gs>
                  </a:gsLst>
                  <a:lin ang="12420000"/>
                </a:gradFill>
                <a:ln w="9525">
                  <a:noFill/>
                </a:ln>
              </p:spPr>
              <p:style>
                <a:lnRef idx="0"/>
                <a:fillRef idx="0"/>
                <a:effectRef idx="0"/>
                <a:fontRef idx="minor"/>
              </p:style>
              <p:txBody>
                <a:bodyPr numCol="1" spcCol="0" anchor="t">
                  <a:noAutofit/>
                </a:bodyPr>
                <a:p>
                  <a:pPr>
                    <a:lnSpc>
                      <a:spcPct val="85000"/>
                    </a:lnSpc>
                    <a:spcBef>
                      <a:spcPts val="360"/>
                    </a:spcBef>
                  </a:pPr>
                  <a:endParaRPr b="0" lang="en-US" sz="1800" spc="-1" strike="noStrike">
                    <a:solidFill>
                      <a:srgbClr val="000000"/>
                    </a:solidFill>
                    <a:latin typeface="Calibri"/>
                  </a:endParaRPr>
                </a:p>
              </p:txBody>
            </p:sp>
          </p:grpSp>
          <p:sp>
            <p:nvSpPr>
              <p:cNvPr id="628" name="TextBox 526"/>
              <p:cNvSpPr txBox="1"/>
              <p:nvPr/>
            </p:nvSpPr>
            <p:spPr>
              <a:xfrm>
                <a:off x="1358280" y="2625480"/>
                <a:ext cx="931320" cy="903240"/>
              </a:xfrm>
              <a:prstGeom prst="rect">
                <a:avLst/>
              </a:prstGeom>
            </p:spPr>
            <p:txBody>
              <a:bodyPr wrap="none" lIns="90000" rIns="90000" tIns="45000" bIns="45000" anchor="b" anchorCtr="1">
                <a:prstTxWarp prst="textArchUp">
                  <a:avLst>
                    <a:gd name="adj" fmla="val 10800000"/>
                  </a:avLst>
                </a:prstTxWarp>
                <a:noAutofit/>
              </a:bodyPr>
              <a:p>
                <a:pPr algn="ctr">
                  <a:lnSpc>
                    <a:spcPct val="100000"/>
                  </a:lnSpc>
                </a:pPr>
                <a:r>
                  <a:rPr b="0" lang="en-US" sz="1800" spc="97" strike="noStrike">
                    <a:ln w="0">
                      <a:noFill/>
                    </a:ln>
                    <a:solidFill>
                      <a:srgbClr val="ffffff"/>
                    </a:solidFill>
                    <a:latin typeface="Arial"/>
                  </a:rPr>
                  <a:t>Title Here</a:t>
                </a:r>
                <a:endParaRPr b="0" lang="en-US" sz="1800" spc="-1" strike="noStrike">
                  <a:ln w="0">
                    <a:noFill/>
                  </a:ln>
                  <a:solidFill>
                    <a:srgbClr val="ffffff"/>
                  </a:solidFill>
                  <a:latin typeface="Arial"/>
                </a:endParaRPr>
              </a:p>
            </p:txBody>
          </p:sp>
          <p:sp>
            <p:nvSpPr>
              <p:cNvPr id="629" name="Rectangle 70"/>
              <p:cNvSpPr/>
              <p:nvPr/>
            </p:nvSpPr>
            <p:spPr>
              <a:xfrm>
                <a:off x="1202400" y="3194280"/>
                <a:ext cx="1172160" cy="351360"/>
              </a:xfrm>
              <a:prstGeom prst="rect">
                <a:avLst/>
              </a:prstGeom>
              <a:noFill/>
              <a:ln w="9525">
                <a:noFill/>
              </a:ln>
            </p:spPr>
            <p:style>
              <a:lnRef idx="0"/>
              <a:fillRef idx="0"/>
              <a:effectRef idx="0"/>
              <a:fontRef idx="minor"/>
            </p:style>
            <p:txBody>
              <a:bodyPr lIns="45720" rIns="27360" tIns="18360" bIns="18360" anchor="t">
                <a:noAutofit/>
              </a:bodyPr>
              <a:p>
                <a:pPr algn="ctr">
                  <a:lnSpc>
                    <a:spcPct val="85000"/>
                  </a:lnSpc>
                  <a:spcBef>
                    <a:spcPts val="201"/>
                  </a:spcBef>
                </a:pPr>
                <a:r>
                  <a:rPr b="0" lang="en-US" sz="1200" spc="-1" strike="noStrike">
                    <a:solidFill>
                      <a:srgbClr val="ffffff">
                        <a:alpha val="50000"/>
                      </a:srgbClr>
                    </a:solidFill>
                    <a:latin typeface="Arial Narrow"/>
                  </a:rPr>
                  <a:t>Place additional content here.</a:t>
                </a:r>
                <a:endParaRPr b="0" lang="en-US" sz="1200" spc="-1" strike="noStrike">
                  <a:solidFill>
                    <a:srgbClr val="ffffff"/>
                  </a:solidFill>
                  <a:latin typeface="Arial"/>
                </a:endParaRPr>
              </a:p>
            </p:txBody>
          </p:sp>
        </p:grpSp>
        <p:grpSp>
          <p:nvGrpSpPr>
            <p:cNvPr id="630" name="Group 148"/>
            <p:cNvGrpSpPr/>
            <p:nvPr/>
          </p:nvGrpSpPr>
          <p:grpSpPr>
            <a:xfrm>
              <a:off x="2090880" y="3286080"/>
              <a:ext cx="1423440" cy="1423440"/>
              <a:chOff x="2090880" y="3286080"/>
              <a:chExt cx="1423440" cy="1423440"/>
            </a:xfrm>
          </p:grpSpPr>
          <p:grpSp>
            <p:nvGrpSpPr>
              <p:cNvPr id="631" name="Group 85"/>
              <p:cNvGrpSpPr/>
              <p:nvPr/>
            </p:nvGrpSpPr>
            <p:grpSpPr>
              <a:xfrm>
                <a:off x="2090880" y="3286080"/>
                <a:ext cx="1423440" cy="1423440"/>
                <a:chOff x="2090880" y="3286080"/>
                <a:chExt cx="1423440" cy="1423440"/>
              </a:xfrm>
            </p:grpSpPr>
            <p:sp>
              <p:nvSpPr>
                <p:cNvPr id="632" name="Freeform 5"/>
                <p:cNvSpPr/>
                <p:nvPr/>
              </p:nvSpPr>
              <p:spPr>
                <a:xfrm>
                  <a:off x="2090880" y="3286080"/>
                  <a:ext cx="1423440" cy="1423440"/>
                </a:xfrm>
                <a:custGeom>
                  <a:avLst/>
                  <a:gdLst>
                    <a:gd name="textAreaLeft" fmla="*/ 0 w 1423440"/>
                    <a:gd name="textAreaRight" fmla="*/ 1423800 w 1423440"/>
                    <a:gd name="textAreaTop" fmla="*/ 0 h 1423440"/>
                    <a:gd name="textAreaBottom" fmla="*/ 1423800 h 1423440"/>
                  </a:gdLst>
                  <a:ahLst/>
                  <a:rect l="textAreaLeft" t="textAreaTop" r="textAreaRight" b="textAreaBottom"/>
                  <a:pathLst>
                    <a:path w="5950" h="5950">
                      <a:moveTo>
                        <a:pt x="5840" y="3106"/>
                      </a:moveTo>
                      <a:lnTo>
                        <a:pt x="5840" y="3106"/>
                      </a:lnTo>
                      <a:lnTo>
                        <a:pt x="5808" y="3091"/>
                      </a:lnTo>
                      <a:lnTo>
                        <a:pt x="5780" y="3078"/>
                      </a:lnTo>
                      <a:lnTo>
                        <a:pt x="5727" y="3058"/>
                      </a:lnTo>
                      <a:lnTo>
                        <a:pt x="5685" y="3044"/>
                      </a:lnTo>
                      <a:lnTo>
                        <a:pt x="5650" y="3034"/>
                      </a:lnTo>
                      <a:lnTo>
                        <a:pt x="5650" y="3034"/>
                      </a:lnTo>
                      <a:lnTo>
                        <a:pt x="5650" y="2976"/>
                      </a:lnTo>
                      <a:lnTo>
                        <a:pt x="5650" y="2917"/>
                      </a:lnTo>
                      <a:lnTo>
                        <a:pt x="5650" y="2917"/>
                      </a:lnTo>
                      <a:lnTo>
                        <a:pt x="5685" y="2908"/>
                      </a:lnTo>
                      <a:lnTo>
                        <a:pt x="5727" y="2894"/>
                      </a:lnTo>
                      <a:lnTo>
                        <a:pt x="5780" y="2872"/>
                      </a:lnTo>
                      <a:lnTo>
                        <a:pt x="5808" y="2859"/>
                      </a:lnTo>
                      <a:lnTo>
                        <a:pt x="5840" y="2844"/>
                      </a:lnTo>
                      <a:lnTo>
                        <a:pt x="5840" y="2844"/>
                      </a:lnTo>
                      <a:lnTo>
                        <a:pt x="5879" y="2824"/>
                      </a:lnTo>
                      <a:lnTo>
                        <a:pt x="5907" y="2808"/>
                      </a:lnTo>
                      <a:lnTo>
                        <a:pt x="5927" y="2793"/>
                      </a:lnTo>
                      <a:lnTo>
                        <a:pt x="5935" y="2786"/>
                      </a:lnTo>
                      <a:lnTo>
                        <a:pt x="5940" y="2780"/>
                      </a:lnTo>
                      <a:lnTo>
                        <a:pt x="5945" y="2773"/>
                      </a:lnTo>
                      <a:lnTo>
                        <a:pt x="5947" y="2767"/>
                      </a:lnTo>
                      <a:lnTo>
                        <a:pt x="5950" y="2760"/>
                      </a:lnTo>
                      <a:lnTo>
                        <a:pt x="5950" y="2752"/>
                      </a:lnTo>
                      <a:lnTo>
                        <a:pt x="5950" y="2735"/>
                      </a:lnTo>
                      <a:lnTo>
                        <a:pt x="5948" y="2715"/>
                      </a:lnTo>
                      <a:lnTo>
                        <a:pt x="5948" y="2715"/>
                      </a:lnTo>
                      <a:lnTo>
                        <a:pt x="5947" y="2696"/>
                      </a:lnTo>
                      <a:lnTo>
                        <a:pt x="5943" y="2679"/>
                      </a:lnTo>
                      <a:lnTo>
                        <a:pt x="5942" y="2671"/>
                      </a:lnTo>
                      <a:lnTo>
                        <a:pt x="5938" y="2664"/>
                      </a:lnTo>
                      <a:lnTo>
                        <a:pt x="5935" y="2659"/>
                      </a:lnTo>
                      <a:lnTo>
                        <a:pt x="5929" y="2653"/>
                      </a:lnTo>
                      <a:lnTo>
                        <a:pt x="5922" y="2648"/>
                      </a:lnTo>
                      <a:lnTo>
                        <a:pt x="5914" y="2643"/>
                      </a:lnTo>
                      <a:lnTo>
                        <a:pt x="5892" y="2631"/>
                      </a:lnTo>
                      <a:lnTo>
                        <a:pt x="5861" y="2620"/>
                      </a:lnTo>
                      <a:lnTo>
                        <a:pt x="5818" y="2607"/>
                      </a:lnTo>
                      <a:lnTo>
                        <a:pt x="5818" y="2607"/>
                      </a:lnTo>
                      <a:lnTo>
                        <a:pt x="5785" y="2597"/>
                      </a:lnTo>
                      <a:lnTo>
                        <a:pt x="5755" y="2590"/>
                      </a:lnTo>
                      <a:lnTo>
                        <a:pt x="5699" y="2579"/>
                      </a:lnTo>
                      <a:lnTo>
                        <a:pt x="5655" y="2572"/>
                      </a:lnTo>
                      <a:lnTo>
                        <a:pt x="5619" y="2569"/>
                      </a:lnTo>
                      <a:lnTo>
                        <a:pt x="5619" y="2569"/>
                      </a:lnTo>
                      <a:lnTo>
                        <a:pt x="5609" y="2511"/>
                      </a:lnTo>
                      <a:lnTo>
                        <a:pt x="5599" y="2453"/>
                      </a:lnTo>
                      <a:lnTo>
                        <a:pt x="5599" y="2453"/>
                      </a:lnTo>
                      <a:lnTo>
                        <a:pt x="5630" y="2439"/>
                      </a:lnTo>
                      <a:lnTo>
                        <a:pt x="5671" y="2417"/>
                      </a:lnTo>
                      <a:lnTo>
                        <a:pt x="5719" y="2387"/>
                      </a:lnTo>
                      <a:lnTo>
                        <a:pt x="5746" y="2369"/>
                      </a:lnTo>
                      <a:lnTo>
                        <a:pt x="5774" y="2349"/>
                      </a:lnTo>
                      <a:lnTo>
                        <a:pt x="5774" y="2349"/>
                      </a:lnTo>
                      <a:lnTo>
                        <a:pt x="5808" y="2323"/>
                      </a:lnTo>
                      <a:lnTo>
                        <a:pt x="5833" y="2300"/>
                      </a:lnTo>
                      <a:lnTo>
                        <a:pt x="5851" y="2284"/>
                      </a:lnTo>
                      <a:lnTo>
                        <a:pt x="5858" y="2275"/>
                      </a:lnTo>
                      <a:lnTo>
                        <a:pt x="5861" y="2267"/>
                      </a:lnTo>
                      <a:lnTo>
                        <a:pt x="5864" y="2260"/>
                      </a:lnTo>
                      <a:lnTo>
                        <a:pt x="5866" y="2254"/>
                      </a:lnTo>
                      <a:lnTo>
                        <a:pt x="5866" y="2246"/>
                      </a:lnTo>
                      <a:lnTo>
                        <a:pt x="5866" y="2239"/>
                      </a:lnTo>
                      <a:lnTo>
                        <a:pt x="5863" y="2223"/>
                      </a:lnTo>
                      <a:lnTo>
                        <a:pt x="5858" y="2203"/>
                      </a:lnTo>
                      <a:lnTo>
                        <a:pt x="5858" y="2203"/>
                      </a:lnTo>
                      <a:lnTo>
                        <a:pt x="5853" y="2183"/>
                      </a:lnTo>
                      <a:lnTo>
                        <a:pt x="5848" y="2168"/>
                      </a:lnTo>
                      <a:lnTo>
                        <a:pt x="5843" y="2162"/>
                      </a:lnTo>
                      <a:lnTo>
                        <a:pt x="5840" y="2155"/>
                      </a:lnTo>
                      <a:lnTo>
                        <a:pt x="5835" y="2150"/>
                      </a:lnTo>
                      <a:lnTo>
                        <a:pt x="5828" y="2145"/>
                      </a:lnTo>
                      <a:lnTo>
                        <a:pt x="5821" y="2140"/>
                      </a:lnTo>
                      <a:lnTo>
                        <a:pt x="5812" y="2137"/>
                      </a:lnTo>
                      <a:lnTo>
                        <a:pt x="5788" y="2130"/>
                      </a:lnTo>
                      <a:lnTo>
                        <a:pt x="5755" y="2124"/>
                      </a:lnTo>
                      <a:lnTo>
                        <a:pt x="5711" y="2119"/>
                      </a:lnTo>
                      <a:lnTo>
                        <a:pt x="5711" y="2119"/>
                      </a:lnTo>
                      <a:lnTo>
                        <a:pt x="5676" y="2115"/>
                      </a:lnTo>
                      <a:lnTo>
                        <a:pt x="5645" y="2112"/>
                      </a:lnTo>
                      <a:lnTo>
                        <a:pt x="5589" y="2110"/>
                      </a:lnTo>
                      <a:lnTo>
                        <a:pt x="5543" y="2112"/>
                      </a:lnTo>
                      <a:lnTo>
                        <a:pt x="5508" y="2115"/>
                      </a:lnTo>
                      <a:lnTo>
                        <a:pt x="5508" y="2115"/>
                      </a:lnTo>
                      <a:lnTo>
                        <a:pt x="5488" y="2061"/>
                      </a:lnTo>
                      <a:lnTo>
                        <a:pt x="5467" y="2007"/>
                      </a:lnTo>
                      <a:lnTo>
                        <a:pt x="5467" y="2007"/>
                      </a:lnTo>
                      <a:lnTo>
                        <a:pt x="5497" y="1987"/>
                      </a:lnTo>
                      <a:lnTo>
                        <a:pt x="5533" y="1957"/>
                      </a:lnTo>
                      <a:lnTo>
                        <a:pt x="5574" y="1921"/>
                      </a:lnTo>
                      <a:lnTo>
                        <a:pt x="5597" y="1898"/>
                      </a:lnTo>
                      <a:lnTo>
                        <a:pt x="5622" y="1873"/>
                      </a:lnTo>
                      <a:lnTo>
                        <a:pt x="5622" y="1873"/>
                      </a:lnTo>
                      <a:lnTo>
                        <a:pt x="5652" y="1840"/>
                      </a:lnTo>
                      <a:lnTo>
                        <a:pt x="5673" y="1815"/>
                      </a:lnTo>
                      <a:lnTo>
                        <a:pt x="5688" y="1794"/>
                      </a:lnTo>
                      <a:lnTo>
                        <a:pt x="5691" y="1786"/>
                      </a:lnTo>
                      <a:lnTo>
                        <a:pt x="5694" y="1777"/>
                      </a:lnTo>
                      <a:lnTo>
                        <a:pt x="5696" y="1769"/>
                      </a:lnTo>
                      <a:lnTo>
                        <a:pt x="5696" y="1763"/>
                      </a:lnTo>
                      <a:lnTo>
                        <a:pt x="5696" y="1756"/>
                      </a:lnTo>
                      <a:lnTo>
                        <a:pt x="5694" y="1748"/>
                      </a:lnTo>
                      <a:lnTo>
                        <a:pt x="5688" y="1733"/>
                      </a:lnTo>
                      <a:lnTo>
                        <a:pt x="5680" y="1715"/>
                      </a:lnTo>
                      <a:lnTo>
                        <a:pt x="5680" y="1715"/>
                      </a:lnTo>
                      <a:lnTo>
                        <a:pt x="5671" y="1695"/>
                      </a:lnTo>
                      <a:lnTo>
                        <a:pt x="5663" y="1682"/>
                      </a:lnTo>
                      <a:lnTo>
                        <a:pt x="5658" y="1675"/>
                      </a:lnTo>
                      <a:lnTo>
                        <a:pt x="5653" y="1670"/>
                      </a:lnTo>
                      <a:lnTo>
                        <a:pt x="5648" y="1665"/>
                      </a:lnTo>
                      <a:lnTo>
                        <a:pt x="5642" y="1662"/>
                      </a:lnTo>
                      <a:lnTo>
                        <a:pt x="5633" y="1659"/>
                      </a:lnTo>
                      <a:lnTo>
                        <a:pt x="5624" y="1657"/>
                      </a:lnTo>
                      <a:lnTo>
                        <a:pt x="5599" y="1655"/>
                      </a:lnTo>
                      <a:lnTo>
                        <a:pt x="5566" y="1654"/>
                      </a:lnTo>
                      <a:lnTo>
                        <a:pt x="5521" y="1657"/>
                      </a:lnTo>
                      <a:lnTo>
                        <a:pt x="5521" y="1657"/>
                      </a:lnTo>
                      <a:lnTo>
                        <a:pt x="5487" y="1659"/>
                      </a:lnTo>
                      <a:lnTo>
                        <a:pt x="5454" y="1662"/>
                      </a:lnTo>
                      <a:lnTo>
                        <a:pt x="5398" y="1670"/>
                      </a:lnTo>
                      <a:lnTo>
                        <a:pt x="5353" y="1680"/>
                      </a:lnTo>
                      <a:lnTo>
                        <a:pt x="5319" y="1690"/>
                      </a:lnTo>
                      <a:lnTo>
                        <a:pt x="5319" y="1690"/>
                      </a:lnTo>
                      <a:lnTo>
                        <a:pt x="5290" y="1639"/>
                      </a:lnTo>
                      <a:lnTo>
                        <a:pt x="5261" y="1589"/>
                      </a:lnTo>
                      <a:lnTo>
                        <a:pt x="5261" y="1589"/>
                      </a:lnTo>
                      <a:lnTo>
                        <a:pt x="5286" y="1563"/>
                      </a:lnTo>
                      <a:lnTo>
                        <a:pt x="5317" y="1530"/>
                      </a:lnTo>
                      <a:lnTo>
                        <a:pt x="5352" y="1486"/>
                      </a:lnTo>
                      <a:lnTo>
                        <a:pt x="5371" y="1459"/>
                      </a:lnTo>
                      <a:lnTo>
                        <a:pt x="5391" y="1429"/>
                      </a:lnTo>
                      <a:lnTo>
                        <a:pt x="5391" y="1429"/>
                      </a:lnTo>
                      <a:lnTo>
                        <a:pt x="5414" y="1393"/>
                      </a:lnTo>
                      <a:lnTo>
                        <a:pt x="5431" y="1364"/>
                      </a:lnTo>
                      <a:lnTo>
                        <a:pt x="5441" y="1340"/>
                      </a:lnTo>
                      <a:lnTo>
                        <a:pt x="5444" y="1332"/>
                      </a:lnTo>
                      <a:lnTo>
                        <a:pt x="5445" y="1322"/>
                      </a:lnTo>
                      <a:lnTo>
                        <a:pt x="5445" y="1316"/>
                      </a:lnTo>
                      <a:lnTo>
                        <a:pt x="5444" y="1307"/>
                      </a:lnTo>
                      <a:lnTo>
                        <a:pt x="5442" y="1301"/>
                      </a:lnTo>
                      <a:lnTo>
                        <a:pt x="5441" y="1294"/>
                      </a:lnTo>
                      <a:lnTo>
                        <a:pt x="5431" y="1279"/>
                      </a:lnTo>
                      <a:lnTo>
                        <a:pt x="5419" y="1263"/>
                      </a:lnTo>
                      <a:lnTo>
                        <a:pt x="5419" y="1263"/>
                      </a:lnTo>
                      <a:lnTo>
                        <a:pt x="5408" y="1246"/>
                      </a:lnTo>
                      <a:lnTo>
                        <a:pt x="5398" y="1233"/>
                      </a:lnTo>
                      <a:lnTo>
                        <a:pt x="5393" y="1228"/>
                      </a:lnTo>
                      <a:lnTo>
                        <a:pt x="5386" y="1225"/>
                      </a:lnTo>
                      <a:lnTo>
                        <a:pt x="5380" y="1222"/>
                      </a:lnTo>
                      <a:lnTo>
                        <a:pt x="5373" y="1218"/>
                      </a:lnTo>
                      <a:lnTo>
                        <a:pt x="5363" y="1218"/>
                      </a:lnTo>
                      <a:lnTo>
                        <a:pt x="5355" y="1217"/>
                      </a:lnTo>
                      <a:lnTo>
                        <a:pt x="5330" y="1218"/>
                      </a:lnTo>
                      <a:lnTo>
                        <a:pt x="5297" y="1225"/>
                      </a:lnTo>
                      <a:lnTo>
                        <a:pt x="5253" y="1235"/>
                      </a:lnTo>
                      <a:lnTo>
                        <a:pt x="5253" y="1235"/>
                      </a:lnTo>
                      <a:lnTo>
                        <a:pt x="5220" y="1243"/>
                      </a:lnTo>
                      <a:lnTo>
                        <a:pt x="5188" y="1251"/>
                      </a:lnTo>
                      <a:lnTo>
                        <a:pt x="5134" y="1270"/>
                      </a:lnTo>
                      <a:lnTo>
                        <a:pt x="5091" y="1286"/>
                      </a:lnTo>
                      <a:lnTo>
                        <a:pt x="5060" y="1303"/>
                      </a:lnTo>
                      <a:lnTo>
                        <a:pt x="5060" y="1303"/>
                      </a:lnTo>
                      <a:lnTo>
                        <a:pt x="5022" y="1256"/>
                      </a:lnTo>
                      <a:lnTo>
                        <a:pt x="4985" y="1213"/>
                      </a:lnTo>
                      <a:lnTo>
                        <a:pt x="4985" y="1213"/>
                      </a:lnTo>
                      <a:lnTo>
                        <a:pt x="5005" y="1184"/>
                      </a:lnTo>
                      <a:lnTo>
                        <a:pt x="5030" y="1144"/>
                      </a:lnTo>
                      <a:lnTo>
                        <a:pt x="5056" y="1095"/>
                      </a:lnTo>
                      <a:lnTo>
                        <a:pt x="5071" y="1065"/>
                      </a:lnTo>
                      <a:lnTo>
                        <a:pt x="5084" y="1034"/>
                      </a:lnTo>
                      <a:lnTo>
                        <a:pt x="5084" y="1034"/>
                      </a:lnTo>
                      <a:lnTo>
                        <a:pt x="5103" y="993"/>
                      </a:lnTo>
                      <a:lnTo>
                        <a:pt x="5114" y="961"/>
                      </a:lnTo>
                      <a:lnTo>
                        <a:pt x="5119" y="938"/>
                      </a:lnTo>
                      <a:lnTo>
                        <a:pt x="5121" y="928"/>
                      </a:lnTo>
                      <a:lnTo>
                        <a:pt x="5121" y="918"/>
                      </a:lnTo>
                      <a:lnTo>
                        <a:pt x="5119" y="912"/>
                      </a:lnTo>
                      <a:lnTo>
                        <a:pt x="5117" y="905"/>
                      </a:lnTo>
                      <a:lnTo>
                        <a:pt x="5114" y="899"/>
                      </a:lnTo>
                      <a:lnTo>
                        <a:pt x="5111" y="892"/>
                      </a:lnTo>
                      <a:lnTo>
                        <a:pt x="5099" y="879"/>
                      </a:lnTo>
                      <a:lnTo>
                        <a:pt x="5084" y="866"/>
                      </a:lnTo>
                      <a:lnTo>
                        <a:pt x="5084" y="866"/>
                      </a:lnTo>
                      <a:lnTo>
                        <a:pt x="5071" y="851"/>
                      </a:lnTo>
                      <a:lnTo>
                        <a:pt x="5058" y="839"/>
                      </a:lnTo>
                      <a:lnTo>
                        <a:pt x="5051" y="836"/>
                      </a:lnTo>
                      <a:lnTo>
                        <a:pt x="5045" y="833"/>
                      </a:lnTo>
                      <a:lnTo>
                        <a:pt x="5038" y="831"/>
                      </a:lnTo>
                      <a:lnTo>
                        <a:pt x="5032" y="829"/>
                      </a:lnTo>
                      <a:lnTo>
                        <a:pt x="5022" y="829"/>
                      </a:lnTo>
                      <a:lnTo>
                        <a:pt x="5012" y="831"/>
                      </a:lnTo>
                      <a:lnTo>
                        <a:pt x="4989" y="838"/>
                      </a:lnTo>
                      <a:lnTo>
                        <a:pt x="4957" y="847"/>
                      </a:lnTo>
                      <a:lnTo>
                        <a:pt x="4916" y="866"/>
                      </a:lnTo>
                      <a:lnTo>
                        <a:pt x="4916" y="866"/>
                      </a:lnTo>
                      <a:lnTo>
                        <a:pt x="4885" y="879"/>
                      </a:lnTo>
                      <a:lnTo>
                        <a:pt x="4855" y="894"/>
                      </a:lnTo>
                      <a:lnTo>
                        <a:pt x="4806" y="920"/>
                      </a:lnTo>
                      <a:lnTo>
                        <a:pt x="4766" y="945"/>
                      </a:lnTo>
                      <a:lnTo>
                        <a:pt x="4737" y="965"/>
                      </a:lnTo>
                      <a:lnTo>
                        <a:pt x="4737" y="965"/>
                      </a:lnTo>
                      <a:lnTo>
                        <a:pt x="4694" y="928"/>
                      </a:lnTo>
                      <a:lnTo>
                        <a:pt x="4647" y="890"/>
                      </a:lnTo>
                      <a:lnTo>
                        <a:pt x="4647" y="890"/>
                      </a:lnTo>
                      <a:lnTo>
                        <a:pt x="4664" y="859"/>
                      </a:lnTo>
                      <a:lnTo>
                        <a:pt x="4680" y="816"/>
                      </a:lnTo>
                      <a:lnTo>
                        <a:pt x="4699" y="762"/>
                      </a:lnTo>
                      <a:lnTo>
                        <a:pt x="4707" y="730"/>
                      </a:lnTo>
                      <a:lnTo>
                        <a:pt x="4717" y="697"/>
                      </a:lnTo>
                      <a:lnTo>
                        <a:pt x="4717" y="697"/>
                      </a:lnTo>
                      <a:lnTo>
                        <a:pt x="4725" y="653"/>
                      </a:lnTo>
                      <a:lnTo>
                        <a:pt x="4732" y="620"/>
                      </a:lnTo>
                      <a:lnTo>
                        <a:pt x="4733" y="597"/>
                      </a:lnTo>
                      <a:lnTo>
                        <a:pt x="4733" y="587"/>
                      </a:lnTo>
                      <a:lnTo>
                        <a:pt x="4732" y="577"/>
                      </a:lnTo>
                      <a:lnTo>
                        <a:pt x="4728" y="570"/>
                      </a:lnTo>
                      <a:lnTo>
                        <a:pt x="4725" y="564"/>
                      </a:lnTo>
                      <a:lnTo>
                        <a:pt x="4722" y="557"/>
                      </a:lnTo>
                      <a:lnTo>
                        <a:pt x="4717" y="552"/>
                      </a:lnTo>
                      <a:lnTo>
                        <a:pt x="4704" y="542"/>
                      </a:lnTo>
                      <a:lnTo>
                        <a:pt x="4687" y="531"/>
                      </a:lnTo>
                      <a:lnTo>
                        <a:pt x="4687" y="531"/>
                      </a:lnTo>
                      <a:lnTo>
                        <a:pt x="4671" y="519"/>
                      </a:lnTo>
                      <a:lnTo>
                        <a:pt x="4656" y="511"/>
                      </a:lnTo>
                      <a:lnTo>
                        <a:pt x="4649" y="508"/>
                      </a:lnTo>
                      <a:lnTo>
                        <a:pt x="4643" y="506"/>
                      </a:lnTo>
                      <a:lnTo>
                        <a:pt x="4634" y="505"/>
                      </a:lnTo>
                      <a:lnTo>
                        <a:pt x="4628" y="505"/>
                      </a:lnTo>
                      <a:lnTo>
                        <a:pt x="4618" y="506"/>
                      </a:lnTo>
                      <a:lnTo>
                        <a:pt x="4610" y="509"/>
                      </a:lnTo>
                      <a:lnTo>
                        <a:pt x="4586" y="519"/>
                      </a:lnTo>
                      <a:lnTo>
                        <a:pt x="4557" y="536"/>
                      </a:lnTo>
                      <a:lnTo>
                        <a:pt x="4521" y="559"/>
                      </a:lnTo>
                      <a:lnTo>
                        <a:pt x="4521" y="559"/>
                      </a:lnTo>
                      <a:lnTo>
                        <a:pt x="4491" y="579"/>
                      </a:lnTo>
                      <a:lnTo>
                        <a:pt x="4464" y="598"/>
                      </a:lnTo>
                      <a:lnTo>
                        <a:pt x="4420" y="633"/>
                      </a:lnTo>
                      <a:lnTo>
                        <a:pt x="4385" y="664"/>
                      </a:lnTo>
                      <a:lnTo>
                        <a:pt x="4361" y="691"/>
                      </a:lnTo>
                      <a:lnTo>
                        <a:pt x="4361" y="691"/>
                      </a:lnTo>
                      <a:lnTo>
                        <a:pt x="4311" y="661"/>
                      </a:lnTo>
                      <a:lnTo>
                        <a:pt x="4260" y="633"/>
                      </a:lnTo>
                      <a:lnTo>
                        <a:pt x="4260" y="633"/>
                      </a:lnTo>
                      <a:lnTo>
                        <a:pt x="4270" y="598"/>
                      </a:lnTo>
                      <a:lnTo>
                        <a:pt x="4280" y="552"/>
                      </a:lnTo>
                      <a:lnTo>
                        <a:pt x="4288" y="496"/>
                      </a:lnTo>
                      <a:lnTo>
                        <a:pt x="4291" y="463"/>
                      </a:lnTo>
                      <a:lnTo>
                        <a:pt x="4293" y="429"/>
                      </a:lnTo>
                      <a:lnTo>
                        <a:pt x="4293" y="429"/>
                      </a:lnTo>
                      <a:lnTo>
                        <a:pt x="4296" y="384"/>
                      </a:lnTo>
                      <a:lnTo>
                        <a:pt x="4295" y="351"/>
                      </a:lnTo>
                      <a:lnTo>
                        <a:pt x="4293" y="326"/>
                      </a:lnTo>
                      <a:lnTo>
                        <a:pt x="4291" y="317"/>
                      </a:lnTo>
                      <a:lnTo>
                        <a:pt x="4288" y="308"/>
                      </a:lnTo>
                      <a:lnTo>
                        <a:pt x="4285" y="302"/>
                      </a:lnTo>
                      <a:lnTo>
                        <a:pt x="4280" y="297"/>
                      </a:lnTo>
                      <a:lnTo>
                        <a:pt x="4275" y="292"/>
                      </a:lnTo>
                      <a:lnTo>
                        <a:pt x="4268" y="287"/>
                      </a:lnTo>
                      <a:lnTo>
                        <a:pt x="4255" y="279"/>
                      </a:lnTo>
                      <a:lnTo>
                        <a:pt x="4235" y="270"/>
                      </a:lnTo>
                      <a:lnTo>
                        <a:pt x="4235" y="270"/>
                      </a:lnTo>
                      <a:lnTo>
                        <a:pt x="4217" y="262"/>
                      </a:lnTo>
                      <a:lnTo>
                        <a:pt x="4202" y="256"/>
                      </a:lnTo>
                      <a:lnTo>
                        <a:pt x="4194" y="254"/>
                      </a:lnTo>
                      <a:lnTo>
                        <a:pt x="4187" y="254"/>
                      </a:lnTo>
                      <a:lnTo>
                        <a:pt x="4181" y="254"/>
                      </a:lnTo>
                      <a:lnTo>
                        <a:pt x="4173" y="256"/>
                      </a:lnTo>
                      <a:lnTo>
                        <a:pt x="4164" y="259"/>
                      </a:lnTo>
                      <a:lnTo>
                        <a:pt x="4156" y="262"/>
                      </a:lnTo>
                      <a:lnTo>
                        <a:pt x="4136" y="277"/>
                      </a:lnTo>
                      <a:lnTo>
                        <a:pt x="4110" y="298"/>
                      </a:lnTo>
                      <a:lnTo>
                        <a:pt x="4077" y="328"/>
                      </a:lnTo>
                      <a:lnTo>
                        <a:pt x="4077" y="328"/>
                      </a:lnTo>
                      <a:lnTo>
                        <a:pt x="4052" y="353"/>
                      </a:lnTo>
                      <a:lnTo>
                        <a:pt x="4029" y="376"/>
                      </a:lnTo>
                      <a:lnTo>
                        <a:pt x="3991" y="419"/>
                      </a:lnTo>
                      <a:lnTo>
                        <a:pt x="3963" y="455"/>
                      </a:lnTo>
                      <a:lnTo>
                        <a:pt x="3942" y="485"/>
                      </a:lnTo>
                      <a:lnTo>
                        <a:pt x="3942" y="485"/>
                      </a:lnTo>
                      <a:lnTo>
                        <a:pt x="3889" y="465"/>
                      </a:lnTo>
                      <a:lnTo>
                        <a:pt x="3835" y="445"/>
                      </a:lnTo>
                      <a:lnTo>
                        <a:pt x="3835" y="445"/>
                      </a:lnTo>
                      <a:lnTo>
                        <a:pt x="3838" y="411"/>
                      </a:lnTo>
                      <a:lnTo>
                        <a:pt x="3840" y="364"/>
                      </a:lnTo>
                      <a:lnTo>
                        <a:pt x="3838" y="307"/>
                      </a:lnTo>
                      <a:lnTo>
                        <a:pt x="3835" y="274"/>
                      </a:lnTo>
                      <a:lnTo>
                        <a:pt x="3831" y="239"/>
                      </a:lnTo>
                      <a:lnTo>
                        <a:pt x="3831" y="239"/>
                      </a:lnTo>
                      <a:lnTo>
                        <a:pt x="3826" y="195"/>
                      </a:lnTo>
                      <a:lnTo>
                        <a:pt x="3820" y="162"/>
                      </a:lnTo>
                      <a:lnTo>
                        <a:pt x="3813" y="138"/>
                      </a:lnTo>
                      <a:lnTo>
                        <a:pt x="3810" y="129"/>
                      </a:lnTo>
                      <a:lnTo>
                        <a:pt x="3805" y="122"/>
                      </a:lnTo>
                      <a:lnTo>
                        <a:pt x="3800" y="115"/>
                      </a:lnTo>
                      <a:lnTo>
                        <a:pt x="3795" y="110"/>
                      </a:lnTo>
                      <a:lnTo>
                        <a:pt x="3788" y="107"/>
                      </a:lnTo>
                      <a:lnTo>
                        <a:pt x="3782" y="104"/>
                      </a:lnTo>
                      <a:lnTo>
                        <a:pt x="3767" y="97"/>
                      </a:lnTo>
                      <a:lnTo>
                        <a:pt x="3747" y="92"/>
                      </a:lnTo>
                      <a:lnTo>
                        <a:pt x="3747" y="92"/>
                      </a:lnTo>
                      <a:lnTo>
                        <a:pt x="3727" y="87"/>
                      </a:lnTo>
                      <a:lnTo>
                        <a:pt x="3711" y="84"/>
                      </a:lnTo>
                      <a:lnTo>
                        <a:pt x="3704" y="84"/>
                      </a:lnTo>
                      <a:lnTo>
                        <a:pt x="3696" y="84"/>
                      </a:lnTo>
                      <a:lnTo>
                        <a:pt x="3690" y="86"/>
                      </a:lnTo>
                      <a:lnTo>
                        <a:pt x="3683" y="89"/>
                      </a:lnTo>
                      <a:lnTo>
                        <a:pt x="3675" y="92"/>
                      </a:lnTo>
                      <a:lnTo>
                        <a:pt x="3666" y="99"/>
                      </a:lnTo>
                      <a:lnTo>
                        <a:pt x="3650" y="117"/>
                      </a:lnTo>
                      <a:lnTo>
                        <a:pt x="3627" y="142"/>
                      </a:lnTo>
                      <a:lnTo>
                        <a:pt x="3601" y="176"/>
                      </a:lnTo>
                      <a:lnTo>
                        <a:pt x="3601" y="176"/>
                      </a:lnTo>
                      <a:lnTo>
                        <a:pt x="3581" y="206"/>
                      </a:lnTo>
                      <a:lnTo>
                        <a:pt x="3561" y="232"/>
                      </a:lnTo>
                      <a:lnTo>
                        <a:pt x="3531" y="282"/>
                      </a:lnTo>
                      <a:lnTo>
                        <a:pt x="3510" y="323"/>
                      </a:lnTo>
                      <a:lnTo>
                        <a:pt x="3495" y="354"/>
                      </a:lnTo>
                      <a:lnTo>
                        <a:pt x="3495" y="354"/>
                      </a:lnTo>
                      <a:lnTo>
                        <a:pt x="3439" y="345"/>
                      </a:lnTo>
                      <a:lnTo>
                        <a:pt x="3381" y="335"/>
                      </a:lnTo>
                      <a:lnTo>
                        <a:pt x="3381" y="335"/>
                      </a:lnTo>
                      <a:lnTo>
                        <a:pt x="3380" y="300"/>
                      </a:lnTo>
                      <a:lnTo>
                        <a:pt x="3373" y="254"/>
                      </a:lnTo>
                      <a:lnTo>
                        <a:pt x="3361" y="198"/>
                      </a:lnTo>
                      <a:lnTo>
                        <a:pt x="3353" y="165"/>
                      </a:lnTo>
                      <a:lnTo>
                        <a:pt x="3343" y="132"/>
                      </a:lnTo>
                      <a:lnTo>
                        <a:pt x="3343" y="132"/>
                      </a:lnTo>
                      <a:lnTo>
                        <a:pt x="3330" y="89"/>
                      </a:lnTo>
                      <a:lnTo>
                        <a:pt x="3319" y="58"/>
                      </a:lnTo>
                      <a:lnTo>
                        <a:pt x="3307" y="36"/>
                      </a:lnTo>
                      <a:lnTo>
                        <a:pt x="3302" y="28"/>
                      </a:lnTo>
                      <a:lnTo>
                        <a:pt x="3297" y="21"/>
                      </a:lnTo>
                      <a:lnTo>
                        <a:pt x="3291" y="15"/>
                      </a:lnTo>
                      <a:lnTo>
                        <a:pt x="3286" y="12"/>
                      </a:lnTo>
                      <a:lnTo>
                        <a:pt x="3279" y="8"/>
                      </a:lnTo>
                      <a:lnTo>
                        <a:pt x="3271" y="7"/>
                      </a:lnTo>
                      <a:lnTo>
                        <a:pt x="3254" y="3"/>
                      </a:lnTo>
                      <a:lnTo>
                        <a:pt x="3235" y="2"/>
                      </a:lnTo>
                      <a:lnTo>
                        <a:pt x="3235" y="2"/>
                      </a:lnTo>
                      <a:lnTo>
                        <a:pt x="3215" y="0"/>
                      </a:lnTo>
                      <a:lnTo>
                        <a:pt x="3198" y="0"/>
                      </a:lnTo>
                      <a:lnTo>
                        <a:pt x="3190" y="2"/>
                      </a:lnTo>
                      <a:lnTo>
                        <a:pt x="3183" y="3"/>
                      </a:lnTo>
                      <a:lnTo>
                        <a:pt x="3177" y="5"/>
                      </a:lnTo>
                      <a:lnTo>
                        <a:pt x="3170" y="10"/>
                      </a:lnTo>
                      <a:lnTo>
                        <a:pt x="3164" y="15"/>
                      </a:lnTo>
                      <a:lnTo>
                        <a:pt x="3157" y="23"/>
                      </a:lnTo>
                      <a:lnTo>
                        <a:pt x="3142" y="43"/>
                      </a:lnTo>
                      <a:lnTo>
                        <a:pt x="3126" y="71"/>
                      </a:lnTo>
                      <a:lnTo>
                        <a:pt x="3106" y="110"/>
                      </a:lnTo>
                      <a:lnTo>
                        <a:pt x="3106" y="110"/>
                      </a:lnTo>
                      <a:lnTo>
                        <a:pt x="3089" y="142"/>
                      </a:lnTo>
                      <a:lnTo>
                        <a:pt x="3076" y="171"/>
                      </a:lnTo>
                      <a:lnTo>
                        <a:pt x="3055" y="226"/>
                      </a:lnTo>
                      <a:lnTo>
                        <a:pt x="3042" y="270"/>
                      </a:lnTo>
                      <a:lnTo>
                        <a:pt x="3032" y="305"/>
                      </a:lnTo>
                      <a:lnTo>
                        <a:pt x="3032" y="305"/>
                      </a:lnTo>
                      <a:lnTo>
                        <a:pt x="2974" y="303"/>
                      </a:lnTo>
                      <a:lnTo>
                        <a:pt x="2916" y="305"/>
                      </a:lnTo>
                      <a:lnTo>
                        <a:pt x="2916" y="305"/>
                      </a:lnTo>
                      <a:lnTo>
                        <a:pt x="2908" y="270"/>
                      </a:lnTo>
                      <a:lnTo>
                        <a:pt x="2893" y="226"/>
                      </a:lnTo>
                      <a:lnTo>
                        <a:pt x="2872" y="171"/>
                      </a:lnTo>
                      <a:lnTo>
                        <a:pt x="2859" y="142"/>
                      </a:lnTo>
                      <a:lnTo>
                        <a:pt x="2844" y="110"/>
                      </a:lnTo>
                      <a:lnTo>
                        <a:pt x="2844" y="110"/>
                      </a:lnTo>
                      <a:lnTo>
                        <a:pt x="2824" y="71"/>
                      </a:lnTo>
                      <a:lnTo>
                        <a:pt x="2806" y="43"/>
                      </a:lnTo>
                      <a:lnTo>
                        <a:pt x="2793" y="23"/>
                      </a:lnTo>
                      <a:lnTo>
                        <a:pt x="2786" y="15"/>
                      </a:lnTo>
                      <a:lnTo>
                        <a:pt x="2779" y="10"/>
                      </a:lnTo>
                      <a:lnTo>
                        <a:pt x="2773" y="5"/>
                      </a:lnTo>
                      <a:lnTo>
                        <a:pt x="2766" y="3"/>
                      </a:lnTo>
                      <a:lnTo>
                        <a:pt x="2758" y="2"/>
                      </a:lnTo>
                      <a:lnTo>
                        <a:pt x="2751" y="0"/>
                      </a:lnTo>
                      <a:lnTo>
                        <a:pt x="2735" y="0"/>
                      </a:lnTo>
                      <a:lnTo>
                        <a:pt x="2715" y="2"/>
                      </a:lnTo>
                      <a:lnTo>
                        <a:pt x="2715" y="2"/>
                      </a:lnTo>
                      <a:lnTo>
                        <a:pt x="2694" y="3"/>
                      </a:lnTo>
                      <a:lnTo>
                        <a:pt x="2677" y="7"/>
                      </a:lnTo>
                      <a:lnTo>
                        <a:pt x="2671" y="8"/>
                      </a:lnTo>
                      <a:lnTo>
                        <a:pt x="2664" y="12"/>
                      </a:lnTo>
                      <a:lnTo>
                        <a:pt x="2657" y="15"/>
                      </a:lnTo>
                      <a:lnTo>
                        <a:pt x="2652" y="21"/>
                      </a:lnTo>
                      <a:lnTo>
                        <a:pt x="2648" y="28"/>
                      </a:lnTo>
                      <a:lnTo>
                        <a:pt x="2641" y="36"/>
                      </a:lnTo>
                      <a:lnTo>
                        <a:pt x="2631" y="58"/>
                      </a:lnTo>
                      <a:lnTo>
                        <a:pt x="2620" y="89"/>
                      </a:lnTo>
                      <a:lnTo>
                        <a:pt x="2606" y="132"/>
                      </a:lnTo>
                      <a:lnTo>
                        <a:pt x="2606" y="132"/>
                      </a:lnTo>
                      <a:lnTo>
                        <a:pt x="2596" y="165"/>
                      </a:lnTo>
                      <a:lnTo>
                        <a:pt x="2588" y="198"/>
                      </a:lnTo>
                      <a:lnTo>
                        <a:pt x="2577" y="254"/>
                      </a:lnTo>
                      <a:lnTo>
                        <a:pt x="2570" y="300"/>
                      </a:lnTo>
                      <a:lnTo>
                        <a:pt x="2567" y="335"/>
                      </a:lnTo>
                      <a:lnTo>
                        <a:pt x="2567" y="335"/>
                      </a:lnTo>
                      <a:lnTo>
                        <a:pt x="2511" y="345"/>
                      </a:lnTo>
                      <a:lnTo>
                        <a:pt x="2455" y="354"/>
                      </a:lnTo>
                      <a:lnTo>
                        <a:pt x="2455" y="354"/>
                      </a:lnTo>
                      <a:lnTo>
                        <a:pt x="2440" y="323"/>
                      </a:lnTo>
                      <a:lnTo>
                        <a:pt x="2417" y="282"/>
                      </a:lnTo>
                      <a:lnTo>
                        <a:pt x="2387" y="232"/>
                      </a:lnTo>
                      <a:lnTo>
                        <a:pt x="2369" y="206"/>
                      </a:lnTo>
                      <a:lnTo>
                        <a:pt x="2347" y="176"/>
                      </a:lnTo>
                      <a:lnTo>
                        <a:pt x="2347" y="176"/>
                      </a:lnTo>
                      <a:lnTo>
                        <a:pt x="2321" y="142"/>
                      </a:lnTo>
                      <a:lnTo>
                        <a:pt x="2300" y="117"/>
                      </a:lnTo>
                      <a:lnTo>
                        <a:pt x="2282" y="99"/>
                      </a:lnTo>
                      <a:lnTo>
                        <a:pt x="2275" y="92"/>
                      </a:lnTo>
                      <a:lnTo>
                        <a:pt x="2267" y="89"/>
                      </a:lnTo>
                      <a:lnTo>
                        <a:pt x="2260" y="86"/>
                      </a:lnTo>
                      <a:lnTo>
                        <a:pt x="2252" y="84"/>
                      </a:lnTo>
                      <a:lnTo>
                        <a:pt x="2245" y="84"/>
                      </a:lnTo>
                      <a:lnTo>
                        <a:pt x="2239" y="84"/>
                      </a:lnTo>
                      <a:lnTo>
                        <a:pt x="2222" y="87"/>
                      </a:lnTo>
                      <a:lnTo>
                        <a:pt x="2202" y="92"/>
                      </a:lnTo>
                      <a:lnTo>
                        <a:pt x="2202" y="92"/>
                      </a:lnTo>
                      <a:lnTo>
                        <a:pt x="2183" y="97"/>
                      </a:lnTo>
                      <a:lnTo>
                        <a:pt x="2166" y="104"/>
                      </a:lnTo>
                      <a:lnTo>
                        <a:pt x="2160" y="107"/>
                      </a:lnTo>
                      <a:lnTo>
                        <a:pt x="2155" y="110"/>
                      </a:lnTo>
                      <a:lnTo>
                        <a:pt x="2148" y="115"/>
                      </a:lnTo>
                      <a:lnTo>
                        <a:pt x="2145" y="122"/>
                      </a:lnTo>
                      <a:lnTo>
                        <a:pt x="2140" y="129"/>
                      </a:lnTo>
                      <a:lnTo>
                        <a:pt x="2136" y="138"/>
                      </a:lnTo>
                      <a:lnTo>
                        <a:pt x="2130" y="162"/>
                      </a:lnTo>
                      <a:lnTo>
                        <a:pt x="2123" y="195"/>
                      </a:lnTo>
                      <a:lnTo>
                        <a:pt x="2118" y="239"/>
                      </a:lnTo>
                      <a:lnTo>
                        <a:pt x="2118" y="239"/>
                      </a:lnTo>
                      <a:lnTo>
                        <a:pt x="2113" y="274"/>
                      </a:lnTo>
                      <a:lnTo>
                        <a:pt x="2112" y="307"/>
                      </a:lnTo>
                      <a:lnTo>
                        <a:pt x="2110" y="364"/>
                      </a:lnTo>
                      <a:lnTo>
                        <a:pt x="2112" y="411"/>
                      </a:lnTo>
                      <a:lnTo>
                        <a:pt x="2115" y="447"/>
                      </a:lnTo>
                      <a:lnTo>
                        <a:pt x="2115" y="447"/>
                      </a:lnTo>
                      <a:lnTo>
                        <a:pt x="2061" y="465"/>
                      </a:lnTo>
                      <a:lnTo>
                        <a:pt x="2008" y="486"/>
                      </a:lnTo>
                      <a:lnTo>
                        <a:pt x="2008" y="486"/>
                      </a:lnTo>
                      <a:lnTo>
                        <a:pt x="1986" y="457"/>
                      </a:lnTo>
                      <a:lnTo>
                        <a:pt x="1958" y="419"/>
                      </a:lnTo>
                      <a:lnTo>
                        <a:pt x="1920" y="376"/>
                      </a:lnTo>
                      <a:lnTo>
                        <a:pt x="1897" y="353"/>
                      </a:lnTo>
                      <a:lnTo>
                        <a:pt x="1871" y="328"/>
                      </a:lnTo>
                      <a:lnTo>
                        <a:pt x="1871" y="328"/>
                      </a:lnTo>
                      <a:lnTo>
                        <a:pt x="1840" y="298"/>
                      </a:lnTo>
                      <a:lnTo>
                        <a:pt x="1813" y="277"/>
                      </a:lnTo>
                      <a:lnTo>
                        <a:pt x="1793" y="262"/>
                      </a:lnTo>
                      <a:lnTo>
                        <a:pt x="1784" y="259"/>
                      </a:lnTo>
                      <a:lnTo>
                        <a:pt x="1775" y="256"/>
                      </a:lnTo>
                      <a:lnTo>
                        <a:pt x="1769" y="254"/>
                      </a:lnTo>
                      <a:lnTo>
                        <a:pt x="1762" y="254"/>
                      </a:lnTo>
                      <a:lnTo>
                        <a:pt x="1754" y="254"/>
                      </a:lnTo>
                      <a:lnTo>
                        <a:pt x="1747" y="256"/>
                      </a:lnTo>
                      <a:lnTo>
                        <a:pt x="1731" y="262"/>
                      </a:lnTo>
                      <a:lnTo>
                        <a:pt x="1713" y="270"/>
                      </a:lnTo>
                      <a:lnTo>
                        <a:pt x="1713" y="270"/>
                      </a:lnTo>
                      <a:lnTo>
                        <a:pt x="1695" y="279"/>
                      </a:lnTo>
                      <a:lnTo>
                        <a:pt x="1680" y="287"/>
                      </a:lnTo>
                      <a:lnTo>
                        <a:pt x="1675" y="292"/>
                      </a:lnTo>
                      <a:lnTo>
                        <a:pt x="1670" y="297"/>
                      </a:lnTo>
                      <a:lnTo>
                        <a:pt x="1665" y="302"/>
                      </a:lnTo>
                      <a:lnTo>
                        <a:pt x="1662" y="308"/>
                      </a:lnTo>
                      <a:lnTo>
                        <a:pt x="1658" y="317"/>
                      </a:lnTo>
                      <a:lnTo>
                        <a:pt x="1657" y="326"/>
                      </a:lnTo>
                      <a:lnTo>
                        <a:pt x="1653" y="351"/>
                      </a:lnTo>
                      <a:lnTo>
                        <a:pt x="1653" y="384"/>
                      </a:lnTo>
                      <a:lnTo>
                        <a:pt x="1655" y="429"/>
                      </a:lnTo>
                      <a:lnTo>
                        <a:pt x="1655" y="429"/>
                      </a:lnTo>
                      <a:lnTo>
                        <a:pt x="1658" y="465"/>
                      </a:lnTo>
                      <a:lnTo>
                        <a:pt x="1662" y="498"/>
                      </a:lnTo>
                      <a:lnTo>
                        <a:pt x="1670" y="554"/>
                      </a:lnTo>
                      <a:lnTo>
                        <a:pt x="1680" y="600"/>
                      </a:lnTo>
                      <a:lnTo>
                        <a:pt x="1690" y="635"/>
                      </a:lnTo>
                      <a:lnTo>
                        <a:pt x="1690" y="635"/>
                      </a:lnTo>
                      <a:lnTo>
                        <a:pt x="1639" y="663"/>
                      </a:lnTo>
                      <a:lnTo>
                        <a:pt x="1591" y="692"/>
                      </a:lnTo>
                      <a:lnTo>
                        <a:pt x="1591" y="692"/>
                      </a:lnTo>
                      <a:lnTo>
                        <a:pt x="1564" y="666"/>
                      </a:lnTo>
                      <a:lnTo>
                        <a:pt x="1530" y="635"/>
                      </a:lnTo>
                      <a:lnTo>
                        <a:pt x="1485" y="598"/>
                      </a:lnTo>
                      <a:lnTo>
                        <a:pt x="1459" y="580"/>
                      </a:lnTo>
                      <a:lnTo>
                        <a:pt x="1429" y="559"/>
                      </a:lnTo>
                      <a:lnTo>
                        <a:pt x="1429" y="559"/>
                      </a:lnTo>
                      <a:lnTo>
                        <a:pt x="1391" y="536"/>
                      </a:lnTo>
                      <a:lnTo>
                        <a:pt x="1363" y="519"/>
                      </a:lnTo>
                      <a:lnTo>
                        <a:pt x="1340" y="509"/>
                      </a:lnTo>
                      <a:lnTo>
                        <a:pt x="1330" y="506"/>
                      </a:lnTo>
                      <a:lnTo>
                        <a:pt x="1322" y="505"/>
                      </a:lnTo>
                      <a:lnTo>
                        <a:pt x="1314" y="505"/>
                      </a:lnTo>
                      <a:lnTo>
                        <a:pt x="1307" y="506"/>
                      </a:lnTo>
                      <a:lnTo>
                        <a:pt x="1301" y="508"/>
                      </a:lnTo>
                      <a:lnTo>
                        <a:pt x="1294" y="511"/>
                      </a:lnTo>
                      <a:lnTo>
                        <a:pt x="1279" y="519"/>
                      </a:lnTo>
                      <a:lnTo>
                        <a:pt x="1263" y="531"/>
                      </a:lnTo>
                      <a:lnTo>
                        <a:pt x="1263" y="531"/>
                      </a:lnTo>
                      <a:lnTo>
                        <a:pt x="1246" y="542"/>
                      </a:lnTo>
                      <a:lnTo>
                        <a:pt x="1233" y="552"/>
                      </a:lnTo>
                      <a:lnTo>
                        <a:pt x="1228" y="557"/>
                      </a:lnTo>
                      <a:lnTo>
                        <a:pt x="1223" y="564"/>
                      </a:lnTo>
                      <a:lnTo>
                        <a:pt x="1220" y="570"/>
                      </a:lnTo>
                      <a:lnTo>
                        <a:pt x="1218" y="577"/>
                      </a:lnTo>
                      <a:lnTo>
                        <a:pt x="1216" y="587"/>
                      </a:lnTo>
                      <a:lnTo>
                        <a:pt x="1216" y="595"/>
                      </a:lnTo>
                      <a:lnTo>
                        <a:pt x="1218" y="620"/>
                      </a:lnTo>
                      <a:lnTo>
                        <a:pt x="1223" y="653"/>
                      </a:lnTo>
                      <a:lnTo>
                        <a:pt x="1233" y="697"/>
                      </a:lnTo>
                      <a:lnTo>
                        <a:pt x="1233" y="697"/>
                      </a:lnTo>
                      <a:lnTo>
                        <a:pt x="1241" y="732"/>
                      </a:lnTo>
                      <a:lnTo>
                        <a:pt x="1251" y="763"/>
                      </a:lnTo>
                      <a:lnTo>
                        <a:pt x="1269" y="818"/>
                      </a:lnTo>
                      <a:lnTo>
                        <a:pt x="1287" y="861"/>
                      </a:lnTo>
                      <a:lnTo>
                        <a:pt x="1302" y="894"/>
                      </a:lnTo>
                      <a:lnTo>
                        <a:pt x="1302" y="894"/>
                      </a:lnTo>
                      <a:lnTo>
                        <a:pt x="1258" y="930"/>
                      </a:lnTo>
                      <a:lnTo>
                        <a:pt x="1213" y="966"/>
                      </a:lnTo>
                      <a:lnTo>
                        <a:pt x="1213" y="966"/>
                      </a:lnTo>
                      <a:lnTo>
                        <a:pt x="1185" y="946"/>
                      </a:lnTo>
                      <a:lnTo>
                        <a:pt x="1146" y="922"/>
                      </a:lnTo>
                      <a:lnTo>
                        <a:pt x="1094" y="894"/>
                      </a:lnTo>
                      <a:lnTo>
                        <a:pt x="1065" y="879"/>
                      </a:lnTo>
                      <a:lnTo>
                        <a:pt x="1033" y="866"/>
                      </a:lnTo>
                      <a:lnTo>
                        <a:pt x="1033" y="866"/>
                      </a:lnTo>
                      <a:lnTo>
                        <a:pt x="992" y="847"/>
                      </a:lnTo>
                      <a:lnTo>
                        <a:pt x="961" y="838"/>
                      </a:lnTo>
                      <a:lnTo>
                        <a:pt x="936" y="831"/>
                      </a:lnTo>
                      <a:lnTo>
                        <a:pt x="926" y="829"/>
                      </a:lnTo>
                      <a:lnTo>
                        <a:pt x="918" y="829"/>
                      </a:lnTo>
                      <a:lnTo>
                        <a:pt x="910" y="831"/>
                      </a:lnTo>
                      <a:lnTo>
                        <a:pt x="903" y="833"/>
                      </a:lnTo>
                      <a:lnTo>
                        <a:pt x="897" y="836"/>
                      </a:lnTo>
                      <a:lnTo>
                        <a:pt x="892" y="839"/>
                      </a:lnTo>
                      <a:lnTo>
                        <a:pt x="878" y="851"/>
                      </a:lnTo>
                      <a:lnTo>
                        <a:pt x="864" y="866"/>
                      </a:lnTo>
                      <a:lnTo>
                        <a:pt x="864" y="866"/>
                      </a:lnTo>
                      <a:lnTo>
                        <a:pt x="850" y="879"/>
                      </a:lnTo>
                      <a:lnTo>
                        <a:pt x="839" y="892"/>
                      </a:lnTo>
                      <a:lnTo>
                        <a:pt x="834" y="899"/>
                      </a:lnTo>
                      <a:lnTo>
                        <a:pt x="832" y="905"/>
                      </a:lnTo>
                      <a:lnTo>
                        <a:pt x="829" y="912"/>
                      </a:lnTo>
                      <a:lnTo>
                        <a:pt x="829" y="918"/>
                      </a:lnTo>
                      <a:lnTo>
                        <a:pt x="829" y="928"/>
                      </a:lnTo>
                      <a:lnTo>
                        <a:pt x="829" y="938"/>
                      </a:lnTo>
                      <a:lnTo>
                        <a:pt x="836" y="961"/>
                      </a:lnTo>
                      <a:lnTo>
                        <a:pt x="847" y="993"/>
                      </a:lnTo>
                      <a:lnTo>
                        <a:pt x="864" y="1034"/>
                      </a:lnTo>
                      <a:lnTo>
                        <a:pt x="864" y="1034"/>
                      </a:lnTo>
                      <a:lnTo>
                        <a:pt x="878" y="1067"/>
                      </a:lnTo>
                      <a:lnTo>
                        <a:pt x="893" y="1095"/>
                      </a:lnTo>
                      <a:lnTo>
                        <a:pt x="920" y="1146"/>
                      </a:lnTo>
                      <a:lnTo>
                        <a:pt x="944" y="1185"/>
                      </a:lnTo>
                      <a:lnTo>
                        <a:pt x="966" y="1215"/>
                      </a:lnTo>
                      <a:lnTo>
                        <a:pt x="966" y="1215"/>
                      </a:lnTo>
                      <a:lnTo>
                        <a:pt x="928" y="1258"/>
                      </a:lnTo>
                      <a:lnTo>
                        <a:pt x="892" y="1303"/>
                      </a:lnTo>
                      <a:lnTo>
                        <a:pt x="892" y="1303"/>
                      </a:lnTo>
                      <a:lnTo>
                        <a:pt x="859" y="1288"/>
                      </a:lnTo>
                      <a:lnTo>
                        <a:pt x="816" y="1270"/>
                      </a:lnTo>
                      <a:lnTo>
                        <a:pt x="761" y="1251"/>
                      </a:lnTo>
                      <a:lnTo>
                        <a:pt x="730" y="1243"/>
                      </a:lnTo>
                      <a:lnTo>
                        <a:pt x="695" y="1235"/>
                      </a:lnTo>
                      <a:lnTo>
                        <a:pt x="695" y="1235"/>
                      </a:lnTo>
                      <a:lnTo>
                        <a:pt x="653" y="1225"/>
                      </a:lnTo>
                      <a:lnTo>
                        <a:pt x="620" y="1218"/>
                      </a:lnTo>
                      <a:lnTo>
                        <a:pt x="595" y="1217"/>
                      </a:lnTo>
                      <a:lnTo>
                        <a:pt x="585" y="1218"/>
                      </a:lnTo>
                      <a:lnTo>
                        <a:pt x="577" y="1218"/>
                      </a:lnTo>
                      <a:lnTo>
                        <a:pt x="570" y="1222"/>
                      </a:lnTo>
                      <a:lnTo>
                        <a:pt x="564" y="1225"/>
                      </a:lnTo>
                      <a:lnTo>
                        <a:pt x="557" y="1228"/>
                      </a:lnTo>
                      <a:lnTo>
                        <a:pt x="552" y="1233"/>
                      </a:lnTo>
                      <a:lnTo>
                        <a:pt x="540" y="1246"/>
                      </a:lnTo>
                      <a:lnTo>
                        <a:pt x="529" y="1263"/>
                      </a:lnTo>
                      <a:lnTo>
                        <a:pt x="529" y="1263"/>
                      </a:lnTo>
                      <a:lnTo>
                        <a:pt x="517" y="1279"/>
                      </a:lnTo>
                      <a:lnTo>
                        <a:pt x="509" y="1294"/>
                      </a:lnTo>
                      <a:lnTo>
                        <a:pt x="506" y="1301"/>
                      </a:lnTo>
                      <a:lnTo>
                        <a:pt x="504" y="1307"/>
                      </a:lnTo>
                      <a:lnTo>
                        <a:pt x="504" y="1316"/>
                      </a:lnTo>
                      <a:lnTo>
                        <a:pt x="504" y="1322"/>
                      </a:lnTo>
                      <a:lnTo>
                        <a:pt x="506" y="1332"/>
                      </a:lnTo>
                      <a:lnTo>
                        <a:pt x="509" y="1340"/>
                      </a:lnTo>
                      <a:lnTo>
                        <a:pt x="519" y="1364"/>
                      </a:lnTo>
                      <a:lnTo>
                        <a:pt x="535" y="1393"/>
                      </a:lnTo>
                      <a:lnTo>
                        <a:pt x="559" y="1429"/>
                      </a:lnTo>
                      <a:lnTo>
                        <a:pt x="559" y="1429"/>
                      </a:lnTo>
                      <a:lnTo>
                        <a:pt x="578" y="1459"/>
                      </a:lnTo>
                      <a:lnTo>
                        <a:pt x="598" y="1486"/>
                      </a:lnTo>
                      <a:lnTo>
                        <a:pt x="633" y="1530"/>
                      </a:lnTo>
                      <a:lnTo>
                        <a:pt x="664" y="1565"/>
                      </a:lnTo>
                      <a:lnTo>
                        <a:pt x="690" y="1589"/>
                      </a:lnTo>
                      <a:lnTo>
                        <a:pt x="690" y="1589"/>
                      </a:lnTo>
                      <a:lnTo>
                        <a:pt x="661" y="1639"/>
                      </a:lnTo>
                      <a:lnTo>
                        <a:pt x="633" y="1690"/>
                      </a:lnTo>
                      <a:lnTo>
                        <a:pt x="633" y="1690"/>
                      </a:lnTo>
                      <a:lnTo>
                        <a:pt x="598" y="1680"/>
                      </a:lnTo>
                      <a:lnTo>
                        <a:pt x="552" y="1670"/>
                      </a:lnTo>
                      <a:lnTo>
                        <a:pt x="496" y="1662"/>
                      </a:lnTo>
                      <a:lnTo>
                        <a:pt x="463" y="1659"/>
                      </a:lnTo>
                      <a:lnTo>
                        <a:pt x="428" y="1657"/>
                      </a:lnTo>
                      <a:lnTo>
                        <a:pt x="428" y="1657"/>
                      </a:lnTo>
                      <a:lnTo>
                        <a:pt x="384" y="1654"/>
                      </a:lnTo>
                      <a:lnTo>
                        <a:pt x="351" y="1655"/>
                      </a:lnTo>
                      <a:lnTo>
                        <a:pt x="326" y="1657"/>
                      </a:lnTo>
                      <a:lnTo>
                        <a:pt x="316" y="1659"/>
                      </a:lnTo>
                      <a:lnTo>
                        <a:pt x="308" y="1662"/>
                      </a:lnTo>
                      <a:lnTo>
                        <a:pt x="301" y="1665"/>
                      </a:lnTo>
                      <a:lnTo>
                        <a:pt x="295" y="1670"/>
                      </a:lnTo>
                      <a:lnTo>
                        <a:pt x="290" y="1675"/>
                      </a:lnTo>
                      <a:lnTo>
                        <a:pt x="287" y="1682"/>
                      </a:lnTo>
                      <a:lnTo>
                        <a:pt x="278" y="1695"/>
                      </a:lnTo>
                      <a:lnTo>
                        <a:pt x="270" y="1715"/>
                      </a:lnTo>
                      <a:lnTo>
                        <a:pt x="270" y="1715"/>
                      </a:lnTo>
                      <a:lnTo>
                        <a:pt x="260" y="1733"/>
                      </a:lnTo>
                      <a:lnTo>
                        <a:pt x="255" y="1748"/>
                      </a:lnTo>
                      <a:lnTo>
                        <a:pt x="254" y="1756"/>
                      </a:lnTo>
                      <a:lnTo>
                        <a:pt x="252" y="1763"/>
                      </a:lnTo>
                      <a:lnTo>
                        <a:pt x="254" y="1769"/>
                      </a:lnTo>
                      <a:lnTo>
                        <a:pt x="255" y="1777"/>
                      </a:lnTo>
                      <a:lnTo>
                        <a:pt x="257" y="1786"/>
                      </a:lnTo>
                      <a:lnTo>
                        <a:pt x="262" y="1794"/>
                      </a:lnTo>
                      <a:lnTo>
                        <a:pt x="277" y="1815"/>
                      </a:lnTo>
                      <a:lnTo>
                        <a:pt x="298" y="1840"/>
                      </a:lnTo>
                      <a:lnTo>
                        <a:pt x="328" y="1873"/>
                      </a:lnTo>
                      <a:lnTo>
                        <a:pt x="328" y="1873"/>
                      </a:lnTo>
                      <a:lnTo>
                        <a:pt x="351" y="1898"/>
                      </a:lnTo>
                      <a:lnTo>
                        <a:pt x="376" y="1921"/>
                      </a:lnTo>
                      <a:lnTo>
                        <a:pt x="418" y="1959"/>
                      </a:lnTo>
                      <a:lnTo>
                        <a:pt x="455" y="1987"/>
                      </a:lnTo>
                      <a:lnTo>
                        <a:pt x="484" y="2008"/>
                      </a:lnTo>
                      <a:lnTo>
                        <a:pt x="484" y="2008"/>
                      </a:lnTo>
                      <a:lnTo>
                        <a:pt x="465" y="2061"/>
                      </a:lnTo>
                      <a:lnTo>
                        <a:pt x="445" y="2115"/>
                      </a:lnTo>
                      <a:lnTo>
                        <a:pt x="445" y="2115"/>
                      </a:lnTo>
                      <a:lnTo>
                        <a:pt x="410" y="2112"/>
                      </a:lnTo>
                      <a:lnTo>
                        <a:pt x="362" y="2110"/>
                      </a:lnTo>
                      <a:lnTo>
                        <a:pt x="306" y="2112"/>
                      </a:lnTo>
                      <a:lnTo>
                        <a:pt x="273" y="2115"/>
                      </a:lnTo>
                      <a:lnTo>
                        <a:pt x="237" y="2119"/>
                      </a:lnTo>
                      <a:lnTo>
                        <a:pt x="237" y="2119"/>
                      </a:lnTo>
                      <a:lnTo>
                        <a:pt x="194" y="2124"/>
                      </a:lnTo>
                      <a:lnTo>
                        <a:pt x="161" y="2130"/>
                      </a:lnTo>
                      <a:lnTo>
                        <a:pt x="136" y="2137"/>
                      </a:lnTo>
                      <a:lnTo>
                        <a:pt x="128" y="2140"/>
                      </a:lnTo>
                      <a:lnTo>
                        <a:pt x="120" y="2145"/>
                      </a:lnTo>
                      <a:lnTo>
                        <a:pt x="115" y="2150"/>
                      </a:lnTo>
                      <a:lnTo>
                        <a:pt x="110" y="2155"/>
                      </a:lnTo>
                      <a:lnTo>
                        <a:pt x="105" y="2162"/>
                      </a:lnTo>
                      <a:lnTo>
                        <a:pt x="102" y="2168"/>
                      </a:lnTo>
                      <a:lnTo>
                        <a:pt x="97" y="2183"/>
                      </a:lnTo>
                      <a:lnTo>
                        <a:pt x="92" y="2203"/>
                      </a:lnTo>
                      <a:lnTo>
                        <a:pt x="92" y="2203"/>
                      </a:lnTo>
                      <a:lnTo>
                        <a:pt x="85" y="2223"/>
                      </a:lnTo>
                      <a:lnTo>
                        <a:pt x="84" y="2239"/>
                      </a:lnTo>
                      <a:lnTo>
                        <a:pt x="82" y="2246"/>
                      </a:lnTo>
                      <a:lnTo>
                        <a:pt x="84" y="2254"/>
                      </a:lnTo>
                      <a:lnTo>
                        <a:pt x="85" y="2260"/>
                      </a:lnTo>
                      <a:lnTo>
                        <a:pt x="87" y="2267"/>
                      </a:lnTo>
                      <a:lnTo>
                        <a:pt x="92" y="2275"/>
                      </a:lnTo>
                      <a:lnTo>
                        <a:pt x="99" y="2284"/>
                      </a:lnTo>
                      <a:lnTo>
                        <a:pt x="115" y="2300"/>
                      </a:lnTo>
                      <a:lnTo>
                        <a:pt x="141" y="2323"/>
                      </a:lnTo>
                      <a:lnTo>
                        <a:pt x="176" y="2349"/>
                      </a:lnTo>
                      <a:lnTo>
                        <a:pt x="176" y="2349"/>
                      </a:lnTo>
                      <a:lnTo>
                        <a:pt x="204" y="2369"/>
                      </a:lnTo>
                      <a:lnTo>
                        <a:pt x="232" y="2389"/>
                      </a:lnTo>
                      <a:lnTo>
                        <a:pt x="280" y="2419"/>
                      </a:lnTo>
                      <a:lnTo>
                        <a:pt x="321" y="2440"/>
                      </a:lnTo>
                      <a:lnTo>
                        <a:pt x="354" y="2455"/>
                      </a:lnTo>
                      <a:lnTo>
                        <a:pt x="354" y="2455"/>
                      </a:lnTo>
                      <a:lnTo>
                        <a:pt x="343" y="2511"/>
                      </a:lnTo>
                      <a:lnTo>
                        <a:pt x="333" y="2569"/>
                      </a:lnTo>
                      <a:lnTo>
                        <a:pt x="333" y="2569"/>
                      </a:lnTo>
                      <a:lnTo>
                        <a:pt x="298" y="2572"/>
                      </a:lnTo>
                      <a:lnTo>
                        <a:pt x="252" y="2579"/>
                      </a:lnTo>
                      <a:lnTo>
                        <a:pt x="196" y="2589"/>
                      </a:lnTo>
                      <a:lnTo>
                        <a:pt x="165" y="2597"/>
                      </a:lnTo>
                      <a:lnTo>
                        <a:pt x="130" y="2607"/>
                      </a:lnTo>
                      <a:lnTo>
                        <a:pt x="130" y="2607"/>
                      </a:lnTo>
                      <a:lnTo>
                        <a:pt x="89" y="2620"/>
                      </a:lnTo>
                      <a:lnTo>
                        <a:pt x="57" y="2631"/>
                      </a:lnTo>
                      <a:lnTo>
                        <a:pt x="34" y="2643"/>
                      </a:lnTo>
                      <a:lnTo>
                        <a:pt x="26" y="2648"/>
                      </a:lnTo>
                      <a:lnTo>
                        <a:pt x="19" y="2653"/>
                      </a:lnTo>
                      <a:lnTo>
                        <a:pt x="14" y="2659"/>
                      </a:lnTo>
                      <a:lnTo>
                        <a:pt x="11" y="2664"/>
                      </a:lnTo>
                      <a:lnTo>
                        <a:pt x="8" y="2671"/>
                      </a:lnTo>
                      <a:lnTo>
                        <a:pt x="5" y="2679"/>
                      </a:lnTo>
                      <a:lnTo>
                        <a:pt x="3" y="2696"/>
                      </a:lnTo>
                      <a:lnTo>
                        <a:pt x="1" y="2715"/>
                      </a:lnTo>
                      <a:lnTo>
                        <a:pt x="1" y="2715"/>
                      </a:lnTo>
                      <a:lnTo>
                        <a:pt x="0" y="2735"/>
                      </a:lnTo>
                      <a:lnTo>
                        <a:pt x="0" y="2752"/>
                      </a:lnTo>
                      <a:lnTo>
                        <a:pt x="0" y="2760"/>
                      </a:lnTo>
                      <a:lnTo>
                        <a:pt x="1" y="2767"/>
                      </a:lnTo>
                      <a:lnTo>
                        <a:pt x="5" y="2773"/>
                      </a:lnTo>
                      <a:lnTo>
                        <a:pt x="8" y="2780"/>
                      </a:lnTo>
                      <a:lnTo>
                        <a:pt x="14" y="2786"/>
                      </a:lnTo>
                      <a:lnTo>
                        <a:pt x="21" y="2793"/>
                      </a:lnTo>
                      <a:lnTo>
                        <a:pt x="41" y="2808"/>
                      </a:lnTo>
                      <a:lnTo>
                        <a:pt x="71" y="2824"/>
                      </a:lnTo>
                      <a:lnTo>
                        <a:pt x="110" y="2844"/>
                      </a:lnTo>
                      <a:lnTo>
                        <a:pt x="110" y="2844"/>
                      </a:lnTo>
                      <a:lnTo>
                        <a:pt x="141" y="2861"/>
                      </a:lnTo>
                      <a:lnTo>
                        <a:pt x="171" y="2874"/>
                      </a:lnTo>
                      <a:lnTo>
                        <a:pt x="224" y="2894"/>
                      </a:lnTo>
                      <a:lnTo>
                        <a:pt x="268" y="2908"/>
                      </a:lnTo>
                      <a:lnTo>
                        <a:pt x="303" y="2918"/>
                      </a:lnTo>
                      <a:lnTo>
                        <a:pt x="303" y="2918"/>
                      </a:lnTo>
                      <a:lnTo>
                        <a:pt x="301" y="2976"/>
                      </a:lnTo>
                      <a:lnTo>
                        <a:pt x="303" y="3034"/>
                      </a:lnTo>
                      <a:lnTo>
                        <a:pt x="303" y="3034"/>
                      </a:lnTo>
                      <a:lnTo>
                        <a:pt x="268" y="3042"/>
                      </a:lnTo>
                      <a:lnTo>
                        <a:pt x="224" y="3057"/>
                      </a:lnTo>
                      <a:lnTo>
                        <a:pt x="171" y="3078"/>
                      </a:lnTo>
                      <a:lnTo>
                        <a:pt x="141" y="3091"/>
                      </a:lnTo>
                      <a:lnTo>
                        <a:pt x="110" y="3106"/>
                      </a:lnTo>
                      <a:lnTo>
                        <a:pt x="110" y="3106"/>
                      </a:lnTo>
                      <a:lnTo>
                        <a:pt x="71" y="3126"/>
                      </a:lnTo>
                      <a:lnTo>
                        <a:pt x="41" y="3144"/>
                      </a:lnTo>
                      <a:lnTo>
                        <a:pt x="21" y="3157"/>
                      </a:lnTo>
                      <a:lnTo>
                        <a:pt x="14" y="3164"/>
                      </a:lnTo>
                      <a:lnTo>
                        <a:pt x="8" y="3171"/>
                      </a:lnTo>
                      <a:lnTo>
                        <a:pt x="5" y="3177"/>
                      </a:lnTo>
                      <a:lnTo>
                        <a:pt x="1" y="3184"/>
                      </a:lnTo>
                      <a:lnTo>
                        <a:pt x="0" y="3192"/>
                      </a:lnTo>
                      <a:lnTo>
                        <a:pt x="0" y="3199"/>
                      </a:lnTo>
                      <a:lnTo>
                        <a:pt x="0" y="3215"/>
                      </a:lnTo>
                      <a:lnTo>
                        <a:pt x="1" y="3237"/>
                      </a:lnTo>
                      <a:lnTo>
                        <a:pt x="1" y="3237"/>
                      </a:lnTo>
                      <a:lnTo>
                        <a:pt x="3" y="3256"/>
                      </a:lnTo>
                      <a:lnTo>
                        <a:pt x="5" y="3273"/>
                      </a:lnTo>
                      <a:lnTo>
                        <a:pt x="8" y="3279"/>
                      </a:lnTo>
                      <a:lnTo>
                        <a:pt x="11" y="3286"/>
                      </a:lnTo>
                      <a:lnTo>
                        <a:pt x="14" y="3293"/>
                      </a:lnTo>
                      <a:lnTo>
                        <a:pt x="19" y="3298"/>
                      </a:lnTo>
                      <a:lnTo>
                        <a:pt x="26" y="3302"/>
                      </a:lnTo>
                      <a:lnTo>
                        <a:pt x="34" y="3309"/>
                      </a:lnTo>
                      <a:lnTo>
                        <a:pt x="57" y="3319"/>
                      </a:lnTo>
                      <a:lnTo>
                        <a:pt x="89" y="3330"/>
                      </a:lnTo>
                      <a:lnTo>
                        <a:pt x="130" y="3344"/>
                      </a:lnTo>
                      <a:lnTo>
                        <a:pt x="130" y="3344"/>
                      </a:lnTo>
                      <a:lnTo>
                        <a:pt x="165" y="3354"/>
                      </a:lnTo>
                      <a:lnTo>
                        <a:pt x="196" y="3362"/>
                      </a:lnTo>
                      <a:lnTo>
                        <a:pt x="250" y="3373"/>
                      </a:lnTo>
                      <a:lnTo>
                        <a:pt x="296" y="3380"/>
                      </a:lnTo>
                      <a:lnTo>
                        <a:pt x="333" y="3383"/>
                      </a:lnTo>
                      <a:lnTo>
                        <a:pt x="333" y="3383"/>
                      </a:lnTo>
                      <a:lnTo>
                        <a:pt x="343" y="3439"/>
                      </a:lnTo>
                      <a:lnTo>
                        <a:pt x="352" y="3497"/>
                      </a:lnTo>
                      <a:lnTo>
                        <a:pt x="352" y="3497"/>
                      </a:lnTo>
                      <a:lnTo>
                        <a:pt x="320" y="3512"/>
                      </a:lnTo>
                      <a:lnTo>
                        <a:pt x="280" y="3533"/>
                      </a:lnTo>
                      <a:lnTo>
                        <a:pt x="230" y="3563"/>
                      </a:lnTo>
                      <a:lnTo>
                        <a:pt x="204" y="3581"/>
                      </a:lnTo>
                      <a:lnTo>
                        <a:pt x="176" y="3603"/>
                      </a:lnTo>
                      <a:lnTo>
                        <a:pt x="176" y="3603"/>
                      </a:lnTo>
                      <a:lnTo>
                        <a:pt x="141" y="3629"/>
                      </a:lnTo>
                      <a:lnTo>
                        <a:pt x="115" y="3650"/>
                      </a:lnTo>
                      <a:lnTo>
                        <a:pt x="99" y="3668"/>
                      </a:lnTo>
                      <a:lnTo>
                        <a:pt x="92" y="3677"/>
                      </a:lnTo>
                      <a:lnTo>
                        <a:pt x="87" y="3683"/>
                      </a:lnTo>
                      <a:lnTo>
                        <a:pt x="85" y="3690"/>
                      </a:lnTo>
                      <a:lnTo>
                        <a:pt x="84" y="3698"/>
                      </a:lnTo>
                      <a:lnTo>
                        <a:pt x="82" y="3705"/>
                      </a:lnTo>
                      <a:lnTo>
                        <a:pt x="84" y="3711"/>
                      </a:lnTo>
                      <a:lnTo>
                        <a:pt x="85" y="3728"/>
                      </a:lnTo>
                      <a:lnTo>
                        <a:pt x="92" y="3748"/>
                      </a:lnTo>
                      <a:lnTo>
                        <a:pt x="92" y="3748"/>
                      </a:lnTo>
                      <a:lnTo>
                        <a:pt x="97" y="3767"/>
                      </a:lnTo>
                      <a:lnTo>
                        <a:pt x="102" y="3784"/>
                      </a:lnTo>
                      <a:lnTo>
                        <a:pt x="105" y="3790"/>
                      </a:lnTo>
                      <a:lnTo>
                        <a:pt x="110" y="3795"/>
                      </a:lnTo>
                      <a:lnTo>
                        <a:pt x="115" y="3802"/>
                      </a:lnTo>
                      <a:lnTo>
                        <a:pt x="120" y="3805"/>
                      </a:lnTo>
                      <a:lnTo>
                        <a:pt x="128" y="3810"/>
                      </a:lnTo>
                      <a:lnTo>
                        <a:pt x="136" y="3814"/>
                      </a:lnTo>
                      <a:lnTo>
                        <a:pt x="161" y="3820"/>
                      </a:lnTo>
                      <a:lnTo>
                        <a:pt x="194" y="3827"/>
                      </a:lnTo>
                      <a:lnTo>
                        <a:pt x="237" y="3832"/>
                      </a:lnTo>
                      <a:lnTo>
                        <a:pt x="237" y="3832"/>
                      </a:lnTo>
                      <a:lnTo>
                        <a:pt x="272" y="3837"/>
                      </a:lnTo>
                      <a:lnTo>
                        <a:pt x="305" y="3838"/>
                      </a:lnTo>
                      <a:lnTo>
                        <a:pt x="361" y="3840"/>
                      </a:lnTo>
                      <a:lnTo>
                        <a:pt x="407" y="3838"/>
                      </a:lnTo>
                      <a:lnTo>
                        <a:pt x="443" y="3835"/>
                      </a:lnTo>
                      <a:lnTo>
                        <a:pt x="443" y="3835"/>
                      </a:lnTo>
                      <a:lnTo>
                        <a:pt x="463" y="3889"/>
                      </a:lnTo>
                      <a:lnTo>
                        <a:pt x="483" y="3944"/>
                      </a:lnTo>
                      <a:lnTo>
                        <a:pt x="483" y="3944"/>
                      </a:lnTo>
                      <a:lnTo>
                        <a:pt x="453" y="3965"/>
                      </a:lnTo>
                      <a:lnTo>
                        <a:pt x="417" y="3993"/>
                      </a:lnTo>
                      <a:lnTo>
                        <a:pt x="374" y="4031"/>
                      </a:lnTo>
                      <a:lnTo>
                        <a:pt x="351" y="4053"/>
                      </a:lnTo>
                      <a:lnTo>
                        <a:pt x="328" y="4079"/>
                      </a:lnTo>
                      <a:lnTo>
                        <a:pt x="328" y="4079"/>
                      </a:lnTo>
                      <a:lnTo>
                        <a:pt x="298" y="4110"/>
                      </a:lnTo>
                      <a:lnTo>
                        <a:pt x="277" y="4137"/>
                      </a:lnTo>
                      <a:lnTo>
                        <a:pt x="262" y="4157"/>
                      </a:lnTo>
                      <a:lnTo>
                        <a:pt x="257" y="4166"/>
                      </a:lnTo>
                      <a:lnTo>
                        <a:pt x="255" y="4175"/>
                      </a:lnTo>
                      <a:lnTo>
                        <a:pt x="254" y="4181"/>
                      </a:lnTo>
                      <a:lnTo>
                        <a:pt x="252" y="4189"/>
                      </a:lnTo>
                      <a:lnTo>
                        <a:pt x="254" y="4196"/>
                      </a:lnTo>
                      <a:lnTo>
                        <a:pt x="255" y="4203"/>
                      </a:lnTo>
                      <a:lnTo>
                        <a:pt x="260" y="4219"/>
                      </a:lnTo>
                      <a:lnTo>
                        <a:pt x="270" y="4237"/>
                      </a:lnTo>
                      <a:lnTo>
                        <a:pt x="270" y="4237"/>
                      </a:lnTo>
                      <a:lnTo>
                        <a:pt x="278" y="4255"/>
                      </a:lnTo>
                      <a:lnTo>
                        <a:pt x="287" y="4270"/>
                      </a:lnTo>
                      <a:lnTo>
                        <a:pt x="290" y="4275"/>
                      </a:lnTo>
                      <a:lnTo>
                        <a:pt x="295" y="4282"/>
                      </a:lnTo>
                      <a:lnTo>
                        <a:pt x="301" y="4285"/>
                      </a:lnTo>
                      <a:lnTo>
                        <a:pt x="308" y="4288"/>
                      </a:lnTo>
                      <a:lnTo>
                        <a:pt x="316" y="4292"/>
                      </a:lnTo>
                      <a:lnTo>
                        <a:pt x="326" y="4293"/>
                      </a:lnTo>
                      <a:lnTo>
                        <a:pt x="351" y="4297"/>
                      </a:lnTo>
                      <a:lnTo>
                        <a:pt x="384" y="4297"/>
                      </a:lnTo>
                      <a:lnTo>
                        <a:pt x="428" y="4295"/>
                      </a:lnTo>
                      <a:lnTo>
                        <a:pt x="428" y="4295"/>
                      </a:lnTo>
                      <a:lnTo>
                        <a:pt x="463" y="4292"/>
                      </a:lnTo>
                      <a:lnTo>
                        <a:pt x="494" y="4288"/>
                      </a:lnTo>
                      <a:lnTo>
                        <a:pt x="550" y="4280"/>
                      </a:lnTo>
                      <a:lnTo>
                        <a:pt x="596" y="4272"/>
                      </a:lnTo>
                      <a:lnTo>
                        <a:pt x="631" y="4262"/>
                      </a:lnTo>
                      <a:lnTo>
                        <a:pt x="631" y="4262"/>
                      </a:lnTo>
                      <a:lnTo>
                        <a:pt x="659" y="4311"/>
                      </a:lnTo>
                      <a:lnTo>
                        <a:pt x="689" y="4363"/>
                      </a:lnTo>
                      <a:lnTo>
                        <a:pt x="689" y="4363"/>
                      </a:lnTo>
                      <a:lnTo>
                        <a:pt x="664" y="4387"/>
                      </a:lnTo>
                      <a:lnTo>
                        <a:pt x="633" y="4422"/>
                      </a:lnTo>
                      <a:lnTo>
                        <a:pt x="596" y="4466"/>
                      </a:lnTo>
                      <a:lnTo>
                        <a:pt x="578" y="4493"/>
                      </a:lnTo>
                      <a:lnTo>
                        <a:pt x="559" y="4521"/>
                      </a:lnTo>
                      <a:lnTo>
                        <a:pt x="559" y="4521"/>
                      </a:lnTo>
                      <a:lnTo>
                        <a:pt x="535" y="4559"/>
                      </a:lnTo>
                      <a:lnTo>
                        <a:pt x="519" y="4587"/>
                      </a:lnTo>
                      <a:lnTo>
                        <a:pt x="509" y="4610"/>
                      </a:lnTo>
                      <a:lnTo>
                        <a:pt x="506" y="4620"/>
                      </a:lnTo>
                      <a:lnTo>
                        <a:pt x="504" y="4628"/>
                      </a:lnTo>
                      <a:lnTo>
                        <a:pt x="504" y="4636"/>
                      </a:lnTo>
                      <a:lnTo>
                        <a:pt x="504" y="4643"/>
                      </a:lnTo>
                      <a:lnTo>
                        <a:pt x="506" y="4649"/>
                      </a:lnTo>
                      <a:lnTo>
                        <a:pt x="509" y="4656"/>
                      </a:lnTo>
                      <a:lnTo>
                        <a:pt x="517" y="4671"/>
                      </a:lnTo>
                      <a:lnTo>
                        <a:pt x="529" y="4687"/>
                      </a:lnTo>
                      <a:lnTo>
                        <a:pt x="529" y="4687"/>
                      </a:lnTo>
                      <a:lnTo>
                        <a:pt x="540" y="4704"/>
                      </a:lnTo>
                      <a:lnTo>
                        <a:pt x="552" y="4717"/>
                      </a:lnTo>
                      <a:lnTo>
                        <a:pt x="557" y="4722"/>
                      </a:lnTo>
                      <a:lnTo>
                        <a:pt x="564" y="4727"/>
                      </a:lnTo>
                      <a:lnTo>
                        <a:pt x="570" y="4730"/>
                      </a:lnTo>
                      <a:lnTo>
                        <a:pt x="577" y="4732"/>
                      </a:lnTo>
                      <a:lnTo>
                        <a:pt x="585" y="4734"/>
                      </a:lnTo>
                      <a:lnTo>
                        <a:pt x="595" y="4734"/>
                      </a:lnTo>
                      <a:lnTo>
                        <a:pt x="620" y="4732"/>
                      </a:lnTo>
                      <a:lnTo>
                        <a:pt x="653" y="4727"/>
                      </a:lnTo>
                      <a:lnTo>
                        <a:pt x="695" y="4717"/>
                      </a:lnTo>
                      <a:lnTo>
                        <a:pt x="695" y="4717"/>
                      </a:lnTo>
                      <a:lnTo>
                        <a:pt x="730" y="4709"/>
                      </a:lnTo>
                      <a:lnTo>
                        <a:pt x="760" y="4699"/>
                      </a:lnTo>
                      <a:lnTo>
                        <a:pt x="814" y="4682"/>
                      </a:lnTo>
                      <a:lnTo>
                        <a:pt x="857" y="4664"/>
                      </a:lnTo>
                      <a:lnTo>
                        <a:pt x="888" y="4649"/>
                      </a:lnTo>
                      <a:lnTo>
                        <a:pt x="888" y="4649"/>
                      </a:lnTo>
                      <a:lnTo>
                        <a:pt x="926" y="4694"/>
                      </a:lnTo>
                      <a:lnTo>
                        <a:pt x="964" y="4739"/>
                      </a:lnTo>
                      <a:lnTo>
                        <a:pt x="964" y="4739"/>
                      </a:lnTo>
                      <a:lnTo>
                        <a:pt x="943" y="4768"/>
                      </a:lnTo>
                      <a:lnTo>
                        <a:pt x="918" y="4808"/>
                      </a:lnTo>
                      <a:lnTo>
                        <a:pt x="892" y="4857"/>
                      </a:lnTo>
                      <a:lnTo>
                        <a:pt x="878" y="4885"/>
                      </a:lnTo>
                      <a:lnTo>
                        <a:pt x="864" y="4917"/>
                      </a:lnTo>
                      <a:lnTo>
                        <a:pt x="864" y="4917"/>
                      </a:lnTo>
                      <a:lnTo>
                        <a:pt x="847" y="4958"/>
                      </a:lnTo>
                      <a:lnTo>
                        <a:pt x="836" y="4989"/>
                      </a:lnTo>
                      <a:lnTo>
                        <a:pt x="829" y="5014"/>
                      </a:lnTo>
                      <a:lnTo>
                        <a:pt x="829" y="5024"/>
                      </a:lnTo>
                      <a:lnTo>
                        <a:pt x="829" y="5032"/>
                      </a:lnTo>
                      <a:lnTo>
                        <a:pt x="829" y="5040"/>
                      </a:lnTo>
                      <a:lnTo>
                        <a:pt x="832" y="5047"/>
                      </a:lnTo>
                      <a:lnTo>
                        <a:pt x="834" y="5053"/>
                      </a:lnTo>
                      <a:lnTo>
                        <a:pt x="839" y="5060"/>
                      </a:lnTo>
                      <a:lnTo>
                        <a:pt x="850" y="5072"/>
                      </a:lnTo>
                      <a:lnTo>
                        <a:pt x="864" y="5086"/>
                      </a:lnTo>
                      <a:lnTo>
                        <a:pt x="864" y="5086"/>
                      </a:lnTo>
                      <a:lnTo>
                        <a:pt x="878" y="5101"/>
                      </a:lnTo>
                      <a:lnTo>
                        <a:pt x="892" y="5111"/>
                      </a:lnTo>
                      <a:lnTo>
                        <a:pt x="897" y="5116"/>
                      </a:lnTo>
                      <a:lnTo>
                        <a:pt x="903" y="5119"/>
                      </a:lnTo>
                      <a:lnTo>
                        <a:pt x="910" y="5121"/>
                      </a:lnTo>
                      <a:lnTo>
                        <a:pt x="918" y="5121"/>
                      </a:lnTo>
                      <a:lnTo>
                        <a:pt x="926" y="5121"/>
                      </a:lnTo>
                      <a:lnTo>
                        <a:pt x="936" y="5121"/>
                      </a:lnTo>
                      <a:lnTo>
                        <a:pt x="961" y="5114"/>
                      </a:lnTo>
                      <a:lnTo>
                        <a:pt x="992" y="5103"/>
                      </a:lnTo>
                      <a:lnTo>
                        <a:pt x="1033" y="5086"/>
                      </a:lnTo>
                      <a:lnTo>
                        <a:pt x="1033" y="5086"/>
                      </a:lnTo>
                      <a:lnTo>
                        <a:pt x="1065" y="5072"/>
                      </a:lnTo>
                      <a:lnTo>
                        <a:pt x="1093" y="5058"/>
                      </a:lnTo>
                      <a:lnTo>
                        <a:pt x="1142" y="5032"/>
                      </a:lnTo>
                      <a:lnTo>
                        <a:pt x="1182" y="5007"/>
                      </a:lnTo>
                      <a:lnTo>
                        <a:pt x="1211" y="4987"/>
                      </a:lnTo>
                      <a:lnTo>
                        <a:pt x="1211" y="4987"/>
                      </a:lnTo>
                      <a:lnTo>
                        <a:pt x="1254" y="5025"/>
                      </a:lnTo>
                      <a:lnTo>
                        <a:pt x="1301" y="5062"/>
                      </a:lnTo>
                      <a:lnTo>
                        <a:pt x="1301" y="5062"/>
                      </a:lnTo>
                      <a:lnTo>
                        <a:pt x="1286" y="5095"/>
                      </a:lnTo>
                      <a:lnTo>
                        <a:pt x="1268" y="5138"/>
                      </a:lnTo>
                      <a:lnTo>
                        <a:pt x="1249" y="5190"/>
                      </a:lnTo>
                      <a:lnTo>
                        <a:pt x="1241" y="5222"/>
                      </a:lnTo>
                      <a:lnTo>
                        <a:pt x="1233" y="5255"/>
                      </a:lnTo>
                      <a:lnTo>
                        <a:pt x="1233" y="5255"/>
                      </a:lnTo>
                      <a:lnTo>
                        <a:pt x="1223" y="5297"/>
                      </a:lnTo>
                      <a:lnTo>
                        <a:pt x="1218" y="5330"/>
                      </a:lnTo>
                      <a:lnTo>
                        <a:pt x="1216" y="5355"/>
                      </a:lnTo>
                      <a:lnTo>
                        <a:pt x="1216" y="5365"/>
                      </a:lnTo>
                      <a:lnTo>
                        <a:pt x="1218" y="5373"/>
                      </a:lnTo>
                      <a:lnTo>
                        <a:pt x="1220" y="5382"/>
                      </a:lnTo>
                      <a:lnTo>
                        <a:pt x="1223" y="5386"/>
                      </a:lnTo>
                      <a:lnTo>
                        <a:pt x="1228" y="5393"/>
                      </a:lnTo>
                      <a:lnTo>
                        <a:pt x="1233" y="5398"/>
                      </a:lnTo>
                      <a:lnTo>
                        <a:pt x="1246" y="5410"/>
                      </a:lnTo>
                      <a:lnTo>
                        <a:pt x="1263" y="5421"/>
                      </a:lnTo>
                      <a:lnTo>
                        <a:pt x="1263" y="5421"/>
                      </a:lnTo>
                      <a:lnTo>
                        <a:pt x="1279" y="5433"/>
                      </a:lnTo>
                      <a:lnTo>
                        <a:pt x="1294" y="5441"/>
                      </a:lnTo>
                      <a:lnTo>
                        <a:pt x="1301" y="5444"/>
                      </a:lnTo>
                      <a:lnTo>
                        <a:pt x="1307" y="5446"/>
                      </a:lnTo>
                      <a:lnTo>
                        <a:pt x="1314" y="5446"/>
                      </a:lnTo>
                      <a:lnTo>
                        <a:pt x="1322" y="5446"/>
                      </a:lnTo>
                      <a:lnTo>
                        <a:pt x="1330" y="5444"/>
                      </a:lnTo>
                      <a:lnTo>
                        <a:pt x="1340" y="5441"/>
                      </a:lnTo>
                      <a:lnTo>
                        <a:pt x="1363" y="5431"/>
                      </a:lnTo>
                      <a:lnTo>
                        <a:pt x="1391" y="5415"/>
                      </a:lnTo>
                      <a:lnTo>
                        <a:pt x="1429" y="5391"/>
                      </a:lnTo>
                      <a:lnTo>
                        <a:pt x="1429" y="5391"/>
                      </a:lnTo>
                      <a:lnTo>
                        <a:pt x="1457" y="5372"/>
                      </a:lnTo>
                      <a:lnTo>
                        <a:pt x="1484" y="5354"/>
                      </a:lnTo>
                      <a:lnTo>
                        <a:pt x="1526" y="5319"/>
                      </a:lnTo>
                      <a:lnTo>
                        <a:pt x="1561" y="5288"/>
                      </a:lnTo>
                      <a:lnTo>
                        <a:pt x="1586" y="5263"/>
                      </a:lnTo>
                      <a:lnTo>
                        <a:pt x="1586" y="5263"/>
                      </a:lnTo>
                      <a:lnTo>
                        <a:pt x="1637" y="5292"/>
                      </a:lnTo>
                      <a:lnTo>
                        <a:pt x="1688" y="5322"/>
                      </a:lnTo>
                      <a:lnTo>
                        <a:pt x="1688" y="5322"/>
                      </a:lnTo>
                      <a:lnTo>
                        <a:pt x="1678" y="5355"/>
                      </a:lnTo>
                      <a:lnTo>
                        <a:pt x="1670" y="5401"/>
                      </a:lnTo>
                      <a:lnTo>
                        <a:pt x="1662" y="5456"/>
                      </a:lnTo>
                      <a:lnTo>
                        <a:pt x="1658" y="5487"/>
                      </a:lnTo>
                      <a:lnTo>
                        <a:pt x="1655" y="5522"/>
                      </a:lnTo>
                      <a:lnTo>
                        <a:pt x="1655" y="5522"/>
                      </a:lnTo>
                      <a:lnTo>
                        <a:pt x="1653" y="5566"/>
                      </a:lnTo>
                      <a:lnTo>
                        <a:pt x="1653" y="5599"/>
                      </a:lnTo>
                      <a:lnTo>
                        <a:pt x="1657" y="5624"/>
                      </a:lnTo>
                      <a:lnTo>
                        <a:pt x="1658" y="5634"/>
                      </a:lnTo>
                      <a:lnTo>
                        <a:pt x="1662" y="5642"/>
                      </a:lnTo>
                      <a:lnTo>
                        <a:pt x="1665" y="5649"/>
                      </a:lnTo>
                      <a:lnTo>
                        <a:pt x="1670" y="5655"/>
                      </a:lnTo>
                      <a:lnTo>
                        <a:pt x="1675" y="5660"/>
                      </a:lnTo>
                      <a:lnTo>
                        <a:pt x="1680" y="5663"/>
                      </a:lnTo>
                      <a:lnTo>
                        <a:pt x="1695" y="5672"/>
                      </a:lnTo>
                      <a:lnTo>
                        <a:pt x="1713" y="5680"/>
                      </a:lnTo>
                      <a:lnTo>
                        <a:pt x="1713" y="5680"/>
                      </a:lnTo>
                      <a:lnTo>
                        <a:pt x="1731" y="5690"/>
                      </a:lnTo>
                      <a:lnTo>
                        <a:pt x="1747" y="5695"/>
                      </a:lnTo>
                      <a:lnTo>
                        <a:pt x="1754" y="5696"/>
                      </a:lnTo>
                      <a:lnTo>
                        <a:pt x="1762" y="5698"/>
                      </a:lnTo>
                      <a:lnTo>
                        <a:pt x="1769" y="5696"/>
                      </a:lnTo>
                      <a:lnTo>
                        <a:pt x="1775" y="5695"/>
                      </a:lnTo>
                      <a:lnTo>
                        <a:pt x="1784" y="5693"/>
                      </a:lnTo>
                      <a:lnTo>
                        <a:pt x="1793" y="5688"/>
                      </a:lnTo>
                      <a:lnTo>
                        <a:pt x="1813" y="5673"/>
                      </a:lnTo>
                      <a:lnTo>
                        <a:pt x="1840" y="5654"/>
                      </a:lnTo>
                      <a:lnTo>
                        <a:pt x="1871" y="5622"/>
                      </a:lnTo>
                      <a:lnTo>
                        <a:pt x="1871" y="5622"/>
                      </a:lnTo>
                      <a:lnTo>
                        <a:pt x="1896" y="5599"/>
                      </a:lnTo>
                      <a:lnTo>
                        <a:pt x="1919" y="5576"/>
                      </a:lnTo>
                      <a:lnTo>
                        <a:pt x="1955" y="5535"/>
                      </a:lnTo>
                      <a:lnTo>
                        <a:pt x="1985" y="5499"/>
                      </a:lnTo>
                      <a:lnTo>
                        <a:pt x="2005" y="5469"/>
                      </a:lnTo>
                      <a:lnTo>
                        <a:pt x="2005" y="5469"/>
                      </a:lnTo>
                      <a:lnTo>
                        <a:pt x="2059" y="5490"/>
                      </a:lnTo>
                      <a:lnTo>
                        <a:pt x="2115" y="5508"/>
                      </a:lnTo>
                      <a:lnTo>
                        <a:pt x="2115" y="5508"/>
                      </a:lnTo>
                      <a:lnTo>
                        <a:pt x="2112" y="5545"/>
                      </a:lnTo>
                      <a:lnTo>
                        <a:pt x="2110" y="5591"/>
                      </a:lnTo>
                      <a:lnTo>
                        <a:pt x="2112" y="5647"/>
                      </a:lnTo>
                      <a:lnTo>
                        <a:pt x="2113" y="5678"/>
                      </a:lnTo>
                      <a:lnTo>
                        <a:pt x="2118" y="5713"/>
                      </a:lnTo>
                      <a:lnTo>
                        <a:pt x="2118" y="5713"/>
                      </a:lnTo>
                      <a:lnTo>
                        <a:pt x="2123" y="5756"/>
                      </a:lnTo>
                      <a:lnTo>
                        <a:pt x="2130" y="5789"/>
                      </a:lnTo>
                      <a:lnTo>
                        <a:pt x="2136" y="5814"/>
                      </a:lnTo>
                      <a:lnTo>
                        <a:pt x="2140" y="5822"/>
                      </a:lnTo>
                      <a:lnTo>
                        <a:pt x="2145" y="5830"/>
                      </a:lnTo>
                      <a:lnTo>
                        <a:pt x="2148" y="5835"/>
                      </a:lnTo>
                      <a:lnTo>
                        <a:pt x="2155" y="5840"/>
                      </a:lnTo>
                      <a:lnTo>
                        <a:pt x="2160" y="5845"/>
                      </a:lnTo>
                      <a:lnTo>
                        <a:pt x="2166" y="5848"/>
                      </a:lnTo>
                      <a:lnTo>
                        <a:pt x="2183" y="5853"/>
                      </a:lnTo>
                      <a:lnTo>
                        <a:pt x="2202" y="5858"/>
                      </a:lnTo>
                      <a:lnTo>
                        <a:pt x="2202" y="5858"/>
                      </a:lnTo>
                      <a:lnTo>
                        <a:pt x="2222" y="5865"/>
                      </a:lnTo>
                      <a:lnTo>
                        <a:pt x="2239" y="5866"/>
                      </a:lnTo>
                      <a:lnTo>
                        <a:pt x="2245" y="5868"/>
                      </a:lnTo>
                      <a:lnTo>
                        <a:pt x="2252" y="5866"/>
                      </a:lnTo>
                      <a:lnTo>
                        <a:pt x="2260" y="5865"/>
                      </a:lnTo>
                      <a:lnTo>
                        <a:pt x="2267" y="5863"/>
                      </a:lnTo>
                      <a:lnTo>
                        <a:pt x="2275" y="5858"/>
                      </a:lnTo>
                      <a:lnTo>
                        <a:pt x="2282" y="5851"/>
                      </a:lnTo>
                      <a:lnTo>
                        <a:pt x="2300" y="5835"/>
                      </a:lnTo>
                      <a:lnTo>
                        <a:pt x="2321" y="5809"/>
                      </a:lnTo>
                      <a:lnTo>
                        <a:pt x="2347" y="5774"/>
                      </a:lnTo>
                      <a:lnTo>
                        <a:pt x="2347" y="5774"/>
                      </a:lnTo>
                      <a:lnTo>
                        <a:pt x="2369" y="5746"/>
                      </a:lnTo>
                      <a:lnTo>
                        <a:pt x="2385" y="5720"/>
                      </a:lnTo>
                      <a:lnTo>
                        <a:pt x="2415" y="5673"/>
                      </a:lnTo>
                      <a:lnTo>
                        <a:pt x="2437" y="5632"/>
                      </a:lnTo>
                      <a:lnTo>
                        <a:pt x="2453" y="5599"/>
                      </a:lnTo>
                      <a:lnTo>
                        <a:pt x="2453" y="5599"/>
                      </a:lnTo>
                      <a:lnTo>
                        <a:pt x="2511" y="5611"/>
                      </a:lnTo>
                      <a:lnTo>
                        <a:pt x="2568" y="5621"/>
                      </a:lnTo>
                      <a:lnTo>
                        <a:pt x="2568" y="5621"/>
                      </a:lnTo>
                      <a:lnTo>
                        <a:pt x="2570" y="5657"/>
                      </a:lnTo>
                      <a:lnTo>
                        <a:pt x="2577" y="5701"/>
                      </a:lnTo>
                      <a:lnTo>
                        <a:pt x="2588" y="5756"/>
                      </a:lnTo>
                      <a:lnTo>
                        <a:pt x="2596" y="5787"/>
                      </a:lnTo>
                      <a:lnTo>
                        <a:pt x="2606" y="5820"/>
                      </a:lnTo>
                      <a:lnTo>
                        <a:pt x="2606" y="5820"/>
                      </a:lnTo>
                      <a:lnTo>
                        <a:pt x="2620" y="5861"/>
                      </a:lnTo>
                      <a:lnTo>
                        <a:pt x="2631" y="5893"/>
                      </a:lnTo>
                      <a:lnTo>
                        <a:pt x="2641" y="5916"/>
                      </a:lnTo>
                      <a:lnTo>
                        <a:pt x="2648" y="5924"/>
                      </a:lnTo>
                      <a:lnTo>
                        <a:pt x="2652" y="5931"/>
                      </a:lnTo>
                      <a:lnTo>
                        <a:pt x="2657" y="5936"/>
                      </a:lnTo>
                      <a:lnTo>
                        <a:pt x="2664" y="5939"/>
                      </a:lnTo>
                      <a:lnTo>
                        <a:pt x="2671" y="5942"/>
                      </a:lnTo>
                      <a:lnTo>
                        <a:pt x="2677" y="5945"/>
                      </a:lnTo>
                      <a:lnTo>
                        <a:pt x="2694" y="5947"/>
                      </a:lnTo>
                      <a:lnTo>
                        <a:pt x="2715" y="5949"/>
                      </a:lnTo>
                      <a:lnTo>
                        <a:pt x="2715" y="5949"/>
                      </a:lnTo>
                      <a:lnTo>
                        <a:pt x="2735" y="5950"/>
                      </a:lnTo>
                      <a:lnTo>
                        <a:pt x="2751" y="5950"/>
                      </a:lnTo>
                      <a:lnTo>
                        <a:pt x="2758" y="5950"/>
                      </a:lnTo>
                      <a:lnTo>
                        <a:pt x="2766" y="5949"/>
                      </a:lnTo>
                      <a:lnTo>
                        <a:pt x="2773" y="5945"/>
                      </a:lnTo>
                      <a:lnTo>
                        <a:pt x="2779" y="5942"/>
                      </a:lnTo>
                      <a:lnTo>
                        <a:pt x="2786" y="5936"/>
                      </a:lnTo>
                      <a:lnTo>
                        <a:pt x="2793" y="5929"/>
                      </a:lnTo>
                      <a:lnTo>
                        <a:pt x="2806" y="5909"/>
                      </a:lnTo>
                      <a:lnTo>
                        <a:pt x="2824" y="5879"/>
                      </a:lnTo>
                      <a:lnTo>
                        <a:pt x="2844" y="5840"/>
                      </a:lnTo>
                      <a:lnTo>
                        <a:pt x="2844" y="5840"/>
                      </a:lnTo>
                      <a:lnTo>
                        <a:pt x="2859" y="5810"/>
                      </a:lnTo>
                      <a:lnTo>
                        <a:pt x="2872" y="5781"/>
                      </a:lnTo>
                      <a:lnTo>
                        <a:pt x="2892" y="5729"/>
                      </a:lnTo>
                      <a:lnTo>
                        <a:pt x="2906" y="5687"/>
                      </a:lnTo>
                      <a:lnTo>
                        <a:pt x="2916" y="5652"/>
                      </a:lnTo>
                      <a:lnTo>
                        <a:pt x="2916" y="5652"/>
                      </a:lnTo>
                      <a:lnTo>
                        <a:pt x="2974" y="5652"/>
                      </a:lnTo>
                      <a:lnTo>
                        <a:pt x="3033" y="5652"/>
                      </a:lnTo>
                      <a:lnTo>
                        <a:pt x="3033" y="5652"/>
                      </a:lnTo>
                      <a:lnTo>
                        <a:pt x="3043" y="5687"/>
                      </a:lnTo>
                      <a:lnTo>
                        <a:pt x="3056" y="5729"/>
                      </a:lnTo>
                      <a:lnTo>
                        <a:pt x="3078" y="5781"/>
                      </a:lnTo>
                      <a:lnTo>
                        <a:pt x="3091" y="5810"/>
                      </a:lnTo>
                      <a:lnTo>
                        <a:pt x="3106" y="5840"/>
                      </a:lnTo>
                      <a:lnTo>
                        <a:pt x="3106" y="5840"/>
                      </a:lnTo>
                      <a:lnTo>
                        <a:pt x="3126" y="5879"/>
                      </a:lnTo>
                      <a:lnTo>
                        <a:pt x="3142" y="5909"/>
                      </a:lnTo>
                      <a:lnTo>
                        <a:pt x="3157" y="5929"/>
                      </a:lnTo>
                      <a:lnTo>
                        <a:pt x="3164" y="5936"/>
                      </a:lnTo>
                      <a:lnTo>
                        <a:pt x="3170" y="5942"/>
                      </a:lnTo>
                      <a:lnTo>
                        <a:pt x="3177" y="5945"/>
                      </a:lnTo>
                      <a:lnTo>
                        <a:pt x="3183" y="5949"/>
                      </a:lnTo>
                      <a:lnTo>
                        <a:pt x="3190" y="5950"/>
                      </a:lnTo>
                      <a:lnTo>
                        <a:pt x="3198" y="5950"/>
                      </a:lnTo>
                      <a:lnTo>
                        <a:pt x="3215" y="5950"/>
                      </a:lnTo>
                      <a:lnTo>
                        <a:pt x="3235" y="5949"/>
                      </a:lnTo>
                      <a:lnTo>
                        <a:pt x="3235" y="5949"/>
                      </a:lnTo>
                      <a:lnTo>
                        <a:pt x="3254" y="5947"/>
                      </a:lnTo>
                      <a:lnTo>
                        <a:pt x="3271" y="5945"/>
                      </a:lnTo>
                      <a:lnTo>
                        <a:pt x="3279" y="5942"/>
                      </a:lnTo>
                      <a:lnTo>
                        <a:pt x="3286" y="5939"/>
                      </a:lnTo>
                      <a:lnTo>
                        <a:pt x="3291" y="5936"/>
                      </a:lnTo>
                      <a:lnTo>
                        <a:pt x="3297" y="5931"/>
                      </a:lnTo>
                      <a:lnTo>
                        <a:pt x="3302" y="5924"/>
                      </a:lnTo>
                      <a:lnTo>
                        <a:pt x="3307" y="5916"/>
                      </a:lnTo>
                      <a:lnTo>
                        <a:pt x="3319" y="5893"/>
                      </a:lnTo>
                      <a:lnTo>
                        <a:pt x="3330" y="5861"/>
                      </a:lnTo>
                      <a:lnTo>
                        <a:pt x="3343" y="5820"/>
                      </a:lnTo>
                      <a:lnTo>
                        <a:pt x="3343" y="5820"/>
                      </a:lnTo>
                      <a:lnTo>
                        <a:pt x="3353" y="5787"/>
                      </a:lnTo>
                      <a:lnTo>
                        <a:pt x="3360" y="5756"/>
                      </a:lnTo>
                      <a:lnTo>
                        <a:pt x="3371" y="5701"/>
                      </a:lnTo>
                      <a:lnTo>
                        <a:pt x="3378" y="5657"/>
                      </a:lnTo>
                      <a:lnTo>
                        <a:pt x="3381" y="5621"/>
                      </a:lnTo>
                      <a:lnTo>
                        <a:pt x="3381" y="5621"/>
                      </a:lnTo>
                      <a:lnTo>
                        <a:pt x="3439" y="5612"/>
                      </a:lnTo>
                      <a:lnTo>
                        <a:pt x="3497" y="5601"/>
                      </a:lnTo>
                      <a:lnTo>
                        <a:pt x="3497" y="5601"/>
                      </a:lnTo>
                      <a:lnTo>
                        <a:pt x="3511" y="5634"/>
                      </a:lnTo>
                      <a:lnTo>
                        <a:pt x="3535" y="5673"/>
                      </a:lnTo>
                      <a:lnTo>
                        <a:pt x="3563" y="5721"/>
                      </a:lnTo>
                      <a:lnTo>
                        <a:pt x="3581" y="5748"/>
                      </a:lnTo>
                      <a:lnTo>
                        <a:pt x="3601" y="5774"/>
                      </a:lnTo>
                      <a:lnTo>
                        <a:pt x="3601" y="5774"/>
                      </a:lnTo>
                      <a:lnTo>
                        <a:pt x="3627" y="5809"/>
                      </a:lnTo>
                      <a:lnTo>
                        <a:pt x="3650" y="5835"/>
                      </a:lnTo>
                      <a:lnTo>
                        <a:pt x="3666" y="5851"/>
                      </a:lnTo>
                      <a:lnTo>
                        <a:pt x="3675" y="5858"/>
                      </a:lnTo>
                      <a:lnTo>
                        <a:pt x="3683" y="5863"/>
                      </a:lnTo>
                      <a:lnTo>
                        <a:pt x="3690" y="5865"/>
                      </a:lnTo>
                      <a:lnTo>
                        <a:pt x="3696" y="5866"/>
                      </a:lnTo>
                      <a:lnTo>
                        <a:pt x="3704" y="5868"/>
                      </a:lnTo>
                      <a:lnTo>
                        <a:pt x="3711" y="5866"/>
                      </a:lnTo>
                      <a:lnTo>
                        <a:pt x="3727" y="5865"/>
                      </a:lnTo>
                      <a:lnTo>
                        <a:pt x="3747" y="5858"/>
                      </a:lnTo>
                      <a:lnTo>
                        <a:pt x="3747" y="5858"/>
                      </a:lnTo>
                      <a:lnTo>
                        <a:pt x="3767" y="5853"/>
                      </a:lnTo>
                      <a:lnTo>
                        <a:pt x="3782" y="5848"/>
                      </a:lnTo>
                      <a:lnTo>
                        <a:pt x="3788" y="5845"/>
                      </a:lnTo>
                      <a:lnTo>
                        <a:pt x="3795" y="5840"/>
                      </a:lnTo>
                      <a:lnTo>
                        <a:pt x="3800" y="5835"/>
                      </a:lnTo>
                      <a:lnTo>
                        <a:pt x="3805" y="5830"/>
                      </a:lnTo>
                      <a:lnTo>
                        <a:pt x="3810" y="5822"/>
                      </a:lnTo>
                      <a:lnTo>
                        <a:pt x="3813" y="5814"/>
                      </a:lnTo>
                      <a:lnTo>
                        <a:pt x="3820" y="5789"/>
                      </a:lnTo>
                      <a:lnTo>
                        <a:pt x="3826" y="5756"/>
                      </a:lnTo>
                      <a:lnTo>
                        <a:pt x="3831" y="5713"/>
                      </a:lnTo>
                      <a:lnTo>
                        <a:pt x="3831" y="5713"/>
                      </a:lnTo>
                      <a:lnTo>
                        <a:pt x="3835" y="5678"/>
                      </a:lnTo>
                      <a:lnTo>
                        <a:pt x="3838" y="5647"/>
                      </a:lnTo>
                      <a:lnTo>
                        <a:pt x="3840" y="5593"/>
                      </a:lnTo>
                      <a:lnTo>
                        <a:pt x="3838" y="5546"/>
                      </a:lnTo>
                      <a:lnTo>
                        <a:pt x="3835" y="5510"/>
                      </a:lnTo>
                      <a:lnTo>
                        <a:pt x="3835" y="5510"/>
                      </a:lnTo>
                      <a:lnTo>
                        <a:pt x="3891" y="5490"/>
                      </a:lnTo>
                      <a:lnTo>
                        <a:pt x="3945" y="5471"/>
                      </a:lnTo>
                      <a:lnTo>
                        <a:pt x="3945" y="5471"/>
                      </a:lnTo>
                      <a:lnTo>
                        <a:pt x="3965" y="5499"/>
                      </a:lnTo>
                      <a:lnTo>
                        <a:pt x="3995" y="5535"/>
                      </a:lnTo>
                      <a:lnTo>
                        <a:pt x="4031" y="5576"/>
                      </a:lnTo>
                      <a:lnTo>
                        <a:pt x="4052" y="5599"/>
                      </a:lnTo>
                      <a:lnTo>
                        <a:pt x="4077" y="5622"/>
                      </a:lnTo>
                      <a:lnTo>
                        <a:pt x="4077" y="5622"/>
                      </a:lnTo>
                      <a:lnTo>
                        <a:pt x="4110" y="5654"/>
                      </a:lnTo>
                      <a:lnTo>
                        <a:pt x="4136" y="5673"/>
                      </a:lnTo>
                      <a:lnTo>
                        <a:pt x="4156" y="5688"/>
                      </a:lnTo>
                      <a:lnTo>
                        <a:pt x="4164" y="5693"/>
                      </a:lnTo>
                      <a:lnTo>
                        <a:pt x="4173" y="5695"/>
                      </a:lnTo>
                      <a:lnTo>
                        <a:pt x="4181" y="5696"/>
                      </a:lnTo>
                      <a:lnTo>
                        <a:pt x="4187" y="5698"/>
                      </a:lnTo>
                      <a:lnTo>
                        <a:pt x="4194" y="5696"/>
                      </a:lnTo>
                      <a:lnTo>
                        <a:pt x="4202" y="5695"/>
                      </a:lnTo>
                      <a:lnTo>
                        <a:pt x="4217" y="5690"/>
                      </a:lnTo>
                      <a:lnTo>
                        <a:pt x="4235" y="5680"/>
                      </a:lnTo>
                      <a:lnTo>
                        <a:pt x="4235" y="5680"/>
                      </a:lnTo>
                      <a:lnTo>
                        <a:pt x="4255" y="5672"/>
                      </a:lnTo>
                      <a:lnTo>
                        <a:pt x="4268" y="5663"/>
                      </a:lnTo>
                      <a:lnTo>
                        <a:pt x="4275" y="5660"/>
                      </a:lnTo>
                      <a:lnTo>
                        <a:pt x="4280" y="5655"/>
                      </a:lnTo>
                      <a:lnTo>
                        <a:pt x="4285" y="5649"/>
                      </a:lnTo>
                      <a:lnTo>
                        <a:pt x="4288" y="5642"/>
                      </a:lnTo>
                      <a:lnTo>
                        <a:pt x="4291" y="5634"/>
                      </a:lnTo>
                      <a:lnTo>
                        <a:pt x="4293" y="5624"/>
                      </a:lnTo>
                      <a:lnTo>
                        <a:pt x="4295" y="5599"/>
                      </a:lnTo>
                      <a:lnTo>
                        <a:pt x="4296" y="5566"/>
                      </a:lnTo>
                      <a:lnTo>
                        <a:pt x="4293" y="5522"/>
                      </a:lnTo>
                      <a:lnTo>
                        <a:pt x="4293" y="5522"/>
                      </a:lnTo>
                      <a:lnTo>
                        <a:pt x="4291" y="5489"/>
                      </a:lnTo>
                      <a:lnTo>
                        <a:pt x="4288" y="5457"/>
                      </a:lnTo>
                      <a:lnTo>
                        <a:pt x="4280" y="5401"/>
                      </a:lnTo>
                      <a:lnTo>
                        <a:pt x="4272" y="5357"/>
                      </a:lnTo>
                      <a:lnTo>
                        <a:pt x="4262" y="5322"/>
                      </a:lnTo>
                      <a:lnTo>
                        <a:pt x="4262" y="5322"/>
                      </a:lnTo>
                      <a:lnTo>
                        <a:pt x="4313" y="5292"/>
                      </a:lnTo>
                      <a:lnTo>
                        <a:pt x="4364" y="5263"/>
                      </a:lnTo>
                      <a:lnTo>
                        <a:pt x="4364" y="5263"/>
                      </a:lnTo>
                      <a:lnTo>
                        <a:pt x="4389" y="5289"/>
                      </a:lnTo>
                      <a:lnTo>
                        <a:pt x="4423" y="5319"/>
                      </a:lnTo>
                      <a:lnTo>
                        <a:pt x="4466" y="5354"/>
                      </a:lnTo>
                      <a:lnTo>
                        <a:pt x="4493" y="5372"/>
                      </a:lnTo>
                      <a:lnTo>
                        <a:pt x="4521" y="5391"/>
                      </a:lnTo>
                      <a:lnTo>
                        <a:pt x="4521" y="5391"/>
                      </a:lnTo>
                      <a:lnTo>
                        <a:pt x="4557" y="5415"/>
                      </a:lnTo>
                      <a:lnTo>
                        <a:pt x="4586" y="5431"/>
                      </a:lnTo>
                      <a:lnTo>
                        <a:pt x="4610" y="5443"/>
                      </a:lnTo>
                      <a:lnTo>
                        <a:pt x="4618" y="5444"/>
                      </a:lnTo>
                      <a:lnTo>
                        <a:pt x="4628" y="5446"/>
                      </a:lnTo>
                      <a:lnTo>
                        <a:pt x="4634" y="5446"/>
                      </a:lnTo>
                      <a:lnTo>
                        <a:pt x="4643" y="5446"/>
                      </a:lnTo>
                      <a:lnTo>
                        <a:pt x="4649" y="5444"/>
                      </a:lnTo>
                      <a:lnTo>
                        <a:pt x="4656" y="5441"/>
                      </a:lnTo>
                      <a:lnTo>
                        <a:pt x="4671" y="5433"/>
                      </a:lnTo>
                      <a:lnTo>
                        <a:pt x="4687" y="5421"/>
                      </a:lnTo>
                      <a:lnTo>
                        <a:pt x="4687" y="5421"/>
                      </a:lnTo>
                      <a:lnTo>
                        <a:pt x="4704" y="5410"/>
                      </a:lnTo>
                      <a:lnTo>
                        <a:pt x="4717" y="5398"/>
                      </a:lnTo>
                      <a:lnTo>
                        <a:pt x="4722" y="5393"/>
                      </a:lnTo>
                      <a:lnTo>
                        <a:pt x="4725" y="5386"/>
                      </a:lnTo>
                      <a:lnTo>
                        <a:pt x="4728" y="5382"/>
                      </a:lnTo>
                      <a:lnTo>
                        <a:pt x="4732" y="5373"/>
                      </a:lnTo>
                      <a:lnTo>
                        <a:pt x="4733" y="5365"/>
                      </a:lnTo>
                      <a:lnTo>
                        <a:pt x="4733" y="5355"/>
                      </a:lnTo>
                      <a:lnTo>
                        <a:pt x="4732" y="5330"/>
                      </a:lnTo>
                      <a:lnTo>
                        <a:pt x="4725" y="5297"/>
                      </a:lnTo>
                      <a:lnTo>
                        <a:pt x="4717" y="5255"/>
                      </a:lnTo>
                      <a:lnTo>
                        <a:pt x="4717" y="5255"/>
                      </a:lnTo>
                      <a:lnTo>
                        <a:pt x="4707" y="5222"/>
                      </a:lnTo>
                      <a:lnTo>
                        <a:pt x="4699" y="5190"/>
                      </a:lnTo>
                      <a:lnTo>
                        <a:pt x="4682" y="5138"/>
                      </a:lnTo>
                      <a:lnTo>
                        <a:pt x="4664" y="5096"/>
                      </a:lnTo>
                      <a:lnTo>
                        <a:pt x="4649" y="5063"/>
                      </a:lnTo>
                      <a:lnTo>
                        <a:pt x="4649" y="5063"/>
                      </a:lnTo>
                      <a:lnTo>
                        <a:pt x="4695" y="5025"/>
                      </a:lnTo>
                      <a:lnTo>
                        <a:pt x="4740" y="4987"/>
                      </a:lnTo>
                      <a:lnTo>
                        <a:pt x="4740" y="4987"/>
                      </a:lnTo>
                      <a:lnTo>
                        <a:pt x="4769" y="5009"/>
                      </a:lnTo>
                      <a:lnTo>
                        <a:pt x="4807" y="5032"/>
                      </a:lnTo>
                      <a:lnTo>
                        <a:pt x="4857" y="5058"/>
                      </a:lnTo>
                      <a:lnTo>
                        <a:pt x="4885" y="5072"/>
                      </a:lnTo>
                      <a:lnTo>
                        <a:pt x="4916" y="5086"/>
                      </a:lnTo>
                      <a:lnTo>
                        <a:pt x="4916" y="5086"/>
                      </a:lnTo>
                      <a:lnTo>
                        <a:pt x="4957" y="5103"/>
                      </a:lnTo>
                      <a:lnTo>
                        <a:pt x="4989" y="5114"/>
                      </a:lnTo>
                      <a:lnTo>
                        <a:pt x="5012" y="5121"/>
                      </a:lnTo>
                      <a:lnTo>
                        <a:pt x="5022" y="5121"/>
                      </a:lnTo>
                      <a:lnTo>
                        <a:pt x="5032" y="5121"/>
                      </a:lnTo>
                      <a:lnTo>
                        <a:pt x="5038" y="5121"/>
                      </a:lnTo>
                      <a:lnTo>
                        <a:pt x="5045" y="5119"/>
                      </a:lnTo>
                      <a:lnTo>
                        <a:pt x="5051" y="5116"/>
                      </a:lnTo>
                      <a:lnTo>
                        <a:pt x="5058" y="5111"/>
                      </a:lnTo>
                      <a:lnTo>
                        <a:pt x="5071" y="5101"/>
                      </a:lnTo>
                      <a:lnTo>
                        <a:pt x="5084" y="5086"/>
                      </a:lnTo>
                      <a:lnTo>
                        <a:pt x="5084" y="5086"/>
                      </a:lnTo>
                      <a:lnTo>
                        <a:pt x="5099" y="5072"/>
                      </a:lnTo>
                      <a:lnTo>
                        <a:pt x="5111" y="5060"/>
                      </a:lnTo>
                      <a:lnTo>
                        <a:pt x="5114" y="5053"/>
                      </a:lnTo>
                      <a:lnTo>
                        <a:pt x="5117" y="5047"/>
                      </a:lnTo>
                      <a:lnTo>
                        <a:pt x="5119" y="5040"/>
                      </a:lnTo>
                      <a:lnTo>
                        <a:pt x="5121" y="5032"/>
                      </a:lnTo>
                      <a:lnTo>
                        <a:pt x="5121" y="5024"/>
                      </a:lnTo>
                      <a:lnTo>
                        <a:pt x="5119" y="5014"/>
                      </a:lnTo>
                      <a:lnTo>
                        <a:pt x="5114" y="4989"/>
                      </a:lnTo>
                      <a:lnTo>
                        <a:pt x="5103" y="4958"/>
                      </a:lnTo>
                      <a:lnTo>
                        <a:pt x="5084" y="4917"/>
                      </a:lnTo>
                      <a:lnTo>
                        <a:pt x="5084" y="4917"/>
                      </a:lnTo>
                      <a:lnTo>
                        <a:pt x="5071" y="4887"/>
                      </a:lnTo>
                      <a:lnTo>
                        <a:pt x="5058" y="4857"/>
                      </a:lnTo>
                      <a:lnTo>
                        <a:pt x="5032" y="4809"/>
                      </a:lnTo>
                      <a:lnTo>
                        <a:pt x="5007" y="4770"/>
                      </a:lnTo>
                      <a:lnTo>
                        <a:pt x="4987" y="4740"/>
                      </a:lnTo>
                      <a:lnTo>
                        <a:pt x="4987" y="4740"/>
                      </a:lnTo>
                      <a:lnTo>
                        <a:pt x="5025" y="4696"/>
                      </a:lnTo>
                      <a:lnTo>
                        <a:pt x="5063" y="4651"/>
                      </a:lnTo>
                      <a:lnTo>
                        <a:pt x="5063" y="4651"/>
                      </a:lnTo>
                      <a:lnTo>
                        <a:pt x="5094" y="4666"/>
                      </a:lnTo>
                      <a:lnTo>
                        <a:pt x="5137" y="4682"/>
                      </a:lnTo>
                      <a:lnTo>
                        <a:pt x="5190" y="4701"/>
                      </a:lnTo>
                      <a:lnTo>
                        <a:pt x="5220" y="4709"/>
                      </a:lnTo>
                      <a:lnTo>
                        <a:pt x="5253" y="4717"/>
                      </a:lnTo>
                      <a:lnTo>
                        <a:pt x="5253" y="4717"/>
                      </a:lnTo>
                      <a:lnTo>
                        <a:pt x="5297" y="4727"/>
                      </a:lnTo>
                      <a:lnTo>
                        <a:pt x="5330" y="4732"/>
                      </a:lnTo>
                      <a:lnTo>
                        <a:pt x="5355" y="4734"/>
                      </a:lnTo>
                      <a:lnTo>
                        <a:pt x="5363" y="4734"/>
                      </a:lnTo>
                      <a:lnTo>
                        <a:pt x="5373" y="4732"/>
                      </a:lnTo>
                      <a:lnTo>
                        <a:pt x="5380" y="4730"/>
                      </a:lnTo>
                      <a:lnTo>
                        <a:pt x="5386" y="4727"/>
                      </a:lnTo>
                      <a:lnTo>
                        <a:pt x="5393" y="4722"/>
                      </a:lnTo>
                      <a:lnTo>
                        <a:pt x="5398" y="4717"/>
                      </a:lnTo>
                      <a:lnTo>
                        <a:pt x="5408" y="4704"/>
                      </a:lnTo>
                      <a:lnTo>
                        <a:pt x="5419" y="4687"/>
                      </a:lnTo>
                      <a:lnTo>
                        <a:pt x="5419" y="4687"/>
                      </a:lnTo>
                      <a:lnTo>
                        <a:pt x="5431" y="4671"/>
                      </a:lnTo>
                      <a:lnTo>
                        <a:pt x="5441" y="4656"/>
                      </a:lnTo>
                      <a:lnTo>
                        <a:pt x="5442" y="4649"/>
                      </a:lnTo>
                      <a:lnTo>
                        <a:pt x="5444" y="4643"/>
                      </a:lnTo>
                      <a:lnTo>
                        <a:pt x="5445" y="4636"/>
                      </a:lnTo>
                      <a:lnTo>
                        <a:pt x="5445" y="4628"/>
                      </a:lnTo>
                      <a:lnTo>
                        <a:pt x="5444" y="4620"/>
                      </a:lnTo>
                      <a:lnTo>
                        <a:pt x="5441" y="4610"/>
                      </a:lnTo>
                      <a:lnTo>
                        <a:pt x="5431" y="4587"/>
                      </a:lnTo>
                      <a:lnTo>
                        <a:pt x="5414" y="4559"/>
                      </a:lnTo>
                      <a:lnTo>
                        <a:pt x="5391" y="4521"/>
                      </a:lnTo>
                      <a:lnTo>
                        <a:pt x="5391" y="4521"/>
                      </a:lnTo>
                      <a:lnTo>
                        <a:pt x="5371" y="4493"/>
                      </a:lnTo>
                      <a:lnTo>
                        <a:pt x="5353" y="4468"/>
                      </a:lnTo>
                      <a:lnTo>
                        <a:pt x="5319" y="4424"/>
                      </a:lnTo>
                      <a:lnTo>
                        <a:pt x="5287" y="4389"/>
                      </a:lnTo>
                      <a:lnTo>
                        <a:pt x="5262" y="4364"/>
                      </a:lnTo>
                      <a:lnTo>
                        <a:pt x="5262" y="4364"/>
                      </a:lnTo>
                      <a:lnTo>
                        <a:pt x="5292" y="4313"/>
                      </a:lnTo>
                      <a:lnTo>
                        <a:pt x="5322" y="4262"/>
                      </a:lnTo>
                      <a:lnTo>
                        <a:pt x="5322" y="4262"/>
                      </a:lnTo>
                      <a:lnTo>
                        <a:pt x="5356" y="4272"/>
                      </a:lnTo>
                      <a:lnTo>
                        <a:pt x="5401" y="4282"/>
                      </a:lnTo>
                      <a:lnTo>
                        <a:pt x="5455" y="4288"/>
                      </a:lnTo>
                      <a:lnTo>
                        <a:pt x="5487" y="4292"/>
                      </a:lnTo>
                      <a:lnTo>
                        <a:pt x="5521" y="4295"/>
                      </a:lnTo>
                      <a:lnTo>
                        <a:pt x="5521" y="4295"/>
                      </a:lnTo>
                      <a:lnTo>
                        <a:pt x="5566" y="4297"/>
                      </a:lnTo>
                      <a:lnTo>
                        <a:pt x="5599" y="4297"/>
                      </a:lnTo>
                      <a:lnTo>
                        <a:pt x="5624" y="4293"/>
                      </a:lnTo>
                      <a:lnTo>
                        <a:pt x="5633" y="4292"/>
                      </a:lnTo>
                      <a:lnTo>
                        <a:pt x="5642" y="4288"/>
                      </a:lnTo>
                      <a:lnTo>
                        <a:pt x="5648" y="4285"/>
                      </a:lnTo>
                      <a:lnTo>
                        <a:pt x="5653" y="4282"/>
                      </a:lnTo>
                      <a:lnTo>
                        <a:pt x="5658" y="4275"/>
                      </a:lnTo>
                      <a:lnTo>
                        <a:pt x="5663" y="4270"/>
                      </a:lnTo>
                      <a:lnTo>
                        <a:pt x="5671" y="4255"/>
                      </a:lnTo>
                      <a:lnTo>
                        <a:pt x="5680" y="4237"/>
                      </a:lnTo>
                      <a:lnTo>
                        <a:pt x="5680" y="4237"/>
                      </a:lnTo>
                      <a:lnTo>
                        <a:pt x="5688" y="4219"/>
                      </a:lnTo>
                      <a:lnTo>
                        <a:pt x="5694" y="4203"/>
                      </a:lnTo>
                      <a:lnTo>
                        <a:pt x="5696" y="4196"/>
                      </a:lnTo>
                      <a:lnTo>
                        <a:pt x="5696" y="4189"/>
                      </a:lnTo>
                      <a:lnTo>
                        <a:pt x="5696" y="4181"/>
                      </a:lnTo>
                      <a:lnTo>
                        <a:pt x="5694" y="4175"/>
                      </a:lnTo>
                      <a:lnTo>
                        <a:pt x="5691" y="4166"/>
                      </a:lnTo>
                      <a:lnTo>
                        <a:pt x="5688" y="4157"/>
                      </a:lnTo>
                      <a:lnTo>
                        <a:pt x="5673" y="4137"/>
                      </a:lnTo>
                      <a:lnTo>
                        <a:pt x="5652" y="4110"/>
                      </a:lnTo>
                      <a:lnTo>
                        <a:pt x="5622" y="4079"/>
                      </a:lnTo>
                      <a:lnTo>
                        <a:pt x="5622" y="4079"/>
                      </a:lnTo>
                      <a:lnTo>
                        <a:pt x="5599" y="4054"/>
                      </a:lnTo>
                      <a:lnTo>
                        <a:pt x="5576" y="4031"/>
                      </a:lnTo>
                      <a:lnTo>
                        <a:pt x="5535" y="3995"/>
                      </a:lnTo>
                      <a:lnTo>
                        <a:pt x="5498" y="3967"/>
                      </a:lnTo>
                      <a:lnTo>
                        <a:pt x="5469" y="3945"/>
                      </a:lnTo>
                      <a:lnTo>
                        <a:pt x="5469" y="3945"/>
                      </a:lnTo>
                      <a:lnTo>
                        <a:pt x="5488" y="3891"/>
                      </a:lnTo>
                      <a:lnTo>
                        <a:pt x="5508" y="3835"/>
                      </a:lnTo>
                      <a:lnTo>
                        <a:pt x="5508" y="3835"/>
                      </a:lnTo>
                      <a:lnTo>
                        <a:pt x="5544" y="3838"/>
                      </a:lnTo>
                      <a:lnTo>
                        <a:pt x="5591" y="3840"/>
                      </a:lnTo>
                      <a:lnTo>
                        <a:pt x="5645" y="3838"/>
                      </a:lnTo>
                      <a:lnTo>
                        <a:pt x="5678" y="3837"/>
                      </a:lnTo>
                      <a:lnTo>
                        <a:pt x="5711" y="3832"/>
                      </a:lnTo>
                      <a:lnTo>
                        <a:pt x="5711" y="3832"/>
                      </a:lnTo>
                      <a:lnTo>
                        <a:pt x="5755" y="3827"/>
                      </a:lnTo>
                      <a:lnTo>
                        <a:pt x="5788" y="3820"/>
                      </a:lnTo>
                      <a:lnTo>
                        <a:pt x="5812" y="3814"/>
                      </a:lnTo>
                      <a:lnTo>
                        <a:pt x="5821" y="3810"/>
                      </a:lnTo>
                      <a:lnTo>
                        <a:pt x="5828" y="3805"/>
                      </a:lnTo>
                      <a:lnTo>
                        <a:pt x="5835" y="3802"/>
                      </a:lnTo>
                      <a:lnTo>
                        <a:pt x="5840" y="3795"/>
                      </a:lnTo>
                      <a:lnTo>
                        <a:pt x="5843" y="3790"/>
                      </a:lnTo>
                      <a:lnTo>
                        <a:pt x="5848" y="3784"/>
                      </a:lnTo>
                      <a:lnTo>
                        <a:pt x="5853" y="3767"/>
                      </a:lnTo>
                      <a:lnTo>
                        <a:pt x="5858" y="3748"/>
                      </a:lnTo>
                      <a:lnTo>
                        <a:pt x="5858" y="3748"/>
                      </a:lnTo>
                      <a:lnTo>
                        <a:pt x="5863" y="3728"/>
                      </a:lnTo>
                      <a:lnTo>
                        <a:pt x="5866" y="3711"/>
                      </a:lnTo>
                      <a:lnTo>
                        <a:pt x="5866" y="3705"/>
                      </a:lnTo>
                      <a:lnTo>
                        <a:pt x="5866" y="3698"/>
                      </a:lnTo>
                      <a:lnTo>
                        <a:pt x="5864" y="3690"/>
                      </a:lnTo>
                      <a:lnTo>
                        <a:pt x="5861" y="3683"/>
                      </a:lnTo>
                      <a:lnTo>
                        <a:pt x="5858" y="3677"/>
                      </a:lnTo>
                      <a:lnTo>
                        <a:pt x="5851" y="3668"/>
                      </a:lnTo>
                      <a:lnTo>
                        <a:pt x="5833" y="3650"/>
                      </a:lnTo>
                      <a:lnTo>
                        <a:pt x="5808" y="3629"/>
                      </a:lnTo>
                      <a:lnTo>
                        <a:pt x="5774" y="3603"/>
                      </a:lnTo>
                      <a:lnTo>
                        <a:pt x="5774" y="3603"/>
                      </a:lnTo>
                      <a:lnTo>
                        <a:pt x="5746" y="3581"/>
                      </a:lnTo>
                      <a:lnTo>
                        <a:pt x="5719" y="3565"/>
                      </a:lnTo>
                      <a:lnTo>
                        <a:pt x="5671" y="3535"/>
                      </a:lnTo>
                      <a:lnTo>
                        <a:pt x="5630" y="3512"/>
                      </a:lnTo>
                      <a:lnTo>
                        <a:pt x="5599" y="3497"/>
                      </a:lnTo>
                      <a:lnTo>
                        <a:pt x="5599" y="3497"/>
                      </a:lnTo>
                      <a:lnTo>
                        <a:pt x="5609" y="3439"/>
                      </a:lnTo>
                      <a:lnTo>
                        <a:pt x="5619" y="3383"/>
                      </a:lnTo>
                      <a:lnTo>
                        <a:pt x="5619" y="3383"/>
                      </a:lnTo>
                      <a:lnTo>
                        <a:pt x="5655" y="3380"/>
                      </a:lnTo>
                      <a:lnTo>
                        <a:pt x="5699" y="3373"/>
                      </a:lnTo>
                      <a:lnTo>
                        <a:pt x="5755" y="3362"/>
                      </a:lnTo>
                      <a:lnTo>
                        <a:pt x="5785" y="3354"/>
                      </a:lnTo>
                      <a:lnTo>
                        <a:pt x="5818" y="3344"/>
                      </a:lnTo>
                      <a:lnTo>
                        <a:pt x="5818" y="3344"/>
                      </a:lnTo>
                      <a:lnTo>
                        <a:pt x="5861" y="3330"/>
                      </a:lnTo>
                      <a:lnTo>
                        <a:pt x="5892" y="3319"/>
                      </a:lnTo>
                      <a:lnTo>
                        <a:pt x="5914" y="3309"/>
                      </a:lnTo>
                      <a:lnTo>
                        <a:pt x="5922" y="3302"/>
                      </a:lnTo>
                      <a:lnTo>
                        <a:pt x="5929" y="3298"/>
                      </a:lnTo>
                      <a:lnTo>
                        <a:pt x="5935" y="3293"/>
                      </a:lnTo>
                      <a:lnTo>
                        <a:pt x="5938" y="3286"/>
                      </a:lnTo>
                      <a:lnTo>
                        <a:pt x="5942" y="3279"/>
                      </a:lnTo>
                      <a:lnTo>
                        <a:pt x="5943" y="3273"/>
                      </a:lnTo>
                      <a:lnTo>
                        <a:pt x="5947" y="3256"/>
                      </a:lnTo>
                      <a:lnTo>
                        <a:pt x="5948" y="3237"/>
                      </a:lnTo>
                      <a:lnTo>
                        <a:pt x="5948" y="3237"/>
                      </a:lnTo>
                      <a:lnTo>
                        <a:pt x="5950" y="3215"/>
                      </a:lnTo>
                      <a:lnTo>
                        <a:pt x="5950" y="3199"/>
                      </a:lnTo>
                      <a:lnTo>
                        <a:pt x="5950" y="3192"/>
                      </a:lnTo>
                      <a:lnTo>
                        <a:pt x="5947" y="3184"/>
                      </a:lnTo>
                      <a:lnTo>
                        <a:pt x="5945" y="3177"/>
                      </a:lnTo>
                      <a:lnTo>
                        <a:pt x="5940" y="3171"/>
                      </a:lnTo>
                      <a:lnTo>
                        <a:pt x="5935" y="3164"/>
                      </a:lnTo>
                      <a:lnTo>
                        <a:pt x="5927" y="3157"/>
                      </a:lnTo>
                      <a:lnTo>
                        <a:pt x="5907" y="3144"/>
                      </a:lnTo>
                      <a:lnTo>
                        <a:pt x="5879" y="3126"/>
                      </a:lnTo>
                      <a:lnTo>
                        <a:pt x="5840" y="3106"/>
                      </a:lnTo>
                      <a:lnTo>
                        <a:pt x="5840" y="3106"/>
                      </a:lnTo>
                      <a:close/>
                      <a:moveTo>
                        <a:pt x="2885" y="3319"/>
                      </a:moveTo>
                      <a:lnTo>
                        <a:pt x="2885" y="3319"/>
                      </a:lnTo>
                      <a:lnTo>
                        <a:pt x="2850" y="3307"/>
                      </a:lnTo>
                      <a:lnTo>
                        <a:pt x="2817" y="3294"/>
                      </a:lnTo>
                      <a:lnTo>
                        <a:pt x="2788" y="3276"/>
                      </a:lnTo>
                      <a:lnTo>
                        <a:pt x="2760" y="3256"/>
                      </a:lnTo>
                      <a:lnTo>
                        <a:pt x="2733" y="3235"/>
                      </a:lnTo>
                      <a:lnTo>
                        <a:pt x="2710" y="3210"/>
                      </a:lnTo>
                      <a:lnTo>
                        <a:pt x="2689" y="3184"/>
                      </a:lnTo>
                      <a:lnTo>
                        <a:pt x="2671" y="3154"/>
                      </a:lnTo>
                      <a:lnTo>
                        <a:pt x="2654" y="3124"/>
                      </a:lnTo>
                      <a:lnTo>
                        <a:pt x="2643" y="3093"/>
                      </a:lnTo>
                      <a:lnTo>
                        <a:pt x="2633" y="3060"/>
                      </a:lnTo>
                      <a:lnTo>
                        <a:pt x="2626" y="3027"/>
                      </a:lnTo>
                      <a:lnTo>
                        <a:pt x="2623" y="2992"/>
                      </a:lnTo>
                      <a:lnTo>
                        <a:pt x="2623" y="2958"/>
                      </a:lnTo>
                      <a:lnTo>
                        <a:pt x="2628" y="2922"/>
                      </a:lnTo>
                      <a:lnTo>
                        <a:pt x="2634" y="2887"/>
                      </a:lnTo>
                      <a:lnTo>
                        <a:pt x="2634" y="2887"/>
                      </a:lnTo>
                      <a:lnTo>
                        <a:pt x="2646" y="2852"/>
                      </a:lnTo>
                      <a:lnTo>
                        <a:pt x="2661" y="2819"/>
                      </a:lnTo>
                      <a:lnTo>
                        <a:pt x="2677" y="2790"/>
                      </a:lnTo>
                      <a:lnTo>
                        <a:pt x="2697" y="2762"/>
                      </a:lnTo>
                      <a:lnTo>
                        <a:pt x="2720" y="2735"/>
                      </a:lnTo>
                      <a:lnTo>
                        <a:pt x="2745" y="2712"/>
                      </a:lnTo>
                      <a:lnTo>
                        <a:pt x="2771" y="2691"/>
                      </a:lnTo>
                      <a:lnTo>
                        <a:pt x="2799" y="2673"/>
                      </a:lnTo>
                      <a:lnTo>
                        <a:pt x="2829" y="2656"/>
                      </a:lnTo>
                      <a:lnTo>
                        <a:pt x="2860" y="2645"/>
                      </a:lnTo>
                      <a:lnTo>
                        <a:pt x="2893" y="2635"/>
                      </a:lnTo>
                      <a:lnTo>
                        <a:pt x="2928" y="2628"/>
                      </a:lnTo>
                      <a:lnTo>
                        <a:pt x="2962" y="2625"/>
                      </a:lnTo>
                      <a:lnTo>
                        <a:pt x="2997" y="2625"/>
                      </a:lnTo>
                      <a:lnTo>
                        <a:pt x="3032" y="2630"/>
                      </a:lnTo>
                      <a:lnTo>
                        <a:pt x="3068" y="2636"/>
                      </a:lnTo>
                      <a:lnTo>
                        <a:pt x="3068" y="2636"/>
                      </a:lnTo>
                      <a:lnTo>
                        <a:pt x="3101" y="2648"/>
                      </a:lnTo>
                      <a:lnTo>
                        <a:pt x="3134" y="2663"/>
                      </a:lnTo>
                      <a:lnTo>
                        <a:pt x="3165" y="2679"/>
                      </a:lnTo>
                      <a:lnTo>
                        <a:pt x="3193" y="2699"/>
                      </a:lnTo>
                      <a:lnTo>
                        <a:pt x="3218" y="2722"/>
                      </a:lnTo>
                      <a:lnTo>
                        <a:pt x="3243" y="2747"/>
                      </a:lnTo>
                      <a:lnTo>
                        <a:pt x="3263" y="2773"/>
                      </a:lnTo>
                      <a:lnTo>
                        <a:pt x="3282" y="2801"/>
                      </a:lnTo>
                      <a:lnTo>
                        <a:pt x="3297" y="2831"/>
                      </a:lnTo>
                      <a:lnTo>
                        <a:pt x="3310" y="2864"/>
                      </a:lnTo>
                      <a:lnTo>
                        <a:pt x="3319" y="2895"/>
                      </a:lnTo>
                      <a:lnTo>
                        <a:pt x="3325" y="2930"/>
                      </a:lnTo>
                      <a:lnTo>
                        <a:pt x="3328" y="2964"/>
                      </a:lnTo>
                      <a:lnTo>
                        <a:pt x="3328" y="2999"/>
                      </a:lnTo>
                      <a:lnTo>
                        <a:pt x="3325" y="3034"/>
                      </a:lnTo>
                      <a:lnTo>
                        <a:pt x="3317" y="3070"/>
                      </a:lnTo>
                      <a:lnTo>
                        <a:pt x="3317" y="3070"/>
                      </a:lnTo>
                      <a:lnTo>
                        <a:pt x="3305" y="3103"/>
                      </a:lnTo>
                      <a:lnTo>
                        <a:pt x="3292" y="3136"/>
                      </a:lnTo>
                      <a:lnTo>
                        <a:pt x="3274" y="3167"/>
                      </a:lnTo>
                      <a:lnTo>
                        <a:pt x="3254" y="3195"/>
                      </a:lnTo>
                      <a:lnTo>
                        <a:pt x="3233" y="3222"/>
                      </a:lnTo>
                      <a:lnTo>
                        <a:pt x="3208" y="3245"/>
                      </a:lnTo>
                      <a:lnTo>
                        <a:pt x="3180" y="3266"/>
                      </a:lnTo>
                      <a:lnTo>
                        <a:pt x="3152" y="3284"/>
                      </a:lnTo>
                      <a:lnTo>
                        <a:pt x="3122" y="3299"/>
                      </a:lnTo>
                      <a:lnTo>
                        <a:pt x="3091" y="3312"/>
                      </a:lnTo>
                      <a:lnTo>
                        <a:pt x="3058" y="3321"/>
                      </a:lnTo>
                      <a:lnTo>
                        <a:pt x="3025" y="3327"/>
                      </a:lnTo>
                      <a:lnTo>
                        <a:pt x="2990" y="3330"/>
                      </a:lnTo>
                      <a:lnTo>
                        <a:pt x="2956" y="3330"/>
                      </a:lnTo>
                      <a:lnTo>
                        <a:pt x="2920" y="3327"/>
                      </a:lnTo>
                      <a:lnTo>
                        <a:pt x="2885" y="3319"/>
                      </a:lnTo>
                      <a:lnTo>
                        <a:pt x="2885" y="3319"/>
                      </a:lnTo>
                      <a:close/>
                    </a:path>
                  </a:pathLst>
                </a:custGeom>
                <a:gradFill rotWithShape="0">
                  <a:gsLst>
                    <a:gs pos="0">
                      <a:srgbClr val="a45200"/>
                    </a:gs>
                    <a:gs pos="100000">
                      <a:srgbClr val="c89834"/>
                    </a:gs>
                  </a:gsLst>
                  <a:lin ang="13500000"/>
                </a:gradFill>
                <a:ln w="9525">
                  <a:noFill/>
                </a:ln>
                <a:effectLst>
                  <a:outerShdw algn="tl" blurRad="50760" dir="2700000" dist="37674" rotWithShape="0">
                    <a:srgbClr val="000000">
                      <a:alpha val="20000"/>
                    </a:srgbClr>
                  </a:outerShdw>
                </a:effectLst>
              </p:spPr>
              <p:style>
                <a:lnRef idx="0"/>
                <a:fillRef idx="0"/>
                <a:effectRef idx="0"/>
                <a:fontRef idx="minor"/>
              </p:style>
              <p:txBody>
                <a:bodyPr numCol="1" spcCol="0" anchor="t">
                  <a:noAutofit/>
                </a:bodyPr>
                <a:p>
                  <a:pPr>
                    <a:lnSpc>
                      <a:spcPct val="85000"/>
                    </a:lnSpc>
                    <a:spcBef>
                      <a:spcPts val="360"/>
                    </a:spcBef>
                  </a:pPr>
                  <a:endParaRPr b="0" lang="en-US" sz="1800" spc="-1" strike="noStrike">
                    <a:solidFill>
                      <a:srgbClr val="000000"/>
                    </a:solidFill>
                    <a:latin typeface="Calibri"/>
                  </a:endParaRPr>
                </a:p>
              </p:txBody>
            </p:sp>
            <p:sp>
              <p:nvSpPr>
                <p:cNvPr id="633" name="Freeform 6"/>
                <p:cNvSpPr/>
                <p:nvPr/>
              </p:nvSpPr>
              <p:spPr>
                <a:xfrm>
                  <a:off x="2090880" y="3286080"/>
                  <a:ext cx="1423440" cy="1423440"/>
                </a:xfrm>
                <a:custGeom>
                  <a:avLst/>
                  <a:gdLst>
                    <a:gd name="textAreaLeft" fmla="*/ 0 w 1423440"/>
                    <a:gd name="textAreaRight" fmla="*/ 1423800 w 1423440"/>
                    <a:gd name="textAreaTop" fmla="*/ 0 h 1423440"/>
                    <a:gd name="textAreaBottom" fmla="*/ 1423800 h 1423440"/>
                  </a:gdLst>
                  <a:ahLst/>
                  <a:rect l="textAreaLeft" t="textAreaTop" r="textAreaRight" b="textAreaBottom"/>
                  <a:pathLst>
                    <a:path w="5950" h="5950">
                      <a:moveTo>
                        <a:pt x="5904" y="2636"/>
                      </a:moveTo>
                      <a:lnTo>
                        <a:pt x="5904" y="2636"/>
                      </a:lnTo>
                      <a:lnTo>
                        <a:pt x="5912" y="2719"/>
                      </a:lnTo>
                      <a:lnTo>
                        <a:pt x="5919" y="2800"/>
                      </a:lnTo>
                      <a:lnTo>
                        <a:pt x="5919" y="2800"/>
                      </a:lnTo>
                      <a:lnTo>
                        <a:pt x="5930" y="2791"/>
                      </a:lnTo>
                      <a:lnTo>
                        <a:pt x="5938" y="2781"/>
                      </a:lnTo>
                      <a:lnTo>
                        <a:pt x="5945" y="2773"/>
                      </a:lnTo>
                      <a:lnTo>
                        <a:pt x="5948" y="2763"/>
                      </a:lnTo>
                      <a:lnTo>
                        <a:pt x="5950" y="2753"/>
                      </a:lnTo>
                      <a:lnTo>
                        <a:pt x="5950" y="2742"/>
                      </a:lnTo>
                      <a:lnTo>
                        <a:pt x="5948" y="2715"/>
                      </a:lnTo>
                      <a:lnTo>
                        <a:pt x="5948" y="2715"/>
                      </a:lnTo>
                      <a:lnTo>
                        <a:pt x="5945" y="2689"/>
                      </a:lnTo>
                      <a:lnTo>
                        <a:pt x="5943" y="2678"/>
                      </a:lnTo>
                      <a:lnTo>
                        <a:pt x="5940" y="2668"/>
                      </a:lnTo>
                      <a:lnTo>
                        <a:pt x="5935" y="2659"/>
                      </a:lnTo>
                      <a:lnTo>
                        <a:pt x="5927" y="2651"/>
                      </a:lnTo>
                      <a:lnTo>
                        <a:pt x="5917" y="2645"/>
                      </a:lnTo>
                      <a:lnTo>
                        <a:pt x="5904" y="2636"/>
                      </a:lnTo>
                      <a:lnTo>
                        <a:pt x="5904" y="2636"/>
                      </a:lnTo>
                      <a:close/>
                      <a:moveTo>
                        <a:pt x="2202" y="92"/>
                      </a:moveTo>
                      <a:lnTo>
                        <a:pt x="2202" y="92"/>
                      </a:lnTo>
                      <a:lnTo>
                        <a:pt x="2176" y="101"/>
                      </a:lnTo>
                      <a:lnTo>
                        <a:pt x="2164" y="104"/>
                      </a:lnTo>
                      <a:lnTo>
                        <a:pt x="2156" y="109"/>
                      </a:lnTo>
                      <a:lnTo>
                        <a:pt x="2148" y="117"/>
                      </a:lnTo>
                      <a:lnTo>
                        <a:pt x="2141" y="125"/>
                      </a:lnTo>
                      <a:lnTo>
                        <a:pt x="2136" y="138"/>
                      </a:lnTo>
                      <a:lnTo>
                        <a:pt x="2131" y="155"/>
                      </a:lnTo>
                      <a:lnTo>
                        <a:pt x="2131" y="155"/>
                      </a:lnTo>
                      <a:lnTo>
                        <a:pt x="2212" y="132"/>
                      </a:lnTo>
                      <a:lnTo>
                        <a:pt x="2295" y="110"/>
                      </a:lnTo>
                      <a:lnTo>
                        <a:pt x="2295" y="110"/>
                      </a:lnTo>
                      <a:lnTo>
                        <a:pt x="2282" y="99"/>
                      </a:lnTo>
                      <a:lnTo>
                        <a:pt x="2272" y="91"/>
                      </a:lnTo>
                      <a:lnTo>
                        <a:pt x="2260" y="86"/>
                      </a:lnTo>
                      <a:lnTo>
                        <a:pt x="2250" y="84"/>
                      </a:lnTo>
                      <a:lnTo>
                        <a:pt x="2240" y="84"/>
                      </a:lnTo>
                      <a:lnTo>
                        <a:pt x="2229" y="86"/>
                      </a:lnTo>
                      <a:lnTo>
                        <a:pt x="2202" y="92"/>
                      </a:lnTo>
                      <a:lnTo>
                        <a:pt x="2202" y="92"/>
                      </a:lnTo>
                      <a:close/>
                      <a:moveTo>
                        <a:pt x="5419" y="1263"/>
                      </a:moveTo>
                      <a:lnTo>
                        <a:pt x="5419" y="1263"/>
                      </a:lnTo>
                      <a:lnTo>
                        <a:pt x="5404" y="1242"/>
                      </a:lnTo>
                      <a:lnTo>
                        <a:pt x="5396" y="1233"/>
                      </a:lnTo>
                      <a:lnTo>
                        <a:pt x="5388" y="1227"/>
                      </a:lnTo>
                      <a:lnTo>
                        <a:pt x="5380" y="1222"/>
                      </a:lnTo>
                      <a:lnTo>
                        <a:pt x="5368" y="1218"/>
                      </a:lnTo>
                      <a:lnTo>
                        <a:pt x="5355" y="1217"/>
                      </a:lnTo>
                      <a:lnTo>
                        <a:pt x="5340" y="1218"/>
                      </a:lnTo>
                      <a:lnTo>
                        <a:pt x="5340" y="1218"/>
                      </a:lnTo>
                      <a:lnTo>
                        <a:pt x="5388" y="1286"/>
                      </a:lnTo>
                      <a:lnTo>
                        <a:pt x="5436" y="1354"/>
                      </a:lnTo>
                      <a:lnTo>
                        <a:pt x="5436" y="1354"/>
                      </a:lnTo>
                      <a:lnTo>
                        <a:pt x="5441" y="1339"/>
                      </a:lnTo>
                      <a:lnTo>
                        <a:pt x="5444" y="1327"/>
                      </a:lnTo>
                      <a:lnTo>
                        <a:pt x="5445" y="1316"/>
                      </a:lnTo>
                      <a:lnTo>
                        <a:pt x="5444" y="1306"/>
                      </a:lnTo>
                      <a:lnTo>
                        <a:pt x="5441" y="1296"/>
                      </a:lnTo>
                      <a:lnTo>
                        <a:pt x="5436" y="1286"/>
                      </a:lnTo>
                      <a:lnTo>
                        <a:pt x="5419" y="1263"/>
                      </a:lnTo>
                      <a:lnTo>
                        <a:pt x="5419" y="1263"/>
                      </a:lnTo>
                      <a:close/>
                      <a:moveTo>
                        <a:pt x="5919" y="3151"/>
                      </a:moveTo>
                      <a:lnTo>
                        <a:pt x="5919" y="3151"/>
                      </a:lnTo>
                      <a:lnTo>
                        <a:pt x="5912" y="3233"/>
                      </a:lnTo>
                      <a:lnTo>
                        <a:pt x="5904" y="3314"/>
                      </a:lnTo>
                      <a:lnTo>
                        <a:pt x="5904" y="3314"/>
                      </a:lnTo>
                      <a:lnTo>
                        <a:pt x="5917" y="3307"/>
                      </a:lnTo>
                      <a:lnTo>
                        <a:pt x="5927" y="3299"/>
                      </a:lnTo>
                      <a:lnTo>
                        <a:pt x="5935" y="3291"/>
                      </a:lnTo>
                      <a:lnTo>
                        <a:pt x="5940" y="3283"/>
                      </a:lnTo>
                      <a:lnTo>
                        <a:pt x="5943" y="3273"/>
                      </a:lnTo>
                      <a:lnTo>
                        <a:pt x="5945" y="3263"/>
                      </a:lnTo>
                      <a:lnTo>
                        <a:pt x="5948" y="3237"/>
                      </a:lnTo>
                      <a:lnTo>
                        <a:pt x="5948" y="3237"/>
                      </a:lnTo>
                      <a:lnTo>
                        <a:pt x="5950" y="3208"/>
                      </a:lnTo>
                      <a:lnTo>
                        <a:pt x="5950" y="3199"/>
                      </a:lnTo>
                      <a:lnTo>
                        <a:pt x="5948" y="3187"/>
                      </a:lnTo>
                      <a:lnTo>
                        <a:pt x="5945" y="3179"/>
                      </a:lnTo>
                      <a:lnTo>
                        <a:pt x="5938" y="3169"/>
                      </a:lnTo>
                      <a:lnTo>
                        <a:pt x="5930" y="3161"/>
                      </a:lnTo>
                      <a:lnTo>
                        <a:pt x="5919" y="3151"/>
                      </a:lnTo>
                      <a:lnTo>
                        <a:pt x="5919" y="3151"/>
                      </a:lnTo>
                      <a:close/>
                      <a:moveTo>
                        <a:pt x="5800" y="2133"/>
                      </a:moveTo>
                      <a:lnTo>
                        <a:pt x="5800" y="2133"/>
                      </a:lnTo>
                      <a:lnTo>
                        <a:pt x="5821" y="2213"/>
                      </a:lnTo>
                      <a:lnTo>
                        <a:pt x="5843" y="2292"/>
                      </a:lnTo>
                      <a:lnTo>
                        <a:pt x="5843" y="2292"/>
                      </a:lnTo>
                      <a:lnTo>
                        <a:pt x="5853" y="2280"/>
                      </a:lnTo>
                      <a:lnTo>
                        <a:pt x="5859" y="2270"/>
                      </a:lnTo>
                      <a:lnTo>
                        <a:pt x="5864" y="2260"/>
                      </a:lnTo>
                      <a:lnTo>
                        <a:pt x="5866" y="2251"/>
                      </a:lnTo>
                      <a:lnTo>
                        <a:pt x="5866" y="2241"/>
                      </a:lnTo>
                      <a:lnTo>
                        <a:pt x="5864" y="2229"/>
                      </a:lnTo>
                      <a:lnTo>
                        <a:pt x="5858" y="2203"/>
                      </a:lnTo>
                      <a:lnTo>
                        <a:pt x="5858" y="2203"/>
                      </a:lnTo>
                      <a:lnTo>
                        <a:pt x="5851" y="2176"/>
                      </a:lnTo>
                      <a:lnTo>
                        <a:pt x="5846" y="2166"/>
                      </a:lnTo>
                      <a:lnTo>
                        <a:pt x="5841" y="2158"/>
                      </a:lnTo>
                      <a:lnTo>
                        <a:pt x="5835" y="2150"/>
                      </a:lnTo>
                      <a:lnTo>
                        <a:pt x="5826" y="2143"/>
                      </a:lnTo>
                      <a:lnTo>
                        <a:pt x="5815" y="2138"/>
                      </a:lnTo>
                      <a:lnTo>
                        <a:pt x="5800" y="2133"/>
                      </a:lnTo>
                      <a:lnTo>
                        <a:pt x="5800" y="2133"/>
                      </a:lnTo>
                      <a:close/>
                      <a:moveTo>
                        <a:pt x="2715" y="2"/>
                      </a:moveTo>
                      <a:lnTo>
                        <a:pt x="2715" y="2"/>
                      </a:lnTo>
                      <a:lnTo>
                        <a:pt x="2687" y="5"/>
                      </a:lnTo>
                      <a:lnTo>
                        <a:pt x="2676" y="7"/>
                      </a:lnTo>
                      <a:lnTo>
                        <a:pt x="2666" y="10"/>
                      </a:lnTo>
                      <a:lnTo>
                        <a:pt x="2657" y="16"/>
                      </a:lnTo>
                      <a:lnTo>
                        <a:pt x="2649" y="25"/>
                      </a:lnTo>
                      <a:lnTo>
                        <a:pt x="2641" y="35"/>
                      </a:lnTo>
                      <a:lnTo>
                        <a:pt x="2634" y="51"/>
                      </a:lnTo>
                      <a:lnTo>
                        <a:pt x="2634" y="51"/>
                      </a:lnTo>
                      <a:lnTo>
                        <a:pt x="2718" y="41"/>
                      </a:lnTo>
                      <a:lnTo>
                        <a:pt x="2803" y="36"/>
                      </a:lnTo>
                      <a:lnTo>
                        <a:pt x="2803" y="36"/>
                      </a:lnTo>
                      <a:lnTo>
                        <a:pt x="2791" y="21"/>
                      </a:lnTo>
                      <a:lnTo>
                        <a:pt x="2783" y="13"/>
                      </a:lnTo>
                      <a:lnTo>
                        <a:pt x="2773" y="7"/>
                      </a:lnTo>
                      <a:lnTo>
                        <a:pt x="2763" y="2"/>
                      </a:lnTo>
                      <a:lnTo>
                        <a:pt x="2753" y="0"/>
                      </a:lnTo>
                      <a:lnTo>
                        <a:pt x="2742" y="0"/>
                      </a:lnTo>
                      <a:lnTo>
                        <a:pt x="2715" y="2"/>
                      </a:lnTo>
                      <a:lnTo>
                        <a:pt x="2715" y="2"/>
                      </a:lnTo>
                      <a:close/>
                      <a:moveTo>
                        <a:pt x="4687" y="531"/>
                      </a:moveTo>
                      <a:lnTo>
                        <a:pt x="4687" y="531"/>
                      </a:lnTo>
                      <a:lnTo>
                        <a:pt x="4664" y="514"/>
                      </a:lnTo>
                      <a:lnTo>
                        <a:pt x="4654" y="509"/>
                      </a:lnTo>
                      <a:lnTo>
                        <a:pt x="4644" y="506"/>
                      </a:lnTo>
                      <a:lnTo>
                        <a:pt x="4634" y="505"/>
                      </a:lnTo>
                      <a:lnTo>
                        <a:pt x="4623" y="506"/>
                      </a:lnTo>
                      <a:lnTo>
                        <a:pt x="4611" y="509"/>
                      </a:lnTo>
                      <a:lnTo>
                        <a:pt x="4595" y="514"/>
                      </a:lnTo>
                      <a:lnTo>
                        <a:pt x="4595" y="514"/>
                      </a:lnTo>
                      <a:lnTo>
                        <a:pt x="4664" y="562"/>
                      </a:lnTo>
                      <a:lnTo>
                        <a:pt x="4732" y="610"/>
                      </a:lnTo>
                      <a:lnTo>
                        <a:pt x="4732" y="610"/>
                      </a:lnTo>
                      <a:lnTo>
                        <a:pt x="4733" y="595"/>
                      </a:lnTo>
                      <a:lnTo>
                        <a:pt x="4732" y="582"/>
                      </a:lnTo>
                      <a:lnTo>
                        <a:pt x="4728" y="570"/>
                      </a:lnTo>
                      <a:lnTo>
                        <a:pt x="4723" y="562"/>
                      </a:lnTo>
                      <a:lnTo>
                        <a:pt x="4717" y="554"/>
                      </a:lnTo>
                      <a:lnTo>
                        <a:pt x="4708" y="546"/>
                      </a:lnTo>
                      <a:lnTo>
                        <a:pt x="4687" y="531"/>
                      </a:lnTo>
                      <a:lnTo>
                        <a:pt x="4687" y="531"/>
                      </a:lnTo>
                      <a:close/>
                      <a:moveTo>
                        <a:pt x="5084" y="866"/>
                      </a:moveTo>
                      <a:lnTo>
                        <a:pt x="5084" y="866"/>
                      </a:lnTo>
                      <a:lnTo>
                        <a:pt x="5066" y="846"/>
                      </a:lnTo>
                      <a:lnTo>
                        <a:pt x="5056" y="839"/>
                      </a:lnTo>
                      <a:lnTo>
                        <a:pt x="5048" y="834"/>
                      </a:lnTo>
                      <a:lnTo>
                        <a:pt x="5038" y="831"/>
                      </a:lnTo>
                      <a:lnTo>
                        <a:pt x="5027" y="829"/>
                      </a:lnTo>
                      <a:lnTo>
                        <a:pt x="5014" y="831"/>
                      </a:lnTo>
                      <a:lnTo>
                        <a:pt x="4999" y="834"/>
                      </a:lnTo>
                      <a:lnTo>
                        <a:pt x="4999" y="834"/>
                      </a:lnTo>
                      <a:lnTo>
                        <a:pt x="5058" y="892"/>
                      </a:lnTo>
                      <a:lnTo>
                        <a:pt x="5116" y="951"/>
                      </a:lnTo>
                      <a:lnTo>
                        <a:pt x="5116" y="951"/>
                      </a:lnTo>
                      <a:lnTo>
                        <a:pt x="5119" y="936"/>
                      </a:lnTo>
                      <a:lnTo>
                        <a:pt x="5121" y="923"/>
                      </a:lnTo>
                      <a:lnTo>
                        <a:pt x="5119" y="912"/>
                      </a:lnTo>
                      <a:lnTo>
                        <a:pt x="5116" y="902"/>
                      </a:lnTo>
                      <a:lnTo>
                        <a:pt x="5111" y="894"/>
                      </a:lnTo>
                      <a:lnTo>
                        <a:pt x="5104" y="884"/>
                      </a:lnTo>
                      <a:lnTo>
                        <a:pt x="5084" y="866"/>
                      </a:lnTo>
                      <a:lnTo>
                        <a:pt x="5084" y="866"/>
                      </a:lnTo>
                      <a:close/>
                      <a:moveTo>
                        <a:pt x="5681" y="4148"/>
                      </a:moveTo>
                      <a:lnTo>
                        <a:pt x="5681" y="4148"/>
                      </a:lnTo>
                      <a:lnTo>
                        <a:pt x="5648" y="4222"/>
                      </a:lnTo>
                      <a:lnTo>
                        <a:pt x="5612" y="4295"/>
                      </a:lnTo>
                      <a:lnTo>
                        <a:pt x="5612" y="4295"/>
                      </a:lnTo>
                      <a:lnTo>
                        <a:pt x="5627" y="4293"/>
                      </a:lnTo>
                      <a:lnTo>
                        <a:pt x="5640" y="4290"/>
                      </a:lnTo>
                      <a:lnTo>
                        <a:pt x="5648" y="4285"/>
                      </a:lnTo>
                      <a:lnTo>
                        <a:pt x="5657" y="4279"/>
                      </a:lnTo>
                      <a:lnTo>
                        <a:pt x="5663" y="4270"/>
                      </a:lnTo>
                      <a:lnTo>
                        <a:pt x="5668" y="4260"/>
                      </a:lnTo>
                      <a:lnTo>
                        <a:pt x="5680" y="4237"/>
                      </a:lnTo>
                      <a:lnTo>
                        <a:pt x="5680" y="4237"/>
                      </a:lnTo>
                      <a:lnTo>
                        <a:pt x="5691" y="4213"/>
                      </a:lnTo>
                      <a:lnTo>
                        <a:pt x="5694" y="4203"/>
                      </a:lnTo>
                      <a:lnTo>
                        <a:pt x="5696" y="4193"/>
                      </a:lnTo>
                      <a:lnTo>
                        <a:pt x="5696" y="4183"/>
                      </a:lnTo>
                      <a:lnTo>
                        <a:pt x="5694" y="4171"/>
                      </a:lnTo>
                      <a:lnTo>
                        <a:pt x="5689" y="4160"/>
                      </a:lnTo>
                      <a:lnTo>
                        <a:pt x="5681" y="4148"/>
                      </a:lnTo>
                      <a:lnTo>
                        <a:pt x="5681" y="4148"/>
                      </a:lnTo>
                      <a:close/>
                      <a:moveTo>
                        <a:pt x="4146" y="5682"/>
                      </a:moveTo>
                      <a:lnTo>
                        <a:pt x="4146" y="5682"/>
                      </a:lnTo>
                      <a:lnTo>
                        <a:pt x="4159" y="5690"/>
                      </a:lnTo>
                      <a:lnTo>
                        <a:pt x="4171" y="5695"/>
                      </a:lnTo>
                      <a:lnTo>
                        <a:pt x="4181" y="5698"/>
                      </a:lnTo>
                      <a:lnTo>
                        <a:pt x="4191" y="5698"/>
                      </a:lnTo>
                      <a:lnTo>
                        <a:pt x="4201" y="5695"/>
                      </a:lnTo>
                      <a:lnTo>
                        <a:pt x="4212" y="5691"/>
                      </a:lnTo>
                      <a:lnTo>
                        <a:pt x="4235" y="5680"/>
                      </a:lnTo>
                      <a:lnTo>
                        <a:pt x="4235" y="5680"/>
                      </a:lnTo>
                      <a:lnTo>
                        <a:pt x="4260" y="5668"/>
                      </a:lnTo>
                      <a:lnTo>
                        <a:pt x="4270" y="5663"/>
                      </a:lnTo>
                      <a:lnTo>
                        <a:pt x="4278" y="5657"/>
                      </a:lnTo>
                      <a:lnTo>
                        <a:pt x="4283" y="5650"/>
                      </a:lnTo>
                      <a:lnTo>
                        <a:pt x="4288" y="5640"/>
                      </a:lnTo>
                      <a:lnTo>
                        <a:pt x="4291" y="5629"/>
                      </a:lnTo>
                      <a:lnTo>
                        <a:pt x="4295" y="5614"/>
                      </a:lnTo>
                      <a:lnTo>
                        <a:pt x="4295" y="5614"/>
                      </a:lnTo>
                      <a:lnTo>
                        <a:pt x="4220" y="5649"/>
                      </a:lnTo>
                      <a:lnTo>
                        <a:pt x="4146" y="5682"/>
                      </a:lnTo>
                      <a:lnTo>
                        <a:pt x="4146" y="5682"/>
                      </a:lnTo>
                      <a:close/>
                      <a:moveTo>
                        <a:pt x="1" y="2715"/>
                      </a:moveTo>
                      <a:lnTo>
                        <a:pt x="1" y="2715"/>
                      </a:lnTo>
                      <a:lnTo>
                        <a:pt x="0" y="2744"/>
                      </a:lnTo>
                      <a:lnTo>
                        <a:pt x="0" y="2753"/>
                      </a:lnTo>
                      <a:lnTo>
                        <a:pt x="1" y="2765"/>
                      </a:lnTo>
                      <a:lnTo>
                        <a:pt x="5" y="2773"/>
                      </a:lnTo>
                      <a:lnTo>
                        <a:pt x="11" y="2783"/>
                      </a:lnTo>
                      <a:lnTo>
                        <a:pt x="21" y="2793"/>
                      </a:lnTo>
                      <a:lnTo>
                        <a:pt x="34" y="2803"/>
                      </a:lnTo>
                      <a:lnTo>
                        <a:pt x="34" y="2803"/>
                      </a:lnTo>
                      <a:lnTo>
                        <a:pt x="41" y="2719"/>
                      </a:lnTo>
                      <a:lnTo>
                        <a:pt x="49" y="2635"/>
                      </a:lnTo>
                      <a:lnTo>
                        <a:pt x="49" y="2635"/>
                      </a:lnTo>
                      <a:lnTo>
                        <a:pt x="34" y="2643"/>
                      </a:lnTo>
                      <a:lnTo>
                        <a:pt x="23" y="2651"/>
                      </a:lnTo>
                      <a:lnTo>
                        <a:pt x="14" y="2658"/>
                      </a:lnTo>
                      <a:lnTo>
                        <a:pt x="10" y="2668"/>
                      </a:lnTo>
                      <a:lnTo>
                        <a:pt x="6" y="2678"/>
                      </a:lnTo>
                      <a:lnTo>
                        <a:pt x="3" y="2687"/>
                      </a:lnTo>
                      <a:lnTo>
                        <a:pt x="1" y="2715"/>
                      </a:lnTo>
                      <a:lnTo>
                        <a:pt x="1" y="2715"/>
                      </a:lnTo>
                      <a:close/>
                      <a:moveTo>
                        <a:pt x="1713" y="270"/>
                      </a:moveTo>
                      <a:lnTo>
                        <a:pt x="1713" y="270"/>
                      </a:lnTo>
                      <a:lnTo>
                        <a:pt x="1688" y="282"/>
                      </a:lnTo>
                      <a:lnTo>
                        <a:pt x="1678" y="289"/>
                      </a:lnTo>
                      <a:lnTo>
                        <a:pt x="1670" y="295"/>
                      </a:lnTo>
                      <a:lnTo>
                        <a:pt x="1663" y="303"/>
                      </a:lnTo>
                      <a:lnTo>
                        <a:pt x="1660" y="313"/>
                      </a:lnTo>
                      <a:lnTo>
                        <a:pt x="1657" y="328"/>
                      </a:lnTo>
                      <a:lnTo>
                        <a:pt x="1653" y="345"/>
                      </a:lnTo>
                      <a:lnTo>
                        <a:pt x="1653" y="345"/>
                      </a:lnTo>
                      <a:lnTo>
                        <a:pt x="1731" y="307"/>
                      </a:lnTo>
                      <a:lnTo>
                        <a:pt x="1808" y="272"/>
                      </a:lnTo>
                      <a:lnTo>
                        <a:pt x="1808" y="272"/>
                      </a:lnTo>
                      <a:lnTo>
                        <a:pt x="1793" y="264"/>
                      </a:lnTo>
                      <a:lnTo>
                        <a:pt x="1780" y="257"/>
                      </a:lnTo>
                      <a:lnTo>
                        <a:pt x="1770" y="254"/>
                      </a:lnTo>
                      <a:lnTo>
                        <a:pt x="1759" y="254"/>
                      </a:lnTo>
                      <a:lnTo>
                        <a:pt x="1749" y="256"/>
                      </a:lnTo>
                      <a:lnTo>
                        <a:pt x="1739" y="259"/>
                      </a:lnTo>
                      <a:lnTo>
                        <a:pt x="1713" y="270"/>
                      </a:lnTo>
                      <a:lnTo>
                        <a:pt x="1713" y="270"/>
                      </a:lnTo>
                      <a:close/>
                      <a:moveTo>
                        <a:pt x="5343" y="4734"/>
                      </a:moveTo>
                      <a:lnTo>
                        <a:pt x="5343" y="4734"/>
                      </a:lnTo>
                      <a:lnTo>
                        <a:pt x="5358" y="4734"/>
                      </a:lnTo>
                      <a:lnTo>
                        <a:pt x="5371" y="4732"/>
                      </a:lnTo>
                      <a:lnTo>
                        <a:pt x="5381" y="4729"/>
                      </a:lnTo>
                      <a:lnTo>
                        <a:pt x="5389" y="4724"/>
                      </a:lnTo>
                      <a:lnTo>
                        <a:pt x="5398" y="4717"/>
                      </a:lnTo>
                      <a:lnTo>
                        <a:pt x="5404" y="4709"/>
                      </a:lnTo>
                      <a:lnTo>
                        <a:pt x="5419" y="4687"/>
                      </a:lnTo>
                      <a:lnTo>
                        <a:pt x="5419" y="4687"/>
                      </a:lnTo>
                      <a:lnTo>
                        <a:pt x="5434" y="4666"/>
                      </a:lnTo>
                      <a:lnTo>
                        <a:pt x="5441" y="4656"/>
                      </a:lnTo>
                      <a:lnTo>
                        <a:pt x="5444" y="4646"/>
                      </a:lnTo>
                      <a:lnTo>
                        <a:pt x="5445" y="4636"/>
                      </a:lnTo>
                      <a:lnTo>
                        <a:pt x="5445" y="4626"/>
                      </a:lnTo>
                      <a:lnTo>
                        <a:pt x="5442" y="4615"/>
                      </a:lnTo>
                      <a:lnTo>
                        <a:pt x="5437" y="4600"/>
                      </a:lnTo>
                      <a:lnTo>
                        <a:pt x="5437" y="4600"/>
                      </a:lnTo>
                      <a:lnTo>
                        <a:pt x="5391" y="4668"/>
                      </a:lnTo>
                      <a:lnTo>
                        <a:pt x="5343" y="4734"/>
                      </a:lnTo>
                      <a:lnTo>
                        <a:pt x="5343" y="4734"/>
                      </a:lnTo>
                      <a:close/>
                      <a:moveTo>
                        <a:pt x="5002" y="5118"/>
                      </a:moveTo>
                      <a:lnTo>
                        <a:pt x="5002" y="5118"/>
                      </a:lnTo>
                      <a:lnTo>
                        <a:pt x="5017" y="5121"/>
                      </a:lnTo>
                      <a:lnTo>
                        <a:pt x="5030" y="5121"/>
                      </a:lnTo>
                      <a:lnTo>
                        <a:pt x="5040" y="5121"/>
                      </a:lnTo>
                      <a:lnTo>
                        <a:pt x="5050" y="5118"/>
                      </a:lnTo>
                      <a:lnTo>
                        <a:pt x="5058" y="5111"/>
                      </a:lnTo>
                      <a:lnTo>
                        <a:pt x="5066" y="5105"/>
                      </a:lnTo>
                      <a:lnTo>
                        <a:pt x="5084" y="5086"/>
                      </a:lnTo>
                      <a:lnTo>
                        <a:pt x="5084" y="5086"/>
                      </a:lnTo>
                      <a:lnTo>
                        <a:pt x="5104" y="5067"/>
                      </a:lnTo>
                      <a:lnTo>
                        <a:pt x="5111" y="5058"/>
                      </a:lnTo>
                      <a:lnTo>
                        <a:pt x="5116" y="5050"/>
                      </a:lnTo>
                      <a:lnTo>
                        <a:pt x="5119" y="5040"/>
                      </a:lnTo>
                      <a:lnTo>
                        <a:pt x="5121" y="5030"/>
                      </a:lnTo>
                      <a:lnTo>
                        <a:pt x="5121" y="5019"/>
                      </a:lnTo>
                      <a:lnTo>
                        <a:pt x="5117" y="5004"/>
                      </a:lnTo>
                      <a:lnTo>
                        <a:pt x="5117" y="5004"/>
                      </a:lnTo>
                      <a:lnTo>
                        <a:pt x="5060" y="5062"/>
                      </a:lnTo>
                      <a:lnTo>
                        <a:pt x="5002" y="5118"/>
                      </a:lnTo>
                      <a:lnTo>
                        <a:pt x="5002" y="5118"/>
                      </a:lnTo>
                      <a:close/>
                      <a:moveTo>
                        <a:pt x="1" y="3237"/>
                      </a:moveTo>
                      <a:lnTo>
                        <a:pt x="1" y="3237"/>
                      </a:lnTo>
                      <a:lnTo>
                        <a:pt x="3" y="3263"/>
                      </a:lnTo>
                      <a:lnTo>
                        <a:pt x="6" y="3274"/>
                      </a:lnTo>
                      <a:lnTo>
                        <a:pt x="10" y="3284"/>
                      </a:lnTo>
                      <a:lnTo>
                        <a:pt x="14" y="3293"/>
                      </a:lnTo>
                      <a:lnTo>
                        <a:pt x="23" y="3301"/>
                      </a:lnTo>
                      <a:lnTo>
                        <a:pt x="33" y="3307"/>
                      </a:lnTo>
                      <a:lnTo>
                        <a:pt x="47" y="3316"/>
                      </a:lnTo>
                      <a:lnTo>
                        <a:pt x="47" y="3316"/>
                      </a:lnTo>
                      <a:lnTo>
                        <a:pt x="39" y="3233"/>
                      </a:lnTo>
                      <a:lnTo>
                        <a:pt x="33" y="3149"/>
                      </a:lnTo>
                      <a:lnTo>
                        <a:pt x="33" y="3149"/>
                      </a:lnTo>
                      <a:lnTo>
                        <a:pt x="21" y="3159"/>
                      </a:lnTo>
                      <a:lnTo>
                        <a:pt x="11" y="3169"/>
                      </a:lnTo>
                      <a:lnTo>
                        <a:pt x="5" y="3177"/>
                      </a:lnTo>
                      <a:lnTo>
                        <a:pt x="1" y="3187"/>
                      </a:lnTo>
                      <a:lnTo>
                        <a:pt x="0" y="3197"/>
                      </a:lnTo>
                      <a:lnTo>
                        <a:pt x="0" y="3208"/>
                      </a:lnTo>
                      <a:lnTo>
                        <a:pt x="1" y="3237"/>
                      </a:lnTo>
                      <a:lnTo>
                        <a:pt x="1" y="3237"/>
                      </a:lnTo>
                      <a:close/>
                      <a:moveTo>
                        <a:pt x="270" y="1715"/>
                      </a:moveTo>
                      <a:lnTo>
                        <a:pt x="270" y="1715"/>
                      </a:lnTo>
                      <a:lnTo>
                        <a:pt x="259" y="1739"/>
                      </a:lnTo>
                      <a:lnTo>
                        <a:pt x="254" y="1749"/>
                      </a:lnTo>
                      <a:lnTo>
                        <a:pt x="252" y="1761"/>
                      </a:lnTo>
                      <a:lnTo>
                        <a:pt x="254" y="1771"/>
                      </a:lnTo>
                      <a:lnTo>
                        <a:pt x="255" y="1782"/>
                      </a:lnTo>
                      <a:lnTo>
                        <a:pt x="262" y="1794"/>
                      </a:lnTo>
                      <a:lnTo>
                        <a:pt x="272" y="1809"/>
                      </a:lnTo>
                      <a:lnTo>
                        <a:pt x="272" y="1809"/>
                      </a:lnTo>
                      <a:lnTo>
                        <a:pt x="306" y="1731"/>
                      </a:lnTo>
                      <a:lnTo>
                        <a:pt x="343" y="1655"/>
                      </a:lnTo>
                      <a:lnTo>
                        <a:pt x="343" y="1655"/>
                      </a:lnTo>
                      <a:lnTo>
                        <a:pt x="326" y="1657"/>
                      </a:lnTo>
                      <a:lnTo>
                        <a:pt x="313" y="1660"/>
                      </a:lnTo>
                      <a:lnTo>
                        <a:pt x="301" y="1665"/>
                      </a:lnTo>
                      <a:lnTo>
                        <a:pt x="293" y="1672"/>
                      </a:lnTo>
                      <a:lnTo>
                        <a:pt x="287" y="1680"/>
                      </a:lnTo>
                      <a:lnTo>
                        <a:pt x="282" y="1688"/>
                      </a:lnTo>
                      <a:lnTo>
                        <a:pt x="270" y="1715"/>
                      </a:lnTo>
                      <a:lnTo>
                        <a:pt x="270" y="1715"/>
                      </a:lnTo>
                      <a:close/>
                      <a:moveTo>
                        <a:pt x="529" y="1263"/>
                      </a:moveTo>
                      <a:lnTo>
                        <a:pt x="529" y="1263"/>
                      </a:lnTo>
                      <a:lnTo>
                        <a:pt x="514" y="1286"/>
                      </a:lnTo>
                      <a:lnTo>
                        <a:pt x="509" y="1296"/>
                      </a:lnTo>
                      <a:lnTo>
                        <a:pt x="504" y="1306"/>
                      </a:lnTo>
                      <a:lnTo>
                        <a:pt x="504" y="1316"/>
                      </a:lnTo>
                      <a:lnTo>
                        <a:pt x="504" y="1327"/>
                      </a:lnTo>
                      <a:lnTo>
                        <a:pt x="507" y="1340"/>
                      </a:lnTo>
                      <a:lnTo>
                        <a:pt x="514" y="1355"/>
                      </a:lnTo>
                      <a:lnTo>
                        <a:pt x="514" y="1355"/>
                      </a:lnTo>
                      <a:lnTo>
                        <a:pt x="562" y="1286"/>
                      </a:lnTo>
                      <a:lnTo>
                        <a:pt x="611" y="1218"/>
                      </a:lnTo>
                      <a:lnTo>
                        <a:pt x="611" y="1218"/>
                      </a:lnTo>
                      <a:lnTo>
                        <a:pt x="595" y="1217"/>
                      </a:lnTo>
                      <a:lnTo>
                        <a:pt x="582" y="1218"/>
                      </a:lnTo>
                      <a:lnTo>
                        <a:pt x="570" y="1222"/>
                      </a:lnTo>
                      <a:lnTo>
                        <a:pt x="560" y="1225"/>
                      </a:lnTo>
                      <a:lnTo>
                        <a:pt x="554" y="1233"/>
                      </a:lnTo>
                      <a:lnTo>
                        <a:pt x="545" y="1242"/>
                      </a:lnTo>
                      <a:lnTo>
                        <a:pt x="529" y="1263"/>
                      </a:lnTo>
                      <a:lnTo>
                        <a:pt x="529" y="1263"/>
                      </a:lnTo>
                      <a:close/>
                      <a:moveTo>
                        <a:pt x="864" y="866"/>
                      </a:moveTo>
                      <a:lnTo>
                        <a:pt x="864" y="866"/>
                      </a:lnTo>
                      <a:lnTo>
                        <a:pt x="844" y="885"/>
                      </a:lnTo>
                      <a:lnTo>
                        <a:pt x="837" y="894"/>
                      </a:lnTo>
                      <a:lnTo>
                        <a:pt x="832" y="902"/>
                      </a:lnTo>
                      <a:lnTo>
                        <a:pt x="829" y="912"/>
                      </a:lnTo>
                      <a:lnTo>
                        <a:pt x="829" y="923"/>
                      </a:lnTo>
                      <a:lnTo>
                        <a:pt x="829" y="938"/>
                      </a:lnTo>
                      <a:lnTo>
                        <a:pt x="834" y="955"/>
                      </a:lnTo>
                      <a:lnTo>
                        <a:pt x="834" y="955"/>
                      </a:lnTo>
                      <a:lnTo>
                        <a:pt x="893" y="894"/>
                      </a:lnTo>
                      <a:lnTo>
                        <a:pt x="953" y="834"/>
                      </a:lnTo>
                      <a:lnTo>
                        <a:pt x="953" y="834"/>
                      </a:lnTo>
                      <a:lnTo>
                        <a:pt x="936" y="831"/>
                      </a:lnTo>
                      <a:lnTo>
                        <a:pt x="923" y="829"/>
                      </a:lnTo>
                      <a:lnTo>
                        <a:pt x="911" y="831"/>
                      </a:lnTo>
                      <a:lnTo>
                        <a:pt x="902" y="833"/>
                      </a:lnTo>
                      <a:lnTo>
                        <a:pt x="893" y="839"/>
                      </a:lnTo>
                      <a:lnTo>
                        <a:pt x="883" y="846"/>
                      </a:lnTo>
                      <a:lnTo>
                        <a:pt x="864" y="866"/>
                      </a:lnTo>
                      <a:lnTo>
                        <a:pt x="864" y="866"/>
                      </a:lnTo>
                      <a:close/>
                      <a:moveTo>
                        <a:pt x="1263" y="531"/>
                      </a:moveTo>
                      <a:lnTo>
                        <a:pt x="1263" y="531"/>
                      </a:lnTo>
                      <a:lnTo>
                        <a:pt x="1240" y="547"/>
                      </a:lnTo>
                      <a:lnTo>
                        <a:pt x="1231" y="554"/>
                      </a:lnTo>
                      <a:lnTo>
                        <a:pt x="1225" y="562"/>
                      </a:lnTo>
                      <a:lnTo>
                        <a:pt x="1220" y="572"/>
                      </a:lnTo>
                      <a:lnTo>
                        <a:pt x="1216" y="582"/>
                      </a:lnTo>
                      <a:lnTo>
                        <a:pt x="1216" y="597"/>
                      </a:lnTo>
                      <a:lnTo>
                        <a:pt x="1216" y="613"/>
                      </a:lnTo>
                      <a:lnTo>
                        <a:pt x="1216" y="613"/>
                      </a:lnTo>
                      <a:lnTo>
                        <a:pt x="1286" y="564"/>
                      </a:lnTo>
                      <a:lnTo>
                        <a:pt x="1357" y="516"/>
                      </a:lnTo>
                      <a:lnTo>
                        <a:pt x="1357" y="516"/>
                      </a:lnTo>
                      <a:lnTo>
                        <a:pt x="1340" y="509"/>
                      </a:lnTo>
                      <a:lnTo>
                        <a:pt x="1327" y="506"/>
                      </a:lnTo>
                      <a:lnTo>
                        <a:pt x="1315" y="505"/>
                      </a:lnTo>
                      <a:lnTo>
                        <a:pt x="1305" y="506"/>
                      </a:lnTo>
                      <a:lnTo>
                        <a:pt x="1296" y="509"/>
                      </a:lnTo>
                      <a:lnTo>
                        <a:pt x="1286" y="514"/>
                      </a:lnTo>
                      <a:lnTo>
                        <a:pt x="1263" y="531"/>
                      </a:lnTo>
                      <a:lnTo>
                        <a:pt x="1263" y="531"/>
                      </a:lnTo>
                      <a:close/>
                      <a:moveTo>
                        <a:pt x="5609" y="1655"/>
                      </a:moveTo>
                      <a:lnTo>
                        <a:pt x="5609" y="1655"/>
                      </a:lnTo>
                      <a:lnTo>
                        <a:pt x="5645" y="1730"/>
                      </a:lnTo>
                      <a:lnTo>
                        <a:pt x="5680" y="1805"/>
                      </a:lnTo>
                      <a:lnTo>
                        <a:pt x="5680" y="1805"/>
                      </a:lnTo>
                      <a:lnTo>
                        <a:pt x="5688" y="1792"/>
                      </a:lnTo>
                      <a:lnTo>
                        <a:pt x="5693" y="1781"/>
                      </a:lnTo>
                      <a:lnTo>
                        <a:pt x="5696" y="1769"/>
                      </a:lnTo>
                      <a:lnTo>
                        <a:pt x="5696" y="1759"/>
                      </a:lnTo>
                      <a:lnTo>
                        <a:pt x="5694" y="1749"/>
                      </a:lnTo>
                      <a:lnTo>
                        <a:pt x="5691" y="1739"/>
                      </a:lnTo>
                      <a:lnTo>
                        <a:pt x="5680" y="1715"/>
                      </a:lnTo>
                      <a:lnTo>
                        <a:pt x="5680" y="1715"/>
                      </a:lnTo>
                      <a:lnTo>
                        <a:pt x="5668" y="1690"/>
                      </a:lnTo>
                      <a:lnTo>
                        <a:pt x="5661" y="1680"/>
                      </a:lnTo>
                      <a:lnTo>
                        <a:pt x="5655" y="1672"/>
                      </a:lnTo>
                      <a:lnTo>
                        <a:pt x="5648" y="1665"/>
                      </a:lnTo>
                      <a:lnTo>
                        <a:pt x="5638" y="1660"/>
                      </a:lnTo>
                      <a:lnTo>
                        <a:pt x="5625" y="1657"/>
                      </a:lnTo>
                      <a:lnTo>
                        <a:pt x="5609" y="1655"/>
                      </a:lnTo>
                      <a:lnTo>
                        <a:pt x="5609" y="1655"/>
                      </a:lnTo>
                      <a:close/>
                      <a:moveTo>
                        <a:pt x="3747" y="5858"/>
                      </a:moveTo>
                      <a:lnTo>
                        <a:pt x="3747" y="5858"/>
                      </a:lnTo>
                      <a:lnTo>
                        <a:pt x="3772" y="5851"/>
                      </a:lnTo>
                      <a:lnTo>
                        <a:pt x="3784" y="5848"/>
                      </a:lnTo>
                      <a:lnTo>
                        <a:pt x="3792" y="5843"/>
                      </a:lnTo>
                      <a:lnTo>
                        <a:pt x="3800" y="5837"/>
                      </a:lnTo>
                      <a:lnTo>
                        <a:pt x="3807" y="5828"/>
                      </a:lnTo>
                      <a:lnTo>
                        <a:pt x="3812" y="5817"/>
                      </a:lnTo>
                      <a:lnTo>
                        <a:pt x="3817" y="5804"/>
                      </a:lnTo>
                      <a:lnTo>
                        <a:pt x="3817" y="5804"/>
                      </a:lnTo>
                      <a:lnTo>
                        <a:pt x="3737" y="5825"/>
                      </a:lnTo>
                      <a:lnTo>
                        <a:pt x="3660" y="5845"/>
                      </a:lnTo>
                      <a:lnTo>
                        <a:pt x="3660" y="5845"/>
                      </a:lnTo>
                      <a:lnTo>
                        <a:pt x="3671" y="5855"/>
                      </a:lnTo>
                      <a:lnTo>
                        <a:pt x="3681" y="5861"/>
                      </a:lnTo>
                      <a:lnTo>
                        <a:pt x="3691" y="5866"/>
                      </a:lnTo>
                      <a:lnTo>
                        <a:pt x="3701" y="5868"/>
                      </a:lnTo>
                      <a:lnTo>
                        <a:pt x="3711" y="5868"/>
                      </a:lnTo>
                      <a:lnTo>
                        <a:pt x="3721" y="5865"/>
                      </a:lnTo>
                      <a:lnTo>
                        <a:pt x="3747" y="5858"/>
                      </a:lnTo>
                      <a:lnTo>
                        <a:pt x="3747" y="5858"/>
                      </a:lnTo>
                      <a:close/>
                      <a:moveTo>
                        <a:pt x="5858" y="3748"/>
                      </a:moveTo>
                      <a:lnTo>
                        <a:pt x="5858" y="3748"/>
                      </a:lnTo>
                      <a:lnTo>
                        <a:pt x="5864" y="3721"/>
                      </a:lnTo>
                      <a:lnTo>
                        <a:pt x="5866" y="3711"/>
                      </a:lnTo>
                      <a:lnTo>
                        <a:pt x="5866" y="3701"/>
                      </a:lnTo>
                      <a:lnTo>
                        <a:pt x="5864" y="3692"/>
                      </a:lnTo>
                      <a:lnTo>
                        <a:pt x="5861" y="3682"/>
                      </a:lnTo>
                      <a:lnTo>
                        <a:pt x="5853" y="3670"/>
                      </a:lnTo>
                      <a:lnTo>
                        <a:pt x="5843" y="3659"/>
                      </a:lnTo>
                      <a:lnTo>
                        <a:pt x="5843" y="3659"/>
                      </a:lnTo>
                      <a:lnTo>
                        <a:pt x="5823" y="3741"/>
                      </a:lnTo>
                      <a:lnTo>
                        <a:pt x="5823" y="3741"/>
                      </a:lnTo>
                      <a:lnTo>
                        <a:pt x="5800" y="3817"/>
                      </a:lnTo>
                      <a:lnTo>
                        <a:pt x="5800" y="3817"/>
                      </a:lnTo>
                      <a:lnTo>
                        <a:pt x="5815" y="3814"/>
                      </a:lnTo>
                      <a:lnTo>
                        <a:pt x="5826" y="3807"/>
                      </a:lnTo>
                      <a:lnTo>
                        <a:pt x="5835" y="3800"/>
                      </a:lnTo>
                      <a:lnTo>
                        <a:pt x="5841" y="3794"/>
                      </a:lnTo>
                      <a:lnTo>
                        <a:pt x="5846" y="3784"/>
                      </a:lnTo>
                      <a:lnTo>
                        <a:pt x="5851" y="3774"/>
                      </a:lnTo>
                      <a:lnTo>
                        <a:pt x="5858" y="3748"/>
                      </a:lnTo>
                      <a:lnTo>
                        <a:pt x="5858" y="3748"/>
                      </a:lnTo>
                      <a:close/>
                      <a:moveTo>
                        <a:pt x="3747" y="92"/>
                      </a:moveTo>
                      <a:lnTo>
                        <a:pt x="3747" y="92"/>
                      </a:lnTo>
                      <a:lnTo>
                        <a:pt x="3721" y="86"/>
                      </a:lnTo>
                      <a:lnTo>
                        <a:pt x="3709" y="84"/>
                      </a:lnTo>
                      <a:lnTo>
                        <a:pt x="3698" y="84"/>
                      </a:lnTo>
                      <a:lnTo>
                        <a:pt x="3688" y="86"/>
                      </a:lnTo>
                      <a:lnTo>
                        <a:pt x="3678" y="91"/>
                      </a:lnTo>
                      <a:lnTo>
                        <a:pt x="3666" y="99"/>
                      </a:lnTo>
                      <a:lnTo>
                        <a:pt x="3655" y="110"/>
                      </a:lnTo>
                      <a:lnTo>
                        <a:pt x="3655" y="110"/>
                      </a:lnTo>
                      <a:lnTo>
                        <a:pt x="3739" y="132"/>
                      </a:lnTo>
                      <a:lnTo>
                        <a:pt x="3739" y="132"/>
                      </a:lnTo>
                      <a:lnTo>
                        <a:pt x="3818" y="153"/>
                      </a:lnTo>
                      <a:lnTo>
                        <a:pt x="3818" y="153"/>
                      </a:lnTo>
                      <a:lnTo>
                        <a:pt x="3813" y="138"/>
                      </a:lnTo>
                      <a:lnTo>
                        <a:pt x="3807" y="125"/>
                      </a:lnTo>
                      <a:lnTo>
                        <a:pt x="3802" y="115"/>
                      </a:lnTo>
                      <a:lnTo>
                        <a:pt x="3793" y="109"/>
                      </a:lnTo>
                      <a:lnTo>
                        <a:pt x="3784" y="104"/>
                      </a:lnTo>
                      <a:lnTo>
                        <a:pt x="3774" y="101"/>
                      </a:lnTo>
                      <a:lnTo>
                        <a:pt x="3747" y="92"/>
                      </a:lnTo>
                      <a:lnTo>
                        <a:pt x="3747" y="92"/>
                      </a:lnTo>
                      <a:close/>
                      <a:moveTo>
                        <a:pt x="2133" y="5802"/>
                      </a:moveTo>
                      <a:lnTo>
                        <a:pt x="2133" y="5802"/>
                      </a:lnTo>
                      <a:lnTo>
                        <a:pt x="2136" y="5817"/>
                      </a:lnTo>
                      <a:lnTo>
                        <a:pt x="2143" y="5828"/>
                      </a:lnTo>
                      <a:lnTo>
                        <a:pt x="2150" y="5837"/>
                      </a:lnTo>
                      <a:lnTo>
                        <a:pt x="2156" y="5843"/>
                      </a:lnTo>
                      <a:lnTo>
                        <a:pt x="2166" y="5848"/>
                      </a:lnTo>
                      <a:lnTo>
                        <a:pt x="2176" y="5851"/>
                      </a:lnTo>
                      <a:lnTo>
                        <a:pt x="2202" y="5858"/>
                      </a:lnTo>
                      <a:lnTo>
                        <a:pt x="2202" y="5858"/>
                      </a:lnTo>
                      <a:lnTo>
                        <a:pt x="2229" y="5865"/>
                      </a:lnTo>
                      <a:lnTo>
                        <a:pt x="2239" y="5868"/>
                      </a:lnTo>
                      <a:lnTo>
                        <a:pt x="2249" y="5868"/>
                      </a:lnTo>
                      <a:lnTo>
                        <a:pt x="2258" y="5866"/>
                      </a:lnTo>
                      <a:lnTo>
                        <a:pt x="2268" y="5861"/>
                      </a:lnTo>
                      <a:lnTo>
                        <a:pt x="2280" y="5855"/>
                      </a:lnTo>
                      <a:lnTo>
                        <a:pt x="2291" y="5845"/>
                      </a:lnTo>
                      <a:lnTo>
                        <a:pt x="2291" y="5845"/>
                      </a:lnTo>
                      <a:lnTo>
                        <a:pt x="2214" y="5825"/>
                      </a:lnTo>
                      <a:lnTo>
                        <a:pt x="2214" y="5825"/>
                      </a:lnTo>
                      <a:lnTo>
                        <a:pt x="2133" y="5802"/>
                      </a:lnTo>
                      <a:lnTo>
                        <a:pt x="2133" y="5802"/>
                      </a:lnTo>
                      <a:close/>
                      <a:moveTo>
                        <a:pt x="130" y="2216"/>
                      </a:moveTo>
                      <a:lnTo>
                        <a:pt x="130" y="2216"/>
                      </a:lnTo>
                      <a:lnTo>
                        <a:pt x="153" y="2132"/>
                      </a:lnTo>
                      <a:lnTo>
                        <a:pt x="153" y="2132"/>
                      </a:lnTo>
                      <a:lnTo>
                        <a:pt x="136" y="2137"/>
                      </a:lnTo>
                      <a:lnTo>
                        <a:pt x="125" y="2143"/>
                      </a:lnTo>
                      <a:lnTo>
                        <a:pt x="115" y="2148"/>
                      </a:lnTo>
                      <a:lnTo>
                        <a:pt x="108" y="2157"/>
                      </a:lnTo>
                      <a:lnTo>
                        <a:pt x="104" y="2166"/>
                      </a:lnTo>
                      <a:lnTo>
                        <a:pt x="99" y="2176"/>
                      </a:lnTo>
                      <a:lnTo>
                        <a:pt x="92" y="2203"/>
                      </a:lnTo>
                      <a:lnTo>
                        <a:pt x="92" y="2203"/>
                      </a:lnTo>
                      <a:lnTo>
                        <a:pt x="84" y="2229"/>
                      </a:lnTo>
                      <a:lnTo>
                        <a:pt x="82" y="2241"/>
                      </a:lnTo>
                      <a:lnTo>
                        <a:pt x="82" y="2252"/>
                      </a:lnTo>
                      <a:lnTo>
                        <a:pt x="85" y="2262"/>
                      </a:lnTo>
                      <a:lnTo>
                        <a:pt x="90" y="2272"/>
                      </a:lnTo>
                      <a:lnTo>
                        <a:pt x="99" y="2284"/>
                      </a:lnTo>
                      <a:lnTo>
                        <a:pt x="110" y="2295"/>
                      </a:lnTo>
                      <a:lnTo>
                        <a:pt x="110" y="2295"/>
                      </a:lnTo>
                      <a:lnTo>
                        <a:pt x="130" y="2216"/>
                      </a:lnTo>
                      <a:lnTo>
                        <a:pt x="130" y="2216"/>
                      </a:lnTo>
                      <a:close/>
                      <a:moveTo>
                        <a:pt x="4600" y="5438"/>
                      </a:moveTo>
                      <a:lnTo>
                        <a:pt x="4600" y="5438"/>
                      </a:lnTo>
                      <a:lnTo>
                        <a:pt x="4613" y="5443"/>
                      </a:lnTo>
                      <a:lnTo>
                        <a:pt x="4624" y="5446"/>
                      </a:lnTo>
                      <a:lnTo>
                        <a:pt x="4636" y="5446"/>
                      </a:lnTo>
                      <a:lnTo>
                        <a:pt x="4646" y="5444"/>
                      </a:lnTo>
                      <a:lnTo>
                        <a:pt x="4656" y="5441"/>
                      </a:lnTo>
                      <a:lnTo>
                        <a:pt x="4664" y="5436"/>
                      </a:lnTo>
                      <a:lnTo>
                        <a:pt x="4687" y="5421"/>
                      </a:lnTo>
                      <a:lnTo>
                        <a:pt x="4687" y="5421"/>
                      </a:lnTo>
                      <a:lnTo>
                        <a:pt x="4708" y="5405"/>
                      </a:lnTo>
                      <a:lnTo>
                        <a:pt x="4717" y="5398"/>
                      </a:lnTo>
                      <a:lnTo>
                        <a:pt x="4723" y="5390"/>
                      </a:lnTo>
                      <a:lnTo>
                        <a:pt x="4728" y="5382"/>
                      </a:lnTo>
                      <a:lnTo>
                        <a:pt x="4732" y="5372"/>
                      </a:lnTo>
                      <a:lnTo>
                        <a:pt x="4733" y="5358"/>
                      </a:lnTo>
                      <a:lnTo>
                        <a:pt x="4733" y="5344"/>
                      </a:lnTo>
                      <a:lnTo>
                        <a:pt x="4733" y="5344"/>
                      </a:lnTo>
                      <a:lnTo>
                        <a:pt x="4666" y="5391"/>
                      </a:lnTo>
                      <a:lnTo>
                        <a:pt x="4600" y="5438"/>
                      </a:lnTo>
                      <a:lnTo>
                        <a:pt x="4600" y="5438"/>
                      </a:lnTo>
                      <a:close/>
                      <a:moveTo>
                        <a:pt x="270" y="4237"/>
                      </a:moveTo>
                      <a:lnTo>
                        <a:pt x="270" y="4237"/>
                      </a:lnTo>
                      <a:lnTo>
                        <a:pt x="282" y="4262"/>
                      </a:lnTo>
                      <a:lnTo>
                        <a:pt x="287" y="4272"/>
                      </a:lnTo>
                      <a:lnTo>
                        <a:pt x="293" y="4279"/>
                      </a:lnTo>
                      <a:lnTo>
                        <a:pt x="301" y="4285"/>
                      </a:lnTo>
                      <a:lnTo>
                        <a:pt x="311" y="4290"/>
                      </a:lnTo>
                      <a:lnTo>
                        <a:pt x="324" y="4293"/>
                      </a:lnTo>
                      <a:lnTo>
                        <a:pt x="341" y="4295"/>
                      </a:lnTo>
                      <a:lnTo>
                        <a:pt x="341" y="4295"/>
                      </a:lnTo>
                      <a:lnTo>
                        <a:pt x="305" y="4221"/>
                      </a:lnTo>
                      <a:lnTo>
                        <a:pt x="270" y="4145"/>
                      </a:lnTo>
                      <a:lnTo>
                        <a:pt x="270" y="4145"/>
                      </a:lnTo>
                      <a:lnTo>
                        <a:pt x="262" y="4158"/>
                      </a:lnTo>
                      <a:lnTo>
                        <a:pt x="255" y="4170"/>
                      </a:lnTo>
                      <a:lnTo>
                        <a:pt x="254" y="4181"/>
                      </a:lnTo>
                      <a:lnTo>
                        <a:pt x="252" y="4191"/>
                      </a:lnTo>
                      <a:lnTo>
                        <a:pt x="254" y="4201"/>
                      </a:lnTo>
                      <a:lnTo>
                        <a:pt x="259" y="4213"/>
                      </a:lnTo>
                      <a:lnTo>
                        <a:pt x="270" y="4237"/>
                      </a:lnTo>
                      <a:lnTo>
                        <a:pt x="270" y="4237"/>
                      </a:lnTo>
                      <a:close/>
                      <a:moveTo>
                        <a:pt x="92" y="3748"/>
                      </a:moveTo>
                      <a:lnTo>
                        <a:pt x="92" y="3748"/>
                      </a:lnTo>
                      <a:lnTo>
                        <a:pt x="99" y="3774"/>
                      </a:lnTo>
                      <a:lnTo>
                        <a:pt x="104" y="3786"/>
                      </a:lnTo>
                      <a:lnTo>
                        <a:pt x="108" y="3794"/>
                      </a:lnTo>
                      <a:lnTo>
                        <a:pt x="115" y="3802"/>
                      </a:lnTo>
                      <a:lnTo>
                        <a:pt x="123" y="3809"/>
                      </a:lnTo>
                      <a:lnTo>
                        <a:pt x="135" y="3814"/>
                      </a:lnTo>
                      <a:lnTo>
                        <a:pt x="151" y="3819"/>
                      </a:lnTo>
                      <a:lnTo>
                        <a:pt x="151" y="3819"/>
                      </a:lnTo>
                      <a:lnTo>
                        <a:pt x="128" y="3738"/>
                      </a:lnTo>
                      <a:lnTo>
                        <a:pt x="108" y="3657"/>
                      </a:lnTo>
                      <a:lnTo>
                        <a:pt x="108" y="3657"/>
                      </a:lnTo>
                      <a:lnTo>
                        <a:pt x="97" y="3670"/>
                      </a:lnTo>
                      <a:lnTo>
                        <a:pt x="89" y="3680"/>
                      </a:lnTo>
                      <a:lnTo>
                        <a:pt x="85" y="3690"/>
                      </a:lnTo>
                      <a:lnTo>
                        <a:pt x="82" y="3700"/>
                      </a:lnTo>
                      <a:lnTo>
                        <a:pt x="82" y="3710"/>
                      </a:lnTo>
                      <a:lnTo>
                        <a:pt x="84" y="3721"/>
                      </a:lnTo>
                      <a:lnTo>
                        <a:pt x="92" y="3748"/>
                      </a:lnTo>
                      <a:lnTo>
                        <a:pt x="92" y="3748"/>
                      </a:lnTo>
                      <a:close/>
                      <a:moveTo>
                        <a:pt x="864" y="5086"/>
                      </a:moveTo>
                      <a:lnTo>
                        <a:pt x="864" y="5086"/>
                      </a:lnTo>
                      <a:lnTo>
                        <a:pt x="883" y="5105"/>
                      </a:lnTo>
                      <a:lnTo>
                        <a:pt x="892" y="5113"/>
                      </a:lnTo>
                      <a:lnTo>
                        <a:pt x="900" y="5118"/>
                      </a:lnTo>
                      <a:lnTo>
                        <a:pt x="910" y="5121"/>
                      </a:lnTo>
                      <a:lnTo>
                        <a:pt x="921" y="5121"/>
                      </a:lnTo>
                      <a:lnTo>
                        <a:pt x="933" y="5121"/>
                      </a:lnTo>
                      <a:lnTo>
                        <a:pt x="949" y="5118"/>
                      </a:lnTo>
                      <a:lnTo>
                        <a:pt x="949" y="5118"/>
                      </a:lnTo>
                      <a:lnTo>
                        <a:pt x="890" y="5060"/>
                      </a:lnTo>
                      <a:lnTo>
                        <a:pt x="832" y="5001"/>
                      </a:lnTo>
                      <a:lnTo>
                        <a:pt x="832" y="5001"/>
                      </a:lnTo>
                      <a:lnTo>
                        <a:pt x="829" y="5016"/>
                      </a:lnTo>
                      <a:lnTo>
                        <a:pt x="829" y="5029"/>
                      </a:lnTo>
                      <a:lnTo>
                        <a:pt x="829" y="5040"/>
                      </a:lnTo>
                      <a:lnTo>
                        <a:pt x="832" y="5050"/>
                      </a:lnTo>
                      <a:lnTo>
                        <a:pt x="837" y="5058"/>
                      </a:lnTo>
                      <a:lnTo>
                        <a:pt x="845" y="5067"/>
                      </a:lnTo>
                      <a:lnTo>
                        <a:pt x="864" y="5086"/>
                      </a:lnTo>
                      <a:lnTo>
                        <a:pt x="864" y="5086"/>
                      </a:lnTo>
                      <a:close/>
                      <a:moveTo>
                        <a:pt x="1263" y="5421"/>
                      </a:moveTo>
                      <a:lnTo>
                        <a:pt x="1263" y="5421"/>
                      </a:lnTo>
                      <a:lnTo>
                        <a:pt x="1284" y="5436"/>
                      </a:lnTo>
                      <a:lnTo>
                        <a:pt x="1294" y="5441"/>
                      </a:lnTo>
                      <a:lnTo>
                        <a:pt x="1304" y="5444"/>
                      </a:lnTo>
                      <a:lnTo>
                        <a:pt x="1314" y="5446"/>
                      </a:lnTo>
                      <a:lnTo>
                        <a:pt x="1324" y="5446"/>
                      </a:lnTo>
                      <a:lnTo>
                        <a:pt x="1337" y="5443"/>
                      </a:lnTo>
                      <a:lnTo>
                        <a:pt x="1352" y="5438"/>
                      </a:lnTo>
                      <a:lnTo>
                        <a:pt x="1352" y="5438"/>
                      </a:lnTo>
                      <a:lnTo>
                        <a:pt x="1282" y="5391"/>
                      </a:lnTo>
                      <a:lnTo>
                        <a:pt x="1216" y="5344"/>
                      </a:lnTo>
                      <a:lnTo>
                        <a:pt x="1216" y="5344"/>
                      </a:lnTo>
                      <a:lnTo>
                        <a:pt x="1216" y="5358"/>
                      </a:lnTo>
                      <a:lnTo>
                        <a:pt x="1218" y="5372"/>
                      </a:lnTo>
                      <a:lnTo>
                        <a:pt x="1221" y="5382"/>
                      </a:lnTo>
                      <a:lnTo>
                        <a:pt x="1226" y="5390"/>
                      </a:lnTo>
                      <a:lnTo>
                        <a:pt x="1233" y="5398"/>
                      </a:lnTo>
                      <a:lnTo>
                        <a:pt x="1241" y="5405"/>
                      </a:lnTo>
                      <a:lnTo>
                        <a:pt x="1263" y="5421"/>
                      </a:lnTo>
                      <a:lnTo>
                        <a:pt x="1263" y="5421"/>
                      </a:lnTo>
                      <a:close/>
                      <a:moveTo>
                        <a:pt x="1713" y="5680"/>
                      </a:moveTo>
                      <a:lnTo>
                        <a:pt x="1713" y="5680"/>
                      </a:lnTo>
                      <a:lnTo>
                        <a:pt x="1737" y="5691"/>
                      </a:lnTo>
                      <a:lnTo>
                        <a:pt x="1747" y="5695"/>
                      </a:lnTo>
                      <a:lnTo>
                        <a:pt x="1757" y="5698"/>
                      </a:lnTo>
                      <a:lnTo>
                        <a:pt x="1767" y="5698"/>
                      </a:lnTo>
                      <a:lnTo>
                        <a:pt x="1779" y="5695"/>
                      </a:lnTo>
                      <a:lnTo>
                        <a:pt x="1790" y="5690"/>
                      </a:lnTo>
                      <a:lnTo>
                        <a:pt x="1803" y="5682"/>
                      </a:lnTo>
                      <a:lnTo>
                        <a:pt x="1803" y="5682"/>
                      </a:lnTo>
                      <a:lnTo>
                        <a:pt x="1728" y="5649"/>
                      </a:lnTo>
                      <a:lnTo>
                        <a:pt x="1655" y="5612"/>
                      </a:lnTo>
                      <a:lnTo>
                        <a:pt x="1655" y="5612"/>
                      </a:lnTo>
                      <a:lnTo>
                        <a:pt x="1657" y="5627"/>
                      </a:lnTo>
                      <a:lnTo>
                        <a:pt x="1660" y="5640"/>
                      </a:lnTo>
                      <a:lnTo>
                        <a:pt x="1665" y="5650"/>
                      </a:lnTo>
                      <a:lnTo>
                        <a:pt x="1671" y="5657"/>
                      </a:lnTo>
                      <a:lnTo>
                        <a:pt x="1680" y="5663"/>
                      </a:lnTo>
                      <a:lnTo>
                        <a:pt x="1688" y="5668"/>
                      </a:lnTo>
                      <a:lnTo>
                        <a:pt x="1713" y="5680"/>
                      </a:lnTo>
                      <a:lnTo>
                        <a:pt x="1713" y="5680"/>
                      </a:lnTo>
                      <a:close/>
                      <a:moveTo>
                        <a:pt x="529" y="4687"/>
                      </a:moveTo>
                      <a:lnTo>
                        <a:pt x="529" y="4687"/>
                      </a:lnTo>
                      <a:lnTo>
                        <a:pt x="545" y="4710"/>
                      </a:lnTo>
                      <a:lnTo>
                        <a:pt x="552" y="4719"/>
                      </a:lnTo>
                      <a:lnTo>
                        <a:pt x="560" y="4725"/>
                      </a:lnTo>
                      <a:lnTo>
                        <a:pt x="568" y="4730"/>
                      </a:lnTo>
                      <a:lnTo>
                        <a:pt x="580" y="4732"/>
                      </a:lnTo>
                      <a:lnTo>
                        <a:pt x="593" y="4734"/>
                      </a:lnTo>
                      <a:lnTo>
                        <a:pt x="608" y="4734"/>
                      </a:lnTo>
                      <a:lnTo>
                        <a:pt x="608" y="4734"/>
                      </a:lnTo>
                      <a:lnTo>
                        <a:pt x="560" y="4666"/>
                      </a:lnTo>
                      <a:lnTo>
                        <a:pt x="514" y="4597"/>
                      </a:lnTo>
                      <a:lnTo>
                        <a:pt x="514" y="4597"/>
                      </a:lnTo>
                      <a:lnTo>
                        <a:pt x="507" y="4612"/>
                      </a:lnTo>
                      <a:lnTo>
                        <a:pt x="504" y="4625"/>
                      </a:lnTo>
                      <a:lnTo>
                        <a:pt x="504" y="4636"/>
                      </a:lnTo>
                      <a:lnTo>
                        <a:pt x="506" y="4646"/>
                      </a:lnTo>
                      <a:lnTo>
                        <a:pt x="509" y="4656"/>
                      </a:lnTo>
                      <a:lnTo>
                        <a:pt x="514" y="4664"/>
                      </a:lnTo>
                      <a:lnTo>
                        <a:pt x="529" y="4687"/>
                      </a:lnTo>
                      <a:lnTo>
                        <a:pt x="529" y="4687"/>
                      </a:lnTo>
                      <a:close/>
                      <a:moveTo>
                        <a:pt x="3235" y="5949"/>
                      </a:moveTo>
                      <a:lnTo>
                        <a:pt x="3235" y="5949"/>
                      </a:lnTo>
                      <a:lnTo>
                        <a:pt x="3261" y="5947"/>
                      </a:lnTo>
                      <a:lnTo>
                        <a:pt x="3272" y="5944"/>
                      </a:lnTo>
                      <a:lnTo>
                        <a:pt x="3281" y="5940"/>
                      </a:lnTo>
                      <a:lnTo>
                        <a:pt x="3291" y="5937"/>
                      </a:lnTo>
                      <a:lnTo>
                        <a:pt x="3297" y="5929"/>
                      </a:lnTo>
                      <a:lnTo>
                        <a:pt x="3305" y="5919"/>
                      </a:lnTo>
                      <a:lnTo>
                        <a:pt x="3312" y="5906"/>
                      </a:lnTo>
                      <a:lnTo>
                        <a:pt x="3312" y="5906"/>
                      </a:lnTo>
                      <a:lnTo>
                        <a:pt x="3231" y="5914"/>
                      </a:lnTo>
                      <a:lnTo>
                        <a:pt x="3150" y="5921"/>
                      </a:lnTo>
                      <a:lnTo>
                        <a:pt x="3150" y="5921"/>
                      </a:lnTo>
                      <a:lnTo>
                        <a:pt x="3160" y="5932"/>
                      </a:lnTo>
                      <a:lnTo>
                        <a:pt x="3169" y="5940"/>
                      </a:lnTo>
                      <a:lnTo>
                        <a:pt x="3178" y="5945"/>
                      </a:lnTo>
                      <a:lnTo>
                        <a:pt x="3187" y="5949"/>
                      </a:lnTo>
                      <a:lnTo>
                        <a:pt x="3197" y="5950"/>
                      </a:lnTo>
                      <a:lnTo>
                        <a:pt x="3208" y="5950"/>
                      </a:lnTo>
                      <a:lnTo>
                        <a:pt x="3235" y="5949"/>
                      </a:lnTo>
                      <a:lnTo>
                        <a:pt x="3235" y="5949"/>
                      </a:lnTo>
                      <a:close/>
                      <a:moveTo>
                        <a:pt x="3235" y="2"/>
                      </a:moveTo>
                      <a:lnTo>
                        <a:pt x="3235" y="2"/>
                      </a:lnTo>
                      <a:lnTo>
                        <a:pt x="3206" y="0"/>
                      </a:lnTo>
                      <a:lnTo>
                        <a:pt x="3197" y="0"/>
                      </a:lnTo>
                      <a:lnTo>
                        <a:pt x="3185" y="2"/>
                      </a:lnTo>
                      <a:lnTo>
                        <a:pt x="3177" y="7"/>
                      </a:lnTo>
                      <a:lnTo>
                        <a:pt x="3167" y="13"/>
                      </a:lnTo>
                      <a:lnTo>
                        <a:pt x="3157" y="21"/>
                      </a:lnTo>
                      <a:lnTo>
                        <a:pt x="3147" y="36"/>
                      </a:lnTo>
                      <a:lnTo>
                        <a:pt x="3147" y="36"/>
                      </a:lnTo>
                      <a:lnTo>
                        <a:pt x="3231" y="41"/>
                      </a:lnTo>
                      <a:lnTo>
                        <a:pt x="3315" y="51"/>
                      </a:lnTo>
                      <a:lnTo>
                        <a:pt x="3315" y="51"/>
                      </a:lnTo>
                      <a:lnTo>
                        <a:pt x="3307" y="36"/>
                      </a:lnTo>
                      <a:lnTo>
                        <a:pt x="3300" y="25"/>
                      </a:lnTo>
                      <a:lnTo>
                        <a:pt x="3292" y="16"/>
                      </a:lnTo>
                      <a:lnTo>
                        <a:pt x="3282" y="10"/>
                      </a:lnTo>
                      <a:lnTo>
                        <a:pt x="3274" y="7"/>
                      </a:lnTo>
                      <a:lnTo>
                        <a:pt x="3263" y="5"/>
                      </a:lnTo>
                      <a:lnTo>
                        <a:pt x="3235" y="2"/>
                      </a:lnTo>
                      <a:lnTo>
                        <a:pt x="3235" y="2"/>
                      </a:lnTo>
                      <a:close/>
                      <a:moveTo>
                        <a:pt x="4235" y="270"/>
                      </a:moveTo>
                      <a:lnTo>
                        <a:pt x="4235" y="270"/>
                      </a:lnTo>
                      <a:lnTo>
                        <a:pt x="4211" y="259"/>
                      </a:lnTo>
                      <a:lnTo>
                        <a:pt x="4201" y="256"/>
                      </a:lnTo>
                      <a:lnTo>
                        <a:pt x="4191" y="254"/>
                      </a:lnTo>
                      <a:lnTo>
                        <a:pt x="4179" y="254"/>
                      </a:lnTo>
                      <a:lnTo>
                        <a:pt x="4169" y="257"/>
                      </a:lnTo>
                      <a:lnTo>
                        <a:pt x="4156" y="262"/>
                      </a:lnTo>
                      <a:lnTo>
                        <a:pt x="4143" y="272"/>
                      </a:lnTo>
                      <a:lnTo>
                        <a:pt x="4143" y="272"/>
                      </a:lnTo>
                      <a:lnTo>
                        <a:pt x="4219" y="307"/>
                      </a:lnTo>
                      <a:lnTo>
                        <a:pt x="4295" y="343"/>
                      </a:lnTo>
                      <a:lnTo>
                        <a:pt x="4295" y="343"/>
                      </a:lnTo>
                      <a:lnTo>
                        <a:pt x="4293" y="326"/>
                      </a:lnTo>
                      <a:lnTo>
                        <a:pt x="4290" y="313"/>
                      </a:lnTo>
                      <a:lnTo>
                        <a:pt x="4285" y="303"/>
                      </a:lnTo>
                      <a:lnTo>
                        <a:pt x="4278" y="295"/>
                      </a:lnTo>
                      <a:lnTo>
                        <a:pt x="4270" y="289"/>
                      </a:lnTo>
                      <a:lnTo>
                        <a:pt x="4260" y="282"/>
                      </a:lnTo>
                      <a:lnTo>
                        <a:pt x="4235" y="270"/>
                      </a:lnTo>
                      <a:lnTo>
                        <a:pt x="4235" y="270"/>
                      </a:lnTo>
                      <a:close/>
                      <a:moveTo>
                        <a:pt x="2715" y="5949"/>
                      </a:moveTo>
                      <a:lnTo>
                        <a:pt x="2715" y="5949"/>
                      </a:lnTo>
                      <a:lnTo>
                        <a:pt x="2742" y="5950"/>
                      </a:lnTo>
                      <a:lnTo>
                        <a:pt x="2751" y="5950"/>
                      </a:lnTo>
                      <a:lnTo>
                        <a:pt x="2761" y="5949"/>
                      </a:lnTo>
                      <a:lnTo>
                        <a:pt x="2771" y="5945"/>
                      </a:lnTo>
                      <a:lnTo>
                        <a:pt x="2779" y="5940"/>
                      </a:lnTo>
                      <a:lnTo>
                        <a:pt x="2789" y="5932"/>
                      </a:lnTo>
                      <a:lnTo>
                        <a:pt x="2799" y="5921"/>
                      </a:lnTo>
                      <a:lnTo>
                        <a:pt x="2799" y="5921"/>
                      </a:lnTo>
                      <a:lnTo>
                        <a:pt x="2717" y="5914"/>
                      </a:lnTo>
                      <a:lnTo>
                        <a:pt x="2636" y="5906"/>
                      </a:lnTo>
                      <a:lnTo>
                        <a:pt x="2636" y="5906"/>
                      </a:lnTo>
                      <a:lnTo>
                        <a:pt x="2644" y="5919"/>
                      </a:lnTo>
                      <a:lnTo>
                        <a:pt x="2651" y="5929"/>
                      </a:lnTo>
                      <a:lnTo>
                        <a:pt x="2659" y="5936"/>
                      </a:lnTo>
                      <a:lnTo>
                        <a:pt x="2667" y="5940"/>
                      </a:lnTo>
                      <a:lnTo>
                        <a:pt x="2677" y="5944"/>
                      </a:lnTo>
                      <a:lnTo>
                        <a:pt x="2687" y="5947"/>
                      </a:lnTo>
                      <a:lnTo>
                        <a:pt x="2715" y="5949"/>
                      </a:lnTo>
                      <a:lnTo>
                        <a:pt x="2715" y="5949"/>
                      </a:lnTo>
                      <a:close/>
                    </a:path>
                  </a:pathLst>
                </a:custGeom>
                <a:gradFill rotWithShape="0">
                  <a:gsLst>
                    <a:gs pos="0">
                      <a:srgbClr val="74420d"/>
                    </a:gs>
                    <a:gs pos="100000">
                      <a:srgbClr val="f9db82"/>
                    </a:gs>
                  </a:gsLst>
                  <a:lin ang="13620000"/>
                </a:gradFill>
                <a:ln w="9525">
                  <a:noFill/>
                </a:ln>
              </p:spPr>
              <p:style>
                <a:lnRef idx="0"/>
                <a:fillRef idx="0"/>
                <a:effectRef idx="0"/>
                <a:fontRef idx="minor"/>
              </p:style>
              <p:txBody>
                <a:bodyPr numCol="1" spcCol="0" anchor="t">
                  <a:noAutofit/>
                </a:bodyPr>
                <a:p>
                  <a:pPr>
                    <a:lnSpc>
                      <a:spcPct val="85000"/>
                    </a:lnSpc>
                    <a:spcBef>
                      <a:spcPts val="360"/>
                    </a:spcBef>
                  </a:pPr>
                  <a:endParaRPr b="0" lang="en-US" sz="1800" spc="-1" strike="noStrike">
                    <a:solidFill>
                      <a:srgbClr val="000000"/>
                    </a:solidFill>
                    <a:latin typeface="Calibri"/>
                  </a:endParaRPr>
                </a:p>
              </p:txBody>
            </p:sp>
            <p:sp>
              <p:nvSpPr>
                <p:cNvPr id="634" name="Freeform 5"/>
                <p:cNvSpPr/>
                <p:nvPr/>
              </p:nvSpPr>
              <p:spPr>
                <a:xfrm>
                  <a:off x="2208240" y="3403080"/>
                  <a:ext cx="1189080" cy="1189440"/>
                </a:xfrm>
                <a:custGeom>
                  <a:avLst/>
                  <a:gdLst>
                    <a:gd name="textAreaLeft" fmla="*/ 0 w 1189080"/>
                    <a:gd name="textAreaRight" fmla="*/ 1189440 w 1189080"/>
                    <a:gd name="textAreaTop" fmla="*/ 0 h 1189440"/>
                    <a:gd name="textAreaBottom" fmla="*/ 1189800 h 1189440"/>
                  </a:gdLst>
                  <a:ahLst/>
                  <a:rect l="textAreaLeft" t="textAreaTop" r="textAreaRight" b="textAreaBottom"/>
                  <a:pathLst>
                    <a:path w="6142" h="6144">
                      <a:moveTo>
                        <a:pt x="6038" y="3867"/>
                      </a:moveTo>
                      <a:lnTo>
                        <a:pt x="6038" y="3867"/>
                      </a:lnTo>
                      <a:lnTo>
                        <a:pt x="6017" y="3944"/>
                      </a:lnTo>
                      <a:lnTo>
                        <a:pt x="5993" y="4018"/>
                      </a:lnTo>
                      <a:lnTo>
                        <a:pt x="5968" y="4093"/>
                      </a:lnTo>
                      <a:lnTo>
                        <a:pt x="5942" y="4165"/>
                      </a:lnTo>
                      <a:lnTo>
                        <a:pt x="5913" y="4238"/>
                      </a:lnTo>
                      <a:lnTo>
                        <a:pt x="5883" y="4308"/>
                      </a:lnTo>
                      <a:lnTo>
                        <a:pt x="5850" y="4379"/>
                      </a:lnTo>
                      <a:lnTo>
                        <a:pt x="5817" y="4448"/>
                      </a:lnTo>
                      <a:lnTo>
                        <a:pt x="5781" y="4516"/>
                      </a:lnTo>
                      <a:lnTo>
                        <a:pt x="5746" y="4583"/>
                      </a:lnTo>
                      <a:lnTo>
                        <a:pt x="5707" y="4648"/>
                      </a:lnTo>
                      <a:lnTo>
                        <a:pt x="5668" y="4712"/>
                      </a:lnTo>
                      <a:lnTo>
                        <a:pt x="5626" y="4777"/>
                      </a:lnTo>
                      <a:lnTo>
                        <a:pt x="5585" y="4838"/>
                      </a:lnTo>
                      <a:lnTo>
                        <a:pt x="5540" y="4899"/>
                      </a:lnTo>
                      <a:lnTo>
                        <a:pt x="5495" y="4960"/>
                      </a:lnTo>
                      <a:lnTo>
                        <a:pt x="5448" y="5016"/>
                      </a:lnTo>
                      <a:lnTo>
                        <a:pt x="5401" y="5075"/>
                      </a:lnTo>
                      <a:lnTo>
                        <a:pt x="5352" y="5130"/>
                      </a:lnTo>
                      <a:lnTo>
                        <a:pt x="5301" y="5185"/>
                      </a:lnTo>
                      <a:lnTo>
                        <a:pt x="5250" y="5238"/>
                      </a:lnTo>
                      <a:lnTo>
                        <a:pt x="5197" y="5289"/>
                      </a:lnTo>
                      <a:lnTo>
                        <a:pt x="5142" y="5340"/>
                      </a:lnTo>
                      <a:lnTo>
                        <a:pt x="5087" y="5389"/>
                      </a:lnTo>
                      <a:lnTo>
                        <a:pt x="5030" y="5438"/>
                      </a:lnTo>
                      <a:lnTo>
                        <a:pt x="4974" y="5483"/>
                      </a:lnTo>
                      <a:lnTo>
                        <a:pt x="4915" y="5528"/>
                      </a:lnTo>
                      <a:lnTo>
                        <a:pt x="4854" y="5571"/>
                      </a:lnTo>
                      <a:lnTo>
                        <a:pt x="4795" y="5615"/>
                      </a:lnTo>
                      <a:lnTo>
                        <a:pt x="4732" y="5656"/>
                      </a:lnTo>
                      <a:lnTo>
                        <a:pt x="4670" y="5693"/>
                      </a:lnTo>
                      <a:lnTo>
                        <a:pt x="4607" y="5732"/>
                      </a:lnTo>
                      <a:lnTo>
                        <a:pt x="4542" y="5767"/>
                      </a:lnTo>
                      <a:lnTo>
                        <a:pt x="4478" y="5803"/>
                      </a:lnTo>
                      <a:lnTo>
                        <a:pt x="4411" y="5834"/>
                      </a:lnTo>
                      <a:lnTo>
                        <a:pt x="4344" y="5866"/>
                      </a:lnTo>
                      <a:lnTo>
                        <a:pt x="4278" y="5897"/>
                      </a:lnTo>
                      <a:lnTo>
                        <a:pt x="4209" y="5924"/>
                      </a:lnTo>
                      <a:lnTo>
                        <a:pt x="4140" y="5952"/>
                      </a:lnTo>
                      <a:lnTo>
                        <a:pt x="4072" y="5975"/>
                      </a:lnTo>
                      <a:lnTo>
                        <a:pt x="4001" y="5999"/>
                      </a:lnTo>
                      <a:lnTo>
                        <a:pt x="3931" y="6020"/>
                      </a:lnTo>
                      <a:lnTo>
                        <a:pt x="3858" y="6040"/>
                      </a:lnTo>
                      <a:lnTo>
                        <a:pt x="3788" y="6060"/>
                      </a:lnTo>
                      <a:lnTo>
                        <a:pt x="3715" y="6075"/>
                      </a:lnTo>
                      <a:lnTo>
                        <a:pt x="3641" y="6091"/>
                      </a:lnTo>
                      <a:lnTo>
                        <a:pt x="3568" y="6103"/>
                      </a:lnTo>
                      <a:lnTo>
                        <a:pt x="3493" y="6115"/>
                      </a:lnTo>
                      <a:lnTo>
                        <a:pt x="3419" y="6124"/>
                      </a:lnTo>
                      <a:lnTo>
                        <a:pt x="3345" y="6132"/>
                      </a:lnTo>
                      <a:lnTo>
                        <a:pt x="3270" y="6138"/>
                      </a:lnTo>
                      <a:lnTo>
                        <a:pt x="3196" y="6142"/>
                      </a:lnTo>
                      <a:lnTo>
                        <a:pt x="3119" y="6144"/>
                      </a:lnTo>
                      <a:lnTo>
                        <a:pt x="3043" y="6144"/>
                      </a:lnTo>
                      <a:lnTo>
                        <a:pt x="2968" y="6142"/>
                      </a:lnTo>
                      <a:lnTo>
                        <a:pt x="2892" y="6138"/>
                      </a:lnTo>
                      <a:lnTo>
                        <a:pt x="2815" y="6132"/>
                      </a:lnTo>
                      <a:lnTo>
                        <a:pt x="2739" y="6124"/>
                      </a:lnTo>
                      <a:lnTo>
                        <a:pt x="2662" y="6117"/>
                      </a:lnTo>
                      <a:lnTo>
                        <a:pt x="2584" y="6105"/>
                      </a:lnTo>
                      <a:lnTo>
                        <a:pt x="2507" y="6091"/>
                      </a:lnTo>
                      <a:lnTo>
                        <a:pt x="2431" y="6075"/>
                      </a:lnTo>
                      <a:lnTo>
                        <a:pt x="2354" y="6058"/>
                      </a:lnTo>
                      <a:lnTo>
                        <a:pt x="2278" y="6038"/>
                      </a:lnTo>
                      <a:lnTo>
                        <a:pt x="2278" y="6038"/>
                      </a:lnTo>
                      <a:lnTo>
                        <a:pt x="2202" y="6017"/>
                      </a:lnTo>
                      <a:lnTo>
                        <a:pt x="2125" y="5993"/>
                      </a:lnTo>
                      <a:lnTo>
                        <a:pt x="2051" y="5968"/>
                      </a:lnTo>
                      <a:lnTo>
                        <a:pt x="1978" y="5942"/>
                      </a:lnTo>
                      <a:lnTo>
                        <a:pt x="1906" y="5913"/>
                      </a:lnTo>
                      <a:lnTo>
                        <a:pt x="1835" y="5883"/>
                      </a:lnTo>
                      <a:lnTo>
                        <a:pt x="1764" y="5852"/>
                      </a:lnTo>
                      <a:lnTo>
                        <a:pt x="1696" y="5818"/>
                      </a:lnTo>
                      <a:lnTo>
                        <a:pt x="1627" y="5783"/>
                      </a:lnTo>
                      <a:lnTo>
                        <a:pt x="1561" y="5746"/>
                      </a:lnTo>
                      <a:lnTo>
                        <a:pt x="1496" y="5709"/>
                      </a:lnTo>
                      <a:lnTo>
                        <a:pt x="1431" y="5669"/>
                      </a:lnTo>
                      <a:lnTo>
                        <a:pt x="1368" y="5628"/>
                      </a:lnTo>
                      <a:lnTo>
                        <a:pt x="1306" y="5585"/>
                      </a:lnTo>
                      <a:lnTo>
                        <a:pt x="1245" y="5542"/>
                      </a:lnTo>
                      <a:lnTo>
                        <a:pt x="1186" y="5495"/>
                      </a:lnTo>
                      <a:lnTo>
                        <a:pt x="1127" y="5450"/>
                      </a:lnTo>
                      <a:lnTo>
                        <a:pt x="1070" y="5401"/>
                      </a:lnTo>
                      <a:lnTo>
                        <a:pt x="1014" y="5352"/>
                      </a:lnTo>
                      <a:lnTo>
                        <a:pt x="959" y="5301"/>
                      </a:lnTo>
                      <a:lnTo>
                        <a:pt x="906" y="5250"/>
                      </a:lnTo>
                      <a:lnTo>
                        <a:pt x="855" y="5197"/>
                      </a:lnTo>
                      <a:lnTo>
                        <a:pt x="804" y="5142"/>
                      </a:lnTo>
                      <a:lnTo>
                        <a:pt x="755" y="5087"/>
                      </a:lnTo>
                      <a:lnTo>
                        <a:pt x="708" y="5030"/>
                      </a:lnTo>
                      <a:lnTo>
                        <a:pt x="661" y="4973"/>
                      </a:lnTo>
                      <a:lnTo>
                        <a:pt x="616" y="4914"/>
                      </a:lnTo>
                      <a:lnTo>
                        <a:pt x="572" y="4856"/>
                      </a:lnTo>
                      <a:lnTo>
                        <a:pt x="529" y="4795"/>
                      </a:lnTo>
                      <a:lnTo>
                        <a:pt x="490" y="4734"/>
                      </a:lnTo>
                      <a:lnTo>
                        <a:pt x="451" y="4671"/>
                      </a:lnTo>
                      <a:lnTo>
                        <a:pt x="414" y="4607"/>
                      </a:lnTo>
                      <a:lnTo>
                        <a:pt x="376" y="4544"/>
                      </a:lnTo>
                      <a:lnTo>
                        <a:pt x="343" y="4477"/>
                      </a:lnTo>
                      <a:lnTo>
                        <a:pt x="310" y="4412"/>
                      </a:lnTo>
                      <a:lnTo>
                        <a:pt x="278" y="4346"/>
                      </a:lnTo>
                      <a:lnTo>
                        <a:pt x="249" y="4277"/>
                      </a:lnTo>
                      <a:lnTo>
                        <a:pt x="220" y="4210"/>
                      </a:lnTo>
                      <a:lnTo>
                        <a:pt x="194" y="4140"/>
                      </a:lnTo>
                      <a:lnTo>
                        <a:pt x="169" y="4071"/>
                      </a:lnTo>
                      <a:lnTo>
                        <a:pt x="145" y="4001"/>
                      </a:lnTo>
                      <a:lnTo>
                        <a:pt x="124" y="3930"/>
                      </a:lnTo>
                      <a:lnTo>
                        <a:pt x="104" y="3859"/>
                      </a:lnTo>
                      <a:lnTo>
                        <a:pt x="86" y="3787"/>
                      </a:lnTo>
                      <a:lnTo>
                        <a:pt x="69" y="3714"/>
                      </a:lnTo>
                      <a:lnTo>
                        <a:pt x="55" y="3642"/>
                      </a:lnTo>
                      <a:lnTo>
                        <a:pt x="41" y="3567"/>
                      </a:lnTo>
                      <a:lnTo>
                        <a:pt x="29" y="3495"/>
                      </a:lnTo>
                      <a:lnTo>
                        <a:pt x="20" y="3420"/>
                      </a:lnTo>
                      <a:lnTo>
                        <a:pt x="14" y="3346"/>
                      </a:lnTo>
                      <a:lnTo>
                        <a:pt x="8" y="3269"/>
                      </a:lnTo>
                      <a:lnTo>
                        <a:pt x="4" y="3195"/>
                      </a:lnTo>
                      <a:lnTo>
                        <a:pt x="2" y="3118"/>
                      </a:lnTo>
                      <a:lnTo>
                        <a:pt x="0" y="3044"/>
                      </a:lnTo>
                      <a:lnTo>
                        <a:pt x="2" y="2967"/>
                      </a:lnTo>
                      <a:lnTo>
                        <a:pt x="6" y="2891"/>
                      </a:lnTo>
                      <a:lnTo>
                        <a:pt x="12" y="2814"/>
                      </a:lnTo>
                      <a:lnTo>
                        <a:pt x="20" y="2738"/>
                      </a:lnTo>
                      <a:lnTo>
                        <a:pt x="29" y="2661"/>
                      </a:lnTo>
                      <a:lnTo>
                        <a:pt x="41" y="2585"/>
                      </a:lnTo>
                      <a:lnTo>
                        <a:pt x="53" y="2508"/>
                      </a:lnTo>
                      <a:lnTo>
                        <a:pt x="69" y="2430"/>
                      </a:lnTo>
                      <a:lnTo>
                        <a:pt x="86" y="2353"/>
                      </a:lnTo>
                      <a:lnTo>
                        <a:pt x="106" y="2277"/>
                      </a:lnTo>
                      <a:lnTo>
                        <a:pt x="106" y="2277"/>
                      </a:lnTo>
                      <a:lnTo>
                        <a:pt x="127" y="2200"/>
                      </a:lnTo>
                      <a:lnTo>
                        <a:pt x="151" y="2126"/>
                      </a:lnTo>
                      <a:lnTo>
                        <a:pt x="176" y="2051"/>
                      </a:lnTo>
                      <a:lnTo>
                        <a:pt x="202" y="1977"/>
                      </a:lnTo>
                      <a:lnTo>
                        <a:pt x="231" y="1906"/>
                      </a:lnTo>
                      <a:lnTo>
                        <a:pt x="261" y="1834"/>
                      </a:lnTo>
                      <a:lnTo>
                        <a:pt x="294" y="1763"/>
                      </a:lnTo>
                      <a:lnTo>
                        <a:pt x="327" y="1694"/>
                      </a:lnTo>
                      <a:lnTo>
                        <a:pt x="361" y="1628"/>
                      </a:lnTo>
                      <a:lnTo>
                        <a:pt x="398" y="1561"/>
                      </a:lnTo>
                      <a:lnTo>
                        <a:pt x="437" y="1494"/>
                      </a:lnTo>
                      <a:lnTo>
                        <a:pt x="476" y="1430"/>
                      </a:lnTo>
                      <a:lnTo>
                        <a:pt x="518" y="1367"/>
                      </a:lnTo>
                      <a:lnTo>
                        <a:pt x="559" y="1304"/>
                      </a:lnTo>
                      <a:lnTo>
                        <a:pt x="604" y="1243"/>
                      </a:lnTo>
                      <a:lnTo>
                        <a:pt x="649" y="1184"/>
                      </a:lnTo>
                      <a:lnTo>
                        <a:pt x="696" y="1126"/>
                      </a:lnTo>
                      <a:lnTo>
                        <a:pt x="743" y="1069"/>
                      </a:lnTo>
                      <a:lnTo>
                        <a:pt x="792" y="1014"/>
                      </a:lnTo>
                      <a:lnTo>
                        <a:pt x="843" y="959"/>
                      </a:lnTo>
                      <a:lnTo>
                        <a:pt x="894" y="906"/>
                      </a:lnTo>
                      <a:lnTo>
                        <a:pt x="947" y="853"/>
                      </a:lnTo>
                      <a:lnTo>
                        <a:pt x="1002" y="802"/>
                      </a:lnTo>
                      <a:lnTo>
                        <a:pt x="1057" y="753"/>
                      </a:lnTo>
                      <a:lnTo>
                        <a:pt x="1114" y="706"/>
                      </a:lnTo>
                      <a:lnTo>
                        <a:pt x="1170" y="659"/>
                      </a:lnTo>
                      <a:lnTo>
                        <a:pt x="1229" y="614"/>
                      </a:lnTo>
                      <a:lnTo>
                        <a:pt x="1288" y="571"/>
                      </a:lnTo>
                      <a:lnTo>
                        <a:pt x="1349" y="529"/>
                      </a:lnTo>
                      <a:lnTo>
                        <a:pt x="1412" y="488"/>
                      </a:lnTo>
                      <a:lnTo>
                        <a:pt x="1474" y="449"/>
                      </a:lnTo>
                      <a:lnTo>
                        <a:pt x="1537" y="412"/>
                      </a:lnTo>
                      <a:lnTo>
                        <a:pt x="1602" y="377"/>
                      </a:lnTo>
                      <a:lnTo>
                        <a:pt x="1666" y="341"/>
                      </a:lnTo>
                      <a:lnTo>
                        <a:pt x="1731" y="308"/>
                      </a:lnTo>
                      <a:lnTo>
                        <a:pt x="1798" y="277"/>
                      </a:lnTo>
                      <a:lnTo>
                        <a:pt x="1866" y="247"/>
                      </a:lnTo>
                      <a:lnTo>
                        <a:pt x="1935" y="220"/>
                      </a:lnTo>
                      <a:lnTo>
                        <a:pt x="2004" y="192"/>
                      </a:lnTo>
                      <a:lnTo>
                        <a:pt x="2072" y="167"/>
                      </a:lnTo>
                      <a:lnTo>
                        <a:pt x="2143" y="143"/>
                      </a:lnTo>
                      <a:lnTo>
                        <a:pt x="2213" y="122"/>
                      </a:lnTo>
                      <a:lnTo>
                        <a:pt x="2286" y="102"/>
                      </a:lnTo>
                      <a:lnTo>
                        <a:pt x="2356" y="84"/>
                      </a:lnTo>
                      <a:lnTo>
                        <a:pt x="2429" y="67"/>
                      </a:lnTo>
                      <a:lnTo>
                        <a:pt x="2503" y="53"/>
                      </a:lnTo>
                      <a:lnTo>
                        <a:pt x="2576" y="39"/>
                      </a:lnTo>
                      <a:lnTo>
                        <a:pt x="2651" y="29"/>
                      </a:lnTo>
                      <a:lnTo>
                        <a:pt x="2725" y="20"/>
                      </a:lnTo>
                      <a:lnTo>
                        <a:pt x="2799" y="12"/>
                      </a:lnTo>
                      <a:lnTo>
                        <a:pt x="2874" y="6"/>
                      </a:lnTo>
                      <a:lnTo>
                        <a:pt x="2948" y="2"/>
                      </a:lnTo>
                      <a:lnTo>
                        <a:pt x="3025" y="0"/>
                      </a:lnTo>
                      <a:lnTo>
                        <a:pt x="3099" y="0"/>
                      </a:lnTo>
                      <a:lnTo>
                        <a:pt x="3176" y="2"/>
                      </a:lnTo>
                      <a:lnTo>
                        <a:pt x="3252" y="6"/>
                      </a:lnTo>
                      <a:lnTo>
                        <a:pt x="3329" y="10"/>
                      </a:lnTo>
                      <a:lnTo>
                        <a:pt x="3405" y="18"/>
                      </a:lnTo>
                      <a:lnTo>
                        <a:pt x="3482" y="27"/>
                      </a:lnTo>
                      <a:lnTo>
                        <a:pt x="3560" y="39"/>
                      </a:lnTo>
                      <a:lnTo>
                        <a:pt x="3637" y="53"/>
                      </a:lnTo>
                      <a:lnTo>
                        <a:pt x="3713" y="69"/>
                      </a:lnTo>
                      <a:lnTo>
                        <a:pt x="3790" y="86"/>
                      </a:lnTo>
                      <a:lnTo>
                        <a:pt x="3866" y="106"/>
                      </a:lnTo>
                      <a:lnTo>
                        <a:pt x="3866" y="106"/>
                      </a:lnTo>
                      <a:lnTo>
                        <a:pt x="3942" y="126"/>
                      </a:lnTo>
                      <a:lnTo>
                        <a:pt x="4019" y="149"/>
                      </a:lnTo>
                      <a:lnTo>
                        <a:pt x="4093" y="175"/>
                      </a:lnTo>
                      <a:lnTo>
                        <a:pt x="4166" y="202"/>
                      </a:lnTo>
                      <a:lnTo>
                        <a:pt x="4238" y="229"/>
                      </a:lnTo>
                      <a:lnTo>
                        <a:pt x="4309" y="261"/>
                      </a:lnTo>
                      <a:lnTo>
                        <a:pt x="4380" y="292"/>
                      </a:lnTo>
                      <a:lnTo>
                        <a:pt x="4448" y="326"/>
                      </a:lnTo>
                      <a:lnTo>
                        <a:pt x="4517" y="361"/>
                      </a:lnTo>
                      <a:lnTo>
                        <a:pt x="4583" y="396"/>
                      </a:lnTo>
                      <a:lnTo>
                        <a:pt x="4648" y="435"/>
                      </a:lnTo>
                      <a:lnTo>
                        <a:pt x="4713" y="475"/>
                      </a:lnTo>
                      <a:lnTo>
                        <a:pt x="4776" y="516"/>
                      </a:lnTo>
                      <a:lnTo>
                        <a:pt x="4838" y="559"/>
                      </a:lnTo>
                      <a:lnTo>
                        <a:pt x="4899" y="602"/>
                      </a:lnTo>
                      <a:lnTo>
                        <a:pt x="4958" y="647"/>
                      </a:lnTo>
                      <a:lnTo>
                        <a:pt x="5017" y="694"/>
                      </a:lnTo>
                      <a:lnTo>
                        <a:pt x="5074" y="741"/>
                      </a:lnTo>
                      <a:lnTo>
                        <a:pt x="5130" y="792"/>
                      </a:lnTo>
                      <a:lnTo>
                        <a:pt x="5183" y="841"/>
                      </a:lnTo>
                      <a:lnTo>
                        <a:pt x="5238" y="894"/>
                      </a:lnTo>
                      <a:lnTo>
                        <a:pt x="5289" y="947"/>
                      </a:lnTo>
                      <a:lnTo>
                        <a:pt x="5340" y="1000"/>
                      </a:lnTo>
                      <a:lnTo>
                        <a:pt x="5389" y="1055"/>
                      </a:lnTo>
                      <a:lnTo>
                        <a:pt x="5436" y="1112"/>
                      </a:lnTo>
                      <a:lnTo>
                        <a:pt x="5483" y="1171"/>
                      </a:lnTo>
                      <a:lnTo>
                        <a:pt x="5528" y="1228"/>
                      </a:lnTo>
                      <a:lnTo>
                        <a:pt x="5572" y="1288"/>
                      </a:lnTo>
                      <a:lnTo>
                        <a:pt x="5613" y="1349"/>
                      </a:lnTo>
                      <a:lnTo>
                        <a:pt x="5654" y="1410"/>
                      </a:lnTo>
                      <a:lnTo>
                        <a:pt x="5693" y="1473"/>
                      </a:lnTo>
                      <a:lnTo>
                        <a:pt x="5730" y="1536"/>
                      </a:lnTo>
                      <a:lnTo>
                        <a:pt x="5768" y="1600"/>
                      </a:lnTo>
                      <a:lnTo>
                        <a:pt x="5801" y="1665"/>
                      </a:lnTo>
                      <a:lnTo>
                        <a:pt x="5834" y="1732"/>
                      </a:lnTo>
                      <a:lnTo>
                        <a:pt x="5866" y="1798"/>
                      </a:lnTo>
                      <a:lnTo>
                        <a:pt x="5895" y="1865"/>
                      </a:lnTo>
                      <a:lnTo>
                        <a:pt x="5924" y="1934"/>
                      </a:lnTo>
                      <a:lnTo>
                        <a:pt x="5950" y="2002"/>
                      </a:lnTo>
                      <a:lnTo>
                        <a:pt x="5975" y="2073"/>
                      </a:lnTo>
                      <a:lnTo>
                        <a:pt x="5999" y="2141"/>
                      </a:lnTo>
                      <a:lnTo>
                        <a:pt x="6020" y="2214"/>
                      </a:lnTo>
                      <a:lnTo>
                        <a:pt x="6040" y="2285"/>
                      </a:lnTo>
                      <a:lnTo>
                        <a:pt x="6058" y="2357"/>
                      </a:lnTo>
                      <a:lnTo>
                        <a:pt x="6075" y="2430"/>
                      </a:lnTo>
                      <a:lnTo>
                        <a:pt x="6089" y="2502"/>
                      </a:lnTo>
                      <a:lnTo>
                        <a:pt x="6103" y="2575"/>
                      </a:lnTo>
                      <a:lnTo>
                        <a:pt x="6115" y="2649"/>
                      </a:lnTo>
                      <a:lnTo>
                        <a:pt x="6122" y="2724"/>
                      </a:lnTo>
                      <a:lnTo>
                        <a:pt x="6130" y="2798"/>
                      </a:lnTo>
                      <a:lnTo>
                        <a:pt x="6136" y="2873"/>
                      </a:lnTo>
                      <a:lnTo>
                        <a:pt x="6140" y="2949"/>
                      </a:lnTo>
                      <a:lnTo>
                        <a:pt x="6142" y="3024"/>
                      </a:lnTo>
                      <a:lnTo>
                        <a:pt x="6142" y="3100"/>
                      </a:lnTo>
                      <a:lnTo>
                        <a:pt x="6142" y="3177"/>
                      </a:lnTo>
                      <a:lnTo>
                        <a:pt x="6138" y="3253"/>
                      </a:lnTo>
                      <a:lnTo>
                        <a:pt x="6132" y="3330"/>
                      </a:lnTo>
                      <a:lnTo>
                        <a:pt x="6124" y="3406"/>
                      </a:lnTo>
                      <a:lnTo>
                        <a:pt x="6115" y="3483"/>
                      </a:lnTo>
                      <a:lnTo>
                        <a:pt x="6103" y="3559"/>
                      </a:lnTo>
                      <a:lnTo>
                        <a:pt x="6091" y="3636"/>
                      </a:lnTo>
                      <a:lnTo>
                        <a:pt x="6075" y="3712"/>
                      </a:lnTo>
                      <a:lnTo>
                        <a:pt x="6058" y="3789"/>
                      </a:lnTo>
                      <a:lnTo>
                        <a:pt x="6038" y="3867"/>
                      </a:lnTo>
                      <a:lnTo>
                        <a:pt x="6038" y="3867"/>
                      </a:lnTo>
                      <a:close/>
                      <a:moveTo>
                        <a:pt x="3848" y="171"/>
                      </a:moveTo>
                      <a:lnTo>
                        <a:pt x="3848" y="171"/>
                      </a:lnTo>
                      <a:lnTo>
                        <a:pt x="3774" y="151"/>
                      </a:lnTo>
                      <a:lnTo>
                        <a:pt x="3699" y="133"/>
                      </a:lnTo>
                      <a:lnTo>
                        <a:pt x="3623" y="120"/>
                      </a:lnTo>
                      <a:lnTo>
                        <a:pt x="3548" y="106"/>
                      </a:lnTo>
                      <a:lnTo>
                        <a:pt x="3474" y="94"/>
                      </a:lnTo>
                      <a:lnTo>
                        <a:pt x="3399" y="84"/>
                      </a:lnTo>
                      <a:lnTo>
                        <a:pt x="3323" y="78"/>
                      </a:lnTo>
                      <a:lnTo>
                        <a:pt x="3248" y="73"/>
                      </a:lnTo>
                      <a:lnTo>
                        <a:pt x="3174" y="69"/>
                      </a:lnTo>
                      <a:lnTo>
                        <a:pt x="3099" y="67"/>
                      </a:lnTo>
                      <a:lnTo>
                        <a:pt x="3025" y="67"/>
                      </a:lnTo>
                      <a:lnTo>
                        <a:pt x="2952" y="69"/>
                      </a:lnTo>
                      <a:lnTo>
                        <a:pt x="2878" y="73"/>
                      </a:lnTo>
                      <a:lnTo>
                        <a:pt x="2805" y="78"/>
                      </a:lnTo>
                      <a:lnTo>
                        <a:pt x="2731" y="86"/>
                      </a:lnTo>
                      <a:lnTo>
                        <a:pt x="2658" y="96"/>
                      </a:lnTo>
                      <a:lnTo>
                        <a:pt x="2588" y="106"/>
                      </a:lnTo>
                      <a:lnTo>
                        <a:pt x="2515" y="120"/>
                      </a:lnTo>
                      <a:lnTo>
                        <a:pt x="2443" y="133"/>
                      </a:lnTo>
                      <a:lnTo>
                        <a:pt x="2372" y="149"/>
                      </a:lnTo>
                      <a:lnTo>
                        <a:pt x="2302" y="167"/>
                      </a:lnTo>
                      <a:lnTo>
                        <a:pt x="2233" y="186"/>
                      </a:lnTo>
                      <a:lnTo>
                        <a:pt x="2164" y="208"/>
                      </a:lnTo>
                      <a:lnTo>
                        <a:pt x="2094" y="231"/>
                      </a:lnTo>
                      <a:lnTo>
                        <a:pt x="2027" y="255"/>
                      </a:lnTo>
                      <a:lnTo>
                        <a:pt x="1958" y="282"/>
                      </a:lnTo>
                      <a:lnTo>
                        <a:pt x="1892" y="310"/>
                      </a:lnTo>
                      <a:lnTo>
                        <a:pt x="1827" y="337"/>
                      </a:lnTo>
                      <a:lnTo>
                        <a:pt x="1762" y="369"/>
                      </a:lnTo>
                      <a:lnTo>
                        <a:pt x="1698" y="402"/>
                      </a:lnTo>
                      <a:lnTo>
                        <a:pt x="1633" y="435"/>
                      </a:lnTo>
                      <a:lnTo>
                        <a:pt x="1570" y="471"/>
                      </a:lnTo>
                      <a:lnTo>
                        <a:pt x="1510" y="508"/>
                      </a:lnTo>
                      <a:lnTo>
                        <a:pt x="1447" y="545"/>
                      </a:lnTo>
                      <a:lnTo>
                        <a:pt x="1388" y="584"/>
                      </a:lnTo>
                      <a:lnTo>
                        <a:pt x="1327" y="626"/>
                      </a:lnTo>
                      <a:lnTo>
                        <a:pt x="1270" y="669"/>
                      </a:lnTo>
                      <a:lnTo>
                        <a:pt x="1214" y="712"/>
                      </a:lnTo>
                      <a:lnTo>
                        <a:pt x="1157" y="759"/>
                      </a:lnTo>
                      <a:lnTo>
                        <a:pt x="1102" y="804"/>
                      </a:lnTo>
                      <a:lnTo>
                        <a:pt x="1047" y="853"/>
                      </a:lnTo>
                      <a:lnTo>
                        <a:pt x="994" y="902"/>
                      </a:lnTo>
                      <a:lnTo>
                        <a:pt x="943" y="953"/>
                      </a:lnTo>
                      <a:lnTo>
                        <a:pt x="892" y="1004"/>
                      </a:lnTo>
                      <a:lnTo>
                        <a:pt x="843" y="1059"/>
                      </a:lnTo>
                      <a:lnTo>
                        <a:pt x="794" y="1114"/>
                      </a:lnTo>
                      <a:lnTo>
                        <a:pt x="747" y="1169"/>
                      </a:lnTo>
                      <a:lnTo>
                        <a:pt x="702" y="1226"/>
                      </a:lnTo>
                      <a:lnTo>
                        <a:pt x="657" y="1284"/>
                      </a:lnTo>
                      <a:lnTo>
                        <a:pt x="616" y="1343"/>
                      </a:lnTo>
                      <a:lnTo>
                        <a:pt x="572" y="1404"/>
                      </a:lnTo>
                      <a:lnTo>
                        <a:pt x="533" y="1467"/>
                      </a:lnTo>
                      <a:lnTo>
                        <a:pt x="494" y="1530"/>
                      </a:lnTo>
                      <a:lnTo>
                        <a:pt x="457" y="1594"/>
                      </a:lnTo>
                      <a:lnTo>
                        <a:pt x="421" y="1659"/>
                      </a:lnTo>
                      <a:lnTo>
                        <a:pt x="386" y="1726"/>
                      </a:lnTo>
                      <a:lnTo>
                        <a:pt x="355" y="1792"/>
                      </a:lnTo>
                      <a:lnTo>
                        <a:pt x="323" y="1861"/>
                      </a:lnTo>
                      <a:lnTo>
                        <a:pt x="294" y="1932"/>
                      </a:lnTo>
                      <a:lnTo>
                        <a:pt x="267" y="2002"/>
                      </a:lnTo>
                      <a:lnTo>
                        <a:pt x="239" y="2073"/>
                      </a:lnTo>
                      <a:lnTo>
                        <a:pt x="216" y="2145"/>
                      </a:lnTo>
                      <a:lnTo>
                        <a:pt x="192" y="2220"/>
                      </a:lnTo>
                      <a:lnTo>
                        <a:pt x="171" y="2294"/>
                      </a:lnTo>
                      <a:lnTo>
                        <a:pt x="171" y="2294"/>
                      </a:lnTo>
                      <a:lnTo>
                        <a:pt x="153" y="2369"/>
                      </a:lnTo>
                      <a:lnTo>
                        <a:pt x="135" y="2445"/>
                      </a:lnTo>
                      <a:lnTo>
                        <a:pt x="120" y="2520"/>
                      </a:lnTo>
                      <a:lnTo>
                        <a:pt x="108" y="2594"/>
                      </a:lnTo>
                      <a:lnTo>
                        <a:pt x="96" y="2669"/>
                      </a:lnTo>
                      <a:lnTo>
                        <a:pt x="86" y="2745"/>
                      </a:lnTo>
                      <a:lnTo>
                        <a:pt x="78" y="2820"/>
                      </a:lnTo>
                      <a:lnTo>
                        <a:pt x="74" y="2895"/>
                      </a:lnTo>
                      <a:lnTo>
                        <a:pt x="71" y="2969"/>
                      </a:lnTo>
                      <a:lnTo>
                        <a:pt x="69" y="3044"/>
                      </a:lnTo>
                      <a:lnTo>
                        <a:pt x="69" y="3118"/>
                      </a:lnTo>
                      <a:lnTo>
                        <a:pt x="71" y="3193"/>
                      </a:lnTo>
                      <a:lnTo>
                        <a:pt x="74" y="3265"/>
                      </a:lnTo>
                      <a:lnTo>
                        <a:pt x="80" y="3340"/>
                      </a:lnTo>
                      <a:lnTo>
                        <a:pt x="88" y="3412"/>
                      </a:lnTo>
                      <a:lnTo>
                        <a:pt x="96" y="3485"/>
                      </a:lnTo>
                      <a:lnTo>
                        <a:pt x="108" y="3557"/>
                      </a:lnTo>
                      <a:lnTo>
                        <a:pt x="120" y="3628"/>
                      </a:lnTo>
                      <a:lnTo>
                        <a:pt x="135" y="3701"/>
                      </a:lnTo>
                      <a:lnTo>
                        <a:pt x="151" y="3771"/>
                      </a:lnTo>
                      <a:lnTo>
                        <a:pt x="169" y="3842"/>
                      </a:lnTo>
                      <a:lnTo>
                        <a:pt x="188" y="3910"/>
                      </a:lnTo>
                      <a:lnTo>
                        <a:pt x="210" y="3981"/>
                      </a:lnTo>
                      <a:lnTo>
                        <a:pt x="231" y="4050"/>
                      </a:lnTo>
                      <a:lnTo>
                        <a:pt x="257" y="4116"/>
                      </a:lnTo>
                      <a:lnTo>
                        <a:pt x="282" y="4185"/>
                      </a:lnTo>
                      <a:lnTo>
                        <a:pt x="310" y="4252"/>
                      </a:lnTo>
                      <a:lnTo>
                        <a:pt x="339" y="4316"/>
                      </a:lnTo>
                      <a:lnTo>
                        <a:pt x="371" y="4383"/>
                      </a:lnTo>
                      <a:lnTo>
                        <a:pt x="402" y="4448"/>
                      </a:lnTo>
                      <a:lnTo>
                        <a:pt x="435" y="4510"/>
                      </a:lnTo>
                      <a:lnTo>
                        <a:pt x="471" y="4573"/>
                      </a:lnTo>
                      <a:lnTo>
                        <a:pt x="508" y="4636"/>
                      </a:lnTo>
                      <a:lnTo>
                        <a:pt x="547" y="4697"/>
                      </a:lnTo>
                      <a:lnTo>
                        <a:pt x="586" y="4758"/>
                      </a:lnTo>
                      <a:lnTo>
                        <a:pt x="627" y="4816"/>
                      </a:lnTo>
                      <a:lnTo>
                        <a:pt x="670" y="4875"/>
                      </a:lnTo>
                      <a:lnTo>
                        <a:pt x="714" y="4932"/>
                      </a:lnTo>
                      <a:lnTo>
                        <a:pt x="759" y="4987"/>
                      </a:lnTo>
                      <a:lnTo>
                        <a:pt x="806" y="5042"/>
                      </a:lnTo>
                      <a:lnTo>
                        <a:pt x="855" y="5097"/>
                      </a:lnTo>
                      <a:lnTo>
                        <a:pt x="904" y="5150"/>
                      </a:lnTo>
                      <a:lnTo>
                        <a:pt x="955" y="5201"/>
                      </a:lnTo>
                      <a:lnTo>
                        <a:pt x="1006" y="5252"/>
                      </a:lnTo>
                      <a:lnTo>
                        <a:pt x="1059" y="5301"/>
                      </a:lnTo>
                      <a:lnTo>
                        <a:pt x="1114" y="5350"/>
                      </a:lnTo>
                      <a:lnTo>
                        <a:pt x="1170" y="5397"/>
                      </a:lnTo>
                      <a:lnTo>
                        <a:pt x="1227" y="5442"/>
                      </a:lnTo>
                      <a:lnTo>
                        <a:pt x="1286" y="5487"/>
                      </a:lnTo>
                      <a:lnTo>
                        <a:pt x="1345" y="5530"/>
                      </a:lnTo>
                      <a:lnTo>
                        <a:pt x="1406" y="5571"/>
                      </a:lnTo>
                      <a:lnTo>
                        <a:pt x="1466" y="5611"/>
                      </a:lnTo>
                      <a:lnTo>
                        <a:pt x="1531" y="5650"/>
                      </a:lnTo>
                      <a:lnTo>
                        <a:pt x="1594" y="5687"/>
                      </a:lnTo>
                      <a:lnTo>
                        <a:pt x="1660" y="5722"/>
                      </a:lnTo>
                      <a:lnTo>
                        <a:pt x="1725" y="5758"/>
                      </a:lnTo>
                      <a:lnTo>
                        <a:pt x="1794" y="5791"/>
                      </a:lnTo>
                      <a:lnTo>
                        <a:pt x="1862" y="5820"/>
                      </a:lnTo>
                      <a:lnTo>
                        <a:pt x="1931" y="5850"/>
                      </a:lnTo>
                      <a:lnTo>
                        <a:pt x="2002" y="5879"/>
                      </a:lnTo>
                      <a:lnTo>
                        <a:pt x="2074" y="5905"/>
                      </a:lnTo>
                      <a:lnTo>
                        <a:pt x="2147" y="5930"/>
                      </a:lnTo>
                      <a:lnTo>
                        <a:pt x="2219" y="5952"/>
                      </a:lnTo>
                      <a:lnTo>
                        <a:pt x="2296" y="5973"/>
                      </a:lnTo>
                      <a:lnTo>
                        <a:pt x="2296" y="5973"/>
                      </a:lnTo>
                      <a:lnTo>
                        <a:pt x="2370" y="5993"/>
                      </a:lnTo>
                      <a:lnTo>
                        <a:pt x="2445" y="6009"/>
                      </a:lnTo>
                      <a:lnTo>
                        <a:pt x="2521" y="6024"/>
                      </a:lnTo>
                      <a:lnTo>
                        <a:pt x="2596" y="6038"/>
                      </a:lnTo>
                      <a:lnTo>
                        <a:pt x="2670" y="6048"/>
                      </a:lnTo>
                      <a:lnTo>
                        <a:pt x="2745" y="6058"/>
                      </a:lnTo>
                      <a:lnTo>
                        <a:pt x="2821" y="6066"/>
                      </a:lnTo>
                      <a:lnTo>
                        <a:pt x="2896" y="6071"/>
                      </a:lnTo>
                      <a:lnTo>
                        <a:pt x="2970" y="6073"/>
                      </a:lnTo>
                      <a:lnTo>
                        <a:pt x="3045" y="6075"/>
                      </a:lnTo>
                      <a:lnTo>
                        <a:pt x="3119" y="6075"/>
                      </a:lnTo>
                      <a:lnTo>
                        <a:pt x="3192" y="6073"/>
                      </a:lnTo>
                      <a:lnTo>
                        <a:pt x="3266" y="6069"/>
                      </a:lnTo>
                      <a:lnTo>
                        <a:pt x="3339" y="6064"/>
                      </a:lnTo>
                      <a:lnTo>
                        <a:pt x="3413" y="6058"/>
                      </a:lnTo>
                      <a:lnTo>
                        <a:pt x="3486" y="6048"/>
                      </a:lnTo>
                      <a:lnTo>
                        <a:pt x="3556" y="6036"/>
                      </a:lnTo>
                      <a:lnTo>
                        <a:pt x="3629" y="6024"/>
                      </a:lnTo>
                      <a:lnTo>
                        <a:pt x="3699" y="6009"/>
                      </a:lnTo>
                      <a:lnTo>
                        <a:pt x="3772" y="5993"/>
                      </a:lnTo>
                      <a:lnTo>
                        <a:pt x="3842" y="5975"/>
                      </a:lnTo>
                      <a:lnTo>
                        <a:pt x="3911" y="5956"/>
                      </a:lnTo>
                      <a:lnTo>
                        <a:pt x="3980" y="5934"/>
                      </a:lnTo>
                      <a:lnTo>
                        <a:pt x="4048" y="5913"/>
                      </a:lnTo>
                      <a:lnTo>
                        <a:pt x="4117" y="5887"/>
                      </a:lnTo>
                      <a:lnTo>
                        <a:pt x="4186" y="5862"/>
                      </a:lnTo>
                      <a:lnTo>
                        <a:pt x="4252" y="5834"/>
                      </a:lnTo>
                      <a:lnTo>
                        <a:pt x="4317" y="5805"/>
                      </a:lnTo>
                      <a:lnTo>
                        <a:pt x="4382" y="5773"/>
                      </a:lnTo>
                      <a:lnTo>
                        <a:pt x="4446" y="5742"/>
                      </a:lnTo>
                      <a:lnTo>
                        <a:pt x="4511" y="5709"/>
                      </a:lnTo>
                      <a:lnTo>
                        <a:pt x="4574" y="5673"/>
                      </a:lnTo>
                      <a:lnTo>
                        <a:pt x="4634" y="5636"/>
                      </a:lnTo>
                      <a:lnTo>
                        <a:pt x="4697" y="5599"/>
                      </a:lnTo>
                      <a:lnTo>
                        <a:pt x="4756" y="5558"/>
                      </a:lnTo>
                      <a:lnTo>
                        <a:pt x="4815" y="5516"/>
                      </a:lnTo>
                      <a:lnTo>
                        <a:pt x="4874" y="5475"/>
                      </a:lnTo>
                      <a:lnTo>
                        <a:pt x="4930" y="5430"/>
                      </a:lnTo>
                      <a:lnTo>
                        <a:pt x="4987" y="5385"/>
                      </a:lnTo>
                      <a:lnTo>
                        <a:pt x="5042" y="5338"/>
                      </a:lnTo>
                      <a:lnTo>
                        <a:pt x="5097" y="5291"/>
                      </a:lnTo>
                      <a:lnTo>
                        <a:pt x="5150" y="5242"/>
                      </a:lnTo>
                      <a:lnTo>
                        <a:pt x="5201" y="5191"/>
                      </a:lnTo>
                      <a:lnTo>
                        <a:pt x="5252" y="5138"/>
                      </a:lnTo>
                      <a:lnTo>
                        <a:pt x="5301" y="5085"/>
                      </a:lnTo>
                      <a:lnTo>
                        <a:pt x="5350" y="5030"/>
                      </a:lnTo>
                      <a:lnTo>
                        <a:pt x="5397" y="4975"/>
                      </a:lnTo>
                      <a:lnTo>
                        <a:pt x="5442" y="4916"/>
                      </a:lnTo>
                      <a:lnTo>
                        <a:pt x="5487" y="4860"/>
                      </a:lnTo>
                      <a:lnTo>
                        <a:pt x="5528" y="4799"/>
                      </a:lnTo>
                      <a:lnTo>
                        <a:pt x="5572" y="4738"/>
                      </a:lnTo>
                      <a:lnTo>
                        <a:pt x="5611" y="4677"/>
                      </a:lnTo>
                      <a:lnTo>
                        <a:pt x="5650" y="4614"/>
                      </a:lnTo>
                      <a:lnTo>
                        <a:pt x="5687" y="4550"/>
                      </a:lnTo>
                      <a:lnTo>
                        <a:pt x="5723" y="4485"/>
                      </a:lnTo>
                      <a:lnTo>
                        <a:pt x="5758" y="4418"/>
                      </a:lnTo>
                      <a:lnTo>
                        <a:pt x="5789" y="4350"/>
                      </a:lnTo>
                      <a:lnTo>
                        <a:pt x="5821" y="4281"/>
                      </a:lnTo>
                      <a:lnTo>
                        <a:pt x="5850" y="4212"/>
                      </a:lnTo>
                      <a:lnTo>
                        <a:pt x="5877" y="4142"/>
                      </a:lnTo>
                      <a:lnTo>
                        <a:pt x="5905" y="4069"/>
                      </a:lnTo>
                      <a:lnTo>
                        <a:pt x="5928" y="3997"/>
                      </a:lnTo>
                      <a:lnTo>
                        <a:pt x="5952" y="3924"/>
                      </a:lnTo>
                      <a:lnTo>
                        <a:pt x="5971" y="3850"/>
                      </a:lnTo>
                      <a:lnTo>
                        <a:pt x="5971" y="3850"/>
                      </a:lnTo>
                      <a:lnTo>
                        <a:pt x="5991" y="3773"/>
                      </a:lnTo>
                      <a:lnTo>
                        <a:pt x="6009" y="3699"/>
                      </a:lnTo>
                      <a:lnTo>
                        <a:pt x="6024" y="3624"/>
                      </a:lnTo>
                      <a:lnTo>
                        <a:pt x="6036" y="3548"/>
                      </a:lnTo>
                      <a:lnTo>
                        <a:pt x="6048" y="3473"/>
                      </a:lnTo>
                      <a:lnTo>
                        <a:pt x="6058" y="3399"/>
                      </a:lnTo>
                      <a:lnTo>
                        <a:pt x="6066" y="3324"/>
                      </a:lnTo>
                      <a:lnTo>
                        <a:pt x="6070" y="3248"/>
                      </a:lnTo>
                      <a:lnTo>
                        <a:pt x="6073" y="3173"/>
                      </a:lnTo>
                      <a:lnTo>
                        <a:pt x="6075" y="3098"/>
                      </a:lnTo>
                      <a:lnTo>
                        <a:pt x="6075" y="3026"/>
                      </a:lnTo>
                      <a:lnTo>
                        <a:pt x="6073" y="2951"/>
                      </a:lnTo>
                      <a:lnTo>
                        <a:pt x="6070" y="2877"/>
                      </a:lnTo>
                      <a:lnTo>
                        <a:pt x="6064" y="2804"/>
                      </a:lnTo>
                      <a:lnTo>
                        <a:pt x="6056" y="2732"/>
                      </a:lnTo>
                      <a:lnTo>
                        <a:pt x="6048" y="2659"/>
                      </a:lnTo>
                      <a:lnTo>
                        <a:pt x="6036" y="2587"/>
                      </a:lnTo>
                      <a:lnTo>
                        <a:pt x="6022" y="2514"/>
                      </a:lnTo>
                      <a:lnTo>
                        <a:pt x="6009" y="2443"/>
                      </a:lnTo>
                      <a:lnTo>
                        <a:pt x="5993" y="2373"/>
                      </a:lnTo>
                      <a:lnTo>
                        <a:pt x="5975" y="2302"/>
                      </a:lnTo>
                      <a:lnTo>
                        <a:pt x="5956" y="2232"/>
                      </a:lnTo>
                      <a:lnTo>
                        <a:pt x="5934" y="2163"/>
                      </a:lnTo>
                      <a:lnTo>
                        <a:pt x="5911" y="2094"/>
                      </a:lnTo>
                      <a:lnTo>
                        <a:pt x="5887" y="2026"/>
                      </a:lnTo>
                      <a:lnTo>
                        <a:pt x="5862" y="1959"/>
                      </a:lnTo>
                      <a:lnTo>
                        <a:pt x="5834" y="1892"/>
                      </a:lnTo>
                      <a:lnTo>
                        <a:pt x="5805" y="1826"/>
                      </a:lnTo>
                      <a:lnTo>
                        <a:pt x="5773" y="1761"/>
                      </a:lnTo>
                      <a:lnTo>
                        <a:pt x="5742" y="1696"/>
                      </a:lnTo>
                      <a:lnTo>
                        <a:pt x="5707" y="1632"/>
                      </a:lnTo>
                      <a:lnTo>
                        <a:pt x="5672" y="1569"/>
                      </a:lnTo>
                      <a:lnTo>
                        <a:pt x="5636" y="1508"/>
                      </a:lnTo>
                      <a:lnTo>
                        <a:pt x="5597" y="1447"/>
                      </a:lnTo>
                      <a:lnTo>
                        <a:pt x="5558" y="1386"/>
                      </a:lnTo>
                      <a:lnTo>
                        <a:pt x="5517" y="1328"/>
                      </a:lnTo>
                      <a:lnTo>
                        <a:pt x="5474" y="1269"/>
                      </a:lnTo>
                      <a:lnTo>
                        <a:pt x="5430" y="1212"/>
                      </a:lnTo>
                      <a:lnTo>
                        <a:pt x="5385" y="1155"/>
                      </a:lnTo>
                      <a:lnTo>
                        <a:pt x="5338" y="1100"/>
                      </a:lnTo>
                      <a:lnTo>
                        <a:pt x="5289" y="1047"/>
                      </a:lnTo>
                      <a:lnTo>
                        <a:pt x="5240" y="994"/>
                      </a:lnTo>
                      <a:lnTo>
                        <a:pt x="5189" y="941"/>
                      </a:lnTo>
                      <a:lnTo>
                        <a:pt x="5138" y="890"/>
                      </a:lnTo>
                      <a:lnTo>
                        <a:pt x="5085" y="841"/>
                      </a:lnTo>
                      <a:lnTo>
                        <a:pt x="5030" y="794"/>
                      </a:lnTo>
                      <a:lnTo>
                        <a:pt x="4974" y="747"/>
                      </a:lnTo>
                      <a:lnTo>
                        <a:pt x="4917" y="700"/>
                      </a:lnTo>
                      <a:lnTo>
                        <a:pt x="4858" y="657"/>
                      </a:lnTo>
                      <a:lnTo>
                        <a:pt x="4799" y="614"/>
                      </a:lnTo>
                      <a:lnTo>
                        <a:pt x="4738" y="573"/>
                      </a:lnTo>
                      <a:lnTo>
                        <a:pt x="4678" y="531"/>
                      </a:lnTo>
                      <a:lnTo>
                        <a:pt x="4613" y="492"/>
                      </a:lnTo>
                      <a:lnTo>
                        <a:pt x="4550" y="455"/>
                      </a:lnTo>
                      <a:lnTo>
                        <a:pt x="4484" y="420"/>
                      </a:lnTo>
                      <a:lnTo>
                        <a:pt x="4419" y="386"/>
                      </a:lnTo>
                      <a:lnTo>
                        <a:pt x="4350" y="353"/>
                      </a:lnTo>
                      <a:lnTo>
                        <a:pt x="4282" y="322"/>
                      </a:lnTo>
                      <a:lnTo>
                        <a:pt x="4213" y="292"/>
                      </a:lnTo>
                      <a:lnTo>
                        <a:pt x="4142" y="265"/>
                      </a:lnTo>
                      <a:lnTo>
                        <a:pt x="4070" y="239"/>
                      </a:lnTo>
                      <a:lnTo>
                        <a:pt x="3997" y="214"/>
                      </a:lnTo>
                      <a:lnTo>
                        <a:pt x="3923" y="190"/>
                      </a:lnTo>
                      <a:lnTo>
                        <a:pt x="3848" y="171"/>
                      </a:lnTo>
                      <a:lnTo>
                        <a:pt x="3848" y="171"/>
                      </a:lnTo>
                      <a:close/>
                    </a:path>
                  </a:pathLst>
                </a:custGeom>
                <a:gradFill rotWithShape="0">
                  <a:gsLst>
                    <a:gs pos="0">
                      <a:srgbClr val="74420d"/>
                    </a:gs>
                    <a:gs pos="100000">
                      <a:srgbClr val="c89834"/>
                    </a:gs>
                  </a:gsLst>
                  <a:lin ang="2460000"/>
                </a:gradFill>
                <a:ln w="9525">
                  <a:noFill/>
                </a:ln>
              </p:spPr>
              <p:style>
                <a:lnRef idx="0"/>
                <a:fillRef idx="0"/>
                <a:effectRef idx="0"/>
                <a:fontRef idx="minor"/>
              </p:style>
              <p:txBody>
                <a:bodyPr numCol="1" spcCol="0" anchor="t">
                  <a:noAutofit/>
                </a:bodyPr>
                <a:p>
                  <a:pPr>
                    <a:lnSpc>
                      <a:spcPct val="85000"/>
                    </a:lnSpc>
                    <a:spcBef>
                      <a:spcPts val="360"/>
                    </a:spcBef>
                  </a:pPr>
                  <a:endParaRPr b="0" lang="en-US" sz="1800" spc="-1" strike="noStrike">
                    <a:solidFill>
                      <a:srgbClr val="000000"/>
                    </a:solidFill>
                    <a:latin typeface="Calibri"/>
                  </a:endParaRPr>
                </a:p>
              </p:txBody>
            </p:sp>
            <p:sp>
              <p:nvSpPr>
                <p:cNvPr id="635" name="Freeform 9"/>
                <p:cNvSpPr/>
                <p:nvPr/>
              </p:nvSpPr>
              <p:spPr>
                <a:xfrm flipV="1" rot="10800000">
                  <a:off x="2670120" y="3864240"/>
                  <a:ext cx="266040" cy="266040"/>
                </a:xfrm>
                <a:custGeom>
                  <a:avLst/>
                  <a:gdLst>
                    <a:gd name="textAreaLeft" fmla="*/ 0 w 266040"/>
                    <a:gd name="textAreaRight" fmla="*/ 266400 w 266040"/>
                    <a:gd name="textAreaTop" fmla="*/ -360 h 266040"/>
                    <a:gd name="textAreaBottom" fmla="*/ 266040 h 266040"/>
                  </a:gdLst>
                  <a:ahLst/>
                  <a:rect l="textAreaLeft" t="textAreaTop" r="textAreaRight" b="textAreaBottom"/>
                  <a:pathLst>
                    <a:path w="4320" h="4320">
                      <a:moveTo>
                        <a:pt x="4245" y="2719"/>
                      </a:moveTo>
                      <a:lnTo>
                        <a:pt x="4245" y="2719"/>
                      </a:lnTo>
                      <a:lnTo>
                        <a:pt x="4231" y="2773"/>
                      </a:lnTo>
                      <a:lnTo>
                        <a:pt x="4215" y="2826"/>
                      </a:lnTo>
                      <a:lnTo>
                        <a:pt x="4197" y="2878"/>
                      </a:lnTo>
                      <a:lnTo>
                        <a:pt x="4178" y="2930"/>
                      </a:lnTo>
                      <a:lnTo>
                        <a:pt x="4158" y="2980"/>
                      </a:lnTo>
                      <a:lnTo>
                        <a:pt x="4138" y="3031"/>
                      </a:lnTo>
                      <a:lnTo>
                        <a:pt x="4115" y="3080"/>
                      </a:lnTo>
                      <a:lnTo>
                        <a:pt x="4091" y="3128"/>
                      </a:lnTo>
                      <a:lnTo>
                        <a:pt x="4067" y="3176"/>
                      </a:lnTo>
                      <a:lnTo>
                        <a:pt x="4040" y="3223"/>
                      </a:lnTo>
                      <a:lnTo>
                        <a:pt x="4014" y="3269"/>
                      </a:lnTo>
                      <a:lnTo>
                        <a:pt x="3986" y="3315"/>
                      </a:lnTo>
                      <a:lnTo>
                        <a:pt x="3958" y="3359"/>
                      </a:lnTo>
                      <a:lnTo>
                        <a:pt x="3927" y="3402"/>
                      </a:lnTo>
                      <a:lnTo>
                        <a:pt x="3897" y="3445"/>
                      </a:lnTo>
                      <a:lnTo>
                        <a:pt x="3865" y="3488"/>
                      </a:lnTo>
                      <a:lnTo>
                        <a:pt x="3831" y="3528"/>
                      </a:lnTo>
                      <a:lnTo>
                        <a:pt x="3798" y="3569"/>
                      </a:lnTo>
                      <a:lnTo>
                        <a:pt x="3763" y="3608"/>
                      </a:lnTo>
                      <a:lnTo>
                        <a:pt x="3727" y="3646"/>
                      </a:lnTo>
                      <a:lnTo>
                        <a:pt x="3691" y="3683"/>
                      </a:lnTo>
                      <a:lnTo>
                        <a:pt x="3654" y="3719"/>
                      </a:lnTo>
                      <a:lnTo>
                        <a:pt x="3617" y="3755"/>
                      </a:lnTo>
                      <a:lnTo>
                        <a:pt x="3577" y="3790"/>
                      </a:lnTo>
                      <a:lnTo>
                        <a:pt x="3538" y="3823"/>
                      </a:lnTo>
                      <a:lnTo>
                        <a:pt x="3497" y="3857"/>
                      </a:lnTo>
                      <a:lnTo>
                        <a:pt x="3456" y="3887"/>
                      </a:lnTo>
                      <a:lnTo>
                        <a:pt x="3414" y="3918"/>
                      </a:lnTo>
                      <a:lnTo>
                        <a:pt x="3372" y="3948"/>
                      </a:lnTo>
                      <a:lnTo>
                        <a:pt x="3328" y="3976"/>
                      </a:lnTo>
                      <a:lnTo>
                        <a:pt x="3284" y="4004"/>
                      </a:lnTo>
                      <a:lnTo>
                        <a:pt x="3240" y="4030"/>
                      </a:lnTo>
                      <a:lnTo>
                        <a:pt x="3195" y="4055"/>
                      </a:lnTo>
                      <a:lnTo>
                        <a:pt x="3149" y="4080"/>
                      </a:lnTo>
                      <a:lnTo>
                        <a:pt x="3103" y="4103"/>
                      </a:lnTo>
                      <a:lnTo>
                        <a:pt x="3056" y="4126"/>
                      </a:lnTo>
                      <a:lnTo>
                        <a:pt x="3008" y="4146"/>
                      </a:lnTo>
                      <a:lnTo>
                        <a:pt x="2960" y="4166"/>
                      </a:lnTo>
                      <a:lnTo>
                        <a:pt x="2912" y="4184"/>
                      </a:lnTo>
                      <a:lnTo>
                        <a:pt x="2863" y="4203"/>
                      </a:lnTo>
                      <a:lnTo>
                        <a:pt x="2814" y="4219"/>
                      </a:lnTo>
                      <a:lnTo>
                        <a:pt x="2765" y="4233"/>
                      </a:lnTo>
                      <a:lnTo>
                        <a:pt x="2714" y="4248"/>
                      </a:lnTo>
                      <a:lnTo>
                        <a:pt x="2663" y="4260"/>
                      </a:lnTo>
                      <a:lnTo>
                        <a:pt x="2613" y="4272"/>
                      </a:lnTo>
                      <a:lnTo>
                        <a:pt x="2561" y="4283"/>
                      </a:lnTo>
                      <a:lnTo>
                        <a:pt x="2509" y="4292"/>
                      </a:lnTo>
                      <a:lnTo>
                        <a:pt x="2457" y="4300"/>
                      </a:lnTo>
                      <a:lnTo>
                        <a:pt x="2405" y="4307"/>
                      </a:lnTo>
                      <a:lnTo>
                        <a:pt x="2353" y="4312"/>
                      </a:lnTo>
                      <a:lnTo>
                        <a:pt x="2300" y="4316"/>
                      </a:lnTo>
                      <a:lnTo>
                        <a:pt x="2247" y="4319"/>
                      </a:lnTo>
                      <a:lnTo>
                        <a:pt x="2193" y="4320"/>
                      </a:lnTo>
                      <a:lnTo>
                        <a:pt x="2140" y="4320"/>
                      </a:lnTo>
                      <a:lnTo>
                        <a:pt x="2087" y="4319"/>
                      </a:lnTo>
                      <a:lnTo>
                        <a:pt x="2033" y="4316"/>
                      </a:lnTo>
                      <a:lnTo>
                        <a:pt x="1979" y="4312"/>
                      </a:lnTo>
                      <a:lnTo>
                        <a:pt x="1926" y="4307"/>
                      </a:lnTo>
                      <a:lnTo>
                        <a:pt x="1871" y="4300"/>
                      </a:lnTo>
                      <a:lnTo>
                        <a:pt x="1818" y="4292"/>
                      </a:lnTo>
                      <a:lnTo>
                        <a:pt x="1763" y="4283"/>
                      </a:lnTo>
                      <a:lnTo>
                        <a:pt x="1710" y="4272"/>
                      </a:lnTo>
                      <a:lnTo>
                        <a:pt x="1655" y="4260"/>
                      </a:lnTo>
                      <a:lnTo>
                        <a:pt x="1602" y="4245"/>
                      </a:lnTo>
                      <a:lnTo>
                        <a:pt x="1602" y="4245"/>
                      </a:lnTo>
                      <a:lnTo>
                        <a:pt x="1547" y="4231"/>
                      </a:lnTo>
                      <a:lnTo>
                        <a:pt x="1495" y="4215"/>
                      </a:lnTo>
                      <a:lnTo>
                        <a:pt x="1442" y="4197"/>
                      </a:lnTo>
                      <a:lnTo>
                        <a:pt x="1392" y="4178"/>
                      </a:lnTo>
                      <a:lnTo>
                        <a:pt x="1341" y="4158"/>
                      </a:lnTo>
                      <a:lnTo>
                        <a:pt x="1290" y="4136"/>
                      </a:lnTo>
                      <a:lnTo>
                        <a:pt x="1241" y="4115"/>
                      </a:lnTo>
                      <a:lnTo>
                        <a:pt x="1193" y="4091"/>
                      </a:lnTo>
                      <a:lnTo>
                        <a:pt x="1145" y="4067"/>
                      </a:lnTo>
                      <a:lnTo>
                        <a:pt x="1097" y="4040"/>
                      </a:lnTo>
                      <a:lnTo>
                        <a:pt x="1052" y="4014"/>
                      </a:lnTo>
                      <a:lnTo>
                        <a:pt x="1007" y="3986"/>
                      </a:lnTo>
                      <a:lnTo>
                        <a:pt x="961" y="3958"/>
                      </a:lnTo>
                      <a:lnTo>
                        <a:pt x="919" y="3927"/>
                      </a:lnTo>
                      <a:lnTo>
                        <a:pt x="875" y="3897"/>
                      </a:lnTo>
                      <a:lnTo>
                        <a:pt x="834" y="3865"/>
                      </a:lnTo>
                      <a:lnTo>
                        <a:pt x="792" y="3831"/>
                      </a:lnTo>
                      <a:lnTo>
                        <a:pt x="752" y="3798"/>
                      </a:lnTo>
                      <a:lnTo>
                        <a:pt x="714" y="3763"/>
                      </a:lnTo>
                      <a:lnTo>
                        <a:pt x="675" y="3727"/>
                      </a:lnTo>
                      <a:lnTo>
                        <a:pt x="638" y="3691"/>
                      </a:lnTo>
                      <a:lnTo>
                        <a:pt x="601" y="3654"/>
                      </a:lnTo>
                      <a:lnTo>
                        <a:pt x="566" y="3616"/>
                      </a:lnTo>
                      <a:lnTo>
                        <a:pt x="531" y="3577"/>
                      </a:lnTo>
                      <a:lnTo>
                        <a:pt x="497" y="3538"/>
                      </a:lnTo>
                      <a:lnTo>
                        <a:pt x="465" y="3497"/>
                      </a:lnTo>
                      <a:lnTo>
                        <a:pt x="433" y="3456"/>
                      </a:lnTo>
                      <a:lnTo>
                        <a:pt x="402" y="3414"/>
                      </a:lnTo>
                      <a:lnTo>
                        <a:pt x="373" y="3372"/>
                      </a:lnTo>
                      <a:lnTo>
                        <a:pt x="345" y="3328"/>
                      </a:lnTo>
                      <a:lnTo>
                        <a:pt x="317" y="3284"/>
                      </a:lnTo>
                      <a:lnTo>
                        <a:pt x="290" y="3240"/>
                      </a:lnTo>
                      <a:lnTo>
                        <a:pt x="265" y="3195"/>
                      </a:lnTo>
                      <a:lnTo>
                        <a:pt x="241" y="3149"/>
                      </a:lnTo>
                      <a:lnTo>
                        <a:pt x="217" y="3103"/>
                      </a:lnTo>
                      <a:lnTo>
                        <a:pt x="196" y="3056"/>
                      </a:lnTo>
                      <a:lnTo>
                        <a:pt x="174" y="3008"/>
                      </a:lnTo>
                      <a:lnTo>
                        <a:pt x="154" y="2960"/>
                      </a:lnTo>
                      <a:lnTo>
                        <a:pt x="136" y="2912"/>
                      </a:lnTo>
                      <a:lnTo>
                        <a:pt x="119" y="2863"/>
                      </a:lnTo>
                      <a:lnTo>
                        <a:pt x="103" y="2814"/>
                      </a:lnTo>
                      <a:lnTo>
                        <a:pt x="87" y="2763"/>
                      </a:lnTo>
                      <a:lnTo>
                        <a:pt x="73" y="2714"/>
                      </a:lnTo>
                      <a:lnTo>
                        <a:pt x="60" y="2663"/>
                      </a:lnTo>
                      <a:lnTo>
                        <a:pt x="48" y="2611"/>
                      </a:lnTo>
                      <a:lnTo>
                        <a:pt x="39" y="2561"/>
                      </a:lnTo>
                      <a:lnTo>
                        <a:pt x="29" y="2509"/>
                      </a:lnTo>
                      <a:lnTo>
                        <a:pt x="21" y="2457"/>
                      </a:lnTo>
                      <a:lnTo>
                        <a:pt x="15" y="2405"/>
                      </a:lnTo>
                      <a:lnTo>
                        <a:pt x="9" y="2353"/>
                      </a:lnTo>
                      <a:lnTo>
                        <a:pt x="5" y="2300"/>
                      </a:lnTo>
                      <a:lnTo>
                        <a:pt x="3" y="2247"/>
                      </a:lnTo>
                      <a:lnTo>
                        <a:pt x="1" y="2193"/>
                      </a:lnTo>
                      <a:lnTo>
                        <a:pt x="0" y="2140"/>
                      </a:lnTo>
                      <a:lnTo>
                        <a:pt x="1" y="2087"/>
                      </a:lnTo>
                      <a:lnTo>
                        <a:pt x="4" y="2033"/>
                      </a:lnTo>
                      <a:lnTo>
                        <a:pt x="8" y="1979"/>
                      </a:lnTo>
                      <a:lnTo>
                        <a:pt x="13" y="1926"/>
                      </a:lnTo>
                      <a:lnTo>
                        <a:pt x="20" y="1871"/>
                      </a:lnTo>
                      <a:lnTo>
                        <a:pt x="28" y="1818"/>
                      </a:lnTo>
                      <a:lnTo>
                        <a:pt x="37" y="1763"/>
                      </a:lnTo>
                      <a:lnTo>
                        <a:pt x="49" y="1710"/>
                      </a:lnTo>
                      <a:lnTo>
                        <a:pt x="61" y="1655"/>
                      </a:lnTo>
                      <a:lnTo>
                        <a:pt x="75" y="1602"/>
                      </a:lnTo>
                      <a:lnTo>
                        <a:pt x="75" y="1602"/>
                      </a:lnTo>
                      <a:lnTo>
                        <a:pt x="89" y="1547"/>
                      </a:lnTo>
                      <a:lnTo>
                        <a:pt x="107" y="1494"/>
                      </a:lnTo>
                      <a:lnTo>
                        <a:pt x="124" y="1442"/>
                      </a:lnTo>
                      <a:lnTo>
                        <a:pt x="142" y="1392"/>
                      </a:lnTo>
                      <a:lnTo>
                        <a:pt x="162" y="1340"/>
                      </a:lnTo>
                      <a:lnTo>
                        <a:pt x="184" y="1290"/>
                      </a:lnTo>
                      <a:lnTo>
                        <a:pt x="206" y="1241"/>
                      </a:lnTo>
                      <a:lnTo>
                        <a:pt x="229" y="1192"/>
                      </a:lnTo>
                      <a:lnTo>
                        <a:pt x="254" y="1145"/>
                      </a:lnTo>
                      <a:lnTo>
                        <a:pt x="280" y="1097"/>
                      </a:lnTo>
                      <a:lnTo>
                        <a:pt x="306" y="1052"/>
                      </a:lnTo>
                      <a:lnTo>
                        <a:pt x="334" y="1007"/>
                      </a:lnTo>
                      <a:lnTo>
                        <a:pt x="364" y="961"/>
                      </a:lnTo>
                      <a:lnTo>
                        <a:pt x="393" y="918"/>
                      </a:lnTo>
                      <a:lnTo>
                        <a:pt x="425" y="875"/>
                      </a:lnTo>
                      <a:lnTo>
                        <a:pt x="457" y="834"/>
                      </a:lnTo>
                      <a:lnTo>
                        <a:pt x="489" y="792"/>
                      </a:lnTo>
                      <a:lnTo>
                        <a:pt x="522" y="752"/>
                      </a:lnTo>
                      <a:lnTo>
                        <a:pt x="557" y="712"/>
                      </a:lnTo>
                      <a:lnTo>
                        <a:pt x="593" y="675"/>
                      </a:lnTo>
                      <a:lnTo>
                        <a:pt x="629" y="638"/>
                      </a:lnTo>
                      <a:lnTo>
                        <a:pt x="666" y="601"/>
                      </a:lnTo>
                      <a:lnTo>
                        <a:pt x="704" y="565"/>
                      </a:lnTo>
                      <a:lnTo>
                        <a:pt x="743" y="531"/>
                      </a:lnTo>
                      <a:lnTo>
                        <a:pt x="783" y="497"/>
                      </a:lnTo>
                      <a:lnTo>
                        <a:pt x="823" y="465"/>
                      </a:lnTo>
                      <a:lnTo>
                        <a:pt x="864" y="433"/>
                      </a:lnTo>
                      <a:lnTo>
                        <a:pt x="907" y="402"/>
                      </a:lnTo>
                      <a:lnTo>
                        <a:pt x="949" y="373"/>
                      </a:lnTo>
                      <a:lnTo>
                        <a:pt x="992" y="344"/>
                      </a:lnTo>
                      <a:lnTo>
                        <a:pt x="1036" y="317"/>
                      </a:lnTo>
                      <a:lnTo>
                        <a:pt x="1081" y="290"/>
                      </a:lnTo>
                      <a:lnTo>
                        <a:pt x="1125" y="265"/>
                      </a:lnTo>
                      <a:lnTo>
                        <a:pt x="1172" y="241"/>
                      </a:lnTo>
                      <a:lnTo>
                        <a:pt x="1218" y="217"/>
                      </a:lnTo>
                      <a:lnTo>
                        <a:pt x="1265" y="196"/>
                      </a:lnTo>
                      <a:lnTo>
                        <a:pt x="1313" y="174"/>
                      </a:lnTo>
                      <a:lnTo>
                        <a:pt x="1361" y="154"/>
                      </a:lnTo>
                      <a:lnTo>
                        <a:pt x="1409" y="136"/>
                      </a:lnTo>
                      <a:lnTo>
                        <a:pt x="1458" y="119"/>
                      </a:lnTo>
                      <a:lnTo>
                        <a:pt x="1507" y="103"/>
                      </a:lnTo>
                      <a:lnTo>
                        <a:pt x="1557" y="87"/>
                      </a:lnTo>
                      <a:lnTo>
                        <a:pt x="1607" y="73"/>
                      </a:lnTo>
                      <a:lnTo>
                        <a:pt x="1658" y="60"/>
                      </a:lnTo>
                      <a:lnTo>
                        <a:pt x="1709" y="48"/>
                      </a:lnTo>
                      <a:lnTo>
                        <a:pt x="1760" y="37"/>
                      </a:lnTo>
                      <a:lnTo>
                        <a:pt x="1811" y="29"/>
                      </a:lnTo>
                      <a:lnTo>
                        <a:pt x="1863" y="21"/>
                      </a:lnTo>
                      <a:lnTo>
                        <a:pt x="1916" y="15"/>
                      </a:lnTo>
                      <a:lnTo>
                        <a:pt x="1968" y="9"/>
                      </a:lnTo>
                      <a:lnTo>
                        <a:pt x="2022" y="5"/>
                      </a:lnTo>
                      <a:lnTo>
                        <a:pt x="2073" y="3"/>
                      </a:lnTo>
                      <a:lnTo>
                        <a:pt x="2127" y="1"/>
                      </a:lnTo>
                      <a:lnTo>
                        <a:pt x="2180" y="0"/>
                      </a:lnTo>
                      <a:lnTo>
                        <a:pt x="2235" y="1"/>
                      </a:lnTo>
                      <a:lnTo>
                        <a:pt x="2288" y="4"/>
                      </a:lnTo>
                      <a:lnTo>
                        <a:pt x="2341" y="8"/>
                      </a:lnTo>
                      <a:lnTo>
                        <a:pt x="2396" y="13"/>
                      </a:lnTo>
                      <a:lnTo>
                        <a:pt x="2449" y="20"/>
                      </a:lnTo>
                      <a:lnTo>
                        <a:pt x="2504" y="28"/>
                      </a:lnTo>
                      <a:lnTo>
                        <a:pt x="2557" y="37"/>
                      </a:lnTo>
                      <a:lnTo>
                        <a:pt x="2611" y="48"/>
                      </a:lnTo>
                      <a:lnTo>
                        <a:pt x="2665" y="61"/>
                      </a:lnTo>
                      <a:lnTo>
                        <a:pt x="2719" y="75"/>
                      </a:lnTo>
                      <a:lnTo>
                        <a:pt x="2719" y="75"/>
                      </a:lnTo>
                      <a:lnTo>
                        <a:pt x="2773" y="89"/>
                      </a:lnTo>
                      <a:lnTo>
                        <a:pt x="2826" y="107"/>
                      </a:lnTo>
                      <a:lnTo>
                        <a:pt x="2878" y="124"/>
                      </a:lnTo>
                      <a:lnTo>
                        <a:pt x="2930" y="142"/>
                      </a:lnTo>
                      <a:lnTo>
                        <a:pt x="2980" y="162"/>
                      </a:lnTo>
                      <a:lnTo>
                        <a:pt x="3031" y="184"/>
                      </a:lnTo>
                      <a:lnTo>
                        <a:pt x="3080" y="206"/>
                      </a:lnTo>
                      <a:lnTo>
                        <a:pt x="3128" y="229"/>
                      </a:lnTo>
                      <a:lnTo>
                        <a:pt x="3176" y="254"/>
                      </a:lnTo>
                      <a:lnTo>
                        <a:pt x="3223" y="280"/>
                      </a:lnTo>
                      <a:lnTo>
                        <a:pt x="3269" y="306"/>
                      </a:lnTo>
                      <a:lnTo>
                        <a:pt x="3315" y="334"/>
                      </a:lnTo>
                      <a:lnTo>
                        <a:pt x="3359" y="364"/>
                      </a:lnTo>
                      <a:lnTo>
                        <a:pt x="3402" y="393"/>
                      </a:lnTo>
                      <a:lnTo>
                        <a:pt x="3445" y="425"/>
                      </a:lnTo>
                      <a:lnTo>
                        <a:pt x="3488" y="455"/>
                      </a:lnTo>
                      <a:lnTo>
                        <a:pt x="3528" y="489"/>
                      </a:lnTo>
                      <a:lnTo>
                        <a:pt x="3569" y="522"/>
                      </a:lnTo>
                      <a:lnTo>
                        <a:pt x="3608" y="557"/>
                      </a:lnTo>
                      <a:lnTo>
                        <a:pt x="3646" y="593"/>
                      </a:lnTo>
                      <a:lnTo>
                        <a:pt x="3683" y="629"/>
                      </a:lnTo>
                      <a:lnTo>
                        <a:pt x="3719" y="666"/>
                      </a:lnTo>
                      <a:lnTo>
                        <a:pt x="3755" y="704"/>
                      </a:lnTo>
                      <a:lnTo>
                        <a:pt x="3790" y="743"/>
                      </a:lnTo>
                      <a:lnTo>
                        <a:pt x="3823" y="783"/>
                      </a:lnTo>
                      <a:lnTo>
                        <a:pt x="3857" y="823"/>
                      </a:lnTo>
                      <a:lnTo>
                        <a:pt x="3887" y="864"/>
                      </a:lnTo>
                      <a:lnTo>
                        <a:pt x="3918" y="907"/>
                      </a:lnTo>
                      <a:lnTo>
                        <a:pt x="3948" y="949"/>
                      </a:lnTo>
                      <a:lnTo>
                        <a:pt x="3976" y="992"/>
                      </a:lnTo>
                      <a:lnTo>
                        <a:pt x="4004" y="1036"/>
                      </a:lnTo>
                      <a:lnTo>
                        <a:pt x="4031" y="1080"/>
                      </a:lnTo>
                      <a:lnTo>
                        <a:pt x="4056" y="1125"/>
                      </a:lnTo>
                      <a:lnTo>
                        <a:pt x="4080" y="1172"/>
                      </a:lnTo>
                      <a:lnTo>
                        <a:pt x="4103" y="1218"/>
                      </a:lnTo>
                      <a:lnTo>
                        <a:pt x="4126" y="1265"/>
                      </a:lnTo>
                      <a:lnTo>
                        <a:pt x="4147" y="1312"/>
                      </a:lnTo>
                      <a:lnTo>
                        <a:pt x="4166" y="1360"/>
                      </a:lnTo>
                      <a:lnTo>
                        <a:pt x="4184" y="1409"/>
                      </a:lnTo>
                      <a:lnTo>
                        <a:pt x="4203" y="1458"/>
                      </a:lnTo>
                      <a:lnTo>
                        <a:pt x="4219" y="1507"/>
                      </a:lnTo>
                      <a:lnTo>
                        <a:pt x="4233" y="1557"/>
                      </a:lnTo>
                      <a:lnTo>
                        <a:pt x="4248" y="1607"/>
                      </a:lnTo>
                      <a:lnTo>
                        <a:pt x="4261" y="1658"/>
                      </a:lnTo>
                      <a:lnTo>
                        <a:pt x="4272" y="1709"/>
                      </a:lnTo>
                      <a:lnTo>
                        <a:pt x="4283" y="1759"/>
                      </a:lnTo>
                      <a:lnTo>
                        <a:pt x="4292" y="1811"/>
                      </a:lnTo>
                      <a:lnTo>
                        <a:pt x="4300" y="1863"/>
                      </a:lnTo>
                      <a:lnTo>
                        <a:pt x="4307" y="1915"/>
                      </a:lnTo>
                      <a:lnTo>
                        <a:pt x="4312" y="1968"/>
                      </a:lnTo>
                      <a:lnTo>
                        <a:pt x="4316" y="2022"/>
                      </a:lnTo>
                      <a:lnTo>
                        <a:pt x="4319" y="2073"/>
                      </a:lnTo>
                      <a:lnTo>
                        <a:pt x="4320" y="2127"/>
                      </a:lnTo>
                      <a:lnTo>
                        <a:pt x="4320" y="2180"/>
                      </a:lnTo>
                      <a:lnTo>
                        <a:pt x="4319" y="2233"/>
                      </a:lnTo>
                      <a:lnTo>
                        <a:pt x="4316" y="2288"/>
                      </a:lnTo>
                      <a:lnTo>
                        <a:pt x="4312" y="2341"/>
                      </a:lnTo>
                      <a:lnTo>
                        <a:pt x="4307" y="2396"/>
                      </a:lnTo>
                      <a:lnTo>
                        <a:pt x="4300" y="2449"/>
                      </a:lnTo>
                      <a:lnTo>
                        <a:pt x="4292" y="2504"/>
                      </a:lnTo>
                      <a:lnTo>
                        <a:pt x="4283" y="2557"/>
                      </a:lnTo>
                      <a:lnTo>
                        <a:pt x="4272" y="2611"/>
                      </a:lnTo>
                      <a:lnTo>
                        <a:pt x="4260" y="2665"/>
                      </a:lnTo>
                      <a:lnTo>
                        <a:pt x="4245" y="2719"/>
                      </a:lnTo>
                      <a:lnTo>
                        <a:pt x="4245" y="2719"/>
                      </a:lnTo>
                      <a:close/>
                      <a:moveTo>
                        <a:pt x="2695" y="165"/>
                      </a:moveTo>
                      <a:lnTo>
                        <a:pt x="2695" y="165"/>
                      </a:lnTo>
                      <a:lnTo>
                        <a:pt x="2643" y="152"/>
                      </a:lnTo>
                      <a:lnTo>
                        <a:pt x="2591" y="141"/>
                      </a:lnTo>
                      <a:lnTo>
                        <a:pt x="2540" y="131"/>
                      </a:lnTo>
                      <a:lnTo>
                        <a:pt x="2488" y="121"/>
                      </a:lnTo>
                      <a:lnTo>
                        <a:pt x="2437" y="113"/>
                      </a:lnTo>
                      <a:lnTo>
                        <a:pt x="2385" y="107"/>
                      </a:lnTo>
                      <a:lnTo>
                        <a:pt x="2333" y="103"/>
                      </a:lnTo>
                      <a:lnTo>
                        <a:pt x="2283" y="99"/>
                      </a:lnTo>
                      <a:lnTo>
                        <a:pt x="2231" y="96"/>
                      </a:lnTo>
                      <a:lnTo>
                        <a:pt x="2180" y="95"/>
                      </a:lnTo>
                      <a:lnTo>
                        <a:pt x="2128" y="95"/>
                      </a:lnTo>
                      <a:lnTo>
                        <a:pt x="2077" y="96"/>
                      </a:lnTo>
                      <a:lnTo>
                        <a:pt x="2027" y="99"/>
                      </a:lnTo>
                      <a:lnTo>
                        <a:pt x="1976" y="103"/>
                      </a:lnTo>
                      <a:lnTo>
                        <a:pt x="1927" y="108"/>
                      </a:lnTo>
                      <a:lnTo>
                        <a:pt x="1876" y="115"/>
                      </a:lnTo>
                      <a:lnTo>
                        <a:pt x="1827" y="121"/>
                      </a:lnTo>
                      <a:lnTo>
                        <a:pt x="1778" y="131"/>
                      </a:lnTo>
                      <a:lnTo>
                        <a:pt x="1729" y="140"/>
                      </a:lnTo>
                      <a:lnTo>
                        <a:pt x="1679" y="152"/>
                      </a:lnTo>
                      <a:lnTo>
                        <a:pt x="1631" y="164"/>
                      </a:lnTo>
                      <a:lnTo>
                        <a:pt x="1583" y="177"/>
                      </a:lnTo>
                      <a:lnTo>
                        <a:pt x="1535" y="192"/>
                      </a:lnTo>
                      <a:lnTo>
                        <a:pt x="1489" y="208"/>
                      </a:lnTo>
                      <a:lnTo>
                        <a:pt x="1441" y="224"/>
                      </a:lnTo>
                      <a:lnTo>
                        <a:pt x="1396" y="242"/>
                      </a:lnTo>
                      <a:lnTo>
                        <a:pt x="1349" y="261"/>
                      </a:lnTo>
                      <a:lnTo>
                        <a:pt x="1304" y="281"/>
                      </a:lnTo>
                      <a:lnTo>
                        <a:pt x="1258" y="302"/>
                      </a:lnTo>
                      <a:lnTo>
                        <a:pt x="1215" y="325"/>
                      </a:lnTo>
                      <a:lnTo>
                        <a:pt x="1171" y="348"/>
                      </a:lnTo>
                      <a:lnTo>
                        <a:pt x="1128" y="372"/>
                      </a:lnTo>
                      <a:lnTo>
                        <a:pt x="1085" y="397"/>
                      </a:lnTo>
                      <a:lnTo>
                        <a:pt x="1043" y="423"/>
                      </a:lnTo>
                      <a:lnTo>
                        <a:pt x="1001" y="450"/>
                      </a:lnTo>
                      <a:lnTo>
                        <a:pt x="961" y="479"/>
                      </a:lnTo>
                      <a:lnTo>
                        <a:pt x="922" y="509"/>
                      </a:lnTo>
                      <a:lnTo>
                        <a:pt x="882" y="538"/>
                      </a:lnTo>
                      <a:lnTo>
                        <a:pt x="843" y="570"/>
                      </a:lnTo>
                      <a:lnTo>
                        <a:pt x="806" y="602"/>
                      </a:lnTo>
                      <a:lnTo>
                        <a:pt x="768" y="635"/>
                      </a:lnTo>
                      <a:lnTo>
                        <a:pt x="731" y="669"/>
                      </a:lnTo>
                      <a:lnTo>
                        <a:pt x="696" y="703"/>
                      </a:lnTo>
                      <a:lnTo>
                        <a:pt x="661" y="739"/>
                      </a:lnTo>
                      <a:lnTo>
                        <a:pt x="627" y="776"/>
                      </a:lnTo>
                      <a:lnTo>
                        <a:pt x="594" y="814"/>
                      </a:lnTo>
                      <a:lnTo>
                        <a:pt x="562" y="852"/>
                      </a:lnTo>
                      <a:lnTo>
                        <a:pt x="530" y="891"/>
                      </a:lnTo>
                      <a:lnTo>
                        <a:pt x="499" y="931"/>
                      </a:lnTo>
                      <a:lnTo>
                        <a:pt x="470" y="972"/>
                      </a:lnTo>
                      <a:lnTo>
                        <a:pt x="442" y="1013"/>
                      </a:lnTo>
                      <a:lnTo>
                        <a:pt x="414" y="1056"/>
                      </a:lnTo>
                      <a:lnTo>
                        <a:pt x="388" y="1100"/>
                      </a:lnTo>
                      <a:lnTo>
                        <a:pt x="362" y="1144"/>
                      </a:lnTo>
                      <a:lnTo>
                        <a:pt x="337" y="1189"/>
                      </a:lnTo>
                      <a:lnTo>
                        <a:pt x="314" y="1234"/>
                      </a:lnTo>
                      <a:lnTo>
                        <a:pt x="292" y="1281"/>
                      </a:lnTo>
                      <a:lnTo>
                        <a:pt x="270" y="1328"/>
                      </a:lnTo>
                      <a:lnTo>
                        <a:pt x="250" y="1376"/>
                      </a:lnTo>
                      <a:lnTo>
                        <a:pt x="230" y="1425"/>
                      </a:lnTo>
                      <a:lnTo>
                        <a:pt x="213" y="1474"/>
                      </a:lnTo>
                      <a:lnTo>
                        <a:pt x="196" y="1523"/>
                      </a:lnTo>
                      <a:lnTo>
                        <a:pt x="180" y="1574"/>
                      </a:lnTo>
                      <a:lnTo>
                        <a:pt x="165" y="1626"/>
                      </a:lnTo>
                      <a:lnTo>
                        <a:pt x="165" y="1626"/>
                      </a:lnTo>
                      <a:lnTo>
                        <a:pt x="152" y="1678"/>
                      </a:lnTo>
                      <a:lnTo>
                        <a:pt x="141" y="1729"/>
                      </a:lnTo>
                      <a:lnTo>
                        <a:pt x="131" y="1780"/>
                      </a:lnTo>
                      <a:lnTo>
                        <a:pt x="121" y="1832"/>
                      </a:lnTo>
                      <a:lnTo>
                        <a:pt x="113" y="1884"/>
                      </a:lnTo>
                      <a:lnTo>
                        <a:pt x="107" y="1936"/>
                      </a:lnTo>
                      <a:lnTo>
                        <a:pt x="103" y="1987"/>
                      </a:lnTo>
                      <a:lnTo>
                        <a:pt x="99" y="2039"/>
                      </a:lnTo>
                      <a:lnTo>
                        <a:pt x="96" y="2089"/>
                      </a:lnTo>
                      <a:lnTo>
                        <a:pt x="95" y="2141"/>
                      </a:lnTo>
                      <a:lnTo>
                        <a:pt x="95" y="2192"/>
                      </a:lnTo>
                      <a:lnTo>
                        <a:pt x="96" y="2243"/>
                      </a:lnTo>
                      <a:lnTo>
                        <a:pt x="99" y="2293"/>
                      </a:lnTo>
                      <a:lnTo>
                        <a:pt x="103" y="2344"/>
                      </a:lnTo>
                      <a:lnTo>
                        <a:pt x="108" y="2394"/>
                      </a:lnTo>
                      <a:lnTo>
                        <a:pt x="115" y="2444"/>
                      </a:lnTo>
                      <a:lnTo>
                        <a:pt x="121" y="2494"/>
                      </a:lnTo>
                      <a:lnTo>
                        <a:pt x="131" y="2544"/>
                      </a:lnTo>
                      <a:lnTo>
                        <a:pt x="140" y="2593"/>
                      </a:lnTo>
                      <a:lnTo>
                        <a:pt x="152" y="2641"/>
                      </a:lnTo>
                      <a:lnTo>
                        <a:pt x="164" y="2690"/>
                      </a:lnTo>
                      <a:lnTo>
                        <a:pt x="177" y="2738"/>
                      </a:lnTo>
                      <a:lnTo>
                        <a:pt x="192" y="2785"/>
                      </a:lnTo>
                      <a:lnTo>
                        <a:pt x="208" y="2833"/>
                      </a:lnTo>
                      <a:lnTo>
                        <a:pt x="224" y="2879"/>
                      </a:lnTo>
                      <a:lnTo>
                        <a:pt x="242" y="2926"/>
                      </a:lnTo>
                      <a:lnTo>
                        <a:pt x="261" y="2971"/>
                      </a:lnTo>
                      <a:lnTo>
                        <a:pt x="281" y="3016"/>
                      </a:lnTo>
                      <a:lnTo>
                        <a:pt x="302" y="3062"/>
                      </a:lnTo>
                      <a:lnTo>
                        <a:pt x="325" y="3105"/>
                      </a:lnTo>
                      <a:lnTo>
                        <a:pt x="348" y="3149"/>
                      </a:lnTo>
                      <a:lnTo>
                        <a:pt x="372" y="3193"/>
                      </a:lnTo>
                      <a:lnTo>
                        <a:pt x="397" y="3236"/>
                      </a:lnTo>
                      <a:lnTo>
                        <a:pt x="423" y="3277"/>
                      </a:lnTo>
                      <a:lnTo>
                        <a:pt x="450" y="3319"/>
                      </a:lnTo>
                      <a:lnTo>
                        <a:pt x="479" y="3360"/>
                      </a:lnTo>
                      <a:lnTo>
                        <a:pt x="509" y="3400"/>
                      </a:lnTo>
                      <a:lnTo>
                        <a:pt x="538" y="3438"/>
                      </a:lnTo>
                      <a:lnTo>
                        <a:pt x="570" y="3477"/>
                      </a:lnTo>
                      <a:lnTo>
                        <a:pt x="602" y="3516"/>
                      </a:lnTo>
                      <a:lnTo>
                        <a:pt x="635" y="3553"/>
                      </a:lnTo>
                      <a:lnTo>
                        <a:pt x="669" y="3589"/>
                      </a:lnTo>
                      <a:lnTo>
                        <a:pt x="703" y="3625"/>
                      </a:lnTo>
                      <a:lnTo>
                        <a:pt x="739" y="3659"/>
                      </a:lnTo>
                      <a:lnTo>
                        <a:pt x="776" y="3694"/>
                      </a:lnTo>
                      <a:lnTo>
                        <a:pt x="814" y="3726"/>
                      </a:lnTo>
                      <a:lnTo>
                        <a:pt x="852" y="3759"/>
                      </a:lnTo>
                      <a:lnTo>
                        <a:pt x="891" y="3790"/>
                      </a:lnTo>
                      <a:lnTo>
                        <a:pt x="932" y="3821"/>
                      </a:lnTo>
                      <a:lnTo>
                        <a:pt x="972" y="3850"/>
                      </a:lnTo>
                      <a:lnTo>
                        <a:pt x="1015" y="3879"/>
                      </a:lnTo>
                      <a:lnTo>
                        <a:pt x="1057" y="3906"/>
                      </a:lnTo>
                      <a:lnTo>
                        <a:pt x="1100" y="3932"/>
                      </a:lnTo>
                      <a:lnTo>
                        <a:pt x="1144" y="3959"/>
                      </a:lnTo>
                      <a:lnTo>
                        <a:pt x="1189" y="3983"/>
                      </a:lnTo>
                      <a:lnTo>
                        <a:pt x="1234" y="4007"/>
                      </a:lnTo>
                      <a:lnTo>
                        <a:pt x="1281" y="4030"/>
                      </a:lnTo>
                      <a:lnTo>
                        <a:pt x="1328" y="4051"/>
                      </a:lnTo>
                      <a:lnTo>
                        <a:pt x="1376" y="4071"/>
                      </a:lnTo>
                      <a:lnTo>
                        <a:pt x="1425" y="4090"/>
                      </a:lnTo>
                      <a:lnTo>
                        <a:pt x="1474" y="4108"/>
                      </a:lnTo>
                      <a:lnTo>
                        <a:pt x="1523" y="4126"/>
                      </a:lnTo>
                      <a:lnTo>
                        <a:pt x="1574" y="4140"/>
                      </a:lnTo>
                      <a:lnTo>
                        <a:pt x="1626" y="4155"/>
                      </a:lnTo>
                      <a:lnTo>
                        <a:pt x="1626" y="4155"/>
                      </a:lnTo>
                      <a:lnTo>
                        <a:pt x="1678" y="4168"/>
                      </a:lnTo>
                      <a:lnTo>
                        <a:pt x="1730" y="4180"/>
                      </a:lnTo>
                      <a:lnTo>
                        <a:pt x="1780" y="4191"/>
                      </a:lnTo>
                      <a:lnTo>
                        <a:pt x="1832" y="4199"/>
                      </a:lnTo>
                      <a:lnTo>
                        <a:pt x="1884" y="4207"/>
                      </a:lnTo>
                      <a:lnTo>
                        <a:pt x="1936" y="4213"/>
                      </a:lnTo>
                      <a:lnTo>
                        <a:pt x="1987" y="4219"/>
                      </a:lnTo>
                      <a:lnTo>
                        <a:pt x="2039" y="4223"/>
                      </a:lnTo>
                      <a:lnTo>
                        <a:pt x="2091" y="4224"/>
                      </a:lnTo>
                      <a:lnTo>
                        <a:pt x="2141" y="4225"/>
                      </a:lnTo>
                      <a:lnTo>
                        <a:pt x="2192" y="4225"/>
                      </a:lnTo>
                      <a:lnTo>
                        <a:pt x="2243" y="4224"/>
                      </a:lnTo>
                      <a:lnTo>
                        <a:pt x="2293" y="4221"/>
                      </a:lnTo>
                      <a:lnTo>
                        <a:pt x="2344" y="4217"/>
                      </a:lnTo>
                      <a:lnTo>
                        <a:pt x="2394" y="4212"/>
                      </a:lnTo>
                      <a:lnTo>
                        <a:pt x="2445" y="4207"/>
                      </a:lnTo>
                      <a:lnTo>
                        <a:pt x="2494" y="4199"/>
                      </a:lnTo>
                      <a:lnTo>
                        <a:pt x="2544" y="4189"/>
                      </a:lnTo>
                      <a:lnTo>
                        <a:pt x="2593" y="4180"/>
                      </a:lnTo>
                      <a:lnTo>
                        <a:pt x="2641" y="4170"/>
                      </a:lnTo>
                      <a:lnTo>
                        <a:pt x="2690" y="4156"/>
                      </a:lnTo>
                      <a:lnTo>
                        <a:pt x="2738" y="4143"/>
                      </a:lnTo>
                      <a:lnTo>
                        <a:pt x="2786" y="4130"/>
                      </a:lnTo>
                      <a:lnTo>
                        <a:pt x="2833" y="4114"/>
                      </a:lnTo>
                      <a:lnTo>
                        <a:pt x="2879" y="4096"/>
                      </a:lnTo>
                      <a:lnTo>
                        <a:pt x="2926" y="4079"/>
                      </a:lnTo>
                      <a:lnTo>
                        <a:pt x="2971" y="4059"/>
                      </a:lnTo>
                      <a:lnTo>
                        <a:pt x="3016" y="4039"/>
                      </a:lnTo>
                      <a:lnTo>
                        <a:pt x="3062" y="4019"/>
                      </a:lnTo>
                      <a:lnTo>
                        <a:pt x="3105" y="3996"/>
                      </a:lnTo>
                      <a:lnTo>
                        <a:pt x="3149" y="3972"/>
                      </a:lnTo>
                      <a:lnTo>
                        <a:pt x="3193" y="3948"/>
                      </a:lnTo>
                      <a:lnTo>
                        <a:pt x="3236" y="3923"/>
                      </a:lnTo>
                      <a:lnTo>
                        <a:pt x="3277" y="3898"/>
                      </a:lnTo>
                      <a:lnTo>
                        <a:pt x="3319" y="3870"/>
                      </a:lnTo>
                      <a:lnTo>
                        <a:pt x="3360" y="3842"/>
                      </a:lnTo>
                      <a:lnTo>
                        <a:pt x="3400" y="3813"/>
                      </a:lnTo>
                      <a:lnTo>
                        <a:pt x="3440" y="3782"/>
                      </a:lnTo>
                      <a:lnTo>
                        <a:pt x="3478" y="3751"/>
                      </a:lnTo>
                      <a:lnTo>
                        <a:pt x="3516" y="3719"/>
                      </a:lnTo>
                      <a:lnTo>
                        <a:pt x="3553" y="3686"/>
                      </a:lnTo>
                      <a:lnTo>
                        <a:pt x="3589" y="3651"/>
                      </a:lnTo>
                      <a:lnTo>
                        <a:pt x="3625" y="3617"/>
                      </a:lnTo>
                      <a:lnTo>
                        <a:pt x="3659" y="3581"/>
                      </a:lnTo>
                      <a:lnTo>
                        <a:pt x="3694" y="3545"/>
                      </a:lnTo>
                      <a:lnTo>
                        <a:pt x="3727" y="3506"/>
                      </a:lnTo>
                      <a:lnTo>
                        <a:pt x="3759" y="3469"/>
                      </a:lnTo>
                      <a:lnTo>
                        <a:pt x="3790" y="3429"/>
                      </a:lnTo>
                      <a:lnTo>
                        <a:pt x="3821" y="3389"/>
                      </a:lnTo>
                      <a:lnTo>
                        <a:pt x="3850" y="3348"/>
                      </a:lnTo>
                      <a:lnTo>
                        <a:pt x="3879" y="3307"/>
                      </a:lnTo>
                      <a:lnTo>
                        <a:pt x="3907" y="3264"/>
                      </a:lnTo>
                      <a:lnTo>
                        <a:pt x="3934" y="3220"/>
                      </a:lnTo>
                      <a:lnTo>
                        <a:pt x="3959" y="3176"/>
                      </a:lnTo>
                      <a:lnTo>
                        <a:pt x="3983" y="3132"/>
                      </a:lnTo>
                      <a:lnTo>
                        <a:pt x="4007" y="3086"/>
                      </a:lnTo>
                      <a:lnTo>
                        <a:pt x="4030" y="3039"/>
                      </a:lnTo>
                      <a:lnTo>
                        <a:pt x="4051" y="2992"/>
                      </a:lnTo>
                      <a:lnTo>
                        <a:pt x="4071" y="2944"/>
                      </a:lnTo>
                      <a:lnTo>
                        <a:pt x="4090" y="2896"/>
                      </a:lnTo>
                      <a:lnTo>
                        <a:pt x="4108" y="2847"/>
                      </a:lnTo>
                      <a:lnTo>
                        <a:pt x="4126" y="2797"/>
                      </a:lnTo>
                      <a:lnTo>
                        <a:pt x="4140" y="2746"/>
                      </a:lnTo>
                      <a:lnTo>
                        <a:pt x="4155" y="2695"/>
                      </a:lnTo>
                      <a:lnTo>
                        <a:pt x="4155" y="2695"/>
                      </a:lnTo>
                      <a:lnTo>
                        <a:pt x="4168" y="2643"/>
                      </a:lnTo>
                      <a:lnTo>
                        <a:pt x="4180" y="2591"/>
                      </a:lnTo>
                      <a:lnTo>
                        <a:pt x="4191" y="2540"/>
                      </a:lnTo>
                      <a:lnTo>
                        <a:pt x="4200" y="2488"/>
                      </a:lnTo>
                      <a:lnTo>
                        <a:pt x="4207" y="2437"/>
                      </a:lnTo>
                      <a:lnTo>
                        <a:pt x="4213" y="2385"/>
                      </a:lnTo>
                      <a:lnTo>
                        <a:pt x="4219" y="2333"/>
                      </a:lnTo>
                      <a:lnTo>
                        <a:pt x="4223" y="2283"/>
                      </a:lnTo>
                      <a:lnTo>
                        <a:pt x="4225" y="2231"/>
                      </a:lnTo>
                      <a:lnTo>
                        <a:pt x="4225" y="2180"/>
                      </a:lnTo>
                      <a:lnTo>
                        <a:pt x="4225" y="2128"/>
                      </a:lnTo>
                      <a:lnTo>
                        <a:pt x="4224" y="2077"/>
                      </a:lnTo>
                      <a:lnTo>
                        <a:pt x="4221" y="2027"/>
                      </a:lnTo>
                      <a:lnTo>
                        <a:pt x="4217" y="1976"/>
                      </a:lnTo>
                      <a:lnTo>
                        <a:pt x="4213" y="1926"/>
                      </a:lnTo>
                      <a:lnTo>
                        <a:pt x="4207" y="1876"/>
                      </a:lnTo>
                      <a:lnTo>
                        <a:pt x="4199" y="1827"/>
                      </a:lnTo>
                      <a:lnTo>
                        <a:pt x="4191" y="1778"/>
                      </a:lnTo>
                      <a:lnTo>
                        <a:pt x="4180" y="1729"/>
                      </a:lnTo>
                      <a:lnTo>
                        <a:pt x="4170" y="1679"/>
                      </a:lnTo>
                      <a:lnTo>
                        <a:pt x="4158" y="1631"/>
                      </a:lnTo>
                      <a:lnTo>
                        <a:pt x="4144" y="1583"/>
                      </a:lnTo>
                      <a:lnTo>
                        <a:pt x="4130" y="1535"/>
                      </a:lnTo>
                      <a:lnTo>
                        <a:pt x="4114" y="1489"/>
                      </a:lnTo>
                      <a:lnTo>
                        <a:pt x="4096" y="1441"/>
                      </a:lnTo>
                      <a:lnTo>
                        <a:pt x="4079" y="1396"/>
                      </a:lnTo>
                      <a:lnTo>
                        <a:pt x="4060" y="1349"/>
                      </a:lnTo>
                      <a:lnTo>
                        <a:pt x="4040" y="1304"/>
                      </a:lnTo>
                      <a:lnTo>
                        <a:pt x="4019" y="1258"/>
                      </a:lnTo>
                      <a:lnTo>
                        <a:pt x="3996" y="1215"/>
                      </a:lnTo>
                      <a:lnTo>
                        <a:pt x="3974" y="1171"/>
                      </a:lnTo>
                      <a:lnTo>
                        <a:pt x="3948" y="1128"/>
                      </a:lnTo>
                      <a:lnTo>
                        <a:pt x="3923" y="1085"/>
                      </a:lnTo>
                      <a:lnTo>
                        <a:pt x="3898" y="1043"/>
                      </a:lnTo>
                      <a:lnTo>
                        <a:pt x="3870" y="1001"/>
                      </a:lnTo>
                      <a:lnTo>
                        <a:pt x="3842" y="961"/>
                      </a:lnTo>
                      <a:lnTo>
                        <a:pt x="3813" y="922"/>
                      </a:lnTo>
                      <a:lnTo>
                        <a:pt x="3782" y="882"/>
                      </a:lnTo>
                      <a:lnTo>
                        <a:pt x="3751" y="843"/>
                      </a:lnTo>
                      <a:lnTo>
                        <a:pt x="3719" y="804"/>
                      </a:lnTo>
                      <a:lnTo>
                        <a:pt x="3686" y="768"/>
                      </a:lnTo>
                      <a:lnTo>
                        <a:pt x="3651" y="731"/>
                      </a:lnTo>
                      <a:lnTo>
                        <a:pt x="3617" y="696"/>
                      </a:lnTo>
                      <a:lnTo>
                        <a:pt x="3581" y="661"/>
                      </a:lnTo>
                      <a:lnTo>
                        <a:pt x="3545" y="627"/>
                      </a:lnTo>
                      <a:lnTo>
                        <a:pt x="3508" y="594"/>
                      </a:lnTo>
                      <a:lnTo>
                        <a:pt x="3469" y="562"/>
                      </a:lnTo>
                      <a:lnTo>
                        <a:pt x="3429" y="530"/>
                      </a:lnTo>
                      <a:lnTo>
                        <a:pt x="3389" y="499"/>
                      </a:lnTo>
                      <a:lnTo>
                        <a:pt x="3348" y="470"/>
                      </a:lnTo>
                      <a:lnTo>
                        <a:pt x="3307" y="442"/>
                      </a:lnTo>
                      <a:lnTo>
                        <a:pt x="3264" y="414"/>
                      </a:lnTo>
                      <a:lnTo>
                        <a:pt x="3221" y="388"/>
                      </a:lnTo>
                      <a:lnTo>
                        <a:pt x="3176" y="362"/>
                      </a:lnTo>
                      <a:lnTo>
                        <a:pt x="3132" y="337"/>
                      </a:lnTo>
                      <a:lnTo>
                        <a:pt x="3086" y="314"/>
                      </a:lnTo>
                      <a:lnTo>
                        <a:pt x="3040" y="292"/>
                      </a:lnTo>
                      <a:lnTo>
                        <a:pt x="2992" y="270"/>
                      </a:lnTo>
                      <a:lnTo>
                        <a:pt x="2944" y="249"/>
                      </a:lnTo>
                      <a:lnTo>
                        <a:pt x="2896" y="230"/>
                      </a:lnTo>
                      <a:lnTo>
                        <a:pt x="2847" y="213"/>
                      </a:lnTo>
                      <a:lnTo>
                        <a:pt x="2797" y="196"/>
                      </a:lnTo>
                      <a:lnTo>
                        <a:pt x="2746" y="180"/>
                      </a:lnTo>
                      <a:lnTo>
                        <a:pt x="2695" y="165"/>
                      </a:lnTo>
                      <a:lnTo>
                        <a:pt x="2695" y="165"/>
                      </a:lnTo>
                      <a:close/>
                    </a:path>
                  </a:pathLst>
                </a:custGeom>
                <a:gradFill rotWithShape="0">
                  <a:gsLst>
                    <a:gs pos="0">
                      <a:srgbClr val="74420d"/>
                    </a:gs>
                    <a:gs pos="100000">
                      <a:srgbClr val="c89834"/>
                    </a:gs>
                  </a:gsLst>
                  <a:lin ang="12420000"/>
                </a:gradFill>
                <a:ln w="9525">
                  <a:noFill/>
                </a:ln>
              </p:spPr>
              <p:style>
                <a:lnRef idx="0"/>
                <a:fillRef idx="0"/>
                <a:effectRef idx="0"/>
                <a:fontRef idx="minor"/>
              </p:style>
              <p:txBody>
                <a:bodyPr numCol="1" spcCol="0" anchor="t">
                  <a:noAutofit/>
                </a:bodyPr>
                <a:p>
                  <a:pPr>
                    <a:lnSpc>
                      <a:spcPct val="85000"/>
                    </a:lnSpc>
                    <a:spcBef>
                      <a:spcPts val="360"/>
                    </a:spcBef>
                  </a:pPr>
                  <a:endParaRPr b="0" lang="en-US" sz="1800" spc="-1" strike="noStrike">
                    <a:solidFill>
                      <a:srgbClr val="000000"/>
                    </a:solidFill>
                    <a:latin typeface="Calibri"/>
                  </a:endParaRPr>
                </a:p>
              </p:txBody>
            </p:sp>
          </p:grpSp>
          <p:sp>
            <p:nvSpPr>
              <p:cNvPr id="636" name="TextBox 534"/>
              <p:cNvSpPr txBox="1"/>
              <p:nvPr/>
            </p:nvSpPr>
            <p:spPr>
              <a:xfrm>
                <a:off x="2361960" y="3543480"/>
                <a:ext cx="931320" cy="903240"/>
              </a:xfrm>
              <a:prstGeom prst="rect">
                <a:avLst/>
              </a:prstGeom>
            </p:spPr>
            <p:txBody>
              <a:bodyPr wrap="none" lIns="90000" rIns="90000" tIns="45000" bIns="45000" anchor="b" anchorCtr="1">
                <a:prstTxWarp prst="textArchUp">
                  <a:avLst>
                    <a:gd name="adj" fmla="val 10800000"/>
                  </a:avLst>
                </a:prstTxWarp>
                <a:noAutofit/>
              </a:bodyPr>
              <a:p>
                <a:pPr algn="ctr">
                  <a:lnSpc>
                    <a:spcPct val="100000"/>
                  </a:lnSpc>
                </a:pPr>
                <a:r>
                  <a:rPr b="0" lang="en-US" sz="1800" spc="97" strike="noStrike">
                    <a:ln w="0">
                      <a:noFill/>
                    </a:ln>
                    <a:solidFill>
                      <a:srgbClr val="ffffff"/>
                    </a:solidFill>
                    <a:latin typeface="Arial"/>
                  </a:rPr>
                  <a:t>Title Here</a:t>
                </a:r>
                <a:endParaRPr b="0" lang="en-US" sz="1800" spc="-1" strike="noStrike">
                  <a:ln w="0">
                    <a:noFill/>
                  </a:ln>
                  <a:solidFill>
                    <a:srgbClr val="ffffff"/>
                  </a:solidFill>
                  <a:latin typeface="Arial"/>
                </a:endParaRPr>
              </a:p>
            </p:txBody>
          </p:sp>
          <p:sp>
            <p:nvSpPr>
              <p:cNvPr id="637" name="Rectangle 70"/>
              <p:cNvSpPr/>
              <p:nvPr/>
            </p:nvSpPr>
            <p:spPr>
              <a:xfrm>
                <a:off x="2206080" y="4112280"/>
                <a:ext cx="1172160" cy="351360"/>
              </a:xfrm>
              <a:prstGeom prst="rect">
                <a:avLst/>
              </a:prstGeom>
              <a:noFill/>
              <a:ln w="9525">
                <a:noFill/>
              </a:ln>
            </p:spPr>
            <p:style>
              <a:lnRef idx="0"/>
              <a:fillRef idx="0"/>
              <a:effectRef idx="0"/>
              <a:fontRef idx="minor"/>
            </p:style>
            <p:txBody>
              <a:bodyPr lIns="45720" rIns="27360" tIns="18360" bIns="18360" anchor="t">
                <a:noAutofit/>
              </a:bodyPr>
              <a:p>
                <a:pPr algn="ctr">
                  <a:lnSpc>
                    <a:spcPct val="85000"/>
                  </a:lnSpc>
                  <a:spcBef>
                    <a:spcPts val="201"/>
                  </a:spcBef>
                </a:pPr>
                <a:r>
                  <a:rPr b="0" lang="en-US" sz="1200" spc="-1" strike="noStrike">
                    <a:solidFill>
                      <a:srgbClr val="ffffff">
                        <a:alpha val="50000"/>
                      </a:srgbClr>
                    </a:solidFill>
                    <a:latin typeface="Arial Narrow"/>
                  </a:rPr>
                  <a:t>Place additional content here.</a:t>
                </a:r>
                <a:endParaRPr b="0" lang="en-US" sz="1200" spc="-1" strike="noStrike">
                  <a:solidFill>
                    <a:srgbClr val="ffffff"/>
                  </a:solidFill>
                  <a:latin typeface="Arial"/>
                </a:endParaRPr>
              </a:p>
            </p:txBody>
          </p:sp>
        </p:grpSp>
        <p:grpSp>
          <p:nvGrpSpPr>
            <p:cNvPr id="638" name="Group 162"/>
            <p:cNvGrpSpPr/>
            <p:nvPr/>
          </p:nvGrpSpPr>
          <p:grpSpPr>
            <a:xfrm>
              <a:off x="1071360" y="4219560"/>
              <a:ext cx="1423440" cy="1423440"/>
              <a:chOff x="1071360" y="4219560"/>
              <a:chExt cx="1423440" cy="1423440"/>
            </a:xfrm>
          </p:grpSpPr>
          <p:grpSp>
            <p:nvGrpSpPr>
              <p:cNvPr id="639" name="Group 99"/>
              <p:cNvGrpSpPr/>
              <p:nvPr/>
            </p:nvGrpSpPr>
            <p:grpSpPr>
              <a:xfrm>
                <a:off x="1071360" y="4219560"/>
                <a:ext cx="1423440" cy="1423440"/>
                <a:chOff x="1071360" y="4219560"/>
                <a:chExt cx="1423440" cy="1423440"/>
              </a:xfrm>
            </p:grpSpPr>
            <p:sp>
              <p:nvSpPr>
                <p:cNvPr id="640" name="Freeform 5"/>
                <p:cNvSpPr/>
                <p:nvPr/>
              </p:nvSpPr>
              <p:spPr>
                <a:xfrm>
                  <a:off x="1071360" y="4219560"/>
                  <a:ext cx="1423440" cy="1423440"/>
                </a:xfrm>
                <a:custGeom>
                  <a:avLst/>
                  <a:gdLst>
                    <a:gd name="textAreaLeft" fmla="*/ 0 w 1423440"/>
                    <a:gd name="textAreaRight" fmla="*/ 1423800 w 1423440"/>
                    <a:gd name="textAreaTop" fmla="*/ 0 h 1423440"/>
                    <a:gd name="textAreaBottom" fmla="*/ 1423800 h 1423440"/>
                  </a:gdLst>
                  <a:ahLst/>
                  <a:rect l="textAreaLeft" t="textAreaTop" r="textAreaRight" b="textAreaBottom"/>
                  <a:pathLst>
                    <a:path w="5950" h="5950">
                      <a:moveTo>
                        <a:pt x="5840" y="3106"/>
                      </a:moveTo>
                      <a:lnTo>
                        <a:pt x="5840" y="3106"/>
                      </a:lnTo>
                      <a:lnTo>
                        <a:pt x="5808" y="3091"/>
                      </a:lnTo>
                      <a:lnTo>
                        <a:pt x="5780" y="3078"/>
                      </a:lnTo>
                      <a:lnTo>
                        <a:pt x="5727" y="3058"/>
                      </a:lnTo>
                      <a:lnTo>
                        <a:pt x="5685" y="3044"/>
                      </a:lnTo>
                      <a:lnTo>
                        <a:pt x="5650" y="3034"/>
                      </a:lnTo>
                      <a:lnTo>
                        <a:pt x="5650" y="3034"/>
                      </a:lnTo>
                      <a:lnTo>
                        <a:pt x="5650" y="2976"/>
                      </a:lnTo>
                      <a:lnTo>
                        <a:pt x="5650" y="2917"/>
                      </a:lnTo>
                      <a:lnTo>
                        <a:pt x="5650" y="2917"/>
                      </a:lnTo>
                      <a:lnTo>
                        <a:pt x="5685" y="2908"/>
                      </a:lnTo>
                      <a:lnTo>
                        <a:pt x="5727" y="2894"/>
                      </a:lnTo>
                      <a:lnTo>
                        <a:pt x="5780" y="2872"/>
                      </a:lnTo>
                      <a:lnTo>
                        <a:pt x="5808" y="2859"/>
                      </a:lnTo>
                      <a:lnTo>
                        <a:pt x="5840" y="2844"/>
                      </a:lnTo>
                      <a:lnTo>
                        <a:pt x="5840" y="2844"/>
                      </a:lnTo>
                      <a:lnTo>
                        <a:pt x="5879" y="2824"/>
                      </a:lnTo>
                      <a:lnTo>
                        <a:pt x="5907" y="2808"/>
                      </a:lnTo>
                      <a:lnTo>
                        <a:pt x="5927" y="2793"/>
                      </a:lnTo>
                      <a:lnTo>
                        <a:pt x="5935" y="2786"/>
                      </a:lnTo>
                      <a:lnTo>
                        <a:pt x="5940" y="2780"/>
                      </a:lnTo>
                      <a:lnTo>
                        <a:pt x="5945" y="2773"/>
                      </a:lnTo>
                      <a:lnTo>
                        <a:pt x="5947" y="2767"/>
                      </a:lnTo>
                      <a:lnTo>
                        <a:pt x="5950" y="2760"/>
                      </a:lnTo>
                      <a:lnTo>
                        <a:pt x="5950" y="2752"/>
                      </a:lnTo>
                      <a:lnTo>
                        <a:pt x="5950" y="2735"/>
                      </a:lnTo>
                      <a:lnTo>
                        <a:pt x="5948" y="2715"/>
                      </a:lnTo>
                      <a:lnTo>
                        <a:pt x="5948" y="2715"/>
                      </a:lnTo>
                      <a:lnTo>
                        <a:pt x="5947" y="2696"/>
                      </a:lnTo>
                      <a:lnTo>
                        <a:pt x="5943" y="2679"/>
                      </a:lnTo>
                      <a:lnTo>
                        <a:pt x="5942" y="2671"/>
                      </a:lnTo>
                      <a:lnTo>
                        <a:pt x="5938" y="2664"/>
                      </a:lnTo>
                      <a:lnTo>
                        <a:pt x="5935" y="2659"/>
                      </a:lnTo>
                      <a:lnTo>
                        <a:pt x="5929" y="2653"/>
                      </a:lnTo>
                      <a:lnTo>
                        <a:pt x="5922" y="2648"/>
                      </a:lnTo>
                      <a:lnTo>
                        <a:pt x="5914" y="2643"/>
                      </a:lnTo>
                      <a:lnTo>
                        <a:pt x="5892" y="2631"/>
                      </a:lnTo>
                      <a:lnTo>
                        <a:pt x="5861" y="2620"/>
                      </a:lnTo>
                      <a:lnTo>
                        <a:pt x="5818" y="2607"/>
                      </a:lnTo>
                      <a:lnTo>
                        <a:pt x="5818" y="2607"/>
                      </a:lnTo>
                      <a:lnTo>
                        <a:pt x="5785" y="2597"/>
                      </a:lnTo>
                      <a:lnTo>
                        <a:pt x="5755" y="2590"/>
                      </a:lnTo>
                      <a:lnTo>
                        <a:pt x="5699" y="2579"/>
                      </a:lnTo>
                      <a:lnTo>
                        <a:pt x="5655" y="2572"/>
                      </a:lnTo>
                      <a:lnTo>
                        <a:pt x="5619" y="2569"/>
                      </a:lnTo>
                      <a:lnTo>
                        <a:pt x="5619" y="2569"/>
                      </a:lnTo>
                      <a:lnTo>
                        <a:pt x="5609" y="2511"/>
                      </a:lnTo>
                      <a:lnTo>
                        <a:pt x="5599" y="2453"/>
                      </a:lnTo>
                      <a:lnTo>
                        <a:pt x="5599" y="2453"/>
                      </a:lnTo>
                      <a:lnTo>
                        <a:pt x="5630" y="2439"/>
                      </a:lnTo>
                      <a:lnTo>
                        <a:pt x="5671" y="2417"/>
                      </a:lnTo>
                      <a:lnTo>
                        <a:pt x="5719" y="2387"/>
                      </a:lnTo>
                      <a:lnTo>
                        <a:pt x="5746" y="2369"/>
                      </a:lnTo>
                      <a:lnTo>
                        <a:pt x="5774" y="2349"/>
                      </a:lnTo>
                      <a:lnTo>
                        <a:pt x="5774" y="2349"/>
                      </a:lnTo>
                      <a:lnTo>
                        <a:pt x="5808" y="2323"/>
                      </a:lnTo>
                      <a:lnTo>
                        <a:pt x="5833" y="2300"/>
                      </a:lnTo>
                      <a:lnTo>
                        <a:pt x="5851" y="2284"/>
                      </a:lnTo>
                      <a:lnTo>
                        <a:pt x="5858" y="2275"/>
                      </a:lnTo>
                      <a:lnTo>
                        <a:pt x="5861" y="2267"/>
                      </a:lnTo>
                      <a:lnTo>
                        <a:pt x="5864" y="2260"/>
                      </a:lnTo>
                      <a:lnTo>
                        <a:pt x="5866" y="2254"/>
                      </a:lnTo>
                      <a:lnTo>
                        <a:pt x="5866" y="2246"/>
                      </a:lnTo>
                      <a:lnTo>
                        <a:pt x="5866" y="2239"/>
                      </a:lnTo>
                      <a:lnTo>
                        <a:pt x="5863" y="2223"/>
                      </a:lnTo>
                      <a:lnTo>
                        <a:pt x="5858" y="2203"/>
                      </a:lnTo>
                      <a:lnTo>
                        <a:pt x="5858" y="2203"/>
                      </a:lnTo>
                      <a:lnTo>
                        <a:pt x="5853" y="2183"/>
                      </a:lnTo>
                      <a:lnTo>
                        <a:pt x="5848" y="2168"/>
                      </a:lnTo>
                      <a:lnTo>
                        <a:pt x="5843" y="2162"/>
                      </a:lnTo>
                      <a:lnTo>
                        <a:pt x="5840" y="2155"/>
                      </a:lnTo>
                      <a:lnTo>
                        <a:pt x="5835" y="2150"/>
                      </a:lnTo>
                      <a:lnTo>
                        <a:pt x="5828" y="2145"/>
                      </a:lnTo>
                      <a:lnTo>
                        <a:pt x="5821" y="2140"/>
                      </a:lnTo>
                      <a:lnTo>
                        <a:pt x="5812" y="2137"/>
                      </a:lnTo>
                      <a:lnTo>
                        <a:pt x="5788" y="2130"/>
                      </a:lnTo>
                      <a:lnTo>
                        <a:pt x="5755" y="2124"/>
                      </a:lnTo>
                      <a:lnTo>
                        <a:pt x="5711" y="2119"/>
                      </a:lnTo>
                      <a:lnTo>
                        <a:pt x="5711" y="2119"/>
                      </a:lnTo>
                      <a:lnTo>
                        <a:pt x="5676" y="2115"/>
                      </a:lnTo>
                      <a:lnTo>
                        <a:pt x="5645" y="2112"/>
                      </a:lnTo>
                      <a:lnTo>
                        <a:pt x="5589" y="2110"/>
                      </a:lnTo>
                      <a:lnTo>
                        <a:pt x="5543" y="2112"/>
                      </a:lnTo>
                      <a:lnTo>
                        <a:pt x="5508" y="2115"/>
                      </a:lnTo>
                      <a:lnTo>
                        <a:pt x="5508" y="2115"/>
                      </a:lnTo>
                      <a:lnTo>
                        <a:pt x="5488" y="2061"/>
                      </a:lnTo>
                      <a:lnTo>
                        <a:pt x="5467" y="2007"/>
                      </a:lnTo>
                      <a:lnTo>
                        <a:pt x="5467" y="2007"/>
                      </a:lnTo>
                      <a:lnTo>
                        <a:pt x="5497" y="1987"/>
                      </a:lnTo>
                      <a:lnTo>
                        <a:pt x="5533" y="1957"/>
                      </a:lnTo>
                      <a:lnTo>
                        <a:pt x="5574" y="1921"/>
                      </a:lnTo>
                      <a:lnTo>
                        <a:pt x="5597" y="1898"/>
                      </a:lnTo>
                      <a:lnTo>
                        <a:pt x="5622" y="1873"/>
                      </a:lnTo>
                      <a:lnTo>
                        <a:pt x="5622" y="1873"/>
                      </a:lnTo>
                      <a:lnTo>
                        <a:pt x="5652" y="1840"/>
                      </a:lnTo>
                      <a:lnTo>
                        <a:pt x="5673" y="1815"/>
                      </a:lnTo>
                      <a:lnTo>
                        <a:pt x="5688" y="1794"/>
                      </a:lnTo>
                      <a:lnTo>
                        <a:pt x="5691" y="1786"/>
                      </a:lnTo>
                      <a:lnTo>
                        <a:pt x="5694" y="1777"/>
                      </a:lnTo>
                      <a:lnTo>
                        <a:pt x="5696" y="1769"/>
                      </a:lnTo>
                      <a:lnTo>
                        <a:pt x="5696" y="1763"/>
                      </a:lnTo>
                      <a:lnTo>
                        <a:pt x="5696" y="1756"/>
                      </a:lnTo>
                      <a:lnTo>
                        <a:pt x="5694" y="1748"/>
                      </a:lnTo>
                      <a:lnTo>
                        <a:pt x="5688" y="1733"/>
                      </a:lnTo>
                      <a:lnTo>
                        <a:pt x="5680" y="1715"/>
                      </a:lnTo>
                      <a:lnTo>
                        <a:pt x="5680" y="1715"/>
                      </a:lnTo>
                      <a:lnTo>
                        <a:pt x="5671" y="1695"/>
                      </a:lnTo>
                      <a:lnTo>
                        <a:pt x="5663" y="1682"/>
                      </a:lnTo>
                      <a:lnTo>
                        <a:pt x="5658" y="1675"/>
                      </a:lnTo>
                      <a:lnTo>
                        <a:pt x="5653" y="1670"/>
                      </a:lnTo>
                      <a:lnTo>
                        <a:pt x="5648" y="1665"/>
                      </a:lnTo>
                      <a:lnTo>
                        <a:pt x="5642" y="1662"/>
                      </a:lnTo>
                      <a:lnTo>
                        <a:pt x="5633" y="1659"/>
                      </a:lnTo>
                      <a:lnTo>
                        <a:pt x="5624" y="1657"/>
                      </a:lnTo>
                      <a:lnTo>
                        <a:pt x="5599" y="1655"/>
                      </a:lnTo>
                      <a:lnTo>
                        <a:pt x="5566" y="1654"/>
                      </a:lnTo>
                      <a:lnTo>
                        <a:pt x="5521" y="1657"/>
                      </a:lnTo>
                      <a:lnTo>
                        <a:pt x="5521" y="1657"/>
                      </a:lnTo>
                      <a:lnTo>
                        <a:pt x="5487" y="1659"/>
                      </a:lnTo>
                      <a:lnTo>
                        <a:pt x="5454" y="1662"/>
                      </a:lnTo>
                      <a:lnTo>
                        <a:pt x="5398" y="1670"/>
                      </a:lnTo>
                      <a:lnTo>
                        <a:pt x="5353" y="1680"/>
                      </a:lnTo>
                      <a:lnTo>
                        <a:pt x="5319" y="1690"/>
                      </a:lnTo>
                      <a:lnTo>
                        <a:pt x="5319" y="1690"/>
                      </a:lnTo>
                      <a:lnTo>
                        <a:pt x="5290" y="1639"/>
                      </a:lnTo>
                      <a:lnTo>
                        <a:pt x="5261" y="1589"/>
                      </a:lnTo>
                      <a:lnTo>
                        <a:pt x="5261" y="1589"/>
                      </a:lnTo>
                      <a:lnTo>
                        <a:pt x="5286" y="1563"/>
                      </a:lnTo>
                      <a:lnTo>
                        <a:pt x="5317" y="1530"/>
                      </a:lnTo>
                      <a:lnTo>
                        <a:pt x="5352" y="1486"/>
                      </a:lnTo>
                      <a:lnTo>
                        <a:pt x="5371" y="1459"/>
                      </a:lnTo>
                      <a:lnTo>
                        <a:pt x="5391" y="1429"/>
                      </a:lnTo>
                      <a:lnTo>
                        <a:pt x="5391" y="1429"/>
                      </a:lnTo>
                      <a:lnTo>
                        <a:pt x="5414" y="1393"/>
                      </a:lnTo>
                      <a:lnTo>
                        <a:pt x="5431" y="1364"/>
                      </a:lnTo>
                      <a:lnTo>
                        <a:pt x="5441" y="1340"/>
                      </a:lnTo>
                      <a:lnTo>
                        <a:pt x="5444" y="1332"/>
                      </a:lnTo>
                      <a:lnTo>
                        <a:pt x="5445" y="1322"/>
                      </a:lnTo>
                      <a:lnTo>
                        <a:pt x="5445" y="1316"/>
                      </a:lnTo>
                      <a:lnTo>
                        <a:pt x="5444" y="1307"/>
                      </a:lnTo>
                      <a:lnTo>
                        <a:pt x="5442" y="1301"/>
                      </a:lnTo>
                      <a:lnTo>
                        <a:pt x="5441" y="1294"/>
                      </a:lnTo>
                      <a:lnTo>
                        <a:pt x="5431" y="1279"/>
                      </a:lnTo>
                      <a:lnTo>
                        <a:pt x="5419" y="1263"/>
                      </a:lnTo>
                      <a:lnTo>
                        <a:pt x="5419" y="1263"/>
                      </a:lnTo>
                      <a:lnTo>
                        <a:pt x="5408" y="1246"/>
                      </a:lnTo>
                      <a:lnTo>
                        <a:pt x="5398" y="1233"/>
                      </a:lnTo>
                      <a:lnTo>
                        <a:pt x="5393" y="1228"/>
                      </a:lnTo>
                      <a:lnTo>
                        <a:pt x="5386" y="1225"/>
                      </a:lnTo>
                      <a:lnTo>
                        <a:pt x="5380" y="1222"/>
                      </a:lnTo>
                      <a:lnTo>
                        <a:pt x="5373" y="1218"/>
                      </a:lnTo>
                      <a:lnTo>
                        <a:pt x="5363" y="1218"/>
                      </a:lnTo>
                      <a:lnTo>
                        <a:pt x="5355" y="1217"/>
                      </a:lnTo>
                      <a:lnTo>
                        <a:pt x="5330" y="1218"/>
                      </a:lnTo>
                      <a:lnTo>
                        <a:pt x="5297" y="1225"/>
                      </a:lnTo>
                      <a:lnTo>
                        <a:pt x="5253" y="1235"/>
                      </a:lnTo>
                      <a:lnTo>
                        <a:pt x="5253" y="1235"/>
                      </a:lnTo>
                      <a:lnTo>
                        <a:pt x="5220" y="1243"/>
                      </a:lnTo>
                      <a:lnTo>
                        <a:pt x="5188" y="1251"/>
                      </a:lnTo>
                      <a:lnTo>
                        <a:pt x="5134" y="1270"/>
                      </a:lnTo>
                      <a:lnTo>
                        <a:pt x="5091" y="1286"/>
                      </a:lnTo>
                      <a:lnTo>
                        <a:pt x="5060" y="1303"/>
                      </a:lnTo>
                      <a:lnTo>
                        <a:pt x="5060" y="1303"/>
                      </a:lnTo>
                      <a:lnTo>
                        <a:pt x="5022" y="1256"/>
                      </a:lnTo>
                      <a:lnTo>
                        <a:pt x="4985" y="1213"/>
                      </a:lnTo>
                      <a:lnTo>
                        <a:pt x="4985" y="1213"/>
                      </a:lnTo>
                      <a:lnTo>
                        <a:pt x="5005" y="1184"/>
                      </a:lnTo>
                      <a:lnTo>
                        <a:pt x="5030" y="1144"/>
                      </a:lnTo>
                      <a:lnTo>
                        <a:pt x="5056" y="1095"/>
                      </a:lnTo>
                      <a:lnTo>
                        <a:pt x="5071" y="1065"/>
                      </a:lnTo>
                      <a:lnTo>
                        <a:pt x="5084" y="1034"/>
                      </a:lnTo>
                      <a:lnTo>
                        <a:pt x="5084" y="1034"/>
                      </a:lnTo>
                      <a:lnTo>
                        <a:pt x="5103" y="993"/>
                      </a:lnTo>
                      <a:lnTo>
                        <a:pt x="5114" y="961"/>
                      </a:lnTo>
                      <a:lnTo>
                        <a:pt x="5119" y="938"/>
                      </a:lnTo>
                      <a:lnTo>
                        <a:pt x="5121" y="928"/>
                      </a:lnTo>
                      <a:lnTo>
                        <a:pt x="5121" y="918"/>
                      </a:lnTo>
                      <a:lnTo>
                        <a:pt x="5119" y="912"/>
                      </a:lnTo>
                      <a:lnTo>
                        <a:pt x="5117" y="905"/>
                      </a:lnTo>
                      <a:lnTo>
                        <a:pt x="5114" y="899"/>
                      </a:lnTo>
                      <a:lnTo>
                        <a:pt x="5111" y="892"/>
                      </a:lnTo>
                      <a:lnTo>
                        <a:pt x="5099" y="879"/>
                      </a:lnTo>
                      <a:lnTo>
                        <a:pt x="5084" y="866"/>
                      </a:lnTo>
                      <a:lnTo>
                        <a:pt x="5084" y="866"/>
                      </a:lnTo>
                      <a:lnTo>
                        <a:pt x="5071" y="851"/>
                      </a:lnTo>
                      <a:lnTo>
                        <a:pt x="5058" y="839"/>
                      </a:lnTo>
                      <a:lnTo>
                        <a:pt x="5051" y="836"/>
                      </a:lnTo>
                      <a:lnTo>
                        <a:pt x="5045" y="833"/>
                      </a:lnTo>
                      <a:lnTo>
                        <a:pt x="5038" y="831"/>
                      </a:lnTo>
                      <a:lnTo>
                        <a:pt x="5032" y="829"/>
                      </a:lnTo>
                      <a:lnTo>
                        <a:pt x="5022" y="829"/>
                      </a:lnTo>
                      <a:lnTo>
                        <a:pt x="5012" y="831"/>
                      </a:lnTo>
                      <a:lnTo>
                        <a:pt x="4989" y="838"/>
                      </a:lnTo>
                      <a:lnTo>
                        <a:pt x="4957" y="847"/>
                      </a:lnTo>
                      <a:lnTo>
                        <a:pt x="4916" y="866"/>
                      </a:lnTo>
                      <a:lnTo>
                        <a:pt x="4916" y="866"/>
                      </a:lnTo>
                      <a:lnTo>
                        <a:pt x="4885" y="879"/>
                      </a:lnTo>
                      <a:lnTo>
                        <a:pt x="4855" y="894"/>
                      </a:lnTo>
                      <a:lnTo>
                        <a:pt x="4806" y="920"/>
                      </a:lnTo>
                      <a:lnTo>
                        <a:pt x="4766" y="945"/>
                      </a:lnTo>
                      <a:lnTo>
                        <a:pt x="4737" y="965"/>
                      </a:lnTo>
                      <a:lnTo>
                        <a:pt x="4737" y="965"/>
                      </a:lnTo>
                      <a:lnTo>
                        <a:pt x="4694" y="928"/>
                      </a:lnTo>
                      <a:lnTo>
                        <a:pt x="4647" y="890"/>
                      </a:lnTo>
                      <a:lnTo>
                        <a:pt x="4647" y="890"/>
                      </a:lnTo>
                      <a:lnTo>
                        <a:pt x="4664" y="859"/>
                      </a:lnTo>
                      <a:lnTo>
                        <a:pt x="4680" y="816"/>
                      </a:lnTo>
                      <a:lnTo>
                        <a:pt x="4699" y="762"/>
                      </a:lnTo>
                      <a:lnTo>
                        <a:pt x="4707" y="730"/>
                      </a:lnTo>
                      <a:lnTo>
                        <a:pt x="4717" y="697"/>
                      </a:lnTo>
                      <a:lnTo>
                        <a:pt x="4717" y="697"/>
                      </a:lnTo>
                      <a:lnTo>
                        <a:pt x="4725" y="653"/>
                      </a:lnTo>
                      <a:lnTo>
                        <a:pt x="4732" y="620"/>
                      </a:lnTo>
                      <a:lnTo>
                        <a:pt x="4733" y="597"/>
                      </a:lnTo>
                      <a:lnTo>
                        <a:pt x="4733" y="587"/>
                      </a:lnTo>
                      <a:lnTo>
                        <a:pt x="4732" y="577"/>
                      </a:lnTo>
                      <a:lnTo>
                        <a:pt x="4728" y="570"/>
                      </a:lnTo>
                      <a:lnTo>
                        <a:pt x="4725" y="564"/>
                      </a:lnTo>
                      <a:lnTo>
                        <a:pt x="4722" y="557"/>
                      </a:lnTo>
                      <a:lnTo>
                        <a:pt x="4717" y="552"/>
                      </a:lnTo>
                      <a:lnTo>
                        <a:pt x="4704" y="542"/>
                      </a:lnTo>
                      <a:lnTo>
                        <a:pt x="4687" y="531"/>
                      </a:lnTo>
                      <a:lnTo>
                        <a:pt x="4687" y="531"/>
                      </a:lnTo>
                      <a:lnTo>
                        <a:pt x="4671" y="519"/>
                      </a:lnTo>
                      <a:lnTo>
                        <a:pt x="4656" y="511"/>
                      </a:lnTo>
                      <a:lnTo>
                        <a:pt x="4649" y="508"/>
                      </a:lnTo>
                      <a:lnTo>
                        <a:pt x="4643" y="506"/>
                      </a:lnTo>
                      <a:lnTo>
                        <a:pt x="4634" y="505"/>
                      </a:lnTo>
                      <a:lnTo>
                        <a:pt x="4628" y="505"/>
                      </a:lnTo>
                      <a:lnTo>
                        <a:pt x="4618" y="506"/>
                      </a:lnTo>
                      <a:lnTo>
                        <a:pt x="4610" y="509"/>
                      </a:lnTo>
                      <a:lnTo>
                        <a:pt x="4586" y="519"/>
                      </a:lnTo>
                      <a:lnTo>
                        <a:pt x="4557" y="536"/>
                      </a:lnTo>
                      <a:lnTo>
                        <a:pt x="4521" y="559"/>
                      </a:lnTo>
                      <a:lnTo>
                        <a:pt x="4521" y="559"/>
                      </a:lnTo>
                      <a:lnTo>
                        <a:pt x="4491" y="579"/>
                      </a:lnTo>
                      <a:lnTo>
                        <a:pt x="4464" y="598"/>
                      </a:lnTo>
                      <a:lnTo>
                        <a:pt x="4420" y="633"/>
                      </a:lnTo>
                      <a:lnTo>
                        <a:pt x="4385" y="664"/>
                      </a:lnTo>
                      <a:lnTo>
                        <a:pt x="4361" y="691"/>
                      </a:lnTo>
                      <a:lnTo>
                        <a:pt x="4361" y="691"/>
                      </a:lnTo>
                      <a:lnTo>
                        <a:pt x="4311" y="661"/>
                      </a:lnTo>
                      <a:lnTo>
                        <a:pt x="4260" y="633"/>
                      </a:lnTo>
                      <a:lnTo>
                        <a:pt x="4260" y="633"/>
                      </a:lnTo>
                      <a:lnTo>
                        <a:pt x="4270" y="598"/>
                      </a:lnTo>
                      <a:lnTo>
                        <a:pt x="4280" y="552"/>
                      </a:lnTo>
                      <a:lnTo>
                        <a:pt x="4288" y="496"/>
                      </a:lnTo>
                      <a:lnTo>
                        <a:pt x="4291" y="463"/>
                      </a:lnTo>
                      <a:lnTo>
                        <a:pt x="4293" y="429"/>
                      </a:lnTo>
                      <a:lnTo>
                        <a:pt x="4293" y="429"/>
                      </a:lnTo>
                      <a:lnTo>
                        <a:pt x="4296" y="384"/>
                      </a:lnTo>
                      <a:lnTo>
                        <a:pt x="4295" y="351"/>
                      </a:lnTo>
                      <a:lnTo>
                        <a:pt x="4293" y="326"/>
                      </a:lnTo>
                      <a:lnTo>
                        <a:pt x="4291" y="317"/>
                      </a:lnTo>
                      <a:lnTo>
                        <a:pt x="4288" y="308"/>
                      </a:lnTo>
                      <a:lnTo>
                        <a:pt x="4285" y="302"/>
                      </a:lnTo>
                      <a:lnTo>
                        <a:pt x="4280" y="297"/>
                      </a:lnTo>
                      <a:lnTo>
                        <a:pt x="4275" y="292"/>
                      </a:lnTo>
                      <a:lnTo>
                        <a:pt x="4268" y="287"/>
                      </a:lnTo>
                      <a:lnTo>
                        <a:pt x="4255" y="279"/>
                      </a:lnTo>
                      <a:lnTo>
                        <a:pt x="4235" y="270"/>
                      </a:lnTo>
                      <a:lnTo>
                        <a:pt x="4235" y="270"/>
                      </a:lnTo>
                      <a:lnTo>
                        <a:pt x="4217" y="262"/>
                      </a:lnTo>
                      <a:lnTo>
                        <a:pt x="4202" y="256"/>
                      </a:lnTo>
                      <a:lnTo>
                        <a:pt x="4194" y="254"/>
                      </a:lnTo>
                      <a:lnTo>
                        <a:pt x="4187" y="254"/>
                      </a:lnTo>
                      <a:lnTo>
                        <a:pt x="4181" y="254"/>
                      </a:lnTo>
                      <a:lnTo>
                        <a:pt x="4173" y="256"/>
                      </a:lnTo>
                      <a:lnTo>
                        <a:pt x="4164" y="259"/>
                      </a:lnTo>
                      <a:lnTo>
                        <a:pt x="4156" y="262"/>
                      </a:lnTo>
                      <a:lnTo>
                        <a:pt x="4136" y="277"/>
                      </a:lnTo>
                      <a:lnTo>
                        <a:pt x="4110" y="298"/>
                      </a:lnTo>
                      <a:lnTo>
                        <a:pt x="4077" y="328"/>
                      </a:lnTo>
                      <a:lnTo>
                        <a:pt x="4077" y="328"/>
                      </a:lnTo>
                      <a:lnTo>
                        <a:pt x="4052" y="353"/>
                      </a:lnTo>
                      <a:lnTo>
                        <a:pt x="4029" y="376"/>
                      </a:lnTo>
                      <a:lnTo>
                        <a:pt x="3991" y="419"/>
                      </a:lnTo>
                      <a:lnTo>
                        <a:pt x="3963" y="455"/>
                      </a:lnTo>
                      <a:lnTo>
                        <a:pt x="3942" y="485"/>
                      </a:lnTo>
                      <a:lnTo>
                        <a:pt x="3942" y="485"/>
                      </a:lnTo>
                      <a:lnTo>
                        <a:pt x="3889" y="465"/>
                      </a:lnTo>
                      <a:lnTo>
                        <a:pt x="3835" y="445"/>
                      </a:lnTo>
                      <a:lnTo>
                        <a:pt x="3835" y="445"/>
                      </a:lnTo>
                      <a:lnTo>
                        <a:pt x="3838" y="411"/>
                      </a:lnTo>
                      <a:lnTo>
                        <a:pt x="3840" y="364"/>
                      </a:lnTo>
                      <a:lnTo>
                        <a:pt x="3838" y="307"/>
                      </a:lnTo>
                      <a:lnTo>
                        <a:pt x="3835" y="274"/>
                      </a:lnTo>
                      <a:lnTo>
                        <a:pt x="3831" y="239"/>
                      </a:lnTo>
                      <a:lnTo>
                        <a:pt x="3831" y="239"/>
                      </a:lnTo>
                      <a:lnTo>
                        <a:pt x="3826" y="195"/>
                      </a:lnTo>
                      <a:lnTo>
                        <a:pt x="3820" y="162"/>
                      </a:lnTo>
                      <a:lnTo>
                        <a:pt x="3813" y="138"/>
                      </a:lnTo>
                      <a:lnTo>
                        <a:pt x="3810" y="129"/>
                      </a:lnTo>
                      <a:lnTo>
                        <a:pt x="3805" y="122"/>
                      </a:lnTo>
                      <a:lnTo>
                        <a:pt x="3800" y="115"/>
                      </a:lnTo>
                      <a:lnTo>
                        <a:pt x="3795" y="110"/>
                      </a:lnTo>
                      <a:lnTo>
                        <a:pt x="3788" y="107"/>
                      </a:lnTo>
                      <a:lnTo>
                        <a:pt x="3782" y="104"/>
                      </a:lnTo>
                      <a:lnTo>
                        <a:pt x="3767" y="97"/>
                      </a:lnTo>
                      <a:lnTo>
                        <a:pt x="3747" y="92"/>
                      </a:lnTo>
                      <a:lnTo>
                        <a:pt x="3747" y="92"/>
                      </a:lnTo>
                      <a:lnTo>
                        <a:pt x="3727" y="87"/>
                      </a:lnTo>
                      <a:lnTo>
                        <a:pt x="3711" y="84"/>
                      </a:lnTo>
                      <a:lnTo>
                        <a:pt x="3704" y="84"/>
                      </a:lnTo>
                      <a:lnTo>
                        <a:pt x="3696" y="84"/>
                      </a:lnTo>
                      <a:lnTo>
                        <a:pt x="3690" y="86"/>
                      </a:lnTo>
                      <a:lnTo>
                        <a:pt x="3683" y="89"/>
                      </a:lnTo>
                      <a:lnTo>
                        <a:pt x="3675" y="92"/>
                      </a:lnTo>
                      <a:lnTo>
                        <a:pt x="3666" y="99"/>
                      </a:lnTo>
                      <a:lnTo>
                        <a:pt x="3650" y="117"/>
                      </a:lnTo>
                      <a:lnTo>
                        <a:pt x="3627" y="142"/>
                      </a:lnTo>
                      <a:lnTo>
                        <a:pt x="3601" y="176"/>
                      </a:lnTo>
                      <a:lnTo>
                        <a:pt x="3601" y="176"/>
                      </a:lnTo>
                      <a:lnTo>
                        <a:pt x="3581" y="206"/>
                      </a:lnTo>
                      <a:lnTo>
                        <a:pt x="3561" y="232"/>
                      </a:lnTo>
                      <a:lnTo>
                        <a:pt x="3531" y="282"/>
                      </a:lnTo>
                      <a:lnTo>
                        <a:pt x="3510" y="323"/>
                      </a:lnTo>
                      <a:lnTo>
                        <a:pt x="3495" y="354"/>
                      </a:lnTo>
                      <a:lnTo>
                        <a:pt x="3495" y="354"/>
                      </a:lnTo>
                      <a:lnTo>
                        <a:pt x="3439" y="345"/>
                      </a:lnTo>
                      <a:lnTo>
                        <a:pt x="3381" y="335"/>
                      </a:lnTo>
                      <a:lnTo>
                        <a:pt x="3381" y="335"/>
                      </a:lnTo>
                      <a:lnTo>
                        <a:pt x="3380" y="300"/>
                      </a:lnTo>
                      <a:lnTo>
                        <a:pt x="3373" y="254"/>
                      </a:lnTo>
                      <a:lnTo>
                        <a:pt x="3361" y="198"/>
                      </a:lnTo>
                      <a:lnTo>
                        <a:pt x="3353" y="165"/>
                      </a:lnTo>
                      <a:lnTo>
                        <a:pt x="3343" y="132"/>
                      </a:lnTo>
                      <a:lnTo>
                        <a:pt x="3343" y="132"/>
                      </a:lnTo>
                      <a:lnTo>
                        <a:pt x="3330" y="89"/>
                      </a:lnTo>
                      <a:lnTo>
                        <a:pt x="3319" y="58"/>
                      </a:lnTo>
                      <a:lnTo>
                        <a:pt x="3307" y="36"/>
                      </a:lnTo>
                      <a:lnTo>
                        <a:pt x="3302" y="28"/>
                      </a:lnTo>
                      <a:lnTo>
                        <a:pt x="3297" y="21"/>
                      </a:lnTo>
                      <a:lnTo>
                        <a:pt x="3291" y="15"/>
                      </a:lnTo>
                      <a:lnTo>
                        <a:pt x="3286" y="12"/>
                      </a:lnTo>
                      <a:lnTo>
                        <a:pt x="3279" y="8"/>
                      </a:lnTo>
                      <a:lnTo>
                        <a:pt x="3271" y="7"/>
                      </a:lnTo>
                      <a:lnTo>
                        <a:pt x="3254" y="3"/>
                      </a:lnTo>
                      <a:lnTo>
                        <a:pt x="3235" y="2"/>
                      </a:lnTo>
                      <a:lnTo>
                        <a:pt x="3235" y="2"/>
                      </a:lnTo>
                      <a:lnTo>
                        <a:pt x="3215" y="0"/>
                      </a:lnTo>
                      <a:lnTo>
                        <a:pt x="3198" y="0"/>
                      </a:lnTo>
                      <a:lnTo>
                        <a:pt x="3190" y="2"/>
                      </a:lnTo>
                      <a:lnTo>
                        <a:pt x="3183" y="3"/>
                      </a:lnTo>
                      <a:lnTo>
                        <a:pt x="3177" y="5"/>
                      </a:lnTo>
                      <a:lnTo>
                        <a:pt x="3170" y="10"/>
                      </a:lnTo>
                      <a:lnTo>
                        <a:pt x="3164" y="15"/>
                      </a:lnTo>
                      <a:lnTo>
                        <a:pt x="3157" y="23"/>
                      </a:lnTo>
                      <a:lnTo>
                        <a:pt x="3142" y="43"/>
                      </a:lnTo>
                      <a:lnTo>
                        <a:pt x="3126" y="71"/>
                      </a:lnTo>
                      <a:lnTo>
                        <a:pt x="3106" y="110"/>
                      </a:lnTo>
                      <a:lnTo>
                        <a:pt x="3106" y="110"/>
                      </a:lnTo>
                      <a:lnTo>
                        <a:pt x="3089" y="142"/>
                      </a:lnTo>
                      <a:lnTo>
                        <a:pt x="3076" y="171"/>
                      </a:lnTo>
                      <a:lnTo>
                        <a:pt x="3055" y="226"/>
                      </a:lnTo>
                      <a:lnTo>
                        <a:pt x="3042" y="270"/>
                      </a:lnTo>
                      <a:lnTo>
                        <a:pt x="3032" y="305"/>
                      </a:lnTo>
                      <a:lnTo>
                        <a:pt x="3032" y="305"/>
                      </a:lnTo>
                      <a:lnTo>
                        <a:pt x="2974" y="303"/>
                      </a:lnTo>
                      <a:lnTo>
                        <a:pt x="2916" y="305"/>
                      </a:lnTo>
                      <a:lnTo>
                        <a:pt x="2916" y="305"/>
                      </a:lnTo>
                      <a:lnTo>
                        <a:pt x="2908" y="270"/>
                      </a:lnTo>
                      <a:lnTo>
                        <a:pt x="2893" y="226"/>
                      </a:lnTo>
                      <a:lnTo>
                        <a:pt x="2872" y="171"/>
                      </a:lnTo>
                      <a:lnTo>
                        <a:pt x="2859" y="142"/>
                      </a:lnTo>
                      <a:lnTo>
                        <a:pt x="2844" y="110"/>
                      </a:lnTo>
                      <a:lnTo>
                        <a:pt x="2844" y="110"/>
                      </a:lnTo>
                      <a:lnTo>
                        <a:pt x="2824" y="71"/>
                      </a:lnTo>
                      <a:lnTo>
                        <a:pt x="2806" y="43"/>
                      </a:lnTo>
                      <a:lnTo>
                        <a:pt x="2793" y="23"/>
                      </a:lnTo>
                      <a:lnTo>
                        <a:pt x="2786" y="15"/>
                      </a:lnTo>
                      <a:lnTo>
                        <a:pt x="2779" y="10"/>
                      </a:lnTo>
                      <a:lnTo>
                        <a:pt x="2773" y="5"/>
                      </a:lnTo>
                      <a:lnTo>
                        <a:pt x="2766" y="3"/>
                      </a:lnTo>
                      <a:lnTo>
                        <a:pt x="2758" y="2"/>
                      </a:lnTo>
                      <a:lnTo>
                        <a:pt x="2751" y="0"/>
                      </a:lnTo>
                      <a:lnTo>
                        <a:pt x="2735" y="0"/>
                      </a:lnTo>
                      <a:lnTo>
                        <a:pt x="2715" y="2"/>
                      </a:lnTo>
                      <a:lnTo>
                        <a:pt x="2715" y="2"/>
                      </a:lnTo>
                      <a:lnTo>
                        <a:pt x="2694" y="3"/>
                      </a:lnTo>
                      <a:lnTo>
                        <a:pt x="2677" y="7"/>
                      </a:lnTo>
                      <a:lnTo>
                        <a:pt x="2671" y="8"/>
                      </a:lnTo>
                      <a:lnTo>
                        <a:pt x="2664" y="12"/>
                      </a:lnTo>
                      <a:lnTo>
                        <a:pt x="2657" y="15"/>
                      </a:lnTo>
                      <a:lnTo>
                        <a:pt x="2652" y="21"/>
                      </a:lnTo>
                      <a:lnTo>
                        <a:pt x="2648" y="28"/>
                      </a:lnTo>
                      <a:lnTo>
                        <a:pt x="2641" y="36"/>
                      </a:lnTo>
                      <a:lnTo>
                        <a:pt x="2631" y="58"/>
                      </a:lnTo>
                      <a:lnTo>
                        <a:pt x="2620" y="89"/>
                      </a:lnTo>
                      <a:lnTo>
                        <a:pt x="2606" y="132"/>
                      </a:lnTo>
                      <a:lnTo>
                        <a:pt x="2606" y="132"/>
                      </a:lnTo>
                      <a:lnTo>
                        <a:pt x="2596" y="165"/>
                      </a:lnTo>
                      <a:lnTo>
                        <a:pt x="2588" y="198"/>
                      </a:lnTo>
                      <a:lnTo>
                        <a:pt x="2577" y="254"/>
                      </a:lnTo>
                      <a:lnTo>
                        <a:pt x="2570" y="300"/>
                      </a:lnTo>
                      <a:lnTo>
                        <a:pt x="2567" y="335"/>
                      </a:lnTo>
                      <a:lnTo>
                        <a:pt x="2567" y="335"/>
                      </a:lnTo>
                      <a:lnTo>
                        <a:pt x="2511" y="345"/>
                      </a:lnTo>
                      <a:lnTo>
                        <a:pt x="2455" y="354"/>
                      </a:lnTo>
                      <a:lnTo>
                        <a:pt x="2455" y="354"/>
                      </a:lnTo>
                      <a:lnTo>
                        <a:pt x="2440" y="323"/>
                      </a:lnTo>
                      <a:lnTo>
                        <a:pt x="2417" y="282"/>
                      </a:lnTo>
                      <a:lnTo>
                        <a:pt x="2387" y="232"/>
                      </a:lnTo>
                      <a:lnTo>
                        <a:pt x="2369" y="206"/>
                      </a:lnTo>
                      <a:lnTo>
                        <a:pt x="2347" y="176"/>
                      </a:lnTo>
                      <a:lnTo>
                        <a:pt x="2347" y="176"/>
                      </a:lnTo>
                      <a:lnTo>
                        <a:pt x="2321" y="142"/>
                      </a:lnTo>
                      <a:lnTo>
                        <a:pt x="2300" y="117"/>
                      </a:lnTo>
                      <a:lnTo>
                        <a:pt x="2282" y="99"/>
                      </a:lnTo>
                      <a:lnTo>
                        <a:pt x="2275" y="92"/>
                      </a:lnTo>
                      <a:lnTo>
                        <a:pt x="2267" y="89"/>
                      </a:lnTo>
                      <a:lnTo>
                        <a:pt x="2260" y="86"/>
                      </a:lnTo>
                      <a:lnTo>
                        <a:pt x="2252" y="84"/>
                      </a:lnTo>
                      <a:lnTo>
                        <a:pt x="2245" y="84"/>
                      </a:lnTo>
                      <a:lnTo>
                        <a:pt x="2239" y="84"/>
                      </a:lnTo>
                      <a:lnTo>
                        <a:pt x="2222" y="87"/>
                      </a:lnTo>
                      <a:lnTo>
                        <a:pt x="2202" y="92"/>
                      </a:lnTo>
                      <a:lnTo>
                        <a:pt x="2202" y="92"/>
                      </a:lnTo>
                      <a:lnTo>
                        <a:pt x="2183" y="97"/>
                      </a:lnTo>
                      <a:lnTo>
                        <a:pt x="2166" y="104"/>
                      </a:lnTo>
                      <a:lnTo>
                        <a:pt x="2160" y="107"/>
                      </a:lnTo>
                      <a:lnTo>
                        <a:pt x="2155" y="110"/>
                      </a:lnTo>
                      <a:lnTo>
                        <a:pt x="2148" y="115"/>
                      </a:lnTo>
                      <a:lnTo>
                        <a:pt x="2145" y="122"/>
                      </a:lnTo>
                      <a:lnTo>
                        <a:pt x="2140" y="129"/>
                      </a:lnTo>
                      <a:lnTo>
                        <a:pt x="2136" y="138"/>
                      </a:lnTo>
                      <a:lnTo>
                        <a:pt x="2130" y="162"/>
                      </a:lnTo>
                      <a:lnTo>
                        <a:pt x="2123" y="195"/>
                      </a:lnTo>
                      <a:lnTo>
                        <a:pt x="2118" y="239"/>
                      </a:lnTo>
                      <a:lnTo>
                        <a:pt x="2118" y="239"/>
                      </a:lnTo>
                      <a:lnTo>
                        <a:pt x="2113" y="274"/>
                      </a:lnTo>
                      <a:lnTo>
                        <a:pt x="2112" y="307"/>
                      </a:lnTo>
                      <a:lnTo>
                        <a:pt x="2110" y="364"/>
                      </a:lnTo>
                      <a:lnTo>
                        <a:pt x="2112" y="411"/>
                      </a:lnTo>
                      <a:lnTo>
                        <a:pt x="2115" y="447"/>
                      </a:lnTo>
                      <a:lnTo>
                        <a:pt x="2115" y="447"/>
                      </a:lnTo>
                      <a:lnTo>
                        <a:pt x="2061" y="465"/>
                      </a:lnTo>
                      <a:lnTo>
                        <a:pt x="2008" y="486"/>
                      </a:lnTo>
                      <a:lnTo>
                        <a:pt x="2008" y="486"/>
                      </a:lnTo>
                      <a:lnTo>
                        <a:pt x="1986" y="457"/>
                      </a:lnTo>
                      <a:lnTo>
                        <a:pt x="1958" y="419"/>
                      </a:lnTo>
                      <a:lnTo>
                        <a:pt x="1920" y="376"/>
                      </a:lnTo>
                      <a:lnTo>
                        <a:pt x="1897" y="353"/>
                      </a:lnTo>
                      <a:lnTo>
                        <a:pt x="1871" y="328"/>
                      </a:lnTo>
                      <a:lnTo>
                        <a:pt x="1871" y="328"/>
                      </a:lnTo>
                      <a:lnTo>
                        <a:pt x="1840" y="298"/>
                      </a:lnTo>
                      <a:lnTo>
                        <a:pt x="1813" y="277"/>
                      </a:lnTo>
                      <a:lnTo>
                        <a:pt x="1793" y="262"/>
                      </a:lnTo>
                      <a:lnTo>
                        <a:pt x="1784" y="259"/>
                      </a:lnTo>
                      <a:lnTo>
                        <a:pt x="1775" y="256"/>
                      </a:lnTo>
                      <a:lnTo>
                        <a:pt x="1769" y="254"/>
                      </a:lnTo>
                      <a:lnTo>
                        <a:pt x="1762" y="254"/>
                      </a:lnTo>
                      <a:lnTo>
                        <a:pt x="1754" y="254"/>
                      </a:lnTo>
                      <a:lnTo>
                        <a:pt x="1747" y="256"/>
                      </a:lnTo>
                      <a:lnTo>
                        <a:pt x="1731" y="262"/>
                      </a:lnTo>
                      <a:lnTo>
                        <a:pt x="1713" y="270"/>
                      </a:lnTo>
                      <a:lnTo>
                        <a:pt x="1713" y="270"/>
                      </a:lnTo>
                      <a:lnTo>
                        <a:pt x="1695" y="279"/>
                      </a:lnTo>
                      <a:lnTo>
                        <a:pt x="1680" y="287"/>
                      </a:lnTo>
                      <a:lnTo>
                        <a:pt x="1675" y="292"/>
                      </a:lnTo>
                      <a:lnTo>
                        <a:pt x="1670" y="297"/>
                      </a:lnTo>
                      <a:lnTo>
                        <a:pt x="1665" y="302"/>
                      </a:lnTo>
                      <a:lnTo>
                        <a:pt x="1662" y="308"/>
                      </a:lnTo>
                      <a:lnTo>
                        <a:pt x="1658" y="317"/>
                      </a:lnTo>
                      <a:lnTo>
                        <a:pt x="1657" y="326"/>
                      </a:lnTo>
                      <a:lnTo>
                        <a:pt x="1653" y="351"/>
                      </a:lnTo>
                      <a:lnTo>
                        <a:pt x="1653" y="384"/>
                      </a:lnTo>
                      <a:lnTo>
                        <a:pt x="1655" y="429"/>
                      </a:lnTo>
                      <a:lnTo>
                        <a:pt x="1655" y="429"/>
                      </a:lnTo>
                      <a:lnTo>
                        <a:pt x="1658" y="465"/>
                      </a:lnTo>
                      <a:lnTo>
                        <a:pt x="1662" y="498"/>
                      </a:lnTo>
                      <a:lnTo>
                        <a:pt x="1670" y="554"/>
                      </a:lnTo>
                      <a:lnTo>
                        <a:pt x="1680" y="600"/>
                      </a:lnTo>
                      <a:lnTo>
                        <a:pt x="1690" y="635"/>
                      </a:lnTo>
                      <a:lnTo>
                        <a:pt x="1690" y="635"/>
                      </a:lnTo>
                      <a:lnTo>
                        <a:pt x="1639" y="663"/>
                      </a:lnTo>
                      <a:lnTo>
                        <a:pt x="1591" y="692"/>
                      </a:lnTo>
                      <a:lnTo>
                        <a:pt x="1591" y="692"/>
                      </a:lnTo>
                      <a:lnTo>
                        <a:pt x="1564" y="666"/>
                      </a:lnTo>
                      <a:lnTo>
                        <a:pt x="1530" y="635"/>
                      </a:lnTo>
                      <a:lnTo>
                        <a:pt x="1485" y="598"/>
                      </a:lnTo>
                      <a:lnTo>
                        <a:pt x="1459" y="580"/>
                      </a:lnTo>
                      <a:lnTo>
                        <a:pt x="1429" y="559"/>
                      </a:lnTo>
                      <a:lnTo>
                        <a:pt x="1429" y="559"/>
                      </a:lnTo>
                      <a:lnTo>
                        <a:pt x="1391" y="536"/>
                      </a:lnTo>
                      <a:lnTo>
                        <a:pt x="1363" y="519"/>
                      </a:lnTo>
                      <a:lnTo>
                        <a:pt x="1340" y="509"/>
                      </a:lnTo>
                      <a:lnTo>
                        <a:pt x="1330" y="506"/>
                      </a:lnTo>
                      <a:lnTo>
                        <a:pt x="1322" y="505"/>
                      </a:lnTo>
                      <a:lnTo>
                        <a:pt x="1314" y="505"/>
                      </a:lnTo>
                      <a:lnTo>
                        <a:pt x="1307" y="506"/>
                      </a:lnTo>
                      <a:lnTo>
                        <a:pt x="1301" y="508"/>
                      </a:lnTo>
                      <a:lnTo>
                        <a:pt x="1294" y="511"/>
                      </a:lnTo>
                      <a:lnTo>
                        <a:pt x="1279" y="519"/>
                      </a:lnTo>
                      <a:lnTo>
                        <a:pt x="1263" y="531"/>
                      </a:lnTo>
                      <a:lnTo>
                        <a:pt x="1263" y="531"/>
                      </a:lnTo>
                      <a:lnTo>
                        <a:pt x="1246" y="542"/>
                      </a:lnTo>
                      <a:lnTo>
                        <a:pt x="1233" y="552"/>
                      </a:lnTo>
                      <a:lnTo>
                        <a:pt x="1228" y="557"/>
                      </a:lnTo>
                      <a:lnTo>
                        <a:pt x="1223" y="564"/>
                      </a:lnTo>
                      <a:lnTo>
                        <a:pt x="1220" y="570"/>
                      </a:lnTo>
                      <a:lnTo>
                        <a:pt x="1218" y="577"/>
                      </a:lnTo>
                      <a:lnTo>
                        <a:pt x="1216" y="587"/>
                      </a:lnTo>
                      <a:lnTo>
                        <a:pt x="1216" y="595"/>
                      </a:lnTo>
                      <a:lnTo>
                        <a:pt x="1218" y="620"/>
                      </a:lnTo>
                      <a:lnTo>
                        <a:pt x="1223" y="653"/>
                      </a:lnTo>
                      <a:lnTo>
                        <a:pt x="1233" y="697"/>
                      </a:lnTo>
                      <a:lnTo>
                        <a:pt x="1233" y="697"/>
                      </a:lnTo>
                      <a:lnTo>
                        <a:pt x="1241" y="732"/>
                      </a:lnTo>
                      <a:lnTo>
                        <a:pt x="1251" y="763"/>
                      </a:lnTo>
                      <a:lnTo>
                        <a:pt x="1269" y="818"/>
                      </a:lnTo>
                      <a:lnTo>
                        <a:pt x="1287" y="861"/>
                      </a:lnTo>
                      <a:lnTo>
                        <a:pt x="1302" y="894"/>
                      </a:lnTo>
                      <a:lnTo>
                        <a:pt x="1302" y="894"/>
                      </a:lnTo>
                      <a:lnTo>
                        <a:pt x="1258" y="930"/>
                      </a:lnTo>
                      <a:lnTo>
                        <a:pt x="1213" y="966"/>
                      </a:lnTo>
                      <a:lnTo>
                        <a:pt x="1213" y="966"/>
                      </a:lnTo>
                      <a:lnTo>
                        <a:pt x="1185" y="946"/>
                      </a:lnTo>
                      <a:lnTo>
                        <a:pt x="1146" y="922"/>
                      </a:lnTo>
                      <a:lnTo>
                        <a:pt x="1094" y="894"/>
                      </a:lnTo>
                      <a:lnTo>
                        <a:pt x="1065" y="879"/>
                      </a:lnTo>
                      <a:lnTo>
                        <a:pt x="1033" y="866"/>
                      </a:lnTo>
                      <a:lnTo>
                        <a:pt x="1033" y="866"/>
                      </a:lnTo>
                      <a:lnTo>
                        <a:pt x="992" y="847"/>
                      </a:lnTo>
                      <a:lnTo>
                        <a:pt x="961" y="838"/>
                      </a:lnTo>
                      <a:lnTo>
                        <a:pt x="936" y="831"/>
                      </a:lnTo>
                      <a:lnTo>
                        <a:pt x="926" y="829"/>
                      </a:lnTo>
                      <a:lnTo>
                        <a:pt x="918" y="829"/>
                      </a:lnTo>
                      <a:lnTo>
                        <a:pt x="910" y="831"/>
                      </a:lnTo>
                      <a:lnTo>
                        <a:pt x="903" y="833"/>
                      </a:lnTo>
                      <a:lnTo>
                        <a:pt x="897" y="836"/>
                      </a:lnTo>
                      <a:lnTo>
                        <a:pt x="892" y="839"/>
                      </a:lnTo>
                      <a:lnTo>
                        <a:pt x="878" y="851"/>
                      </a:lnTo>
                      <a:lnTo>
                        <a:pt x="864" y="866"/>
                      </a:lnTo>
                      <a:lnTo>
                        <a:pt x="864" y="866"/>
                      </a:lnTo>
                      <a:lnTo>
                        <a:pt x="850" y="879"/>
                      </a:lnTo>
                      <a:lnTo>
                        <a:pt x="839" y="892"/>
                      </a:lnTo>
                      <a:lnTo>
                        <a:pt x="834" y="899"/>
                      </a:lnTo>
                      <a:lnTo>
                        <a:pt x="832" y="905"/>
                      </a:lnTo>
                      <a:lnTo>
                        <a:pt x="829" y="912"/>
                      </a:lnTo>
                      <a:lnTo>
                        <a:pt x="829" y="918"/>
                      </a:lnTo>
                      <a:lnTo>
                        <a:pt x="829" y="928"/>
                      </a:lnTo>
                      <a:lnTo>
                        <a:pt x="829" y="938"/>
                      </a:lnTo>
                      <a:lnTo>
                        <a:pt x="836" y="961"/>
                      </a:lnTo>
                      <a:lnTo>
                        <a:pt x="847" y="993"/>
                      </a:lnTo>
                      <a:lnTo>
                        <a:pt x="864" y="1034"/>
                      </a:lnTo>
                      <a:lnTo>
                        <a:pt x="864" y="1034"/>
                      </a:lnTo>
                      <a:lnTo>
                        <a:pt x="878" y="1067"/>
                      </a:lnTo>
                      <a:lnTo>
                        <a:pt x="893" y="1095"/>
                      </a:lnTo>
                      <a:lnTo>
                        <a:pt x="920" y="1146"/>
                      </a:lnTo>
                      <a:lnTo>
                        <a:pt x="944" y="1185"/>
                      </a:lnTo>
                      <a:lnTo>
                        <a:pt x="966" y="1215"/>
                      </a:lnTo>
                      <a:lnTo>
                        <a:pt x="966" y="1215"/>
                      </a:lnTo>
                      <a:lnTo>
                        <a:pt x="928" y="1258"/>
                      </a:lnTo>
                      <a:lnTo>
                        <a:pt x="892" y="1303"/>
                      </a:lnTo>
                      <a:lnTo>
                        <a:pt x="892" y="1303"/>
                      </a:lnTo>
                      <a:lnTo>
                        <a:pt x="859" y="1288"/>
                      </a:lnTo>
                      <a:lnTo>
                        <a:pt x="816" y="1270"/>
                      </a:lnTo>
                      <a:lnTo>
                        <a:pt x="761" y="1251"/>
                      </a:lnTo>
                      <a:lnTo>
                        <a:pt x="730" y="1243"/>
                      </a:lnTo>
                      <a:lnTo>
                        <a:pt x="695" y="1235"/>
                      </a:lnTo>
                      <a:lnTo>
                        <a:pt x="695" y="1235"/>
                      </a:lnTo>
                      <a:lnTo>
                        <a:pt x="653" y="1225"/>
                      </a:lnTo>
                      <a:lnTo>
                        <a:pt x="620" y="1218"/>
                      </a:lnTo>
                      <a:lnTo>
                        <a:pt x="595" y="1217"/>
                      </a:lnTo>
                      <a:lnTo>
                        <a:pt x="585" y="1218"/>
                      </a:lnTo>
                      <a:lnTo>
                        <a:pt x="577" y="1218"/>
                      </a:lnTo>
                      <a:lnTo>
                        <a:pt x="570" y="1222"/>
                      </a:lnTo>
                      <a:lnTo>
                        <a:pt x="564" y="1225"/>
                      </a:lnTo>
                      <a:lnTo>
                        <a:pt x="557" y="1228"/>
                      </a:lnTo>
                      <a:lnTo>
                        <a:pt x="552" y="1233"/>
                      </a:lnTo>
                      <a:lnTo>
                        <a:pt x="540" y="1246"/>
                      </a:lnTo>
                      <a:lnTo>
                        <a:pt x="529" y="1263"/>
                      </a:lnTo>
                      <a:lnTo>
                        <a:pt x="529" y="1263"/>
                      </a:lnTo>
                      <a:lnTo>
                        <a:pt x="517" y="1279"/>
                      </a:lnTo>
                      <a:lnTo>
                        <a:pt x="509" y="1294"/>
                      </a:lnTo>
                      <a:lnTo>
                        <a:pt x="506" y="1301"/>
                      </a:lnTo>
                      <a:lnTo>
                        <a:pt x="504" y="1307"/>
                      </a:lnTo>
                      <a:lnTo>
                        <a:pt x="504" y="1316"/>
                      </a:lnTo>
                      <a:lnTo>
                        <a:pt x="504" y="1322"/>
                      </a:lnTo>
                      <a:lnTo>
                        <a:pt x="506" y="1332"/>
                      </a:lnTo>
                      <a:lnTo>
                        <a:pt x="509" y="1340"/>
                      </a:lnTo>
                      <a:lnTo>
                        <a:pt x="519" y="1364"/>
                      </a:lnTo>
                      <a:lnTo>
                        <a:pt x="535" y="1393"/>
                      </a:lnTo>
                      <a:lnTo>
                        <a:pt x="559" y="1429"/>
                      </a:lnTo>
                      <a:lnTo>
                        <a:pt x="559" y="1429"/>
                      </a:lnTo>
                      <a:lnTo>
                        <a:pt x="578" y="1459"/>
                      </a:lnTo>
                      <a:lnTo>
                        <a:pt x="598" y="1486"/>
                      </a:lnTo>
                      <a:lnTo>
                        <a:pt x="633" y="1530"/>
                      </a:lnTo>
                      <a:lnTo>
                        <a:pt x="664" y="1565"/>
                      </a:lnTo>
                      <a:lnTo>
                        <a:pt x="690" y="1589"/>
                      </a:lnTo>
                      <a:lnTo>
                        <a:pt x="690" y="1589"/>
                      </a:lnTo>
                      <a:lnTo>
                        <a:pt x="661" y="1639"/>
                      </a:lnTo>
                      <a:lnTo>
                        <a:pt x="633" y="1690"/>
                      </a:lnTo>
                      <a:lnTo>
                        <a:pt x="633" y="1690"/>
                      </a:lnTo>
                      <a:lnTo>
                        <a:pt x="598" y="1680"/>
                      </a:lnTo>
                      <a:lnTo>
                        <a:pt x="552" y="1670"/>
                      </a:lnTo>
                      <a:lnTo>
                        <a:pt x="496" y="1662"/>
                      </a:lnTo>
                      <a:lnTo>
                        <a:pt x="463" y="1659"/>
                      </a:lnTo>
                      <a:lnTo>
                        <a:pt x="428" y="1657"/>
                      </a:lnTo>
                      <a:lnTo>
                        <a:pt x="428" y="1657"/>
                      </a:lnTo>
                      <a:lnTo>
                        <a:pt x="384" y="1654"/>
                      </a:lnTo>
                      <a:lnTo>
                        <a:pt x="351" y="1655"/>
                      </a:lnTo>
                      <a:lnTo>
                        <a:pt x="326" y="1657"/>
                      </a:lnTo>
                      <a:lnTo>
                        <a:pt x="316" y="1659"/>
                      </a:lnTo>
                      <a:lnTo>
                        <a:pt x="308" y="1662"/>
                      </a:lnTo>
                      <a:lnTo>
                        <a:pt x="301" y="1665"/>
                      </a:lnTo>
                      <a:lnTo>
                        <a:pt x="295" y="1670"/>
                      </a:lnTo>
                      <a:lnTo>
                        <a:pt x="290" y="1675"/>
                      </a:lnTo>
                      <a:lnTo>
                        <a:pt x="287" y="1682"/>
                      </a:lnTo>
                      <a:lnTo>
                        <a:pt x="278" y="1695"/>
                      </a:lnTo>
                      <a:lnTo>
                        <a:pt x="270" y="1715"/>
                      </a:lnTo>
                      <a:lnTo>
                        <a:pt x="270" y="1715"/>
                      </a:lnTo>
                      <a:lnTo>
                        <a:pt x="260" y="1733"/>
                      </a:lnTo>
                      <a:lnTo>
                        <a:pt x="255" y="1748"/>
                      </a:lnTo>
                      <a:lnTo>
                        <a:pt x="254" y="1756"/>
                      </a:lnTo>
                      <a:lnTo>
                        <a:pt x="252" y="1763"/>
                      </a:lnTo>
                      <a:lnTo>
                        <a:pt x="254" y="1769"/>
                      </a:lnTo>
                      <a:lnTo>
                        <a:pt x="255" y="1777"/>
                      </a:lnTo>
                      <a:lnTo>
                        <a:pt x="257" y="1786"/>
                      </a:lnTo>
                      <a:lnTo>
                        <a:pt x="262" y="1794"/>
                      </a:lnTo>
                      <a:lnTo>
                        <a:pt x="277" y="1815"/>
                      </a:lnTo>
                      <a:lnTo>
                        <a:pt x="298" y="1840"/>
                      </a:lnTo>
                      <a:lnTo>
                        <a:pt x="328" y="1873"/>
                      </a:lnTo>
                      <a:lnTo>
                        <a:pt x="328" y="1873"/>
                      </a:lnTo>
                      <a:lnTo>
                        <a:pt x="351" y="1898"/>
                      </a:lnTo>
                      <a:lnTo>
                        <a:pt x="376" y="1921"/>
                      </a:lnTo>
                      <a:lnTo>
                        <a:pt x="418" y="1959"/>
                      </a:lnTo>
                      <a:lnTo>
                        <a:pt x="455" y="1987"/>
                      </a:lnTo>
                      <a:lnTo>
                        <a:pt x="484" y="2008"/>
                      </a:lnTo>
                      <a:lnTo>
                        <a:pt x="484" y="2008"/>
                      </a:lnTo>
                      <a:lnTo>
                        <a:pt x="465" y="2061"/>
                      </a:lnTo>
                      <a:lnTo>
                        <a:pt x="445" y="2115"/>
                      </a:lnTo>
                      <a:lnTo>
                        <a:pt x="445" y="2115"/>
                      </a:lnTo>
                      <a:lnTo>
                        <a:pt x="410" y="2112"/>
                      </a:lnTo>
                      <a:lnTo>
                        <a:pt x="362" y="2110"/>
                      </a:lnTo>
                      <a:lnTo>
                        <a:pt x="306" y="2112"/>
                      </a:lnTo>
                      <a:lnTo>
                        <a:pt x="273" y="2115"/>
                      </a:lnTo>
                      <a:lnTo>
                        <a:pt x="237" y="2119"/>
                      </a:lnTo>
                      <a:lnTo>
                        <a:pt x="237" y="2119"/>
                      </a:lnTo>
                      <a:lnTo>
                        <a:pt x="194" y="2124"/>
                      </a:lnTo>
                      <a:lnTo>
                        <a:pt x="161" y="2130"/>
                      </a:lnTo>
                      <a:lnTo>
                        <a:pt x="136" y="2137"/>
                      </a:lnTo>
                      <a:lnTo>
                        <a:pt x="128" y="2140"/>
                      </a:lnTo>
                      <a:lnTo>
                        <a:pt x="120" y="2145"/>
                      </a:lnTo>
                      <a:lnTo>
                        <a:pt x="115" y="2150"/>
                      </a:lnTo>
                      <a:lnTo>
                        <a:pt x="110" y="2155"/>
                      </a:lnTo>
                      <a:lnTo>
                        <a:pt x="105" y="2162"/>
                      </a:lnTo>
                      <a:lnTo>
                        <a:pt x="102" y="2168"/>
                      </a:lnTo>
                      <a:lnTo>
                        <a:pt x="97" y="2183"/>
                      </a:lnTo>
                      <a:lnTo>
                        <a:pt x="92" y="2203"/>
                      </a:lnTo>
                      <a:lnTo>
                        <a:pt x="92" y="2203"/>
                      </a:lnTo>
                      <a:lnTo>
                        <a:pt x="85" y="2223"/>
                      </a:lnTo>
                      <a:lnTo>
                        <a:pt x="84" y="2239"/>
                      </a:lnTo>
                      <a:lnTo>
                        <a:pt x="82" y="2246"/>
                      </a:lnTo>
                      <a:lnTo>
                        <a:pt x="84" y="2254"/>
                      </a:lnTo>
                      <a:lnTo>
                        <a:pt x="85" y="2260"/>
                      </a:lnTo>
                      <a:lnTo>
                        <a:pt x="87" y="2267"/>
                      </a:lnTo>
                      <a:lnTo>
                        <a:pt x="92" y="2275"/>
                      </a:lnTo>
                      <a:lnTo>
                        <a:pt x="99" y="2284"/>
                      </a:lnTo>
                      <a:lnTo>
                        <a:pt x="115" y="2300"/>
                      </a:lnTo>
                      <a:lnTo>
                        <a:pt x="141" y="2323"/>
                      </a:lnTo>
                      <a:lnTo>
                        <a:pt x="176" y="2349"/>
                      </a:lnTo>
                      <a:lnTo>
                        <a:pt x="176" y="2349"/>
                      </a:lnTo>
                      <a:lnTo>
                        <a:pt x="204" y="2369"/>
                      </a:lnTo>
                      <a:lnTo>
                        <a:pt x="232" y="2389"/>
                      </a:lnTo>
                      <a:lnTo>
                        <a:pt x="280" y="2419"/>
                      </a:lnTo>
                      <a:lnTo>
                        <a:pt x="321" y="2440"/>
                      </a:lnTo>
                      <a:lnTo>
                        <a:pt x="354" y="2455"/>
                      </a:lnTo>
                      <a:lnTo>
                        <a:pt x="354" y="2455"/>
                      </a:lnTo>
                      <a:lnTo>
                        <a:pt x="343" y="2511"/>
                      </a:lnTo>
                      <a:lnTo>
                        <a:pt x="333" y="2569"/>
                      </a:lnTo>
                      <a:lnTo>
                        <a:pt x="333" y="2569"/>
                      </a:lnTo>
                      <a:lnTo>
                        <a:pt x="298" y="2572"/>
                      </a:lnTo>
                      <a:lnTo>
                        <a:pt x="252" y="2579"/>
                      </a:lnTo>
                      <a:lnTo>
                        <a:pt x="196" y="2589"/>
                      </a:lnTo>
                      <a:lnTo>
                        <a:pt x="165" y="2597"/>
                      </a:lnTo>
                      <a:lnTo>
                        <a:pt x="130" y="2607"/>
                      </a:lnTo>
                      <a:lnTo>
                        <a:pt x="130" y="2607"/>
                      </a:lnTo>
                      <a:lnTo>
                        <a:pt x="89" y="2620"/>
                      </a:lnTo>
                      <a:lnTo>
                        <a:pt x="57" y="2631"/>
                      </a:lnTo>
                      <a:lnTo>
                        <a:pt x="34" y="2643"/>
                      </a:lnTo>
                      <a:lnTo>
                        <a:pt x="26" y="2648"/>
                      </a:lnTo>
                      <a:lnTo>
                        <a:pt x="19" y="2653"/>
                      </a:lnTo>
                      <a:lnTo>
                        <a:pt x="14" y="2659"/>
                      </a:lnTo>
                      <a:lnTo>
                        <a:pt x="11" y="2664"/>
                      </a:lnTo>
                      <a:lnTo>
                        <a:pt x="8" y="2671"/>
                      </a:lnTo>
                      <a:lnTo>
                        <a:pt x="5" y="2679"/>
                      </a:lnTo>
                      <a:lnTo>
                        <a:pt x="3" y="2696"/>
                      </a:lnTo>
                      <a:lnTo>
                        <a:pt x="1" y="2715"/>
                      </a:lnTo>
                      <a:lnTo>
                        <a:pt x="1" y="2715"/>
                      </a:lnTo>
                      <a:lnTo>
                        <a:pt x="0" y="2735"/>
                      </a:lnTo>
                      <a:lnTo>
                        <a:pt x="0" y="2752"/>
                      </a:lnTo>
                      <a:lnTo>
                        <a:pt x="0" y="2760"/>
                      </a:lnTo>
                      <a:lnTo>
                        <a:pt x="1" y="2767"/>
                      </a:lnTo>
                      <a:lnTo>
                        <a:pt x="5" y="2773"/>
                      </a:lnTo>
                      <a:lnTo>
                        <a:pt x="8" y="2780"/>
                      </a:lnTo>
                      <a:lnTo>
                        <a:pt x="14" y="2786"/>
                      </a:lnTo>
                      <a:lnTo>
                        <a:pt x="21" y="2793"/>
                      </a:lnTo>
                      <a:lnTo>
                        <a:pt x="41" y="2808"/>
                      </a:lnTo>
                      <a:lnTo>
                        <a:pt x="71" y="2824"/>
                      </a:lnTo>
                      <a:lnTo>
                        <a:pt x="110" y="2844"/>
                      </a:lnTo>
                      <a:lnTo>
                        <a:pt x="110" y="2844"/>
                      </a:lnTo>
                      <a:lnTo>
                        <a:pt x="141" y="2861"/>
                      </a:lnTo>
                      <a:lnTo>
                        <a:pt x="171" y="2874"/>
                      </a:lnTo>
                      <a:lnTo>
                        <a:pt x="224" y="2894"/>
                      </a:lnTo>
                      <a:lnTo>
                        <a:pt x="268" y="2908"/>
                      </a:lnTo>
                      <a:lnTo>
                        <a:pt x="303" y="2918"/>
                      </a:lnTo>
                      <a:lnTo>
                        <a:pt x="303" y="2918"/>
                      </a:lnTo>
                      <a:lnTo>
                        <a:pt x="301" y="2976"/>
                      </a:lnTo>
                      <a:lnTo>
                        <a:pt x="303" y="3034"/>
                      </a:lnTo>
                      <a:lnTo>
                        <a:pt x="303" y="3034"/>
                      </a:lnTo>
                      <a:lnTo>
                        <a:pt x="268" y="3042"/>
                      </a:lnTo>
                      <a:lnTo>
                        <a:pt x="224" y="3057"/>
                      </a:lnTo>
                      <a:lnTo>
                        <a:pt x="171" y="3078"/>
                      </a:lnTo>
                      <a:lnTo>
                        <a:pt x="141" y="3091"/>
                      </a:lnTo>
                      <a:lnTo>
                        <a:pt x="110" y="3106"/>
                      </a:lnTo>
                      <a:lnTo>
                        <a:pt x="110" y="3106"/>
                      </a:lnTo>
                      <a:lnTo>
                        <a:pt x="71" y="3126"/>
                      </a:lnTo>
                      <a:lnTo>
                        <a:pt x="41" y="3144"/>
                      </a:lnTo>
                      <a:lnTo>
                        <a:pt x="21" y="3157"/>
                      </a:lnTo>
                      <a:lnTo>
                        <a:pt x="14" y="3164"/>
                      </a:lnTo>
                      <a:lnTo>
                        <a:pt x="8" y="3171"/>
                      </a:lnTo>
                      <a:lnTo>
                        <a:pt x="5" y="3177"/>
                      </a:lnTo>
                      <a:lnTo>
                        <a:pt x="1" y="3184"/>
                      </a:lnTo>
                      <a:lnTo>
                        <a:pt x="0" y="3192"/>
                      </a:lnTo>
                      <a:lnTo>
                        <a:pt x="0" y="3199"/>
                      </a:lnTo>
                      <a:lnTo>
                        <a:pt x="0" y="3215"/>
                      </a:lnTo>
                      <a:lnTo>
                        <a:pt x="1" y="3237"/>
                      </a:lnTo>
                      <a:lnTo>
                        <a:pt x="1" y="3237"/>
                      </a:lnTo>
                      <a:lnTo>
                        <a:pt x="3" y="3256"/>
                      </a:lnTo>
                      <a:lnTo>
                        <a:pt x="5" y="3273"/>
                      </a:lnTo>
                      <a:lnTo>
                        <a:pt x="8" y="3279"/>
                      </a:lnTo>
                      <a:lnTo>
                        <a:pt x="11" y="3286"/>
                      </a:lnTo>
                      <a:lnTo>
                        <a:pt x="14" y="3293"/>
                      </a:lnTo>
                      <a:lnTo>
                        <a:pt x="19" y="3298"/>
                      </a:lnTo>
                      <a:lnTo>
                        <a:pt x="26" y="3302"/>
                      </a:lnTo>
                      <a:lnTo>
                        <a:pt x="34" y="3309"/>
                      </a:lnTo>
                      <a:lnTo>
                        <a:pt x="57" y="3319"/>
                      </a:lnTo>
                      <a:lnTo>
                        <a:pt x="89" y="3330"/>
                      </a:lnTo>
                      <a:lnTo>
                        <a:pt x="130" y="3344"/>
                      </a:lnTo>
                      <a:lnTo>
                        <a:pt x="130" y="3344"/>
                      </a:lnTo>
                      <a:lnTo>
                        <a:pt x="165" y="3354"/>
                      </a:lnTo>
                      <a:lnTo>
                        <a:pt x="196" y="3362"/>
                      </a:lnTo>
                      <a:lnTo>
                        <a:pt x="250" y="3373"/>
                      </a:lnTo>
                      <a:lnTo>
                        <a:pt x="296" y="3380"/>
                      </a:lnTo>
                      <a:lnTo>
                        <a:pt x="333" y="3383"/>
                      </a:lnTo>
                      <a:lnTo>
                        <a:pt x="333" y="3383"/>
                      </a:lnTo>
                      <a:lnTo>
                        <a:pt x="343" y="3439"/>
                      </a:lnTo>
                      <a:lnTo>
                        <a:pt x="352" y="3497"/>
                      </a:lnTo>
                      <a:lnTo>
                        <a:pt x="352" y="3497"/>
                      </a:lnTo>
                      <a:lnTo>
                        <a:pt x="320" y="3512"/>
                      </a:lnTo>
                      <a:lnTo>
                        <a:pt x="280" y="3533"/>
                      </a:lnTo>
                      <a:lnTo>
                        <a:pt x="230" y="3563"/>
                      </a:lnTo>
                      <a:lnTo>
                        <a:pt x="204" y="3581"/>
                      </a:lnTo>
                      <a:lnTo>
                        <a:pt x="176" y="3603"/>
                      </a:lnTo>
                      <a:lnTo>
                        <a:pt x="176" y="3603"/>
                      </a:lnTo>
                      <a:lnTo>
                        <a:pt x="141" y="3629"/>
                      </a:lnTo>
                      <a:lnTo>
                        <a:pt x="115" y="3650"/>
                      </a:lnTo>
                      <a:lnTo>
                        <a:pt x="99" y="3668"/>
                      </a:lnTo>
                      <a:lnTo>
                        <a:pt x="92" y="3677"/>
                      </a:lnTo>
                      <a:lnTo>
                        <a:pt x="87" y="3683"/>
                      </a:lnTo>
                      <a:lnTo>
                        <a:pt x="85" y="3690"/>
                      </a:lnTo>
                      <a:lnTo>
                        <a:pt x="84" y="3698"/>
                      </a:lnTo>
                      <a:lnTo>
                        <a:pt x="82" y="3705"/>
                      </a:lnTo>
                      <a:lnTo>
                        <a:pt x="84" y="3711"/>
                      </a:lnTo>
                      <a:lnTo>
                        <a:pt x="85" y="3728"/>
                      </a:lnTo>
                      <a:lnTo>
                        <a:pt x="92" y="3748"/>
                      </a:lnTo>
                      <a:lnTo>
                        <a:pt x="92" y="3748"/>
                      </a:lnTo>
                      <a:lnTo>
                        <a:pt x="97" y="3767"/>
                      </a:lnTo>
                      <a:lnTo>
                        <a:pt x="102" y="3784"/>
                      </a:lnTo>
                      <a:lnTo>
                        <a:pt x="105" y="3790"/>
                      </a:lnTo>
                      <a:lnTo>
                        <a:pt x="110" y="3795"/>
                      </a:lnTo>
                      <a:lnTo>
                        <a:pt x="115" y="3802"/>
                      </a:lnTo>
                      <a:lnTo>
                        <a:pt x="120" y="3805"/>
                      </a:lnTo>
                      <a:lnTo>
                        <a:pt x="128" y="3810"/>
                      </a:lnTo>
                      <a:lnTo>
                        <a:pt x="136" y="3814"/>
                      </a:lnTo>
                      <a:lnTo>
                        <a:pt x="161" y="3820"/>
                      </a:lnTo>
                      <a:lnTo>
                        <a:pt x="194" y="3827"/>
                      </a:lnTo>
                      <a:lnTo>
                        <a:pt x="237" y="3832"/>
                      </a:lnTo>
                      <a:lnTo>
                        <a:pt x="237" y="3832"/>
                      </a:lnTo>
                      <a:lnTo>
                        <a:pt x="272" y="3837"/>
                      </a:lnTo>
                      <a:lnTo>
                        <a:pt x="305" y="3838"/>
                      </a:lnTo>
                      <a:lnTo>
                        <a:pt x="361" y="3840"/>
                      </a:lnTo>
                      <a:lnTo>
                        <a:pt x="407" y="3838"/>
                      </a:lnTo>
                      <a:lnTo>
                        <a:pt x="443" y="3835"/>
                      </a:lnTo>
                      <a:lnTo>
                        <a:pt x="443" y="3835"/>
                      </a:lnTo>
                      <a:lnTo>
                        <a:pt x="463" y="3889"/>
                      </a:lnTo>
                      <a:lnTo>
                        <a:pt x="483" y="3944"/>
                      </a:lnTo>
                      <a:lnTo>
                        <a:pt x="483" y="3944"/>
                      </a:lnTo>
                      <a:lnTo>
                        <a:pt x="453" y="3965"/>
                      </a:lnTo>
                      <a:lnTo>
                        <a:pt x="417" y="3993"/>
                      </a:lnTo>
                      <a:lnTo>
                        <a:pt x="374" y="4031"/>
                      </a:lnTo>
                      <a:lnTo>
                        <a:pt x="351" y="4053"/>
                      </a:lnTo>
                      <a:lnTo>
                        <a:pt x="328" y="4079"/>
                      </a:lnTo>
                      <a:lnTo>
                        <a:pt x="328" y="4079"/>
                      </a:lnTo>
                      <a:lnTo>
                        <a:pt x="298" y="4110"/>
                      </a:lnTo>
                      <a:lnTo>
                        <a:pt x="277" y="4137"/>
                      </a:lnTo>
                      <a:lnTo>
                        <a:pt x="262" y="4157"/>
                      </a:lnTo>
                      <a:lnTo>
                        <a:pt x="257" y="4166"/>
                      </a:lnTo>
                      <a:lnTo>
                        <a:pt x="255" y="4175"/>
                      </a:lnTo>
                      <a:lnTo>
                        <a:pt x="254" y="4181"/>
                      </a:lnTo>
                      <a:lnTo>
                        <a:pt x="252" y="4189"/>
                      </a:lnTo>
                      <a:lnTo>
                        <a:pt x="254" y="4196"/>
                      </a:lnTo>
                      <a:lnTo>
                        <a:pt x="255" y="4203"/>
                      </a:lnTo>
                      <a:lnTo>
                        <a:pt x="260" y="4219"/>
                      </a:lnTo>
                      <a:lnTo>
                        <a:pt x="270" y="4237"/>
                      </a:lnTo>
                      <a:lnTo>
                        <a:pt x="270" y="4237"/>
                      </a:lnTo>
                      <a:lnTo>
                        <a:pt x="278" y="4255"/>
                      </a:lnTo>
                      <a:lnTo>
                        <a:pt x="287" y="4270"/>
                      </a:lnTo>
                      <a:lnTo>
                        <a:pt x="290" y="4275"/>
                      </a:lnTo>
                      <a:lnTo>
                        <a:pt x="295" y="4282"/>
                      </a:lnTo>
                      <a:lnTo>
                        <a:pt x="301" y="4285"/>
                      </a:lnTo>
                      <a:lnTo>
                        <a:pt x="308" y="4288"/>
                      </a:lnTo>
                      <a:lnTo>
                        <a:pt x="316" y="4292"/>
                      </a:lnTo>
                      <a:lnTo>
                        <a:pt x="326" y="4293"/>
                      </a:lnTo>
                      <a:lnTo>
                        <a:pt x="351" y="4297"/>
                      </a:lnTo>
                      <a:lnTo>
                        <a:pt x="384" y="4297"/>
                      </a:lnTo>
                      <a:lnTo>
                        <a:pt x="428" y="4295"/>
                      </a:lnTo>
                      <a:lnTo>
                        <a:pt x="428" y="4295"/>
                      </a:lnTo>
                      <a:lnTo>
                        <a:pt x="463" y="4292"/>
                      </a:lnTo>
                      <a:lnTo>
                        <a:pt x="494" y="4288"/>
                      </a:lnTo>
                      <a:lnTo>
                        <a:pt x="550" y="4280"/>
                      </a:lnTo>
                      <a:lnTo>
                        <a:pt x="596" y="4272"/>
                      </a:lnTo>
                      <a:lnTo>
                        <a:pt x="631" y="4262"/>
                      </a:lnTo>
                      <a:lnTo>
                        <a:pt x="631" y="4262"/>
                      </a:lnTo>
                      <a:lnTo>
                        <a:pt x="659" y="4311"/>
                      </a:lnTo>
                      <a:lnTo>
                        <a:pt x="689" y="4363"/>
                      </a:lnTo>
                      <a:lnTo>
                        <a:pt x="689" y="4363"/>
                      </a:lnTo>
                      <a:lnTo>
                        <a:pt x="664" y="4387"/>
                      </a:lnTo>
                      <a:lnTo>
                        <a:pt x="633" y="4422"/>
                      </a:lnTo>
                      <a:lnTo>
                        <a:pt x="596" y="4466"/>
                      </a:lnTo>
                      <a:lnTo>
                        <a:pt x="578" y="4493"/>
                      </a:lnTo>
                      <a:lnTo>
                        <a:pt x="559" y="4521"/>
                      </a:lnTo>
                      <a:lnTo>
                        <a:pt x="559" y="4521"/>
                      </a:lnTo>
                      <a:lnTo>
                        <a:pt x="535" y="4559"/>
                      </a:lnTo>
                      <a:lnTo>
                        <a:pt x="519" y="4587"/>
                      </a:lnTo>
                      <a:lnTo>
                        <a:pt x="509" y="4610"/>
                      </a:lnTo>
                      <a:lnTo>
                        <a:pt x="506" y="4620"/>
                      </a:lnTo>
                      <a:lnTo>
                        <a:pt x="504" y="4628"/>
                      </a:lnTo>
                      <a:lnTo>
                        <a:pt x="504" y="4636"/>
                      </a:lnTo>
                      <a:lnTo>
                        <a:pt x="504" y="4643"/>
                      </a:lnTo>
                      <a:lnTo>
                        <a:pt x="506" y="4649"/>
                      </a:lnTo>
                      <a:lnTo>
                        <a:pt x="509" y="4656"/>
                      </a:lnTo>
                      <a:lnTo>
                        <a:pt x="517" y="4671"/>
                      </a:lnTo>
                      <a:lnTo>
                        <a:pt x="529" y="4687"/>
                      </a:lnTo>
                      <a:lnTo>
                        <a:pt x="529" y="4687"/>
                      </a:lnTo>
                      <a:lnTo>
                        <a:pt x="540" y="4704"/>
                      </a:lnTo>
                      <a:lnTo>
                        <a:pt x="552" y="4717"/>
                      </a:lnTo>
                      <a:lnTo>
                        <a:pt x="557" y="4722"/>
                      </a:lnTo>
                      <a:lnTo>
                        <a:pt x="564" y="4727"/>
                      </a:lnTo>
                      <a:lnTo>
                        <a:pt x="570" y="4730"/>
                      </a:lnTo>
                      <a:lnTo>
                        <a:pt x="577" y="4732"/>
                      </a:lnTo>
                      <a:lnTo>
                        <a:pt x="585" y="4734"/>
                      </a:lnTo>
                      <a:lnTo>
                        <a:pt x="595" y="4734"/>
                      </a:lnTo>
                      <a:lnTo>
                        <a:pt x="620" y="4732"/>
                      </a:lnTo>
                      <a:lnTo>
                        <a:pt x="653" y="4727"/>
                      </a:lnTo>
                      <a:lnTo>
                        <a:pt x="695" y="4717"/>
                      </a:lnTo>
                      <a:lnTo>
                        <a:pt x="695" y="4717"/>
                      </a:lnTo>
                      <a:lnTo>
                        <a:pt x="730" y="4709"/>
                      </a:lnTo>
                      <a:lnTo>
                        <a:pt x="760" y="4699"/>
                      </a:lnTo>
                      <a:lnTo>
                        <a:pt x="814" y="4682"/>
                      </a:lnTo>
                      <a:lnTo>
                        <a:pt x="857" y="4664"/>
                      </a:lnTo>
                      <a:lnTo>
                        <a:pt x="888" y="4649"/>
                      </a:lnTo>
                      <a:lnTo>
                        <a:pt x="888" y="4649"/>
                      </a:lnTo>
                      <a:lnTo>
                        <a:pt x="926" y="4694"/>
                      </a:lnTo>
                      <a:lnTo>
                        <a:pt x="964" y="4739"/>
                      </a:lnTo>
                      <a:lnTo>
                        <a:pt x="964" y="4739"/>
                      </a:lnTo>
                      <a:lnTo>
                        <a:pt x="943" y="4768"/>
                      </a:lnTo>
                      <a:lnTo>
                        <a:pt x="918" y="4808"/>
                      </a:lnTo>
                      <a:lnTo>
                        <a:pt x="892" y="4857"/>
                      </a:lnTo>
                      <a:lnTo>
                        <a:pt x="878" y="4885"/>
                      </a:lnTo>
                      <a:lnTo>
                        <a:pt x="864" y="4917"/>
                      </a:lnTo>
                      <a:lnTo>
                        <a:pt x="864" y="4917"/>
                      </a:lnTo>
                      <a:lnTo>
                        <a:pt x="847" y="4958"/>
                      </a:lnTo>
                      <a:lnTo>
                        <a:pt x="836" y="4989"/>
                      </a:lnTo>
                      <a:lnTo>
                        <a:pt x="829" y="5014"/>
                      </a:lnTo>
                      <a:lnTo>
                        <a:pt x="829" y="5024"/>
                      </a:lnTo>
                      <a:lnTo>
                        <a:pt x="829" y="5032"/>
                      </a:lnTo>
                      <a:lnTo>
                        <a:pt x="829" y="5040"/>
                      </a:lnTo>
                      <a:lnTo>
                        <a:pt x="832" y="5047"/>
                      </a:lnTo>
                      <a:lnTo>
                        <a:pt x="834" y="5053"/>
                      </a:lnTo>
                      <a:lnTo>
                        <a:pt x="839" y="5060"/>
                      </a:lnTo>
                      <a:lnTo>
                        <a:pt x="850" y="5072"/>
                      </a:lnTo>
                      <a:lnTo>
                        <a:pt x="864" y="5086"/>
                      </a:lnTo>
                      <a:lnTo>
                        <a:pt x="864" y="5086"/>
                      </a:lnTo>
                      <a:lnTo>
                        <a:pt x="878" y="5101"/>
                      </a:lnTo>
                      <a:lnTo>
                        <a:pt x="892" y="5111"/>
                      </a:lnTo>
                      <a:lnTo>
                        <a:pt x="897" y="5116"/>
                      </a:lnTo>
                      <a:lnTo>
                        <a:pt x="903" y="5119"/>
                      </a:lnTo>
                      <a:lnTo>
                        <a:pt x="910" y="5121"/>
                      </a:lnTo>
                      <a:lnTo>
                        <a:pt x="918" y="5121"/>
                      </a:lnTo>
                      <a:lnTo>
                        <a:pt x="926" y="5121"/>
                      </a:lnTo>
                      <a:lnTo>
                        <a:pt x="936" y="5121"/>
                      </a:lnTo>
                      <a:lnTo>
                        <a:pt x="961" y="5114"/>
                      </a:lnTo>
                      <a:lnTo>
                        <a:pt x="992" y="5103"/>
                      </a:lnTo>
                      <a:lnTo>
                        <a:pt x="1033" y="5086"/>
                      </a:lnTo>
                      <a:lnTo>
                        <a:pt x="1033" y="5086"/>
                      </a:lnTo>
                      <a:lnTo>
                        <a:pt x="1065" y="5072"/>
                      </a:lnTo>
                      <a:lnTo>
                        <a:pt x="1093" y="5058"/>
                      </a:lnTo>
                      <a:lnTo>
                        <a:pt x="1142" y="5032"/>
                      </a:lnTo>
                      <a:lnTo>
                        <a:pt x="1182" y="5007"/>
                      </a:lnTo>
                      <a:lnTo>
                        <a:pt x="1211" y="4987"/>
                      </a:lnTo>
                      <a:lnTo>
                        <a:pt x="1211" y="4987"/>
                      </a:lnTo>
                      <a:lnTo>
                        <a:pt x="1254" y="5025"/>
                      </a:lnTo>
                      <a:lnTo>
                        <a:pt x="1301" y="5062"/>
                      </a:lnTo>
                      <a:lnTo>
                        <a:pt x="1301" y="5062"/>
                      </a:lnTo>
                      <a:lnTo>
                        <a:pt x="1286" y="5095"/>
                      </a:lnTo>
                      <a:lnTo>
                        <a:pt x="1268" y="5138"/>
                      </a:lnTo>
                      <a:lnTo>
                        <a:pt x="1249" y="5190"/>
                      </a:lnTo>
                      <a:lnTo>
                        <a:pt x="1241" y="5222"/>
                      </a:lnTo>
                      <a:lnTo>
                        <a:pt x="1233" y="5255"/>
                      </a:lnTo>
                      <a:lnTo>
                        <a:pt x="1233" y="5255"/>
                      </a:lnTo>
                      <a:lnTo>
                        <a:pt x="1223" y="5297"/>
                      </a:lnTo>
                      <a:lnTo>
                        <a:pt x="1218" y="5330"/>
                      </a:lnTo>
                      <a:lnTo>
                        <a:pt x="1216" y="5355"/>
                      </a:lnTo>
                      <a:lnTo>
                        <a:pt x="1216" y="5365"/>
                      </a:lnTo>
                      <a:lnTo>
                        <a:pt x="1218" y="5373"/>
                      </a:lnTo>
                      <a:lnTo>
                        <a:pt x="1220" y="5382"/>
                      </a:lnTo>
                      <a:lnTo>
                        <a:pt x="1223" y="5386"/>
                      </a:lnTo>
                      <a:lnTo>
                        <a:pt x="1228" y="5393"/>
                      </a:lnTo>
                      <a:lnTo>
                        <a:pt x="1233" y="5398"/>
                      </a:lnTo>
                      <a:lnTo>
                        <a:pt x="1246" y="5410"/>
                      </a:lnTo>
                      <a:lnTo>
                        <a:pt x="1263" y="5421"/>
                      </a:lnTo>
                      <a:lnTo>
                        <a:pt x="1263" y="5421"/>
                      </a:lnTo>
                      <a:lnTo>
                        <a:pt x="1279" y="5433"/>
                      </a:lnTo>
                      <a:lnTo>
                        <a:pt x="1294" y="5441"/>
                      </a:lnTo>
                      <a:lnTo>
                        <a:pt x="1301" y="5444"/>
                      </a:lnTo>
                      <a:lnTo>
                        <a:pt x="1307" y="5446"/>
                      </a:lnTo>
                      <a:lnTo>
                        <a:pt x="1314" y="5446"/>
                      </a:lnTo>
                      <a:lnTo>
                        <a:pt x="1322" y="5446"/>
                      </a:lnTo>
                      <a:lnTo>
                        <a:pt x="1330" y="5444"/>
                      </a:lnTo>
                      <a:lnTo>
                        <a:pt x="1340" y="5441"/>
                      </a:lnTo>
                      <a:lnTo>
                        <a:pt x="1363" y="5431"/>
                      </a:lnTo>
                      <a:lnTo>
                        <a:pt x="1391" y="5415"/>
                      </a:lnTo>
                      <a:lnTo>
                        <a:pt x="1429" y="5391"/>
                      </a:lnTo>
                      <a:lnTo>
                        <a:pt x="1429" y="5391"/>
                      </a:lnTo>
                      <a:lnTo>
                        <a:pt x="1457" y="5372"/>
                      </a:lnTo>
                      <a:lnTo>
                        <a:pt x="1484" y="5354"/>
                      </a:lnTo>
                      <a:lnTo>
                        <a:pt x="1526" y="5319"/>
                      </a:lnTo>
                      <a:lnTo>
                        <a:pt x="1561" y="5288"/>
                      </a:lnTo>
                      <a:lnTo>
                        <a:pt x="1586" y="5263"/>
                      </a:lnTo>
                      <a:lnTo>
                        <a:pt x="1586" y="5263"/>
                      </a:lnTo>
                      <a:lnTo>
                        <a:pt x="1637" y="5292"/>
                      </a:lnTo>
                      <a:lnTo>
                        <a:pt x="1688" y="5322"/>
                      </a:lnTo>
                      <a:lnTo>
                        <a:pt x="1688" y="5322"/>
                      </a:lnTo>
                      <a:lnTo>
                        <a:pt x="1678" y="5355"/>
                      </a:lnTo>
                      <a:lnTo>
                        <a:pt x="1670" y="5401"/>
                      </a:lnTo>
                      <a:lnTo>
                        <a:pt x="1662" y="5456"/>
                      </a:lnTo>
                      <a:lnTo>
                        <a:pt x="1658" y="5487"/>
                      </a:lnTo>
                      <a:lnTo>
                        <a:pt x="1655" y="5522"/>
                      </a:lnTo>
                      <a:lnTo>
                        <a:pt x="1655" y="5522"/>
                      </a:lnTo>
                      <a:lnTo>
                        <a:pt x="1653" y="5566"/>
                      </a:lnTo>
                      <a:lnTo>
                        <a:pt x="1653" y="5599"/>
                      </a:lnTo>
                      <a:lnTo>
                        <a:pt x="1657" y="5624"/>
                      </a:lnTo>
                      <a:lnTo>
                        <a:pt x="1658" y="5634"/>
                      </a:lnTo>
                      <a:lnTo>
                        <a:pt x="1662" y="5642"/>
                      </a:lnTo>
                      <a:lnTo>
                        <a:pt x="1665" y="5649"/>
                      </a:lnTo>
                      <a:lnTo>
                        <a:pt x="1670" y="5655"/>
                      </a:lnTo>
                      <a:lnTo>
                        <a:pt x="1675" y="5660"/>
                      </a:lnTo>
                      <a:lnTo>
                        <a:pt x="1680" y="5663"/>
                      </a:lnTo>
                      <a:lnTo>
                        <a:pt x="1695" y="5672"/>
                      </a:lnTo>
                      <a:lnTo>
                        <a:pt x="1713" y="5680"/>
                      </a:lnTo>
                      <a:lnTo>
                        <a:pt x="1713" y="5680"/>
                      </a:lnTo>
                      <a:lnTo>
                        <a:pt x="1731" y="5690"/>
                      </a:lnTo>
                      <a:lnTo>
                        <a:pt x="1747" y="5695"/>
                      </a:lnTo>
                      <a:lnTo>
                        <a:pt x="1754" y="5696"/>
                      </a:lnTo>
                      <a:lnTo>
                        <a:pt x="1762" y="5698"/>
                      </a:lnTo>
                      <a:lnTo>
                        <a:pt x="1769" y="5696"/>
                      </a:lnTo>
                      <a:lnTo>
                        <a:pt x="1775" y="5695"/>
                      </a:lnTo>
                      <a:lnTo>
                        <a:pt x="1784" y="5693"/>
                      </a:lnTo>
                      <a:lnTo>
                        <a:pt x="1793" y="5688"/>
                      </a:lnTo>
                      <a:lnTo>
                        <a:pt x="1813" y="5673"/>
                      </a:lnTo>
                      <a:lnTo>
                        <a:pt x="1840" y="5654"/>
                      </a:lnTo>
                      <a:lnTo>
                        <a:pt x="1871" y="5622"/>
                      </a:lnTo>
                      <a:lnTo>
                        <a:pt x="1871" y="5622"/>
                      </a:lnTo>
                      <a:lnTo>
                        <a:pt x="1896" y="5599"/>
                      </a:lnTo>
                      <a:lnTo>
                        <a:pt x="1919" y="5576"/>
                      </a:lnTo>
                      <a:lnTo>
                        <a:pt x="1955" y="5535"/>
                      </a:lnTo>
                      <a:lnTo>
                        <a:pt x="1985" y="5499"/>
                      </a:lnTo>
                      <a:lnTo>
                        <a:pt x="2005" y="5469"/>
                      </a:lnTo>
                      <a:lnTo>
                        <a:pt x="2005" y="5469"/>
                      </a:lnTo>
                      <a:lnTo>
                        <a:pt x="2059" y="5490"/>
                      </a:lnTo>
                      <a:lnTo>
                        <a:pt x="2115" y="5508"/>
                      </a:lnTo>
                      <a:lnTo>
                        <a:pt x="2115" y="5508"/>
                      </a:lnTo>
                      <a:lnTo>
                        <a:pt x="2112" y="5545"/>
                      </a:lnTo>
                      <a:lnTo>
                        <a:pt x="2110" y="5591"/>
                      </a:lnTo>
                      <a:lnTo>
                        <a:pt x="2112" y="5647"/>
                      </a:lnTo>
                      <a:lnTo>
                        <a:pt x="2113" y="5678"/>
                      </a:lnTo>
                      <a:lnTo>
                        <a:pt x="2118" y="5713"/>
                      </a:lnTo>
                      <a:lnTo>
                        <a:pt x="2118" y="5713"/>
                      </a:lnTo>
                      <a:lnTo>
                        <a:pt x="2123" y="5756"/>
                      </a:lnTo>
                      <a:lnTo>
                        <a:pt x="2130" y="5789"/>
                      </a:lnTo>
                      <a:lnTo>
                        <a:pt x="2136" y="5814"/>
                      </a:lnTo>
                      <a:lnTo>
                        <a:pt x="2140" y="5822"/>
                      </a:lnTo>
                      <a:lnTo>
                        <a:pt x="2145" y="5830"/>
                      </a:lnTo>
                      <a:lnTo>
                        <a:pt x="2148" y="5835"/>
                      </a:lnTo>
                      <a:lnTo>
                        <a:pt x="2155" y="5840"/>
                      </a:lnTo>
                      <a:lnTo>
                        <a:pt x="2160" y="5845"/>
                      </a:lnTo>
                      <a:lnTo>
                        <a:pt x="2166" y="5848"/>
                      </a:lnTo>
                      <a:lnTo>
                        <a:pt x="2183" y="5853"/>
                      </a:lnTo>
                      <a:lnTo>
                        <a:pt x="2202" y="5858"/>
                      </a:lnTo>
                      <a:lnTo>
                        <a:pt x="2202" y="5858"/>
                      </a:lnTo>
                      <a:lnTo>
                        <a:pt x="2222" y="5865"/>
                      </a:lnTo>
                      <a:lnTo>
                        <a:pt x="2239" y="5866"/>
                      </a:lnTo>
                      <a:lnTo>
                        <a:pt x="2245" y="5868"/>
                      </a:lnTo>
                      <a:lnTo>
                        <a:pt x="2252" y="5866"/>
                      </a:lnTo>
                      <a:lnTo>
                        <a:pt x="2260" y="5865"/>
                      </a:lnTo>
                      <a:lnTo>
                        <a:pt x="2267" y="5863"/>
                      </a:lnTo>
                      <a:lnTo>
                        <a:pt x="2275" y="5858"/>
                      </a:lnTo>
                      <a:lnTo>
                        <a:pt x="2282" y="5851"/>
                      </a:lnTo>
                      <a:lnTo>
                        <a:pt x="2300" y="5835"/>
                      </a:lnTo>
                      <a:lnTo>
                        <a:pt x="2321" y="5809"/>
                      </a:lnTo>
                      <a:lnTo>
                        <a:pt x="2347" y="5774"/>
                      </a:lnTo>
                      <a:lnTo>
                        <a:pt x="2347" y="5774"/>
                      </a:lnTo>
                      <a:lnTo>
                        <a:pt x="2369" y="5746"/>
                      </a:lnTo>
                      <a:lnTo>
                        <a:pt x="2385" y="5720"/>
                      </a:lnTo>
                      <a:lnTo>
                        <a:pt x="2415" y="5673"/>
                      </a:lnTo>
                      <a:lnTo>
                        <a:pt x="2437" y="5632"/>
                      </a:lnTo>
                      <a:lnTo>
                        <a:pt x="2453" y="5599"/>
                      </a:lnTo>
                      <a:lnTo>
                        <a:pt x="2453" y="5599"/>
                      </a:lnTo>
                      <a:lnTo>
                        <a:pt x="2511" y="5611"/>
                      </a:lnTo>
                      <a:lnTo>
                        <a:pt x="2568" y="5621"/>
                      </a:lnTo>
                      <a:lnTo>
                        <a:pt x="2568" y="5621"/>
                      </a:lnTo>
                      <a:lnTo>
                        <a:pt x="2570" y="5657"/>
                      </a:lnTo>
                      <a:lnTo>
                        <a:pt x="2577" y="5701"/>
                      </a:lnTo>
                      <a:lnTo>
                        <a:pt x="2588" y="5756"/>
                      </a:lnTo>
                      <a:lnTo>
                        <a:pt x="2596" y="5787"/>
                      </a:lnTo>
                      <a:lnTo>
                        <a:pt x="2606" y="5820"/>
                      </a:lnTo>
                      <a:lnTo>
                        <a:pt x="2606" y="5820"/>
                      </a:lnTo>
                      <a:lnTo>
                        <a:pt x="2620" y="5861"/>
                      </a:lnTo>
                      <a:lnTo>
                        <a:pt x="2631" y="5893"/>
                      </a:lnTo>
                      <a:lnTo>
                        <a:pt x="2641" y="5916"/>
                      </a:lnTo>
                      <a:lnTo>
                        <a:pt x="2648" y="5924"/>
                      </a:lnTo>
                      <a:lnTo>
                        <a:pt x="2652" y="5931"/>
                      </a:lnTo>
                      <a:lnTo>
                        <a:pt x="2657" y="5936"/>
                      </a:lnTo>
                      <a:lnTo>
                        <a:pt x="2664" y="5939"/>
                      </a:lnTo>
                      <a:lnTo>
                        <a:pt x="2671" y="5942"/>
                      </a:lnTo>
                      <a:lnTo>
                        <a:pt x="2677" y="5945"/>
                      </a:lnTo>
                      <a:lnTo>
                        <a:pt x="2694" y="5947"/>
                      </a:lnTo>
                      <a:lnTo>
                        <a:pt x="2715" y="5949"/>
                      </a:lnTo>
                      <a:lnTo>
                        <a:pt x="2715" y="5949"/>
                      </a:lnTo>
                      <a:lnTo>
                        <a:pt x="2735" y="5950"/>
                      </a:lnTo>
                      <a:lnTo>
                        <a:pt x="2751" y="5950"/>
                      </a:lnTo>
                      <a:lnTo>
                        <a:pt x="2758" y="5950"/>
                      </a:lnTo>
                      <a:lnTo>
                        <a:pt x="2766" y="5949"/>
                      </a:lnTo>
                      <a:lnTo>
                        <a:pt x="2773" y="5945"/>
                      </a:lnTo>
                      <a:lnTo>
                        <a:pt x="2779" y="5942"/>
                      </a:lnTo>
                      <a:lnTo>
                        <a:pt x="2786" y="5936"/>
                      </a:lnTo>
                      <a:lnTo>
                        <a:pt x="2793" y="5929"/>
                      </a:lnTo>
                      <a:lnTo>
                        <a:pt x="2806" y="5909"/>
                      </a:lnTo>
                      <a:lnTo>
                        <a:pt x="2824" y="5879"/>
                      </a:lnTo>
                      <a:lnTo>
                        <a:pt x="2844" y="5840"/>
                      </a:lnTo>
                      <a:lnTo>
                        <a:pt x="2844" y="5840"/>
                      </a:lnTo>
                      <a:lnTo>
                        <a:pt x="2859" y="5810"/>
                      </a:lnTo>
                      <a:lnTo>
                        <a:pt x="2872" y="5781"/>
                      </a:lnTo>
                      <a:lnTo>
                        <a:pt x="2892" y="5729"/>
                      </a:lnTo>
                      <a:lnTo>
                        <a:pt x="2906" y="5687"/>
                      </a:lnTo>
                      <a:lnTo>
                        <a:pt x="2916" y="5652"/>
                      </a:lnTo>
                      <a:lnTo>
                        <a:pt x="2916" y="5652"/>
                      </a:lnTo>
                      <a:lnTo>
                        <a:pt x="2974" y="5652"/>
                      </a:lnTo>
                      <a:lnTo>
                        <a:pt x="3033" y="5652"/>
                      </a:lnTo>
                      <a:lnTo>
                        <a:pt x="3033" y="5652"/>
                      </a:lnTo>
                      <a:lnTo>
                        <a:pt x="3043" y="5687"/>
                      </a:lnTo>
                      <a:lnTo>
                        <a:pt x="3056" y="5729"/>
                      </a:lnTo>
                      <a:lnTo>
                        <a:pt x="3078" y="5781"/>
                      </a:lnTo>
                      <a:lnTo>
                        <a:pt x="3091" y="5810"/>
                      </a:lnTo>
                      <a:lnTo>
                        <a:pt x="3106" y="5840"/>
                      </a:lnTo>
                      <a:lnTo>
                        <a:pt x="3106" y="5840"/>
                      </a:lnTo>
                      <a:lnTo>
                        <a:pt x="3126" y="5879"/>
                      </a:lnTo>
                      <a:lnTo>
                        <a:pt x="3142" y="5909"/>
                      </a:lnTo>
                      <a:lnTo>
                        <a:pt x="3157" y="5929"/>
                      </a:lnTo>
                      <a:lnTo>
                        <a:pt x="3164" y="5936"/>
                      </a:lnTo>
                      <a:lnTo>
                        <a:pt x="3170" y="5942"/>
                      </a:lnTo>
                      <a:lnTo>
                        <a:pt x="3177" y="5945"/>
                      </a:lnTo>
                      <a:lnTo>
                        <a:pt x="3183" y="5949"/>
                      </a:lnTo>
                      <a:lnTo>
                        <a:pt x="3190" y="5950"/>
                      </a:lnTo>
                      <a:lnTo>
                        <a:pt x="3198" y="5950"/>
                      </a:lnTo>
                      <a:lnTo>
                        <a:pt x="3215" y="5950"/>
                      </a:lnTo>
                      <a:lnTo>
                        <a:pt x="3235" y="5949"/>
                      </a:lnTo>
                      <a:lnTo>
                        <a:pt x="3235" y="5949"/>
                      </a:lnTo>
                      <a:lnTo>
                        <a:pt x="3254" y="5947"/>
                      </a:lnTo>
                      <a:lnTo>
                        <a:pt x="3271" y="5945"/>
                      </a:lnTo>
                      <a:lnTo>
                        <a:pt x="3279" y="5942"/>
                      </a:lnTo>
                      <a:lnTo>
                        <a:pt x="3286" y="5939"/>
                      </a:lnTo>
                      <a:lnTo>
                        <a:pt x="3291" y="5936"/>
                      </a:lnTo>
                      <a:lnTo>
                        <a:pt x="3297" y="5931"/>
                      </a:lnTo>
                      <a:lnTo>
                        <a:pt x="3302" y="5924"/>
                      </a:lnTo>
                      <a:lnTo>
                        <a:pt x="3307" y="5916"/>
                      </a:lnTo>
                      <a:lnTo>
                        <a:pt x="3319" y="5893"/>
                      </a:lnTo>
                      <a:lnTo>
                        <a:pt x="3330" y="5861"/>
                      </a:lnTo>
                      <a:lnTo>
                        <a:pt x="3343" y="5820"/>
                      </a:lnTo>
                      <a:lnTo>
                        <a:pt x="3343" y="5820"/>
                      </a:lnTo>
                      <a:lnTo>
                        <a:pt x="3353" y="5787"/>
                      </a:lnTo>
                      <a:lnTo>
                        <a:pt x="3360" y="5756"/>
                      </a:lnTo>
                      <a:lnTo>
                        <a:pt x="3371" y="5701"/>
                      </a:lnTo>
                      <a:lnTo>
                        <a:pt x="3378" y="5657"/>
                      </a:lnTo>
                      <a:lnTo>
                        <a:pt x="3381" y="5621"/>
                      </a:lnTo>
                      <a:lnTo>
                        <a:pt x="3381" y="5621"/>
                      </a:lnTo>
                      <a:lnTo>
                        <a:pt x="3439" y="5612"/>
                      </a:lnTo>
                      <a:lnTo>
                        <a:pt x="3497" y="5601"/>
                      </a:lnTo>
                      <a:lnTo>
                        <a:pt x="3497" y="5601"/>
                      </a:lnTo>
                      <a:lnTo>
                        <a:pt x="3511" y="5634"/>
                      </a:lnTo>
                      <a:lnTo>
                        <a:pt x="3535" y="5673"/>
                      </a:lnTo>
                      <a:lnTo>
                        <a:pt x="3563" y="5721"/>
                      </a:lnTo>
                      <a:lnTo>
                        <a:pt x="3581" y="5748"/>
                      </a:lnTo>
                      <a:lnTo>
                        <a:pt x="3601" y="5774"/>
                      </a:lnTo>
                      <a:lnTo>
                        <a:pt x="3601" y="5774"/>
                      </a:lnTo>
                      <a:lnTo>
                        <a:pt x="3627" y="5809"/>
                      </a:lnTo>
                      <a:lnTo>
                        <a:pt x="3650" y="5835"/>
                      </a:lnTo>
                      <a:lnTo>
                        <a:pt x="3666" y="5851"/>
                      </a:lnTo>
                      <a:lnTo>
                        <a:pt x="3675" y="5858"/>
                      </a:lnTo>
                      <a:lnTo>
                        <a:pt x="3683" y="5863"/>
                      </a:lnTo>
                      <a:lnTo>
                        <a:pt x="3690" y="5865"/>
                      </a:lnTo>
                      <a:lnTo>
                        <a:pt x="3696" y="5866"/>
                      </a:lnTo>
                      <a:lnTo>
                        <a:pt x="3704" y="5868"/>
                      </a:lnTo>
                      <a:lnTo>
                        <a:pt x="3711" y="5866"/>
                      </a:lnTo>
                      <a:lnTo>
                        <a:pt x="3727" y="5865"/>
                      </a:lnTo>
                      <a:lnTo>
                        <a:pt x="3747" y="5858"/>
                      </a:lnTo>
                      <a:lnTo>
                        <a:pt x="3747" y="5858"/>
                      </a:lnTo>
                      <a:lnTo>
                        <a:pt x="3767" y="5853"/>
                      </a:lnTo>
                      <a:lnTo>
                        <a:pt x="3782" y="5848"/>
                      </a:lnTo>
                      <a:lnTo>
                        <a:pt x="3788" y="5845"/>
                      </a:lnTo>
                      <a:lnTo>
                        <a:pt x="3795" y="5840"/>
                      </a:lnTo>
                      <a:lnTo>
                        <a:pt x="3800" y="5835"/>
                      </a:lnTo>
                      <a:lnTo>
                        <a:pt x="3805" y="5830"/>
                      </a:lnTo>
                      <a:lnTo>
                        <a:pt x="3810" y="5822"/>
                      </a:lnTo>
                      <a:lnTo>
                        <a:pt x="3813" y="5814"/>
                      </a:lnTo>
                      <a:lnTo>
                        <a:pt x="3820" y="5789"/>
                      </a:lnTo>
                      <a:lnTo>
                        <a:pt x="3826" y="5756"/>
                      </a:lnTo>
                      <a:lnTo>
                        <a:pt x="3831" y="5713"/>
                      </a:lnTo>
                      <a:lnTo>
                        <a:pt x="3831" y="5713"/>
                      </a:lnTo>
                      <a:lnTo>
                        <a:pt x="3835" y="5678"/>
                      </a:lnTo>
                      <a:lnTo>
                        <a:pt x="3838" y="5647"/>
                      </a:lnTo>
                      <a:lnTo>
                        <a:pt x="3840" y="5593"/>
                      </a:lnTo>
                      <a:lnTo>
                        <a:pt x="3838" y="5546"/>
                      </a:lnTo>
                      <a:lnTo>
                        <a:pt x="3835" y="5510"/>
                      </a:lnTo>
                      <a:lnTo>
                        <a:pt x="3835" y="5510"/>
                      </a:lnTo>
                      <a:lnTo>
                        <a:pt x="3891" y="5490"/>
                      </a:lnTo>
                      <a:lnTo>
                        <a:pt x="3945" y="5471"/>
                      </a:lnTo>
                      <a:lnTo>
                        <a:pt x="3945" y="5471"/>
                      </a:lnTo>
                      <a:lnTo>
                        <a:pt x="3965" y="5499"/>
                      </a:lnTo>
                      <a:lnTo>
                        <a:pt x="3995" y="5535"/>
                      </a:lnTo>
                      <a:lnTo>
                        <a:pt x="4031" y="5576"/>
                      </a:lnTo>
                      <a:lnTo>
                        <a:pt x="4052" y="5599"/>
                      </a:lnTo>
                      <a:lnTo>
                        <a:pt x="4077" y="5622"/>
                      </a:lnTo>
                      <a:lnTo>
                        <a:pt x="4077" y="5622"/>
                      </a:lnTo>
                      <a:lnTo>
                        <a:pt x="4110" y="5654"/>
                      </a:lnTo>
                      <a:lnTo>
                        <a:pt x="4136" y="5673"/>
                      </a:lnTo>
                      <a:lnTo>
                        <a:pt x="4156" y="5688"/>
                      </a:lnTo>
                      <a:lnTo>
                        <a:pt x="4164" y="5693"/>
                      </a:lnTo>
                      <a:lnTo>
                        <a:pt x="4173" y="5695"/>
                      </a:lnTo>
                      <a:lnTo>
                        <a:pt x="4181" y="5696"/>
                      </a:lnTo>
                      <a:lnTo>
                        <a:pt x="4187" y="5698"/>
                      </a:lnTo>
                      <a:lnTo>
                        <a:pt x="4194" y="5696"/>
                      </a:lnTo>
                      <a:lnTo>
                        <a:pt x="4202" y="5695"/>
                      </a:lnTo>
                      <a:lnTo>
                        <a:pt x="4217" y="5690"/>
                      </a:lnTo>
                      <a:lnTo>
                        <a:pt x="4235" y="5680"/>
                      </a:lnTo>
                      <a:lnTo>
                        <a:pt x="4235" y="5680"/>
                      </a:lnTo>
                      <a:lnTo>
                        <a:pt x="4255" y="5672"/>
                      </a:lnTo>
                      <a:lnTo>
                        <a:pt x="4268" y="5663"/>
                      </a:lnTo>
                      <a:lnTo>
                        <a:pt x="4275" y="5660"/>
                      </a:lnTo>
                      <a:lnTo>
                        <a:pt x="4280" y="5655"/>
                      </a:lnTo>
                      <a:lnTo>
                        <a:pt x="4285" y="5649"/>
                      </a:lnTo>
                      <a:lnTo>
                        <a:pt x="4288" y="5642"/>
                      </a:lnTo>
                      <a:lnTo>
                        <a:pt x="4291" y="5634"/>
                      </a:lnTo>
                      <a:lnTo>
                        <a:pt x="4293" y="5624"/>
                      </a:lnTo>
                      <a:lnTo>
                        <a:pt x="4295" y="5599"/>
                      </a:lnTo>
                      <a:lnTo>
                        <a:pt x="4296" y="5566"/>
                      </a:lnTo>
                      <a:lnTo>
                        <a:pt x="4293" y="5522"/>
                      </a:lnTo>
                      <a:lnTo>
                        <a:pt x="4293" y="5522"/>
                      </a:lnTo>
                      <a:lnTo>
                        <a:pt x="4291" y="5489"/>
                      </a:lnTo>
                      <a:lnTo>
                        <a:pt x="4288" y="5457"/>
                      </a:lnTo>
                      <a:lnTo>
                        <a:pt x="4280" y="5401"/>
                      </a:lnTo>
                      <a:lnTo>
                        <a:pt x="4272" y="5357"/>
                      </a:lnTo>
                      <a:lnTo>
                        <a:pt x="4262" y="5322"/>
                      </a:lnTo>
                      <a:lnTo>
                        <a:pt x="4262" y="5322"/>
                      </a:lnTo>
                      <a:lnTo>
                        <a:pt x="4313" y="5292"/>
                      </a:lnTo>
                      <a:lnTo>
                        <a:pt x="4364" y="5263"/>
                      </a:lnTo>
                      <a:lnTo>
                        <a:pt x="4364" y="5263"/>
                      </a:lnTo>
                      <a:lnTo>
                        <a:pt x="4389" y="5289"/>
                      </a:lnTo>
                      <a:lnTo>
                        <a:pt x="4423" y="5319"/>
                      </a:lnTo>
                      <a:lnTo>
                        <a:pt x="4466" y="5354"/>
                      </a:lnTo>
                      <a:lnTo>
                        <a:pt x="4493" y="5372"/>
                      </a:lnTo>
                      <a:lnTo>
                        <a:pt x="4521" y="5391"/>
                      </a:lnTo>
                      <a:lnTo>
                        <a:pt x="4521" y="5391"/>
                      </a:lnTo>
                      <a:lnTo>
                        <a:pt x="4557" y="5415"/>
                      </a:lnTo>
                      <a:lnTo>
                        <a:pt x="4586" y="5431"/>
                      </a:lnTo>
                      <a:lnTo>
                        <a:pt x="4610" y="5443"/>
                      </a:lnTo>
                      <a:lnTo>
                        <a:pt x="4618" y="5444"/>
                      </a:lnTo>
                      <a:lnTo>
                        <a:pt x="4628" y="5446"/>
                      </a:lnTo>
                      <a:lnTo>
                        <a:pt x="4634" y="5446"/>
                      </a:lnTo>
                      <a:lnTo>
                        <a:pt x="4643" y="5446"/>
                      </a:lnTo>
                      <a:lnTo>
                        <a:pt x="4649" y="5444"/>
                      </a:lnTo>
                      <a:lnTo>
                        <a:pt x="4656" y="5441"/>
                      </a:lnTo>
                      <a:lnTo>
                        <a:pt x="4671" y="5433"/>
                      </a:lnTo>
                      <a:lnTo>
                        <a:pt x="4687" y="5421"/>
                      </a:lnTo>
                      <a:lnTo>
                        <a:pt x="4687" y="5421"/>
                      </a:lnTo>
                      <a:lnTo>
                        <a:pt x="4704" y="5410"/>
                      </a:lnTo>
                      <a:lnTo>
                        <a:pt x="4717" y="5398"/>
                      </a:lnTo>
                      <a:lnTo>
                        <a:pt x="4722" y="5393"/>
                      </a:lnTo>
                      <a:lnTo>
                        <a:pt x="4725" y="5386"/>
                      </a:lnTo>
                      <a:lnTo>
                        <a:pt x="4728" y="5382"/>
                      </a:lnTo>
                      <a:lnTo>
                        <a:pt x="4732" y="5373"/>
                      </a:lnTo>
                      <a:lnTo>
                        <a:pt x="4733" y="5365"/>
                      </a:lnTo>
                      <a:lnTo>
                        <a:pt x="4733" y="5355"/>
                      </a:lnTo>
                      <a:lnTo>
                        <a:pt x="4732" y="5330"/>
                      </a:lnTo>
                      <a:lnTo>
                        <a:pt x="4725" y="5297"/>
                      </a:lnTo>
                      <a:lnTo>
                        <a:pt x="4717" y="5255"/>
                      </a:lnTo>
                      <a:lnTo>
                        <a:pt x="4717" y="5255"/>
                      </a:lnTo>
                      <a:lnTo>
                        <a:pt x="4707" y="5222"/>
                      </a:lnTo>
                      <a:lnTo>
                        <a:pt x="4699" y="5190"/>
                      </a:lnTo>
                      <a:lnTo>
                        <a:pt x="4682" y="5138"/>
                      </a:lnTo>
                      <a:lnTo>
                        <a:pt x="4664" y="5096"/>
                      </a:lnTo>
                      <a:lnTo>
                        <a:pt x="4649" y="5063"/>
                      </a:lnTo>
                      <a:lnTo>
                        <a:pt x="4649" y="5063"/>
                      </a:lnTo>
                      <a:lnTo>
                        <a:pt x="4695" y="5025"/>
                      </a:lnTo>
                      <a:lnTo>
                        <a:pt x="4740" y="4987"/>
                      </a:lnTo>
                      <a:lnTo>
                        <a:pt x="4740" y="4987"/>
                      </a:lnTo>
                      <a:lnTo>
                        <a:pt x="4769" y="5009"/>
                      </a:lnTo>
                      <a:lnTo>
                        <a:pt x="4807" y="5032"/>
                      </a:lnTo>
                      <a:lnTo>
                        <a:pt x="4857" y="5058"/>
                      </a:lnTo>
                      <a:lnTo>
                        <a:pt x="4885" y="5072"/>
                      </a:lnTo>
                      <a:lnTo>
                        <a:pt x="4916" y="5086"/>
                      </a:lnTo>
                      <a:lnTo>
                        <a:pt x="4916" y="5086"/>
                      </a:lnTo>
                      <a:lnTo>
                        <a:pt x="4957" y="5103"/>
                      </a:lnTo>
                      <a:lnTo>
                        <a:pt x="4989" y="5114"/>
                      </a:lnTo>
                      <a:lnTo>
                        <a:pt x="5012" y="5121"/>
                      </a:lnTo>
                      <a:lnTo>
                        <a:pt x="5022" y="5121"/>
                      </a:lnTo>
                      <a:lnTo>
                        <a:pt x="5032" y="5121"/>
                      </a:lnTo>
                      <a:lnTo>
                        <a:pt x="5038" y="5121"/>
                      </a:lnTo>
                      <a:lnTo>
                        <a:pt x="5045" y="5119"/>
                      </a:lnTo>
                      <a:lnTo>
                        <a:pt x="5051" y="5116"/>
                      </a:lnTo>
                      <a:lnTo>
                        <a:pt x="5058" y="5111"/>
                      </a:lnTo>
                      <a:lnTo>
                        <a:pt x="5071" y="5101"/>
                      </a:lnTo>
                      <a:lnTo>
                        <a:pt x="5084" y="5086"/>
                      </a:lnTo>
                      <a:lnTo>
                        <a:pt x="5084" y="5086"/>
                      </a:lnTo>
                      <a:lnTo>
                        <a:pt x="5099" y="5072"/>
                      </a:lnTo>
                      <a:lnTo>
                        <a:pt x="5111" y="5060"/>
                      </a:lnTo>
                      <a:lnTo>
                        <a:pt x="5114" y="5053"/>
                      </a:lnTo>
                      <a:lnTo>
                        <a:pt x="5117" y="5047"/>
                      </a:lnTo>
                      <a:lnTo>
                        <a:pt x="5119" y="5040"/>
                      </a:lnTo>
                      <a:lnTo>
                        <a:pt x="5121" y="5032"/>
                      </a:lnTo>
                      <a:lnTo>
                        <a:pt x="5121" y="5024"/>
                      </a:lnTo>
                      <a:lnTo>
                        <a:pt x="5119" y="5014"/>
                      </a:lnTo>
                      <a:lnTo>
                        <a:pt x="5114" y="4989"/>
                      </a:lnTo>
                      <a:lnTo>
                        <a:pt x="5103" y="4958"/>
                      </a:lnTo>
                      <a:lnTo>
                        <a:pt x="5084" y="4917"/>
                      </a:lnTo>
                      <a:lnTo>
                        <a:pt x="5084" y="4917"/>
                      </a:lnTo>
                      <a:lnTo>
                        <a:pt x="5071" y="4887"/>
                      </a:lnTo>
                      <a:lnTo>
                        <a:pt x="5058" y="4857"/>
                      </a:lnTo>
                      <a:lnTo>
                        <a:pt x="5032" y="4809"/>
                      </a:lnTo>
                      <a:lnTo>
                        <a:pt x="5007" y="4770"/>
                      </a:lnTo>
                      <a:lnTo>
                        <a:pt x="4987" y="4740"/>
                      </a:lnTo>
                      <a:lnTo>
                        <a:pt x="4987" y="4740"/>
                      </a:lnTo>
                      <a:lnTo>
                        <a:pt x="5025" y="4696"/>
                      </a:lnTo>
                      <a:lnTo>
                        <a:pt x="5063" y="4651"/>
                      </a:lnTo>
                      <a:lnTo>
                        <a:pt x="5063" y="4651"/>
                      </a:lnTo>
                      <a:lnTo>
                        <a:pt x="5094" y="4666"/>
                      </a:lnTo>
                      <a:lnTo>
                        <a:pt x="5137" y="4682"/>
                      </a:lnTo>
                      <a:lnTo>
                        <a:pt x="5190" y="4701"/>
                      </a:lnTo>
                      <a:lnTo>
                        <a:pt x="5220" y="4709"/>
                      </a:lnTo>
                      <a:lnTo>
                        <a:pt x="5253" y="4717"/>
                      </a:lnTo>
                      <a:lnTo>
                        <a:pt x="5253" y="4717"/>
                      </a:lnTo>
                      <a:lnTo>
                        <a:pt x="5297" y="4727"/>
                      </a:lnTo>
                      <a:lnTo>
                        <a:pt x="5330" y="4732"/>
                      </a:lnTo>
                      <a:lnTo>
                        <a:pt x="5355" y="4734"/>
                      </a:lnTo>
                      <a:lnTo>
                        <a:pt x="5363" y="4734"/>
                      </a:lnTo>
                      <a:lnTo>
                        <a:pt x="5373" y="4732"/>
                      </a:lnTo>
                      <a:lnTo>
                        <a:pt x="5380" y="4730"/>
                      </a:lnTo>
                      <a:lnTo>
                        <a:pt x="5386" y="4727"/>
                      </a:lnTo>
                      <a:lnTo>
                        <a:pt x="5393" y="4722"/>
                      </a:lnTo>
                      <a:lnTo>
                        <a:pt x="5398" y="4717"/>
                      </a:lnTo>
                      <a:lnTo>
                        <a:pt x="5408" y="4704"/>
                      </a:lnTo>
                      <a:lnTo>
                        <a:pt x="5419" y="4687"/>
                      </a:lnTo>
                      <a:lnTo>
                        <a:pt x="5419" y="4687"/>
                      </a:lnTo>
                      <a:lnTo>
                        <a:pt x="5431" y="4671"/>
                      </a:lnTo>
                      <a:lnTo>
                        <a:pt x="5441" y="4656"/>
                      </a:lnTo>
                      <a:lnTo>
                        <a:pt x="5442" y="4649"/>
                      </a:lnTo>
                      <a:lnTo>
                        <a:pt x="5444" y="4643"/>
                      </a:lnTo>
                      <a:lnTo>
                        <a:pt x="5445" y="4636"/>
                      </a:lnTo>
                      <a:lnTo>
                        <a:pt x="5445" y="4628"/>
                      </a:lnTo>
                      <a:lnTo>
                        <a:pt x="5444" y="4620"/>
                      </a:lnTo>
                      <a:lnTo>
                        <a:pt x="5441" y="4610"/>
                      </a:lnTo>
                      <a:lnTo>
                        <a:pt x="5431" y="4587"/>
                      </a:lnTo>
                      <a:lnTo>
                        <a:pt x="5414" y="4559"/>
                      </a:lnTo>
                      <a:lnTo>
                        <a:pt x="5391" y="4521"/>
                      </a:lnTo>
                      <a:lnTo>
                        <a:pt x="5391" y="4521"/>
                      </a:lnTo>
                      <a:lnTo>
                        <a:pt x="5371" y="4493"/>
                      </a:lnTo>
                      <a:lnTo>
                        <a:pt x="5353" y="4468"/>
                      </a:lnTo>
                      <a:lnTo>
                        <a:pt x="5319" y="4424"/>
                      </a:lnTo>
                      <a:lnTo>
                        <a:pt x="5287" y="4389"/>
                      </a:lnTo>
                      <a:lnTo>
                        <a:pt x="5262" y="4364"/>
                      </a:lnTo>
                      <a:lnTo>
                        <a:pt x="5262" y="4364"/>
                      </a:lnTo>
                      <a:lnTo>
                        <a:pt x="5292" y="4313"/>
                      </a:lnTo>
                      <a:lnTo>
                        <a:pt x="5322" y="4262"/>
                      </a:lnTo>
                      <a:lnTo>
                        <a:pt x="5322" y="4262"/>
                      </a:lnTo>
                      <a:lnTo>
                        <a:pt x="5356" y="4272"/>
                      </a:lnTo>
                      <a:lnTo>
                        <a:pt x="5401" y="4282"/>
                      </a:lnTo>
                      <a:lnTo>
                        <a:pt x="5455" y="4288"/>
                      </a:lnTo>
                      <a:lnTo>
                        <a:pt x="5487" y="4292"/>
                      </a:lnTo>
                      <a:lnTo>
                        <a:pt x="5521" y="4295"/>
                      </a:lnTo>
                      <a:lnTo>
                        <a:pt x="5521" y="4295"/>
                      </a:lnTo>
                      <a:lnTo>
                        <a:pt x="5566" y="4297"/>
                      </a:lnTo>
                      <a:lnTo>
                        <a:pt x="5599" y="4297"/>
                      </a:lnTo>
                      <a:lnTo>
                        <a:pt x="5624" y="4293"/>
                      </a:lnTo>
                      <a:lnTo>
                        <a:pt x="5633" y="4292"/>
                      </a:lnTo>
                      <a:lnTo>
                        <a:pt x="5642" y="4288"/>
                      </a:lnTo>
                      <a:lnTo>
                        <a:pt x="5648" y="4285"/>
                      </a:lnTo>
                      <a:lnTo>
                        <a:pt x="5653" y="4282"/>
                      </a:lnTo>
                      <a:lnTo>
                        <a:pt x="5658" y="4275"/>
                      </a:lnTo>
                      <a:lnTo>
                        <a:pt x="5663" y="4270"/>
                      </a:lnTo>
                      <a:lnTo>
                        <a:pt x="5671" y="4255"/>
                      </a:lnTo>
                      <a:lnTo>
                        <a:pt x="5680" y="4237"/>
                      </a:lnTo>
                      <a:lnTo>
                        <a:pt x="5680" y="4237"/>
                      </a:lnTo>
                      <a:lnTo>
                        <a:pt x="5688" y="4219"/>
                      </a:lnTo>
                      <a:lnTo>
                        <a:pt x="5694" y="4203"/>
                      </a:lnTo>
                      <a:lnTo>
                        <a:pt x="5696" y="4196"/>
                      </a:lnTo>
                      <a:lnTo>
                        <a:pt x="5696" y="4189"/>
                      </a:lnTo>
                      <a:lnTo>
                        <a:pt x="5696" y="4181"/>
                      </a:lnTo>
                      <a:lnTo>
                        <a:pt x="5694" y="4175"/>
                      </a:lnTo>
                      <a:lnTo>
                        <a:pt x="5691" y="4166"/>
                      </a:lnTo>
                      <a:lnTo>
                        <a:pt x="5688" y="4157"/>
                      </a:lnTo>
                      <a:lnTo>
                        <a:pt x="5673" y="4137"/>
                      </a:lnTo>
                      <a:lnTo>
                        <a:pt x="5652" y="4110"/>
                      </a:lnTo>
                      <a:lnTo>
                        <a:pt x="5622" y="4079"/>
                      </a:lnTo>
                      <a:lnTo>
                        <a:pt x="5622" y="4079"/>
                      </a:lnTo>
                      <a:lnTo>
                        <a:pt x="5599" y="4054"/>
                      </a:lnTo>
                      <a:lnTo>
                        <a:pt x="5576" y="4031"/>
                      </a:lnTo>
                      <a:lnTo>
                        <a:pt x="5535" y="3995"/>
                      </a:lnTo>
                      <a:lnTo>
                        <a:pt x="5498" y="3967"/>
                      </a:lnTo>
                      <a:lnTo>
                        <a:pt x="5469" y="3945"/>
                      </a:lnTo>
                      <a:lnTo>
                        <a:pt x="5469" y="3945"/>
                      </a:lnTo>
                      <a:lnTo>
                        <a:pt x="5488" y="3891"/>
                      </a:lnTo>
                      <a:lnTo>
                        <a:pt x="5508" y="3835"/>
                      </a:lnTo>
                      <a:lnTo>
                        <a:pt x="5508" y="3835"/>
                      </a:lnTo>
                      <a:lnTo>
                        <a:pt x="5544" y="3838"/>
                      </a:lnTo>
                      <a:lnTo>
                        <a:pt x="5591" y="3840"/>
                      </a:lnTo>
                      <a:lnTo>
                        <a:pt x="5645" y="3838"/>
                      </a:lnTo>
                      <a:lnTo>
                        <a:pt x="5678" y="3837"/>
                      </a:lnTo>
                      <a:lnTo>
                        <a:pt x="5711" y="3832"/>
                      </a:lnTo>
                      <a:lnTo>
                        <a:pt x="5711" y="3832"/>
                      </a:lnTo>
                      <a:lnTo>
                        <a:pt x="5755" y="3827"/>
                      </a:lnTo>
                      <a:lnTo>
                        <a:pt x="5788" y="3820"/>
                      </a:lnTo>
                      <a:lnTo>
                        <a:pt x="5812" y="3814"/>
                      </a:lnTo>
                      <a:lnTo>
                        <a:pt x="5821" y="3810"/>
                      </a:lnTo>
                      <a:lnTo>
                        <a:pt x="5828" y="3805"/>
                      </a:lnTo>
                      <a:lnTo>
                        <a:pt x="5835" y="3802"/>
                      </a:lnTo>
                      <a:lnTo>
                        <a:pt x="5840" y="3795"/>
                      </a:lnTo>
                      <a:lnTo>
                        <a:pt x="5843" y="3790"/>
                      </a:lnTo>
                      <a:lnTo>
                        <a:pt x="5848" y="3784"/>
                      </a:lnTo>
                      <a:lnTo>
                        <a:pt x="5853" y="3767"/>
                      </a:lnTo>
                      <a:lnTo>
                        <a:pt x="5858" y="3748"/>
                      </a:lnTo>
                      <a:lnTo>
                        <a:pt x="5858" y="3748"/>
                      </a:lnTo>
                      <a:lnTo>
                        <a:pt x="5863" y="3728"/>
                      </a:lnTo>
                      <a:lnTo>
                        <a:pt x="5866" y="3711"/>
                      </a:lnTo>
                      <a:lnTo>
                        <a:pt x="5866" y="3705"/>
                      </a:lnTo>
                      <a:lnTo>
                        <a:pt x="5866" y="3698"/>
                      </a:lnTo>
                      <a:lnTo>
                        <a:pt x="5864" y="3690"/>
                      </a:lnTo>
                      <a:lnTo>
                        <a:pt x="5861" y="3683"/>
                      </a:lnTo>
                      <a:lnTo>
                        <a:pt x="5858" y="3677"/>
                      </a:lnTo>
                      <a:lnTo>
                        <a:pt x="5851" y="3668"/>
                      </a:lnTo>
                      <a:lnTo>
                        <a:pt x="5833" y="3650"/>
                      </a:lnTo>
                      <a:lnTo>
                        <a:pt x="5808" y="3629"/>
                      </a:lnTo>
                      <a:lnTo>
                        <a:pt x="5774" y="3603"/>
                      </a:lnTo>
                      <a:lnTo>
                        <a:pt x="5774" y="3603"/>
                      </a:lnTo>
                      <a:lnTo>
                        <a:pt x="5746" y="3581"/>
                      </a:lnTo>
                      <a:lnTo>
                        <a:pt x="5719" y="3565"/>
                      </a:lnTo>
                      <a:lnTo>
                        <a:pt x="5671" y="3535"/>
                      </a:lnTo>
                      <a:lnTo>
                        <a:pt x="5630" y="3512"/>
                      </a:lnTo>
                      <a:lnTo>
                        <a:pt x="5599" y="3497"/>
                      </a:lnTo>
                      <a:lnTo>
                        <a:pt x="5599" y="3497"/>
                      </a:lnTo>
                      <a:lnTo>
                        <a:pt x="5609" y="3439"/>
                      </a:lnTo>
                      <a:lnTo>
                        <a:pt x="5619" y="3383"/>
                      </a:lnTo>
                      <a:lnTo>
                        <a:pt x="5619" y="3383"/>
                      </a:lnTo>
                      <a:lnTo>
                        <a:pt x="5655" y="3380"/>
                      </a:lnTo>
                      <a:lnTo>
                        <a:pt x="5699" y="3373"/>
                      </a:lnTo>
                      <a:lnTo>
                        <a:pt x="5755" y="3362"/>
                      </a:lnTo>
                      <a:lnTo>
                        <a:pt x="5785" y="3354"/>
                      </a:lnTo>
                      <a:lnTo>
                        <a:pt x="5818" y="3344"/>
                      </a:lnTo>
                      <a:lnTo>
                        <a:pt x="5818" y="3344"/>
                      </a:lnTo>
                      <a:lnTo>
                        <a:pt x="5861" y="3330"/>
                      </a:lnTo>
                      <a:lnTo>
                        <a:pt x="5892" y="3319"/>
                      </a:lnTo>
                      <a:lnTo>
                        <a:pt x="5914" y="3309"/>
                      </a:lnTo>
                      <a:lnTo>
                        <a:pt x="5922" y="3302"/>
                      </a:lnTo>
                      <a:lnTo>
                        <a:pt x="5929" y="3298"/>
                      </a:lnTo>
                      <a:lnTo>
                        <a:pt x="5935" y="3293"/>
                      </a:lnTo>
                      <a:lnTo>
                        <a:pt x="5938" y="3286"/>
                      </a:lnTo>
                      <a:lnTo>
                        <a:pt x="5942" y="3279"/>
                      </a:lnTo>
                      <a:lnTo>
                        <a:pt x="5943" y="3273"/>
                      </a:lnTo>
                      <a:lnTo>
                        <a:pt x="5947" y="3256"/>
                      </a:lnTo>
                      <a:lnTo>
                        <a:pt x="5948" y="3237"/>
                      </a:lnTo>
                      <a:lnTo>
                        <a:pt x="5948" y="3237"/>
                      </a:lnTo>
                      <a:lnTo>
                        <a:pt x="5950" y="3215"/>
                      </a:lnTo>
                      <a:lnTo>
                        <a:pt x="5950" y="3199"/>
                      </a:lnTo>
                      <a:lnTo>
                        <a:pt x="5950" y="3192"/>
                      </a:lnTo>
                      <a:lnTo>
                        <a:pt x="5947" y="3184"/>
                      </a:lnTo>
                      <a:lnTo>
                        <a:pt x="5945" y="3177"/>
                      </a:lnTo>
                      <a:lnTo>
                        <a:pt x="5940" y="3171"/>
                      </a:lnTo>
                      <a:lnTo>
                        <a:pt x="5935" y="3164"/>
                      </a:lnTo>
                      <a:lnTo>
                        <a:pt x="5927" y="3157"/>
                      </a:lnTo>
                      <a:lnTo>
                        <a:pt x="5907" y="3144"/>
                      </a:lnTo>
                      <a:lnTo>
                        <a:pt x="5879" y="3126"/>
                      </a:lnTo>
                      <a:lnTo>
                        <a:pt x="5840" y="3106"/>
                      </a:lnTo>
                      <a:lnTo>
                        <a:pt x="5840" y="3106"/>
                      </a:lnTo>
                      <a:close/>
                      <a:moveTo>
                        <a:pt x="2885" y="3319"/>
                      </a:moveTo>
                      <a:lnTo>
                        <a:pt x="2885" y="3319"/>
                      </a:lnTo>
                      <a:lnTo>
                        <a:pt x="2850" y="3307"/>
                      </a:lnTo>
                      <a:lnTo>
                        <a:pt x="2817" y="3294"/>
                      </a:lnTo>
                      <a:lnTo>
                        <a:pt x="2788" y="3276"/>
                      </a:lnTo>
                      <a:lnTo>
                        <a:pt x="2760" y="3256"/>
                      </a:lnTo>
                      <a:lnTo>
                        <a:pt x="2733" y="3235"/>
                      </a:lnTo>
                      <a:lnTo>
                        <a:pt x="2710" y="3210"/>
                      </a:lnTo>
                      <a:lnTo>
                        <a:pt x="2689" y="3184"/>
                      </a:lnTo>
                      <a:lnTo>
                        <a:pt x="2671" y="3154"/>
                      </a:lnTo>
                      <a:lnTo>
                        <a:pt x="2654" y="3124"/>
                      </a:lnTo>
                      <a:lnTo>
                        <a:pt x="2643" y="3093"/>
                      </a:lnTo>
                      <a:lnTo>
                        <a:pt x="2633" y="3060"/>
                      </a:lnTo>
                      <a:lnTo>
                        <a:pt x="2626" y="3027"/>
                      </a:lnTo>
                      <a:lnTo>
                        <a:pt x="2623" y="2992"/>
                      </a:lnTo>
                      <a:lnTo>
                        <a:pt x="2623" y="2958"/>
                      </a:lnTo>
                      <a:lnTo>
                        <a:pt x="2628" y="2922"/>
                      </a:lnTo>
                      <a:lnTo>
                        <a:pt x="2634" y="2887"/>
                      </a:lnTo>
                      <a:lnTo>
                        <a:pt x="2634" y="2887"/>
                      </a:lnTo>
                      <a:lnTo>
                        <a:pt x="2646" y="2852"/>
                      </a:lnTo>
                      <a:lnTo>
                        <a:pt x="2661" y="2819"/>
                      </a:lnTo>
                      <a:lnTo>
                        <a:pt x="2677" y="2790"/>
                      </a:lnTo>
                      <a:lnTo>
                        <a:pt x="2697" y="2762"/>
                      </a:lnTo>
                      <a:lnTo>
                        <a:pt x="2720" y="2735"/>
                      </a:lnTo>
                      <a:lnTo>
                        <a:pt x="2745" y="2712"/>
                      </a:lnTo>
                      <a:lnTo>
                        <a:pt x="2771" y="2691"/>
                      </a:lnTo>
                      <a:lnTo>
                        <a:pt x="2799" y="2673"/>
                      </a:lnTo>
                      <a:lnTo>
                        <a:pt x="2829" y="2656"/>
                      </a:lnTo>
                      <a:lnTo>
                        <a:pt x="2860" y="2645"/>
                      </a:lnTo>
                      <a:lnTo>
                        <a:pt x="2893" y="2635"/>
                      </a:lnTo>
                      <a:lnTo>
                        <a:pt x="2928" y="2628"/>
                      </a:lnTo>
                      <a:lnTo>
                        <a:pt x="2962" y="2625"/>
                      </a:lnTo>
                      <a:lnTo>
                        <a:pt x="2997" y="2625"/>
                      </a:lnTo>
                      <a:lnTo>
                        <a:pt x="3032" y="2630"/>
                      </a:lnTo>
                      <a:lnTo>
                        <a:pt x="3068" y="2636"/>
                      </a:lnTo>
                      <a:lnTo>
                        <a:pt x="3068" y="2636"/>
                      </a:lnTo>
                      <a:lnTo>
                        <a:pt x="3101" y="2648"/>
                      </a:lnTo>
                      <a:lnTo>
                        <a:pt x="3134" y="2663"/>
                      </a:lnTo>
                      <a:lnTo>
                        <a:pt x="3165" y="2679"/>
                      </a:lnTo>
                      <a:lnTo>
                        <a:pt x="3193" y="2699"/>
                      </a:lnTo>
                      <a:lnTo>
                        <a:pt x="3218" y="2722"/>
                      </a:lnTo>
                      <a:lnTo>
                        <a:pt x="3243" y="2747"/>
                      </a:lnTo>
                      <a:lnTo>
                        <a:pt x="3263" y="2773"/>
                      </a:lnTo>
                      <a:lnTo>
                        <a:pt x="3282" y="2801"/>
                      </a:lnTo>
                      <a:lnTo>
                        <a:pt x="3297" y="2831"/>
                      </a:lnTo>
                      <a:lnTo>
                        <a:pt x="3310" y="2864"/>
                      </a:lnTo>
                      <a:lnTo>
                        <a:pt x="3319" y="2895"/>
                      </a:lnTo>
                      <a:lnTo>
                        <a:pt x="3325" y="2930"/>
                      </a:lnTo>
                      <a:lnTo>
                        <a:pt x="3328" y="2964"/>
                      </a:lnTo>
                      <a:lnTo>
                        <a:pt x="3328" y="2999"/>
                      </a:lnTo>
                      <a:lnTo>
                        <a:pt x="3325" y="3034"/>
                      </a:lnTo>
                      <a:lnTo>
                        <a:pt x="3317" y="3070"/>
                      </a:lnTo>
                      <a:lnTo>
                        <a:pt x="3317" y="3070"/>
                      </a:lnTo>
                      <a:lnTo>
                        <a:pt x="3305" y="3103"/>
                      </a:lnTo>
                      <a:lnTo>
                        <a:pt x="3292" y="3136"/>
                      </a:lnTo>
                      <a:lnTo>
                        <a:pt x="3274" y="3167"/>
                      </a:lnTo>
                      <a:lnTo>
                        <a:pt x="3254" y="3195"/>
                      </a:lnTo>
                      <a:lnTo>
                        <a:pt x="3233" y="3222"/>
                      </a:lnTo>
                      <a:lnTo>
                        <a:pt x="3208" y="3245"/>
                      </a:lnTo>
                      <a:lnTo>
                        <a:pt x="3180" y="3266"/>
                      </a:lnTo>
                      <a:lnTo>
                        <a:pt x="3152" y="3284"/>
                      </a:lnTo>
                      <a:lnTo>
                        <a:pt x="3122" y="3299"/>
                      </a:lnTo>
                      <a:lnTo>
                        <a:pt x="3091" y="3312"/>
                      </a:lnTo>
                      <a:lnTo>
                        <a:pt x="3058" y="3321"/>
                      </a:lnTo>
                      <a:lnTo>
                        <a:pt x="3025" y="3327"/>
                      </a:lnTo>
                      <a:lnTo>
                        <a:pt x="2990" y="3330"/>
                      </a:lnTo>
                      <a:lnTo>
                        <a:pt x="2956" y="3330"/>
                      </a:lnTo>
                      <a:lnTo>
                        <a:pt x="2920" y="3327"/>
                      </a:lnTo>
                      <a:lnTo>
                        <a:pt x="2885" y="3319"/>
                      </a:lnTo>
                      <a:lnTo>
                        <a:pt x="2885" y="3319"/>
                      </a:lnTo>
                      <a:close/>
                    </a:path>
                  </a:pathLst>
                </a:custGeom>
                <a:gradFill rotWithShape="0">
                  <a:gsLst>
                    <a:gs pos="0">
                      <a:srgbClr val="a45200"/>
                    </a:gs>
                    <a:gs pos="100000">
                      <a:srgbClr val="c89834"/>
                    </a:gs>
                  </a:gsLst>
                  <a:lin ang="13500000"/>
                </a:gradFill>
                <a:ln w="9525">
                  <a:noFill/>
                </a:ln>
                <a:effectLst>
                  <a:outerShdw algn="tl" blurRad="50760" dir="2700000" dist="37674" rotWithShape="0">
                    <a:srgbClr val="000000">
                      <a:alpha val="20000"/>
                    </a:srgbClr>
                  </a:outerShdw>
                </a:effectLst>
              </p:spPr>
              <p:style>
                <a:lnRef idx="0"/>
                <a:fillRef idx="0"/>
                <a:effectRef idx="0"/>
                <a:fontRef idx="minor"/>
              </p:style>
              <p:txBody>
                <a:bodyPr numCol="1" spcCol="0" anchor="t">
                  <a:noAutofit/>
                </a:bodyPr>
                <a:p>
                  <a:pPr>
                    <a:lnSpc>
                      <a:spcPct val="85000"/>
                    </a:lnSpc>
                    <a:spcBef>
                      <a:spcPts val="360"/>
                    </a:spcBef>
                  </a:pPr>
                  <a:endParaRPr b="0" lang="en-US" sz="1800" spc="-1" strike="noStrike">
                    <a:solidFill>
                      <a:srgbClr val="000000"/>
                    </a:solidFill>
                    <a:latin typeface="Calibri"/>
                  </a:endParaRPr>
                </a:p>
              </p:txBody>
            </p:sp>
            <p:sp>
              <p:nvSpPr>
                <p:cNvPr id="641" name="Freeform 6"/>
                <p:cNvSpPr/>
                <p:nvPr/>
              </p:nvSpPr>
              <p:spPr>
                <a:xfrm>
                  <a:off x="1071360" y="4219560"/>
                  <a:ext cx="1423440" cy="1423440"/>
                </a:xfrm>
                <a:custGeom>
                  <a:avLst/>
                  <a:gdLst>
                    <a:gd name="textAreaLeft" fmla="*/ 0 w 1423440"/>
                    <a:gd name="textAreaRight" fmla="*/ 1423800 w 1423440"/>
                    <a:gd name="textAreaTop" fmla="*/ 0 h 1423440"/>
                    <a:gd name="textAreaBottom" fmla="*/ 1423800 h 1423440"/>
                  </a:gdLst>
                  <a:ahLst/>
                  <a:rect l="textAreaLeft" t="textAreaTop" r="textAreaRight" b="textAreaBottom"/>
                  <a:pathLst>
                    <a:path w="5950" h="5950">
                      <a:moveTo>
                        <a:pt x="5904" y="2636"/>
                      </a:moveTo>
                      <a:lnTo>
                        <a:pt x="5904" y="2636"/>
                      </a:lnTo>
                      <a:lnTo>
                        <a:pt x="5912" y="2719"/>
                      </a:lnTo>
                      <a:lnTo>
                        <a:pt x="5919" y="2800"/>
                      </a:lnTo>
                      <a:lnTo>
                        <a:pt x="5919" y="2800"/>
                      </a:lnTo>
                      <a:lnTo>
                        <a:pt x="5930" y="2791"/>
                      </a:lnTo>
                      <a:lnTo>
                        <a:pt x="5938" y="2781"/>
                      </a:lnTo>
                      <a:lnTo>
                        <a:pt x="5945" y="2773"/>
                      </a:lnTo>
                      <a:lnTo>
                        <a:pt x="5948" y="2763"/>
                      </a:lnTo>
                      <a:lnTo>
                        <a:pt x="5950" y="2753"/>
                      </a:lnTo>
                      <a:lnTo>
                        <a:pt x="5950" y="2742"/>
                      </a:lnTo>
                      <a:lnTo>
                        <a:pt x="5948" y="2715"/>
                      </a:lnTo>
                      <a:lnTo>
                        <a:pt x="5948" y="2715"/>
                      </a:lnTo>
                      <a:lnTo>
                        <a:pt x="5945" y="2689"/>
                      </a:lnTo>
                      <a:lnTo>
                        <a:pt x="5943" y="2678"/>
                      </a:lnTo>
                      <a:lnTo>
                        <a:pt x="5940" y="2668"/>
                      </a:lnTo>
                      <a:lnTo>
                        <a:pt x="5935" y="2659"/>
                      </a:lnTo>
                      <a:lnTo>
                        <a:pt x="5927" y="2651"/>
                      </a:lnTo>
                      <a:lnTo>
                        <a:pt x="5917" y="2645"/>
                      </a:lnTo>
                      <a:lnTo>
                        <a:pt x="5904" y="2636"/>
                      </a:lnTo>
                      <a:lnTo>
                        <a:pt x="5904" y="2636"/>
                      </a:lnTo>
                      <a:close/>
                      <a:moveTo>
                        <a:pt x="2202" y="92"/>
                      </a:moveTo>
                      <a:lnTo>
                        <a:pt x="2202" y="92"/>
                      </a:lnTo>
                      <a:lnTo>
                        <a:pt x="2176" y="101"/>
                      </a:lnTo>
                      <a:lnTo>
                        <a:pt x="2164" y="104"/>
                      </a:lnTo>
                      <a:lnTo>
                        <a:pt x="2156" y="109"/>
                      </a:lnTo>
                      <a:lnTo>
                        <a:pt x="2148" y="117"/>
                      </a:lnTo>
                      <a:lnTo>
                        <a:pt x="2141" y="125"/>
                      </a:lnTo>
                      <a:lnTo>
                        <a:pt x="2136" y="138"/>
                      </a:lnTo>
                      <a:lnTo>
                        <a:pt x="2131" y="155"/>
                      </a:lnTo>
                      <a:lnTo>
                        <a:pt x="2131" y="155"/>
                      </a:lnTo>
                      <a:lnTo>
                        <a:pt x="2212" y="132"/>
                      </a:lnTo>
                      <a:lnTo>
                        <a:pt x="2295" y="110"/>
                      </a:lnTo>
                      <a:lnTo>
                        <a:pt x="2295" y="110"/>
                      </a:lnTo>
                      <a:lnTo>
                        <a:pt x="2282" y="99"/>
                      </a:lnTo>
                      <a:lnTo>
                        <a:pt x="2272" y="91"/>
                      </a:lnTo>
                      <a:lnTo>
                        <a:pt x="2260" y="86"/>
                      </a:lnTo>
                      <a:lnTo>
                        <a:pt x="2250" y="84"/>
                      </a:lnTo>
                      <a:lnTo>
                        <a:pt x="2240" y="84"/>
                      </a:lnTo>
                      <a:lnTo>
                        <a:pt x="2229" y="86"/>
                      </a:lnTo>
                      <a:lnTo>
                        <a:pt x="2202" y="92"/>
                      </a:lnTo>
                      <a:lnTo>
                        <a:pt x="2202" y="92"/>
                      </a:lnTo>
                      <a:close/>
                      <a:moveTo>
                        <a:pt x="5419" y="1263"/>
                      </a:moveTo>
                      <a:lnTo>
                        <a:pt x="5419" y="1263"/>
                      </a:lnTo>
                      <a:lnTo>
                        <a:pt x="5404" y="1242"/>
                      </a:lnTo>
                      <a:lnTo>
                        <a:pt x="5396" y="1233"/>
                      </a:lnTo>
                      <a:lnTo>
                        <a:pt x="5388" y="1227"/>
                      </a:lnTo>
                      <a:lnTo>
                        <a:pt x="5380" y="1222"/>
                      </a:lnTo>
                      <a:lnTo>
                        <a:pt x="5368" y="1218"/>
                      </a:lnTo>
                      <a:lnTo>
                        <a:pt x="5355" y="1217"/>
                      </a:lnTo>
                      <a:lnTo>
                        <a:pt x="5340" y="1218"/>
                      </a:lnTo>
                      <a:lnTo>
                        <a:pt x="5340" y="1218"/>
                      </a:lnTo>
                      <a:lnTo>
                        <a:pt x="5388" y="1286"/>
                      </a:lnTo>
                      <a:lnTo>
                        <a:pt x="5436" y="1354"/>
                      </a:lnTo>
                      <a:lnTo>
                        <a:pt x="5436" y="1354"/>
                      </a:lnTo>
                      <a:lnTo>
                        <a:pt x="5441" y="1339"/>
                      </a:lnTo>
                      <a:lnTo>
                        <a:pt x="5444" y="1327"/>
                      </a:lnTo>
                      <a:lnTo>
                        <a:pt x="5445" y="1316"/>
                      </a:lnTo>
                      <a:lnTo>
                        <a:pt x="5444" y="1306"/>
                      </a:lnTo>
                      <a:lnTo>
                        <a:pt x="5441" y="1296"/>
                      </a:lnTo>
                      <a:lnTo>
                        <a:pt x="5436" y="1286"/>
                      </a:lnTo>
                      <a:lnTo>
                        <a:pt x="5419" y="1263"/>
                      </a:lnTo>
                      <a:lnTo>
                        <a:pt x="5419" y="1263"/>
                      </a:lnTo>
                      <a:close/>
                      <a:moveTo>
                        <a:pt x="5919" y="3151"/>
                      </a:moveTo>
                      <a:lnTo>
                        <a:pt x="5919" y="3151"/>
                      </a:lnTo>
                      <a:lnTo>
                        <a:pt x="5912" y="3233"/>
                      </a:lnTo>
                      <a:lnTo>
                        <a:pt x="5904" y="3314"/>
                      </a:lnTo>
                      <a:lnTo>
                        <a:pt x="5904" y="3314"/>
                      </a:lnTo>
                      <a:lnTo>
                        <a:pt x="5917" y="3307"/>
                      </a:lnTo>
                      <a:lnTo>
                        <a:pt x="5927" y="3299"/>
                      </a:lnTo>
                      <a:lnTo>
                        <a:pt x="5935" y="3291"/>
                      </a:lnTo>
                      <a:lnTo>
                        <a:pt x="5940" y="3283"/>
                      </a:lnTo>
                      <a:lnTo>
                        <a:pt x="5943" y="3273"/>
                      </a:lnTo>
                      <a:lnTo>
                        <a:pt x="5945" y="3263"/>
                      </a:lnTo>
                      <a:lnTo>
                        <a:pt x="5948" y="3237"/>
                      </a:lnTo>
                      <a:lnTo>
                        <a:pt x="5948" y="3237"/>
                      </a:lnTo>
                      <a:lnTo>
                        <a:pt x="5950" y="3208"/>
                      </a:lnTo>
                      <a:lnTo>
                        <a:pt x="5950" y="3199"/>
                      </a:lnTo>
                      <a:lnTo>
                        <a:pt x="5948" y="3187"/>
                      </a:lnTo>
                      <a:lnTo>
                        <a:pt x="5945" y="3179"/>
                      </a:lnTo>
                      <a:lnTo>
                        <a:pt x="5938" y="3169"/>
                      </a:lnTo>
                      <a:lnTo>
                        <a:pt x="5930" y="3161"/>
                      </a:lnTo>
                      <a:lnTo>
                        <a:pt x="5919" y="3151"/>
                      </a:lnTo>
                      <a:lnTo>
                        <a:pt x="5919" y="3151"/>
                      </a:lnTo>
                      <a:close/>
                      <a:moveTo>
                        <a:pt x="5800" y="2133"/>
                      </a:moveTo>
                      <a:lnTo>
                        <a:pt x="5800" y="2133"/>
                      </a:lnTo>
                      <a:lnTo>
                        <a:pt x="5821" y="2213"/>
                      </a:lnTo>
                      <a:lnTo>
                        <a:pt x="5843" y="2292"/>
                      </a:lnTo>
                      <a:lnTo>
                        <a:pt x="5843" y="2292"/>
                      </a:lnTo>
                      <a:lnTo>
                        <a:pt x="5853" y="2280"/>
                      </a:lnTo>
                      <a:lnTo>
                        <a:pt x="5859" y="2270"/>
                      </a:lnTo>
                      <a:lnTo>
                        <a:pt x="5864" y="2260"/>
                      </a:lnTo>
                      <a:lnTo>
                        <a:pt x="5866" y="2251"/>
                      </a:lnTo>
                      <a:lnTo>
                        <a:pt x="5866" y="2241"/>
                      </a:lnTo>
                      <a:lnTo>
                        <a:pt x="5864" y="2229"/>
                      </a:lnTo>
                      <a:lnTo>
                        <a:pt x="5858" y="2203"/>
                      </a:lnTo>
                      <a:lnTo>
                        <a:pt x="5858" y="2203"/>
                      </a:lnTo>
                      <a:lnTo>
                        <a:pt x="5851" y="2176"/>
                      </a:lnTo>
                      <a:lnTo>
                        <a:pt x="5846" y="2166"/>
                      </a:lnTo>
                      <a:lnTo>
                        <a:pt x="5841" y="2158"/>
                      </a:lnTo>
                      <a:lnTo>
                        <a:pt x="5835" y="2150"/>
                      </a:lnTo>
                      <a:lnTo>
                        <a:pt x="5826" y="2143"/>
                      </a:lnTo>
                      <a:lnTo>
                        <a:pt x="5815" y="2138"/>
                      </a:lnTo>
                      <a:lnTo>
                        <a:pt x="5800" y="2133"/>
                      </a:lnTo>
                      <a:lnTo>
                        <a:pt x="5800" y="2133"/>
                      </a:lnTo>
                      <a:close/>
                      <a:moveTo>
                        <a:pt x="2715" y="2"/>
                      </a:moveTo>
                      <a:lnTo>
                        <a:pt x="2715" y="2"/>
                      </a:lnTo>
                      <a:lnTo>
                        <a:pt x="2687" y="5"/>
                      </a:lnTo>
                      <a:lnTo>
                        <a:pt x="2676" y="7"/>
                      </a:lnTo>
                      <a:lnTo>
                        <a:pt x="2666" y="10"/>
                      </a:lnTo>
                      <a:lnTo>
                        <a:pt x="2657" y="16"/>
                      </a:lnTo>
                      <a:lnTo>
                        <a:pt x="2649" y="25"/>
                      </a:lnTo>
                      <a:lnTo>
                        <a:pt x="2641" y="35"/>
                      </a:lnTo>
                      <a:lnTo>
                        <a:pt x="2634" y="51"/>
                      </a:lnTo>
                      <a:lnTo>
                        <a:pt x="2634" y="51"/>
                      </a:lnTo>
                      <a:lnTo>
                        <a:pt x="2718" y="41"/>
                      </a:lnTo>
                      <a:lnTo>
                        <a:pt x="2803" y="36"/>
                      </a:lnTo>
                      <a:lnTo>
                        <a:pt x="2803" y="36"/>
                      </a:lnTo>
                      <a:lnTo>
                        <a:pt x="2791" y="21"/>
                      </a:lnTo>
                      <a:lnTo>
                        <a:pt x="2783" y="13"/>
                      </a:lnTo>
                      <a:lnTo>
                        <a:pt x="2773" y="7"/>
                      </a:lnTo>
                      <a:lnTo>
                        <a:pt x="2763" y="2"/>
                      </a:lnTo>
                      <a:lnTo>
                        <a:pt x="2753" y="0"/>
                      </a:lnTo>
                      <a:lnTo>
                        <a:pt x="2742" y="0"/>
                      </a:lnTo>
                      <a:lnTo>
                        <a:pt x="2715" y="2"/>
                      </a:lnTo>
                      <a:lnTo>
                        <a:pt x="2715" y="2"/>
                      </a:lnTo>
                      <a:close/>
                      <a:moveTo>
                        <a:pt x="4687" y="531"/>
                      </a:moveTo>
                      <a:lnTo>
                        <a:pt x="4687" y="531"/>
                      </a:lnTo>
                      <a:lnTo>
                        <a:pt x="4664" y="514"/>
                      </a:lnTo>
                      <a:lnTo>
                        <a:pt x="4654" y="509"/>
                      </a:lnTo>
                      <a:lnTo>
                        <a:pt x="4644" y="506"/>
                      </a:lnTo>
                      <a:lnTo>
                        <a:pt x="4634" y="505"/>
                      </a:lnTo>
                      <a:lnTo>
                        <a:pt x="4623" y="506"/>
                      </a:lnTo>
                      <a:lnTo>
                        <a:pt x="4611" y="509"/>
                      </a:lnTo>
                      <a:lnTo>
                        <a:pt x="4595" y="514"/>
                      </a:lnTo>
                      <a:lnTo>
                        <a:pt x="4595" y="514"/>
                      </a:lnTo>
                      <a:lnTo>
                        <a:pt x="4664" y="562"/>
                      </a:lnTo>
                      <a:lnTo>
                        <a:pt x="4732" y="610"/>
                      </a:lnTo>
                      <a:lnTo>
                        <a:pt x="4732" y="610"/>
                      </a:lnTo>
                      <a:lnTo>
                        <a:pt x="4733" y="595"/>
                      </a:lnTo>
                      <a:lnTo>
                        <a:pt x="4732" y="582"/>
                      </a:lnTo>
                      <a:lnTo>
                        <a:pt x="4728" y="570"/>
                      </a:lnTo>
                      <a:lnTo>
                        <a:pt x="4723" y="562"/>
                      </a:lnTo>
                      <a:lnTo>
                        <a:pt x="4717" y="554"/>
                      </a:lnTo>
                      <a:lnTo>
                        <a:pt x="4708" y="546"/>
                      </a:lnTo>
                      <a:lnTo>
                        <a:pt x="4687" y="531"/>
                      </a:lnTo>
                      <a:lnTo>
                        <a:pt x="4687" y="531"/>
                      </a:lnTo>
                      <a:close/>
                      <a:moveTo>
                        <a:pt x="5084" y="866"/>
                      </a:moveTo>
                      <a:lnTo>
                        <a:pt x="5084" y="866"/>
                      </a:lnTo>
                      <a:lnTo>
                        <a:pt x="5066" y="846"/>
                      </a:lnTo>
                      <a:lnTo>
                        <a:pt x="5056" y="839"/>
                      </a:lnTo>
                      <a:lnTo>
                        <a:pt x="5048" y="834"/>
                      </a:lnTo>
                      <a:lnTo>
                        <a:pt x="5038" y="831"/>
                      </a:lnTo>
                      <a:lnTo>
                        <a:pt x="5027" y="829"/>
                      </a:lnTo>
                      <a:lnTo>
                        <a:pt x="5014" y="831"/>
                      </a:lnTo>
                      <a:lnTo>
                        <a:pt x="4999" y="834"/>
                      </a:lnTo>
                      <a:lnTo>
                        <a:pt x="4999" y="834"/>
                      </a:lnTo>
                      <a:lnTo>
                        <a:pt x="5058" y="892"/>
                      </a:lnTo>
                      <a:lnTo>
                        <a:pt x="5116" y="951"/>
                      </a:lnTo>
                      <a:lnTo>
                        <a:pt x="5116" y="951"/>
                      </a:lnTo>
                      <a:lnTo>
                        <a:pt x="5119" y="936"/>
                      </a:lnTo>
                      <a:lnTo>
                        <a:pt x="5121" y="923"/>
                      </a:lnTo>
                      <a:lnTo>
                        <a:pt x="5119" y="912"/>
                      </a:lnTo>
                      <a:lnTo>
                        <a:pt x="5116" y="902"/>
                      </a:lnTo>
                      <a:lnTo>
                        <a:pt x="5111" y="894"/>
                      </a:lnTo>
                      <a:lnTo>
                        <a:pt x="5104" y="884"/>
                      </a:lnTo>
                      <a:lnTo>
                        <a:pt x="5084" y="866"/>
                      </a:lnTo>
                      <a:lnTo>
                        <a:pt x="5084" y="866"/>
                      </a:lnTo>
                      <a:close/>
                      <a:moveTo>
                        <a:pt x="5681" y="4148"/>
                      </a:moveTo>
                      <a:lnTo>
                        <a:pt x="5681" y="4148"/>
                      </a:lnTo>
                      <a:lnTo>
                        <a:pt x="5648" y="4222"/>
                      </a:lnTo>
                      <a:lnTo>
                        <a:pt x="5612" y="4295"/>
                      </a:lnTo>
                      <a:lnTo>
                        <a:pt x="5612" y="4295"/>
                      </a:lnTo>
                      <a:lnTo>
                        <a:pt x="5627" y="4293"/>
                      </a:lnTo>
                      <a:lnTo>
                        <a:pt x="5640" y="4290"/>
                      </a:lnTo>
                      <a:lnTo>
                        <a:pt x="5648" y="4285"/>
                      </a:lnTo>
                      <a:lnTo>
                        <a:pt x="5657" y="4279"/>
                      </a:lnTo>
                      <a:lnTo>
                        <a:pt x="5663" y="4270"/>
                      </a:lnTo>
                      <a:lnTo>
                        <a:pt x="5668" y="4260"/>
                      </a:lnTo>
                      <a:lnTo>
                        <a:pt x="5680" y="4237"/>
                      </a:lnTo>
                      <a:lnTo>
                        <a:pt x="5680" y="4237"/>
                      </a:lnTo>
                      <a:lnTo>
                        <a:pt x="5691" y="4213"/>
                      </a:lnTo>
                      <a:lnTo>
                        <a:pt x="5694" y="4203"/>
                      </a:lnTo>
                      <a:lnTo>
                        <a:pt x="5696" y="4193"/>
                      </a:lnTo>
                      <a:lnTo>
                        <a:pt x="5696" y="4183"/>
                      </a:lnTo>
                      <a:lnTo>
                        <a:pt x="5694" y="4171"/>
                      </a:lnTo>
                      <a:lnTo>
                        <a:pt x="5689" y="4160"/>
                      </a:lnTo>
                      <a:lnTo>
                        <a:pt x="5681" y="4148"/>
                      </a:lnTo>
                      <a:lnTo>
                        <a:pt x="5681" y="4148"/>
                      </a:lnTo>
                      <a:close/>
                      <a:moveTo>
                        <a:pt x="4146" y="5682"/>
                      </a:moveTo>
                      <a:lnTo>
                        <a:pt x="4146" y="5682"/>
                      </a:lnTo>
                      <a:lnTo>
                        <a:pt x="4159" y="5690"/>
                      </a:lnTo>
                      <a:lnTo>
                        <a:pt x="4171" y="5695"/>
                      </a:lnTo>
                      <a:lnTo>
                        <a:pt x="4181" y="5698"/>
                      </a:lnTo>
                      <a:lnTo>
                        <a:pt x="4191" y="5698"/>
                      </a:lnTo>
                      <a:lnTo>
                        <a:pt x="4201" y="5695"/>
                      </a:lnTo>
                      <a:lnTo>
                        <a:pt x="4212" y="5691"/>
                      </a:lnTo>
                      <a:lnTo>
                        <a:pt x="4235" y="5680"/>
                      </a:lnTo>
                      <a:lnTo>
                        <a:pt x="4235" y="5680"/>
                      </a:lnTo>
                      <a:lnTo>
                        <a:pt x="4260" y="5668"/>
                      </a:lnTo>
                      <a:lnTo>
                        <a:pt x="4270" y="5663"/>
                      </a:lnTo>
                      <a:lnTo>
                        <a:pt x="4278" y="5657"/>
                      </a:lnTo>
                      <a:lnTo>
                        <a:pt x="4283" y="5650"/>
                      </a:lnTo>
                      <a:lnTo>
                        <a:pt x="4288" y="5640"/>
                      </a:lnTo>
                      <a:lnTo>
                        <a:pt x="4291" y="5629"/>
                      </a:lnTo>
                      <a:lnTo>
                        <a:pt x="4295" y="5614"/>
                      </a:lnTo>
                      <a:lnTo>
                        <a:pt x="4295" y="5614"/>
                      </a:lnTo>
                      <a:lnTo>
                        <a:pt x="4220" y="5649"/>
                      </a:lnTo>
                      <a:lnTo>
                        <a:pt x="4146" y="5682"/>
                      </a:lnTo>
                      <a:lnTo>
                        <a:pt x="4146" y="5682"/>
                      </a:lnTo>
                      <a:close/>
                      <a:moveTo>
                        <a:pt x="1" y="2715"/>
                      </a:moveTo>
                      <a:lnTo>
                        <a:pt x="1" y="2715"/>
                      </a:lnTo>
                      <a:lnTo>
                        <a:pt x="0" y="2744"/>
                      </a:lnTo>
                      <a:lnTo>
                        <a:pt x="0" y="2753"/>
                      </a:lnTo>
                      <a:lnTo>
                        <a:pt x="1" y="2765"/>
                      </a:lnTo>
                      <a:lnTo>
                        <a:pt x="5" y="2773"/>
                      </a:lnTo>
                      <a:lnTo>
                        <a:pt x="11" y="2783"/>
                      </a:lnTo>
                      <a:lnTo>
                        <a:pt x="21" y="2793"/>
                      </a:lnTo>
                      <a:lnTo>
                        <a:pt x="34" y="2803"/>
                      </a:lnTo>
                      <a:lnTo>
                        <a:pt x="34" y="2803"/>
                      </a:lnTo>
                      <a:lnTo>
                        <a:pt x="41" y="2719"/>
                      </a:lnTo>
                      <a:lnTo>
                        <a:pt x="49" y="2635"/>
                      </a:lnTo>
                      <a:lnTo>
                        <a:pt x="49" y="2635"/>
                      </a:lnTo>
                      <a:lnTo>
                        <a:pt x="34" y="2643"/>
                      </a:lnTo>
                      <a:lnTo>
                        <a:pt x="23" y="2651"/>
                      </a:lnTo>
                      <a:lnTo>
                        <a:pt x="14" y="2658"/>
                      </a:lnTo>
                      <a:lnTo>
                        <a:pt x="10" y="2668"/>
                      </a:lnTo>
                      <a:lnTo>
                        <a:pt x="6" y="2678"/>
                      </a:lnTo>
                      <a:lnTo>
                        <a:pt x="3" y="2687"/>
                      </a:lnTo>
                      <a:lnTo>
                        <a:pt x="1" y="2715"/>
                      </a:lnTo>
                      <a:lnTo>
                        <a:pt x="1" y="2715"/>
                      </a:lnTo>
                      <a:close/>
                      <a:moveTo>
                        <a:pt x="1713" y="270"/>
                      </a:moveTo>
                      <a:lnTo>
                        <a:pt x="1713" y="270"/>
                      </a:lnTo>
                      <a:lnTo>
                        <a:pt x="1688" y="282"/>
                      </a:lnTo>
                      <a:lnTo>
                        <a:pt x="1678" y="289"/>
                      </a:lnTo>
                      <a:lnTo>
                        <a:pt x="1670" y="295"/>
                      </a:lnTo>
                      <a:lnTo>
                        <a:pt x="1663" y="303"/>
                      </a:lnTo>
                      <a:lnTo>
                        <a:pt x="1660" y="313"/>
                      </a:lnTo>
                      <a:lnTo>
                        <a:pt x="1657" y="328"/>
                      </a:lnTo>
                      <a:lnTo>
                        <a:pt x="1653" y="345"/>
                      </a:lnTo>
                      <a:lnTo>
                        <a:pt x="1653" y="345"/>
                      </a:lnTo>
                      <a:lnTo>
                        <a:pt x="1731" y="307"/>
                      </a:lnTo>
                      <a:lnTo>
                        <a:pt x="1808" y="272"/>
                      </a:lnTo>
                      <a:lnTo>
                        <a:pt x="1808" y="272"/>
                      </a:lnTo>
                      <a:lnTo>
                        <a:pt x="1793" y="264"/>
                      </a:lnTo>
                      <a:lnTo>
                        <a:pt x="1780" y="257"/>
                      </a:lnTo>
                      <a:lnTo>
                        <a:pt x="1770" y="254"/>
                      </a:lnTo>
                      <a:lnTo>
                        <a:pt x="1759" y="254"/>
                      </a:lnTo>
                      <a:lnTo>
                        <a:pt x="1749" y="256"/>
                      </a:lnTo>
                      <a:lnTo>
                        <a:pt x="1739" y="259"/>
                      </a:lnTo>
                      <a:lnTo>
                        <a:pt x="1713" y="270"/>
                      </a:lnTo>
                      <a:lnTo>
                        <a:pt x="1713" y="270"/>
                      </a:lnTo>
                      <a:close/>
                      <a:moveTo>
                        <a:pt x="5343" y="4734"/>
                      </a:moveTo>
                      <a:lnTo>
                        <a:pt x="5343" y="4734"/>
                      </a:lnTo>
                      <a:lnTo>
                        <a:pt x="5358" y="4734"/>
                      </a:lnTo>
                      <a:lnTo>
                        <a:pt x="5371" y="4732"/>
                      </a:lnTo>
                      <a:lnTo>
                        <a:pt x="5381" y="4729"/>
                      </a:lnTo>
                      <a:lnTo>
                        <a:pt x="5389" y="4724"/>
                      </a:lnTo>
                      <a:lnTo>
                        <a:pt x="5398" y="4717"/>
                      </a:lnTo>
                      <a:lnTo>
                        <a:pt x="5404" y="4709"/>
                      </a:lnTo>
                      <a:lnTo>
                        <a:pt x="5419" y="4687"/>
                      </a:lnTo>
                      <a:lnTo>
                        <a:pt x="5419" y="4687"/>
                      </a:lnTo>
                      <a:lnTo>
                        <a:pt x="5434" y="4666"/>
                      </a:lnTo>
                      <a:lnTo>
                        <a:pt x="5441" y="4656"/>
                      </a:lnTo>
                      <a:lnTo>
                        <a:pt x="5444" y="4646"/>
                      </a:lnTo>
                      <a:lnTo>
                        <a:pt x="5445" y="4636"/>
                      </a:lnTo>
                      <a:lnTo>
                        <a:pt x="5445" y="4626"/>
                      </a:lnTo>
                      <a:lnTo>
                        <a:pt x="5442" y="4615"/>
                      </a:lnTo>
                      <a:lnTo>
                        <a:pt x="5437" y="4600"/>
                      </a:lnTo>
                      <a:lnTo>
                        <a:pt x="5437" y="4600"/>
                      </a:lnTo>
                      <a:lnTo>
                        <a:pt x="5391" y="4668"/>
                      </a:lnTo>
                      <a:lnTo>
                        <a:pt x="5343" y="4734"/>
                      </a:lnTo>
                      <a:lnTo>
                        <a:pt x="5343" y="4734"/>
                      </a:lnTo>
                      <a:close/>
                      <a:moveTo>
                        <a:pt x="5002" y="5118"/>
                      </a:moveTo>
                      <a:lnTo>
                        <a:pt x="5002" y="5118"/>
                      </a:lnTo>
                      <a:lnTo>
                        <a:pt x="5017" y="5121"/>
                      </a:lnTo>
                      <a:lnTo>
                        <a:pt x="5030" y="5121"/>
                      </a:lnTo>
                      <a:lnTo>
                        <a:pt x="5040" y="5121"/>
                      </a:lnTo>
                      <a:lnTo>
                        <a:pt x="5050" y="5118"/>
                      </a:lnTo>
                      <a:lnTo>
                        <a:pt x="5058" y="5111"/>
                      </a:lnTo>
                      <a:lnTo>
                        <a:pt x="5066" y="5105"/>
                      </a:lnTo>
                      <a:lnTo>
                        <a:pt x="5084" y="5086"/>
                      </a:lnTo>
                      <a:lnTo>
                        <a:pt x="5084" y="5086"/>
                      </a:lnTo>
                      <a:lnTo>
                        <a:pt x="5104" y="5067"/>
                      </a:lnTo>
                      <a:lnTo>
                        <a:pt x="5111" y="5058"/>
                      </a:lnTo>
                      <a:lnTo>
                        <a:pt x="5116" y="5050"/>
                      </a:lnTo>
                      <a:lnTo>
                        <a:pt x="5119" y="5040"/>
                      </a:lnTo>
                      <a:lnTo>
                        <a:pt x="5121" y="5030"/>
                      </a:lnTo>
                      <a:lnTo>
                        <a:pt x="5121" y="5019"/>
                      </a:lnTo>
                      <a:lnTo>
                        <a:pt x="5117" y="5004"/>
                      </a:lnTo>
                      <a:lnTo>
                        <a:pt x="5117" y="5004"/>
                      </a:lnTo>
                      <a:lnTo>
                        <a:pt x="5060" y="5062"/>
                      </a:lnTo>
                      <a:lnTo>
                        <a:pt x="5002" y="5118"/>
                      </a:lnTo>
                      <a:lnTo>
                        <a:pt x="5002" y="5118"/>
                      </a:lnTo>
                      <a:close/>
                      <a:moveTo>
                        <a:pt x="1" y="3237"/>
                      </a:moveTo>
                      <a:lnTo>
                        <a:pt x="1" y="3237"/>
                      </a:lnTo>
                      <a:lnTo>
                        <a:pt x="3" y="3263"/>
                      </a:lnTo>
                      <a:lnTo>
                        <a:pt x="6" y="3274"/>
                      </a:lnTo>
                      <a:lnTo>
                        <a:pt x="10" y="3284"/>
                      </a:lnTo>
                      <a:lnTo>
                        <a:pt x="14" y="3293"/>
                      </a:lnTo>
                      <a:lnTo>
                        <a:pt x="23" y="3301"/>
                      </a:lnTo>
                      <a:lnTo>
                        <a:pt x="33" y="3307"/>
                      </a:lnTo>
                      <a:lnTo>
                        <a:pt x="47" y="3316"/>
                      </a:lnTo>
                      <a:lnTo>
                        <a:pt x="47" y="3316"/>
                      </a:lnTo>
                      <a:lnTo>
                        <a:pt x="39" y="3233"/>
                      </a:lnTo>
                      <a:lnTo>
                        <a:pt x="33" y="3149"/>
                      </a:lnTo>
                      <a:lnTo>
                        <a:pt x="33" y="3149"/>
                      </a:lnTo>
                      <a:lnTo>
                        <a:pt x="21" y="3159"/>
                      </a:lnTo>
                      <a:lnTo>
                        <a:pt x="11" y="3169"/>
                      </a:lnTo>
                      <a:lnTo>
                        <a:pt x="5" y="3177"/>
                      </a:lnTo>
                      <a:lnTo>
                        <a:pt x="1" y="3187"/>
                      </a:lnTo>
                      <a:lnTo>
                        <a:pt x="0" y="3197"/>
                      </a:lnTo>
                      <a:lnTo>
                        <a:pt x="0" y="3208"/>
                      </a:lnTo>
                      <a:lnTo>
                        <a:pt x="1" y="3237"/>
                      </a:lnTo>
                      <a:lnTo>
                        <a:pt x="1" y="3237"/>
                      </a:lnTo>
                      <a:close/>
                      <a:moveTo>
                        <a:pt x="270" y="1715"/>
                      </a:moveTo>
                      <a:lnTo>
                        <a:pt x="270" y="1715"/>
                      </a:lnTo>
                      <a:lnTo>
                        <a:pt x="259" y="1739"/>
                      </a:lnTo>
                      <a:lnTo>
                        <a:pt x="254" y="1749"/>
                      </a:lnTo>
                      <a:lnTo>
                        <a:pt x="252" y="1761"/>
                      </a:lnTo>
                      <a:lnTo>
                        <a:pt x="254" y="1771"/>
                      </a:lnTo>
                      <a:lnTo>
                        <a:pt x="255" y="1782"/>
                      </a:lnTo>
                      <a:lnTo>
                        <a:pt x="262" y="1794"/>
                      </a:lnTo>
                      <a:lnTo>
                        <a:pt x="272" y="1809"/>
                      </a:lnTo>
                      <a:lnTo>
                        <a:pt x="272" y="1809"/>
                      </a:lnTo>
                      <a:lnTo>
                        <a:pt x="306" y="1731"/>
                      </a:lnTo>
                      <a:lnTo>
                        <a:pt x="343" y="1655"/>
                      </a:lnTo>
                      <a:lnTo>
                        <a:pt x="343" y="1655"/>
                      </a:lnTo>
                      <a:lnTo>
                        <a:pt x="326" y="1657"/>
                      </a:lnTo>
                      <a:lnTo>
                        <a:pt x="313" y="1660"/>
                      </a:lnTo>
                      <a:lnTo>
                        <a:pt x="301" y="1665"/>
                      </a:lnTo>
                      <a:lnTo>
                        <a:pt x="293" y="1672"/>
                      </a:lnTo>
                      <a:lnTo>
                        <a:pt x="287" y="1680"/>
                      </a:lnTo>
                      <a:lnTo>
                        <a:pt x="282" y="1688"/>
                      </a:lnTo>
                      <a:lnTo>
                        <a:pt x="270" y="1715"/>
                      </a:lnTo>
                      <a:lnTo>
                        <a:pt x="270" y="1715"/>
                      </a:lnTo>
                      <a:close/>
                      <a:moveTo>
                        <a:pt x="529" y="1263"/>
                      </a:moveTo>
                      <a:lnTo>
                        <a:pt x="529" y="1263"/>
                      </a:lnTo>
                      <a:lnTo>
                        <a:pt x="514" y="1286"/>
                      </a:lnTo>
                      <a:lnTo>
                        <a:pt x="509" y="1296"/>
                      </a:lnTo>
                      <a:lnTo>
                        <a:pt x="504" y="1306"/>
                      </a:lnTo>
                      <a:lnTo>
                        <a:pt x="504" y="1316"/>
                      </a:lnTo>
                      <a:lnTo>
                        <a:pt x="504" y="1327"/>
                      </a:lnTo>
                      <a:lnTo>
                        <a:pt x="507" y="1340"/>
                      </a:lnTo>
                      <a:lnTo>
                        <a:pt x="514" y="1355"/>
                      </a:lnTo>
                      <a:lnTo>
                        <a:pt x="514" y="1355"/>
                      </a:lnTo>
                      <a:lnTo>
                        <a:pt x="562" y="1286"/>
                      </a:lnTo>
                      <a:lnTo>
                        <a:pt x="611" y="1218"/>
                      </a:lnTo>
                      <a:lnTo>
                        <a:pt x="611" y="1218"/>
                      </a:lnTo>
                      <a:lnTo>
                        <a:pt x="595" y="1217"/>
                      </a:lnTo>
                      <a:lnTo>
                        <a:pt x="582" y="1218"/>
                      </a:lnTo>
                      <a:lnTo>
                        <a:pt x="570" y="1222"/>
                      </a:lnTo>
                      <a:lnTo>
                        <a:pt x="560" y="1225"/>
                      </a:lnTo>
                      <a:lnTo>
                        <a:pt x="554" y="1233"/>
                      </a:lnTo>
                      <a:lnTo>
                        <a:pt x="545" y="1242"/>
                      </a:lnTo>
                      <a:lnTo>
                        <a:pt x="529" y="1263"/>
                      </a:lnTo>
                      <a:lnTo>
                        <a:pt x="529" y="1263"/>
                      </a:lnTo>
                      <a:close/>
                      <a:moveTo>
                        <a:pt x="864" y="866"/>
                      </a:moveTo>
                      <a:lnTo>
                        <a:pt x="864" y="866"/>
                      </a:lnTo>
                      <a:lnTo>
                        <a:pt x="844" y="885"/>
                      </a:lnTo>
                      <a:lnTo>
                        <a:pt x="837" y="894"/>
                      </a:lnTo>
                      <a:lnTo>
                        <a:pt x="832" y="902"/>
                      </a:lnTo>
                      <a:lnTo>
                        <a:pt x="829" y="912"/>
                      </a:lnTo>
                      <a:lnTo>
                        <a:pt x="829" y="923"/>
                      </a:lnTo>
                      <a:lnTo>
                        <a:pt x="829" y="938"/>
                      </a:lnTo>
                      <a:lnTo>
                        <a:pt x="834" y="955"/>
                      </a:lnTo>
                      <a:lnTo>
                        <a:pt x="834" y="955"/>
                      </a:lnTo>
                      <a:lnTo>
                        <a:pt x="893" y="894"/>
                      </a:lnTo>
                      <a:lnTo>
                        <a:pt x="953" y="834"/>
                      </a:lnTo>
                      <a:lnTo>
                        <a:pt x="953" y="834"/>
                      </a:lnTo>
                      <a:lnTo>
                        <a:pt x="936" y="831"/>
                      </a:lnTo>
                      <a:lnTo>
                        <a:pt x="923" y="829"/>
                      </a:lnTo>
                      <a:lnTo>
                        <a:pt x="911" y="831"/>
                      </a:lnTo>
                      <a:lnTo>
                        <a:pt x="902" y="833"/>
                      </a:lnTo>
                      <a:lnTo>
                        <a:pt x="893" y="839"/>
                      </a:lnTo>
                      <a:lnTo>
                        <a:pt x="883" y="846"/>
                      </a:lnTo>
                      <a:lnTo>
                        <a:pt x="864" y="866"/>
                      </a:lnTo>
                      <a:lnTo>
                        <a:pt x="864" y="866"/>
                      </a:lnTo>
                      <a:close/>
                      <a:moveTo>
                        <a:pt x="1263" y="531"/>
                      </a:moveTo>
                      <a:lnTo>
                        <a:pt x="1263" y="531"/>
                      </a:lnTo>
                      <a:lnTo>
                        <a:pt x="1240" y="547"/>
                      </a:lnTo>
                      <a:lnTo>
                        <a:pt x="1231" y="554"/>
                      </a:lnTo>
                      <a:lnTo>
                        <a:pt x="1225" y="562"/>
                      </a:lnTo>
                      <a:lnTo>
                        <a:pt x="1220" y="572"/>
                      </a:lnTo>
                      <a:lnTo>
                        <a:pt x="1216" y="582"/>
                      </a:lnTo>
                      <a:lnTo>
                        <a:pt x="1216" y="597"/>
                      </a:lnTo>
                      <a:lnTo>
                        <a:pt x="1216" y="613"/>
                      </a:lnTo>
                      <a:lnTo>
                        <a:pt x="1216" y="613"/>
                      </a:lnTo>
                      <a:lnTo>
                        <a:pt x="1286" y="564"/>
                      </a:lnTo>
                      <a:lnTo>
                        <a:pt x="1357" y="516"/>
                      </a:lnTo>
                      <a:lnTo>
                        <a:pt x="1357" y="516"/>
                      </a:lnTo>
                      <a:lnTo>
                        <a:pt x="1340" y="509"/>
                      </a:lnTo>
                      <a:lnTo>
                        <a:pt x="1327" y="506"/>
                      </a:lnTo>
                      <a:lnTo>
                        <a:pt x="1315" y="505"/>
                      </a:lnTo>
                      <a:lnTo>
                        <a:pt x="1305" y="506"/>
                      </a:lnTo>
                      <a:lnTo>
                        <a:pt x="1296" y="509"/>
                      </a:lnTo>
                      <a:lnTo>
                        <a:pt x="1286" y="514"/>
                      </a:lnTo>
                      <a:lnTo>
                        <a:pt x="1263" y="531"/>
                      </a:lnTo>
                      <a:lnTo>
                        <a:pt x="1263" y="531"/>
                      </a:lnTo>
                      <a:close/>
                      <a:moveTo>
                        <a:pt x="5609" y="1655"/>
                      </a:moveTo>
                      <a:lnTo>
                        <a:pt x="5609" y="1655"/>
                      </a:lnTo>
                      <a:lnTo>
                        <a:pt x="5645" y="1730"/>
                      </a:lnTo>
                      <a:lnTo>
                        <a:pt x="5680" y="1805"/>
                      </a:lnTo>
                      <a:lnTo>
                        <a:pt x="5680" y="1805"/>
                      </a:lnTo>
                      <a:lnTo>
                        <a:pt x="5688" y="1792"/>
                      </a:lnTo>
                      <a:lnTo>
                        <a:pt x="5693" y="1781"/>
                      </a:lnTo>
                      <a:lnTo>
                        <a:pt x="5696" y="1769"/>
                      </a:lnTo>
                      <a:lnTo>
                        <a:pt x="5696" y="1759"/>
                      </a:lnTo>
                      <a:lnTo>
                        <a:pt x="5694" y="1749"/>
                      </a:lnTo>
                      <a:lnTo>
                        <a:pt x="5691" y="1739"/>
                      </a:lnTo>
                      <a:lnTo>
                        <a:pt x="5680" y="1715"/>
                      </a:lnTo>
                      <a:lnTo>
                        <a:pt x="5680" y="1715"/>
                      </a:lnTo>
                      <a:lnTo>
                        <a:pt x="5668" y="1690"/>
                      </a:lnTo>
                      <a:lnTo>
                        <a:pt x="5661" y="1680"/>
                      </a:lnTo>
                      <a:lnTo>
                        <a:pt x="5655" y="1672"/>
                      </a:lnTo>
                      <a:lnTo>
                        <a:pt x="5648" y="1665"/>
                      </a:lnTo>
                      <a:lnTo>
                        <a:pt x="5638" y="1660"/>
                      </a:lnTo>
                      <a:lnTo>
                        <a:pt x="5625" y="1657"/>
                      </a:lnTo>
                      <a:lnTo>
                        <a:pt x="5609" y="1655"/>
                      </a:lnTo>
                      <a:lnTo>
                        <a:pt x="5609" y="1655"/>
                      </a:lnTo>
                      <a:close/>
                      <a:moveTo>
                        <a:pt x="3747" y="5858"/>
                      </a:moveTo>
                      <a:lnTo>
                        <a:pt x="3747" y="5858"/>
                      </a:lnTo>
                      <a:lnTo>
                        <a:pt x="3772" y="5851"/>
                      </a:lnTo>
                      <a:lnTo>
                        <a:pt x="3784" y="5848"/>
                      </a:lnTo>
                      <a:lnTo>
                        <a:pt x="3792" y="5843"/>
                      </a:lnTo>
                      <a:lnTo>
                        <a:pt x="3800" y="5837"/>
                      </a:lnTo>
                      <a:lnTo>
                        <a:pt x="3807" y="5828"/>
                      </a:lnTo>
                      <a:lnTo>
                        <a:pt x="3812" y="5817"/>
                      </a:lnTo>
                      <a:lnTo>
                        <a:pt x="3817" y="5804"/>
                      </a:lnTo>
                      <a:lnTo>
                        <a:pt x="3817" y="5804"/>
                      </a:lnTo>
                      <a:lnTo>
                        <a:pt x="3737" y="5825"/>
                      </a:lnTo>
                      <a:lnTo>
                        <a:pt x="3660" y="5845"/>
                      </a:lnTo>
                      <a:lnTo>
                        <a:pt x="3660" y="5845"/>
                      </a:lnTo>
                      <a:lnTo>
                        <a:pt x="3671" y="5855"/>
                      </a:lnTo>
                      <a:lnTo>
                        <a:pt x="3681" y="5861"/>
                      </a:lnTo>
                      <a:lnTo>
                        <a:pt x="3691" y="5866"/>
                      </a:lnTo>
                      <a:lnTo>
                        <a:pt x="3701" y="5868"/>
                      </a:lnTo>
                      <a:lnTo>
                        <a:pt x="3711" y="5868"/>
                      </a:lnTo>
                      <a:lnTo>
                        <a:pt x="3721" y="5865"/>
                      </a:lnTo>
                      <a:lnTo>
                        <a:pt x="3747" y="5858"/>
                      </a:lnTo>
                      <a:lnTo>
                        <a:pt x="3747" y="5858"/>
                      </a:lnTo>
                      <a:close/>
                      <a:moveTo>
                        <a:pt x="5858" y="3748"/>
                      </a:moveTo>
                      <a:lnTo>
                        <a:pt x="5858" y="3748"/>
                      </a:lnTo>
                      <a:lnTo>
                        <a:pt x="5864" y="3721"/>
                      </a:lnTo>
                      <a:lnTo>
                        <a:pt x="5866" y="3711"/>
                      </a:lnTo>
                      <a:lnTo>
                        <a:pt x="5866" y="3701"/>
                      </a:lnTo>
                      <a:lnTo>
                        <a:pt x="5864" y="3692"/>
                      </a:lnTo>
                      <a:lnTo>
                        <a:pt x="5861" y="3682"/>
                      </a:lnTo>
                      <a:lnTo>
                        <a:pt x="5853" y="3670"/>
                      </a:lnTo>
                      <a:lnTo>
                        <a:pt x="5843" y="3659"/>
                      </a:lnTo>
                      <a:lnTo>
                        <a:pt x="5843" y="3659"/>
                      </a:lnTo>
                      <a:lnTo>
                        <a:pt x="5823" y="3741"/>
                      </a:lnTo>
                      <a:lnTo>
                        <a:pt x="5823" y="3741"/>
                      </a:lnTo>
                      <a:lnTo>
                        <a:pt x="5800" y="3817"/>
                      </a:lnTo>
                      <a:lnTo>
                        <a:pt x="5800" y="3817"/>
                      </a:lnTo>
                      <a:lnTo>
                        <a:pt x="5815" y="3814"/>
                      </a:lnTo>
                      <a:lnTo>
                        <a:pt x="5826" y="3807"/>
                      </a:lnTo>
                      <a:lnTo>
                        <a:pt x="5835" y="3800"/>
                      </a:lnTo>
                      <a:lnTo>
                        <a:pt x="5841" y="3794"/>
                      </a:lnTo>
                      <a:lnTo>
                        <a:pt x="5846" y="3784"/>
                      </a:lnTo>
                      <a:lnTo>
                        <a:pt x="5851" y="3774"/>
                      </a:lnTo>
                      <a:lnTo>
                        <a:pt x="5858" y="3748"/>
                      </a:lnTo>
                      <a:lnTo>
                        <a:pt x="5858" y="3748"/>
                      </a:lnTo>
                      <a:close/>
                      <a:moveTo>
                        <a:pt x="3747" y="92"/>
                      </a:moveTo>
                      <a:lnTo>
                        <a:pt x="3747" y="92"/>
                      </a:lnTo>
                      <a:lnTo>
                        <a:pt x="3721" y="86"/>
                      </a:lnTo>
                      <a:lnTo>
                        <a:pt x="3709" y="84"/>
                      </a:lnTo>
                      <a:lnTo>
                        <a:pt x="3698" y="84"/>
                      </a:lnTo>
                      <a:lnTo>
                        <a:pt x="3688" y="86"/>
                      </a:lnTo>
                      <a:lnTo>
                        <a:pt x="3678" y="91"/>
                      </a:lnTo>
                      <a:lnTo>
                        <a:pt x="3666" y="99"/>
                      </a:lnTo>
                      <a:lnTo>
                        <a:pt x="3655" y="110"/>
                      </a:lnTo>
                      <a:lnTo>
                        <a:pt x="3655" y="110"/>
                      </a:lnTo>
                      <a:lnTo>
                        <a:pt x="3739" y="132"/>
                      </a:lnTo>
                      <a:lnTo>
                        <a:pt x="3739" y="132"/>
                      </a:lnTo>
                      <a:lnTo>
                        <a:pt x="3818" y="153"/>
                      </a:lnTo>
                      <a:lnTo>
                        <a:pt x="3818" y="153"/>
                      </a:lnTo>
                      <a:lnTo>
                        <a:pt x="3813" y="138"/>
                      </a:lnTo>
                      <a:lnTo>
                        <a:pt x="3807" y="125"/>
                      </a:lnTo>
                      <a:lnTo>
                        <a:pt x="3802" y="115"/>
                      </a:lnTo>
                      <a:lnTo>
                        <a:pt x="3793" y="109"/>
                      </a:lnTo>
                      <a:lnTo>
                        <a:pt x="3784" y="104"/>
                      </a:lnTo>
                      <a:lnTo>
                        <a:pt x="3774" y="101"/>
                      </a:lnTo>
                      <a:lnTo>
                        <a:pt x="3747" y="92"/>
                      </a:lnTo>
                      <a:lnTo>
                        <a:pt x="3747" y="92"/>
                      </a:lnTo>
                      <a:close/>
                      <a:moveTo>
                        <a:pt x="2133" y="5802"/>
                      </a:moveTo>
                      <a:lnTo>
                        <a:pt x="2133" y="5802"/>
                      </a:lnTo>
                      <a:lnTo>
                        <a:pt x="2136" y="5817"/>
                      </a:lnTo>
                      <a:lnTo>
                        <a:pt x="2143" y="5828"/>
                      </a:lnTo>
                      <a:lnTo>
                        <a:pt x="2150" y="5837"/>
                      </a:lnTo>
                      <a:lnTo>
                        <a:pt x="2156" y="5843"/>
                      </a:lnTo>
                      <a:lnTo>
                        <a:pt x="2166" y="5848"/>
                      </a:lnTo>
                      <a:lnTo>
                        <a:pt x="2176" y="5851"/>
                      </a:lnTo>
                      <a:lnTo>
                        <a:pt x="2202" y="5858"/>
                      </a:lnTo>
                      <a:lnTo>
                        <a:pt x="2202" y="5858"/>
                      </a:lnTo>
                      <a:lnTo>
                        <a:pt x="2229" y="5865"/>
                      </a:lnTo>
                      <a:lnTo>
                        <a:pt x="2239" y="5868"/>
                      </a:lnTo>
                      <a:lnTo>
                        <a:pt x="2249" y="5868"/>
                      </a:lnTo>
                      <a:lnTo>
                        <a:pt x="2258" y="5866"/>
                      </a:lnTo>
                      <a:lnTo>
                        <a:pt x="2268" y="5861"/>
                      </a:lnTo>
                      <a:lnTo>
                        <a:pt x="2280" y="5855"/>
                      </a:lnTo>
                      <a:lnTo>
                        <a:pt x="2291" y="5845"/>
                      </a:lnTo>
                      <a:lnTo>
                        <a:pt x="2291" y="5845"/>
                      </a:lnTo>
                      <a:lnTo>
                        <a:pt x="2214" y="5825"/>
                      </a:lnTo>
                      <a:lnTo>
                        <a:pt x="2214" y="5825"/>
                      </a:lnTo>
                      <a:lnTo>
                        <a:pt x="2133" y="5802"/>
                      </a:lnTo>
                      <a:lnTo>
                        <a:pt x="2133" y="5802"/>
                      </a:lnTo>
                      <a:close/>
                      <a:moveTo>
                        <a:pt x="130" y="2216"/>
                      </a:moveTo>
                      <a:lnTo>
                        <a:pt x="130" y="2216"/>
                      </a:lnTo>
                      <a:lnTo>
                        <a:pt x="153" y="2132"/>
                      </a:lnTo>
                      <a:lnTo>
                        <a:pt x="153" y="2132"/>
                      </a:lnTo>
                      <a:lnTo>
                        <a:pt x="136" y="2137"/>
                      </a:lnTo>
                      <a:lnTo>
                        <a:pt x="125" y="2143"/>
                      </a:lnTo>
                      <a:lnTo>
                        <a:pt x="115" y="2148"/>
                      </a:lnTo>
                      <a:lnTo>
                        <a:pt x="108" y="2157"/>
                      </a:lnTo>
                      <a:lnTo>
                        <a:pt x="104" y="2166"/>
                      </a:lnTo>
                      <a:lnTo>
                        <a:pt x="99" y="2176"/>
                      </a:lnTo>
                      <a:lnTo>
                        <a:pt x="92" y="2203"/>
                      </a:lnTo>
                      <a:lnTo>
                        <a:pt x="92" y="2203"/>
                      </a:lnTo>
                      <a:lnTo>
                        <a:pt x="84" y="2229"/>
                      </a:lnTo>
                      <a:lnTo>
                        <a:pt x="82" y="2241"/>
                      </a:lnTo>
                      <a:lnTo>
                        <a:pt x="82" y="2252"/>
                      </a:lnTo>
                      <a:lnTo>
                        <a:pt x="85" y="2262"/>
                      </a:lnTo>
                      <a:lnTo>
                        <a:pt x="90" y="2272"/>
                      </a:lnTo>
                      <a:lnTo>
                        <a:pt x="99" y="2284"/>
                      </a:lnTo>
                      <a:lnTo>
                        <a:pt x="110" y="2295"/>
                      </a:lnTo>
                      <a:lnTo>
                        <a:pt x="110" y="2295"/>
                      </a:lnTo>
                      <a:lnTo>
                        <a:pt x="130" y="2216"/>
                      </a:lnTo>
                      <a:lnTo>
                        <a:pt x="130" y="2216"/>
                      </a:lnTo>
                      <a:close/>
                      <a:moveTo>
                        <a:pt x="4600" y="5438"/>
                      </a:moveTo>
                      <a:lnTo>
                        <a:pt x="4600" y="5438"/>
                      </a:lnTo>
                      <a:lnTo>
                        <a:pt x="4613" y="5443"/>
                      </a:lnTo>
                      <a:lnTo>
                        <a:pt x="4624" y="5446"/>
                      </a:lnTo>
                      <a:lnTo>
                        <a:pt x="4636" y="5446"/>
                      </a:lnTo>
                      <a:lnTo>
                        <a:pt x="4646" y="5444"/>
                      </a:lnTo>
                      <a:lnTo>
                        <a:pt x="4656" y="5441"/>
                      </a:lnTo>
                      <a:lnTo>
                        <a:pt x="4664" y="5436"/>
                      </a:lnTo>
                      <a:lnTo>
                        <a:pt x="4687" y="5421"/>
                      </a:lnTo>
                      <a:lnTo>
                        <a:pt x="4687" y="5421"/>
                      </a:lnTo>
                      <a:lnTo>
                        <a:pt x="4708" y="5405"/>
                      </a:lnTo>
                      <a:lnTo>
                        <a:pt x="4717" y="5398"/>
                      </a:lnTo>
                      <a:lnTo>
                        <a:pt x="4723" y="5390"/>
                      </a:lnTo>
                      <a:lnTo>
                        <a:pt x="4728" y="5382"/>
                      </a:lnTo>
                      <a:lnTo>
                        <a:pt x="4732" y="5372"/>
                      </a:lnTo>
                      <a:lnTo>
                        <a:pt x="4733" y="5358"/>
                      </a:lnTo>
                      <a:lnTo>
                        <a:pt x="4733" y="5344"/>
                      </a:lnTo>
                      <a:lnTo>
                        <a:pt x="4733" y="5344"/>
                      </a:lnTo>
                      <a:lnTo>
                        <a:pt x="4666" y="5391"/>
                      </a:lnTo>
                      <a:lnTo>
                        <a:pt x="4600" y="5438"/>
                      </a:lnTo>
                      <a:lnTo>
                        <a:pt x="4600" y="5438"/>
                      </a:lnTo>
                      <a:close/>
                      <a:moveTo>
                        <a:pt x="270" y="4237"/>
                      </a:moveTo>
                      <a:lnTo>
                        <a:pt x="270" y="4237"/>
                      </a:lnTo>
                      <a:lnTo>
                        <a:pt x="282" y="4262"/>
                      </a:lnTo>
                      <a:lnTo>
                        <a:pt x="287" y="4272"/>
                      </a:lnTo>
                      <a:lnTo>
                        <a:pt x="293" y="4279"/>
                      </a:lnTo>
                      <a:lnTo>
                        <a:pt x="301" y="4285"/>
                      </a:lnTo>
                      <a:lnTo>
                        <a:pt x="311" y="4290"/>
                      </a:lnTo>
                      <a:lnTo>
                        <a:pt x="324" y="4293"/>
                      </a:lnTo>
                      <a:lnTo>
                        <a:pt x="341" y="4295"/>
                      </a:lnTo>
                      <a:lnTo>
                        <a:pt x="341" y="4295"/>
                      </a:lnTo>
                      <a:lnTo>
                        <a:pt x="305" y="4221"/>
                      </a:lnTo>
                      <a:lnTo>
                        <a:pt x="270" y="4145"/>
                      </a:lnTo>
                      <a:lnTo>
                        <a:pt x="270" y="4145"/>
                      </a:lnTo>
                      <a:lnTo>
                        <a:pt x="262" y="4158"/>
                      </a:lnTo>
                      <a:lnTo>
                        <a:pt x="255" y="4170"/>
                      </a:lnTo>
                      <a:lnTo>
                        <a:pt x="254" y="4181"/>
                      </a:lnTo>
                      <a:lnTo>
                        <a:pt x="252" y="4191"/>
                      </a:lnTo>
                      <a:lnTo>
                        <a:pt x="254" y="4201"/>
                      </a:lnTo>
                      <a:lnTo>
                        <a:pt x="259" y="4213"/>
                      </a:lnTo>
                      <a:lnTo>
                        <a:pt x="270" y="4237"/>
                      </a:lnTo>
                      <a:lnTo>
                        <a:pt x="270" y="4237"/>
                      </a:lnTo>
                      <a:close/>
                      <a:moveTo>
                        <a:pt x="92" y="3748"/>
                      </a:moveTo>
                      <a:lnTo>
                        <a:pt x="92" y="3748"/>
                      </a:lnTo>
                      <a:lnTo>
                        <a:pt x="99" y="3774"/>
                      </a:lnTo>
                      <a:lnTo>
                        <a:pt x="104" y="3786"/>
                      </a:lnTo>
                      <a:lnTo>
                        <a:pt x="108" y="3794"/>
                      </a:lnTo>
                      <a:lnTo>
                        <a:pt x="115" y="3802"/>
                      </a:lnTo>
                      <a:lnTo>
                        <a:pt x="123" y="3809"/>
                      </a:lnTo>
                      <a:lnTo>
                        <a:pt x="135" y="3814"/>
                      </a:lnTo>
                      <a:lnTo>
                        <a:pt x="151" y="3819"/>
                      </a:lnTo>
                      <a:lnTo>
                        <a:pt x="151" y="3819"/>
                      </a:lnTo>
                      <a:lnTo>
                        <a:pt x="128" y="3738"/>
                      </a:lnTo>
                      <a:lnTo>
                        <a:pt x="108" y="3657"/>
                      </a:lnTo>
                      <a:lnTo>
                        <a:pt x="108" y="3657"/>
                      </a:lnTo>
                      <a:lnTo>
                        <a:pt x="97" y="3670"/>
                      </a:lnTo>
                      <a:lnTo>
                        <a:pt x="89" y="3680"/>
                      </a:lnTo>
                      <a:lnTo>
                        <a:pt x="85" y="3690"/>
                      </a:lnTo>
                      <a:lnTo>
                        <a:pt x="82" y="3700"/>
                      </a:lnTo>
                      <a:lnTo>
                        <a:pt x="82" y="3710"/>
                      </a:lnTo>
                      <a:lnTo>
                        <a:pt x="84" y="3721"/>
                      </a:lnTo>
                      <a:lnTo>
                        <a:pt x="92" y="3748"/>
                      </a:lnTo>
                      <a:lnTo>
                        <a:pt x="92" y="3748"/>
                      </a:lnTo>
                      <a:close/>
                      <a:moveTo>
                        <a:pt x="864" y="5086"/>
                      </a:moveTo>
                      <a:lnTo>
                        <a:pt x="864" y="5086"/>
                      </a:lnTo>
                      <a:lnTo>
                        <a:pt x="883" y="5105"/>
                      </a:lnTo>
                      <a:lnTo>
                        <a:pt x="892" y="5113"/>
                      </a:lnTo>
                      <a:lnTo>
                        <a:pt x="900" y="5118"/>
                      </a:lnTo>
                      <a:lnTo>
                        <a:pt x="910" y="5121"/>
                      </a:lnTo>
                      <a:lnTo>
                        <a:pt x="921" y="5121"/>
                      </a:lnTo>
                      <a:lnTo>
                        <a:pt x="933" y="5121"/>
                      </a:lnTo>
                      <a:lnTo>
                        <a:pt x="949" y="5118"/>
                      </a:lnTo>
                      <a:lnTo>
                        <a:pt x="949" y="5118"/>
                      </a:lnTo>
                      <a:lnTo>
                        <a:pt x="890" y="5060"/>
                      </a:lnTo>
                      <a:lnTo>
                        <a:pt x="832" y="5001"/>
                      </a:lnTo>
                      <a:lnTo>
                        <a:pt x="832" y="5001"/>
                      </a:lnTo>
                      <a:lnTo>
                        <a:pt x="829" y="5016"/>
                      </a:lnTo>
                      <a:lnTo>
                        <a:pt x="829" y="5029"/>
                      </a:lnTo>
                      <a:lnTo>
                        <a:pt x="829" y="5040"/>
                      </a:lnTo>
                      <a:lnTo>
                        <a:pt x="832" y="5050"/>
                      </a:lnTo>
                      <a:lnTo>
                        <a:pt x="837" y="5058"/>
                      </a:lnTo>
                      <a:lnTo>
                        <a:pt x="845" y="5067"/>
                      </a:lnTo>
                      <a:lnTo>
                        <a:pt x="864" y="5086"/>
                      </a:lnTo>
                      <a:lnTo>
                        <a:pt x="864" y="5086"/>
                      </a:lnTo>
                      <a:close/>
                      <a:moveTo>
                        <a:pt x="1263" y="5421"/>
                      </a:moveTo>
                      <a:lnTo>
                        <a:pt x="1263" y="5421"/>
                      </a:lnTo>
                      <a:lnTo>
                        <a:pt x="1284" y="5436"/>
                      </a:lnTo>
                      <a:lnTo>
                        <a:pt x="1294" y="5441"/>
                      </a:lnTo>
                      <a:lnTo>
                        <a:pt x="1304" y="5444"/>
                      </a:lnTo>
                      <a:lnTo>
                        <a:pt x="1314" y="5446"/>
                      </a:lnTo>
                      <a:lnTo>
                        <a:pt x="1324" y="5446"/>
                      </a:lnTo>
                      <a:lnTo>
                        <a:pt x="1337" y="5443"/>
                      </a:lnTo>
                      <a:lnTo>
                        <a:pt x="1352" y="5438"/>
                      </a:lnTo>
                      <a:lnTo>
                        <a:pt x="1352" y="5438"/>
                      </a:lnTo>
                      <a:lnTo>
                        <a:pt x="1282" y="5391"/>
                      </a:lnTo>
                      <a:lnTo>
                        <a:pt x="1216" y="5344"/>
                      </a:lnTo>
                      <a:lnTo>
                        <a:pt x="1216" y="5344"/>
                      </a:lnTo>
                      <a:lnTo>
                        <a:pt x="1216" y="5358"/>
                      </a:lnTo>
                      <a:lnTo>
                        <a:pt x="1218" y="5372"/>
                      </a:lnTo>
                      <a:lnTo>
                        <a:pt x="1221" y="5382"/>
                      </a:lnTo>
                      <a:lnTo>
                        <a:pt x="1226" y="5390"/>
                      </a:lnTo>
                      <a:lnTo>
                        <a:pt x="1233" y="5398"/>
                      </a:lnTo>
                      <a:lnTo>
                        <a:pt x="1241" y="5405"/>
                      </a:lnTo>
                      <a:lnTo>
                        <a:pt x="1263" y="5421"/>
                      </a:lnTo>
                      <a:lnTo>
                        <a:pt x="1263" y="5421"/>
                      </a:lnTo>
                      <a:close/>
                      <a:moveTo>
                        <a:pt x="1713" y="5680"/>
                      </a:moveTo>
                      <a:lnTo>
                        <a:pt x="1713" y="5680"/>
                      </a:lnTo>
                      <a:lnTo>
                        <a:pt x="1737" y="5691"/>
                      </a:lnTo>
                      <a:lnTo>
                        <a:pt x="1747" y="5695"/>
                      </a:lnTo>
                      <a:lnTo>
                        <a:pt x="1757" y="5698"/>
                      </a:lnTo>
                      <a:lnTo>
                        <a:pt x="1767" y="5698"/>
                      </a:lnTo>
                      <a:lnTo>
                        <a:pt x="1779" y="5695"/>
                      </a:lnTo>
                      <a:lnTo>
                        <a:pt x="1790" y="5690"/>
                      </a:lnTo>
                      <a:lnTo>
                        <a:pt x="1803" y="5682"/>
                      </a:lnTo>
                      <a:lnTo>
                        <a:pt x="1803" y="5682"/>
                      </a:lnTo>
                      <a:lnTo>
                        <a:pt x="1728" y="5649"/>
                      </a:lnTo>
                      <a:lnTo>
                        <a:pt x="1655" y="5612"/>
                      </a:lnTo>
                      <a:lnTo>
                        <a:pt x="1655" y="5612"/>
                      </a:lnTo>
                      <a:lnTo>
                        <a:pt x="1657" y="5627"/>
                      </a:lnTo>
                      <a:lnTo>
                        <a:pt x="1660" y="5640"/>
                      </a:lnTo>
                      <a:lnTo>
                        <a:pt x="1665" y="5650"/>
                      </a:lnTo>
                      <a:lnTo>
                        <a:pt x="1671" y="5657"/>
                      </a:lnTo>
                      <a:lnTo>
                        <a:pt x="1680" y="5663"/>
                      </a:lnTo>
                      <a:lnTo>
                        <a:pt x="1688" y="5668"/>
                      </a:lnTo>
                      <a:lnTo>
                        <a:pt x="1713" y="5680"/>
                      </a:lnTo>
                      <a:lnTo>
                        <a:pt x="1713" y="5680"/>
                      </a:lnTo>
                      <a:close/>
                      <a:moveTo>
                        <a:pt x="529" y="4687"/>
                      </a:moveTo>
                      <a:lnTo>
                        <a:pt x="529" y="4687"/>
                      </a:lnTo>
                      <a:lnTo>
                        <a:pt x="545" y="4710"/>
                      </a:lnTo>
                      <a:lnTo>
                        <a:pt x="552" y="4719"/>
                      </a:lnTo>
                      <a:lnTo>
                        <a:pt x="560" y="4725"/>
                      </a:lnTo>
                      <a:lnTo>
                        <a:pt x="568" y="4730"/>
                      </a:lnTo>
                      <a:lnTo>
                        <a:pt x="580" y="4732"/>
                      </a:lnTo>
                      <a:lnTo>
                        <a:pt x="593" y="4734"/>
                      </a:lnTo>
                      <a:lnTo>
                        <a:pt x="608" y="4734"/>
                      </a:lnTo>
                      <a:lnTo>
                        <a:pt x="608" y="4734"/>
                      </a:lnTo>
                      <a:lnTo>
                        <a:pt x="560" y="4666"/>
                      </a:lnTo>
                      <a:lnTo>
                        <a:pt x="514" y="4597"/>
                      </a:lnTo>
                      <a:lnTo>
                        <a:pt x="514" y="4597"/>
                      </a:lnTo>
                      <a:lnTo>
                        <a:pt x="507" y="4612"/>
                      </a:lnTo>
                      <a:lnTo>
                        <a:pt x="504" y="4625"/>
                      </a:lnTo>
                      <a:lnTo>
                        <a:pt x="504" y="4636"/>
                      </a:lnTo>
                      <a:lnTo>
                        <a:pt x="506" y="4646"/>
                      </a:lnTo>
                      <a:lnTo>
                        <a:pt x="509" y="4656"/>
                      </a:lnTo>
                      <a:lnTo>
                        <a:pt x="514" y="4664"/>
                      </a:lnTo>
                      <a:lnTo>
                        <a:pt x="529" y="4687"/>
                      </a:lnTo>
                      <a:lnTo>
                        <a:pt x="529" y="4687"/>
                      </a:lnTo>
                      <a:close/>
                      <a:moveTo>
                        <a:pt x="3235" y="5949"/>
                      </a:moveTo>
                      <a:lnTo>
                        <a:pt x="3235" y="5949"/>
                      </a:lnTo>
                      <a:lnTo>
                        <a:pt x="3261" y="5947"/>
                      </a:lnTo>
                      <a:lnTo>
                        <a:pt x="3272" y="5944"/>
                      </a:lnTo>
                      <a:lnTo>
                        <a:pt x="3281" y="5940"/>
                      </a:lnTo>
                      <a:lnTo>
                        <a:pt x="3291" y="5937"/>
                      </a:lnTo>
                      <a:lnTo>
                        <a:pt x="3297" y="5929"/>
                      </a:lnTo>
                      <a:lnTo>
                        <a:pt x="3305" y="5919"/>
                      </a:lnTo>
                      <a:lnTo>
                        <a:pt x="3312" y="5906"/>
                      </a:lnTo>
                      <a:lnTo>
                        <a:pt x="3312" y="5906"/>
                      </a:lnTo>
                      <a:lnTo>
                        <a:pt x="3231" y="5914"/>
                      </a:lnTo>
                      <a:lnTo>
                        <a:pt x="3150" y="5921"/>
                      </a:lnTo>
                      <a:lnTo>
                        <a:pt x="3150" y="5921"/>
                      </a:lnTo>
                      <a:lnTo>
                        <a:pt x="3160" y="5932"/>
                      </a:lnTo>
                      <a:lnTo>
                        <a:pt x="3169" y="5940"/>
                      </a:lnTo>
                      <a:lnTo>
                        <a:pt x="3178" y="5945"/>
                      </a:lnTo>
                      <a:lnTo>
                        <a:pt x="3187" y="5949"/>
                      </a:lnTo>
                      <a:lnTo>
                        <a:pt x="3197" y="5950"/>
                      </a:lnTo>
                      <a:lnTo>
                        <a:pt x="3208" y="5950"/>
                      </a:lnTo>
                      <a:lnTo>
                        <a:pt x="3235" y="5949"/>
                      </a:lnTo>
                      <a:lnTo>
                        <a:pt x="3235" y="5949"/>
                      </a:lnTo>
                      <a:close/>
                      <a:moveTo>
                        <a:pt x="3235" y="2"/>
                      </a:moveTo>
                      <a:lnTo>
                        <a:pt x="3235" y="2"/>
                      </a:lnTo>
                      <a:lnTo>
                        <a:pt x="3206" y="0"/>
                      </a:lnTo>
                      <a:lnTo>
                        <a:pt x="3197" y="0"/>
                      </a:lnTo>
                      <a:lnTo>
                        <a:pt x="3185" y="2"/>
                      </a:lnTo>
                      <a:lnTo>
                        <a:pt x="3177" y="7"/>
                      </a:lnTo>
                      <a:lnTo>
                        <a:pt x="3167" y="13"/>
                      </a:lnTo>
                      <a:lnTo>
                        <a:pt x="3157" y="21"/>
                      </a:lnTo>
                      <a:lnTo>
                        <a:pt x="3147" y="36"/>
                      </a:lnTo>
                      <a:lnTo>
                        <a:pt x="3147" y="36"/>
                      </a:lnTo>
                      <a:lnTo>
                        <a:pt x="3231" y="41"/>
                      </a:lnTo>
                      <a:lnTo>
                        <a:pt x="3315" y="51"/>
                      </a:lnTo>
                      <a:lnTo>
                        <a:pt x="3315" y="51"/>
                      </a:lnTo>
                      <a:lnTo>
                        <a:pt x="3307" y="36"/>
                      </a:lnTo>
                      <a:lnTo>
                        <a:pt x="3300" y="25"/>
                      </a:lnTo>
                      <a:lnTo>
                        <a:pt x="3292" y="16"/>
                      </a:lnTo>
                      <a:lnTo>
                        <a:pt x="3282" y="10"/>
                      </a:lnTo>
                      <a:lnTo>
                        <a:pt x="3274" y="7"/>
                      </a:lnTo>
                      <a:lnTo>
                        <a:pt x="3263" y="5"/>
                      </a:lnTo>
                      <a:lnTo>
                        <a:pt x="3235" y="2"/>
                      </a:lnTo>
                      <a:lnTo>
                        <a:pt x="3235" y="2"/>
                      </a:lnTo>
                      <a:close/>
                      <a:moveTo>
                        <a:pt x="4235" y="270"/>
                      </a:moveTo>
                      <a:lnTo>
                        <a:pt x="4235" y="270"/>
                      </a:lnTo>
                      <a:lnTo>
                        <a:pt x="4211" y="259"/>
                      </a:lnTo>
                      <a:lnTo>
                        <a:pt x="4201" y="256"/>
                      </a:lnTo>
                      <a:lnTo>
                        <a:pt x="4191" y="254"/>
                      </a:lnTo>
                      <a:lnTo>
                        <a:pt x="4179" y="254"/>
                      </a:lnTo>
                      <a:lnTo>
                        <a:pt x="4169" y="257"/>
                      </a:lnTo>
                      <a:lnTo>
                        <a:pt x="4156" y="262"/>
                      </a:lnTo>
                      <a:lnTo>
                        <a:pt x="4143" y="272"/>
                      </a:lnTo>
                      <a:lnTo>
                        <a:pt x="4143" y="272"/>
                      </a:lnTo>
                      <a:lnTo>
                        <a:pt x="4219" y="307"/>
                      </a:lnTo>
                      <a:lnTo>
                        <a:pt x="4295" y="343"/>
                      </a:lnTo>
                      <a:lnTo>
                        <a:pt x="4295" y="343"/>
                      </a:lnTo>
                      <a:lnTo>
                        <a:pt x="4293" y="326"/>
                      </a:lnTo>
                      <a:lnTo>
                        <a:pt x="4290" y="313"/>
                      </a:lnTo>
                      <a:lnTo>
                        <a:pt x="4285" y="303"/>
                      </a:lnTo>
                      <a:lnTo>
                        <a:pt x="4278" y="295"/>
                      </a:lnTo>
                      <a:lnTo>
                        <a:pt x="4270" y="289"/>
                      </a:lnTo>
                      <a:lnTo>
                        <a:pt x="4260" y="282"/>
                      </a:lnTo>
                      <a:lnTo>
                        <a:pt x="4235" y="270"/>
                      </a:lnTo>
                      <a:lnTo>
                        <a:pt x="4235" y="270"/>
                      </a:lnTo>
                      <a:close/>
                      <a:moveTo>
                        <a:pt x="2715" y="5949"/>
                      </a:moveTo>
                      <a:lnTo>
                        <a:pt x="2715" y="5949"/>
                      </a:lnTo>
                      <a:lnTo>
                        <a:pt x="2742" y="5950"/>
                      </a:lnTo>
                      <a:lnTo>
                        <a:pt x="2751" y="5950"/>
                      </a:lnTo>
                      <a:lnTo>
                        <a:pt x="2761" y="5949"/>
                      </a:lnTo>
                      <a:lnTo>
                        <a:pt x="2771" y="5945"/>
                      </a:lnTo>
                      <a:lnTo>
                        <a:pt x="2779" y="5940"/>
                      </a:lnTo>
                      <a:lnTo>
                        <a:pt x="2789" y="5932"/>
                      </a:lnTo>
                      <a:lnTo>
                        <a:pt x="2799" y="5921"/>
                      </a:lnTo>
                      <a:lnTo>
                        <a:pt x="2799" y="5921"/>
                      </a:lnTo>
                      <a:lnTo>
                        <a:pt x="2717" y="5914"/>
                      </a:lnTo>
                      <a:lnTo>
                        <a:pt x="2636" y="5906"/>
                      </a:lnTo>
                      <a:lnTo>
                        <a:pt x="2636" y="5906"/>
                      </a:lnTo>
                      <a:lnTo>
                        <a:pt x="2644" y="5919"/>
                      </a:lnTo>
                      <a:lnTo>
                        <a:pt x="2651" y="5929"/>
                      </a:lnTo>
                      <a:lnTo>
                        <a:pt x="2659" y="5936"/>
                      </a:lnTo>
                      <a:lnTo>
                        <a:pt x="2667" y="5940"/>
                      </a:lnTo>
                      <a:lnTo>
                        <a:pt x="2677" y="5944"/>
                      </a:lnTo>
                      <a:lnTo>
                        <a:pt x="2687" y="5947"/>
                      </a:lnTo>
                      <a:lnTo>
                        <a:pt x="2715" y="5949"/>
                      </a:lnTo>
                      <a:lnTo>
                        <a:pt x="2715" y="5949"/>
                      </a:lnTo>
                      <a:close/>
                    </a:path>
                  </a:pathLst>
                </a:custGeom>
                <a:gradFill rotWithShape="0">
                  <a:gsLst>
                    <a:gs pos="0">
                      <a:srgbClr val="74420d"/>
                    </a:gs>
                    <a:gs pos="100000">
                      <a:srgbClr val="f9db82"/>
                    </a:gs>
                  </a:gsLst>
                  <a:lin ang="13620000"/>
                </a:gradFill>
                <a:ln w="9525">
                  <a:noFill/>
                </a:ln>
              </p:spPr>
              <p:style>
                <a:lnRef idx="0"/>
                <a:fillRef idx="0"/>
                <a:effectRef idx="0"/>
                <a:fontRef idx="minor"/>
              </p:style>
              <p:txBody>
                <a:bodyPr numCol="1" spcCol="0" anchor="t">
                  <a:noAutofit/>
                </a:bodyPr>
                <a:p>
                  <a:pPr>
                    <a:lnSpc>
                      <a:spcPct val="85000"/>
                    </a:lnSpc>
                    <a:spcBef>
                      <a:spcPts val="360"/>
                    </a:spcBef>
                  </a:pPr>
                  <a:endParaRPr b="0" lang="en-US" sz="1800" spc="-1" strike="noStrike">
                    <a:solidFill>
                      <a:srgbClr val="000000"/>
                    </a:solidFill>
                    <a:latin typeface="Calibri"/>
                  </a:endParaRPr>
                </a:p>
              </p:txBody>
            </p:sp>
            <p:sp>
              <p:nvSpPr>
                <p:cNvPr id="642" name="Freeform 5"/>
                <p:cNvSpPr/>
                <p:nvPr/>
              </p:nvSpPr>
              <p:spPr>
                <a:xfrm>
                  <a:off x="1188720" y="4336920"/>
                  <a:ext cx="1189080" cy="1189440"/>
                </a:xfrm>
                <a:custGeom>
                  <a:avLst/>
                  <a:gdLst>
                    <a:gd name="textAreaLeft" fmla="*/ 0 w 1189080"/>
                    <a:gd name="textAreaRight" fmla="*/ 1189440 w 1189080"/>
                    <a:gd name="textAreaTop" fmla="*/ 0 h 1189440"/>
                    <a:gd name="textAreaBottom" fmla="*/ 1189800 h 1189440"/>
                  </a:gdLst>
                  <a:ahLst/>
                  <a:rect l="textAreaLeft" t="textAreaTop" r="textAreaRight" b="textAreaBottom"/>
                  <a:pathLst>
                    <a:path w="6142" h="6144">
                      <a:moveTo>
                        <a:pt x="6038" y="3867"/>
                      </a:moveTo>
                      <a:lnTo>
                        <a:pt x="6038" y="3867"/>
                      </a:lnTo>
                      <a:lnTo>
                        <a:pt x="6017" y="3944"/>
                      </a:lnTo>
                      <a:lnTo>
                        <a:pt x="5993" y="4018"/>
                      </a:lnTo>
                      <a:lnTo>
                        <a:pt x="5968" y="4093"/>
                      </a:lnTo>
                      <a:lnTo>
                        <a:pt x="5942" y="4165"/>
                      </a:lnTo>
                      <a:lnTo>
                        <a:pt x="5913" y="4238"/>
                      </a:lnTo>
                      <a:lnTo>
                        <a:pt x="5883" y="4308"/>
                      </a:lnTo>
                      <a:lnTo>
                        <a:pt x="5850" y="4379"/>
                      </a:lnTo>
                      <a:lnTo>
                        <a:pt x="5817" y="4448"/>
                      </a:lnTo>
                      <a:lnTo>
                        <a:pt x="5781" y="4516"/>
                      </a:lnTo>
                      <a:lnTo>
                        <a:pt x="5746" y="4583"/>
                      </a:lnTo>
                      <a:lnTo>
                        <a:pt x="5707" y="4648"/>
                      </a:lnTo>
                      <a:lnTo>
                        <a:pt x="5668" y="4712"/>
                      </a:lnTo>
                      <a:lnTo>
                        <a:pt x="5626" y="4777"/>
                      </a:lnTo>
                      <a:lnTo>
                        <a:pt x="5585" y="4838"/>
                      </a:lnTo>
                      <a:lnTo>
                        <a:pt x="5540" y="4899"/>
                      </a:lnTo>
                      <a:lnTo>
                        <a:pt x="5495" y="4960"/>
                      </a:lnTo>
                      <a:lnTo>
                        <a:pt x="5448" y="5016"/>
                      </a:lnTo>
                      <a:lnTo>
                        <a:pt x="5401" y="5075"/>
                      </a:lnTo>
                      <a:lnTo>
                        <a:pt x="5352" y="5130"/>
                      </a:lnTo>
                      <a:lnTo>
                        <a:pt x="5301" y="5185"/>
                      </a:lnTo>
                      <a:lnTo>
                        <a:pt x="5250" y="5238"/>
                      </a:lnTo>
                      <a:lnTo>
                        <a:pt x="5197" y="5289"/>
                      </a:lnTo>
                      <a:lnTo>
                        <a:pt x="5142" y="5340"/>
                      </a:lnTo>
                      <a:lnTo>
                        <a:pt x="5087" y="5389"/>
                      </a:lnTo>
                      <a:lnTo>
                        <a:pt x="5030" y="5438"/>
                      </a:lnTo>
                      <a:lnTo>
                        <a:pt x="4974" y="5483"/>
                      </a:lnTo>
                      <a:lnTo>
                        <a:pt x="4915" y="5528"/>
                      </a:lnTo>
                      <a:lnTo>
                        <a:pt x="4854" y="5571"/>
                      </a:lnTo>
                      <a:lnTo>
                        <a:pt x="4795" y="5615"/>
                      </a:lnTo>
                      <a:lnTo>
                        <a:pt x="4732" y="5656"/>
                      </a:lnTo>
                      <a:lnTo>
                        <a:pt x="4670" y="5693"/>
                      </a:lnTo>
                      <a:lnTo>
                        <a:pt x="4607" y="5732"/>
                      </a:lnTo>
                      <a:lnTo>
                        <a:pt x="4542" y="5767"/>
                      </a:lnTo>
                      <a:lnTo>
                        <a:pt x="4478" y="5803"/>
                      </a:lnTo>
                      <a:lnTo>
                        <a:pt x="4411" y="5834"/>
                      </a:lnTo>
                      <a:lnTo>
                        <a:pt x="4344" y="5866"/>
                      </a:lnTo>
                      <a:lnTo>
                        <a:pt x="4278" y="5897"/>
                      </a:lnTo>
                      <a:lnTo>
                        <a:pt x="4209" y="5924"/>
                      </a:lnTo>
                      <a:lnTo>
                        <a:pt x="4140" y="5952"/>
                      </a:lnTo>
                      <a:lnTo>
                        <a:pt x="4072" y="5975"/>
                      </a:lnTo>
                      <a:lnTo>
                        <a:pt x="4001" y="5999"/>
                      </a:lnTo>
                      <a:lnTo>
                        <a:pt x="3931" y="6020"/>
                      </a:lnTo>
                      <a:lnTo>
                        <a:pt x="3858" y="6040"/>
                      </a:lnTo>
                      <a:lnTo>
                        <a:pt x="3788" y="6060"/>
                      </a:lnTo>
                      <a:lnTo>
                        <a:pt x="3715" y="6075"/>
                      </a:lnTo>
                      <a:lnTo>
                        <a:pt x="3641" y="6091"/>
                      </a:lnTo>
                      <a:lnTo>
                        <a:pt x="3568" y="6103"/>
                      </a:lnTo>
                      <a:lnTo>
                        <a:pt x="3493" y="6115"/>
                      </a:lnTo>
                      <a:lnTo>
                        <a:pt x="3419" y="6124"/>
                      </a:lnTo>
                      <a:lnTo>
                        <a:pt x="3345" y="6132"/>
                      </a:lnTo>
                      <a:lnTo>
                        <a:pt x="3270" y="6138"/>
                      </a:lnTo>
                      <a:lnTo>
                        <a:pt x="3196" y="6142"/>
                      </a:lnTo>
                      <a:lnTo>
                        <a:pt x="3119" y="6144"/>
                      </a:lnTo>
                      <a:lnTo>
                        <a:pt x="3043" y="6144"/>
                      </a:lnTo>
                      <a:lnTo>
                        <a:pt x="2968" y="6142"/>
                      </a:lnTo>
                      <a:lnTo>
                        <a:pt x="2892" y="6138"/>
                      </a:lnTo>
                      <a:lnTo>
                        <a:pt x="2815" y="6132"/>
                      </a:lnTo>
                      <a:lnTo>
                        <a:pt x="2739" y="6124"/>
                      </a:lnTo>
                      <a:lnTo>
                        <a:pt x="2662" y="6117"/>
                      </a:lnTo>
                      <a:lnTo>
                        <a:pt x="2584" y="6105"/>
                      </a:lnTo>
                      <a:lnTo>
                        <a:pt x="2507" y="6091"/>
                      </a:lnTo>
                      <a:lnTo>
                        <a:pt x="2431" y="6075"/>
                      </a:lnTo>
                      <a:lnTo>
                        <a:pt x="2354" y="6058"/>
                      </a:lnTo>
                      <a:lnTo>
                        <a:pt x="2278" y="6038"/>
                      </a:lnTo>
                      <a:lnTo>
                        <a:pt x="2278" y="6038"/>
                      </a:lnTo>
                      <a:lnTo>
                        <a:pt x="2202" y="6017"/>
                      </a:lnTo>
                      <a:lnTo>
                        <a:pt x="2125" y="5993"/>
                      </a:lnTo>
                      <a:lnTo>
                        <a:pt x="2051" y="5968"/>
                      </a:lnTo>
                      <a:lnTo>
                        <a:pt x="1978" y="5942"/>
                      </a:lnTo>
                      <a:lnTo>
                        <a:pt x="1906" y="5913"/>
                      </a:lnTo>
                      <a:lnTo>
                        <a:pt x="1835" y="5883"/>
                      </a:lnTo>
                      <a:lnTo>
                        <a:pt x="1764" y="5852"/>
                      </a:lnTo>
                      <a:lnTo>
                        <a:pt x="1696" y="5818"/>
                      </a:lnTo>
                      <a:lnTo>
                        <a:pt x="1627" y="5783"/>
                      </a:lnTo>
                      <a:lnTo>
                        <a:pt x="1561" y="5746"/>
                      </a:lnTo>
                      <a:lnTo>
                        <a:pt x="1496" y="5709"/>
                      </a:lnTo>
                      <a:lnTo>
                        <a:pt x="1431" y="5669"/>
                      </a:lnTo>
                      <a:lnTo>
                        <a:pt x="1368" y="5628"/>
                      </a:lnTo>
                      <a:lnTo>
                        <a:pt x="1306" y="5585"/>
                      </a:lnTo>
                      <a:lnTo>
                        <a:pt x="1245" y="5542"/>
                      </a:lnTo>
                      <a:lnTo>
                        <a:pt x="1186" y="5495"/>
                      </a:lnTo>
                      <a:lnTo>
                        <a:pt x="1127" y="5450"/>
                      </a:lnTo>
                      <a:lnTo>
                        <a:pt x="1070" y="5401"/>
                      </a:lnTo>
                      <a:lnTo>
                        <a:pt x="1014" y="5352"/>
                      </a:lnTo>
                      <a:lnTo>
                        <a:pt x="959" y="5301"/>
                      </a:lnTo>
                      <a:lnTo>
                        <a:pt x="906" y="5250"/>
                      </a:lnTo>
                      <a:lnTo>
                        <a:pt x="855" y="5197"/>
                      </a:lnTo>
                      <a:lnTo>
                        <a:pt x="804" y="5142"/>
                      </a:lnTo>
                      <a:lnTo>
                        <a:pt x="755" y="5087"/>
                      </a:lnTo>
                      <a:lnTo>
                        <a:pt x="708" y="5030"/>
                      </a:lnTo>
                      <a:lnTo>
                        <a:pt x="661" y="4973"/>
                      </a:lnTo>
                      <a:lnTo>
                        <a:pt x="616" y="4914"/>
                      </a:lnTo>
                      <a:lnTo>
                        <a:pt x="572" y="4856"/>
                      </a:lnTo>
                      <a:lnTo>
                        <a:pt x="529" y="4795"/>
                      </a:lnTo>
                      <a:lnTo>
                        <a:pt x="490" y="4734"/>
                      </a:lnTo>
                      <a:lnTo>
                        <a:pt x="451" y="4671"/>
                      </a:lnTo>
                      <a:lnTo>
                        <a:pt x="414" y="4607"/>
                      </a:lnTo>
                      <a:lnTo>
                        <a:pt x="376" y="4544"/>
                      </a:lnTo>
                      <a:lnTo>
                        <a:pt x="343" y="4477"/>
                      </a:lnTo>
                      <a:lnTo>
                        <a:pt x="310" y="4412"/>
                      </a:lnTo>
                      <a:lnTo>
                        <a:pt x="278" y="4346"/>
                      </a:lnTo>
                      <a:lnTo>
                        <a:pt x="249" y="4277"/>
                      </a:lnTo>
                      <a:lnTo>
                        <a:pt x="220" y="4210"/>
                      </a:lnTo>
                      <a:lnTo>
                        <a:pt x="194" y="4140"/>
                      </a:lnTo>
                      <a:lnTo>
                        <a:pt x="169" y="4071"/>
                      </a:lnTo>
                      <a:lnTo>
                        <a:pt x="145" y="4001"/>
                      </a:lnTo>
                      <a:lnTo>
                        <a:pt x="124" y="3930"/>
                      </a:lnTo>
                      <a:lnTo>
                        <a:pt x="104" y="3859"/>
                      </a:lnTo>
                      <a:lnTo>
                        <a:pt x="86" y="3787"/>
                      </a:lnTo>
                      <a:lnTo>
                        <a:pt x="69" y="3714"/>
                      </a:lnTo>
                      <a:lnTo>
                        <a:pt x="55" y="3642"/>
                      </a:lnTo>
                      <a:lnTo>
                        <a:pt x="41" y="3567"/>
                      </a:lnTo>
                      <a:lnTo>
                        <a:pt x="29" y="3495"/>
                      </a:lnTo>
                      <a:lnTo>
                        <a:pt x="20" y="3420"/>
                      </a:lnTo>
                      <a:lnTo>
                        <a:pt x="14" y="3346"/>
                      </a:lnTo>
                      <a:lnTo>
                        <a:pt x="8" y="3269"/>
                      </a:lnTo>
                      <a:lnTo>
                        <a:pt x="4" y="3195"/>
                      </a:lnTo>
                      <a:lnTo>
                        <a:pt x="2" y="3118"/>
                      </a:lnTo>
                      <a:lnTo>
                        <a:pt x="0" y="3044"/>
                      </a:lnTo>
                      <a:lnTo>
                        <a:pt x="2" y="2967"/>
                      </a:lnTo>
                      <a:lnTo>
                        <a:pt x="6" y="2891"/>
                      </a:lnTo>
                      <a:lnTo>
                        <a:pt x="12" y="2814"/>
                      </a:lnTo>
                      <a:lnTo>
                        <a:pt x="20" y="2738"/>
                      </a:lnTo>
                      <a:lnTo>
                        <a:pt x="29" y="2661"/>
                      </a:lnTo>
                      <a:lnTo>
                        <a:pt x="41" y="2585"/>
                      </a:lnTo>
                      <a:lnTo>
                        <a:pt x="53" y="2508"/>
                      </a:lnTo>
                      <a:lnTo>
                        <a:pt x="69" y="2430"/>
                      </a:lnTo>
                      <a:lnTo>
                        <a:pt x="86" y="2353"/>
                      </a:lnTo>
                      <a:lnTo>
                        <a:pt x="106" y="2277"/>
                      </a:lnTo>
                      <a:lnTo>
                        <a:pt x="106" y="2277"/>
                      </a:lnTo>
                      <a:lnTo>
                        <a:pt x="127" y="2200"/>
                      </a:lnTo>
                      <a:lnTo>
                        <a:pt x="151" y="2126"/>
                      </a:lnTo>
                      <a:lnTo>
                        <a:pt x="176" y="2051"/>
                      </a:lnTo>
                      <a:lnTo>
                        <a:pt x="202" y="1977"/>
                      </a:lnTo>
                      <a:lnTo>
                        <a:pt x="231" y="1906"/>
                      </a:lnTo>
                      <a:lnTo>
                        <a:pt x="261" y="1834"/>
                      </a:lnTo>
                      <a:lnTo>
                        <a:pt x="294" y="1763"/>
                      </a:lnTo>
                      <a:lnTo>
                        <a:pt x="327" y="1694"/>
                      </a:lnTo>
                      <a:lnTo>
                        <a:pt x="361" y="1628"/>
                      </a:lnTo>
                      <a:lnTo>
                        <a:pt x="398" y="1561"/>
                      </a:lnTo>
                      <a:lnTo>
                        <a:pt x="437" y="1494"/>
                      </a:lnTo>
                      <a:lnTo>
                        <a:pt x="476" y="1430"/>
                      </a:lnTo>
                      <a:lnTo>
                        <a:pt x="518" y="1367"/>
                      </a:lnTo>
                      <a:lnTo>
                        <a:pt x="559" y="1304"/>
                      </a:lnTo>
                      <a:lnTo>
                        <a:pt x="604" y="1243"/>
                      </a:lnTo>
                      <a:lnTo>
                        <a:pt x="649" y="1184"/>
                      </a:lnTo>
                      <a:lnTo>
                        <a:pt x="696" y="1126"/>
                      </a:lnTo>
                      <a:lnTo>
                        <a:pt x="743" y="1069"/>
                      </a:lnTo>
                      <a:lnTo>
                        <a:pt x="792" y="1014"/>
                      </a:lnTo>
                      <a:lnTo>
                        <a:pt x="843" y="959"/>
                      </a:lnTo>
                      <a:lnTo>
                        <a:pt x="894" y="906"/>
                      </a:lnTo>
                      <a:lnTo>
                        <a:pt x="947" y="853"/>
                      </a:lnTo>
                      <a:lnTo>
                        <a:pt x="1002" y="802"/>
                      </a:lnTo>
                      <a:lnTo>
                        <a:pt x="1057" y="753"/>
                      </a:lnTo>
                      <a:lnTo>
                        <a:pt x="1114" y="706"/>
                      </a:lnTo>
                      <a:lnTo>
                        <a:pt x="1170" y="659"/>
                      </a:lnTo>
                      <a:lnTo>
                        <a:pt x="1229" y="614"/>
                      </a:lnTo>
                      <a:lnTo>
                        <a:pt x="1288" y="571"/>
                      </a:lnTo>
                      <a:lnTo>
                        <a:pt x="1349" y="529"/>
                      </a:lnTo>
                      <a:lnTo>
                        <a:pt x="1412" y="488"/>
                      </a:lnTo>
                      <a:lnTo>
                        <a:pt x="1474" y="449"/>
                      </a:lnTo>
                      <a:lnTo>
                        <a:pt x="1537" y="412"/>
                      </a:lnTo>
                      <a:lnTo>
                        <a:pt x="1602" y="377"/>
                      </a:lnTo>
                      <a:lnTo>
                        <a:pt x="1666" y="341"/>
                      </a:lnTo>
                      <a:lnTo>
                        <a:pt x="1731" y="308"/>
                      </a:lnTo>
                      <a:lnTo>
                        <a:pt x="1798" y="277"/>
                      </a:lnTo>
                      <a:lnTo>
                        <a:pt x="1866" y="247"/>
                      </a:lnTo>
                      <a:lnTo>
                        <a:pt x="1935" y="220"/>
                      </a:lnTo>
                      <a:lnTo>
                        <a:pt x="2004" y="192"/>
                      </a:lnTo>
                      <a:lnTo>
                        <a:pt x="2072" y="167"/>
                      </a:lnTo>
                      <a:lnTo>
                        <a:pt x="2143" y="143"/>
                      </a:lnTo>
                      <a:lnTo>
                        <a:pt x="2213" y="122"/>
                      </a:lnTo>
                      <a:lnTo>
                        <a:pt x="2286" y="102"/>
                      </a:lnTo>
                      <a:lnTo>
                        <a:pt x="2356" y="84"/>
                      </a:lnTo>
                      <a:lnTo>
                        <a:pt x="2429" y="67"/>
                      </a:lnTo>
                      <a:lnTo>
                        <a:pt x="2503" y="53"/>
                      </a:lnTo>
                      <a:lnTo>
                        <a:pt x="2576" y="39"/>
                      </a:lnTo>
                      <a:lnTo>
                        <a:pt x="2651" y="29"/>
                      </a:lnTo>
                      <a:lnTo>
                        <a:pt x="2725" y="20"/>
                      </a:lnTo>
                      <a:lnTo>
                        <a:pt x="2799" y="12"/>
                      </a:lnTo>
                      <a:lnTo>
                        <a:pt x="2874" y="6"/>
                      </a:lnTo>
                      <a:lnTo>
                        <a:pt x="2948" y="2"/>
                      </a:lnTo>
                      <a:lnTo>
                        <a:pt x="3025" y="0"/>
                      </a:lnTo>
                      <a:lnTo>
                        <a:pt x="3099" y="0"/>
                      </a:lnTo>
                      <a:lnTo>
                        <a:pt x="3176" y="2"/>
                      </a:lnTo>
                      <a:lnTo>
                        <a:pt x="3252" y="6"/>
                      </a:lnTo>
                      <a:lnTo>
                        <a:pt x="3329" y="10"/>
                      </a:lnTo>
                      <a:lnTo>
                        <a:pt x="3405" y="18"/>
                      </a:lnTo>
                      <a:lnTo>
                        <a:pt x="3482" y="27"/>
                      </a:lnTo>
                      <a:lnTo>
                        <a:pt x="3560" y="39"/>
                      </a:lnTo>
                      <a:lnTo>
                        <a:pt x="3637" y="53"/>
                      </a:lnTo>
                      <a:lnTo>
                        <a:pt x="3713" y="69"/>
                      </a:lnTo>
                      <a:lnTo>
                        <a:pt x="3790" y="86"/>
                      </a:lnTo>
                      <a:lnTo>
                        <a:pt x="3866" y="106"/>
                      </a:lnTo>
                      <a:lnTo>
                        <a:pt x="3866" y="106"/>
                      </a:lnTo>
                      <a:lnTo>
                        <a:pt x="3942" y="126"/>
                      </a:lnTo>
                      <a:lnTo>
                        <a:pt x="4019" y="149"/>
                      </a:lnTo>
                      <a:lnTo>
                        <a:pt x="4093" y="175"/>
                      </a:lnTo>
                      <a:lnTo>
                        <a:pt x="4166" y="202"/>
                      </a:lnTo>
                      <a:lnTo>
                        <a:pt x="4238" y="229"/>
                      </a:lnTo>
                      <a:lnTo>
                        <a:pt x="4309" y="261"/>
                      </a:lnTo>
                      <a:lnTo>
                        <a:pt x="4380" y="292"/>
                      </a:lnTo>
                      <a:lnTo>
                        <a:pt x="4448" y="326"/>
                      </a:lnTo>
                      <a:lnTo>
                        <a:pt x="4517" y="361"/>
                      </a:lnTo>
                      <a:lnTo>
                        <a:pt x="4583" y="396"/>
                      </a:lnTo>
                      <a:lnTo>
                        <a:pt x="4648" y="435"/>
                      </a:lnTo>
                      <a:lnTo>
                        <a:pt x="4713" y="475"/>
                      </a:lnTo>
                      <a:lnTo>
                        <a:pt x="4776" y="516"/>
                      </a:lnTo>
                      <a:lnTo>
                        <a:pt x="4838" y="559"/>
                      </a:lnTo>
                      <a:lnTo>
                        <a:pt x="4899" y="602"/>
                      </a:lnTo>
                      <a:lnTo>
                        <a:pt x="4958" y="647"/>
                      </a:lnTo>
                      <a:lnTo>
                        <a:pt x="5017" y="694"/>
                      </a:lnTo>
                      <a:lnTo>
                        <a:pt x="5074" y="741"/>
                      </a:lnTo>
                      <a:lnTo>
                        <a:pt x="5130" y="792"/>
                      </a:lnTo>
                      <a:lnTo>
                        <a:pt x="5183" y="841"/>
                      </a:lnTo>
                      <a:lnTo>
                        <a:pt x="5238" y="894"/>
                      </a:lnTo>
                      <a:lnTo>
                        <a:pt x="5289" y="947"/>
                      </a:lnTo>
                      <a:lnTo>
                        <a:pt x="5340" y="1000"/>
                      </a:lnTo>
                      <a:lnTo>
                        <a:pt x="5389" y="1055"/>
                      </a:lnTo>
                      <a:lnTo>
                        <a:pt x="5436" y="1112"/>
                      </a:lnTo>
                      <a:lnTo>
                        <a:pt x="5483" y="1171"/>
                      </a:lnTo>
                      <a:lnTo>
                        <a:pt x="5528" y="1228"/>
                      </a:lnTo>
                      <a:lnTo>
                        <a:pt x="5572" y="1288"/>
                      </a:lnTo>
                      <a:lnTo>
                        <a:pt x="5613" y="1349"/>
                      </a:lnTo>
                      <a:lnTo>
                        <a:pt x="5654" y="1410"/>
                      </a:lnTo>
                      <a:lnTo>
                        <a:pt x="5693" y="1473"/>
                      </a:lnTo>
                      <a:lnTo>
                        <a:pt x="5730" y="1536"/>
                      </a:lnTo>
                      <a:lnTo>
                        <a:pt x="5768" y="1600"/>
                      </a:lnTo>
                      <a:lnTo>
                        <a:pt x="5801" y="1665"/>
                      </a:lnTo>
                      <a:lnTo>
                        <a:pt x="5834" y="1732"/>
                      </a:lnTo>
                      <a:lnTo>
                        <a:pt x="5866" y="1798"/>
                      </a:lnTo>
                      <a:lnTo>
                        <a:pt x="5895" y="1865"/>
                      </a:lnTo>
                      <a:lnTo>
                        <a:pt x="5924" y="1934"/>
                      </a:lnTo>
                      <a:lnTo>
                        <a:pt x="5950" y="2002"/>
                      </a:lnTo>
                      <a:lnTo>
                        <a:pt x="5975" y="2073"/>
                      </a:lnTo>
                      <a:lnTo>
                        <a:pt x="5999" y="2141"/>
                      </a:lnTo>
                      <a:lnTo>
                        <a:pt x="6020" y="2214"/>
                      </a:lnTo>
                      <a:lnTo>
                        <a:pt x="6040" y="2285"/>
                      </a:lnTo>
                      <a:lnTo>
                        <a:pt x="6058" y="2357"/>
                      </a:lnTo>
                      <a:lnTo>
                        <a:pt x="6075" y="2430"/>
                      </a:lnTo>
                      <a:lnTo>
                        <a:pt x="6089" y="2502"/>
                      </a:lnTo>
                      <a:lnTo>
                        <a:pt x="6103" y="2575"/>
                      </a:lnTo>
                      <a:lnTo>
                        <a:pt x="6115" y="2649"/>
                      </a:lnTo>
                      <a:lnTo>
                        <a:pt x="6122" y="2724"/>
                      </a:lnTo>
                      <a:lnTo>
                        <a:pt x="6130" y="2798"/>
                      </a:lnTo>
                      <a:lnTo>
                        <a:pt x="6136" y="2873"/>
                      </a:lnTo>
                      <a:lnTo>
                        <a:pt x="6140" y="2949"/>
                      </a:lnTo>
                      <a:lnTo>
                        <a:pt x="6142" y="3024"/>
                      </a:lnTo>
                      <a:lnTo>
                        <a:pt x="6142" y="3100"/>
                      </a:lnTo>
                      <a:lnTo>
                        <a:pt x="6142" y="3177"/>
                      </a:lnTo>
                      <a:lnTo>
                        <a:pt x="6138" y="3253"/>
                      </a:lnTo>
                      <a:lnTo>
                        <a:pt x="6132" y="3330"/>
                      </a:lnTo>
                      <a:lnTo>
                        <a:pt x="6124" y="3406"/>
                      </a:lnTo>
                      <a:lnTo>
                        <a:pt x="6115" y="3483"/>
                      </a:lnTo>
                      <a:lnTo>
                        <a:pt x="6103" y="3559"/>
                      </a:lnTo>
                      <a:lnTo>
                        <a:pt x="6091" y="3636"/>
                      </a:lnTo>
                      <a:lnTo>
                        <a:pt x="6075" y="3712"/>
                      </a:lnTo>
                      <a:lnTo>
                        <a:pt x="6058" y="3789"/>
                      </a:lnTo>
                      <a:lnTo>
                        <a:pt x="6038" y="3867"/>
                      </a:lnTo>
                      <a:lnTo>
                        <a:pt x="6038" y="3867"/>
                      </a:lnTo>
                      <a:close/>
                      <a:moveTo>
                        <a:pt x="3848" y="171"/>
                      </a:moveTo>
                      <a:lnTo>
                        <a:pt x="3848" y="171"/>
                      </a:lnTo>
                      <a:lnTo>
                        <a:pt x="3774" y="151"/>
                      </a:lnTo>
                      <a:lnTo>
                        <a:pt x="3699" y="133"/>
                      </a:lnTo>
                      <a:lnTo>
                        <a:pt x="3623" y="120"/>
                      </a:lnTo>
                      <a:lnTo>
                        <a:pt x="3548" y="106"/>
                      </a:lnTo>
                      <a:lnTo>
                        <a:pt x="3474" y="94"/>
                      </a:lnTo>
                      <a:lnTo>
                        <a:pt x="3399" y="84"/>
                      </a:lnTo>
                      <a:lnTo>
                        <a:pt x="3323" y="78"/>
                      </a:lnTo>
                      <a:lnTo>
                        <a:pt x="3248" y="73"/>
                      </a:lnTo>
                      <a:lnTo>
                        <a:pt x="3174" y="69"/>
                      </a:lnTo>
                      <a:lnTo>
                        <a:pt x="3099" y="67"/>
                      </a:lnTo>
                      <a:lnTo>
                        <a:pt x="3025" y="67"/>
                      </a:lnTo>
                      <a:lnTo>
                        <a:pt x="2952" y="69"/>
                      </a:lnTo>
                      <a:lnTo>
                        <a:pt x="2878" y="73"/>
                      </a:lnTo>
                      <a:lnTo>
                        <a:pt x="2805" y="78"/>
                      </a:lnTo>
                      <a:lnTo>
                        <a:pt x="2731" y="86"/>
                      </a:lnTo>
                      <a:lnTo>
                        <a:pt x="2658" y="96"/>
                      </a:lnTo>
                      <a:lnTo>
                        <a:pt x="2588" y="106"/>
                      </a:lnTo>
                      <a:lnTo>
                        <a:pt x="2515" y="120"/>
                      </a:lnTo>
                      <a:lnTo>
                        <a:pt x="2443" y="133"/>
                      </a:lnTo>
                      <a:lnTo>
                        <a:pt x="2372" y="149"/>
                      </a:lnTo>
                      <a:lnTo>
                        <a:pt x="2302" y="167"/>
                      </a:lnTo>
                      <a:lnTo>
                        <a:pt x="2233" y="186"/>
                      </a:lnTo>
                      <a:lnTo>
                        <a:pt x="2164" y="208"/>
                      </a:lnTo>
                      <a:lnTo>
                        <a:pt x="2094" y="231"/>
                      </a:lnTo>
                      <a:lnTo>
                        <a:pt x="2027" y="255"/>
                      </a:lnTo>
                      <a:lnTo>
                        <a:pt x="1958" y="282"/>
                      </a:lnTo>
                      <a:lnTo>
                        <a:pt x="1892" y="310"/>
                      </a:lnTo>
                      <a:lnTo>
                        <a:pt x="1827" y="337"/>
                      </a:lnTo>
                      <a:lnTo>
                        <a:pt x="1762" y="369"/>
                      </a:lnTo>
                      <a:lnTo>
                        <a:pt x="1698" y="402"/>
                      </a:lnTo>
                      <a:lnTo>
                        <a:pt x="1633" y="435"/>
                      </a:lnTo>
                      <a:lnTo>
                        <a:pt x="1570" y="471"/>
                      </a:lnTo>
                      <a:lnTo>
                        <a:pt x="1510" y="508"/>
                      </a:lnTo>
                      <a:lnTo>
                        <a:pt x="1447" y="545"/>
                      </a:lnTo>
                      <a:lnTo>
                        <a:pt x="1388" y="584"/>
                      </a:lnTo>
                      <a:lnTo>
                        <a:pt x="1327" y="626"/>
                      </a:lnTo>
                      <a:lnTo>
                        <a:pt x="1270" y="669"/>
                      </a:lnTo>
                      <a:lnTo>
                        <a:pt x="1214" y="712"/>
                      </a:lnTo>
                      <a:lnTo>
                        <a:pt x="1157" y="759"/>
                      </a:lnTo>
                      <a:lnTo>
                        <a:pt x="1102" y="804"/>
                      </a:lnTo>
                      <a:lnTo>
                        <a:pt x="1047" y="853"/>
                      </a:lnTo>
                      <a:lnTo>
                        <a:pt x="994" y="902"/>
                      </a:lnTo>
                      <a:lnTo>
                        <a:pt x="943" y="953"/>
                      </a:lnTo>
                      <a:lnTo>
                        <a:pt x="892" y="1004"/>
                      </a:lnTo>
                      <a:lnTo>
                        <a:pt x="843" y="1059"/>
                      </a:lnTo>
                      <a:lnTo>
                        <a:pt x="794" y="1114"/>
                      </a:lnTo>
                      <a:lnTo>
                        <a:pt x="747" y="1169"/>
                      </a:lnTo>
                      <a:lnTo>
                        <a:pt x="702" y="1226"/>
                      </a:lnTo>
                      <a:lnTo>
                        <a:pt x="657" y="1284"/>
                      </a:lnTo>
                      <a:lnTo>
                        <a:pt x="616" y="1343"/>
                      </a:lnTo>
                      <a:lnTo>
                        <a:pt x="572" y="1404"/>
                      </a:lnTo>
                      <a:lnTo>
                        <a:pt x="533" y="1467"/>
                      </a:lnTo>
                      <a:lnTo>
                        <a:pt x="494" y="1530"/>
                      </a:lnTo>
                      <a:lnTo>
                        <a:pt x="457" y="1594"/>
                      </a:lnTo>
                      <a:lnTo>
                        <a:pt x="421" y="1659"/>
                      </a:lnTo>
                      <a:lnTo>
                        <a:pt x="386" y="1726"/>
                      </a:lnTo>
                      <a:lnTo>
                        <a:pt x="355" y="1792"/>
                      </a:lnTo>
                      <a:lnTo>
                        <a:pt x="323" y="1861"/>
                      </a:lnTo>
                      <a:lnTo>
                        <a:pt x="294" y="1932"/>
                      </a:lnTo>
                      <a:lnTo>
                        <a:pt x="267" y="2002"/>
                      </a:lnTo>
                      <a:lnTo>
                        <a:pt x="239" y="2073"/>
                      </a:lnTo>
                      <a:lnTo>
                        <a:pt x="216" y="2145"/>
                      </a:lnTo>
                      <a:lnTo>
                        <a:pt x="192" y="2220"/>
                      </a:lnTo>
                      <a:lnTo>
                        <a:pt x="171" y="2294"/>
                      </a:lnTo>
                      <a:lnTo>
                        <a:pt x="171" y="2294"/>
                      </a:lnTo>
                      <a:lnTo>
                        <a:pt x="153" y="2369"/>
                      </a:lnTo>
                      <a:lnTo>
                        <a:pt x="135" y="2445"/>
                      </a:lnTo>
                      <a:lnTo>
                        <a:pt x="120" y="2520"/>
                      </a:lnTo>
                      <a:lnTo>
                        <a:pt x="108" y="2594"/>
                      </a:lnTo>
                      <a:lnTo>
                        <a:pt x="96" y="2669"/>
                      </a:lnTo>
                      <a:lnTo>
                        <a:pt x="86" y="2745"/>
                      </a:lnTo>
                      <a:lnTo>
                        <a:pt x="78" y="2820"/>
                      </a:lnTo>
                      <a:lnTo>
                        <a:pt x="74" y="2895"/>
                      </a:lnTo>
                      <a:lnTo>
                        <a:pt x="71" y="2969"/>
                      </a:lnTo>
                      <a:lnTo>
                        <a:pt x="69" y="3044"/>
                      </a:lnTo>
                      <a:lnTo>
                        <a:pt x="69" y="3118"/>
                      </a:lnTo>
                      <a:lnTo>
                        <a:pt x="71" y="3193"/>
                      </a:lnTo>
                      <a:lnTo>
                        <a:pt x="74" y="3265"/>
                      </a:lnTo>
                      <a:lnTo>
                        <a:pt x="80" y="3340"/>
                      </a:lnTo>
                      <a:lnTo>
                        <a:pt x="88" y="3412"/>
                      </a:lnTo>
                      <a:lnTo>
                        <a:pt x="96" y="3485"/>
                      </a:lnTo>
                      <a:lnTo>
                        <a:pt x="108" y="3557"/>
                      </a:lnTo>
                      <a:lnTo>
                        <a:pt x="120" y="3628"/>
                      </a:lnTo>
                      <a:lnTo>
                        <a:pt x="135" y="3701"/>
                      </a:lnTo>
                      <a:lnTo>
                        <a:pt x="151" y="3771"/>
                      </a:lnTo>
                      <a:lnTo>
                        <a:pt x="169" y="3842"/>
                      </a:lnTo>
                      <a:lnTo>
                        <a:pt x="188" y="3910"/>
                      </a:lnTo>
                      <a:lnTo>
                        <a:pt x="210" y="3981"/>
                      </a:lnTo>
                      <a:lnTo>
                        <a:pt x="231" y="4050"/>
                      </a:lnTo>
                      <a:lnTo>
                        <a:pt x="257" y="4116"/>
                      </a:lnTo>
                      <a:lnTo>
                        <a:pt x="282" y="4185"/>
                      </a:lnTo>
                      <a:lnTo>
                        <a:pt x="310" y="4252"/>
                      </a:lnTo>
                      <a:lnTo>
                        <a:pt x="339" y="4316"/>
                      </a:lnTo>
                      <a:lnTo>
                        <a:pt x="371" y="4383"/>
                      </a:lnTo>
                      <a:lnTo>
                        <a:pt x="402" y="4448"/>
                      </a:lnTo>
                      <a:lnTo>
                        <a:pt x="435" y="4510"/>
                      </a:lnTo>
                      <a:lnTo>
                        <a:pt x="471" y="4573"/>
                      </a:lnTo>
                      <a:lnTo>
                        <a:pt x="508" y="4636"/>
                      </a:lnTo>
                      <a:lnTo>
                        <a:pt x="547" y="4697"/>
                      </a:lnTo>
                      <a:lnTo>
                        <a:pt x="586" y="4758"/>
                      </a:lnTo>
                      <a:lnTo>
                        <a:pt x="627" y="4816"/>
                      </a:lnTo>
                      <a:lnTo>
                        <a:pt x="670" y="4875"/>
                      </a:lnTo>
                      <a:lnTo>
                        <a:pt x="714" y="4932"/>
                      </a:lnTo>
                      <a:lnTo>
                        <a:pt x="759" y="4987"/>
                      </a:lnTo>
                      <a:lnTo>
                        <a:pt x="806" y="5042"/>
                      </a:lnTo>
                      <a:lnTo>
                        <a:pt x="855" y="5097"/>
                      </a:lnTo>
                      <a:lnTo>
                        <a:pt x="904" y="5150"/>
                      </a:lnTo>
                      <a:lnTo>
                        <a:pt x="955" y="5201"/>
                      </a:lnTo>
                      <a:lnTo>
                        <a:pt x="1006" y="5252"/>
                      </a:lnTo>
                      <a:lnTo>
                        <a:pt x="1059" y="5301"/>
                      </a:lnTo>
                      <a:lnTo>
                        <a:pt x="1114" y="5350"/>
                      </a:lnTo>
                      <a:lnTo>
                        <a:pt x="1170" y="5397"/>
                      </a:lnTo>
                      <a:lnTo>
                        <a:pt x="1227" y="5442"/>
                      </a:lnTo>
                      <a:lnTo>
                        <a:pt x="1286" y="5487"/>
                      </a:lnTo>
                      <a:lnTo>
                        <a:pt x="1345" y="5530"/>
                      </a:lnTo>
                      <a:lnTo>
                        <a:pt x="1406" y="5571"/>
                      </a:lnTo>
                      <a:lnTo>
                        <a:pt x="1466" y="5611"/>
                      </a:lnTo>
                      <a:lnTo>
                        <a:pt x="1531" y="5650"/>
                      </a:lnTo>
                      <a:lnTo>
                        <a:pt x="1594" y="5687"/>
                      </a:lnTo>
                      <a:lnTo>
                        <a:pt x="1660" y="5722"/>
                      </a:lnTo>
                      <a:lnTo>
                        <a:pt x="1725" y="5758"/>
                      </a:lnTo>
                      <a:lnTo>
                        <a:pt x="1794" y="5791"/>
                      </a:lnTo>
                      <a:lnTo>
                        <a:pt x="1862" y="5820"/>
                      </a:lnTo>
                      <a:lnTo>
                        <a:pt x="1931" y="5850"/>
                      </a:lnTo>
                      <a:lnTo>
                        <a:pt x="2002" y="5879"/>
                      </a:lnTo>
                      <a:lnTo>
                        <a:pt x="2074" y="5905"/>
                      </a:lnTo>
                      <a:lnTo>
                        <a:pt x="2147" y="5930"/>
                      </a:lnTo>
                      <a:lnTo>
                        <a:pt x="2219" y="5952"/>
                      </a:lnTo>
                      <a:lnTo>
                        <a:pt x="2296" y="5973"/>
                      </a:lnTo>
                      <a:lnTo>
                        <a:pt x="2296" y="5973"/>
                      </a:lnTo>
                      <a:lnTo>
                        <a:pt x="2370" y="5993"/>
                      </a:lnTo>
                      <a:lnTo>
                        <a:pt x="2445" y="6009"/>
                      </a:lnTo>
                      <a:lnTo>
                        <a:pt x="2521" y="6024"/>
                      </a:lnTo>
                      <a:lnTo>
                        <a:pt x="2596" y="6038"/>
                      </a:lnTo>
                      <a:lnTo>
                        <a:pt x="2670" y="6048"/>
                      </a:lnTo>
                      <a:lnTo>
                        <a:pt x="2745" y="6058"/>
                      </a:lnTo>
                      <a:lnTo>
                        <a:pt x="2821" y="6066"/>
                      </a:lnTo>
                      <a:lnTo>
                        <a:pt x="2896" y="6071"/>
                      </a:lnTo>
                      <a:lnTo>
                        <a:pt x="2970" y="6073"/>
                      </a:lnTo>
                      <a:lnTo>
                        <a:pt x="3045" y="6075"/>
                      </a:lnTo>
                      <a:lnTo>
                        <a:pt x="3119" y="6075"/>
                      </a:lnTo>
                      <a:lnTo>
                        <a:pt x="3192" y="6073"/>
                      </a:lnTo>
                      <a:lnTo>
                        <a:pt x="3266" y="6069"/>
                      </a:lnTo>
                      <a:lnTo>
                        <a:pt x="3339" y="6064"/>
                      </a:lnTo>
                      <a:lnTo>
                        <a:pt x="3413" y="6058"/>
                      </a:lnTo>
                      <a:lnTo>
                        <a:pt x="3486" y="6048"/>
                      </a:lnTo>
                      <a:lnTo>
                        <a:pt x="3556" y="6036"/>
                      </a:lnTo>
                      <a:lnTo>
                        <a:pt x="3629" y="6024"/>
                      </a:lnTo>
                      <a:lnTo>
                        <a:pt x="3699" y="6009"/>
                      </a:lnTo>
                      <a:lnTo>
                        <a:pt x="3772" y="5993"/>
                      </a:lnTo>
                      <a:lnTo>
                        <a:pt x="3842" y="5975"/>
                      </a:lnTo>
                      <a:lnTo>
                        <a:pt x="3911" y="5956"/>
                      </a:lnTo>
                      <a:lnTo>
                        <a:pt x="3980" y="5934"/>
                      </a:lnTo>
                      <a:lnTo>
                        <a:pt x="4048" y="5913"/>
                      </a:lnTo>
                      <a:lnTo>
                        <a:pt x="4117" y="5887"/>
                      </a:lnTo>
                      <a:lnTo>
                        <a:pt x="4186" y="5862"/>
                      </a:lnTo>
                      <a:lnTo>
                        <a:pt x="4252" y="5834"/>
                      </a:lnTo>
                      <a:lnTo>
                        <a:pt x="4317" y="5805"/>
                      </a:lnTo>
                      <a:lnTo>
                        <a:pt x="4382" y="5773"/>
                      </a:lnTo>
                      <a:lnTo>
                        <a:pt x="4446" y="5742"/>
                      </a:lnTo>
                      <a:lnTo>
                        <a:pt x="4511" y="5709"/>
                      </a:lnTo>
                      <a:lnTo>
                        <a:pt x="4574" y="5673"/>
                      </a:lnTo>
                      <a:lnTo>
                        <a:pt x="4634" y="5636"/>
                      </a:lnTo>
                      <a:lnTo>
                        <a:pt x="4697" y="5599"/>
                      </a:lnTo>
                      <a:lnTo>
                        <a:pt x="4756" y="5558"/>
                      </a:lnTo>
                      <a:lnTo>
                        <a:pt x="4815" y="5516"/>
                      </a:lnTo>
                      <a:lnTo>
                        <a:pt x="4874" y="5475"/>
                      </a:lnTo>
                      <a:lnTo>
                        <a:pt x="4930" y="5430"/>
                      </a:lnTo>
                      <a:lnTo>
                        <a:pt x="4987" y="5385"/>
                      </a:lnTo>
                      <a:lnTo>
                        <a:pt x="5042" y="5338"/>
                      </a:lnTo>
                      <a:lnTo>
                        <a:pt x="5097" y="5291"/>
                      </a:lnTo>
                      <a:lnTo>
                        <a:pt x="5150" y="5242"/>
                      </a:lnTo>
                      <a:lnTo>
                        <a:pt x="5201" y="5191"/>
                      </a:lnTo>
                      <a:lnTo>
                        <a:pt x="5252" y="5138"/>
                      </a:lnTo>
                      <a:lnTo>
                        <a:pt x="5301" y="5085"/>
                      </a:lnTo>
                      <a:lnTo>
                        <a:pt x="5350" y="5030"/>
                      </a:lnTo>
                      <a:lnTo>
                        <a:pt x="5397" y="4975"/>
                      </a:lnTo>
                      <a:lnTo>
                        <a:pt x="5442" y="4916"/>
                      </a:lnTo>
                      <a:lnTo>
                        <a:pt x="5487" y="4860"/>
                      </a:lnTo>
                      <a:lnTo>
                        <a:pt x="5528" y="4799"/>
                      </a:lnTo>
                      <a:lnTo>
                        <a:pt x="5572" y="4738"/>
                      </a:lnTo>
                      <a:lnTo>
                        <a:pt x="5611" y="4677"/>
                      </a:lnTo>
                      <a:lnTo>
                        <a:pt x="5650" y="4614"/>
                      </a:lnTo>
                      <a:lnTo>
                        <a:pt x="5687" y="4550"/>
                      </a:lnTo>
                      <a:lnTo>
                        <a:pt x="5723" y="4485"/>
                      </a:lnTo>
                      <a:lnTo>
                        <a:pt x="5758" y="4418"/>
                      </a:lnTo>
                      <a:lnTo>
                        <a:pt x="5789" y="4350"/>
                      </a:lnTo>
                      <a:lnTo>
                        <a:pt x="5821" y="4281"/>
                      </a:lnTo>
                      <a:lnTo>
                        <a:pt x="5850" y="4212"/>
                      </a:lnTo>
                      <a:lnTo>
                        <a:pt x="5877" y="4142"/>
                      </a:lnTo>
                      <a:lnTo>
                        <a:pt x="5905" y="4069"/>
                      </a:lnTo>
                      <a:lnTo>
                        <a:pt x="5928" y="3997"/>
                      </a:lnTo>
                      <a:lnTo>
                        <a:pt x="5952" y="3924"/>
                      </a:lnTo>
                      <a:lnTo>
                        <a:pt x="5971" y="3850"/>
                      </a:lnTo>
                      <a:lnTo>
                        <a:pt x="5971" y="3850"/>
                      </a:lnTo>
                      <a:lnTo>
                        <a:pt x="5991" y="3773"/>
                      </a:lnTo>
                      <a:lnTo>
                        <a:pt x="6009" y="3699"/>
                      </a:lnTo>
                      <a:lnTo>
                        <a:pt x="6024" y="3624"/>
                      </a:lnTo>
                      <a:lnTo>
                        <a:pt x="6036" y="3548"/>
                      </a:lnTo>
                      <a:lnTo>
                        <a:pt x="6048" y="3473"/>
                      </a:lnTo>
                      <a:lnTo>
                        <a:pt x="6058" y="3399"/>
                      </a:lnTo>
                      <a:lnTo>
                        <a:pt x="6066" y="3324"/>
                      </a:lnTo>
                      <a:lnTo>
                        <a:pt x="6070" y="3248"/>
                      </a:lnTo>
                      <a:lnTo>
                        <a:pt x="6073" y="3173"/>
                      </a:lnTo>
                      <a:lnTo>
                        <a:pt x="6075" y="3098"/>
                      </a:lnTo>
                      <a:lnTo>
                        <a:pt x="6075" y="3026"/>
                      </a:lnTo>
                      <a:lnTo>
                        <a:pt x="6073" y="2951"/>
                      </a:lnTo>
                      <a:lnTo>
                        <a:pt x="6070" y="2877"/>
                      </a:lnTo>
                      <a:lnTo>
                        <a:pt x="6064" y="2804"/>
                      </a:lnTo>
                      <a:lnTo>
                        <a:pt x="6056" y="2732"/>
                      </a:lnTo>
                      <a:lnTo>
                        <a:pt x="6048" y="2659"/>
                      </a:lnTo>
                      <a:lnTo>
                        <a:pt x="6036" y="2587"/>
                      </a:lnTo>
                      <a:lnTo>
                        <a:pt x="6022" y="2514"/>
                      </a:lnTo>
                      <a:lnTo>
                        <a:pt x="6009" y="2443"/>
                      </a:lnTo>
                      <a:lnTo>
                        <a:pt x="5993" y="2373"/>
                      </a:lnTo>
                      <a:lnTo>
                        <a:pt x="5975" y="2302"/>
                      </a:lnTo>
                      <a:lnTo>
                        <a:pt x="5956" y="2232"/>
                      </a:lnTo>
                      <a:lnTo>
                        <a:pt x="5934" y="2163"/>
                      </a:lnTo>
                      <a:lnTo>
                        <a:pt x="5911" y="2094"/>
                      </a:lnTo>
                      <a:lnTo>
                        <a:pt x="5887" y="2026"/>
                      </a:lnTo>
                      <a:lnTo>
                        <a:pt x="5862" y="1959"/>
                      </a:lnTo>
                      <a:lnTo>
                        <a:pt x="5834" y="1892"/>
                      </a:lnTo>
                      <a:lnTo>
                        <a:pt x="5805" y="1826"/>
                      </a:lnTo>
                      <a:lnTo>
                        <a:pt x="5773" y="1761"/>
                      </a:lnTo>
                      <a:lnTo>
                        <a:pt x="5742" y="1696"/>
                      </a:lnTo>
                      <a:lnTo>
                        <a:pt x="5707" y="1632"/>
                      </a:lnTo>
                      <a:lnTo>
                        <a:pt x="5672" y="1569"/>
                      </a:lnTo>
                      <a:lnTo>
                        <a:pt x="5636" y="1508"/>
                      </a:lnTo>
                      <a:lnTo>
                        <a:pt x="5597" y="1447"/>
                      </a:lnTo>
                      <a:lnTo>
                        <a:pt x="5558" y="1386"/>
                      </a:lnTo>
                      <a:lnTo>
                        <a:pt x="5517" y="1328"/>
                      </a:lnTo>
                      <a:lnTo>
                        <a:pt x="5474" y="1269"/>
                      </a:lnTo>
                      <a:lnTo>
                        <a:pt x="5430" y="1212"/>
                      </a:lnTo>
                      <a:lnTo>
                        <a:pt x="5385" y="1155"/>
                      </a:lnTo>
                      <a:lnTo>
                        <a:pt x="5338" y="1100"/>
                      </a:lnTo>
                      <a:lnTo>
                        <a:pt x="5289" y="1047"/>
                      </a:lnTo>
                      <a:lnTo>
                        <a:pt x="5240" y="994"/>
                      </a:lnTo>
                      <a:lnTo>
                        <a:pt x="5189" y="941"/>
                      </a:lnTo>
                      <a:lnTo>
                        <a:pt x="5138" y="890"/>
                      </a:lnTo>
                      <a:lnTo>
                        <a:pt x="5085" y="841"/>
                      </a:lnTo>
                      <a:lnTo>
                        <a:pt x="5030" y="794"/>
                      </a:lnTo>
                      <a:lnTo>
                        <a:pt x="4974" y="747"/>
                      </a:lnTo>
                      <a:lnTo>
                        <a:pt x="4917" y="700"/>
                      </a:lnTo>
                      <a:lnTo>
                        <a:pt x="4858" y="657"/>
                      </a:lnTo>
                      <a:lnTo>
                        <a:pt x="4799" y="614"/>
                      </a:lnTo>
                      <a:lnTo>
                        <a:pt x="4738" y="573"/>
                      </a:lnTo>
                      <a:lnTo>
                        <a:pt x="4678" y="531"/>
                      </a:lnTo>
                      <a:lnTo>
                        <a:pt x="4613" y="492"/>
                      </a:lnTo>
                      <a:lnTo>
                        <a:pt x="4550" y="455"/>
                      </a:lnTo>
                      <a:lnTo>
                        <a:pt x="4484" y="420"/>
                      </a:lnTo>
                      <a:lnTo>
                        <a:pt x="4419" y="386"/>
                      </a:lnTo>
                      <a:lnTo>
                        <a:pt x="4350" y="353"/>
                      </a:lnTo>
                      <a:lnTo>
                        <a:pt x="4282" y="322"/>
                      </a:lnTo>
                      <a:lnTo>
                        <a:pt x="4213" y="292"/>
                      </a:lnTo>
                      <a:lnTo>
                        <a:pt x="4142" y="265"/>
                      </a:lnTo>
                      <a:lnTo>
                        <a:pt x="4070" y="239"/>
                      </a:lnTo>
                      <a:lnTo>
                        <a:pt x="3997" y="214"/>
                      </a:lnTo>
                      <a:lnTo>
                        <a:pt x="3923" y="190"/>
                      </a:lnTo>
                      <a:lnTo>
                        <a:pt x="3848" y="171"/>
                      </a:lnTo>
                      <a:lnTo>
                        <a:pt x="3848" y="171"/>
                      </a:lnTo>
                      <a:close/>
                    </a:path>
                  </a:pathLst>
                </a:custGeom>
                <a:gradFill rotWithShape="0">
                  <a:gsLst>
                    <a:gs pos="0">
                      <a:srgbClr val="74420d"/>
                    </a:gs>
                    <a:gs pos="100000">
                      <a:srgbClr val="c89834"/>
                    </a:gs>
                  </a:gsLst>
                  <a:lin ang="2460000"/>
                </a:gradFill>
                <a:ln w="9525">
                  <a:noFill/>
                </a:ln>
              </p:spPr>
              <p:style>
                <a:lnRef idx="0"/>
                <a:fillRef idx="0"/>
                <a:effectRef idx="0"/>
                <a:fontRef idx="minor"/>
              </p:style>
              <p:txBody>
                <a:bodyPr numCol="1" spcCol="0" anchor="t">
                  <a:noAutofit/>
                </a:bodyPr>
                <a:p>
                  <a:pPr>
                    <a:lnSpc>
                      <a:spcPct val="85000"/>
                    </a:lnSpc>
                    <a:spcBef>
                      <a:spcPts val="360"/>
                    </a:spcBef>
                  </a:pPr>
                  <a:endParaRPr b="0" lang="en-US" sz="1800" spc="-1" strike="noStrike">
                    <a:solidFill>
                      <a:srgbClr val="000000"/>
                    </a:solidFill>
                    <a:latin typeface="Calibri"/>
                  </a:endParaRPr>
                </a:p>
              </p:txBody>
            </p:sp>
            <p:sp>
              <p:nvSpPr>
                <p:cNvPr id="643" name="Freeform 9"/>
                <p:cNvSpPr/>
                <p:nvPr/>
              </p:nvSpPr>
              <p:spPr>
                <a:xfrm flipV="1" rot="10800000">
                  <a:off x="1650600" y="4798080"/>
                  <a:ext cx="266040" cy="266040"/>
                </a:xfrm>
                <a:custGeom>
                  <a:avLst/>
                  <a:gdLst>
                    <a:gd name="textAreaLeft" fmla="*/ 0 w 266040"/>
                    <a:gd name="textAreaRight" fmla="*/ 266400 w 266040"/>
                    <a:gd name="textAreaTop" fmla="*/ -360 h 266040"/>
                    <a:gd name="textAreaBottom" fmla="*/ 266040 h 266040"/>
                  </a:gdLst>
                  <a:ahLst/>
                  <a:rect l="textAreaLeft" t="textAreaTop" r="textAreaRight" b="textAreaBottom"/>
                  <a:pathLst>
                    <a:path w="4320" h="4320">
                      <a:moveTo>
                        <a:pt x="4245" y="2719"/>
                      </a:moveTo>
                      <a:lnTo>
                        <a:pt x="4245" y="2719"/>
                      </a:lnTo>
                      <a:lnTo>
                        <a:pt x="4231" y="2773"/>
                      </a:lnTo>
                      <a:lnTo>
                        <a:pt x="4215" y="2826"/>
                      </a:lnTo>
                      <a:lnTo>
                        <a:pt x="4197" y="2878"/>
                      </a:lnTo>
                      <a:lnTo>
                        <a:pt x="4178" y="2930"/>
                      </a:lnTo>
                      <a:lnTo>
                        <a:pt x="4158" y="2980"/>
                      </a:lnTo>
                      <a:lnTo>
                        <a:pt x="4138" y="3031"/>
                      </a:lnTo>
                      <a:lnTo>
                        <a:pt x="4115" y="3080"/>
                      </a:lnTo>
                      <a:lnTo>
                        <a:pt x="4091" y="3128"/>
                      </a:lnTo>
                      <a:lnTo>
                        <a:pt x="4067" y="3176"/>
                      </a:lnTo>
                      <a:lnTo>
                        <a:pt x="4040" y="3223"/>
                      </a:lnTo>
                      <a:lnTo>
                        <a:pt x="4014" y="3269"/>
                      </a:lnTo>
                      <a:lnTo>
                        <a:pt x="3986" y="3315"/>
                      </a:lnTo>
                      <a:lnTo>
                        <a:pt x="3958" y="3359"/>
                      </a:lnTo>
                      <a:lnTo>
                        <a:pt x="3927" y="3402"/>
                      </a:lnTo>
                      <a:lnTo>
                        <a:pt x="3897" y="3445"/>
                      </a:lnTo>
                      <a:lnTo>
                        <a:pt x="3865" y="3488"/>
                      </a:lnTo>
                      <a:lnTo>
                        <a:pt x="3831" y="3528"/>
                      </a:lnTo>
                      <a:lnTo>
                        <a:pt x="3798" y="3569"/>
                      </a:lnTo>
                      <a:lnTo>
                        <a:pt x="3763" y="3608"/>
                      </a:lnTo>
                      <a:lnTo>
                        <a:pt x="3727" y="3646"/>
                      </a:lnTo>
                      <a:lnTo>
                        <a:pt x="3691" y="3683"/>
                      </a:lnTo>
                      <a:lnTo>
                        <a:pt x="3654" y="3719"/>
                      </a:lnTo>
                      <a:lnTo>
                        <a:pt x="3617" y="3755"/>
                      </a:lnTo>
                      <a:lnTo>
                        <a:pt x="3577" y="3790"/>
                      </a:lnTo>
                      <a:lnTo>
                        <a:pt x="3538" y="3823"/>
                      </a:lnTo>
                      <a:lnTo>
                        <a:pt x="3497" y="3857"/>
                      </a:lnTo>
                      <a:lnTo>
                        <a:pt x="3456" y="3887"/>
                      </a:lnTo>
                      <a:lnTo>
                        <a:pt x="3414" y="3918"/>
                      </a:lnTo>
                      <a:lnTo>
                        <a:pt x="3372" y="3948"/>
                      </a:lnTo>
                      <a:lnTo>
                        <a:pt x="3328" y="3976"/>
                      </a:lnTo>
                      <a:lnTo>
                        <a:pt x="3284" y="4004"/>
                      </a:lnTo>
                      <a:lnTo>
                        <a:pt x="3240" y="4030"/>
                      </a:lnTo>
                      <a:lnTo>
                        <a:pt x="3195" y="4055"/>
                      </a:lnTo>
                      <a:lnTo>
                        <a:pt x="3149" y="4080"/>
                      </a:lnTo>
                      <a:lnTo>
                        <a:pt x="3103" y="4103"/>
                      </a:lnTo>
                      <a:lnTo>
                        <a:pt x="3056" y="4126"/>
                      </a:lnTo>
                      <a:lnTo>
                        <a:pt x="3008" y="4146"/>
                      </a:lnTo>
                      <a:lnTo>
                        <a:pt x="2960" y="4166"/>
                      </a:lnTo>
                      <a:lnTo>
                        <a:pt x="2912" y="4184"/>
                      </a:lnTo>
                      <a:lnTo>
                        <a:pt x="2863" y="4203"/>
                      </a:lnTo>
                      <a:lnTo>
                        <a:pt x="2814" y="4219"/>
                      </a:lnTo>
                      <a:lnTo>
                        <a:pt x="2765" y="4233"/>
                      </a:lnTo>
                      <a:lnTo>
                        <a:pt x="2714" y="4248"/>
                      </a:lnTo>
                      <a:lnTo>
                        <a:pt x="2663" y="4260"/>
                      </a:lnTo>
                      <a:lnTo>
                        <a:pt x="2613" y="4272"/>
                      </a:lnTo>
                      <a:lnTo>
                        <a:pt x="2561" y="4283"/>
                      </a:lnTo>
                      <a:lnTo>
                        <a:pt x="2509" y="4292"/>
                      </a:lnTo>
                      <a:lnTo>
                        <a:pt x="2457" y="4300"/>
                      </a:lnTo>
                      <a:lnTo>
                        <a:pt x="2405" y="4307"/>
                      </a:lnTo>
                      <a:lnTo>
                        <a:pt x="2353" y="4312"/>
                      </a:lnTo>
                      <a:lnTo>
                        <a:pt x="2300" y="4316"/>
                      </a:lnTo>
                      <a:lnTo>
                        <a:pt x="2247" y="4319"/>
                      </a:lnTo>
                      <a:lnTo>
                        <a:pt x="2193" y="4320"/>
                      </a:lnTo>
                      <a:lnTo>
                        <a:pt x="2140" y="4320"/>
                      </a:lnTo>
                      <a:lnTo>
                        <a:pt x="2087" y="4319"/>
                      </a:lnTo>
                      <a:lnTo>
                        <a:pt x="2033" y="4316"/>
                      </a:lnTo>
                      <a:lnTo>
                        <a:pt x="1979" y="4312"/>
                      </a:lnTo>
                      <a:lnTo>
                        <a:pt x="1926" y="4307"/>
                      </a:lnTo>
                      <a:lnTo>
                        <a:pt x="1871" y="4300"/>
                      </a:lnTo>
                      <a:lnTo>
                        <a:pt x="1818" y="4292"/>
                      </a:lnTo>
                      <a:lnTo>
                        <a:pt x="1763" y="4283"/>
                      </a:lnTo>
                      <a:lnTo>
                        <a:pt x="1710" y="4272"/>
                      </a:lnTo>
                      <a:lnTo>
                        <a:pt x="1655" y="4260"/>
                      </a:lnTo>
                      <a:lnTo>
                        <a:pt x="1602" y="4245"/>
                      </a:lnTo>
                      <a:lnTo>
                        <a:pt x="1602" y="4245"/>
                      </a:lnTo>
                      <a:lnTo>
                        <a:pt x="1547" y="4231"/>
                      </a:lnTo>
                      <a:lnTo>
                        <a:pt x="1495" y="4215"/>
                      </a:lnTo>
                      <a:lnTo>
                        <a:pt x="1442" y="4197"/>
                      </a:lnTo>
                      <a:lnTo>
                        <a:pt x="1392" y="4178"/>
                      </a:lnTo>
                      <a:lnTo>
                        <a:pt x="1341" y="4158"/>
                      </a:lnTo>
                      <a:lnTo>
                        <a:pt x="1290" y="4136"/>
                      </a:lnTo>
                      <a:lnTo>
                        <a:pt x="1241" y="4115"/>
                      </a:lnTo>
                      <a:lnTo>
                        <a:pt x="1193" y="4091"/>
                      </a:lnTo>
                      <a:lnTo>
                        <a:pt x="1145" y="4067"/>
                      </a:lnTo>
                      <a:lnTo>
                        <a:pt x="1097" y="4040"/>
                      </a:lnTo>
                      <a:lnTo>
                        <a:pt x="1052" y="4014"/>
                      </a:lnTo>
                      <a:lnTo>
                        <a:pt x="1007" y="3986"/>
                      </a:lnTo>
                      <a:lnTo>
                        <a:pt x="961" y="3958"/>
                      </a:lnTo>
                      <a:lnTo>
                        <a:pt x="919" y="3927"/>
                      </a:lnTo>
                      <a:lnTo>
                        <a:pt x="875" y="3897"/>
                      </a:lnTo>
                      <a:lnTo>
                        <a:pt x="834" y="3865"/>
                      </a:lnTo>
                      <a:lnTo>
                        <a:pt x="792" y="3831"/>
                      </a:lnTo>
                      <a:lnTo>
                        <a:pt x="752" y="3798"/>
                      </a:lnTo>
                      <a:lnTo>
                        <a:pt x="714" y="3763"/>
                      </a:lnTo>
                      <a:lnTo>
                        <a:pt x="675" y="3727"/>
                      </a:lnTo>
                      <a:lnTo>
                        <a:pt x="638" y="3691"/>
                      </a:lnTo>
                      <a:lnTo>
                        <a:pt x="601" y="3654"/>
                      </a:lnTo>
                      <a:lnTo>
                        <a:pt x="566" y="3616"/>
                      </a:lnTo>
                      <a:lnTo>
                        <a:pt x="531" y="3577"/>
                      </a:lnTo>
                      <a:lnTo>
                        <a:pt x="497" y="3538"/>
                      </a:lnTo>
                      <a:lnTo>
                        <a:pt x="465" y="3497"/>
                      </a:lnTo>
                      <a:lnTo>
                        <a:pt x="433" y="3456"/>
                      </a:lnTo>
                      <a:lnTo>
                        <a:pt x="402" y="3414"/>
                      </a:lnTo>
                      <a:lnTo>
                        <a:pt x="373" y="3372"/>
                      </a:lnTo>
                      <a:lnTo>
                        <a:pt x="345" y="3328"/>
                      </a:lnTo>
                      <a:lnTo>
                        <a:pt x="317" y="3284"/>
                      </a:lnTo>
                      <a:lnTo>
                        <a:pt x="290" y="3240"/>
                      </a:lnTo>
                      <a:lnTo>
                        <a:pt x="265" y="3195"/>
                      </a:lnTo>
                      <a:lnTo>
                        <a:pt x="241" y="3149"/>
                      </a:lnTo>
                      <a:lnTo>
                        <a:pt x="217" y="3103"/>
                      </a:lnTo>
                      <a:lnTo>
                        <a:pt x="196" y="3056"/>
                      </a:lnTo>
                      <a:lnTo>
                        <a:pt x="174" y="3008"/>
                      </a:lnTo>
                      <a:lnTo>
                        <a:pt x="154" y="2960"/>
                      </a:lnTo>
                      <a:lnTo>
                        <a:pt x="136" y="2912"/>
                      </a:lnTo>
                      <a:lnTo>
                        <a:pt x="119" y="2863"/>
                      </a:lnTo>
                      <a:lnTo>
                        <a:pt x="103" y="2814"/>
                      </a:lnTo>
                      <a:lnTo>
                        <a:pt x="87" y="2763"/>
                      </a:lnTo>
                      <a:lnTo>
                        <a:pt x="73" y="2714"/>
                      </a:lnTo>
                      <a:lnTo>
                        <a:pt x="60" y="2663"/>
                      </a:lnTo>
                      <a:lnTo>
                        <a:pt x="48" y="2611"/>
                      </a:lnTo>
                      <a:lnTo>
                        <a:pt x="39" y="2561"/>
                      </a:lnTo>
                      <a:lnTo>
                        <a:pt x="29" y="2509"/>
                      </a:lnTo>
                      <a:lnTo>
                        <a:pt x="21" y="2457"/>
                      </a:lnTo>
                      <a:lnTo>
                        <a:pt x="15" y="2405"/>
                      </a:lnTo>
                      <a:lnTo>
                        <a:pt x="9" y="2353"/>
                      </a:lnTo>
                      <a:lnTo>
                        <a:pt x="5" y="2300"/>
                      </a:lnTo>
                      <a:lnTo>
                        <a:pt x="3" y="2247"/>
                      </a:lnTo>
                      <a:lnTo>
                        <a:pt x="1" y="2193"/>
                      </a:lnTo>
                      <a:lnTo>
                        <a:pt x="0" y="2140"/>
                      </a:lnTo>
                      <a:lnTo>
                        <a:pt x="1" y="2087"/>
                      </a:lnTo>
                      <a:lnTo>
                        <a:pt x="4" y="2033"/>
                      </a:lnTo>
                      <a:lnTo>
                        <a:pt x="8" y="1979"/>
                      </a:lnTo>
                      <a:lnTo>
                        <a:pt x="13" y="1926"/>
                      </a:lnTo>
                      <a:lnTo>
                        <a:pt x="20" y="1871"/>
                      </a:lnTo>
                      <a:lnTo>
                        <a:pt x="28" y="1818"/>
                      </a:lnTo>
                      <a:lnTo>
                        <a:pt x="37" y="1763"/>
                      </a:lnTo>
                      <a:lnTo>
                        <a:pt x="49" y="1710"/>
                      </a:lnTo>
                      <a:lnTo>
                        <a:pt x="61" y="1655"/>
                      </a:lnTo>
                      <a:lnTo>
                        <a:pt x="75" y="1602"/>
                      </a:lnTo>
                      <a:lnTo>
                        <a:pt x="75" y="1602"/>
                      </a:lnTo>
                      <a:lnTo>
                        <a:pt x="89" y="1547"/>
                      </a:lnTo>
                      <a:lnTo>
                        <a:pt x="107" y="1494"/>
                      </a:lnTo>
                      <a:lnTo>
                        <a:pt x="124" y="1442"/>
                      </a:lnTo>
                      <a:lnTo>
                        <a:pt x="142" y="1392"/>
                      </a:lnTo>
                      <a:lnTo>
                        <a:pt x="162" y="1340"/>
                      </a:lnTo>
                      <a:lnTo>
                        <a:pt x="184" y="1290"/>
                      </a:lnTo>
                      <a:lnTo>
                        <a:pt x="206" y="1241"/>
                      </a:lnTo>
                      <a:lnTo>
                        <a:pt x="229" y="1192"/>
                      </a:lnTo>
                      <a:lnTo>
                        <a:pt x="254" y="1145"/>
                      </a:lnTo>
                      <a:lnTo>
                        <a:pt x="280" y="1097"/>
                      </a:lnTo>
                      <a:lnTo>
                        <a:pt x="306" y="1052"/>
                      </a:lnTo>
                      <a:lnTo>
                        <a:pt x="334" y="1007"/>
                      </a:lnTo>
                      <a:lnTo>
                        <a:pt x="364" y="961"/>
                      </a:lnTo>
                      <a:lnTo>
                        <a:pt x="393" y="918"/>
                      </a:lnTo>
                      <a:lnTo>
                        <a:pt x="425" y="875"/>
                      </a:lnTo>
                      <a:lnTo>
                        <a:pt x="457" y="834"/>
                      </a:lnTo>
                      <a:lnTo>
                        <a:pt x="489" y="792"/>
                      </a:lnTo>
                      <a:lnTo>
                        <a:pt x="522" y="752"/>
                      </a:lnTo>
                      <a:lnTo>
                        <a:pt x="557" y="712"/>
                      </a:lnTo>
                      <a:lnTo>
                        <a:pt x="593" y="675"/>
                      </a:lnTo>
                      <a:lnTo>
                        <a:pt x="629" y="638"/>
                      </a:lnTo>
                      <a:lnTo>
                        <a:pt x="666" y="601"/>
                      </a:lnTo>
                      <a:lnTo>
                        <a:pt x="704" y="565"/>
                      </a:lnTo>
                      <a:lnTo>
                        <a:pt x="743" y="531"/>
                      </a:lnTo>
                      <a:lnTo>
                        <a:pt x="783" y="497"/>
                      </a:lnTo>
                      <a:lnTo>
                        <a:pt x="823" y="465"/>
                      </a:lnTo>
                      <a:lnTo>
                        <a:pt x="864" y="433"/>
                      </a:lnTo>
                      <a:lnTo>
                        <a:pt x="907" y="402"/>
                      </a:lnTo>
                      <a:lnTo>
                        <a:pt x="949" y="373"/>
                      </a:lnTo>
                      <a:lnTo>
                        <a:pt x="992" y="344"/>
                      </a:lnTo>
                      <a:lnTo>
                        <a:pt x="1036" y="317"/>
                      </a:lnTo>
                      <a:lnTo>
                        <a:pt x="1081" y="290"/>
                      </a:lnTo>
                      <a:lnTo>
                        <a:pt x="1125" y="265"/>
                      </a:lnTo>
                      <a:lnTo>
                        <a:pt x="1172" y="241"/>
                      </a:lnTo>
                      <a:lnTo>
                        <a:pt x="1218" y="217"/>
                      </a:lnTo>
                      <a:lnTo>
                        <a:pt x="1265" y="196"/>
                      </a:lnTo>
                      <a:lnTo>
                        <a:pt x="1313" y="174"/>
                      </a:lnTo>
                      <a:lnTo>
                        <a:pt x="1361" y="154"/>
                      </a:lnTo>
                      <a:lnTo>
                        <a:pt x="1409" y="136"/>
                      </a:lnTo>
                      <a:lnTo>
                        <a:pt x="1458" y="119"/>
                      </a:lnTo>
                      <a:lnTo>
                        <a:pt x="1507" y="103"/>
                      </a:lnTo>
                      <a:lnTo>
                        <a:pt x="1557" y="87"/>
                      </a:lnTo>
                      <a:lnTo>
                        <a:pt x="1607" y="73"/>
                      </a:lnTo>
                      <a:lnTo>
                        <a:pt x="1658" y="60"/>
                      </a:lnTo>
                      <a:lnTo>
                        <a:pt x="1709" y="48"/>
                      </a:lnTo>
                      <a:lnTo>
                        <a:pt x="1760" y="37"/>
                      </a:lnTo>
                      <a:lnTo>
                        <a:pt x="1811" y="29"/>
                      </a:lnTo>
                      <a:lnTo>
                        <a:pt x="1863" y="21"/>
                      </a:lnTo>
                      <a:lnTo>
                        <a:pt x="1916" y="15"/>
                      </a:lnTo>
                      <a:lnTo>
                        <a:pt x="1968" y="9"/>
                      </a:lnTo>
                      <a:lnTo>
                        <a:pt x="2022" y="5"/>
                      </a:lnTo>
                      <a:lnTo>
                        <a:pt x="2073" y="3"/>
                      </a:lnTo>
                      <a:lnTo>
                        <a:pt x="2127" y="1"/>
                      </a:lnTo>
                      <a:lnTo>
                        <a:pt x="2180" y="0"/>
                      </a:lnTo>
                      <a:lnTo>
                        <a:pt x="2235" y="1"/>
                      </a:lnTo>
                      <a:lnTo>
                        <a:pt x="2288" y="4"/>
                      </a:lnTo>
                      <a:lnTo>
                        <a:pt x="2341" y="8"/>
                      </a:lnTo>
                      <a:lnTo>
                        <a:pt x="2396" y="13"/>
                      </a:lnTo>
                      <a:lnTo>
                        <a:pt x="2449" y="20"/>
                      </a:lnTo>
                      <a:lnTo>
                        <a:pt x="2504" y="28"/>
                      </a:lnTo>
                      <a:lnTo>
                        <a:pt x="2557" y="37"/>
                      </a:lnTo>
                      <a:lnTo>
                        <a:pt x="2611" y="48"/>
                      </a:lnTo>
                      <a:lnTo>
                        <a:pt x="2665" y="61"/>
                      </a:lnTo>
                      <a:lnTo>
                        <a:pt x="2719" y="75"/>
                      </a:lnTo>
                      <a:lnTo>
                        <a:pt x="2719" y="75"/>
                      </a:lnTo>
                      <a:lnTo>
                        <a:pt x="2773" y="89"/>
                      </a:lnTo>
                      <a:lnTo>
                        <a:pt x="2826" y="107"/>
                      </a:lnTo>
                      <a:lnTo>
                        <a:pt x="2878" y="124"/>
                      </a:lnTo>
                      <a:lnTo>
                        <a:pt x="2930" y="142"/>
                      </a:lnTo>
                      <a:lnTo>
                        <a:pt x="2980" y="162"/>
                      </a:lnTo>
                      <a:lnTo>
                        <a:pt x="3031" y="184"/>
                      </a:lnTo>
                      <a:lnTo>
                        <a:pt x="3080" y="206"/>
                      </a:lnTo>
                      <a:lnTo>
                        <a:pt x="3128" y="229"/>
                      </a:lnTo>
                      <a:lnTo>
                        <a:pt x="3176" y="254"/>
                      </a:lnTo>
                      <a:lnTo>
                        <a:pt x="3223" y="280"/>
                      </a:lnTo>
                      <a:lnTo>
                        <a:pt x="3269" y="306"/>
                      </a:lnTo>
                      <a:lnTo>
                        <a:pt x="3315" y="334"/>
                      </a:lnTo>
                      <a:lnTo>
                        <a:pt x="3359" y="364"/>
                      </a:lnTo>
                      <a:lnTo>
                        <a:pt x="3402" y="393"/>
                      </a:lnTo>
                      <a:lnTo>
                        <a:pt x="3445" y="425"/>
                      </a:lnTo>
                      <a:lnTo>
                        <a:pt x="3488" y="455"/>
                      </a:lnTo>
                      <a:lnTo>
                        <a:pt x="3528" y="489"/>
                      </a:lnTo>
                      <a:lnTo>
                        <a:pt x="3569" y="522"/>
                      </a:lnTo>
                      <a:lnTo>
                        <a:pt x="3608" y="557"/>
                      </a:lnTo>
                      <a:lnTo>
                        <a:pt x="3646" y="593"/>
                      </a:lnTo>
                      <a:lnTo>
                        <a:pt x="3683" y="629"/>
                      </a:lnTo>
                      <a:lnTo>
                        <a:pt x="3719" y="666"/>
                      </a:lnTo>
                      <a:lnTo>
                        <a:pt x="3755" y="704"/>
                      </a:lnTo>
                      <a:lnTo>
                        <a:pt x="3790" y="743"/>
                      </a:lnTo>
                      <a:lnTo>
                        <a:pt x="3823" y="783"/>
                      </a:lnTo>
                      <a:lnTo>
                        <a:pt x="3857" y="823"/>
                      </a:lnTo>
                      <a:lnTo>
                        <a:pt x="3887" y="864"/>
                      </a:lnTo>
                      <a:lnTo>
                        <a:pt x="3918" y="907"/>
                      </a:lnTo>
                      <a:lnTo>
                        <a:pt x="3948" y="949"/>
                      </a:lnTo>
                      <a:lnTo>
                        <a:pt x="3976" y="992"/>
                      </a:lnTo>
                      <a:lnTo>
                        <a:pt x="4004" y="1036"/>
                      </a:lnTo>
                      <a:lnTo>
                        <a:pt x="4031" y="1080"/>
                      </a:lnTo>
                      <a:lnTo>
                        <a:pt x="4056" y="1125"/>
                      </a:lnTo>
                      <a:lnTo>
                        <a:pt x="4080" y="1172"/>
                      </a:lnTo>
                      <a:lnTo>
                        <a:pt x="4103" y="1218"/>
                      </a:lnTo>
                      <a:lnTo>
                        <a:pt x="4126" y="1265"/>
                      </a:lnTo>
                      <a:lnTo>
                        <a:pt x="4147" y="1312"/>
                      </a:lnTo>
                      <a:lnTo>
                        <a:pt x="4166" y="1360"/>
                      </a:lnTo>
                      <a:lnTo>
                        <a:pt x="4184" y="1409"/>
                      </a:lnTo>
                      <a:lnTo>
                        <a:pt x="4203" y="1458"/>
                      </a:lnTo>
                      <a:lnTo>
                        <a:pt x="4219" y="1507"/>
                      </a:lnTo>
                      <a:lnTo>
                        <a:pt x="4233" y="1557"/>
                      </a:lnTo>
                      <a:lnTo>
                        <a:pt x="4248" y="1607"/>
                      </a:lnTo>
                      <a:lnTo>
                        <a:pt x="4261" y="1658"/>
                      </a:lnTo>
                      <a:lnTo>
                        <a:pt x="4272" y="1709"/>
                      </a:lnTo>
                      <a:lnTo>
                        <a:pt x="4283" y="1759"/>
                      </a:lnTo>
                      <a:lnTo>
                        <a:pt x="4292" y="1811"/>
                      </a:lnTo>
                      <a:lnTo>
                        <a:pt x="4300" y="1863"/>
                      </a:lnTo>
                      <a:lnTo>
                        <a:pt x="4307" y="1915"/>
                      </a:lnTo>
                      <a:lnTo>
                        <a:pt x="4312" y="1968"/>
                      </a:lnTo>
                      <a:lnTo>
                        <a:pt x="4316" y="2022"/>
                      </a:lnTo>
                      <a:lnTo>
                        <a:pt x="4319" y="2073"/>
                      </a:lnTo>
                      <a:lnTo>
                        <a:pt x="4320" y="2127"/>
                      </a:lnTo>
                      <a:lnTo>
                        <a:pt x="4320" y="2180"/>
                      </a:lnTo>
                      <a:lnTo>
                        <a:pt x="4319" y="2233"/>
                      </a:lnTo>
                      <a:lnTo>
                        <a:pt x="4316" y="2288"/>
                      </a:lnTo>
                      <a:lnTo>
                        <a:pt x="4312" y="2341"/>
                      </a:lnTo>
                      <a:lnTo>
                        <a:pt x="4307" y="2396"/>
                      </a:lnTo>
                      <a:lnTo>
                        <a:pt x="4300" y="2449"/>
                      </a:lnTo>
                      <a:lnTo>
                        <a:pt x="4292" y="2504"/>
                      </a:lnTo>
                      <a:lnTo>
                        <a:pt x="4283" y="2557"/>
                      </a:lnTo>
                      <a:lnTo>
                        <a:pt x="4272" y="2611"/>
                      </a:lnTo>
                      <a:lnTo>
                        <a:pt x="4260" y="2665"/>
                      </a:lnTo>
                      <a:lnTo>
                        <a:pt x="4245" y="2719"/>
                      </a:lnTo>
                      <a:lnTo>
                        <a:pt x="4245" y="2719"/>
                      </a:lnTo>
                      <a:close/>
                      <a:moveTo>
                        <a:pt x="2695" y="165"/>
                      </a:moveTo>
                      <a:lnTo>
                        <a:pt x="2695" y="165"/>
                      </a:lnTo>
                      <a:lnTo>
                        <a:pt x="2643" y="152"/>
                      </a:lnTo>
                      <a:lnTo>
                        <a:pt x="2591" y="141"/>
                      </a:lnTo>
                      <a:lnTo>
                        <a:pt x="2540" y="131"/>
                      </a:lnTo>
                      <a:lnTo>
                        <a:pt x="2488" y="121"/>
                      </a:lnTo>
                      <a:lnTo>
                        <a:pt x="2437" y="113"/>
                      </a:lnTo>
                      <a:lnTo>
                        <a:pt x="2385" y="107"/>
                      </a:lnTo>
                      <a:lnTo>
                        <a:pt x="2333" y="103"/>
                      </a:lnTo>
                      <a:lnTo>
                        <a:pt x="2283" y="99"/>
                      </a:lnTo>
                      <a:lnTo>
                        <a:pt x="2231" y="96"/>
                      </a:lnTo>
                      <a:lnTo>
                        <a:pt x="2180" y="95"/>
                      </a:lnTo>
                      <a:lnTo>
                        <a:pt x="2128" y="95"/>
                      </a:lnTo>
                      <a:lnTo>
                        <a:pt x="2077" y="96"/>
                      </a:lnTo>
                      <a:lnTo>
                        <a:pt x="2027" y="99"/>
                      </a:lnTo>
                      <a:lnTo>
                        <a:pt x="1976" y="103"/>
                      </a:lnTo>
                      <a:lnTo>
                        <a:pt x="1927" y="108"/>
                      </a:lnTo>
                      <a:lnTo>
                        <a:pt x="1876" y="115"/>
                      </a:lnTo>
                      <a:lnTo>
                        <a:pt x="1827" y="121"/>
                      </a:lnTo>
                      <a:lnTo>
                        <a:pt x="1778" y="131"/>
                      </a:lnTo>
                      <a:lnTo>
                        <a:pt x="1729" y="140"/>
                      </a:lnTo>
                      <a:lnTo>
                        <a:pt x="1679" y="152"/>
                      </a:lnTo>
                      <a:lnTo>
                        <a:pt x="1631" y="164"/>
                      </a:lnTo>
                      <a:lnTo>
                        <a:pt x="1583" y="177"/>
                      </a:lnTo>
                      <a:lnTo>
                        <a:pt x="1535" y="192"/>
                      </a:lnTo>
                      <a:lnTo>
                        <a:pt x="1489" y="208"/>
                      </a:lnTo>
                      <a:lnTo>
                        <a:pt x="1441" y="224"/>
                      </a:lnTo>
                      <a:lnTo>
                        <a:pt x="1396" y="242"/>
                      </a:lnTo>
                      <a:lnTo>
                        <a:pt x="1349" y="261"/>
                      </a:lnTo>
                      <a:lnTo>
                        <a:pt x="1304" y="281"/>
                      </a:lnTo>
                      <a:lnTo>
                        <a:pt x="1258" y="302"/>
                      </a:lnTo>
                      <a:lnTo>
                        <a:pt x="1215" y="325"/>
                      </a:lnTo>
                      <a:lnTo>
                        <a:pt x="1171" y="348"/>
                      </a:lnTo>
                      <a:lnTo>
                        <a:pt x="1128" y="372"/>
                      </a:lnTo>
                      <a:lnTo>
                        <a:pt x="1085" y="397"/>
                      </a:lnTo>
                      <a:lnTo>
                        <a:pt x="1043" y="423"/>
                      </a:lnTo>
                      <a:lnTo>
                        <a:pt x="1001" y="450"/>
                      </a:lnTo>
                      <a:lnTo>
                        <a:pt x="961" y="479"/>
                      </a:lnTo>
                      <a:lnTo>
                        <a:pt x="922" y="509"/>
                      </a:lnTo>
                      <a:lnTo>
                        <a:pt x="882" y="538"/>
                      </a:lnTo>
                      <a:lnTo>
                        <a:pt x="843" y="570"/>
                      </a:lnTo>
                      <a:lnTo>
                        <a:pt x="806" y="602"/>
                      </a:lnTo>
                      <a:lnTo>
                        <a:pt x="768" y="635"/>
                      </a:lnTo>
                      <a:lnTo>
                        <a:pt x="731" y="669"/>
                      </a:lnTo>
                      <a:lnTo>
                        <a:pt x="696" y="703"/>
                      </a:lnTo>
                      <a:lnTo>
                        <a:pt x="661" y="739"/>
                      </a:lnTo>
                      <a:lnTo>
                        <a:pt x="627" y="776"/>
                      </a:lnTo>
                      <a:lnTo>
                        <a:pt x="594" y="814"/>
                      </a:lnTo>
                      <a:lnTo>
                        <a:pt x="562" y="852"/>
                      </a:lnTo>
                      <a:lnTo>
                        <a:pt x="530" y="891"/>
                      </a:lnTo>
                      <a:lnTo>
                        <a:pt x="499" y="931"/>
                      </a:lnTo>
                      <a:lnTo>
                        <a:pt x="470" y="972"/>
                      </a:lnTo>
                      <a:lnTo>
                        <a:pt x="442" y="1013"/>
                      </a:lnTo>
                      <a:lnTo>
                        <a:pt x="414" y="1056"/>
                      </a:lnTo>
                      <a:lnTo>
                        <a:pt x="388" y="1100"/>
                      </a:lnTo>
                      <a:lnTo>
                        <a:pt x="362" y="1144"/>
                      </a:lnTo>
                      <a:lnTo>
                        <a:pt x="337" y="1189"/>
                      </a:lnTo>
                      <a:lnTo>
                        <a:pt x="314" y="1234"/>
                      </a:lnTo>
                      <a:lnTo>
                        <a:pt x="292" y="1281"/>
                      </a:lnTo>
                      <a:lnTo>
                        <a:pt x="270" y="1328"/>
                      </a:lnTo>
                      <a:lnTo>
                        <a:pt x="250" y="1376"/>
                      </a:lnTo>
                      <a:lnTo>
                        <a:pt x="230" y="1425"/>
                      </a:lnTo>
                      <a:lnTo>
                        <a:pt x="213" y="1474"/>
                      </a:lnTo>
                      <a:lnTo>
                        <a:pt x="196" y="1523"/>
                      </a:lnTo>
                      <a:lnTo>
                        <a:pt x="180" y="1574"/>
                      </a:lnTo>
                      <a:lnTo>
                        <a:pt x="165" y="1626"/>
                      </a:lnTo>
                      <a:lnTo>
                        <a:pt x="165" y="1626"/>
                      </a:lnTo>
                      <a:lnTo>
                        <a:pt x="152" y="1678"/>
                      </a:lnTo>
                      <a:lnTo>
                        <a:pt x="141" y="1729"/>
                      </a:lnTo>
                      <a:lnTo>
                        <a:pt x="131" y="1780"/>
                      </a:lnTo>
                      <a:lnTo>
                        <a:pt x="121" y="1832"/>
                      </a:lnTo>
                      <a:lnTo>
                        <a:pt x="113" y="1884"/>
                      </a:lnTo>
                      <a:lnTo>
                        <a:pt x="107" y="1936"/>
                      </a:lnTo>
                      <a:lnTo>
                        <a:pt x="103" y="1987"/>
                      </a:lnTo>
                      <a:lnTo>
                        <a:pt x="99" y="2039"/>
                      </a:lnTo>
                      <a:lnTo>
                        <a:pt x="96" y="2089"/>
                      </a:lnTo>
                      <a:lnTo>
                        <a:pt x="95" y="2141"/>
                      </a:lnTo>
                      <a:lnTo>
                        <a:pt x="95" y="2192"/>
                      </a:lnTo>
                      <a:lnTo>
                        <a:pt x="96" y="2243"/>
                      </a:lnTo>
                      <a:lnTo>
                        <a:pt x="99" y="2293"/>
                      </a:lnTo>
                      <a:lnTo>
                        <a:pt x="103" y="2344"/>
                      </a:lnTo>
                      <a:lnTo>
                        <a:pt x="108" y="2394"/>
                      </a:lnTo>
                      <a:lnTo>
                        <a:pt x="115" y="2444"/>
                      </a:lnTo>
                      <a:lnTo>
                        <a:pt x="121" y="2494"/>
                      </a:lnTo>
                      <a:lnTo>
                        <a:pt x="131" y="2544"/>
                      </a:lnTo>
                      <a:lnTo>
                        <a:pt x="140" y="2593"/>
                      </a:lnTo>
                      <a:lnTo>
                        <a:pt x="152" y="2641"/>
                      </a:lnTo>
                      <a:lnTo>
                        <a:pt x="164" y="2690"/>
                      </a:lnTo>
                      <a:lnTo>
                        <a:pt x="177" y="2738"/>
                      </a:lnTo>
                      <a:lnTo>
                        <a:pt x="192" y="2785"/>
                      </a:lnTo>
                      <a:lnTo>
                        <a:pt x="208" y="2833"/>
                      </a:lnTo>
                      <a:lnTo>
                        <a:pt x="224" y="2879"/>
                      </a:lnTo>
                      <a:lnTo>
                        <a:pt x="242" y="2926"/>
                      </a:lnTo>
                      <a:lnTo>
                        <a:pt x="261" y="2971"/>
                      </a:lnTo>
                      <a:lnTo>
                        <a:pt x="281" y="3016"/>
                      </a:lnTo>
                      <a:lnTo>
                        <a:pt x="302" y="3062"/>
                      </a:lnTo>
                      <a:lnTo>
                        <a:pt x="325" y="3105"/>
                      </a:lnTo>
                      <a:lnTo>
                        <a:pt x="348" y="3149"/>
                      </a:lnTo>
                      <a:lnTo>
                        <a:pt x="372" y="3193"/>
                      </a:lnTo>
                      <a:lnTo>
                        <a:pt x="397" y="3236"/>
                      </a:lnTo>
                      <a:lnTo>
                        <a:pt x="423" y="3277"/>
                      </a:lnTo>
                      <a:lnTo>
                        <a:pt x="450" y="3319"/>
                      </a:lnTo>
                      <a:lnTo>
                        <a:pt x="479" y="3360"/>
                      </a:lnTo>
                      <a:lnTo>
                        <a:pt x="509" y="3400"/>
                      </a:lnTo>
                      <a:lnTo>
                        <a:pt x="538" y="3438"/>
                      </a:lnTo>
                      <a:lnTo>
                        <a:pt x="570" y="3477"/>
                      </a:lnTo>
                      <a:lnTo>
                        <a:pt x="602" y="3516"/>
                      </a:lnTo>
                      <a:lnTo>
                        <a:pt x="635" y="3553"/>
                      </a:lnTo>
                      <a:lnTo>
                        <a:pt x="669" y="3589"/>
                      </a:lnTo>
                      <a:lnTo>
                        <a:pt x="703" y="3625"/>
                      </a:lnTo>
                      <a:lnTo>
                        <a:pt x="739" y="3659"/>
                      </a:lnTo>
                      <a:lnTo>
                        <a:pt x="776" y="3694"/>
                      </a:lnTo>
                      <a:lnTo>
                        <a:pt x="814" y="3726"/>
                      </a:lnTo>
                      <a:lnTo>
                        <a:pt x="852" y="3759"/>
                      </a:lnTo>
                      <a:lnTo>
                        <a:pt x="891" y="3790"/>
                      </a:lnTo>
                      <a:lnTo>
                        <a:pt x="932" y="3821"/>
                      </a:lnTo>
                      <a:lnTo>
                        <a:pt x="972" y="3850"/>
                      </a:lnTo>
                      <a:lnTo>
                        <a:pt x="1015" y="3879"/>
                      </a:lnTo>
                      <a:lnTo>
                        <a:pt x="1057" y="3906"/>
                      </a:lnTo>
                      <a:lnTo>
                        <a:pt x="1100" y="3932"/>
                      </a:lnTo>
                      <a:lnTo>
                        <a:pt x="1144" y="3959"/>
                      </a:lnTo>
                      <a:lnTo>
                        <a:pt x="1189" y="3983"/>
                      </a:lnTo>
                      <a:lnTo>
                        <a:pt x="1234" y="4007"/>
                      </a:lnTo>
                      <a:lnTo>
                        <a:pt x="1281" y="4030"/>
                      </a:lnTo>
                      <a:lnTo>
                        <a:pt x="1328" y="4051"/>
                      </a:lnTo>
                      <a:lnTo>
                        <a:pt x="1376" y="4071"/>
                      </a:lnTo>
                      <a:lnTo>
                        <a:pt x="1425" y="4090"/>
                      </a:lnTo>
                      <a:lnTo>
                        <a:pt x="1474" y="4108"/>
                      </a:lnTo>
                      <a:lnTo>
                        <a:pt x="1523" y="4126"/>
                      </a:lnTo>
                      <a:lnTo>
                        <a:pt x="1574" y="4140"/>
                      </a:lnTo>
                      <a:lnTo>
                        <a:pt x="1626" y="4155"/>
                      </a:lnTo>
                      <a:lnTo>
                        <a:pt x="1626" y="4155"/>
                      </a:lnTo>
                      <a:lnTo>
                        <a:pt x="1678" y="4168"/>
                      </a:lnTo>
                      <a:lnTo>
                        <a:pt x="1730" y="4180"/>
                      </a:lnTo>
                      <a:lnTo>
                        <a:pt x="1780" y="4191"/>
                      </a:lnTo>
                      <a:lnTo>
                        <a:pt x="1832" y="4199"/>
                      </a:lnTo>
                      <a:lnTo>
                        <a:pt x="1884" y="4207"/>
                      </a:lnTo>
                      <a:lnTo>
                        <a:pt x="1936" y="4213"/>
                      </a:lnTo>
                      <a:lnTo>
                        <a:pt x="1987" y="4219"/>
                      </a:lnTo>
                      <a:lnTo>
                        <a:pt x="2039" y="4223"/>
                      </a:lnTo>
                      <a:lnTo>
                        <a:pt x="2091" y="4224"/>
                      </a:lnTo>
                      <a:lnTo>
                        <a:pt x="2141" y="4225"/>
                      </a:lnTo>
                      <a:lnTo>
                        <a:pt x="2192" y="4225"/>
                      </a:lnTo>
                      <a:lnTo>
                        <a:pt x="2243" y="4224"/>
                      </a:lnTo>
                      <a:lnTo>
                        <a:pt x="2293" y="4221"/>
                      </a:lnTo>
                      <a:lnTo>
                        <a:pt x="2344" y="4217"/>
                      </a:lnTo>
                      <a:lnTo>
                        <a:pt x="2394" y="4212"/>
                      </a:lnTo>
                      <a:lnTo>
                        <a:pt x="2445" y="4207"/>
                      </a:lnTo>
                      <a:lnTo>
                        <a:pt x="2494" y="4199"/>
                      </a:lnTo>
                      <a:lnTo>
                        <a:pt x="2544" y="4189"/>
                      </a:lnTo>
                      <a:lnTo>
                        <a:pt x="2593" y="4180"/>
                      </a:lnTo>
                      <a:lnTo>
                        <a:pt x="2641" y="4170"/>
                      </a:lnTo>
                      <a:lnTo>
                        <a:pt x="2690" y="4156"/>
                      </a:lnTo>
                      <a:lnTo>
                        <a:pt x="2738" y="4143"/>
                      </a:lnTo>
                      <a:lnTo>
                        <a:pt x="2786" y="4130"/>
                      </a:lnTo>
                      <a:lnTo>
                        <a:pt x="2833" y="4114"/>
                      </a:lnTo>
                      <a:lnTo>
                        <a:pt x="2879" y="4096"/>
                      </a:lnTo>
                      <a:lnTo>
                        <a:pt x="2926" y="4079"/>
                      </a:lnTo>
                      <a:lnTo>
                        <a:pt x="2971" y="4059"/>
                      </a:lnTo>
                      <a:lnTo>
                        <a:pt x="3016" y="4039"/>
                      </a:lnTo>
                      <a:lnTo>
                        <a:pt x="3062" y="4019"/>
                      </a:lnTo>
                      <a:lnTo>
                        <a:pt x="3105" y="3996"/>
                      </a:lnTo>
                      <a:lnTo>
                        <a:pt x="3149" y="3972"/>
                      </a:lnTo>
                      <a:lnTo>
                        <a:pt x="3193" y="3948"/>
                      </a:lnTo>
                      <a:lnTo>
                        <a:pt x="3236" y="3923"/>
                      </a:lnTo>
                      <a:lnTo>
                        <a:pt x="3277" y="3898"/>
                      </a:lnTo>
                      <a:lnTo>
                        <a:pt x="3319" y="3870"/>
                      </a:lnTo>
                      <a:lnTo>
                        <a:pt x="3360" y="3842"/>
                      </a:lnTo>
                      <a:lnTo>
                        <a:pt x="3400" y="3813"/>
                      </a:lnTo>
                      <a:lnTo>
                        <a:pt x="3440" y="3782"/>
                      </a:lnTo>
                      <a:lnTo>
                        <a:pt x="3478" y="3751"/>
                      </a:lnTo>
                      <a:lnTo>
                        <a:pt x="3516" y="3719"/>
                      </a:lnTo>
                      <a:lnTo>
                        <a:pt x="3553" y="3686"/>
                      </a:lnTo>
                      <a:lnTo>
                        <a:pt x="3589" y="3651"/>
                      </a:lnTo>
                      <a:lnTo>
                        <a:pt x="3625" y="3617"/>
                      </a:lnTo>
                      <a:lnTo>
                        <a:pt x="3659" y="3581"/>
                      </a:lnTo>
                      <a:lnTo>
                        <a:pt x="3694" y="3545"/>
                      </a:lnTo>
                      <a:lnTo>
                        <a:pt x="3727" y="3506"/>
                      </a:lnTo>
                      <a:lnTo>
                        <a:pt x="3759" y="3469"/>
                      </a:lnTo>
                      <a:lnTo>
                        <a:pt x="3790" y="3429"/>
                      </a:lnTo>
                      <a:lnTo>
                        <a:pt x="3821" y="3389"/>
                      </a:lnTo>
                      <a:lnTo>
                        <a:pt x="3850" y="3348"/>
                      </a:lnTo>
                      <a:lnTo>
                        <a:pt x="3879" y="3307"/>
                      </a:lnTo>
                      <a:lnTo>
                        <a:pt x="3907" y="3264"/>
                      </a:lnTo>
                      <a:lnTo>
                        <a:pt x="3934" y="3220"/>
                      </a:lnTo>
                      <a:lnTo>
                        <a:pt x="3959" y="3176"/>
                      </a:lnTo>
                      <a:lnTo>
                        <a:pt x="3983" y="3132"/>
                      </a:lnTo>
                      <a:lnTo>
                        <a:pt x="4007" y="3086"/>
                      </a:lnTo>
                      <a:lnTo>
                        <a:pt x="4030" y="3039"/>
                      </a:lnTo>
                      <a:lnTo>
                        <a:pt x="4051" y="2992"/>
                      </a:lnTo>
                      <a:lnTo>
                        <a:pt x="4071" y="2944"/>
                      </a:lnTo>
                      <a:lnTo>
                        <a:pt x="4090" y="2896"/>
                      </a:lnTo>
                      <a:lnTo>
                        <a:pt x="4108" y="2847"/>
                      </a:lnTo>
                      <a:lnTo>
                        <a:pt x="4126" y="2797"/>
                      </a:lnTo>
                      <a:lnTo>
                        <a:pt x="4140" y="2746"/>
                      </a:lnTo>
                      <a:lnTo>
                        <a:pt x="4155" y="2695"/>
                      </a:lnTo>
                      <a:lnTo>
                        <a:pt x="4155" y="2695"/>
                      </a:lnTo>
                      <a:lnTo>
                        <a:pt x="4168" y="2643"/>
                      </a:lnTo>
                      <a:lnTo>
                        <a:pt x="4180" y="2591"/>
                      </a:lnTo>
                      <a:lnTo>
                        <a:pt x="4191" y="2540"/>
                      </a:lnTo>
                      <a:lnTo>
                        <a:pt x="4200" y="2488"/>
                      </a:lnTo>
                      <a:lnTo>
                        <a:pt x="4207" y="2437"/>
                      </a:lnTo>
                      <a:lnTo>
                        <a:pt x="4213" y="2385"/>
                      </a:lnTo>
                      <a:lnTo>
                        <a:pt x="4219" y="2333"/>
                      </a:lnTo>
                      <a:lnTo>
                        <a:pt x="4223" y="2283"/>
                      </a:lnTo>
                      <a:lnTo>
                        <a:pt x="4225" y="2231"/>
                      </a:lnTo>
                      <a:lnTo>
                        <a:pt x="4225" y="2180"/>
                      </a:lnTo>
                      <a:lnTo>
                        <a:pt x="4225" y="2128"/>
                      </a:lnTo>
                      <a:lnTo>
                        <a:pt x="4224" y="2077"/>
                      </a:lnTo>
                      <a:lnTo>
                        <a:pt x="4221" y="2027"/>
                      </a:lnTo>
                      <a:lnTo>
                        <a:pt x="4217" y="1976"/>
                      </a:lnTo>
                      <a:lnTo>
                        <a:pt x="4213" y="1926"/>
                      </a:lnTo>
                      <a:lnTo>
                        <a:pt x="4207" y="1876"/>
                      </a:lnTo>
                      <a:lnTo>
                        <a:pt x="4199" y="1827"/>
                      </a:lnTo>
                      <a:lnTo>
                        <a:pt x="4191" y="1778"/>
                      </a:lnTo>
                      <a:lnTo>
                        <a:pt x="4180" y="1729"/>
                      </a:lnTo>
                      <a:lnTo>
                        <a:pt x="4170" y="1679"/>
                      </a:lnTo>
                      <a:lnTo>
                        <a:pt x="4158" y="1631"/>
                      </a:lnTo>
                      <a:lnTo>
                        <a:pt x="4144" y="1583"/>
                      </a:lnTo>
                      <a:lnTo>
                        <a:pt x="4130" y="1535"/>
                      </a:lnTo>
                      <a:lnTo>
                        <a:pt x="4114" y="1489"/>
                      </a:lnTo>
                      <a:lnTo>
                        <a:pt x="4096" y="1441"/>
                      </a:lnTo>
                      <a:lnTo>
                        <a:pt x="4079" y="1396"/>
                      </a:lnTo>
                      <a:lnTo>
                        <a:pt x="4060" y="1349"/>
                      </a:lnTo>
                      <a:lnTo>
                        <a:pt x="4040" y="1304"/>
                      </a:lnTo>
                      <a:lnTo>
                        <a:pt x="4019" y="1258"/>
                      </a:lnTo>
                      <a:lnTo>
                        <a:pt x="3996" y="1215"/>
                      </a:lnTo>
                      <a:lnTo>
                        <a:pt x="3974" y="1171"/>
                      </a:lnTo>
                      <a:lnTo>
                        <a:pt x="3948" y="1128"/>
                      </a:lnTo>
                      <a:lnTo>
                        <a:pt x="3923" y="1085"/>
                      </a:lnTo>
                      <a:lnTo>
                        <a:pt x="3898" y="1043"/>
                      </a:lnTo>
                      <a:lnTo>
                        <a:pt x="3870" y="1001"/>
                      </a:lnTo>
                      <a:lnTo>
                        <a:pt x="3842" y="961"/>
                      </a:lnTo>
                      <a:lnTo>
                        <a:pt x="3813" y="922"/>
                      </a:lnTo>
                      <a:lnTo>
                        <a:pt x="3782" y="882"/>
                      </a:lnTo>
                      <a:lnTo>
                        <a:pt x="3751" y="843"/>
                      </a:lnTo>
                      <a:lnTo>
                        <a:pt x="3719" y="804"/>
                      </a:lnTo>
                      <a:lnTo>
                        <a:pt x="3686" y="768"/>
                      </a:lnTo>
                      <a:lnTo>
                        <a:pt x="3651" y="731"/>
                      </a:lnTo>
                      <a:lnTo>
                        <a:pt x="3617" y="696"/>
                      </a:lnTo>
                      <a:lnTo>
                        <a:pt x="3581" y="661"/>
                      </a:lnTo>
                      <a:lnTo>
                        <a:pt x="3545" y="627"/>
                      </a:lnTo>
                      <a:lnTo>
                        <a:pt x="3508" y="594"/>
                      </a:lnTo>
                      <a:lnTo>
                        <a:pt x="3469" y="562"/>
                      </a:lnTo>
                      <a:lnTo>
                        <a:pt x="3429" y="530"/>
                      </a:lnTo>
                      <a:lnTo>
                        <a:pt x="3389" y="499"/>
                      </a:lnTo>
                      <a:lnTo>
                        <a:pt x="3348" y="470"/>
                      </a:lnTo>
                      <a:lnTo>
                        <a:pt x="3307" y="442"/>
                      </a:lnTo>
                      <a:lnTo>
                        <a:pt x="3264" y="414"/>
                      </a:lnTo>
                      <a:lnTo>
                        <a:pt x="3221" y="388"/>
                      </a:lnTo>
                      <a:lnTo>
                        <a:pt x="3176" y="362"/>
                      </a:lnTo>
                      <a:lnTo>
                        <a:pt x="3132" y="337"/>
                      </a:lnTo>
                      <a:lnTo>
                        <a:pt x="3086" y="314"/>
                      </a:lnTo>
                      <a:lnTo>
                        <a:pt x="3040" y="292"/>
                      </a:lnTo>
                      <a:lnTo>
                        <a:pt x="2992" y="270"/>
                      </a:lnTo>
                      <a:lnTo>
                        <a:pt x="2944" y="249"/>
                      </a:lnTo>
                      <a:lnTo>
                        <a:pt x="2896" y="230"/>
                      </a:lnTo>
                      <a:lnTo>
                        <a:pt x="2847" y="213"/>
                      </a:lnTo>
                      <a:lnTo>
                        <a:pt x="2797" y="196"/>
                      </a:lnTo>
                      <a:lnTo>
                        <a:pt x="2746" y="180"/>
                      </a:lnTo>
                      <a:lnTo>
                        <a:pt x="2695" y="165"/>
                      </a:lnTo>
                      <a:lnTo>
                        <a:pt x="2695" y="165"/>
                      </a:lnTo>
                      <a:close/>
                    </a:path>
                  </a:pathLst>
                </a:custGeom>
                <a:gradFill rotWithShape="0">
                  <a:gsLst>
                    <a:gs pos="0">
                      <a:srgbClr val="74420d"/>
                    </a:gs>
                    <a:gs pos="100000">
                      <a:srgbClr val="c89834"/>
                    </a:gs>
                  </a:gsLst>
                  <a:lin ang="12420000"/>
                </a:gradFill>
                <a:ln w="9525">
                  <a:noFill/>
                </a:ln>
              </p:spPr>
              <p:style>
                <a:lnRef idx="0"/>
                <a:fillRef idx="0"/>
                <a:effectRef idx="0"/>
                <a:fontRef idx="minor"/>
              </p:style>
              <p:txBody>
                <a:bodyPr numCol="1" spcCol="0" anchor="t">
                  <a:noAutofit/>
                </a:bodyPr>
                <a:p>
                  <a:pPr>
                    <a:lnSpc>
                      <a:spcPct val="85000"/>
                    </a:lnSpc>
                    <a:spcBef>
                      <a:spcPts val="360"/>
                    </a:spcBef>
                  </a:pPr>
                  <a:endParaRPr b="0" lang="en-US" sz="1800" spc="-1" strike="noStrike">
                    <a:solidFill>
                      <a:srgbClr val="000000"/>
                    </a:solidFill>
                    <a:latin typeface="Calibri"/>
                  </a:endParaRPr>
                </a:p>
              </p:txBody>
            </p:sp>
          </p:grpSp>
          <p:sp>
            <p:nvSpPr>
              <p:cNvPr id="644" name="TextBox 542"/>
              <p:cNvSpPr txBox="1"/>
              <p:nvPr/>
            </p:nvSpPr>
            <p:spPr>
              <a:xfrm>
                <a:off x="1342800" y="4477320"/>
                <a:ext cx="931320" cy="903240"/>
              </a:xfrm>
              <a:prstGeom prst="rect">
                <a:avLst/>
              </a:prstGeom>
            </p:spPr>
            <p:txBody>
              <a:bodyPr wrap="none" lIns="90000" rIns="90000" tIns="45000" bIns="45000" anchor="b" anchorCtr="1">
                <a:prstTxWarp prst="textArchUp">
                  <a:avLst>
                    <a:gd name="adj" fmla="val 10800000"/>
                  </a:avLst>
                </a:prstTxWarp>
                <a:noAutofit/>
              </a:bodyPr>
              <a:p>
                <a:pPr algn="ctr">
                  <a:lnSpc>
                    <a:spcPct val="100000"/>
                  </a:lnSpc>
                </a:pPr>
                <a:r>
                  <a:rPr b="0" lang="en-US" sz="1800" spc="97" strike="noStrike">
                    <a:ln w="0">
                      <a:noFill/>
                    </a:ln>
                    <a:solidFill>
                      <a:srgbClr val="ffffff"/>
                    </a:solidFill>
                    <a:latin typeface="Arial"/>
                  </a:rPr>
                  <a:t>Title Here</a:t>
                </a:r>
                <a:endParaRPr b="0" lang="en-US" sz="1800" spc="-1" strike="noStrike">
                  <a:ln w="0">
                    <a:noFill/>
                  </a:ln>
                  <a:solidFill>
                    <a:srgbClr val="ffffff"/>
                  </a:solidFill>
                  <a:latin typeface="Arial"/>
                </a:endParaRPr>
              </a:p>
            </p:txBody>
          </p:sp>
          <p:sp>
            <p:nvSpPr>
              <p:cNvPr id="645" name="Rectangle 70"/>
              <p:cNvSpPr/>
              <p:nvPr/>
            </p:nvSpPr>
            <p:spPr>
              <a:xfrm>
                <a:off x="1186920" y="5046120"/>
                <a:ext cx="1172160" cy="351360"/>
              </a:xfrm>
              <a:prstGeom prst="rect">
                <a:avLst/>
              </a:prstGeom>
              <a:noFill/>
              <a:ln w="9525">
                <a:noFill/>
              </a:ln>
            </p:spPr>
            <p:style>
              <a:lnRef idx="0"/>
              <a:fillRef idx="0"/>
              <a:effectRef idx="0"/>
              <a:fontRef idx="minor"/>
            </p:style>
            <p:txBody>
              <a:bodyPr lIns="45720" rIns="27360" tIns="18360" bIns="18360" anchor="t">
                <a:noAutofit/>
              </a:bodyPr>
              <a:p>
                <a:pPr algn="ctr">
                  <a:lnSpc>
                    <a:spcPct val="85000"/>
                  </a:lnSpc>
                  <a:spcBef>
                    <a:spcPts val="201"/>
                  </a:spcBef>
                </a:pPr>
                <a:r>
                  <a:rPr b="0" lang="en-US" sz="1200" spc="-1" strike="noStrike">
                    <a:solidFill>
                      <a:srgbClr val="ffffff">
                        <a:alpha val="50000"/>
                      </a:srgbClr>
                    </a:solidFill>
                    <a:latin typeface="Arial Narrow"/>
                  </a:rPr>
                  <a:t>Place additional content here.</a:t>
                </a:r>
                <a:endParaRPr b="0" lang="en-US" sz="12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6" name="TextBox 3"/>
          <p:cNvSpPr/>
          <p:nvPr/>
        </p:nvSpPr>
        <p:spPr>
          <a:xfrm>
            <a:off x="553680" y="4302720"/>
            <a:ext cx="398484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4400" spc="-1" strike="noStrike">
                <a:solidFill>
                  <a:srgbClr val="ffffff"/>
                </a:solidFill>
                <a:latin typeface="微软雅黑"/>
                <a:ea typeface="微软雅黑"/>
              </a:rPr>
              <a:t>POWERPOINT</a:t>
            </a:r>
            <a:endParaRPr b="0" lang="en-US" sz="4400" spc="-1" strike="noStrike">
              <a:solidFill>
                <a:srgbClr val="ffffff"/>
              </a:solidFill>
              <a:latin typeface="Arial"/>
            </a:endParaRPr>
          </a:p>
        </p:txBody>
      </p:sp>
      <p:sp>
        <p:nvSpPr>
          <p:cNvPr id="647" name="TextBox 5"/>
          <p:cNvSpPr/>
          <p:nvPr/>
        </p:nvSpPr>
        <p:spPr>
          <a:xfrm>
            <a:off x="989640" y="3516840"/>
            <a:ext cx="185760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400" spc="-1" strike="noStrike">
                <a:solidFill>
                  <a:srgbClr val="ffff00"/>
                </a:solidFill>
                <a:latin typeface="微软雅黑"/>
                <a:ea typeface="微软雅黑"/>
              </a:rPr>
              <a:t>谢谢观看！</a:t>
            </a:r>
            <a:endParaRPr b="0" lang="en-US" sz="4400" spc="-1" strike="noStrike">
              <a:solidFill>
                <a:srgbClr val="ffffff"/>
              </a:solidFill>
              <a:latin typeface="Arial"/>
            </a:endParaRPr>
          </a:p>
        </p:txBody>
      </p:sp>
      <p:sp>
        <p:nvSpPr>
          <p:cNvPr id="648" name="矩形 6"/>
          <p:cNvSpPr/>
          <p:nvPr/>
        </p:nvSpPr>
        <p:spPr>
          <a:xfrm>
            <a:off x="8424000" y="0"/>
            <a:ext cx="719640" cy="225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 spc="-1" strike="noStrike">
                <a:solidFill>
                  <a:srgbClr val="002200"/>
                </a:solidFill>
                <a:latin typeface="Calibri"/>
              </a:rPr>
              <a:t>PPT</a:t>
            </a:r>
            <a:r>
              <a:rPr b="0" lang="zh-CN" sz="100" spc="-1" strike="noStrike">
                <a:solidFill>
                  <a:srgbClr val="002200"/>
                </a:solidFill>
                <a:latin typeface="Calibri"/>
              </a:rPr>
              <a:t>模板下载：</a:t>
            </a:r>
            <a:r>
              <a:rPr b="0" lang="en-US" sz="100" spc="-1" strike="noStrike">
                <a:solidFill>
                  <a:srgbClr val="002200"/>
                </a:solidFill>
                <a:latin typeface="Calibri"/>
              </a:rPr>
              <a:t>www.1ppt.com/moban/     </a:t>
            </a:r>
            <a:r>
              <a:rPr b="0" lang="zh-CN" sz="100" spc="-1" strike="noStrike">
                <a:solidFill>
                  <a:srgbClr val="002200"/>
                </a:solidFill>
                <a:latin typeface="Calibri"/>
              </a:rPr>
              <a:t>行业</a:t>
            </a:r>
            <a:r>
              <a:rPr b="0" lang="en-US" sz="100" spc="-1" strike="noStrike">
                <a:solidFill>
                  <a:srgbClr val="002200"/>
                </a:solidFill>
                <a:latin typeface="Calibri"/>
              </a:rPr>
              <a:t>PPT</a:t>
            </a:r>
            <a:r>
              <a:rPr b="0" lang="zh-CN" sz="100" spc="-1" strike="noStrike">
                <a:solidFill>
                  <a:srgbClr val="002200"/>
                </a:solidFill>
                <a:latin typeface="Calibri"/>
              </a:rPr>
              <a:t>模板：</a:t>
            </a:r>
            <a:r>
              <a:rPr b="0" lang="en-US" sz="100" spc="-1" strike="noStrike">
                <a:solidFill>
                  <a:srgbClr val="002200"/>
                </a:solidFill>
                <a:latin typeface="Calibri"/>
              </a:rPr>
              <a:t>www.1ppt.com/hangye/ </a:t>
            </a:r>
            <a:endParaRPr b="0" lang="en-US" sz="100" spc="-1" strike="noStrike">
              <a:solidFill>
                <a:srgbClr val="ffffff"/>
              </a:solidFill>
              <a:latin typeface="Arial"/>
            </a:endParaRPr>
          </a:p>
          <a:p>
            <a:pPr>
              <a:lnSpc>
                <a:spcPct val="100000"/>
              </a:lnSpc>
            </a:pPr>
            <a:r>
              <a:rPr b="0" lang="zh-CN" sz="100" spc="-1" strike="noStrike">
                <a:solidFill>
                  <a:srgbClr val="002200"/>
                </a:solidFill>
                <a:latin typeface="Calibri"/>
              </a:rPr>
              <a:t>节日</a:t>
            </a:r>
            <a:r>
              <a:rPr b="0" lang="en-US" sz="100" spc="-1" strike="noStrike">
                <a:solidFill>
                  <a:srgbClr val="002200"/>
                </a:solidFill>
                <a:latin typeface="Calibri"/>
              </a:rPr>
              <a:t>PPT</a:t>
            </a:r>
            <a:r>
              <a:rPr b="0" lang="zh-CN" sz="100" spc="-1" strike="noStrike">
                <a:solidFill>
                  <a:srgbClr val="002200"/>
                </a:solidFill>
                <a:latin typeface="Calibri"/>
              </a:rPr>
              <a:t>模板：</a:t>
            </a:r>
            <a:r>
              <a:rPr b="0" lang="en-US" sz="100" spc="-1" strike="noStrike">
                <a:solidFill>
                  <a:srgbClr val="002200"/>
                </a:solidFill>
                <a:latin typeface="Calibri"/>
              </a:rPr>
              <a:t>www.1ppt.com/jieri/           PPT</a:t>
            </a:r>
            <a:r>
              <a:rPr b="0" lang="zh-CN" sz="100" spc="-1" strike="noStrike">
                <a:solidFill>
                  <a:srgbClr val="002200"/>
                </a:solidFill>
                <a:latin typeface="Calibri"/>
              </a:rPr>
              <a:t>素材下载：</a:t>
            </a:r>
            <a:r>
              <a:rPr b="0" lang="en-US" sz="100" spc="-1" strike="noStrike">
                <a:solidFill>
                  <a:srgbClr val="002200"/>
                </a:solidFill>
                <a:latin typeface="Calibri"/>
              </a:rPr>
              <a:t>www.1ppt.com/sucai/</a:t>
            </a:r>
            <a:endParaRPr b="0" lang="en-US" sz="100" spc="-1" strike="noStrike">
              <a:solidFill>
                <a:srgbClr val="ffffff"/>
              </a:solidFill>
              <a:latin typeface="Arial"/>
            </a:endParaRPr>
          </a:p>
          <a:p>
            <a:pPr>
              <a:lnSpc>
                <a:spcPct val="100000"/>
              </a:lnSpc>
            </a:pPr>
            <a:r>
              <a:rPr b="0" lang="en-US" sz="100" spc="-1" strike="noStrike">
                <a:solidFill>
                  <a:srgbClr val="002200"/>
                </a:solidFill>
                <a:latin typeface="Calibri"/>
              </a:rPr>
              <a:t>PPT</a:t>
            </a:r>
            <a:r>
              <a:rPr b="0" lang="zh-CN" sz="100" spc="-1" strike="noStrike">
                <a:solidFill>
                  <a:srgbClr val="002200"/>
                </a:solidFill>
                <a:latin typeface="Calibri"/>
              </a:rPr>
              <a:t>背景图片：</a:t>
            </a:r>
            <a:r>
              <a:rPr b="0" lang="en-US" sz="100" spc="-1" strike="noStrike">
                <a:solidFill>
                  <a:srgbClr val="002200"/>
                </a:solidFill>
                <a:latin typeface="Calibri"/>
              </a:rPr>
              <a:t>www.1ppt.com/beijing/      PPT</a:t>
            </a:r>
            <a:r>
              <a:rPr b="0" lang="zh-CN" sz="100" spc="-1" strike="noStrike">
                <a:solidFill>
                  <a:srgbClr val="002200"/>
                </a:solidFill>
                <a:latin typeface="Calibri"/>
              </a:rPr>
              <a:t>图表下载：</a:t>
            </a:r>
            <a:r>
              <a:rPr b="0" lang="en-US" sz="100" spc="-1" strike="noStrike">
                <a:solidFill>
                  <a:srgbClr val="002200"/>
                </a:solidFill>
                <a:latin typeface="Calibri"/>
              </a:rPr>
              <a:t>www.1ppt.com/tubiao/      </a:t>
            </a:r>
            <a:endParaRPr b="0" lang="en-US" sz="100" spc="-1" strike="noStrike">
              <a:solidFill>
                <a:srgbClr val="ffffff"/>
              </a:solidFill>
              <a:latin typeface="Arial"/>
            </a:endParaRPr>
          </a:p>
          <a:p>
            <a:pPr>
              <a:lnSpc>
                <a:spcPct val="100000"/>
              </a:lnSpc>
            </a:pPr>
            <a:r>
              <a:rPr b="0" lang="zh-CN" sz="100" spc="-1" strike="noStrike">
                <a:solidFill>
                  <a:srgbClr val="002200"/>
                </a:solidFill>
                <a:latin typeface="Calibri"/>
              </a:rPr>
              <a:t>优秀</a:t>
            </a:r>
            <a:r>
              <a:rPr b="0" lang="en-US" sz="100" spc="-1" strike="noStrike">
                <a:solidFill>
                  <a:srgbClr val="002200"/>
                </a:solidFill>
                <a:latin typeface="Calibri"/>
              </a:rPr>
              <a:t>PPT</a:t>
            </a:r>
            <a:r>
              <a:rPr b="0" lang="zh-CN" sz="100" spc="-1" strike="noStrike">
                <a:solidFill>
                  <a:srgbClr val="002200"/>
                </a:solidFill>
                <a:latin typeface="Calibri"/>
              </a:rPr>
              <a:t>下载：</a:t>
            </a:r>
            <a:r>
              <a:rPr b="0" lang="en-US" sz="100" spc="-1" strike="noStrike">
                <a:solidFill>
                  <a:srgbClr val="002200"/>
                </a:solidFill>
                <a:latin typeface="Calibri"/>
              </a:rPr>
              <a:t>www.1ppt.com/xiazai/        PPT</a:t>
            </a:r>
            <a:r>
              <a:rPr b="0" lang="zh-CN" sz="100" spc="-1" strike="noStrike">
                <a:solidFill>
                  <a:srgbClr val="002200"/>
                </a:solidFill>
                <a:latin typeface="Calibri"/>
              </a:rPr>
              <a:t>教程： </a:t>
            </a:r>
            <a:r>
              <a:rPr b="0" lang="en-US" sz="100" spc="-1" strike="noStrike">
                <a:solidFill>
                  <a:srgbClr val="002200"/>
                </a:solidFill>
                <a:latin typeface="Calibri"/>
              </a:rPr>
              <a:t>www.1ppt.com/powerpoint/      </a:t>
            </a:r>
            <a:endParaRPr b="0" lang="en-US" sz="100" spc="-1" strike="noStrike">
              <a:solidFill>
                <a:srgbClr val="ffffff"/>
              </a:solidFill>
              <a:latin typeface="Arial"/>
            </a:endParaRPr>
          </a:p>
          <a:p>
            <a:pPr>
              <a:lnSpc>
                <a:spcPct val="100000"/>
              </a:lnSpc>
            </a:pPr>
            <a:r>
              <a:rPr b="0" lang="en-US" sz="100" spc="-1" strike="noStrike">
                <a:solidFill>
                  <a:srgbClr val="002200"/>
                </a:solidFill>
                <a:latin typeface="Calibri"/>
              </a:rPr>
              <a:t>Word</a:t>
            </a:r>
            <a:r>
              <a:rPr b="0" lang="zh-CN" sz="100" spc="-1" strike="noStrike">
                <a:solidFill>
                  <a:srgbClr val="002200"/>
                </a:solidFill>
                <a:latin typeface="Calibri"/>
              </a:rPr>
              <a:t>教程： </a:t>
            </a:r>
            <a:r>
              <a:rPr b="0" lang="en-US" sz="100" spc="-1" strike="noStrike">
                <a:solidFill>
                  <a:srgbClr val="002200"/>
                </a:solidFill>
                <a:latin typeface="Calibri"/>
              </a:rPr>
              <a:t>www.1ppt.com/word/              Excel</a:t>
            </a:r>
            <a:r>
              <a:rPr b="0" lang="zh-CN" sz="100" spc="-1" strike="noStrike">
                <a:solidFill>
                  <a:srgbClr val="002200"/>
                </a:solidFill>
                <a:latin typeface="Calibri"/>
              </a:rPr>
              <a:t>教程：</a:t>
            </a:r>
            <a:r>
              <a:rPr b="0" lang="en-US" sz="100" spc="-1" strike="noStrike">
                <a:solidFill>
                  <a:srgbClr val="002200"/>
                </a:solidFill>
                <a:latin typeface="Calibri"/>
              </a:rPr>
              <a:t>www.1ppt.com/excel/  </a:t>
            </a:r>
            <a:endParaRPr b="0" lang="en-US" sz="100" spc="-1" strike="noStrike">
              <a:solidFill>
                <a:srgbClr val="ffffff"/>
              </a:solidFill>
              <a:latin typeface="Arial"/>
            </a:endParaRPr>
          </a:p>
          <a:p>
            <a:pPr>
              <a:lnSpc>
                <a:spcPct val="100000"/>
              </a:lnSpc>
            </a:pPr>
            <a:r>
              <a:rPr b="0" lang="zh-CN" sz="100" spc="-1" strike="noStrike">
                <a:solidFill>
                  <a:srgbClr val="002200"/>
                </a:solidFill>
                <a:latin typeface="Calibri"/>
              </a:rPr>
              <a:t>资料下载：</a:t>
            </a:r>
            <a:r>
              <a:rPr b="0" lang="en-US" sz="100" spc="-1" strike="noStrike">
                <a:solidFill>
                  <a:srgbClr val="002200"/>
                </a:solidFill>
                <a:latin typeface="Calibri"/>
              </a:rPr>
              <a:t>www.1ppt.com/ziliao/                PPT</a:t>
            </a:r>
            <a:r>
              <a:rPr b="0" lang="zh-CN" sz="100" spc="-1" strike="noStrike">
                <a:solidFill>
                  <a:srgbClr val="002200"/>
                </a:solidFill>
                <a:latin typeface="Calibri"/>
              </a:rPr>
              <a:t>课件下载：</a:t>
            </a:r>
            <a:r>
              <a:rPr b="0" lang="en-US" sz="100" spc="-1" strike="noStrike">
                <a:solidFill>
                  <a:srgbClr val="002200"/>
                </a:solidFill>
                <a:latin typeface="Calibri"/>
              </a:rPr>
              <a:t>www.1ppt.com/kejian/ </a:t>
            </a:r>
            <a:endParaRPr b="0" lang="en-US" sz="100" spc="-1" strike="noStrike">
              <a:solidFill>
                <a:srgbClr val="ffffff"/>
              </a:solidFill>
              <a:latin typeface="Arial"/>
            </a:endParaRPr>
          </a:p>
          <a:p>
            <a:pPr>
              <a:lnSpc>
                <a:spcPct val="100000"/>
              </a:lnSpc>
            </a:pPr>
            <a:r>
              <a:rPr b="0" lang="zh-CN" sz="100" spc="-1" strike="noStrike">
                <a:solidFill>
                  <a:srgbClr val="002200"/>
                </a:solidFill>
                <a:latin typeface="Calibri"/>
              </a:rPr>
              <a:t>范文下载：</a:t>
            </a:r>
            <a:r>
              <a:rPr b="0" lang="en-US" sz="100" spc="-1" strike="noStrike">
                <a:solidFill>
                  <a:srgbClr val="002200"/>
                </a:solidFill>
                <a:latin typeface="Calibri"/>
              </a:rPr>
              <a:t>www.1ppt.com/fanwen/             </a:t>
            </a:r>
            <a:r>
              <a:rPr b="0" lang="zh-CN" sz="100" spc="-1" strike="noStrike">
                <a:solidFill>
                  <a:srgbClr val="002200"/>
                </a:solidFill>
                <a:latin typeface="Calibri"/>
              </a:rPr>
              <a:t>试卷下载：</a:t>
            </a:r>
            <a:r>
              <a:rPr b="0" lang="en-US" sz="100" spc="-1" strike="noStrike">
                <a:solidFill>
                  <a:srgbClr val="002200"/>
                </a:solidFill>
                <a:latin typeface="Calibri"/>
              </a:rPr>
              <a:t>www.1ppt.com/shiti/  </a:t>
            </a:r>
            <a:endParaRPr b="0" lang="en-US" sz="100" spc="-1" strike="noStrike">
              <a:solidFill>
                <a:srgbClr val="ffffff"/>
              </a:solidFill>
              <a:latin typeface="Arial"/>
            </a:endParaRPr>
          </a:p>
          <a:p>
            <a:pPr>
              <a:lnSpc>
                <a:spcPct val="100000"/>
              </a:lnSpc>
            </a:pPr>
            <a:r>
              <a:rPr b="0" lang="zh-CN" sz="100" spc="-1" strike="noStrike">
                <a:solidFill>
                  <a:srgbClr val="002200"/>
                </a:solidFill>
                <a:latin typeface="Calibri"/>
              </a:rPr>
              <a:t>教案下载：</a:t>
            </a:r>
            <a:r>
              <a:rPr b="0" lang="en-US" sz="100" spc="-1" strike="noStrike">
                <a:solidFill>
                  <a:srgbClr val="002200"/>
                </a:solidFill>
                <a:latin typeface="Calibri"/>
              </a:rPr>
              <a:t>www.1ppt.com/jiaoan/  </a:t>
            </a:r>
            <a:endParaRPr b="0" lang="en-US" sz="100" spc="-1" strike="noStrike">
              <a:solidFill>
                <a:srgbClr val="ffffff"/>
              </a:solidFill>
              <a:latin typeface="Arial"/>
            </a:endParaRPr>
          </a:p>
          <a:p>
            <a:pPr>
              <a:lnSpc>
                <a:spcPct val="100000"/>
              </a:lnSpc>
            </a:pPr>
            <a:r>
              <a:rPr b="0" lang="en-US" sz="100" spc="-1" strike="noStrike">
                <a:solidFill>
                  <a:srgbClr val="002200"/>
                </a:solidFill>
                <a:latin typeface="Calibri"/>
              </a:rPr>
              <a:t> </a:t>
            </a:r>
            <a:endParaRPr b="0" lang="en-US" sz="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Words>990</Words>
  <Paragraphs>13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7T06:00:33Z</dcterms:created>
  <dc:creator>lidan</dc:creator>
  <dc:description/>
  <dc:language>en-US</dc:language>
  <cp:lastModifiedBy>yu wang</cp:lastModifiedBy>
  <dcterms:modified xsi:type="dcterms:W3CDTF">2015-08-08T10:04:52Z</dcterms:modified>
  <cp:revision>1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16:10)</vt:lpwstr>
  </property>
  <property fmtid="{D5CDD505-2E9C-101B-9397-08002B2CF9AE}" pid="3" name="Slides">
    <vt:r8>10</vt:r8>
  </property>
</Properties>
</file>