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82DEB4CB-E277-40F4-8A5E-3AE959D72F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1119755-9A82-4A2A-BF15-844BABE96D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420-21B2-40E0-A51E-2CE19C7C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E60-35F3-4162-81FD-2807275D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BF7-CDBF-4DCB-BEFE-659E9D6E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04F-F3A0-4AEE-A319-13AAC8B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96B-4669-457D-B910-8BFDB7B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DAC-7CF5-4CF0-AA10-05A349D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005-52F6-4341-8408-58D1CC2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57C-4577-44F5-ACD9-6EB197BB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09C-AB5F-4722-983A-7531E3E4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30D8-3E9C-4B46-9FD6-62E749DE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E6ED-F120-4DAA-83D3-3024AC02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3C60-0A4B-4200-BA43-781364D6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E49D-425A-44E2-9766-E7A1A8E6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96B3-A864-4E3B-8BB1-03355A79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890B-1EE5-45CE-9C9D-E26ED399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7813-4ECD-4434-9CA1-80542BC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610F-AB26-460B-AE0A-A9D2B028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AE7A-8E90-46C3-B266-3D49A4DB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C067-43D2-4F29-81C2-203D70A7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55AE-46C4-4099-A12D-7D816347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BC8C-FB68-4BF0-BEFA-FCF50222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B4F98-22EB-4B97-BBE6-1B7A8B87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CF72-DE66-44F4-8363-0104B419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10DE-93FA-4958-A8AB-4F55868B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7729-DBE3-439B-9D14-6C6FFE8D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2EBD-92DF-499D-99F7-9CDA82C2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8776-EA4B-4305-BBDA-FF9B0CA2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D182-E9A5-4DA3-A83F-9AE3AB0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46DE-5EB5-438D-AC11-8E4EE2D5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BE06-66D4-4EA2-95A2-E04BA38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AF0C-FE22-4B0D-9828-7FF38923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787D-75DA-48CF-991A-B4CFBC69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F610-800A-45D0-A459-E0CB5A5F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7AC4-0D6A-4753-B256-F7D83255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6DBB-3110-44A8-A37E-1ADF3948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454F-041E-4C71-A000-8A5C336D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3592-6658-4FA7-8367-9B2A8D39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0227-59D2-41C4-AC87-990C7E81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8E48-547C-4F44-AD1D-980521D8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3DAA-C3B5-4E18-ADCF-035B9E77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A908-CCFC-4755-83C4-D677A700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BEC4-B241-4F8F-A594-A289D1A4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6965-A04D-4F92-B962-DCFDE4B6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9989D-4551-4311-8EF2-AD4F6DD0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773B-5A1F-4BD9-8C75-2F8A1DF2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0BA1-0AB3-4726-A3E8-23562C01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17577-02C9-49B4-971D-9D905DCC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9F32-551A-4F39-ABE5-1894B7A4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A307A-534A-49AC-B2CF-29D7CE0F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5DCA6-FD79-4457-9844-60DF4E2B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7AAB1-4347-46E2-830D-9E82274B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194E-93CD-45B7-AA75-7FBC118C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D7D8D-BB9F-49A0-BA07-F31584D4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0E26D-BFC7-4F24-8199-6D66ECA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6323-D66C-4DC0-88A3-07A488E1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95A0-6AA8-48C7-A2E9-515FAAE8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706C-BB13-42C5-9C61-918F9EA8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3CAFA-17F8-4C61-8A08-FFF3CA2C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5148C-0B2F-4D3B-AF0F-CA261009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F8148-6BA4-4186-9396-4787804E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3D6D6-B2FF-4A77-BD75-F2A4BD78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19DA2-3E49-45A9-AD5A-F5635FD5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CCCD-9774-43FA-B2BF-DC071663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E0FA8-03B1-42D0-B5E9-AC8BA2C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B296D-35FF-486C-80DA-94A68D9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965F4-BE62-4ACD-B96A-4C1538DC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C3B1-B5B7-46E6-934F-4A0365FC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AC687-8612-497C-B402-D64BDF22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6D040-F0A3-4663-AD2F-2C63A857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C63A3-CF73-4940-8359-C478F8B0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0B3EB-69FC-465C-93FF-D3F30C0D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E6473-3C46-4AB1-A909-B689D941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730F4-A27B-4521-8855-0825FC27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500A4-AE00-4B40-BEAD-66873CE6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F37DF-8806-4315-B0C7-FE7130CE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937FB-2BCA-44E1-BBBE-BD4398F6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2AB8-8E5D-4EF4-A02B-ACFF31A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CFDD8-4FDE-4051-8FFA-911669B0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A1CD2-3832-4711-AADD-1D16FC30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79075-05FB-4D65-851C-521E6A43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49C2-5240-4B21-856B-08BB58B4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CFECC-5BCC-4816-803E-230B3BDA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1CA3D-F723-46CF-9ACB-A49307DF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E1D40-8EE0-4578-A73A-438E5E04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2C332-D949-48D6-8D56-2EAC25B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64338-0712-4C55-9FBF-E6146780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78D61-81A2-4B3F-A7EA-9D9474D2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3561C-C50E-4156-BA70-DB5C918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570F-D44A-4D47-9580-F7E0134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1BF0F-9658-4FBD-97C3-83F164B1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6D64A-7B98-4D12-A243-2C1327DB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CE157-FEB0-478B-95D8-1868FAC9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45BB7-F924-43AD-B56D-90B941F2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5E91C-A378-408B-9E18-B7FFFD32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807D2-153E-4370-AADE-1172FF09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041BF-D5B0-40DC-AAB9-F292D8D2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C89CA-F6AB-4FB3-A07D-7692597D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B6705-DFDF-427D-A60C-5AA3A42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7A9F1-481D-411F-B876-F8324BF0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5BAFB-5C8F-4128-9403-6194CE64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4CA28-B3F5-4066-934F-A2CADD3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A2B21-0436-4105-8737-ED3C4DA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FB4A6-2C3B-4556-AB8D-AF547F3B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3FBBB-EBBC-4825-80B5-86A1A470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C372F-CCFD-407F-9F95-37E1CD06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217-D65E-4445-8736-9FC27341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9AA-34FB-4CFC-A0F5-C4A0C5FC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3C6-3A9E-4614-BF75-B10EAEC9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E59A662-F7AC-43AD-91A2-5CA827D3E52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F3987DA-FB57-49F4-8E59-5A202BFCE27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E765FD0-9846-4273-8EC0-9971E0EC6B1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33B0D84-B96D-4024-9E28-5502007C28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02382867-055C-46B4-89F9-91C440A68D9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6E0044A-CBBA-49CA-9370-6F45DDE7284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4EAAD037-B54F-4C36-8466-53BA1C87434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dt" idx="25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ftr" idx="26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27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AF0F930E-CE45-4722-885C-5F99626BC41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1"/>
          <p:cNvSpPr/>
          <p:nvPr/>
        </p:nvSpPr>
        <p:spPr>
          <a:xfrm>
            <a:off x="0" y="0"/>
            <a:ext cx="12195000" cy="685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9"/>
          <p:cNvSpPr/>
          <p:nvPr/>
        </p:nvSpPr>
        <p:spPr>
          <a:xfrm>
            <a:off x="-125280" y="6670800"/>
            <a:ext cx="1260144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9"/>
          <p:cNvSpPr/>
          <p:nvPr/>
        </p:nvSpPr>
        <p:spPr>
          <a:xfrm>
            <a:off x="-125280" y="6670800"/>
            <a:ext cx="1260144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9"/>
          <p:cNvSpPr/>
          <p:nvPr/>
        </p:nvSpPr>
        <p:spPr>
          <a:xfrm>
            <a:off x="-125280" y="6670800"/>
            <a:ext cx="1260144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394092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671580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937980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19"/>
          <p:cNvSpPr/>
          <p:nvPr/>
        </p:nvSpPr>
        <p:spPr>
          <a:xfrm>
            <a:off x="-125280" y="6670800"/>
            <a:ext cx="1260144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391032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675216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937728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9"/>
          <p:cNvSpPr/>
          <p:nvPr/>
        </p:nvSpPr>
        <p:spPr>
          <a:xfrm>
            <a:off x="-125280" y="6670800"/>
            <a:ext cx="1260144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916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672120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941112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757DAA2-4F5E-48C4-9FA6-86CCC210350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5.png"/><Relationship Id="rId15" Type="http://schemas.openxmlformats.org/officeDocument/2006/relationships/slideLayout" Target="../slideLayouts/slideLayout37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hyperlink" Target="http://www.eeppt.com/moban/" TargetMode="External"/><Relationship Id="rId1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矩形 18"/>
          <p:cNvSpPr/>
          <p:nvPr/>
        </p:nvSpPr>
        <p:spPr>
          <a:xfrm>
            <a:off x="-30240" y="4680"/>
            <a:ext cx="1219536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4" descr="C:\Documents and Settings\Administrator\桌面\PPT配图\公司宣传PPT图片\240490-1306030Q53886.jpg"/>
          <p:cNvPicPr/>
          <p:nvPr/>
        </p:nvPicPr>
        <p:blipFill>
          <a:blip r:embed="rId1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678" name="矩形 19"/>
          <p:cNvSpPr/>
          <p:nvPr/>
        </p:nvSpPr>
        <p:spPr>
          <a:xfrm>
            <a:off x="-125280" y="6149880"/>
            <a:ext cx="1260144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10" descr="C:\Documents and Settings\Administrator\桌面\PPT配图\公司宣传PPT图片\235103-13051209221830.jpg"/>
          <p:cNvPicPr/>
          <p:nvPr/>
        </p:nvPicPr>
        <p:blipFill>
          <a:blip r:embed="rId2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83" name="TextBox 20"/>
          <p:cNvSpPr/>
          <p:nvPr/>
        </p:nvSpPr>
        <p:spPr>
          <a:xfrm>
            <a:off x="3542400" y="136440"/>
            <a:ext cx="59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4000" spc="-1" strike="noStrike">
                <a:solidFill>
                  <a:srgbClr val="288f20"/>
                </a:solidFill>
                <a:latin typeface="微软雅黑"/>
                <a:ea typeface="微软雅黑"/>
              </a:rPr>
              <a:t>绿色环保公司宣传片</a:t>
            </a:r>
            <a:r>
              <a:rPr b="1" lang="en-US" sz="4000" spc="-1" strike="noStrike">
                <a:solidFill>
                  <a:srgbClr val="288f2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88f2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991880" y="189000"/>
            <a:ext cx="82105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5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631520" y="1269720"/>
            <a:ext cx="893124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7"/>
          <p:cNvSpPr/>
          <p:nvPr/>
        </p:nvSpPr>
        <p:spPr>
          <a:xfrm>
            <a:off x="8812080" y="333360"/>
            <a:ext cx="13906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矩形 19"/>
          <p:cNvSpPr/>
          <p:nvPr/>
        </p:nvSpPr>
        <p:spPr>
          <a:xfrm rot="10800000">
            <a:off x="-311040" y="-27360"/>
            <a:ext cx="12601440" cy="86508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流程图: 终止 44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91" name="流程图: 终止 44" descr=""/>
            <p:cNvPicPr/>
            <p:nvPr/>
          </p:nvPicPr>
          <p:blipFill>
            <a:blip r:embed="rId1"/>
            <a:stretch/>
          </p:blipFill>
          <p:spPr>
            <a:xfrm>
              <a:off x="7750080" y="2938320"/>
              <a:ext cx="181152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3" name="椭圆 34"/>
          <p:cNvGrpSpPr/>
          <p:nvPr/>
        </p:nvGrpSpPr>
        <p:grpSpPr>
          <a:xfrm>
            <a:off x="8978760" y="2925720"/>
            <a:ext cx="1798920" cy="1798560"/>
            <a:chOff x="8978760" y="2925720"/>
            <a:chExt cx="1798920" cy="1798560"/>
          </a:xfrm>
        </p:grpSpPr>
        <p:pic>
          <p:nvPicPr>
            <p:cNvPr id="694" name="椭圆 34" descr=""/>
            <p:cNvPicPr/>
            <p:nvPr/>
          </p:nvPicPr>
          <p:blipFill>
            <a:blip r:embed="rId2"/>
            <a:stretch/>
          </p:blipFill>
          <p:spPr>
            <a:xfrm>
              <a:off x="8978760" y="2925720"/>
              <a:ext cx="17989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9240840" y="3189240"/>
              <a:ext cx="127332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6" name="椭圆 37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97" name="椭圆 37" descr=""/>
            <p:cNvPicPr/>
            <p:nvPr/>
          </p:nvPicPr>
          <p:blipFill>
            <a:blip r:embed="rId3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9394920" y="3341520"/>
              <a:ext cx="9666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流程图: 终止 44"/>
          <p:cNvGrpSpPr/>
          <p:nvPr/>
        </p:nvGrpSpPr>
        <p:grpSpPr>
          <a:xfrm>
            <a:off x="5178960" y="3124080"/>
            <a:ext cx="1645200" cy="1255320"/>
            <a:chOff x="5178960" y="3124080"/>
            <a:chExt cx="1645200" cy="1255320"/>
          </a:xfrm>
        </p:grpSpPr>
        <p:pic>
          <p:nvPicPr>
            <p:cNvPr id="700" name="流程图: 终止 44" descr=""/>
            <p:cNvPicPr/>
            <p:nvPr/>
          </p:nvPicPr>
          <p:blipFill>
            <a:blip r:embed="rId4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 rot="8880600">
              <a:off x="5168520" y="3531960"/>
              <a:ext cx="1665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椭圆 32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703" name="椭圆 32" descr=""/>
            <p:cNvPicPr/>
            <p:nvPr/>
          </p:nvPicPr>
          <p:blipFill>
            <a:blip r:embed="rId5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016520" y="379728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椭圆 35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706" name="椭圆 35" descr=""/>
            <p:cNvPicPr/>
            <p:nvPr/>
          </p:nvPicPr>
          <p:blipFill>
            <a:blip r:embed="rId6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292640" y="4000680"/>
              <a:ext cx="101772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8" name="椭圆 33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709" name="椭圆 33" descr=""/>
            <p:cNvPicPr/>
            <p:nvPr/>
          </p:nvPicPr>
          <p:blipFill>
            <a:blip r:embed="rId7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6537240" y="250020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椭圆 36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712" name="椭圆 36" descr=""/>
            <p:cNvPicPr/>
            <p:nvPr/>
          </p:nvPicPr>
          <p:blipFill>
            <a:blip r:embed="rId8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4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矩形 19"/>
          <p:cNvSpPr/>
          <p:nvPr/>
        </p:nvSpPr>
        <p:spPr>
          <a:xfrm>
            <a:off x="-125280" y="6670800"/>
            <a:ext cx="1260144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8" name="流程图: 终止 44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719" name="流程图: 终止 44" descr=""/>
            <p:cNvPicPr/>
            <p:nvPr/>
          </p:nvPicPr>
          <p:blipFill>
            <a:blip r:embed="rId1"/>
            <a:stretch/>
          </p:blipFill>
          <p:spPr>
            <a:xfrm>
              <a:off x="7750080" y="2938320"/>
              <a:ext cx="181152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椭圆 5"/>
          <p:cNvGrpSpPr/>
          <p:nvPr/>
        </p:nvGrpSpPr>
        <p:grpSpPr>
          <a:xfrm>
            <a:off x="8978760" y="2925720"/>
            <a:ext cx="1798920" cy="1798560"/>
            <a:chOff x="8978760" y="2925720"/>
            <a:chExt cx="1798920" cy="1798560"/>
          </a:xfrm>
        </p:grpSpPr>
        <p:pic>
          <p:nvPicPr>
            <p:cNvPr id="722" name="椭圆 5" descr=""/>
            <p:cNvPicPr/>
            <p:nvPr/>
          </p:nvPicPr>
          <p:blipFill>
            <a:blip r:embed="rId2"/>
            <a:stretch/>
          </p:blipFill>
          <p:spPr>
            <a:xfrm>
              <a:off x="8978760" y="2925720"/>
              <a:ext cx="17989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9240840" y="3189240"/>
              <a:ext cx="127332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4" name="椭圆 6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725" name="椭圆 6" descr=""/>
            <p:cNvPicPr/>
            <p:nvPr/>
          </p:nvPicPr>
          <p:blipFill>
            <a:blip r:embed="rId3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9394920" y="3341520"/>
              <a:ext cx="9666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7" name="流程图: 终止 44"/>
          <p:cNvGrpSpPr/>
          <p:nvPr/>
        </p:nvGrpSpPr>
        <p:grpSpPr>
          <a:xfrm>
            <a:off x="5178960" y="3124080"/>
            <a:ext cx="1645200" cy="1255320"/>
            <a:chOff x="5178960" y="3124080"/>
            <a:chExt cx="1645200" cy="1255320"/>
          </a:xfrm>
        </p:grpSpPr>
        <p:pic>
          <p:nvPicPr>
            <p:cNvPr id="728" name="流程图: 终止 44" descr=""/>
            <p:cNvPicPr/>
            <p:nvPr/>
          </p:nvPicPr>
          <p:blipFill>
            <a:blip r:embed="rId4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 rot="8880600">
              <a:off x="5168520" y="3531960"/>
              <a:ext cx="1665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0" name="椭圆 8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731" name="椭圆 8" descr=""/>
            <p:cNvPicPr/>
            <p:nvPr/>
          </p:nvPicPr>
          <p:blipFill>
            <a:blip r:embed="rId5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4016520" y="379728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椭圆 9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734" name="椭圆 9" descr=""/>
            <p:cNvPicPr/>
            <p:nvPr/>
          </p:nvPicPr>
          <p:blipFill>
            <a:blip r:embed="rId6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4292640" y="4000680"/>
              <a:ext cx="101772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6" name="椭圆 10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737" name="椭圆 10" descr=""/>
            <p:cNvPicPr/>
            <p:nvPr/>
          </p:nvPicPr>
          <p:blipFill>
            <a:blip r:embed="rId7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537240" y="250020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椭圆 11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740" name="椭圆 11" descr=""/>
            <p:cNvPicPr/>
            <p:nvPr/>
          </p:nvPicPr>
          <p:blipFill>
            <a:blip r:embed="rId8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矩形 19"/>
          <p:cNvSpPr/>
          <p:nvPr/>
        </p:nvSpPr>
        <p:spPr>
          <a:xfrm>
            <a:off x="-125280" y="6670800"/>
            <a:ext cx="1260144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19"/>
          <p:cNvSpPr/>
          <p:nvPr/>
        </p:nvSpPr>
        <p:spPr>
          <a:xfrm>
            <a:off x="-125280" y="6670800"/>
            <a:ext cx="1260144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19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753" name="组合 12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754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6" name="组合 13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757" name="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16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760" name="矩形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1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62" name="Picture 2" descr="F:\03图片下载\Z自然风景\1253332070679.jpg"/>
          <p:cNvPicPr/>
          <p:nvPr/>
        </p:nvPicPr>
        <p:blipFill>
          <a:blip r:embed="rId4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组合 56"/>
          <p:cNvGrpSpPr/>
          <p:nvPr/>
        </p:nvGrpSpPr>
        <p:grpSpPr>
          <a:xfrm>
            <a:off x="2044800" y="544680"/>
            <a:ext cx="7164000" cy="7956360"/>
            <a:chOff x="2044800" y="544680"/>
            <a:chExt cx="7164000" cy="7956360"/>
          </a:xfrm>
        </p:grpSpPr>
        <p:pic>
          <p:nvPicPr>
            <p:cNvPr id="764" name="Freeform 11" descr=""/>
            <p:cNvPicPr/>
            <p:nvPr/>
          </p:nvPicPr>
          <p:blipFill>
            <a:blip r:embed="rId1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5" name="组合 55"/>
            <p:cNvGrpSpPr/>
            <p:nvPr/>
          </p:nvGrpSpPr>
          <p:grpSpPr>
            <a:xfrm>
              <a:off x="2044800" y="3261240"/>
              <a:ext cx="6675840" cy="2715480"/>
              <a:chOff x="2044800" y="3261240"/>
              <a:chExt cx="6675840" cy="2715480"/>
            </a:xfrm>
          </p:grpSpPr>
          <p:grpSp>
            <p:nvGrpSpPr>
              <p:cNvPr id="766" name="组合 29"/>
              <p:cNvGrpSpPr/>
              <p:nvPr/>
            </p:nvGrpSpPr>
            <p:grpSpPr>
              <a:xfrm>
                <a:off x="2044800" y="3261240"/>
                <a:ext cx="6318000" cy="2110680"/>
                <a:chOff x="2044800" y="3261240"/>
                <a:chExt cx="6318000" cy="2110680"/>
              </a:xfrm>
            </p:grpSpPr>
            <p:sp>
              <p:nvSpPr>
                <p:cNvPr id="767" name="直接连接符 143"/>
                <p:cNvSpPr/>
                <p:nvPr/>
              </p:nvSpPr>
              <p:spPr>
                <a:xfrm flipV="1">
                  <a:off x="2044800" y="4525200"/>
                  <a:ext cx="222084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8" name="直接连接符 150"/>
                <p:cNvSpPr/>
                <p:nvPr/>
              </p:nvSpPr>
              <p:spPr>
                <a:xfrm>
                  <a:off x="4504680" y="4339080"/>
                  <a:ext cx="81396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9" name="直接连接符 151"/>
                <p:cNvSpPr/>
                <p:nvPr/>
              </p:nvSpPr>
              <p:spPr>
                <a:xfrm flipV="1">
                  <a:off x="5533200" y="3799080"/>
                  <a:ext cx="1053360" cy="40140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0" name="直接连接符 152"/>
                <p:cNvSpPr/>
                <p:nvPr/>
              </p:nvSpPr>
              <p:spPr>
                <a:xfrm>
                  <a:off x="6925680" y="3649320"/>
                  <a:ext cx="487080" cy="3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1" name="直接连接符 153"/>
                <p:cNvSpPr/>
                <p:nvPr/>
              </p:nvSpPr>
              <p:spPr>
                <a:xfrm flipV="1">
                  <a:off x="7688160" y="3261240"/>
                  <a:ext cx="674640" cy="270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72" name="组合 54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773" name="直接连接符 138"/>
                <p:cNvSpPr/>
                <p:nvPr/>
              </p:nvSpPr>
              <p:spPr>
                <a:xfrm flipV="1">
                  <a:off x="2310840" y="5047920"/>
                  <a:ext cx="2314080" cy="92880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4" name="直接连接符 139"/>
                <p:cNvSpPr/>
                <p:nvPr/>
              </p:nvSpPr>
              <p:spPr>
                <a:xfrm flipV="1">
                  <a:off x="4722840" y="483408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5" name="直接连接符 140"/>
                <p:cNvSpPr/>
                <p:nvPr/>
              </p:nvSpPr>
              <p:spPr>
                <a:xfrm flipV="1">
                  <a:off x="5753880" y="4204800"/>
                  <a:ext cx="1148040" cy="48420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6" name="直接连接符 141"/>
                <p:cNvSpPr/>
                <p:nvPr/>
              </p:nvSpPr>
              <p:spPr>
                <a:xfrm>
                  <a:off x="7072560" y="4048920"/>
                  <a:ext cx="585000" cy="2160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7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5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78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9" name="组合 75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780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2" name="组合 38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783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6" name="组合 76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87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9" name="组合 39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90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92" name="组合 77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93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5" name="组合 42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96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98" name="组合 78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99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1" name="组合 45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802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椭圆 114"/>
              <p:cNvSpPr/>
              <p:nvPr/>
            </p:nvSpPr>
            <p:spPr>
              <a:xfrm>
                <a:off x="5139000" y="2841480"/>
                <a:ext cx="720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4" name="组合 79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805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7" name="组合 48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808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0" name="组合 87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811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3" name="组合 90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814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6" name="组合 129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817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9" name="组合 38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820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2" name="组合 144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823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5" name="组合 42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826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8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157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832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4" name="组合 42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835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7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组合 132" descr=""/>
          <p:cNvPicPr/>
          <p:nvPr/>
        </p:nvPicPr>
        <p:blipFill>
          <a:blip r:embed="rId2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856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7" name="组合 31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858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1" name="Picture 2" descr="坐在飞机上的人图片"/>
          <p:cNvPicPr/>
          <p:nvPr/>
        </p:nvPicPr>
        <p:blipFill>
          <a:blip r:embed="rId3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1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863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31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867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0" name="组合 31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871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流程图: 终止 44"/>
          <p:cNvGrpSpPr/>
          <p:nvPr/>
        </p:nvGrpSpPr>
        <p:grpSpPr>
          <a:xfrm>
            <a:off x="6845400" y="2313000"/>
            <a:ext cx="1896840" cy="932760"/>
            <a:chOff x="6845400" y="2313000"/>
            <a:chExt cx="1896840" cy="932760"/>
          </a:xfrm>
        </p:grpSpPr>
        <p:pic>
          <p:nvPicPr>
            <p:cNvPr id="875" name="流程图: 终止 44" descr=""/>
            <p:cNvPicPr/>
            <p:nvPr/>
          </p:nvPicPr>
          <p:blipFill>
            <a:blip r:embed="rId1"/>
            <a:stretch/>
          </p:blipFill>
          <p:spPr>
            <a:xfrm>
              <a:off x="6884280" y="2359080"/>
              <a:ext cx="1820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 rot="959400">
              <a:off x="6870240" y="255852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7" name="椭圆 2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78" name="椭圆 2" descr=""/>
            <p:cNvPicPr/>
            <p:nvPr/>
          </p:nvPicPr>
          <p:blipFill>
            <a:blip r:embed="rId2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8377200" y="2612880"/>
              <a:ext cx="127332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0" name="椭圆 3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81" name="椭圆 3" descr=""/>
            <p:cNvPicPr/>
            <p:nvPr/>
          </p:nvPicPr>
          <p:blipFill>
            <a:blip r:embed="rId3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3" name="流程图: 终止 44"/>
          <p:cNvGrpSpPr/>
          <p:nvPr/>
        </p:nvGrpSpPr>
        <p:grpSpPr>
          <a:xfrm>
            <a:off x="4313520" y="2547000"/>
            <a:ext cx="1650240" cy="1259280"/>
            <a:chOff x="4313520" y="2547000"/>
            <a:chExt cx="1650240" cy="1259280"/>
          </a:xfrm>
        </p:grpSpPr>
        <p:pic>
          <p:nvPicPr>
            <p:cNvPr id="884" name="流程图: 终止 44" descr=""/>
            <p:cNvPicPr/>
            <p:nvPr/>
          </p:nvPicPr>
          <p:blipFill>
            <a:blip r:embed="rId4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8880600">
              <a:off x="4303440" y="2955600"/>
              <a:ext cx="16700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6" name="椭圆 5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87" name="椭圆 5" descr=""/>
            <p:cNvPicPr/>
            <p:nvPr/>
          </p:nvPicPr>
          <p:blipFill>
            <a:blip r:embed="rId5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9" name="椭圆 6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90" name="椭圆 6" descr=""/>
            <p:cNvPicPr/>
            <p:nvPr/>
          </p:nvPicPr>
          <p:blipFill>
            <a:blip r:embed="rId6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3427560" y="3424320"/>
              <a:ext cx="10191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2" name="椭圆 7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93" name="椭圆 7" descr=""/>
            <p:cNvPicPr/>
            <p:nvPr/>
          </p:nvPicPr>
          <p:blipFill>
            <a:blip r:embed="rId7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5672160" y="192564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6" name="椭圆 8"/>
          <p:cNvGrpSpPr/>
          <p:nvPr/>
        </p:nvGrpSpPr>
        <p:grpSpPr>
          <a:xfrm>
            <a:off x="5595840" y="1987560"/>
            <a:ext cx="1365480" cy="1371600"/>
            <a:chOff x="5595840" y="1987560"/>
            <a:chExt cx="1365480" cy="1371600"/>
          </a:xfrm>
        </p:grpSpPr>
        <p:pic>
          <p:nvPicPr>
            <p:cNvPr id="897" name="椭圆 8" descr=""/>
            <p:cNvPicPr/>
            <p:nvPr/>
          </p:nvPicPr>
          <p:blipFill>
            <a:blip r:embed="rId8"/>
            <a:stretch/>
          </p:blipFill>
          <p:spPr>
            <a:xfrm>
              <a:off x="5595840" y="198756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9" name="Text Box 3"/>
          <p:cNvSpPr/>
          <p:nvPr/>
        </p:nvSpPr>
        <p:spPr>
          <a:xfrm>
            <a:off x="554040" y="6040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1" name="组合 29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902" name="Picture 25" descr=""/>
            <p:cNvPicPr/>
            <p:nvPr/>
          </p:nvPicPr>
          <p:blipFill>
            <a:blip r:embed="rId1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4" name="组合 30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905" name="Picture 24" descr=""/>
            <p:cNvPicPr/>
            <p:nvPr/>
          </p:nvPicPr>
          <p:blipFill>
            <a:blip r:embed="rId2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7" name="组合 32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908" name="Picture 27" descr=""/>
            <p:cNvPicPr/>
            <p:nvPr/>
          </p:nvPicPr>
          <p:blipFill>
            <a:blip r:embed="rId3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0" name="组合 35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911" name="Picture 28" descr=""/>
            <p:cNvPicPr/>
            <p:nvPr/>
          </p:nvPicPr>
          <p:blipFill>
            <a:blip r:embed="rId4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3" name="组合 33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914" name="Picture 30" descr=""/>
            <p:cNvPicPr/>
            <p:nvPr/>
          </p:nvPicPr>
          <p:blipFill>
            <a:blip r:embed="rId5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6" name="组合 31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917" name="Picture 21" descr=""/>
            <p:cNvPicPr/>
            <p:nvPr/>
          </p:nvPicPr>
          <p:blipFill>
            <a:blip r:embed="rId6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9" name="组合 34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920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1" name="Picture 29" descr=""/>
            <p:cNvPicPr/>
            <p:nvPr/>
          </p:nvPicPr>
          <p:blipFill>
            <a:blip r:embed="rId7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2" name="图片 89" descr="16-10.png"/>
          <p:cNvPicPr/>
          <p:nvPr/>
        </p:nvPicPr>
        <p:blipFill>
          <a:blip r:embed="rId8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90" descr="16-10.png"/>
          <p:cNvPicPr/>
          <p:nvPr/>
        </p:nvPicPr>
        <p:blipFill>
          <a:blip r:embed="rId9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91" descr="16-10.png"/>
          <p:cNvPicPr/>
          <p:nvPr/>
        </p:nvPicPr>
        <p:blipFill>
          <a:blip r:embed="rId10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92" descr="16-10.png"/>
          <p:cNvPicPr/>
          <p:nvPr/>
        </p:nvPicPr>
        <p:blipFill>
          <a:blip r:embed="rId11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93" descr="16-10.png"/>
          <p:cNvPicPr/>
          <p:nvPr/>
        </p:nvPicPr>
        <p:blipFill>
          <a:blip r:embed="rId12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94" descr="16-10.png"/>
          <p:cNvPicPr/>
          <p:nvPr/>
        </p:nvPicPr>
        <p:blipFill>
          <a:blip r:embed="rId13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95" descr="16-10.png"/>
          <p:cNvPicPr/>
          <p:nvPr/>
        </p:nvPicPr>
        <p:blipFill>
          <a:blip r:embed="rId14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流程图: 终止 44"/>
          <p:cNvGrpSpPr/>
          <p:nvPr/>
        </p:nvGrpSpPr>
        <p:grpSpPr>
          <a:xfrm>
            <a:off x="6845400" y="2313000"/>
            <a:ext cx="1896840" cy="932760"/>
            <a:chOff x="6845400" y="2313000"/>
            <a:chExt cx="1896840" cy="932760"/>
          </a:xfrm>
        </p:grpSpPr>
        <p:pic>
          <p:nvPicPr>
            <p:cNvPr id="930" name="流程图: 终止 44" descr=""/>
            <p:cNvPicPr/>
            <p:nvPr/>
          </p:nvPicPr>
          <p:blipFill>
            <a:blip r:embed="rId1"/>
            <a:stretch/>
          </p:blipFill>
          <p:spPr>
            <a:xfrm>
              <a:off x="6884280" y="2359080"/>
              <a:ext cx="1820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 rot="959400">
              <a:off x="6870240" y="255852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椭圆 2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933" name="椭圆 2" descr=""/>
            <p:cNvPicPr/>
            <p:nvPr/>
          </p:nvPicPr>
          <p:blipFill>
            <a:blip r:embed="rId2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8377200" y="2612880"/>
              <a:ext cx="127332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椭圆 3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936" name="椭圆 3" descr=""/>
            <p:cNvPicPr/>
            <p:nvPr/>
          </p:nvPicPr>
          <p:blipFill>
            <a:blip r:embed="rId3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8" name="流程图: 终止 44"/>
          <p:cNvGrpSpPr/>
          <p:nvPr/>
        </p:nvGrpSpPr>
        <p:grpSpPr>
          <a:xfrm>
            <a:off x="4313520" y="2547000"/>
            <a:ext cx="1650240" cy="1259280"/>
            <a:chOff x="4313520" y="2547000"/>
            <a:chExt cx="1650240" cy="1259280"/>
          </a:xfrm>
        </p:grpSpPr>
        <p:pic>
          <p:nvPicPr>
            <p:cNvPr id="939" name="流程图: 终止 44" descr=""/>
            <p:cNvPicPr/>
            <p:nvPr/>
          </p:nvPicPr>
          <p:blipFill>
            <a:blip r:embed="rId4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 rot="8880600">
              <a:off x="4303440" y="2955600"/>
              <a:ext cx="16700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1" name="椭圆 5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942" name="椭圆 5" descr=""/>
            <p:cNvPicPr/>
            <p:nvPr/>
          </p:nvPicPr>
          <p:blipFill>
            <a:blip r:embed="rId5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椭圆 6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945" name="椭圆 6" descr=""/>
            <p:cNvPicPr/>
            <p:nvPr/>
          </p:nvPicPr>
          <p:blipFill>
            <a:blip r:embed="rId6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3427560" y="3424320"/>
              <a:ext cx="10191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7" name="椭圆 7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948" name="椭圆 7" descr=""/>
            <p:cNvPicPr/>
            <p:nvPr/>
          </p:nvPicPr>
          <p:blipFill>
            <a:blip r:embed="rId7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5672160" y="192564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0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1" name="椭圆 8"/>
          <p:cNvGrpSpPr/>
          <p:nvPr/>
        </p:nvGrpSpPr>
        <p:grpSpPr>
          <a:xfrm>
            <a:off x="5595840" y="1987560"/>
            <a:ext cx="1365480" cy="1371600"/>
            <a:chOff x="5595840" y="1987560"/>
            <a:chExt cx="1365480" cy="1371600"/>
          </a:xfrm>
        </p:grpSpPr>
        <p:pic>
          <p:nvPicPr>
            <p:cNvPr id="952" name="椭圆 8" descr=""/>
            <p:cNvPicPr/>
            <p:nvPr/>
          </p:nvPicPr>
          <p:blipFill>
            <a:blip r:embed="rId8"/>
            <a:stretch/>
          </p:blipFill>
          <p:spPr>
            <a:xfrm>
              <a:off x="5595840" y="198756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空心弧 5" descr=""/>
          <p:cNvPicPr/>
          <p:nvPr/>
        </p:nvPicPr>
        <p:blipFill>
          <a:blip r:embed="rId1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955" name="空心弧 6" descr=""/>
          <p:cNvPicPr/>
          <p:nvPr/>
        </p:nvPicPr>
        <p:blipFill>
          <a:blip r:embed="rId2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956" name="空心弧 7" descr=""/>
          <p:cNvPicPr/>
          <p:nvPr/>
        </p:nvPicPr>
        <p:blipFill>
          <a:blip r:embed="rId3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957" name="空心弧 8" descr=""/>
          <p:cNvPicPr/>
          <p:nvPr/>
        </p:nvPicPr>
        <p:blipFill>
          <a:blip r:embed="rId4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958" name="空心弧 9" descr=""/>
          <p:cNvPicPr/>
          <p:nvPr/>
        </p:nvPicPr>
        <p:blipFill>
          <a:blip r:embed="rId5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959" name="空心弧 10" descr=""/>
          <p:cNvPicPr/>
          <p:nvPr/>
        </p:nvPicPr>
        <p:blipFill>
          <a:blip r:embed="rId6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960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6" name="任意多边形 11" descr=""/>
          <p:cNvPicPr/>
          <p:nvPr/>
        </p:nvPicPr>
        <p:blipFill>
          <a:blip r:embed="rId7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967" name="任意多边形 12" descr=""/>
          <p:cNvPicPr/>
          <p:nvPr/>
        </p:nvPicPr>
        <p:blipFill>
          <a:blip r:embed="rId8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968" name="任意多边形 13" descr=""/>
          <p:cNvPicPr/>
          <p:nvPr/>
        </p:nvPicPr>
        <p:blipFill>
          <a:blip r:embed="rId9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969" name="任意多边形 14" descr=""/>
          <p:cNvPicPr/>
          <p:nvPr/>
        </p:nvPicPr>
        <p:blipFill>
          <a:blip r:embed="rId10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970" name="任意多边形 15" descr=""/>
          <p:cNvPicPr/>
          <p:nvPr/>
        </p:nvPicPr>
        <p:blipFill>
          <a:blip r:embed="rId11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971" name="任意多边形 16" descr=""/>
          <p:cNvPicPr/>
          <p:nvPr/>
        </p:nvPicPr>
        <p:blipFill>
          <a:blip r:embed="rId12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972" name="任意多边形 17" descr=""/>
          <p:cNvPicPr/>
          <p:nvPr/>
        </p:nvPicPr>
        <p:blipFill>
          <a:blip r:embed="rId13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  <p:sp>
        <p:nvSpPr>
          <p:cNvPr id="973" name="Text Box 3"/>
          <p:cNvSpPr/>
          <p:nvPr/>
        </p:nvSpPr>
        <p:spPr>
          <a:xfrm>
            <a:off x="539640" y="6378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8T10:04:09Z</dcterms:modified>
  <cp:revision>220</cp:revision>
  <dc:subject/>
  <dc:title>PowerPoint 演示文稿</dc:title>
</cp:coreProperties>
</file>