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F8-F350-4163-B095-C6341015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96C-F4A9-4D00-A2CD-22B9556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B51-4DFB-46C5-B6EC-C192F817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4F2-5A02-4540-AD0B-19ACA1E8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47BB-699C-41D6-BB6E-751899E0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3722-EEC2-465C-8DFC-F66D5ABC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5BDE-7DDF-4003-A4A9-8B931331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CFB1-D1AC-4886-8BEF-BC0F9C5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899-B8E1-42E7-9DB6-4B899E4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B09-4396-452F-ACE4-FBBD911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88B2-6D0A-46D8-8D06-84815DE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0E6-CDC8-4256-8647-6C93E15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8B4F-A0B8-4449-9B25-6225585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E94A-5CBC-45B0-801B-4DDF80C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7466-4A96-4E4E-AEFF-BB736F0E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747-C9A3-4C89-8509-A66E0821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3EC-F06C-4D0C-AD5F-D0F1923F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7FA6-0ED2-4177-9444-79288736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FED2-35FB-4634-B566-614AAFC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081C-4507-4041-8657-DAFF922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A7DD-848C-424B-84FE-A8B9418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DA57-0CE7-4CBD-8196-2081BDF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3B4-1AEE-48ED-8247-5D66CC3E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331B-20CF-4F6C-8455-1F516351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F87B-F012-4B70-B06B-A2D569D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AA29-B461-4E8C-97A9-CD0AF79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0CE9-E2B1-4EBD-9972-34E2B8D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BAF8-62D0-4194-B78F-C795EBD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19E9-7994-4EFD-AF6A-F89815F9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9296-ECF4-4F1F-8A0F-E9812929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3EE-AEBB-44F5-9B35-7B53BEE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F95-5F36-4A9C-B3F5-F0AD1C7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3E2-BCCF-4671-810D-DB371BF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FF0-C38D-446D-B30A-025A34F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E6A-3509-4046-8E0F-9300136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5D0-B7B7-402F-8CF8-D87ABF2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54A-EE11-4639-8DD7-725DFF02A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F27F-50BC-4F7F-8E7B-6011AEEA9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3A5D-6BD2-4BAE-97F2-0231C261DC51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8"/>
          <p:cNvSpPr/>
          <p:nvPr/>
        </p:nvSpPr>
        <p:spPr>
          <a:xfrm>
            <a:off x="46836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4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5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08T10:07:25Z</dcterms:modified>
  <cp:revision>6</cp:revision>
  <dc:subject/>
  <dc:title>绿色通用幻灯片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