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120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5831-A761-48FE-BAE8-D27918F306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7F28-0980-47FC-AECD-2141EAB80C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3B3F-3253-498D-85D5-41C637F24C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10AF-639E-4A12-8CC8-36C55B7D00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68ED-0F82-4E9B-AA55-FD71D7B13E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59576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9E63-E5B8-471F-8703-B65632BDBC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8ABB-0F52-43AF-99DE-40741BB43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534D-AF04-4B65-9AA6-AF42B84343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187E-273B-47B9-838E-9D25485496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BD11-6EFA-499C-99CA-6625B827A4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DC66-96FD-40F6-BD93-4B7FC3692E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120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364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2D5B9-54AB-47E4-998A-53583E23D8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BFA2-0DF4-49EC-9660-2310C0562C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A7C4-910A-4E81-8F08-601394BAB8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B64A-CA58-44F3-B165-3503B630B6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ECD6-DF52-489E-B8D2-7A0FC4E483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283A-7373-4DB6-886E-57EFA17A2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59576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E214-4DC7-4444-8AAF-6AA4D4A71D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ECEE-5321-4769-A431-BD098B0489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F8A3-D84B-427D-917C-AD7E6E193B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C45BB-F447-4F18-8F6E-8E5B2AB4C6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A3AE3-B133-4E98-AFA7-0CAE75F03A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298E-DBDA-489C-977E-D724947289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1120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9364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FB4B4-7B2D-4D2D-8B24-B6693261E9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E0B-86C4-470F-AD1D-B648E90E6C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5A6-73F2-43BD-8079-189876CCC0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625F-CC82-4C7F-BA6C-96DF7D4E8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D64-1C10-4255-B0F0-921C609F99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F32-AD7E-4415-A812-5ECCC75FF6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59576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CD8-5E64-469E-9BD8-DF5821A86E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B9A-4139-44D9-9B63-4E78DFB59C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5AE-C127-4F2F-8024-7C5F90DECB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478-4A55-441A-95DF-C9857E3D30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BE7-91C7-40B4-A221-91D3BB68EC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7F6-6B6F-4DD0-8DE7-7DDD79617A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1120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93640" y="142884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2876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1120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93640" y="3892320"/>
            <a:ext cx="26496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2DF-3339-405D-B1BB-85C49BC50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760" y="357120"/>
            <a:ext cx="595764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4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5800" y="389232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428840"/>
            <a:ext cx="401580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3892320"/>
            <a:ext cx="8229240" cy="22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 hidden="1"/>
          <p:cNvSpPr/>
          <p:nvPr/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" name="矩形 7" hidden="1"/>
          <p:cNvSpPr/>
          <p:nvPr/>
        </p:nvSpPr>
        <p:spPr>
          <a:xfrm>
            <a:off x="7215120" y="0"/>
            <a:ext cx="1819080" cy="1213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" name="Picture 2" hidden="1"/>
          <p:cNvSpPr/>
          <p:nvPr/>
        </p:nvSpPr>
        <p:spPr>
          <a:xfrm>
            <a:off x="7572240" y="208800"/>
            <a:ext cx="1079640" cy="719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D:\068_4572x4010_zcool.com.cn_26096296.jpg"/>
          <p:cNvPicPr/>
          <p:nvPr/>
        </p:nvPicPr>
        <p:blipFill>
          <a:blip r:embed="rId3"/>
          <a:stretch/>
        </p:blipFill>
        <p:spPr>
          <a:xfrm>
            <a:off x="0" y="0"/>
            <a:ext cx="9143640" cy="4642920"/>
          </a:xfrm>
          <a:prstGeom prst="rect">
            <a:avLst/>
          </a:prstGeom>
          <a:ln w="9525">
            <a:noFill/>
          </a:ln>
        </p:spPr>
      </p:pic>
      <p:pic>
        <p:nvPicPr>
          <p:cNvPr id="4" name="Picture 2" descr="D:\068_4572x4010_zcool.com.cn_26096296.jpg"/>
          <p:cNvPicPr/>
          <p:nvPr/>
        </p:nvPicPr>
        <p:blipFill>
          <a:blip r:embed="rId4"/>
          <a:stretch/>
        </p:blipFill>
        <p:spPr>
          <a:xfrm>
            <a:off x="7207200" y="5189400"/>
            <a:ext cx="1079280" cy="720360"/>
          </a:xfrm>
          <a:prstGeom prst="rect">
            <a:avLst/>
          </a:prstGeom>
          <a:ln w="9525">
            <a:noFill/>
          </a:ln>
          <a:effectLst>
            <a:reflection algn="bl" blurRad="6350" dir="5400000" endA="300" endPos="55000" rotWithShape="0" stA="50000" sy="-100000"/>
          </a:effectLst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5267520"/>
            <a:ext cx="6071760" cy="590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51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515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7215120" y="0"/>
            <a:ext cx="1819080" cy="1213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5" name="Picture 2"/>
          <p:cNvSpPr/>
          <p:nvPr/>
        </p:nvSpPr>
        <p:spPr>
          <a:xfrm>
            <a:off x="7572240" y="208800"/>
            <a:ext cx="1079640" cy="719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28760" y="1428840"/>
            <a:ext cx="8229240" cy="47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65b93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26515f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38acb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26515f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26515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d4d4d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26515f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26515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26515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26515f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26515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26515f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380880" y="622944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E15812E-AD61-48EA-9240-0DFE1FE0F279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7215120" y="0"/>
            <a:ext cx="1819080" cy="1213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87" name="Picture 2"/>
          <p:cNvSpPr/>
          <p:nvPr/>
        </p:nvSpPr>
        <p:spPr>
          <a:xfrm>
            <a:off x="7572240" y="208800"/>
            <a:ext cx="1079640" cy="719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Num" idx="2"/>
          </p:nvPr>
        </p:nvSpPr>
        <p:spPr>
          <a:xfrm>
            <a:off x="380880" y="622944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411E4C2-B199-4EEF-9EDC-C0190BA6BA5E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51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515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"/>
          <p:cNvSpPr/>
          <p:nvPr/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7215120" y="0"/>
            <a:ext cx="1819080" cy="1213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29" name="Picture 2"/>
          <p:cNvSpPr/>
          <p:nvPr/>
        </p:nvSpPr>
        <p:spPr>
          <a:xfrm>
            <a:off x="7572240" y="208800"/>
            <a:ext cx="1079640" cy="719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3"/>
          </p:nvPr>
        </p:nvSpPr>
        <p:spPr>
          <a:xfrm>
            <a:off x="380880" y="6229440"/>
            <a:ext cx="213336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6CAE388-F957-4D77-8435-B79225711A40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2651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515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51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51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640" y="5214960"/>
            <a:ext cx="6820920" cy="590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绿色清爽简洁</a:t>
            </a:r>
            <a:r>
              <a:rPr b="0" lang="en-US" sz="4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椭圆 3"/>
          <p:cNvSpPr/>
          <p:nvPr/>
        </p:nvSpPr>
        <p:spPr>
          <a:xfrm>
            <a:off x="8570160" y="4429080"/>
            <a:ext cx="214920" cy="214920"/>
          </a:xfrm>
          <a:prstGeom prst="ellipse">
            <a:avLst/>
          </a:prstGeom>
          <a:solidFill>
            <a:schemeClr val="accent2">
              <a:lumMod val="40000"/>
              <a:lumOff val="60000"/>
            </a:schemeClr>
          </a:solidFill>
          <a:ln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  <a:softEdge rad="12600"/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1" name="椭圆 4"/>
          <p:cNvSpPr/>
          <p:nvPr/>
        </p:nvSpPr>
        <p:spPr>
          <a:xfrm>
            <a:off x="8570160" y="5357880"/>
            <a:ext cx="214920" cy="214920"/>
          </a:xfrm>
          <a:prstGeom prst="ellipse">
            <a:avLst/>
          </a:prstGeom>
          <a:solidFill>
            <a:schemeClr val="accent2">
              <a:lumMod val="40000"/>
              <a:lumOff val="60000"/>
            </a:schemeClr>
          </a:solidFill>
          <a:ln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  <a:softEdge rad="12600"/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2" name="椭圆 5"/>
          <p:cNvSpPr/>
          <p:nvPr/>
        </p:nvSpPr>
        <p:spPr>
          <a:xfrm>
            <a:off x="8571240" y="3500280"/>
            <a:ext cx="214920" cy="214920"/>
          </a:xfrm>
          <a:prstGeom prst="ellipse">
            <a:avLst/>
          </a:prstGeom>
          <a:solidFill>
            <a:schemeClr val="accent2">
              <a:lumMod val="40000"/>
              <a:lumOff val="60000"/>
            </a:schemeClr>
          </a:solidFill>
          <a:ln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  <a:softEdge rad="12600"/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36560" y="331920"/>
            <a:ext cx="308268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宋体"/>
              </a:rPr>
              <a:t>Content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660680" y="722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2514600" y="2200320"/>
            <a:ext cx="4343040" cy="45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7ae26"/>
              </a:gs>
              <a:gs pos="50000">
                <a:srgbClr val="e2edd1"/>
              </a:gs>
              <a:gs pos="100000">
                <a:srgbClr val="77ae26"/>
              </a:gs>
            </a:gsLst>
            <a:lin ang="5400000"/>
          </a:gra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2743200" y="2255760"/>
            <a:ext cx="3428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2514600" y="3038400"/>
            <a:ext cx="4343040" cy="45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38acb"/>
              </a:gs>
              <a:gs pos="50000">
                <a:srgbClr val="d7e6f3"/>
              </a:gs>
              <a:gs pos="100000">
                <a:srgbClr val="438acb"/>
              </a:gs>
            </a:gsLst>
            <a:lin ang="5400000"/>
          </a:gra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743200" y="3094200"/>
            <a:ext cx="3428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2514600" y="3876840"/>
            <a:ext cx="4343040" cy="45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9878"/>
              </a:gs>
              <a:gs pos="50000">
                <a:srgbClr val="d7e9e2"/>
              </a:gs>
              <a:gs pos="100000">
                <a:srgbClr val="449878"/>
              </a:gs>
            </a:gsLst>
            <a:lin ang="5400000"/>
          </a:gra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2743200" y="3932280"/>
            <a:ext cx="3428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2514600" y="4791240"/>
            <a:ext cx="4343040" cy="456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0a8b0"/>
              </a:gs>
              <a:gs pos="50000">
                <a:srgbClr val="e7ecee"/>
              </a:gs>
              <a:gs pos="100000">
                <a:srgbClr val="90a8b0"/>
              </a:gs>
            </a:gsLst>
            <a:lin ang="5400000"/>
          </a:gradFill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2743200" y="4846680"/>
            <a:ext cx="3428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25"/>
          <p:cNvSpPr/>
          <p:nvPr/>
        </p:nvSpPr>
        <p:spPr>
          <a:xfrm>
            <a:off x="2143080" y="2071800"/>
            <a:ext cx="639360" cy="571320"/>
          </a:xfrm>
          <a:custGeom>
            <a:avLst/>
            <a:gdLst>
              <a:gd name="textAreaLeft" fmla="*/ 0 w 639360"/>
              <a:gd name="textAreaRight" fmla="*/ 639720 w 639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924050" h="1377950">
                <a:moveTo>
                  <a:pt x="38100" y="1228725"/>
                </a:moveTo>
                <a:cubicBezTo>
                  <a:pt x="76200" y="1079500"/>
                  <a:pt x="393700" y="561975"/>
                  <a:pt x="666750" y="390525"/>
                </a:cubicBezTo>
                <a:cubicBezTo>
                  <a:pt x="939800" y="219075"/>
                  <a:pt x="1473200" y="241300"/>
                  <a:pt x="1676400" y="200025"/>
                </a:cubicBezTo>
                <a:cubicBezTo>
                  <a:pt x="1879600" y="158750"/>
                  <a:pt x="1924050" y="0"/>
                  <a:pt x="1885950" y="142875"/>
                </a:cubicBezTo>
                <a:cubicBezTo>
                  <a:pt x="1847850" y="285750"/>
                  <a:pt x="1689100" y="866775"/>
                  <a:pt x="1447800" y="1057275"/>
                </a:cubicBezTo>
                <a:cubicBezTo>
                  <a:pt x="1206500" y="1247775"/>
                  <a:pt x="679450" y="1254125"/>
                  <a:pt x="438150" y="1285875"/>
                </a:cubicBezTo>
                <a:cubicBezTo>
                  <a:pt x="196850" y="1317625"/>
                  <a:pt x="0" y="1377950"/>
                  <a:pt x="38100" y="1228725"/>
                </a:cubicBezTo>
                <a:close/>
              </a:path>
            </a:pathLst>
          </a:custGeom>
          <a:gradFill rotWithShape="0">
            <a:gsLst>
              <a:gs pos="0">
                <a:srgbClr val="52830a"/>
              </a:gs>
              <a:gs pos="100000">
                <a:srgbClr val="6aaa0d"/>
              </a:gs>
            </a:gsLst>
            <a:lin ang="16200000"/>
          </a:gradFill>
          <a:ln w="28575"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6"/>
          </a:lnRef>
          <a:fillRef idx="3">
            <a:schemeClr val="accent6"/>
          </a:fillRef>
          <a:effectRef idx="2">
            <a:schemeClr val="accent6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5" name="任意多边形 27"/>
          <p:cNvSpPr/>
          <p:nvPr/>
        </p:nvSpPr>
        <p:spPr>
          <a:xfrm>
            <a:off x="2143080" y="2949480"/>
            <a:ext cx="639360" cy="571320"/>
          </a:xfrm>
          <a:custGeom>
            <a:avLst/>
            <a:gdLst>
              <a:gd name="textAreaLeft" fmla="*/ 0 w 639360"/>
              <a:gd name="textAreaRight" fmla="*/ 639720 w 639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924050" h="1377950">
                <a:moveTo>
                  <a:pt x="38100" y="1228725"/>
                </a:moveTo>
                <a:cubicBezTo>
                  <a:pt x="76200" y="1079500"/>
                  <a:pt x="393700" y="561975"/>
                  <a:pt x="666750" y="390525"/>
                </a:cubicBezTo>
                <a:cubicBezTo>
                  <a:pt x="939800" y="219075"/>
                  <a:pt x="1473200" y="241300"/>
                  <a:pt x="1676400" y="200025"/>
                </a:cubicBezTo>
                <a:cubicBezTo>
                  <a:pt x="1879600" y="158750"/>
                  <a:pt x="1924050" y="0"/>
                  <a:pt x="1885950" y="142875"/>
                </a:cubicBezTo>
                <a:cubicBezTo>
                  <a:pt x="1847850" y="285750"/>
                  <a:pt x="1689100" y="866775"/>
                  <a:pt x="1447800" y="1057275"/>
                </a:cubicBezTo>
                <a:cubicBezTo>
                  <a:pt x="1206500" y="1247775"/>
                  <a:pt x="679450" y="1254125"/>
                  <a:pt x="438150" y="1285875"/>
                </a:cubicBezTo>
                <a:cubicBezTo>
                  <a:pt x="196850" y="1317625"/>
                  <a:pt x="0" y="1377950"/>
                  <a:pt x="38100" y="1228725"/>
                </a:cubicBezTo>
                <a:close/>
              </a:path>
            </a:pathLst>
          </a:custGeom>
          <a:gradFill rotWithShape="0">
            <a:gsLst>
              <a:gs pos="0">
                <a:srgbClr val="2267a6"/>
              </a:gs>
              <a:gs pos="100000">
                <a:srgbClr val="2c86d8"/>
              </a:gs>
            </a:gsLst>
            <a:lin ang="16200000"/>
          </a:gradFill>
          <a:ln w="28575"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6" name="任意多边形 28"/>
          <p:cNvSpPr/>
          <p:nvPr/>
        </p:nvSpPr>
        <p:spPr>
          <a:xfrm>
            <a:off x="2143080" y="3814920"/>
            <a:ext cx="639360" cy="571320"/>
          </a:xfrm>
          <a:custGeom>
            <a:avLst/>
            <a:gdLst>
              <a:gd name="textAreaLeft" fmla="*/ 0 w 639360"/>
              <a:gd name="textAreaRight" fmla="*/ 639720 w 639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924050" h="1377950">
                <a:moveTo>
                  <a:pt x="38100" y="1228725"/>
                </a:moveTo>
                <a:cubicBezTo>
                  <a:pt x="76200" y="1079500"/>
                  <a:pt x="393700" y="561975"/>
                  <a:pt x="666750" y="390525"/>
                </a:cubicBezTo>
                <a:cubicBezTo>
                  <a:pt x="939800" y="219075"/>
                  <a:pt x="1473200" y="241300"/>
                  <a:pt x="1676400" y="200025"/>
                </a:cubicBezTo>
                <a:cubicBezTo>
                  <a:pt x="1879600" y="158750"/>
                  <a:pt x="1924050" y="0"/>
                  <a:pt x="1885950" y="142875"/>
                </a:cubicBezTo>
                <a:cubicBezTo>
                  <a:pt x="1847850" y="285750"/>
                  <a:pt x="1689100" y="866775"/>
                  <a:pt x="1447800" y="1057275"/>
                </a:cubicBezTo>
                <a:cubicBezTo>
                  <a:pt x="1206500" y="1247775"/>
                  <a:pt x="679450" y="1254125"/>
                  <a:pt x="438150" y="1285875"/>
                </a:cubicBezTo>
                <a:cubicBezTo>
                  <a:pt x="196850" y="1317625"/>
                  <a:pt x="0" y="1377950"/>
                  <a:pt x="38100" y="1228725"/>
                </a:cubicBezTo>
                <a:close/>
              </a:path>
            </a:pathLst>
          </a:custGeom>
          <a:gradFill rotWithShape="0">
            <a:gsLst>
              <a:gs pos="0">
                <a:srgbClr val="00531a"/>
              </a:gs>
              <a:gs pos="100000">
                <a:srgbClr val="007725"/>
              </a:gs>
            </a:gsLst>
            <a:lin ang="13500000"/>
          </a:gradFill>
          <a:ln w="28575"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7" name="任意多边形 29"/>
          <p:cNvSpPr/>
          <p:nvPr/>
        </p:nvSpPr>
        <p:spPr>
          <a:xfrm>
            <a:off x="2143080" y="4703760"/>
            <a:ext cx="639360" cy="571320"/>
          </a:xfrm>
          <a:custGeom>
            <a:avLst/>
            <a:gdLst>
              <a:gd name="textAreaLeft" fmla="*/ 0 w 639360"/>
              <a:gd name="textAreaRight" fmla="*/ 639720 w 6393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1924050" h="1377950">
                <a:moveTo>
                  <a:pt x="38100" y="1228725"/>
                </a:moveTo>
                <a:cubicBezTo>
                  <a:pt x="76200" y="1079500"/>
                  <a:pt x="393700" y="561975"/>
                  <a:pt x="666750" y="390525"/>
                </a:cubicBezTo>
                <a:cubicBezTo>
                  <a:pt x="939800" y="219075"/>
                  <a:pt x="1473200" y="241300"/>
                  <a:pt x="1676400" y="200025"/>
                </a:cubicBezTo>
                <a:cubicBezTo>
                  <a:pt x="1879600" y="158750"/>
                  <a:pt x="1924050" y="0"/>
                  <a:pt x="1885950" y="142875"/>
                </a:cubicBezTo>
                <a:cubicBezTo>
                  <a:pt x="1847850" y="285750"/>
                  <a:pt x="1689100" y="866775"/>
                  <a:pt x="1447800" y="1057275"/>
                </a:cubicBezTo>
                <a:cubicBezTo>
                  <a:pt x="1206500" y="1247775"/>
                  <a:pt x="679450" y="1254125"/>
                  <a:pt x="438150" y="1285875"/>
                </a:cubicBezTo>
                <a:cubicBezTo>
                  <a:pt x="196850" y="1317625"/>
                  <a:pt x="0" y="1377950"/>
                  <a:pt x="38100" y="1228725"/>
                </a:cubicBezTo>
                <a:close/>
              </a:path>
            </a:pathLst>
          </a:custGeom>
          <a:gradFill rotWithShape="0">
            <a:gsLst>
              <a:gs pos="0">
                <a:srgbClr val="7d91ae"/>
              </a:gs>
              <a:gs pos="100000">
                <a:srgbClr val="a3bbe1"/>
              </a:gs>
            </a:gsLst>
            <a:lin ang="16200000"/>
          </a:gradFill>
          <a:ln w="28575"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288880" y="217980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2288880" y="301788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2288880" y="385596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2288880" y="477036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28"/>
          <p:cNvSpPr/>
          <p:nvPr/>
        </p:nvSpPr>
        <p:spPr>
          <a:xfrm>
            <a:off x="2071800" y="2214720"/>
            <a:ext cx="5143320" cy="57132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9525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193" name="组合 27"/>
          <p:cNvGrpSpPr/>
          <p:nvPr/>
        </p:nvGrpSpPr>
        <p:grpSpPr>
          <a:xfrm>
            <a:off x="1449000" y="1973160"/>
            <a:ext cx="1325520" cy="995040"/>
            <a:chOff x="1449000" y="1973160"/>
            <a:chExt cx="1325520" cy="995040"/>
          </a:xfrm>
        </p:grpSpPr>
        <p:sp>
          <p:nvSpPr>
            <p:cNvPr id="194" name="Oval 26"/>
            <p:cNvSpPr/>
            <p:nvPr/>
          </p:nvSpPr>
          <p:spPr>
            <a:xfrm>
              <a:off x="1750680" y="2118960"/>
              <a:ext cx="685440" cy="678600"/>
            </a:xfrm>
            <a:prstGeom prst="ellipse">
              <a:avLst/>
            </a:prstGeom>
            <a:solidFill>
              <a:schemeClr val="bg1"/>
            </a:solidFill>
            <a:ln w="1905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195" name="椭圆 24"/>
            <p:cNvSpPr/>
            <p:nvPr/>
          </p:nvSpPr>
          <p:spPr>
            <a:xfrm>
              <a:off x="2006640" y="1981080"/>
              <a:ext cx="7416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196" name="椭圆 25"/>
            <p:cNvSpPr/>
            <p:nvPr/>
          </p:nvSpPr>
          <p:spPr>
            <a:xfrm>
              <a:off x="2095560" y="1981080"/>
              <a:ext cx="7272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197" name="弦形 9"/>
            <p:cNvSpPr/>
            <p:nvPr/>
          </p:nvSpPr>
          <p:spPr>
            <a:xfrm rot="6862200">
              <a:off x="1959480" y="2014560"/>
              <a:ext cx="256680" cy="256680"/>
            </a:xfrm>
            <a:prstGeom prst="chord">
              <a:avLst>
                <a:gd name="adj1" fmla="val 2700000"/>
                <a:gd name="adj2" fmla="val 16200000"/>
              </a:avLst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198" name="组合 12"/>
            <p:cNvGrpSpPr/>
            <p:nvPr/>
          </p:nvGrpSpPr>
          <p:grpSpPr>
            <a:xfrm>
              <a:off x="1449000" y="1981440"/>
              <a:ext cx="979920" cy="979560"/>
              <a:chOff x="1449000" y="1981440"/>
              <a:chExt cx="979920" cy="979560"/>
            </a:xfrm>
          </p:grpSpPr>
          <p:sp>
            <p:nvSpPr>
              <p:cNvPr id="199" name="弦形 13"/>
              <p:cNvSpPr/>
              <p:nvPr/>
            </p:nvSpPr>
            <p:spPr>
              <a:xfrm rot="1539600">
                <a:off x="1571400" y="2104200"/>
                <a:ext cx="734400" cy="73404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0" name="椭圆 14"/>
              <p:cNvSpPr/>
              <p:nvPr/>
            </p:nvSpPr>
            <p:spPr>
              <a:xfrm rot="1539600">
                <a:off x="1921320" y="221004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1" name="椭圆 15"/>
              <p:cNvSpPr/>
              <p:nvPr/>
            </p:nvSpPr>
            <p:spPr>
              <a:xfrm rot="1539600">
                <a:off x="1708200" y="222984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2" name="椭圆 16"/>
              <p:cNvSpPr/>
              <p:nvPr/>
            </p:nvSpPr>
            <p:spPr>
              <a:xfrm rot="1539600">
                <a:off x="1762560" y="254088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3" name="椭圆 17"/>
              <p:cNvSpPr/>
              <p:nvPr/>
            </p:nvSpPr>
            <p:spPr>
              <a:xfrm rot="1539600">
                <a:off x="1579680" y="241236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18"/>
            <p:cNvGrpSpPr/>
            <p:nvPr/>
          </p:nvGrpSpPr>
          <p:grpSpPr>
            <a:xfrm>
              <a:off x="1780200" y="1974240"/>
              <a:ext cx="994320" cy="993960"/>
              <a:chOff x="1780200" y="1974240"/>
              <a:chExt cx="994320" cy="993960"/>
            </a:xfrm>
          </p:grpSpPr>
          <p:sp>
            <p:nvSpPr>
              <p:cNvPr id="205" name="弦形 19"/>
              <p:cNvSpPr/>
              <p:nvPr/>
            </p:nvSpPr>
            <p:spPr>
              <a:xfrm flipV="1" rot="9102600">
                <a:off x="1910160" y="2103840"/>
                <a:ext cx="734400" cy="73368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6" name="椭圆 20"/>
              <p:cNvSpPr/>
              <p:nvPr/>
            </p:nvSpPr>
            <p:spPr>
              <a:xfrm flipV="1" rot="9102600">
                <a:off x="2174760" y="221148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7" name="椭圆 21"/>
              <p:cNvSpPr/>
              <p:nvPr/>
            </p:nvSpPr>
            <p:spPr>
              <a:xfrm flipV="1" rot="9102600">
                <a:off x="2388960" y="222120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8" name="椭圆 22"/>
              <p:cNvSpPr/>
              <p:nvPr/>
            </p:nvSpPr>
            <p:spPr>
              <a:xfrm flipV="1" rot="9102600">
                <a:off x="2349000" y="253476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9" name="椭圆 23"/>
              <p:cNvSpPr/>
              <p:nvPr/>
            </p:nvSpPr>
            <p:spPr>
              <a:xfrm flipV="1" rot="9102600">
                <a:off x="2525760" y="239796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Text Box 32"/>
          <p:cNvSpPr/>
          <p:nvPr/>
        </p:nvSpPr>
        <p:spPr>
          <a:xfrm>
            <a:off x="1943280" y="2286000"/>
            <a:ext cx="283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9"/>
          <p:cNvSpPr/>
          <p:nvPr/>
        </p:nvSpPr>
        <p:spPr>
          <a:xfrm>
            <a:off x="2071800" y="3233880"/>
            <a:ext cx="5143320" cy="57132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9525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212" name="组合 30"/>
          <p:cNvGrpSpPr/>
          <p:nvPr/>
        </p:nvGrpSpPr>
        <p:grpSpPr>
          <a:xfrm>
            <a:off x="1449000" y="2992320"/>
            <a:ext cx="1325520" cy="995040"/>
            <a:chOff x="1449000" y="2992320"/>
            <a:chExt cx="1325520" cy="995040"/>
          </a:xfrm>
        </p:grpSpPr>
        <p:sp>
          <p:nvSpPr>
            <p:cNvPr id="213" name="Oval 26"/>
            <p:cNvSpPr/>
            <p:nvPr/>
          </p:nvSpPr>
          <p:spPr>
            <a:xfrm>
              <a:off x="1750680" y="3138120"/>
              <a:ext cx="685440" cy="678600"/>
            </a:xfrm>
            <a:prstGeom prst="ellipse">
              <a:avLst/>
            </a:prstGeom>
            <a:solidFill>
              <a:schemeClr val="bg1"/>
            </a:solidFill>
            <a:ln w="1905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14" name="椭圆 32"/>
            <p:cNvSpPr/>
            <p:nvPr/>
          </p:nvSpPr>
          <p:spPr>
            <a:xfrm>
              <a:off x="2006640" y="3000240"/>
              <a:ext cx="7416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15" name="椭圆 33"/>
            <p:cNvSpPr/>
            <p:nvPr/>
          </p:nvSpPr>
          <p:spPr>
            <a:xfrm>
              <a:off x="2095560" y="3000240"/>
              <a:ext cx="7272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16" name="弦形 34"/>
            <p:cNvSpPr/>
            <p:nvPr/>
          </p:nvSpPr>
          <p:spPr>
            <a:xfrm rot="6862200">
              <a:off x="1959480" y="3033720"/>
              <a:ext cx="256680" cy="256680"/>
            </a:xfrm>
            <a:prstGeom prst="chord">
              <a:avLst>
                <a:gd name="adj1" fmla="val 2700000"/>
                <a:gd name="adj2" fmla="val 16200000"/>
              </a:avLst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17" name="组合 12"/>
            <p:cNvGrpSpPr/>
            <p:nvPr/>
          </p:nvGrpSpPr>
          <p:grpSpPr>
            <a:xfrm>
              <a:off x="1449000" y="3000600"/>
              <a:ext cx="979920" cy="979560"/>
              <a:chOff x="1449000" y="3000600"/>
              <a:chExt cx="979920" cy="979560"/>
            </a:xfrm>
          </p:grpSpPr>
          <p:sp>
            <p:nvSpPr>
              <p:cNvPr id="218" name="弦形 42"/>
              <p:cNvSpPr/>
              <p:nvPr/>
            </p:nvSpPr>
            <p:spPr>
              <a:xfrm rot="1539600">
                <a:off x="1571400" y="3123360"/>
                <a:ext cx="734400" cy="73404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9" name="椭圆 43"/>
              <p:cNvSpPr/>
              <p:nvPr/>
            </p:nvSpPr>
            <p:spPr>
              <a:xfrm rot="1539600">
                <a:off x="1921320" y="322920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0" name="椭圆 44"/>
              <p:cNvSpPr/>
              <p:nvPr/>
            </p:nvSpPr>
            <p:spPr>
              <a:xfrm rot="1539600">
                <a:off x="1708200" y="324900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1" name="椭圆 45"/>
              <p:cNvSpPr/>
              <p:nvPr/>
            </p:nvSpPr>
            <p:spPr>
              <a:xfrm rot="1539600">
                <a:off x="1762560" y="356004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2" name="椭圆 46"/>
              <p:cNvSpPr/>
              <p:nvPr/>
            </p:nvSpPr>
            <p:spPr>
              <a:xfrm rot="1539600">
                <a:off x="1579680" y="343152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23" name="组合 18"/>
            <p:cNvGrpSpPr/>
            <p:nvPr/>
          </p:nvGrpSpPr>
          <p:grpSpPr>
            <a:xfrm>
              <a:off x="1780200" y="2993400"/>
              <a:ext cx="994320" cy="993960"/>
              <a:chOff x="1780200" y="2993400"/>
              <a:chExt cx="994320" cy="993960"/>
            </a:xfrm>
          </p:grpSpPr>
          <p:sp>
            <p:nvSpPr>
              <p:cNvPr id="224" name="弦形 37"/>
              <p:cNvSpPr/>
              <p:nvPr/>
            </p:nvSpPr>
            <p:spPr>
              <a:xfrm flipV="1" rot="9102600">
                <a:off x="1910160" y="3123000"/>
                <a:ext cx="734400" cy="73368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5" name="椭圆 38"/>
              <p:cNvSpPr/>
              <p:nvPr/>
            </p:nvSpPr>
            <p:spPr>
              <a:xfrm flipV="1" rot="9102600">
                <a:off x="2174760" y="323064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6" name="椭圆 39"/>
              <p:cNvSpPr/>
              <p:nvPr/>
            </p:nvSpPr>
            <p:spPr>
              <a:xfrm flipV="1" rot="9102600">
                <a:off x="2388960" y="324036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7" name="椭圆 40"/>
              <p:cNvSpPr/>
              <p:nvPr/>
            </p:nvSpPr>
            <p:spPr>
              <a:xfrm flipV="1" rot="9102600">
                <a:off x="2349000" y="355392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8" name="椭圆 41"/>
              <p:cNvSpPr/>
              <p:nvPr/>
            </p:nvSpPr>
            <p:spPr>
              <a:xfrm flipV="1" rot="9102600">
                <a:off x="2525760" y="341712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Text Box 32"/>
          <p:cNvSpPr/>
          <p:nvPr/>
        </p:nvSpPr>
        <p:spPr>
          <a:xfrm>
            <a:off x="1943280" y="3305160"/>
            <a:ext cx="283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48"/>
          <p:cNvSpPr/>
          <p:nvPr/>
        </p:nvSpPr>
        <p:spPr>
          <a:xfrm>
            <a:off x="2071800" y="4305240"/>
            <a:ext cx="5143320" cy="571320"/>
          </a:xfrm>
          <a:prstGeom prst="rect">
            <a:avLst/>
          </a:prstGeom>
          <a:solidFill>
            <a:schemeClr val="bg2">
              <a:lumMod val="90000"/>
            </a:schemeClr>
          </a:solidFill>
          <a:ln w="9525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231" name="组合 49"/>
          <p:cNvGrpSpPr/>
          <p:nvPr/>
        </p:nvGrpSpPr>
        <p:grpSpPr>
          <a:xfrm>
            <a:off x="1449000" y="4064040"/>
            <a:ext cx="1325520" cy="994680"/>
            <a:chOff x="1449000" y="4064040"/>
            <a:chExt cx="1325520" cy="994680"/>
          </a:xfrm>
        </p:grpSpPr>
        <p:sp>
          <p:nvSpPr>
            <p:cNvPr id="232" name="Oval 26"/>
            <p:cNvSpPr/>
            <p:nvPr/>
          </p:nvSpPr>
          <p:spPr>
            <a:xfrm>
              <a:off x="1750680" y="4209840"/>
              <a:ext cx="685440" cy="678600"/>
            </a:xfrm>
            <a:prstGeom prst="ellipse">
              <a:avLst/>
            </a:prstGeom>
            <a:solidFill>
              <a:schemeClr val="bg1"/>
            </a:solidFill>
            <a:ln w="1905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33" name="椭圆 51"/>
            <p:cNvSpPr/>
            <p:nvPr/>
          </p:nvSpPr>
          <p:spPr>
            <a:xfrm>
              <a:off x="2006640" y="4071960"/>
              <a:ext cx="7416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34" name="椭圆 52"/>
            <p:cNvSpPr/>
            <p:nvPr/>
          </p:nvSpPr>
          <p:spPr>
            <a:xfrm>
              <a:off x="2095560" y="4071960"/>
              <a:ext cx="72720" cy="72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6840" bIns="684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35" name="弦形 53"/>
            <p:cNvSpPr/>
            <p:nvPr/>
          </p:nvSpPr>
          <p:spPr>
            <a:xfrm rot="6862200">
              <a:off x="1959480" y="4105440"/>
              <a:ext cx="256680" cy="256680"/>
            </a:xfrm>
            <a:prstGeom prst="chord">
              <a:avLst>
                <a:gd name="adj1" fmla="val 2700000"/>
                <a:gd name="adj2" fmla="val 16200000"/>
              </a:avLst>
            </a:prstGeom>
            <a:solidFill>
              <a:schemeClr val="bg1"/>
            </a:solidFill>
            <a:ln>
              <a:solidFill>
                <a:srgbClr val="4d4d4d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4"/>
            </a:lnRef>
            <a:fillRef idx="3">
              <a:schemeClr val="accent4"/>
            </a:fillRef>
            <a:effectRef idx="2">
              <a:schemeClr val="accent4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36" name="组合 12"/>
            <p:cNvGrpSpPr/>
            <p:nvPr/>
          </p:nvGrpSpPr>
          <p:grpSpPr>
            <a:xfrm>
              <a:off x="1449000" y="4071960"/>
              <a:ext cx="979920" cy="979560"/>
              <a:chOff x="1449000" y="4071960"/>
              <a:chExt cx="979920" cy="979560"/>
            </a:xfrm>
          </p:grpSpPr>
          <p:sp>
            <p:nvSpPr>
              <p:cNvPr id="237" name="弦形 61"/>
              <p:cNvSpPr/>
              <p:nvPr/>
            </p:nvSpPr>
            <p:spPr>
              <a:xfrm rot="1539600">
                <a:off x="1571400" y="4194720"/>
                <a:ext cx="734400" cy="73404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8" name="椭圆 62"/>
              <p:cNvSpPr/>
              <p:nvPr/>
            </p:nvSpPr>
            <p:spPr>
              <a:xfrm rot="1539600">
                <a:off x="1921320" y="430056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9" name="椭圆 63"/>
              <p:cNvSpPr/>
              <p:nvPr/>
            </p:nvSpPr>
            <p:spPr>
              <a:xfrm rot="1539600">
                <a:off x="1708200" y="432036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0" name="椭圆 64"/>
              <p:cNvSpPr/>
              <p:nvPr/>
            </p:nvSpPr>
            <p:spPr>
              <a:xfrm rot="1539600">
                <a:off x="1762560" y="463176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1" name="椭圆 65"/>
              <p:cNvSpPr/>
              <p:nvPr/>
            </p:nvSpPr>
            <p:spPr>
              <a:xfrm rot="1539600">
                <a:off x="1579680" y="4503240"/>
                <a:ext cx="10980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242" name="组合 18"/>
            <p:cNvGrpSpPr/>
            <p:nvPr/>
          </p:nvGrpSpPr>
          <p:grpSpPr>
            <a:xfrm>
              <a:off x="1780200" y="4064760"/>
              <a:ext cx="994320" cy="993960"/>
              <a:chOff x="1780200" y="4064760"/>
              <a:chExt cx="994320" cy="993960"/>
            </a:xfrm>
          </p:grpSpPr>
          <p:sp>
            <p:nvSpPr>
              <p:cNvPr id="243" name="弦形 56"/>
              <p:cNvSpPr/>
              <p:nvPr/>
            </p:nvSpPr>
            <p:spPr>
              <a:xfrm flipV="1" rot="9102600">
                <a:off x="1910160" y="4194360"/>
                <a:ext cx="734400" cy="733680"/>
              </a:xfrm>
              <a:prstGeom prst="chord">
                <a:avLst>
                  <a:gd name="adj1" fmla="val 5445557"/>
                  <a:gd name="adj2" fmla="val 16200000"/>
                </a:avLst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" name="椭圆 57"/>
              <p:cNvSpPr/>
              <p:nvPr/>
            </p:nvSpPr>
            <p:spPr>
              <a:xfrm flipV="1" rot="9102600">
                <a:off x="2174760" y="430200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5" name="椭圆 58"/>
              <p:cNvSpPr/>
              <p:nvPr/>
            </p:nvSpPr>
            <p:spPr>
              <a:xfrm flipV="1" rot="9102600">
                <a:off x="2388960" y="431208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6" name="椭圆 59"/>
              <p:cNvSpPr/>
              <p:nvPr/>
            </p:nvSpPr>
            <p:spPr>
              <a:xfrm flipV="1" rot="9102600">
                <a:off x="2349000" y="462528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7" name="椭圆 60"/>
              <p:cNvSpPr/>
              <p:nvPr/>
            </p:nvSpPr>
            <p:spPr>
              <a:xfrm flipV="1" rot="9102600">
                <a:off x="2525760" y="4488480"/>
                <a:ext cx="110160" cy="109800"/>
              </a:xfrm>
              <a:prstGeom prst="ellipse">
                <a:avLst/>
              </a:prstGeom>
              <a:solidFill>
                <a:schemeClr val="bg1"/>
              </a:solidFill>
              <a:ln w="9525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Text Box 32"/>
          <p:cNvSpPr/>
          <p:nvPr/>
        </p:nvSpPr>
        <p:spPr>
          <a:xfrm>
            <a:off x="1943280" y="4376880"/>
            <a:ext cx="283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buNone/>
            </a:pPr>
            <a:endParaRPr b="1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50" name="Oval 26"/>
          <p:cNvSpPr/>
          <p:nvPr/>
        </p:nvSpPr>
        <p:spPr>
          <a:xfrm>
            <a:off x="3730680" y="3068640"/>
            <a:ext cx="1333080" cy="1320480"/>
          </a:xfrm>
          <a:prstGeom prst="ellipse">
            <a:avLst/>
          </a:prstGeom>
          <a:solidFill>
            <a:srgbClr val="333333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251" name="Group 27"/>
          <p:cNvGrpSpPr/>
          <p:nvPr/>
        </p:nvGrpSpPr>
        <p:grpSpPr>
          <a:xfrm>
            <a:off x="3751200" y="3087720"/>
            <a:ext cx="1290240" cy="1277640"/>
            <a:chOff x="3751200" y="3087720"/>
            <a:chExt cx="1290240" cy="1277640"/>
          </a:xfrm>
        </p:grpSpPr>
        <p:sp>
          <p:nvSpPr>
            <p:cNvPr id="252" name="Oval 28"/>
            <p:cNvSpPr/>
            <p:nvPr/>
          </p:nvSpPr>
          <p:spPr>
            <a:xfrm>
              <a:off x="3751200" y="3087720"/>
              <a:ext cx="1290240" cy="12776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Oval 29"/>
            <p:cNvSpPr/>
            <p:nvPr/>
          </p:nvSpPr>
          <p:spPr>
            <a:xfrm>
              <a:off x="3767760" y="3094920"/>
              <a:ext cx="1259280" cy="1245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54" name="Oval 30"/>
            <p:cNvSpPr/>
            <p:nvPr/>
          </p:nvSpPr>
          <p:spPr>
            <a:xfrm>
              <a:off x="3781080" y="3107160"/>
              <a:ext cx="1197360" cy="116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55" name="Oval 31"/>
            <p:cNvSpPr/>
            <p:nvPr/>
          </p:nvSpPr>
          <p:spPr>
            <a:xfrm>
              <a:off x="3851280" y="3139920"/>
              <a:ext cx="10645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56" name="弦形 8"/>
          <p:cNvSpPr/>
          <p:nvPr/>
        </p:nvSpPr>
        <p:spPr>
          <a:xfrm rot="6862200">
            <a:off x="4134240" y="2866680"/>
            <a:ext cx="499680" cy="499680"/>
          </a:xfrm>
          <a:prstGeom prst="chord">
            <a:avLst>
              <a:gd name="adj1" fmla="val 2700000"/>
              <a:gd name="adj2" fmla="val 16200000"/>
            </a:avLst>
          </a:prstGeom>
          <a:gradFill rotWithShape="0">
            <a:gsLst>
              <a:gs pos="20000">
                <a:srgbClr val="3e3e3e"/>
              </a:gs>
              <a:gs pos="100000">
                <a:srgbClr val="2f2f2f"/>
              </a:gs>
            </a:gsLst>
            <a:lin ang="20136000"/>
          </a:gradFill>
          <a:ln>
            <a:solidFill>
              <a:srgbClr val="3e3e3e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57" name="AutoShape 3"/>
          <p:cNvSpPr/>
          <p:nvPr/>
        </p:nvSpPr>
        <p:spPr>
          <a:xfrm rot="17973000">
            <a:off x="4563000" y="2539440"/>
            <a:ext cx="791640" cy="288720"/>
          </a:xfrm>
          <a:prstGeom prst="rightArrow">
            <a:avLst>
              <a:gd name="adj1" fmla="val 35167"/>
              <a:gd name="adj2" fmla="val 11102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58" name="AutoShape 4"/>
          <p:cNvSpPr/>
          <p:nvPr/>
        </p:nvSpPr>
        <p:spPr>
          <a:xfrm rot="3465600">
            <a:off x="4613040" y="4647960"/>
            <a:ext cx="793440" cy="288720"/>
          </a:xfrm>
          <a:prstGeom prst="rightArrow">
            <a:avLst>
              <a:gd name="adj1" fmla="val 35167"/>
              <a:gd name="adj2" fmla="val 11125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59" name="AutoShape 5"/>
          <p:cNvSpPr/>
          <p:nvPr/>
        </p:nvSpPr>
        <p:spPr>
          <a:xfrm rot="14368800">
            <a:off x="3394800" y="2561760"/>
            <a:ext cx="791640" cy="288720"/>
          </a:xfrm>
          <a:prstGeom prst="rightArrow">
            <a:avLst>
              <a:gd name="adj1" fmla="val 35167"/>
              <a:gd name="adj2" fmla="val 11102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0" name="AutoShape 6"/>
          <p:cNvSpPr/>
          <p:nvPr/>
        </p:nvSpPr>
        <p:spPr>
          <a:xfrm rot="7535400">
            <a:off x="3357000" y="4615200"/>
            <a:ext cx="791640" cy="288720"/>
          </a:xfrm>
          <a:prstGeom prst="rightArrow">
            <a:avLst>
              <a:gd name="adj1" fmla="val 35167"/>
              <a:gd name="adj2" fmla="val 11102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194440" y="3611520"/>
            <a:ext cx="791640" cy="288720"/>
          </a:xfrm>
          <a:prstGeom prst="rightArrow">
            <a:avLst>
              <a:gd name="adj1" fmla="val 35167"/>
              <a:gd name="adj2" fmla="val 11102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2" name="AutoShape 8"/>
          <p:cNvSpPr/>
          <p:nvPr/>
        </p:nvSpPr>
        <p:spPr>
          <a:xfrm rot="10800000">
            <a:off x="2784960" y="3605400"/>
            <a:ext cx="863280" cy="288720"/>
          </a:xfrm>
          <a:prstGeom prst="rightArrow">
            <a:avLst>
              <a:gd name="adj1" fmla="val 35167"/>
              <a:gd name="adj2" fmla="val 12104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3" name="Oval 9"/>
          <p:cNvSpPr/>
          <p:nvPr/>
        </p:nvSpPr>
        <p:spPr>
          <a:xfrm>
            <a:off x="2505240" y="1854360"/>
            <a:ext cx="3742920" cy="3744720"/>
          </a:xfrm>
          <a:prstGeom prst="ellipse">
            <a:avLst/>
          </a:prstGeom>
          <a:noFill/>
          <a:ln w="3810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5572800" y="182880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1683360" y="182880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487200" y="358128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5572800" y="518148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768960" y="358128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1607400" y="5119560"/>
            <a:ext cx="15314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6"/>
          <p:cNvSpPr/>
          <p:nvPr/>
        </p:nvSpPr>
        <p:spPr>
          <a:xfrm>
            <a:off x="2362320" y="363204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1" name="Oval 17"/>
          <p:cNvSpPr/>
          <p:nvPr/>
        </p:nvSpPr>
        <p:spPr>
          <a:xfrm>
            <a:off x="3276720" y="198108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2" name="Oval 18"/>
          <p:cNvSpPr/>
          <p:nvPr/>
        </p:nvSpPr>
        <p:spPr>
          <a:xfrm>
            <a:off x="5181480" y="198108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3" name="Oval 19"/>
          <p:cNvSpPr/>
          <p:nvPr/>
        </p:nvSpPr>
        <p:spPr>
          <a:xfrm>
            <a:off x="3200400" y="518148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4" name="Oval 20"/>
          <p:cNvSpPr/>
          <p:nvPr/>
        </p:nvSpPr>
        <p:spPr>
          <a:xfrm>
            <a:off x="5181480" y="518148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5" name="Oval 21"/>
          <p:cNvSpPr/>
          <p:nvPr/>
        </p:nvSpPr>
        <p:spPr>
          <a:xfrm>
            <a:off x="6095880" y="3619440"/>
            <a:ext cx="304560" cy="304560"/>
          </a:xfrm>
          <a:prstGeom prst="ellipse">
            <a:avLst/>
          </a:prstGeom>
          <a:gradFill rotWithShape="0">
            <a:gsLst>
              <a:gs pos="0">
                <a:srgbClr val="bcd795"/>
              </a:gs>
              <a:gs pos="100000">
                <a:srgbClr val="77ae26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76" name="Text Box 32"/>
          <p:cNvSpPr/>
          <p:nvPr/>
        </p:nvSpPr>
        <p:spPr>
          <a:xfrm>
            <a:off x="4030920" y="3560760"/>
            <a:ext cx="74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29"/>
          <p:cNvGrpSpPr/>
          <p:nvPr/>
        </p:nvGrpSpPr>
        <p:grpSpPr>
          <a:xfrm>
            <a:off x="3142800" y="2801160"/>
            <a:ext cx="1906200" cy="1906200"/>
            <a:chOff x="3142800" y="2801160"/>
            <a:chExt cx="1906200" cy="1906200"/>
          </a:xfrm>
        </p:grpSpPr>
        <p:sp>
          <p:nvSpPr>
            <p:cNvPr id="278" name="弦形 30"/>
            <p:cNvSpPr/>
            <p:nvPr/>
          </p:nvSpPr>
          <p:spPr>
            <a:xfrm rot="1539600">
              <a:off x="3381480" y="3039840"/>
              <a:ext cx="1428480" cy="1428480"/>
            </a:xfrm>
            <a:prstGeom prst="chord">
              <a:avLst>
                <a:gd name="adj1" fmla="val 5445557"/>
                <a:gd name="adj2" fmla="val 16200000"/>
              </a:avLst>
            </a:prstGeom>
            <a:gradFill rotWithShape="0">
              <a:gsLst>
                <a:gs pos="0">
                  <a:srgbClr val="bf0000"/>
                </a:gs>
                <a:gs pos="100000">
                  <a:srgbClr val="710000"/>
                </a:gs>
              </a:gsLst>
              <a:lin ang="13500000"/>
            </a:gra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79" name="椭圆 31"/>
            <p:cNvSpPr/>
            <p:nvPr/>
          </p:nvSpPr>
          <p:spPr>
            <a:xfrm rot="1539600">
              <a:off x="4062240" y="324648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0" name="椭圆 32"/>
            <p:cNvSpPr/>
            <p:nvPr/>
          </p:nvSpPr>
          <p:spPr>
            <a:xfrm rot="1539600">
              <a:off x="3647520" y="328500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1" name="椭圆 33"/>
            <p:cNvSpPr/>
            <p:nvPr/>
          </p:nvSpPr>
          <p:spPr>
            <a:xfrm rot="1539600">
              <a:off x="3753000" y="389052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2" name="椭圆 34"/>
            <p:cNvSpPr/>
            <p:nvPr/>
          </p:nvSpPr>
          <p:spPr>
            <a:xfrm rot="1539600">
              <a:off x="3397320" y="364032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83" name="组合 35"/>
          <p:cNvGrpSpPr/>
          <p:nvPr/>
        </p:nvGrpSpPr>
        <p:grpSpPr>
          <a:xfrm>
            <a:off x="3787560" y="2787480"/>
            <a:ext cx="1933920" cy="1932840"/>
            <a:chOff x="3787560" y="2787480"/>
            <a:chExt cx="1933920" cy="1932840"/>
          </a:xfrm>
        </p:grpSpPr>
        <p:sp>
          <p:nvSpPr>
            <p:cNvPr id="284" name="弦形 36"/>
            <p:cNvSpPr/>
            <p:nvPr/>
          </p:nvSpPr>
          <p:spPr>
            <a:xfrm flipV="1" rot="9102600">
              <a:off x="4040280" y="3040200"/>
              <a:ext cx="1428480" cy="1426320"/>
            </a:xfrm>
            <a:prstGeom prst="chord">
              <a:avLst>
                <a:gd name="adj1" fmla="val 5445557"/>
                <a:gd name="adj2" fmla="val 16200000"/>
              </a:avLst>
            </a:prstGeom>
            <a:gradFill rotWithShape="0">
              <a:gsLst>
                <a:gs pos="0">
                  <a:srgbClr val="bf0000"/>
                </a:gs>
                <a:gs pos="100000">
                  <a:srgbClr val="710000"/>
                </a:gs>
              </a:gsLst>
              <a:lin ang="13500000"/>
            </a:gra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5" name="椭圆 37"/>
            <p:cNvSpPr/>
            <p:nvPr/>
          </p:nvSpPr>
          <p:spPr>
            <a:xfrm flipV="1" rot="9102600">
              <a:off x="4556160" y="324972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6" name="椭圆 38"/>
            <p:cNvSpPr/>
            <p:nvPr/>
          </p:nvSpPr>
          <p:spPr>
            <a:xfrm flipV="1" rot="9102600">
              <a:off x="4971960" y="326880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椭圆 39"/>
            <p:cNvSpPr/>
            <p:nvPr/>
          </p:nvSpPr>
          <p:spPr>
            <a:xfrm flipV="1" rot="9102600">
              <a:off x="4894200" y="387792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88" name="椭圆 40"/>
            <p:cNvSpPr/>
            <p:nvPr/>
          </p:nvSpPr>
          <p:spPr>
            <a:xfrm flipV="1" rot="9102600">
              <a:off x="5238000" y="361188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525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5957640" cy="56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buNone/>
            </a:pPr>
            <a:endParaRPr b="1" lang="en-US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290" name="Group 31"/>
          <p:cNvGrpSpPr/>
          <p:nvPr/>
        </p:nvGrpSpPr>
        <p:grpSpPr>
          <a:xfrm>
            <a:off x="1715760" y="1785960"/>
            <a:ext cx="5179680" cy="4495320"/>
            <a:chOff x="1715760" y="1785960"/>
            <a:chExt cx="5179680" cy="4495320"/>
          </a:xfrm>
        </p:grpSpPr>
        <p:sp>
          <p:nvSpPr>
            <p:cNvPr id="291" name="Rectangle 32"/>
            <p:cNvSpPr/>
            <p:nvPr/>
          </p:nvSpPr>
          <p:spPr>
            <a:xfrm rot="13770000">
              <a:off x="4770720" y="3962880"/>
              <a:ext cx="85680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917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 rot="20856000">
              <a:off x="2900520" y="3562560"/>
              <a:ext cx="941400" cy="153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4656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3" name="Rectangle 34"/>
            <p:cNvSpPr/>
            <p:nvPr/>
          </p:nvSpPr>
          <p:spPr>
            <a:xfrm rot="18394800">
              <a:off x="4866840" y="2586240"/>
              <a:ext cx="560160" cy="1155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19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94" name="Group 40"/>
            <p:cNvGrpSpPr/>
            <p:nvPr/>
          </p:nvGrpSpPr>
          <p:grpSpPr>
            <a:xfrm>
              <a:off x="5057280" y="1785960"/>
              <a:ext cx="909720" cy="769680"/>
              <a:chOff x="5057280" y="1785960"/>
              <a:chExt cx="909720" cy="769680"/>
            </a:xfrm>
          </p:grpSpPr>
          <p:grpSp>
            <p:nvGrpSpPr>
              <p:cNvPr id="295" name="Group 41"/>
              <p:cNvGrpSpPr/>
              <p:nvPr/>
            </p:nvGrpSpPr>
            <p:grpSpPr>
              <a:xfrm>
                <a:off x="5087880" y="1785960"/>
                <a:ext cx="810720" cy="769680"/>
                <a:chOff x="5087880" y="1785960"/>
                <a:chExt cx="810720" cy="769680"/>
              </a:xfrm>
            </p:grpSpPr>
            <p:sp>
              <p:nvSpPr>
                <p:cNvPr id="296" name="Oval 42"/>
                <p:cNvSpPr/>
                <p:nvPr/>
              </p:nvSpPr>
              <p:spPr>
                <a:xfrm>
                  <a:off x="5087880" y="1785960"/>
                  <a:ext cx="81072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102131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297" name="Freeform 43"/>
                <p:cNvSpPr/>
                <p:nvPr/>
              </p:nvSpPr>
              <p:spPr>
                <a:xfrm>
                  <a:off x="5179320" y="1798920"/>
                  <a:ext cx="626040" cy="289800"/>
                </a:xfrm>
                <a:custGeom>
                  <a:avLst/>
                  <a:gdLst>
                    <a:gd name="textAreaLeft" fmla="*/ 0 w 626040"/>
                    <a:gd name="textAreaRight" fmla="*/ 626400 w 62604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8a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298" name="Text Box 44"/>
              <p:cNvSpPr/>
              <p:nvPr/>
            </p:nvSpPr>
            <p:spPr>
              <a:xfrm>
                <a:off x="5057280" y="2082960"/>
                <a:ext cx="909720" cy="3027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45"/>
            <p:cNvGrpSpPr/>
            <p:nvPr/>
          </p:nvGrpSpPr>
          <p:grpSpPr>
            <a:xfrm>
              <a:off x="1715760" y="2910240"/>
              <a:ext cx="1620360" cy="1600200"/>
              <a:chOff x="1715760" y="2910240"/>
              <a:chExt cx="1620360" cy="1600200"/>
            </a:xfrm>
          </p:grpSpPr>
          <p:grpSp>
            <p:nvGrpSpPr>
              <p:cNvPr id="300" name="Group 46"/>
              <p:cNvGrpSpPr/>
              <p:nvPr/>
            </p:nvGrpSpPr>
            <p:grpSpPr>
              <a:xfrm>
                <a:off x="1715760" y="2910240"/>
                <a:ext cx="1620360" cy="1600200"/>
                <a:chOff x="1715760" y="2910240"/>
                <a:chExt cx="1620360" cy="1600200"/>
              </a:xfrm>
            </p:grpSpPr>
            <p:sp>
              <p:nvSpPr>
                <p:cNvPr id="301" name="Oval 47"/>
                <p:cNvSpPr/>
                <p:nvPr/>
              </p:nvSpPr>
              <p:spPr>
                <a:xfrm>
                  <a:off x="1715760" y="2910240"/>
                  <a:ext cx="1620360" cy="160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4b6e18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>
                  <a:off x="1901520" y="2937960"/>
                  <a:ext cx="1252440" cy="603000"/>
                </a:xfrm>
                <a:custGeom>
                  <a:avLst/>
                  <a:gdLst>
                    <a:gd name="textAreaLeft" fmla="*/ 0 w 1252440"/>
                    <a:gd name="textAreaRight" fmla="*/ 1252800 w 1252440"/>
                    <a:gd name="textAreaTop" fmla="*/ 0 h 603000"/>
                    <a:gd name="textAreaBottom" fmla="*/ 603360 h 6030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303" name="Text Box 49"/>
              <p:cNvSpPr/>
              <p:nvPr/>
            </p:nvSpPr>
            <p:spPr>
              <a:xfrm>
                <a:off x="1748160" y="3620880"/>
                <a:ext cx="15436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50"/>
            <p:cNvGrpSpPr/>
            <p:nvPr/>
          </p:nvGrpSpPr>
          <p:grpSpPr>
            <a:xfrm>
              <a:off x="5023080" y="4094280"/>
              <a:ext cx="1872360" cy="1777680"/>
              <a:chOff x="5023080" y="4094280"/>
              <a:chExt cx="1872360" cy="1777680"/>
            </a:xfrm>
          </p:grpSpPr>
          <p:grpSp>
            <p:nvGrpSpPr>
              <p:cNvPr id="305" name="Group 51"/>
              <p:cNvGrpSpPr/>
              <p:nvPr/>
            </p:nvGrpSpPr>
            <p:grpSpPr>
              <a:xfrm>
                <a:off x="5023080" y="4094280"/>
                <a:ext cx="1872360" cy="1777680"/>
                <a:chOff x="5023080" y="4094280"/>
                <a:chExt cx="1872360" cy="1777680"/>
              </a:xfrm>
            </p:grpSpPr>
            <p:sp>
              <p:nvSpPr>
                <p:cNvPr id="306" name="Oval 52"/>
                <p:cNvSpPr/>
                <p:nvPr/>
              </p:nvSpPr>
              <p:spPr>
                <a:xfrm>
                  <a:off x="5023080" y="4094280"/>
                  <a:ext cx="1872360" cy="177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224e3d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7" name="Freeform 53"/>
                <p:cNvSpPr/>
                <p:nvPr/>
              </p:nvSpPr>
              <p:spPr>
                <a:xfrm>
                  <a:off x="5237280" y="4123800"/>
                  <a:ext cx="1444320" cy="669960"/>
                </a:xfrm>
                <a:custGeom>
                  <a:avLst/>
                  <a:gdLst>
                    <a:gd name="textAreaLeft" fmla="*/ 0 w 1444320"/>
                    <a:gd name="textAreaRight" fmla="*/ 1444680 w 1444320"/>
                    <a:gd name="textAreaTop" fmla="*/ 0 h 669960"/>
                    <a:gd name="textAreaBottom" fmla="*/ 670320 h 6699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49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308" name="Text Box 54"/>
              <p:cNvSpPr/>
              <p:nvPr/>
            </p:nvSpPr>
            <p:spPr>
              <a:xfrm>
                <a:off x="5236920" y="4863600"/>
                <a:ext cx="160128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Oval 55"/>
            <p:cNvSpPr/>
            <p:nvPr/>
          </p:nvSpPr>
          <p:spPr>
            <a:xfrm>
              <a:off x="1901880" y="4567680"/>
              <a:ext cx="1318320" cy="411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10" name="Oval 56"/>
            <p:cNvSpPr/>
            <p:nvPr/>
          </p:nvSpPr>
          <p:spPr>
            <a:xfrm>
              <a:off x="3899520" y="4037400"/>
              <a:ext cx="1319760" cy="411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Oval 57"/>
            <p:cNvSpPr/>
            <p:nvPr/>
          </p:nvSpPr>
          <p:spPr>
            <a:xfrm>
              <a:off x="5335200" y="5869800"/>
              <a:ext cx="1318320" cy="411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12" name="Oval 58"/>
            <p:cNvSpPr/>
            <p:nvPr/>
          </p:nvSpPr>
          <p:spPr>
            <a:xfrm>
              <a:off x="5210640" y="2614680"/>
              <a:ext cx="604440" cy="205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13" name="Picture 2"/>
          <p:cNvSpPr/>
          <p:nvPr/>
        </p:nvSpPr>
        <p:spPr>
          <a:xfrm>
            <a:off x="3929040" y="2928960"/>
            <a:ext cx="1199880" cy="799920"/>
          </a:xfrm>
          <a:prstGeom prst="roundRect">
            <a:avLst>
              <a:gd name="adj" fmla="val 25261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2"/>
          <p:cNvSpPr/>
          <p:nvPr/>
        </p:nvSpPr>
        <p:spPr>
          <a:xfrm>
            <a:off x="2088000" y="4929120"/>
            <a:ext cx="48049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2"/>
                </a:solidFill>
                <a:latin typeface="Cooper Black"/>
              </a:rPr>
              <a:t>Thank you</a:t>
            </a:r>
            <a:r>
              <a:rPr b="1" lang="zh-CN" sz="6000" spc="-1" strike="noStrike">
                <a:solidFill>
                  <a:schemeClr val="accent2"/>
                </a:solidFill>
                <a:latin typeface="Cooper Black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5"/>
          <p:cNvSpPr/>
          <p:nvPr/>
        </p:nvSpPr>
        <p:spPr>
          <a:xfrm>
            <a:off x="1909440" y="18864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251640" y="6381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13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en-US" sz="1050" spc="-1" strike="noStrike" u="sng">
                <a:solidFill>
                  <a:srgbClr val="449878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449878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13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0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52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13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1" lang="en-US" sz="113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3"/>
              </a:rPr>
              <a:t>幻灯片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                      </a:t>
            </a: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4"/>
              </a:rPr>
              <a:t>ppt背景图片素材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beijing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5"/>
              </a:rPr>
              <a:t>ppt动态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dongtai/           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6"/>
              </a:rPr>
              <a:t>通用ppt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tongyong/ 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7"/>
              </a:rPr>
              <a:t>ppt 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                       </a:t>
            </a: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8"/>
              </a:rPr>
              <a:t>ppt设计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chuangyi/  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9"/>
              </a:rPr>
              <a:t>ppt模板素材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sucai/                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0"/>
              </a:rPr>
              <a:t>毕业答辩ppt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dabian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1"/>
              </a:rPr>
              <a:t>企业文化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qiye/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2"/>
              </a:rPr>
              <a:t>月工作总结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gongzuo/  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3"/>
              </a:rPr>
              <a:t>商务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shangwu/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4"/>
              </a:rPr>
              <a:t>精品ppt模板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jingpin/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15"/>
              </a:rPr>
              <a:t>ppt课件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kejian/    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6"/>
              </a:rPr>
              <a:t>中国风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zhongguofeng/ 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7"/>
              </a:rPr>
              <a:t>活动策划方案ppt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yingxiao/   </a:t>
            </a:r>
            <a:r>
              <a:rPr b="1" lang="en-US" sz="980" spc="-1" strike="noStrike" u="sng">
                <a:solidFill>
                  <a:srgbClr val="449878"/>
                </a:solidFill>
                <a:uFillTx/>
                <a:latin typeface="Verdana"/>
                <a:hlinkClick r:id="rId18"/>
              </a:rPr>
              <a:t>ppt免费下载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mianfei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19"/>
              </a:rPr>
              <a:t>工业制造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gongye/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0"/>
              </a:rPr>
              <a:t>会议报告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huiyi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1"/>
              </a:rPr>
              <a:t>交通安全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jiaotong/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2"/>
              </a:rPr>
              <a:t>教育培训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3"/>
              </a:rPr>
              <a:t>卡通动漫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katong/   </a:t>
            </a:r>
            <a:r>
              <a:rPr b="1" lang="zh-CN" sz="980" spc="-1" strike="noStrike" u="sng">
                <a:solidFill>
                  <a:srgbClr val="449878"/>
                </a:solidFill>
                <a:uFillTx/>
                <a:latin typeface="Verdana"/>
                <a:hlinkClick r:id="rId24"/>
              </a:rPr>
              <a:t>体育运动ppt模板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en-US" sz="980" spc="-1" strike="noStrike">
                <a:solidFill>
                  <a:srgbClr val="ededed"/>
                </a:solidFill>
                <a:latin typeface="Verdana"/>
              </a:rPr>
              <a:t>http://www.eeppt.com/moban/yundong/</a:t>
            </a: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1" lang="en-US" sz="98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1" lang="en-US" sz="9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1" lang="en-US" sz="75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33">
  <a:themeElements>
    <a:clrScheme name="sample 1">
      <a:dk1>
        <a:srgbClr val="4d4d4d"/>
      </a:dk1>
      <a:lt1>
        <a:srgbClr val="ffffff"/>
      </a:lt1>
      <a:dk2>
        <a:srgbClr val="51a0b9"/>
      </a:dk2>
      <a:lt2>
        <a:srgbClr val="dddddd"/>
      </a:lt2>
      <a:accent1>
        <a:srgbClr val="438acb"/>
      </a:accent1>
      <a:accent2>
        <a:srgbClr val="77ae26"/>
      </a:accent2>
      <a:accent3>
        <a:srgbClr val="ffffff"/>
      </a:accent3>
      <a:accent4>
        <a:srgbClr val="404040"/>
      </a:accent4>
      <a:accent5>
        <a:srgbClr val="b0c4e2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33">
  <a:themeElements>
    <a:clrScheme name="sample 1">
      <a:dk1>
        <a:srgbClr val="4d4d4d"/>
      </a:dk1>
      <a:lt1>
        <a:srgbClr val="ffffff"/>
      </a:lt1>
      <a:dk2>
        <a:srgbClr val="51a0b9"/>
      </a:dk2>
      <a:lt2>
        <a:srgbClr val="dddddd"/>
      </a:lt2>
      <a:accent1>
        <a:srgbClr val="438acb"/>
      </a:accent1>
      <a:accent2>
        <a:srgbClr val="77ae26"/>
      </a:accent2>
      <a:accent3>
        <a:srgbClr val="ffffff"/>
      </a:accent3>
      <a:accent4>
        <a:srgbClr val="404040"/>
      </a:accent4>
      <a:accent5>
        <a:srgbClr val="b0c4e2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3">
  <a:themeElements>
    <a:clrScheme name="sample 1">
      <a:dk1>
        <a:srgbClr val="4d4d4d"/>
      </a:dk1>
      <a:lt1>
        <a:srgbClr val="ffffff"/>
      </a:lt1>
      <a:dk2>
        <a:srgbClr val="51a0b9"/>
      </a:dk2>
      <a:lt2>
        <a:srgbClr val="dddddd"/>
      </a:lt2>
      <a:accent1>
        <a:srgbClr val="438acb"/>
      </a:accent1>
      <a:accent2>
        <a:srgbClr val="77ae26"/>
      </a:accent2>
      <a:accent3>
        <a:srgbClr val="ffffff"/>
      </a:accent3>
      <a:accent4>
        <a:srgbClr val="404040"/>
      </a:accent4>
      <a:accent5>
        <a:srgbClr val="b0c4e2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3">
  <a:themeElements>
    <a:clrScheme name="sample 1">
      <a:dk1>
        <a:srgbClr val="4d4d4d"/>
      </a:dk1>
      <a:lt1>
        <a:srgbClr val="ffffff"/>
      </a:lt1>
      <a:dk2>
        <a:srgbClr val="51a0b9"/>
      </a:dk2>
      <a:lt2>
        <a:srgbClr val="dddddd"/>
      </a:lt2>
      <a:accent1>
        <a:srgbClr val="438acb"/>
      </a:accent1>
      <a:accent2>
        <a:srgbClr val="77ae26"/>
      </a:accent2>
      <a:accent3>
        <a:srgbClr val="ffffff"/>
      </a:accent3>
      <a:accent4>
        <a:srgbClr val="404040"/>
      </a:accent4>
      <a:accent5>
        <a:srgbClr val="b0c4e2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33</Template>
  <TotalTime>123</TotalTime>
  <Application>LibreOffice/7.4.7.2$Linux_X86_64 LibreOffice_project/40$Build-2</Application>
  <AppVersion>15.0000</AppVersion>
  <Words>63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50Z</dcterms:created>
  <dc:creator>符号</dc:creator>
  <dc:description/>
  <dc:language>en-US</dc:language>
  <cp:lastModifiedBy>yu wang</cp:lastModifiedBy>
  <dcterms:modified xsi:type="dcterms:W3CDTF">2015-08-08T10:07:22Z</dcterms:modified>
  <cp:revision>24</cp:revision>
  <dc:subject/>
  <dc:title>10月工作总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