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D2FB-4196-45DA-98D2-D2DF362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B09-19BC-40D8-B5F4-1BB1E6B0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186-58F3-41E5-BC04-ABC63A83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D15-F379-4EE4-BC66-A782B9EC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016-9AAE-4D34-9E4D-02CAADC1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E390-0D62-4937-A198-EECFF67A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82E6-8030-4014-B15F-6CDAF99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BA28-1CAE-47CB-9C08-F7AC6FA7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AFF7-7140-4157-A3A6-5ADBF2E1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22F2-98DA-4C76-80BF-52ABECA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961-4365-4B93-BD0F-5B696D68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D1B-57AB-45CC-A56C-BA0C102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9FDC-6E5B-463B-9A6F-83DC983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6B25-650E-4B04-81A2-F83F993B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5574-294C-4E73-9F2A-9BA4C05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243-2CCF-4CE6-9854-096ACBD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056C-77D6-45C6-A535-F12C5315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4F03-9D78-49B7-A002-4A6C5C8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437D-61C8-4FBA-8D88-8DA5BF13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C2CE-262B-4F87-A802-08EBC95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E9F8-8883-4F18-BEE0-6C8DA2EE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635A-509C-453B-90ED-71F3E5CF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E52-313F-4CDE-84A5-24510BD2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8268-AD5A-447D-9908-BF69842A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4E563-BA7F-4454-8B93-24795AF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28A5-F55D-4E97-9ED9-B8C4E409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4F8A-B642-4CAE-AA7F-71E328A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B0C1-1A99-4FDE-B38C-9FB6BD2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2799-454C-44FF-B991-834703F7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B26A-DCED-45C1-8ACB-EB833D1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4D5-7605-46F3-B8FB-CE709915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8CD-128C-42CF-85B1-0354A7C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BF20-D8C8-4BB9-8F85-3EBA7BD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B44-62E5-441D-874D-496371E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4A0-A605-48B9-9B4E-24818282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EB4-7B86-4FBB-A50B-C7848E6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18B55-04D2-4D52-A669-8F348D9053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30ECF3-BC5A-440F-97E9-6CF0E4879B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9C1D8-2A41-4E54-B725-485B086F86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828000" y="2286000"/>
            <a:ext cx="432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048760" y="318168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拼接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316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133720" y="1590840"/>
            <a:ext cx="4952520" cy="45684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828800" y="1471680"/>
            <a:ext cx="685440" cy="685440"/>
          </a:xfrm>
          <a:prstGeom prst="diamond">
            <a:avLst/>
          </a:prstGeom>
          <a:solidFill>
            <a:srgbClr val="74a1de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666880" y="164628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991880" y="156996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2133720" y="242892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828800" y="2309760"/>
            <a:ext cx="685440" cy="685440"/>
          </a:xfrm>
          <a:prstGeom prst="diamond">
            <a:avLst/>
          </a:prstGeom>
          <a:solidFill>
            <a:schemeClr val="accent2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666880" y="248436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991880" y="240840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2133720" y="326700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828800" y="3148200"/>
            <a:ext cx="685440" cy="685440"/>
          </a:xfrm>
          <a:prstGeom prst="diamond">
            <a:avLst/>
          </a:prstGeom>
          <a:solidFill>
            <a:schemeClr val="accent1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666880" y="332280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91880" y="324648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2131920" y="4148280"/>
            <a:ext cx="4952520" cy="456840"/>
          </a:xfrm>
          <a:prstGeom prst="roundRect">
            <a:avLst>
              <a:gd name="adj" fmla="val 16667"/>
            </a:avLst>
          </a:prstGeom>
          <a:solidFill>
            <a:schemeClr val="folHlink"/>
          </a:solidFill>
          <a:ln w="28575">
            <a:solidFill>
              <a:srgbClr val="ffffff"/>
            </a:solidFill>
            <a:round/>
          </a:ln>
          <a:effectLst>
            <a:outerShdw algn="ctr" dir="2700000" dist="71785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1827360" y="4029120"/>
            <a:ext cx="685440" cy="685440"/>
          </a:xfrm>
          <a:prstGeom prst="diamond">
            <a:avLst/>
          </a:prstGeom>
          <a:solidFill>
            <a:schemeClr val="folHlink"/>
          </a:solidFill>
          <a:ln w="25400">
            <a:solidFill>
              <a:srgbClr val="ffffff"/>
            </a:solidFill>
            <a:miter/>
          </a:ln>
          <a:effectLst>
            <a:outerShdw algn="ctr" dist="7632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665440" y="4203720"/>
            <a:ext cx="4114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990440" y="4127400"/>
            <a:ext cx="335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"/>
          <p:cNvSpPr/>
          <p:nvPr/>
        </p:nvSpPr>
        <p:spPr>
          <a:xfrm>
            <a:off x="4670280" y="228600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f0a22e"/>
            </a:solidFill>
            <a:round/>
          </a:ln>
          <a:effectLst>
            <a:outerShdw algn="ctr" dir="27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143000" y="2286000"/>
            <a:ext cx="3352320" cy="2285640"/>
          </a:xfrm>
          <a:prstGeom prst="roundRect">
            <a:avLst>
              <a:gd name="adj" fmla="val 10347"/>
            </a:avLst>
          </a:prstGeom>
          <a:solidFill>
            <a:schemeClr val="bg1"/>
          </a:solidFill>
          <a:ln w="50800">
            <a:solidFill>
              <a:srgbClr val="ffc42f"/>
            </a:solidFill>
            <a:round/>
          </a:ln>
          <a:effectLst>
            <a:outerShdw algn="ctr" dir="8100000" dist="107423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3733920" y="1447920"/>
            <a:ext cx="790200" cy="1976040"/>
            <a:chOff x="3733920" y="1447920"/>
            <a:chExt cx="790200" cy="1976040"/>
          </a:xfrm>
        </p:grpSpPr>
        <p:sp>
          <p:nvSpPr>
            <p:cNvPr id="147" name="Freeform 6"/>
            <p:cNvSpPr/>
            <p:nvPr/>
          </p:nvSpPr>
          <p:spPr>
            <a:xfrm>
              <a:off x="3925800" y="144792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3733920" y="189396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fol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371600" y="2514600"/>
            <a:ext cx="2437920" cy="11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080" y="2514600"/>
            <a:ext cx="25905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4648320" y="1447920"/>
            <a:ext cx="790200" cy="1976040"/>
            <a:chOff x="4648320" y="1447920"/>
            <a:chExt cx="790200" cy="1976040"/>
          </a:xfrm>
        </p:grpSpPr>
        <p:sp>
          <p:nvSpPr>
            <p:cNvPr id="152" name="Freeform 11"/>
            <p:cNvSpPr/>
            <p:nvPr/>
          </p:nvSpPr>
          <p:spPr>
            <a:xfrm>
              <a:off x="4840200" y="1447920"/>
              <a:ext cx="369360" cy="4028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4648320" y="1893960"/>
              <a:ext cx="790200" cy="1530000"/>
            </a:xfrm>
            <a:custGeom>
              <a:avLst/>
              <a:gdLst>
                <a:gd name="textAreaLeft" fmla="*/ 0 w 790200"/>
                <a:gd name="textAreaRight" fmla="*/ 790560 w 790200"/>
                <a:gd name="textAreaTop" fmla="*/ 0 h 1530000"/>
                <a:gd name="textAreaBottom" fmla="*/ 1530360 h 15300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4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56" name="AutoShape 5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57" name="AutoShape 6"/>
          <p:cNvCxnSpPr/>
          <p:nvPr/>
        </p:nvCxnSpPr>
        <p:spPr>
          <a:xfrm flipH="1" flipV="1">
            <a:off x="4539960" y="1101600"/>
            <a:ext cx="5400" cy="441720"/>
          </a:xfrm>
          <a:prstGeom prst="straightConnector1">
            <a:avLst/>
          </a:prstGeom>
          <a:ln w="9525">
            <a:noFill/>
          </a:ln>
        </p:spPr>
      </p:cxnSp>
      <p:sp>
        <p:nvSpPr>
          <p:cNvPr id="158" name="AutoShape 7"/>
          <p:cNvSpPr/>
          <p:nvPr/>
        </p:nvSpPr>
        <p:spPr>
          <a:xfrm>
            <a:off x="6194520" y="1987560"/>
            <a:ext cx="20127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274920" y="1971720"/>
            <a:ext cx="196164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33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5446800" y="1255680"/>
            <a:ext cx="205236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c6c8c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10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2" name="AutoShape 11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3" name="AutoShape 12"/>
          <p:cNvCxnSpPr>
            <a:stCxn id="160" idx="2"/>
          </p:cNvCxnSpPr>
          <p:nvPr/>
        </p:nvCxnSpPr>
        <p:spPr>
          <a:xfrm flipH="1" flipV="1">
            <a:off x="6468840" y="1225440"/>
            <a:ext cx="5040" cy="441720"/>
          </a:xfrm>
          <a:prstGeom prst="straightConnector1">
            <a:avLst/>
          </a:prstGeom>
          <a:ln w="9525">
            <a:noFill/>
          </a:ln>
        </p:spPr>
      </p:cxnSp>
      <p:cxnSp>
        <p:nvCxnSpPr>
          <p:cNvPr id="164" name="AutoShape 13"/>
          <p:cNvCxnSpPr/>
          <p:nvPr/>
        </p:nvCxnSpPr>
        <p:spPr>
          <a:xfrm>
            <a:off x="6792840" y="110160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cxnSp>
        <p:nvCxnSpPr>
          <p:cNvPr id="165" name="AutoShape 14"/>
          <p:cNvCxnSpPr/>
          <p:nvPr/>
        </p:nvCxnSpPr>
        <p:spPr>
          <a:xfrm>
            <a:off x="6792840" y="1101600"/>
            <a:ext cx="360" cy="360"/>
          </a:xfrm>
          <a:prstGeom prst="straightConnector1">
            <a:avLst/>
          </a:prstGeom>
          <a:ln w="9525">
            <a:solidFill>
              <a:srgbClr val="969696"/>
            </a:solidFill>
            <a:round/>
          </a:ln>
        </p:spPr>
      </p:cxnSp>
      <p:sp>
        <p:nvSpPr>
          <p:cNvPr id="166" name="AutoShape 15"/>
          <p:cNvSpPr/>
          <p:nvPr/>
        </p:nvSpPr>
        <p:spPr>
          <a:xfrm>
            <a:off x="884160" y="304632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2373480" y="303696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7"/>
          <p:cNvSpPr/>
          <p:nvPr/>
        </p:nvSpPr>
        <p:spPr>
          <a:xfrm>
            <a:off x="3871800" y="3036960"/>
            <a:ext cx="13744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8"/>
          <p:cNvSpPr/>
          <p:nvPr/>
        </p:nvSpPr>
        <p:spPr>
          <a:xfrm>
            <a:off x="5361120" y="302724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2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9"/>
          <p:cNvSpPr/>
          <p:nvPr/>
        </p:nvSpPr>
        <p:spPr>
          <a:xfrm>
            <a:off x="6850080" y="3036960"/>
            <a:ext cx="1372680" cy="17395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>
                  <a:alpha val="30196"/>
                </a:srgbClr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c0c0c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Gulim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235440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386244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330880" y="299880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6819840" y="2998800"/>
            <a:ext cx="14094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>
            <a:off x="865080" y="2998800"/>
            <a:ext cx="1407600" cy="41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9525">
            <a:noFill/>
          </a:ln>
          <a:scene3d>
            <a:camera prst="legacyObliqueTopRight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5d98b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1990800" y="2720880"/>
            <a:ext cx="5952600" cy="37800"/>
          </a:xfrm>
          <a:custGeom>
            <a:avLst/>
            <a:gdLst>
              <a:gd name="textAreaLeft" fmla="*/ 0 w 5952600"/>
              <a:gd name="textAreaRight" fmla="*/ 5952960 w 59526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525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AutoShape 26"/>
          <p:cNvCxnSpPr>
            <a:stCxn id="175" idx="0"/>
            <a:endCxn id="176" idx="0"/>
          </p:cNvCxnSpPr>
          <p:nvPr/>
        </p:nvCxnSpPr>
        <p:spPr>
          <a:xfrm flipV="1">
            <a:off x="1569960" y="2720880"/>
            <a:ext cx="420840" cy="27828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78" name="AutoShape 27"/>
          <p:cNvCxnSpPr>
            <a:stCxn id="171" idx="0"/>
            <a:endCxn id="176" idx="1"/>
          </p:cNvCxnSpPr>
          <p:nvPr/>
        </p:nvCxnSpPr>
        <p:spPr>
          <a:xfrm flipV="1">
            <a:off x="3058920" y="2739960"/>
            <a:ext cx="4179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79" name="AutoShape 28"/>
          <p:cNvCxnSpPr>
            <a:stCxn id="172" idx="0"/>
            <a:endCxn id="176" idx="2"/>
          </p:cNvCxnSpPr>
          <p:nvPr/>
        </p:nvCxnSpPr>
        <p:spPr>
          <a:xfrm flipV="1">
            <a:off x="4566960" y="2739960"/>
            <a:ext cx="40536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0" name="AutoShape 29"/>
          <p:cNvCxnSpPr>
            <a:stCxn id="173" idx="0"/>
            <a:endCxn id="176" idx="3"/>
          </p:cNvCxnSpPr>
          <p:nvPr/>
        </p:nvCxnSpPr>
        <p:spPr>
          <a:xfrm flipV="1">
            <a:off x="6035400" y="2759040"/>
            <a:ext cx="403560" cy="2401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1" name="AutoShape 30"/>
          <p:cNvCxnSpPr>
            <a:stCxn id="174" idx="0"/>
            <a:endCxn id="176" idx="1"/>
          </p:cNvCxnSpPr>
          <p:nvPr/>
        </p:nvCxnSpPr>
        <p:spPr>
          <a:xfrm flipV="1">
            <a:off x="7524720" y="2739960"/>
            <a:ext cx="419400" cy="259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2" name="AutoShape 31"/>
          <p:cNvCxnSpPr>
            <a:stCxn id="176" idx="2"/>
            <a:endCxn id="160" idx="2"/>
          </p:cNvCxnSpPr>
          <p:nvPr/>
        </p:nvCxnSpPr>
        <p:spPr>
          <a:xfrm flipV="1">
            <a:off x="4971960" y="1666800"/>
            <a:ext cx="1501920" cy="107352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  <p:cxnSp>
        <p:nvCxnSpPr>
          <p:cNvPr id="183" name="AutoShape 32"/>
          <p:cNvCxnSpPr>
            <a:stCxn id="159" idx="3"/>
            <a:endCxn id="158" idx="1"/>
          </p:cNvCxnSpPr>
          <p:nvPr/>
        </p:nvCxnSpPr>
        <p:spPr>
          <a:xfrm>
            <a:off x="5236920" y="2178000"/>
            <a:ext cx="957600" cy="16200"/>
          </a:xfrm>
          <a:prstGeom prst="straightConnector1">
            <a:avLst/>
          </a:prstGeom>
          <a:ln w="9525">
            <a:solidFill>
              <a:srgbClr val="ffffff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86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HY헤드라인M"/>
              </a:endParaRPr>
            </a:p>
          </p:txBody>
        </p:sp>
        <p:sp>
          <p:nvSpPr>
            <p:cNvPr id="187" name="AutoShape 5"/>
            <p:cNvSpPr/>
            <p:nvPr/>
          </p:nvSpPr>
          <p:spPr>
            <a:xfrm>
              <a:off x="3522600" y="362628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1625760" y="228384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4035960" y="175140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8"/>
            <p:cNvSpPr/>
            <p:nvPr/>
          </p:nvSpPr>
          <p:spPr>
            <a:xfrm>
              <a:off x="2039040" y="2283840"/>
              <a:ext cx="18759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>
                    <a:alpha val="8000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"/>
            <p:cNvSpPr/>
            <p:nvPr/>
          </p:nvSpPr>
          <p:spPr>
            <a:xfrm>
              <a:off x="3522600" y="228384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5172480" y="204588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1"/>
            <p:cNvSpPr/>
            <p:nvPr/>
          </p:nvSpPr>
          <p:spPr>
            <a:xfrm>
              <a:off x="5912280" y="204588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194" name="AutoShape 12"/>
            <p:cNvSpPr/>
            <p:nvPr/>
          </p:nvSpPr>
          <p:spPr>
            <a:xfrm>
              <a:off x="3668040" y="752760"/>
              <a:ext cx="1874160" cy="187416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>
                    <a:alpha val="70196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anchorCtr="1">
              <a:noAutofit/>
            </a:bodyPr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indent="-2160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3"/>
            <p:cNvSpPr/>
            <p:nvPr/>
          </p:nvSpPr>
          <p:spPr>
            <a:xfrm>
              <a:off x="3668040" y="171360"/>
              <a:ext cx="1874160" cy="187416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30000"/>
              </a:srgb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4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</p:grpSp>
      <p:sp>
        <p:nvSpPr>
          <p:cNvPr id="196" name="Text Box 4"/>
          <p:cNvSpPr/>
          <p:nvPr/>
        </p:nvSpPr>
        <p:spPr>
          <a:xfrm>
            <a:off x="214200" y="53456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465480" y="2858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746440" y="1042920"/>
            <a:ext cx="4600080" cy="921960"/>
          </a:xfrm>
          <a:prstGeom prst="rect">
            <a:avLst/>
          </a:prstGeom>
          <a:gradFill rotWithShape="0">
            <a:gsLst>
              <a:gs pos="0">
                <a:srgbClr val="33ccff">
                  <a:alpha val="5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973240" y="1965240"/>
            <a:ext cx="4600080" cy="944280"/>
          </a:xfrm>
          <a:prstGeom prst="rect">
            <a:avLst/>
          </a:prstGeom>
          <a:gradFill rotWithShape="0">
            <a:gsLst>
              <a:gs pos="0">
                <a:srgbClr val="33ccff">
                  <a:alpha val="70196"/>
                </a:srgbClr>
              </a:gs>
              <a:gs pos="100000">
                <a:srgbClr val="185e76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753000" y="2903400"/>
            <a:ext cx="4600080" cy="917280"/>
          </a:xfrm>
          <a:prstGeom prst="rect">
            <a:avLst/>
          </a:prstGeom>
          <a:gradFill rotWithShape="0">
            <a:gsLst>
              <a:gs pos="0">
                <a:srgbClr val="00abe8">
                  <a:alpha val="90196"/>
                </a:srgbClr>
              </a:gs>
              <a:gs pos="100000">
                <a:srgbClr val="004f6b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680000" y="3821040"/>
            <a:ext cx="3962160" cy="1523520"/>
          </a:xfrm>
          <a:prstGeom prst="rect">
            <a:avLst/>
          </a:prstGeom>
          <a:gradFill rotWithShape="0">
            <a:gsLst>
              <a:gs pos="0">
                <a:srgbClr val="00a4de"/>
              </a:gs>
              <a:gs pos="100000">
                <a:srgbClr val="004c67">
                  <a:alpha val="0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425160" y="5357520"/>
            <a:ext cx="8217000" cy="360"/>
          </a:xfrm>
          <a:prstGeom prst="line">
            <a:avLst/>
          </a:prstGeom>
          <a:ln w="127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168200" y="3833640"/>
            <a:ext cx="678672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562040" y="2909880"/>
            <a:ext cx="580392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028600" y="1966680"/>
            <a:ext cx="4765680" cy="360"/>
          </a:xfrm>
          <a:prstGeom prst="line">
            <a:avLst/>
          </a:prstGeom>
          <a:ln w="12700">
            <a:solidFill>
              <a:srgbClr val="b28c2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1168560" y="3821040"/>
            <a:ext cx="3687480" cy="54900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3906720" y="2894040"/>
            <a:ext cx="863280" cy="1329840"/>
          </a:xfrm>
          <a:custGeom>
            <a:avLst/>
            <a:gdLst>
              <a:gd name="textAreaLeft" fmla="*/ 0 w 863280"/>
              <a:gd name="textAreaRight" fmla="*/ 863640 w 863280"/>
              <a:gd name="textAreaTop" fmla="*/ 0 h 1329840"/>
              <a:gd name="textAreaBottom" fmla="*/ 1330200 h 132984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1695600" y="2903400"/>
            <a:ext cx="2471400" cy="358560"/>
          </a:xfrm>
          <a:custGeom>
            <a:avLst/>
            <a:gdLst>
              <a:gd name="textAreaLeft" fmla="*/ 0 w 2471400"/>
              <a:gd name="textAreaRight" fmla="*/ 2471760 w 247140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13"/>
          <p:cNvSpPr/>
          <p:nvPr/>
        </p:nvSpPr>
        <p:spPr>
          <a:xfrm>
            <a:off x="1235160" y="3252960"/>
            <a:ext cx="3180960" cy="963360"/>
          </a:xfrm>
          <a:custGeom>
            <a:avLst/>
            <a:gdLst>
              <a:gd name="textAreaLeft" fmla="*/ 0 w 3180960"/>
              <a:gd name="textAreaRight" fmla="*/ 3181320 w 318096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14"/>
          <p:cNvSpPr/>
          <p:nvPr/>
        </p:nvSpPr>
        <p:spPr>
          <a:xfrm>
            <a:off x="2246400" y="1973160"/>
            <a:ext cx="1220400" cy="186840"/>
          </a:xfrm>
          <a:custGeom>
            <a:avLst/>
            <a:gdLst>
              <a:gd name="textAreaLeft" fmla="*/ 0 w 1220400"/>
              <a:gd name="textAreaRight" fmla="*/ 1220760 w 1220400"/>
              <a:gd name="textAreaTop" fmla="*/ 0 h 186840"/>
              <a:gd name="textAreaBottom" fmla="*/ 187200 h 18684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15"/>
          <p:cNvSpPr/>
          <p:nvPr/>
        </p:nvSpPr>
        <p:spPr>
          <a:xfrm>
            <a:off x="1760400" y="2155680"/>
            <a:ext cx="2068200" cy="979200"/>
          </a:xfrm>
          <a:custGeom>
            <a:avLst/>
            <a:gdLst>
              <a:gd name="textAreaLeft" fmla="*/ 0 w 2068200"/>
              <a:gd name="textAreaRight" fmla="*/ 2068560 w 206820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16"/>
          <p:cNvSpPr/>
          <p:nvPr/>
        </p:nvSpPr>
        <p:spPr>
          <a:xfrm>
            <a:off x="2301840" y="1042920"/>
            <a:ext cx="982440" cy="977400"/>
          </a:xfrm>
          <a:custGeom>
            <a:avLst/>
            <a:gdLst>
              <a:gd name="textAreaLeft" fmla="*/ 0 w 982440"/>
              <a:gd name="textAreaRight" fmla="*/ 982800 w 98244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7"/>
          <p:cNvSpPr/>
          <p:nvPr/>
        </p:nvSpPr>
        <p:spPr>
          <a:xfrm>
            <a:off x="3336840" y="1965240"/>
            <a:ext cx="732960" cy="1161720"/>
          </a:xfrm>
          <a:custGeom>
            <a:avLst/>
            <a:gdLst>
              <a:gd name="textAreaLeft" fmla="*/ 0 w 732960"/>
              <a:gd name="textAreaRight" fmla="*/ 733320 w 732960"/>
              <a:gd name="textAreaTop" fmla="*/ 0 h 1161720"/>
              <a:gd name="textAreaBottom" fmla="*/ 1162080 h 116172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692280" y="4365720"/>
            <a:ext cx="4268520" cy="97920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4459320" y="3830760"/>
            <a:ext cx="1020240" cy="1518840"/>
          </a:xfrm>
          <a:custGeom>
            <a:avLst/>
            <a:gdLst>
              <a:gd name="textAreaLeft" fmla="*/ 0 w 1020240"/>
              <a:gd name="textAreaRight" fmla="*/ 1020600 w 1020240"/>
              <a:gd name="textAreaTop" fmla="*/ 0 h 1518840"/>
              <a:gd name="textAreaBottom" fmla="*/ 1519200 h 151884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20"/>
          <p:cNvSpPr/>
          <p:nvPr/>
        </p:nvSpPr>
        <p:spPr>
          <a:xfrm>
            <a:off x="2770200" y="1042920"/>
            <a:ext cx="604440" cy="972720"/>
          </a:xfrm>
          <a:custGeom>
            <a:avLst/>
            <a:gdLst>
              <a:gd name="textAreaLeft" fmla="*/ 0 w 604440"/>
              <a:gd name="textAreaRight" fmla="*/ 604800 w 604440"/>
              <a:gd name="textAreaTop" fmla="*/ 0 h 972720"/>
              <a:gd name="textAreaBottom" fmla="*/ 973080 h 97272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1760400" y="4651560"/>
            <a:ext cx="2918880" cy="34524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1695600" y="3605400"/>
            <a:ext cx="2792160" cy="34524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362320" y="1654200"/>
            <a:ext cx="1334880" cy="174600"/>
          </a:xfrm>
          <a:prstGeom prst="rect">
            <a:avLst/>
          </a:prstGeom>
          <a:noFill/>
          <a:ln w="9525">
            <a:noFill/>
          </a:ln>
          <a:effectLst>
            <a:outerShdw algn="ctr" dir="5400000" dist="1260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4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1695600" y="2479680"/>
            <a:ext cx="2249280" cy="3916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5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Gulim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299200" y="4013280"/>
            <a:ext cx="2719080" cy="49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749840" y="3008160"/>
            <a:ext cx="271908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공급업체와의 </a:t>
            </a:r>
            <a:r>
              <a:rPr b="1" lang="en-GB" sz="1100" spc="-1" strike="noStrike">
                <a:solidFill>
                  <a:srgbClr val="000000"/>
                </a:solidFill>
                <a:latin typeface="Gulim"/>
                <a:ea typeface="Gulim"/>
              </a:rPr>
              <a:t>Win-Win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005360" y="2065320"/>
            <a:ext cx="3787560" cy="69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제품 및 서비스의 재구성 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예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개별화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최초 진입자의 이익</a:t>
            </a: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3375000" y="1360440"/>
            <a:ext cx="2719080" cy="29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100" spc="-1" strike="noStrike">
                <a:solidFill>
                  <a:srgbClr val="000000"/>
                </a:solidFill>
                <a:latin typeface="Gulim"/>
                <a:ea typeface="Gulim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 flipV="1">
            <a:off x="425160" y="1042920"/>
            <a:ext cx="2041560" cy="4314600"/>
          </a:xfrm>
          <a:prstGeom prst="line">
            <a:avLst/>
          </a:prstGeom>
          <a:ln w="9525">
            <a:solidFill>
              <a:srgbClr val="5f5f5f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828000" y="2286000"/>
            <a:ext cx="4329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392120" y="3181680"/>
            <a:ext cx="2643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背景讲义课件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ad1f1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ad1f1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ad1f1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  <Words>793</Words>
  <Paragraphs>1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47Z</dcterms:created>
  <dc:creator>lidan</dc:creator>
  <dc:description/>
  <dc:language>en-US</dc:language>
  <cp:lastModifiedBy>yu wang</cp:lastModifiedBy>
  <dcterms:modified xsi:type="dcterms:W3CDTF">2015-08-08T10:04:5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