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51F-C035-4ADA-89A7-B653CD21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35211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098-C2F0-4A8A-B1FD-D2AC7CB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5772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1C6-6317-4D21-82C8-5BB8AB0C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1544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3124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1544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3124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088-F692-4DEE-80F9-A63942C3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76F5-9EBE-4B2C-B7E1-D34C2A94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E963-1A0F-4352-B262-A56800B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8886-0936-4263-8553-56C1DFFC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F098-7C3E-4C66-B67B-291C3D9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64C7-47F2-4747-8F64-327D234D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E20E-84DF-4CEA-9225-7E387FB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3360-81E5-4A24-AC3C-B4902F4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C69-F187-4E5A-A626-ABED836F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5772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9B8E-9652-4257-9564-ECD8C2D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35211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5DAA-D150-470F-91B6-F2807208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35211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CD9-EB55-45CC-B7FD-4BD20DD4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35772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0BBD-9055-4A65-A937-BAC8C14C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1544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3124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1544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3124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421-35BF-4DD9-B6D7-029AE707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1BA-3E85-4858-8E96-019A34E0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CD9-A80D-4C92-ACC2-81DB33B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994-D840-459C-BAE9-F609468D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797-C340-41AA-A8F9-39EF9CCD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58D-6117-4159-BACC-4B60C0D8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5772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A75-E76D-479C-8F2B-ED613090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5772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52116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7C8-C8F3-46CC-A62D-98F068C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BE6-FC90-45E9-9570-724B1B1F9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8628-DD62-413C-9E02-7C6F3B805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ero"/>
                <a:ea typeface="宋体"/>
              </a:rPr>
              <a:t>蓝色商务经典</a:t>
            </a:r>
            <a:r>
              <a:rPr b="0" lang="en-US" sz="4000" spc="-1" strike="noStrike">
                <a:solidFill>
                  <a:srgbClr val="000000"/>
                </a:solidFill>
                <a:latin typeface="Aero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ero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Sub-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763640" y="191628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ero"/>
                <a:ea typeface="宋体"/>
              </a:rPr>
              <a:t>Your Topic Goes He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e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Sub-topics Go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ero"/>
                <a:ea typeface="宋体"/>
              </a:rPr>
              <a:t>Printable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e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Add Your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835200" y="5714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ero"/>
                <a:ea typeface="宋体"/>
              </a:rPr>
              <a:t>TRANSI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0:28:57Z</dcterms:created>
  <dc:creator>eclipse</dc:creator>
  <dc:description/>
  <cp:keywords/>
  <dc:language>en-US</dc:language>
  <cp:lastModifiedBy>yu wang</cp:lastModifiedBy>
  <cp:lastPrinted>1899-12-30T00:00:00Z</cp:lastPrinted>
  <dcterms:modified xsi:type="dcterms:W3CDTF">2015-08-08T10:05:49Z</dcterms:modified>
  <cp:revision>6</cp:revision>
  <dc:subject/>
  <dc:title>EXECUTIVE B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