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11A-857E-4235-A364-E2F0DBA8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BD7-B7DD-4412-A801-15E78247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846-E612-481C-9348-65057EE0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61E-4FDD-413B-9993-B605FB89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546E-E25B-4844-A711-9C29772A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879D-4C2F-458E-8CCA-F9047102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9DF3-044C-4F2A-B54B-A5F58CF8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8BED-1F49-4870-B8B5-C105D667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7D9F-F327-4F03-B9B6-1A461A7D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9FD6-465B-47E5-A3A4-E8BEECA9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2B46-FC37-43E9-B119-DFE347D8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1F0-BFEC-43CB-80EE-FE5326A1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A6E3-B441-4AEA-8036-07BA708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934F-BE83-42C2-B6EB-58FFD4C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AD90-5728-45F7-80A9-0A8694F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6003-7CAF-4473-A9D2-6F7040E0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24F1-8DD0-4795-A0BF-196D6C16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37A-8899-47B1-AAA2-04F0771E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945-37D0-4169-83AD-6EC793ED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014-46C6-48DC-BE74-6FADEE6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A25-B849-4742-98EA-65CFC949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28F-E087-47E0-8AAD-3CB3D1D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E04-165C-4AE1-A6B3-131EFBF5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864-A98D-4671-8A2B-08BDAED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D1B-AD6D-43F1-9B67-86A69143F699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E504-26A8-4607-A3C3-3F661943DEB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bcbcb"/>
                </a:solidFill>
                <a:latin typeface="宋体"/>
              </a:rPr>
              <a:t>蓝色现代型简洁</a:t>
            </a:r>
            <a:r>
              <a:rPr b="0" lang="en-US" sz="4000" spc="-1" strike="noStrike">
                <a:solidFill>
                  <a:srgbClr val="cbcbcb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cbcbcb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使用规范说明</a:t>
            </a:r>
            <a:endParaRPr b="0" lang="en-US" sz="4400" spc="-1" strike="noStrike">
              <a:solidFill>
                <a:srgbClr val="cbcbcb"/>
              </a:solidFill>
              <a:latin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宋体"/>
              </a:rPr>
              <a:t>站点介绍：</a:t>
            </a:r>
            <a:endParaRPr b="0" lang="en-US" sz="11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宋体"/>
              </a:rPr>
              <a:t> </a:t>
            </a:r>
            <a:r>
              <a:rPr b="0" lang="zh-CN" sz="1000" spc="-1" strike="noStrike" u="sng">
                <a:solidFill>
                  <a:srgbClr val="330099"/>
                </a:solidFill>
                <a:uFillTx/>
                <a:latin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330099"/>
                </a:solidFill>
                <a:uFillTx/>
                <a:latin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1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宋体"/>
              </a:rPr>
              <a:t>栏目推荐：</a:t>
            </a:r>
            <a:endParaRPr b="0" lang="en-US" sz="11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beijing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tongyong/ 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chuangyi/  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dabian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gongzuo/  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jingpin/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zhongguofeng/ 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mianfei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330099"/>
                </a:solidFill>
                <a:uFillTx/>
                <a:latin typeface="宋体"/>
                <a:hlinkClick r:id="rId20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huiyi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宋体"/>
              </a:rPr>
              <a:t>http://www.eeppt.com/moban/yundong/</a:t>
            </a: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57:45Z</dcterms:created>
  <dc:creator>echo</dc:creator>
  <dc:description/>
  <cp:keywords/>
  <dc:language>en-US</dc:language>
  <cp:lastModifiedBy>yu wang</cp:lastModifiedBy>
  <dcterms:modified xsi:type="dcterms:W3CDTF">2015-08-08T10:07:3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2052</vt:lpwstr>
  </property>
</Properties>
</file>