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F90E-A5A4-4BE3-8F47-2BC33AA7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F49-14F8-49E9-9249-91F4F97D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04D4-7344-457B-9C3E-C1E4B797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49B-2F17-4155-8F42-E574B23C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6688-25CC-4EA5-ADA2-484A4FAE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8A0D-51EA-4BC4-AD12-3A38EB08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1414-1F3D-407A-AE45-01B2137F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FF2E-AFFE-4620-BC6E-98752C89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A566-788B-4092-AF0C-75350950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9359-0989-4CB8-8D39-54AB34CF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6553-7C7F-4A01-881B-E906689D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A92-D9BD-43C2-B9FF-95FD0BB2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82D3-14EC-4164-B69B-E34C938D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DBC2-F63E-4219-ADE2-3F9D324B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82A4-00BA-4AA3-80A0-F89CC1EB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625E-AD49-46C2-A561-E89A1D81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22FA-9FA3-4604-99F1-F5442BE2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753-A296-4A0C-911E-345E9BA5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3BB-CC49-4556-8220-AE2EB3FC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6E5A-FB64-4191-94D6-630FEE8D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43A-A4E4-4665-ADC6-437921BE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264-C1D6-4410-ADDE-91E02424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ABE-0DBD-49B7-9C90-CD8BDBC4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7EA3-154A-4A82-A6D7-C86C87F8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4C92-47E3-4F83-9D9B-E93B5BF01152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5F6A-2CE3-43DA-A366-1F55516959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"/>
          <p:cNvPicPr/>
          <p:nvPr/>
        </p:nvPicPr>
        <p:blipFill>
          <a:blip r:embed="rId1"/>
          <a:stretch/>
        </p:blipFill>
        <p:spPr>
          <a:xfrm>
            <a:off x="-250920" y="-23760"/>
            <a:ext cx="937584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1561680" y="30654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墨香文化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"/>
          <p:cNvPicPr/>
          <p:nvPr/>
        </p:nvPicPr>
        <p:blipFill>
          <a:blip r:embed="rId1"/>
          <a:stretch/>
        </p:blipFill>
        <p:spPr>
          <a:xfrm>
            <a:off x="71280" y="44280"/>
            <a:ext cx="9001440" cy="6480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239840" y="936720"/>
            <a:ext cx="11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203640" y="1844640"/>
            <a:ext cx="25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●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墨的历史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●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墨文化的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●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功效和用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●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价值和历史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4"/>
          <p:cNvPicPr/>
          <p:nvPr/>
        </p:nvPicPr>
        <p:blipFill>
          <a:blip r:embed="rId1"/>
          <a:stretch/>
        </p:blipFill>
        <p:spPr>
          <a:xfrm>
            <a:off x="15840" y="44280"/>
            <a:ext cx="9072720" cy="68328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3132000" y="19177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文墨的历史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"/>
          <p:cNvPicPr/>
          <p:nvPr/>
        </p:nvPicPr>
        <p:blipFill>
          <a:blip r:embed="rId1"/>
          <a:stretch/>
        </p:blipFill>
        <p:spPr>
          <a:xfrm>
            <a:off x="15840" y="44280"/>
            <a:ext cx="9183600" cy="6613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15840" y="6381720"/>
            <a:ext cx="9183600" cy="476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705040" y="765000"/>
            <a:ext cx="55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國墨文化伴隨著中國幾千年思想文化的發展而發展，它對人類文化藝術的保存和綿延起到了至關重要的作用。墨是文房用具，既有集書畫、鐫刻、造型藝術為一體的外觀，又有百年如石，一點如漆，直書直畫的功能，因而備受人們的喜愛。墨從本質上來說是一種文化的象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中國人的理念中，墨是文人情結的體現。以墨言志，以墨抒情，以墨詠懷，墨詮釋著文人氣息和高雅情趣。中國墨文化博大精深，多姿多采。王毅先生藏墨多年，並有志於墨學的研究，他的《中國墨文化大觀》一書較為全面地介紹了中國墨文化的發展脈絡、藝術品位、文化內涵、審美情趣，具有較高的欣賞價值。是一本集知識性、實用性、操作性，圖文並茂、言之有物、雅俗共賞的墨學普及讀物，相信它的出版一定能有助於人們對中國墨文化的深入了解，並進而被這朵藝苑奇葩所深深吸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3"/>
          <p:cNvPicPr/>
          <p:nvPr/>
        </p:nvPicPr>
        <p:blipFill>
          <a:blip r:embed="rId1"/>
          <a:stretch/>
        </p:blipFill>
        <p:spPr>
          <a:xfrm>
            <a:off x="73080" y="44280"/>
            <a:ext cx="9107280" cy="6840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3564000" y="234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粗黑体"/>
                <a:ea typeface="宋体"/>
              </a:rPr>
              <a:t>谢  谢  欣  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755640" y="6308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yu wang</cp:lastModifiedBy>
  <cp:lastPrinted>1899-12-30T00:00:00Z</cp:lastPrinted>
  <dcterms:modified xsi:type="dcterms:W3CDTF">2015-08-08T10:02:1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