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480-F41A-4FB8-A294-5058B56D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734-4F91-44B7-BFDA-205D0EDA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4D6-37C0-4F7D-9BB8-D34A8304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E4D-59E6-4EED-B280-43FD392E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55E-4743-4890-9A38-3436FA0C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170-655C-45D4-994E-BA496482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405-E22A-41E1-A942-96819E3C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D75-6F44-4243-AB00-11E36BC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B5A-C34D-4D50-B34C-FC0899BC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2C8-848E-44BD-AABF-2B64688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FEF-8500-4865-98A5-BEDB3317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BDD-73AD-4757-B7BC-BEEAB36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98EA-7009-4781-A3F8-E024271F77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FFFF-7C81-410B-8A88-09AF3D5AF5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5"/>
          <p:cNvSpPr/>
          <p:nvPr/>
        </p:nvSpPr>
        <p:spPr>
          <a:xfrm>
            <a:off x="2311560" y="417204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oma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’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1913040" y="438156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joy the Pith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2728800" y="801720"/>
            <a:ext cx="316080" cy="62856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2075760" y="256212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墨韵中国风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-6480"/>
            <a:ext cx="12193560" cy="6870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"/>
          <p:cNvPicPr/>
          <p:nvPr/>
        </p:nvPicPr>
        <p:blipFill>
          <a:blip r:embed="rId2"/>
          <a:stretch/>
        </p:blipFill>
        <p:spPr>
          <a:xfrm>
            <a:off x="4981680" y="1217520"/>
            <a:ext cx="2000160" cy="12747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"/>
          <p:cNvPicPr/>
          <p:nvPr/>
        </p:nvPicPr>
        <p:blipFill>
          <a:blip r:embed="rId3"/>
          <a:stretch/>
        </p:blipFill>
        <p:spPr>
          <a:xfrm>
            <a:off x="6981840" y="903240"/>
            <a:ext cx="317520" cy="6271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7"/>
          <p:cNvSpPr/>
          <p:nvPr/>
        </p:nvSpPr>
        <p:spPr>
          <a:xfrm>
            <a:off x="4964040" y="245268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濃欲其活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淡欲其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366-9A3F-4B3D-BE48-4BB5DDE8F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" descr=""/>
          <p:cNvPicPr/>
          <p:nvPr/>
        </p:nvPicPr>
        <p:blipFill>
          <a:blip r:embed="rId1"/>
          <a:srcRect l="2809" t="18967" r="1125" b="-187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2"/>
          <a:srcRect l="0" t="0" r="0" b="9657"/>
          <a:stretch/>
        </p:blipFill>
        <p:spPr>
          <a:xfrm>
            <a:off x="1030320" y="4141800"/>
            <a:ext cx="21272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3"/>
          <a:stretch/>
        </p:blipFill>
        <p:spPr>
          <a:xfrm>
            <a:off x="2841480" y="3851280"/>
            <a:ext cx="31608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1"/>
          <p:cNvSpPr/>
          <p:nvPr/>
        </p:nvSpPr>
        <p:spPr>
          <a:xfrm>
            <a:off x="946080" y="55134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煙織墨香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雨釣詩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10493280" y="3622680"/>
            <a:ext cx="31752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8204040" y="3894120"/>
            <a:ext cx="242100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4"/>
          <p:cNvSpPr/>
          <p:nvPr/>
        </p:nvSpPr>
        <p:spPr>
          <a:xfrm>
            <a:off x="8327880" y="519732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胸懷錦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龍游蛇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30200" y="6383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7" descr=""/>
          <p:cNvPicPr/>
          <p:nvPr/>
        </p:nvPicPr>
        <p:blipFill>
          <a:blip r:embed="rId2"/>
          <a:stretch/>
        </p:blipFill>
        <p:spPr>
          <a:xfrm>
            <a:off x="1378080" y="1249200"/>
            <a:ext cx="2050920" cy="13352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8"/>
          <p:cNvSpPr/>
          <p:nvPr/>
        </p:nvSpPr>
        <p:spPr>
          <a:xfrm>
            <a:off x="1254240" y="259704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箋幾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輕痕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9" descr=""/>
          <p:cNvPicPr/>
          <p:nvPr/>
        </p:nvPicPr>
        <p:blipFill>
          <a:blip r:embed="rId3"/>
          <a:stretch/>
        </p:blipFill>
        <p:spPr>
          <a:xfrm>
            <a:off x="3294000" y="998640"/>
            <a:ext cx="316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-12600" y="-54000"/>
            <a:ext cx="12217320" cy="69674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2"/>
          <a:stretch/>
        </p:blipFill>
        <p:spPr>
          <a:xfrm>
            <a:off x="7596360" y="793800"/>
            <a:ext cx="46980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5"/>
          <p:cNvSpPr/>
          <p:nvPr/>
        </p:nvSpPr>
        <p:spPr>
          <a:xfrm>
            <a:off x="4235400" y="317988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oma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’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Desig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·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joy the Pith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" descr=""/>
          <p:cNvPicPr/>
          <p:nvPr/>
        </p:nvPicPr>
        <p:blipFill>
          <a:blip r:embed="rId3"/>
          <a:stretch/>
        </p:blipFill>
        <p:spPr>
          <a:xfrm>
            <a:off x="4251240" y="1347840"/>
            <a:ext cx="36594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</a:rPr>
              <a:t>http://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1:53:00Z</dcterms:created>
  <dc:creator>J.F. Peng</dc:creator>
  <dc:description/>
  <dc:language>en-US</dc:language>
  <cp:lastModifiedBy>yu wang</cp:lastModifiedBy>
  <dcterms:modified xsi:type="dcterms:W3CDTF">2015-08-10T02:49:04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