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0B6E-073D-4A0E-9354-F25E97C67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759C-99C1-4ED4-9D53-6C5DA096E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A969-CE8B-4824-AD46-98814CAA9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F846-3068-4961-869E-5A35EAF76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07D7-79A5-460F-88FD-D85BACF0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A3F5-DF76-4CB4-BD20-10A302239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0E98-3F31-49EB-B2D5-28D83A97F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6188-6370-4046-A91F-B2F4436E3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65BA-DB87-4DAE-B823-059B977C2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5231-5C03-460F-9505-313F0324A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E609-CCAD-4B7F-941E-A21731D50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C966-C0DE-4321-A236-3DD8058B8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bg2"/>
          <p:cNvPicPr/>
          <p:nvPr/>
        </p:nvPicPr>
        <p:blipFill>
          <a:blip r:embed="rId2"/>
          <a:stretch/>
        </p:blipFill>
        <p:spPr>
          <a:xfrm>
            <a:off x="-17640" y="-25560"/>
            <a:ext cx="917928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c00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a000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C10720-FABD-4A5C-BA41-4C6BE52471E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7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c00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a000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"/>
          <p:cNvSpPr/>
          <p:nvPr/>
        </p:nvSpPr>
        <p:spPr>
          <a:xfrm>
            <a:off x="4754520" y="1285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220840" y="1987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轻灵的红飘带毕业答辩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bg3"/>
          <p:cNvPicPr/>
          <p:nvPr/>
        </p:nvPicPr>
        <p:blipFill>
          <a:blip r:embed="rId1"/>
          <a:stretch/>
        </p:blipFill>
        <p:spPr>
          <a:xfrm>
            <a:off x="-17640" y="-25560"/>
            <a:ext cx="9179280" cy="6883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2627280" y="3573360"/>
            <a:ext cx="38894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6524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3a0004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yu wang</cp:lastModifiedBy>
  <cp:lastPrinted>1899-12-30T00:00:00Z</cp:lastPrinted>
  <dcterms:modified xsi:type="dcterms:W3CDTF">2015-08-08T10:06:45Z</dcterms:modified>
  <cp:revision>22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