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74C-E132-41A4-9193-57893451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2A2-4090-441C-87B7-5A426CC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09C-828A-4437-A6B1-4935D9A9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F68-52BF-4461-BC98-E37BF411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86A-9E8D-4914-958C-B9510483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C45-6E69-4F16-9CC3-955AD90B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038-8B35-421B-8E0B-1F394FC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673-EA06-4396-ACFD-A0CC8413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AF0-7DFB-468E-9F98-38D6DFC9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FA8-AA10-44DB-9C79-F5F83FE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F01-2F25-4EC0-BFBF-BE16B5B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196-B365-4C5D-A8B6-EEEB6C1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309-1034-4765-A7EE-B704433DF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0" y="1557360"/>
            <a:ext cx="9144000" cy="3311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2349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浅谈安全管理体系的实施</a:t>
            </a:r>
            <a:r>
              <a:rPr b="0" lang="en-US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思路：抓安全就是消除隐患，预防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抓安全要在防字上下功夫：防为上，救次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安全才有效益                 出了事故，追悔莫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119109278_FZaims"/>
          <p:cNvPicPr/>
          <p:nvPr/>
        </p:nvPicPr>
        <p:blipFill>
          <a:blip r:embed="rId1"/>
          <a:stretch/>
        </p:blipFill>
        <p:spPr>
          <a:xfrm>
            <a:off x="395280" y="3789360"/>
            <a:ext cx="3809880" cy="2712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016364f1e8302420c2102"/>
          <p:cNvPicPr/>
          <p:nvPr/>
        </p:nvPicPr>
        <p:blipFill>
          <a:blip r:embed="rId2"/>
          <a:stretch/>
        </p:blipFill>
        <p:spPr>
          <a:xfrm>
            <a:off x="4788000" y="3789360"/>
            <a:ext cx="4032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我们谈下硬件管理：硬件管理就是把设备设施和环境的完好，重点是提高先进性可靠性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我们看一下在很多企业中推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51434_b"/>
          <p:cNvPicPr/>
          <p:nvPr/>
        </p:nvPicPr>
        <p:blipFill>
          <a:blip r:embed="rId1"/>
          <a:stretch/>
        </p:blipFill>
        <p:spPr>
          <a:xfrm>
            <a:off x="4572000" y="2060640"/>
            <a:ext cx="4572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理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区分要与不要的东西，职场除了要用的东西以外，一切都不放置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空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腾出来活用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顿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要的东西依规定定位、定方法摆放整齐，明确数量，明确标示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不浪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东西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扫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清除职场内的脏污，并防止污染的发生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消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脏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保持职场干干净净、明明亮亮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将上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的做法制度化，规范化，维持其成果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通过制度化来维持成果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养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培养文明礼貌习惯，按规定行事，养成良好的工作习惯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提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的品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成为对任何工作都讲究认真的人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效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节约家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降低很多不必要的材料以及工具的浪费减少“寻找”的浪费，节省很多宝贵的时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降低工时，提高效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安全有保障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洁有序的办公环境，设备车辆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遵守堆积限制，危险处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造成杂乱情形而影响工作的顺畅及安全生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标准化的推动者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都正确的按照规定执行任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稳定，带来品质稳定，成本也安定，安全就有了保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次我们谈一下软件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管理就是着重把各项规章制度、业务流程等一系列制度建立并不断地完善起来，并能有效的保证这些制度规程能被一丝不苟的实施下去！我总结了几项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想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立员工正确的人生观价值观安全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为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严格按照工作准则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化培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boerer502342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57200" y="6284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什么？如何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什么目标？遵守什么规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行什么标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取什么样的方式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求什么样的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20070409161615902"/>
          <p:cNvPicPr/>
          <p:nvPr/>
        </p:nvPicPr>
        <p:blipFill>
          <a:blip r:embed="rId1"/>
          <a:stretch/>
        </p:blipFill>
        <p:spPr>
          <a:xfrm>
            <a:off x="4643280" y="2060640"/>
            <a:ext cx="40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管落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什么方法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来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什么时间落实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boerer502338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演讲结束谢谢各位领导同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精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课件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中国风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活动策划方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：相关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总在谈安全生产，那么什么是安全？什么又是危险？有没有明确的定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统定义：远离危险的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人讲“无危则安，无缺则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温馨家庭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安全管理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就是人们把风险控制在可以接受的水平以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是系统的固有特征，能够保证系统在人们可以接受的风险水平下运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dtxxpic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9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68436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的定义是随着安全经济学的出现而发生了根本性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71021213905338"/>
          <p:cNvPicPr/>
          <p:nvPr/>
        </p:nvPicPr>
        <p:blipFill>
          <a:blip r:embed="rId1"/>
          <a:stretch/>
        </p:blipFill>
        <p:spPr>
          <a:xfrm>
            <a:off x="4643280" y="2205000"/>
            <a:ext cx="403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险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定义：事物处于一种不安全状态，将可能导致一种事故或者一系列的损害或损失事件的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火灾5"/>
          <p:cNvPicPr/>
          <p:nvPr/>
        </p:nvPicPr>
        <p:blipFill>
          <a:blip r:embed="rId1"/>
          <a:stretch/>
        </p:blipFill>
        <p:spPr>
          <a:xfrm>
            <a:off x="755640" y="4149720"/>
            <a:ext cx="367200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油罐车失火"/>
          <p:cNvPicPr/>
          <p:nvPr/>
        </p:nvPicPr>
        <p:blipFill>
          <a:blip r:embed="rId2"/>
          <a:stretch/>
        </p:blipFill>
        <p:spPr>
          <a:xfrm>
            <a:off x="5076720" y="4149720"/>
            <a:ext cx="359892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：什么是安全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针的概念：引导事业前进的方向和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第一”是指在生产经营活动中，在处理保证安全与生产经营活动等的关系上，要始终把安全放在首位，优先考虑从业人员和其他人员的人身安全、设备设施安全和环境的安全，实行安全优先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：什么是预防为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是按照系统化、科学化的管理思想，按照事故发生的规律和特点，千方百计地预防事故的发生，做到防患于未然，将事故消灭在萌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消防学习2"/>
          <p:cNvPicPr/>
          <p:nvPr/>
        </p:nvPicPr>
        <p:blipFill>
          <a:blip r:embed="rId1"/>
          <a:stretch/>
        </p:blipFill>
        <p:spPr>
          <a:xfrm>
            <a:off x="4572000" y="2133720"/>
            <a:ext cx="4141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：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硬件与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质上讲包括硬件和软件管理两个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者之间的关系是硬件是基础，软件是关键，彼此影响，彼此制约，相互依存，互为因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1:59:16Z</dcterms:created>
  <dc:creator>FtpDown</dc:creator>
  <dc:description/>
  <dc:language>en-US</dc:language>
  <cp:lastModifiedBy>yu wang</cp:lastModifiedBy>
  <dcterms:modified xsi:type="dcterms:W3CDTF">2015-08-08T10:03:53Z</dcterms:modified>
  <cp:revision>77</cp:revision>
  <dc:subject/>
  <dc:title>浅谈安全管理体系的实施</dc:title>
</cp:coreProperties>
</file>