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4182-FD49-4A77-A125-0CC184ED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847-F773-4BB6-863B-895121D3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B82-9948-4974-A6C1-633EB9D4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C01-9668-40BA-ACCC-E8FE893A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529-F26D-4E80-A040-5B2C51D4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099-FBCA-4FE1-87EB-F9E38077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D27-51B0-4F42-B2D6-8502AA96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7E8-DE00-48BA-BBD7-5B1D6B83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B1A-1FF0-4A91-8C05-6977C082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507-3979-41C5-B4E6-07BAA4E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220-F5AC-404F-8748-FDA8190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770-57A6-478F-9FB8-E1A3941A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872-72A9-4222-B61E-BEDC8C5A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83F-E428-486D-8562-05EA9BD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D47F-FCC1-42F5-BCBF-E5928832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清新典雅的论文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XR_001"/>
          <p:cNvPicPr/>
          <p:nvPr/>
        </p:nvPicPr>
        <p:blipFill>
          <a:blip r:embed="rId2"/>
          <a:stretch/>
        </p:blipFill>
        <p:spPr>
          <a:xfrm>
            <a:off x="579600" y="1058760"/>
            <a:ext cx="8076960" cy="5734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辩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导导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辩日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yu wang</cp:lastModifiedBy>
  <dcterms:modified xsi:type="dcterms:W3CDTF">2015-08-08T10:06:20Z</dcterms:modified>
  <cp:revision>4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