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7.png" ContentType="image/png"/>
  <Override PartName="/ppt/media/image2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716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80960" y="767880"/>
            <a:ext cx="61372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875C-F259-4421-ADB6-ECE1FB074C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80960" y="768240"/>
            <a:ext cx="6137280" cy="3837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B356-334D-4125-99A7-9295827852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43F-60C0-4B01-80A2-7ADC3266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8DF-DD26-41AE-B956-09EE1015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418-46BC-41B5-B5CC-45BD7197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A0C-3FC2-4362-AB58-53DE32A2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477-3795-4DA6-9927-3FD870F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D6D-482F-4739-9706-7A0F32F1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7BF-1528-4379-9116-86BC31F7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F14-33D2-4508-8D09-ED7FEC69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313-10E7-4587-B5A2-4D6065B4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E05-CD33-478E-8F92-73E16633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950-7938-4861-B2C6-34EDD6A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6B6-6763-46F0-B4A7-D170A730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40A1-BF27-4F64-AB8A-6CE818746E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file:///&#37073;&#24030;&#26085;&#20135;&#30011;&#20179;4S&#24215;&#24320;&#19994;&#24198;&#20856;&#29289;&#26009;&#28165;&#21333;.xlsx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3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Box 2"/>
          <p:cNvGrpSpPr/>
          <p:nvPr/>
        </p:nvGrpSpPr>
        <p:grpSpPr>
          <a:xfrm>
            <a:off x="1011240" y="2152800"/>
            <a:ext cx="7121520" cy="2236680"/>
            <a:chOff x="1011240" y="2152800"/>
            <a:chExt cx="7121520" cy="2236680"/>
          </a:xfrm>
        </p:grpSpPr>
        <p:pic>
          <p:nvPicPr>
            <p:cNvPr id="49" name="TextBox 2" descr=""/>
            <p:cNvPicPr/>
            <p:nvPr/>
          </p:nvPicPr>
          <p:blipFill>
            <a:blip r:embed="rId2"/>
            <a:stretch/>
          </p:blipFill>
          <p:spPr>
            <a:xfrm>
              <a:off x="1011240" y="2152800"/>
              <a:ext cx="712152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116000" y="2255760"/>
              <a:ext cx="6912000" cy="20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魅力科技</a:t>
              </a:r>
              <a:r>
                <a:rPr b="1" lang="en-US" sz="44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    </a:t>
              </a:r>
              <a:r>
                <a:rPr b="1" lang="zh-CN" sz="44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成功力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公司开业策划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10" descr="C:\Users\Administrator\Desktop\梅奥国际标志长方形组合.jpg"/>
          <p:cNvPicPr/>
          <p:nvPr/>
        </p:nvPicPr>
        <p:blipFill>
          <a:blip r:embed="rId3"/>
          <a:stretch/>
        </p:blipFill>
        <p:spPr>
          <a:xfrm>
            <a:off x="3203640" y="4802040"/>
            <a:ext cx="720720" cy="171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3924360" y="4756320"/>
            <a:ext cx="280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全程策划由梅奥国际管理顾问公司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4"/>
          <a:stretch/>
        </p:blipFill>
        <p:spPr>
          <a:xfrm>
            <a:off x="3295800" y="480960"/>
            <a:ext cx="2552400" cy="2160720"/>
          </a:xfrm>
          <a:prstGeom prst="rect">
            <a:avLst/>
          </a:prstGeom>
          <a:ln w="0">
            <a:noFill/>
          </a:ln>
        </p:spPr>
      </p:pic>
      <p:sp>
        <p:nvSpPr>
          <p:cNvPr id="54" name="矩形 12"/>
          <p:cNvSpPr/>
          <p:nvPr/>
        </p:nvSpPr>
        <p:spPr>
          <a:xfrm>
            <a:off x="530280" y="531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现场布局（外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2LZ39B2)}MR5TDF0M@%{E6H"/>
          <p:cNvPicPr/>
          <p:nvPr/>
        </p:nvPicPr>
        <p:blipFill>
          <a:blip r:embed="rId1"/>
          <a:stretch/>
        </p:blipFill>
        <p:spPr>
          <a:xfrm>
            <a:off x="452520" y="934920"/>
            <a:ext cx="5815080" cy="4470480"/>
          </a:xfrm>
          <a:prstGeom prst="rect">
            <a:avLst/>
          </a:prstGeom>
          <a:ln w="0">
            <a:noFill/>
          </a:ln>
        </p:spPr>
      </p:pic>
      <p:sp>
        <p:nvSpPr>
          <p:cNvPr id="208" name="矩形 5"/>
          <p:cNvSpPr/>
          <p:nvPr/>
        </p:nvSpPr>
        <p:spPr>
          <a:xfrm>
            <a:off x="6516720" y="2641680"/>
            <a:ext cx="24480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室外区域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迎宾接待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停车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庆典活动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剪彩揭幕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车交车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U]85M9%Y1`G05BT5}Q$3BIX"/>
          <p:cNvPicPr/>
          <p:nvPr/>
        </p:nvPicPr>
        <p:blipFill>
          <a:blip r:embed="rId1"/>
          <a:stretch/>
        </p:blipFill>
        <p:spPr>
          <a:xfrm>
            <a:off x="592200" y="934920"/>
            <a:ext cx="5832360" cy="4380120"/>
          </a:xfrm>
          <a:prstGeom prst="rect">
            <a:avLst/>
          </a:prstGeom>
          <a:ln w="0">
            <a:noFill/>
          </a:ln>
        </p:spPr>
      </p:pic>
      <p:sp>
        <p:nvSpPr>
          <p:cNvPr id="210" name="矩形 2"/>
          <p:cNvSpPr/>
          <p:nvPr/>
        </p:nvSpPr>
        <p:spPr>
          <a:xfrm>
            <a:off x="6588000" y="1217520"/>
            <a:ext cx="244800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楼区域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签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听休息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品展示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茶点服务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戏互动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楼区域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媒体休息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洽谈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售后接待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现场布局（展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6542280" y="534528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1"/>
          <a:stretch/>
        </p:blipFill>
        <p:spPr>
          <a:xfrm>
            <a:off x="4265640" y="984240"/>
            <a:ext cx="3565440" cy="1951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2f4d71">
                <a:alpha val="50000"/>
              </a:srgbClr>
            </a:outerShdw>
          </a:effectLst>
        </p:spPr>
      </p:pic>
      <p:sp>
        <p:nvSpPr>
          <p:cNvPr id="215" name="矩形 6"/>
          <p:cNvSpPr/>
          <p:nvPr/>
        </p:nvSpPr>
        <p:spPr>
          <a:xfrm>
            <a:off x="4303800" y="3094200"/>
            <a:ext cx="410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车场大门外道路两边彩旗飘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引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怀德南路的客户能很快的找到郑州日产画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，减少电话指路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Users\111\Desktop\郑州日产开业策划方案\画仓郑州日产开业庆典\画仓郑州日产开业庆典\IMAG0173.jpg"/>
          <p:cNvPicPr/>
          <p:nvPr/>
        </p:nvPicPr>
        <p:blipFill>
          <a:blip r:embed="rId2"/>
          <a:stretch/>
        </p:blipFill>
        <p:spPr>
          <a:xfrm>
            <a:off x="617400" y="3073320"/>
            <a:ext cx="3483000" cy="1963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111\Desktop\郑州日产开业策划方案\画仓郑州日产开业庆典\画仓郑州日产开业庆典\IMAG0172.jpg"/>
          <p:cNvPicPr/>
          <p:nvPr/>
        </p:nvPicPr>
        <p:blipFill>
          <a:blip r:embed="rId3"/>
          <a:stretch/>
        </p:blipFill>
        <p:spPr>
          <a:xfrm>
            <a:off x="631800" y="984240"/>
            <a:ext cx="3460680" cy="1951200"/>
          </a:xfrm>
          <a:prstGeom prst="rect">
            <a:avLst/>
          </a:prstGeom>
          <a:ln w="0">
            <a:noFill/>
          </a:ln>
        </p:spPr>
      </p:pic>
      <p:sp>
        <p:nvSpPr>
          <p:cNvPr id="218" name="矩形 9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2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3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0" descr=""/>
          <p:cNvPicPr/>
          <p:nvPr/>
        </p:nvPicPr>
        <p:blipFill>
          <a:blip r:embed="rId1"/>
          <a:stretch/>
        </p:blipFill>
        <p:spPr>
          <a:xfrm>
            <a:off x="0" y="1593720"/>
            <a:ext cx="5510160" cy="4132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6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7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8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111\Desktop\郑州日产开业策划方案\画仓郑州日产开业庆典\画仓郑州日产开业庆典\IMAG0171.jpg"/>
          <p:cNvPicPr/>
          <p:nvPr/>
        </p:nvPicPr>
        <p:blipFill>
          <a:blip r:embed="rId2"/>
          <a:stretch/>
        </p:blipFill>
        <p:spPr>
          <a:xfrm>
            <a:off x="4815000" y="1022400"/>
            <a:ext cx="3843360" cy="2166840"/>
          </a:xfrm>
          <a:prstGeom prst="rect">
            <a:avLst/>
          </a:prstGeom>
          <a:ln w="0">
            <a:noFill/>
          </a:ln>
        </p:spPr>
      </p:pic>
      <p:sp>
        <p:nvSpPr>
          <p:cNvPr id="233" name="矩形 12"/>
          <p:cNvSpPr/>
          <p:nvPr/>
        </p:nvSpPr>
        <p:spPr>
          <a:xfrm>
            <a:off x="5730840" y="3362400"/>
            <a:ext cx="30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大门处龙拱门昂然屹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彰显郑州日产品牌气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5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6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7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8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9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11" descr=""/>
          <p:cNvPicPr/>
          <p:nvPr/>
        </p:nvPicPr>
        <p:blipFill>
          <a:blip r:embed="rId1"/>
          <a:stretch/>
        </p:blipFill>
        <p:spPr>
          <a:xfrm>
            <a:off x="568440" y="1057320"/>
            <a:ext cx="25747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2" descr=""/>
          <p:cNvPicPr/>
          <p:nvPr/>
        </p:nvPicPr>
        <p:blipFill>
          <a:blip r:embed="rId2"/>
          <a:stretch/>
        </p:blipFill>
        <p:spPr>
          <a:xfrm>
            <a:off x="568440" y="3054240"/>
            <a:ext cx="2574720" cy="1806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Users\111\Desktop\郑州日产开业策划方案\画仓郑州日产开业庆典\画仓郑州日产开业庆典\IMAG0170.jpg"/>
          <p:cNvPicPr/>
          <p:nvPr/>
        </p:nvPicPr>
        <p:blipFill>
          <a:blip r:embed="rId3"/>
          <a:stretch/>
        </p:blipFill>
        <p:spPr>
          <a:xfrm>
            <a:off x="3203640" y="3054240"/>
            <a:ext cx="3271680" cy="1806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111\Desktop\郑州日产开业策划方案\画仓郑州日产开业庆典\画仓郑州日产开业庆典\IMAG0168.jpg"/>
          <p:cNvPicPr/>
          <p:nvPr/>
        </p:nvPicPr>
        <p:blipFill>
          <a:blip r:embed="rId4"/>
          <a:stretch/>
        </p:blipFill>
        <p:spPr>
          <a:xfrm>
            <a:off x="3209760" y="1057320"/>
            <a:ext cx="3265560" cy="1944720"/>
          </a:xfrm>
          <a:prstGeom prst="rect">
            <a:avLst/>
          </a:prstGeom>
          <a:ln w="0">
            <a:noFill/>
          </a:ln>
        </p:spPr>
      </p:pic>
      <p:sp>
        <p:nvSpPr>
          <p:cNvPr id="245" name="矩形 15"/>
          <p:cNvSpPr/>
          <p:nvPr/>
        </p:nvSpPr>
        <p:spPr>
          <a:xfrm>
            <a:off x="6523200" y="1057320"/>
            <a:ext cx="25128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大红地毯铺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引嘉宾走进画仓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进入嘉宾签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舞台搭建毗邻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舞台搭建在室外，场地利用率大，容纳人群多，同时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道也能看到新店开业信息，起到一定的宣传作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5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6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7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8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"/>
          <p:cNvPicPr/>
          <p:nvPr/>
        </p:nvPicPr>
        <p:blipFill>
          <a:blip r:embed="rId1"/>
          <a:stretch/>
        </p:blipFill>
        <p:spPr>
          <a:xfrm>
            <a:off x="611280" y="985680"/>
            <a:ext cx="302400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2f4d71">
                <a:alpha val="50000"/>
              </a:srgbClr>
            </a:outerShdw>
          </a:effectLst>
        </p:spPr>
      </p:pic>
      <p:pic>
        <p:nvPicPr>
          <p:cNvPr id="254" name="Picture 8" descr="C:\Users\Administrator\Desktop\b201005121740031329.jpg"/>
          <p:cNvPicPr/>
          <p:nvPr/>
        </p:nvPicPr>
        <p:blipFill>
          <a:blip r:embed="rId2"/>
          <a:stretch/>
        </p:blipFill>
        <p:spPr>
          <a:xfrm>
            <a:off x="630360" y="2990880"/>
            <a:ext cx="3004920" cy="193212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2" descr=""/>
          <p:cNvPicPr/>
          <p:nvPr/>
        </p:nvPicPr>
        <p:blipFill>
          <a:blip r:embed="rId3"/>
          <a:stretch/>
        </p:blipFill>
        <p:spPr>
          <a:xfrm>
            <a:off x="3780000" y="852480"/>
            <a:ext cx="2990520" cy="2071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111\Desktop\郑州日产开业策划方案\画仓郑州日产开业庆典\画仓郑州日产开业庆典\IMAG0167.jpg"/>
          <p:cNvPicPr/>
          <p:nvPr/>
        </p:nvPicPr>
        <p:blipFill>
          <a:blip r:embed="rId4"/>
          <a:stretch/>
        </p:blipFill>
        <p:spPr>
          <a:xfrm>
            <a:off x="3780000" y="3014640"/>
            <a:ext cx="2990520" cy="1906560"/>
          </a:xfrm>
          <a:prstGeom prst="rect">
            <a:avLst/>
          </a:prstGeom>
          <a:ln w="0">
            <a:noFill/>
          </a:ln>
        </p:spPr>
      </p:pic>
      <p:sp>
        <p:nvSpPr>
          <p:cNvPr id="257" name="矩形 14"/>
          <p:cNvSpPr/>
          <p:nvPr/>
        </p:nvSpPr>
        <p:spPr>
          <a:xfrm>
            <a:off x="6837480" y="3340080"/>
            <a:ext cx="20127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剪彩揭幕仪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鼓炮齐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舞狮采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1" descr=""/>
          <p:cNvPicPr/>
          <p:nvPr/>
        </p:nvPicPr>
        <p:blipFill>
          <a:blip r:embed="rId1"/>
          <a:stretch/>
        </p:blipFill>
        <p:spPr>
          <a:xfrm>
            <a:off x="324000" y="1895400"/>
            <a:ext cx="4392360" cy="3295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4871880" y="2336760"/>
            <a:ext cx="3627720" cy="241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2f4d71">
                <a:alpha val="50000"/>
              </a:srgbClr>
            </a:outerShdw>
          </a:effectLst>
        </p:spPr>
      </p:pic>
      <p:sp>
        <p:nvSpPr>
          <p:cNvPr id="260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7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8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9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735120" y="947880"/>
            <a:ext cx="656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车仪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兆头带来好运势，现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-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新车完成交车仪式，领导致辞，新车主代表讲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Users\111\Desktop\郑州日产开业策划方案\画仓郑州日产开业庆典\画仓郑州日产开业庆典\IMAG0162.jpg"/>
          <p:cNvPicPr/>
          <p:nvPr/>
        </p:nvPicPr>
        <p:blipFill>
          <a:blip r:embed="rId1"/>
          <a:stretch/>
        </p:blipFill>
        <p:spPr>
          <a:xfrm>
            <a:off x="5670720" y="3687840"/>
            <a:ext cx="2357280" cy="13302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0" descr=""/>
          <p:cNvPicPr/>
          <p:nvPr/>
        </p:nvPicPr>
        <p:blipFill>
          <a:blip r:embed="rId2"/>
          <a:stretch/>
        </p:blipFill>
        <p:spPr>
          <a:xfrm>
            <a:off x="-12600" y="2065320"/>
            <a:ext cx="5580000" cy="3470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6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7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8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C:\Users\111\Desktop\郑州日产开业策划方案\画仓郑州日产开业庆典\画仓郑州日产开业庆典\IMAG0167.jpg"/>
          <p:cNvPicPr/>
          <p:nvPr/>
        </p:nvPicPr>
        <p:blipFill>
          <a:blip r:embed="rId3"/>
          <a:stretch/>
        </p:blipFill>
        <p:spPr>
          <a:xfrm>
            <a:off x="5681520" y="2352600"/>
            <a:ext cx="2346480" cy="1324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C:\Users\111\Desktop\郑州日产开业策划方案\画仓郑州日产开业庆典\画仓郑州日产开业庆典\IMAG0175.jpg"/>
          <p:cNvPicPr/>
          <p:nvPr/>
        </p:nvPicPr>
        <p:blipFill>
          <a:blip r:embed="rId4"/>
          <a:stretch/>
        </p:blipFill>
        <p:spPr>
          <a:xfrm>
            <a:off x="5584680" y="976320"/>
            <a:ext cx="2443320" cy="1376280"/>
          </a:xfrm>
          <a:prstGeom prst="rect">
            <a:avLst/>
          </a:prstGeom>
          <a:ln w="0">
            <a:noFill/>
          </a:ln>
        </p:spPr>
      </p:pic>
      <p:sp>
        <p:nvSpPr>
          <p:cNvPr id="279" name="矩形 14"/>
          <p:cNvSpPr/>
          <p:nvPr/>
        </p:nvSpPr>
        <p:spPr>
          <a:xfrm>
            <a:off x="577800" y="912960"/>
            <a:ext cx="45705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阳光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迎各方嘉宾，指引道路、引导签到、带花、贵宾休息室及活动现场座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2" descr=""/>
          <p:cNvPicPr/>
          <p:nvPr/>
        </p:nvPicPr>
        <p:blipFill>
          <a:blip r:embed="rId1"/>
          <a:stretch/>
        </p:blipFill>
        <p:spPr>
          <a:xfrm>
            <a:off x="250920" y="1144440"/>
            <a:ext cx="4106880" cy="29368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6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7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8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11" descr=""/>
          <p:cNvPicPr/>
          <p:nvPr/>
        </p:nvPicPr>
        <p:blipFill>
          <a:blip r:embed="rId2"/>
          <a:stretch/>
        </p:blipFill>
        <p:spPr>
          <a:xfrm>
            <a:off x="4481640" y="1144440"/>
            <a:ext cx="4408200" cy="2936880"/>
          </a:xfrm>
          <a:prstGeom prst="rect">
            <a:avLst/>
          </a:prstGeom>
          <a:ln w="0">
            <a:noFill/>
          </a:ln>
        </p:spPr>
      </p:pic>
      <p:sp>
        <p:nvSpPr>
          <p:cNvPr id="289" name="矩形 13"/>
          <p:cNvSpPr/>
          <p:nvPr/>
        </p:nvSpPr>
        <p:spPr>
          <a:xfrm>
            <a:off x="627120" y="4075200"/>
            <a:ext cx="83311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心及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种以上饮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客户看到我们在服务细节上的注重，品牌的服务是不一样的，给客户很温馨的服务体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5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6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7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10" descr=""/>
          <p:cNvPicPr/>
          <p:nvPr/>
        </p:nvPicPr>
        <p:blipFill>
          <a:blip r:embed="rId1"/>
          <a:stretch/>
        </p:blipFill>
        <p:spPr>
          <a:xfrm>
            <a:off x="395280" y="1031760"/>
            <a:ext cx="3816360" cy="255744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9" descr=""/>
          <p:cNvPicPr/>
          <p:nvPr/>
        </p:nvPicPr>
        <p:blipFill>
          <a:blip r:embed="rId2"/>
          <a:stretch/>
        </p:blipFill>
        <p:spPr>
          <a:xfrm>
            <a:off x="4336920" y="1031760"/>
            <a:ext cx="4627800" cy="3459240"/>
          </a:xfrm>
          <a:prstGeom prst="rect">
            <a:avLst/>
          </a:prstGeom>
          <a:ln w="0">
            <a:noFill/>
          </a:ln>
        </p:spPr>
      </p:pic>
      <p:sp>
        <p:nvSpPr>
          <p:cNvPr id="298" name="矩形 16"/>
          <p:cNvSpPr/>
          <p:nvPr/>
        </p:nvSpPr>
        <p:spPr>
          <a:xfrm>
            <a:off x="534960" y="3635280"/>
            <a:ext cx="37274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进店赏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员跟进自己邀约的客户，其他服务人员做好接待指引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528480" y="4678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1" descr=""/>
          <p:cNvPicPr/>
          <p:nvPr/>
        </p:nvPicPr>
        <p:blipFill>
          <a:blip r:embed="rId1"/>
          <a:stretch/>
        </p:blipFill>
        <p:spPr>
          <a:xfrm>
            <a:off x="-376200" y="-3240"/>
            <a:ext cx="6875280" cy="5164200"/>
          </a:xfrm>
          <a:prstGeom prst="rect">
            <a:avLst/>
          </a:prstGeom>
          <a:ln w="0">
            <a:noFill/>
          </a:ln>
        </p:spPr>
      </p:pic>
      <p:sp>
        <p:nvSpPr>
          <p:cNvPr id="56" name="矩形 3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5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6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7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2008080" y="5157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矩形 12" descr=""/>
          <p:cNvPicPr/>
          <p:nvPr/>
        </p:nvPicPr>
        <p:blipFill>
          <a:blip r:embed="rId2"/>
          <a:stretch/>
        </p:blipFill>
        <p:spPr>
          <a:xfrm>
            <a:off x="5851440" y="334800"/>
            <a:ext cx="3110040" cy="1451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3"/>
          <p:cNvSpPr/>
          <p:nvPr/>
        </p:nvSpPr>
        <p:spPr>
          <a:xfrm>
            <a:off x="6516720" y="1522440"/>
            <a:ext cx="268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恭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780b"/>
                </a:solidFill>
                <a:latin typeface="微软雅黑"/>
                <a:ea typeface="微软雅黑"/>
              </a:rPr>
              <a:t>郑州日产画仓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780b"/>
                </a:solidFill>
                <a:latin typeface="微软雅黑"/>
                <a:ea typeface="微软雅黑"/>
              </a:rPr>
              <a:t>开业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活动分工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5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工安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057320"/>
          <a:ext cx="8370720" cy="3693960"/>
        </p:xfrm>
        <a:graphic>
          <a:graphicData uri="http://schemas.openxmlformats.org/drawingml/2006/table">
            <a:tbl>
              <a:tblPr/>
              <a:tblGrid>
                <a:gridCol w="1568520"/>
                <a:gridCol w="1338120"/>
                <a:gridCol w="5464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组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负责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工作职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全保卫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秩序维护，保安工作的执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入口、贵宾来宾车辆导引及指示牌的指向，位置的合理性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物品看管及场内安全措施的进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信息资料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项目涉及的所有资料、文字、图片统一收集、管理，并及时传给承办执行单位，便于更好的组织、完善整场活动进行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活动资料归集与内部工作信息传达及发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主席台卡与座位区域卡的打印与准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领导讲话稿的修改与打印准备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组委会提供的其他资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执行指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全面监督、把控活动现场的各个流程、环节及质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全面统筹、调度活动现场各人力、物力及资源的分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全面监督、把控活动的进程、质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统一指挥活动执行的各小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负责与主办单位的沟通、协调及相关问题处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活动分工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25320" y="878040"/>
          <a:ext cx="8159760" cy="4066920"/>
        </p:xfrm>
        <a:graphic>
          <a:graphicData uri="http://schemas.openxmlformats.org/drawingml/2006/table">
            <a:tbl>
              <a:tblPr/>
              <a:tblGrid>
                <a:gridCol w="1195560"/>
                <a:gridCol w="1635120"/>
                <a:gridCol w="53290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组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负责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工作职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程监理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施工的组织与安全管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当天现场工程临时调整与掌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音响设备的调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源供给情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对现场布置的质量，数量及美观的检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后勤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办方（协助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现场布置，流程，控制与查漏补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与现场施工的衔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现场桌卡人员名单等环节的准备与检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急预案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执行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天气变化应急措施的准备与实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突发事件的应急措施的准备与实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撤场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、执行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现场撤退与物资清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撤场秩序的维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影像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摄影、摄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前期视频影像的准备与制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影像成品资料的整理与剪辑完成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DVD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制作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后领导照片与影像资料等图册的归档与寄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矩形 10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11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12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3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工安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3637080" y="500076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F:\115同步盘\图片素材\图片包\63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06400" y="0"/>
            <a:ext cx="7473960" cy="49831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活动物料清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7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8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9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0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工安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1"/>
          <p:cNvSpPr/>
          <p:nvPr/>
        </p:nvSpPr>
        <p:spPr>
          <a:xfrm>
            <a:off x="446040" y="2065320"/>
            <a:ext cx="8115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郑州日产开业庆典活动物料清单明细见附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请点击链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x201i\Desktop\未标题-1.png"/>
          <p:cNvPicPr/>
          <p:nvPr/>
        </p:nvPicPr>
        <p:blipFill>
          <a:blip r:embed="rId1"/>
          <a:stretch/>
        </p:blipFill>
        <p:spPr>
          <a:xfrm>
            <a:off x="3881520" y="824040"/>
            <a:ext cx="5298840" cy="48909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6" descr=""/>
          <p:cNvPicPr/>
          <p:nvPr/>
        </p:nvPicPr>
        <p:blipFill>
          <a:blip r:embed="rId2"/>
          <a:stretch/>
        </p:blipFill>
        <p:spPr>
          <a:xfrm>
            <a:off x="1112760" y="2608200"/>
            <a:ext cx="3803760" cy="28544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4028400" y="1870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敬请雅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Users\x201i\Desktop\未标题-22.png"/>
          <p:cNvPicPr/>
          <p:nvPr/>
        </p:nvPicPr>
        <p:blipFill>
          <a:blip r:embed="rId3"/>
          <a:srcRect l="0" t="23144" r="0" b="0"/>
          <a:stretch/>
        </p:blipFill>
        <p:spPr>
          <a:xfrm>
            <a:off x="3203640" y="1906560"/>
            <a:ext cx="342432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TextBox 1"/>
          <p:cNvGrpSpPr/>
          <p:nvPr/>
        </p:nvGrpSpPr>
        <p:grpSpPr>
          <a:xfrm>
            <a:off x="901800" y="1090440"/>
            <a:ext cx="7394400" cy="2414880"/>
            <a:chOff x="901800" y="1090440"/>
            <a:chExt cx="7394400" cy="2414880"/>
          </a:xfrm>
        </p:grpSpPr>
        <p:pic>
          <p:nvPicPr>
            <p:cNvPr id="66" name="TextBox 1" descr=""/>
            <p:cNvPicPr/>
            <p:nvPr/>
          </p:nvPicPr>
          <p:blipFill>
            <a:blip r:embed="rId1"/>
            <a:stretch/>
          </p:blipFill>
          <p:spPr>
            <a:xfrm>
              <a:off x="901800" y="1090440"/>
              <a:ext cx="739440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477800" y="1344600"/>
              <a:ext cx="618660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“</a:t>
              </a:r>
              <a:r>
                <a:rPr b="1" lang="zh-CN" sz="48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魅力科技   成功力量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郑州日产画仓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S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店</a:t>
              </a: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开业庆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1"/>
          <p:cNvSpPr/>
          <p:nvPr/>
        </p:nvSpPr>
        <p:spPr>
          <a:xfrm>
            <a:off x="942120" y="409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开业活动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7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2008080" y="5157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1"/>
          <p:cNvSpPr/>
          <p:nvPr/>
        </p:nvSpPr>
        <p:spPr>
          <a:xfrm>
            <a:off x="916560" y="336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开业活动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13"/>
          <p:cNvGrpSpPr/>
          <p:nvPr/>
        </p:nvGrpSpPr>
        <p:grpSpPr>
          <a:xfrm>
            <a:off x="520560" y="1614600"/>
            <a:ext cx="1978200" cy="2408040"/>
            <a:chOff x="520560" y="1614600"/>
            <a:chExt cx="1978200" cy="2408040"/>
          </a:xfrm>
        </p:grpSpPr>
        <p:sp>
          <p:nvSpPr>
            <p:cNvPr id="78" name="圆角矩形 1"/>
            <p:cNvSpPr/>
            <p:nvPr/>
          </p:nvSpPr>
          <p:spPr>
            <a:xfrm>
              <a:off x="520560" y="1618560"/>
              <a:ext cx="1771560" cy="2404080"/>
            </a:xfrm>
            <a:prstGeom prst="pie">
              <a:avLst/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0" bIns="46800" anchor="t">
              <a:norm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传达郑州日产画仓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S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店开业消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"/>
            <p:cNvSpPr/>
            <p:nvPr/>
          </p:nvSpPr>
          <p:spPr>
            <a:xfrm rot="16200000">
              <a:off x="1185840" y="2697120"/>
              <a:ext cx="2395440" cy="230040"/>
            </a:xfrm>
            <a:custGeom>
              <a:avLst/>
              <a:gdLst>
                <a:gd name="textAreaLeft" fmla="*/ 295560 w 2395440"/>
                <a:gd name="textAreaRight" fmla="*/ 2099880 w 2395440"/>
                <a:gd name="textAreaTop" fmla="*/ 28080 h 230040"/>
                <a:gd name="textAreaBottom" fmla="*/ 201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3"/>
            <p:cNvSpPr/>
            <p:nvPr/>
          </p:nvSpPr>
          <p:spPr>
            <a:xfrm>
              <a:off x="1671480" y="3101040"/>
              <a:ext cx="61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17"/>
          <p:cNvGrpSpPr/>
          <p:nvPr/>
        </p:nvGrpSpPr>
        <p:grpSpPr>
          <a:xfrm>
            <a:off x="2579760" y="1606680"/>
            <a:ext cx="1981080" cy="2411280"/>
            <a:chOff x="2579760" y="1606680"/>
            <a:chExt cx="1981080" cy="2411280"/>
          </a:xfrm>
        </p:grpSpPr>
        <p:sp>
          <p:nvSpPr>
            <p:cNvPr id="82" name="AutoShape 3"/>
            <p:cNvSpPr/>
            <p:nvPr/>
          </p:nvSpPr>
          <p:spPr>
            <a:xfrm rot="16200000">
              <a:off x="3247920" y="2697120"/>
              <a:ext cx="2395440" cy="230040"/>
            </a:xfrm>
            <a:custGeom>
              <a:avLst/>
              <a:gdLst>
                <a:gd name="textAreaLeft" fmla="*/ 295560 w 2395440"/>
                <a:gd name="textAreaRight" fmla="*/ 2099880 w 2395440"/>
                <a:gd name="textAreaTop" fmla="*/ 28080 h 230040"/>
                <a:gd name="textAreaBottom" fmla="*/ 201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 1"/>
            <p:cNvSpPr/>
            <p:nvPr/>
          </p:nvSpPr>
          <p:spPr>
            <a:xfrm>
              <a:off x="2579760" y="1606680"/>
              <a:ext cx="1770120" cy="2403360"/>
            </a:xfrm>
            <a:prstGeom prst="pie">
              <a:avLst/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借助媒体力量提升郑州日产知名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3735360" y="3101040"/>
              <a:ext cx="61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21"/>
          <p:cNvGrpSpPr/>
          <p:nvPr/>
        </p:nvGrpSpPr>
        <p:grpSpPr>
          <a:xfrm>
            <a:off x="4648320" y="1614600"/>
            <a:ext cx="1990440" cy="2408040"/>
            <a:chOff x="4648320" y="1614600"/>
            <a:chExt cx="1990440" cy="2408040"/>
          </a:xfrm>
        </p:grpSpPr>
        <p:sp>
          <p:nvSpPr>
            <p:cNvPr id="86" name="AutoShape 3"/>
            <p:cNvSpPr/>
            <p:nvPr/>
          </p:nvSpPr>
          <p:spPr>
            <a:xfrm rot="16200000">
              <a:off x="5325840" y="2697120"/>
              <a:ext cx="2395440" cy="230040"/>
            </a:xfrm>
            <a:custGeom>
              <a:avLst/>
              <a:gdLst>
                <a:gd name="textAreaLeft" fmla="*/ 295560 w 2395440"/>
                <a:gd name="textAreaRight" fmla="*/ 2099880 w 2395440"/>
                <a:gd name="textAreaTop" fmla="*/ 28080 h 230040"/>
                <a:gd name="textAreaBottom" fmla="*/ 201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圆角矩形 1"/>
            <p:cNvSpPr/>
            <p:nvPr/>
          </p:nvSpPr>
          <p:spPr>
            <a:xfrm>
              <a:off x="4648320" y="1619280"/>
              <a:ext cx="1771560" cy="2403360"/>
            </a:xfrm>
            <a:prstGeom prst="pie">
              <a:avLst/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吸引汇聚潜在客户到店赏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5800680" y="3101040"/>
              <a:ext cx="61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25"/>
          <p:cNvGrpSpPr/>
          <p:nvPr/>
        </p:nvGrpSpPr>
        <p:grpSpPr>
          <a:xfrm>
            <a:off x="6713640" y="1614600"/>
            <a:ext cx="1990800" cy="2408040"/>
            <a:chOff x="6713640" y="1614600"/>
            <a:chExt cx="1990800" cy="2408040"/>
          </a:xfrm>
        </p:grpSpPr>
        <p:sp>
          <p:nvSpPr>
            <p:cNvPr id="90" name="AutoShape 3"/>
            <p:cNvSpPr/>
            <p:nvPr/>
          </p:nvSpPr>
          <p:spPr>
            <a:xfrm rot="16200000">
              <a:off x="7391520" y="2697120"/>
              <a:ext cx="2395440" cy="230040"/>
            </a:xfrm>
            <a:custGeom>
              <a:avLst/>
              <a:gdLst>
                <a:gd name="textAreaLeft" fmla="*/ 295560 w 2395440"/>
                <a:gd name="textAreaRight" fmla="*/ 2099880 w 2395440"/>
                <a:gd name="textAreaTop" fmla="*/ 28080 h 230040"/>
                <a:gd name="textAreaBottom" fmla="*/ 201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1"/>
            <p:cNvSpPr/>
            <p:nvPr/>
          </p:nvSpPr>
          <p:spPr>
            <a:xfrm>
              <a:off x="6713640" y="1619280"/>
              <a:ext cx="1771920" cy="2403360"/>
            </a:xfrm>
            <a:prstGeom prst="pie">
              <a:avLst/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促成新车销售提升售后效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>
              <a:off x="7866360" y="3101040"/>
              <a:ext cx="61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42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3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4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5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6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2008080" y="5157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1"/>
          <p:cNvSpPr/>
          <p:nvPr/>
        </p:nvSpPr>
        <p:spPr>
          <a:xfrm>
            <a:off x="1422360" y="4010040"/>
            <a:ext cx="6335640" cy="1015920"/>
          </a:xfrm>
          <a:prstGeom prst="pie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16200000"/>
          </a:gradFill>
          <a:ln w="3240">
            <a:solidFill>
              <a:srgbClr val="d7d7d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推广郑州日产画仓店为主脉络的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下箭头标注 2"/>
          <p:cNvSpPr/>
          <p:nvPr/>
        </p:nvSpPr>
        <p:spPr>
          <a:xfrm>
            <a:off x="3816360" y="1201680"/>
            <a:ext cx="1584360" cy="147168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场体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下箭头标注 3"/>
          <p:cNvSpPr/>
          <p:nvPr/>
        </p:nvSpPr>
        <p:spPr>
          <a:xfrm>
            <a:off x="6192720" y="1230480"/>
            <a:ext cx="1584360" cy="1473120"/>
          </a:xfrm>
          <a:prstGeom prst="downArrowCallout">
            <a:avLst>
              <a:gd name="adj1" fmla="val 25008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互动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箭头标注 4"/>
          <p:cNvSpPr/>
          <p:nvPr/>
        </p:nvSpPr>
        <p:spPr>
          <a:xfrm>
            <a:off x="1441440" y="1230480"/>
            <a:ext cx="1584360" cy="1473120"/>
          </a:xfrm>
          <a:prstGeom prst="downArrowCallout">
            <a:avLst>
              <a:gd name="adj1" fmla="val 25008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车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040760" y="336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开业活动表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下箭头标注 6"/>
          <p:cNvSpPr/>
          <p:nvPr/>
        </p:nvSpPr>
        <p:spPr>
          <a:xfrm>
            <a:off x="3797280" y="2712960"/>
            <a:ext cx="1584360" cy="1473120"/>
          </a:xfrm>
          <a:prstGeom prst="downArrowCallout">
            <a:avLst>
              <a:gd name="adj1" fmla="val 25008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营销团队引导客户，留下客户详细信息，为后续跟进服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下箭头标注 7"/>
          <p:cNvSpPr/>
          <p:nvPr/>
        </p:nvSpPr>
        <p:spPr>
          <a:xfrm>
            <a:off x="6173640" y="2743200"/>
            <a:ext cx="1584360" cy="147168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加深对画仓店的认知度，产生订单，维系客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下箭头标注 8"/>
          <p:cNvSpPr/>
          <p:nvPr/>
        </p:nvSpPr>
        <p:spPr>
          <a:xfrm>
            <a:off x="1422360" y="2743200"/>
            <a:ext cx="1584360" cy="147168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郑州日产画仓</a:t>
            </a: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S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店品牌形象展示，营销团队展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9640" y="5383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3"/>
          <p:cNvGrpSpPr/>
          <p:nvPr/>
        </p:nvGrpSpPr>
        <p:grpSpPr>
          <a:xfrm>
            <a:off x="1368360" y="1919160"/>
            <a:ext cx="6553440" cy="2744640"/>
            <a:chOff x="1368360" y="1919160"/>
            <a:chExt cx="6553440" cy="2744640"/>
          </a:xfrm>
        </p:grpSpPr>
        <p:sp>
          <p:nvSpPr>
            <p:cNvPr id="110" name="AutoShape 14"/>
            <p:cNvSpPr/>
            <p:nvPr/>
          </p:nvSpPr>
          <p:spPr>
            <a:xfrm>
              <a:off x="1868400" y="2215800"/>
              <a:ext cx="1114200" cy="111456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3849840" y="2215800"/>
              <a:ext cx="1114200" cy="111456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AutoShape 18"/>
            <p:cNvCxnSpPr/>
            <p:nvPr/>
          </p:nvCxnSpPr>
          <p:spPr>
            <a:xfrm>
              <a:off x="2880720" y="2772360"/>
              <a:ext cx="86760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cxnSp>
          <p:nvCxnSpPr>
            <p:cNvPr id="113" name="AutoShape 19"/>
            <p:cNvCxnSpPr/>
            <p:nvPr/>
          </p:nvCxnSpPr>
          <p:spPr>
            <a:xfrm>
              <a:off x="5245200" y="2772360"/>
              <a:ext cx="87696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sp>
          <p:nvSpPr>
            <p:cNvPr id="114" name="Text Box 25"/>
            <p:cNvSpPr/>
            <p:nvPr/>
          </p:nvSpPr>
          <p:spPr>
            <a:xfrm>
              <a:off x="1512360" y="3717360"/>
              <a:ext cx="16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前期安排在深圳报纸媒体及网络媒体发布新店即将开业的消息，电话询问的有礼相赠，到店领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6"/>
            <p:cNvSpPr/>
            <p:nvPr/>
          </p:nvSpPr>
          <p:spPr>
            <a:xfrm>
              <a:off x="4002480" y="3711600"/>
              <a:ext cx="16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群发新店开业信息，到店赏车有礼，通过网络组织赏车团，在开业前期组织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-3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赏车试驾活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7"/>
            <p:cNvSpPr/>
            <p:nvPr/>
          </p:nvSpPr>
          <p:spPr>
            <a:xfrm>
              <a:off x="6307200" y="3717360"/>
              <a:ext cx="16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业前期准备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-8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辆新车在新店附近进行巡展，派发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M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，宣传开业庆典活动时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368360" y="1919160"/>
              <a:ext cx="1849320" cy="170676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媒体预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5"/>
            <p:cNvSpPr/>
            <p:nvPr/>
          </p:nvSpPr>
          <p:spPr>
            <a:xfrm>
              <a:off x="3816360" y="1919160"/>
              <a:ext cx="1792440" cy="170676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网络营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6"/>
            <p:cNvSpPr/>
            <p:nvPr/>
          </p:nvSpPr>
          <p:spPr>
            <a:xfrm>
              <a:off x="6142320" y="1919160"/>
              <a:ext cx="1708200" cy="170676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新车巡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11"/>
          <p:cNvSpPr/>
          <p:nvPr/>
        </p:nvSpPr>
        <p:spPr>
          <a:xfrm>
            <a:off x="1228680" y="336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策划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3441240" y="1457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业庆典活动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前期的市场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4"/>
          <p:cNvGrpSpPr/>
          <p:nvPr/>
        </p:nvGrpSpPr>
        <p:grpSpPr>
          <a:xfrm>
            <a:off x="58680" y="1944720"/>
            <a:ext cx="9225000" cy="2543040"/>
            <a:chOff x="58680" y="1944720"/>
            <a:chExt cx="9225000" cy="2543040"/>
          </a:xfrm>
        </p:grpSpPr>
        <p:cxnSp>
          <p:nvCxnSpPr>
            <p:cNvPr id="123" name="AutoShape 20"/>
            <p:cNvCxnSpPr/>
            <p:nvPr/>
          </p:nvCxnSpPr>
          <p:spPr>
            <a:xfrm>
              <a:off x="6828840" y="2834280"/>
              <a:ext cx="82944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sp>
          <p:nvSpPr>
            <p:cNvPr id="124" name="AutoShape 14"/>
            <p:cNvSpPr/>
            <p:nvPr/>
          </p:nvSpPr>
          <p:spPr>
            <a:xfrm>
              <a:off x="112320" y="2259000"/>
              <a:ext cx="1114200" cy="111420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2093760" y="2259000"/>
              <a:ext cx="1114200" cy="111420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6"/>
            <p:cNvSpPr/>
            <p:nvPr/>
          </p:nvSpPr>
          <p:spPr>
            <a:xfrm>
              <a:off x="4084560" y="2259000"/>
              <a:ext cx="1114200" cy="111420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7"/>
            <p:cNvSpPr/>
            <p:nvPr/>
          </p:nvSpPr>
          <p:spPr>
            <a:xfrm>
              <a:off x="6027840" y="2259000"/>
              <a:ext cx="1114200" cy="111420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AutoShape 18"/>
            <p:cNvCxnSpPr>
              <a:stCxn id="124" idx="3"/>
              <a:endCxn id="125" idx="1"/>
            </p:cNvCxnSpPr>
            <p:nvPr/>
          </p:nvCxnSpPr>
          <p:spPr>
            <a:xfrm>
              <a:off x="1227240" y="2815200"/>
              <a:ext cx="86760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cxnSp>
          <p:nvCxnSpPr>
            <p:cNvPr id="129" name="AutoShape 19"/>
            <p:cNvCxnSpPr>
              <a:stCxn id="125" idx="3"/>
              <a:endCxn id="126" idx="1"/>
            </p:cNvCxnSpPr>
            <p:nvPr/>
          </p:nvCxnSpPr>
          <p:spPr>
            <a:xfrm>
              <a:off x="3208680" y="2815200"/>
              <a:ext cx="87696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cxnSp>
          <p:nvCxnSpPr>
            <p:cNvPr id="130" name="AutoShape 20"/>
            <p:cNvCxnSpPr>
              <a:stCxn id="126" idx="3"/>
              <a:endCxn id="127" idx="1"/>
            </p:cNvCxnSpPr>
            <p:nvPr/>
          </p:nvCxnSpPr>
          <p:spPr>
            <a:xfrm>
              <a:off x="5199840" y="2815200"/>
              <a:ext cx="82944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sp>
          <p:nvSpPr>
            <p:cNvPr id="131" name="Text Box 25"/>
            <p:cNvSpPr/>
            <p:nvPr/>
          </p:nvSpPr>
          <p:spPr>
            <a:xfrm>
              <a:off x="58680" y="3668760"/>
              <a:ext cx="161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让到店的潜在客户和新老客户都能够成为画仓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S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店的口碑传播人，因此可以给出当天订车的一些优惠项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6"/>
            <p:cNvSpPr/>
            <p:nvPr/>
          </p:nvSpPr>
          <p:spPr>
            <a:xfrm>
              <a:off x="1802160" y="3754440"/>
              <a:ext cx="1614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凡老客户推荐新客户当天下订单的都有礼品或者是维修现金券赠送     （金额待定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3817080" y="3760200"/>
              <a:ext cx="161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凡当天到店，并参与了到店客户问卷调研，留下详细资料的都获得一份购车优惠券或者精品换购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8"/>
            <p:cNvSpPr/>
            <p:nvPr/>
          </p:nvSpPr>
          <p:spPr>
            <a:xfrm>
              <a:off x="5778720" y="3793320"/>
              <a:ext cx="161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凡新老车主到店的可参加售后“三免一送”的抽奖活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>
              <a:off x="112320" y="1962000"/>
              <a:ext cx="1689120" cy="170640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现场订车大优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5"/>
            <p:cNvSpPr/>
            <p:nvPr/>
          </p:nvSpPr>
          <p:spPr>
            <a:xfrm>
              <a:off x="1914480" y="1962000"/>
              <a:ext cx="1793880" cy="170640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老客户介绍新客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“</a:t>
              </a: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有礼相送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6"/>
            <p:cNvSpPr/>
            <p:nvPr/>
          </p:nvSpPr>
          <p:spPr>
            <a:xfrm>
              <a:off x="3801960" y="1944720"/>
              <a:ext cx="1706400" cy="170640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“</a:t>
              </a: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进店有礼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7"/>
            <p:cNvSpPr/>
            <p:nvPr/>
          </p:nvSpPr>
          <p:spPr>
            <a:xfrm>
              <a:off x="5602320" y="1962000"/>
              <a:ext cx="1706400" cy="170640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售后“三免一送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7669080" y="3793320"/>
              <a:ext cx="16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车购买送豪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1228680" y="336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策划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3203280" y="11811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业庆典现场突出的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营销亮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7380360" y="1994040"/>
            <a:ext cx="1706400" cy="1706400"/>
          </a:xfrm>
          <a:prstGeom prst="diamond">
            <a:avLst/>
          </a:prstGeom>
          <a:gradFill rotWithShape="0">
            <a:gsLst>
              <a:gs pos="0">
                <a:srgbClr val="ff4040"/>
              </a:gs>
              <a:gs pos="100000">
                <a:srgbClr val="c00000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9f9f9"/>
                </a:solidFill>
                <a:latin typeface="微软雅黑"/>
                <a:ea typeface="微软雅黑"/>
              </a:rPr>
              <a:t>豪礼促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9f9f9"/>
                </a:solidFill>
                <a:latin typeface="微软雅黑"/>
                <a:ea typeface="微软雅黑"/>
              </a:rPr>
              <a:t>（大家庭泰国游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9f9f9"/>
                </a:solidFill>
                <a:latin typeface="微软雅黑"/>
                <a:ea typeface="微软雅黑"/>
              </a:rPr>
              <a:t>买车即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3"/>
          <p:cNvGrpSpPr/>
          <p:nvPr/>
        </p:nvGrpSpPr>
        <p:grpSpPr>
          <a:xfrm>
            <a:off x="1895400" y="1198440"/>
            <a:ext cx="5581800" cy="648000"/>
            <a:chOff x="1895400" y="1198440"/>
            <a:chExt cx="5581800" cy="648000"/>
          </a:xfrm>
        </p:grpSpPr>
        <p:grpSp>
          <p:nvGrpSpPr>
            <p:cNvPr id="144" name="组合 4"/>
            <p:cNvGrpSpPr/>
            <p:nvPr/>
          </p:nvGrpSpPr>
          <p:grpSpPr>
            <a:xfrm>
              <a:off x="1895400" y="1207800"/>
              <a:ext cx="5581800" cy="625680"/>
              <a:chOff x="1895400" y="1207800"/>
              <a:chExt cx="5581800" cy="625680"/>
            </a:xfrm>
          </p:grpSpPr>
          <p:sp>
            <p:nvSpPr>
              <p:cNvPr id="145" name="矩形 6"/>
              <p:cNvSpPr/>
              <p:nvPr/>
            </p:nvSpPr>
            <p:spPr>
              <a:xfrm>
                <a:off x="1895400" y="1207800"/>
                <a:ext cx="5581800" cy="625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 7"/>
              <p:cNvSpPr/>
              <p:nvPr/>
            </p:nvSpPr>
            <p:spPr>
              <a:xfrm>
                <a:off x="1895400" y="1207800"/>
                <a:ext cx="558180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rm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8"/>
              <p:cNvSpPr/>
              <p:nvPr/>
            </p:nvSpPr>
            <p:spPr>
              <a:xfrm>
                <a:off x="1938600" y="1236600"/>
                <a:ext cx="5506560" cy="56124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38"/>
            <p:cNvSpPr/>
            <p:nvPr/>
          </p:nvSpPr>
          <p:spPr>
            <a:xfrm>
              <a:off x="2372040" y="1198440"/>
              <a:ext cx="4977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12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年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1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月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3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日（周五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9"/>
          <p:cNvGrpSpPr/>
          <p:nvPr/>
        </p:nvGrpSpPr>
        <p:grpSpPr>
          <a:xfrm>
            <a:off x="2254320" y="2135160"/>
            <a:ext cx="5580000" cy="647640"/>
            <a:chOff x="2254320" y="2135160"/>
            <a:chExt cx="5580000" cy="647640"/>
          </a:xfrm>
        </p:grpSpPr>
        <p:grpSp>
          <p:nvGrpSpPr>
            <p:cNvPr id="150" name="组合 10"/>
            <p:cNvGrpSpPr/>
            <p:nvPr/>
          </p:nvGrpSpPr>
          <p:grpSpPr>
            <a:xfrm>
              <a:off x="2254320" y="2144520"/>
              <a:ext cx="5580000" cy="625320"/>
              <a:chOff x="2254320" y="2144520"/>
              <a:chExt cx="5580000" cy="625320"/>
            </a:xfrm>
          </p:grpSpPr>
          <p:sp>
            <p:nvSpPr>
              <p:cNvPr id="151" name="矩形 12"/>
              <p:cNvSpPr/>
              <p:nvPr/>
            </p:nvSpPr>
            <p:spPr>
              <a:xfrm>
                <a:off x="2254320" y="2144520"/>
                <a:ext cx="5580000" cy="625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矩形 13"/>
              <p:cNvSpPr/>
              <p:nvPr/>
            </p:nvSpPr>
            <p:spPr>
              <a:xfrm>
                <a:off x="2254320" y="2144520"/>
                <a:ext cx="55800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rm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14"/>
              <p:cNvSpPr/>
              <p:nvPr/>
            </p:nvSpPr>
            <p:spPr>
              <a:xfrm>
                <a:off x="2297520" y="2173320"/>
                <a:ext cx="5505120" cy="56088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38"/>
            <p:cNvSpPr/>
            <p:nvPr/>
          </p:nvSpPr>
          <p:spPr>
            <a:xfrm>
              <a:off x="2730240" y="2135160"/>
              <a:ext cx="4977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上午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9:30——11: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5"/>
          <p:cNvGrpSpPr/>
          <p:nvPr/>
        </p:nvGrpSpPr>
        <p:grpSpPr>
          <a:xfrm>
            <a:off x="2254320" y="3073320"/>
            <a:ext cx="5630760" cy="647640"/>
            <a:chOff x="2254320" y="3073320"/>
            <a:chExt cx="5630760" cy="647640"/>
          </a:xfrm>
        </p:grpSpPr>
        <p:grpSp>
          <p:nvGrpSpPr>
            <p:cNvPr id="156" name="组合 16"/>
            <p:cNvGrpSpPr/>
            <p:nvPr/>
          </p:nvGrpSpPr>
          <p:grpSpPr>
            <a:xfrm>
              <a:off x="2254320" y="3082680"/>
              <a:ext cx="5581800" cy="625320"/>
              <a:chOff x="2254320" y="3082680"/>
              <a:chExt cx="5581800" cy="625320"/>
            </a:xfrm>
          </p:grpSpPr>
          <p:sp>
            <p:nvSpPr>
              <p:cNvPr id="157" name="矩形 18"/>
              <p:cNvSpPr/>
              <p:nvPr/>
            </p:nvSpPr>
            <p:spPr>
              <a:xfrm>
                <a:off x="2254320" y="3082680"/>
                <a:ext cx="5581800" cy="625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矩形 19"/>
              <p:cNvSpPr/>
              <p:nvPr/>
            </p:nvSpPr>
            <p:spPr>
              <a:xfrm>
                <a:off x="2254320" y="3082680"/>
                <a:ext cx="55818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rm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矩形 20"/>
              <p:cNvSpPr/>
              <p:nvPr/>
            </p:nvSpPr>
            <p:spPr>
              <a:xfrm>
                <a:off x="2297520" y="3111480"/>
                <a:ext cx="5506560" cy="56088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Rectangle 38"/>
            <p:cNvSpPr/>
            <p:nvPr/>
          </p:nvSpPr>
          <p:spPr>
            <a:xfrm>
              <a:off x="2658960" y="3073320"/>
              <a:ext cx="52261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深圳宝安区福永街道怀德南路与</a:t>
              </a:r>
              <a:r>
                <a:rPr b="1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07</a:t>
              </a: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国道交汇处东方国际车城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21"/>
          <p:cNvGrpSpPr/>
          <p:nvPr/>
        </p:nvGrpSpPr>
        <p:grpSpPr>
          <a:xfrm>
            <a:off x="1895400" y="4011480"/>
            <a:ext cx="5581800" cy="648000"/>
            <a:chOff x="1895400" y="4011480"/>
            <a:chExt cx="5581800" cy="648000"/>
          </a:xfrm>
        </p:grpSpPr>
        <p:grpSp>
          <p:nvGrpSpPr>
            <p:cNvPr id="162" name="组合 22"/>
            <p:cNvGrpSpPr/>
            <p:nvPr/>
          </p:nvGrpSpPr>
          <p:grpSpPr>
            <a:xfrm>
              <a:off x="1895400" y="4020840"/>
              <a:ext cx="5581800" cy="625680"/>
              <a:chOff x="1895400" y="4020840"/>
              <a:chExt cx="5581800" cy="625680"/>
            </a:xfrm>
          </p:grpSpPr>
          <p:sp>
            <p:nvSpPr>
              <p:cNvPr id="163" name="矩形 24"/>
              <p:cNvSpPr/>
              <p:nvPr/>
            </p:nvSpPr>
            <p:spPr>
              <a:xfrm>
                <a:off x="1895400" y="4020840"/>
                <a:ext cx="5581800" cy="625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25"/>
              <p:cNvSpPr/>
              <p:nvPr/>
            </p:nvSpPr>
            <p:spPr>
              <a:xfrm>
                <a:off x="1895400" y="4020840"/>
                <a:ext cx="558180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rm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26"/>
              <p:cNvSpPr/>
              <p:nvPr/>
            </p:nvSpPr>
            <p:spPr>
              <a:xfrm>
                <a:off x="1938600" y="4049640"/>
                <a:ext cx="5506560" cy="56124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38"/>
            <p:cNvSpPr/>
            <p:nvPr/>
          </p:nvSpPr>
          <p:spPr>
            <a:xfrm>
              <a:off x="2372040" y="4011480"/>
              <a:ext cx="4977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邀约对象：潜在客户、新老客户、媒体单位、厂家领导、集团嘉宾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7"/>
          <p:cNvGrpSpPr/>
          <p:nvPr/>
        </p:nvGrpSpPr>
        <p:grpSpPr>
          <a:xfrm>
            <a:off x="1504800" y="1128600"/>
            <a:ext cx="781200" cy="782640"/>
            <a:chOff x="1504800" y="1128600"/>
            <a:chExt cx="781200" cy="782640"/>
          </a:xfrm>
        </p:grpSpPr>
        <p:sp>
          <p:nvSpPr>
            <p:cNvPr id="168" name="椭圆 28"/>
            <p:cNvSpPr/>
            <p:nvPr/>
          </p:nvSpPr>
          <p:spPr>
            <a:xfrm>
              <a:off x="1504800" y="1128600"/>
              <a:ext cx="781200" cy="78264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9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84000" y="1144440"/>
              <a:ext cx="614520" cy="29988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30"/>
          <p:cNvGrpSpPr/>
          <p:nvPr/>
        </p:nvGrpSpPr>
        <p:grpSpPr>
          <a:xfrm>
            <a:off x="1863720" y="2066760"/>
            <a:ext cx="781200" cy="782640"/>
            <a:chOff x="1863720" y="2066760"/>
            <a:chExt cx="781200" cy="782640"/>
          </a:xfrm>
        </p:grpSpPr>
        <p:sp>
          <p:nvSpPr>
            <p:cNvPr id="171" name="椭圆 31"/>
            <p:cNvSpPr/>
            <p:nvPr/>
          </p:nvSpPr>
          <p:spPr>
            <a:xfrm>
              <a:off x="1863720" y="2066760"/>
              <a:ext cx="781200" cy="78264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9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942920" y="2082600"/>
              <a:ext cx="614520" cy="29988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3"/>
          <p:cNvGrpSpPr/>
          <p:nvPr/>
        </p:nvGrpSpPr>
        <p:grpSpPr>
          <a:xfrm>
            <a:off x="1863720" y="3005280"/>
            <a:ext cx="781200" cy="780840"/>
            <a:chOff x="1863720" y="3005280"/>
            <a:chExt cx="781200" cy="780840"/>
          </a:xfrm>
        </p:grpSpPr>
        <p:sp>
          <p:nvSpPr>
            <p:cNvPr id="174" name="椭圆 34"/>
            <p:cNvSpPr/>
            <p:nvPr/>
          </p:nvSpPr>
          <p:spPr>
            <a:xfrm>
              <a:off x="1863720" y="3005280"/>
              <a:ext cx="781200" cy="78084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9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1942920" y="3021120"/>
              <a:ext cx="614520" cy="29988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36"/>
          <p:cNvGrpSpPr/>
          <p:nvPr/>
        </p:nvGrpSpPr>
        <p:grpSpPr>
          <a:xfrm>
            <a:off x="1504800" y="3943440"/>
            <a:ext cx="781200" cy="780840"/>
            <a:chOff x="1504800" y="3943440"/>
            <a:chExt cx="781200" cy="780840"/>
          </a:xfrm>
        </p:grpSpPr>
        <p:sp>
          <p:nvSpPr>
            <p:cNvPr id="177" name="椭圆 37"/>
            <p:cNvSpPr/>
            <p:nvPr/>
          </p:nvSpPr>
          <p:spPr>
            <a:xfrm>
              <a:off x="1504800" y="3943440"/>
              <a:ext cx="781200" cy="78084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9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584000" y="3959280"/>
              <a:ext cx="614520" cy="29988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11"/>
          <p:cNvSpPr/>
          <p:nvPr/>
        </p:nvSpPr>
        <p:spPr>
          <a:xfrm>
            <a:off x="1228680" y="336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策划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0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1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42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43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44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实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287280" y="1417680"/>
            <a:ext cx="8821800" cy="736560"/>
          </a:xfrm>
          <a:prstGeom prst="rightArrow">
            <a:avLst>
              <a:gd name="adj1" fmla="val 51269"/>
              <a:gd name="adj2" fmla="val 86944"/>
            </a:avLst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16200000"/>
          </a:gradFill>
          <a:ln w="3240">
            <a:solidFill>
              <a:srgbClr val="ff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24000" y="2070000"/>
            <a:ext cx="1285560" cy="2308320"/>
          </a:xfrm>
          <a:custGeom>
            <a:avLst/>
            <a:gdLst>
              <a:gd name="textAreaLeft" fmla="*/ 43920 w 1285560"/>
              <a:gd name="textAreaRight" fmla="*/ 1241640 w 128556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80">
                <a:moveTo>
                  <a:pt x="2536" y="0"/>
                </a:moveTo>
                <a:arcTo wR="2536" hR="2536" stAng="16200000" swAng="-5400000"/>
                <a:lnTo>
                  <a:pt x="0" y="36244"/>
                </a:lnTo>
                <a:arcTo wR="2536" hR="2536" stAng="10800000" swAng="-5400000"/>
                <a:lnTo>
                  <a:pt x="19064" y="387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嘉宾签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礼仪服务人员带领嘉宾入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1692360" y="2070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庆典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舞狮奏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岗位人员到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4427640" y="2070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剪彩揭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鼓乐齐鸣舞狮采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揭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3059280" y="2070000"/>
            <a:ext cx="1285560" cy="2308320"/>
          </a:xfrm>
          <a:custGeom>
            <a:avLst/>
            <a:gdLst>
              <a:gd name="textAreaLeft" fmla="*/ 43920 w 1285560"/>
              <a:gd name="textAreaRight" fmla="*/ 1241640 w 128556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80">
                <a:moveTo>
                  <a:pt x="2536" y="0"/>
                </a:moveTo>
                <a:arcTo wR="2536" hR="2536" stAng="16200000" swAng="-5400000"/>
                <a:lnTo>
                  <a:pt x="0" y="36244"/>
                </a:lnTo>
                <a:arcTo wR="2536" hR="2536" stAng="10800000" swAng="-5400000"/>
                <a:lnTo>
                  <a:pt x="19064" y="387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嘉宾致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介绍本次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介绍嘉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5796000" y="2070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车仪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车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主上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受金钥匙，合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日期2"/>
          <p:cNvSpPr/>
          <p:nvPr/>
        </p:nvSpPr>
        <p:spPr>
          <a:xfrm>
            <a:off x="1916280" y="1544760"/>
            <a:ext cx="92520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0: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日期3"/>
          <p:cNvSpPr/>
          <p:nvPr/>
        </p:nvSpPr>
        <p:spPr>
          <a:xfrm>
            <a:off x="3281400" y="1544760"/>
            <a:ext cx="92880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0: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日期4"/>
          <p:cNvSpPr/>
          <p:nvPr/>
        </p:nvSpPr>
        <p:spPr>
          <a:xfrm>
            <a:off x="4645080" y="1544760"/>
            <a:ext cx="96984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0: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日期5"/>
          <p:cNvSpPr/>
          <p:nvPr/>
        </p:nvSpPr>
        <p:spPr>
          <a:xfrm>
            <a:off x="6016680" y="1544760"/>
            <a:ext cx="93024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1: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日期1"/>
          <p:cNvSpPr/>
          <p:nvPr/>
        </p:nvSpPr>
        <p:spPr>
          <a:xfrm>
            <a:off x="539640" y="1544760"/>
            <a:ext cx="83340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9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1"/>
          <p:cNvSpPr/>
          <p:nvPr/>
        </p:nvSpPr>
        <p:spPr>
          <a:xfrm>
            <a:off x="1228680" y="336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策划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5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6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7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实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Impl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7122960" y="2070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展厅营销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模展示服务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签单提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日期5"/>
          <p:cNvSpPr/>
          <p:nvPr/>
        </p:nvSpPr>
        <p:spPr>
          <a:xfrm>
            <a:off x="7343640" y="1544760"/>
            <a:ext cx="93024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28:17Z</dcterms:created>
  <dc:creator>User</dc:creator>
  <dc:description/>
  <dc:language>en-US</dc:language>
  <cp:lastModifiedBy>yu wang</cp:lastModifiedBy>
  <dcterms:modified xsi:type="dcterms:W3CDTF">2015-08-08T10:02:43Z</dcterms:modified>
  <cp:revision>296</cp:revision>
  <dc:subject/>
  <dc:title>幻灯片 1</dc:title>
</cp:coreProperties>
</file>