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C9359F-F391-48A0-99FE-41E9D7885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41E17A-66CC-42A1-8C14-BC22D24DE6D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EA4E-59A5-4AB3-B5E0-C7ADCA0C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A012-0F58-40C6-9BB7-074FE3D7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9E61-5E88-4C38-B36A-282ABD78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FD2D-5593-4894-ACB8-66027A8F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1F77-BEA9-4416-A40B-BDE8A8A5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2487-101E-4DD6-AEE9-2D5F3FC2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FBC1-611C-4F24-8CA1-CA960686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4DCA-2F76-4321-A3D4-85665449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028E-C1CB-4403-B9E5-BA73B9B0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968E-11D5-4FCB-856B-34440F00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7DB7-9E71-43F8-B64F-CB337306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2E69-FC3E-4066-8FFA-495AFA16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2CC8-ADAA-4FB5-AD04-E999D320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620D-63A7-4EE5-952A-13D487D9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E784-85BB-462C-B6F1-16BBB591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29B4-2AC6-49E4-89B4-5143F680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8781-ED51-4F9B-9A5A-EFCA84D0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9E02-682C-4D5F-8438-39E4D42B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BAD-D5E3-4BBE-9CB7-1D9DBC52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63C-F6AE-4592-AC01-C1C27D6B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04CA-C23C-41A1-8BBC-6D3A92A8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0FAC-53F7-4060-B568-80EA33DF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2DF-7B7A-4B5C-95D9-780EEA1C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088A-5B1C-4045-A7D6-D5A893BD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691404-9BDD-46DD-A946-F4B0695753B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C6EDBB-5984-4F37-9A07-C42B60161AE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2" descr=""/>
          <p:cNvPicPr/>
          <p:nvPr/>
        </p:nvPicPr>
        <p:blipFill>
          <a:blip r:embed="rId1"/>
          <a:srcRect l="0" t="11835" r="260" b="0"/>
          <a:stretch/>
        </p:blipFill>
        <p:spPr>
          <a:xfrm>
            <a:off x="-27000" y="-17640"/>
            <a:ext cx="9191160" cy="4230360"/>
          </a:xfrm>
          <a:prstGeom prst="rect">
            <a:avLst/>
          </a:prstGeom>
          <a:ln w="9525">
            <a:noFill/>
          </a:ln>
        </p:spPr>
      </p:pic>
      <p:sp>
        <p:nvSpPr>
          <p:cNvPr id="89" name="矩形 7"/>
          <p:cNvSpPr/>
          <p:nvPr/>
        </p:nvSpPr>
        <p:spPr>
          <a:xfrm>
            <a:off x="-12600" y="4540320"/>
            <a:ext cx="9191160" cy="604440"/>
          </a:xfrm>
          <a:prstGeom prst="rect">
            <a:avLst/>
          </a:prstGeom>
          <a:solidFill>
            <a:srgbClr val="0a6e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-41400" y="4140720"/>
            <a:ext cx="9191160" cy="539280"/>
          </a:xfrm>
          <a:prstGeom prst="rect">
            <a:avLst/>
          </a:prstGeom>
          <a:solidFill>
            <a:srgbClr val="026a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7740000" y="4452840"/>
            <a:ext cx="1241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讲人：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rcRect l="0" t="0" r="10316" b="21204"/>
          <a:stretch/>
        </p:blipFill>
        <p:spPr>
          <a:xfrm>
            <a:off x="0" y="22320"/>
            <a:ext cx="3066840" cy="504360"/>
          </a:xfrm>
          <a:prstGeom prst="rect">
            <a:avLst/>
          </a:prstGeom>
          <a:ln w="9525">
            <a:noFill/>
          </a:ln>
        </p:spPr>
      </p:pic>
      <p:sp>
        <p:nvSpPr>
          <p:cNvPr id="93" name="TextBox 6"/>
          <p:cNvSpPr/>
          <p:nvPr/>
        </p:nvSpPr>
        <p:spPr>
          <a:xfrm>
            <a:off x="826920" y="3828960"/>
            <a:ext cx="2744280" cy="6994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3"/>
          <a:stretch/>
        </p:blipFill>
        <p:spPr>
          <a:xfrm>
            <a:off x="5875200" y="-17640"/>
            <a:ext cx="3377880" cy="748800"/>
          </a:xfrm>
          <a:prstGeom prst="rect">
            <a:avLst/>
          </a:prstGeom>
          <a:ln w="9525">
            <a:noFill/>
          </a:ln>
        </p:spPr>
      </p:pic>
      <p:sp>
        <p:nvSpPr>
          <p:cNvPr id="95" name="Rectangle 9"/>
          <p:cNvSpPr/>
          <p:nvPr/>
        </p:nvSpPr>
        <p:spPr>
          <a:xfrm>
            <a:off x="2321280" y="1174680"/>
            <a:ext cx="50680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企业会议精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版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375840" y="480960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94360" y="14184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6607800" y="25020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673280" y="830160"/>
            <a:ext cx="5714640" cy="3809520"/>
          </a:xfrm>
          <a:prstGeom prst="rect">
            <a:avLst/>
          </a:prstGeom>
          <a:ln w="9525">
            <a:noFill/>
          </a:ln>
        </p:spPr>
      </p:pic>
      <p:sp>
        <p:nvSpPr>
          <p:cNvPr id="98" name="矩形 3"/>
          <p:cNvSpPr/>
          <p:nvPr/>
        </p:nvSpPr>
        <p:spPr>
          <a:xfrm>
            <a:off x="-27000" y="4538520"/>
            <a:ext cx="9191160" cy="60444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604800" y="630360"/>
            <a:ext cx="9363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4824360" y="460440"/>
            <a:ext cx="9345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611280" y="3402000"/>
            <a:ext cx="9363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7956720" y="471600"/>
            <a:ext cx="936360" cy="1918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绩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接连接符 10"/>
          <p:cNvCxnSpPr/>
          <p:nvPr/>
        </p:nvCxnSpPr>
        <p:spPr>
          <a:xfrm flipH="1">
            <a:off x="917280" y="1923840"/>
            <a:ext cx="159264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04" name="直接箭头连接符 12"/>
          <p:cNvCxnSpPr/>
          <p:nvPr/>
        </p:nvCxnSpPr>
        <p:spPr>
          <a:xfrm flipH="1">
            <a:off x="1187280" y="3601800"/>
            <a:ext cx="1981440" cy="3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05" name="直接连接符 17"/>
          <p:cNvCxnSpPr/>
          <p:nvPr/>
        </p:nvCxnSpPr>
        <p:spPr>
          <a:xfrm>
            <a:off x="3168360" y="3081240"/>
            <a:ext cx="360" cy="5209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06" name="直接箭头连接符 22"/>
          <p:cNvCxnSpPr/>
          <p:nvPr/>
        </p:nvCxnSpPr>
        <p:spPr>
          <a:xfrm flipV="1">
            <a:off x="917280" y="1029960"/>
            <a:ext cx="360" cy="8942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07" name="直接连接符 25"/>
          <p:cNvCxnSpPr/>
          <p:nvPr/>
        </p:nvCxnSpPr>
        <p:spPr>
          <a:xfrm flipH="1" flipV="1">
            <a:off x="4492440" y="1923840"/>
            <a:ext cx="621000" cy="68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08" name="直接箭头连接符 27"/>
          <p:cNvCxnSpPr/>
          <p:nvPr/>
        </p:nvCxnSpPr>
        <p:spPr>
          <a:xfrm flipV="1">
            <a:off x="5113080" y="830160"/>
            <a:ext cx="360" cy="10940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pic>
        <p:nvPicPr>
          <p:cNvPr id="109" name="Picture 2" descr=""/>
          <p:cNvPicPr/>
          <p:nvPr/>
        </p:nvPicPr>
        <p:blipFill>
          <a:blip r:embed="rId2"/>
          <a:srcRect l="0" t="0" r="10316" b="21204"/>
          <a:stretch/>
        </p:blipFill>
        <p:spPr>
          <a:xfrm>
            <a:off x="0" y="22320"/>
            <a:ext cx="3066840" cy="504360"/>
          </a:xfrm>
          <a:prstGeom prst="rect">
            <a:avLst/>
          </a:prstGeom>
          <a:ln w="9525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rcRect l="0" t="40660" r="33650" b="0"/>
          <a:stretch/>
        </p:blipFill>
        <p:spPr>
          <a:xfrm>
            <a:off x="5388120" y="2735280"/>
            <a:ext cx="4038120" cy="2408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3"/>
          <p:cNvSpPr/>
          <p:nvPr/>
        </p:nvSpPr>
        <p:spPr>
          <a:xfrm>
            <a:off x="3067200" y="0"/>
            <a:ext cx="6076440" cy="604440"/>
          </a:xfrm>
          <a:custGeom>
            <a:avLst/>
            <a:gdLst>
              <a:gd name="textAreaLeft" fmla="*/ 0 w 6076440"/>
              <a:gd name="textAreaRight" fmla="*/ 6076800 w 6076440"/>
              <a:gd name="textAreaTop" fmla="*/ 0 h 604440"/>
              <a:gd name="textAreaBottom" fmla="*/ 604800 h 604440"/>
            </a:gdLst>
            <a:ahLst/>
            <a:rect l="textAreaLeft" t="textAreaTop" r="textAreaRight" b="textAreaBottom"/>
            <a:pathLst>
              <a:path w="5507434" h="604837">
                <a:moveTo>
                  <a:pt x="23954" y="0"/>
                </a:moveTo>
                <a:lnTo>
                  <a:pt x="5507434" y="0"/>
                </a:lnTo>
                <a:lnTo>
                  <a:pt x="5507434" y="604837"/>
                </a:lnTo>
                <a:lnTo>
                  <a:pt x="0" y="604837"/>
                </a:lnTo>
                <a:cubicBezTo>
                  <a:pt x="107304" y="543599"/>
                  <a:pt x="178842" y="427841"/>
                  <a:pt x="178842" y="295374"/>
                </a:cubicBezTo>
                <a:cubicBezTo>
                  <a:pt x="178842" y="172880"/>
                  <a:pt x="117670" y="64673"/>
                  <a:pt x="23954" y="0"/>
                </a:cubicBezTo>
                <a:close/>
              </a:path>
            </a:pathLst>
          </a:custGeom>
          <a:solidFill>
            <a:srgbClr val="0276e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0" t="0" r="10316" b="21204"/>
          <a:stretch/>
        </p:blipFill>
        <p:spPr>
          <a:xfrm>
            <a:off x="0" y="22320"/>
            <a:ext cx="3066840" cy="504360"/>
          </a:xfrm>
          <a:prstGeom prst="rect">
            <a:avLst/>
          </a:prstGeom>
          <a:ln w="9525">
            <a:noFill/>
          </a:ln>
        </p:spPr>
      </p:pic>
      <p:sp>
        <p:nvSpPr>
          <p:cNvPr id="113" name="椭圆 6"/>
          <p:cNvSpPr/>
          <p:nvPr/>
        </p:nvSpPr>
        <p:spPr>
          <a:xfrm>
            <a:off x="87480" y="587520"/>
            <a:ext cx="360000" cy="333000"/>
          </a:xfrm>
          <a:prstGeom prst="ellipse">
            <a:avLst/>
          </a:prstGeom>
          <a:solidFill>
            <a:schemeClr val="tx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4" name="椭圆 7"/>
          <p:cNvSpPr/>
          <p:nvPr/>
        </p:nvSpPr>
        <p:spPr>
          <a:xfrm>
            <a:off x="498600" y="604800"/>
            <a:ext cx="286920" cy="286920"/>
          </a:xfrm>
          <a:prstGeom prst="ellipse">
            <a:avLst/>
          </a:prstGeom>
          <a:solidFill>
            <a:schemeClr val="tx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5" name="椭圆 8"/>
          <p:cNvSpPr/>
          <p:nvPr/>
        </p:nvSpPr>
        <p:spPr>
          <a:xfrm>
            <a:off x="826920" y="655560"/>
            <a:ext cx="215640" cy="215640"/>
          </a:xfrm>
          <a:prstGeom prst="ellipse">
            <a:avLst/>
          </a:prstGeom>
          <a:solidFill>
            <a:schemeClr val="tx2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6" name="椭圆 9"/>
          <p:cNvSpPr/>
          <p:nvPr/>
        </p:nvSpPr>
        <p:spPr>
          <a:xfrm>
            <a:off x="1122480" y="681120"/>
            <a:ext cx="164880" cy="163080"/>
          </a:xfrm>
          <a:prstGeom prst="ellipse">
            <a:avLst/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117" name="Picture 3" descr="C:\Users\x201i\Desktop\未标题-1.png"/>
          <p:cNvPicPr/>
          <p:nvPr/>
        </p:nvPicPr>
        <p:blipFill>
          <a:blip r:embed="rId2"/>
          <a:stretch/>
        </p:blipFill>
        <p:spPr>
          <a:xfrm>
            <a:off x="3419640" y="149400"/>
            <a:ext cx="406080" cy="304560"/>
          </a:xfrm>
          <a:prstGeom prst="rect">
            <a:avLst/>
          </a:prstGeom>
          <a:ln w="9525">
            <a:noFill/>
          </a:ln>
        </p:spPr>
      </p:pic>
      <p:sp>
        <p:nvSpPr>
          <p:cNvPr id="118" name="圆角矩形 20"/>
          <p:cNvSpPr/>
          <p:nvPr/>
        </p:nvSpPr>
        <p:spPr>
          <a:xfrm>
            <a:off x="774720" y="1131840"/>
            <a:ext cx="7632360" cy="3860280"/>
          </a:xfrm>
          <a:custGeom>
            <a:avLst/>
            <a:gdLst>
              <a:gd name="textAreaLeft" fmla="*/ 0 w 7632360"/>
              <a:gd name="textAreaRight" fmla="*/ 7632720 w 7632360"/>
              <a:gd name="textAreaTop" fmla="*/ 0 h 3860280"/>
              <a:gd name="textAreaBottom" fmla="*/ 3860640 h 3860280"/>
            </a:gdLst>
            <a:ahLst/>
            <a:rect l="textAreaLeft" t="textAreaTop" r="textAreaRight" b="textAreaBottom"/>
            <a:pathLst>
              <a:path w="7818137" h="4147560">
                <a:moveTo>
                  <a:pt x="350348" y="0"/>
                </a:moveTo>
                <a:lnTo>
                  <a:pt x="7467789" y="0"/>
                </a:lnTo>
                <a:cubicBezTo>
                  <a:pt x="7661281" y="0"/>
                  <a:pt x="7818137" y="156856"/>
                  <a:pt x="7818137" y="350348"/>
                </a:cubicBezTo>
                <a:lnTo>
                  <a:pt x="7818137" y="3466076"/>
                </a:lnTo>
                <a:cubicBezTo>
                  <a:pt x="7818137" y="3659568"/>
                  <a:pt x="7661281" y="3816424"/>
                  <a:pt x="7467789" y="3816424"/>
                </a:cubicBezTo>
                <a:lnTo>
                  <a:pt x="7459023" y="3816424"/>
                </a:lnTo>
                <a:lnTo>
                  <a:pt x="7290638" y="4147560"/>
                </a:lnTo>
                <a:lnTo>
                  <a:pt x="7073340" y="3816424"/>
                </a:lnTo>
                <a:lnTo>
                  <a:pt x="350348" y="3816424"/>
                </a:lnTo>
                <a:cubicBezTo>
                  <a:pt x="156856" y="3816424"/>
                  <a:pt x="0" y="3659568"/>
                  <a:pt x="0" y="3466076"/>
                </a:cubicBezTo>
                <a:lnTo>
                  <a:pt x="0" y="350348"/>
                </a:lnTo>
                <a:cubicBezTo>
                  <a:pt x="0" y="156856"/>
                  <a:pt x="156856" y="0"/>
                  <a:pt x="350348" y="0"/>
                </a:cubicBezTo>
                <a:close/>
              </a:path>
            </a:pathLst>
          </a:custGeom>
          <a:solidFill>
            <a:schemeClr val="bg2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rcRect l="0" t="0" r="10316" b="21204"/>
          <a:stretch/>
        </p:blipFill>
        <p:spPr>
          <a:xfrm>
            <a:off x="0" y="22320"/>
            <a:ext cx="3066840" cy="504360"/>
          </a:xfrm>
          <a:prstGeom prst="rect">
            <a:avLst/>
          </a:prstGeom>
          <a:ln w="9525">
            <a:noFill/>
          </a:ln>
        </p:spPr>
      </p:pic>
      <p:sp>
        <p:nvSpPr>
          <p:cNvPr id="120" name="矩形标注 9"/>
          <p:cNvSpPr/>
          <p:nvPr/>
        </p:nvSpPr>
        <p:spPr>
          <a:xfrm flipH="1">
            <a:off x="-720" y="620640"/>
            <a:ext cx="9143640" cy="183960"/>
          </a:xfrm>
          <a:custGeom>
            <a:avLst/>
            <a:gdLst>
              <a:gd name="textAreaLeft" fmla="*/ -360 w 9143640"/>
              <a:gd name="textAreaRight" fmla="*/ 9143640 w 91436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9144000" h="292932">
                <a:moveTo>
                  <a:pt x="0" y="0"/>
                </a:moveTo>
                <a:lnTo>
                  <a:pt x="1524000" y="0"/>
                </a:lnTo>
                <a:lnTo>
                  <a:pt x="1524000" y="0"/>
                </a:lnTo>
                <a:lnTo>
                  <a:pt x="3810000" y="0"/>
                </a:lnTo>
                <a:lnTo>
                  <a:pt x="9144000" y="0"/>
                </a:lnTo>
                <a:lnTo>
                  <a:pt x="9144000" y="84009"/>
                </a:lnTo>
                <a:lnTo>
                  <a:pt x="9144000" y="84009"/>
                </a:lnTo>
                <a:lnTo>
                  <a:pt x="9144000" y="120013"/>
                </a:lnTo>
                <a:lnTo>
                  <a:pt x="9144000" y="144016"/>
                </a:lnTo>
                <a:cubicBezTo>
                  <a:pt x="8837175" y="138471"/>
                  <a:pt x="8530351" y="152900"/>
                  <a:pt x="8223526" y="147355"/>
                </a:cubicBezTo>
                <a:cubicBezTo>
                  <a:pt x="8173835" y="206365"/>
                  <a:pt x="8019232" y="247174"/>
                  <a:pt x="8049054" y="292932"/>
                </a:cubicBezTo>
                <a:lnTo>
                  <a:pt x="7861300" y="127382"/>
                </a:lnTo>
                <a:lnTo>
                  <a:pt x="0" y="144016"/>
                </a:lnTo>
                <a:lnTo>
                  <a:pt x="0" y="120013"/>
                </a:lnTo>
                <a:lnTo>
                  <a:pt x="0" y="84009"/>
                </a:lnTo>
                <a:lnTo>
                  <a:pt x="0" y="84009"/>
                </a:lnTo>
                <a:lnTo>
                  <a:pt x="0" y="0"/>
                </a:lnTo>
                <a:close/>
              </a:path>
            </a:pathLst>
          </a:custGeom>
          <a:solidFill>
            <a:srgbClr val="026a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1" name="矩形 13"/>
          <p:cNvSpPr/>
          <p:nvPr/>
        </p:nvSpPr>
        <p:spPr>
          <a:xfrm rot="1856400">
            <a:off x="6470640" y="1333080"/>
            <a:ext cx="274320" cy="374400"/>
          </a:xfrm>
          <a:prstGeom prst="rect">
            <a:avLst/>
          </a:prstGeom>
          <a:solidFill>
            <a:srgbClr val="94513b"/>
          </a:solidFill>
          <a:ln>
            <a:solidFill>
              <a:srgbClr val="94513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4"/>
          <p:cNvSpPr/>
          <p:nvPr/>
        </p:nvSpPr>
        <p:spPr>
          <a:xfrm rot="18061200">
            <a:off x="6898320" y="-276840"/>
            <a:ext cx="2261880" cy="1888920"/>
          </a:xfrm>
          <a:custGeom>
            <a:avLst/>
            <a:gdLst>
              <a:gd name="textAreaLeft" fmla="*/ 0 w 2261880"/>
              <a:gd name="textAreaRight" fmla="*/ 2262240 w 2261880"/>
              <a:gd name="textAreaTop" fmla="*/ 0 h 1888920"/>
              <a:gd name="textAreaBottom" fmla="*/ 1889280 h 1888920"/>
            </a:gdLst>
            <a:ahLst/>
            <a:rect l="textAreaLeft" t="textAreaTop" r="textAreaRight" b="textAreaBottom"/>
            <a:pathLst>
              <a:path w="2261326" h="1889378">
                <a:moveTo>
                  <a:pt x="0" y="32952"/>
                </a:moveTo>
                <a:lnTo>
                  <a:pt x="1344303" y="0"/>
                </a:lnTo>
                <a:lnTo>
                  <a:pt x="2261326" y="1550422"/>
                </a:lnTo>
                <a:lnTo>
                  <a:pt x="1701007" y="1889378"/>
                </a:lnTo>
                <a:lnTo>
                  <a:pt x="0" y="1887152"/>
                </a:lnTo>
                <a:lnTo>
                  <a:pt x="0" y="32952"/>
                </a:lnTo>
                <a:close/>
              </a:path>
            </a:pathLst>
          </a:custGeom>
          <a:solidFill>
            <a:srgbClr val="94513b"/>
          </a:solidFill>
          <a:ln>
            <a:solidFill>
              <a:srgbClr val="94513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3" name="TextBox 10"/>
          <p:cNvSpPr/>
          <p:nvPr/>
        </p:nvSpPr>
        <p:spPr>
          <a:xfrm rot="1856400">
            <a:off x="7143840" y="442800"/>
            <a:ext cx="1912680" cy="21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ffffff"/>
              </a:solidFill>
              <a:latin typeface="方正兰亭中黑_GBK"/>
              <a:ea typeface="方正兰亭中黑_GBK"/>
            </a:endParaRPr>
          </a:p>
        </p:txBody>
      </p:sp>
      <p:sp>
        <p:nvSpPr>
          <p:cNvPr id="124" name="TextBox 11"/>
          <p:cNvSpPr/>
          <p:nvPr/>
        </p:nvSpPr>
        <p:spPr>
          <a:xfrm rot="1856400">
            <a:off x="7296480" y="685440"/>
            <a:ext cx="1034640" cy="516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方正宋黑简体"/>
                <a:ea typeface="方正宋黑简体"/>
              </a:rPr>
              <a:t>执行保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2"/>
          <p:cNvSpPr/>
          <p:nvPr/>
        </p:nvSpPr>
        <p:spPr>
          <a:xfrm rot="1866600">
            <a:off x="6624000" y="1152720"/>
            <a:ext cx="19170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dobe Gothic Std B"/>
                <a:ea typeface="方正兰亭中黑_GBK"/>
              </a:rPr>
              <a:t>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接连接符 18"/>
          <p:cNvCxnSpPr/>
          <p:nvPr/>
        </p:nvCxnSpPr>
        <p:spPr>
          <a:xfrm>
            <a:off x="7225560" y="207720"/>
            <a:ext cx="1446120" cy="86724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127" name="TextBox 14"/>
          <p:cNvSpPr/>
          <p:nvPr/>
        </p:nvSpPr>
        <p:spPr>
          <a:xfrm rot="1856400">
            <a:off x="6591600" y="1562400"/>
            <a:ext cx="789120" cy="3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94513b"/>
                </a:solidFill>
                <a:latin typeface="黑体"/>
                <a:ea typeface="黑体"/>
              </a:rPr>
              <a:t>33-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表格 3"/>
          <p:cNvGraphicFramePr/>
          <p:nvPr/>
        </p:nvGraphicFramePr>
        <p:xfrm>
          <a:off x="250920" y="1058760"/>
          <a:ext cx="8694000" cy="3145680"/>
        </p:xfrm>
        <a:graphic>
          <a:graphicData uri="http://schemas.openxmlformats.org/drawingml/2006/table">
            <a:tbl>
              <a:tblPr/>
              <a:tblGrid>
                <a:gridCol w="1912680"/>
                <a:gridCol w="2434320"/>
                <a:gridCol w="2312640"/>
                <a:gridCol w="2034360"/>
              </a:tblGrid>
              <a:tr h="451800">
                <a:tc gridSpan="4">
                  <a:txBody>
                    <a:bodyPr lIns="162360" rIns="162360" tIns="32400" bIns="32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25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岗位说明书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岗位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岗位编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39480"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所在部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岗位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339480"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直接上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工资等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39480"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直接下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薪酬类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460800"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所辖人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岗位分析日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84760">
                <a:tc gridSpan="4"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本职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 gridSpan="4"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29" name="Picture 2" descr=""/>
          <p:cNvPicPr/>
          <p:nvPr/>
        </p:nvPicPr>
        <p:blipFill>
          <a:blip r:embed="rId1"/>
          <a:srcRect l="0" t="0" r="10316" b="21204"/>
          <a:stretch/>
        </p:blipFill>
        <p:spPr>
          <a:xfrm>
            <a:off x="0" y="22320"/>
            <a:ext cx="3066840" cy="504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表格 3"/>
          <p:cNvGraphicFramePr/>
          <p:nvPr/>
        </p:nvGraphicFramePr>
        <p:xfrm>
          <a:off x="395280" y="619200"/>
          <a:ext cx="8424720" cy="4626000"/>
        </p:xfrm>
        <a:graphic>
          <a:graphicData uri="http://schemas.openxmlformats.org/drawingml/2006/table">
            <a:tbl>
              <a:tblPr/>
              <a:tblGrid>
                <a:gridCol w="603360"/>
                <a:gridCol w="1023840"/>
                <a:gridCol w="4863600"/>
                <a:gridCol w="1932480"/>
              </a:tblGrid>
              <a:tr h="559080">
                <a:tc gridSpan="3"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职责与工作任务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衡量标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质、量、时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12120">
                <a:tc rowSpan="3">
                  <a:txBody>
                    <a:bodyPr lIns="162360" rIns="162360" tIns="32400" bIns="324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</a:pPr>
                      <a:r>
                        <a:rPr b="0" lang="zh-CN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职 责 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职责描述：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1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62360" rIns="162360" tIns="32400" bIns="324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工作任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</a:tr>
              <a:tr h="72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12120">
                <a:tc rowSpan="3">
                  <a:txBody>
                    <a:bodyPr lIns="162360" rIns="162360" tIns="32400" bIns="324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职责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  <a:tc gridSpan="2"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职责描述：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</a:tr>
              <a:tr h="31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工作任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1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</a:tr>
              <a:tr h="1497240">
                <a:tc gridSpan="4"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权力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31" name="Picture 2" descr=""/>
          <p:cNvPicPr/>
          <p:nvPr/>
        </p:nvPicPr>
        <p:blipFill>
          <a:blip r:embed="rId1"/>
          <a:srcRect l="0" t="0" r="10316" b="21204"/>
          <a:stretch/>
        </p:blipFill>
        <p:spPr>
          <a:xfrm>
            <a:off x="0" y="22320"/>
            <a:ext cx="3066840" cy="504360"/>
          </a:xfrm>
          <a:prstGeom prst="rect">
            <a:avLst/>
          </a:prstGeom>
          <a:ln w="9525">
            <a:noFill/>
          </a:ln>
        </p:spPr>
      </p:pic>
      <p:sp>
        <p:nvSpPr>
          <p:cNvPr id="132" name="Text Box 3"/>
          <p:cNvSpPr/>
          <p:nvPr/>
        </p:nvSpPr>
        <p:spPr>
          <a:xfrm>
            <a:off x="611640" y="47318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表格 5"/>
          <p:cNvGraphicFramePr/>
          <p:nvPr/>
        </p:nvGraphicFramePr>
        <p:xfrm>
          <a:off x="853920" y="1081080"/>
          <a:ext cx="7390080" cy="1850400"/>
        </p:xfrm>
        <a:graphic>
          <a:graphicData uri="http://schemas.openxmlformats.org/drawingml/2006/table">
            <a:tbl>
              <a:tblPr/>
              <a:tblGrid>
                <a:gridCol w="2143080"/>
                <a:gridCol w="5247000"/>
              </a:tblGrid>
              <a:tr h="763920">
                <a:tc gridSpan="2"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工作协作关系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880"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内部协调关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42880"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外部协调关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pic>
        <p:nvPicPr>
          <p:cNvPr id="134" name="Picture 2" descr=""/>
          <p:cNvPicPr/>
          <p:nvPr/>
        </p:nvPicPr>
        <p:blipFill>
          <a:blip r:embed="rId1"/>
          <a:srcRect l="0" t="0" r="10316" b="21204"/>
          <a:stretch/>
        </p:blipFill>
        <p:spPr>
          <a:xfrm>
            <a:off x="0" y="22320"/>
            <a:ext cx="3066840" cy="504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表格 3"/>
          <p:cNvGraphicFramePr/>
          <p:nvPr/>
        </p:nvGraphicFramePr>
        <p:xfrm>
          <a:off x="1116000" y="596880"/>
          <a:ext cx="6948000" cy="4811400"/>
        </p:xfrm>
        <a:graphic>
          <a:graphicData uri="http://schemas.openxmlformats.org/drawingml/2006/table">
            <a:tbl>
              <a:tblPr/>
              <a:tblGrid>
                <a:gridCol w="2014920"/>
                <a:gridCol w="4933080"/>
              </a:tblGrid>
              <a:tr h="394200">
                <a:tc gridSpan="2"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任职资格：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760"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教育水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84760"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284760"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培训经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84760"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经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284760"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知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84760"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技能技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284760"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个人素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84760">
                <a:tc gridSpan="2"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其它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760"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使用工具、设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84760"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工作环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284760"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工作时间特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84760"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所需记录文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310680">
                <a:tc gridSpan="2"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考核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 gridSpan="2">
                  <a:txBody>
                    <a:bodyPr lIns="162360" rIns="16236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备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360" marR="162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36" name="Picture 2" descr=""/>
          <p:cNvPicPr/>
          <p:nvPr/>
        </p:nvPicPr>
        <p:blipFill>
          <a:blip r:embed="rId1"/>
          <a:srcRect l="0" t="0" r="10316" b="21204"/>
          <a:stretch/>
        </p:blipFill>
        <p:spPr>
          <a:xfrm>
            <a:off x="0" y="22320"/>
            <a:ext cx="3066840" cy="504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团队精神大图 点击还原"/>
          <p:cNvPicPr/>
          <p:nvPr/>
        </p:nvPicPr>
        <p:blipFill>
          <a:blip r:embed="rId1"/>
          <a:srcRect l="0" t="3142" r="0" b="0"/>
          <a:stretch/>
        </p:blipFill>
        <p:spPr>
          <a:xfrm>
            <a:off x="0" y="0"/>
            <a:ext cx="9143640" cy="5157360"/>
          </a:xfrm>
          <a:prstGeom prst="rect">
            <a:avLst/>
          </a:prstGeom>
          <a:ln w="9525">
            <a:noFill/>
          </a:ln>
        </p:spPr>
      </p:pic>
      <p:sp>
        <p:nvSpPr>
          <p:cNvPr id="138" name="矩形 21"/>
          <p:cNvSpPr/>
          <p:nvPr/>
        </p:nvSpPr>
        <p:spPr>
          <a:xfrm>
            <a:off x="2367000" y="3112920"/>
            <a:ext cx="4274640" cy="799920"/>
          </a:xfrm>
          <a:prstGeom prst="rect">
            <a:avLst/>
          </a:prstGeom>
          <a:solidFill>
            <a:srgbClr val="0a6ec8">
              <a:alpha val="80000"/>
            </a:srgb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9" name="矩形 16"/>
          <p:cNvSpPr/>
          <p:nvPr/>
        </p:nvSpPr>
        <p:spPr>
          <a:xfrm>
            <a:off x="2367000" y="1087560"/>
            <a:ext cx="4274640" cy="2025360"/>
          </a:xfrm>
          <a:prstGeom prst="rect">
            <a:avLst/>
          </a:prstGeom>
          <a:solidFill>
            <a:schemeClr val="bg1">
              <a:alpha val="80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3750840" y="1103400"/>
            <a:ext cx="153288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精诚为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创新为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10"/>
          <p:cNvGrpSpPr/>
          <p:nvPr/>
        </p:nvGrpSpPr>
        <p:grpSpPr>
          <a:xfrm>
            <a:off x="2914920" y="1581480"/>
            <a:ext cx="374760" cy="155880"/>
            <a:chOff x="2914920" y="1581480"/>
            <a:chExt cx="374760" cy="155880"/>
          </a:xfrm>
        </p:grpSpPr>
        <p:sp>
          <p:nvSpPr>
            <p:cNvPr id="142" name="等腰三角形 11"/>
            <p:cNvSpPr/>
            <p:nvPr/>
          </p:nvSpPr>
          <p:spPr>
            <a:xfrm rot="5400000">
              <a:off x="2926800" y="1569600"/>
              <a:ext cx="155880" cy="179640"/>
            </a:xfrm>
            <a:prstGeom prst="triangle">
              <a:avLst>
                <a:gd name="adj" fmla="val 50000"/>
              </a:avLst>
            </a:prstGeom>
            <a:solidFill>
              <a:srgbClr val="0a6ec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c000"/>
                </a:solidFill>
                <a:latin typeface="Calibri"/>
                <a:ea typeface="宋体"/>
              </a:endParaRPr>
            </a:p>
          </p:txBody>
        </p:sp>
        <p:sp>
          <p:nvSpPr>
            <p:cNvPr id="143" name="等腰三角形 12"/>
            <p:cNvSpPr/>
            <p:nvPr/>
          </p:nvSpPr>
          <p:spPr>
            <a:xfrm rot="5400000">
              <a:off x="3121920" y="1569600"/>
              <a:ext cx="155880" cy="179640"/>
            </a:xfrm>
            <a:prstGeom prst="triangle">
              <a:avLst>
                <a:gd name="adj" fmla="val 50000"/>
              </a:avLst>
            </a:prstGeom>
            <a:solidFill>
              <a:srgbClr val="0a6ec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c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44" name="矩形 13"/>
          <p:cNvSpPr/>
          <p:nvPr/>
        </p:nvSpPr>
        <p:spPr>
          <a:xfrm>
            <a:off x="3743640" y="3159000"/>
            <a:ext cx="14004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结合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18"/>
          <p:cNvGrpSpPr/>
          <p:nvPr/>
        </p:nvGrpSpPr>
        <p:grpSpPr>
          <a:xfrm>
            <a:off x="2922480" y="2500920"/>
            <a:ext cx="374760" cy="155880"/>
            <a:chOff x="2922480" y="2500920"/>
            <a:chExt cx="374760" cy="155880"/>
          </a:xfrm>
        </p:grpSpPr>
        <p:sp>
          <p:nvSpPr>
            <p:cNvPr id="146" name="等腰三角形 19"/>
            <p:cNvSpPr/>
            <p:nvPr/>
          </p:nvSpPr>
          <p:spPr>
            <a:xfrm rot="5400000">
              <a:off x="2934360" y="2489040"/>
              <a:ext cx="155880" cy="179640"/>
            </a:xfrm>
            <a:prstGeom prst="triangle">
              <a:avLst>
                <a:gd name="adj" fmla="val 50000"/>
              </a:avLst>
            </a:prstGeom>
            <a:solidFill>
              <a:srgbClr val="0a6ec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c000"/>
                </a:solidFill>
                <a:latin typeface="Calibri"/>
                <a:ea typeface="宋体"/>
              </a:endParaRPr>
            </a:p>
          </p:txBody>
        </p:sp>
        <p:sp>
          <p:nvSpPr>
            <p:cNvPr id="147" name="等腰三角形 20"/>
            <p:cNvSpPr/>
            <p:nvPr/>
          </p:nvSpPr>
          <p:spPr>
            <a:xfrm rot="5400000">
              <a:off x="3129480" y="2489040"/>
              <a:ext cx="155880" cy="179640"/>
            </a:xfrm>
            <a:prstGeom prst="triangle">
              <a:avLst>
                <a:gd name="adj" fmla="val 50000"/>
              </a:avLst>
            </a:prstGeom>
            <a:solidFill>
              <a:srgbClr val="0a6ec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c000"/>
                </a:solidFill>
                <a:latin typeface="Calibri"/>
                <a:ea typeface="宋体"/>
              </a:endParaRPr>
            </a:p>
          </p:txBody>
        </p:sp>
      </p:grpSp>
      <p:pic>
        <p:nvPicPr>
          <p:cNvPr id="148" name="Picture 2" descr=""/>
          <p:cNvPicPr/>
          <p:nvPr/>
        </p:nvPicPr>
        <p:blipFill>
          <a:blip r:embed="rId2"/>
          <a:srcRect l="0" t="0" r="10316" b="21204"/>
          <a:stretch/>
        </p:blipFill>
        <p:spPr>
          <a:xfrm>
            <a:off x="57240" y="4638600"/>
            <a:ext cx="3066840" cy="504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自定义 14">
      <a:dk1>
        <a:srgbClr val="000000"/>
      </a:dk1>
      <a:lt1>
        <a:srgbClr val="ffffff"/>
      </a:lt1>
      <a:dk2>
        <a:srgbClr val="014c83"/>
      </a:dk2>
      <a:lt2>
        <a:srgbClr val="eeece1"/>
      </a:lt2>
      <a:accent1>
        <a:srgbClr val="014c8d"/>
      </a:accent1>
      <a:accent2>
        <a:srgbClr val="012e57"/>
      </a:accent2>
      <a:accent3>
        <a:srgbClr val="24673e"/>
      </a:accent3>
      <a:accent4>
        <a:srgbClr val="3371a4"/>
      </a:accent4>
      <a:accent5>
        <a:srgbClr val="4bacc6"/>
      </a:accent5>
      <a:accent6>
        <a:srgbClr val="7fa6c7"/>
      </a:accent6>
      <a:hlink>
        <a:srgbClr val="0000ff"/>
      </a:hlink>
      <a:folHlink>
        <a:srgbClr val="cddb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自定义 14">
      <a:dk1>
        <a:srgbClr val="000000"/>
      </a:dk1>
      <a:lt1>
        <a:srgbClr val="ffffff"/>
      </a:lt1>
      <a:dk2>
        <a:srgbClr val="014c83"/>
      </a:dk2>
      <a:lt2>
        <a:srgbClr val="eeece1"/>
      </a:lt2>
      <a:accent1>
        <a:srgbClr val="014c8d"/>
      </a:accent1>
      <a:accent2>
        <a:srgbClr val="012e57"/>
      </a:accent2>
      <a:accent3>
        <a:srgbClr val="24673e"/>
      </a:accent3>
      <a:accent4>
        <a:srgbClr val="3371a4"/>
      </a:accent4>
      <a:accent5>
        <a:srgbClr val="4bacc6"/>
      </a:accent5>
      <a:accent6>
        <a:srgbClr val="7fa6c7"/>
      </a:accent6>
      <a:hlink>
        <a:srgbClr val="0000ff"/>
      </a:hlink>
      <a:folHlink>
        <a:srgbClr val="cddb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14c83"/>
      </a:dk2>
      <a:lt2>
        <a:srgbClr val="eeece1"/>
      </a:lt2>
      <a:accent1>
        <a:srgbClr val="014c8d"/>
      </a:accent1>
      <a:accent2>
        <a:srgbClr val="012e57"/>
      </a:accent2>
      <a:accent3>
        <a:srgbClr val="24673e"/>
      </a:accent3>
      <a:accent4>
        <a:srgbClr val="3371a4"/>
      </a:accent4>
      <a:accent5>
        <a:srgbClr val="4bacc6"/>
      </a:accent5>
      <a:accent6>
        <a:srgbClr val="7fa6c7"/>
      </a:accent6>
      <a:hlink>
        <a:srgbClr val="0000ff"/>
      </a:hlink>
      <a:folHlink>
        <a:srgbClr val="cddb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  <Words>628</Words>
  <Paragraphs>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4:53:06Z</dcterms:created>
  <dc:creator>Sophie</dc:creator>
  <dc:description/>
  <dc:language>en-US</dc:language>
  <cp:lastModifiedBy>yu wang</cp:lastModifiedBy>
  <dcterms:modified xsi:type="dcterms:W3CDTF">2015-08-08T10:02:39Z</dcterms:modified>
  <cp:revision>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16:9)</vt:lpwstr>
  </property>
  <property fmtid="{D5CDD505-2E9C-101B-9397-08002B2CF9AE}" pid="4" name="Slides">
    <vt:r8>10</vt:r8>
  </property>
</Properties>
</file>