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33E-6E5A-4EBC-A14F-DBB106EE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8B0-DE0F-4C83-A3CA-E52CA24B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9C4-BAEE-4607-9664-11A8E72D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A32-F36F-4D2D-8ED7-1536933B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430-A552-4546-B8C6-BFB75594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942-2DC2-4094-BBE6-27CE792C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56B-9075-4085-A611-A15B88C2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C41-1FB7-4451-8C6A-0C91BF6A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A36-09AE-49FA-BD2B-A912AB75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E79-EE75-4F16-92D9-7347742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3DE-7D6A-4E50-A9FF-F36097A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47E-FF25-45CE-BD1C-FF143779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A71C-D576-4366-BDDD-FA66526885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19BD-077B-4893-826B-251155ADA1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5"/>
          <p:cNvSpPr/>
          <p:nvPr/>
        </p:nvSpPr>
        <p:spPr>
          <a:xfrm>
            <a:off x="0" y="3168720"/>
            <a:ext cx="9144000" cy="71280"/>
          </a:xfrm>
          <a:prstGeom prst="rect">
            <a:avLst/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4"/>
          <p:cNvSpPr/>
          <p:nvPr/>
        </p:nvSpPr>
        <p:spPr>
          <a:xfrm rot="10800000">
            <a:off x="0" y="2842920"/>
            <a:ext cx="914400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"/>
          <p:cNvSpPr/>
          <p:nvPr/>
        </p:nvSpPr>
        <p:spPr>
          <a:xfrm rot="10800000">
            <a:off x="3357720" y="2843280"/>
            <a:ext cx="2357280" cy="285840"/>
          </a:xfrm>
          <a:prstGeom prst="rect">
            <a:avLst/>
          </a:prstGeom>
          <a:solidFill>
            <a:srgbClr val="d8d8d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 rot="10800000">
            <a:off x="3357720" y="2843280"/>
            <a:ext cx="235728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348000" y="3168720"/>
            <a:ext cx="2357640" cy="71280"/>
          </a:xfrm>
          <a:prstGeom prst="rect">
            <a:avLst/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59600" y="27860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4217040" y="2786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4539240" y="27860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4610520" y="278604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4788720" y="278604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4034160" y="2786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3890160" y="27860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2860560" y="1785960"/>
            <a:ext cx="43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2934360" y="3643200"/>
            <a:ext cx="73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6432480" y="142884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5576040" y="357192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5432400" y="22860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2249280" y="4935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生物主题毕业答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7 L -0.2599 0.3044 E">
                                      <p:cBhvr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3333E-006 L -0.24375 -0.30301 E">
                                      <p:cBhvr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-3.7037E-007 L 0.11805 -0.3676 E">
                                      <p:cBhvr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L -0.03941 0.4199 E">
                                      <p:cBhvr>
                                        <p:cTn id="6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3.7037E-007 L 0.16528 0.3044 E">
                                      <p:cBhvr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0.40156 0.13657 E">
                                      <p:cBhvr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0.29132 -0.20996 E">
                                      <p:cBhvr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1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1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0" y="2060640"/>
            <a:ext cx="475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大标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861080" y="4076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32360" y="178452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b6dde7"/>
                </a:solidFill>
                <a:latin typeface="微软雅黑"/>
                <a:ea typeface="微软雅黑"/>
              </a:rPr>
              <a:t>毕业论文答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504720" y="6415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195640" y="2276640"/>
            <a:ext cx="51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6dde7"/>
                </a:solidFill>
                <a:latin typeface="Calibri"/>
              </a:rPr>
              <a:t>THANK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4:44:00Z</dcterms:created>
  <dc:creator>mouse</dc:creator>
  <dc:description/>
  <cp:keywords/>
  <dc:language>en-US</dc:language>
  <cp:lastModifiedBy>yu wang</cp:lastModifiedBy>
  <dcterms:modified xsi:type="dcterms:W3CDTF">2015-08-08T10:06:25Z</dcterms:modified>
  <cp:revision>7</cp:revision>
  <dc:subject/>
  <dc:title>你的大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