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C14-7553-426F-82A6-ABB4AFEE7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55A-DF9F-4863-990C-B7D59D07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0F35-ED37-4AC3-B1CF-82958C43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A05-7540-46A6-B571-D4D1D548B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3411360"/>
            <a:ext cx="9144000" cy="3446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1"/>
          <p:cNvPicPr/>
          <p:nvPr/>
        </p:nvPicPr>
        <p:blipFill>
          <a:blip r:embed="rId4"/>
          <a:stretch/>
        </p:blipFill>
        <p:spPr>
          <a:xfrm>
            <a:off x="7796160" y="5013360"/>
            <a:ext cx="1166760" cy="12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5075280" y="234936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1808640" y="17827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月光下的清清水波精美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0" y="1628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yu wang</cp:lastModifiedBy>
  <dcterms:modified xsi:type="dcterms:W3CDTF">2015-08-08T10:05:30Z</dcterms:modified>
  <cp:revision>63</cp:revision>
  <dc:subject/>
  <dc:title>PowerPoint Template</dc:title>
</cp:coreProperties>
</file>