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BA79-B251-4056-9618-AD3BFE98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2D12-B5AC-4864-8ED9-F0CC5F3D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B513-1AA6-419C-A030-9D0ADCC4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2E9-BDEA-488B-9BB8-AF1E338F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D4D3-B66B-4E52-8166-839B618D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F848-B51A-4E4E-8B51-C433F138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1421-1EBC-4058-BBBD-015DC01B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6AE3-6364-432A-8BF8-EF6DDE12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E113-335E-42F5-9652-0E88D3CD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9DA7-345B-4FD4-A661-2A568AF9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E268-07D1-419B-83E7-22441F14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522-ACB6-4640-9BB1-815EF76E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ECAA-C43E-4B50-A5E9-FA3903A5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85E6-84E8-4A2B-8B98-CE33BA44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4D82-3A12-47D1-AD3A-F4715227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CD5A-6E11-4D08-B65A-55EEDFF4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DCD4-99A7-4DBA-BA6E-82560883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D9C7-0E7D-43BF-85EB-7066966D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81F-DC06-4783-ADB1-827A54AA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DEE-8D5C-4D2D-9CA7-4182CE5E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1FB9-7C2A-4900-B204-7DE9468A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0C9-5058-4EEB-BB02-8F4B0F7C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860-778C-4C76-A0D3-880344B6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E658-68B9-4133-92E8-D3DBD7F7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D083CA-E437-4773-AC29-A1E649D7F74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633C8E-EA27-41FC-8CFD-823F2AF9545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艳丽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276"/>
          <p:cNvGrpSpPr/>
          <p:nvPr/>
        </p:nvGrpSpPr>
        <p:grpSpPr>
          <a:xfrm>
            <a:off x="971640" y="1989000"/>
            <a:ext cx="7200720" cy="4174920"/>
            <a:chOff x="971640" y="1989000"/>
            <a:chExt cx="7200720" cy="4174920"/>
          </a:xfrm>
        </p:grpSpPr>
        <p:sp>
          <p:nvSpPr>
            <p:cNvPr id="84" name="AutoShape 277"/>
            <p:cNvSpPr/>
            <p:nvPr/>
          </p:nvSpPr>
          <p:spPr>
            <a:xfrm>
              <a:off x="971640" y="1989000"/>
              <a:ext cx="2015640" cy="1439640"/>
            </a:xfrm>
            <a:prstGeom prst="roundRect">
              <a:avLst>
                <a:gd name="adj" fmla="val 16667"/>
              </a:avLst>
            </a:prstGeom>
            <a:solidFill>
              <a:srgbClr val="ff5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5" name="AutoShape 278"/>
            <p:cNvSpPr/>
            <p:nvPr/>
          </p:nvSpPr>
          <p:spPr>
            <a:xfrm>
              <a:off x="3564000" y="1989000"/>
              <a:ext cx="2015640" cy="1439640"/>
            </a:xfrm>
            <a:prstGeom prst="roundRect">
              <a:avLst>
                <a:gd name="adj" fmla="val 16667"/>
              </a:avLst>
            </a:prstGeom>
            <a:solidFill>
              <a:srgbClr val="ff7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6" name="AutoShape 279"/>
            <p:cNvSpPr/>
            <p:nvPr/>
          </p:nvSpPr>
          <p:spPr>
            <a:xfrm>
              <a:off x="971640" y="1989000"/>
              <a:ext cx="2015640" cy="502920"/>
            </a:xfrm>
            <a:prstGeom prst="roundRect">
              <a:avLst>
                <a:gd name="adj" fmla="val 50000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AutoShape 280"/>
            <p:cNvSpPr/>
            <p:nvPr/>
          </p:nvSpPr>
          <p:spPr>
            <a:xfrm>
              <a:off x="6156360" y="1989000"/>
              <a:ext cx="2015640" cy="1439640"/>
            </a:xfrm>
            <a:prstGeom prst="roundRect">
              <a:avLst>
                <a:gd name="adj" fmla="val 16667"/>
              </a:avLst>
            </a:prstGeom>
            <a:solidFill>
              <a:srgbClr val="ffa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8" name="AutoShape 281"/>
            <p:cNvSpPr/>
            <p:nvPr/>
          </p:nvSpPr>
          <p:spPr>
            <a:xfrm>
              <a:off x="3564000" y="1989000"/>
              <a:ext cx="2015640" cy="502920"/>
            </a:xfrm>
            <a:prstGeom prst="roundRect">
              <a:avLst>
                <a:gd name="adj" fmla="val 50000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AutoShape 282"/>
            <p:cNvSpPr/>
            <p:nvPr/>
          </p:nvSpPr>
          <p:spPr>
            <a:xfrm>
              <a:off x="971640" y="4724280"/>
              <a:ext cx="7200720" cy="143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c00"/>
                </a:gs>
                <a:gs pos="100000">
                  <a:srgbClr val="ffc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90" name="AutoShape 283"/>
            <p:cNvSpPr/>
            <p:nvPr/>
          </p:nvSpPr>
          <p:spPr>
            <a:xfrm>
              <a:off x="971640" y="4724280"/>
              <a:ext cx="7200720" cy="502920"/>
            </a:xfrm>
            <a:prstGeom prst="roundRect">
              <a:avLst>
                <a:gd name="adj" fmla="val 50000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AutoShape 284"/>
            <p:cNvSpPr/>
            <p:nvPr/>
          </p:nvSpPr>
          <p:spPr>
            <a:xfrm rot="5400000">
              <a:off x="2916360" y="2492280"/>
              <a:ext cx="647280" cy="504360"/>
            </a:xfrm>
            <a:prstGeom prst="upArrow">
              <a:avLst>
                <a:gd name="adj1" fmla="val 54407"/>
                <a:gd name="adj2" fmla="val 53773"/>
              </a:avLst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AutoShape 285"/>
            <p:cNvSpPr/>
            <p:nvPr/>
          </p:nvSpPr>
          <p:spPr>
            <a:xfrm rot="5400000">
              <a:off x="5508720" y="2492280"/>
              <a:ext cx="647280" cy="504360"/>
            </a:xfrm>
            <a:prstGeom prst="upArrow">
              <a:avLst>
                <a:gd name="adj1" fmla="val 54407"/>
                <a:gd name="adj2" fmla="val 53773"/>
              </a:avLst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AutoShape 286"/>
            <p:cNvSpPr/>
            <p:nvPr/>
          </p:nvSpPr>
          <p:spPr>
            <a:xfrm rot="10800000">
              <a:off x="6804360" y="3429360"/>
              <a:ext cx="720360" cy="1152000"/>
            </a:xfrm>
            <a:prstGeom prst="upArrow">
              <a:avLst>
                <a:gd name="adj1" fmla="val 56870"/>
                <a:gd name="adj2" fmla="val 52201"/>
              </a:avLst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AutoShape 287"/>
            <p:cNvSpPr/>
            <p:nvPr/>
          </p:nvSpPr>
          <p:spPr>
            <a:xfrm>
              <a:off x="1619280" y="3645000"/>
              <a:ext cx="720360" cy="1079280"/>
            </a:xfrm>
            <a:prstGeom prst="upArrow">
              <a:avLst>
                <a:gd name="adj1" fmla="val 57352"/>
                <a:gd name="adj2" fmla="val 51542"/>
              </a:avLst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AutoShape 288"/>
            <p:cNvSpPr/>
            <p:nvPr/>
          </p:nvSpPr>
          <p:spPr>
            <a:xfrm>
              <a:off x="2556000" y="3718080"/>
              <a:ext cx="4032000" cy="791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289"/>
            <p:cNvSpPr/>
            <p:nvPr/>
          </p:nvSpPr>
          <p:spPr>
            <a:xfrm>
              <a:off x="1979280" y="3933720"/>
              <a:ext cx="86364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Line 290"/>
            <p:cNvSpPr/>
            <p:nvPr/>
          </p:nvSpPr>
          <p:spPr>
            <a:xfrm>
              <a:off x="6300720" y="4294080"/>
              <a:ext cx="86364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WordArt 291"/>
            <p:cNvSpPr txBox="1"/>
            <p:nvPr/>
          </p:nvSpPr>
          <p:spPr>
            <a:xfrm>
              <a:off x="2987640" y="3841920"/>
              <a:ext cx="2447640" cy="163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WordArt 292"/>
            <p:cNvSpPr txBox="1"/>
            <p:nvPr/>
          </p:nvSpPr>
          <p:spPr>
            <a:xfrm>
              <a:off x="3708360" y="4202280"/>
              <a:ext cx="2447640" cy="163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293"/>
            <p:cNvSpPr/>
            <p:nvPr/>
          </p:nvSpPr>
          <p:spPr>
            <a:xfrm>
              <a:off x="6156360" y="1989000"/>
              <a:ext cx="2015640" cy="502920"/>
            </a:xfrm>
            <a:prstGeom prst="roundRect">
              <a:avLst>
                <a:gd name="adj" fmla="val 50000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WordArt 294"/>
            <p:cNvSpPr txBox="1"/>
            <p:nvPr/>
          </p:nvSpPr>
          <p:spPr>
            <a:xfrm>
              <a:off x="1619280" y="2133720"/>
              <a:ext cx="72036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WordArt 295"/>
            <p:cNvSpPr txBox="1"/>
            <p:nvPr/>
          </p:nvSpPr>
          <p:spPr>
            <a:xfrm>
              <a:off x="4211640" y="2133720"/>
              <a:ext cx="72036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WordArt 296"/>
            <p:cNvSpPr txBox="1"/>
            <p:nvPr/>
          </p:nvSpPr>
          <p:spPr>
            <a:xfrm>
              <a:off x="6804000" y="2133720"/>
              <a:ext cx="72036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WordArt 297"/>
            <p:cNvSpPr txBox="1"/>
            <p:nvPr/>
          </p:nvSpPr>
          <p:spPr>
            <a:xfrm>
              <a:off x="4211640" y="4870440"/>
              <a:ext cx="72036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WordArt 298"/>
            <p:cNvSpPr txBox="1"/>
            <p:nvPr/>
          </p:nvSpPr>
          <p:spPr>
            <a:xfrm>
              <a:off x="1908000" y="4870440"/>
              <a:ext cx="72036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WordArt 299"/>
            <p:cNvSpPr txBox="1"/>
            <p:nvPr/>
          </p:nvSpPr>
          <p:spPr>
            <a:xfrm>
              <a:off x="6516720" y="4870440"/>
              <a:ext cx="72036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300"/>
            <p:cNvSpPr/>
            <p:nvPr/>
          </p:nvSpPr>
          <p:spPr>
            <a:xfrm>
              <a:off x="3419280" y="4870440"/>
              <a:ext cx="360" cy="21564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301"/>
            <p:cNvSpPr/>
            <p:nvPr/>
          </p:nvSpPr>
          <p:spPr>
            <a:xfrm>
              <a:off x="5724360" y="4870440"/>
              <a:ext cx="360" cy="21564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302"/>
            <p:cNvSpPr/>
            <p:nvPr/>
          </p:nvSpPr>
          <p:spPr>
            <a:xfrm>
              <a:off x="3419280" y="5373360"/>
              <a:ext cx="360" cy="64800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Line 303"/>
            <p:cNvSpPr/>
            <p:nvPr/>
          </p:nvSpPr>
          <p:spPr>
            <a:xfrm>
              <a:off x="5724360" y="5373360"/>
              <a:ext cx="360" cy="64800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Group 304"/>
            <p:cNvGrpSpPr/>
            <p:nvPr/>
          </p:nvGrpSpPr>
          <p:grpSpPr>
            <a:xfrm>
              <a:off x="1476360" y="2781360"/>
              <a:ext cx="1007640" cy="360000"/>
              <a:chOff x="1476360" y="2781360"/>
              <a:chExt cx="1007640" cy="360000"/>
            </a:xfrm>
          </p:grpSpPr>
          <p:sp>
            <p:nvSpPr>
              <p:cNvPr id="112" name="WordArt 305"/>
              <p:cNvSpPr txBox="1"/>
              <p:nvPr/>
            </p:nvSpPr>
            <p:spPr>
              <a:xfrm>
                <a:off x="1605240" y="278136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WordArt 306"/>
              <p:cNvSpPr txBox="1"/>
              <p:nvPr/>
            </p:nvSpPr>
            <p:spPr>
              <a:xfrm>
                <a:off x="1476360" y="302760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307"/>
            <p:cNvGrpSpPr/>
            <p:nvPr/>
          </p:nvGrpSpPr>
          <p:grpSpPr>
            <a:xfrm>
              <a:off x="4068720" y="2781360"/>
              <a:ext cx="1007640" cy="360000"/>
              <a:chOff x="4068720" y="2781360"/>
              <a:chExt cx="1007640" cy="360000"/>
            </a:xfrm>
          </p:grpSpPr>
          <p:sp>
            <p:nvSpPr>
              <p:cNvPr id="115" name="WordArt 308"/>
              <p:cNvSpPr txBox="1"/>
              <p:nvPr/>
            </p:nvSpPr>
            <p:spPr>
              <a:xfrm>
                <a:off x="4197600" y="278136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WordArt 309"/>
              <p:cNvSpPr txBox="1"/>
              <p:nvPr/>
            </p:nvSpPr>
            <p:spPr>
              <a:xfrm>
                <a:off x="4068720" y="302760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310"/>
            <p:cNvGrpSpPr/>
            <p:nvPr/>
          </p:nvGrpSpPr>
          <p:grpSpPr>
            <a:xfrm>
              <a:off x="6659640" y="2781360"/>
              <a:ext cx="1007640" cy="360000"/>
              <a:chOff x="6659640" y="2781360"/>
              <a:chExt cx="1007640" cy="360000"/>
            </a:xfrm>
          </p:grpSpPr>
          <p:sp>
            <p:nvSpPr>
              <p:cNvPr id="118" name="WordArt 311"/>
              <p:cNvSpPr txBox="1"/>
              <p:nvPr/>
            </p:nvSpPr>
            <p:spPr>
              <a:xfrm>
                <a:off x="6788160" y="278136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WordArt 312"/>
              <p:cNvSpPr txBox="1"/>
              <p:nvPr/>
            </p:nvSpPr>
            <p:spPr>
              <a:xfrm>
                <a:off x="6659640" y="302760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313"/>
            <p:cNvGrpSpPr/>
            <p:nvPr/>
          </p:nvGrpSpPr>
          <p:grpSpPr>
            <a:xfrm>
              <a:off x="6372360" y="5518080"/>
              <a:ext cx="1007640" cy="360000"/>
              <a:chOff x="6372360" y="5518080"/>
              <a:chExt cx="1007640" cy="360000"/>
            </a:xfrm>
          </p:grpSpPr>
          <p:sp>
            <p:nvSpPr>
              <p:cNvPr id="121" name="WordArt 314"/>
              <p:cNvSpPr txBox="1"/>
              <p:nvPr/>
            </p:nvSpPr>
            <p:spPr>
              <a:xfrm>
                <a:off x="6500880" y="551808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WordArt 315"/>
              <p:cNvSpPr txBox="1"/>
              <p:nvPr/>
            </p:nvSpPr>
            <p:spPr>
              <a:xfrm>
                <a:off x="6372360" y="576432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316"/>
            <p:cNvGrpSpPr/>
            <p:nvPr/>
          </p:nvGrpSpPr>
          <p:grpSpPr>
            <a:xfrm>
              <a:off x="1763640" y="5518080"/>
              <a:ext cx="1007640" cy="360000"/>
              <a:chOff x="1763640" y="5518080"/>
              <a:chExt cx="1007640" cy="360000"/>
            </a:xfrm>
          </p:grpSpPr>
          <p:sp>
            <p:nvSpPr>
              <p:cNvPr id="124" name="WordArt 317"/>
              <p:cNvSpPr txBox="1"/>
              <p:nvPr/>
            </p:nvSpPr>
            <p:spPr>
              <a:xfrm>
                <a:off x="1892520" y="551808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WordArt 318"/>
              <p:cNvSpPr txBox="1"/>
              <p:nvPr/>
            </p:nvSpPr>
            <p:spPr>
              <a:xfrm>
                <a:off x="1763640" y="576432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319"/>
            <p:cNvGrpSpPr/>
            <p:nvPr/>
          </p:nvGrpSpPr>
          <p:grpSpPr>
            <a:xfrm>
              <a:off x="4067280" y="5518080"/>
              <a:ext cx="1007640" cy="360000"/>
              <a:chOff x="4067280" y="5518080"/>
              <a:chExt cx="1007640" cy="360000"/>
            </a:xfrm>
          </p:grpSpPr>
          <p:sp>
            <p:nvSpPr>
              <p:cNvPr id="127" name="WordArt 320"/>
              <p:cNvSpPr txBox="1"/>
              <p:nvPr/>
            </p:nvSpPr>
            <p:spPr>
              <a:xfrm>
                <a:off x="4195800" y="551808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WordArt 321"/>
              <p:cNvSpPr txBox="1"/>
              <p:nvPr/>
            </p:nvSpPr>
            <p:spPr>
              <a:xfrm>
                <a:off x="4067280" y="576432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6" name="Group 372"/>
          <p:cNvGrpSpPr/>
          <p:nvPr/>
        </p:nvGrpSpPr>
        <p:grpSpPr>
          <a:xfrm>
            <a:off x="826920" y="1558800"/>
            <a:ext cx="7489440" cy="4390560"/>
            <a:chOff x="826920" y="1558800"/>
            <a:chExt cx="7489440" cy="4390560"/>
          </a:xfrm>
        </p:grpSpPr>
        <p:sp>
          <p:nvSpPr>
            <p:cNvPr id="637" name="Oval 373"/>
            <p:cNvSpPr/>
            <p:nvPr/>
          </p:nvSpPr>
          <p:spPr>
            <a:xfrm>
              <a:off x="6948360" y="4581360"/>
              <a:ext cx="1368000" cy="1368000"/>
            </a:xfrm>
            <a:prstGeom prst="ellipse">
              <a:avLst/>
            </a:prstGeom>
            <a:solidFill>
              <a:srgbClr val="540000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Oval 374"/>
            <p:cNvSpPr/>
            <p:nvPr/>
          </p:nvSpPr>
          <p:spPr>
            <a:xfrm>
              <a:off x="826920" y="4581360"/>
              <a:ext cx="1368000" cy="1368000"/>
            </a:xfrm>
            <a:prstGeom prst="ellipse">
              <a:avLst/>
            </a:prstGeom>
            <a:solidFill>
              <a:srgbClr val="540000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Oval 375"/>
            <p:cNvSpPr/>
            <p:nvPr/>
          </p:nvSpPr>
          <p:spPr>
            <a:xfrm>
              <a:off x="5580000" y="2852640"/>
              <a:ext cx="2304720" cy="2304720"/>
            </a:xfrm>
            <a:prstGeom prst="ellipse">
              <a:avLst/>
            </a:prstGeom>
            <a:solidFill>
              <a:srgbClr val="540000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Oval 376"/>
            <p:cNvSpPr/>
            <p:nvPr/>
          </p:nvSpPr>
          <p:spPr>
            <a:xfrm>
              <a:off x="1258920" y="2852640"/>
              <a:ext cx="2304720" cy="2304720"/>
            </a:xfrm>
            <a:prstGeom prst="ellipse">
              <a:avLst/>
            </a:prstGeom>
            <a:solidFill>
              <a:srgbClr val="540000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Oval 377"/>
            <p:cNvSpPr/>
            <p:nvPr/>
          </p:nvSpPr>
          <p:spPr>
            <a:xfrm>
              <a:off x="3059280" y="1628640"/>
              <a:ext cx="3025440" cy="3025440"/>
            </a:xfrm>
            <a:prstGeom prst="ellipse">
              <a:avLst/>
            </a:prstGeom>
            <a:solidFill>
              <a:srgbClr val="540000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Oval 378"/>
            <p:cNvSpPr/>
            <p:nvPr/>
          </p:nvSpPr>
          <p:spPr>
            <a:xfrm>
              <a:off x="3348000" y="1917720"/>
              <a:ext cx="2447640" cy="2447640"/>
            </a:xfrm>
            <a:prstGeom prst="ellipse">
              <a:avLst/>
            </a:prstGeom>
            <a:gradFill rotWithShape="0">
              <a:gsLst>
                <a:gs pos="0">
                  <a:srgbClr val="763b00"/>
                </a:gs>
                <a:gs pos="100000">
                  <a:srgbClr val="ff8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43" name="Oval 379"/>
            <p:cNvSpPr/>
            <p:nvPr/>
          </p:nvSpPr>
          <p:spPr>
            <a:xfrm>
              <a:off x="1547640" y="3141720"/>
              <a:ext cx="1726920" cy="1726920"/>
            </a:xfrm>
            <a:prstGeom prst="ellipse">
              <a:avLst/>
            </a:prstGeom>
            <a:gradFill rotWithShape="0">
              <a:gsLst>
                <a:gs pos="0">
                  <a:srgbClr val="6a1300"/>
                </a:gs>
                <a:gs pos="100000">
                  <a:srgbClr val="e62b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44" name="Oval 380"/>
            <p:cNvSpPr/>
            <p:nvPr/>
          </p:nvSpPr>
          <p:spPr>
            <a:xfrm>
              <a:off x="5869080" y="3141720"/>
              <a:ext cx="1726920" cy="1726920"/>
            </a:xfrm>
            <a:prstGeom prst="ellipse">
              <a:avLst/>
            </a:prstGeom>
            <a:gradFill rotWithShape="0">
              <a:gsLst>
                <a:gs pos="0">
                  <a:srgbClr val="6a1300"/>
                </a:gs>
                <a:gs pos="100000">
                  <a:srgbClr val="e62b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45" name="Oval 381"/>
            <p:cNvSpPr/>
            <p:nvPr/>
          </p:nvSpPr>
          <p:spPr>
            <a:xfrm>
              <a:off x="1116000" y="4870440"/>
              <a:ext cx="791640" cy="791640"/>
            </a:xfrm>
            <a:prstGeom prst="ellipse">
              <a:avLst/>
            </a:prstGeom>
            <a:gradFill rotWithShape="0">
              <a:gsLst>
                <a:gs pos="0">
                  <a:srgbClr val="440c00"/>
                </a:gs>
                <a:gs pos="100000">
                  <a:srgbClr val="931b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46" name="Oval 382"/>
            <p:cNvSpPr/>
            <p:nvPr/>
          </p:nvSpPr>
          <p:spPr>
            <a:xfrm>
              <a:off x="7236000" y="4869000"/>
              <a:ext cx="791640" cy="791640"/>
            </a:xfrm>
            <a:prstGeom prst="ellipse">
              <a:avLst/>
            </a:prstGeom>
            <a:gradFill rotWithShape="0">
              <a:gsLst>
                <a:gs pos="0">
                  <a:srgbClr val="440c00"/>
                </a:gs>
                <a:gs pos="100000">
                  <a:srgbClr val="931b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47" name="AutoShape 383"/>
            <p:cNvSpPr/>
            <p:nvPr/>
          </p:nvSpPr>
          <p:spPr>
            <a:xfrm>
              <a:off x="3419640" y="1989000"/>
              <a:ext cx="2304720" cy="2304720"/>
            </a:xfrm>
            <a:custGeom>
              <a:avLst/>
              <a:gdLst>
                <a:gd name="textAreaLeft" fmla="*/ 258480 w 2304720"/>
                <a:gd name="textAreaRight" fmla="*/ 2046240 w 2304720"/>
                <a:gd name="textAreaTop" fmla="*/ 0 h 2304720"/>
                <a:gd name="textAreaBottom" fmla="*/ 564840 h 23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11" y="4017"/>
                  </a:moveTo>
                  <a:cubicBezTo>
                    <a:pt x="6864" y="2760"/>
                    <a:pt x="8802" y="2074"/>
                    <a:pt x="10800" y="2075"/>
                  </a:cubicBezTo>
                  <a:cubicBezTo>
                    <a:pt x="12797" y="2075"/>
                    <a:pt x="14735" y="2760"/>
                    <a:pt x="16288" y="4017"/>
                  </a:cubicBezTo>
                  <a:lnTo>
                    <a:pt x="17593" y="2404"/>
                  </a:lnTo>
                  <a:cubicBezTo>
                    <a:pt x="15671" y="848"/>
                    <a:pt x="13273" y="-1"/>
                    <a:pt x="10799" y="0"/>
                  </a:cubicBezTo>
                  <a:cubicBezTo>
                    <a:pt x="8326" y="0"/>
                    <a:pt x="5928" y="848"/>
                    <a:pt x="4006" y="2404"/>
                  </a:cubicBezTo>
                  <a:close/>
                </a:path>
              </a:pathLst>
            </a:custGeom>
            <a:solidFill>
              <a:schemeClr val="bg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AutoShape 384"/>
            <p:cNvSpPr/>
            <p:nvPr/>
          </p:nvSpPr>
          <p:spPr>
            <a:xfrm rot="3528000">
              <a:off x="3419640" y="1989000"/>
              <a:ext cx="2304720" cy="2304720"/>
            </a:xfrm>
            <a:custGeom>
              <a:avLst/>
              <a:gdLst>
                <a:gd name="textAreaLeft" fmla="*/ 655560 w 2304720"/>
                <a:gd name="textAreaRight" fmla="*/ 1649160 w 2304720"/>
                <a:gd name="textAreaTop" fmla="*/ 0 h 2304720"/>
                <a:gd name="textAreaBottom" fmla="*/ 306360 h 23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8403" y="2334"/>
                  </a:moveTo>
                  <a:cubicBezTo>
                    <a:pt x="9183" y="2113"/>
                    <a:pt x="9989" y="2001"/>
                    <a:pt x="10800" y="2002"/>
                  </a:cubicBezTo>
                  <a:cubicBezTo>
                    <a:pt x="11610" y="2002"/>
                    <a:pt x="12416" y="2113"/>
                    <a:pt x="13196" y="2334"/>
                  </a:cubicBezTo>
                  <a:lnTo>
                    <a:pt x="13742" y="408"/>
                  </a:lnTo>
                  <a:cubicBezTo>
                    <a:pt x="12784" y="137"/>
                    <a:pt x="11794" y="-1"/>
                    <a:pt x="10799" y="0"/>
                  </a:cubicBezTo>
                  <a:cubicBezTo>
                    <a:pt x="9805" y="0"/>
                    <a:pt x="8815" y="137"/>
                    <a:pt x="7857" y="408"/>
                  </a:cubicBezTo>
                  <a:close/>
                </a:path>
              </a:pathLst>
            </a:custGeom>
            <a:solidFill>
              <a:schemeClr val="bg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9" name="Group 385"/>
            <p:cNvGrpSpPr/>
            <p:nvPr/>
          </p:nvGrpSpPr>
          <p:grpSpPr>
            <a:xfrm>
              <a:off x="1323720" y="2917440"/>
              <a:ext cx="2175480" cy="2175480"/>
              <a:chOff x="1323720" y="2917440"/>
              <a:chExt cx="2175480" cy="2175480"/>
            </a:xfrm>
          </p:grpSpPr>
          <p:sp>
            <p:nvSpPr>
              <p:cNvPr id="650" name="AutoShape 386"/>
              <p:cNvSpPr/>
              <p:nvPr/>
            </p:nvSpPr>
            <p:spPr>
              <a:xfrm>
                <a:off x="1619280" y="3213000"/>
                <a:ext cx="1584000" cy="1584000"/>
              </a:xfrm>
              <a:custGeom>
                <a:avLst/>
                <a:gdLst>
                  <a:gd name="textAreaLeft" fmla="*/ 177840 w 1584000"/>
                  <a:gd name="textAreaRight" fmla="*/ 1406160 w 1584000"/>
                  <a:gd name="textAreaTop" fmla="*/ 0 h 1584000"/>
                  <a:gd name="textAreaBottom" fmla="*/ 38844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AutoShape 387"/>
              <p:cNvSpPr/>
              <p:nvPr/>
            </p:nvSpPr>
            <p:spPr>
              <a:xfrm rot="3528000">
                <a:off x="1619280" y="3213000"/>
                <a:ext cx="1584000" cy="1584000"/>
              </a:xfrm>
              <a:custGeom>
                <a:avLst/>
                <a:gdLst>
                  <a:gd name="textAreaLeft" fmla="*/ 450360 w 1584000"/>
                  <a:gd name="textAreaRight" fmla="*/ 1133640 w 1584000"/>
                  <a:gd name="textAreaTop" fmla="*/ 0 h 1584000"/>
                  <a:gd name="textAreaBottom" fmla="*/ 21024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2" name="Group 388"/>
            <p:cNvGrpSpPr/>
            <p:nvPr/>
          </p:nvGrpSpPr>
          <p:grpSpPr>
            <a:xfrm>
              <a:off x="5644800" y="2917440"/>
              <a:ext cx="2175480" cy="2175480"/>
              <a:chOff x="5644800" y="2917440"/>
              <a:chExt cx="2175480" cy="2175480"/>
            </a:xfrm>
          </p:grpSpPr>
          <p:sp>
            <p:nvSpPr>
              <p:cNvPr id="653" name="AutoShape 389"/>
              <p:cNvSpPr/>
              <p:nvPr/>
            </p:nvSpPr>
            <p:spPr>
              <a:xfrm>
                <a:off x="5940360" y="3213000"/>
                <a:ext cx="1584000" cy="1584000"/>
              </a:xfrm>
              <a:custGeom>
                <a:avLst/>
                <a:gdLst>
                  <a:gd name="textAreaLeft" fmla="*/ 177840 w 1584000"/>
                  <a:gd name="textAreaRight" fmla="*/ 1406160 w 1584000"/>
                  <a:gd name="textAreaTop" fmla="*/ 0 h 1584000"/>
                  <a:gd name="textAreaBottom" fmla="*/ 38844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AutoShape 390"/>
              <p:cNvSpPr/>
              <p:nvPr/>
            </p:nvSpPr>
            <p:spPr>
              <a:xfrm rot="3528000">
                <a:off x="5940360" y="3213000"/>
                <a:ext cx="1584000" cy="1584000"/>
              </a:xfrm>
              <a:custGeom>
                <a:avLst/>
                <a:gdLst>
                  <a:gd name="textAreaLeft" fmla="*/ 450360 w 1584000"/>
                  <a:gd name="textAreaRight" fmla="*/ 1133640 w 1584000"/>
                  <a:gd name="textAreaTop" fmla="*/ 0 h 1584000"/>
                  <a:gd name="textAreaBottom" fmla="*/ 21024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5" name="Group 391"/>
            <p:cNvGrpSpPr/>
            <p:nvPr/>
          </p:nvGrpSpPr>
          <p:grpSpPr>
            <a:xfrm>
              <a:off x="7188120" y="4821120"/>
              <a:ext cx="888840" cy="888840"/>
              <a:chOff x="7188120" y="4821120"/>
              <a:chExt cx="888840" cy="888840"/>
            </a:xfrm>
          </p:grpSpPr>
          <p:sp>
            <p:nvSpPr>
              <p:cNvPr id="656" name="AutoShape 392"/>
              <p:cNvSpPr/>
              <p:nvPr/>
            </p:nvSpPr>
            <p:spPr>
              <a:xfrm>
                <a:off x="7308720" y="4941720"/>
                <a:ext cx="647280" cy="647280"/>
              </a:xfrm>
              <a:custGeom>
                <a:avLst/>
                <a:gdLst>
                  <a:gd name="textAreaLeft" fmla="*/ 72360 w 647280"/>
                  <a:gd name="textAreaRight" fmla="*/ 574920 w 647280"/>
                  <a:gd name="textAreaTop" fmla="*/ 0 h 647280"/>
                  <a:gd name="textAreaBottom" fmla="*/ 1587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AutoShape 393"/>
              <p:cNvSpPr/>
              <p:nvPr/>
            </p:nvSpPr>
            <p:spPr>
              <a:xfrm rot="3528000">
                <a:off x="7308720" y="4941720"/>
                <a:ext cx="647280" cy="647280"/>
              </a:xfrm>
              <a:custGeom>
                <a:avLst/>
                <a:gdLst>
                  <a:gd name="textAreaLeft" fmla="*/ 183960 w 647280"/>
                  <a:gd name="textAreaRight" fmla="*/ 463320 w 647280"/>
                  <a:gd name="textAreaTop" fmla="*/ 0 h 647280"/>
                  <a:gd name="textAreaBottom" fmla="*/ 860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394"/>
            <p:cNvGrpSpPr/>
            <p:nvPr/>
          </p:nvGrpSpPr>
          <p:grpSpPr>
            <a:xfrm>
              <a:off x="1066680" y="4821120"/>
              <a:ext cx="888840" cy="888840"/>
              <a:chOff x="1066680" y="4821120"/>
              <a:chExt cx="888840" cy="888840"/>
            </a:xfrm>
          </p:grpSpPr>
          <p:sp>
            <p:nvSpPr>
              <p:cNvPr id="659" name="AutoShape 395"/>
              <p:cNvSpPr/>
              <p:nvPr/>
            </p:nvSpPr>
            <p:spPr>
              <a:xfrm>
                <a:off x="1187280" y="4941720"/>
                <a:ext cx="647280" cy="647280"/>
              </a:xfrm>
              <a:custGeom>
                <a:avLst/>
                <a:gdLst>
                  <a:gd name="textAreaLeft" fmla="*/ 72360 w 647280"/>
                  <a:gd name="textAreaRight" fmla="*/ 574920 w 647280"/>
                  <a:gd name="textAreaTop" fmla="*/ 0 h 647280"/>
                  <a:gd name="textAreaBottom" fmla="*/ 1587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AutoShape 396"/>
              <p:cNvSpPr/>
              <p:nvPr/>
            </p:nvSpPr>
            <p:spPr>
              <a:xfrm rot="3528000">
                <a:off x="1187280" y="4941720"/>
                <a:ext cx="647280" cy="647280"/>
              </a:xfrm>
              <a:custGeom>
                <a:avLst/>
                <a:gdLst>
                  <a:gd name="textAreaLeft" fmla="*/ 183960 w 647280"/>
                  <a:gd name="textAreaRight" fmla="*/ 463320 w 647280"/>
                  <a:gd name="textAreaTop" fmla="*/ 0 h 647280"/>
                  <a:gd name="textAreaBottom" fmla="*/ 860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1" name="Group 397"/>
            <p:cNvGrpSpPr/>
            <p:nvPr/>
          </p:nvGrpSpPr>
          <p:grpSpPr>
            <a:xfrm>
              <a:off x="3708360" y="2852640"/>
              <a:ext cx="1726920" cy="647280"/>
              <a:chOff x="3708360" y="2852640"/>
              <a:chExt cx="1726920" cy="647280"/>
            </a:xfrm>
          </p:grpSpPr>
          <p:sp>
            <p:nvSpPr>
              <p:cNvPr id="662" name="WordArt 398"/>
              <p:cNvSpPr txBox="1"/>
              <p:nvPr/>
            </p:nvSpPr>
            <p:spPr>
              <a:xfrm>
                <a:off x="3929040" y="2852640"/>
                <a:ext cx="1290240" cy="395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WordArt 399"/>
              <p:cNvSpPr txBox="1"/>
              <p:nvPr/>
            </p:nvSpPr>
            <p:spPr>
              <a:xfrm>
                <a:off x="3708360" y="3295080"/>
                <a:ext cx="1726920" cy="204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4" name="Group 400"/>
            <p:cNvGrpSpPr/>
            <p:nvPr/>
          </p:nvGrpSpPr>
          <p:grpSpPr>
            <a:xfrm>
              <a:off x="1835280" y="3871800"/>
              <a:ext cx="1155240" cy="420120"/>
              <a:chOff x="1835280" y="3871800"/>
              <a:chExt cx="1155240" cy="420120"/>
            </a:xfrm>
          </p:grpSpPr>
          <p:sp>
            <p:nvSpPr>
              <p:cNvPr id="665" name="WordArt 401"/>
              <p:cNvSpPr txBox="1"/>
              <p:nvPr/>
            </p:nvSpPr>
            <p:spPr>
              <a:xfrm>
                <a:off x="1982880" y="3871800"/>
                <a:ext cx="863280" cy="2566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WordArt 402"/>
              <p:cNvSpPr txBox="1"/>
              <p:nvPr/>
            </p:nvSpPr>
            <p:spPr>
              <a:xfrm>
                <a:off x="1835280" y="4159080"/>
                <a:ext cx="1155240" cy="132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7" name="Group 403"/>
            <p:cNvGrpSpPr/>
            <p:nvPr/>
          </p:nvGrpSpPr>
          <p:grpSpPr>
            <a:xfrm>
              <a:off x="6156360" y="3871800"/>
              <a:ext cx="1155240" cy="420120"/>
              <a:chOff x="6156360" y="3871800"/>
              <a:chExt cx="1155240" cy="420120"/>
            </a:xfrm>
          </p:grpSpPr>
          <p:sp>
            <p:nvSpPr>
              <p:cNvPr id="668" name="WordArt 404"/>
              <p:cNvSpPr txBox="1"/>
              <p:nvPr/>
            </p:nvSpPr>
            <p:spPr>
              <a:xfrm>
                <a:off x="6303960" y="3871800"/>
                <a:ext cx="863280" cy="2566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WordArt 405"/>
              <p:cNvSpPr txBox="1"/>
              <p:nvPr/>
            </p:nvSpPr>
            <p:spPr>
              <a:xfrm>
                <a:off x="6156360" y="4159080"/>
                <a:ext cx="1155240" cy="132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0" name="WordArt 406"/>
            <p:cNvSpPr txBox="1"/>
            <p:nvPr/>
          </p:nvSpPr>
          <p:spPr>
            <a:xfrm>
              <a:off x="1258920" y="5229360"/>
              <a:ext cx="504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WordArt 407"/>
            <p:cNvSpPr txBox="1"/>
            <p:nvPr/>
          </p:nvSpPr>
          <p:spPr>
            <a:xfrm>
              <a:off x="7380360" y="5229360"/>
              <a:ext cx="504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3" name="Group 211"/>
          <p:cNvGrpSpPr/>
          <p:nvPr/>
        </p:nvGrpSpPr>
        <p:grpSpPr>
          <a:xfrm>
            <a:off x="826920" y="1197000"/>
            <a:ext cx="7416360" cy="5040000"/>
            <a:chOff x="826920" y="1197000"/>
            <a:chExt cx="7416360" cy="5040000"/>
          </a:xfrm>
        </p:grpSpPr>
        <p:sp>
          <p:nvSpPr>
            <p:cNvPr id="674" name="Rectangle 212"/>
            <p:cNvSpPr/>
            <p:nvPr/>
          </p:nvSpPr>
          <p:spPr>
            <a:xfrm>
              <a:off x="826920" y="1197000"/>
              <a:ext cx="2376000" cy="3024000"/>
            </a:xfrm>
            <a:prstGeom prst="rect">
              <a:avLst/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AutoShape 213"/>
            <p:cNvSpPr/>
            <p:nvPr/>
          </p:nvSpPr>
          <p:spPr>
            <a:xfrm>
              <a:off x="971640" y="1341360"/>
              <a:ext cx="208728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3b00"/>
                </a:gs>
                <a:gs pos="100000">
                  <a:srgbClr val="ff8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76" name="AutoShape 214"/>
            <p:cNvSpPr/>
            <p:nvPr/>
          </p:nvSpPr>
          <p:spPr>
            <a:xfrm>
              <a:off x="971640" y="2781360"/>
              <a:ext cx="208728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3b00"/>
                </a:gs>
                <a:gs pos="100000">
                  <a:srgbClr val="ff8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77" name="AutoShape 215"/>
            <p:cNvSpPr/>
            <p:nvPr/>
          </p:nvSpPr>
          <p:spPr>
            <a:xfrm>
              <a:off x="971640" y="3502080"/>
              <a:ext cx="208728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3b00"/>
                </a:gs>
                <a:gs pos="100000">
                  <a:srgbClr val="ff8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78" name="Rectangle 216"/>
            <p:cNvSpPr/>
            <p:nvPr/>
          </p:nvSpPr>
          <p:spPr>
            <a:xfrm>
              <a:off x="3635280" y="1197000"/>
              <a:ext cx="4608000" cy="1584000"/>
            </a:xfrm>
            <a:prstGeom prst="rect">
              <a:avLst/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AutoShape 217"/>
            <p:cNvSpPr/>
            <p:nvPr/>
          </p:nvSpPr>
          <p:spPr>
            <a:xfrm>
              <a:off x="3778200" y="1341360"/>
              <a:ext cx="208728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6e6d68"/>
                </a:gs>
                <a:gs pos="100000">
                  <a:srgbClr val="eeece1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80" name="AutoShape 218"/>
            <p:cNvSpPr/>
            <p:nvPr/>
          </p:nvSpPr>
          <p:spPr>
            <a:xfrm>
              <a:off x="6012000" y="1341360"/>
              <a:ext cx="2087280" cy="576000"/>
            </a:xfrm>
            <a:prstGeom prst="roundRect">
              <a:avLst>
                <a:gd name="adj" fmla="val 16667"/>
              </a:avLst>
            </a:prstGeom>
            <a:solidFill>
              <a:schemeClr val="bg2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81" name="AutoShape 219"/>
            <p:cNvSpPr/>
            <p:nvPr/>
          </p:nvSpPr>
          <p:spPr>
            <a:xfrm>
              <a:off x="6012000" y="2060640"/>
              <a:ext cx="2087280" cy="576000"/>
            </a:xfrm>
            <a:prstGeom prst="roundRect">
              <a:avLst>
                <a:gd name="adj" fmla="val 16667"/>
              </a:avLst>
            </a:prstGeom>
            <a:solidFill>
              <a:schemeClr val="bg2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82" name="Rectangle 220"/>
            <p:cNvSpPr/>
            <p:nvPr/>
          </p:nvSpPr>
          <p:spPr>
            <a:xfrm>
              <a:off x="5867280" y="3213000"/>
              <a:ext cx="2376000" cy="3024000"/>
            </a:xfrm>
            <a:prstGeom prst="rect">
              <a:avLst/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AutoShape 221"/>
            <p:cNvSpPr/>
            <p:nvPr/>
          </p:nvSpPr>
          <p:spPr>
            <a:xfrm>
              <a:off x="6012000" y="3357720"/>
              <a:ext cx="208728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84" name="AutoShape 222"/>
            <p:cNvSpPr/>
            <p:nvPr/>
          </p:nvSpPr>
          <p:spPr>
            <a:xfrm>
              <a:off x="6012000" y="4797360"/>
              <a:ext cx="208728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85" name="AutoShape 223"/>
            <p:cNvSpPr/>
            <p:nvPr/>
          </p:nvSpPr>
          <p:spPr>
            <a:xfrm>
              <a:off x="6012000" y="5518080"/>
              <a:ext cx="208728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86" name="Rectangle 224"/>
            <p:cNvSpPr/>
            <p:nvPr/>
          </p:nvSpPr>
          <p:spPr>
            <a:xfrm>
              <a:off x="828720" y="4653000"/>
              <a:ext cx="4608000" cy="1584000"/>
            </a:xfrm>
            <a:prstGeom prst="rect">
              <a:avLst/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AutoShape 225"/>
            <p:cNvSpPr/>
            <p:nvPr/>
          </p:nvSpPr>
          <p:spPr>
            <a:xfrm>
              <a:off x="971640" y="4797360"/>
              <a:ext cx="208728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42502"/>
                </a:gs>
                <a:gs pos="100000">
                  <a:srgbClr val="fb5105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88" name="AutoShape 226"/>
            <p:cNvSpPr/>
            <p:nvPr/>
          </p:nvSpPr>
          <p:spPr>
            <a:xfrm>
              <a:off x="3205080" y="4797360"/>
              <a:ext cx="208728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2502"/>
                </a:gs>
                <a:gs pos="100000">
                  <a:srgbClr val="fb5105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89" name="AutoShape 227"/>
            <p:cNvSpPr/>
            <p:nvPr/>
          </p:nvSpPr>
          <p:spPr>
            <a:xfrm>
              <a:off x="3205080" y="5516640"/>
              <a:ext cx="208728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2502"/>
                </a:gs>
                <a:gs pos="100000">
                  <a:srgbClr val="fb5105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90" name="AutoShape 228"/>
            <p:cNvSpPr/>
            <p:nvPr/>
          </p:nvSpPr>
          <p:spPr>
            <a:xfrm rot="5400000">
              <a:off x="3169080" y="1807920"/>
              <a:ext cx="431280" cy="360000"/>
            </a:xfrm>
            <a:prstGeom prst="upArrow">
              <a:avLst>
                <a:gd name="adj1" fmla="val 49750"/>
                <a:gd name="adj2" fmla="val 65046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AutoShape 229"/>
            <p:cNvSpPr/>
            <p:nvPr/>
          </p:nvSpPr>
          <p:spPr>
            <a:xfrm rot="10800000">
              <a:off x="6804720" y="2781720"/>
              <a:ext cx="431280" cy="360000"/>
            </a:xfrm>
            <a:prstGeom prst="upArrow">
              <a:avLst>
                <a:gd name="adj1" fmla="val 49750"/>
                <a:gd name="adj2" fmla="val 65046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AutoShape 230"/>
            <p:cNvSpPr/>
            <p:nvPr/>
          </p:nvSpPr>
          <p:spPr>
            <a:xfrm rot="16200000">
              <a:off x="5473800" y="5264640"/>
              <a:ext cx="431280" cy="360000"/>
            </a:xfrm>
            <a:prstGeom prst="upArrow">
              <a:avLst>
                <a:gd name="adj1" fmla="val 49750"/>
                <a:gd name="adj2" fmla="val 65046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AutoShape 231"/>
            <p:cNvSpPr/>
            <p:nvPr/>
          </p:nvSpPr>
          <p:spPr>
            <a:xfrm>
              <a:off x="1836720" y="4292640"/>
              <a:ext cx="431280" cy="360000"/>
            </a:xfrm>
            <a:prstGeom prst="upArrow">
              <a:avLst>
                <a:gd name="adj1" fmla="val 49750"/>
                <a:gd name="adj2" fmla="val 65046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AutoShape 232"/>
            <p:cNvSpPr/>
            <p:nvPr/>
          </p:nvSpPr>
          <p:spPr>
            <a:xfrm>
              <a:off x="3635280" y="3213000"/>
              <a:ext cx="1800000" cy="100764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695" name="Group 233"/>
            <p:cNvGrpSpPr/>
            <p:nvPr/>
          </p:nvGrpSpPr>
          <p:grpSpPr>
            <a:xfrm>
              <a:off x="1332000" y="1557360"/>
              <a:ext cx="1368000" cy="901440"/>
              <a:chOff x="1332000" y="1557360"/>
              <a:chExt cx="1368000" cy="901440"/>
            </a:xfrm>
          </p:grpSpPr>
          <p:sp>
            <p:nvSpPr>
              <p:cNvPr id="696" name="WordArt 234"/>
              <p:cNvSpPr txBox="1"/>
              <p:nvPr/>
            </p:nvSpPr>
            <p:spPr>
              <a:xfrm>
                <a:off x="1506600" y="1557360"/>
                <a:ext cx="102204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WordArt 235"/>
              <p:cNvSpPr txBox="1"/>
              <p:nvPr/>
            </p:nvSpPr>
            <p:spPr>
              <a:xfrm>
                <a:off x="1332000" y="194616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236"/>
            <p:cNvGrpSpPr/>
            <p:nvPr/>
          </p:nvGrpSpPr>
          <p:grpSpPr>
            <a:xfrm>
              <a:off x="4140360" y="1519200"/>
              <a:ext cx="1368000" cy="901440"/>
              <a:chOff x="4140360" y="1519200"/>
              <a:chExt cx="1368000" cy="901440"/>
            </a:xfrm>
          </p:grpSpPr>
          <p:sp>
            <p:nvSpPr>
              <p:cNvPr id="699" name="WordArt 237"/>
              <p:cNvSpPr txBox="1"/>
              <p:nvPr/>
            </p:nvSpPr>
            <p:spPr>
              <a:xfrm>
                <a:off x="4314960" y="1519200"/>
                <a:ext cx="102204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WordArt 238"/>
              <p:cNvSpPr txBox="1"/>
              <p:nvPr/>
            </p:nvSpPr>
            <p:spPr>
              <a:xfrm>
                <a:off x="4140360" y="190800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239"/>
            <p:cNvGrpSpPr/>
            <p:nvPr/>
          </p:nvGrpSpPr>
          <p:grpSpPr>
            <a:xfrm>
              <a:off x="6372360" y="3573360"/>
              <a:ext cx="1368000" cy="901440"/>
              <a:chOff x="6372360" y="3573360"/>
              <a:chExt cx="1368000" cy="901440"/>
            </a:xfrm>
          </p:grpSpPr>
          <p:sp>
            <p:nvSpPr>
              <p:cNvPr id="702" name="WordArt 240"/>
              <p:cNvSpPr txBox="1"/>
              <p:nvPr/>
            </p:nvSpPr>
            <p:spPr>
              <a:xfrm>
                <a:off x="6546960" y="3573360"/>
                <a:ext cx="102204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WordArt 241"/>
              <p:cNvSpPr txBox="1"/>
              <p:nvPr/>
            </p:nvSpPr>
            <p:spPr>
              <a:xfrm>
                <a:off x="6372360" y="396216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4" name="Group 242"/>
            <p:cNvGrpSpPr/>
            <p:nvPr/>
          </p:nvGrpSpPr>
          <p:grpSpPr>
            <a:xfrm>
              <a:off x="1332000" y="5013360"/>
              <a:ext cx="1368000" cy="901440"/>
              <a:chOff x="1332000" y="5013360"/>
              <a:chExt cx="1368000" cy="901440"/>
            </a:xfrm>
          </p:grpSpPr>
          <p:sp>
            <p:nvSpPr>
              <p:cNvPr id="705" name="WordArt 243"/>
              <p:cNvSpPr txBox="1"/>
              <p:nvPr/>
            </p:nvSpPr>
            <p:spPr>
              <a:xfrm>
                <a:off x="1506600" y="5013360"/>
                <a:ext cx="102204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WordArt 244"/>
              <p:cNvSpPr txBox="1"/>
              <p:nvPr/>
            </p:nvSpPr>
            <p:spPr>
              <a:xfrm>
                <a:off x="1332000" y="540216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7" name="WordArt 245"/>
            <p:cNvSpPr txBox="1"/>
            <p:nvPr/>
          </p:nvSpPr>
          <p:spPr>
            <a:xfrm>
              <a:off x="1619280" y="294804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WordArt 246"/>
            <p:cNvSpPr txBox="1"/>
            <p:nvPr/>
          </p:nvSpPr>
          <p:spPr>
            <a:xfrm>
              <a:off x="1619280" y="366876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WordArt 247"/>
            <p:cNvSpPr txBox="1"/>
            <p:nvPr/>
          </p:nvSpPr>
          <p:spPr>
            <a:xfrm>
              <a:off x="6732720" y="150804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WordArt 248"/>
            <p:cNvSpPr txBox="1"/>
            <p:nvPr/>
          </p:nvSpPr>
          <p:spPr>
            <a:xfrm>
              <a:off x="6732720" y="222876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WordArt 249"/>
            <p:cNvSpPr txBox="1"/>
            <p:nvPr/>
          </p:nvSpPr>
          <p:spPr>
            <a:xfrm>
              <a:off x="6732720" y="496404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WordArt 250"/>
            <p:cNvSpPr txBox="1"/>
            <p:nvPr/>
          </p:nvSpPr>
          <p:spPr>
            <a:xfrm>
              <a:off x="6732720" y="568476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WordArt 251"/>
            <p:cNvSpPr txBox="1"/>
            <p:nvPr/>
          </p:nvSpPr>
          <p:spPr>
            <a:xfrm>
              <a:off x="3924360" y="496404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WordArt 252"/>
            <p:cNvSpPr txBox="1"/>
            <p:nvPr/>
          </p:nvSpPr>
          <p:spPr>
            <a:xfrm>
              <a:off x="3924360" y="568476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WordArt 253"/>
            <p:cNvSpPr txBox="1"/>
            <p:nvPr/>
          </p:nvSpPr>
          <p:spPr>
            <a:xfrm>
              <a:off x="4067280" y="3573360"/>
              <a:ext cx="1022040" cy="304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c800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c8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Group 256"/>
          <p:cNvGrpSpPr/>
          <p:nvPr/>
        </p:nvGrpSpPr>
        <p:grpSpPr>
          <a:xfrm>
            <a:off x="755640" y="1557360"/>
            <a:ext cx="7632360" cy="4463640"/>
            <a:chOff x="755640" y="1557360"/>
            <a:chExt cx="7632360" cy="4463640"/>
          </a:xfrm>
        </p:grpSpPr>
        <p:sp>
          <p:nvSpPr>
            <p:cNvPr id="718" name="Rectangle 257"/>
            <p:cNvSpPr/>
            <p:nvPr/>
          </p:nvSpPr>
          <p:spPr>
            <a:xfrm>
              <a:off x="755640" y="4797360"/>
              <a:ext cx="7632360" cy="1223640"/>
            </a:xfrm>
            <a:prstGeom prst="rect">
              <a:avLst/>
            </a:prstGeom>
            <a:solidFill>
              <a:schemeClr val="tx1">
                <a:alpha val="50000"/>
              </a:schemeClr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Rectangle 258"/>
            <p:cNvSpPr/>
            <p:nvPr/>
          </p:nvSpPr>
          <p:spPr>
            <a:xfrm>
              <a:off x="755640" y="3213000"/>
              <a:ext cx="7632360" cy="1225080"/>
            </a:xfrm>
            <a:prstGeom prst="rect">
              <a:avLst/>
            </a:prstGeom>
            <a:solidFill>
              <a:schemeClr val="tx1">
                <a:alpha val="50000"/>
              </a:schemeClr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Rectangle 259"/>
            <p:cNvSpPr/>
            <p:nvPr/>
          </p:nvSpPr>
          <p:spPr>
            <a:xfrm>
              <a:off x="755640" y="1557360"/>
              <a:ext cx="7632360" cy="1223640"/>
            </a:xfrm>
            <a:prstGeom prst="rect">
              <a:avLst/>
            </a:prstGeom>
            <a:solidFill>
              <a:schemeClr val="tx1">
                <a:alpha val="50000"/>
              </a:schemeClr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AutoShape 260"/>
            <p:cNvSpPr/>
            <p:nvPr/>
          </p:nvSpPr>
          <p:spPr>
            <a:xfrm>
              <a:off x="898560" y="5013360"/>
              <a:ext cx="1225080" cy="791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AutoShape 261"/>
            <p:cNvSpPr/>
            <p:nvPr/>
          </p:nvSpPr>
          <p:spPr>
            <a:xfrm>
              <a:off x="2338560" y="5013360"/>
              <a:ext cx="1225080" cy="791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AutoShape 262"/>
            <p:cNvSpPr/>
            <p:nvPr/>
          </p:nvSpPr>
          <p:spPr>
            <a:xfrm>
              <a:off x="3778200" y="5013360"/>
              <a:ext cx="1225080" cy="791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263"/>
            <p:cNvSpPr/>
            <p:nvPr/>
          </p:nvSpPr>
          <p:spPr>
            <a:xfrm>
              <a:off x="1476360" y="4654440"/>
              <a:ext cx="2950920" cy="502920"/>
            </a:xfrm>
            <a:custGeom>
              <a:avLst/>
              <a:gdLst>
                <a:gd name="textAreaLeft" fmla="*/ 0 w 2950920"/>
                <a:gd name="textAreaRight" fmla="*/ 2951280 w 295092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862" h="136">
                  <a:moveTo>
                    <a:pt x="0" y="136"/>
                  </a:moveTo>
                  <a:lnTo>
                    <a:pt x="0" y="0"/>
                  </a:lnTo>
                  <a:lnTo>
                    <a:pt x="862" y="0"/>
                  </a:lnTo>
                  <a:lnTo>
                    <a:pt x="862" y="136"/>
                  </a:lnTo>
                </a:path>
              </a:pathLst>
            </a:custGeom>
            <a:noFill/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Line 264"/>
            <p:cNvSpPr/>
            <p:nvPr/>
          </p:nvSpPr>
          <p:spPr>
            <a:xfrm flipV="1">
              <a:off x="2195280" y="4078080"/>
              <a:ext cx="360" cy="576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Line 265"/>
            <p:cNvSpPr/>
            <p:nvPr/>
          </p:nvSpPr>
          <p:spPr>
            <a:xfrm flipV="1">
              <a:off x="3779640" y="4078080"/>
              <a:ext cx="360" cy="576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Line 266"/>
            <p:cNvSpPr/>
            <p:nvPr/>
          </p:nvSpPr>
          <p:spPr>
            <a:xfrm flipV="1">
              <a:off x="2987640" y="4654440"/>
              <a:ext cx="360" cy="50328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AutoShape 267"/>
            <p:cNvSpPr/>
            <p:nvPr/>
          </p:nvSpPr>
          <p:spPr>
            <a:xfrm>
              <a:off x="1547640" y="3429000"/>
              <a:ext cx="1294920" cy="791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5000"/>
                </a:gs>
                <a:gs pos="100000">
                  <a:srgbClr val="7625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AutoShape 268"/>
            <p:cNvSpPr/>
            <p:nvPr/>
          </p:nvSpPr>
          <p:spPr>
            <a:xfrm>
              <a:off x="3132000" y="3429000"/>
              <a:ext cx="1294920" cy="791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5000"/>
                </a:gs>
                <a:gs pos="100000">
                  <a:srgbClr val="7625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269"/>
            <p:cNvSpPr/>
            <p:nvPr/>
          </p:nvSpPr>
          <p:spPr>
            <a:xfrm>
              <a:off x="2195640" y="3070080"/>
              <a:ext cx="1584000" cy="502920"/>
            </a:xfrm>
            <a:custGeom>
              <a:avLst/>
              <a:gdLst>
                <a:gd name="textAreaLeft" fmla="*/ 0 w 1584000"/>
                <a:gd name="textAreaRight" fmla="*/ 1584360 w 158400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862" h="136">
                  <a:moveTo>
                    <a:pt x="0" y="136"/>
                  </a:moveTo>
                  <a:lnTo>
                    <a:pt x="0" y="0"/>
                  </a:lnTo>
                  <a:lnTo>
                    <a:pt x="862" y="0"/>
                  </a:lnTo>
                  <a:lnTo>
                    <a:pt x="862" y="136"/>
                  </a:lnTo>
                </a:path>
              </a:pathLst>
            </a:custGeom>
            <a:noFill/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Line 270"/>
            <p:cNvSpPr/>
            <p:nvPr/>
          </p:nvSpPr>
          <p:spPr>
            <a:xfrm flipV="1">
              <a:off x="2987640" y="2493720"/>
              <a:ext cx="360" cy="576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AutoShape 271"/>
            <p:cNvSpPr/>
            <p:nvPr/>
          </p:nvSpPr>
          <p:spPr>
            <a:xfrm>
              <a:off x="2124000" y="1701720"/>
              <a:ext cx="1726920" cy="863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WordArt 272"/>
            <p:cNvSpPr txBox="1"/>
            <p:nvPr/>
          </p:nvSpPr>
          <p:spPr>
            <a:xfrm>
              <a:off x="2627280" y="2278080"/>
              <a:ext cx="720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WordArt 273"/>
            <p:cNvSpPr txBox="1"/>
            <p:nvPr/>
          </p:nvSpPr>
          <p:spPr>
            <a:xfrm>
              <a:off x="1835280" y="3933720"/>
              <a:ext cx="720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WordArt 274"/>
            <p:cNvSpPr txBox="1"/>
            <p:nvPr/>
          </p:nvSpPr>
          <p:spPr>
            <a:xfrm>
              <a:off x="3419640" y="3933720"/>
              <a:ext cx="720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WordArt 275"/>
            <p:cNvSpPr txBox="1"/>
            <p:nvPr/>
          </p:nvSpPr>
          <p:spPr>
            <a:xfrm>
              <a:off x="1116000" y="5516640"/>
              <a:ext cx="720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WordArt 276"/>
            <p:cNvSpPr txBox="1"/>
            <p:nvPr/>
          </p:nvSpPr>
          <p:spPr>
            <a:xfrm>
              <a:off x="2556000" y="5518080"/>
              <a:ext cx="720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WordArt 277"/>
            <p:cNvSpPr txBox="1"/>
            <p:nvPr/>
          </p:nvSpPr>
          <p:spPr>
            <a:xfrm>
              <a:off x="4067280" y="5518080"/>
              <a:ext cx="720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9" name="Group 278"/>
            <p:cNvGrpSpPr/>
            <p:nvPr/>
          </p:nvGrpSpPr>
          <p:grpSpPr>
            <a:xfrm>
              <a:off x="6875640" y="1736640"/>
              <a:ext cx="1368000" cy="901440"/>
              <a:chOff x="6875640" y="1736640"/>
              <a:chExt cx="1368000" cy="901440"/>
            </a:xfrm>
          </p:grpSpPr>
          <p:sp>
            <p:nvSpPr>
              <p:cNvPr id="740" name="WordArt 279"/>
              <p:cNvSpPr txBox="1"/>
              <p:nvPr/>
            </p:nvSpPr>
            <p:spPr>
              <a:xfrm>
                <a:off x="7050240" y="1736640"/>
                <a:ext cx="102204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WordArt 280"/>
              <p:cNvSpPr txBox="1"/>
              <p:nvPr/>
            </p:nvSpPr>
            <p:spPr>
              <a:xfrm>
                <a:off x="6875640" y="212544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281"/>
            <p:cNvGrpSpPr/>
            <p:nvPr/>
          </p:nvGrpSpPr>
          <p:grpSpPr>
            <a:xfrm>
              <a:off x="6877080" y="3392640"/>
              <a:ext cx="1368000" cy="901440"/>
              <a:chOff x="6877080" y="3392640"/>
              <a:chExt cx="1368000" cy="901440"/>
            </a:xfrm>
          </p:grpSpPr>
          <p:sp>
            <p:nvSpPr>
              <p:cNvPr id="743" name="WordArt 282"/>
              <p:cNvSpPr txBox="1"/>
              <p:nvPr/>
            </p:nvSpPr>
            <p:spPr>
              <a:xfrm>
                <a:off x="7052040" y="3392640"/>
                <a:ext cx="102204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WordArt 283"/>
              <p:cNvSpPr txBox="1"/>
              <p:nvPr/>
            </p:nvSpPr>
            <p:spPr>
              <a:xfrm>
                <a:off x="6877080" y="378144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284"/>
            <p:cNvGrpSpPr/>
            <p:nvPr/>
          </p:nvGrpSpPr>
          <p:grpSpPr>
            <a:xfrm>
              <a:off x="6877080" y="4976640"/>
              <a:ext cx="1368000" cy="901800"/>
              <a:chOff x="6877080" y="4976640"/>
              <a:chExt cx="1368000" cy="901800"/>
            </a:xfrm>
          </p:grpSpPr>
          <p:sp>
            <p:nvSpPr>
              <p:cNvPr id="746" name="WordArt 285"/>
              <p:cNvSpPr txBox="1"/>
              <p:nvPr/>
            </p:nvSpPr>
            <p:spPr>
              <a:xfrm>
                <a:off x="7052040" y="4976640"/>
                <a:ext cx="102204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WordArt 286"/>
              <p:cNvSpPr txBox="1"/>
              <p:nvPr/>
            </p:nvSpPr>
            <p:spPr>
              <a:xfrm>
                <a:off x="6877080" y="536580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8" name="AutoShape 287"/>
            <p:cNvSpPr/>
            <p:nvPr/>
          </p:nvSpPr>
          <p:spPr>
            <a:xfrm>
              <a:off x="5580000" y="1917720"/>
              <a:ext cx="936360" cy="466200"/>
            </a:xfrm>
            <a:prstGeom prst="leftArrow">
              <a:avLst>
                <a:gd name="adj1" fmla="val 50000"/>
                <a:gd name="adj2" fmla="val 50170"/>
              </a:avLst>
            </a:prstGeom>
            <a:solidFill>
              <a:srgbClr val="ffc8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AutoShape 288"/>
            <p:cNvSpPr/>
            <p:nvPr/>
          </p:nvSpPr>
          <p:spPr>
            <a:xfrm>
              <a:off x="5580000" y="3611520"/>
              <a:ext cx="936360" cy="466200"/>
            </a:xfrm>
            <a:prstGeom prst="leftArrow">
              <a:avLst>
                <a:gd name="adj1" fmla="val 50000"/>
                <a:gd name="adj2" fmla="val 50170"/>
              </a:avLst>
            </a:prstGeom>
            <a:solidFill>
              <a:srgbClr val="ffc8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AutoShape 289"/>
            <p:cNvSpPr/>
            <p:nvPr/>
          </p:nvSpPr>
          <p:spPr>
            <a:xfrm>
              <a:off x="5580000" y="5195880"/>
              <a:ext cx="936360" cy="466200"/>
            </a:xfrm>
            <a:prstGeom prst="leftArrow">
              <a:avLst>
                <a:gd name="adj1" fmla="val 50000"/>
                <a:gd name="adj2" fmla="val 50170"/>
              </a:avLst>
            </a:prstGeom>
            <a:solidFill>
              <a:srgbClr val="ffc8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2" name="Group 318"/>
          <p:cNvGrpSpPr/>
          <p:nvPr/>
        </p:nvGrpSpPr>
        <p:grpSpPr>
          <a:xfrm>
            <a:off x="468360" y="1601640"/>
            <a:ext cx="8135640" cy="5256000"/>
            <a:chOff x="468360" y="1601640"/>
            <a:chExt cx="8135640" cy="5256000"/>
          </a:xfrm>
        </p:grpSpPr>
        <p:sp>
          <p:nvSpPr>
            <p:cNvPr id="753" name="AutoShape 319"/>
            <p:cNvSpPr/>
            <p:nvPr/>
          </p:nvSpPr>
          <p:spPr>
            <a:xfrm>
              <a:off x="971640" y="1601640"/>
              <a:ext cx="2196720" cy="5256000"/>
            </a:xfrm>
            <a:prstGeom prst="upArrow">
              <a:avLst>
                <a:gd name="adj1" fmla="val 73991"/>
                <a:gd name="adj2" fmla="val 59831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54" name="AutoShape 320"/>
            <p:cNvSpPr/>
            <p:nvPr/>
          </p:nvSpPr>
          <p:spPr>
            <a:xfrm>
              <a:off x="3454560" y="1601640"/>
              <a:ext cx="2196720" cy="5256000"/>
            </a:xfrm>
            <a:prstGeom prst="upArrow">
              <a:avLst>
                <a:gd name="adj1" fmla="val 73991"/>
                <a:gd name="adj2" fmla="val 59831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55" name="AutoShape 321"/>
            <p:cNvSpPr/>
            <p:nvPr/>
          </p:nvSpPr>
          <p:spPr>
            <a:xfrm>
              <a:off x="5904000" y="1601640"/>
              <a:ext cx="2196720" cy="5256000"/>
            </a:xfrm>
            <a:prstGeom prst="upArrow">
              <a:avLst>
                <a:gd name="adj1" fmla="val 73991"/>
                <a:gd name="adj2" fmla="val 59831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56" name="AutoShape 322"/>
            <p:cNvSpPr/>
            <p:nvPr/>
          </p:nvSpPr>
          <p:spPr>
            <a:xfrm>
              <a:off x="1476360" y="455436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931b00"/>
                </a:gs>
                <a:gs pos="100000">
                  <a:srgbClr val="440d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WordArt 323"/>
            <p:cNvSpPr txBox="1"/>
            <p:nvPr/>
          </p:nvSpPr>
          <p:spPr>
            <a:xfrm>
              <a:off x="1692360" y="498636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Rectangle 324"/>
            <p:cNvSpPr/>
            <p:nvPr/>
          </p:nvSpPr>
          <p:spPr>
            <a:xfrm>
              <a:off x="1908000" y="4338720"/>
              <a:ext cx="360000" cy="35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AutoShape 325"/>
            <p:cNvSpPr/>
            <p:nvPr/>
          </p:nvSpPr>
          <p:spPr>
            <a:xfrm>
              <a:off x="1476360" y="369108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931b00"/>
                </a:gs>
                <a:gs pos="100000">
                  <a:srgbClr val="440d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WordArt 326"/>
            <p:cNvSpPr txBox="1"/>
            <p:nvPr/>
          </p:nvSpPr>
          <p:spPr>
            <a:xfrm>
              <a:off x="1692360" y="412272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Rectangle 327"/>
            <p:cNvSpPr/>
            <p:nvPr/>
          </p:nvSpPr>
          <p:spPr>
            <a:xfrm>
              <a:off x="1908000" y="3476520"/>
              <a:ext cx="360000" cy="35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AutoShape 328"/>
            <p:cNvSpPr/>
            <p:nvPr/>
          </p:nvSpPr>
          <p:spPr>
            <a:xfrm>
              <a:off x="1476360" y="282744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931b00"/>
                </a:gs>
                <a:gs pos="100000">
                  <a:srgbClr val="440d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WordArt 329"/>
            <p:cNvSpPr txBox="1"/>
            <p:nvPr/>
          </p:nvSpPr>
          <p:spPr>
            <a:xfrm>
              <a:off x="1692360" y="325908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AutoShape 330"/>
            <p:cNvSpPr/>
            <p:nvPr/>
          </p:nvSpPr>
          <p:spPr>
            <a:xfrm>
              <a:off x="1763640" y="2467080"/>
              <a:ext cx="647280" cy="504360"/>
            </a:xfrm>
            <a:prstGeom prst="upArrow">
              <a:avLst>
                <a:gd name="adj1" fmla="val 54407"/>
                <a:gd name="adj2" fmla="val 53773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AutoShape 331"/>
            <p:cNvSpPr/>
            <p:nvPr/>
          </p:nvSpPr>
          <p:spPr>
            <a:xfrm>
              <a:off x="3924360" y="455436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ff3000"/>
                </a:gs>
                <a:gs pos="100000">
                  <a:srgbClr val="7616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WordArt 332"/>
            <p:cNvSpPr txBox="1"/>
            <p:nvPr/>
          </p:nvSpPr>
          <p:spPr>
            <a:xfrm>
              <a:off x="4140360" y="498636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Rectangle 333"/>
            <p:cNvSpPr/>
            <p:nvPr/>
          </p:nvSpPr>
          <p:spPr>
            <a:xfrm>
              <a:off x="4356000" y="4338720"/>
              <a:ext cx="360000" cy="35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AutoShape 334"/>
            <p:cNvSpPr/>
            <p:nvPr/>
          </p:nvSpPr>
          <p:spPr>
            <a:xfrm>
              <a:off x="3924360" y="369108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ff3000"/>
                </a:gs>
                <a:gs pos="100000">
                  <a:srgbClr val="7616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WordArt 335"/>
            <p:cNvSpPr txBox="1"/>
            <p:nvPr/>
          </p:nvSpPr>
          <p:spPr>
            <a:xfrm>
              <a:off x="4140360" y="412272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Rectangle 336"/>
            <p:cNvSpPr/>
            <p:nvPr/>
          </p:nvSpPr>
          <p:spPr>
            <a:xfrm>
              <a:off x="4356000" y="3476520"/>
              <a:ext cx="360000" cy="35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AutoShape 337"/>
            <p:cNvSpPr/>
            <p:nvPr/>
          </p:nvSpPr>
          <p:spPr>
            <a:xfrm>
              <a:off x="3924360" y="282744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ff3000"/>
                </a:gs>
                <a:gs pos="100000">
                  <a:srgbClr val="7616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WordArt 338"/>
            <p:cNvSpPr txBox="1"/>
            <p:nvPr/>
          </p:nvSpPr>
          <p:spPr>
            <a:xfrm>
              <a:off x="4140360" y="325908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339"/>
            <p:cNvSpPr/>
            <p:nvPr/>
          </p:nvSpPr>
          <p:spPr>
            <a:xfrm>
              <a:off x="4211640" y="2467080"/>
              <a:ext cx="647280" cy="504360"/>
            </a:xfrm>
            <a:prstGeom prst="upArrow">
              <a:avLst>
                <a:gd name="adj1" fmla="val 54407"/>
                <a:gd name="adj2" fmla="val 53773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AutoShape 340"/>
            <p:cNvSpPr/>
            <p:nvPr/>
          </p:nvSpPr>
          <p:spPr>
            <a:xfrm>
              <a:off x="6372360" y="455292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ff7800"/>
                </a:gs>
                <a:gs pos="100000">
                  <a:srgbClr val="763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WordArt 341"/>
            <p:cNvSpPr txBox="1"/>
            <p:nvPr/>
          </p:nvSpPr>
          <p:spPr>
            <a:xfrm>
              <a:off x="6588000" y="498492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Rectangle 342"/>
            <p:cNvSpPr/>
            <p:nvPr/>
          </p:nvSpPr>
          <p:spPr>
            <a:xfrm>
              <a:off x="6804000" y="4336920"/>
              <a:ext cx="360000" cy="35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AutoShape 343"/>
            <p:cNvSpPr/>
            <p:nvPr/>
          </p:nvSpPr>
          <p:spPr>
            <a:xfrm>
              <a:off x="6372360" y="368928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ff7800"/>
                </a:gs>
                <a:gs pos="100000">
                  <a:srgbClr val="763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WordArt 344"/>
            <p:cNvSpPr txBox="1"/>
            <p:nvPr/>
          </p:nvSpPr>
          <p:spPr>
            <a:xfrm>
              <a:off x="6588000" y="412128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Rectangle 345"/>
            <p:cNvSpPr/>
            <p:nvPr/>
          </p:nvSpPr>
          <p:spPr>
            <a:xfrm>
              <a:off x="6804000" y="3475080"/>
              <a:ext cx="360000" cy="35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AutoShape 346"/>
            <p:cNvSpPr/>
            <p:nvPr/>
          </p:nvSpPr>
          <p:spPr>
            <a:xfrm>
              <a:off x="6372360" y="282564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ff7800"/>
                </a:gs>
                <a:gs pos="100000">
                  <a:srgbClr val="763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WordArt 347"/>
            <p:cNvSpPr txBox="1"/>
            <p:nvPr/>
          </p:nvSpPr>
          <p:spPr>
            <a:xfrm>
              <a:off x="6588000" y="325764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AutoShape 348"/>
            <p:cNvSpPr/>
            <p:nvPr/>
          </p:nvSpPr>
          <p:spPr>
            <a:xfrm>
              <a:off x="6659640" y="2465280"/>
              <a:ext cx="647280" cy="504360"/>
            </a:xfrm>
            <a:prstGeom prst="upArrow">
              <a:avLst>
                <a:gd name="adj1" fmla="val 54407"/>
                <a:gd name="adj2" fmla="val 53773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AutoShape 349"/>
            <p:cNvSpPr/>
            <p:nvPr/>
          </p:nvSpPr>
          <p:spPr>
            <a:xfrm>
              <a:off x="2987640" y="2970360"/>
              <a:ext cx="647280" cy="3887280"/>
            </a:xfrm>
            <a:prstGeom prst="upArrow">
              <a:avLst>
                <a:gd name="adj1" fmla="val 46926"/>
                <a:gd name="adj2" fmla="val 90481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84" name="AutoShape 350"/>
            <p:cNvSpPr/>
            <p:nvPr/>
          </p:nvSpPr>
          <p:spPr>
            <a:xfrm>
              <a:off x="5437080" y="2970360"/>
              <a:ext cx="647280" cy="3887280"/>
            </a:xfrm>
            <a:prstGeom prst="upArrow">
              <a:avLst>
                <a:gd name="adj1" fmla="val 46926"/>
                <a:gd name="adj2" fmla="val 90481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85" name="AutoShape 351"/>
            <p:cNvSpPr/>
            <p:nvPr/>
          </p:nvSpPr>
          <p:spPr>
            <a:xfrm>
              <a:off x="468360" y="3330720"/>
              <a:ext cx="647280" cy="3526920"/>
            </a:xfrm>
            <a:prstGeom prst="upArrow">
              <a:avLst>
                <a:gd name="adj1" fmla="val 46926"/>
                <a:gd name="adj2" fmla="val 82095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86" name="AutoShape 352"/>
            <p:cNvSpPr/>
            <p:nvPr/>
          </p:nvSpPr>
          <p:spPr>
            <a:xfrm>
              <a:off x="7956720" y="3330720"/>
              <a:ext cx="647280" cy="3526920"/>
            </a:xfrm>
            <a:prstGeom prst="upArrow">
              <a:avLst>
                <a:gd name="adj1" fmla="val 46926"/>
                <a:gd name="adj2" fmla="val 82095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87" name="WordArt 353"/>
            <p:cNvSpPr txBox="1"/>
            <p:nvPr/>
          </p:nvSpPr>
          <p:spPr>
            <a:xfrm>
              <a:off x="4211640" y="217800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WordArt 354"/>
            <p:cNvSpPr txBox="1"/>
            <p:nvPr/>
          </p:nvSpPr>
          <p:spPr>
            <a:xfrm>
              <a:off x="6661080" y="217800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WordArt 355"/>
            <p:cNvSpPr txBox="1"/>
            <p:nvPr/>
          </p:nvSpPr>
          <p:spPr>
            <a:xfrm>
              <a:off x="1763640" y="217800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0" name="Text Box 4"/>
          <p:cNvSpPr/>
          <p:nvPr/>
        </p:nvSpPr>
        <p:spPr>
          <a:xfrm>
            <a:off x="996120" y="635652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2" name="Group 381"/>
          <p:cNvGrpSpPr/>
          <p:nvPr/>
        </p:nvGrpSpPr>
        <p:grpSpPr>
          <a:xfrm>
            <a:off x="1979640" y="1341360"/>
            <a:ext cx="5184360" cy="5184360"/>
            <a:chOff x="1979640" y="1341360"/>
            <a:chExt cx="5184360" cy="5184360"/>
          </a:xfrm>
        </p:grpSpPr>
        <p:grpSp>
          <p:nvGrpSpPr>
            <p:cNvPr id="793" name="Group 382"/>
            <p:cNvGrpSpPr/>
            <p:nvPr/>
          </p:nvGrpSpPr>
          <p:grpSpPr>
            <a:xfrm>
              <a:off x="3851280" y="3463920"/>
              <a:ext cx="1441080" cy="901440"/>
              <a:chOff x="3851280" y="3463920"/>
              <a:chExt cx="1441080" cy="901440"/>
            </a:xfrm>
          </p:grpSpPr>
          <p:sp>
            <p:nvSpPr>
              <p:cNvPr id="794" name="WordArt 383"/>
              <p:cNvSpPr txBox="1"/>
              <p:nvPr/>
            </p:nvSpPr>
            <p:spPr>
              <a:xfrm>
                <a:off x="4035240" y="3463920"/>
                <a:ext cx="107676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WordArt 384"/>
              <p:cNvSpPr txBox="1"/>
              <p:nvPr/>
            </p:nvSpPr>
            <p:spPr>
              <a:xfrm>
                <a:off x="3851280" y="3852720"/>
                <a:ext cx="144108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6" name="Freeform 385"/>
            <p:cNvSpPr/>
            <p:nvPr/>
          </p:nvSpPr>
          <p:spPr>
            <a:xfrm>
              <a:off x="4648320" y="4011480"/>
              <a:ext cx="1750680" cy="1750680"/>
            </a:xfrm>
            <a:custGeom>
              <a:avLst/>
              <a:gdLst>
                <a:gd name="textAreaLeft" fmla="*/ 0 w 1750680"/>
                <a:gd name="textAreaRight" fmla="*/ 1751040 w 1750680"/>
                <a:gd name="textAreaTop" fmla="*/ 0 h 1750680"/>
                <a:gd name="textAreaBottom" fmla="*/ 1751040 h 1750680"/>
              </a:gdLst>
              <a:ahLst/>
              <a:rect l="textAreaLeft" t="textAreaTop" r="textAreaRight" b="textAreaBottom"/>
              <a:pathLst>
                <a:path w="1103" h="1103">
                  <a:moveTo>
                    <a:pt x="0" y="719"/>
                  </a:moveTo>
                  <a:lnTo>
                    <a:pt x="0" y="1103"/>
                  </a:lnTo>
                  <a:lnTo>
                    <a:pt x="0" y="1103"/>
                  </a:lnTo>
                  <a:lnTo>
                    <a:pt x="28" y="1101"/>
                  </a:lnTo>
                  <a:lnTo>
                    <a:pt x="56" y="1099"/>
                  </a:lnTo>
                  <a:lnTo>
                    <a:pt x="83" y="1097"/>
                  </a:lnTo>
                  <a:lnTo>
                    <a:pt x="111" y="1093"/>
                  </a:lnTo>
                  <a:lnTo>
                    <a:pt x="137" y="1089"/>
                  </a:lnTo>
                  <a:lnTo>
                    <a:pt x="165" y="1084"/>
                  </a:lnTo>
                  <a:lnTo>
                    <a:pt x="191" y="1079"/>
                  </a:lnTo>
                  <a:lnTo>
                    <a:pt x="218" y="1074"/>
                  </a:lnTo>
                  <a:lnTo>
                    <a:pt x="244" y="1066"/>
                  </a:lnTo>
                  <a:lnTo>
                    <a:pt x="271" y="1060"/>
                  </a:lnTo>
                  <a:lnTo>
                    <a:pt x="322" y="1043"/>
                  </a:lnTo>
                  <a:lnTo>
                    <a:pt x="372" y="1025"/>
                  </a:lnTo>
                  <a:lnTo>
                    <a:pt x="421" y="1005"/>
                  </a:lnTo>
                  <a:lnTo>
                    <a:pt x="469" y="981"/>
                  </a:lnTo>
                  <a:lnTo>
                    <a:pt x="516" y="957"/>
                  </a:lnTo>
                  <a:lnTo>
                    <a:pt x="562" y="930"/>
                  </a:lnTo>
                  <a:lnTo>
                    <a:pt x="605" y="901"/>
                  </a:lnTo>
                  <a:lnTo>
                    <a:pt x="648" y="870"/>
                  </a:lnTo>
                  <a:lnTo>
                    <a:pt x="689" y="837"/>
                  </a:lnTo>
                  <a:lnTo>
                    <a:pt x="729" y="802"/>
                  </a:lnTo>
                  <a:lnTo>
                    <a:pt x="766" y="766"/>
                  </a:lnTo>
                  <a:lnTo>
                    <a:pt x="803" y="728"/>
                  </a:lnTo>
                  <a:lnTo>
                    <a:pt x="837" y="689"/>
                  </a:lnTo>
                  <a:lnTo>
                    <a:pt x="870" y="648"/>
                  </a:lnTo>
                  <a:lnTo>
                    <a:pt x="901" y="605"/>
                  </a:lnTo>
                  <a:lnTo>
                    <a:pt x="931" y="561"/>
                  </a:lnTo>
                  <a:lnTo>
                    <a:pt x="957" y="515"/>
                  </a:lnTo>
                  <a:lnTo>
                    <a:pt x="982" y="469"/>
                  </a:lnTo>
                  <a:lnTo>
                    <a:pt x="1005" y="421"/>
                  </a:lnTo>
                  <a:lnTo>
                    <a:pt x="1026" y="371"/>
                  </a:lnTo>
                  <a:lnTo>
                    <a:pt x="1044" y="322"/>
                  </a:lnTo>
                  <a:lnTo>
                    <a:pt x="1060" y="270"/>
                  </a:lnTo>
                  <a:lnTo>
                    <a:pt x="1067" y="244"/>
                  </a:lnTo>
                  <a:lnTo>
                    <a:pt x="1073" y="218"/>
                  </a:lnTo>
                  <a:lnTo>
                    <a:pt x="1080" y="191"/>
                  </a:lnTo>
                  <a:lnTo>
                    <a:pt x="1085" y="164"/>
                  </a:lnTo>
                  <a:lnTo>
                    <a:pt x="1089" y="137"/>
                  </a:lnTo>
                  <a:lnTo>
                    <a:pt x="1094" y="110"/>
                  </a:lnTo>
                  <a:lnTo>
                    <a:pt x="1097" y="82"/>
                  </a:lnTo>
                  <a:lnTo>
                    <a:pt x="1100" y="55"/>
                  </a:lnTo>
                  <a:lnTo>
                    <a:pt x="1102" y="27"/>
                  </a:lnTo>
                  <a:lnTo>
                    <a:pt x="1103" y="0"/>
                  </a:lnTo>
                  <a:lnTo>
                    <a:pt x="719" y="0"/>
                  </a:lnTo>
                  <a:lnTo>
                    <a:pt x="719" y="0"/>
                  </a:lnTo>
                  <a:lnTo>
                    <a:pt x="716" y="36"/>
                  </a:lnTo>
                  <a:lnTo>
                    <a:pt x="711" y="71"/>
                  </a:lnTo>
                  <a:lnTo>
                    <a:pt x="705" y="106"/>
                  </a:lnTo>
                  <a:lnTo>
                    <a:pt x="696" y="141"/>
                  </a:lnTo>
                  <a:lnTo>
                    <a:pt x="688" y="173"/>
                  </a:lnTo>
                  <a:lnTo>
                    <a:pt x="676" y="207"/>
                  </a:lnTo>
                  <a:lnTo>
                    <a:pt x="665" y="239"/>
                  </a:lnTo>
                  <a:lnTo>
                    <a:pt x="651" y="271"/>
                  </a:lnTo>
                  <a:lnTo>
                    <a:pt x="636" y="303"/>
                  </a:lnTo>
                  <a:lnTo>
                    <a:pt x="619" y="332"/>
                  </a:lnTo>
                  <a:lnTo>
                    <a:pt x="601" y="362"/>
                  </a:lnTo>
                  <a:lnTo>
                    <a:pt x="583" y="390"/>
                  </a:lnTo>
                  <a:lnTo>
                    <a:pt x="563" y="418"/>
                  </a:lnTo>
                  <a:lnTo>
                    <a:pt x="541" y="445"/>
                  </a:lnTo>
                  <a:lnTo>
                    <a:pt x="519" y="470"/>
                  </a:lnTo>
                  <a:lnTo>
                    <a:pt x="495" y="494"/>
                  </a:lnTo>
                  <a:lnTo>
                    <a:pt x="471" y="519"/>
                  </a:lnTo>
                  <a:lnTo>
                    <a:pt x="444" y="541"/>
                  </a:lnTo>
                  <a:lnTo>
                    <a:pt x="418" y="562"/>
                  </a:lnTo>
                  <a:lnTo>
                    <a:pt x="390" y="582"/>
                  </a:lnTo>
                  <a:lnTo>
                    <a:pt x="362" y="601"/>
                  </a:lnTo>
                  <a:lnTo>
                    <a:pt x="333" y="619"/>
                  </a:lnTo>
                  <a:lnTo>
                    <a:pt x="303" y="635"/>
                  </a:lnTo>
                  <a:lnTo>
                    <a:pt x="272" y="650"/>
                  </a:lnTo>
                  <a:lnTo>
                    <a:pt x="240" y="664"/>
                  </a:lnTo>
                  <a:lnTo>
                    <a:pt x="207" y="676"/>
                  </a:lnTo>
                  <a:lnTo>
                    <a:pt x="174" y="687"/>
                  </a:lnTo>
                  <a:lnTo>
                    <a:pt x="141" y="697"/>
                  </a:lnTo>
                  <a:lnTo>
                    <a:pt x="107" y="704"/>
                  </a:lnTo>
                  <a:lnTo>
                    <a:pt x="72" y="710"/>
                  </a:lnTo>
                  <a:lnTo>
                    <a:pt x="36" y="716"/>
                  </a:lnTo>
                  <a:lnTo>
                    <a:pt x="0" y="719"/>
                  </a:lnTo>
                  <a:lnTo>
                    <a:pt x="0" y="719"/>
                  </a:lnTo>
                  <a:close/>
                </a:path>
              </a:pathLst>
            </a:custGeom>
            <a:solidFill>
              <a:srgbClr val="581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97" name="Freeform 386"/>
            <p:cNvSpPr/>
            <p:nvPr/>
          </p:nvSpPr>
          <p:spPr>
            <a:xfrm>
              <a:off x="2743200" y="2106720"/>
              <a:ext cx="1750680" cy="1750680"/>
            </a:xfrm>
            <a:custGeom>
              <a:avLst/>
              <a:gdLst>
                <a:gd name="textAreaLeft" fmla="*/ 0 w 1750680"/>
                <a:gd name="textAreaRight" fmla="*/ 1751040 w 1750680"/>
                <a:gd name="textAreaTop" fmla="*/ 0 h 1750680"/>
                <a:gd name="textAreaBottom" fmla="*/ 1751040 h 1750680"/>
              </a:gdLst>
              <a:ahLst/>
              <a:rect l="textAreaLeft" t="textAreaTop" r="textAreaRight" b="textAreaBottom"/>
              <a:pathLst>
                <a:path w="1103" h="1103">
                  <a:moveTo>
                    <a:pt x="0" y="1103"/>
                  </a:moveTo>
                  <a:lnTo>
                    <a:pt x="385" y="1103"/>
                  </a:lnTo>
                  <a:lnTo>
                    <a:pt x="385" y="1103"/>
                  </a:lnTo>
                  <a:lnTo>
                    <a:pt x="388" y="1067"/>
                  </a:lnTo>
                  <a:lnTo>
                    <a:pt x="393" y="1031"/>
                  </a:lnTo>
                  <a:lnTo>
                    <a:pt x="399" y="996"/>
                  </a:lnTo>
                  <a:lnTo>
                    <a:pt x="406" y="962"/>
                  </a:lnTo>
                  <a:lnTo>
                    <a:pt x="416" y="929"/>
                  </a:lnTo>
                  <a:lnTo>
                    <a:pt x="427" y="896"/>
                  </a:lnTo>
                  <a:lnTo>
                    <a:pt x="439" y="863"/>
                  </a:lnTo>
                  <a:lnTo>
                    <a:pt x="453" y="831"/>
                  </a:lnTo>
                  <a:lnTo>
                    <a:pt x="468" y="800"/>
                  </a:lnTo>
                  <a:lnTo>
                    <a:pt x="485" y="770"/>
                  </a:lnTo>
                  <a:lnTo>
                    <a:pt x="502" y="741"/>
                  </a:lnTo>
                  <a:lnTo>
                    <a:pt x="521" y="713"/>
                  </a:lnTo>
                  <a:lnTo>
                    <a:pt x="541" y="685"/>
                  </a:lnTo>
                  <a:lnTo>
                    <a:pt x="562" y="659"/>
                  </a:lnTo>
                  <a:lnTo>
                    <a:pt x="585" y="632"/>
                  </a:lnTo>
                  <a:lnTo>
                    <a:pt x="609" y="608"/>
                  </a:lnTo>
                  <a:lnTo>
                    <a:pt x="633" y="584"/>
                  </a:lnTo>
                  <a:lnTo>
                    <a:pt x="658" y="562"/>
                  </a:lnTo>
                  <a:lnTo>
                    <a:pt x="685" y="541"/>
                  </a:lnTo>
                  <a:lnTo>
                    <a:pt x="713" y="521"/>
                  </a:lnTo>
                  <a:lnTo>
                    <a:pt x="741" y="502"/>
                  </a:lnTo>
                  <a:lnTo>
                    <a:pt x="771" y="484"/>
                  </a:lnTo>
                  <a:lnTo>
                    <a:pt x="800" y="468"/>
                  </a:lnTo>
                  <a:lnTo>
                    <a:pt x="832" y="452"/>
                  </a:lnTo>
                  <a:lnTo>
                    <a:pt x="864" y="438"/>
                  </a:lnTo>
                  <a:lnTo>
                    <a:pt x="896" y="427"/>
                  </a:lnTo>
                  <a:lnTo>
                    <a:pt x="930" y="416"/>
                  </a:lnTo>
                  <a:lnTo>
                    <a:pt x="963" y="407"/>
                  </a:lnTo>
                  <a:lnTo>
                    <a:pt x="997" y="398"/>
                  </a:lnTo>
                  <a:lnTo>
                    <a:pt x="1032" y="392"/>
                  </a:lnTo>
                  <a:lnTo>
                    <a:pt x="1068" y="387"/>
                  </a:lnTo>
                  <a:lnTo>
                    <a:pt x="1103" y="384"/>
                  </a:lnTo>
                  <a:lnTo>
                    <a:pt x="1103" y="0"/>
                  </a:lnTo>
                  <a:lnTo>
                    <a:pt x="1103" y="0"/>
                  </a:lnTo>
                  <a:lnTo>
                    <a:pt x="1076" y="1"/>
                  </a:lnTo>
                  <a:lnTo>
                    <a:pt x="1048" y="3"/>
                  </a:lnTo>
                  <a:lnTo>
                    <a:pt x="1021" y="6"/>
                  </a:lnTo>
                  <a:lnTo>
                    <a:pt x="993" y="9"/>
                  </a:lnTo>
                  <a:lnTo>
                    <a:pt x="966" y="14"/>
                  </a:lnTo>
                  <a:lnTo>
                    <a:pt x="939" y="18"/>
                  </a:lnTo>
                  <a:lnTo>
                    <a:pt x="912" y="23"/>
                  </a:lnTo>
                  <a:lnTo>
                    <a:pt x="885" y="30"/>
                  </a:lnTo>
                  <a:lnTo>
                    <a:pt x="860" y="36"/>
                  </a:lnTo>
                  <a:lnTo>
                    <a:pt x="833" y="43"/>
                  </a:lnTo>
                  <a:lnTo>
                    <a:pt x="781" y="59"/>
                  </a:lnTo>
                  <a:lnTo>
                    <a:pt x="732" y="78"/>
                  </a:lnTo>
                  <a:lnTo>
                    <a:pt x="683" y="98"/>
                  </a:lnTo>
                  <a:lnTo>
                    <a:pt x="634" y="121"/>
                  </a:lnTo>
                  <a:lnTo>
                    <a:pt x="588" y="146"/>
                  </a:lnTo>
                  <a:lnTo>
                    <a:pt x="542" y="172"/>
                  </a:lnTo>
                  <a:lnTo>
                    <a:pt x="499" y="202"/>
                  </a:lnTo>
                  <a:lnTo>
                    <a:pt x="455" y="233"/>
                  </a:lnTo>
                  <a:lnTo>
                    <a:pt x="414" y="266"/>
                  </a:lnTo>
                  <a:lnTo>
                    <a:pt x="375" y="300"/>
                  </a:lnTo>
                  <a:lnTo>
                    <a:pt x="337" y="337"/>
                  </a:lnTo>
                  <a:lnTo>
                    <a:pt x="301" y="375"/>
                  </a:lnTo>
                  <a:lnTo>
                    <a:pt x="266" y="414"/>
                  </a:lnTo>
                  <a:lnTo>
                    <a:pt x="233" y="455"/>
                  </a:lnTo>
                  <a:lnTo>
                    <a:pt x="202" y="498"/>
                  </a:lnTo>
                  <a:lnTo>
                    <a:pt x="173" y="542"/>
                  </a:lnTo>
                  <a:lnTo>
                    <a:pt x="147" y="588"/>
                  </a:lnTo>
                  <a:lnTo>
                    <a:pt x="122" y="634"/>
                  </a:lnTo>
                  <a:lnTo>
                    <a:pt x="98" y="682"/>
                  </a:lnTo>
                  <a:lnTo>
                    <a:pt x="78" y="731"/>
                  </a:lnTo>
                  <a:lnTo>
                    <a:pt x="60" y="781"/>
                  </a:lnTo>
                  <a:lnTo>
                    <a:pt x="44" y="832"/>
                  </a:lnTo>
                  <a:lnTo>
                    <a:pt x="37" y="859"/>
                  </a:lnTo>
                  <a:lnTo>
                    <a:pt x="31" y="885"/>
                  </a:lnTo>
                  <a:lnTo>
                    <a:pt x="24" y="912"/>
                  </a:lnTo>
                  <a:lnTo>
                    <a:pt x="19" y="938"/>
                  </a:lnTo>
                  <a:lnTo>
                    <a:pt x="15" y="966"/>
                  </a:lnTo>
                  <a:lnTo>
                    <a:pt x="10" y="992"/>
                  </a:lnTo>
                  <a:lnTo>
                    <a:pt x="6" y="1020"/>
                  </a:lnTo>
                  <a:lnTo>
                    <a:pt x="4" y="1047"/>
                  </a:lnTo>
                  <a:lnTo>
                    <a:pt x="2" y="1076"/>
                  </a:lnTo>
                  <a:lnTo>
                    <a:pt x="0" y="1103"/>
                  </a:lnTo>
                  <a:lnTo>
                    <a:pt x="0" y="1103"/>
                  </a:lnTo>
                  <a:close/>
                </a:path>
              </a:pathLst>
            </a:custGeom>
            <a:solidFill>
              <a:srgbClr val="e62b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98" name="Freeform 387"/>
            <p:cNvSpPr/>
            <p:nvPr/>
          </p:nvSpPr>
          <p:spPr>
            <a:xfrm>
              <a:off x="4643280" y="2109960"/>
              <a:ext cx="1750680" cy="1750680"/>
            </a:xfrm>
            <a:custGeom>
              <a:avLst/>
              <a:gdLst>
                <a:gd name="textAreaLeft" fmla="*/ 0 w 1750680"/>
                <a:gd name="textAreaRight" fmla="*/ 1751040 w 1750680"/>
                <a:gd name="textAreaTop" fmla="*/ 0 h 1750680"/>
                <a:gd name="textAreaBottom" fmla="*/ 1751040 h 1750680"/>
              </a:gdLst>
              <a:ahLst/>
              <a:rect l="textAreaLeft" t="textAreaTop" r="textAreaRight" b="textAreaBottom"/>
              <a:pathLst>
                <a:path w="1103" h="1103">
                  <a:moveTo>
                    <a:pt x="719" y="1103"/>
                  </a:moveTo>
                  <a:lnTo>
                    <a:pt x="1103" y="1103"/>
                  </a:lnTo>
                  <a:lnTo>
                    <a:pt x="1103" y="1103"/>
                  </a:lnTo>
                  <a:lnTo>
                    <a:pt x="1102" y="1076"/>
                  </a:lnTo>
                  <a:lnTo>
                    <a:pt x="1100" y="1047"/>
                  </a:lnTo>
                  <a:lnTo>
                    <a:pt x="1097" y="1020"/>
                  </a:lnTo>
                  <a:lnTo>
                    <a:pt x="1094" y="992"/>
                  </a:lnTo>
                  <a:lnTo>
                    <a:pt x="1089" y="966"/>
                  </a:lnTo>
                  <a:lnTo>
                    <a:pt x="1085" y="938"/>
                  </a:lnTo>
                  <a:lnTo>
                    <a:pt x="1080" y="912"/>
                  </a:lnTo>
                  <a:lnTo>
                    <a:pt x="1073" y="885"/>
                  </a:lnTo>
                  <a:lnTo>
                    <a:pt x="1067" y="859"/>
                  </a:lnTo>
                  <a:lnTo>
                    <a:pt x="1060" y="832"/>
                  </a:lnTo>
                  <a:lnTo>
                    <a:pt x="1044" y="781"/>
                  </a:lnTo>
                  <a:lnTo>
                    <a:pt x="1026" y="731"/>
                  </a:lnTo>
                  <a:lnTo>
                    <a:pt x="1005" y="682"/>
                  </a:lnTo>
                  <a:lnTo>
                    <a:pt x="982" y="634"/>
                  </a:lnTo>
                  <a:lnTo>
                    <a:pt x="957" y="588"/>
                  </a:lnTo>
                  <a:lnTo>
                    <a:pt x="931" y="542"/>
                  </a:lnTo>
                  <a:lnTo>
                    <a:pt x="901" y="498"/>
                  </a:lnTo>
                  <a:lnTo>
                    <a:pt x="870" y="455"/>
                  </a:lnTo>
                  <a:lnTo>
                    <a:pt x="837" y="414"/>
                  </a:lnTo>
                  <a:lnTo>
                    <a:pt x="803" y="375"/>
                  </a:lnTo>
                  <a:lnTo>
                    <a:pt x="766" y="337"/>
                  </a:lnTo>
                  <a:lnTo>
                    <a:pt x="729" y="300"/>
                  </a:lnTo>
                  <a:lnTo>
                    <a:pt x="689" y="266"/>
                  </a:lnTo>
                  <a:lnTo>
                    <a:pt x="648" y="233"/>
                  </a:lnTo>
                  <a:lnTo>
                    <a:pt x="605" y="202"/>
                  </a:lnTo>
                  <a:lnTo>
                    <a:pt x="562" y="172"/>
                  </a:lnTo>
                  <a:lnTo>
                    <a:pt x="516" y="146"/>
                  </a:lnTo>
                  <a:lnTo>
                    <a:pt x="469" y="121"/>
                  </a:lnTo>
                  <a:lnTo>
                    <a:pt x="421" y="98"/>
                  </a:lnTo>
                  <a:lnTo>
                    <a:pt x="372" y="78"/>
                  </a:lnTo>
                  <a:lnTo>
                    <a:pt x="322" y="59"/>
                  </a:lnTo>
                  <a:lnTo>
                    <a:pt x="271" y="43"/>
                  </a:lnTo>
                  <a:lnTo>
                    <a:pt x="244" y="36"/>
                  </a:lnTo>
                  <a:lnTo>
                    <a:pt x="218" y="30"/>
                  </a:lnTo>
                  <a:lnTo>
                    <a:pt x="191" y="23"/>
                  </a:lnTo>
                  <a:lnTo>
                    <a:pt x="165" y="18"/>
                  </a:lnTo>
                  <a:lnTo>
                    <a:pt x="137" y="14"/>
                  </a:lnTo>
                  <a:lnTo>
                    <a:pt x="111" y="9"/>
                  </a:lnTo>
                  <a:lnTo>
                    <a:pt x="83" y="6"/>
                  </a:lnTo>
                  <a:lnTo>
                    <a:pt x="56" y="3"/>
                  </a:lnTo>
                  <a:lnTo>
                    <a:pt x="28" y="1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0" y="384"/>
                  </a:lnTo>
                  <a:lnTo>
                    <a:pt x="36" y="387"/>
                  </a:lnTo>
                  <a:lnTo>
                    <a:pt x="72" y="392"/>
                  </a:lnTo>
                  <a:lnTo>
                    <a:pt x="107" y="398"/>
                  </a:lnTo>
                  <a:lnTo>
                    <a:pt x="141" y="407"/>
                  </a:lnTo>
                  <a:lnTo>
                    <a:pt x="174" y="416"/>
                  </a:lnTo>
                  <a:lnTo>
                    <a:pt x="207" y="427"/>
                  </a:lnTo>
                  <a:lnTo>
                    <a:pt x="240" y="438"/>
                  </a:lnTo>
                  <a:lnTo>
                    <a:pt x="272" y="452"/>
                  </a:lnTo>
                  <a:lnTo>
                    <a:pt x="303" y="468"/>
                  </a:lnTo>
                  <a:lnTo>
                    <a:pt x="333" y="484"/>
                  </a:lnTo>
                  <a:lnTo>
                    <a:pt x="362" y="502"/>
                  </a:lnTo>
                  <a:lnTo>
                    <a:pt x="390" y="521"/>
                  </a:lnTo>
                  <a:lnTo>
                    <a:pt x="418" y="541"/>
                  </a:lnTo>
                  <a:lnTo>
                    <a:pt x="444" y="562"/>
                  </a:lnTo>
                  <a:lnTo>
                    <a:pt x="471" y="584"/>
                  </a:lnTo>
                  <a:lnTo>
                    <a:pt x="495" y="608"/>
                  </a:lnTo>
                  <a:lnTo>
                    <a:pt x="519" y="632"/>
                  </a:lnTo>
                  <a:lnTo>
                    <a:pt x="541" y="659"/>
                  </a:lnTo>
                  <a:lnTo>
                    <a:pt x="563" y="685"/>
                  </a:lnTo>
                  <a:lnTo>
                    <a:pt x="583" y="713"/>
                  </a:lnTo>
                  <a:lnTo>
                    <a:pt x="601" y="741"/>
                  </a:lnTo>
                  <a:lnTo>
                    <a:pt x="619" y="770"/>
                  </a:lnTo>
                  <a:lnTo>
                    <a:pt x="636" y="800"/>
                  </a:lnTo>
                  <a:lnTo>
                    <a:pt x="651" y="831"/>
                  </a:lnTo>
                  <a:lnTo>
                    <a:pt x="665" y="863"/>
                  </a:lnTo>
                  <a:lnTo>
                    <a:pt x="676" y="896"/>
                  </a:lnTo>
                  <a:lnTo>
                    <a:pt x="688" y="929"/>
                  </a:lnTo>
                  <a:lnTo>
                    <a:pt x="696" y="962"/>
                  </a:lnTo>
                  <a:lnTo>
                    <a:pt x="705" y="996"/>
                  </a:lnTo>
                  <a:lnTo>
                    <a:pt x="711" y="1031"/>
                  </a:lnTo>
                  <a:lnTo>
                    <a:pt x="716" y="1067"/>
                  </a:lnTo>
                  <a:lnTo>
                    <a:pt x="719" y="1103"/>
                  </a:lnTo>
                  <a:lnTo>
                    <a:pt x="719" y="1103"/>
                  </a:lnTo>
                  <a:close/>
                </a:path>
              </a:pathLst>
            </a:custGeom>
            <a:solidFill>
              <a:srgbClr val="ff3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99" name="Freeform 388"/>
            <p:cNvSpPr/>
            <p:nvPr/>
          </p:nvSpPr>
          <p:spPr>
            <a:xfrm>
              <a:off x="2743200" y="4011480"/>
              <a:ext cx="1750680" cy="1750680"/>
            </a:xfrm>
            <a:custGeom>
              <a:avLst/>
              <a:gdLst>
                <a:gd name="textAreaLeft" fmla="*/ 0 w 1750680"/>
                <a:gd name="textAreaRight" fmla="*/ 1751040 w 1750680"/>
                <a:gd name="textAreaTop" fmla="*/ 0 h 1750680"/>
                <a:gd name="textAreaBottom" fmla="*/ 1751040 h 1750680"/>
              </a:gdLst>
              <a:ahLst/>
              <a:rect l="textAreaLeft" t="textAreaTop" r="textAreaRight" b="textAreaBottom"/>
              <a:pathLst>
                <a:path w="1103" h="1103">
                  <a:moveTo>
                    <a:pt x="1103" y="1103"/>
                  </a:moveTo>
                  <a:lnTo>
                    <a:pt x="1103" y="719"/>
                  </a:lnTo>
                  <a:lnTo>
                    <a:pt x="1103" y="719"/>
                  </a:lnTo>
                  <a:lnTo>
                    <a:pt x="1068" y="716"/>
                  </a:lnTo>
                  <a:lnTo>
                    <a:pt x="1032" y="710"/>
                  </a:lnTo>
                  <a:lnTo>
                    <a:pt x="997" y="704"/>
                  </a:lnTo>
                  <a:lnTo>
                    <a:pt x="963" y="697"/>
                  </a:lnTo>
                  <a:lnTo>
                    <a:pt x="930" y="687"/>
                  </a:lnTo>
                  <a:lnTo>
                    <a:pt x="896" y="676"/>
                  </a:lnTo>
                  <a:lnTo>
                    <a:pt x="864" y="664"/>
                  </a:lnTo>
                  <a:lnTo>
                    <a:pt x="832" y="650"/>
                  </a:lnTo>
                  <a:lnTo>
                    <a:pt x="800" y="635"/>
                  </a:lnTo>
                  <a:lnTo>
                    <a:pt x="771" y="619"/>
                  </a:lnTo>
                  <a:lnTo>
                    <a:pt x="741" y="601"/>
                  </a:lnTo>
                  <a:lnTo>
                    <a:pt x="713" y="582"/>
                  </a:lnTo>
                  <a:lnTo>
                    <a:pt x="685" y="562"/>
                  </a:lnTo>
                  <a:lnTo>
                    <a:pt x="658" y="541"/>
                  </a:lnTo>
                  <a:lnTo>
                    <a:pt x="633" y="519"/>
                  </a:lnTo>
                  <a:lnTo>
                    <a:pt x="609" y="494"/>
                  </a:lnTo>
                  <a:lnTo>
                    <a:pt x="585" y="470"/>
                  </a:lnTo>
                  <a:lnTo>
                    <a:pt x="562" y="445"/>
                  </a:lnTo>
                  <a:lnTo>
                    <a:pt x="541" y="418"/>
                  </a:lnTo>
                  <a:lnTo>
                    <a:pt x="521" y="390"/>
                  </a:lnTo>
                  <a:lnTo>
                    <a:pt x="502" y="362"/>
                  </a:lnTo>
                  <a:lnTo>
                    <a:pt x="485" y="332"/>
                  </a:lnTo>
                  <a:lnTo>
                    <a:pt x="468" y="303"/>
                  </a:lnTo>
                  <a:lnTo>
                    <a:pt x="453" y="271"/>
                  </a:lnTo>
                  <a:lnTo>
                    <a:pt x="439" y="239"/>
                  </a:lnTo>
                  <a:lnTo>
                    <a:pt x="427" y="207"/>
                  </a:lnTo>
                  <a:lnTo>
                    <a:pt x="416" y="173"/>
                  </a:lnTo>
                  <a:lnTo>
                    <a:pt x="406" y="141"/>
                  </a:lnTo>
                  <a:lnTo>
                    <a:pt x="399" y="106"/>
                  </a:lnTo>
                  <a:lnTo>
                    <a:pt x="393" y="71"/>
                  </a:lnTo>
                  <a:lnTo>
                    <a:pt x="388" y="36"/>
                  </a:lnTo>
                  <a:lnTo>
                    <a:pt x="38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7"/>
                  </a:lnTo>
                  <a:lnTo>
                    <a:pt x="4" y="55"/>
                  </a:lnTo>
                  <a:lnTo>
                    <a:pt x="6" y="82"/>
                  </a:lnTo>
                  <a:lnTo>
                    <a:pt x="10" y="110"/>
                  </a:lnTo>
                  <a:lnTo>
                    <a:pt x="15" y="137"/>
                  </a:lnTo>
                  <a:lnTo>
                    <a:pt x="19" y="164"/>
                  </a:lnTo>
                  <a:lnTo>
                    <a:pt x="24" y="191"/>
                  </a:lnTo>
                  <a:lnTo>
                    <a:pt x="31" y="218"/>
                  </a:lnTo>
                  <a:lnTo>
                    <a:pt x="37" y="244"/>
                  </a:lnTo>
                  <a:lnTo>
                    <a:pt x="44" y="270"/>
                  </a:lnTo>
                  <a:lnTo>
                    <a:pt x="60" y="322"/>
                  </a:lnTo>
                  <a:lnTo>
                    <a:pt x="78" y="371"/>
                  </a:lnTo>
                  <a:lnTo>
                    <a:pt x="98" y="421"/>
                  </a:lnTo>
                  <a:lnTo>
                    <a:pt x="122" y="469"/>
                  </a:lnTo>
                  <a:lnTo>
                    <a:pt x="147" y="515"/>
                  </a:lnTo>
                  <a:lnTo>
                    <a:pt x="173" y="561"/>
                  </a:lnTo>
                  <a:lnTo>
                    <a:pt x="202" y="605"/>
                  </a:lnTo>
                  <a:lnTo>
                    <a:pt x="233" y="648"/>
                  </a:lnTo>
                  <a:lnTo>
                    <a:pt x="266" y="689"/>
                  </a:lnTo>
                  <a:lnTo>
                    <a:pt x="301" y="728"/>
                  </a:lnTo>
                  <a:lnTo>
                    <a:pt x="337" y="766"/>
                  </a:lnTo>
                  <a:lnTo>
                    <a:pt x="375" y="802"/>
                  </a:lnTo>
                  <a:lnTo>
                    <a:pt x="414" y="837"/>
                  </a:lnTo>
                  <a:lnTo>
                    <a:pt x="455" y="870"/>
                  </a:lnTo>
                  <a:lnTo>
                    <a:pt x="499" y="901"/>
                  </a:lnTo>
                  <a:lnTo>
                    <a:pt x="542" y="930"/>
                  </a:lnTo>
                  <a:lnTo>
                    <a:pt x="588" y="957"/>
                  </a:lnTo>
                  <a:lnTo>
                    <a:pt x="634" y="981"/>
                  </a:lnTo>
                  <a:lnTo>
                    <a:pt x="683" y="1005"/>
                  </a:lnTo>
                  <a:lnTo>
                    <a:pt x="732" y="1025"/>
                  </a:lnTo>
                  <a:lnTo>
                    <a:pt x="781" y="1043"/>
                  </a:lnTo>
                  <a:lnTo>
                    <a:pt x="833" y="1060"/>
                  </a:lnTo>
                  <a:lnTo>
                    <a:pt x="860" y="1066"/>
                  </a:lnTo>
                  <a:lnTo>
                    <a:pt x="885" y="1074"/>
                  </a:lnTo>
                  <a:lnTo>
                    <a:pt x="912" y="1079"/>
                  </a:lnTo>
                  <a:lnTo>
                    <a:pt x="939" y="1084"/>
                  </a:lnTo>
                  <a:lnTo>
                    <a:pt x="966" y="1089"/>
                  </a:lnTo>
                  <a:lnTo>
                    <a:pt x="993" y="1093"/>
                  </a:lnTo>
                  <a:lnTo>
                    <a:pt x="1021" y="1097"/>
                  </a:lnTo>
                  <a:lnTo>
                    <a:pt x="1048" y="1099"/>
                  </a:lnTo>
                  <a:lnTo>
                    <a:pt x="1076" y="1101"/>
                  </a:lnTo>
                  <a:lnTo>
                    <a:pt x="1103" y="1103"/>
                  </a:lnTo>
                  <a:lnTo>
                    <a:pt x="1103" y="1103"/>
                  </a:lnTo>
                  <a:close/>
                </a:path>
              </a:pathLst>
            </a:custGeom>
            <a:solidFill>
              <a:srgbClr val="931b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00" name="Freeform 389"/>
            <p:cNvSpPr/>
            <p:nvPr/>
          </p:nvSpPr>
          <p:spPr>
            <a:xfrm>
              <a:off x="1979640" y="2155680"/>
              <a:ext cx="1137960" cy="355572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3555720"/>
                <a:gd name="textAreaBottom" fmla="*/ 3556080 h 3555720"/>
              </a:gdLst>
              <a:ahLst/>
              <a:rect l="textAreaLeft" t="textAreaTop" r="textAreaRight" b="textAreaBottom"/>
              <a:pathLst>
                <a:path w="717" h="2240">
                  <a:moveTo>
                    <a:pt x="445" y="2240"/>
                  </a:moveTo>
                  <a:lnTo>
                    <a:pt x="717" y="1968"/>
                  </a:lnTo>
                  <a:lnTo>
                    <a:pt x="717" y="1968"/>
                  </a:lnTo>
                  <a:lnTo>
                    <a:pt x="696" y="1946"/>
                  </a:lnTo>
                  <a:lnTo>
                    <a:pt x="677" y="1923"/>
                  </a:lnTo>
                  <a:lnTo>
                    <a:pt x="658" y="1899"/>
                  </a:lnTo>
                  <a:lnTo>
                    <a:pt x="639" y="1876"/>
                  </a:lnTo>
                  <a:lnTo>
                    <a:pt x="621" y="1852"/>
                  </a:lnTo>
                  <a:lnTo>
                    <a:pt x="604" y="1827"/>
                  </a:lnTo>
                  <a:lnTo>
                    <a:pt x="587" y="1803"/>
                  </a:lnTo>
                  <a:lnTo>
                    <a:pt x="571" y="1778"/>
                  </a:lnTo>
                  <a:lnTo>
                    <a:pt x="556" y="1753"/>
                  </a:lnTo>
                  <a:lnTo>
                    <a:pt x="541" y="1728"/>
                  </a:lnTo>
                  <a:lnTo>
                    <a:pt x="527" y="1701"/>
                  </a:lnTo>
                  <a:lnTo>
                    <a:pt x="514" y="1676"/>
                  </a:lnTo>
                  <a:lnTo>
                    <a:pt x="501" y="1650"/>
                  </a:lnTo>
                  <a:lnTo>
                    <a:pt x="489" y="1623"/>
                  </a:lnTo>
                  <a:lnTo>
                    <a:pt x="478" y="1597"/>
                  </a:lnTo>
                  <a:lnTo>
                    <a:pt x="467" y="1569"/>
                  </a:lnTo>
                  <a:lnTo>
                    <a:pt x="457" y="1541"/>
                  </a:lnTo>
                  <a:lnTo>
                    <a:pt x="448" y="1515"/>
                  </a:lnTo>
                  <a:lnTo>
                    <a:pt x="439" y="1487"/>
                  </a:lnTo>
                  <a:lnTo>
                    <a:pt x="431" y="1460"/>
                  </a:lnTo>
                  <a:lnTo>
                    <a:pt x="424" y="1431"/>
                  </a:lnTo>
                  <a:lnTo>
                    <a:pt x="416" y="1404"/>
                  </a:lnTo>
                  <a:lnTo>
                    <a:pt x="411" y="1376"/>
                  </a:lnTo>
                  <a:lnTo>
                    <a:pt x="405" y="1348"/>
                  </a:lnTo>
                  <a:lnTo>
                    <a:pt x="400" y="1319"/>
                  </a:lnTo>
                  <a:lnTo>
                    <a:pt x="396" y="1292"/>
                  </a:lnTo>
                  <a:lnTo>
                    <a:pt x="392" y="1263"/>
                  </a:lnTo>
                  <a:lnTo>
                    <a:pt x="390" y="1234"/>
                  </a:lnTo>
                  <a:lnTo>
                    <a:pt x="387" y="1206"/>
                  </a:lnTo>
                  <a:lnTo>
                    <a:pt x="385" y="1177"/>
                  </a:lnTo>
                  <a:lnTo>
                    <a:pt x="384" y="1149"/>
                  </a:lnTo>
                  <a:lnTo>
                    <a:pt x="384" y="1120"/>
                  </a:lnTo>
                  <a:lnTo>
                    <a:pt x="384" y="1091"/>
                  </a:lnTo>
                  <a:lnTo>
                    <a:pt x="385" y="1063"/>
                  </a:lnTo>
                  <a:lnTo>
                    <a:pt x="387" y="1034"/>
                  </a:lnTo>
                  <a:lnTo>
                    <a:pt x="390" y="1007"/>
                  </a:lnTo>
                  <a:lnTo>
                    <a:pt x="392" y="978"/>
                  </a:lnTo>
                  <a:lnTo>
                    <a:pt x="396" y="949"/>
                  </a:lnTo>
                  <a:lnTo>
                    <a:pt x="400" y="921"/>
                  </a:lnTo>
                  <a:lnTo>
                    <a:pt x="405" y="893"/>
                  </a:lnTo>
                  <a:lnTo>
                    <a:pt x="411" y="865"/>
                  </a:lnTo>
                  <a:lnTo>
                    <a:pt x="416" y="836"/>
                  </a:lnTo>
                  <a:lnTo>
                    <a:pt x="424" y="809"/>
                  </a:lnTo>
                  <a:lnTo>
                    <a:pt x="431" y="781"/>
                  </a:lnTo>
                  <a:lnTo>
                    <a:pt x="439" y="754"/>
                  </a:lnTo>
                  <a:lnTo>
                    <a:pt x="448" y="726"/>
                  </a:lnTo>
                  <a:lnTo>
                    <a:pt x="457" y="699"/>
                  </a:lnTo>
                  <a:lnTo>
                    <a:pt x="467" y="672"/>
                  </a:lnTo>
                  <a:lnTo>
                    <a:pt x="478" y="645"/>
                  </a:lnTo>
                  <a:lnTo>
                    <a:pt x="489" y="618"/>
                  </a:lnTo>
                  <a:lnTo>
                    <a:pt x="501" y="592"/>
                  </a:lnTo>
                  <a:lnTo>
                    <a:pt x="514" y="565"/>
                  </a:lnTo>
                  <a:lnTo>
                    <a:pt x="527" y="539"/>
                  </a:lnTo>
                  <a:lnTo>
                    <a:pt x="541" y="513"/>
                  </a:lnTo>
                  <a:lnTo>
                    <a:pt x="556" y="488"/>
                  </a:lnTo>
                  <a:lnTo>
                    <a:pt x="571" y="462"/>
                  </a:lnTo>
                  <a:lnTo>
                    <a:pt x="587" y="438"/>
                  </a:lnTo>
                  <a:lnTo>
                    <a:pt x="604" y="413"/>
                  </a:lnTo>
                  <a:lnTo>
                    <a:pt x="621" y="388"/>
                  </a:lnTo>
                  <a:lnTo>
                    <a:pt x="639" y="365"/>
                  </a:lnTo>
                  <a:lnTo>
                    <a:pt x="658" y="341"/>
                  </a:lnTo>
                  <a:lnTo>
                    <a:pt x="677" y="317"/>
                  </a:lnTo>
                  <a:lnTo>
                    <a:pt x="696" y="295"/>
                  </a:lnTo>
                  <a:lnTo>
                    <a:pt x="717" y="272"/>
                  </a:lnTo>
                  <a:lnTo>
                    <a:pt x="445" y="0"/>
                  </a:lnTo>
                  <a:lnTo>
                    <a:pt x="445" y="0"/>
                  </a:lnTo>
                  <a:lnTo>
                    <a:pt x="417" y="30"/>
                  </a:lnTo>
                  <a:lnTo>
                    <a:pt x="391" y="60"/>
                  </a:lnTo>
                  <a:lnTo>
                    <a:pt x="365" y="91"/>
                  </a:lnTo>
                  <a:lnTo>
                    <a:pt x="340" y="121"/>
                  </a:lnTo>
                  <a:lnTo>
                    <a:pt x="317" y="153"/>
                  </a:lnTo>
                  <a:lnTo>
                    <a:pt x="293" y="186"/>
                  </a:lnTo>
                  <a:lnTo>
                    <a:pt x="271" y="218"/>
                  </a:lnTo>
                  <a:lnTo>
                    <a:pt x="250" y="251"/>
                  </a:lnTo>
                  <a:lnTo>
                    <a:pt x="230" y="284"/>
                  </a:lnTo>
                  <a:lnTo>
                    <a:pt x="210" y="318"/>
                  </a:lnTo>
                  <a:lnTo>
                    <a:pt x="192" y="352"/>
                  </a:lnTo>
                  <a:lnTo>
                    <a:pt x="174" y="386"/>
                  </a:lnTo>
                  <a:lnTo>
                    <a:pt x="157" y="421"/>
                  </a:lnTo>
                  <a:lnTo>
                    <a:pt x="141" y="456"/>
                  </a:lnTo>
                  <a:lnTo>
                    <a:pt x="125" y="491"/>
                  </a:lnTo>
                  <a:lnTo>
                    <a:pt x="111" y="527"/>
                  </a:lnTo>
                  <a:lnTo>
                    <a:pt x="97" y="563"/>
                  </a:lnTo>
                  <a:lnTo>
                    <a:pt x="85" y="599"/>
                  </a:lnTo>
                  <a:lnTo>
                    <a:pt x="73" y="635"/>
                  </a:lnTo>
                  <a:lnTo>
                    <a:pt x="62" y="672"/>
                  </a:lnTo>
                  <a:lnTo>
                    <a:pt x="52" y="708"/>
                  </a:lnTo>
                  <a:lnTo>
                    <a:pt x="43" y="745"/>
                  </a:lnTo>
                  <a:lnTo>
                    <a:pt x="35" y="782"/>
                  </a:lnTo>
                  <a:lnTo>
                    <a:pt x="28" y="819"/>
                  </a:lnTo>
                  <a:lnTo>
                    <a:pt x="21" y="856"/>
                  </a:lnTo>
                  <a:lnTo>
                    <a:pt x="16" y="894"/>
                  </a:lnTo>
                  <a:lnTo>
                    <a:pt x="11" y="931"/>
                  </a:lnTo>
                  <a:lnTo>
                    <a:pt x="6" y="970"/>
                  </a:lnTo>
                  <a:lnTo>
                    <a:pt x="4" y="1007"/>
                  </a:lnTo>
                  <a:lnTo>
                    <a:pt x="1" y="1045"/>
                  </a:lnTo>
                  <a:lnTo>
                    <a:pt x="0" y="1083"/>
                  </a:lnTo>
                  <a:lnTo>
                    <a:pt x="0" y="1120"/>
                  </a:lnTo>
                  <a:lnTo>
                    <a:pt x="0" y="1158"/>
                  </a:lnTo>
                  <a:lnTo>
                    <a:pt x="1" y="1196"/>
                  </a:lnTo>
                  <a:lnTo>
                    <a:pt x="4" y="1233"/>
                  </a:lnTo>
                  <a:lnTo>
                    <a:pt x="6" y="1271"/>
                  </a:lnTo>
                  <a:lnTo>
                    <a:pt x="11" y="1309"/>
                  </a:lnTo>
                  <a:lnTo>
                    <a:pt x="16" y="1347"/>
                  </a:lnTo>
                  <a:lnTo>
                    <a:pt x="21" y="1384"/>
                  </a:lnTo>
                  <a:lnTo>
                    <a:pt x="28" y="1421"/>
                  </a:lnTo>
                  <a:lnTo>
                    <a:pt x="35" y="1459"/>
                  </a:lnTo>
                  <a:lnTo>
                    <a:pt x="43" y="1496"/>
                  </a:lnTo>
                  <a:lnTo>
                    <a:pt x="52" y="1532"/>
                  </a:lnTo>
                  <a:lnTo>
                    <a:pt x="62" y="1569"/>
                  </a:lnTo>
                  <a:lnTo>
                    <a:pt x="73" y="1606"/>
                  </a:lnTo>
                  <a:lnTo>
                    <a:pt x="85" y="1642"/>
                  </a:lnTo>
                  <a:lnTo>
                    <a:pt x="97" y="1678"/>
                  </a:lnTo>
                  <a:lnTo>
                    <a:pt x="111" y="1714"/>
                  </a:lnTo>
                  <a:lnTo>
                    <a:pt x="125" y="1749"/>
                  </a:lnTo>
                  <a:lnTo>
                    <a:pt x="141" y="1785"/>
                  </a:lnTo>
                  <a:lnTo>
                    <a:pt x="157" y="1820"/>
                  </a:lnTo>
                  <a:lnTo>
                    <a:pt x="174" y="1854"/>
                  </a:lnTo>
                  <a:lnTo>
                    <a:pt x="192" y="1889"/>
                  </a:lnTo>
                  <a:lnTo>
                    <a:pt x="210" y="1923"/>
                  </a:lnTo>
                  <a:lnTo>
                    <a:pt x="230" y="1957"/>
                  </a:lnTo>
                  <a:lnTo>
                    <a:pt x="250" y="1989"/>
                  </a:lnTo>
                  <a:lnTo>
                    <a:pt x="271" y="2022"/>
                  </a:lnTo>
                  <a:lnTo>
                    <a:pt x="293" y="2055"/>
                  </a:lnTo>
                  <a:lnTo>
                    <a:pt x="317" y="2087"/>
                  </a:lnTo>
                  <a:lnTo>
                    <a:pt x="340" y="2119"/>
                  </a:lnTo>
                  <a:lnTo>
                    <a:pt x="365" y="2150"/>
                  </a:lnTo>
                  <a:lnTo>
                    <a:pt x="391" y="2181"/>
                  </a:lnTo>
                  <a:lnTo>
                    <a:pt x="417" y="2211"/>
                  </a:lnTo>
                  <a:lnTo>
                    <a:pt x="445" y="2240"/>
                  </a:lnTo>
                  <a:lnTo>
                    <a:pt x="445" y="2240"/>
                  </a:lnTo>
                  <a:close/>
                </a:path>
              </a:pathLst>
            </a:custGeom>
            <a:solidFill>
              <a:srgbClr val="ff5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01" name="Freeform 390"/>
            <p:cNvSpPr/>
            <p:nvPr/>
          </p:nvSpPr>
          <p:spPr>
            <a:xfrm>
              <a:off x="2771640" y="1341360"/>
              <a:ext cx="3555720" cy="1137960"/>
            </a:xfrm>
            <a:custGeom>
              <a:avLst/>
              <a:gdLst>
                <a:gd name="textAreaLeft" fmla="*/ 0 w 3555720"/>
                <a:gd name="textAreaRight" fmla="*/ 3556080 w 3555720"/>
                <a:gd name="textAreaTop" fmla="*/ 0 h 1137960"/>
                <a:gd name="textAreaBottom" fmla="*/ 1138320 h 1137960"/>
              </a:gdLst>
              <a:ahLst/>
              <a:rect l="textAreaLeft" t="textAreaTop" r="textAreaRight" b="textAreaBottom"/>
              <a:pathLst>
                <a:path w="2240" h="717">
                  <a:moveTo>
                    <a:pt x="272" y="717"/>
                  </a:moveTo>
                  <a:lnTo>
                    <a:pt x="272" y="717"/>
                  </a:lnTo>
                  <a:lnTo>
                    <a:pt x="294" y="697"/>
                  </a:lnTo>
                  <a:lnTo>
                    <a:pt x="317" y="677"/>
                  </a:lnTo>
                  <a:lnTo>
                    <a:pt x="341" y="658"/>
                  </a:lnTo>
                  <a:lnTo>
                    <a:pt x="364" y="640"/>
                  </a:lnTo>
                  <a:lnTo>
                    <a:pt x="388" y="622"/>
                  </a:lnTo>
                  <a:lnTo>
                    <a:pt x="413" y="604"/>
                  </a:lnTo>
                  <a:lnTo>
                    <a:pt x="437" y="588"/>
                  </a:lnTo>
                  <a:lnTo>
                    <a:pt x="462" y="572"/>
                  </a:lnTo>
                  <a:lnTo>
                    <a:pt x="488" y="556"/>
                  </a:lnTo>
                  <a:lnTo>
                    <a:pt x="513" y="542"/>
                  </a:lnTo>
                  <a:lnTo>
                    <a:pt x="539" y="527"/>
                  </a:lnTo>
                  <a:lnTo>
                    <a:pt x="565" y="515"/>
                  </a:lnTo>
                  <a:lnTo>
                    <a:pt x="590" y="502"/>
                  </a:lnTo>
                  <a:lnTo>
                    <a:pt x="617" y="489"/>
                  </a:lnTo>
                  <a:lnTo>
                    <a:pt x="645" y="479"/>
                  </a:lnTo>
                  <a:lnTo>
                    <a:pt x="671" y="468"/>
                  </a:lnTo>
                  <a:lnTo>
                    <a:pt x="699" y="457"/>
                  </a:lnTo>
                  <a:lnTo>
                    <a:pt x="725" y="448"/>
                  </a:lnTo>
                  <a:lnTo>
                    <a:pt x="753" y="439"/>
                  </a:lnTo>
                  <a:lnTo>
                    <a:pt x="780" y="431"/>
                  </a:lnTo>
                  <a:lnTo>
                    <a:pt x="809" y="424"/>
                  </a:lnTo>
                  <a:lnTo>
                    <a:pt x="836" y="417"/>
                  </a:lnTo>
                  <a:lnTo>
                    <a:pt x="864" y="411"/>
                  </a:lnTo>
                  <a:lnTo>
                    <a:pt x="892" y="406"/>
                  </a:lnTo>
                  <a:lnTo>
                    <a:pt x="921" y="400"/>
                  </a:lnTo>
                  <a:lnTo>
                    <a:pt x="948" y="396"/>
                  </a:lnTo>
                  <a:lnTo>
                    <a:pt x="977" y="393"/>
                  </a:lnTo>
                  <a:lnTo>
                    <a:pt x="1006" y="390"/>
                  </a:lnTo>
                  <a:lnTo>
                    <a:pt x="1034" y="388"/>
                  </a:lnTo>
                  <a:lnTo>
                    <a:pt x="1063" y="385"/>
                  </a:lnTo>
                  <a:lnTo>
                    <a:pt x="1091" y="384"/>
                  </a:lnTo>
                  <a:lnTo>
                    <a:pt x="1120" y="384"/>
                  </a:lnTo>
                  <a:lnTo>
                    <a:pt x="1149" y="384"/>
                  </a:lnTo>
                  <a:lnTo>
                    <a:pt x="1177" y="385"/>
                  </a:lnTo>
                  <a:lnTo>
                    <a:pt x="1206" y="388"/>
                  </a:lnTo>
                  <a:lnTo>
                    <a:pt x="1234" y="390"/>
                  </a:lnTo>
                  <a:lnTo>
                    <a:pt x="1262" y="393"/>
                  </a:lnTo>
                  <a:lnTo>
                    <a:pt x="1291" y="396"/>
                  </a:lnTo>
                  <a:lnTo>
                    <a:pt x="1319" y="400"/>
                  </a:lnTo>
                  <a:lnTo>
                    <a:pt x="1348" y="406"/>
                  </a:lnTo>
                  <a:lnTo>
                    <a:pt x="1375" y="411"/>
                  </a:lnTo>
                  <a:lnTo>
                    <a:pt x="1404" y="417"/>
                  </a:lnTo>
                  <a:lnTo>
                    <a:pt x="1431" y="424"/>
                  </a:lnTo>
                  <a:lnTo>
                    <a:pt x="1459" y="431"/>
                  </a:lnTo>
                  <a:lnTo>
                    <a:pt x="1486" y="439"/>
                  </a:lnTo>
                  <a:lnTo>
                    <a:pt x="1514" y="448"/>
                  </a:lnTo>
                  <a:lnTo>
                    <a:pt x="1541" y="457"/>
                  </a:lnTo>
                  <a:lnTo>
                    <a:pt x="1569" y="468"/>
                  </a:lnTo>
                  <a:lnTo>
                    <a:pt x="1595" y="479"/>
                  </a:lnTo>
                  <a:lnTo>
                    <a:pt x="1622" y="489"/>
                  </a:lnTo>
                  <a:lnTo>
                    <a:pt x="1648" y="502"/>
                  </a:lnTo>
                  <a:lnTo>
                    <a:pt x="1675" y="515"/>
                  </a:lnTo>
                  <a:lnTo>
                    <a:pt x="1701" y="527"/>
                  </a:lnTo>
                  <a:lnTo>
                    <a:pt x="1727" y="542"/>
                  </a:lnTo>
                  <a:lnTo>
                    <a:pt x="1752" y="556"/>
                  </a:lnTo>
                  <a:lnTo>
                    <a:pt x="1778" y="572"/>
                  </a:lnTo>
                  <a:lnTo>
                    <a:pt x="1803" y="588"/>
                  </a:lnTo>
                  <a:lnTo>
                    <a:pt x="1827" y="604"/>
                  </a:lnTo>
                  <a:lnTo>
                    <a:pt x="1852" y="622"/>
                  </a:lnTo>
                  <a:lnTo>
                    <a:pt x="1875" y="640"/>
                  </a:lnTo>
                  <a:lnTo>
                    <a:pt x="1899" y="658"/>
                  </a:lnTo>
                  <a:lnTo>
                    <a:pt x="1923" y="677"/>
                  </a:lnTo>
                  <a:lnTo>
                    <a:pt x="1946" y="697"/>
                  </a:lnTo>
                  <a:lnTo>
                    <a:pt x="1968" y="717"/>
                  </a:lnTo>
                  <a:lnTo>
                    <a:pt x="2240" y="445"/>
                  </a:lnTo>
                  <a:lnTo>
                    <a:pt x="2240" y="445"/>
                  </a:lnTo>
                  <a:lnTo>
                    <a:pt x="2211" y="417"/>
                  </a:lnTo>
                  <a:lnTo>
                    <a:pt x="2180" y="391"/>
                  </a:lnTo>
                  <a:lnTo>
                    <a:pt x="2149" y="365"/>
                  </a:lnTo>
                  <a:lnTo>
                    <a:pt x="2119" y="341"/>
                  </a:lnTo>
                  <a:lnTo>
                    <a:pt x="2087" y="317"/>
                  </a:lnTo>
                  <a:lnTo>
                    <a:pt x="2055" y="294"/>
                  </a:lnTo>
                  <a:lnTo>
                    <a:pt x="2022" y="272"/>
                  </a:lnTo>
                  <a:lnTo>
                    <a:pt x="1989" y="251"/>
                  </a:lnTo>
                  <a:lnTo>
                    <a:pt x="1956" y="230"/>
                  </a:lnTo>
                  <a:lnTo>
                    <a:pt x="1923" y="211"/>
                  </a:lnTo>
                  <a:lnTo>
                    <a:pt x="1888" y="192"/>
                  </a:lnTo>
                  <a:lnTo>
                    <a:pt x="1854" y="174"/>
                  </a:lnTo>
                  <a:lnTo>
                    <a:pt x="1819" y="157"/>
                  </a:lnTo>
                  <a:lnTo>
                    <a:pt x="1784" y="141"/>
                  </a:lnTo>
                  <a:lnTo>
                    <a:pt x="1749" y="126"/>
                  </a:lnTo>
                  <a:lnTo>
                    <a:pt x="1713" y="111"/>
                  </a:lnTo>
                  <a:lnTo>
                    <a:pt x="1677" y="98"/>
                  </a:lnTo>
                  <a:lnTo>
                    <a:pt x="1641" y="86"/>
                  </a:lnTo>
                  <a:lnTo>
                    <a:pt x="1605" y="74"/>
                  </a:lnTo>
                  <a:lnTo>
                    <a:pt x="1569" y="62"/>
                  </a:lnTo>
                  <a:lnTo>
                    <a:pt x="1532" y="53"/>
                  </a:lnTo>
                  <a:lnTo>
                    <a:pt x="1495" y="43"/>
                  </a:lnTo>
                  <a:lnTo>
                    <a:pt x="1458" y="36"/>
                  </a:lnTo>
                  <a:lnTo>
                    <a:pt x="1421" y="29"/>
                  </a:lnTo>
                  <a:lnTo>
                    <a:pt x="1384" y="21"/>
                  </a:lnTo>
                  <a:lnTo>
                    <a:pt x="1346" y="16"/>
                  </a:lnTo>
                  <a:lnTo>
                    <a:pt x="1309" y="12"/>
                  </a:lnTo>
                  <a:lnTo>
                    <a:pt x="1270" y="7"/>
                  </a:lnTo>
                  <a:lnTo>
                    <a:pt x="1233" y="4"/>
                  </a:lnTo>
                  <a:lnTo>
                    <a:pt x="1195" y="2"/>
                  </a:lnTo>
                  <a:lnTo>
                    <a:pt x="1158" y="1"/>
                  </a:lnTo>
                  <a:lnTo>
                    <a:pt x="1120" y="0"/>
                  </a:lnTo>
                  <a:lnTo>
                    <a:pt x="1082" y="1"/>
                  </a:lnTo>
                  <a:lnTo>
                    <a:pt x="1045" y="2"/>
                  </a:lnTo>
                  <a:lnTo>
                    <a:pt x="1007" y="4"/>
                  </a:lnTo>
                  <a:lnTo>
                    <a:pt x="969" y="7"/>
                  </a:lnTo>
                  <a:lnTo>
                    <a:pt x="931" y="12"/>
                  </a:lnTo>
                  <a:lnTo>
                    <a:pt x="893" y="16"/>
                  </a:lnTo>
                  <a:lnTo>
                    <a:pt x="856" y="21"/>
                  </a:lnTo>
                  <a:lnTo>
                    <a:pt x="819" y="29"/>
                  </a:lnTo>
                  <a:lnTo>
                    <a:pt x="782" y="36"/>
                  </a:lnTo>
                  <a:lnTo>
                    <a:pt x="745" y="43"/>
                  </a:lnTo>
                  <a:lnTo>
                    <a:pt x="708" y="53"/>
                  </a:lnTo>
                  <a:lnTo>
                    <a:pt x="671" y="62"/>
                  </a:lnTo>
                  <a:lnTo>
                    <a:pt x="635" y="74"/>
                  </a:lnTo>
                  <a:lnTo>
                    <a:pt x="598" y="86"/>
                  </a:lnTo>
                  <a:lnTo>
                    <a:pt x="562" y="98"/>
                  </a:lnTo>
                  <a:lnTo>
                    <a:pt x="526" y="111"/>
                  </a:lnTo>
                  <a:lnTo>
                    <a:pt x="491" y="126"/>
                  </a:lnTo>
                  <a:lnTo>
                    <a:pt x="456" y="141"/>
                  </a:lnTo>
                  <a:lnTo>
                    <a:pt x="420" y="157"/>
                  </a:lnTo>
                  <a:lnTo>
                    <a:pt x="386" y="174"/>
                  </a:lnTo>
                  <a:lnTo>
                    <a:pt x="351" y="192"/>
                  </a:lnTo>
                  <a:lnTo>
                    <a:pt x="317" y="211"/>
                  </a:lnTo>
                  <a:lnTo>
                    <a:pt x="283" y="230"/>
                  </a:lnTo>
                  <a:lnTo>
                    <a:pt x="251" y="251"/>
                  </a:lnTo>
                  <a:lnTo>
                    <a:pt x="218" y="272"/>
                  </a:lnTo>
                  <a:lnTo>
                    <a:pt x="185" y="294"/>
                  </a:lnTo>
                  <a:lnTo>
                    <a:pt x="153" y="317"/>
                  </a:lnTo>
                  <a:lnTo>
                    <a:pt x="121" y="341"/>
                  </a:lnTo>
                  <a:lnTo>
                    <a:pt x="91" y="365"/>
                  </a:lnTo>
                  <a:lnTo>
                    <a:pt x="60" y="391"/>
                  </a:lnTo>
                  <a:lnTo>
                    <a:pt x="29" y="417"/>
                  </a:lnTo>
                  <a:lnTo>
                    <a:pt x="0" y="445"/>
                  </a:lnTo>
                  <a:lnTo>
                    <a:pt x="272" y="717"/>
                  </a:lnTo>
                  <a:close/>
                </a:path>
              </a:pathLst>
            </a:custGeom>
            <a:solidFill>
              <a:srgbClr val="ff7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02" name="Freeform 391"/>
            <p:cNvSpPr/>
            <p:nvPr/>
          </p:nvSpPr>
          <p:spPr>
            <a:xfrm>
              <a:off x="6026040" y="2155680"/>
              <a:ext cx="1137960" cy="355572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3555720"/>
                <a:gd name="textAreaBottom" fmla="*/ 3556080 h 3555720"/>
              </a:gdLst>
              <a:ahLst/>
              <a:rect l="textAreaLeft" t="textAreaTop" r="textAreaRight" b="textAreaBottom"/>
              <a:pathLst>
                <a:path w="717" h="2240">
                  <a:moveTo>
                    <a:pt x="272" y="0"/>
                  </a:moveTo>
                  <a:lnTo>
                    <a:pt x="0" y="272"/>
                  </a:lnTo>
                  <a:lnTo>
                    <a:pt x="0" y="272"/>
                  </a:lnTo>
                  <a:lnTo>
                    <a:pt x="20" y="295"/>
                  </a:lnTo>
                  <a:lnTo>
                    <a:pt x="40" y="317"/>
                  </a:lnTo>
                  <a:lnTo>
                    <a:pt x="59" y="341"/>
                  </a:lnTo>
                  <a:lnTo>
                    <a:pt x="78" y="365"/>
                  </a:lnTo>
                  <a:lnTo>
                    <a:pt x="95" y="388"/>
                  </a:lnTo>
                  <a:lnTo>
                    <a:pt x="113" y="413"/>
                  </a:lnTo>
                  <a:lnTo>
                    <a:pt x="129" y="438"/>
                  </a:lnTo>
                  <a:lnTo>
                    <a:pt x="145" y="462"/>
                  </a:lnTo>
                  <a:lnTo>
                    <a:pt x="161" y="488"/>
                  </a:lnTo>
                  <a:lnTo>
                    <a:pt x="176" y="513"/>
                  </a:lnTo>
                  <a:lnTo>
                    <a:pt x="190" y="539"/>
                  </a:lnTo>
                  <a:lnTo>
                    <a:pt x="202" y="565"/>
                  </a:lnTo>
                  <a:lnTo>
                    <a:pt x="215" y="592"/>
                  </a:lnTo>
                  <a:lnTo>
                    <a:pt x="228" y="618"/>
                  </a:lnTo>
                  <a:lnTo>
                    <a:pt x="238" y="645"/>
                  </a:lnTo>
                  <a:lnTo>
                    <a:pt x="249" y="672"/>
                  </a:lnTo>
                  <a:lnTo>
                    <a:pt x="260" y="699"/>
                  </a:lnTo>
                  <a:lnTo>
                    <a:pt x="269" y="726"/>
                  </a:lnTo>
                  <a:lnTo>
                    <a:pt x="278" y="754"/>
                  </a:lnTo>
                  <a:lnTo>
                    <a:pt x="286" y="781"/>
                  </a:lnTo>
                  <a:lnTo>
                    <a:pt x="293" y="809"/>
                  </a:lnTo>
                  <a:lnTo>
                    <a:pt x="300" y="836"/>
                  </a:lnTo>
                  <a:lnTo>
                    <a:pt x="306" y="865"/>
                  </a:lnTo>
                  <a:lnTo>
                    <a:pt x="311" y="893"/>
                  </a:lnTo>
                  <a:lnTo>
                    <a:pt x="317" y="921"/>
                  </a:lnTo>
                  <a:lnTo>
                    <a:pt x="321" y="949"/>
                  </a:lnTo>
                  <a:lnTo>
                    <a:pt x="324" y="978"/>
                  </a:lnTo>
                  <a:lnTo>
                    <a:pt x="327" y="1007"/>
                  </a:lnTo>
                  <a:lnTo>
                    <a:pt x="329" y="1034"/>
                  </a:lnTo>
                  <a:lnTo>
                    <a:pt x="332" y="1063"/>
                  </a:lnTo>
                  <a:lnTo>
                    <a:pt x="333" y="1091"/>
                  </a:lnTo>
                  <a:lnTo>
                    <a:pt x="333" y="1120"/>
                  </a:lnTo>
                  <a:lnTo>
                    <a:pt x="333" y="1149"/>
                  </a:lnTo>
                  <a:lnTo>
                    <a:pt x="332" y="1177"/>
                  </a:lnTo>
                  <a:lnTo>
                    <a:pt x="329" y="1206"/>
                  </a:lnTo>
                  <a:lnTo>
                    <a:pt x="327" y="1234"/>
                  </a:lnTo>
                  <a:lnTo>
                    <a:pt x="324" y="1263"/>
                  </a:lnTo>
                  <a:lnTo>
                    <a:pt x="321" y="1292"/>
                  </a:lnTo>
                  <a:lnTo>
                    <a:pt x="317" y="1319"/>
                  </a:lnTo>
                  <a:lnTo>
                    <a:pt x="311" y="1348"/>
                  </a:lnTo>
                  <a:lnTo>
                    <a:pt x="306" y="1376"/>
                  </a:lnTo>
                  <a:lnTo>
                    <a:pt x="300" y="1404"/>
                  </a:lnTo>
                  <a:lnTo>
                    <a:pt x="293" y="1431"/>
                  </a:lnTo>
                  <a:lnTo>
                    <a:pt x="286" y="1460"/>
                  </a:lnTo>
                  <a:lnTo>
                    <a:pt x="278" y="1487"/>
                  </a:lnTo>
                  <a:lnTo>
                    <a:pt x="269" y="1515"/>
                  </a:lnTo>
                  <a:lnTo>
                    <a:pt x="260" y="1541"/>
                  </a:lnTo>
                  <a:lnTo>
                    <a:pt x="249" y="1569"/>
                  </a:lnTo>
                  <a:lnTo>
                    <a:pt x="238" y="1597"/>
                  </a:lnTo>
                  <a:lnTo>
                    <a:pt x="228" y="1623"/>
                  </a:lnTo>
                  <a:lnTo>
                    <a:pt x="215" y="1650"/>
                  </a:lnTo>
                  <a:lnTo>
                    <a:pt x="202" y="1676"/>
                  </a:lnTo>
                  <a:lnTo>
                    <a:pt x="190" y="1701"/>
                  </a:lnTo>
                  <a:lnTo>
                    <a:pt x="176" y="1728"/>
                  </a:lnTo>
                  <a:lnTo>
                    <a:pt x="161" y="1753"/>
                  </a:lnTo>
                  <a:lnTo>
                    <a:pt x="145" y="1778"/>
                  </a:lnTo>
                  <a:lnTo>
                    <a:pt x="129" y="1803"/>
                  </a:lnTo>
                  <a:lnTo>
                    <a:pt x="113" y="1827"/>
                  </a:lnTo>
                  <a:lnTo>
                    <a:pt x="95" y="1852"/>
                  </a:lnTo>
                  <a:lnTo>
                    <a:pt x="78" y="1876"/>
                  </a:lnTo>
                  <a:lnTo>
                    <a:pt x="59" y="1899"/>
                  </a:lnTo>
                  <a:lnTo>
                    <a:pt x="40" y="1923"/>
                  </a:lnTo>
                  <a:lnTo>
                    <a:pt x="20" y="1946"/>
                  </a:lnTo>
                  <a:lnTo>
                    <a:pt x="0" y="1968"/>
                  </a:lnTo>
                  <a:lnTo>
                    <a:pt x="272" y="2240"/>
                  </a:lnTo>
                  <a:lnTo>
                    <a:pt x="272" y="2240"/>
                  </a:lnTo>
                  <a:lnTo>
                    <a:pt x="300" y="2211"/>
                  </a:lnTo>
                  <a:lnTo>
                    <a:pt x="326" y="2181"/>
                  </a:lnTo>
                  <a:lnTo>
                    <a:pt x="352" y="2150"/>
                  </a:lnTo>
                  <a:lnTo>
                    <a:pt x="376" y="2119"/>
                  </a:lnTo>
                  <a:lnTo>
                    <a:pt x="400" y="2087"/>
                  </a:lnTo>
                  <a:lnTo>
                    <a:pt x="424" y="2055"/>
                  </a:lnTo>
                  <a:lnTo>
                    <a:pt x="445" y="2022"/>
                  </a:lnTo>
                  <a:lnTo>
                    <a:pt x="467" y="1989"/>
                  </a:lnTo>
                  <a:lnTo>
                    <a:pt x="487" y="1957"/>
                  </a:lnTo>
                  <a:lnTo>
                    <a:pt x="506" y="1923"/>
                  </a:lnTo>
                  <a:lnTo>
                    <a:pt x="525" y="1889"/>
                  </a:lnTo>
                  <a:lnTo>
                    <a:pt x="543" y="1854"/>
                  </a:lnTo>
                  <a:lnTo>
                    <a:pt x="560" y="1820"/>
                  </a:lnTo>
                  <a:lnTo>
                    <a:pt x="576" y="1785"/>
                  </a:lnTo>
                  <a:lnTo>
                    <a:pt x="591" y="1749"/>
                  </a:lnTo>
                  <a:lnTo>
                    <a:pt x="606" y="1714"/>
                  </a:lnTo>
                  <a:lnTo>
                    <a:pt x="620" y="1678"/>
                  </a:lnTo>
                  <a:lnTo>
                    <a:pt x="631" y="1642"/>
                  </a:lnTo>
                  <a:lnTo>
                    <a:pt x="644" y="1606"/>
                  </a:lnTo>
                  <a:lnTo>
                    <a:pt x="655" y="1569"/>
                  </a:lnTo>
                  <a:lnTo>
                    <a:pt x="664" y="1532"/>
                  </a:lnTo>
                  <a:lnTo>
                    <a:pt x="674" y="1496"/>
                  </a:lnTo>
                  <a:lnTo>
                    <a:pt x="682" y="1459"/>
                  </a:lnTo>
                  <a:lnTo>
                    <a:pt x="689" y="1421"/>
                  </a:lnTo>
                  <a:lnTo>
                    <a:pt x="696" y="1384"/>
                  </a:lnTo>
                  <a:lnTo>
                    <a:pt x="701" y="1347"/>
                  </a:lnTo>
                  <a:lnTo>
                    <a:pt x="706" y="1309"/>
                  </a:lnTo>
                  <a:lnTo>
                    <a:pt x="710" y="1271"/>
                  </a:lnTo>
                  <a:lnTo>
                    <a:pt x="713" y="1233"/>
                  </a:lnTo>
                  <a:lnTo>
                    <a:pt x="715" y="1196"/>
                  </a:lnTo>
                  <a:lnTo>
                    <a:pt x="716" y="1158"/>
                  </a:lnTo>
                  <a:lnTo>
                    <a:pt x="717" y="1120"/>
                  </a:lnTo>
                  <a:lnTo>
                    <a:pt x="716" y="1083"/>
                  </a:lnTo>
                  <a:lnTo>
                    <a:pt x="715" y="1045"/>
                  </a:lnTo>
                  <a:lnTo>
                    <a:pt x="713" y="1007"/>
                  </a:lnTo>
                  <a:lnTo>
                    <a:pt x="710" y="970"/>
                  </a:lnTo>
                  <a:lnTo>
                    <a:pt x="706" y="931"/>
                  </a:lnTo>
                  <a:lnTo>
                    <a:pt x="701" y="894"/>
                  </a:lnTo>
                  <a:lnTo>
                    <a:pt x="696" y="856"/>
                  </a:lnTo>
                  <a:lnTo>
                    <a:pt x="689" y="819"/>
                  </a:lnTo>
                  <a:lnTo>
                    <a:pt x="682" y="782"/>
                  </a:lnTo>
                  <a:lnTo>
                    <a:pt x="674" y="745"/>
                  </a:lnTo>
                  <a:lnTo>
                    <a:pt x="664" y="708"/>
                  </a:lnTo>
                  <a:lnTo>
                    <a:pt x="655" y="672"/>
                  </a:lnTo>
                  <a:lnTo>
                    <a:pt x="644" y="635"/>
                  </a:lnTo>
                  <a:lnTo>
                    <a:pt x="631" y="599"/>
                  </a:lnTo>
                  <a:lnTo>
                    <a:pt x="620" y="563"/>
                  </a:lnTo>
                  <a:lnTo>
                    <a:pt x="606" y="527"/>
                  </a:lnTo>
                  <a:lnTo>
                    <a:pt x="591" y="491"/>
                  </a:lnTo>
                  <a:lnTo>
                    <a:pt x="576" y="456"/>
                  </a:lnTo>
                  <a:lnTo>
                    <a:pt x="560" y="421"/>
                  </a:lnTo>
                  <a:lnTo>
                    <a:pt x="543" y="386"/>
                  </a:lnTo>
                  <a:lnTo>
                    <a:pt x="525" y="352"/>
                  </a:lnTo>
                  <a:lnTo>
                    <a:pt x="506" y="318"/>
                  </a:lnTo>
                  <a:lnTo>
                    <a:pt x="487" y="284"/>
                  </a:lnTo>
                  <a:lnTo>
                    <a:pt x="467" y="251"/>
                  </a:lnTo>
                  <a:lnTo>
                    <a:pt x="445" y="218"/>
                  </a:lnTo>
                  <a:lnTo>
                    <a:pt x="424" y="186"/>
                  </a:lnTo>
                  <a:lnTo>
                    <a:pt x="400" y="153"/>
                  </a:lnTo>
                  <a:lnTo>
                    <a:pt x="376" y="121"/>
                  </a:lnTo>
                  <a:lnTo>
                    <a:pt x="352" y="91"/>
                  </a:lnTo>
                  <a:lnTo>
                    <a:pt x="326" y="60"/>
                  </a:lnTo>
                  <a:lnTo>
                    <a:pt x="300" y="30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a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03" name="Freeform 392"/>
            <p:cNvSpPr/>
            <p:nvPr/>
          </p:nvSpPr>
          <p:spPr>
            <a:xfrm>
              <a:off x="2793960" y="5389560"/>
              <a:ext cx="3555720" cy="1136160"/>
            </a:xfrm>
            <a:custGeom>
              <a:avLst/>
              <a:gdLst>
                <a:gd name="textAreaLeft" fmla="*/ 0 w 3555720"/>
                <a:gd name="textAreaRight" fmla="*/ 3556080 w 355572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2240" h="716">
                  <a:moveTo>
                    <a:pt x="1968" y="0"/>
                  </a:moveTo>
                  <a:lnTo>
                    <a:pt x="1968" y="0"/>
                  </a:lnTo>
                  <a:lnTo>
                    <a:pt x="1946" y="20"/>
                  </a:lnTo>
                  <a:lnTo>
                    <a:pt x="1923" y="40"/>
                  </a:lnTo>
                  <a:lnTo>
                    <a:pt x="1899" y="59"/>
                  </a:lnTo>
                  <a:lnTo>
                    <a:pt x="1875" y="77"/>
                  </a:lnTo>
                  <a:lnTo>
                    <a:pt x="1852" y="95"/>
                  </a:lnTo>
                  <a:lnTo>
                    <a:pt x="1827" y="112"/>
                  </a:lnTo>
                  <a:lnTo>
                    <a:pt x="1803" y="129"/>
                  </a:lnTo>
                  <a:lnTo>
                    <a:pt x="1778" y="145"/>
                  </a:lnTo>
                  <a:lnTo>
                    <a:pt x="1752" y="160"/>
                  </a:lnTo>
                  <a:lnTo>
                    <a:pt x="1727" y="175"/>
                  </a:lnTo>
                  <a:lnTo>
                    <a:pt x="1701" y="189"/>
                  </a:lnTo>
                  <a:lnTo>
                    <a:pt x="1675" y="202"/>
                  </a:lnTo>
                  <a:lnTo>
                    <a:pt x="1648" y="215"/>
                  </a:lnTo>
                  <a:lnTo>
                    <a:pt x="1622" y="227"/>
                  </a:lnTo>
                  <a:lnTo>
                    <a:pt x="1595" y="238"/>
                  </a:lnTo>
                  <a:lnTo>
                    <a:pt x="1569" y="249"/>
                  </a:lnTo>
                  <a:lnTo>
                    <a:pt x="1541" y="259"/>
                  </a:lnTo>
                  <a:lnTo>
                    <a:pt x="1514" y="268"/>
                  </a:lnTo>
                  <a:lnTo>
                    <a:pt x="1486" y="278"/>
                  </a:lnTo>
                  <a:lnTo>
                    <a:pt x="1459" y="285"/>
                  </a:lnTo>
                  <a:lnTo>
                    <a:pt x="1431" y="292"/>
                  </a:lnTo>
                  <a:lnTo>
                    <a:pt x="1404" y="300"/>
                  </a:lnTo>
                  <a:lnTo>
                    <a:pt x="1375" y="306"/>
                  </a:lnTo>
                  <a:lnTo>
                    <a:pt x="1348" y="311"/>
                  </a:lnTo>
                  <a:lnTo>
                    <a:pt x="1319" y="316"/>
                  </a:lnTo>
                  <a:lnTo>
                    <a:pt x="1291" y="320"/>
                  </a:lnTo>
                  <a:lnTo>
                    <a:pt x="1262" y="324"/>
                  </a:lnTo>
                  <a:lnTo>
                    <a:pt x="1234" y="327"/>
                  </a:lnTo>
                  <a:lnTo>
                    <a:pt x="1206" y="329"/>
                  </a:lnTo>
                  <a:lnTo>
                    <a:pt x="1177" y="331"/>
                  </a:lnTo>
                  <a:lnTo>
                    <a:pt x="1149" y="332"/>
                  </a:lnTo>
                  <a:lnTo>
                    <a:pt x="1120" y="332"/>
                  </a:lnTo>
                  <a:lnTo>
                    <a:pt x="1091" y="332"/>
                  </a:lnTo>
                  <a:lnTo>
                    <a:pt x="1063" y="331"/>
                  </a:lnTo>
                  <a:lnTo>
                    <a:pt x="1034" y="329"/>
                  </a:lnTo>
                  <a:lnTo>
                    <a:pt x="1006" y="327"/>
                  </a:lnTo>
                  <a:lnTo>
                    <a:pt x="977" y="324"/>
                  </a:lnTo>
                  <a:lnTo>
                    <a:pt x="948" y="320"/>
                  </a:lnTo>
                  <a:lnTo>
                    <a:pt x="921" y="316"/>
                  </a:lnTo>
                  <a:lnTo>
                    <a:pt x="892" y="311"/>
                  </a:lnTo>
                  <a:lnTo>
                    <a:pt x="864" y="306"/>
                  </a:lnTo>
                  <a:lnTo>
                    <a:pt x="836" y="300"/>
                  </a:lnTo>
                  <a:lnTo>
                    <a:pt x="809" y="292"/>
                  </a:lnTo>
                  <a:lnTo>
                    <a:pt x="780" y="285"/>
                  </a:lnTo>
                  <a:lnTo>
                    <a:pt x="753" y="278"/>
                  </a:lnTo>
                  <a:lnTo>
                    <a:pt x="725" y="268"/>
                  </a:lnTo>
                  <a:lnTo>
                    <a:pt x="699" y="259"/>
                  </a:lnTo>
                  <a:lnTo>
                    <a:pt x="671" y="249"/>
                  </a:lnTo>
                  <a:lnTo>
                    <a:pt x="645" y="238"/>
                  </a:lnTo>
                  <a:lnTo>
                    <a:pt x="617" y="227"/>
                  </a:lnTo>
                  <a:lnTo>
                    <a:pt x="590" y="215"/>
                  </a:lnTo>
                  <a:lnTo>
                    <a:pt x="565" y="202"/>
                  </a:lnTo>
                  <a:lnTo>
                    <a:pt x="539" y="189"/>
                  </a:lnTo>
                  <a:lnTo>
                    <a:pt x="513" y="175"/>
                  </a:lnTo>
                  <a:lnTo>
                    <a:pt x="488" y="160"/>
                  </a:lnTo>
                  <a:lnTo>
                    <a:pt x="462" y="145"/>
                  </a:lnTo>
                  <a:lnTo>
                    <a:pt x="437" y="129"/>
                  </a:lnTo>
                  <a:lnTo>
                    <a:pt x="413" y="112"/>
                  </a:lnTo>
                  <a:lnTo>
                    <a:pt x="388" y="95"/>
                  </a:lnTo>
                  <a:lnTo>
                    <a:pt x="364" y="77"/>
                  </a:lnTo>
                  <a:lnTo>
                    <a:pt x="341" y="59"/>
                  </a:lnTo>
                  <a:lnTo>
                    <a:pt x="317" y="40"/>
                  </a:lnTo>
                  <a:lnTo>
                    <a:pt x="294" y="20"/>
                  </a:lnTo>
                  <a:lnTo>
                    <a:pt x="272" y="0"/>
                  </a:lnTo>
                  <a:lnTo>
                    <a:pt x="0" y="271"/>
                  </a:lnTo>
                  <a:lnTo>
                    <a:pt x="0" y="271"/>
                  </a:lnTo>
                  <a:lnTo>
                    <a:pt x="29" y="299"/>
                  </a:lnTo>
                  <a:lnTo>
                    <a:pt x="60" y="325"/>
                  </a:lnTo>
                  <a:lnTo>
                    <a:pt x="91" y="351"/>
                  </a:lnTo>
                  <a:lnTo>
                    <a:pt x="121" y="376"/>
                  </a:lnTo>
                  <a:lnTo>
                    <a:pt x="153" y="399"/>
                  </a:lnTo>
                  <a:lnTo>
                    <a:pt x="185" y="423"/>
                  </a:lnTo>
                  <a:lnTo>
                    <a:pt x="218" y="445"/>
                  </a:lnTo>
                  <a:lnTo>
                    <a:pt x="251" y="466"/>
                  </a:lnTo>
                  <a:lnTo>
                    <a:pt x="283" y="486"/>
                  </a:lnTo>
                  <a:lnTo>
                    <a:pt x="317" y="506"/>
                  </a:lnTo>
                  <a:lnTo>
                    <a:pt x="351" y="524"/>
                  </a:lnTo>
                  <a:lnTo>
                    <a:pt x="386" y="542"/>
                  </a:lnTo>
                  <a:lnTo>
                    <a:pt x="420" y="559"/>
                  </a:lnTo>
                  <a:lnTo>
                    <a:pt x="456" y="575"/>
                  </a:lnTo>
                  <a:lnTo>
                    <a:pt x="491" y="591"/>
                  </a:lnTo>
                  <a:lnTo>
                    <a:pt x="526" y="605"/>
                  </a:lnTo>
                  <a:lnTo>
                    <a:pt x="562" y="619"/>
                  </a:lnTo>
                  <a:lnTo>
                    <a:pt x="598" y="631"/>
                  </a:lnTo>
                  <a:lnTo>
                    <a:pt x="635" y="643"/>
                  </a:lnTo>
                  <a:lnTo>
                    <a:pt x="671" y="654"/>
                  </a:lnTo>
                  <a:lnTo>
                    <a:pt x="708" y="664"/>
                  </a:lnTo>
                  <a:lnTo>
                    <a:pt x="745" y="673"/>
                  </a:lnTo>
                  <a:lnTo>
                    <a:pt x="782" y="681"/>
                  </a:lnTo>
                  <a:lnTo>
                    <a:pt x="819" y="688"/>
                  </a:lnTo>
                  <a:lnTo>
                    <a:pt x="856" y="695"/>
                  </a:lnTo>
                  <a:lnTo>
                    <a:pt x="893" y="701"/>
                  </a:lnTo>
                  <a:lnTo>
                    <a:pt x="931" y="705"/>
                  </a:lnTo>
                  <a:lnTo>
                    <a:pt x="969" y="710"/>
                  </a:lnTo>
                  <a:lnTo>
                    <a:pt x="1007" y="713"/>
                  </a:lnTo>
                  <a:lnTo>
                    <a:pt x="1045" y="715"/>
                  </a:lnTo>
                  <a:lnTo>
                    <a:pt x="1082" y="716"/>
                  </a:lnTo>
                  <a:lnTo>
                    <a:pt x="1120" y="716"/>
                  </a:lnTo>
                  <a:lnTo>
                    <a:pt x="1158" y="716"/>
                  </a:lnTo>
                  <a:lnTo>
                    <a:pt x="1195" y="715"/>
                  </a:lnTo>
                  <a:lnTo>
                    <a:pt x="1233" y="713"/>
                  </a:lnTo>
                  <a:lnTo>
                    <a:pt x="1270" y="710"/>
                  </a:lnTo>
                  <a:lnTo>
                    <a:pt x="1309" y="705"/>
                  </a:lnTo>
                  <a:lnTo>
                    <a:pt x="1346" y="701"/>
                  </a:lnTo>
                  <a:lnTo>
                    <a:pt x="1384" y="695"/>
                  </a:lnTo>
                  <a:lnTo>
                    <a:pt x="1421" y="688"/>
                  </a:lnTo>
                  <a:lnTo>
                    <a:pt x="1458" y="681"/>
                  </a:lnTo>
                  <a:lnTo>
                    <a:pt x="1495" y="673"/>
                  </a:lnTo>
                  <a:lnTo>
                    <a:pt x="1532" y="664"/>
                  </a:lnTo>
                  <a:lnTo>
                    <a:pt x="1569" y="654"/>
                  </a:lnTo>
                  <a:lnTo>
                    <a:pt x="1605" y="643"/>
                  </a:lnTo>
                  <a:lnTo>
                    <a:pt x="1641" y="631"/>
                  </a:lnTo>
                  <a:lnTo>
                    <a:pt x="1677" y="619"/>
                  </a:lnTo>
                  <a:lnTo>
                    <a:pt x="1713" y="605"/>
                  </a:lnTo>
                  <a:lnTo>
                    <a:pt x="1749" y="591"/>
                  </a:lnTo>
                  <a:lnTo>
                    <a:pt x="1784" y="575"/>
                  </a:lnTo>
                  <a:lnTo>
                    <a:pt x="1819" y="559"/>
                  </a:lnTo>
                  <a:lnTo>
                    <a:pt x="1854" y="542"/>
                  </a:lnTo>
                  <a:lnTo>
                    <a:pt x="1888" y="524"/>
                  </a:lnTo>
                  <a:lnTo>
                    <a:pt x="1923" y="506"/>
                  </a:lnTo>
                  <a:lnTo>
                    <a:pt x="1956" y="486"/>
                  </a:lnTo>
                  <a:lnTo>
                    <a:pt x="1989" y="466"/>
                  </a:lnTo>
                  <a:lnTo>
                    <a:pt x="2022" y="445"/>
                  </a:lnTo>
                  <a:lnTo>
                    <a:pt x="2055" y="423"/>
                  </a:lnTo>
                  <a:lnTo>
                    <a:pt x="2087" y="399"/>
                  </a:lnTo>
                  <a:lnTo>
                    <a:pt x="2119" y="376"/>
                  </a:lnTo>
                  <a:lnTo>
                    <a:pt x="2149" y="351"/>
                  </a:lnTo>
                  <a:lnTo>
                    <a:pt x="2180" y="325"/>
                  </a:lnTo>
                  <a:lnTo>
                    <a:pt x="2211" y="299"/>
                  </a:lnTo>
                  <a:lnTo>
                    <a:pt x="2240" y="271"/>
                  </a:lnTo>
                  <a:lnTo>
                    <a:pt x="1968" y="0"/>
                  </a:lnTo>
                  <a:close/>
                </a:path>
              </a:pathLst>
            </a:custGeom>
            <a:solidFill>
              <a:srgbClr val="ffc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04" name="WordArt 393"/>
            <p:cNvSpPr txBox="1"/>
            <p:nvPr/>
          </p:nvSpPr>
          <p:spPr>
            <a:xfrm rot="2800200">
              <a:off x="4475160" y="2757240"/>
              <a:ext cx="1655280" cy="84096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87470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WordArt 394"/>
            <p:cNvSpPr txBox="1"/>
            <p:nvPr/>
          </p:nvSpPr>
          <p:spPr>
            <a:xfrm rot="18989400">
              <a:off x="2987280" y="2781360"/>
              <a:ext cx="1655280" cy="84096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87470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WordArt 395"/>
            <p:cNvSpPr txBox="1"/>
            <p:nvPr/>
          </p:nvSpPr>
          <p:spPr>
            <a:xfrm rot="13599600">
              <a:off x="3035520" y="4269240"/>
              <a:ext cx="1655280" cy="84096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87470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WordArt 396"/>
            <p:cNvSpPr txBox="1"/>
            <p:nvPr/>
          </p:nvSpPr>
          <p:spPr>
            <a:xfrm rot="8189400">
              <a:off x="4499280" y="4245120"/>
              <a:ext cx="1655280" cy="84096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87470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8" name="Group 397"/>
            <p:cNvGrpSpPr/>
            <p:nvPr/>
          </p:nvGrpSpPr>
          <p:grpSpPr>
            <a:xfrm>
              <a:off x="3635280" y="1701720"/>
              <a:ext cx="1873440" cy="4464000"/>
              <a:chOff x="3635280" y="1701720"/>
              <a:chExt cx="1873440" cy="4464000"/>
            </a:xfrm>
          </p:grpSpPr>
          <p:sp>
            <p:nvSpPr>
              <p:cNvPr id="809" name="WordArt 398"/>
              <p:cNvSpPr txBox="1"/>
              <p:nvPr/>
            </p:nvSpPr>
            <p:spPr>
              <a:xfrm>
                <a:off x="3635280" y="1701720"/>
                <a:ext cx="1872720" cy="624960"/>
              </a:xfrm>
              <a:prstGeom prst="rect">
                <a:avLst/>
              </a:prstGeom>
            </p:spPr>
            <p:txBody>
              <a:bodyPr wrap="none" fromWordArt="1" lIns="90000" rIns="90000" tIns="45000" bIns="45000" anchor="b" anchorCtr="1">
                <a:prstTxWarp prst="textArchUp">
                  <a:avLst>
                    <a:gd name="adj" fmla="val 11519428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WordArt 399"/>
              <p:cNvSpPr txBox="1"/>
              <p:nvPr/>
            </p:nvSpPr>
            <p:spPr>
              <a:xfrm rot="10800000">
                <a:off x="3636000" y="5540760"/>
                <a:ext cx="1872720" cy="624960"/>
              </a:xfrm>
              <a:prstGeom prst="rect">
                <a:avLst/>
              </a:prstGeom>
            </p:spPr>
            <p:txBody>
              <a:bodyPr wrap="none" fromWordArt="1" lIns="90000" rIns="90000" tIns="45000" bIns="45000" anchor="b" anchorCtr="1">
                <a:prstTxWarp prst="textArchUp">
                  <a:avLst>
                    <a:gd name="adj" fmla="val 11519428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1" name="WordArt 400"/>
            <p:cNvSpPr txBox="1"/>
            <p:nvPr/>
          </p:nvSpPr>
          <p:spPr>
            <a:xfrm rot="5400000">
              <a:off x="5555160" y="3621240"/>
              <a:ext cx="1872720" cy="62496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51942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WordArt 401"/>
            <p:cNvSpPr txBox="1"/>
            <p:nvPr/>
          </p:nvSpPr>
          <p:spPr>
            <a:xfrm rot="16200000">
              <a:off x="1716120" y="3621600"/>
              <a:ext cx="1872720" cy="62496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51942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Arc 402"/>
            <p:cNvSpPr/>
            <p:nvPr/>
          </p:nvSpPr>
          <p:spPr>
            <a:xfrm rot="18900000">
              <a:off x="4356000" y="2205360"/>
              <a:ext cx="429840" cy="42984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63500">
              <a:solidFill>
                <a:srgbClr val="ffffff"/>
              </a:solidFill>
              <a:round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Arc 403"/>
            <p:cNvSpPr/>
            <p:nvPr/>
          </p:nvSpPr>
          <p:spPr>
            <a:xfrm rot="13500000">
              <a:off x="2843280" y="3718080"/>
              <a:ext cx="429840" cy="42984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63500">
              <a:solidFill>
                <a:srgbClr val="ffffff"/>
              </a:solidFill>
              <a:round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Arc 404"/>
            <p:cNvSpPr/>
            <p:nvPr/>
          </p:nvSpPr>
          <p:spPr>
            <a:xfrm rot="8100000">
              <a:off x="4356360" y="5229360"/>
              <a:ext cx="429840" cy="42984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63500">
              <a:solidFill>
                <a:srgbClr val="ffffff"/>
              </a:solidFill>
              <a:round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Arc 405"/>
            <p:cNvSpPr/>
            <p:nvPr/>
          </p:nvSpPr>
          <p:spPr>
            <a:xfrm rot="2700000">
              <a:off x="5870880" y="3717720"/>
              <a:ext cx="429840" cy="42984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63500">
              <a:solidFill>
                <a:srgbClr val="ffffff"/>
              </a:solidFill>
              <a:round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Arc 406"/>
            <p:cNvSpPr/>
            <p:nvPr/>
          </p:nvSpPr>
          <p:spPr>
            <a:xfrm rot="18900000">
              <a:off x="2050560" y="1629000"/>
              <a:ext cx="860040" cy="445680"/>
            </a:xfrm>
            <a:custGeom>
              <a:avLst/>
              <a:gdLst>
                <a:gd name="textAreaLeft" fmla="*/ 0 w 860040"/>
                <a:gd name="textAreaRight" fmla="*/ 860400 w 860040"/>
                <a:gd name="textAreaTop" fmla="*/ 0 h 445680"/>
                <a:gd name="textAreaBottom" fmla="*/ 446040 h 445680"/>
              </a:gdLst>
              <a:ahLst/>
              <a:rect l="textAreaLeft" t="textAreaTop" r="textAreaRight" b="textAreaBottom"/>
              <a:pathLst>
                <a:path fill="none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38100">
              <a:solidFill>
                <a:srgbClr val="ffffff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Arc 407"/>
            <p:cNvSpPr/>
            <p:nvPr/>
          </p:nvSpPr>
          <p:spPr>
            <a:xfrm rot="2700000">
              <a:off x="6224760" y="1618920"/>
              <a:ext cx="860040" cy="445680"/>
            </a:xfrm>
            <a:custGeom>
              <a:avLst/>
              <a:gdLst>
                <a:gd name="textAreaLeft" fmla="*/ 0 w 860040"/>
                <a:gd name="textAreaRight" fmla="*/ 860400 w 860040"/>
                <a:gd name="textAreaTop" fmla="*/ 0 h 445680"/>
                <a:gd name="textAreaBottom" fmla="*/ 446040 h 445680"/>
              </a:gdLst>
              <a:ahLst/>
              <a:rect l="textAreaLeft" t="textAreaTop" r="textAreaRight" b="textAreaBottom"/>
              <a:pathLst>
                <a:path fill="none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38100">
              <a:solidFill>
                <a:srgbClr val="ffffff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Arc 408"/>
            <p:cNvSpPr/>
            <p:nvPr/>
          </p:nvSpPr>
          <p:spPr>
            <a:xfrm rot="8100000">
              <a:off x="6228000" y="5805360"/>
              <a:ext cx="860040" cy="445680"/>
            </a:xfrm>
            <a:custGeom>
              <a:avLst/>
              <a:gdLst>
                <a:gd name="textAreaLeft" fmla="*/ 0 w 860040"/>
                <a:gd name="textAreaRight" fmla="*/ 860400 w 860040"/>
                <a:gd name="textAreaTop" fmla="*/ 0 h 445680"/>
                <a:gd name="textAreaBottom" fmla="*/ 446040 h 445680"/>
              </a:gdLst>
              <a:ahLst/>
              <a:rect l="textAreaLeft" t="textAreaTop" r="textAreaRight" b="textAreaBottom"/>
              <a:pathLst>
                <a:path fill="none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38100">
              <a:solidFill>
                <a:srgbClr val="ffffff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rc 409"/>
            <p:cNvSpPr/>
            <p:nvPr/>
          </p:nvSpPr>
          <p:spPr>
            <a:xfrm rot="13500000">
              <a:off x="2062080" y="5799240"/>
              <a:ext cx="860040" cy="445680"/>
            </a:xfrm>
            <a:custGeom>
              <a:avLst/>
              <a:gdLst>
                <a:gd name="textAreaLeft" fmla="*/ 0 w 860040"/>
                <a:gd name="textAreaRight" fmla="*/ 860400 w 860040"/>
                <a:gd name="textAreaTop" fmla="*/ 0 h 445680"/>
                <a:gd name="textAreaBottom" fmla="*/ 446040 h 445680"/>
              </a:gdLst>
              <a:ahLst/>
              <a:rect l="textAreaLeft" t="textAreaTop" r="textAreaRight" b="textAreaBottom"/>
              <a:pathLst>
                <a:path fill="none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38100">
              <a:solidFill>
                <a:srgbClr val="ffffff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2" name="Group 341"/>
          <p:cNvGrpSpPr/>
          <p:nvPr/>
        </p:nvGrpSpPr>
        <p:grpSpPr>
          <a:xfrm>
            <a:off x="1692360" y="1195560"/>
            <a:ext cx="5974920" cy="5257440"/>
            <a:chOff x="1692360" y="1195560"/>
            <a:chExt cx="5974920" cy="5257440"/>
          </a:xfrm>
        </p:grpSpPr>
        <p:sp>
          <p:nvSpPr>
            <p:cNvPr id="823" name="Oval 342"/>
            <p:cNvSpPr/>
            <p:nvPr/>
          </p:nvSpPr>
          <p:spPr>
            <a:xfrm>
              <a:off x="2700360" y="2421000"/>
              <a:ext cx="3742920" cy="3742920"/>
            </a:xfrm>
            <a:prstGeom prst="ellipse">
              <a:avLst/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Oval 343"/>
            <p:cNvSpPr/>
            <p:nvPr/>
          </p:nvSpPr>
          <p:spPr>
            <a:xfrm>
              <a:off x="3346560" y="1195560"/>
              <a:ext cx="2449080" cy="24490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25" name="Oval 344"/>
            <p:cNvSpPr/>
            <p:nvPr/>
          </p:nvSpPr>
          <p:spPr>
            <a:xfrm>
              <a:off x="1692360" y="4005360"/>
              <a:ext cx="2447640" cy="2447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26" name="Oval 345"/>
            <p:cNvSpPr/>
            <p:nvPr/>
          </p:nvSpPr>
          <p:spPr>
            <a:xfrm>
              <a:off x="5003640" y="4003560"/>
              <a:ext cx="2447640" cy="2447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27" name="Oval 346"/>
            <p:cNvSpPr/>
            <p:nvPr/>
          </p:nvSpPr>
          <p:spPr>
            <a:xfrm>
              <a:off x="3852720" y="17002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440c00"/>
                </a:gs>
                <a:gs pos="100000">
                  <a:srgbClr val="931b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28" name="Oval 347"/>
            <p:cNvSpPr/>
            <p:nvPr/>
          </p:nvSpPr>
          <p:spPr>
            <a:xfrm>
              <a:off x="2197080" y="450864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761600"/>
                </a:gs>
                <a:gs pos="100000">
                  <a:srgbClr val="ff3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29" name="Oval 348"/>
            <p:cNvSpPr/>
            <p:nvPr/>
          </p:nvSpPr>
          <p:spPr>
            <a:xfrm>
              <a:off x="5506920" y="450864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763700"/>
                </a:gs>
                <a:gs pos="100000">
                  <a:srgbClr val="ff7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30" name="WordArt 349"/>
            <p:cNvSpPr txBox="1"/>
            <p:nvPr/>
          </p:nvSpPr>
          <p:spPr>
            <a:xfrm>
              <a:off x="3635280" y="1484280"/>
              <a:ext cx="1872720" cy="201564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3893652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</a:endParaRPr>
            </a:p>
          </p:txBody>
        </p:sp>
        <p:sp>
          <p:nvSpPr>
            <p:cNvPr id="831" name="WordArt 350"/>
            <p:cNvSpPr txBox="1"/>
            <p:nvPr/>
          </p:nvSpPr>
          <p:spPr>
            <a:xfrm>
              <a:off x="1981080" y="4292640"/>
              <a:ext cx="1872720" cy="201564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3893652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</a:endParaRPr>
            </a:p>
          </p:txBody>
        </p:sp>
        <p:sp>
          <p:nvSpPr>
            <p:cNvPr id="832" name="WordArt 351"/>
            <p:cNvSpPr txBox="1"/>
            <p:nvPr/>
          </p:nvSpPr>
          <p:spPr>
            <a:xfrm>
              <a:off x="5291280" y="4290840"/>
              <a:ext cx="1872720" cy="201564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3893652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</a:endParaRPr>
            </a:p>
          </p:txBody>
        </p:sp>
        <p:grpSp>
          <p:nvGrpSpPr>
            <p:cNvPr id="833" name="Group 352"/>
            <p:cNvGrpSpPr/>
            <p:nvPr/>
          </p:nvGrpSpPr>
          <p:grpSpPr>
            <a:xfrm>
              <a:off x="5722920" y="5083200"/>
              <a:ext cx="1007640" cy="360000"/>
              <a:chOff x="5722920" y="5083200"/>
              <a:chExt cx="1007640" cy="360000"/>
            </a:xfrm>
          </p:grpSpPr>
          <p:sp>
            <p:nvSpPr>
              <p:cNvPr id="834" name="WordArt 353"/>
              <p:cNvSpPr txBox="1"/>
              <p:nvPr/>
            </p:nvSpPr>
            <p:spPr>
              <a:xfrm>
                <a:off x="5851800" y="508320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WordArt 354"/>
              <p:cNvSpPr txBox="1"/>
              <p:nvPr/>
            </p:nvSpPr>
            <p:spPr>
              <a:xfrm>
                <a:off x="5722920" y="532944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6" name="Group 355"/>
            <p:cNvGrpSpPr/>
            <p:nvPr/>
          </p:nvGrpSpPr>
          <p:grpSpPr>
            <a:xfrm>
              <a:off x="2413080" y="5083200"/>
              <a:ext cx="1007640" cy="360000"/>
              <a:chOff x="2413080" y="5083200"/>
              <a:chExt cx="1007640" cy="360000"/>
            </a:xfrm>
          </p:grpSpPr>
          <p:sp>
            <p:nvSpPr>
              <p:cNvPr id="837" name="WordArt 356"/>
              <p:cNvSpPr txBox="1"/>
              <p:nvPr/>
            </p:nvSpPr>
            <p:spPr>
              <a:xfrm>
                <a:off x="2541600" y="508320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WordArt 357"/>
              <p:cNvSpPr txBox="1"/>
              <p:nvPr/>
            </p:nvSpPr>
            <p:spPr>
              <a:xfrm>
                <a:off x="2413080" y="532944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9" name="Group 358"/>
            <p:cNvGrpSpPr/>
            <p:nvPr/>
          </p:nvGrpSpPr>
          <p:grpSpPr>
            <a:xfrm>
              <a:off x="4068720" y="2276640"/>
              <a:ext cx="1007640" cy="359640"/>
              <a:chOff x="4068720" y="2276640"/>
              <a:chExt cx="1007640" cy="359640"/>
            </a:xfrm>
          </p:grpSpPr>
          <p:sp>
            <p:nvSpPr>
              <p:cNvPr id="840" name="WordArt 359"/>
              <p:cNvSpPr txBox="1"/>
              <p:nvPr/>
            </p:nvSpPr>
            <p:spPr>
              <a:xfrm>
                <a:off x="4197600" y="227664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WordArt 360"/>
              <p:cNvSpPr txBox="1"/>
              <p:nvPr/>
            </p:nvSpPr>
            <p:spPr>
              <a:xfrm>
                <a:off x="4068720" y="252252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2" name="WordArt 361"/>
            <p:cNvSpPr txBox="1"/>
            <p:nvPr/>
          </p:nvSpPr>
          <p:spPr>
            <a:xfrm rot="18000000">
              <a:off x="2202840" y="3060720"/>
              <a:ext cx="1820520" cy="82656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248006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Freeform 362"/>
            <p:cNvSpPr/>
            <p:nvPr/>
          </p:nvSpPr>
          <p:spPr>
            <a:xfrm>
              <a:off x="5796000" y="3211560"/>
              <a:ext cx="1871280" cy="360000"/>
            </a:xfrm>
            <a:custGeom>
              <a:avLst/>
              <a:gdLst>
                <a:gd name="textAreaLeft" fmla="*/ 0 w 1871280"/>
                <a:gd name="textAreaRight" fmla="*/ 1871640 w 187128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1452" h="227">
                  <a:moveTo>
                    <a:pt x="0" y="227"/>
                  </a:moveTo>
                  <a:lnTo>
                    <a:pt x="408" y="0"/>
                  </a:lnTo>
                  <a:lnTo>
                    <a:pt x="1452" y="0"/>
                  </a:lnTo>
                </a:path>
              </a:pathLst>
            </a:custGeom>
            <a:noFill/>
            <a:ln w="19050">
              <a:solidFill>
                <a:srgbClr val="ffffff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WordArt 363"/>
            <p:cNvSpPr txBox="1"/>
            <p:nvPr/>
          </p:nvSpPr>
          <p:spPr>
            <a:xfrm>
              <a:off x="6516720" y="2995560"/>
              <a:ext cx="100764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5" name="Group 364"/>
            <p:cNvGrpSpPr/>
            <p:nvPr/>
          </p:nvGrpSpPr>
          <p:grpSpPr>
            <a:xfrm>
              <a:off x="3924360" y="3860640"/>
              <a:ext cx="1294920" cy="431640"/>
              <a:chOff x="3924360" y="3860640"/>
              <a:chExt cx="1294920" cy="431640"/>
            </a:xfrm>
          </p:grpSpPr>
          <p:sp>
            <p:nvSpPr>
              <p:cNvPr id="846" name="WordArt 365"/>
              <p:cNvSpPr txBox="1"/>
              <p:nvPr/>
            </p:nvSpPr>
            <p:spPr>
              <a:xfrm>
                <a:off x="4089960" y="3860640"/>
                <a:ext cx="967680" cy="26352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WordArt 366"/>
              <p:cNvSpPr txBox="1"/>
              <p:nvPr/>
            </p:nvSpPr>
            <p:spPr>
              <a:xfrm>
                <a:off x="3924360" y="4155840"/>
                <a:ext cx="1294920" cy="1364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48" name="WordArt 326"/>
          <p:cNvSpPr txBox="1"/>
          <p:nvPr/>
        </p:nvSpPr>
        <p:spPr>
          <a:xfrm>
            <a:off x="1692360" y="4122720"/>
            <a:ext cx="791640" cy="215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72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EXT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378"/>
          <p:cNvGrpSpPr/>
          <p:nvPr/>
        </p:nvGrpSpPr>
        <p:grpSpPr>
          <a:xfrm>
            <a:off x="682560" y="1484640"/>
            <a:ext cx="7778520" cy="4753080"/>
            <a:chOff x="682560" y="1484640"/>
            <a:chExt cx="7778520" cy="4753080"/>
          </a:xfrm>
        </p:grpSpPr>
        <p:sp>
          <p:nvSpPr>
            <p:cNvPr id="132" name="AutoShape 379"/>
            <p:cNvSpPr/>
            <p:nvPr/>
          </p:nvSpPr>
          <p:spPr>
            <a:xfrm>
              <a:off x="682560" y="1557720"/>
              <a:ext cx="1441080" cy="3958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33" name="AutoShape 380"/>
            <p:cNvSpPr/>
            <p:nvPr/>
          </p:nvSpPr>
          <p:spPr>
            <a:xfrm>
              <a:off x="2266920" y="2205360"/>
              <a:ext cx="1441080" cy="331128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1200"/>
                </a:gs>
                <a:gs pos="100000">
                  <a:srgbClr val="ff2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34" name="AutoShape 381"/>
            <p:cNvSpPr/>
            <p:nvPr/>
          </p:nvSpPr>
          <p:spPr>
            <a:xfrm>
              <a:off x="3851280" y="2205360"/>
              <a:ext cx="1441080" cy="331128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2500"/>
                </a:gs>
                <a:gs pos="100000">
                  <a:srgbClr val="ff5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35" name="AutoShape 382"/>
            <p:cNvSpPr/>
            <p:nvPr/>
          </p:nvSpPr>
          <p:spPr>
            <a:xfrm>
              <a:off x="5435640" y="2205360"/>
              <a:ext cx="1441080" cy="331128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3700"/>
                </a:gs>
                <a:gs pos="100000">
                  <a:srgbClr val="ff7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36" name="AutoShape 383"/>
            <p:cNvSpPr/>
            <p:nvPr/>
          </p:nvSpPr>
          <p:spPr>
            <a:xfrm>
              <a:off x="7020000" y="2205360"/>
              <a:ext cx="1441080" cy="396036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6e6d68"/>
                </a:gs>
                <a:gs pos="100000">
                  <a:srgbClr val="eeece1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37" name="AutoShape 384"/>
            <p:cNvSpPr/>
            <p:nvPr/>
          </p:nvSpPr>
          <p:spPr>
            <a:xfrm>
              <a:off x="2266920" y="1484640"/>
              <a:ext cx="6190920" cy="576000"/>
            </a:xfrm>
            <a:prstGeom prst="leftArrow">
              <a:avLst>
                <a:gd name="adj1" fmla="val 53944"/>
                <a:gd name="adj2" fmla="val 89731"/>
              </a:avLst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WordArt 385"/>
            <p:cNvSpPr txBox="1"/>
            <p:nvPr/>
          </p:nvSpPr>
          <p:spPr>
            <a:xfrm>
              <a:off x="2770200" y="1700640"/>
              <a:ext cx="244764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utoShape 386"/>
            <p:cNvSpPr/>
            <p:nvPr/>
          </p:nvSpPr>
          <p:spPr>
            <a:xfrm rot="10800000">
              <a:off x="684720" y="5661360"/>
              <a:ext cx="6190920" cy="576000"/>
            </a:xfrm>
            <a:prstGeom prst="leftArrow">
              <a:avLst>
                <a:gd name="adj1" fmla="val 53944"/>
                <a:gd name="adj2" fmla="val 89731"/>
              </a:avLst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WordArt 387"/>
            <p:cNvSpPr txBox="1"/>
            <p:nvPr/>
          </p:nvSpPr>
          <p:spPr>
            <a:xfrm>
              <a:off x="3924360" y="5877360"/>
              <a:ext cx="244764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1" name="Group 388"/>
            <p:cNvGrpSpPr/>
            <p:nvPr/>
          </p:nvGrpSpPr>
          <p:grpSpPr>
            <a:xfrm>
              <a:off x="898560" y="1773720"/>
              <a:ext cx="1007640" cy="901080"/>
              <a:chOff x="898560" y="1773720"/>
              <a:chExt cx="1007640" cy="901080"/>
            </a:xfrm>
          </p:grpSpPr>
          <p:sp>
            <p:nvSpPr>
              <p:cNvPr id="142" name="WordArt 389"/>
              <p:cNvSpPr txBox="1"/>
              <p:nvPr/>
            </p:nvSpPr>
            <p:spPr>
              <a:xfrm>
                <a:off x="898560" y="1773720"/>
                <a:ext cx="1007640" cy="3045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WordArt 390"/>
              <p:cNvSpPr txBox="1"/>
              <p:nvPr/>
            </p:nvSpPr>
            <p:spPr>
              <a:xfrm>
                <a:off x="898560" y="2162520"/>
                <a:ext cx="1007640" cy="5122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391"/>
            <p:cNvGrpSpPr/>
            <p:nvPr/>
          </p:nvGrpSpPr>
          <p:grpSpPr>
            <a:xfrm>
              <a:off x="2482920" y="2421360"/>
              <a:ext cx="1007640" cy="901440"/>
              <a:chOff x="2482920" y="2421360"/>
              <a:chExt cx="1007640" cy="901440"/>
            </a:xfrm>
          </p:grpSpPr>
          <p:sp>
            <p:nvSpPr>
              <p:cNvPr id="145" name="WordArt 392"/>
              <p:cNvSpPr txBox="1"/>
              <p:nvPr/>
            </p:nvSpPr>
            <p:spPr>
              <a:xfrm>
                <a:off x="2482920" y="2421360"/>
                <a:ext cx="1007640" cy="3045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WordArt 393"/>
              <p:cNvSpPr txBox="1"/>
              <p:nvPr/>
            </p:nvSpPr>
            <p:spPr>
              <a:xfrm>
                <a:off x="2482920" y="2810520"/>
                <a:ext cx="1007640" cy="5122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394"/>
            <p:cNvGrpSpPr/>
            <p:nvPr/>
          </p:nvGrpSpPr>
          <p:grpSpPr>
            <a:xfrm>
              <a:off x="4067280" y="2421360"/>
              <a:ext cx="1007640" cy="901440"/>
              <a:chOff x="4067280" y="2421360"/>
              <a:chExt cx="1007640" cy="901440"/>
            </a:xfrm>
          </p:grpSpPr>
          <p:sp>
            <p:nvSpPr>
              <p:cNvPr id="148" name="WordArt 395"/>
              <p:cNvSpPr txBox="1"/>
              <p:nvPr/>
            </p:nvSpPr>
            <p:spPr>
              <a:xfrm>
                <a:off x="4067280" y="2421360"/>
                <a:ext cx="1007640" cy="3045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WordArt 396"/>
              <p:cNvSpPr txBox="1"/>
              <p:nvPr/>
            </p:nvSpPr>
            <p:spPr>
              <a:xfrm>
                <a:off x="4067280" y="2810520"/>
                <a:ext cx="1007640" cy="5122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397"/>
            <p:cNvGrpSpPr/>
            <p:nvPr/>
          </p:nvGrpSpPr>
          <p:grpSpPr>
            <a:xfrm>
              <a:off x="5649840" y="2421360"/>
              <a:ext cx="1007640" cy="901440"/>
              <a:chOff x="5649840" y="2421360"/>
              <a:chExt cx="1007640" cy="901440"/>
            </a:xfrm>
          </p:grpSpPr>
          <p:sp>
            <p:nvSpPr>
              <p:cNvPr id="151" name="WordArt 398"/>
              <p:cNvSpPr txBox="1"/>
              <p:nvPr/>
            </p:nvSpPr>
            <p:spPr>
              <a:xfrm>
                <a:off x="5649840" y="2421360"/>
                <a:ext cx="1007640" cy="3045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WordArt 399"/>
              <p:cNvSpPr txBox="1"/>
              <p:nvPr/>
            </p:nvSpPr>
            <p:spPr>
              <a:xfrm>
                <a:off x="5649840" y="2810520"/>
                <a:ext cx="1007640" cy="5122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400"/>
            <p:cNvGrpSpPr/>
            <p:nvPr/>
          </p:nvGrpSpPr>
          <p:grpSpPr>
            <a:xfrm>
              <a:off x="7234200" y="2421360"/>
              <a:ext cx="1007640" cy="901440"/>
              <a:chOff x="7234200" y="2421360"/>
              <a:chExt cx="1007640" cy="901440"/>
            </a:xfrm>
          </p:grpSpPr>
          <p:sp>
            <p:nvSpPr>
              <p:cNvPr id="154" name="WordArt 401"/>
              <p:cNvSpPr txBox="1"/>
              <p:nvPr/>
            </p:nvSpPr>
            <p:spPr>
              <a:xfrm>
                <a:off x="7234200" y="2421360"/>
                <a:ext cx="1007640" cy="3045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WordArt 402"/>
              <p:cNvSpPr txBox="1"/>
              <p:nvPr/>
            </p:nvSpPr>
            <p:spPr>
              <a:xfrm>
                <a:off x="7234200" y="2810520"/>
                <a:ext cx="1007640" cy="5122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506"/>
          <p:cNvGrpSpPr/>
          <p:nvPr/>
        </p:nvGrpSpPr>
        <p:grpSpPr>
          <a:xfrm>
            <a:off x="1258920" y="1340640"/>
            <a:ext cx="6840000" cy="4897800"/>
            <a:chOff x="1258920" y="1340640"/>
            <a:chExt cx="6840000" cy="4897800"/>
          </a:xfrm>
        </p:grpSpPr>
        <p:sp>
          <p:nvSpPr>
            <p:cNvPr id="158" name="AutoShape 507"/>
            <p:cNvSpPr/>
            <p:nvPr/>
          </p:nvSpPr>
          <p:spPr>
            <a:xfrm>
              <a:off x="1258920" y="5229360"/>
              <a:ext cx="2952360" cy="1007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AutoShape 508"/>
            <p:cNvSpPr/>
            <p:nvPr/>
          </p:nvSpPr>
          <p:spPr>
            <a:xfrm>
              <a:off x="1258920" y="1341360"/>
              <a:ext cx="2952360" cy="1007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AutoShape 509"/>
            <p:cNvSpPr/>
            <p:nvPr/>
          </p:nvSpPr>
          <p:spPr>
            <a:xfrm rot="5400000">
              <a:off x="2232000" y="2313000"/>
              <a:ext cx="2952360" cy="1007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AutoShape 510"/>
            <p:cNvSpPr/>
            <p:nvPr/>
          </p:nvSpPr>
          <p:spPr>
            <a:xfrm>
              <a:off x="3203640" y="3286080"/>
              <a:ext cx="2952360" cy="1007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AutoShape 511"/>
            <p:cNvSpPr/>
            <p:nvPr/>
          </p:nvSpPr>
          <p:spPr>
            <a:xfrm rot="5400000">
              <a:off x="4175640" y="4257720"/>
              <a:ext cx="2952360" cy="1007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AutoShape 512"/>
            <p:cNvSpPr/>
            <p:nvPr/>
          </p:nvSpPr>
          <p:spPr>
            <a:xfrm>
              <a:off x="5146560" y="5230800"/>
              <a:ext cx="2952360" cy="1007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AutoShape 513"/>
            <p:cNvSpPr/>
            <p:nvPr/>
          </p:nvSpPr>
          <p:spPr>
            <a:xfrm rot="5400000">
              <a:off x="287280" y="2313000"/>
              <a:ext cx="2952360" cy="1007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AutoShape 514"/>
            <p:cNvSpPr/>
            <p:nvPr/>
          </p:nvSpPr>
          <p:spPr>
            <a:xfrm rot="5400000">
              <a:off x="287280" y="4257720"/>
              <a:ext cx="2952360" cy="1007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WordArt 515"/>
            <p:cNvSpPr txBox="1"/>
            <p:nvPr/>
          </p:nvSpPr>
          <p:spPr>
            <a:xfrm>
              <a:off x="1401840" y="5661000"/>
              <a:ext cx="720360" cy="217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c800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c800"/>
                </a:solidFill>
                <a:latin typeface="Arial"/>
              </a:endParaRPr>
            </a:p>
          </p:txBody>
        </p:sp>
        <p:sp>
          <p:nvSpPr>
            <p:cNvPr id="167" name="WordArt 516"/>
            <p:cNvSpPr txBox="1"/>
            <p:nvPr/>
          </p:nvSpPr>
          <p:spPr>
            <a:xfrm>
              <a:off x="1401840" y="3716280"/>
              <a:ext cx="720360" cy="217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c800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c800"/>
                </a:solidFill>
                <a:latin typeface="Arial"/>
              </a:endParaRPr>
            </a:p>
          </p:txBody>
        </p:sp>
        <p:sp>
          <p:nvSpPr>
            <p:cNvPr id="168" name="WordArt 517"/>
            <p:cNvSpPr txBox="1"/>
            <p:nvPr/>
          </p:nvSpPr>
          <p:spPr>
            <a:xfrm>
              <a:off x="1401840" y="1773360"/>
              <a:ext cx="720360" cy="217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c800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c800"/>
                </a:solidFill>
                <a:latin typeface="Arial"/>
              </a:endParaRPr>
            </a:p>
          </p:txBody>
        </p:sp>
        <p:sp>
          <p:nvSpPr>
            <p:cNvPr id="169" name="WordArt 518"/>
            <p:cNvSpPr txBox="1"/>
            <p:nvPr/>
          </p:nvSpPr>
          <p:spPr>
            <a:xfrm>
              <a:off x="3346560" y="1773360"/>
              <a:ext cx="720360" cy="217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c800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c800"/>
                </a:solidFill>
                <a:latin typeface="Arial"/>
              </a:endParaRPr>
            </a:p>
          </p:txBody>
        </p:sp>
        <p:sp>
          <p:nvSpPr>
            <p:cNvPr id="170" name="WordArt 519"/>
            <p:cNvSpPr txBox="1"/>
            <p:nvPr/>
          </p:nvSpPr>
          <p:spPr>
            <a:xfrm>
              <a:off x="3346560" y="3716280"/>
              <a:ext cx="720360" cy="217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c800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c800"/>
                </a:solidFill>
                <a:latin typeface="Arial"/>
              </a:endParaRPr>
            </a:p>
          </p:txBody>
        </p:sp>
        <p:sp>
          <p:nvSpPr>
            <p:cNvPr id="171" name="WordArt 520"/>
            <p:cNvSpPr txBox="1"/>
            <p:nvPr/>
          </p:nvSpPr>
          <p:spPr>
            <a:xfrm>
              <a:off x="5289480" y="3718080"/>
              <a:ext cx="720360" cy="217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c800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c800"/>
                </a:solidFill>
                <a:latin typeface="Arial"/>
              </a:endParaRPr>
            </a:p>
          </p:txBody>
        </p:sp>
        <p:sp>
          <p:nvSpPr>
            <p:cNvPr id="172" name="WordArt 521"/>
            <p:cNvSpPr txBox="1"/>
            <p:nvPr/>
          </p:nvSpPr>
          <p:spPr>
            <a:xfrm>
              <a:off x="5291280" y="5661000"/>
              <a:ext cx="720360" cy="217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c800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c800"/>
                </a:solidFill>
                <a:latin typeface="Arial"/>
              </a:endParaRPr>
            </a:p>
          </p:txBody>
        </p:sp>
        <p:grpSp>
          <p:nvGrpSpPr>
            <p:cNvPr id="173" name="Group 522"/>
            <p:cNvGrpSpPr/>
            <p:nvPr/>
          </p:nvGrpSpPr>
          <p:grpSpPr>
            <a:xfrm>
              <a:off x="2627280" y="5518080"/>
              <a:ext cx="1155240" cy="420120"/>
              <a:chOff x="2627280" y="5518080"/>
              <a:chExt cx="1155240" cy="420120"/>
            </a:xfrm>
          </p:grpSpPr>
          <p:sp>
            <p:nvSpPr>
              <p:cNvPr id="174" name="WordArt 523"/>
              <p:cNvSpPr txBox="1"/>
              <p:nvPr/>
            </p:nvSpPr>
            <p:spPr>
              <a:xfrm>
                <a:off x="2774880" y="5518080"/>
                <a:ext cx="863280" cy="2566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WordArt 524"/>
              <p:cNvSpPr txBox="1"/>
              <p:nvPr/>
            </p:nvSpPr>
            <p:spPr>
              <a:xfrm>
                <a:off x="2627280" y="5805360"/>
                <a:ext cx="1155240" cy="132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525"/>
            <p:cNvGrpSpPr/>
            <p:nvPr/>
          </p:nvGrpSpPr>
          <p:grpSpPr>
            <a:xfrm>
              <a:off x="6512040" y="5518080"/>
              <a:ext cx="1155240" cy="420120"/>
              <a:chOff x="6512040" y="5518080"/>
              <a:chExt cx="1155240" cy="420120"/>
            </a:xfrm>
          </p:grpSpPr>
          <p:sp>
            <p:nvSpPr>
              <p:cNvPr id="177" name="WordArt 526"/>
              <p:cNvSpPr txBox="1"/>
              <p:nvPr/>
            </p:nvSpPr>
            <p:spPr>
              <a:xfrm>
                <a:off x="6659640" y="5518080"/>
                <a:ext cx="863280" cy="2566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WordArt 527"/>
              <p:cNvSpPr txBox="1"/>
              <p:nvPr/>
            </p:nvSpPr>
            <p:spPr>
              <a:xfrm>
                <a:off x="6512040" y="5805360"/>
                <a:ext cx="1155240" cy="132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9" name="AutoShape 528"/>
            <p:cNvSpPr/>
            <p:nvPr/>
          </p:nvSpPr>
          <p:spPr>
            <a:xfrm rot="16200000">
              <a:off x="1547640" y="4508640"/>
              <a:ext cx="431280" cy="286920"/>
            </a:xfrm>
            <a:prstGeom prst="rightArrow">
              <a:avLst>
                <a:gd name="adj1" fmla="val 50278"/>
                <a:gd name="adj2" fmla="val 57460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WordArt 529"/>
            <p:cNvSpPr txBox="1"/>
            <p:nvPr/>
          </p:nvSpPr>
          <p:spPr>
            <a:xfrm>
              <a:off x="1546200" y="4941720"/>
              <a:ext cx="43128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AutoShape 530"/>
            <p:cNvSpPr/>
            <p:nvPr/>
          </p:nvSpPr>
          <p:spPr>
            <a:xfrm rot="16200000">
              <a:off x="1547640" y="2565720"/>
              <a:ext cx="431280" cy="286920"/>
            </a:xfrm>
            <a:prstGeom prst="rightArrow">
              <a:avLst>
                <a:gd name="adj1" fmla="val 50278"/>
                <a:gd name="adj2" fmla="val 57460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WordArt 531"/>
            <p:cNvSpPr txBox="1"/>
            <p:nvPr/>
          </p:nvSpPr>
          <p:spPr>
            <a:xfrm>
              <a:off x="1546200" y="2998800"/>
              <a:ext cx="43128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AutoShape 532"/>
            <p:cNvSpPr/>
            <p:nvPr/>
          </p:nvSpPr>
          <p:spPr>
            <a:xfrm>
              <a:off x="2556000" y="1557360"/>
              <a:ext cx="431280" cy="286920"/>
            </a:xfrm>
            <a:prstGeom prst="rightArrow">
              <a:avLst>
                <a:gd name="adj1" fmla="val 50278"/>
                <a:gd name="adj2" fmla="val 57460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WordArt 533"/>
            <p:cNvSpPr txBox="1"/>
            <p:nvPr/>
          </p:nvSpPr>
          <p:spPr>
            <a:xfrm>
              <a:off x="2554200" y="1916280"/>
              <a:ext cx="43128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AutoShape 534"/>
            <p:cNvSpPr/>
            <p:nvPr/>
          </p:nvSpPr>
          <p:spPr>
            <a:xfrm rot="5400000">
              <a:off x="3491280" y="2781000"/>
              <a:ext cx="431280" cy="286920"/>
            </a:xfrm>
            <a:prstGeom prst="rightArrow">
              <a:avLst>
                <a:gd name="adj1" fmla="val 50278"/>
                <a:gd name="adj2" fmla="val 57460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WordArt 535"/>
            <p:cNvSpPr txBox="1"/>
            <p:nvPr/>
          </p:nvSpPr>
          <p:spPr>
            <a:xfrm>
              <a:off x="3489480" y="2494080"/>
              <a:ext cx="43128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536"/>
            <p:cNvSpPr/>
            <p:nvPr/>
          </p:nvSpPr>
          <p:spPr>
            <a:xfrm>
              <a:off x="4498920" y="3502080"/>
              <a:ext cx="431280" cy="286920"/>
            </a:xfrm>
            <a:prstGeom prst="rightArrow">
              <a:avLst>
                <a:gd name="adj1" fmla="val 50278"/>
                <a:gd name="adj2" fmla="val 57460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WordArt 537"/>
            <p:cNvSpPr txBox="1"/>
            <p:nvPr/>
          </p:nvSpPr>
          <p:spPr>
            <a:xfrm>
              <a:off x="4497480" y="3860640"/>
              <a:ext cx="43128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538"/>
            <p:cNvSpPr/>
            <p:nvPr/>
          </p:nvSpPr>
          <p:spPr>
            <a:xfrm rot="5400000">
              <a:off x="5436000" y="4724280"/>
              <a:ext cx="431280" cy="286920"/>
            </a:xfrm>
            <a:prstGeom prst="rightArrow">
              <a:avLst>
                <a:gd name="adj1" fmla="val 50278"/>
                <a:gd name="adj2" fmla="val 57460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WordArt 539"/>
            <p:cNvSpPr txBox="1"/>
            <p:nvPr/>
          </p:nvSpPr>
          <p:spPr>
            <a:xfrm>
              <a:off x="5433840" y="4437000"/>
              <a:ext cx="43128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AutoShape 540"/>
            <p:cNvSpPr/>
            <p:nvPr/>
          </p:nvSpPr>
          <p:spPr>
            <a:xfrm>
              <a:off x="4570560" y="1341360"/>
              <a:ext cx="433080" cy="420480"/>
            </a:xfrm>
            <a:prstGeom prst="roundRect">
              <a:avLst>
                <a:gd name="adj" fmla="val 14338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AutoShape 541"/>
            <p:cNvSpPr/>
            <p:nvPr/>
          </p:nvSpPr>
          <p:spPr>
            <a:xfrm>
              <a:off x="4570560" y="1917720"/>
              <a:ext cx="433080" cy="420480"/>
            </a:xfrm>
            <a:prstGeom prst="roundRect">
              <a:avLst>
                <a:gd name="adj" fmla="val 14338"/>
              </a:avLst>
            </a:prstGeom>
            <a:solidFill>
              <a:schemeClr val="tx1">
                <a:alpha val="75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WordArt 542"/>
            <p:cNvSpPr txBox="1"/>
            <p:nvPr/>
          </p:nvSpPr>
          <p:spPr>
            <a:xfrm>
              <a:off x="5146560" y="1486080"/>
              <a:ext cx="237600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AutoShape 543"/>
            <p:cNvSpPr/>
            <p:nvPr/>
          </p:nvSpPr>
          <p:spPr>
            <a:xfrm>
              <a:off x="4570560" y="2505240"/>
              <a:ext cx="433080" cy="420480"/>
            </a:xfrm>
            <a:prstGeom prst="roundRect">
              <a:avLst>
                <a:gd name="adj" fmla="val 14338"/>
              </a:avLst>
            </a:prstGeom>
            <a:solidFill>
              <a:srgbClr val="ffc800"/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WordArt 544"/>
            <p:cNvSpPr txBox="1"/>
            <p:nvPr/>
          </p:nvSpPr>
          <p:spPr>
            <a:xfrm>
              <a:off x="5146560" y="2062080"/>
              <a:ext cx="237600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WordArt 545"/>
            <p:cNvSpPr txBox="1"/>
            <p:nvPr/>
          </p:nvSpPr>
          <p:spPr>
            <a:xfrm>
              <a:off x="5146560" y="2638440"/>
              <a:ext cx="237600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Group 341"/>
          <p:cNvGrpSpPr/>
          <p:nvPr/>
        </p:nvGrpSpPr>
        <p:grpSpPr>
          <a:xfrm>
            <a:off x="611280" y="1268280"/>
            <a:ext cx="7848000" cy="4705920"/>
            <a:chOff x="611280" y="1268280"/>
            <a:chExt cx="7848000" cy="4705920"/>
          </a:xfrm>
        </p:grpSpPr>
        <p:sp>
          <p:nvSpPr>
            <p:cNvPr id="199" name="Arc 342"/>
            <p:cNvSpPr/>
            <p:nvPr/>
          </p:nvSpPr>
          <p:spPr>
            <a:xfrm>
              <a:off x="1403280" y="4437000"/>
              <a:ext cx="6479640" cy="1294920"/>
            </a:xfrm>
            <a:custGeom>
              <a:avLst/>
              <a:gdLst>
                <a:gd name="textAreaLeft" fmla="*/ 0 w 6479640"/>
                <a:gd name="textAreaRight" fmla="*/ 6480000 w 647964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fill="none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</a:path>
                <a:path stroke="0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chemeClr val="tx1">
                <a:alpha val="30000"/>
              </a:schemeClr>
            </a:solidFill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WordArt 343"/>
            <p:cNvSpPr txBox="1"/>
            <p:nvPr/>
          </p:nvSpPr>
          <p:spPr>
            <a:xfrm>
              <a:off x="611280" y="177336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rc 344"/>
            <p:cNvSpPr/>
            <p:nvPr/>
          </p:nvSpPr>
          <p:spPr>
            <a:xfrm>
              <a:off x="1403280" y="3139920"/>
              <a:ext cx="4319280" cy="2592000"/>
            </a:xfrm>
            <a:custGeom>
              <a:avLst/>
              <a:gdLst>
                <a:gd name="textAreaLeft" fmla="*/ 0 w 4319280"/>
                <a:gd name="textAreaRight" fmla="*/ 4319640 w 4319280"/>
                <a:gd name="textAreaTop" fmla="*/ 0 h 2592000"/>
                <a:gd name="textAreaBottom" fmla="*/ 2592360 h 2592000"/>
              </a:gdLst>
              <a:ahLst/>
              <a:rect l="textAreaLeft" t="textAreaTop" r="textAreaRight" b="textAreaBottom"/>
              <a:pathLst>
                <a:path fill="none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</a:path>
                <a:path stroke="0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chemeClr val="tx1">
                <a:alpha val="30000"/>
              </a:schemeClr>
            </a:solidFill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Arc 345"/>
            <p:cNvSpPr/>
            <p:nvPr/>
          </p:nvSpPr>
          <p:spPr>
            <a:xfrm>
              <a:off x="1403280" y="1844640"/>
              <a:ext cx="2160360" cy="388728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3887280"/>
                <a:gd name="textAreaBottom" fmla="*/ 3887640 h 3887280"/>
              </a:gdLst>
              <a:ahLst/>
              <a:rect l="textAreaLeft" t="textAreaTop" r="textAreaRight" b="textAreaBottom"/>
              <a:pathLst>
                <a:path fill="none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</a:path>
                <a:path stroke="0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chemeClr val="tx1">
                <a:alpha val="30000"/>
              </a:schemeClr>
            </a:solidFill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346"/>
            <p:cNvSpPr/>
            <p:nvPr/>
          </p:nvSpPr>
          <p:spPr>
            <a:xfrm>
              <a:off x="1403280" y="1268280"/>
              <a:ext cx="7056000" cy="4463640"/>
            </a:xfrm>
            <a:custGeom>
              <a:avLst/>
              <a:gdLst>
                <a:gd name="textAreaLeft" fmla="*/ 0 w 7056000"/>
                <a:gd name="textAreaRight" fmla="*/ 7056360 w 7056000"/>
                <a:gd name="textAreaTop" fmla="*/ 0 h 4463640"/>
                <a:gd name="textAreaBottom" fmla="*/ 4464000 h 4463640"/>
              </a:gdLst>
              <a:ahLst/>
              <a:rect l="textAreaLeft" t="textAreaTop" r="textAreaRight" b="textAreaBottom"/>
              <a:pathLst>
                <a:path w="4400" h="2903">
                  <a:moveTo>
                    <a:pt x="0" y="0"/>
                  </a:moveTo>
                  <a:lnTo>
                    <a:pt x="0" y="2903"/>
                  </a:lnTo>
                  <a:lnTo>
                    <a:pt x="4400" y="2903"/>
                  </a:lnTo>
                </a:path>
              </a:pathLst>
            </a:custGeom>
            <a:noFill/>
            <a:ln w="381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4" name="Group 347"/>
            <p:cNvGrpSpPr/>
            <p:nvPr/>
          </p:nvGrpSpPr>
          <p:grpSpPr>
            <a:xfrm>
              <a:off x="7641000" y="5489640"/>
              <a:ext cx="484560" cy="484560"/>
              <a:chOff x="7641000" y="5489640"/>
              <a:chExt cx="484560" cy="484560"/>
            </a:xfrm>
          </p:grpSpPr>
          <p:sp>
            <p:nvSpPr>
              <p:cNvPr id="205" name="Oval 348"/>
              <p:cNvSpPr/>
              <p:nvPr/>
            </p:nvSpPr>
            <p:spPr>
              <a:xfrm>
                <a:off x="7667640" y="5516640"/>
                <a:ext cx="431280" cy="43128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206" name="Group 349"/>
              <p:cNvGrpSpPr/>
              <p:nvPr/>
            </p:nvGrpSpPr>
            <p:grpSpPr>
              <a:xfrm>
                <a:off x="7641000" y="5489640"/>
                <a:ext cx="484560" cy="484560"/>
                <a:chOff x="7641000" y="5489640"/>
                <a:chExt cx="484560" cy="484560"/>
              </a:xfrm>
            </p:grpSpPr>
            <p:sp>
              <p:nvSpPr>
                <p:cNvPr id="207" name="AutoShape 350"/>
                <p:cNvSpPr/>
                <p:nvPr/>
              </p:nvSpPr>
              <p:spPr>
                <a:xfrm>
                  <a:off x="7706520" y="555552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8" name="AutoShape 351"/>
                <p:cNvSpPr/>
                <p:nvPr/>
              </p:nvSpPr>
              <p:spPr>
                <a:xfrm rot="3528000">
                  <a:off x="7706520" y="555516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09" name="Group 352"/>
            <p:cNvGrpSpPr/>
            <p:nvPr/>
          </p:nvGrpSpPr>
          <p:grpSpPr>
            <a:xfrm>
              <a:off x="1160640" y="5489640"/>
              <a:ext cx="484560" cy="484560"/>
              <a:chOff x="1160640" y="5489640"/>
              <a:chExt cx="484560" cy="484560"/>
            </a:xfrm>
          </p:grpSpPr>
          <p:sp>
            <p:nvSpPr>
              <p:cNvPr id="210" name="Oval 353"/>
              <p:cNvSpPr/>
              <p:nvPr/>
            </p:nvSpPr>
            <p:spPr>
              <a:xfrm>
                <a:off x="1187280" y="5516640"/>
                <a:ext cx="431280" cy="43128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211" name="Group 354"/>
              <p:cNvGrpSpPr/>
              <p:nvPr/>
            </p:nvGrpSpPr>
            <p:grpSpPr>
              <a:xfrm>
                <a:off x="1160640" y="5489640"/>
                <a:ext cx="484560" cy="484560"/>
                <a:chOff x="1160640" y="5489640"/>
                <a:chExt cx="484560" cy="484560"/>
              </a:xfrm>
            </p:grpSpPr>
            <p:sp>
              <p:nvSpPr>
                <p:cNvPr id="212" name="AutoShape 355"/>
                <p:cNvSpPr/>
                <p:nvPr/>
              </p:nvSpPr>
              <p:spPr>
                <a:xfrm>
                  <a:off x="1226520" y="555552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3" name="AutoShape 356"/>
                <p:cNvSpPr/>
                <p:nvPr/>
              </p:nvSpPr>
              <p:spPr>
                <a:xfrm rot="3528000">
                  <a:off x="1226160" y="555516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14" name="Group 357"/>
            <p:cNvGrpSpPr/>
            <p:nvPr/>
          </p:nvGrpSpPr>
          <p:grpSpPr>
            <a:xfrm>
              <a:off x="3321360" y="5489640"/>
              <a:ext cx="484560" cy="484560"/>
              <a:chOff x="3321360" y="5489640"/>
              <a:chExt cx="484560" cy="484560"/>
            </a:xfrm>
          </p:grpSpPr>
          <p:sp>
            <p:nvSpPr>
              <p:cNvPr id="215" name="Oval 358"/>
              <p:cNvSpPr/>
              <p:nvPr/>
            </p:nvSpPr>
            <p:spPr>
              <a:xfrm>
                <a:off x="3348000" y="5516640"/>
                <a:ext cx="431280" cy="43128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216" name="Group 359"/>
              <p:cNvGrpSpPr/>
              <p:nvPr/>
            </p:nvGrpSpPr>
            <p:grpSpPr>
              <a:xfrm>
                <a:off x="3321360" y="5489640"/>
                <a:ext cx="484560" cy="484560"/>
                <a:chOff x="3321360" y="5489640"/>
                <a:chExt cx="484560" cy="484560"/>
              </a:xfrm>
            </p:grpSpPr>
            <p:sp>
              <p:nvSpPr>
                <p:cNvPr id="217" name="AutoShape 360"/>
                <p:cNvSpPr/>
                <p:nvPr/>
              </p:nvSpPr>
              <p:spPr>
                <a:xfrm>
                  <a:off x="3386880" y="555552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" name="AutoShape 361"/>
                <p:cNvSpPr/>
                <p:nvPr/>
              </p:nvSpPr>
              <p:spPr>
                <a:xfrm rot="3528000">
                  <a:off x="3386880" y="555516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19" name="Group 362"/>
            <p:cNvGrpSpPr/>
            <p:nvPr/>
          </p:nvGrpSpPr>
          <p:grpSpPr>
            <a:xfrm>
              <a:off x="5480280" y="5489640"/>
              <a:ext cx="484560" cy="484560"/>
              <a:chOff x="5480280" y="5489640"/>
              <a:chExt cx="484560" cy="484560"/>
            </a:xfrm>
          </p:grpSpPr>
          <p:sp>
            <p:nvSpPr>
              <p:cNvPr id="220" name="Oval 363"/>
              <p:cNvSpPr/>
              <p:nvPr/>
            </p:nvSpPr>
            <p:spPr>
              <a:xfrm>
                <a:off x="5506920" y="5516640"/>
                <a:ext cx="431280" cy="43128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221" name="Group 364"/>
              <p:cNvGrpSpPr/>
              <p:nvPr/>
            </p:nvGrpSpPr>
            <p:grpSpPr>
              <a:xfrm>
                <a:off x="5480280" y="5489640"/>
                <a:ext cx="484560" cy="484560"/>
                <a:chOff x="5480280" y="5489640"/>
                <a:chExt cx="484560" cy="484560"/>
              </a:xfrm>
            </p:grpSpPr>
            <p:sp>
              <p:nvSpPr>
                <p:cNvPr id="222" name="AutoShape 365"/>
                <p:cNvSpPr/>
                <p:nvPr/>
              </p:nvSpPr>
              <p:spPr>
                <a:xfrm>
                  <a:off x="5545800" y="555552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3" name="AutoShape 366"/>
                <p:cNvSpPr/>
                <p:nvPr/>
              </p:nvSpPr>
              <p:spPr>
                <a:xfrm rot="3528000">
                  <a:off x="5545800" y="555516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24" name="Group 367"/>
            <p:cNvGrpSpPr/>
            <p:nvPr/>
          </p:nvGrpSpPr>
          <p:grpSpPr>
            <a:xfrm>
              <a:off x="1160640" y="1601640"/>
              <a:ext cx="484560" cy="484560"/>
              <a:chOff x="1160640" y="1601640"/>
              <a:chExt cx="484560" cy="484560"/>
            </a:xfrm>
          </p:grpSpPr>
          <p:sp>
            <p:nvSpPr>
              <p:cNvPr id="225" name="Oval 368"/>
              <p:cNvSpPr/>
              <p:nvPr/>
            </p:nvSpPr>
            <p:spPr>
              <a:xfrm>
                <a:off x="1187280" y="1628640"/>
                <a:ext cx="431280" cy="43128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226" name="Group 369"/>
              <p:cNvGrpSpPr/>
              <p:nvPr/>
            </p:nvGrpSpPr>
            <p:grpSpPr>
              <a:xfrm>
                <a:off x="1160640" y="1601640"/>
                <a:ext cx="484560" cy="484560"/>
                <a:chOff x="1160640" y="1601640"/>
                <a:chExt cx="484560" cy="484560"/>
              </a:xfrm>
            </p:grpSpPr>
            <p:sp>
              <p:nvSpPr>
                <p:cNvPr id="227" name="AutoShape 370"/>
                <p:cNvSpPr/>
                <p:nvPr/>
              </p:nvSpPr>
              <p:spPr>
                <a:xfrm>
                  <a:off x="1226520" y="166788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371"/>
                <p:cNvSpPr/>
                <p:nvPr/>
              </p:nvSpPr>
              <p:spPr>
                <a:xfrm rot="3528000">
                  <a:off x="1226160" y="166716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29" name="Group 372"/>
            <p:cNvGrpSpPr/>
            <p:nvPr/>
          </p:nvGrpSpPr>
          <p:grpSpPr>
            <a:xfrm>
              <a:off x="1160640" y="4194360"/>
              <a:ext cx="484560" cy="484560"/>
              <a:chOff x="1160640" y="4194360"/>
              <a:chExt cx="484560" cy="484560"/>
            </a:xfrm>
          </p:grpSpPr>
          <p:sp>
            <p:nvSpPr>
              <p:cNvPr id="230" name="Oval 373"/>
              <p:cNvSpPr/>
              <p:nvPr/>
            </p:nvSpPr>
            <p:spPr>
              <a:xfrm>
                <a:off x="1187280" y="4221000"/>
                <a:ext cx="431280" cy="43128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231" name="Group 374"/>
              <p:cNvGrpSpPr/>
              <p:nvPr/>
            </p:nvGrpSpPr>
            <p:grpSpPr>
              <a:xfrm>
                <a:off x="1160640" y="4194360"/>
                <a:ext cx="484560" cy="484560"/>
                <a:chOff x="1160640" y="4194360"/>
                <a:chExt cx="484560" cy="484560"/>
              </a:xfrm>
            </p:grpSpPr>
            <p:sp>
              <p:nvSpPr>
                <p:cNvPr id="232" name="AutoShape 375"/>
                <p:cNvSpPr/>
                <p:nvPr/>
              </p:nvSpPr>
              <p:spPr>
                <a:xfrm>
                  <a:off x="1226520" y="426024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" name="AutoShape 376"/>
                <p:cNvSpPr/>
                <p:nvPr/>
              </p:nvSpPr>
              <p:spPr>
                <a:xfrm rot="3528000">
                  <a:off x="1226160" y="425988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34" name="Group 377"/>
            <p:cNvGrpSpPr/>
            <p:nvPr/>
          </p:nvGrpSpPr>
          <p:grpSpPr>
            <a:xfrm>
              <a:off x="1160640" y="2897280"/>
              <a:ext cx="484560" cy="484560"/>
              <a:chOff x="1160640" y="2897280"/>
              <a:chExt cx="484560" cy="484560"/>
            </a:xfrm>
          </p:grpSpPr>
          <p:sp>
            <p:nvSpPr>
              <p:cNvPr id="235" name="Oval 378"/>
              <p:cNvSpPr/>
              <p:nvPr/>
            </p:nvSpPr>
            <p:spPr>
              <a:xfrm>
                <a:off x="1187280" y="2924280"/>
                <a:ext cx="431280" cy="43128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236" name="Group 379"/>
              <p:cNvGrpSpPr/>
              <p:nvPr/>
            </p:nvGrpSpPr>
            <p:grpSpPr>
              <a:xfrm>
                <a:off x="1160640" y="2897280"/>
                <a:ext cx="484560" cy="484560"/>
                <a:chOff x="1160640" y="2897280"/>
                <a:chExt cx="484560" cy="484560"/>
              </a:xfrm>
            </p:grpSpPr>
            <p:sp>
              <p:nvSpPr>
                <p:cNvPr id="237" name="AutoShape 380"/>
                <p:cNvSpPr/>
                <p:nvPr/>
              </p:nvSpPr>
              <p:spPr>
                <a:xfrm>
                  <a:off x="1226520" y="296316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" name="AutoShape 381"/>
                <p:cNvSpPr/>
                <p:nvPr/>
              </p:nvSpPr>
              <p:spPr>
                <a:xfrm rot="3528000">
                  <a:off x="1226160" y="296280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39" name="WordArt 382"/>
            <p:cNvSpPr txBox="1"/>
            <p:nvPr/>
          </p:nvSpPr>
          <p:spPr>
            <a:xfrm>
              <a:off x="611280" y="306864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WordArt 383"/>
            <p:cNvSpPr txBox="1"/>
            <p:nvPr/>
          </p:nvSpPr>
          <p:spPr>
            <a:xfrm>
              <a:off x="611280" y="436392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WordArt 384"/>
            <p:cNvSpPr txBox="1"/>
            <p:nvPr/>
          </p:nvSpPr>
          <p:spPr>
            <a:xfrm>
              <a:off x="611280" y="566100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WordArt 385"/>
            <p:cNvSpPr txBox="1"/>
            <p:nvPr/>
          </p:nvSpPr>
          <p:spPr>
            <a:xfrm>
              <a:off x="1330200" y="5661000"/>
              <a:ext cx="14400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WordArt 386"/>
            <p:cNvSpPr txBox="1"/>
            <p:nvPr/>
          </p:nvSpPr>
          <p:spPr>
            <a:xfrm>
              <a:off x="1330200" y="4363920"/>
              <a:ext cx="14400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WordArt 387"/>
            <p:cNvSpPr txBox="1"/>
            <p:nvPr/>
          </p:nvSpPr>
          <p:spPr>
            <a:xfrm>
              <a:off x="1330200" y="3068640"/>
              <a:ext cx="14400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WordArt 388"/>
            <p:cNvSpPr txBox="1"/>
            <p:nvPr/>
          </p:nvSpPr>
          <p:spPr>
            <a:xfrm>
              <a:off x="1330200" y="1773360"/>
              <a:ext cx="14400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WordArt 389"/>
            <p:cNvSpPr txBox="1"/>
            <p:nvPr/>
          </p:nvSpPr>
          <p:spPr>
            <a:xfrm>
              <a:off x="3490920" y="5661000"/>
              <a:ext cx="14400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WordArt 390"/>
            <p:cNvSpPr txBox="1"/>
            <p:nvPr/>
          </p:nvSpPr>
          <p:spPr>
            <a:xfrm>
              <a:off x="5651640" y="5661000"/>
              <a:ext cx="14400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WordArt 391"/>
            <p:cNvSpPr txBox="1"/>
            <p:nvPr/>
          </p:nvSpPr>
          <p:spPr>
            <a:xfrm>
              <a:off x="7812000" y="5661000"/>
              <a:ext cx="14400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WordArt 392"/>
            <p:cNvSpPr txBox="1"/>
            <p:nvPr/>
          </p:nvSpPr>
          <p:spPr>
            <a:xfrm>
              <a:off x="1763640" y="256392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WordArt 393"/>
            <p:cNvSpPr txBox="1"/>
            <p:nvPr/>
          </p:nvSpPr>
          <p:spPr>
            <a:xfrm>
              <a:off x="2052720" y="378792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WordArt 394"/>
            <p:cNvSpPr txBox="1"/>
            <p:nvPr/>
          </p:nvSpPr>
          <p:spPr>
            <a:xfrm>
              <a:off x="2195640" y="501156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WordArt 395"/>
            <p:cNvSpPr txBox="1"/>
            <p:nvPr/>
          </p:nvSpPr>
          <p:spPr>
            <a:xfrm>
              <a:off x="4284720" y="508464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WordArt 396"/>
            <p:cNvSpPr txBox="1"/>
            <p:nvPr/>
          </p:nvSpPr>
          <p:spPr>
            <a:xfrm>
              <a:off x="6012000" y="522936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WordArt 397"/>
            <p:cNvSpPr txBox="1"/>
            <p:nvPr/>
          </p:nvSpPr>
          <p:spPr>
            <a:xfrm>
              <a:off x="3706920" y="414828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Group 398"/>
            <p:cNvGrpSpPr/>
            <p:nvPr/>
          </p:nvGrpSpPr>
          <p:grpSpPr>
            <a:xfrm>
              <a:off x="5048640" y="1601640"/>
              <a:ext cx="484560" cy="484560"/>
              <a:chOff x="5048640" y="1601640"/>
              <a:chExt cx="484560" cy="484560"/>
            </a:xfrm>
          </p:grpSpPr>
          <p:sp>
            <p:nvSpPr>
              <p:cNvPr id="256" name="Oval 399"/>
              <p:cNvSpPr/>
              <p:nvPr/>
            </p:nvSpPr>
            <p:spPr>
              <a:xfrm>
                <a:off x="5075280" y="1628640"/>
                <a:ext cx="431280" cy="43128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257" name="Group 400"/>
              <p:cNvGrpSpPr/>
              <p:nvPr/>
            </p:nvGrpSpPr>
            <p:grpSpPr>
              <a:xfrm>
                <a:off x="5048640" y="1601640"/>
                <a:ext cx="484560" cy="484560"/>
                <a:chOff x="5048640" y="1601640"/>
                <a:chExt cx="484560" cy="484560"/>
              </a:xfrm>
            </p:grpSpPr>
            <p:sp>
              <p:nvSpPr>
                <p:cNvPr id="258" name="AutoShape 401"/>
                <p:cNvSpPr/>
                <p:nvPr/>
              </p:nvSpPr>
              <p:spPr>
                <a:xfrm>
                  <a:off x="5114160" y="166788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AutoShape 402"/>
                <p:cNvSpPr/>
                <p:nvPr/>
              </p:nvSpPr>
              <p:spPr>
                <a:xfrm rot="3528000">
                  <a:off x="5114160" y="166716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60" name="Group 403"/>
            <p:cNvGrpSpPr/>
            <p:nvPr/>
          </p:nvGrpSpPr>
          <p:grpSpPr>
            <a:xfrm>
              <a:off x="5048640" y="2178000"/>
              <a:ext cx="484560" cy="484560"/>
              <a:chOff x="5048640" y="2178000"/>
              <a:chExt cx="484560" cy="484560"/>
            </a:xfrm>
          </p:grpSpPr>
          <p:sp>
            <p:nvSpPr>
              <p:cNvPr id="261" name="Oval 404"/>
              <p:cNvSpPr/>
              <p:nvPr/>
            </p:nvSpPr>
            <p:spPr>
              <a:xfrm>
                <a:off x="5075280" y="2205000"/>
                <a:ext cx="431280" cy="431280"/>
              </a:xfrm>
              <a:prstGeom prst="ellipse">
                <a:avLst/>
              </a:prstGeom>
              <a:solidFill>
                <a:schemeClr val="tx1">
                  <a:alpha val="30000"/>
                </a:schemeClr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2" name="Group 405"/>
              <p:cNvGrpSpPr/>
              <p:nvPr/>
            </p:nvGrpSpPr>
            <p:grpSpPr>
              <a:xfrm>
                <a:off x="5048640" y="2178000"/>
                <a:ext cx="484560" cy="484560"/>
                <a:chOff x="5048640" y="2178000"/>
                <a:chExt cx="484560" cy="484560"/>
              </a:xfrm>
            </p:grpSpPr>
            <p:sp>
              <p:nvSpPr>
                <p:cNvPr id="263" name="AutoShape 406"/>
                <p:cNvSpPr/>
                <p:nvPr/>
              </p:nvSpPr>
              <p:spPr>
                <a:xfrm>
                  <a:off x="5114160" y="224388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AutoShape 407"/>
                <p:cNvSpPr/>
                <p:nvPr/>
              </p:nvSpPr>
              <p:spPr>
                <a:xfrm rot="3528000">
                  <a:off x="5114160" y="224352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65" name="Group 408"/>
            <p:cNvGrpSpPr/>
            <p:nvPr/>
          </p:nvGrpSpPr>
          <p:grpSpPr>
            <a:xfrm>
              <a:off x="5048640" y="2754360"/>
              <a:ext cx="484560" cy="484560"/>
              <a:chOff x="5048640" y="2754360"/>
              <a:chExt cx="484560" cy="484560"/>
            </a:xfrm>
          </p:grpSpPr>
          <p:sp>
            <p:nvSpPr>
              <p:cNvPr id="266" name="Oval 409"/>
              <p:cNvSpPr/>
              <p:nvPr/>
            </p:nvSpPr>
            <p:spPr>
              <a:xfrm>
                <a:off x="5075280" y="2781360"/>
                <a:ext cx="431280" cy="431280"/>
              </a:xfrm>
              <a:prstGeom prst="ellipse">
                <a:avLst/>
              </a:prstGeom>
              <a:solidFill>
                <a:schemeClr val="tx1">
                  <a:alpha val="55000"/>
                </a:schemeClr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7" name="Group 410"/>
              <p:cNvGrpSpPr/>
              <p:nvPr/>
            </p:nvGrpSpPr>
            <p:grpSpPr>
              <a:xfrm>
                <a:off x="5048640" y="2754360"/>
                <a:ext cx="484560" cy="484560"/>
                <a:chOff x="5048640" y="2754360"/>
                <a:chExt cx="484560" cy="484560"/>
              </a:xfrm>
            </p:grpSpPr>
            <p:sp>
              <p:nvSpPr>
                <p:cNvPr id="268" name="AutoShape 411"/>
                <p:cNvSpPr/>
                <p:nvPr/>
              </p:nvSpPr>
              <p:spPr>
                <a:xfrm>
                  <a:off x="5114160" y="282024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9" name="AutoShape 412"/>
                <p:cNvSpPr/>
                <p:nvPr/>
              </p:nvSpPr>
              <p:spPr>
                <a:xfrm rot="3528000">
                  <a:off x="5114160" y="281988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70" name="Group 413"/>
            <p:cNvGrpSpPr/>
            <p:nvPr/>
          </p:nvGrpSpPr>
          <p:grpSpPr>
            <a:xfrm>
              <a:off x="5048640" y="3330720"/>
              <a:ext cx="484560" cy="484560"/>
              <a:chOff x="5048640" y="3330720"/>
              <a:chExt cx="484560" cy="484560"/>
            </a:xfrm>
          </p:grpSpPr>
          <p:sp>
            <p:nvSpPr>
              <p:cNvPr id="271" name="Oval 414"/>
              <p:cNvSpPr/>
              <p:nvPr/>
            </p:nvSpPr>
            <p:spPr>
              <a:xfrm>
                <a:off x="5075280" y="3357720"/>
                <a:ext cx="431280" cy="431280"/>
              </a:xfrm>
              <a:prstGeom prst="ellipse">
                <a:avLst/>
              </a:prstGeom>
              <a:solidFill>
                <a:schemeClr val="tx1">
                  <a:alpha val="80000"/>
                </a:schemeClr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2" name="Group 415"/>
              <p:cNvGrpSpPr/>
              <p:nvPr/>
            </p:nvGrpSpPr>
            <p:grpSpPr>
              <a:xfrm>
                <a:off x="5048640" y="3330720"/>
                <a:ext cx="484560" cy="484560"/>
                <a:chOff x="5048640" y="3330720"/>
                <a:chExt cx="484560" cy="484560"/>
              </a:xfrm>
            </p:grpSpPr>
            <p:sp>
              <p:nvSpPr>
                <p:cNvPr id="273" name="AutoShape 416"/>
                <p:cNvSpPr/>
                <p:nvPr/>
              </p:nvSpPr>
              <p:spPr>
                <a:xfrm>
                  <a:off x="5114160" y="339660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4" name="AutoShape 417"/>
                <p:cNvSpPr/>
                <p:nvPr/>
              </p:nvSpPr>
              <p:spPr>
                <a:xfrm rot="3528000">
                  <a:off x="5114160" y="339624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75" name="WordArt 418"/>
            <p:cNvSpPr txBox="1"/>
            <p:nvPr/>
          </p:nvSpPr>
          <p:spPr>
            <a:xfrm>
              <a:off x="5651640" y="1773360"/>
              <a:ext cx="2447640" cy="163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WordArt 419"/>
            <p:cNvSpPr txBox="1"/>
            <p:nvPr/>
          </p:nvSpPr>
          <p:spPr>
            <a:xfrm>
              <a:off x="5651640" y="2328840"/>
              <a:ext cx="2447640" cy="163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WordArt 420"/>
            <p:cNvSpPr txBox="1"/>
            <p:nvPr/>
          </p:nvSpPr>
          <p:spPr>
            <a:xfrm>
              <a:off x="5651640" y="2905200"/>
              <a:ext cx="2447640" cy="163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WordArt 421"/>
            <p:cNvSpPr txBox="1"/>
            <p:nvPr/>
          </p:nvSpPr>
          <p:spPr>
            <a:xfrm>
              <a:off x="5651640" y="3481560"/>
              <a:ext cx="2447640" cy="163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Text Box 4"/>
          <p:cNvSpPr/>
          <p:nvPr/>
        </p:nvSpPr>
        <p:spPr>
          <a:xfrm>
            <a:off x="843480" y="633024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1" name="Group 503"/>
          <p:cNvGrpSpPr/>
          <p:nvPr/>
        </p:nvGrpSpPr>
        <p:grpSpPr>
          <a:xfrm>
            <a:off x="684360" y="1484280"/>
            <a:ext cx="7632360" cy="4608000"/>
            <a:chOff x="684360" y="1484280"/>
            <a:chExt cx="7632360" cy="4608000"/>
          </a:xfrm>
        </p:grpSpPr>
        <p:sp>
          <p:nvSpPr>
            <p:cNvPr id="282" name="Freeform 504"/>
            <p:cNvSpPr/>
            <p:nvPr/>
          </p:nvSpPr>
          <p:spPr>
            <a:xfrm>
              <a:off x="2554200" y="5443560"/>
              <a:ext cx="1152000" cy="64728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505"/>
            <p:cNvSpPr/>
            <p:nvPr/>
          </p:nvSpPr>
          <p:spPr>
            <a:xfrm>
              <a:off x="3706920" y="4795920"/>
              <a:ext cx="1152000" cy="64728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506"/>
            <p:cNvSpPr/>
            <p:nvPr/>
          </p:nvSpPr>
          <p:spPr>
            <a:xfrm>
              <a:off x="4857840" y="4146480"/>
              <a:ext cx="1152000" cy="64728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507"/>
            <p:cNvSpPr/>
            <p:nvPr/>
          </p:nvSpPr>
          <p:spPr>
            <a:xfrm>
              <a:off x="6010200" y="3498840"/>
              <a:ext cx="1152000" cy="64728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508"/>
            <p:cNvSpPr/>
            <p:nvPr/>
          </p:nvSpPr>
          <p:spPr>
            <a:xfrm>
              <a:off x="7162920" y="2851200"/>
              <a:ext cx="1152000" cy="64728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Oval 509"/>
            <p:cNvSpPr/>
            <p:nvPr/>
          </p:nvSpPr>
          <p:spPr>
            <a:xfrm>
              <a:off x="1546200" y="5227560"/>
              <a:ext cx="791640" cy="791640"/>
            </a:xfrm>
            <a:prstGeom prst="ellipse">
              <a:avLst/>
            </a:prstGeom>
            <a:solidFill>
              <a:srgbClr val="ff0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288" name="Group 510"/>
            <p:cNvGrpSpPr/>
            <p:nvPr/>
          </p:nvGrpSpPr>
          <p:grpSpPr>
            <a:xfrm>
              <a:off x="1497240" y="5178240"/>
              <a:ext cx="888840" cy="888840"/>
              <a:chOff x="1497240" y="5178240"/>
              <a:chExt cx="888840" cy="888840"/>
            </a:xfrm>
          </p:grpSpPr>
          <p:sp>
            <p:nvSpPr>
              <p:cNvPr id="289" name="AutoShape 511"/>
              <p:cNvSpPr/>
              <p:nvPr/>
            </p:nvSpPr>
            <p:spPr>
              <a:xfrm>
                <a:off x="1617840" y="5299200"/>
                <a:ext cx="647280" cy="647280"/>
              </a:xfrm>
              <a:custGeom>
                <a:avLst/>
                <a:gdLst>
                  <a:gd name="textAreaLeft" fmla="*/ 72360 w 647280"/>
                  <a:gd name="textAreaRight" fmla="*/ 574920 w 647280"/>
                  <a:gd name="textAreaTop" fmla="*/ 0 h 647280"/>
                  <a:gd name="textAreaBottom" fmla="*/ 1587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AutoShape 512"/>
              <p:cNvSpPr/>
              <p:nvPr/>
            </p:nvSpPr>
            <p:spPr>
              <a:xfrm rot="3528000">
                <a:off x="1617840" y="5298840"/>
                <a:ext cx="647280" cy="647280"/>
              </a:xfrm>
              <a:custGeom>
                <a:avLst/>
                <a:gdLst>
                  <a:gd name="textAreaLeft" fmla="*/ 183960 w 647280"/>
                  <a:gd name="textAreaRight" fmla="*/ 463320 w 647280"/>
                  <a:gd name="textAreaTop" fmla="*/ 0 h 647280"/>
                  <a:gd name="textAreaBottom" fmla="*/ 860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1" name="WordArt 513"/>
            <p:cNvSpPr txBox="1"/>
            <p:nvPr/>
          </p:nvSpPr>
          <p:spPr>
            <a:xfrm>
              <a:off x="1689120" y="5586480"/>
              <a:ext cx="504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514"/>
            <p:cNvSpPr/>
            <p:nvPr/>
          </p:nvSpPr>
          <p:spPr>
            <a:xfrm>
              <a:off x="2698920" y="4579920"/>
              <a:ext cx="791640" cy="791640"/>
            </a:xfrm>
            <a:prstGeom prst="ellipse">
              <a:avLst/>
            </a:prstGeom>
            <a:solidFill>
              <a:srgbClr val="ff2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293" name="Group 515"/>
            <p:cNvGrpSpPr/>
            <p:nvPr/>
          </p:nvGrpSpPr>
          <p:grpSpPr>
            <a:xfrm>
              <a:off x="2649600" y="4530600"/>
              <a:ext cx="888840" cy="888840"/>
              <a:chOff x="2649600" y="4530600"/>
              <a:chExt cx="888840" cy="888840"/>
            </a:xfrm>
          </p:grpSpPr>
          <p:sp>
            <p:nvSpPr>
              <p:cNvPr id="294" name="AutoShape 516"/>
              <p:cNvSpPr/>
              <p:nvPr/>
            </p:nvSpPr>
            <p:spPr>
              <a:xfrm>
                <a:off x="2770200" y="4651200"/>
                <a:ext cx="647280" cy="647280"/>
              </a:xfrm>
              <a:custGeom>
                <a:avLst/>
                <a:gdLst>
                  <a:gd name="textAreaLeft" fmla="*/ 72360 w 647280"/>
                  <a:gd name="textAreaRight" fmla="*/ 574920 w 647280"/>
                  <a:gd name="textAreaTop" fmla="*/ 0 h 647280"/>
                  <a:gd name="textAreaBottom" fmla="*/ 1587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AutoShape 517"/>
              <p:cNvSpPr/>
              <p:nvPr/>
            </p:nvSpPr>
            <p:spPr>
              <a:xfrm rot="3528000">
                <a:off x="2770200" y="4651200"/>
                <a:ext cx="647280" cy="647280"/>
              </a:xfrm>
              <a:custGeom>
                <a:avLst/>
                <a:gdLst>
                  <a:gd name="textAreaLeft" fmla="*/ 183960 w 647280"/>
                  <a:gd name="textAreaRight" fmla="*/ 463320 w 647280"/>
                  <a:gd name="textAreaTop" fmla="*/ 0 h 647280"/>
                  <a:gd name="textAreaBottom" fmla="*/ 860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6" name="WordArt 518"/>
            <p:cNvSpPr txBox="1"/>
            <p:nvPr/>
          </p:nvSpPr>
          <p:spPr>
            <a:xfrm>
              <a:off x="2841480" y="4938840"/>
              <a:ext cx="504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519"/>
            <p:cNvSpPr/>
            <p:nvPr/>
          </p:nvSpPr>
          <p:spPr>
            <a:xfrm>
              <a:off x="3851280" y="3932280"/>
              <a:ext cx="791640" cy="791640"/>
            </a:xfrm>
            <a:prstGeom prst="ellipse">
              <a:avLst/>
            </a:prstGeom>
            <a:solidFill>
              <a:srgbClr val="ff5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298" name="Group 520"/>
            <p:cNvGrpSpPr/>
            <p:nvPr/>
          </p:nvGrpSpPr>
          <p:grpSpPr>
            <a:xfrm>
              <a:off x="3801960" y="3882600"/>
              <a:ext cx="888840" cy="888840"/>
              <a:chOff x="3801960" y="3882600"/>
              <a:chExt cx="888840" cy="888840"/>
            </a:xfrm>
          </p:grpSpPr>
          <p:sp>
            <p:nvSpPr>
              <p:cNvPr id="299" name="AutoShape 521"/>
              <p:cNvSpPr/>
              <p:nvPr/>
            </p:nvSpPr>
            <p:spPr>
              <a:xfrm>
                <a:off x="3922560" y="4003560"/>
                <a:ext cx="647280" cy="647280"/>
              </a:xfrm>
              <a:custGeom>
                <a:avLst/>
                <a:gdLst>
                  <a:gd name="textAreaLeft" fmla="*/ 72360 w 647280"/>
                  <a:gd name="textAreaRight" fmla="*/ 574920 w 647280"/>
                  <a:gd name="textAreaTop" fmla="*/ 0 h 647280"/>
                  <a:gd name="textAreaBottom" fmla="*/ 1587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AutoShape 522"/>
              <p:cNvSpPr/>
              <p:nvPr/>
            </p:nvSpPr>
            <p:spPr>
              <a:xfrm rot="3528000">
                <a:off x="3922560" y="4003200"/>
                <a:ext cx="647280" cy="647280"/>
              </a:xfrm>
              <a:custGeom>
                <a:avLst/>
                <a:gdLst>
                  <a:gd name="textAreaLeft" fmla="*/ 183960 w 647280"/>
                  <a:gd name="textAreaRight" fmla="*/ 463320 w 647280"/>
                  <a:gd name="textAreaTop" fmla="*/ 0 h 647280"/>
                  <a:gd name="textAreaBottom" fmla="*/ 860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1" name="WordArt 523"/>
            <p:cNvSpPr txBox="1"/>
            <p:nvPr/>
          </p:nvSpPr>
          <p:spPr>
            <a:xfrm>
              <a:off x="3994200" y="4290840"/>
              <a:ext cx="504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524"/>
            <p:cNvSpPr/>
            <p:nvPr/>
          </p:nvSpPr>
          <p:spPr>
            <a:xfrm>
              <a:off x="5003640" y="3284640"/>
              <a:ext cx="791640" cy="791640"/>
            </a:xfrm>
            <a:prstGeom prst="ellipse">
              <a:avLst/>
            </a:prstGeom>
            <a:solidFill>
              <a:srgbClr val="ff7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303" name="Group 525"/>
            <p:cNvGrpSpPr/>
            <p:nvPr/>
          </p:nvGrpSpPr>
          <p:grpSpPr>
            <a:xfrm>
              <a:off x="4954680" y="3234960"/>
              <a:ext cx="888840" cy="888840"/>
              <a:chOff x="4954680" y="3234960"/>
              <a:chExt cx="888840" cy="888840"/>
            </a:xfrm>
          </p:grpSpPr>
          <p:sp>
            <p:nvSpPr>
              <p:cNvPr id="304" name="AutoShape 526"/>
              <p:cNvSpPr/>
              <p:nvPr/>
            </p:nvSpPr>
            <p:spPr>
              <a:xfrm>
                <a:off x="5075280" y="3355920"/>
                <a:ext cx="647280" cy="647280"/>
              </a:xfrm>
              <a:custGeom>
                <a:avLst/>
                <a:gdLst>
                  <a:gd name="textAreaLeft" fmla="*/ 72360 w 647280"/>
                  <a:gd name="textAreaRight" fmla="*/ 574920 w 647280"/>
                  <a:gd name="textAreaTop" fmla="*/ 0 h 647280"/>
                  <a:gd name="textAreaBottom" fmla="*/ 1587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AutoShape 527"/>
              <p:cNvSpPr/>
              <p:nvPr/>
            </p:nvSpPr>
            <p:spPr>
              <a:xfrm rot="3528000">
                <a:off x="5075280" y="3355560"/>
                <a:ext cx="647280" cy="647280"/>
              </a:xfrm>
              <a:custGeom>
                <a:avLst/>
                <a:gdLst>
                  <a:gd name="textAreaLeft" fmla="*/ 183960 w 647280"/>
                  <a:gd name="textAreaRight" fmla="*/ 463320 w 647280"/>
                  <a:gd name="textAreaTop" fmla="*/ 0 h 647280"/>
                  <a:gd name="textAreaBottom" fmla="*/ 860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6" name="WordArt 528"/>
            <p:cNvSpPr txBox="1"/>
            <p:nvPr/>
          </p:nvSpPr>
          <p:spPr>
            <a:xfrm>
              <a:off x="5146560" y="3643200"/>
              <a:ext cx="504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9"/>
            <p:cNvSpPr/>
            <p:nvPr/>
          </p:nvSpPr>
          <p:spPr>
            <a:xfrm>
              <a:off x="6154560" y="2635200"/>
              <a:ext cx="791640" cy="791640"/>
            </a:xfrm>
            <a:prstGeom prst="ellipse">
              <a:avLst/>
            </a:prstGeom>
            <a:solidFill>
              <a:srgbClr val="ffa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308" name="Group 530"/>
            <p:cNvGrpSpPr/>
            <p:nvPr/>
          </p:nvGrpSpPr>
          <p:grpSpPr>
            <a:xfrm>
              <a:off x="6105600" y="2585880"/>
              <a:ext cx="888840" cy="888840"/>
              <a:chOff x="6105600" y="2585880"/>
              <a:chExt cx="888840" cy="888840"/>
            </a:xfrm>
          </p:grpSpPr>
          <p:sp>
            <p:nvSpPr>
              <p:cNvPr id="309" name="AutoShape 531"/>
              <p:cNvSpPr/>
              <p:nvPr/>
            </p:nvSpPr>
            <p:spPr>
              <a:xfrm>
                <a:off x="6226200" y="2706840"/>
                <a:ext cx="647280" cy="647280"/>
              </a:xfrm>
              <a:custGeom>
                <a:avLst/>
                <a:gdLst>
                  <a:gd name="textAreaLeft" fmla="*/ 72360 w 647280"/>
                  <a:gd name="textAreaRight" fmla="*/ 574920 w 647280"/>
                  <a:gd name="textAreaTop" fmla="*/ 0 h 647280"/>
                  <a:gd name="textAreaBottom" fmla="*/ 1587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AutoShape 532"/>
              <p:cNvSpPr/>
              <p:nvPr/>
            </p:nvSpPr>
            <p:spPr>
              <a:xfrm rot="3528000">
                <a:off x="6226200" y="2706480"/>
                <a:ext cx="647280" cy="647280"/>
              </a:xfrm>
              <a:custGeom>
                <a:avLst/>
                <a:gdLst>
                  <a:gd name="textAreaLeft" fmla="*/ 183960 w 647280"/>
                  <a:gd name="textAreaRight" fmla="*/ 463320 w 647280"/>
                  <a:gd name="textAreaTop" fmla="*/ 0 h 647280"/>
                  <a:gd name="textAreaBottom" fmla="*/ 860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1" name="WordArt 533"/>
            <p:cNvSpPr txBox="1"/>
            <p:nvPr/>
          </p:nvSpPr>
          <p:spPr>
            <a:xfrm>
              <a:off x="6297480" y="2994120"/>
              <a:ext cx="504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34"/>
            <p:cNvSpPr/>
            <p:nvPr/>
          </p:nvSpPr>
          <p:spPr>
            <a:xfrm>
              <a:off x="7307280" y="1987560"/>
              <a:ext cx="791640" cy="791640"/>
            </a:xfrm>
            <a:prstGeom prst="ellipse">
              <a:avLst/>
            </a:prstGeom>
            <a:solidFill>
              <a:srgbClr val="ffc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313" name="Group 535"/>
            <p:cNvGrpSpPr/>
            <p:nvPr/>
          </p:nvGrpSpPr>
          <p:grpSpPr>
            <a:xfrm>
              <a:off x="7257960" y="1938240"/>
              <a:ext cx="888840" cy="888840"/>
              <a:chOff x="7257960" y="1938240"/>
              <a:chExt cx="888840" cy="888840"/>
            </a:xfrm>
          </p:grpSpPr>
          <p:sp>
            <p:nvSpPr>
              <p:cNvPr id="314" name="AutoShape 536"/>
              <p:cNvSpPr/>
              <p:nvPr/>
            </p:nvSpPr>
            <p:spPr>
              <a:xfrm>
                <a:off x="7378560" y="2058840"/>
                <a:ext cx="647280" cy="647280"/>
              </a:xfrm>
              <a:custGeom>
                <a:avLst/>
                <a:gdLst>
                  <a:gd name="textAreaLeft" fmla="*/ 72360 w 647280"/>
                  <a:gd name="textAreaRight" fmla="*/ 574920 w 647280"/>
                  <a:gd name="textAreaTop" fmla="*/ 0 h 647280"/>
                  <a:gd name="textAreaBottom" fmla="*/ 1587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AutoShape 537"/>
              <p:cNvSpPr/>
              <p:nvPr/>
            </p:nvSpPr>
            <p:spPr>
              <a:xfrm rot="3528000">
                <a:off x="7378560" y="2058840"/>
                <a:ext cx="647280" cy="647280"/>
              </a:xfrm>
              <a:custGeom>
                <a:avLst/>
                <a:gdLst>
                  <a:gd name="textAreaLeft" fmla="*/ 183960 w 647280"/>
                  <a:gd name="textAreaRight" fmla="*/ 463320 w 647280"/>
                  <a:gd name="textAreaTop" fmla="*/ 0 h 647280"/>
                  <a:gd name="textAreaBottom" fmla="*/ 860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6" name="WordArt 538"/>
            <p:cNvSpPr txBox="1"/>
            <p:nvPr/>
          </p:nvSpPr>
          <p:spPr>
            <a:xfrm>
              <a:off x="7450200" y="2346480"/>
              <a:ext cx="504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AutoShape 539"/>
            <p:cNvSpPr/>
            <p:nvPr/>
          </p:nvSpPr>
          <p:spPr>
            <a:xfrm rot="17430000">
              <a:off x="1834920" y="4579920"/>
              <a:ext cx="936360" cy="936360"/>
            </a:xfrm>
            <a:custGeom>
              <a:avLst/>
              <a:gdLst>
                <a:gd name="textAreaLeft" fmla="*/ 136440 w 936360"/>
                <a:gd name="textAreaRight" fmla="*/ 799920 w 936360"/>
                <a:gd name="textAreaTop" fmla="*/ 136440 h 936360"/>
                <a:gd name="textAreaBottom" fmla="*/ 7999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10144" y="5399"/>
                    <a:pt x="9494" y="5519"/>
                    <a:pt x="8881" y="5752"/>
                  </a:cubicBezTo>
                  <a:lnTo>
                    <a:pt x="6963" y="704"/>
                  </a:lnTo>
                  <a:cubicBezTo>
                    <a:pt x="8189" y="238"/>
                    <a:pt x="948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dddddd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AutoShape 540"/>
            <p:cNvSpPr/>
            <p:nvPr/>
          </p:nvSpPr>
          <p:spPr>
            <a:xfrm rot="17430000">
              <a:off x="2987640" y="3932280"/>
              <a:ext cx="936360" cy="936360"/>
            </a:xfrm>
            <a:custGeom>
              <a:avLst/>
              <a:gdLst>
                <a:gd name="textAreaLeft" fmla="*/ 136440 w 936360"/>
                <a:gd name="textAreaRight" fmla="*/ 799920 w 936360"/>
                <a:gd name="textAreaTop" fmla="*/ 136440 h 936360"/>
                <a:gd name="textAreaBottom" fmla="*/ 7999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10144" y="5399"/>
                    <a:pt x="9494" y="5519"/>
                    <a:pt x="8881" y="5752"/>
                  </a:cubicBezTo>
                  <a:lnTo>
                    <a:pt x="6963" y="704"/>
                  </a:lnTo>
                  <a:cubicBezTo>
                    <a:pt x="8189" y="238"/>
                    <a:pt x="948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969696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AutoShape 541"/>
            <p:cNvSpPr/>
            <p:nvPr/>
          </p:nvSpPr>
          <p:spPr>
            <a:xfrm rot="17430000">
              <a:off x="4138560" y="3284640"/>
              <a:ext cx="936360" cy="936360"/>
            </a:xfrm>
            <a:custGeom>
              <a:avLst/>
              <a:gdLst>
                <a:gd name="textAreaLeft" fmla="*/ 136440 w 936360"/>
                <a:gd name="textAreaRight" fmla="*/ 799920 w 936360"/>
                <a:gd name="textAreaTop" fmla="*/ 136440 h 936360"/>
                <a:gd name="textAreaBottom" fmla="*/ 7999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10144" y="5399"/>
                    <a:pt x="9494" y="5519"/>
                    <a:pt x="8881" y="5752"/>
                  </a:cubicBezTo>
                  <a:lnTo>
                    <a:pt x="6963" y="704"/>
                  </a:lnTo>
                  <a:cubicBezTo>
                    <a:pt x="8189" y="238"/>
                    <a:pt x="948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5f5f5f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AutoShape 542"/>
            <p:cNvSpPr/>
            <p:nvPr/>
          </p:nvSpPr>
          <p:spPr>
            <a:xfrm rot="17430000">
              <a:off x="5290920" y="2635200"/>
              <a:ext cx="936360" cy="936360"/>
            </a:xfrm>
            <a:custGeom>
              <a:avLst/>
              <a:gdLst>
                <a:gd name="textAreaLeft" fmla="*/ 136440 w 936360"/>
                <a:gd name="textAreaRight" fmla="*/ 799920 w 936360"/>
                <a:gd name="textAreaTop" fmla="*/ 136440 h 936360"/>
                <a:gd name="textAreaBottom" fmla="*/ 7999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10144" y="5399"/>
                    <a:pt x="9494" y="5519"/>
                    <a:pt x="8881" y="5752"/>
                  </a:cubicBezTo>
                  <a:lnTo>
                    <a:pt x="6963" y="704"/>
                  </a:lnTo>
                  <a:cubicBezTo>
                    <a:pt x="8189" y="238"/>
                    <a:pt x="948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4d4d4d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AutoShape 543"/>
            <p:cNvSpPr/>
            <p:nvPr/>
          </p:nvSpPr>
          <p:spPr>
            <a:xfrm rot="17430000">
              <a:off x="6443640" y="1987560"/>
              <a:ext cx="936360" cy="936360"/>
            </a:xfrm>
            <a:custGeom>
              <a:avLst/>
              <a:gdLst>
                <a:gd name="textAreaLeft" fmla="*/ 136440 w 936360"/>
                <a:gd name="textAreaRight" fmla="*/ 799920 w 936360"/>
                <a:gd name="textAreaTop" fmla="*/ 136440 h 936360"/>
                <a:gd name="textAreaBottom" fmla="*/ 7999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10144" y="5399"/>
                    <a:pt x="9494" y="5519"/>
                    <a:pt x="8881" y="5752"/>
                  </a:cubicBezTo>
                  <a:lnTo>
                    <a:pt x="6963" y="704"/>
                  </a:lnTo>
                  <a:cubicBezTo>
                    <a:pt x="8189" y="238"/>
                    <a:pt x="948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10141e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Line 544"/>
            <p:cNvSpPr/>
            <p:nvPr/>
          </p:nvSpPr>
          <p:spPr>
            <a:xfrm flipH="1">
              <a:off x="1330200" y="4724280"/>
              <a:ext cx="865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Line 545"/>
            <p:cNvSpPr/>
            <p:nvPr/>
          </p:nvSpPr>
          <p:spPr>
            <a:xfrm flipH="1">
              <a:off x="1330200" y="4076640"/>
              <a:ext cx="201600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Line 546"/>
            <p:cNvSpPr/>
            <p:nvPr/>
          </p:nvSpPr>
          <p:spPr>
            <a:xfrm flipH="1">
              <a:off x="1330200" y="3427200"/>
              <a:ext cx="316872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Line 547"/>
            <p:cNvSpPr/>
            <p:nvPr/>
          </p:nvSpPr>
          <p:spPr>
            <a:xfrm flipH="1">
              <a:off x="1330200" y="2779560"/>
              <a:ext cx="4321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Line 548"/>
            <p:cNvSpPr/>
            <p:nvPr/>
          </p:nvSpPr>
          <p:spPr>
            <a:xfrm flipH="1">
              <a:off x="1330200" y="2131920"/>
              <a:ext cx="547380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WordArt 549"/>
            <p:cNvSpPr txBox="1"/>
            <p:nvPr/>
          </p:nvSpPr>
          <p:spPr>
            <a:xfrm>
              <a:off x="684360" y="465300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WordArt 550"/>
            <p:cNvSpPr txBox="1"/>
            <p:nvPr/>
          </p:nvSpPr>
          <p:spPr>
            <a:xfrm>
              <a:off x="684360" y="400536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WordArt 551"/>
            <p:cNvSpPr txBox="1"/>
            <p:nvPr/>
          </p:nvSpPr>
          <p:spPr>
            <a:xfrm>
              <a:off x="684360" y="335772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WordArt 552"/>
            <p:cNvSpPr txBox="1"/>
            <p:nvPr/>
          </p:nvSpPr>
          <p:spPr>
            <a:xfrm>
              <a:off x="684360" y="270972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WordArt 553"/>
            <p:cNvSpPr txBox="1"/>
            <p:nvPr/>
          </p:nvSpPr>
          <p:spPr>
            <a:xfrm>
              <a:off x="684360" y="206064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554"/>
            <p:cNvSpPr/>
            <p:nvPr/>
          </p:nvSpPr>
          <p:spPr>
            <a:xfrm>
              <a:off x="1332000" y="1484280"/>
              <a:ext cx="6984720" cy="4608000"/>
            </a:xfrm>
            <a:custGeom>
              <a:avLst/>
              <a:gdLst>
                <a:gd name="textAreaLeft" fmla="*/ 0 w 6984720"/>
                <a:gd name="textAreaRight" fmla="*/ 6985080 w 6984720"/>
                <a:gd name="textAreaTop" fmla="*/ 0 h 4608000"/>
                <a:gd name="textAreaBottom" fmla="*/ 4608360 h 4608000"/>
              </a:gdLst>
              <a:ahLst/>
              <a:rect l="textAreaLeft" t="textAreaTop" r="textAreaRight" b="textAreaBottom"/>
              <a:pathLst>
                <a:path w="4400" h="2903">
                  <a:moveTo>
                    <a:pt x="0" y="0"/>
                  </a:moveTo>
                  <a:lnTo>
                    <a:pt x="0" y="2903"/>
                  </a:lnTo>
                  <a:lnTo>
                    <a:pt x="4400" y="2903"/>
                  </a:lnTo>
                </a:path>
              </a:pathLst>
            </a:custGeom>
            <a:noFill/>
            <a:ln w="381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Group 325"/>
          <p:cNvGrpSpPr/>
          <p:nvPr/>
        </p:nvGrpSpPr>
        <p:grpSpPr>
          <a:xfrm>
            <a:off x="898560" y="1773360"/>
            <a:ext cx="7345080" cy="4148280"/>
            <a:chOff x="898560" y="1773360"/>
            <a:chExt cx="7345080" cy="4148280"/>
          </a:xfrm>
        </p:grpSpPr>
        <p:sp>
          <p:nvSpPr>
            <p:cNvPr id="335" name="Oval 326"/>
            <p:cNvSpPr/>
            <p:nvPr/>
          </p:nvSpPr>
          <p:spPr>
            <a:xfrm>
              <a:off x="4859280" y="2575080"/>
              <a:ext cx="1439640" cy="1439640"/>
            </a:xfrm>
            <a:prstGeom prst="ellipse">
              <a:avLst/>
            </a:prstGeom>
            <a:solidFill>
              <a:schemeClr val="tx2">
                <a:alpha val="50000"/>
              </a:schemeClr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Arc 327"/>
            <p:cNvSpPr/>
            <p:nvPr/>
          </p:nvSpPr>
          <p:spPr>
            <a:xfrm>
              <a:off x="1596960" y="2281320"/>
              <a:ext cx="3427200" cy="3427200"/>
            </a:xfrm>
            <a:custGeom>
              <a:avLst/>
              <a:gdLst>
                <a:gd name="textAreaLeft" fmla="*/ 0 w 3427200"/>
                <a:gd name="textAreaRight" fmla="*/ 3427560 w 3427200"/>
                <a:gd name="textAreaTop" fmla="*/ 0 h 3427200"/>
                <a:gd name="textAreaBottom" fmla="*/ 3427560 h 3427200"/>
              </a:gdLst>
              <a:ahLst/>
              <a:rect l="textAreaLeft" t="textAreaTop" r="textAreaRight" b="textAreaBottom"/>
              <a:pathLst>
                <a:path fill="none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</a:path>
                <a:path stroke="0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a000"/>
            </a:solidFill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Arc 328"/>
            <p:cNvSpPr/>
            <p:nvPr/>
          </p:nvSpPr>
          <p:spPr>
            <a:xfrm>
              <a:off x="1596960" y="3422520"/>
              <a:ext cx="2285640" cy="2285640"/>
            </a:xfrm>
            <a:custGeom>
              <a:avLst/>
              <a:gdLst>
                <a:gd name="textAreaLeft" fmla="*/ 0 w 2285640"/>
                <a:gd name="textAreaRight" fmla="*/ 2286000 w 2285640"/>
                <a:gd name="textAreaTop" fmla="*/ 0 h 2285640"/>
                <a:gd name="textAreaBottom" fmla="*/ 2286000 h 2285640"/>
              </a:gdLst>
              <a:ahLst/>
              <a:rect l="textAreaLeft" t="textAreaTop" r="textAreaRight" b="textAreaBottom"/>
              <a:pathLst>
                <a:path fill="none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</a:path>
                <a:path stroke="0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5000"/>
            </a:solidFill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Arc 329"/>
            <p:cNvSpPr/>
            <p:nvPr/>
          </p:nvSpPr>
          <p:spPr>
            <a:xfrm>
              <a:off x="1596960" y="4567320"/>
              <a:ext cx="1141200" cy="114120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fill="none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</a:path>
                <a:path stroke="0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30"/>
            <p:cNvSpPr/>
            <p:nvPr/>
          </p:nvSpPr>
          <p:spPr>
            <a:xfrm>
              <a:off x="1596960" y="1773360"/>
              <a:ext cx="5206680" cy="3935160"/>
            </a:xfrm>
            <a:custGeom>
              <a:avLst/>
              <a:gdLst>
                <a:gd name="textAreaLeft" fmla="*/ 0 w 5206680"/>
                <a:gd name="textAreaRight" fmla="*/ 5207040 w 5206680"/>
                <a:gd name="textAreaTop" fmla="*/ 0 h 3935160"/>
                <a:gd name="textAreaBottom" fmla="*/ 3935520 h 3935160"/>
              </a:gdLst>
              <a:ahLst/>
              <a:rect l="textAreaLeft" t="textAreaTop" r="textAreaRight" b="textAreaBottom"/>
              <a:pathLst>
                <a:path w="4400" h="2903">
                  <a:moveTo>
                    <a:pt x="0" y="0"/>
                  </a:moveTo>
                  <a:lnTo>
                    <a:pt x="0" y="2903"/>
                  </a:lnTo>
                  <a:lnTo>
                    <a:pt x="4400" y="2903"/>
                  </a:lnTo>
                </a:path>
              </a:pathLst>
            </a:custGeom>
            <a:noFill/>
            <a:ln w="381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0" name="Group 331"/>
            <p:cNvGrpSpPr/>
            <p:nvPr/>
          </p:nvGrpSpPr>
          <p:grpSpPr>
            <a:xfrm>
              <a:off x="4810680" y="5494320"/>
              <a:ext cx="427320" cy="427320"/>
              <a:chOff x="4810680" y="5494320"/>
              <a:chExt cx="427320" cy="427320"/>
            </a:xfrm>
          </p:grpSpPr>
          <p:sp>
            <p:nvSpPr>
              <p:cNvPr id="341" name="Oval 332"/>
              <p:cNvSpPr/>
              <p:nvPr/>
            </p:nvSpPr>
            <p:spPr>
              <a:xfrm>
                <a:off x="4834080" y="5518080"/>
                <a:ext cx="380520" cy="380520"/>
              </a:xfrm>
              <a:prstGeom prst="ellipse">
                <a:avLst/>
              </a:prstGeom>
              <a:solidFill>
                <a:srgbClr val="ffc800"/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42" name="Group 333"/>
              <p:cNvGrpSpPr/>
              <p:nvPr/>
            </p:nvGrpSpPr>
            <p:grpSpPr>
              <a:xfrm>
                <a:off x="4810680" y="5494320"/>
                <a:ext cx="427320" cy="427320"/>
                <a:chOff x="4810680" y="5494320"/>
                <a:chExt cx="427320" cy="427320"/>
              </a:xfrm>
            </p:grpSpPr>
            <p:sp>
              <p:nvSpPr>
                <p:cNvPr id="343" name="AutoShape 334"/>
                <p:cNvSpPr/>
                <p:nvPr/>
              </p:nvSpPr>
              <p:spPr>
                <a:xfrm>
                  <a:off x="4868280" y="5552640"/>
                  <a:ext cx="311040" cy="311040"/>
                </a:xfrm>
                <a:custGeom>
                  <a:avLst/>
                  <a:gdLst>
                    <a:gd name="textAreaLeft" fmla="*/ 34920 w 311040"/>
                    <a:gd name="textAreaRight" fmla="*/ 276120 w 311040"/>
                    <a:gd name="textAreaTop" fmla="*/ 0 h 311040"/>
                    <a:gd name="textAreaBottom" fmla="*/ 7632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4" name="AutoShape 335"/>
                <p:cNvSpPr/>
                <p:nvPr/>
              </p:nvSpPr>
              <p:spPr>
                <a:xfrm rot="3528000">
                  <a:off x="4868640" y="5552280"/>
                  <a:ext cx="311040" cy="311040"/>
                </a:xfrm>
                <a:custGeom>
                  <a:avLst/>
                  <a:gdLst>
                    <a:gd name="textAreaLeft" fmla="*/ 88560 w 311040"/>
                    <a:gd name="textAreaRight" fmla="*/ 222480 w 311040"/>
                    <a:gd name="textAreaTop" fmla="*/ 0 h 311040"/>
                    <a:gd name="textAreaBottom" fmla="*/ 4104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45" name="Group 336"/>
            <p:cNvGrpSpPr/>
            <p:nvPr/>
          </p:nvGrpSpPr>
          <p:grpSpPr>
            <a:xfrm>
              <a:off x="2526120" y="5494320"/>
              <a:ext cx="427320" cy="427320"/>
              <a:chOff x="2526120" y="5494320"/>
              <a:chExt cx="427320" cy="427320"/>
            </a:xfrm>
          </p:grpSpPr>
          <p:sp>
            <p:nvSpPr>
              <p:cNvPr id="346" name="Oval 337"/>
              <p:cNvSpPr/>
              <p:nvPr/>
            </p:nvSpPr>
            <p:spPr>
              <a:xfrm>
                <a:off x="2549520" y="5518080"/>
                <a:ext cx="380520" cy="38052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47" name="Group 338"/>
              <p:cNvGrpSpPr/>
              <p:nvPr/>
            </p:nvGrpSpPr>
            <p:grpSpPr>
              <a:xfrm>
                <a:off x="2526120" y="5494320"/>
                <a:ext cx="427320" cy="427320"/>
                <a:chOff x="2526120" y="5494320"/>
                <a:chExt cx="427320" cy="427320"/>
              </a:xfrm>
            </p:grpSpPr>
            <p:sp>
              <p:nvSpPr>
                <p:cNvPr id="348" name="AutoShape 339"/>
                <p:cNvSpPr/>
                <p:nvPr/>
              </p:nvSpPr>
              <p:spPr>
                <a:xfrm>
                  <a:off x="2583720" y="5552640"/>
                  <a:ext cx="311040" cy="311040"/>
                </a:xfrm>
                <a:custGeom>
                  <a:avLst/>
                  <a:gdLst>
                    <a:gd name="textAreaLeft" fmla="*/ 34920 w 311040"/>
                    <a:gd name="textAreaRight" fmla="*/ 276120 w 311040"/>
                    <a:gd name="textAreaTop" fmla="*/ 0 h 311040"/>
                    <a:gd name="textAreaBottom" fmla="*/ 7632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9" name="AutoShape 340"/>
                <p:cNvSpPr/>
                <p:nvPr/>
              </p:nvSpPr>
              <p:spPr>
                <a:xfrm rot="3528000">
                  <a:off x="2584080" y="5552280"/>
                  <a:ext cx="311040" cy="311040"/>
                </a:xfrm>
                <a:custGeom>
                  <a:avLst/>
                  <a:gdLst>
                    <a:gd name="textAreaLeft" fmla="*/ 88560 w 311040"/>
                    <a:gd name="textAreaRight" fmla="*/ 222480 w 311040"/>
                    <a:gd name="textAreaTop" fmla="*/ 0 h 311040"/>
                    <a:gd name="textAreaBottom" fmla="*/ 4104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50" name="Group 341"/>
            <p:cNvGrpSpPr/>
            <p:nvPr/>
          </p:nvGrpSpPr>
          <p:grpSpPr>
            <a:xfrm>
              <a:off x="3669120" y="5494320"/>
              <a:ext cx="427320" cy="427320"/>
              <a:chOff x="3669120" y="5494320"/>
              <a:chExt cx="427320" cy="427320"/>
            </a:xfrm>
          </p:grpSpPr>
          <p:sp>
            <p:nvSpPr>
              <p:cNvPr id="351" name="Oval 342"/>
              <p:cNvSpPr/>
              <p:nvPr/>
            </p:nvSpPr>
            <p:spPr>
              <a:xfrm>
                <a:off x="3692520" y="5518080"/>
                <a:ext cx="380520" cy="380520"/>
              </a:xfrm>
              <a:prstGeom prst="ellipse">
                <a:avLst/>
              </a:prstGeom>
              <a:solidFill>
                <a:srgbClr val="ffa000"/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52" name="Group 343"/>
              <p:cNvGrpSpPr/>
              <p:nvPr/>
            </p:nvGrpSpPr>
            <p:grpSpPr>
              <a:xfrm>
                <a:off x="3669120" y="5494320"/>
                <a:ext cx="427320" cy="427320"/>
                <a:chOff x="3669120" y="5494320"/>
                <a:chExt cx="427320" cy="427320"/>
              </a:xfrm>
            </p:grpSpPr>
            <p:sp>
              <p:nvSpPr>
                <p:cNvPr id="353" name="AutoShape 344"/>
                <p:cNvSpPr/>
                <p:nvPr/>
              </p:nvSpPr>
              <p:spPr>
                <a:xfrm>
                  <a:off x="3726720" y="5552640"/>
                  <a:ext cx="311040" cy="311040"/>
                </a:xfrm>
                <a:custGeom>
                  <a:avLst/>
                  <a:gdLst>
                    <a:gd name="textAreaLeft" fmla="*/ 34920 w 311040"/>
                    <a:gd name="textAreaRight" fmla="*/ 276120 w 311040"/>
                    <a:gd name="textAreaTop" fmla="*/ 0 h 311040"/>
                    <a:gd name="textAreaBottom" fmla="*/ 7632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4" name="AutoShape 345"/>
                <p:cNvSpPr/>
                <p:nvPr/>
              </p:nvSpPr>
              <p:spPr>
                <a:xfrm rot="3528000">
                  <a:off x="3727080" y="5552280"/>
                  <a:ext cx="311040" cy="311040"/>
                </a:xfrm>
                <a:custGeom>
                  <a:avLst/>
                  <a:gdLst>
                    <a:gd name="textAreaLeft" fmla="*/ 88560 w 311040"/>
                    <a:gd name="textAreaRight" fmla="*/ 222480 w 311040"/>
                    <a:gd name="textAreaTop" fmla="*/ 0 h 311040"/>
                    <a:gd name="textAreaBottom" fmla="*/ 4104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55" name="WordArt 346"/>
            <p:cNvSpPr txBox="1"/>
            <p:nvPr/>
          </p:nvSpPr>
          <p:spPr>
            <a:xfrm>
              <a:off x="2676600" y="5645160"/>
              <a:ext cx="126720" cy="1281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WordArt 347"/>
            <p:cNvSpPr txBox="1"/>
            <p:nvPr/>
          </p:nvSpPr>
          <p:spPr>
            <a:xfrm>
              <a:off x="3819600" y="5645160"/>
              <a:ext cx="126720" cy="1281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WordArt 348"/>
            <p:cNvSpPr txBox="1"/>
            <p:nvPr/>
          </p:nvSpPr>
          <p:spPr>
            <a:xfrm>
              <a:off x="4962600" y="5645160"/>
              <a:ext cx="126720" cy="1281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WordArt 349"/>
            <p:cNvSpPr txBox="1"/>
            <p:nvPr/>
          </p:nvSpPr>
          <p:spPr>
            <a:xfrm>
              <a:off x="898560" y="2217600"/>
              <a:ext cx="444240" cy="1281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9" name="Group 350"/>
            <p:cNvGrpSpPr/>
            <p:nvPr/>
          </p:nvGrpSpPr>
          <p:grpSpPr>
            <a:xfrm>
              <a:off x="1383120" y="2066760"/>
              <a:ext cx="427320" cy="427320"/>
              <a:chOff x="1383120" y="2066760"/>
              <a:chExt cx="427320" cy="427320"/>
            </a:xfrm>
          </p:grpSpPr>
          <p:sp>
            <p:nvSpPr>
              <p:cNvPr id="360" name="Oval 351"/>
              <p:cNvSpPr/>
              <p:nvPr/>
            </p:nvSpPr>
            <p:spPr>
              <a:xfrm>
                <a:off x="1406520" y="2090880"/>
                <a:ext cx="380520" cy="380520"/>
              </a:xfrm>
              <a:prstGeom prst="ellipse">
                <a:avLst/>
              </a:prstGeom>
              <a:solidFill>
                <a:srgbClr val="ffc800"/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61" name="Group 352"/>
              <p:cNvGrpSpPr/>
              <p:nvPr/>
            </p:nvGrpSpPr>
            <p:grpSpPr>
              <a:xfrm>
                <a:off x="1383120" y="2066760"/>
                <a:ext cx="427320" cy="427320"/>
                <a:chOff x="1383120" y="2066760"/>
                <a:chExt cx="427320" cy="427320"/>
              </a:xfrm>
            </p:grpSpPr>
            <p:sp>
              <p:nvSpPr>
                <p:cNvPr id="362" name="AutoShape 353"/>
                <p:cNvSpPr/>
                <p:nvPr/>
              </p:nvSpPr>
              <p:spPr>
                <a:xfrm>
                  <a:off x="1440720" y="2125080"/>
                  <a:ext cx="311040" cy="311040"/>
                </a:xfrm>
                <a:custGeom>
                  <a:avLst/>
                  <a:gdLst>
                    <a:gd name="textAreaLeft" fmla="*/ 34920 w 311040"/>
                    <a:gd name="textAreaRight" fmla="*/ 276120 w 311040"/>
                    <a:gd name="textAreaTop" fmla="*/ 0 h 311040"/>
                    <a:gd name="textAreaBottom" fmla="*/ 7632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3" name="AutoShape 354"/>
                <p:cNvSpPr/>
                <p:nvPr/>
              </p:nvSpPr>
              <p:spPr>
                <a:xfrm rot="3528000">
                  <a:off x="1441080" y="2124720"/>
                  <a:ext cx="311040" cy="311040"/>
                </a:xfrm>
                <a:custGeom>
                  <a:avLst/>
                  <a:gdLst>
                    <a:gd name="textAreaLeft" fmla="*/ 88560 w 311040"/>
                    <a:gd name="textAreaRight" fmla="*/ 222480 w 311040"/>
                    <a:gd name="textAreaTop" fmla="*/ 0 h 311040"/>
                    <a:gd name="textAreaBottom" fmla="*/ 4104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64" name="Group 355"/>
            <p:cNvGrpSpPr/>
            <p:nvPr/>
          </p:nvGrpSpPr>
          <p:grpSpPr>
            <a:xfrm>
              <a:off x="1383120" y="4352760"/>
              <a:ext cx="427320" cy="427320"/>
              <a:chOff x="1383120" y="4352760"/>
              <a:chExt cx="427320" cy="427320"/>
            </a:xfrm>
          </p:grpSpPr>
          <p:sp>
            <p:nvSpPr>
              <p:cNvPr id="365" name="Oval 356"/>
              <p:cNvSpPr/>
              <p:nvPr/>
            </p:nvSpPr>
            <p:spPr>
              <a:xfrm>
                <a:off x="1406520" y="4376880"/>
                <a:ext cx="380520" cy="38052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66" name="Group 357"/>
              <p:cNvGrpSpPr/>
              <p:nvPr/>
            </p:nvGrpSpPr>
            <p:grpSpPr>
              <a:xfrm>
                <a:off x="1383120" y="4352760"/>
                <a:ext cx="427320" cy="427320"/>
                <a:chOff x="1383120" y="4352760"/>
                <a:chExt cx="427320" cy="427320"/>
              </a:xfrm>
            </p:grpSpPr>
            <p:sp>
              <p:nvSpPr>
                <p:cNvPr id="367" name="AutoShape 358"/>
                <p:cNvSpPr/>
                <p:nvPr/>
              </p:nvSpPr>
              <p:spPr>
                <a:xfrm>
                  <a:off x="1440720" y="4411080"/>
                  <a:ext cx="311040" cy="311040"/>
                </a:xfrm>
                <a:custGeom>
                  <a:avLst/>
                  <a:gdLst>
                    <a:gd name="textAreaLeft" fmla="*/ 34920 w 311040"/>
                    <a:gd name="textAreaRight" fmla="*/ 276120 w 311040"/>
                    <a:gd name="textAreaTop" fmla="*/ 0 h 311040"/>
                    <a:gd name="textAreaBottom" fmla="*/ 7632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8" name="AutoShape 359"/>
                <p:cNvSpPr/>
                <p:nvPr/>
              </p:nvSpPr>
              <p:spPr>
                <a:xfrm rot="3528000">
                  <a:off x="1441080" y="4410720"/>
                  <a:ext cx="311040" cy="311040"/>
                </a:xfrm>
                <a:custGeom>
                  <a:avLst/>
                  <a:gdLst>
                    <a:gd name="textAreaLeft" fmla="*/ 88560 w 311040"/>
                    <a:gd name="textAreaRight" fmla="*/ 222480 w 311040"/>
                    <a:gd name="textAreaTop" fmla="*/ 0 h 311040"/>
                    <a:gd name="textAreaBottom" fmla="*/ 4104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69" name="Group 360"/>
            <p:cNvGrpSpPr/>
            <p:nvPr/>
          </p:nvGrpSpPr>
          <p:grpSpPr>
            <a:xfrm>
              <a:off x="1383480" y="3209760"/>
              <a:ext cx="426600" cy="426240"/>
              <a:chOff x="1383480" y="3209760"/>
              <a:chExt cx="426600" cy="426240"/>
            </a:xfrm>
          </p:grpSpPr>
          <p:sp>
            <p:nvSpPr>
              <p:cNvPr id="370" name="Oval 361"/>
              <p:cNvSpPr/>
              <p:nvPr/>
            </p:nvSpPr>
            <p:spPr>
              <a:xfrm>
                <a:off x="1406520" y="3233880"/>
                <a:ext cx="380520" cy="379080"/>
              </a:xfrm>
              <a:prstGeom prst="ellipse">
                <a:avLst/>
              </a:prstGeom>
              <a:solidFill>
                <a:srgbClr val="ffa000"/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71" name="Group 362"/>
              <p:cNvGrpSpPr/>
              <p:nvPr/>
            </p:nvGrpSpPr>
            <p:grpSpPr>
              <a:xfrm>
                <a:off x="1383480" y="3209760"/>
                <a:ext cx="426600" cy="426240"/>
                <a:chOff x="1383480" y="3209760"/>
                <a:chExt cx="426600" cy="426240"/>
              </a:xfrm>
            </p:grpSpPr>
            <p:sp>
              <p:nvSpPr>
                <p:cNvPr id="372" name="AutoShape 363"/>
                <p:cNvSpPr/>
                <p:nvPr/>
              </p:nvSpPr>
              <p:spPr>
                <a:xfrm>
                  <a:off x="1440720" y="3268080"/>
                  <a:ext cx="311040" cy="309960"/>
                </a:xfrm>
                <a:custGeom>
                  <a:avLst/>
                  <a:gdLst>
                    <a:gd name="textAreaLeft" fmla="*/ 34920 w 311040"/>
                    <a:gd name="textAreaRight" fmla="*/ 276120 w 311040"/>
                    <a:gd name="textAreaTop" fmla="*/ 0 h 309960"/>
                    <a:gd name="textAreaBottom" fmla="*/ 75960 h 309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3" name="AutoShape 364"/>
                <p:cNvSpPr/>
                <p:nvPr/>
              </p:nvSpPr>
              <p:spPr>
                <a:xfrm rot="3528000">
                  <a:off x="1441440" y="3267360"/>
                  <a:ext cx="309960" cy="311040"/>
                </a:xfrm>
                <a:custGeom>
                  <a:avLst/>
                  <a:gdLst>
                    <a:gd name="textAreaLeft" fmla="*/ 88200 w 309960"/>
                    <a:gd name="textAreaRight" fmla="*/ 221760 w 309960"/>
                    <a:gd name="textAreaTop" fmla="*/ 0 h 311040"/>
                    <a:gd name="textAreaBottom" fmla="*/ 4104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74" name="WordArt 365"/>
            <p:cNvSpPr txBox="1"/>
            <p:nvPr/>
          </p:nvSpPr>
          <p:spPr>
            <a:xfrm>
              <a:off x="898560" y="3360600"/>
              <a:ext cx="444240" cy="12672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WordArt 366"/>
            <p:cNvSpPr txBox="1"/>
            <p:nvPr/>
          </p:nvSpPr>
          <p:spPr>
            <a:xfrm>
              <a:off x="898560" y="4502160"/>
              <a:ext cx="444240" cy="12672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WordArt 367"/>
            <p:cNvSpPr txBox="1"/>
            <p:nvPr/>
          </p:nvSpPr>
          <p:spPr>
            <a:xfrm>
              <a:off x="1531800" y="4502160"/>
              <a:ext cx="128160" cy="12672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WordArt 368"/>
            <p:cNvSpPr txBox="1"/>
            <p:nvPr/>
          </p:nvSpPr>
          <p:spPr>
            <a:xfrm>
              <a:off x="1531800" y="3360600"/>
              <a:ext cx="128160" cy="12672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WordArt 369"/>
            <p:cNvSpPr txBox="1"/>
            <p:nvPr/>
          </p:nvSpPr>
          <p:spPr>
            <a:xfrm>
              <a:off x="1531800" y="2217600"/>
              <a:ext cx="128160" cy="1281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370"/>
            <p:cNvSpPr/>
            <p:nvPr/>
          </p:nvSpPr>
          <p:spPr>
            <a:xfrm>
              <a:off x="1596960" y="3295800"/>
              <a:ext cx="3492000" cy="2412720"/>
            </a:xfrm>
            <a:custGeom>
              <a:avLst/>
              <a:gdLst>
                <a:gd name="textAreaLeft" fmla="*/ 0 w 3492000"/>
                <a:gd name="textAreaRight" fmla="*/ 3492360 w 3492000"/>
                <a:gd name="textAreaTop" fmla="*/ 0 h 2412720"/>
                <a:gd name="textAreaBottom" fmla="*/ 2413080 h 2412720"/>
              </a:gdLst>
              <a:ahLst/>
              <a:rect l="textAreaLeft" t="textAreaTop" r="textAreaRight" b="textAreaBottom"/>
              <a:pathLst>
                <a:path w="2495" h="1724">
                  <a:moveTo>
                    <a:pt x="0" y="1724"/>
                  </a:moveTo>
                  <a:lnTo>
                    <a:pt x="1724" y="0"/>
                  </a:lnTo>
                  <a:lnTo>
                    <a:pt x="2495" y="0"/>
                  </a:lnTo>
                </a:path>
              </a:pathLst>
            </a:custGeom>
            <a:noFill/>
            <a:ln w="304800">
              <a:solidFill>
                <a:srgbClr val="ffff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0" name="Group 371"/>
            <p:cNvGrpSpPr/>
            <p:nvPr/>
          </p:nvGrpSpPr>
          <p:grpSpPr>
            <a:xfrm>
              <a:off x="1383120" y="5494320"/>
              <a:ext cx="427320" cy="427320"/>
              <a:chOff x="1383120" y="5494320"/>
              <a:chExt cx="427320" cy="427320"/>
            </a:xfrm>
          </p:grpSpPr>
          <p:sp>
            <p:nvSpPr>
              <p:cNvPr id="381" name="Oval 372"/>
              <p:cNvSpPr/>
              <p:nvPr/>
            </p:nvSpPr>
            <p:spPr>
              <a:xfrm>
                <a:off x="1406520" y="5518080"/>
                <a:ext cx="380520" cy="380520"/>
              </a:xfrm>
              <a:prstGeom prst="ellipse">
                <a:avLst/>
              </a:prstGeom>
              <a:solidFill>
                <a:srgbClr val="ff0000"/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82" name="Group 373"/>
              <p:cNvGrpSpPr/>
              <p:nvPr/>
            </p:nvGrpSpPr>
            <p:grpSpPr>
              <a:xfrm>
                <a:off x="1383120" y="5494320"/>
                <a:ext cx="427320" cy="427320"/>
                <a:chOff x="1383120" y="5494320"/>
                <a:chExt cx="427320" cy="427320"/>
              </a:xfrm>
            </p:grpSpPr>
            <p:sp>
              <p:nvSpPr>
                <p:cNvPr id="383" name="AutoShape 374"/>
                <p:cNvSpPr/>
                <p:nvPr/>
              </p:nvSpPr>
              <p:spPr>
                <a:xfrm>
                  <a:off x="1440720" y="5552640"/>
                  <a:ext cx="311040" cy="311040"/>
                </a:xfrm>
                <a:custGeom>
                  <a:avLst/>
                  <a:gdLst>
                    <a:gd name="textAreaLeft" fmla="*/ 34920 w 311040"/>
                    <a:gd name="textAreaRight" fmla="*/ 276120 w 311040"/>
                    <a:gd name="textAreaTop" fmla="*/ 0 h 311040"/>
                    <a:gd name="textAreaBottom" fmla="*/ 7632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4" name="AutoShape 375"/>
                <p:cNvSpPr/>
                <p:nvPr/>
              </p:nvSpPr>
              <p:spPr>
                <a:xfrm rot="3528000">
                  <a:off x="1441080" y="5552280"/>
                  <a:ext cx="311040" cy="311040"/>
                </a:xfrm>
                <a:custGeom>
                  <a:avLst/>
                  <a:gdLst>
                    <a:gd name="textAreaLeft" fmla="*/ 88560 w 311040"/>
                    <a:gd name="textAreaRight" fmla="*/ 222480 w 311040"/>
                    <a:gd name="textAreaTop" fmla="*/ 0 h 311040"/>
                    <a:gd name="textAreaBottom" fmla="*/ 4104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85" name="WordArt 376"/>
            <p:cNvSpPr txBox="1"/>
            <p:nvPr/>
          </p:nvSpPr>
          <p:spPr>
            <a:xfrm>
              <a:off x="898560" y="5645160"/>
              <a:ext cx="444240" cy="1281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WordArt 377"/>
            <p:cNvSpPr txBox="1"/>
            <p:nvPr/>
          </p:nvSpPr>
          <p:spPr>
            <a:xfrm>
              <a:off x="1531800" y="5645160"/>
              <a:ext cx="128160" cy="1281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WordArt 378"/>
            <p:cNvSpPr txBox="1"/>
            <p:nvPr/>
          </p:nvSpPr>
          <p:spPr>
            <a:xfrm rot="18900000">
              <a:off x="1471320" y="4692600"/>
              <a:ext cx="2157120" cy="12672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WordArt 379"/>
            <p:cNvSpPr txBox="1"/>
            <p:nvPr/>
          </p:nvSpPr>
          <p:spPr>
            <a:xfrm rot="1420800">
              <a:off x="1301760" y="3039840"/>
              <a:ext cx="2265120" cy="127116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2702572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WordArt 380"/>
            <p:cNvSpPr txBox="1"/>
            <p:nvPr/>
          </p:nvSpPr>
          <p:spPr>
            <a:xfrm rot="1420800">
              <a:off x="1330200" y="4100400"/>
              <a:ext cx="1368000" cy="76788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270302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WordArt 381"/>
            <p:cNvSpPr txBox="1"/>
            <p:nvPr/>
          </p:nvSpPr>
          <p:spPr>
            <a:xfrm>
              <a:off x="5219640" y="3211560"/>
              <a:ext cx="71892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382"/>
            <p:cNvSpPr/>
            <p:nvPr/>
          </p:nvSpPr>
          <p:spPr>
            <a:xfrm>
              <a:off x="6804000" y="2563920"/>
              <a:ext cx="1439640" cy="1439640"/>
            </a:xfrm>
            <a:prstGeom prst="ellipse">
              <a:avLst/>
            </a:prstGeom>
            <a:solidFill>
              <a:schemeClr val="tx1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WordArt 383"/>
            <p:cNvSpPr txBox="1"/>
            <p:nvPr/>
          </p:nvSpPr>
          <p:spPr>
            <a:xfrm>
              <a:off x="7164360" y="3200400"/>
              <a:ext cx="71892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84"/>
            <p:cNvSpPr/>
            <p:nvPr/>
          </p:nvSpPr>
          <p:spPr>
            <a:xfrm>
              <a:off x="6083280" y="3284280"/>
              <a:ext cx="936360" cy="360"/>
            </a:xfrm>
            <a:prstGeom prst="line">
              <a:avLst/>
            </a:prstGeom>
            <a:ln w="304800">
              <a:solidFill>
                <a:srgbClr val="ffff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WordArt 385"/>
            <p:cNvSpPr txBox="1"/>
            <p:nvPr/>
          </p:nvSpPr>
          <p:spPr>
            <a:xfrm>
              <a:off x="6227640" y="3211560"/>
              <a:ext cx="431280" cy="1328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Group 310"/>
          <p:cNvGrpSpPr/>
          <p:nvPr/>
        </p:nvGrpSpPr>
        <p:grpSpPr>
          <a:xfrm>
            <a:off x="1039680" y="1844640"/>
            <a:ext cx="7203600" cy="4174920"/>
            <a:chOff x="1039680" y="1844640"/>
            <a:chExt cx="7203600" cy="4174920"/>
          </a:xfrm>
        </p:grpSpPr>
        <p:sp>
          <p:nvSpPr>
            <p:cNvPr id="397" name="AutoShape 311"/>
            <p:cNvSpPr/>
            <p:nvPr/>
          </p:nvSpPr>
          <p:spPr>
            <a:xfrm>
              <a:off x="3921120" y="3068640"/>
              <a:ext cx="1441080" cy="172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eeece1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398" name="Group 312"/>
            <p:cNvGrpSpPr/>
            <p:nvPr/>
          </p:nvGrpSpPr>
          <p:grpSpPr>
            <a:xfrm>
              <a:off x="4067280" y="3714840"/>
              <a:ext cx="1155240" cy="420120"/>
              <a:chOff x="4067280" y="3714840"/>
              <a:chExt cx="1155240" cy="420120"/>
            </a:xfrm>
          </p:grpSpPr>
          <p:sp>
            <p:nvSpPr>
              <p:cNvPr id="399" name="WordArt 313"/>
              <p:cNvSpPr txBox="1"/>
              <p:nvPr/>
            </p:nvSpPr>
            <p:spPr>
              <a:xfrm>
                <a:off x="4214880" y="3714840"/>
                <a:ext cx="863280" cy="2566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WordArt 314"/>
              <p:cNvSpPr txBox="1"/>
              <p:nvPr/>
            </p:nvSpPr>
            <p:spPr>
              <a:xfrm>
                <a:off x="4067280" y="4002120"/>
                <a:ext cx="1155240" cy="132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1" name="AutoShape 315"/>
            <p:cNvSpPr/>
            <p:nvPr/>
          </p:nvSpPr>
          <p:spPr>
            <a:xfrm>
              <a:off x="1039680" y="184464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02" name="AutoShape 316"/>
            <p:cNvSpPr/>
            <p:nvPr/>
          </p:nvSpPr>
          <p:spPr>
            <a:xfrm>
              <a:off x="1039680" y="256392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ff2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03" name="AutoShape 317"/>
            <p:cNvSpPr/>
            <p:nvPr/>
          </p:nvSpPr>
          <p:spPr>
            <a:xfrm>
              <a:off x="1039680" y="328464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ff5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04" name="AutoShape 318"/>
            <p:cNvSpPr/>
            <p:nvPr/>
          </p:nvSpPr>
          <p:spPr>
            <a:xfrm>
              <a:off x="1039680" y="400356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ff7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05" name="AutoShape 319"/>
            <p:cNvSpPr/>
            <p:nvPr/>
          </p:nvSpPr>
          <p:spPr>
            <a:xfrm>
              <a:off x="1039680" y="472428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ffa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06" name="AutoShape 320"/>
            <p:cNvSpPr/>
            <p:nvPr/>
          </p:nvSpPr>
          <p:spPr>
            <a:xfrm>
              <a:off x="1039680" y="544356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ffc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07" name="Line 321"/>
            <p:cNvSpPr/>
            <p:nvPr/>
          </p:nvSpPr>
          <p:spPr>
            <a:xfrm flipH="1" flipV="1">
              <a:off x="3201840" y="2131920"/>
              <a:ext cx="719280" cy="180000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Line 322"/>
            <p:cNvSpPr/>
            <p:nvPr/>
          </p:nvSpPr>
          <p:spPr>
            <a:xfrm flipH="1" flipV="1">
              <a:off x="3201840" y="2852640"/>
              <a:ext cx="719280" cy="107928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Line 323"/>
            <p:cNvSpPr/>
            <p:nvPr/>
          </p:nvSpPr>
          <p:spPr>
            <a:xfrm flipH="1">
              <a:off x="2912760" y="213192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Line 324"/>
            <p:cNvSpPr/>
            <p:nvPr/>
          </p:nvSpPr>
          <p:spPr>
            <a:xfrm flipH="1">
              <a:off x="2912760" y="285264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Line 325"/>
            <p:cNvSpPr/>
            <p:nvPr/>
          </p:nvSpPr>
          <p:spPr>
            <a:xfrm flipH="1">
              <a:off x="2912760" y="357156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Line 326"/>
            <p:cNvSpPr/>
            <p:nvPr/>
          </p:nvSpPr>
          <p:spPr>
            <a:xfrm flipH="1">
              <a:off x="2912760" y="429228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Line 327"/>
            <p:cNvSpPr/>
            <p:nvPr/>
          </p:nvSpPr>
          <p:spPr>
            <a:xfrm flipH="1">
              <a:off x="2912760" y="501156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Line 328"/>
            <p:cNvSpPr/>
            <p:nvPr/>
          </p:nvSpPr>
          <p:spPr>
            <a:xfrm flipH="1">
              <a:off x="2912760" y="573228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Line 329"/>
            <p:cNvSpPr/>
            <p:nvPr/>
          </p:nvSpPr>
          <p:spPr>
            <a:xfrm flipH="1">
              <a:off x="6081480" y="213192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Line 330"/>
            <p:cNvSpPr/>
            <p:nvPr/>
          </p:nvSpPr>
          <p:spPr>
            <a:xfrm flipH="1">
              <a:off x="6081480" y="285264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Line 331"/>
            <p:cNvSpPr/>
            <p:nvPr/>
          </p:nvSpPr>
          <p:spPr>
            <a:xfrm flipH="1">
              <a:off x="6081480" y="357156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Line 332"/>
            <p:cNvSpPr/>
            <p:nvPr/>
          </p:nvSpPr>
          <p:spPr>
            <a:xfrm flipH="1">
              <a:off x="6081480" y="429228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Line 333"/>
            <p:cNvSpPr/>
            <p:nvPr/>
          </p:nvSpPr>
          <p:spPr>
            <a:xfrm flipH="1">
              <a:off x="6081480" y="501156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Line 334"/>
            <p:cNvSpPr/>
            <p:nvPr/>
          </p:nvSpPr>
          <p:spPr>
            <a:xfrm flipH="1">
              <a:off x="6081480" y="573228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Line 335"/>
            <p:cNvSpPr/>
            <p:nvPr/>
          </p:nvSpPr>
          <p:spPr>
            <a:xfrm flipH="1" flipV="1">
              <a:off x="3201840" y="3571560"/>
              <a:ext cx="719280" cy="360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Line 336"/>
            <p:cNvSpPr/>
            <p:nvPr/>
          </p:nvSpPr>
          <p:spPr>
            <a:xfrm flipH="1">
              <a:off x="3201840" y="3931920"/>
              <a:ext cx="719280" cy="360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Line 337"/>
            <p:cNvSpPr/>
            <p:nvPr/>
          </p:nvSpPr>
          <p:spPr>
            <a:xfrm flipH="1">
              <a:off x="3201840" y="3931920"/>
              <a:ext cx="719280" cy="107964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Line 338"/>
            <p:cNvSpPr/>
            <p:nvPr/>
          </p:nvSpPr>
          <p:spPr>
            <a:xfrm flipH="1">
              <a:off x="3201840" y="3931920"/>
              <a:ext cx="719280" cy="1800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Line 339"/>
            <p:cNvSpPr/>
            <p:nvPr/>
          </p:nvSpPr>
          <p:spPr>
            <a:xfrm flipV="1">
              <a:off x="5360760" y="2131920"/>
              <a:ext cx="720720" cy="180000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Line 340"/>
            <p:cNvSpPr/>
            <p:nvPr/>
          </p:nvSpPr>
          <p:spPr>
            <a:xfrm flipV="1">
              <a:off x="5362560" y="2852640"/>
              <a:ext cx="718920" cy="107928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Line 341"/>
            <p:cNvSpPr/>
            <p:nvPr/>
          </p:nvSpPr>
          <p:spPr>
            <a:xfrm flipV="1">
              <a:off x="5362560" y="3571560"/>
              <a:ext cx="718920" cy="360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Line 342"/>
            <p:cNvSpPr/>
            <p:nvPr/>
          </p:nvSpPr>
          <p:spPr>
            <a:xfrm>
              <a:off x="5362560" y="3931920"/>
              <a:ext cx="718920" cy="360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Line 343"/>
            <p:cNvSpPr/>
            <p:nvPr/>
          </p:nvSpPr>
          <p:spPr>
            <a:xfrm>
              <a:off x="5362560" y="3931920"/>
              <a:ext cx="718920" cy="107964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344"/>
            <p:cNvSpPr/>
            <p:nvPr/>
          </p:nvSpPr>
          <p:spPr>
            <a:xfrm>
              <a:off x="5362560" y="3931920"/>
              <a:ext cx="718920" cy="1800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AutoShape 345"/>
            <p:cNvSpPr/>
            <p:nvPr/>
          </p:nvSpPr>
          <p:spPr>
            <a:xfrm>
              <a:off x="6370560" y="184464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581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32" name="AutoShape 346"/>
            <p:cNvSpPr/>
            <p:nvPr/>
          </p:nvSpPr>
          <p:spPr>
            <a:xfrm>
              <a:off x="6370560" y="256392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6713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33" name="AutoShape 347"/>
            <p:cNvSpPr/>
            <p:nvPr/>
          </p:nvSpPr>
          <p:spPr>
            <a:xfrm>
              <a:off x="6370560" y="328464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931b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34" name="AutoShape 348"/>
            <p:cNvSpPr/>
            <p:nvPr/>
          </p:nvSpPr>
          <p:spPr>
            <a:xfrm>
              <a:off x="6370560" y="400356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b822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35" name="AutoShape 349"/>
            <p:cNvSpPr/>
            <p:nvPr/>
          </p:nvSpPr>
          <p:spPr>
            <a:xfrm>
              <a:off x="6370560" y="472428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e62b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36" name="AutoShape 350"/>
            <p:cNvSpPr/>
            <p:nvPr/>
          </p:nvSpPr>
          <p:spPr>
            <a:xfrm>
              <a:off x="6370560" y="544356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ff3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37" name="WordArt 351"/>
            <p:cNvSpPr txBox="1"/>
            <p:nvPr/>
          </p:nvSpPr>
          <p:spPr>
            <a:xfrm>
              <a:off x="1474920" y="206064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WordArt 352"/>
            <p:cNvSpPr txBox="1"/>
            <p:nvPr/>
          </p:nvSpPr>
          <p:spPr>
            <a:xfrm>
              <a:off x="1473120" y="278136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WordArt 353"/>
            <p:cNvSpPr txBox="1"/>
            <p:nvPr/>
          </p:nvSpPr>
          <p:spPr>
            <a:xfrm>
              <a:off x="1473120" y="350028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WordArt 354"/>
            <p:cNvSpPr txBox="1"/>
            <p:nvPr/>
          </p:nvSpPr>
          <p:spPr>
            <a:xfrm>
              <a:off x="1473120" y="422100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WordArt 355"/>
            <p:cNvSpPr txBox="1"/>
            <p:nvPr/>
          </p:nvSpPr>
          <p:spPr>
            <a:xfrm>
              <a:off x="1473120" y="494172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WordArt 356"/>
            <p:cNvSpPr txBox="1"/>
            <p:nvPr/>
          </p:nvSpPr>
          <p:spPr>
            <a:xfrm>
              <a:off x="1473120" y="566100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WordArt 357"/>
            <p:cNvSpPr txBox="1"/>
            <p:nvPr/>
          </p:nvSpPr>
          <p:spPr>
            <a:xfrm>
              <a:off x="6875640" y="206064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WordArt 358"/>
            <p:cNvSpPr txBox="1"/>
            <p:nvPr/>
          </p:nvSpPr>
          <p:spPr>
            <a:xfrm>
              <a:off x="6873840" y="278136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WordArt 359"/>
            <p:cNvSpPr txBox="1"/>
            <p:nvPr/>
          </p:nvSpPr>
          <p:spPr>
            <a:xfrm>
              <a:off x="6873840" y="350028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WordArt 360"/>
            <p:cNvSpPr txBox="1"/>
            <p:nvPr/>
          </p:nvSpPr>
          <p:spPr>
            <a:xfrm>
              <a:off x="6873840" y="422100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WordArt 361"/>
            <p:cNvSpPr txBox="1"/>
            <p:nvPr/>
          </p:nvSpPr>
          <p:spPr>
            <a:xfrm>
              <a:off x="6873840" y="494172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WordArt 362"/>
            <p:cNvSpPr txBox="1"/>
            <p:nvPr/>
          </p:nvSpPr>
          <p:spPr>
            <a:xfrm>
              <a:off x="6873840" y="566100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0" name="Group 294"/>
          <p:cNvGrpSpPr/>
          <p:nvPr/>
        </p:nvGrpSpPr>
        <p:grpSpPr>
          <a:xfrm>
            <a:off x="611280" y="1557360"/>
            <a:ext cx="7992360" cy="4885920"/>
            <a:chOff x="611280" y="1557360"/>
            <a:chExt cx="7992360" cy="4885920"/>
          </a:xfrm>
        </p:grpSpPr>
        <p:sp>
          <p:nvSpPr>
            <p:cNvPr id="451" name="Line 295"/>
            <p:cNvSpPr/>
            <p:nvPr/>
          </p:nvSpPr>
          <p:spPr>
            <a:xfrm>
              <a:off x="1116000" y="4006800"/>
              <a:ext cx="698472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Line 296"/>
            <p:cNvSpPr/>
            <p:nvPr/>
          </p:nvSpPr>
          <p:spPr>
            <a:xfrm flipV="1">
              <a:off x="4572000" y="1774800"/>
              <a:ext cx="360" cy="446400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3" name="Group 297"/>
            <p:cNvGrpSpPr/>
            <p:nvPr/>
          </p:nvGrpSpPr>
          <p:grpSpPr>
            <a:xfrm>
              <a:off x="3706920" y="3141720"/>
              <a:ext cx="576000" cy="576000"/>
              <a:chOff x="3706920" y="3141720"/>
              <a:chExt cx="576000" cy="576000"/>
            </a:xfrm>
          </p:grpSpPr>
          <p:sp>
            <p:nvSpPr>
              <p:cNvPr id="454" name="Oval 298"/>
              <p:cNvSpPr/>
              <p:nvPr/>
            </p:nvSpPr>
            <p:spPr>
              <a:xfrm>
                <a:off x="3706920" y="314172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455" name="WordArt 299"/>
              <p:cNvSpPr txBox="1"/>
              <p:nvPr/>
            </p:nvSpPr>
            <p:spPr>
              <a:xfrm>
                <a:off x="3780000" y="335772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300"/>
            <p:cNvGrpSpPr/>
            <p:nvPr/>
          </p:nvGrpSpPr>
          <p:grpSpPr>
            <a:xfrm>
              <a:off x="2266920" y="3141720"/>
              <a:ext cx="576000" cy="576000"/>
              <a:chOff x="2266920" y="3141720"/>
              <a:chExt cx="576000" cy="576000"/>
            </a:xfrm>
          </p:grpSpPr>
          <p:sp>
            <p:nvSpPr>
              <p:cNvPr id="457" name="Oval 301"/>
              <p:cNvSpPr/>
              <p:nvPr/>
            </p:nvSpPr>
            <p:spPr>
              <a:xfrm>
                <a:off x="2266920" y="314172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458" name="WordArt 302"/>
              <p:cNvSpPr txBox="1"/>
              <p:nvPr/>
            </p:nvSpPr>
            <p:spPr>
              <a:xfrm>
                <a:off x="2340000" y="335772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303"/>
            <p:cNvGrpSpPr/>
            <p:nvPr/>
          </p:nvGrpSpPr>
          <p:grpSpPr>
            <a:xfrm>
              <a:off x="2987640" y="3141720"/>
              <a:ext cx="576000" cy="576000"/>
              <a:chOff x="2987640" y="3141720"/>
              <a:chExt cx="576000" cy="576000"/>
            </a:xfrm>
          </p:grpSpPr>
          <p:sp>
            <p:nvSpPr>
              <p:cNvPr id="460" name="Oval 304"/>
              <p:cNvSpPr/>
              <p:nvPr/>
            </p:nvSpPr>
            <p:spPr>
              <a:xfrm>
                <a:off x="2987640" y="314172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461" name="WordArt 305"/>
              <p:cNvSpPr txBox="1"/>
              <p:nvPr/>
            </p:nvSpPr>
            <p:spPr>
              <a:xfrm>
                <a:off x="3060720" y="335772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2" name="WordArt 306"/>
            <p:cNvSpPr txBox="1"/>
            <p:nvPr/>
          </p:nvSpPr>
          <p:spPr>
            <a:xfrm>
              <a:off x="4356000" y="1557360"/>
              <a:ext cx="431280" cy="1328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WordArt 307"/>
            <p:cNvSpPr txBox="1"/>
            <p:nvPr/>
          </p:nvSpPr>
          <p:spPr>
            <a:xfrm>
              <a:off x="8172360" y="3933720"/>
              <a:ext cx="431280" cy="1328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4" name="Group 308"/>
            <p:cNvGrpSpPr/>
            <p:nvPr/>
          </p:nvGrpSpPr>
          <p:grpSpPr>
            <a:xfrm>
              <a:off x="1547640" y="3141720"/>
              <a:ext cx="576000" cy="576000"/>
              <a:chOff x="1547640" y="3141720"/>
              <a:chExt cx="576000" cy="576000"/>
            </a:xfrm>
          </p:grpSpPr>
          <p:sp>
            <p:nvSpPr>
              <p:cNvPr id="465" name="Oval 309"/>
              <p:cNvSpPr/>
              <p:nvPr/>
            </p:nvSpPr>
            <p:spPr>
              <a:xfrm>
                <a:off x="1547640" y="314172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466" name="WordArt 310"/>
              <p:cNvSpPr txBox="1"/>
              <p:nvPr/>
            </p:nvSpPr>
            <p:spPr>
              <a:xfrm>
                <a:off x="1620720" y="335772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311"/>
            <p:cNvGrpSpPr/>
            <p:nvPr/>
          </p:nvGrpSpPr>
          <p:grpSpPr>
            <a:xfrm>
              <a:off x="3706920" y="2782800"/>
              <a:ext cx="576000" cy="576000"/>
              <a:chOff x="3706920" y="2782800"/>
              <a:chExt cx="576000" cy="576000"/>
            </a:xfrm>
          </p:grpSpPr>
          <p:sp>
            <p:nvSpPr>
              <p:cNvPr id="468" name="Oval 312"/>
              <p:cNvSpPr/>
              <p:nvPr/>
            </p:nvSpPr>
            <p:spPr>
              <a:xfrm>
                <a:off x="3706920" y="2782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469" name="WordArt 313"/>
              <p:cNvSpPr txBox="1"/>
              <p:nvPr/>
            </p:nvSpPr>
            <p:spPr>
              <a:xfrm>
                <a:off x="3780000" y="2998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314"/>
            <p:cNvGrpSpPr/>
            <p:nvPr/>
          </p:nvGrpSpPr>
          <p:grpSpPr>
            <a:xfrm>
              <a:off x="2266920" y="2782800"/>
              <a:ext cx="576000" cy="576000"/>
              <a:chOff x="2266920" y="2782800"/>
              <a:chExt cx="576000" cy="576000"/>
            </a:xfrm>
          </p:grpSpPr>
          <p:sp>
            <p:nvSpPr>
              <p:cNvPr id="471" name="Oval 315"/>
              <p:cNvSpPr/>
              <p:nvPr/>
            </p:nvSpPr>
            <p:spPr>
              <a:xfrm>
                <a:off x="2266920" y="2782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472" name="WordArt 316"/>
              <p:cNvSpPr txBox="1"/>
              <p:nvPr/>
            </p:nvSpPr>
            <p:spPr>
              <a:xfrm>
                <a:off x="2340000" y="2998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317"/>
            <p:cNvGrpSpPr/>
            <p:nvPr/>
          </p:nvGrpSpPr>
          <p:grpSpPr>
            <a:xfrm>
              <a:off x="2987640" y="2782800"/>
              <a:ext cx="576000" cy="576000"/>
              <a:chOff x="2987640" y="2782800"/>
              <a:chExt cx="576000" cy="576000"/>
            </a:xfrm>
          </p:grpSpPr>
          <p:sp>
            <p:nvSpPr>
              <p:cNvPr id="474" name="Oval 318"/>
              <p:cNvSpPr/>
              <p:nvPr/>
            </p:nvSpPr>
            <p:spPr>
              <a:xfrm>
                <a:off x="2987640" y="2782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475" name="WordArt 319"/>
              <p:cNvSpPr txBox="1"/>
              <p:nvPr/>
            </p:nvSpPr>
            <p:spPr>
              <a:xfrm>
                <a:off x="3060720" y="2998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320"/>
            <p:cNvGrpSpPr/>
            <p:nvPr/>
          </p:nvGrpSpPr>
          <p:grpSpPr>
            <a:xfrm>
              <a:off x="3706920" y="2422440"/>
              <a:ext cx="576000" cy="576000"/>
              <a:chOff x="3706920" y="2422440"/>
              <a:chExt cx="576000" cy="576000"/>
            </a:xfrm>
          </p:grpSpPr>
          <p:sp>
            <p:nvSpPr>
              <p:cNvPr id="477" name="Oval 321"/>
              <p:cNvSpPr/>
              <p:nvPr/>
            </p:nvSpPr>
            <p:spPr>
              <a:xfrm>
                <a:off x="3706920" y="2422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478" name="WordArt 322"/>
              <p:cNvSpPr txBox="1"/>
              <p:nvPr/>
            </p:nvSpPr>
            <p:spPr>
              <a:xfrm>
                <a:off x="3780000" y="2638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323"/>
            <p:cNvGrpSpPr/>
            <p:nvPr/>
          </p:nvGrpSpPr>
          <p:grpSpPr>
            <a:xfrm>
              <a:off x="2987640" y="2422440"/>
              <a:ext cx="576000" cy="576000"/>
              <a:chOff x="2987640" y="2422440"/>
              <a:chExt cx="576000" cy="576000"/>
            </a:xfrm>
          </p:grpSpPr>
          <p:sp>
            <p:nvSpPr>
              <p:cNvPr id="480" name="Oval 324"/>
              <p:cNvSpPr/>
              <p:nvPr/>
            </p:nvSpPr>
            <p:spPr>
              <a:xfrm>
                <a:off x="2987640" y="2422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481" name="WordArt 325"/>
              <p:cNvSpPr txBox="1"/>
              <p:nvPr/>
            </p:nvSpPr>
            <p:spPr>
              <a:xfrm>
                <a:off x="3060720" y="2638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326"/>
            <p:cNvGrpSpPr/>
            <p:nvPr/>
          </p:nvGrpSpPr>
          <p:grpSpPr>
            <a:xfrm>
              <a:off x="3706920" y="2062080"/>
              <a:ext cx="576000" cy="576000"/>
              <a:chOff x="3706920" y="2062080"/>
              <a:chExt cx="576000" cy="576000"/>
            </a:xfrm>
          </p:grpSpPr>
          <p:sp>
            <p:nvSpPr>
              <p:cNvPr id="483" name="Oval 327"/>
              <p:cNvSpPr/>
              <p:nvPr/>
            </p:nvSpPr>
            <p:spPr>
              <a:xfrm>
                <a:off x="3706920" y="2062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484" name="WordArt 328"/>
              <p:cNvSpPr txBox="1"/>
              <p:nvPr/>
            </p:nvSpPr>
            <p:spPr>
              <a:xfrm>
                <a:off x="3780000" y="2278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5" name="Line 329"/>
            <p:cNvSpPr/>
            <p:nvPr/>
          </p:nvSpPr>
          <p:spPr>
            <a:xfrm>
              <a:off x="3274920" y="3935160"/>
              <a:ext cx="360" cy="14292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Line 330"/>
            <p:cNvSpPr/>
            <p:nvPr/>
          </p:nvSpPr>
          <p:spPr>
            <a:xfrm>
              <a:off x="3995640" y="3935160"/>
              <a:ext cx="360" cy="14292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Line 331"/>
            <p:cNvSpPr/>
            <p:nvPr/>
          </p:nvSpPr>
          <p:spPr>
            <a:xfrm>
              <a:off x="2555640" y="3935160"/>
              <a:ext cx="360" cy="14292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Line 332"/>
            <p:cNvSpPr/>
            <p:nvPr/>
          </p:nvSpPr>
          <p:spPr>
            <a:xfrm>
              <a:off x="1834920" y="3935160"/>
              <a:ext cx="360" cy="14292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Line 333"/>
            <p:cNvSpPr/>
            <p:nvPr/>
          </p:nvSpPr>
          <p:spPr>
            <a:xfrm>
              <a:off x="4498920" y="3431880"/>
              <a:ext cx="14436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Line 334"/>
            <p:cNvSpPr/>
            <p:nvPr/>
          </p:nvSpPr>
          <p:spPr>
            <a:xfrm>
              <a:off x="4500360" y="3071520"/>
              <a:ext cx="14436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335"/>
            <p:cNvSpPr/>
            <p:nvPr/>
          </p:nvSpPr>
          <p:spPr>
            <a:xfrm>
              <a:off x="4500360" y="2711160"/>
              <a:ext cx="14436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336"/>
            <p:cNvSpPr/>
            <p:nvPr/>
          </p:nvSpPr>
          <p:spPr>
            <a:xfrm>
              <a:off x="4500360" y="2350800"/>
              <a:ext cx="14436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337"/>
            <p:cNvSpPr/>
            <p:nvPr/>
          </p:nvSpPr>
          <p:spPr>
            <a:xfrm>
              <a:off x="4500360" y="5662440"/>
              <a:ext cx="14436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338"/>
            <p:cNvSpPr/>
            <p:nvPr/>
          </p:nvSpPr>
          <p:spPr>
            <a:xfrm>
              <a:off x="4501800" y="5302080"/>
              <a:ext cx="14472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339"/>
            <p:cNvSpPr/>
            <p:nvPr/>
          </p:nvSpPr>
          <p:spPr>
            <a:xfrm>
              <a:off x="4501800" y="4941720"/>
              <a:ext cx="14472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340"/>
            <p:cNvSpPr/>
            <p:nvPr/>
          </p:nvSpPr>
          <p:spPr>
            <a:xfrm>
              <a:off x="4501800" y="4581360"/>
              <a:ext cx="14472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oup 341"/>
            <p:cNvGrpSpPr/>
            <p:nvPr/>
          </p:nvGrpSpPr>
          <p:grpSpPr>
            <a:xfrm>
              <a:off x="4859280" y="3143160"/>
              <a:ext cx="576000" cy="576000"/>
              <a:chOff x="4859280" y="3143160"/>
              <a:chExt cx="576000" cy="576000"/>
            </a:xfrm>
          </p:grpSpPr>
          <p:sp>
            <p:nvSpPr>
              <p:cNvPr id="498" name="Oval 342"/>
              <p:cNvSpPr/>
              <p:nvPr/>
            </p:nvSpPr>
            <p:spPr>
              <a:xfrm>
                <a:off x="4859280" y="314316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499" name="WordArt 343"/>
              <p:cNvSpPr txBox="1"/>
              <p:nvPr/>
            </p:nvSpPr>
            <p:spPr>
              <a:xfrm>
                <a:off x="4932360" y="335916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0" name="Line 344"/>
            <p:cNvSpPr/>
            <p:nvPr/>
          </p:nvSpPr>
          <p:spPr>
            <a:xfrm>
              <a:off x="6588000" y="3935160"/>
              <a:ext cx="360" cy="14292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Line 345"/>
            <p:cNvSpPr/>
            <p:nvPr/>
          </p:nvSpPr>
          <p:spPr>
            <a:xfrm>
              <a:off x="7308720" y="3935160"/>
              <a:ext cx="360" cy="14292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Line 346"/>
            <p:cNvSpPr/>
            <p:nvPr/>
          </p:nvSpPr>
          <p:spPr>
            <a:xfrm>
              <a:off x="5868720" y="3935160"/>
              <a:ext cx="360" cy="14292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Line 347"/>
            <p:cNvSpPr/>
            <p:nvPr/>
          </p:nvSpPr>
          <p:spPr>
            <a:xfrm>
              <a:off x="5148000" y="3935160"/>
              <a:ext cx="360" cy="14292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4" name="Group 348"/>
            <p:cNvGrpSpPr/>
            <p:nvPr/>
          </p:nvGrpSpPr>
          <p:grpSpPr>
            <a:xfrm>
              <a:off x="4859280" y="2782800"/>
              <a:ext cx="576000" cy="576000"/>
              <a:chOff x="4859280" y="2782800"/>
              <a:chExt cx="576000" cy="576000"/>
            </a:xfrm>
          </p:grpSpPr>
          <p:sp>
            <p:nvSpPr>
              <p:cNvPr id="505" name="Oval 349"/>
              <p:cNvSpPr/>
              <p:nvPr/>
            </p:nvSpPr>
            <p:spPr>
              <a:xfrm>
                <a:off x="4859280" y="2782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06" name="WordArt 350"/>
              <p:cNvSpPr txBox="1"/>
              <p:nvPr/>
            </p:nvSpPr>
            <p:spPr>
              <a:xfrm>
                <a:off x="4932360" y="2998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351"/>
            <p:cNvGrpSpPr/>
            <p:nvPr/>
          </p:nvGrpSpPr>
          <p:grpSpPr>
            <a:xfrm>
              <a:off x="4859280" y="2422440"/>
              <a:ext cx="576000" cy="576000"/>
              <a:chOff x="4859280" y="2422440"/>
              <a:chExt cx="576000" cy="576000"/>
            </a:xfrm>
          </p:grpSpPr>
          <p:sp>
            <p:nvSpPr>
              <p:cNvPr id="508" name="Oval 352"/>
              <p:cNvSpPr/>
              <p:nvPr/>
            </p:nvSpPr>
            <p:spPr>
              <a:xfrm>
                <a:off x="4859280" y="2422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09" name="WordArt 353"/>
              <p:cNvSpPr txBox="1"/>
              <p:nvPr/>
            </p:nvSpPr>
            <p:spPr>
              <a:xfrm>
                <a:off x="4932360" y="2638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354"/>
            <p:cNvGrpSpPr/>
            <p:nvPr/>
          </p:nvGrpSpPr>
          <p:grpSpPr>
            <a:xfrm>
              <a:off x="4859280" y="2062080"/>
              <a:ext cx="576000" cy="576000"/>
              <a:chOff x="4859280" y="2062080"/>
              <a:chExt cx="576000" cy="576000"/>
            </a:xfrm>
          </p:grpSpPr>
          <p:sp>
            <p:nvSpPr>
              <p:cNvPr id="511" name="Oval 355"/>
              <p:cNvSpPr/>
              <p:nvPr/>
            </p:nvSpPr>
            <p:spPr>
              <a:xfrm>
                <a:off x="4859280" y="2062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12" name="WordArt 356"/>
              <p:cNvSpPr txBox="1"/>
              <p:nvPr/>
            </p:nvSpPr>
            <p:spPr>
              <a:xfrm>
                <a:off x="4932360" y="2278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357"/>
            <p:cNvGrpSpPr/>
            <p:nvPr/>
          </p:nvGrpSpPr>
          <p:grpSpPr>
            <a:xfrm>
              <a:off x="5580000" y="3143160"/>
              <a:ext cx="576000" cy="576000"/>
              <a:chOff x="5580000" y="3143160"/>
              <a:chExt cx="576000" cy="576000"/>
            </a:xfrm>
          </p:grpSpPr>
          <p:sp>
            <p:nvSpPr>
              <p:cNvPr id="514" name="Oval 358"/>
              <p:cNvSpPr/>
              <p:nvPr/>
            </p:nvSpPr>
            <p:spPr>
              <a:xfrm>
                <a:off x="5580000" y="314316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15" name="WordArt 359"/>
              <p:cNvSpPr txBox="1"/>
              <p:nvPr/>
            </p:nvSpPr>
            <p:spPr>
              <a:xfrm>
                <a:off x="5653080" y="335916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360"/>
            <p:cNvGrpSpPr/>
            <p:nvPr/>
          </p:nvGrpSpPr>
          <p:grpSpPr>
            <a:xfrm>
              <a:off x="5580000" y="2782800"/>
              <a:ext cx="576000" cy="576000"/>
              <a:chOff x="5580000" y="2782800"/>
              <a:chExt cx="576000" cy="576000"/>
            </a:xfrm>
          </p:grpSpPr>
          <p:sp>
            <p:nvSpPr>
              <p:cNvPr id="517" name="Oval 361"/>
              <p:cNvSpPr/>
              <p:nvPr/>
            </p:nvSpPr>
            <p:spPr>
              <a:xfrm>
                <a:off x="5580000" y="2782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18" name="WordArt 362"/>
              <p:cNvSpPr txBox="1"/>
              <p:nvPr/>
            </p:nvSpPr>
            <p:spPr>
              <a:xfrm>
                <a:off x="5653080" y="2998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363"/>
            <p:cNvGrpSpPr/>
            <p:nvPr/>
          </p:nvGrpSpPr>
          <p:grpSpPr>
            <a:xfrm>
              <a:off x="5580000" y="2422440"/>
              <a:ext cx="576000" cy="576000"/>
              <a:chOff x="5580000" y="2422440"/>
              <a:chExt cx="576000" cy="576000"/>
            </a:xfrm>
          </p:grpSpPr>
          <p:sp>
            <p:nvSpPr>
              <p:cNvPr id="520" name="Oval 364"/>
              <p:cNvSpPr/>
              <p:nvPr/>
            </p:nvSpPr>
            <p:spPr>
              <a:xfrm>
                <a:off x="5580000" y="2422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21" name="WordArt 365"/>
              <p:cNvSpPr txBox="1"/>
              <p:nvPr/>
            </p:nvSpPr>
            <p:spPr>
              <a:xfrm>
                <a:off x="5653080" y="2638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366"/>
            <p:cNvGrpSpPr/>
            <p:nvPr/>
          </p:nvGrpSpPr>
          <p:grpSpPr>
            <a:xfrm>
              <a:off x="6300720" y="3143160"/>
              <a:ext cx="576000" cy="576000"/>
              <a:chOff x="6300720" y="3143160"/>
              <a:chExt cx="576000" cy="576000"/>
            </a:xfrm>
          </p:grpSpPr>
          <p:sp>
            <p:nvSpPr>
              <p:cNvPr id="523" name="Oval 367"/>
              <p:cNvSpPr/>
              <p:nvPr/>
            </p:nvSpPr>
            <p:spPr>
              <a:xfrm>
                <a:off x="6300720" y="314316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24" name="WordArt 368"/>
              <p:cNvSpPr txBox="1"/>
              <p:nvPr/>
            </p:nvSpPr>
            <p:spPr>
              <a:xfrm>
                <a:off x="6373800" y="335916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5" name="Group 369"/>
            <p:cNvGrpSpPr/>
            <p:nvPr/>
          </p:nvGrpSpPr>
          <p:grpSpPr>
            <a:xfrm>
              <a:off x="6300720" y="2782800"/>
              <a:ext cx="576000" cy="576000"/>
              <a:chOff x="6300720" y="2782800"/>
              <a:chExt cx="576000" cy="576000"/>
            </a:xfrm>
          </p:grpSpPr>
          <p:sp>
            <p:nvSpPr>
              <p:cNvPr id="526" name="Oval 370"/>
              <p:cNvSpPr/>
              <p:nvPr/>
            </p:nvSpPr>
            <p:spPr>
              <a:xfrm>
                <a:off x="6300720" y="2782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27" name="WordArt 371"/>
              <p:cNvSpPr txBox="1"/>
              <p:nvPr/>
            </p:nvSpPr>
            <p:spPr>
              <a:xfrm>
                <a:off x="6373800" y="2998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372"/>
            <p:cNvGrpSpPr/>
            <p:nvPr/>
          </p:nvGrpSpPr>
          <p:grpSpPr>
            <a:xfrm>
              <a:off x="7020000" y="3143160"/>
              <a:ext cx="576000" cy="576000"/>
              <a:chOff x="7020000" y="3143160"/>
              <a:chExt cx="576000" cy="576000"/>
            </a:xfrm>
          </p:grpSpPr>
          <p:sp>
            <p:nvSpPr>
              <p:cNvPr id="529" name="Oval 373"/>
              <p:cNvSpPr/>
              <p:nvPr/>
            </p:nvSpPr>
            <p:spPr>
              <a:xfrm>
                <a:off x="7020000" y="314316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30" name="WordArt 374"/>
              <p:cNvSpPr txBox="1"/>
              <p:nvPr/>
            </p:nvSpPr>
            <p:spPr>
              <a:xfrm>
                <a:off x="7093080" y="335916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375"/>
            <p:cNvGrpSpPr/>
            <p:nvPr/>
          </p:nvGrpSpPr>
          <p:grpSpPr>
            <a:xfrm>
              <a:off x="3708360" y="4294080"/>
              <a:ext cx="576000" cy="576000"/>
              <a:chOff x="3708360" y="4294080"/>
              <a:chExt cx="576000" cy="576000"/>
            </a:xfrm>
          </p:grpSpPr>
          <p:sp>
            <p:nvSpPr>
              <p:cNvPr id="532" name="Oval 376"/>
              <p:cNvSpPr/>
              <p:nvPr/>
            </p:nvSpPr>
            <p:spPr>
              <a:xfrm>
                <a:off x="3708360" y="4294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33" name="WordArt 377"/>
              <p:cNvSpPr txBox="1"/>
              <p:nvPr/>
            </p:nvSpPr>
            <p:spPr>
              <a:xfrm>
                <a:off x="3781440" y="4510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378"/>
            <p:cNvGrpSpPr/>
            <p:nvPr/>
          </p:nvGrpSpPr>
          <p:grpSpPr>
            <a:xfrm>
              <a:off x="3708360" y="4654440"/>
              <a:ext cx="576000" cy="576000"/>
              <a:chOff x="3708360" y="4654440"/>
              <a:chExt cx="576000" cy="576000"/>
            </a:xfrm>
          </p:grpSpPr>
          <p:sp>
            <p:nvSpPr>
              <p:cNvPr id="535" name="Oval 379"/>
              <p:cNvSpPr/>
              <p:nvPr/>
            </p:nvSpPr>
            <p:spPr>
              <a:xfrm>
                <a:off x="3708360" y="4654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36" name="WordArt 380"/>
              <p:cNvSpPr txBox="1"/>
              <p:nvPr/>
            </p:nvSpPr>
            <p:spPr>
              <a:xfrm>
                <a:off x="3781440" y="4870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381"/>
            <p:cNvGrpSpPr/>
            <p:nvPr/>
          </p:nvGrpSpPr>
          <p:grpSpPr>
            <a:xfrm>
              <a:off x="3708360" y="5014800"/>
              <a:ext cx="576000" cy="576000"/>
              <a:chOff x="3708360" y="5014800"/>
              <a:chExt cx="576000" cy="576000"/>
            </a:xfrm>
          </p:grpSpPr>
          <p:sp>
            <p:nvSpPr>
              <p:cNvPr id="538" name="Oval 382"/>
              <p:cNvSpPr/>
              <p:nvPr/>
            </p:nvSpPr>
            <p:spPr>
              <a:xfrm>
                <a:off x="3708360" y="5014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39" name="WordArt 383"/>
              <p:cNvSpPr txBox="1"/>
              <p:nvPr/>
            </p:nvSpPr>
            <p:spPr>
              <a:xfrm>
                <a:off x="3781440" y="5230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384"/>
            <p:cNvGrpSpPr/>
            <p:nvPr/>
          </p:nvGrpSpPr>
          <p:grpSpPr>
            <a:xfrm>
              <a:off x="3708360" y="5375160"/>
              <a:ext cx="576000" cy="576000"/>
              <a:chOff x="3708360" y="5375160"/>
              <a:chExt cx="576000" cy="576000"/>
            </a:xfrm>
          </p:grpSpPr>
          <p:sp>
            <p:nvSpPr>
              <p:cNvPr id="541" name="Oval 385"/>
              <p:cNvSpPr/>
              <p:nvPr/>
            </p:nvSpPr>
            <p:spPr>
              <a:xfrm>
                <a:off x="3708360" y="537516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42" name="WordArt 386"/>
              <p:cNvSpPr txBox="1"/>
              <p:nvPr/>
            </p:nvSpPr>
            <p:spPr>
              <a:xfrm>
                <a:off x="3781440" y="559116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3" name="Group 387"/>
            <p:cNvGrpSpPr/>
            <p:nvPr/>
          </p:nvGrpSpPr>
          <p:grpSpPr>
            <a:xfrm>
              <a:off x="2987640" y="4294080"/>
              <a:ext cx="576000" cy="576000"/>
              <a:chOff x="2987640" y="4294080"/>
              <a:chExt cx="576000" cy="576000"/>
            </a:xfrm>
          </p:grpSpPr>
          <p:sp>
            <p:nvSpPr>
              <p:cNvPr id="544" name="Oval 388"/>
              <p:cNvSpPr/>
              <p:nvPr/>
            </p:nvSpPr>
            <p:spPr>
              <a:xfrm>
                <a:off x="2987640" y="4294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45" name="WordArt 389"/>
              <p:cNvSpPr txBox="1"/>
              <p:nvPr/>
            </p:nvSpPr>
            <p:spPr>
              <a:xfrm>
                <a:off x="3060720" y="4510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390"/>
            <p:cNvGrpSpPr/>
            <p:nvPr/>
          </p:nvGrpSpPr>
          <p:grpSpPr>
            <a:xfrm>
              <a:off x="2987640" y="4654440"/>
              <a:ext cx="576000" cy="576000"/>
              <a:chOff x="2987640" y="4654440"/>
              <a:chExt cx="576000" cy="576000"/>
            </a:xfrm>
          </p:grpSpPr>
          <p:sp>
            <p:nvSpPr>
              <p:cNvPr id="547" name="Oval 391"/>
              <p:cNvSpPr/>
              <p:nvPr/>
            </p:nvSpPr>
            <p:spPr>
              <a:xfrm>
                <a:off x="2987640" y="4654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48" name="WordArt 392"/>
              <p:cNvSpPr txBox="1"/>
              <p:nvPr/>
            </p:nvSpPr>
            <p:spPr>
              <a:xfrm>
                <a:off x="3060720" y="4870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393"/>
            <p:cNvGrpSpPr/>
            <p:nvPr/>
          </p:nvGrpSpPr>
          <p:grpSpPr>
            <a:xfrm>
              <a:off x="2987640" y="5014800"/>
              <a:ext cx="576000" cy="576000"/>
              <a:chOff x="2987640" y="5014800"/>
              <a:chExt cx="576000" cy="576000"/>
            </a:xfrm>
          </p:grpSpPr>
          <p:sp>
            <p:nvSpPr>
              <p:cNvPr id="550" name="Oval 394"/>
              <p:cNvSpPr/>
              <p:nvPr/>
            </p:nvSpPr>
            <p:spPr>
              <a:xfrm>
                <a:off x="2987640" y="5014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51" name="WordArt 395"/>
              <p:cNvSpPr txBox="1"/>
              <p:nvPr/>
            </p:nvSpPr>
            <p:spPr>
              <a:xfrm>
                <a:off x="3060720" y="5230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396"/>
            <p:cNvGrpSpPr/>
            <p:nvPr/>
          </p:nvGrpSpPr>
          <p:grpSpPr>
            <a:xfrm>
              <a:off x="2268360" y="4294080"/>
              <a:ext cx="576000" cy="576000"/>
              <a:chOff x="2268360" y="4294080"/>
              <a:chExt cx="576000" cy="576000"/>
            </a:xfrm>
          </p:grpSpPr>
          <p:sp>
            <p:nvSpPr>
              <p:cNvPr id="553" name="Oval 397"/>
              <p:cNvSpPr/>
              <p:nvPr/>
            </p:nvSpPr>
            <p:spPr>
              <a:xfrm>
                <a:off x="2268360" y="4294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54" name="WordArt 398"/>
              <p:cNvSpPr txBox="1"/>
              <p:nvPr/>
            </p:nvSpPr>
            <p:spPr>
              <a:xfrm>
                <a:off x="2341440" y="4510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5" name="Group 399"/>
            <p:cNvGrpSpPr/>
            <p:nvPr/>
          </p:nvGrpSpPr>
          <p:grpSpPr>
            <a:xfrm>
              <a:off x="2268360" y="4654440"/>
              <a:ext cx="576000" cy="576000"/>
              <a:chOff x="2268360" y="4654440"/>
              <a:chExt cx="576000" cy="576000"/>
            </a:xfrm>
          </p:grpSpPr>
          <p:sp>
            <p:nvSpPr>
              <p:cNvPr id="556" name="Oval 400"/>
              <p:cNvSpPr/>
              <p:nvPr/>
            </p:nvSpPr>
            <p:spPr>
              <a:xfrm>
                <a:off x="2268360" y="4654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57" name="WordArt 401"/>
              <p:cNvSpPr txBox="1"/>
              <p:nvPr/>
            </p:nvSpPr>
            <p:spPr>
              <a:xfrm>
                <a:off x="2341440" y="4870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8" name="Group 402"/>
            <p:cNvGrpSpPr/>
            <p:nvPr/>
          </p:nvGrpSpPr>
          <p:grpSpPr>
            <a:xfrm>
              <a:off x="1547640" y="4294080"/>
              <a:ext cx="576000" cy="576000"/>
              <a:chOff x="1547640" y="4294080"/>
              <a:chExt cx="576000" cy="576000"/>
            </a:xfrm>
          </p:grpSpPr>
          <p:sp>
            <p:nvSpPr>
              <p:cNvPr id="559" name="Oval 403"/>
              <p:cNvSpPr/>
              <p:nvPr/>
            </p:nvSpPr>
            <p:spPr>
              <a:xfrm>
                <a:off x="1547640" y="4294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60" name="WordArt 404"/>
              <p:cNvSpPr txBox="1"/>
              <p:nvPr/>
            </p:nvSpPr>
            <p:spPr>
              <a:xfrm>
                <a:off x="1620720" y="4510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405"/>
            <p:cNvGrpSpPr/>
            <p:nvPr/>
          </p:nvGrpSpPr>
          <p:grpSpPr>
            <a:xfrm>
              <a:off x="4859280" y="4294080"/>
              <a:ext cx="576000" cy="576000"/>
              <a:chOff x="4859280" y="4294080"/>
              <a:chExt cx="576000" cy="576000"/>
            </a:xfrm>
          </p:grpSpPr>
          <p:sp>
            <p:nvSpPr>
              <p:cNvPr id="562" name="Oval 406"/>
              <p:cNvSpPr/>
              <p:nvPr/>
            </p:nvSpPr>
            <p:spPr>
              <a:xfrm>
                <a:off x="4859280" y="4294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63" name="WordArt 407"/>
              <p:cNvSpPr txBox="1"/>
              <p:nvPr/>
            </p:nvSpPr>
            <p:spPr>
              <a:xfrm>
                <a:off x="4932360" y="4510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408"/>
            <p:cNvGrpSpPr/>
            <p:nvPr/>
          </p:nvGrpSpPr>
          <p:grpSpPr>
            <a:xfrm>
              <a:off x="4859280" y="4654440"/>
              <a:ext cx="576000" cy="576000"/>
              <a:chOff x="4859280" y="4654440"/>
              <a:chExt cx="576000" cy="576000"/>
            </a:xfrm>
          </p:grpSpPr>
          <p:sp>
            <p:nvSpPr>
              <p:cNvPr id="565" name="Oval 409"/>
              <p:cNvSpPr/>
              <p:nvPr/>
            </p:nvSpPr>
            <p:spPr>
              <a:xfrm>
                <a:off x="4859280" y="4654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66" name="WordArt 410"/>
              <p:cNvSpPr txBox="1"/>
              <p:nvPr/>
            </p:nvSpPr>
            <p:spPr>
              <a:xfrm>
                <a:off x="4932360" y="4870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411"/>
            <p:cNvGrpSpPr/>
            <p:nvPr/>
          </p:nvGrpSpPr>
          <p:grpSpPr>
            <a:xfrm>
              <a:off x="4859280" y="5014800"/>
              <a:ext cx="576000" cy="576000"/>
              <a:chOff x="4859280" y="5014800"/>
              <a:chExt cx="576000" cy="576000"/>
            </a:xfrm>
          </p:grpSpPr>
          <p:sp>
            <p:nvSpPr>
              <p:cNvPr id="568" name="Oval 412"/>
              <p:cNvSpPr/>
              <p:nvPr/>
            </p:nvSpPr>
            <p:spPr>
              <a:xfrm>
                <a:off x="4859280" y="5014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69" name="WordArt 413"/>
              <p:cNvSpPr txBox="1"/>
              <p:nvPr/>
            </p:nvSpPr>
            <p:spPr>
              <a:xfrm>
                <a:off x="4932360" y="5230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414"/>
            <p:cNvGrpSpPr/>
            <p:nvPr/>
          </p:nvGrpSpPr>
          <p:grpSpPr>
            <a:xfrm>
              <a:off x="4859280" y="5373720"/>
              <a:ext cx="576000" cy="576000"/>
              <a:chOff x="4859280" y="5373720"/>
              <a:chExt cx="576000" cy="576000"/>
            </a:xfrm>
          </p:grpSpPr>
          <p:sp>
            <p:nvSpPr>
              <p:cNvPr id="571" name="Oval 415"/>
              <p:cNvSpPr/>
              <p:nvPr/>
            </p:nvSpPr>
            <p:spPr>
              <a:xfrm>
                <a:off x="4859280" y="537372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72" name="WordArt 416"/>
              <p:cNvSpPr txBox="1"/>
              <p:nvPr/>
            </p:nvSpPr>
            <p:spPr>
              <a:xfrm>
                <a:off x="4932360" y="558972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417"/>
            <p:cNvGrpSpPr/>
            <p:nvPr/>
          </p:nvGrpSpPr>
          <p:grpSpPr>
            <a:xfrm>
              <a:off x="5580000" y="4294080"/>
              <a:ext cx="576000" cy="576000"/>
              <a:chOff x="5580000" y="4294080"/>
              <a:chExt cx="576000" cy="576000"/>
            </a:xfrm>
          </p:grpSpPr>
          <p:sp>
            <p:nvSpPr>
              <p:cNvPr id="574" name="Oval 418"/>
              <p:cNvSpPr/>
              <p:nvPr/>
            </p:nvSpPr>
            <p:spPr>
              <a:xfrm>
                <a:off x="5580000" y="4294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75" name="WordArt 419"/>
              <p:cNvSpPr txBox="1"/>
              <p:nvPr/>
            </p:nvSpPr>
            <p:spPr>
              <a:xfrm>
                <a:off x="5653080" y="4510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420"/>
            <p:cNvGrpSpPr/>
            <p:nvPr/>
          </p:nvGrpSpPr>
          <p:grpSpPr>
            <a:xfrm>
              <a:off x="5580000" y="4654440"/>
              <a:ext cx="576000" cy="576000"/>
              <a:chOff x="5580000" y="4654440"/>
              <a:chExt cx="576000" cy="576000"/>
            </a:xfrm>
          </p:grpSpPr>
          <p:sp>
            <p:nvSpPr>
              <p:cNvPr id="577" name="Oval 421"/>
              <p:cNvSpPr/>
              <p:nvPr/>
            </p:nvSpPr>
            <p:spPr>
              <a:xfrm>
                <a:off x="5580000" y="4654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78" name="WordArt 422"/>
              <p:cNvSpPr txBox="1"/>
              <p:nvPr/>
            </p:nvSpPr>
            <p:spPr>
              <a:xfrm>
                <a:off x="5653080" y="4870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423"/>
            <p:cNvGrpSpPr/>
            <p:nvPr/>
          </p:nvGrpSpPr>
          <p:grpSpPr>
            <a:xfrm>
              <a:off x="5580000" y="5014800"/>
              <a:ext cx="576000" cy="576000"/>
              <a:chOff x="5580000" y="5014800"/>
              <a:chExt cx="576000" cy="576000"/>
            </a:xfrm>
          </p:grpSpPr>
          <p:sp>
            <p:nvSpPr>
              <p:cNvPr id="580" name="Oval 424"/>
              <p:cNvSpPr/>
              <p:nvPr/>
            </p:nvSpPr>
            <p:spPr>
              <a:xfrm>
                <a:off x="5580000" y="5014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81" name="WordArt 425"/>
              <p:cNvSpPr txBox="1"/>
              <p:nvPr/>
            </p:nvSpPr>
            <p:spPr>
              <a:xfrm>
                <a:off x="5653080" y="5230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426"/>
            <p:cNvGrpSpPr/>
            <p:nvPr/>
          </p:nvGrpSpPr>
          <p:grpSpPr>
            <a:xfrm>
              <a:off x="6300720" y="4294080"/>
              <a:ext cx="576000" cy="576000"/>
              <a:chOff x="6300720" y="4294080"/>
              <a:chExt cx="576000" cy="576000"/>
            </a:xfrm>
          </p:grpSpPr>
          <p:sp>
            <p:nvSpPr>
              <p:cNvPr id="583" name="Oval 427"/>
              <p:cNvSpPr/>
              <p:nvPr/>
            </p:nvSpPr>
            <p:spPr>
              <a:xfrm>
                <a:off x="6300720" y="4294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84" name="WordArt 428"/>
              <p:cNvSpPr txBox="1"/>
              <p:nvPr/>
            </p:nvSpPr>
            <p:spPr>
              <a:xfrm>
                <a:off x="6373800" y="4510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429"/>
            <p:cNvGrpSpPr/>
            <p:nvPr/>
          </p:nvGrpSpPr>
          <p:grpSpPr>
            <a:xfrm>
              <a:off x="6300720" y="4654440"/>
              <a:ext cx="576000" cy="576000"/>
              <a:chOff x="6300720" y="4654440"/>
              <a:chExt cx="576000" cy="576000"/>
            </a:xfrm>
          </p:grpSpPr>
          <p:sp>
            <p:nvSpPr>
              <p:cNvPr id="586" name="Oval 430"/>
              <p:cNvSpPr/>
              <p:nvPr/>
            </p:nvSpPr>
            <p:spPr>
              <a:xfrm>
                <a:off x="6300720" y="4654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87" name="WordArt 431"/>
              <p:cNvSpPr txBox="1"/>
              <p:nvPr/>
            </p:nvSpPr>
            <p:spPr>
              <a:xfrm>
                <a:off x="6373800" y="4870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432"/>
            <p:cNvGrpSpPr/>
            <p:nvPr/>
          </p:nvGrpSpPr>
          <p:grpSpPr>
            <a:xfrm>
              <a:off x="7020000" y="4294080"/>
              <a:ext cx="576000" cy="576000"/>
              <a:chOff x="7020000" y="4294080"/>
              <a:chExt cx="576000" cy="576000"/>
            </a:xfrm>
          </p:grpSpPr>
          <p:sp>
            <p:nvSpPr>
              <p:cNvPr id="589" name="Oval 433"/>
              <p:cNvSpPr/>
              <p:nvPr/>
            </p:nvSpPr>
            <p:spPr>
              <a:xfrm>
                <a:off x="7020000" y="4294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90" name="WordArt 434"/>
              <p:cNvSpPr txBox="1"/>
              <p:nvPr/>
            </p:nvSpPr>
            <p:spPr>
              <a:xfrm>
                <a:off x="7093080" y="4510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1" name="WordArt 435"/>
            <p:cNvSpPr txBox="1"/>
            <p:nvPr/>
          </p:nvSpPr>
          <p:spPr>
            <a:xfrm>
              <a:off x="4356000" y="6310440"/>
              <a:ext cx="431280" cy="1328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WordArt 436"/>
            <p:cNvSpPr txBox="1"/>
            <p:nvPr/>
          </p:nvSpPr>
          <p:spPr>
            <a:xfrm>
              <a:off x="611280" y="3933720"/>
              <a:ext cx="431280" cy="1328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4" name="Group 261"/>
          <p:cNvGrpSpPr/>
          <p:nvPr/>
        </p:nvGrpSpPr>
        <p:grpSpPr>
          <a:xfrm>
            <a:off x="971640" y="1557360"/>
            <a:ext cx="7200360" cy="4463640"/>
            <a:chOff x="971640" y="1557360"/>
            <a:chExt cx="7200360" cy="4463640"/>
          </a:xfrm>
        </p:grpSpPr>
        <p:sp>
          <p:nvSpPr>
            <p:cNvPr id="595" name="AutoShape 262"/>
            <p:cNvSpPr/>
            <p:nvPr/>
          </p:nvSpPr>
          <p:spPr>
            <a:xfrm>
              <a:off x="971640" y="1560600"/>
              <a:ext cx="215856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3700"/>
                </a:gs>
                <a:gs pos="100000">
                  <a:srgbClr val="ff7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596" name="Group 263"/>
            <p:cNvGrpSpPr/>
            <p:nvPr/>
          </p:nvGrpSpPr>
          <p:grpSpPr>
            <a:xfrm>
              <a:off x="1332000" y="1776240"/>
              <a:ext cx="1366560" cy="901800"/>
              <a:chOff x="1332000" y="1776240"/>
              <a:chExt cx="1366560" cy="901800"/>
            </a:xfrm>
          </p:grpSpPr>
          <p:sp>
            <p:nvSpPr>
              <p:cNvPr id="597" name="WordArt 264"/>
              <p:cNvSpPr txBox="1"/>
              <p:nvPr/>
            </p:nvSpPr>
            <p:spPr>
              <a:xfrm>
                <a:off x="1506600" y="1776240"/>
                <a:ext cx="102096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WordArt 265"/>
              <p:cNvSpPr txBox="1"/>
              <p:nvPr/>
            </p:nvSpPr>
            <p:spPr>
              <a:xfrm>
                <a:off x="1332000" y="2165400"/>
                <a:ext cx="136656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9" name="AutoShape 266"/>
            <p:cNvSpPr/>
            <p:nvPr/>
          </p:nvSpPr>
          <p:spPr>
            <a:xfrm>
              <a:off x="1187280" y="3214800"/>
              <a:ext cx="1726920" cy="115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WordArt 267"/>
            <p:cNvSpPr txBox="1"/>
            <p:nvPr/>
          </p:nvSpPr>
          <p:spPr>
            <a:xfrm>
              <a:off x="1620720" y="3936960"/>
              <a:ext cx="790200" cy="2138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Line 268"/>
            <p:cNvSpPr/>
            <p:nvPr/>
          </p:nvSpPr>
          <p:spPr>
            <a:xfrm>
              <a:off x="2050920" y="2852640"/>
              <a:ext cx="360" cy="64908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Line 269"/>
            <p:cNvSpPr/>
            <p:nvPr/>
          </p:nvSpPr>
          <p:spPr>
            <a:xfrm>
              <a:off x="2050920" y="4365360"/>
              <a:ext cx="360" cy="64944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AutoShape 270"/>
            <p:cNvSpPr/>
            <p:nvPr/>
          </p:nvSpPr>
          <p:spPr>
            <a:xfrm>
              <a:off x="971640" y="4726080"/>
              <a:ext cx="215856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1600"/>
                </a:gs>
                <a:gs pos="100000">
                  <a:srgbClr val="ff3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604" name="Group 271"/>
            <p:cNvGrpSpPr/>
            <p:nvPr/>
          </p:nvGrpSpPr>
          <p:grpSpPr>
            <a:xfrm>
              <a:off x="1332000" y="4941720"/>
              <a:ext cx="1366560" cy="901800"/>
              <a:chOff x="1332000" y="4941720"/>
              <a:chExt cx="1366560" cy="901800"/>
            </a:xfrm>
          </p:grpSpPr>
          <p:sp>
            <p:nvSpPr>
              <p:cNvPr id="605" name="WordArt 272"/>
              <p:cNvSpPr txBox="1"/>
              <p:nvPr/>
            </p:nvSpPr>
            <p:spPr>
              <a:xfrm>
                <a:off x="1506600" y="4941720"/>
                <a:ext cx="102096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WordArt 273"/>
              <p:cNvSpPr txBox="1"/>
              <p:nvPr/>
            </p:nvSpPr>
            <p:spPr>
              <a:xfrm>
                <a:off x="1332000" y="5330880"/>
                <a:ext cx="136656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7" name="AutoShape 274"/>
            <p:cNvSpPr/>
            <p:nvPr/>
          </p:nvSpPr>
          <p:spPr>
            <a:xfrm>
              <a:off x="3492360" y="1557360"/>
              <a:ext cx="215856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608" name="Group 275"/>
            <p:cNvGrpSpPr/>
            <p:nvPr/>
          </p:nvGrpSpPr>
          <p:grpSpPr>
            <a:xfrm>
              <a:off x="3852720" y="1773360"/>
              <a:ext cx="1366560" cy="901440"/>
              <a:chOff x="3852720" y="1773360"/>
              <a:chExt cx="1366560" cy="901440"/>
            </a:xfrm>
          </p:grpSpPr>
          <p:sp>
            <p:nvSpPr>
              <p:cNvPr id="609" name="WordArt 276"/>
              <p:cNvSpPr txBox="1"/>
              <p:nvPr/>
            </p:nvSpPr>
            <p:spPr>
              <a:xfrm>
                <a:off x="4027320" y="1773360"/>
                <a:ext cx="102096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WordArt 277"/>
              <p:cNvSpPr txBox="1"/>
              <p:nvPr/>
            </p:nvSpPr>
            <p:spPr>
              <a:xfrm>
                <a:off x="3852720" y="2162160"/>
                <a:ext cx="136656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AutoShape 278"/>
            <p:cNvSpPr/>
            <p:nvPr/>
          </p:nvSpPr>
          <p:spPr>
            <a:xfrm>
              <a:off x="3708360" y="3211560"/>
              <a:ext cx="1726920" cy="115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181818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WordArt 279"/>
            <p:cNvSpPr txBox="1"/>
            <p:nvPr/>
          </p:nvSpPr>
          <p:spPr>
            <a:xfrm>
              <a:off x="4141800" y="3933720"/>
              <a:ext cx="790200" cy="2138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280"/>
            <p:cNvSpPr/>
            <p:nvPr/>
          </p:nvSpPr>
          <p:spPr>
            <a:xfrm>
              <a:off x="4572000" y="2849400"/>
              <a:ext cx="360" cy="64944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81"/>
            <p:cNvSpPr/>
            <p:nvPr/>
          </p:nvSpPr>
          <p:spPr>
            <a:xfrm>
              <a:off x="4572000" y="4362120"/>
              <a:ext cx="360" cy="64944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AutoShape 282"/>
            <p:cNvSpPr/>
            <p:nvPr/>
          </p:nvSpPr>
          <p:spPr>
            <a:xfrm>
              <a:off x="3492360" y="4722840"/>
              <a:ext cx="215856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5c00"/>
                </a:gs>
                <a:gs pos="100000">
                  <a:srgbClr val="ffc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616" name="Group 283"/>
            <p:cNvGrpSpPr/>
            <p:nvPr/>
          </p:nvGrpSpPr>
          <p:grpSpPr>
            <a:xfrm>
              <a:off x="3852720" y="4938840"/>
              <a:ext cx="1366560" cy="901440"/>
              <a:chOff x="3852720" y="4938840"/>
              <a:chExt cx="1366560" cy="901440"/>
            </a:xfrm>
          </p:grpSpPr>
          <p:sp>
            <p:nvSpPr>
              <p:cNvPr id="617" name="WordArt 284"/>
              <p:cNvSpPr txBox="1"/>
              <p:nvPr/>
            </p:nvSpPr>
            <p:spPr>
              <a:xfrm>
                <a:off x="4027320" y="4938840"/>
                <a:ext cx="102096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WordArt 285"/>
              <p:cNvSpPr txBox="1"/>
              <p:nvPr/>
            </p:nvSpPr>
            <p:spPr>
              <a:xfrm>
                <a:off x="3852720" y="5327640"/>
                <a:ext cx="136656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9" name="AutoShape 286"/>
            <p:cNvSpPr/>
            <p:nvPr/>
          </p:nvSpPr>
          <p:spPr>
            <a:xfrm>
              <a:off x="6013440" y="1557360"/>
              <a:ext cx="215856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3700"/>
                </a:gs>
                <a:gs pos="100000">
                  <a:srgbClr val="ff7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620" name="Group 287"/>
            <p:cNvGrpSpPr/>
            <p:nvPr/>
          </p:nvGrpSpPr>
          <p:grpSpPr>
            <a:xfrm>
              <a:off x="6373800" y="1773360"/>
              <a:ext cx="1366560" cy="901440"/>
              <a:chOff x="6373800" y="1773360"/>
              <a:chExt cx="1366560" cy="901440"/>
            </a:xfrm>
          </p:grpSpPr>
          <p:sp>
            <p:nvSpPr>
              <p:cNvPr id="621" name="WordArt 288"/>
              <p:cNvSpPr txBox="1"/>
              <p:nvPr/>
            </p:nvSpPr>
            <p:spPr>
              <a:xfrm>
                <a:off x="6548400" y="1773360"/>
                <a:ext cx="102096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WordArt 289"/>
              <p:cNvSpPr txBox="1"/>
              <p:nvPr/>
            </p:nvSpPr>
            <p:spPr>
              <a:xfrm>
                <a:off x="6373800" y="2162160"/>
                <a:ext cx="136656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3" name="AutoShape 290"/>
            <p:cNvSpPr/>
            <p:nvPr/>
          </p:nvSpPr>
          <p:spPr>
            <a:xfrm>
              <a:off x="6229440" y="3211560"/>
              <a:ext cx="1726920" cy="115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WordArt 291"/>
            <p:cNvSpPr txBox="1"/>
            <p:nvPr/>
          </p:nvSpPr>
          <p:spPr>
            <a:xfrm>
              <a:off x="6662880" y="3933720"/>
              <a:ext cx="790200" cy="2138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292"/>
            <p:cNvSpPr/>
            <p:nvPr/>
          </p:nvSpPr>
          <p:spPr>
            <a:xfrm>
              <a:off x="7092720" y="2849400"/>
              <a:ext cx="360" cy="64944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Line 293"/>
            <p:cNvSpPr/>
            <p:nvPr/>
          </p:nvSpPr>
          <p:spPr>
            <a:xfrm>
              <a:off x="7092720" y="4362120"/>
              <a:ext cx="360" cy="64944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AutoShape 294"/>
            <p:cNvSpPr/>
            <p:nvPr/>
          </p:nvSpPr>
          <p:spPr>
            <a:xfrm>
              <a:off x="6013440" y="4722840"/>
              <a:ext cx="215856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1600"/>
                </a:gs>
                <a:gs pos="100000">
                  <a:srgbClr val="ff3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628" name="Group 295"/>
            <p:cNvGrpSpPr/>
            <p:nvPr/>
          </p:nvGrpSpPr>
          <p:grpSpPr>
            <a:xfrm>
              <a:off x="6373800" y="4938840"/>
              <a:ext cx="1366560" cy="901440"/>
              <a:chOff x="6373800" y="4938840"/>
              <a:chExt cx="1366560" cy="901440"/>
            </a:xfrm>
          </p:grpSpPr>
          <p:sp>
            <p:nvSpPr>
              <p:cNvPr id="629" name="WordArt 296"/>
              <p:cNvSpPr txBox="1"/>
              <p:nvPr/>
            </p:nvSpPr>
            <p:spPr>
              <a:xfrm>
                <a:off x="6548400" y="4938840"/>
                <a:ext cx="102096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WordArt 297"/>
              <p:cNvSpPr txBox="1"/>
              <p:nvPr/>
            </p:nvSpPr>
            <p:spPr>
              <a:xfrm>
                <a:off x="6373800" y="5327640"/>
                <a:ext cx="136656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" name="Line 298"/>
            <p:cNvSpPr/>
            <p:nvPr/>
          </p:nvSpPr>
          <p:spPr>
            <a:xfrm>
              <a:off x="2050920" y="2852640"/>
              <a:ext cx="2305080" cy="64908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Line 299"/>
            <p:cNvSpPr/>
            <p:nvPr/>
          </p:nvSpPr>
          <p:spPr>
            <a:xfrm>
              <a:off x="4572000" y="2852640"/>
              <a:ext cx="2304720" cy="64908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Line 300"/>
            <p:cNvSpPr/>
            <p:nvPr/>
          </p:nvSpPr>
          <p:spPr>
            <a:xfrm flipH="1">
              <a:off x="2268360" y="2852640"/>
              <a:ext cx="2303640" cy="64908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Line 301"/>
            <p:cNvSpPr/>
            <p:nvPr/>
          </p:nvSpPr>
          <p:spPr>
            <a:xfrm flipH="1">
              <a:off x="4787640" y="2852640"/>
              <a:ext cx="2303640" cy="64908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  <Words>1085</Words>
  <Paragraphs>33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yu wang</cp:lastModifiedBy>
  <dcterms:modified xsi:type="dcterms:W3CDTF">2015-08-08T10:05:45Z</dcterms:modified>
  <cp:revision>8</cp:revision>
  <dc:subject/>
  <dc:title>Click To Edit Title Sty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6</vt:r8>
  </property>
</Properties>
</file>