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C42-D6F9-4AF4-B56A-757BA520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F41-DC22-4D90-BE6C-2F247AAE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A15-8E14-4385-AF7C-485DFED9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1A6-69BD-4F99-9C08-40F2F875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B28-800E-43F7-9363-A53D1E6B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05D-55EC-4CDD-BF94-E57974EC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B668-4B5F-4DF5-BE4D-F96572B1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C3D-5E94-489E-9494-A42588D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08DB-9302-4E60-B0B0-FFC0CCC6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4DC-8B6D-4F5E-8B06-145F163D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08B-0DC5-4FB8-9A3A-D1A6E0F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C8B-FE32-4F25-B285-99FD309B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2E14-D170-4B10-9F5B-7B512A52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8CF9-16AB-426E-8BFD-053B7A9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BF9A-6F26-4620-B7FF-4AF0C23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BE08-D331-41E6-937F-CB874416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83E-FCCF-4C90-B8E1-6D118DD6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9E4-2A42-4F7A-A700-1EEF624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BB7-E5F4-4264-9434-EF2DDA7C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2DB-48A9-4934-9158-3101AD3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41D-1BEC-4D81-94DB-2795929C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4C8-4F10-4FD2-9DF9-1B129A8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C31-93F3-4A98-BA97-4C766AC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931-ECEA-44DA-976A-5C92B3D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1D10F-895F-4D79-8681-BB10A0CACD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5C71B-026C-4FA9-981A-1E1C973B8D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160" cy="5714640"/>
          </a:xfrm>
          <a:prstGeom prst="rect">
            <a:avLst/>
          </a:prstGeom>
          <a:ln w="9525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321280" y="2281320"/>
            <a:ext cx="5068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炫彩设计毕业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26440" y="52941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9525">
            <a:noFill/>
          </a:ln>
        </p:spPr>
      </p:pic>
      <p:grpSp>
        <p:nvGrpSpPr>
          <p:cNvPr id="86" name="组合 5"/>
          <p:cNvGrpSpPr/>
          <p:nvPr/>
        </p:nvGrpSpPr>
        <p:grpSpPr>
          <a:xfrm>
            <a:off x="2106720" y="744480"/>
            <a:ext cx="4928760" cy="786960"/>
            <a:chOff x="2106720" y="744480"/>
            <a:chExt cx="4928760" cy="786960"/>
          </a:xfrm>
        </p:grpSpPr>
        <p:sp>
          <p:nvSpPr>
            <p:cNvPr id="87" name="圆角矩形 6"/>
            <p:cNvSpPr/>
            <p:nvPr/>
          </p:nvSpPr>
          <p:spPr>
            <a:xfrm>
              <a:off x="2106720" y="80748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标题 1"/>
            <p:cNvSpPr/>
            <p:nvPr/>
          </p:nvSpPr>
          <p:spPr>
            <a:xfrm>
              <a:off x="2986920" y="74448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8"/>
          <p:cNvGrpSpPr/>
          <p:nvPr/>
        </p:nvGrpSpPr>
        <p:grpSpPr>
          <a:xfrm>
            <a:off x="2106720" y="1681200"/>
            <a:ext cx="4928760" cy="786960"/>
            <a:chOff x="2106720" y="1681200"/>
            <a:chExt cx="4928760" cy="786960"/>
          </a:xfrm>
        </p:grpSpPr>
        <p:sp>
          <p:nvSpPr>
            <p:cNvPr id="90" name="圆角矩形 9"/>
            <p:cNvSpPr/>
            <p:nvPr/>
          </p:nvSpPr>
          <p:spPr>
            <a:xfrm>
              <a:off x="2106720" y="174420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1" name="标题 1"/>
            <p:cNvSpPr/>
            <p:nvPr/>
          </p:nvSpPr>
          <p:spPr>
            <a:xfrm>
              <a:off x="2986920" y="168120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1"/>
          <p:cNvGrpSpPr/>
          <p:nvPr/>
        </p:nvGrpSpPr>
        <p:grpSpPr>
          <a:xfrm>
            <a:off x="2106720" y="2619360"/>
            <a:ext cx="4928760" cy="786960"/>
            <a:chOff x="2106720" y="2619360"/>
            <a:chExt cx="4928760" cy="786960"/>
          </a:xfrm>
        </p:grpSpPr>
        <p:sp>
          <p:nvSpPr>
            <p:cNvPr id="93" name="圆角矩形 12"/>
            <p:cNvSpPr/>
            <p:nvPr/>
          </p:nvSpPr>
          <p:spPr>
            <a:xfrm>
              <a:off x="2106720" y="268236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标题 1"/>
            <p:cNvSpPr/>
            <p:nvPr/>
          </p:nvSpPr>
          <p:spPr>
            <a:xfrm>
              <a:off x="2986920" y="261936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4"/>
          <p:cNvGrpSpPr/>
          <p:nvPr/>
        </p:nvGrpSpPr>
        <p:grpSpPr>
          <a:xfrm>
            <a:off x="2106720" y="3556080"/>
            <a:ext cx="4928760" cy="786960"/>
            <a:chOff x="2106720" y="3556080"/>
            <a:chExt cx="4928760" cy="786960"/>
          </a:xfrm>
        </p:grpSpPr>
        <p:sp>
          <p:nvSpPr>
            <p:cNvPr id="96" name="圆角矩形 15"/>
            <p:cNvSpPr/>
            <p:nvPr/>
          </p:nvSpPr>
          <p:spPr>
            <a:xfrm>
              <a:off x="2106720" y="3619080"/>
              <a:ext cx="4928760" cy="66096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60000"/>
                <a:lumOff val="40000"/>
                <a:alpha val="25000"/>
              </a:schemeClr>
            </a:solidFill>
            <a:ln w="19050">
              <a:solidFill>
                <a:srgbClr val="f79646">
                  <a:lumMod val="50000"/>
                  <a:alpha val="73000"/>
                </a:srgbClr>
              </a:solidFill>
              <a:round/>
            </a:ln>
            <a:effectLst>
              <a:outerShdw algn="t" blurRad="50760" dir="5400000" dist="38160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标题 1"/>
            <p:cNvSpPr/>
            <p:nvPr/>
          </p:nvSpPr>
          <p:spPr>
            <a:xfrm>
              <a:off x="2986920" y="3556080"/>
              <a:ext cx="3168360" cy="786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160" cy="5714640"/>
          </a:xfrm>
          <a:prstGeom prst="rect">
            <a:avLst/>
          </a:prstGeom>
          <a:ln w="9525">
            <a:noFill/>
          </a:ln>
        </p:spPr>
      </p:pic>
      <p:sp>
        <p:nvSpPr>
          <p:cNvPr id="99" name="标题 1"/>
          <p:cNvSpPr/>
          <p:nvPr/>
        </p:nvSpPr>
        <p:spPr>
          <a:xfrm>
            <a:off x="4644000" y="3505680"/>
            <a:ext cx="3785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79640" y="5161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  <Words>527</Words>
  <Paragraphs>40</Paragraphs>
  <Company>Microsoft 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7:57:01Z</dcterms:created>
  <dc:creator>高迎春</dc:creator>
  <dc:description/>
  <dc:language>en-US</dc:language>
  <cp:lastModifiedBy>yu wang</cp:lastModifiedBy>
  <dcterms:modified xsi:type="dcterms:W3CDTF">2015-08-08T10:06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4</vt:r8>
  </property>
</Properties>
</file>