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329-CCDE-40A1-8B55-B27E6E24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E47-ADB6-4FED-9CFA-5C9FD62C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014-8F6E-4AF9-954E-1F4DB213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A62-C01A-40D9-AE4E-DC8D4158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77BE-D92E-4F78-B927-3BDA1F6C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B951-25EE-49A4-9030-36197124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C4B3-B024-4CAB-BA7C-147CF6F2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C913-080A-40B3-9464-070EB713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E825-1238-4439-A14A-243D8DE0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8DA6-E498-440F-B53F-F9C3ED9B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5B95-9778-4A0F-AA93-F2AC74F7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7B0-B4EA-4912-A906-0AB21095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27B7-E34E-4FB0-A825-09DA36CB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B8FF-59EE-4E91-8EAD-3C2AF5F9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25E0-EBB4-4751-9093-C4317C1D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72FE-F285-4F23-9CD5-50791608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E05E-7149-4904-89CB-CD158054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35E-0E1F-437C-9F9F-63854A78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44F-FA3F-455B-8CD3-48C51E46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3F9-0C75-4D1E-9F0E-4249F4AD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6D3-F316-43B9-907A-C1E9F136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48A-17C2-4537-871E-A25925BE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B8C-F0EE-4E90-8B67-8A242870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BCE-A51B-42A9-AE9A-5F215C86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C07032-457D-4B90-9736-05CC334A681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7350C0-5A45-4E5F-BF83-A0302D1144A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593160" y="1714320"/>
            <a:ext cx="485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249640" y="250956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炫彩紫色抽象艺术设计</a:t>
            </a:r>
            <a:r>
              <a:rPr b="1" lang="en-US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8424000" y="0"/>
            <a:ext cx="71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31680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33080" y="35712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849240" y="39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2"/>
          <p:cNvSpPr/>
          <p:nvPr/>
        </p:nvSpPr>
        <p:spPr>
          <a:xfrm>
            <a:off x="114480" y="2295720"/>
            <a:ext cx="6619680" cy="320472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AutoShape 4"/>
          <p:cNvCxnSpPr/>
          <p:nvPr/>
        </p:nvCxnSpPr>
        <p:spPr>
          <a:xfrm flipH="1" flipV="1">
            <a:off x="4539960" y="1014120"/>
            <a:ext cx="540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90" name="AutoShape 5"/>
          <p:cNvCxnSpPr/>
          <p:nvPr/>
        </p:nvCxnSpPr>
        <p:spPr>
          <a:xfrm flipH="1" flipV="1">
            <a:off x="4539960" y="1014120"/>
            <a:ext cx="540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91" name="AutoShape 6"/>
          <p:cNvCxnSpPr/>
          <p:nvPr/>
        </p:nvCxnSpPr>
        <p:spPr>
          <a:xfrm flipH="1" flipV="1">
            <a:off x="4539960" y="1014120"/>
            <a:ext cx="5400" cy="441720"/>
          </a:xfrm>
          <a:prstGeom prst="straightConnector1">
            <a:avLst/>
          </a:prstGeom>
          <a:ln w="9525">
            <a:noFill/>
          </a:ln>
        </p:spPr>
      </p:cxnSp>
      <p:sp>
        <p:nvSpPr>
          <p:cNvPr id="92" name="AutoShape 7"/>
          <p:cNvSpPr/>
          <p:nvPr/>
        </p:nvSpPr>
        <p:spPr>
          <a:xfrm>
            <a:off x="6194520" y="1900080"/>
            <a:ext cx="201276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87a9"/>
              </a:gs>
              <a:gs pos="50000">
                <a:srgbClr val="33ccff"/>
              </a:gs>
              <a:gs pos="100000">
                <a:srgbClr val="2287a9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33cc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lanning &amp;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274920" y="1884240"/>
            <a:ext cx="196164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87a9"/>
              </a:gs>
              <a:gs pos="50000">
                <a:srgbClr val="33ccff"/>
              </a:gs>
              <a:gs pos="100000">
                <a:srgbClr val="2287a9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33cc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Supporting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5446800" y="1168560"/>
            <a:ext cx="205236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7485d"/>
              </a:gs>
              <a:gs pos="50000">
                <a:srgbClr val="cc6c8c"/>
              </a:gs>
              <a:gs pos="100000">
                <a:srgbClr val="87485d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c6c8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resident &amp;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0"/>
          <p:cNvCxnSpPr>
            <a:stCxn id="94" idx="2"/>
          </p:cNvCxnSpPr>
          <p:nvPr/>
        </p:nvCxnSpPr>
        <p:spPr>
          <a:xfrm flipH="1" flipV="1">
            <a:off x="6468840" y="1137960"/>
            <a:ext cx="504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96" name="AutoShape 11"/>
          <p:cNvCxnSpPr>
            <a:stCxn id="94" idx="2"/>
          </p:cNvCxnSpPr>
          <p:nvPr/>
        </p:nvCxnSpPr>
        <p:spPr>
          <a:xfrm flipH="1" flipV="1">
            <a:off x="6468840" y="1137960"/>
            <a:ext cx="504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97" name="AutoShape 12"/>
          <p:cNvCxnSpPr>
            <a:stCxn id="94" idx="2"/>
          </p:cNvCxnSpPr>
          <p:nvPr/>
        </p:nvCxnSpPr>
        <p:spPr>
          <a:xfrm flipH="1" flipV="1">
            <a:off x="6468840" y="1137960"/>
            <a:ext cx="504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98" name="AutoShape 13"/>
          <p:cNvCxnSpPr/>
          <p:nvPr/>
        </p:nvCxnSpPr>
        <p:spPr>
          <a:xfrm>
            <a:off x="6792840" y="1014120"/>
            <a:ext cx="360" cy="360"/>
          </a:xfrm>
          <a:prstGeom prst="straightConnector1">
            <a:avLst/>
          </a:prstGeom>
          <a:ln w="9525">
            <a:solidFill>
              <a:srgbClr val="969696"/>
            </a:solidFill>
            <a:round/>
          </a:ln>
        </p:spPr>
      </p:cxnSp>
      <p:cxnSp>
        <p:nvCxnSpPr>
          <p:cNvPr id="99" name="AutoShape 14"/>
          <p:cNvCxnSpPr/>
          <p:nvPr/>
        </p:nvCxnSpPr>
        <p:spPr>
          <a:xfrm>
            <a:off x="6792840" y="1014120"/>
            <a:ext cx="360" cy="360"/>
          </a:xfrm>
          <a:prstGeom prst="straightConnector1">
            <a:avLst/>
          </a:prstGeom>
          <a:ln w="9525">
            <a:solidFill>
              <a:srgbClr val="969696"/>
            </a:solidFill>
            <a:round/>
          </a:ln>
        </p:spPr>
      </p:cxnSp>
      <p:sp>
        <p:nvSpPr>
          <p:cNvPr id="100" name="AutoShape 15"/>
          <p:cNvSpPr/>
          <p:nvPr/>
        </p:nvSpPr>
        <p:spPr>
          <a:xfrm>
            <a:off x="884160" y="2959200"/>
            <a:ext cx="13744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Biz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Biz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Biz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>
            <a:off x="2373480" y="2949480"/>
            <a:ext cx="13744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I System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I Develop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871800" y="2949480"/>
            <a:ext cx="13744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Automa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Network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5361120" y="2940120"/>
            <a:ext cx="13726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onsulting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onsulting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onsulting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6850080" y="2949480"/>
            <a:ext cx="13726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eBiz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olu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2354400" y="2911320"/>
            <a:ext cx="14076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SI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3862440" y="2911320"/>
            <a:ext cx="14076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INFRA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5330880" y="2911320"/>
            <a:ext cx="14094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onsulting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6819840" y="2911320"/>
            <a:ext cx="14094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R&amp;D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865080" y="2911320"/>
            <a:ext cx="14076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BSP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5"/>
          <p:cNvSpPr/>
          <p:nvPr/>
        </p:nvSpPr>
        <p:spPr>
          <a:xfrm>
            <a:off x="1990800" y="2633760"/>
            <a:ext cx="5952600" cy="37800"/>
          </a:xfrm>
          <a:custGeom>
            <a:avLst/>
            <a:gdLst>
              <a:gd name="textAreaLeft" fmla="*/ 0 w 5952600"/>
              <a:gd name="textAreaRight" fmla="*/ 5952960 w 595260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3750" h="24">
                <a:moveTo>
                  <a:pt x="0" y="0"/>
                </a:moveTo>
                <a:lnTo>
                  <a:pt x="936" y="12"/>
                </a:lnTo>
                <a:lnTo>
                  <a:pt x="1878" y="12"/>
                </a:lnTo>
                <a:lnTo>
                  <a:pt x="2802" y="24"/>
                </a:lnTo>
                <a:lnTo>
                  <a:pt x="3750" y="12"/>
                </a:lnTo>
              </a:path>
            </a:pathLst>
          </a:custGeom>
          <a:noFill/>
          <a:ln w="9525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AutoShape 26"/>
          <p:cNvCxnSpPr>
            <a:stCxn id="109" idx="0"/>
            <a:endCxn id="110" idx="0"/>
          </p:cNvCxnSpPr>
          <p:nvPr/>
        </p:nvCxnSpPr>
        <p:spPr>
          <a:xfrm flipV="1">
            <a:off x="1569960" y="2633400"/>
            <a:ext cx="420840" cy="27828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12" name="AutoShape 27"/>
          <p:cNvCxnSpPr>
            <a:stCxn id="105" idx="0"/>
            <a:endCxn id="110" idx="1"/>
          </p:cNvCxnSpPr>
          <p:nvPr/>
        </p:nvCxnSpPr>
        <p:spPr>
          <a:xfrm flipV="1">
            <a:off x="3058920" y="2652480"/>
            <a:ext cx="417960" cy="259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13" name="AutoShape 28"/>
          <p:cNvCxnSpPr>
            <a:stCxn id="106" idx="0"/>
            <a:endCxn id="110" idx="2"/>
          </p:cNvCxnSpPr>
          <p:nvPr/>
        </p:nvCxnSpPr>
        <p:spPr>
          <a:xfrm flipV="1">
            <a:off x="4566960" y="2652480"/>
            <a:ext cx="405360" cy="259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14" name="AutoShape 29"/>
          <p:cNvCxnSpPr>
            <a:stCxn id="107" idx="0"/>
            <a:endCxn id="110" idx="3"/>
          </p:cNvCxnSpPr>
          <p:nvPr/>
        </p:nvCxnSpPr>
        <p:spPr>
          <a:xfrm flipV="1">
            <a:off x="6035400" y="2671560"/>
            <a:ext cx="403560" cy="24012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15" name="AutoShape 30"/>
          <p:cNvCxnSpPr>
            <a:stCxn id="108" idx="0"/>
            <a:endCxn id="110" idx="1"/>
          </p:cNvCxnSpPr>
          <p:nvPr/>
        </p:nvCxnSpPr>
        <p:spPr>
          <a:xfrm flipV="1">
            <a:off x="7524720" y="2652480"/>
            <a:ext cx="419400" cy="259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16" name="AutoShape 31"/>
          <p:cNvCxnSpPr>
            <a:stCxn id="110" idx="2"/>
            <a:endCxn id="94" idx="2"/>
          </p:cNvCxnSpPr>
          <p:nvPr/>
        </p:nvCxnSpPr>
        <p:spPr>
          <a:xfrm flipV="1">
            <a:off x="4971960" y="1579320"/>
            <a:ext cx="1501920" cy="107352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17" name="AutoShape 32"/>
          <p:cNvCxnSpPr>
            <a:stCxn id="93" idx="3"/>
            <a:endCxn id="92" idx="1"/>
          </p:cNvCxnSpPr>
          <p:nvPr/>
        </p:nvCxnSpPr>
        <p:spPr>
          <a:xfrm>
            <a:off x="5236920" y="2090520"/>
            <a:ext cx="957600" cy="16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433080" y="35712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3"/>
          <p:cNvSpPr/>
          <p:nvPr/>
        </p:nvSpPr>
        <p:spPr>
          <a:xfrm>
            <a:off x="849240" y="39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2"/>
          <p:cNvSpPr/>
          <p:nvPr/>
        </p:nvSpPr>
        <p:spPr>
          <a:xfrm>
            <a:off x="63360" y="4484520"/>
            <a:ext cx="9151560" cy="12157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675400" y="4043520"/>
            <a:ext cx="3034800" cy="899640"/>
          </a:xfrm>
          <a:prstGeom prst="rect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lin ang="0"/>
          </a:gradFill>
          <a:ln w="9525">
            <a:noFill/>
          </a:ln>
          <a:scene3d>
            <a:camera prst="legacyPerspectiveTopLeft"/>
            <a:lightRig dir="b" rig="legacyFlat3"/>
          </a:scene3d>
          <a:sp3d extrusionH="1878000" prstMaterial="legacyMatte">
            <a:bevelT prst="angle" w="13500" h="13500"/>
            <a:bevelB prst="angle" w="13500" h="13500"/>
            <a:extrusionClr>
              <a:srgbClr val="ff66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11200" y="4043520"/>
            <a:ext cx="2990520" cy="88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0"/>
          </a:gradFill>
          <a:ln w="9525">
            <a:noFill/>
          </a:ln>
          <a:scene3d>
            <a:camera prst="legacyPerspectiveTopRight"/>
            <a:lightRig dir="b" rig="legacyFlat3"/>
          </a:scene3d>
          <a:sp3d extrusionH="1878000" prstMaterial="legacyMatte">
            <a:bevelT prst="angle" w="13500" h="13500"/>
            <a:bevelB prst="angle" w="13500" h="13500"/>
            <a:extrusionClr>
              <a:srgbClr val="ff66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3267000" y="3638520"/>
            <a:ext cx="2705040" cy="1725480"/>
            <a:chOff x="3267000" y="3638520"/>
            <a:chExt cx="2705040" cy="1725480"/>
          </a:xfrm>
        </p:grpSpPr>
        <p:sp>
          <p:nvSpPr>
            <p:cNvPr id="124" name="AutoShape 6"/>
            <p:cNvSpPr/>
            <p:nvPr/>
          </p:nvSpPr>
          <p:spPr>
            <a:xfrm>
              <a:off x="3267000" y="3657600"/>
              <a:ext cx="2698560" cy="16966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431b00"/>
                </a:gs>
                <a:gs pos="100000">
                  <a:srgbClr val="ff66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7"/>
            <p:cNvSpPr/>
            <p:nvPr/>
          </p:nvSpPr>
          <p:spPr>
            <a:xfrm>
              <a:off x="3273480" y="3638520"/>
              <a:ext cx="2698560" cy="87912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50000">
                  <a:srgbClr val="ff6600"/>
                </a:gs>
                <a:gs pos="100000">
                  <a:srgbClr val="762f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Group 8"/>
            <p:cNvGrpSpPr/>
            <p:nvPr/>
          </p:nvGrpSpPr>
          <p:grpSpPr>
            <a:xfrm>
              <a:off x="3273480" y="4484520"/>
              <a:ext cx="2695320" cy="456840"/>
              <a:chOff x="3273480" y="4484520"/>
              <a:chExt cx="2695320" cy="456840"/>
            </a:xfrm>
          </p:grpSpPr>
          <p:sp>
            <p:nvSpPr>
              <p:cNvPr id="127" name="Arc 9"/>
              <p:cNvSpPr/>
              <p:nvPr/>
            </p:nvSpPr>
            <p:spPr>
              <a:xfrm>
                <a:off x="3273480" y="4502160"/>
                <a:ext cx="2679480" cy="43920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525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Arc 10"/>
              <p:cNvSpPr/>
              <p:nvPr/>
            </p:nvSpPr>
            <p:spPr>
              <a:xfrm>
                <a:off x="3289320" y="4484520"/>
                <a:ext cx="2679480" cy="43920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525">
                <a:solidFill>
                  <a:srgbClr val="000000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" name="Group 11"/>
            <p:cNvGrpSpPr/>
            <p:nvPr/>
          </p:nvGrpSpPr>
          <p:grpSpPr>
            <a:xfrm>
              <a:off x="4662360" y="4538520"/>
              <a:ext cx="12960" cy="825480"/>
              <a:chOff x="4662360" y="4538520"/>
              <a:chExt cx="12960" cy="825480"/>
            </a:xfrm>
          </p:grpSpPr>
          <p:sp>
            <p:nvSpPr>
              <p:cNvPr id="130" name="Line 12"/>
              <p:cNvSpPr/>
              <p:nvPr/>
            </p:nvSpPr>
            <p:spPr>
              <a:xfrm>
                <a:off x="4674960" y="4538520"/>
                <a:ext cx="360" cy="81576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13"/>
              <p:cNvSpPr/>
              <p:nvPr/>
            </p:nvSpPr>
            <p:spPr>
              <a:xfrm>
                <a:off x="4662360" y="454788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" name="Line 14"/>
            <p:cNvSpPr/>
            <p:nvPr/>
          </p:nvSpPr>
          <p:spPr>
            <a:xfrm flipH="1" flipV="1">
              <a:off x="4659120" y="3638520"/>
              <a:ext cx="12600" cy="884160"/>
            </a:xfrm>
            <a:prstGeom prst="line">
              <a:avLst/>
            </a:prstGeom>
            <a:ln w="9525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V="1">
              <a:off x="4659120" y="4038480"/>
              <a:ext cx="360" cy="500040"/>
            </a:xfrm>
            <a:prstGeom prst="line">
              <a:avLst/>
            </a:prstGeom>
            <a:ln w="9525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Group 16"/>
            <p:cNvGrpSpPr/>
            <p:nvPr/>
          </p:nvGrpSpPr>
          <p:grpSpPr>
            <a:xfrm>
              <a:off x="3529440" y="3815280"/>
              <a:ext cx="2160720" cy="524160"/>
              <a:chOff x="3529440" y="3815280"/>
              <a:chExt cx="2160720" cy="524160"/>
            </a:xfrm>
          </p:grpSpPr>
          <p:sp>
            <p:nvSpPr>
              <p:cNvPr id="135" name="Line 17"/>
              <p:cNvSpPr/>
              <p:nvPr/>
            </p:nvSpPr>
            <p:spPr>
              <a:xfrm flipV="1">
                <a:off x="3529440" y="3842280"/>
                <a:ext cx="2137680" cy="497160"/>
              </a:xfrm>
              <a:prstGeom prst="line">
                <a:avLst/>
              </a:prstGeom>
              <a:ln w="9525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18"/>
              <p:cNvSpPr/>
              <p:nvPr/>
            </p:nvSpPr>
            <p:spPr>
              <a:xfrm flipV="1">
                <a:off x="3552840" y="3815280"/>
                <a:ext cx="2137320" cy="497160"/>
              </a:xfrm>
              <a:prstGeom prst="line">
                <a:avLst/>
              </a:prstGeom>
              <a:ln w="9525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" name="Group 19"/>
            <p:cNvGrpSpPr/>
            <p:nvPr/>
          </p:nvGrpSpPr>
          <p:grpSpPr>
            <a:xfrm>
              <a:off x="3525840" y="4351320"/>
              <a:ext cx="12960" cy="825480"/>
              <a:chOff x="3525840" y="4351320"/>
              <a:chExt cx="12960" cy="825480"/>
            </a:xfrm>
          </p:grpSpPr>
          <p:sp>
            <p:nvSpPr>
              <p:cNvPr id="138" name="Line 20"/>
              <p:cNvSpPr/>
              <p:nvPr/>
            </p:nvSpPr>
            <p:spPr>
              <a:xfrm>
                <a:off x="3525840" y="4351320"/>
                <a:ext cx="360" cy="81576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21"/>
              <p:cNvSpPr/>
              <p:nvPr/>
            </p:nvSpPr>
            <p:spPr>
              <a:xfrm>
                <a:off x="3538440" y="436068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Group 22"/>
            <p:cNvGrpSpPr/>
            <p:nvPr/>
          </p:nvGrpSpPr>
          <p:grpSpPr>
            <a:xfrm>
              <a:off x="5707080" y="4348080"/>
              <a:ext cx="12960" cy="825480"/>
              <a:chOff x="5707080" y="4348080"/>
              <a:chExt cx="12960" cy="825480"/>
            </a:xfrm>
          </p:grpSpPr>
          <p:sp>
            <p:nvSpPr>
              <p:cNvPr id="141" name="Line 23"/>
              <p:cNvSpPr/>
              <p:nvPr/>
            </p:nvSpPr>
            <p:spPr>
              <a:xfrm>
                <a:off x="5719680" y="4348080"/>
                <a:ext cx="360" cy="81576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>
                <a:off x="5707080" y="435744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3" name="Group 25"/>
            <p:cNvGrpSpPr/>
            <p:nvPr/>
          </p:nvGrpSpPr>
          <p:grpSpPr>
            <a:xfrm>
              <a:off x="3688560" y="3782880"/>
              <a:ext cx="2070000" cy="579240"/>
              <a:chOff x="3688560" y="3782880"/>
              <a:chExt cx="2070000" cy="579240"/>
            </a:xfrm>
          </p:grpSpPr>
          <p:sp>
            <p:nvSpPr>
              <p:cNvPr id="144" name="Line 26"/>
              <p:cNvSpPr/>
              <p:nvPr/>
            </p:nvSpPr>
            <p:spPr>
              <a:xfrm>
                <a:off x="3688560" y="3794760"/>
                <a:ext cx="2037960" cy="567360"/>
              </a:xfrm>
              <a:prstGeom prst="line">
                <a:avLst/>
              </a:prstGeom>
              <a:ln w="9525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>
                <a:off x="3720240" y="3782880"/>
                <a:ext cx="2038320" cy="567720"/>
              </a:xfrm>
              <a:prstGeom prst="line">
                <a:avLst/>
              </a:prstGeom>
              <a:ln w="9525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6" name="Rectangle 28"/>
          <p:cNvSpPr/>
          <p:nvPr/>
        </p:nvSpPr>
        <p:spPr>
          <a:xfrm>
            <a:off x="5680080" y="3033720"/>
            <a:ext cx="3049200" cy="89964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0"/>
          </a:gradFill>
          <a:ln w="9525">
            <a:noFill/>
          </a:ln>
          <a:scene3d>
            <a:camera prst="legacyPerspectiveTopLeft"/>
            <a:lightRig dir="b" rig="legacyFlat3"/>
          </a:scene3d>
          <a:sp3d extrusionH="1878000" prstMaterial="legacyMatte">
            <a:bevelT prst="angle" w="13500" h="13500"/>
            <a:bevelB prst="angle" w="13500" h="13500"/>
            <a:extrusionClr>
              <a:srgbClr val="99cc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5675400" y="2022480"/>
            <a:ext cx="3034800" cy="899640"/>
          </a:xfrm>
          <a:prstGeom prst="rect">
            <a:avLst/>
          </a:prstGeom>
          <a:gradFill rotWithShape="0">
            <a:gsLst>
              <a:gs pos="0">
                <a:srgbClr val="3e2f4c"/>
              </a:gs>
              <a:gs pos="100000">
                <a:srgbClr val="8765a5"/>
              </a:gs>
            </a:gsLst>
            <a:lin ang="0"/>
          </a:gradFill>
          <a:ln w="9525">
            <a:noFill/>
          </a:ln>
          <a:scene3d>
            <a:camera prst="legacyPerspectiveTopLeft"/>
            <a:lightRig dir="b" rig="legacyFlat3"/>
          </a:scene3d>
          <a:sp3d extrusionH="1878000" prstMaterial="legacyMatte">
            <a:bevelT prst="angle" w="13500" h="13500"/>
            <a:bevelB prst="angle" w="13500" h="13500"/>
            <a:extrusionClr>
              <a:srgbClr val="8765a5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512640" y="3033720"/>
            <a:ext cx="3004920" cy="88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0"/>
          </a:gradFill>
          <a:ln w="9525">
            <a:noFill/>
          </a:ln>
          <a:scene3d>
            <a:camera prst="legacyPerspectiveTopRight"/>
            <a:lightRig dir="b" rig="legacyFlat3"/>
          </a:scene3d>
          <a:sp3d extrusionH="1878000" prstMaterial="legacyMatte">
            <a:bevelT prst="angle" w="13500" h="13500"/>
            <a:bevelB prst="angle" w="13500" h="13500"/>
            <a:extrusionClr>
              <a:srgbClr val="99cc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511200" y="2022480"/>
            <a:ext cx="2990520" cy="880560"/>
          </a:xfrm>
          <a:prstGeom prst="rect">
            <a:avLst/>
          </a:prstGeom>
          <a:gradFill rotWithShape="0">
            <a:gsLst>
              <a:gs pos="0">
                <a:srgbClr val="8765a5"/>
              </a:gs>
              <a:gs pos="100000">
                <a:srgbClr val="3e2f4c"/>
              </a:gs>
            </a:gsLst>
            <a:lin ang="0"/>
          </a:gradFill>
          <a:ln w="9525">
            <a:noFill/>
          </a:ln>
          <a:scene3d>
            <a:camera prst="legacyPerspectiveTopRight"/>
            <a:lightRig dir="b" rig="legacyFlat3"/>
          </a:scene3d>
          <a:sp3d extrusionH="1878000" prstMaterial="legacyMatte">
            <a:bevelT prst="angle" w="13500" h="13500"/>
            <a:bevelB prst="angle" w="13500" h="13500"/>
            <a:extrusionClr>
              <a:srgbClr val="8765a5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oup 32"/>
          <p:cNvGrpSpPr/>
          <p:nvPr/>
        </p:nvGrpSpPr>
        <p:grpSpPr>
          <a:xfrm>
            <a:off x="3260880" y="2576160"/>
            <a:ext cx="2704680" cy="1725840"/>
            <a:chOff x="3260880" y="2576160"/>
            <a:chExt cx="2704680" cy="1725840"/>
          </a:xfrm>
        </p:grpSpPr>
        <p:sp>
          <p:nvSpPr>
            <p:cNvPr id="151" name="AutoShape 33"/>
            <p:cNvSpPr/>
            <p:nvPr/>
          </p:nvSpPr>
          <p:spPr>
            <a:xfrm>
              <a:off x="3260880" y="2595600"/>
              <a:ext cx="2698560" cy="16966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283600"/>
                </a:gs>
                <a:gs pos="100000">
                  <a:srgbClr val="99cc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Oval 34"/>
            <p:cNvSpPr/>
            <p:nvPr/>
          </p:nvSpPr>
          <p:spPr>
            <a:xfrm>
              <a:off x="3267000" y="2576520"/>
              <a:ext cx="2698560" cy="87912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3" name="Group 35"/>
            <p:cNvGrpSpPr/>
            <p:nvPr/>
          </p:nvGrpSpPr>
          <p:grpSpPr>
            <a:xfrm>
              <a:off x="3267000" y="3422520"/>
              <a:ext cx="2695320" cy="456840"/>
              <a:chOff x="3267000" y="3422520"/>
              <a:chExt cx="2695320" cy="456840"/>
            </a:xfrm>
          </p:grpSpPr>
          <p:sp>
            <p:nvSpPr>
              <p:cNvPr id="154" name="Arc 36"/>
              <p:cNvSpPr/>
              <p:nvPr/>
            </p:nvSpPr>
            <p:spPr>
              <a:xfrm>
                <a:off x="3267000" y="3440160"/>
                <a:ext cx="2679480" cy="43920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525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Arc 37"/>
              <p:cNvSpPr/>
              <p:nvPr/>
            </p:nvSpPr>
            <p:spPr>
              <a:xfrm>
                <a:off x="3282840" y="3422520"/>
                <a:ext cx="2679480" cy="43920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525">
                <a:solidFill>
                  <a:srgbClr val="000000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6" name="Group 38"/>
            <p:cNvGrpSpPr/>
            <p:nvPr/>
          </p:nvGrpSpPr>
          <p:grpSpPr>
            <a:xfrm>
              <a:off x="4655880" y="3476520"/>
              <a:ext cx="13320" cy="825480"/>
              <a:chOff x="4655880" y="3476520"/>
              <a:chExt cx="13320" cy="825480"/>
            </a:xfrm>
          </p:grpSpPr>
          <p:sp>
            <p:nvSpPr>
              <p:cNvPr id="157" name="Line 39"/>
              <p:cNvSpPr/>
              <p:nvPr/>
            </p:nvSpPr>
            <p:spPr>
              <a:xfrm>
                <a:off x="4668840" y="3476520"/>
                <a:ext cx="360" cy="81576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40"/>
              <p:cNvSpPr/>
              <p:nvPr/>
            </p:nvSpPr>
            <p:spPr>
              <a:xfrm>
                <a:off x="4655880" y="348588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Line 41"/>
            <p:cNvSpPr/>
            <p:nvPr/>
          </p:nvSpPr>
          <p:spPr>
            <a:xfrm flipH="1" flipV="1">
              <a:off x="4652640" y="2576160"/>
              <a:ext cx="12960" cy="884520"/>
            </a:xfrm>
            <a:prstGeom prst="line">
              <a:avLst/>
            </a:prstGeom>
            <a:ln w="9525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 flipV="1">
              <a:off x="4652640" y="2976480"/>
              <a:ext cx="360" cy="500040"/>
            </a:xfrm>
            <a:prstGeom prst="line">
              <a:avLst/>
            </a:prstGeom>
            <a:ln w="9525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3523320" y="2753280"/>
              <a:ext cx="2160720" cy="524160"/>
              <a:chOff x="3523320" y="2753280"/>
              <a:chExt cx="2160720" cy="524160"/>
            </a:xfrm>
          </p:grpSpPr>
          <p:sp>
            <p:nvSpPr>
              <p:cNvPr id="162" name="Line 44"/>
              <p:cNvSpPr/>
              <p:nvPr/>
            </p:nvSpPr>
            <p:spPr>
              <a:xfrm flipV="1">
                <a:off x="3523320" y="2780280"/>
                <a:ext cx="2137320" cy="497160"/>
              </a:xfrm>
              <a:prstGeom prst="line">
                <a:avLst/>
              </a:prstGeom>
              <a:ln w="9525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45"/>
              <p:cNvSpPr/>
              <p:nvPr/>
            </p:nvSpPr>
            <p:spPr>
              <a:xfrm flipV="1">
                <a:off x="3546360" y="2753280"/>
                <a:ext cx="2137680" cy="497160"/>
              </a:xfrm>
              <a:prstGeom prst="line">
                <a:avLst/>
              </a:prstGeom>
              <a:ln w="9525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Group 46"/>
            <p:cNvGrpSpPr/>
            <p:nvPr/>
          </p:nvGrpSpPr>
          <p:grpSpPr>
            <a:xfrm>
              <a:off x="3519360" y="3288960"/>
              <a:ext cx="12960" cy="825480"/>
              <a:chOff x="3519360" y="3288960"/>
              <a:chExt cx="12960" cy="825480"/>
            </a:xfrm>
          </p:grpSpPr>
          <p:sp>
            <p:nvSpPr>
              <p:cNvPr id="165" name="Line 47"/>
              <p:cNvSpPr/>
              <p:nvPr/>
            </p:nvSpPr>
            <p:spPr>
              <a:xfrm>
                <a:off x="3519360" y="3288960"/>
                <a:ext cx="360" cy="81612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48"/>
              <p:cNvSpPr/>
              <p:nvPr/>
            </p:nvSpPr>
            <p:spPr>
              <a:xfrm>
                <a:off x="3531960" y="3298680"/>
                <a:ext cx="360" cy="81576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7" name="Group 49"/>
            <p:cNvGrpSpPr/>
            <p:nvPr/>
          </p:nvGrpSpPr>
          <p:grpSpPr>
            <a:xfrm>
              <a:off x="5700600" y="3286080"/>
              <a:ext cx="12960" cy="825480"/>
              <a:chOff x="5700600" y="3286080"/>
              <a:chExt cx="12960" cy="825480"/>
            </a:xfrm>
          </p:grpSpPr>
          <p:sp>
            <p:nvSpPr>
              <p:cNvPr id="168" name="Line 50"/>
              <p:cNvSpPr/>
              <p:nvPr/>
            </p:nvSpPr>
            <p:spPr>
              <a:xfrm>
                <a:off x="5713200" y="3286080"/>
                <a:ext cx="360" cy="81576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51"/>
              <p:cNvSpPr/>
              <p:nvPr/>
            </p:nvSpPr>
            <p:spPr>
              <a:xfrm>
                <a:off x="5700600" y="329544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0" name="Group 52"/>
            <p:cNvGrpSpPr/>
            <p:nvPr/>
          </p:nvGrpSpPr>
          <p:grpSpPr>
            <a:xfrm>
              <a:off x="3682080" y="2720880"/>
              <a:ext cx="2070000" cy="579240"/>
              <a:chOff x="3682080" y="2720880"/>
              <a:chExt cx="2070000" cy="579240"/>
            </a:xfrm>
          </p:grpSpPr>
          <p:sp>
            <p:nvSpPr>
              <p:cNvPr id="171" name="Line 53"/>
              <p:cNvSpPr/>
              <p:nvPr/>
            </p:nvSpPr>
            <p:spPr>
              <a:xfrm>
                <a:off x="3682080" y="2732400"/>
                <a:ext cx="2037960" cy="567720"/>
              </a:xfrm>
              <a:prstGeom prst="line">
                <a:avLst/>
              </a:prstGeom>
              <a:ln w="9525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Line 54"/>
              <p:cNvSpPr/>
              <p:nvPr/>
            </p:nvSpPr>
            <p:spPr>
              <a:xfrm>
                <a:off x="3714120" y="2720880"/>
                <a:ext cx="2037960" cy="567720"/>
              </a:xfrm>
              <a:prstGeom prst="line">
                <a:avLst/>
              </a:prstGeom>
              <a:ln w="9525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3" name="Group 55"/>
          <p:cNvGrpSpPr/>
          <p:nvPr/>
        </p:nvGrpSpPr>
        <p:grpSpPr>
          <a:xfrm>
            <a:off x="3254400" y="1585800"/>
            <a:ext cx="2705040" cy="1725480"/>
            <a:chOff x="3254400" y="1585800"/>
            <a:chExt cx="2705040" cy="1725480"/>
          </a:xfrm>
        </p:grpSpPr>
        <p:sp>
          <p:nvSpPr>
            <p:cNvPr id="174" name="AutoShape 56"/>
            <p:cNvSpPr/>
            <p:nvPr/>
          </p:nvSpPr>
          <p:spPr>
            <a:xfrm>
              <a:off x="3254400" y="1604880"/>
              <a:ext cx="2698560" cy="16966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067af"/>
                </a:gs>
                <a:gs pos="50000">
                  <a:srgbClr val="1d1b2e"/>
                </a:gs>
                <a:gs pos="100000">
                  <a:srgbClr val="7067a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57"/>
            <p:cNvSpPr/>
            <p:nvPr/>
          </p:nvSpPr>
          <p:spPr>
            <a:xfrm>
              <a:off x="3260880" y="1585800"/>
              <a:ext cx="2698560" cy="879120"/>
            </a:xfrm>
            <a:prstGeom prst="ellipse">
              <a:avLst/>
            </a:prstGeom>
            <a:gradFill rotWithShape="0">
              <a:gsLst>
                <a:gs pos="0">
                  <a:srgbClr val="343051"/>
                </a:gs>
                <a:gs pos="50000">
                  <a:srgbClr val="7067af"/>
                </a:gs>
                <a:gs pos="100000">
                  <a:srgbClr val="343051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Group 58"/>
            <p:cNvGrpSpPr/>
            <p:nvPr/>
          </p:nvGrpSpPr>
          <p:grpSpPr>
            <a:xfrm>
              <a:off x="3260880" y="2432160"/>
              <a:ext cx="2695320" cy="456480"/>
              <a:chOff x="3260880" y="2432160"/>
              <a:chExt cx="2695320" cy="456480"/>
            </a:xfrm>
          </p:grpSpPr>
          <p:sp>
            <p:nvSpPr>
              <p:cNvPr id="177" name="Arc 59"/>
              <p:cNvSpPr/>
              <p:nvPr/>
            </p:nvSpPr>
            <p:spPr>
              <a:xfrm>
                <a:off x="3260880" y="2449440"/>
                <a:ext cx="2679480" cy="43920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525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Arc 60"/>
              <p:cNvSpPr/>
              <p:nvPr/>
            </p:nvSpPr>
            <p:spPr>
              <a:xfrm>
                <a:off x="3276720" y="2432160"/>
                <a:ext cx="2679480" cy="43920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525">
                <a:solidFill>
                  <a:srgbClr val="000000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9" name="Group 61"/>
            <p:cNvGrpSpPr/>
            <p:nvPr/>
          </p:nvGrpSpPr>
          <p:grpSpPr>
            <a:xfrm>
              <a:off x="4649760" y="2485800"/>
              <a:ext cx="12960" cy="825480"/>
              <a:chOff x="4649760" y="2485800"/>
              <a:chExt cx="12960" cy="825480"/>
            </a:xfrm>
          </p:grpSpPr>
          <p:sp>
            <p:nvSpPr>
              <p:cNvPr id="180" name="Line 62"/>
              <p:cNvSpPr/>
              <p:nvPr/>
            </p:nvSpPr>
            <p:spPr>
              <a:xfrm>
                <a:off x="4662360" y="2485800"/>
                <a:ext cx="360" cy="81612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Line 63"/>
              <p:cNvSpPr/>
              <p:nvPr/>
            </p:nvSpPr>
            <p:spPr>
              <a:xfrm>
                <a:off x="4649760" y="2495520"/>
                <a:ext cx="360" cy="81576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2" name="Line 64"/>
            <p:cNvSpPr/>
            <p:nvPr/>
          </p:nvSpPr>
          <p:spPr>
            <a:xfrm flipH="1" flipV="1">
              <a:off x="4646520" y="1585800"/>
              <a:ext cx="12600" cy="884160"/>
            </a:xfrm>
            <a:prstGeom prst="line">
              <a:avLst/>
            </a:prstGeom>
            <a:ln w="9525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65"/>
            <p:cNvSpPr/>
            <p:nvPr/>
          </p:nvSpPr>
          <p:spPr>
            <a:xfrm flipV="1">
              <a:off x="4646520" y="1985760"/>
              <a:ext cx="360" cy="500040"/>
            </a:xfrm>
            <a:prstGeom prst="line">
              <a:avLst/>
            </a:prstGeom>
            <a:ln w="9525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Group 66"/>
            <p:cNvGrpSpPr/>
            <p:nvPr/>
          </p:nvGrpSpPr>
          <p:grpSpPr>
            <a:xfrm>
              <a:off x="3516840" y="1762560"/>
              <a:ext cx="2160720" cy="524160"/>
              <a:chOff x="3516840" y="1762560"/>
              <a:chExt cx="2160720" cy="524160"/>
            </a:xfrm>
          </p:grpSpPr>
          <p:sp>
            <p:nvSpPr>
              <p:cNvPr id="185" name="Line 67"/>
              <p:cNvSpPr/>
              <p:nvPr/>
            </p:nvSpPr>
            <p:spPr>
              <a:xfrm flipV="1">
                <a:off x="3516840" y="1789560"/>
                <a:ext cx="2137320" cy="497160"/>
              </a:xfrm>
              <a:prstGeom prst="line">
                <a:avLst/>
              </a:prstGeom>
              <a:ln w="9525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 flipV="1">
                <a:off x="3540240" y="1762560"/>
                <a:ext cx="2137320" cy="497160"/>
              </a:xfrm>
              <a:prstGeom prst="line">
                <a:avLst/>
              </a:prstGeom>
              <a:ln w="9525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Group 69"/>
            <p:cNvGrpSpPr/>
            <p:nvPr/>
          </p:nvGrpSpPr>
          <p:grpSpPr>
            <a:xfrm>
              <a:off x="3512880" y="2298600"/>
              <a:ext cx="13320" cy="825480"/>
              <a:chOff x="3512880" y="2298600"/>
              <a:chExt cx="13320" cy="825480"/>
            </a:xfrm>
          </p:grpSpPr>
          <p:sp>
            <p:nvSpPr>
              <p:cNvPr id="188" name="Line 70"/>
              <p:cNvSpPr/>
              <p:nvPr/>
            </p:nvSpPr>
            <p:spPr>
              <a:xfrm>
                <a:off x="3512880" y="2298600"/>
                <a:ext cx="360" cy="81576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Line 71"/>
              <p:cNvSpPr/>
              <p:nvPr/>
            </p:nvSpPr>
            <p:spPr>
              <a:xfrm>
                <a:off x="3525840" y="230796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0" name="Group 72"/>
            <p:cNvGrpSpPr/>
            <p:nvPr/>
          </p:nvGrpSpPr>
          <p:grpSpPr>
            <a:xfrm>
              <a:off x="5694120" y="2295360"/>
              <a:ext cx="13320" cy="825480"/>
              <a:chOff x="5694120" y="2295360"/>
              <a:chExt cx="13320" cy="825480"/>
            </a:xfrm>
          </p:grpSpPr>
          <p:sp>
            <p:nvSpPr>
              <p:cNvPr id="191" name="Line 73"/>
              <p:cNvSpPr/>
              <p:nvPr/>
            </p:nvSpPr>
            <p:spPr>
              <a:xfrm>
                <a:off x="5707080" y="2295360"/>
                <a:ext cx="360" cy="816120"/>
              </a:xfrm>
              <a:prstGeom prst="line">
                <a:avLst/>
              </a:prstGeom>
              <a:ln w="1905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74"/>
              <p:cNvSpPr/>
              <p:nvPr/>
            </p:nvSpPr>
            <p:spPr>
              <a:xfrm>
                <a:off x="5694120" y="2304720"/>
                <a:ext cx="360" cy="816120"/>
              </a:xfrm>
              <a:prstGeom prst="line">
                <a:avLst/>
              </a:prstGeom>
              <a:ln w="1905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Group 75"/>
            <p:cNvGrpSpPr/>
            <p:nvPr/>
          </p:nvGrpSpPr>
          <p:grpSpPr>
            <a:xfrm>
              <a:off x="3675600" y="1730160"/>
              <a:ext cx="2070360" cy="579600"/>
              <a:chOff x="3675600" y="1730160"/>
              <a:chExt cx="2070360" cy="579600"/>
            </a:xfrm>
          </p:grpSpPr>
          <p:sp>
            <p:nvSpPr>
              <p:cNvPr id="194" name="Line 76"/>
              <p:cNvSpPr/>
              <p:nvPr/>
            </p:nvSpPr>
            <p:spPr>
              <a:xfrm>
                <a:off x="3675600" y="1742040"/>
                <a:ext cx="2038320" cy="567720"/>
              </a:xfrm>
              <a:prstGeom prst="line">
                <a:avLst/>
              </a:prstGeom>
              <a:ln w="9525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77"/>
              <p:cNvSpPr/>
              <p:nvPr/>
            </p:nvSpPr>
            <p:spPr>
              <a:xfrm>
                <a:off x="3707640" y="1730160"/>
                <a:ext cx="2038320" cy="567720"/>
              </a:xfrm>
              <a:prstGeom prst="line">
                <a:avLst/>
              </a:prstGeom>
              <a:ln w="9525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6" name="Oval 78"/>
          <p:cNvSpPr/>
          <p:nvPr/>
        </p:nvSpPr>
        <p:spPr>
          <a:xfrm>
            <a:off x="3260880" y="1135080"/>
            <a:ext cx="2698560" cy="12394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50000">
                <a:srgbClr val="7d8496"/>
              </a:gs>
              <a:gs pos="100000">
                <a:srgbClr val="e6e6e6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79"/>
          <p:cNvGrpSpPr/>
          <p:nvPr/>
        </p:nvGrpSpPr>
        <p:grpSpPr>
          <a:xfrm>
            <a:off x="3260880" y="963720"/>
            <a:ext cx="2693520" cy="1239480"/>
            <a:chOff x="3260880" y="963720"/>
            <a:chExt cx="2693520" cy="1239480"/>
          </a:xfrm>
        </p:grpSpPr>
        <p:sp>
          <p:nvSpPr>
            <p:cNvPr id="198" name="Freeform 80"/>
            <p:cNvSpPr/>
            <p:nvPr/>
          </p:nvSpPr>
          <p:spPr>
            <a:xfrm>
              <a:off x="4605120" y="963720"/>
              <a:ext cx="970920" cy="618840"/>
            </a:xfrm>
            <a:custGeom>
              <a:avLst/>
              <a:gdLst>
                <a:gd name="textAreaLeft" fmla="*/ 0 w 970920"/>
                <a:gd name="textAreaRight" fmla="*/ 971280 w 9709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152" h="678">
                  <a:moveTo>
                    <a:pt x="0" y="0"/>
                  </a:moveTo>
                  <a:lnTo>
                    <a:pt x="30" y="0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68" y="0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52" y="6"/>
                  </a:lnTo>
                  <a:lnTo>
                    <a:pt x="282" y="6"/>
                  </a:lnTo>
                  <a:lnTo>
                    <a:pt x="306" y="12"/>
                  </a:lnTo>
                  <a:lnTo>
                    <a:pt x="336" y="12"/>
                  </a:lnTo>
                  <a:lnTo>
                    <a:pt x="360" y="18"/>
                  </a:lnTo>
                  <a:lnTo>
                    <a:pt x="390" y="18"/>
                  </a:lnTo>
                  <a:lnTo>
                    <a:pt x="414" y="24"/>
                  </a:lnTo>
                  <a:lnTo>
                    <a:pt x="444" y="24"/>
                  </a:lnTo>
                  <a:lnTo>
                    <a:pt x="468" y="30"/>
                  </a:lnTo>
                  <a:lnTo>
                    <a:pt x="498" y="30"/>
                  </a:lnTo>
                  <a:lnTo>
                    <a:pt x="522" y="36"/>
                  </a:lnTo>
                  <a:lnTo>
                    <a:pt x="546" y="42"/>
                  </a:lnTo>
                  <a:lnTo>
                    <a:pt x="576" y="42"/>
                  </a:lnTo>
                  <a:lnTo>
                    <a:pt x="600" y="48"/>
                  </a:lnTo>
                  <a:lnTo>
                    <a:pt x="624" y="54"/>
                  </a:lnTo>
                  <a:lnTo>
                    <a:pt x="654" y="60"/>
                  </a:lnTo>
                  <a:lnTo>
                    <a:pt x="678" y="60"/>
                  </a:lnTo>
                  <a:lnTo>
                    <a:pt x="702" y="66"/>
                  </a:lnTo>
                  <a:lnTo>
                    <a:pt x="726" y="72"/>
                  </a:lnTo>
                  <a:lnTo>
                    <a:pt x="750" y="78"/>
                  </a:lnTo>
                  <a:lnTo>
                    <a:pt x="774" y="84"/>
                  </a:lnTo>
                  <a:lnTo>
                    <a:pt x="804" y="90"/>
                  </a:lnTo>
                  <a:lnTo>
                    <a:pt x="828" y="96"/>
                  </a:lnTo>
                  <a:lnTo>
                    <a:pt x="846" y="102"/>
                  </a:lnTo>
                  <a:lnTo>
                    <a:pt x="870" y="108"/>
                  </a:lnTo>
                  <a:lnTo>
                    <a:pt x="894" y="114"/>
                  </a:lnTo>
                  <a:lnTo>
                    <a:pt x="918" y="120"/>
                  </a:lnTo>
                  <a:lnTo>
                    <a:pt x="942" y="126"/>
                  </a:lnTo>
                  <a:lnTo>
                    <a:pt x="966" y="138"/>
                  </a:lnTo>
                  <a:lnTo>
                    <a:pt x="984" y="144"/>
                  </a:lnTo>
                  <a:lnTo>
                    <a:pt x="1008" y="150"/>
                  </a:lnTo>
                  <a:lnTo>
                    <a:pt x="1032" y="156"/>
                  </a:lnTo>
                  <a:lnTo>
                    <a:pt x="1050" y="162"/>
                  </a:lnTo>
                  <a:lnTo>
                    <a:pt x="1074" y="174"/>
                  </a:lnTo>
                  <a:lnTo>
                    <a:pt x="1092" y="180"/>
                  </a:lnTo>
                  <a:lnTo>
                    <a:pt x="1110" y="186"/>
                  </a:lnTo>
                  <a:lnTo>
                    <a:pt x="1134" y="198"/>
                  </a:lnTo>
                  <a:lnTo>
                    <a:pt x="1152" y="204"/>
                  </a:lnTo>
                  <a:lnTo>
                    <a:pt x="0" y="6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067af"/>
                </a:gs>
                <a:gs pos="100000">
                  <a:srgbClr val="343051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81"/>
            <p:cNvSpPr/>
            <p:nvPr/>
          </p:nvSpPr>
          <p:spPr>
            <a:xfrm>
              <a:off x="3639240" y="963720"/>
              <a:ext cx="965520" cy="618840"/>
            </a:xfrm>
            <a:custGeom>
              <a:avLst/>
              <a:gdLst>
                <a:gd name="textAreaLeft" fmla="*/ 0 w 965520"/>
                <a:gd name="textAreaRight" fmla="*/ 965880 w 9655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146" h="678">
                  <a:moveTo>
                    <a:pt x="0" y="204"/>
                  </a:moveTo>
                  <a:lnTo>
                    <a:pt x="18" y="198"/>
                  </a:lnTo>
                  <a:lnTo>
                    <a:pt x="36" y="186"/>
                  </a:lnTo>
                  <a:lnTo>
                    <a:pt x="54" y="180"/>
                  </a:lnTo>
                  <a:lnTo>
                    <a:pt x="78" y="174"/>
                  </a:lnTo>
                  <a:lnTo>
                    <a:pt x="96" y="162"/>
                  </a:lnTo>
                  <a:lnTo>
                    <a:pt x="120" y="156"/>
                  </a:lnTo>
                  <a:lnTo>
                    <a:pt x="144" y="150"/>
                  </a:lnTo>
                  <a:lnTo>
                    <a:pt x="162" y="144"/>
                  </a:lnTo>
                  <a:lnTo>
                    <a:pt x="186" y="138"/>
                  </a:lnTo>
                  <a:lnTo>
                    <a:pt x="210" y="126"/>
                  </a:lnTo>
                  <a:lnTo>
                    <a:pt x="228" y="120"/>
                  </a:lnTo>
                  <a:lnTo>
                    <a:pt x="252" y="114"/>
                  </a:lnTo>
                  <a:lnTo>
                    <a:pt x="276" y="108"/>
                  </a:lnTo>
                  <a:lnTo>
                    <a:pt x="300" y="102"/>
                  </a:lnTo>
                  <a:lnTo>
                    <a:pt x="324" y="96"/>
                  </a:lnTo>
                  <a:lnTo>
                    <a:pt x="348" y="90"/>
                  </a:lnTo>
                  <a:lnTo>
                    <a:pt x="372" y="84"/>
                  </a:lnTo>
                  <a:lnTo>
                    <a:pt x="396" y="78"/>
                  </a:lnTo>
                  <a:lnTo>
                    <a:pt x="420" y="72"/>
                  </a:lnTo>
                  <a:lnTo>
                    <a:pt x="444" y="66"/>
                  </a:lnTo>
                  <a:lnTo>
                    <a:pt x="474" y="60"/>
                  </a:lnTo>
                  <a:lnTo>
                    <a:pt x="498" y="60"/>
                  </a:lnTo>
                  <a:lnTo>
                    <a:pt x="522" y="54"/>
                  </a:lnTo>
                  <a:lnTo>
                    <a:pt x="546" y="48"/>
                  </a:lnTo>
                  <a:lnTo>
                    <a:pt x="576" y="42"/>
                  </a:lnTo>
                  <a:lnTo>
                    <a:pt x="600" y="42"/>
                  </a:lnTo>
                  <a:lnTo>
                    <a:pt x="624" y="36"/>
                  </a:lnTo>
                  <a:lnTo>
                    <a:pt x="654" y="30"/>
                  </a:lnTo>
                  <a:lnTo>
                    <a:pt x="678" y="30"/>
                  </a:lnTo>
                  <a:lnTo>
                    <a:pt x="708" y="24"/>
                  </a:lnTo>
                  <a:lnTo>
                    <a:pt x="732" y="24"/>
                  </a:lnTo>
                  <a:lnTo>
                    <a:pt x="762" y="18"/>
                  </a:lnTo>
                  <a:lnTo>
                    <a:pt x="786" y="18"/>
                  </a:lnTo>
                  <a:lnTo>
                    <a:pt x="816" y="12"/>
                  </a:lnTo>
                  <a:lnTo>
                    <a:pt x="840" y="12"/>
                  </a:lnTo>
                  <a:lnTo>
                    <a:pt x="870" y="6"/>
                  </a:lnTo>
                  <a:lnTo>
                    <a:pt x="900" y="6"/>
                  </a:lnTo>
                  <a:lnTo>
                    <a:pt x="924" y="6"/>
                  </a:lnTo>
                  <a:lnTo>
                    <a:pt x="954" y="6"/>
                  </a:lnTo>
                  <a:lnTo>
                    <a:pt x="978" y="0"/>
                  </a:lnTo>
                  <a:lnTo>
                    <a:pt x="1008" y="0"/>
                  </a:lnTo>
                  <a:lnTo>
                    <a:pt x="1038" y="0"/>
                  </a:lnTo>
                  <a:lnTo>
                    <a:pt x="1062" y="0"/>
                  </a:lnTo>
                  <a:lnTo>
                    <a:pt x="1092" y="0"/>
                  </a:lnTo>
                  <a:lnTo>
                    <a:pt x="1122" y="0"/>
                  </a:lnTo>
                  <a:lnTo>
                    <a:pt x="1146" y="0"/>
                  </a:lnTo>
                  <a:lnTo>
                    <a:pt x="1146" y="678"/>
                  </a:lnTo>
                  <a:lnTo>
                    <a:pt x="0" y="204"/>
                  </a:lnTo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82"/>
            <p:cNvSpPr/>
            <p:nvPr/>
          </p:nvSpPr>
          <p:spPr>
            <a:xfrm>
              <a:off x="4605120" y="1150200"/>
              <a:ext cx="1349280" cy="63540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602" h="696">
                  <a:moveTo>
                    <a:pt x="1152" y="0"/>
                  </a:moveTo>
                  <a:lnTo>
                    <a:pt x="1170" y="12"/>
                  </a:lnTo>
                  <a:lnTo>
                    <a:pt x="1188" y="18"/>
                  </a:lnTo>
                  <a:lnTo>
                    <a:pt x="1206" y="30"/>
                  </a:lnTo>
                  <a:lnTo>
                    <a:pt x="1224" y="36"/>
                  </a:lnTo>
                  <a:lnTo>
                    <a:pt x="1242" y="48"/>
                  </a:lnTo>
                  <a:lnTo>
                    <a:pt x="1260" y="54"/>
                  </a:lnTo>
                  <a:lnTo>
                    <a:pt x="1278" y="66"/>
                  </a:lnTo>
                  <a:lnTo>
                    <a:pt x="1296" y="72"/>
                  </a:lnTo>
                  <a:lnTo>
                    <a:pt x="1314" y="84"/>
                  </a:lnTo>
                  <a:lnTo>
                    <a:pt x="1326" y="96"/>
                  </a:lnTo>
                  <a:lnTo>
                    <a:pt x="1344" y="102"/>
                  </a:lnTo>
                  <a:lnTo>
                    <a:pt x="1356" y="114"/>
                  </a:lnTo>
                  <a:lnTo>
                    <a:pt x="1374" y="126"/>
                  </a:lnTo>
                  <a:lnTo>
                    <a:pt x="1386" y="132"/>
                  </a:lnTo>
                  <a:lnTo>
                    <a:pt x="1398" y="144"/>
                  </a:lnTo>
                  <a:lnTo>
                    <a:pt x="1416" y="156"/>
                  </a:lnTo>
                  <a:lnTo>
                    <a:pt x="1428" y="162"/>
                  </a:lnTo>
                  <a:lnTo>
                    <a:pt x="1440" y="174"/>
                  </a:lnTo>
                  <a:lnTo>
                    <a:pt x="1452" y="186"/>
                  </a:lnTo>
                  <a:lnTo>
                    <a:pt x="1464" y="198"/>
                  </a:lnTo>
                  <a:lnTo>
                    <a:pt x="1476" y="210"/>
                  </a:lnTo>
                  <a:lnTo>
                    <a:pt x="1482" y="216"/>
                  </a:lnTo>
                  <a:lnTo>
                    <a:pt x="1494" y="228"/>
                  </a:lnTo>
                  <a:lnTo>
                    <a:pt x="1506" y="240"/>
                  </a:lnTo>
                  <a:lnTo>
                    <a:pt x="1512" y="252"/>
                  </a:lnTo>
                  <a:lnTo>
                    <a:pt x="1524" y="264"/>
                  </a:lnTo>
                  <a:lnTo>
                    <a:pt x="1530" y="276"/>
                  </a:lnTo>
                  <a:lnTo>
                    <a:pt x="1536" y="288"/>
                  </a:lnTo>
                  <a:lnTo>
                    <a:pt x="1548" y="300"/>
                  </a:lnTo>
                  <a:lnTo>
                    <a:pt x="1554" y="306"/>
                  </a:lnTo>
                  <a:lnTo>
                    <a:pt x="1560" y="318"/>
                  </a:lnTo>
                  <a:lnTo>
                    <a:pt x="1566" y="330"/>
                  </a:lnTo>
                  <a:lnTo>
                    <a:pt x="1572" y="342"/>
                  </a:lnTo>
                  <a:lnTo>
                    <a:pt x="1578" y="354"/>
                  </a:lnTo>
                  <a:lnTo>
                    <a:pt x="1578" y="366"/>
                  </a:lnTo>
                  <a:lnTo>
                    <a:pt x="1584" y="378"/>
                  </a:lnTo>
                  <a:lnTo>
                    <a:pt x="1590" y="390"/>
                  </a:lnTo>
                  <a:lnTo>
                    <a:pt x="1590" y="402"/>
                  </a:lnTo>
                  <a:lnTo>
                    <a:pt x="1596" y="414"/>
                  </a:lnTo>
                  <a:lnTo>
                    <a:pt x="1596" y="426"/>
                  </a:lnTo>
                  <a:lnTo>
                    <a:pt x="1596" y="438"/>
                  </a:lnTo>
                  <a:lnTo>
                    <a:pt x="1602" y="450"/>
                  </a:lnTo>
                  <a:lnTo>
                    <a:pt x="1602" y="462"/>
                  </a:lnTo>
                  <a:lnTo>
                    <a:pt x="1602" y="474"/>
                  </a:lnTo>
                  <a:lnTo>
                    <a:pt x="1602" y="486"/>
                  </a:lnTo>
                  <a:lnTo>
                    <a:pt x="1602" y="498"/>
                  </a:lnTo>
                  <a:lnTo>
                    <a:pt x="1596" y="510"/>
                  </a:lnTo>
                  <a:lnTo>
                    <a:pt x="1596" y="522"/>
                  </a:lnTo>
                  <a:lnTo>
                    <a:pt x="1596" y="534"/>
                  </a:lnTo>
                  <a:lnTo>
                    <a:pt x="1590" y="546"/>
                  </a:lnTo>
                  <a:lnTo>
                    <a:pt x="1590" y="558"/>
                  </a:lnTo>
                  <a:lnTo>
                    <a:pt x="1584" y="564"/>
                  </a:lnTo>
                  <a:lnTo>
                    <a:pt x="1578" y="576"/>
                  </a:lnTo>
                  <a:lnTo>
                    <a:pt x="1578" y="588"/>
                  </a:lnTo>
                  <a:lnTo>
                    <a:pt x="1572" y="600"/>
                  </a:lnTo>
                  <a:lnTo>
                    <a:pt x="1566" y="612"/>
                  </a:lnTo>
                  <a:lnTo>
                    <a:pt x="1560" y="624"/>
                  </a:lnTo>
                  <a:lnTo>
                    <a:pt x="1554" y="636"/>
                  </a:lnTo>
                  <a:lnTo>
                    <a:pt x="1548" y="648"/>
                  </a:lnTo>
                  <a:lnTo>
                    <a:pt x="1536" y="660"/>
                  </a:lnTo>
                  <a:lnTo>
                    <a:pt x="1530" y="672"/>
                  </a:lnTo>
                  <a:lnTo>
                    <a:pt x="1524" y="684"/>
                  </a:lnTo>
                  <a:lnTo>
                    <a:pt x="1512" y="696"/>
                  </a:lnTo>
                  <a:lnTo>
                    <a:pt x="0" y="474"/>
                  </a:lnTo>
                  <a:lnTo>
                    <a:pt x="115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83"/>
            <p:cNvSpPr/>
            <p:nvPr/>
          </p:nvSpPr>
          <p:spPr>
            <a:xfrm>
              <a:off x="3260880" y="1150200"/>
              <a:ext cx="2617920" cy="1053000"/>
            </a:xfrm>
            <a:custGeom>
              <a:avLst/>
              <a:gdLst>
                <a:gd name="textAreaLeft" fmla="*/ 0 w 2617920"/>
                <a:gd name="textAreaRight" fmla="*/ 2618280 w 2617920"/>
                <a:gd name="textAreaTop" fmla="*/ 0 h 1053000"/>
                <a:gd name="textAreaBottom" fmla="*/ 1053360 h 1053000"/>
              </a:gdLst>
              <a:ahLst/>
              <a:rect l="textAreaLeft" t="textAreaTop" r="textAreaRight" b="textAreaBottom"/>
              <a:pathLst>
                <a:path w="3108" h="1152">
                  <a:moveTo>
                    <a:pt x="3108" y="696"/>
                  </a:moveTo>
                  <a:lnTo>
                    <a:pt x="3102" y="702"/>
                  </a:lnTo>
                  <a:lnTo>
                    <a:pt x="3090" y="714"/>
                  </a:lnTo>
                  <a:lnTo>
                    <a:pt x="3078" y="726"/>
                  </a:lnTo>
                  <a:lnTo>
                    <a:pt x="3072" y="738"/>
                  </a:lnTo>
                  <a:lnTo>
                    <a:pt x="3060" y="750"/>
                  </a:lnTo>
                  <a:lnTo>
                    <a:pt x="3048" y="762"/>
                  </a:lnTo>
                  <a:lnTo>
                    <a:pt x="3036" y="768"/>
                  </a:lnTo>
                  <a:lnTo>
                    <a:pt x="3024" y="780"/>
                  </a:lnTo>
                  <a:lnTo>
                    <a:pt x="3012" y="792"/>
                  </a:lnTo>
                  <a:lnTo>
                    <a:pt x="2994" y="804"/>
                  </a:lnTo>
                  <a:lnTo>
                    <a:pt x="2982" y="810"/>
                  </a:lnTo>
                  <a:lnTo>
                    <a:pt x="2970" y="822"/>
                  </a:lnTo>
                  <a:lnTo>
                    <a:pt x="2952" y="834"/>
                  </a:lnTo>
                  <a:lnTo>
                    <a:pt x="2940" y="840"/>
                  </a:lnTo>
                  <a:lnTo>
                    <a:pt x="2922" y="852"/>
                  </a:lnTo>
                  <a:lnTo>
                    <a:pt x="2910" y="864"/>
                  </a:lnTo>
                  <a:lnTo>
                    <a:pt x="2892" y="870"/>
                  </a:lnTo>
                  <a:lnTo>
                    <a:pt x="2874" y="882"/>
                  </a:lnTo>
                  <a:lnTo>
                    <a:pt x="2856" y="888"/>
                  </a:lnTo>
                  <a:lnTo>
                    <a:pt x="2838" y="900"/>
                  </a:lnTo>
                  <a:lnTo>
                    <a:pt x="2820" y="906"/>
                  </a:lnTo>
                  <a:lnTo>
                    <a:pt x="2802" y="918"/>
                  </a:lnTo>
                  <a:lnTo>
                    <a:pt x="2784" y="924"/>
                  </a:lnTo>
                  <a:lnTo>
                    <a:pt x="2766" y="936"/>
                  </a:lnTo>
                  <a:lnTo>
                    <a:pt x="2748" y="942"/>
                  </a:lnTo>
                  <a:lnTo>
                    <a:pt x="2730" y="954"/>
                  </a:lnTo>
                  <a:lnTo>
                    <a:pt x="2706" y="960"/>
                  </a:lnTo>
                  <a:lnTo>
                    <a:pt x="2688" y="966"/>
                  </a:lnTo>
                  <a:lnTo>
                    <a:pt x="2670" y="978"/>
                  </a:lnTo>
                  <a:lnTo>
                    <a:pt x="2646" y="984"/>
                  </a:lnTo>
                  <a:lnTo>
                    <a:pt x="2628" y="990"/>
                  </a:lnTo>
                  <a:lnTo>
                    <a:pt x="2604" y="1002"/>
                  </a:lnTo>
                  <a:lnTo>
                    <a:pt x="2580" y="1008"/>
                  </a:lnTo>
                  <a:lnTo>
                    <a:pt x="2562" y="1014"/>
                  </a:lnTo>
                  <a:lnTo>
                    <a:pt x="2538" y="1020"/>
                  </a:lnTo>
                  <a:lnTo>
                    <a:pt x="2514" y="1026"/>
                  </a:lnTo>
                  <a:lnTo>
                    <a:pt x="2490" y="1032"/>
                  </a:lnTo>
                  <a:lnTo>
                    <a:pt x="2466" y="1044"/>
                  </a:lnTo>
                  <a:lnTo>
                    <a:pt x="2442" y="1050"/>
                  </a:lnTo>
                  <a:lnTo>
                    <a:pt x="2424" y="1056"/>
                  </a:lnTo>
                  <a:lnTo>
                    <a:pt x="2400" y="1062"/>
                  </a:lnTo>
                  <a:lnTo>
                    <a:pt x="2370" y="1068"/>
                  </a:lnTo>
                  <a:lnTo>
                    <a:pt x="2346" y="1074"/>
                  </a:lnTo>
                  <a:lnTo>
                    <a:pt x="2322" y="1074"/>
                  </a:lnTo>
                  <a:lnTo>
                    <a:pt x="2298" y="1080"/>
                  </a:lnTo>
                  <a:lnTo>
                    <a:pt x="2274" y="1086"/>
                  </a:lnTo>
                  <a:lnTo>
                    <a:pt x="2250" y="1092"/>
                  </a:lnTo>
                  <a:lnTo>
                    <a:pt x="2220" y="1098"/>
                  </a:lnTo>
                  <a:lnTo>
                    <a:pt x="2196" y="1104"/>
                  </a:lnTo>
                  <a:lnTo>
                    <a:pt x="2172" y="1104"/>
                  </a:lnTo>
                  <a:lnTo>
                    <a:pt x="2142" y="1110"/>
                  </a:lnTo>
                  <a:lnTo>
                    <a:pt x="2118" y="1116"/>
                  </a:lnTo>
                  <a:lnTo>
                    <a:pt x="2094" y="1116"/>
                  </a:lnTo>
                  <a:lnTo>
                    <a:pt x="2064" y="1122"/>
                  </a:lnTo>
                  <a:lnTo>
                    <a:pt x="2040" y="1122"/>
                  </a:lnTo>
                  <a:lnTo>
                    <a:pt x="2010" y="1128"/>
                  </a:lnTo>
                  <a:lnTo>
                    <a:pt x="1986" y="1128"/>
                  </a:lnTo>
                  <a:lnTo>
                    <a:pt x="1956" y="1134"/>
                  </a:lnTo>
                  <a:lnTo>
                    <a:pt x="1932" y="1134"/>
                  </a:lnTo>
                  <a:lnTo>
                    <a:pt x="1902" y="1140"/>
                  </a:lnTo>
                  <a:lnTo>
                    <a:pt x="1878" y="1140"/>
                  </a:lnTo>
                  <a:lnTo>
                    <a:pt x="1848" y="1140"/>
                  </a:lnTo>
                  <a:lnTo>
                    <a:pt x="1818" y="1146"/>
                  </a:lnTo>
                  <a:lnTo>
                    <a:pt x="1794" y="1146"/>
                  </a:lnTo>
                  <a:lnTo>
                    <a:pt x="1764" y="1146"/>
                  </a:lnTo>
                  <a:lnTo>
                    <a:pt x="1734" y="1146"/>
                  </a:lnTo>
                  <a:lnTo>
                    <a:pt x="1710" y="1146"/>
                  </a:lnTo>
                  <a:lnTo>
                    <a:pt x="1680" y="1152"/>
                  </a:lnTo>
                  <a:lnTo>
                    <a:pt x="1656" y="1152"/>
                  </a:lnTo>
                  <a:lnTo>
                    <a:pt x="1626" y="1152"/>
                  </a:lnTo>
                  <a:lnTo>
                    <a:pt x="1596" y="1152"/>
                  </a:lnTo>
                  <a:lnTo>
                    <a:pt x="1572" y="1152"/>
                  </a:lnTo>
                  <a:lnTo>
                    <a:pt x="1542" y="1152"/>
                  </a:lnTo>
                  <a:lnTo>
                    <a:pt x="1512" y="1152"/>
                  </a:lnTo>
                  <a:lnTo>
                    <a:pt x="1488" y="1146"/>
                  </a:lnTo>
                  <a:lnTo>
                    <a:pt x="1458" y="1146"/>
                  </a:lnTo>
                  <a:lnTo>
                    <a:pt x="1428" y="1146"/>
                  </a:lnTo>
                  <a:lnTo>
                    <a:pt x="1404" y="1146"/>
                  </a:lnTo>
                  <a:lnTo>
                    <a:pt x="1374" y="1146"/>
                  </a:lnTo>
                  <a:lnTo>
                    <a:pt x="1350" y="1140"/>
                  </a:lnTo>
                  <a:lnTo>
                    <a:pt x="1320" y="1140"/>
                  </a:lnTo>
                  <a:lnTo>
                    <a:pt x="1290" y="1140"/>
                  </a:lnTo>
                  <a:lnTo>
                    <a:pt x="1266" y="1134"/>
                  </a:lnTo>
                  <a:lnTo>
                    <a:pt x="1236" y="1134"/>
                  </a:lnTo>
                  <a:lnTo>
                    <a:pt x="1212" y="1128"/>
                  </a:lnTo>
                  <a:lnTo>
                    <a:pt x="1182" y="1128"/>
                  </a:lnTo>
                  <a:lnTo>
                    <a:pt x="1158" y="1122"/>
                  </a:lnTo>
                  <a:lnTo>
                    <a:pt x="1128" y="1122"/>
                  </a:lnTo>
                  <a:lnTo>
                    <a:pt x="1104" y="1116"/>
                  </a:lnTo>
                  <a:lnTo>
                    <a:pt x="1074" y="1116"/>
                  </a:lnTo>
                  <a:lnTo>
                    <a:pt x="1050" y="1110"/>
                  </a:lnTo>
                  <a:lnTo>
                    <a:pt x="1026" y="1104"/>
                  </a:lnTo>
                  <a:lnTo>
                    <a:pt x="996" y="1104"/>
                  </a:lnTo>
                  <a:lnTo>
                    <a:pt x="972" y="1098"/>
                  </a:lnTo>
                  <a:lnTo>
                    <a:pt x="948" y="1092"/>
                  </a:lnTo>
                  <a:lnTo>
                    <a:pt x="924" y="1086"/>
                  </a:lnTo>
                  <a:lnTo>
                    <a:pt x="894" y="1080"/>
                  </a:lnTo>
                  <a:lnTo>
                    <a:pt x="870" y="1074"/>
                  </a:lnTo>
                  <a:lnTo>
                    <a:pt x="846" y="1074"/>
                  </a:lnTo>
                  <a:lnTo>
                    <a:pt x="822" y="1068"/>
                  </a:lnTo>
                  <a:lnTo>
                    <a:pt x="798" y="1062"/>
                  </a:lnTo>
                  <a:lnTo>
                    <a:pt x="774" y="1056"/>
                  </a:lnTo>
                  <a:lnTo>
                    <a:pt x="750" y="1050"/>
                  </a:lnTo>
                  <a:lnTo>
                    <a:pt x="726" y="1044"/>
                  </a:lnTo>
                  <a:lnTo>
                    <a:pt x="702" y="1032"/>
                  </a:lnTo>
                  <a:lnTo>
                    <a:pt x="678" y="1026"/>
                  </a:lnTo>
                  <a:lnTo>
                    <a:pt x="660" y="1020"/>
                  </a:lnTo>
                  <a:lnTo>
                    <a:pt x="636" y="1014"/>
                  </a:lnTo>
                  <a:lnTo>
                    <a:pt x="612" y="1008"/>
                  </a:lnTo>
                  <a:lnTo>
                    <a:pt x="594" y="1002"/>
                  </a:lnTo>
                  <a:lnTo>
                    <a:pt x="570" y="990"/>
                  </a:lnTo>
                  <a:lnTo>
                    <a:pt x="546" y="984"/>
                  </a:lnTo>
                  <a:lnTo>
                    <a:pt x="528" y="978"/>
                  </a:lnTo>
                  <a:lnTo>
                    <a:pt x="504" y="966"/>
                  </a:lnTo>
                  <a:lnTo>
                    <a:pt x="486" y="960"/>
                  </a:lnTo>
                  <a:lnTo>
                    <a:pt x="468" y="954"/>
                  </a:lnTo>
                  <a:lnTo>
                    <a:pt x="450" y="942"/>
                  </a:lnTo>
                  <a:lnTo>
                    <a:pt x="426" y="936"/>
                  </a:lnTo>
                  <a:lnTo>
                    <a:pt x="408" y="924"/>
                  </a:lnTo>
                  <a:lnTo>
                    <a:pt x="390" y="918"/>
                  </a:lnTo>
                  <a:lnTo>
                    <a:pt x="372" y="906"/>
                  </a:lnTo>
                  <a:lnTo>
                    <a:pt x="354" y="900"/>
                  </a:lnTo>
                  <a:lnTo>
                    <a:pt x="336" y="888"/>
                  </a:lnTo>
                  <a:lnTo>
                    <a:pt x="318" y="882"/>
                  </a:lnTo>
                  <a:lnTo>
                    <a:pt x="306" y="870"/>
                  </a:lnTo>
                  <a:lnTo>
                    <a:pt x="288" y="864"/>
                  </a:lnTo>
                  <a:lnTo>
                    <a:pt x="270" y="852"/>
                  </a:lnTo>
                  <a:lnTo>
                    <a:pt x="258" y="840"/>
                  </a:lnTo>
                  <a:lnTo>
                    <a:pt x="240" y="834"/>
                  </a:lnTo>
                  <a:lnTo>
                    <a:pt x="228" y="822"/>
                  </a:lnTo>
                  <a:lnTo>
                    <a:pt x="210" y="810"/>
                  </a:lnTo>
                  <a:lnTo>
                    <a:pt x="198" y="804"/>
                  </a:lnTo>
                  <a:lnTo>
                    <a:pt x="186" y="792"/>
                  </a:lnTo>
                  <a:lnTo>
                    <a:pt x="174" y="780"/>
                  </a:lnTo>
                  <a:lnTo>
                    <a:pt x="162" y="768"/>
                  </a:lnTo>
                  <a:lnTo>
                    <a:pt x="150" y="762"/>
                  </a:lnTo>
                  <a:lnTo>
                    <a:pt x="138" y="750"/>
                  </a:lnTo>
                  <a:lnTo>
                    <a:pt x="126" y="738"/>
                  </a:lnTo>
                  <a:lnTo>
                    <a:pt x="114" y="726"/>
                  </a:lnTo>
                  <a:lnTo>
                    <a:pt x="102" y="714"/>
                  </a:lnTo>
                  <a:lnTo>
                    <a:pt x="96" y="702"/>
                  </a:lnTo>
                  <a:lnTo>
                    <a:pt x="84" y="696"/>
                  </a:lnTo>
                  <a:lnTo>
                    <a:pt x="78" y="684"/>
                  </a:lnTo>
                  <a:lnTo>
                    <a:pt x="66" y="672"/>
                  </a:lnTo>
                  <a:lnTo>
                    <a:pt x="60" y="660"/>
                  </a:lnTo>
                  <a:lnTo>
                    <a:pt x="54" y="648"/>
                  </a:lnTo>
                  <a:lnTo>
                    <a:pt x="48" y="636"/>
                  </a:lnTo>
                  <a:lnTo>
                    <a:pt x="42" y="624"/>
                  </a:lnTo>
                  <a:lnTo>
                    <a:pt x="36" y="612"/>
                  </a:lnTo>
                  <a:lnTo>
                    <a:pt x="30" y="600"/>
                  </a:lnTo>
                  <a:lnTo>
                    <a:pt x="24" y="588"/>
                  </a:lnTo>
                  <a:lnTo>
                    <a:pt x="18" y="576"/>
                  </a:lnTo>
                  <a:lnTo>
                    <a:pt x="12" y="564"/>
                  </a:lnTo>
                  <a:lnTo>
                    <a:pt x="12" y="558"/>
                  </a:lnTo>
                  <a:lnTo>
                    <a:pt x="6" y="546"/>
                  </a:lnTo>
                  <a:lnTo>
                    <a:pt x="6" y="534"/>
                  </a:lnTo>
                  <a:lnTo>
                    <a:pt x="0" y="522"/>
                  </a:lnTo>
                  <a:lnTo>
                    <a:pt x="0" y="510"/>
                  </a:lnTo>
                  <a:lnTo>
                    <a:pt x="0" y="498"/>
                  </a:lnTo>
                  <a:lnTo>
                    <a:pt x="0" y="486"/>
                  </a:lnTo>
                  <a:lnTo>
                    <a:pt x="0" y="474"/>
                  </a:lnTo>
                  <a:lnTo>
                    <a:pt x="0" y="462"/>
                  </a:lnTo>
                  <a:lnTo>
                    <a:pt x="0" y="450"/>
                  </a:lnTo>
                  <a:lnTo>
                    <a:pt x="0" y="438"/>
                  </a:lnTo>
                  <a:lnTo>
                    <a:pt x="0" y="426"/>
                  </a:lnTo>
                  <a:lnTo>
                    <a:pt x="6" y="414"/>
                  </a:lnTo>
                  <a:lnTo>
                    <a:pt x="6" y="402"/>
                  </a:lnTo>
                  <a:lnTo>
                    <a:pt x="12" y="390"/>
                  </a:lnTo>
                  <a:lnTo>
                    <a:pt x="12" y="378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2"/>
                  </a:lnTo>
                  <a:lnTo>
                    <a:pt x="36" y="330"/>
                  </a:lnTo>
                  <a:lnTo>
                    <a:pt x="42" y="318"/>
                  </a:lnTo>
                  <a:lnTo>
                    <a:pt x="48" y="306"/>
                  </a:lnTo>
                  <a:lnTo>
                    <a:pt x="54" y="300"/>
                  </a:lnTo>
                  <a:lnTo>
                    <a:pt x="60" y="288"/>
                  </a:lnTo>
                  <a:lnTo>
                    <a:pt x="66" y="276"/>
                  </a:lnTo>
                  <a:lnTo>
                    <a:pt x="78" y="264"/>
                  </a:lnTo>
                  <a:lnTo>
                    <a:pt x="84" y="252"/>
                  </a:lnTo>
                  <a:lnTo>
                    <a:pt x="96" y="240"/>
                  </a:lnTo>
                  <a:lnTo>
                    <a:pt x="102" y="228"/>
                  </a:lnTo>
                  <a:lnTo>
                    <a:pt x="114" y="216"/>
                  </a:lnTo>
                  <a:lnTo>
                    <a:pt x="126" y="210"/>
                  </a:lnTo>
                  <a:lnTo>
                    <a:pt x="138" y="198"/>
                  </a:lnTo>
                  <a:lnTo>
                    <a:pt x="150" y="186"/>
                  </a:lnTo>
                  <a:lnTo>
                    <a:pt x="162" y="174"/>
                  </a:lnTo>
                  <a:lnTo>
                    <a:pt x="174" y="162"/>
                  </a:lnTo>
                  <a:lnTo>
                    <a:pt x="186" y="156"/>
                  </a:lnTo>
                  <a:lnTo>
                    <a:pt x="198" y="144"/>
                  </a:lnTo>
                  <a:lnTo>
                    <a:pt x="210" y="132"/>
                  </a:lnTo>
                  <a:lnTo>
                    <a:pt x="228" y="126"/>
                  </a:lnTo>
                  <a:lnTo>
                    <a:pt x="240" y="114"/>
                  </a:lnTo>
                  <a:lnTo>
                    <a:pt x="258" y="102"/>
                  </a:lnTo>
                  <a:lnTo>
                    <a:pt x="270" y="96"/>
                  </a:lnTo>
                  <a:lnTo>
                    <a:pt x="288" y="84"/>
                  </a:lnTo>
                  <a:lnTo>
                    <a:pt x="306" y="72"/>
                  </a:lnTo>
                  <a:lnTo>
                    <a:pt x="318" y="66"/>
                  </a:lnTo>
                  <a:lnTo>
                    <a:pt x="336" y="54"/>
                  </a:lnTo>
                  <a:lnTo>
                    <a:pt x="354" y="48"/>
                  </a:lnTo>
                  <a:lnTo>
                    <a:pt x="372" y="36"/>
                  </a:lnTo>
                  <a:lnTo>
                    <a:pt x="390" y="30"/>
                  </a:lnTo>
                  <a:lnTo>
                    <a:pt x="408" y="18"/>
                  </a:lnTo>
                  <a:lnTo>
                    <a:pt x="426" y="12"/>
                  </a:lnTo>
                  <a:lnTo>
                    <a:pt x="450" y="0"/>
                  </a:lnTo>
                  <a:lnTo>
                    <a:pt x="1596" y="474"/>
                  </a:lnTo>
                  <a:lnTo>
                    <a:pt x="3108" y="696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Oval 84"/>
            <p:cNvSpPr/>
            <p:nvPr/>
          </p:nvSpPr>
          <p:spPr>
            <a:xfrm>
              <a:off x="3884400" y="1325520"/>
              <a:ext cx="1423440" cy="46008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50000">
                  <a:srgbClr val="7d8496"/>
                </a:gs>
                <a:gs pos="100000">
                  <a:srgbClr val="e6e6e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Oval 85"/>
            <p:cNvSpPr/>
            <p:nvPr/>
          </p:nvSpPr>
          <p:spPr>
            <a:xfrm>
              <a:off x="3999600" y="1483920"/>
              <a:ext cx="1169640" cy="3182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 Box 86"/>
            <p:cNvSpPr/>
            <p:nvPr/>
          </p:nvSpPr>
          <p:spPr>
            <a:xfrm>
              <a:off x="4273200" y="1836000"/>
              <a:ext cx="49032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5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87"/>
            <p:cNvSpPr/>
            <p:nvPr/>
          </p:nvSpPr>
          <p:spPr>
            <a:xfrm>
              <a:off x="4002480" y="1022040"/>
              <a:ext cx="49032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88"/>
            <p:cNvSpPr/>
            <p:nvPr/>
          </p:nvSpPr>
          <p:spPr>
            <a:xfrm>
              <a:off x="4709160" y="1022040"/>
              <a:ext cx="49032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9"/>
            <p:cNvSpPr/>
            <p:nvPr/>
          </p:nvSpPr>
          <p:spPr>
            <a:xfrm>
              <a:off x="5364720" y="1350360"/>
              <a:ext cx="49032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90"/>
          <p:cNvSpPr/>
          <p:nvPr/>
        </p:nvSpPr>
        <p:spPr>
          <a:xfrm>
            <a:off x="4006080" y="2556000"/>
            <a:ext cx="5558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eC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1"/>
          <p:cNvSpPr/>
          <p:nvPr/>
        </p:nvSpPr>
        <p:spPr>
          <a:xfrm>
            <a:off x="4723920" y="2556000"/>
            <a:ext cx="6015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WC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2"/>
          <p:cNvSpPr/>
          <p:nvPr/>
        </p:nvSpPr>
        <p:spPr>
          <a:xfrm>
            <a:off x="4725360" y="2951280"/>
            <a:ext cx="804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IRM/P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3"/>
          <p:cNvSpPr/>
          <p:nvPr/>
        </p:nvSpPr>
        <p:spPr>
          <a:xfrm>
            <a:off x="3910320" y="2949480"/>
            <a:ext cx="656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M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4"/>
          <p:cNvSpPr/>
          <p:nvPr/>
        </p:nvSpPr>
        <p:spPr>
          <a:xfrm>
            <a:off x="4105440" y="4637160"/>
            <a:ext cx="458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5"/>
          <p:cNvSpPr/>
          <p:nvPr/>
        </p:nvSpPr>
        <p:spPr>
          <a:xfrm>
            <a:off x="4722840" y="4635360"/>
            <a:ext cx="379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C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6"/>
          <p:cNvSpPr/>
          <p:nvPr/>
        </p:nvSpPr>
        <p:spPr>
          <a:xfrm>
            <a:off x="4722480" y="5030640"/>
            <a:ext cx="510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PA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7"/>
          <p:cNvSpPr/>
          <p:nvPr/>
        </p:nvSpPr>
        <p:spPr>
          <a:xfrm>
            <a:off x="4181040" y="5029200"/>
            <a:ext cx="379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8"/>
          <p:cNvSpPr/>
          <p:nvPr/>
        </p:nvSpPr>
        <p:spPr>
          <a:xfrm>
            <a:off x="6203880" y="4162320"/>
            <a:ext cx="204264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00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Gulim"/>
              </a:rPr>
              <a:t>Network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00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Gulim"/>
              </a:rPr>
              <a:t>Automa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00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Gulim"/>
              </a:rPr>
              <a:t>Enterpris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9"/>
          <p:cNvSpPr/>
          <p:nvPr/>
        </p:nvSpPr>
        <p:spPr>
          <a:xfrm>
            <a:off x="3794400" y="3562200"/>
            <a:ext cx="7783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CRM/D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4723560" y="3525840"/>
            <a:ext cx="6764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EIP/EK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1"/>
          <p:cNvSpPr/>
          <p:nvPr/>
        </p:nvSpPr>
        <p:spPr>
          <a:xfrm>
            <a:off x="4724280" y="3916440"/>
            <a:ext cx="7664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ERP/S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2"/>
          <p:cNvSpPr/>
          <p:nvPr/>
        </p:nvSpPr>
        <p:spPr>
          <a:xfrm>
            <a:off x="3792240" y="3933720"/>
            <a:ext cx="7693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HY헤드라인M"/>
              </a:rPr>
              <a:t>GW/K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3"/>
          <p:cNvSpPr/>
          <p:nvPr/>
        </p:nvSpPr>
        <p:spPr>
          <a:xfrm>
            <a:off x="6203880" y="3203640"/>
            <a:ext cx="1676160" cy="624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indent="-216000">
              <a:lnSpc>
                <a:spcPct val="100000"/>
              </a:lnSpc>
              <a:buClr>
                <a:srgbClr val="ccff33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ccff33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ccff33"/>
                </a:solidFill>
                <a:latin typeface="Calibri"/>
                <a:ea typeface="Gulim"/>
              </a:rPr>
              <a:t>SI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cff33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ccff33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ccff33"/>
                </a:solidFill>
                <a:latin typeface="Calibri"/>
                <a:ea typeface="Gulim"/>
              </a:rPr>
              <a:t>SI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cff33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ccff33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ccff33"/>
                </a:solidFill>
                <a:latin typeface="Calibri"/>
                <a:ea typeface="Gulim"/>
              </a:rPr>
              <a:t>SI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4"/>
          <p:cNvSpPr/>
          <p:nvPr/>
        </p:nvSpPr>
        <p:spPr>
          <a:xfrm>
            <a:off x="6212160" y="2195640"/>
            <a:ext cx="147132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ccccff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ccccff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Calibri"/>
                <a:ea typeface="Gulim"/>
              </a:rPr>
              <a:t>Web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cccff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ccccff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Calibri"/>
                <a:ea typeface="Gulim"/>
              </a:rPr>
              <a:t>Web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cccff"/>
              </a:buClr>
              <a:buFont typeface="Arial"/>
              <a:buChar char="•"/>
            </a:pPr>
            <a:r>
              <a:rPr b="1" lang="en-US" sz="1200" spc="-1" strike="noStrike">
                <a:solidFill>
                  <a:srgbClr val="ccccff"/>
                </a:solidFill>
                <a:latin typeface="Calibri"/>
                <a:ea typeface="Gulim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Calibri"/>
                <a:ea typeface="Gulim"/>
              </a:rPr>
              <a:t>Web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105"/>
          <p:cNvSpPr txBox="1"/>
          <p:nvPr/>
        </p:nvSpPr>
        <p:spPr>
          <a:xfrm>
            <a:off x="811080" y="4333680"/>
            <a:ext cx="1479240" cy="296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NI Area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06"/>
          <p:cNvSpPr txBox="1"/>
          <p:nvPr/>
        </p:nvSpPr>
        <p:spPr>
          <a:xfrm>
            <a:off x="760320" y="3343320"/>
            <a:ext cx="1479240" cy="296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SI Area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107"/>
          <p:cNvSpPr txBox="1"/>
          <p:nvPr/>
        </p:nvSpPr>
        <p:spPr>
          <a:xfrm>
            <a:off x="709560" y="2336760"/>
            <a:ext cx="2133360" cy="296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Web SI Area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9"/>
          <p:cNvSpPr/>
          <p:nvPr/>
        </p:nvSpPr>
        <p:spPr>
          <a:xfrm>
            <a:off x="7443720" y="642960"/>
            <a:ext cx="1215720" cy="1042560"/>
          </a:xfrm>
          <a:prstGeom prst="rect">
            <a:avLst/>
          </a:prstGeom>
          <a:solidFill>
            <a:srgbClr val="ffffff">
              <a:alpha val="50000"/>
            </a:srgbClr>
          </a:solidFill>
          <a:ln w="1905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10"/>
          <p:cNvSpPr/>
          <p:nvPr/>
        </p:nvSpPr>
        <p:spPr>
          <a:xfrm>
            <a:off x="7770600" y="709560"/>
            <a:ext cx="653400" cy="85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Web S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NI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ystem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1"/>
          <p:cNvSpPr/>
          <p:nvPr/>
        </p:nvSpPr>
        <p:spPr>
          <a:xfrm>
            <a:off x="7535880" y="1170000"/>
            <a:ext cx="182160" cy="182160"/>
          </a:xfrm>
          <a:prstGeom prst="ellipse">
            <a:avLst/>
          </a:prstGeom>
          <a:solidFill>
            <a:srgbClr val="ff66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112"/>
          <p:cNvSpPr/>
          <p:nvPr/>
        </p:nvSpPr>
        <p:spPr>
          <a:xfrm>
            <a:off x="7532640" y="965160"/>
            <a:ext cx="182160" cy="182160"/>
          </a:xfrm>
          <a:prstGeom prst="ellipse">
            <a:avLst/>
          </a:prstGeom>
          <a:solidFill>
            <a:srgbClr val="99cc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13"/>
          <p:cNvSpPr/>
          <p:nvPr/>
        </p:nvSpPr>
        <p:spPr>
          <a:xfrm>
            <a:off x="7529400" y="747720"/>
            <a:ext cx="182160" cy="182160"/>
          </a:xfrm>
          <a:prstGeom prst="ellipse">
            <a:avLst/>
          </a:prstGeom>
          <a:solidFill>
            <a:srgbClr val="8f4fb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114"/>
          <p:cNvSpPr/>
          <p:nvPr/>
        </p:nvSpPr>
        <p:spPr>
          <a:xfrm>
            <a:off x="7542360" y="1386000"/>
            <a:ext cx="182160" cy="182160"/>
          </a:xfrm>
          <a:prstGeom prst="ellipse">
            <a:avLst/>
          </a:prstGeom>
          <a:solidFill>
            <a:srgbClr val="33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433080" y="35712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3"/>
          <p:cNvSpPr/>
          <p:nvPr/>
        </p:nvSpPr>
        <p:spPr>
          <a:xfrm>
            <a:off x="849240" y="39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2"/>
          <p:cNvSpPr/>
          <p:nvPr/>
        </p:nvSpPr>
        <p:spPr>
          <a:xfrm flipV="1">
            <a:off x="3292560" y="3022560"/>
            <a:ext cx="4241520" cy="709200"/>
          </a:xfrm>
          <a:prstGeom prst="parallelogram">
            <a:avLst>
              <a:gd name="adj" fmla="val 149441"/>
            </a:avLst>
          </a:prstGeom>
          <a:gradFill rotWithShape="0">
            <a:gsLst>
              <a:gs pos="0">
                <a:srgbClr val="430b27"/>
              </a:gs>
              <a:gs pos="100000">
                <a:srgbClr val="ff2994"/>
              </a:gs>
            </a:gsLst>
            <a:lin ang="27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3"/>
          <p:cNvSpPr/>
          <p:nvPr/>
        </p:nvSpPr>
        <p:spPr>
          <a:xfrm flipV="1">
            <a:off x="3282840" y="4126680"/>
            <a:ext cx="4244760" cy="690120"/>
          </a:xfrm>
          <a:prstGeom prst="parallelogram">
            <a:avLst>
              <a:gd name="adj" fmla="val 153678"/>
            </a:avLst>
          </a:prstGeom>
          <a:gradFill rotWithShape="0">
            <a:gsLst>
              <a:gs pos="0">
                <a:srgbClr val="31231b"/>
              </a:gs>
              <a:gs pos="100000">
                <a:srgbClr val="b98667"/>
              </a:gs>
            </a:gsLst>
            <a:lin ang="27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"/>
          <p:cNvSpPr/>
          <p:nvPr/>
        </p:nvSpPr>
        <p:spPr>
          <a:xfrm flipV="1">
            <a:off x="3282840" y="1916640"/>
            <a:ext cx="4244760" cy="64260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1c172b"/>
              </a:gs>
              <a:gs pos="100000">
                <a:srgbClr val="6a58a4"/>
              </a:gs>
            </a:gsLst>
            <a:lin ang="27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5"/>
          <p:cNvSpPr/>
          <p:nvPr/>
        </p:nvSpPr>
        <p:spPr>
          <a:xfrm flipV="1">
            <a:off x="3292560" y="811800"/>
            <a:ext cx="4241520" cy="641160"/>
          </a:xfrm>
          <a:prstGeom prst="parallelogram">
            <a:avLst>
              <a:gd name="adj" fmla="val 165132"/>
            </a:avLst>
          </a:prstGeom>
          <a:gradFill rotWithShape="0">
            <a:gsLst>
              <a:gs pos="0">
                <a:srgbClr val="0b1b2c"/>
              </a:gs>
              <a:gs pos="100000">
                <a:srgbClr val="2b66a7"/>
              </a:gs>
            </a:gsLst>
            <a:lin ang="27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6"/>
          <p:cNvSpPr/>
          <p:nvPr/>
        </p:nvSpPr>
        <p:spPr>
          <a:xfrm flipV="1">
            <a:off x="3259080" y="812520"/>
            <a:ext cx="360" cy="331488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219400" y="3022560"/>
            <a:ext cx="4241520" cy="979200"/>
          </a:xfrm>
          <a:prstGeom prst="parallelogram">
            <a:avLst>
              <a:gd name="adj" fmla="val 108266"/>
            </a:avLst>
          </a:prstGeom>
          <a:gradFill rotWithShape="0">
            <a:gsLst>
              <a:gs pos="0">
                <a:srgbClr val="76475e"/>
              </a:gs>
              <a:gs pos="100000">
                <a:srgbClr val="ff99cc"/>
              </a:gs>
            </a:gsLst>
            <a:lin ang="54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8"/>
          <p:cNvSpPr/>
          <p:nvPr/>
        </p:nvSpPr>
        <p:spPr>
          <a:xfrm>
            <a:off x="3862440" y="1915920"/>
            <a:ext cx="1039320" cy="2080800"/>
          </a:xfrm>
          <a:custGeom>
            <a:avLst/>
            <a:gdLst>
              <a:gd name="textAreaLeft" fmla="*/ 0 w 1039320"/>
              <a:gd name="textAreaRight" fmla="*/ 1039680 w 1039320"/>
              <a:gd name="textAreaTop" fmla="*/ 0 h 2080800"/>
              <a:gd name="textAreaBottom" fmla="*/ 2081160 h 208080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525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2209680" y="4127400"/>
            <a:ext cx="4244760" cy="979200"/>
          </a:xfrm>
          <a:prstGeom prst="parallelogram">
            <a:avLst>
              <a:gd name="adj" fmla="val 108347"/>
            </a:avLst>
          </a:prstGeom>
          <a:gradFill rotWithShape="0">
            <a:gsLst>
              <a:gs pos="0">
                <a:srgbClr val="64574f"/>
              </a:gs>
              <a:gs pos="100000">
                <a:srgbClr val="d8bcaa"/>
              </a:gs>
            </a:gsLst>
            <a:lin ang="54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10"/>
          <p:cNvSpPr/>
          <p:nvPr/>
        </p:nvSpPr>
        <p:spPr>
          <a:xfrm>
            <a:off x="2209680" y="1915920"/>
            <a:ext cx="4244760" cy="980640"/>
          </a:xfrm>
          <a:prstGeom prst="parallelogram">
            <a:avLst>
              <a:gd name="adj" fmla="val 108172"/>
            </a:avLst>
          </a:prstGeom>
          <a:gradFill rotWithShape="0">
            <a:gsLst>
              <a:gs pos="0">
                <a:srgbClr val="4d485d"/>
              </a:gs>
              <a:gs pos="100000">
                <a:srgbClr val="a69bc9"/>
              </a:gs>
            </a:gsLst>
            <a:lin ang="54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11"/>
          <p:cNvSpPr/>
          <p:nvPr/>
        </p:nvSpPr>
        <p:spPr>
          <a:xfrm flipV="1">
            <a:off x="2187360" y="1792080"/>
            <a:ext cx="360" cy="330372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ine 12"/>
          <p:cNvSpPr/>
          <p:nvPr/>
        </p:nvSpPr>
        <p:spPr>
          <a:xfrm flipV="1">
            <a:off x="5405400" y="1792080"/>
            <a:ext cx="360" cy="330372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13"/>
          <p:cNvSpPr/>
          <p:nvPr/>
        </p:nvSpPr>
        <p:spPr>
          <a:xfrm>
            <a:off x="3862440" y="809640"/>
            <a:ext cx="1039320" cy="2080800"/>
          </a:xfrm>
          <a:custGeom>
            <a:avLst/>
            <a:gdLst>
              <a:gd name="textAreaLeft" fmla="*/ 0 w 1039320"/>
              <a:gd name="textAreaRight" fmla="*/ 1039680 w 1039320"/>
              <a:gd name="textAreaTop" fmla="*/ 0 h 2080800"/>
              <a:gd name="textAreaBottom" fmla="*/ 2081160 h 208080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525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1077840" y="812520"/>
            <a:ext cx="6949800" cy="180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920600" y="814320"/>
            <a:ext cx="360" cy="97776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047600" y="5125680"/>
            <a:ext cx="698004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AutoShape 17"/>
          <p:cNvSpPr/>
          <p:nvPr/>
        </p:nvSpPr>
        <p:spPr>
          <a:xfrm>
            <a:off x="2219400" y="812880"/>
            <a:ext cx="4241520" cy="979200"/>
          </a:xfrm>
          <a:prstGeom prst="parallelogram">
            <a:avLst>
              <a:gd name="adj" fmla="val 108266"/>
            </a:avLst>
          </a:prstGeom>
          <a:gradFill rotWithShape="0">
            <a:gsLst>
              <a:gs pos="0">
                <a:srgbClr val="2b4563"/>
              </a:gs>
              <a:gs pos="100000">
                <a:srgbClr val="5d96d5"/>
              </a:gs>
            </a:gsLst>
            <a:lin ang="5400000"/>
          </a:gradFill>
          <a:ln w="28575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833560" y="2368440"/>
            <a:ext cx="3100320" cy="36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393360" y="1158840"/>
            <a:ext cx="153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DW/E-CRM / C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427920" y="4465800"/>
            <a:ext cx="12265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E-Market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2836440" y="3591000"/>
            <a:ext cx="510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672440" y="3573360"/>
            <a:ext cx="391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2710800" y="2425680"/>
            <a:ext cx="847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GW/K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551480" y="2476440"/>
            <a:ext cx="4568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E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3212640" y="2016000"/>
            <a:ext cx="510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 flipV="1">
            <a:off x="7546680" y="1454040"/>
            <a:ext cx="360" cy="336384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27"/>
          <p:cNvSpPr/>
          <p:nvPr/>
        </p:nvSpPr>
        <p:spPr>
          <a:xfrm flipV="1">
            <a:off x="6460920" y="785520"/>
            <a:ext cx="360" cy="336384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28"/>
          <p:cNvSpPr/>
          <p:nvPr/>
        </p:nvSpPr>
        <p:spPr>
          <a:xfrm>
            <a:off x="1066680" y="1790640"/>
            <a:ext cx="696096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29"/>
          <p:cNvSpPr/>
          <p:nvPr/>
        </p:nvSpPr>
        <p:spPr>
          <a:xfrm>
            <a:off x="1063440" y="2911320"/>
            <a:ext cx="696420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30"/>
          <p:cNvSpPr/>
          <p:nvPr/>
        </p:nvSpPr>
        <p:spPr>
          <a:xfrm>
            <a:off x="1060200" y="4012920"/>
            <a:ext cx="696744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31"/>
          <p:cNvSpPr/>
          <p:nvPr/>
        </p:nvSpPr>
        <p:spPr>
          <a:xfrm>
            <a:off x="815400" y="2144880"/>
            <a:ext cx="102528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&amp;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2"/>
          <p:cNvSpPr/>
          <p:nvPr/>
        </p:nvSpPr>
        <p:spPr>
          <a:xfrm>
            <a:off x="7790040" y="3298680"/>
            <a:ext cx="4294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3"/>
          <p:cNvSpPr/>
          <p:nvPr/>
        </p:nvSpPr>
        <p:spPr>
          <a:xfrm>
            <a:off x="866520" y="4449600"/>
            <a:ext cx="976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Market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1917360" y="1820520"/>
            <a:ext cx="360" cy="109080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1914480" y="2941560"/>
            <a:ext cx="360" cy="109044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1911240" y="4062240"/>
            <a:ext cx="360" cy="109044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2706480" y="3533760"/>
            <a:ext cx="3189240" cy="36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4985640" y="3146400"/>
            <a:ext cx="398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9"/>
          <p:cNvSpPr/>
          <p:nvPr/>
        </p:nvSpPr>
        <p:spPr>
          <a:xfrm>
            <a:off x="4883040" y="2025720"/>
            <a:ext cx="7344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EIP/EK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0"/>
          <p:cNvSpPr/>
          <p:nvPr/>
        </p:nvSpPr>
        <p:spPr>
          <a:xfrm>
            <a:off x="3176280" y="3178080"/>
            <a:ext cx="5072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1"/>
          <p:cNvSpPr/>
          <p:nvPr/>
        </p:nvSpPr>
        <p:spPr>
          <a:xfrm>
            <a:off x="993600" y="3213000"/>
            <a:ext cx="848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&amp; Supp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2"/>
          <p:cNvSpPr/>
          <p:nvPr/>
        </p:nvSpPr>
        <p:spPr>
          <a:xfrm>
            <a:off x="1051200" y="1158840"/>
            <a:ext cx="7923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7699320" y="814320"/>
            <a:ext cx="360" cy="97776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7696080" y="1820520"/>
            <a:ext cx="360" cy="109080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7692840" y="2941560"/>
            <a:ext cx="360" cy="109044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7689600" y="4062240"/>
            <a:ext cx="360" cy="1090440"/>
          </a:xfrm>
          <a:prstGeom prst="line">
            <a:avLst/>
          </a:prstGeom>
          <a:ln w="9525">
            <a:solidFill>
              <a:srgbClr val="ffffff">
                <a:alpha val="5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7"/>
          <p:cNvSpPr/>
          <p:nvPr/>
        </p:nvSpPr>
        <p:spPr>
          <a:xfrm>
            <a:off x="7792920" y="2230560"/>
            <a:ext cx="418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B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8"/>
          <p:cNvSpPr/>
          <p:nvPr/>
        </p:nvSpPr>
        <p:spPr>
          <a:xfrm>
            <a:off x="7795080" y="1158840"/>
            <a:ext cx="4248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B2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9"/>
          <p:cNvSpPr/>
          <p:nvPr/>
        </p:nvSpPr>
        <p:spPr>
          <a:xfrm>
            <a:off x="7759800" y="4456080"/>
            <a:ext cx="476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B2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433080" y="35712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3"/>
          <p:cNvSpPr/>
          <p:nvPr/>
        </p:nvSpPr>
        <p:spPr>
          <a:xfrm>
            <a:off x="849240" y="39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2629080" y="1101600"/>
            <a:ext cx="5990760" cy="863280"/>
          </a:xfrm>
          <a:prstGeom prst="rect">
            <a:avLst/>
          </a:prstGeom>
          <a:gradFill rotWithShape="0">
            <a:gsLst>
              <a:gs pos="0">
                <a:srgbClr val="ff6600">
                  <a:alpha val="60000"/>
                </a:srgbClr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468680" y="3800520"/>
            <a:ext cx="4150800" cy="1206000"/>
          </a:xfrm>
          <a:prstGeom prst="rect">
            <a:avLst/>
          </a:prstGeom>
          <a:gradFill rotWithShape="0">
            <a:gsLst>
              <a:gs pos="0">
                <a:srgbClr val="009999">
                  <a:alpha val="60000"/>
                </a:srgbClr>
              </a:gs>
              <a:gs pos="100000">
                <a:srgbClr val="004747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127320" y="1965240"/>
            <a:ext cx="5492520" cy="931680"/>
          </a:xfrm>
          <a:prstGeom prst="rect">
            <a:avLst/>
          </a:prstGeom>
          <a:gradFill rotWithShape="0">
            <a:gsLst>
              <a:gs pos="0">
                <a:srgbClr val="cc9900">
                  <a:alpha val="60000"/>
                </a:srgbClr>
              </a:gs>
              <a:gs pos="100000">
                <a:srgbClr val="5e4700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728880" y="2897280"/>
            <a:ext cx="4890600" cy="904680"/>
          </a:xfrm>
          <a:prstGeom prst="rect">
            <a:avLst/>
          </a:prstGeom>
          <a:gradFill rotWithShape="0">
            <a:gsLst>
              <a:gs pos="0">
                <a:srgbClr val="ccff33">
                  <a:alpha val="60000"/>
                </a:srgbClr>
              </a:gs>
              <a:gs pos="100000">
                <a:srgbClr val="5e7618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960640" y="1965240"/>
            <a:ext cx="5659200" cy="360"/>
          </a:xfrm>
          <a:prstGeom prst="line">
            <a:avLst/>
          </a:prstGeom>
          <a:ln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3728880" y="2896920"/>
            <a:ext cx="4890960" cy="360"/>
          </a:xfrm>
          <a:prstGeom prst="line">
            <a:avLst/>
          </a:prstGeom>
          <a:ln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4317840" y="3801960"/>
            <a:ext cx="4302000" cy="360"/>
          </a:xfrm>
          <a:prstGeom prst="line">
            <a:avLst/>
          </a:prstGeom>
          <a:ln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541080" y="5006880"/>
            <a:ext cx="8078760" cy="360"/>
          </a:xfrm>
          <a:prstGeom prst="line">
            <a:avLst/>
          </a:prstGeom>
          <a:ln w="12700">
            <a:solidFill>
              <a:srgbClr val="ffffff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5200920" y="4157640"/>
            <a:ext cx="2890800" cy="454680"/>
          </a:xfrm>
          <a:prstGeom prst="rect">
            <a:avLst/>
          </a:prstGeom>
          <a:noFill/>
          <a:ln w="9525">
            <a:noFill/>
          </a:ln>
          <a:effectLst>
            <a:outerShdw algn="ctr" dir="5400000" dist="12600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ffcc"/>
                </a:solidFill>
                <a:latin typeface="Calibri"/>
                <a:ea typeface="Gulim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ffcc"/>
                </a:solidFill>
                <a:latin typeface="Calibri"/>
                <a:ea typeface="Gulim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4621320" y="3103560"/>
            <a:ext cx="2714040" cy="454680"/>
          </a:xfrm>
          <a:prstGeom prst="rect">
            <a:avLst/>
          </a:prstGeom>
          <a:noFill/>
          <a:ln w="9525">
            <a:noFill/>
          </a:ln>
          <a:effectLst>
            <a:outerShdw algn="ctr" dir="5400000" dist="12600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99ff66"/>
                </a:solidFill>
                <a:latin typeface="Calibri"/>
                <a:ea typeface="Gulim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99ff66"/>
                </a:solidFill>
                <a:latin typeface="Calibri"/>
                <a:ea typeface="Gulim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086720" y="2270160"/>
            <a:ext cx="2994480" cy="272160"/>
          </a:xfrm>
          <a:prstGeom prst="rect">
            <a:avLst/>
          </a:prstGeom>
          <a:noFill/>
          <a:ln w="9525">
            <a:noFill/>
          </a:ln>
          <a:effectLst>
            <a:outerShdw algn="ctr" dir="5400000" dist="12600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66"/>
                </a:solidFill>
                <a:latin typeface="Calibri"/>
                <a:ea typeface="Gulim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3424320" y="1303200"/>
            <a:ext cx="2860200" cy="454680"/>
          </a:xfrm>
          <a:prstGeom prst="rect">
            <a:avLst/>
          </a:prstGeom>
          <a:noFill/>
          <a:ln w="9525">
            <a:noFill/>
          </a:ln>
          <a:effectLst>
            <a:outerShdw algn="ctr" dir="5400000" dist="12600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cc00"/>
                </a:solidFill>
                <a:latin typeface="Calibri"/>
                <a:ea typeface="Gulim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cc00"/>
                </a:solidFill>
                <a:latin typeface="Calibri"/>
                <a:ea typeface="Gulim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4"/>
          <p:cNvGrpSpPr/>
          <p:nvPr/>
        </p:nvGrpSpPr>
        <p:grpSpPr>
          <a:xfrm>
            <a:off x="541440" y="534960"/>
            <a:ext cx="4677840" cy="4477680"/>
            <a:chOff x="541440" y="534960"/>
            <a:chExt cx="4677840" cy="4477680"/>
          </a:xfrm>
        </p:grpSpPr>
        <p:grpSp>
          <p:nvGrpSpPr>
            <p:cNvPr id="297" name="Group 15"/>
            <p:cNvGrpSpPr/>
            <p:nvPr/>
          </p:nvGrpSpPr>
          <p:grpSpPr>
            <a:xfrm>
              <a:off x="541440" y="3506400"/>
              <a:ext cx="4677840" cy="1506240"/>
              <a:chOff x="541440" y="3506400"/>
              <a:chExt cx="4677840" cy="1506240"/>
            </a:xfrm>
          </p:grpSpPr>
          <p:sp>
            <p:nvSpPr>
              <p:cNvPr id="298" name="Freeform 16"/>
              <p:cNvSpPr/>
              <p:nvPr/>
            </p:nvSpPr>
            <p:spPr>
              <a:xfrm>
                <a:off x="1007280" y="3506400"/>
                <a:ext cx="3601440" cy="541080"/>
              </a:xfrm>
              <a:custGeom>
                <a:avLst/>
                <a:gdLst>
                  <a:gd name="textAreaLeft" fmla="*/ 0 w 3601440"/>
                  <a:gd name="textAreaRight" fmla="*/ 3601800 w 3601440"/>
                  <a:gd name="textAreaTop" fmla="*/ 0 h 541080"/>
                  <a:gd name="textAreaBottom" fmla="*/ 541440 h 54108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3555f"/>
                  </a:gs>
                  <a:gs pos="50000">
                    <a:srgbClr val="05808f"/>
                  </a:gs>
                  <a:gs pos="100000">
                    <a:srgbClr val="03555f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17"/>
              <p:cNvSpPr/>
              <p:nvPr/>
            </p:nvSpPr>
            <p:spPr>
              <a:xfrm>
                <a:off x="541440" y="4042800"/>
                <a:ext cx="4172040" cy="965160"/>
              </a:xfrm>
              <a:custGeom>
                <a:avLst/>
                <a:gdLst>
                  <a:gd name="textAreaLeft" fmla="*/ 0 w 4172040"/>
                  <a:gd name="textAreaRight" fmla="*/ 4172400 w 4172040"/>
                  <a:gd name="textAreaTop" fmla="*/ 0 h 965160"/>
                  <a:gd name="textAreaBottom" fmla="*/ 965520 h 96516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c5c0"/>
                  </a:gs>
                  <a:gs pos="100000">
                    <a:srgbClr val="005b59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18"/>
              <p:cNvSpPr/>
              <p:nvPr/>
            </p:nvSpPr>
            <p:spPr>
              <a:xfrm>
                <a:off x="4222080" y="3515760"/>
                <a:ext cx="997200" cy="1496880"/>
              </a:xfrm>
              <a:custGeom>
                <a:avLst/>
                <a:gdLst>
                  <a:gd name="textAreaLeft" fmla="*/ 0 w 997200"/>
                  <a:gd name="textAreaRight" fmla="*/ 997560 w 997200"/>
                  <a:gd name="textAreaTop" fmla="*/ 0 h 1496880"/>
                  <a:gd name="textAreaBottom" fmla="*/ 1497240 h 14968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" name="Group 19"/>
            <p:cNvGrpSpPr/>
            <p:nvPr/>
          </p:nvGrpSpPr>
          <p:grpSpPr>
            <a:xfrm>
              <a:off x="1043640" y="2706840"/>
              <a:ext cx="3480840" cy="1194840"/>
              <a:chOff x="1043640" y="2706840"/>
              <a:chExt cx="3480840" cy="1194840"/>
            </a:xfrm>
          </p:grpSpPr>
          <p:sp>
            <p:nvSpPr>
              <p:cNvPr id="302" name="Freeform 20"/>
              <p:cNvSpPr/>
              <p:nvPr/>
            </p:nvSpPr>
            <p:spPr>
              <a:xfrm>
                <a:off x="1390320" y="2706840"/>
                <a:ext cx="2680200" cy="429120"/>
              </a:xfrm>
              <a:custGeom>
                <a:avLst/>
                <a:gdLst>
                  <a:gd name="textAreaLeft" fmla="*/ 0 w 2680200"/>
                  <a:gd name="textAreaRight" fmla="*/ 2680560 w 268020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385500"/>
                  </a:gs>
                  <a:gs pos="50000">
                    <a:srgbClr val="558000"/>
                  </a:gs>
                  <a:gs pos="100000">
                    <a:srgbClr val="385500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21"/>
              <p:cNvSpPr/>
              <p:nvPr/>
            </p:nvSpPr>
            <p:spPr>
              <a:xfrm>
                <a:off x="1043640" y="3132720"/>
                <a:ext cx="3104640" cy="765360"/>
              </a:xfrm>
              <a:custGeom>
                <a:avLst/>
                <a:gdLst>
                  <a:gd name="textAreaLeft" fmla="*/ 0 w 3104640"/>
                  <a:gd name="textAreaRight" fmla="*/ 3105000 w 310464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8cd200"/>
                  </a:gs>
                  <a:gs pos="100000">
                    <a:srgbClr val="416100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22"/>
              <p:cNvSpPr/>
              <p:nvPr/>
            </p:nvSpPr>
            <p:spPr>
              <a:xfrm>
                <a:off x="3782520" y="2714400"/>
                <a:ext cx="741960" cy="11872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5" name="Group 23"/>
            <p:cNvGrpSpPr/>
            <p:nvPr/>
          </p:nvGrpSpPr>
          <p:grpSpPr>
            <a:xfrm>
              <a:off x="1438200" y="1989720"/>
              <a:ext cx="2570040" cy="1039680"/>
              <a:chOff x="1438200" y="1989720"/>
              <a:chExt cx="2570040" cy="1039680"/>
            </a:xfrm>
          </p:grpSpPr>
          <p:sp>
            <p:nvSpPr>
              <p:cNvPr id="306" name="Freeform 24"/>
              <p:cNvSpPr/>
              <p:nvPr/>
            </p:nvSpPr>
            <p:spPr>
              <a:xfrm>
                <a:off x="3382200" y="1989720"/>
                <a:ext cx="626040" cy="1039680"/>
              </a:xfrm>
              <a:custGeom>
                <a:avLst/>
                <a:gdLst>
                  <a:gd name="textAreaLeft" fmla="*/ 0 w 626040"/>
                  <a:gd name="textAreaRight" fmla="*/ 626400 w 626040"/>
                  <a:gd name="textAreaTop" fmla="*/ 0 h 1039680"/>
                  <a:gd name="textAreaBottom" fmla="*/ 1040040 h 103968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25"/>
              <p:cNvSpPr/>
              <p:nvPr/>
            </p:nvSpPr>
            <p:spPr>
              <a:xfrm>
                <a:off x="1772640" y="198972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696600"/>
                  </a:gs>
                  <a:gs pos="50000">
                    <a:srgbClr val="9e9a00"/>
                  </a:gs>
                  <a:gs pos="100000">
                    <a:srgbClr val="696600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26"/>
              <p:cNvSpPr/>
              <p:nvPr/>
            </p:nvSpPr>
            <p:spPr>
              <a:xfrm>
                <a:off x="1438200" y="2270160"/>
                <a:ext cx="2313000" cy="753120"/>
              </a:xfrm>
              <a:custGeom>
                <a:avLst/>
                <a:gdLst>
                  <a:gd name="textAreaLeft" fmla="*/ 0 w 2313000"/>
                  <a:gd name="textAreaRight" fmla="*/ 2313360 w 231300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5e5e00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" name="Group 27"/>
            <p:cNvGrpSpPr/>
            <p:nvPr/>
          </p:nvGrpSpPr>
          <p:grpSpPr>
            <a:xfrm>
              <a:off x="1820520" y="1256040"/>
              <a:ext cx="1678320" cy="914400"/>
              <a:chOff x="1820520" y="1256040"/>
              <a:chExt cx="1678320" cy="914400"/>
            </a:xfrm>
          </p:grpSpPr>
          <p:sp>
            <p:nvSpPr>
              <p:cNvPr id="310" name="Freeform 28"/>
              <p:cNvSpPr/>
              <p:nvPr/>
            </p:nvSpPr>
            <p:spPr>
              <a:xfrm>
                <a:off x="2173320" y="1262160"/>
                <a:ext cx="886680" cy="146160"/>
              </a:xfrm>
              <a:custGeom>
                <a:avLst/>
                <a:gdLst>
                  <a:gd name="textAreaLeft" fmla="*/ 0 w 886680"/>
                  <a:gd name="textAreaRight" fmla="*/ 887040 w 8866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a94323"/>
                  </a:gs>
                  <a:gs pos="50000">
                    <a:srgbClr val="ff6535"/>
                  </a:gs>
                  <a:gs pos="100000">
                    <a:srgbClr val="a94323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29"/>
              <p:cNvSpPr/>
              <p:nvPr/>
            </p:nvSpPr>
            <p:spPr>
              <a:xfrm>
                <a:off x="1820520" y="1405080"/>
                <a:ext cx="1503720" cy="765360"/>
              </a:xfrm>
              <a:custGeom>
                <a:avLst/>
                <a:gdLst>
                  <a:gd name="textAreaLeft" fmla="*/ 0 w 1503720"/>
                  <a:gd name="textAreaRight" fmla="*/ 1504080 w 150372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100000">
                    <a:srgbClr val="764718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30"/>
              <p:cNvSpPr/>
              <p:nvPr/>
            </p:nvSpPr>
            <p:spPr>
              <a:xfrm>
                <a:off x="2967120" y="1256040"/>
                <a:ext cx="531720" cy="90828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908280"/>
                  <a:gd name="textAreaBottom" fmla="*/ 908640 h 90828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Group 31"/>
            <p:cNvGrpSpPr/>
            <p:nvPr/>
          </p:nvGrpSpPr>
          <p:grpSpPr>
            <a:xfrm>
              <a:off x="2214000" y="534960"/>
              <a:ext cx="780120" cy="764280"/>
              <a:chOff x="2214000" y="534960"/>
              <a:chExt cx="780120" cy="764280"/>
            </a:xfrm>
          </p:grpSpPr>
          <p:sp>
            <p:nvSpPr>
              <p:cNvPr id="314" name="Freeform 32"/>
              <p:cNvSpPr/>
              <p:nvPr/>
            </p:nvSpPr>
            <p:spPr>
              <a:xfrm>
                <a:off x="2214000" y="534960"/>
                <a:ext cx="714600" cy="76428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189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33"/>
              <p:cNvSpPr/>
              <p:nvPr/>
            </p:nvSpPr>
            <p:spPr>
              <a:xfrm>
                <a:off x="2553480" y="534960"/>
                <a:ext cx="440640" cy="76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760320"/>
                  <a:gd name="textAreaBottom" fmla="*/ 760680 h 76032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6" name="Text Box 34"/>
          <p:cNvSpPr/>
          <p:nvPr/>
        </p:nvSpPr>
        <p:spPr>
          <a:xfrm>
            <a:off x="1912680" y="2479680"/>
            <a:ext cx="1409400" cy="43020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5"/>
          <p:cNvSpPr/>
          <p:nvPr/>
        </p:nvSpPr>
        <p:spPr>
          <a:xfrm>
            <a:off x="2106720" y="1500120"/>
            <a:ext cx="981360" cy="6004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6"/>
          <p:cNvSpPr/>
          <p:nvPr/>
        </p:nvSpPr>
        <p:spPr>
          <a:xfrm>
            <a:off x="1276200" y="4386240"/>
            <a:ext cx="2741400" cy="2869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7"/>
          <p:cNvSpPr/>
          <p:nvPr/>
        </p:nvSpPr>
        <p:spPr>
          <a:xfrm>
            <a:off x="1276200" y="3362400"/>
            <a:ext cx="2590560" cy="2869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8"/>
          <p:cNvSpPr/>
          <p:nvPr/>
        </p:nvSpPr>
        <p:spPr>
          <a:xfrm>
            <a:off x="498960" y="5011920"/>
            <a:ext cx="1635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Gulim"/>
              </a:rPr>
              <a:t>Source : Arthur D.L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468360" y="53960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"/>
          <p:cNvSpPr/>
          <p:nvPr/>
        </p:nvSpPr>
        <p:spPr>
          <a:xfrm>
            <a:off x="8076960" y="42876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3"/>
          <p:cNvSpPr/>
          <p:nvPr/>
        </p:nvSpPr>
        <p:spPr>
          <a:xfrm>
            <a:off x="849240" y="3960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rc 2"/>
          <p:cNvSpPr/>
          <p:nvPr/>
        </p:nvSpPr>
        <p:spPr>
          <a:xfrm>
            <a:off x="3882960" y="568440"/>
            <a:ext cx="4589280" cy="4589280"/>
          </a:xfrm>
          <a:custGeom>
            <a:avLst/>
            <a:gdLst>
              <a:gd name="textAreaLeft" fmla="*/ 0 w 4589280"/>
              <a:gd name="textAreaRight" fmla="*/ 4589640 w 4589280"/>
              <a:gd name="textAreaTop" fmla="*/ 0 h 4589280"/>
              <a:gd name="textAreaBottom" fmla="*/ 4589640 h 4589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764718"/>
              </a:gs>
              <a:gs pos="100000">
                <a:srgbClr val="ff9933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rc 3"/>
          <p:cNvSpPr/>
          <p:nvPr/>
        </p:nvSpPr>
        <p:spPr>
          <a:xfrm>
            <a:off x="3882960" y="2005200"/>
            <a:ext cx="3152520" cy="3152520"/>
          </a:xfrm>
          <a:custGeom>
            <a:avLst/>
            <a:gdLst>
              <a:gd name="textAreaLeft" fmla="*/ 0 w 3152520"/>
              <a:gd name="textAreaRight" fmla="*/ 3152880 w 3152520"/>
              <a:gd name="textAreaTop" fmla="*/ 0 h 3152520"/>
              <a:gd name="textAreaBottom" fmla="*/ 3152880 h 3152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lin ang="18900000"/>
          </a:gradFill>
          <a:ln w="1270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rc 4"/>
          <p:cNvSpPr/>
          <p:nvPr/>
        </p:nvSpPr>
        <p:spPr>
          <a:xfrm>
            <a:off x="3882960" y="3268800"/>
            <a:ext cx="1895040" cy="1895040"/>
          </a:xfrm>
          <a:custGeom>
            <a:avLst/>
            <a:gdLst>
              <a:gd name="textAreaLeft" fmla="*/ 0 w 1895040"/>
              <a:gd name="textAreaRight" fmla="*/ 1895400 w 1895040"/>
              <a:gd name="textAreaTop" fmla="*/ 0 h 1895040"/>
              <a:gd name="textAreaBottom" fmla="*/ 1895400 h 1895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18900000"/>
          </a:gradFill>
          <a:ln w="1270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rc 5"/>
          <p:cNvSpPr/>
          <p:nvPr/>
        </p:nvSpPr>
        <p:spPr>
          <a:xfrm>
            <a:off x="3892680" y="574560"/>
            <a:ext cx="3534840" cy="4589280"/>
          </a:xfrm>
          <a:custGeom>
            <a:avLst/>
            <a:gdLst>
              <a:gd name="textAreaLeft" fmla="*/ 0 w 3534840"/>
              <a:gd name="textAreaRight" fmla="*/ 3535200 w 3534840"/>
              <a:gd name="textAreaTop" fmla="*/ 0 h 4589280"/>
              <a:gd name="textAreaBottom" fmla="*/ 4589640 h 4589280"/>
            </a:gdLst>
            <a:ahLst/>
            <a:rect l="textAreaLeft" t="textAreaTop" r="textAreaRight" b="textAreaBottom"/>
            <a:pathLst>
              <a:path fill="none" w="16633" h="21600">
                <a:moveTo>
                  <a:pt x="-1" y="0"/>
                </a:moveTo>
                <a:cubicBezTo>
                  <a:pt x="6431" y="0"/>
                  <a:pt x="12529" y="2866"/>
                  <a:pt x="16632" y="7819"/>
                </a:cubicBezTo>
              </a:path>
              <a:path stroke="0" w="16633" h="21600">
                <a:moveTo>
                  <a:pt x="-1" y="0"/>
                </a:moveTo>
                <a:cubicBezTo>
                  <a:pt x="6431" y="0"/>
                  <a:pt x="12529" y="2866"/>
                  <a:pt x="16632" y="781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7fbf"/>
              </a:gs>
              <a:gs pos="100000">
                <a:srgbClr val="763b58"/>
              </a:gs>
            </a:gsLst>
            <a:path path="rect">
              <a:fillToRect l="100000" t="0" r="0" b="10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rc 6"/>
          <p:cNvSpPr/>
          <p:nvPr/>
        </p:nvSpPr>
        <p:spPr>
          <a:xfrm>
            <a:off x="3873600" y="2001960"/>
            <a:ext cx="2444400" cy="315252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3152520"/>
              <a:gd name="textAreaBottom" fmla="*/ 3152880 h 3152520"/>
            </a:gdLst>
            <a:ahLst/>
            <a:rect l="textAreaLeft" t="textAreaTop" r="textAreaRight" b="textAreaBottom"/>
            <a:pathLst>
              <a:path fill="none" w="16756" h="21600">
                <a:moveTo>
                  <a:pt x="-1" y="0"/>
                </a:moveTo>
                <a:cubicBezTo>
                  <a:pt x="6500" y="0"/>
                  <a:pt x="12654" y="2927"/>
                  <a:pt x="16756" y="7969"/>
                </a:cubicBezTo>
              </a:path>
              <a:path stroke="0" w="16756" h="21600">
                <a:moveTo>
                  <a:pt x="-1" y="0"/>
                </a:moveTo>
                <a:cubicBezTo>
                  <a:pt x="6500" y="0"/>
                  <a:pt x="12654" y="2927"/>
                  <a:pt x="16756" y="796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1389"/>
              </a:gs>
              <a:gs pos="100000">
                <a:srgbClr val="76093f"/>
              </a:gs>
            </a:gsLst>
            <a:path path="rect">
              <a:fillToRect l="100000" t="0" r="0" b="100000"/>
            </a:path>
          </a:gradFill>
          <a:ln w="1270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rc 7"/>
          <p:cNvSpPr/>
          <p:nvPr/>
        </p:nvSpPr>
        <p:spPr>
          <a:xfrm>
            <a:off x="3873600" y="3274920"/>
            <a:ext cx="1461600" cy="1895040"/>
          </a:xfrm>
          <a:custGeom>
            <a:avLst/>
            <a:gdLst>
              <a:gd name="textAreaLeft" fmla="*/ 0 w 1461600"/>
              <a:gd name="textAreaRight" fmla="*/ 1461960 w 1461600"/>
              <a:gd name="textAreaTop" fmla="*/ 0 h 1895040"/>
              <a:gd name="textAreaBottom" fmla="*/ 1895400 h 1895040"/>
            </a:gdLst>
            <a:ahLst/>
            <a:rect l="textAreaLeft" t="textAreaTop" r="textAreaRight" b="textAreaBottom"/>
            <a:pathLst>
              <a:path fill="none" w="16661" h="21600">
                <a:moveTo>
                  <a:pt x="-1" y="0"/>
                </a:moveTo>
                <a:cubicBezTo>
                  <a:pt x="6447" y="0"/>
                  <a:pt x="12557" y="2880"/>
                  <a:pt x="16660" y="7853"/>
                </a:cubicBezTo>
              </a:path>
              <a:path stroke="0" w="16661" h="21600">
                <a:moveTo>
                  <a:pt x="-1" y="0"/>
                </a:moveTo>
                <a:cubicBezTo>
                  <a:pt x="6447" y="0"/>
                  <a:pt x="12557" y="2880"/>
                  <a:pt x="16660" y="785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100000" t="0" r="0" b="100000"/>
            </a:path>
          </a:gradFill>
          <a:ln w="1270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1165320" y="3492360"/>
            <a:ext cx="2558520" cy="9536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650022"/>
              </a:gs>
            </a:gsLst>
            <a:path path="rect">
              <a:fillToRect l="100000" t="0" r="0" b="100000"/>
            </a:path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90033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181080"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Web 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Web SI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Web Appl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- Web Solu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1133640" y="2239920"/>
            <a:ext cx="2593440" cy="1104480"/>
          </a:xfrm>
          <a:prstGeom prst="rect">
            <a:avLst/>
          </a:prstGeom>
          <a:gradFill rotWithShape="0">
            <a:gsLst>
              <a:gs pos="0">
                <a:srgbClr val="ff1389"/>
              </a:gs>
              <a:gs pos="100000">
                <a:srgbClr val="a90d5b"/>
              </a:gs>
            </a:gsLst>
            <a:path path="rect">
              <a:fillToRect l="100000" t="0" r="0" b="100000"/>
            </a:path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ff138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181080"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856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e-Biz / M-b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  <a:tabLst>
                <a:tab algn="l" pos="8568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- e-Biz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  <a:tabLst>
                <a:tab algn="l" pos="8568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- e- Biz Integ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  <a:tabLst>
                <a:tab algn="l" pos="8568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e-Biz Solu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1130400" y="701640"/>
            <a:ext cx="2593440" cy="1388880"/>
          </a:xfrm>
          <a:prstGeom prst="rect">
            <a:avLst/>
          </a:prstGeom>
          <a:gradFill rotWithShape="0">
            <a:gsLst>
              <a:gs pos="0">
                <a:srgbClr val="ff7fbf"/>
              </a:gs>
              <a:gs pos="100000">
                <a:srgbClr val="a9547f"/>
              </a:gs>
            </a:gsLst>
            <a:path path="rect">
              <a:fillToRect l="100000" t="0" r="0" b="100000"/>
            </a:path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ff7fb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181080"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e-Biz Total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- e-Total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e- Biz Total Integ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- e- Biz Total Solu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"/>
          <p:cNvSpPr/>
          <p:nvPr/>
        </p:nvSpPr>
        <p:spPr>
          <a:xfrm flipV="1">
            <a:off x="777600" y="380880"/>
            <a:ext cx="360" cy="4967280"/>
          </a:xfrm>
          <a:prstGeom prst="line">
            <a:avLst/>
          </a:prstGeom>
          <a:ln w="3810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12"/>
          <p:cNvSpPr/>
          <p:nvPr/>
        </p:nvSpPr>
        <p:spPr>
          <a:xfrm rot="16200000">
            <a:off x="137160" y="2712960"/>
            <a:ext cx="1229040" cy="2898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가는으뜸체"/>
              </a:rPr>
              <a:t>Business Valu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"/>
          <p:cNvSpPr/>
          <p:nvPr/>
        </p:nvSpPr>
        <p:spPr>
          <a:xfrm flipV="1">
            <a:off x="3882960" y="3585960"/>
            <a:ext cx="4265640" cy="1571760"/>
          </a:xfrm>
          <a:prstGeom prst="line">
            <a:avLst/>
          </a:prstGeom>
          <a:ln w="12700">
            <a:solidFill>
              <a:srgbClr val="ffffff">
                <a:alpha val="50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4890240" y="4840200"/>
            <a:ext cx="569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6020640" y="4703760"/>
            <a:ext cx="569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5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7455600" y="4425840"/>
            <a:ext cx="569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4274280" y="2691000"/>
            <a:ext cx="1285200" cy="302760"/>
          </a:xfrm>
          <a:prstGeom prst="rect">
            <a:avLst/>
          </a:prstGeom>
          <a:noFill/>
          <a:ln w="9525">
            <a:noFill/>
          </a:ln>
          <a:effectLst>
            <a:outerShdw algn="ctr" dir="5400000" dist="2556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성장 가시화 단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4490280" y="1309680"/>
            <a:ext cx="1285200" cy="302760"/>
          </a:xfrm>
          <a:prstGeom prst="rect">
            <a:avLst/>
          </a:prstGeom>
          <a:noFill/>
          <a:ln w="9525">
            <a:noFill/>
          </a:ln>
          <a:effectLst>
            <a:outerShdw algn="ctr" dir="5400000" dist="2556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안정적 성장 단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9"/>
          <p:cNvSpPr/>
          <p:nvPr/>
        </p:nvSpPr>
        <p:spPr>
          <a:xfrm>
            <a:off x="3871800" y="2257560"/>
            <a:ext cx="3514320" cy="2904840"/>
          </a:xfrm>
          <a:custGeom>
            <a:avLst/>
            <a:gdLst>
              <a:gd name="textAreaLeft" fmla="*/ 0 w 3514320"/>
              <a:gd name="textAreaRight" fmla="*/ 3514680 w 3514320"/>
              <a:gd name="textAreaTop" fmla="*/ 0 h 2904840"/>
              <a:gd name="textAreaBottom" fmla="*/ 2905200 h 2904840"/>
            </a:gdLst>
            <a:ahLst/>
            <a:rect l="textAreaLeft" t="textAreaTop" r="textAreaRight" b="textAreaBottom"/>
            <a:pathLst>
              <a:path w="2214" h="1830">
                <a:moveTo>
                  <a:pt x="0" y="1452"/>
                </a:moveTo>
                <a:lnTo>
                  <a:pt x="1656" y="174"/>
                </a:lnTo>
                <a:lnTo>
                  <a:pt x="1410" y="24"/>
                </a:lnTo>
                <a:lnTo>
                  <a:pt x="2214" y="0"/>
                </a:lnTo>
                <a:lnTo>
                  <a:pt x="2004" y="750"/>
                </a:lnTo>
                <a:lnTo>
                  <a:pt x="1920" y="498"/>
                </a:lnTo>
                <a:lnTo>
                  <a:pt x="312" y="1830"/>
                </a:lnTo>
                <a:lnTo>
                  <a:pt x="18" y="1818"/>
                </a:lnTo>
                <a:lnTo>
                  <a:pt x="0" y="145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20"/>
          <p:cNvSpPr/>
          <p:nvPr/>
        </p:nvSpPr>
        <p:spPr>
          <a:xfrm>
            <a:off x="4833000" y="4356000"/>
            <a:ext cx="569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2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1"/>
          <p:cNvSpPr/>
          <p:nvPr/>
        </p:nvSpPr>
        <p:spPr>
          <a:xfrm>
            <a:off x="5815800" y="3849840"/>
            <a:ext cx="569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7108200" y="3225960"/>
            <a:ext cx="569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7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3"/>
          <p:cNvSpPr/>
          <p:nvPr/>
        </p:nvSpPr>
        <p:spPr>
          <a:xfrm>
            <a:off x="758520" y="5348160"/>
            <a:ext cx="802800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4766760" y="5210280"/>
            <a:ext cx="1621080" cy="2898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가는으뜸체"/>
              </a:rPr>
              <a:t>Degree of Inno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5"/>
          <p:cNvSpPr/>
          <p:nvPr/>
        </p:nvSpPr>
        <p:spPr>
          <a:xfrm flipV="1">
            <a:off x="3873240" y="2247840"/>
            <a:ext cx="3522600" cy="2906640"/>
          </a:xfrm>
          <a:prstGeom prst="line">
            <a:avLst/>
          </a:prstGeom>
          <a:ln w="12700">
            <a:solidFill>
              <a:srgbClr val="ffffff">
                <a:alpha val="50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26"/>
          <p:cNvSpPr/>
          <p:nvPr/>
        </p:nvSpPr>
        <p:spPr>
          <a:xfrm>
            <a:off x="4064400" y="4013280"/>
            <a:ext cx="1132920" cy="302760"/>
          </a:xfrm>
          <a:prstGeom prst="rect">
            <a:avLst/>
          </a:prstGeom>
          <a:noFill/>
          <a:ln w="9525">
            <a:noFill/>
          </a:ln>
          <a:effectLst>
            <a:outerShdw algn="ctr" dir="5400000" dist="2556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성장기반 조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8"/>
          <p:cNvSpPr/>
          <p:nvPr/>
        </p:nvSpPr>
        <p:spPr>
          <a:xfrm>
            <a:off x="1168560" y="4551480"/>
            <a:ext cx="2558520" cy="7297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650022"/>
              </a:gs>
            </a:gsLst>
            <a:path path="rect">
              <a:fillToRect l="100000" t="0" r="0" b="100000"/>
            </a:path>
          </a:gradFill>
          <a:ln w="952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990033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181080"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Gulim"/>
              </a:rPr>
              <a:t>Web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Web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00000"/>
              </a:lnSpc>
            </a:pP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Gulim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Calibri"/>
                <a:ea typeface="바탕"/>
              </a:rPr>
              <a:t>Design/Compon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916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7:43:26Z</dcterms:created>
  <dc:creator>lidan</dc:creator>
  <dc:description/>
  <dc:language>en-US</dc:language>
  <cp:lastModifiedBy>yu wang</cp:lastModifiedBy>
  <dcterms:modified xsi:type="dcterms:W3CDTF">2015-08-08T10:04:22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