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a743a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宋体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宋体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宋体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51225334"/>
        <c:axId val="90419479"/>
      </c:barChart>
      <c:catAx>
        <c:axId val="5122533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90419479"/>
        <c:crosses val="autoZero"/>
        <c:auto val="1"/>
        <c:lblAlgn val="ctr"/>
        <c:lblOffset val="100"/>
        <c:noMultiLvlLbl val="0"/>
      </c:catAx>
      <c:valAx>
        <c:axId val="90419479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51225334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  <a:ea typeface="宋体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  <a:r>
              <a:rPr b="1" sz="2160" spc="-1" strike="noStrike">
                <a:solidFill>
                  <a:srgbClr val="000000"/>
                </a:solidFill>
                <a:latin typeface="Calibri"/>
                <a:ea typeface="宋体"/>
              </a:rPr>
              <a:t>Chart Title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0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gradFill>
              <a:gsLst>
                <a:gs pos="0">
                  <a:srgbClr val="86258e"/>
                </a:gs>
                <a:gs pos="100000">
                  <a:srgbClr val="ae30b9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gradFill>
              <a:gsLst>
                <a:gs pos="20000">
                  <a:srgbClr val="565656"/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gradFill>
              <a:gsLst>
                <a:gs pos="0">
                  <a:srgbClr val="be8f00"/>
                </a:gs>
                <a:gs pos="100000">
                  <a:srgbClr val="f7ba00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00"/>
        <c:shape val="box"/>
        <c:axId val="37935080"/>
        <c:axId val="96686645"/>
        <c:axId val="37567075"/>
      </c:bar3DChart>
      <c:catAx>
        <c:axId val="37935080"/>
        <c:scaling>
          <c:orientation val="minMax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96686645"/>
        <c:crosses val="autoZero"/>
        <c:auto val="1"/>
        <c:lblAlgn val="ctr"/>
        <c:lblOffset val="100"/>
        <c:noMultiLvlLbl val="0"/>
      </c:catAx>
      <c:valAx>
        <c:axId val="9668664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37935080"/>
        <c:crosses val="autoZero"/>
        <c:crossBetween val="midCat"/>
      </c:valAx>
      <c:serAx>
        <c:axId val="37567075"/>
        <c:scaling>
          <c:orientation val="minMax"/>
        </c:scaling>
        <c:delete val="0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宋体"/>
              </a:defRPr>
            </a:pPr>
          </a:p>
        </c:txPr>
        <c:crossAx val="96686645"/>
        <c:crosses val="autoZero"/>
      </c:ser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  <a:ea typeface="宋体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E06-68E6-46BD-95A2-3ABA895D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E0C-A15E-4BC0-8508-9DEA8AF7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9A9-68A7-408B-A821-2F46E4E8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4B6-C388-4AF3-B55F-76F3481C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A9A6-6F37-4C11-BAF1-58C009E0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8EE3-041A-4244-A9D6-B93F0BFC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5A45-873B-440E-8152-C0308A57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76EB-1D97-491E-8778-4D7F7A89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222F-F0C2-4ACC-9539-AF7F007F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77360" y="120240"/>
            <a:ext cx="6543360" cy="22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838-562D-4266-814A-2C623A2B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84F9-1AF3-4C41-B83D-9C544D6A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DC9-C0E6-449F-8210-F1B4A1B0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2FCC-75D8-40CA-B0BB-E97AF73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8076-42D9-4FE7-8A5B-A66F6414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6788-0635-43F7-A6BC-C5084E67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39E4-BE89-436A-8F69-45BCACB9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1E5E-4BC3-4338-99A2-7BF9D02C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FC51-8827-48E2-82F7-9A2C7C13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4DC0-F5FD-4B94-805B-50BC8C91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9D38-6CC1-428E-B9E0-20275B90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F1F1-EBAD-4C68-91DF-AEDEF000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8026-0C8F-490C-ADD8-54D265F2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838-3CDA-4ADA-841B-4748055F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77360" y="120240"/>
            <a:ext cx="6543360" cy="22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4816-7DF1-4F77-AD52-E7734868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3694-7C5C-493D-ABC9-8257A02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E5D4-92B3-44ED-BB05-164C6D4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0D6E-9696-4FE0-97F9-2967C325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12DA-A2E3-4E00-8D42-67B737FA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80C9-63DA-4DF2-936D-615D3180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9288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110400"/>
            <a:ext cx="26496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E66B-75AB-407C-A12D-D7E3978E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F9D-0DCD-4A9A-B234-94DC242B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D80-F01D-4179-A051-100255EF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77360" y="120240"/>
            <a:ext cx="6543360" cy="22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1B3-40D4-46F4-908B-DF0C0E87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1E3-2540-4184-B4F6-E20CA5C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41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1104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546-25D6-4742-98D0-8E0F5E58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28800"/>
            <a:ext cx="401580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110400"/>
            <a:ext cx="8229240" cy="199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565-E233-4CB7-8382-9117126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Lois Fu\Documents\PPT模板\未标题-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2"/>
          <p:cNvGrpSpPr/>
          <p:nvPr/>
        </p:nvGrpSpPr>
        <p:grpSpPr>
          <a:xfrm>
            <a:off x="0" y="0"/>
            <a:ext cx="9143640" cy="5714640"/>
            <a:chOff x="0" y="0"/>
            <a:chExt cx="9143640" cy="5714640"/>
          </a:xfrm>
        </p:grpSpPr>
        <p:sp>
          <p:nvSpPr>
            <p:cNvPr id="2" name="矩形 8"/>
            <p:cNvSpPr/>
            <p:nvPr/>
          </p:nvSpPr>
          <p:spPr>
            <a:xfrm>
              <a:off x="0" y="0"/>
              <a:ext cx="9143640" cy="571464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  <p:sp>
          <p:nvSpPr>
            <p:cNvPr id="3" name="矩形 11"/>
            <p:cNvSpPr/>
            <p:nvPr/>
          </p:nvSpPr>
          <p:spPr>
            <a:xfrm>
              <a:off x="5140080" y="192240"/>
              <a:ext cx="4003560" cy="345708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" name="矩形 10"/>
          <p:cNvSpPr/>
          <p:nvPr/>
        </p:nvSpPr>
        <p:spPr>
          <a:xfrm>
            <a:off x="0" y="696600"/>
            <a:ext cx="9143640" cy="4897800"/>
          </a:xfrm>
          <a:prstGeom prst="rect">
            <a:avLst/>
          </a:prstGeom>
          <a:solidFill>
            <a:srgbClr val="ffffff">
              <a:alpha val="9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" name="Picture 3" descr="C:\Users\Lois Fu\Documents\PPT模板\未标题-2.jpg"/>
          <p:cNvPicPr/>
          <p:nvPr/>
        </p:nvPicPr>
        <p:blipFill>
          <a:blip r:embed="rId3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416960"/>
            <a:ext cx="9143640" cy="20887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A21104-882F-40CD-9CAC-25BC502A61D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Lois Fu\Documents\PPT模板\未标题-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12"/>
          <p:cNvGrpSpPr/>
          <p:nvPr/>
        </p:nvGrpSpPr>
        <p:grpSpPr>
          <a:xfrm>
            <a:off x="0" y="0"/>
            <a:ext cx="9143640" cy="5714640"/>
            <a:chOff x="0" y="0"/>
            <a:chExt cx="9143640" cy="5714640"/>
          </a:xfrm>
        </p:grpSpPr>
        <p:sp>
          <p:nvSpPr>
            <p:cNvPr id="49" name="矩形 8"/>
            <p:cNvSpPr/>
            <p:nvPr/>
          </p:nvSpPr>
          <p:spPr>
            <a:xfrm>
              <a:off x="0" y="0"/>
              <a:ext cx="9143640" cy="571464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5140080" y="192240"/>
              <a:ext cx="4003560" cy="345708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1" name="矩形 10"/>
          <p:cNvSpPr/>
          <p:nvPr/>
        </p:nvSpPr>
        <p:spPr>
          <a:xfrm>
            <a:off x="0" y="696600"/>
            <a:ext cx="9143640" cy="4897800"/>
          </a:xfrm>
          <a:prstGeom prst="rect">
            <a:avLst/>
          </a:prstGeom>
          <a:solidFill>
            <a:srgbClr val="ffffff">
              <a:alpha val="9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928800"/>
            <a:ext cx="8229240" cy="41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5490"/>
              </a:buClr>
              <a:buFont typeface="Arial"/>
              <a:buChar char="•"/>
            </a:pPr>
            <a:r>
              <a:rPr b="1" lang="zh-CN" sz="2000" spc="-1" strike="noStrike">
                <a:solidFill>
                  <a:schemeClr val="accent6">
                    <a:lumMod val="75000"/>
                  </a:schemeClr>
                </a:solidFill>
                <a:latin typeface="Calibri"/>
                <a:ea typeface="宋体"/>
              </a:rPr>
              <a:t>单击此处编辑母版文本样式</a:t>
            </a: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5490"/>
              </a:buClr>
              <a:buFont typeface="Arial"/>
              <a:buChar char="–"/>
            </a:pPr>
            <a:r>
              <a:rPr b="1" lang="zh-CN" sz="1800" spc="-1" strike="noStrike">
                <a:solidFill>
                  <a:schemeClr val="accent6">
                    <a:lumMod val="75000"/>
                  </a:schemeClr>
                </a:solidFill>
                <a:latin typeface="Calibri"/>
                <a:ea typeface="宋体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D81E30-E7AD-4939-B3EA-D0E508ECAF0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Users\Lois Fu\Documents\PPT模板\未标题-2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12"/>
          <p:cNvGrpSpPr/>
          <p:nvPr/>
        </p:nvGrpSpPr>
        <p:grpSpPr>
          <a:xfrm>
            <a:off x="0" y="0"/>
            <a:ext cx="9143640" cy="5714640"/>
            <a:chOff x="0" y="0"/>
            <a:chExt cx="9143640" cy="5714640"/>
          </a:xfrm>
        </p:grpSpPr>
        <p:sp>
          <p:nvSpPr>
            <p:cNvPr id="95" name="矩形 8"/>
            <p:cNvSpPr/>
            <p:nvPr/>
          </p:nvSpPr>
          <p:spPr>
            <a:xfrm>
              <a:off x="0" y="0"/>
              <a:ext cx="9143640" cy="571464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  <p:sp>
          <p:nvSpPr>
            <p:cNvPr id="96" name="矩形 11"/>
            <p:cNvSpPr/>
            <p:nvPr/>
          </p:nvSpPr>
          <p:spPr>
            <a:xfrm>
              <a:off x="5140080" y="192240"/>
              <a:ext cx="4003560" cy="3457080"/>
            </a:xfrm>
            <a:prstGeom prst="rect">
              <a:avLst/>
            </a:prstGeom>
            <a:solidFill>
              <a:srgbClr val="000000">
                <a:alpha val="35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97" name="矩形 10"/>
          <p:cNvSpPr/>
          <p:nvPr/>
        </p:nvSpPr>
        <p:spPr>
          <a:xfrm>
            <a:off x="0" y="696600"/>
            <a:ext cx="9143640" cy="4897800"/>
          </a:xfrm>
          <a:prstGeom prst="rect">
            <a:avLst/>
          </a:prstGeom>
          <a:solidFill>
            <a:srgbClr val="ffffff">
              <a:alpha val="9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A90642-1BCE-49A0-B25E-1AF068BC67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lick to edit the outline text format</a:t>
            </a:r>
            <a:endParaRPr b="1" lang="en-US" sz="20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416960"/>
            <a:ext cx="9143640" cy="20887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紫色背景璀璨星空</a:t>
            </a:r>
            <a:r>
              <a:rPr b="1" lang="en-US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PPT</a:t>
            </a:r>
            <a:r>
              <a:rPr b="1" lang="zh-CN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Lois Fu\Documents\PPT模板\人马图标.png"/>
          <p:cNvPicPr/>
          <p:nvPr/>
        </p:nvPicPr>
        <p:blipFill>
          <a:blip r:embed="rId2"/>
          <a:stretch/>
        </p:blipFill>
        <p:spPr>
          <a:xfrm rot="20658000">
            <a:off x="5040" y="1599840"/>
            <a:ext cx="1647720" cy="1611000"/>
          </a:xfrm>
          <a:prstGeom prst="rect">
            <a:avLst/>
          </a:prstGeom>
          <a:ln w="0">
            <a:noFill/>
          </a:ln>
        </p:spPr>
      </p:pic>
      <p:sp>
        <p:nvSpPr>
          <p:cNvPr id="141" name="矩形 12"/>
          <p:cNvSpPr/>
          <p:nvPr/>
        </p:nvSpPr>
        <p:spPr>
          <a:xfrm>
            <a:off x="209160" y="53532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graphicFrame>
        <p:nvGraphicFramePr>
          <p:cNvPr id="143" name="内容占位符 4"/>
          <p:cNvGraphicFramePr/>
          <p:nvPr/>
        </p:nvGraphicFramePr>
        <p:xfrm>
          <a:off x="1114560" y="1488960"/>
          <a:ext cx="7283880" cy="332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479BB90-DFD2-4666-A5DC-B998972FA17E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96BCEDC-9959-4B23-8DFA-DC155E4C68A8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组合 5"/>
          <p:cNvGrpSpPr/>
          <p:nvPr/>
        </p:nvGrpSpPr>
        <p:grpSpPr>
          <a:xfrm>
            <a:off x="1086480" y="1673280"/>
            <a:ext cx="1235880" cy="2197080"/>
            <a:chOff x="1086480" y="1673280"/>
            <a:chExt cx="1235880" cy="2197080"/>
          </a:xfrm>
        </p:grpSpPr>
        <p:sp>
          <p:nvSpPr>
            <p:cNvPr id="148" name="圆角矩形标注 7"/>
            <p:cNvSpPr/>
            <p:nvPr/>
          </p:nvSpPr>
          <p:spPr>
            <a:xfrm>
              <a:off x="1086480" y="1673280"/>
              <a:ext cx="1235880" cy="21970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gradFill rotWithShape="0">
              <a:gsLst>
                <a:gs pos="0">
                  <a:srgbClr val="4d1951"/>
                </a:gs>
                <a:gs pos="100000">
                  <a:srgbClr val="6d2573"/>
                </a:gs>
              </a:gsLst>
              <a:lin ang="189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9" name="圆角矩形 10"/>
            <p:cNvSpPr/>
            <p:nvPr/>
          </p:nvSpPr>
          <p:spPr>
            <a:xfrm>
              <a:off x="1159560" y="1810800"/>
              <a:ext cx="207360" cy="192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50" name="组合 11"/>
          <p:cNvGrpSpPr/>
          <p:nvPr/>
        </p:nvGrpSpPr>
        <p:grpSpPr>
          <a:xfrm>
            <a:off x="3009240" y="1673280"/>
            <a:ext cx="1235880" cy="2197080"/>
            <a:chOff x="3009240" y="1673280"/>
            <a:chExt cx="1235880" cy="2197080"/>
          </a:xfrm>
        </p:grpSpPr>
        <p:sp>
          <p:nvSpPr>
            <p:cNvPr id="151" name="圆角矩形标注 13"/>
            <p:cNvSpPr/>
            <p:nvPr/>
          </p:nvSpPr>
          <p:spPr>
            <a:xfrm>
              <a:off x="3009240" y="1673280"/>
              <a:ext cx="1235880" cy="21970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gradFill rotWithShape="0">
              <a:gsLst>
                <a:gs pos="0">
                  <a:srgbClr val="4b4b4b"/>
                </a:gs>
                <a:gs pos="100000">
                  <a:srgbClr val="6b6b6b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2" name="圆角矩形 16"/>
            <p:cNvSpPr/>
            <p:nvPr/>
          </p:nvSpPr>
          <p:spPr>
            <a:xfrm>
              <a:off x="3082320" y="1810800"/>
              <a:ext cx="207360" cy="192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53" name="组合 17"/>
          <p:cNvGrpSpPr/>
          <p:nvPr/>
        </p:nvGrpSpPr>
        <p:grpSpPr>
          <a:xfrm>
            <a:off x="4932000" y="1673280"/>
            <a:ext cx="1235880" cy="2197080"/>
            <a:chOff x="4932000" y="1673280"/>
            <a:chExt cx="1235880" cy="2197080"/>
          </a:xfrm>
        </p:grpSpPr>
        <p:sp>
          <p:nvSpPr>
            <p:cNvPr id="154" name="圆角矩形标注 19"/>
            <p:cNvSpPr/>
            <p:nvPr/>
          </p:nvSpPr>
          <p:spPr>
            <a:xfrm>
              <a:off x="4932000" y="1673280"/>
              <a:ext cx="1235880" cy="21970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gradFill rotWithShape="0">
              <a:gsLst>
                <a:gs pos="0">
                  <a:srgbClr val="8f8f8f"/>
                </a:gs>
                <a:gs pos="100000">
                  <a:srgbClr val="cbcbcb"/>
                </a:gs>
              </a:gsLst>
              <a:lin ang="189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圆角矩形 22"/>
            <p:cNvSpPr/>
            <p:nvPr/>
          </p:nvSpPr>
          <p:spPr>
            <a:xfrm>
              <a:off x="5005080" y="1810800"/>
              <a:ext cx="207360" cy="192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56" name="组合 23"/>
          <p:cNvGrpSpPr/>
          <p:nvPr/>
        </p:nvGrpSpPr>
        <p:grpSpPr>
          <a:xfrm>
            <a:off x="6854760" y="1673280"/>
            <a:ext cx="1235880" cy="2197080"/>
            <a:chOff x="6854760" y="1673280"/>
            <a:chExt cx="1235880" cy="2197080"/>
          </a:xfrm>
        </p:grpSpPr>
        <p:sp>
          <p:nvSpPr>
            <p:cNvPr id="157" name="圆角矩形标注 25"/>
            <p:cNvSpPr/>
            <p:nvPr/>
          </p:nvSpPr>
          <p:spPr>
            <a:xfrm>
              <a:off x="6854760" y="1673280"/>
              <a:ext cx="1235880" cy="21970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189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8" name="圆角矩形 28"/>
            <p:cNvSpPr/>
            <p:nvPr/>
          </p:nvSpPr>
          <p:spPr>
            <a:xfrm>
              <a:off x="6927840" y="1810800"/>
              <a:ext cx="207360" cy="192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9" name="椭圆 10"/>
          <p:cNvSpPr/>
          <p:nvPr/>
        </p:nvSpPr>
        <p:spPr>
          <a:xfrm>
            <a:off x="229320" y="4060800"/>
            <a:ext cx="2443320" cy="873720"/>
          </a:xfrm>
          <a:prstGeom prst="ellipse">
            <a:avLst/>
          </a:prstGeom>
          <a:gradFill rotWithShape="0">
            <a:gsLst>
              <a:gs pos="0">
                <a:srgbClr val="808080">
                  <a:alpha val="24313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0" name="椭圆 10"/>
          <p:cNvSpPr/>
          <p:nvPr/>
        </p:nvSpPr>
        <p:spPr>
          <a:xfrm>
            <a:off x="2157840" y="4060800"/>
            <a:ext cx="2443320" cy="873720"/>
          </a:xfrm>
          <a:prstGeom prst="ellipse">
            <a:avLst/>
          </a:prstGeom>
          <a:gradFill rotWithShape="0">
            <a:gsLst>
              <a:gs pos="0">
                <a:srgbClr val="808080">
                  <a:alpha val="24313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4086720" y="4060800"/>
            <a:ext cx="2443320" cy="873720"/>
          </a:xfrm>
          <a:prstGeom prst="ellipse">
            <a:avLst/>
          </a:prstGeom>
          <a:gradFill rotWithShape="0">
            <a:gsLst>
              <a:gs pos="0">
                <a:srgbClr val="808080">
                  <a:alpha val="24313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椭圆 10"/>
          <p:cNvSpPr/>
          <p:nvPr/>
        </p:nvSpPr>
        <p:spPr>
          <a:xfrm>
            <a:off x="6015600" y="4060800"/>
            <a:ext cx="2443320" cy="873720"/>
          </a:xfrm>
          <a:prstGeom prst="ellipse">
            <a:avLst/>
          </a:prstGeom>
          <a:gradFill rotWithShape="0">
            <a:gsLst>
              <a:gs pos="0">
                <a:srgbClr val="808080">
                  <a:alpha val="24313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3167280" y="267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2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F0DC186-9AA9-4B7B-9CD2-3B14AA4C8398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矩形 33"/>
          <p:cNvSpPr/>
          <p:nvPr/>
        </p:nvSpPr>
        <p:spPr>
          <a:xfrm>
            <a:off x="898200" y="2713320"/>
            <a:ext cx="1671840" cy="207324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4911480" y="2713320"/>
            <a:ext cx="1671840" cy="207324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2771280" y="2512800"/>
            <a:ext cx="1939320" cy="24048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28575">
            <a:solidFill>
              <a:srgbClr val="a743a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69676d"/>
              </a:solidFill>
              <a:latin typeface="Arial"/>
              <a:ea typeface="宋体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6717600" y="2713320"/>
            <a:ext cx="1671840" cy="2073240"/>
          </a:xfrm>
          <a:prstGeom prst="rect">
            <a:avLst/>
          </a:prstGeom>
          <a:solidFill>
            <a:schemeClr val="bg1"/>
          </a:solidFill>
          <a:ln w="28575"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2570400" y="781200"/>
            <a:ext cx="2332080" cy="1865520"/>
            <a:chOff x="2570400" y="781200"/>
            <a:chExt cx="2332080" cy="1865520"/>
          </a:xfrm>
        </p:grpSpPr>
        <p:sp>
          <p:nvSpPr>
            <p:cNvPr id="171" name="圆角矩形标注 4"/>
            <p:cNvSpPr/>
            <p:nvPr/>
          </p:nvSpPr>
          <p:spPr>
            <a:xfrm>
              <a:off x="2570400" y="840600"/>
              <a:ext cx="2332080" cy="1806120"/>
            </a:xfrm>
            <a:prstGeom prst="wedgeEllipse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7c4f7f"/>
                </a:gs>
                <a:gs pos="100000">
                  <a:srgbClr val="b071b5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2" name="圆角矩形 5"/>
            <p:cNvSpPr/>
            <p:nvPr/>
          </p:nvSpPr>
          <p:spPr>
            <a:xfrm rot="4557000">
              <a:off x="3095640" y="611280"/>
              <a:ext cx="663480" cy="1298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455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3" name="组合 15"/>
          <p:cNvGrpSpPr/>
          <p:nvPr/>
        </p:nvGrpSpPr>
        <p:grpSpPr>
          <a:xfrm>
            <a:off x="923400" y="1407240"/>
            <a:ext cx="1479240" cy="1218600"/>
            <a:chOff x="923400" y="1407240"/>
            <a:chExt cx="1479240" cy="1218600"/>
          </a:xfrm>
        </p:grpSpPr>
        <p:sp>
          <p:nvSpPr>
            <p:cNvPr id="174" name="圆角矩形标注 4"/>
            <p:cNvSpPr/>
            <p:nvPr/>
          </p:nvSpPr>
          <p:spPr>
            <a:xfrm>
              <a:off x="923400" y="1442520"/>
              <a:ext cx="1479240" cy="1183320"/>
            </a:xfrm>
            <a:prstGeom prst="wedgeEllipse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d6a100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圆角矩形 5"/>
            <p:cNvSpPr/>
            <p:nvPr/>
          </p:nvSpPr>
          <p:spPr>
            <a:xfrm rot="4557000">
              <a:off x="1249920" y="1306080"/>
              <a:ext cx="434520" cy="823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455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6" name="组合 18"/>
          <p:cNvGrpSpPr/>
          <p:nvPr/>
        </p:nvGrpSpPr>
        <p:grpSpPr>
          <a:xfrm>
            <a:off x="5070240" y="1407240"/>
            <a:ext cx="1479240" cy="1218600"/>
            <a:chOff x="5070240" y="1407240"/>
            <a:chExt cx="1479240" cy="1218600"/>
          </a:xfrm>
        </p:grpSpPr>
        <p:sp>
          <p:nvSpPr>
            <p:cNvPr id="177" name="圆角矩形标注 4"/>
            <p:cNvSpPr/>
            <p:nvPr/>
          </p:nvSpPr>
          <p:spPr>
            <a:xfrm>
              <a:off x="5070240" y="1442520"/>
              <a:ext cx="1479240" cy="1183320"/>
            </a:xfrm>
            <a:prstGeom prst="wedgeEllipse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717171"/>
                </a:gs>
                <a:gs pos="100000">
                  <a:srgbClr val="a0a0a0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圆角矩形 5"/>
            <p:cNvSpPr/>
            <p:nvPr/>
          </p:nvSpPr>
          <p:spPr>
            <a:xfrm rot="4557000">
              <a:off x="5396760" y="1306080"/>
              <a:ext cx="434520" cy="823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455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9" name="组合 21"/>
          <p:cNvGrpSpPr/>
          <p:nvPr/>
        </p:nvGrpSpPr>
        <p:grpSpPr>
          <a:xfrm>
            <a:off x="6717240" y="1407240"/>
            <a:ext cx="1479240" cy="1218600"/>
            <a:chOff x="6717240" y="1407240"/>
            <a:chExt cx="1479240" cy="1218600"/>
          </a:xfrm>
        </p:grpSpPr>
        <p:sp>
          <p:nvSpPr>
            <p:cNvPr id="180" name="圆角矩形标注 4"/>
            <p:cNvSpPr/>
            <p:nvPr/>
          </p:nvSpPr>
          <p:spPr>
            <a:xfrm>
              <a:off x="6717240" y="1442520"/>
              <a:ext cx="1479240" cy="1183320"/>
            </a:xfrm>
            <a:prstGeom prst="wedgeEllipseCallout">
              <a:avLst>
                <a:gd name="adj1" fmla="val -20833"/>
                <a:gd name="adj2" fmla="val 62500"/>
              </a:avLst>
            </a:prstGeom>
            <a:gradFill rotWithShape="0"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outerShdw algn="ctr" blurRad="25560" rotWithShape="0" sx="101000" sy="101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圆角矩形 5"/>
            <p:cNvSpPr/>
            <p:nvPr/>
          </p:nvSpPr>
          <p:spPr>
            <a:xfrm rot="4557000">
              <a:off x="7043760" y="1306080"/>
              <a:ext cx="434520" cy="823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1372"/>
                  </a:srgbClr>
                </a:gs>
                <a:gs pos="100000">
                  <a:srgbClr val="ffafbc">
                    <a:alpha val="0"/>
                  </a:srgbClr>
                </a:gs>
              </a:gsLst>
              <a:lin ang="455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2" name="TextBox 29"/>
          <p:cNvSpPr/>
          <p:nvPr/>
        </p:nvSpPr>
        <p:spPr>
          <a:xfrm>
            <a:off x="1370520" y="1900440"/>
            <a:ext cx="67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0"/>
          <p:cNvSpPr/>
          <p:nvPr/>
        </p:nvSpPr>
        <p:spPr>
          <a:xfrm>
            <a:off x="3296160" y="1527840"/>
            <a:ext cx="101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1"/>
          <p:cNvSpPr/>
          <p:nvPr/>
        </p:nvSpPr>
        <p:spPr>
          <a:xfrm>
            <a:off x="5550480" y="1900440"/>
            <a:ext cx="67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7189560" y="1900440"/>
            <a:ext cx="67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7"/>
          <p:cNvSpPr/>
          <p:nvPr/>
        </p:nvSpPr>
        <p:spPr>
          <a:xfrm>
            <a:off x="1032120" y="2847240"/>
            <a:ext cx="1337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8"/>
          <p:cNvSpPr/>
          <p:nvPr/>
        </p:nvSpPr>
        <p:spPr>
          <a:xfrm>
            <a:off x="5045400" y="2847240"/>
            <a:ext cx="1337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9"/>
          <p:cNvSpPr/>
          <p:nvPr/>
        </p:nvSpPr>
        <p:spPr>
          <a:xfrm>
            <a:off x="6851160" y="2822400"/>
            <a:ext cx="1337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62626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填写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0"/>
          <p:cNvSpPr/>
          <p:nvPr/>
        </p:nvSpPr>
        <p:spPr>
          <a:xfrm>
            <a:off x="2971800" y="2847240"/>
            <a:ext cx="13374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7d3283"/>
              </a:buClr>
              <a:buFont typeface="Arial"/>
              <a:buChar char="•"/>
            </a:pPr>
            <a:r>
              <a:rPr b="0" lang="zh-CN" sz="20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7d3283"/>
              </a:buClr>
              <a:buFont typeface="Arial"/>
              <a:buChar char="•"/>
            </a:pPr>
            <a:r>
              <a:rPr b="0" lang="zh-CN" sz="20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7d3283"/>
              </a:buClr>
              <a:buFont typeface="Arial"/>
              <a:buChar char="•"/>
            </a:pPr>
            <a:r>
              <a:rPr b="0" lang="zh-CN" sz="20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填写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8E00164-7183-4614-AFEE-12E153646E0E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图表 4"/>
          <p:cNvGraphicFramePr/>
          <p:nvPr/>
        </p:nvGraphicFramePr>
        <p:xfrm>
          <a:off x="1186560" y="912600"/>
          <a:ext cx="6842880" cy="4033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93" name="矩形 5"/>
          <p:cNvSpPr/>
          <p:nvPr/>
        </p:nvSpPr>
        <p:spPr>
          <a:xfrm>
            <a:off x="3167280" y="267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7360" y="120240"/>
            <a:ext cx="6543360" cy="48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2800" spc="-1" strike="noStrike">
              <a:solidFill>
                <a:srgbClr val="ffff00"/>
              </a:solidFill>
              <a:latin typeface="微软雅黑"/>
              <a:ea typeface="微软雅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EC64776-D934-4D38-8443-235E157DD720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6012720" y="2137320"/>
            <a:ext cx="1642680" cy="1642680"/>
            <a:chOff x="6012720" y="2137320"/>
            <a:chExt cx="1642680" cy="1642680"/>
          </a:xfrm>
        </p:grpSpPr>
        <p:sp>
          <p:nvSpPr>
            <p:cNvPr id="197" name="任意多边形 4"/>
            <p:cNvSpPr/>
            <p:nvPr/>
          </p:nvSpPr>
          <p:spPr>
            <a:xfrm>
              <a:off x="6012720" y="2137320"/>
              <a:ext cx="1642680" cy="1642680"/>
            </a:xfrm>
            <a:custGeom>
              <a:avLst/>
              <a:gdLst>
                <a:gd name="textAreaLeft" fmla="*/ 0 w 1642680"/>
                <a:gd name="textAreaRight" fmla="*/ 1643040 w 1642680"/>
                <a:gd name="textAreaTop" fmla="*/ 0 h 1642680"/>
                <a:gd name="textAreaBottom" fmla="*/ 1643040 h 164268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414377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b6b6b6"/>
                </a:gs>
              </a:gsLst>
              <a:lin ang="16200000"/>
            </a:gradFill>
            <a:ln w="12700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任意多边形 5"/>
            <p:cNvSpPr/>
            <p:nvPr/>
          </p:nvSpPr>
          <p:spPr>
            <a:xfrm>
              <a:off x="6012720" y="2137320"/>
              <a:ext cx="864360" cy="1642680"/>
            </a:xfrm>
            <a:custGeom>
              <a:avLst/>
              <a:gdLst>
                <a:gd name="textAreaLeft" fmla="*/ 0 w 864360"/>
                <a:gd name="textAreaRight" fmla="*/ 864720 w 864360"/>
                <a:gd name="textAreaTop" fmla="*/ 0 h 1642680"/>
                <a:gd name="textAreaBottom" fmla="*/ 1643040 h 164268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514345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31000">
                  <a:srgbClr val="bebebe"/>
                </a:gs>
                <a:gs pos="100000">
                  <a:srgbClr val="808080"/>
                </a:gs>
              </a:gsLst>
              <a:lin ang="16200000"/>
            </a:gradFill>
            <a:ln w="12700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椭圆 6"/>
            <p:cNvSpPr/>
            <p:nvPr/>
          </p:nvSpPr>
          <p:spPr>
            <a:xfrm>
              <a:off x="7050240" y="2867400"/>
              <a:ext cx="172440" cy="182160"/>
            </a:xfrm>
            <a:prstGeom prst="ellipse">
              <a:avLst/>
            </a:prstGeom>
            <a:solidFill>
              <a:schemeClr val="bg1"/>
            </a:solidFill>
            <a:ln w="6350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00" name="组合 7"/>
          <p:cNvGrpSpPr/>
          <p:nvPr/>
        </p:nvGrpSpPr>
        <p:grpSpPr>
          <a:xfrm>
            <a:off x="1226160" y="2208600"/>
            <a:ext cx="1624320" cy="1515960"/>
            <a:chOff x="1226160" y="2208600"/>
            <a:chExt cx="1624320" cy="1515960"/>
          </a:xfrm>
        </p:grpSpPr>
        <p:sp>
          <p:nvSpPr>
            <p:cNvPr id="201" name="任意多边形 8"/>
            <p:cNvSpPr/>
            <p:nvPr/>
          </p:nvSpPr>
          <p:spPr>
            <a:xfrm>
              <a:off x="1226160" y="2208600"/>
              <a:ext cx="1624320" cy="1515960"/>
            </a:xfrm>
            <a:custGeom>
              <a:avLst/>
              <a:gdLst>
                <a:gd name="textAreaLeft" fmla="*/ 0 w 1624320"/>
                <a:gd name="textAreaRight" fmla="*/ 1624680 w 162432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514345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31000">
                  <a:srgbClr val="bebebe"/>
                </a:gs>
                <a:gs pos="100000">
                  <a:srgbClr val="808080"/>
                </a:gs>
              </a:gsLst>
              <a:lin ang="16200000"/>
            </a:gradFill>
            <a:ln w="12700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2" name="任意多边形 9"/>
            <p:cNvSpPr/>
            <p:nvPr/>
          </p:nvSpPr>
          <p:spPr>
            <a:xfrm>
              <a:off x="1226160" y="2208600"/>
              <a:ext cx="902160" cy="151596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714279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31000">
                  <a:srgbClr val="bebebe"/>
                </a:gs>
                <a:gs pos="100000">
                  <a:srgbClr val="808080"/>
                </a:gs>
              </a:gsLst>
              <a:lin ang="16200000"/>
            </a:gradFill>
            <a:ln w="12700">
              <a:solidFill>
                <a:srgbClr val="ffffff">
                  <a:lumMod val="9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cxnSp>
        <p:nvCxnSpPr>
          <p:cNvPr id="203" name="直接连接符 10"/>
          <p:cNvCxnSpPr/>
          <p:nvPr/>
        </p:nvCxnSpPr>
        <p:spPr>
          <a:xfrm flipV="1">
            <a:off x="2850840" y="2958480"/>
            <a:ext cx="3606840" cy="8640"/>
          </a:xfrm>
          <a:prstGeom prst="straightConnector1">
            <a:avLst/>
          </a:prstGeom>
          <a:ln w="76200">
            <a:solidFill>
              <a:srgbClr val="ffffff">
                <a:lumMod val="65000"/>
              </a:srgbClr>
            </a:solidFill>
            <a:prstDash val="sysDot"/>
            <a:round/>
          </a:ln>
        </p:spPr>
      </p:cxnSp>
      <p:grpSp>
        <p:nvGrpSpPr>
          <p:cNvPr id="204" name="组合 11"/>
          <p:cNvGrpSpPr/>
          <p:nvPr/>
        </p:nvGrpSpPr>
        <p:grpSpPr>
          <a:xfrm>
            <a:off x="5369760" y="1310400"/>
            <a:ext cx="724320" cy="3255480"/>
            <a:chOff x="5369760" y="1310400"/>
            <a:chExt cx="724320" cy="3255480"/>
          </a:xfrm>
        </p:grpSpPr>
        <p:sp>
          <p:nvSpPr>
            <p:cNvPr id="205" name="任意多边形 12"/>
            <p:cNvSpPr/>
            <p:nvPr/>
          </p:nvSpPr>
          <p:spPr>
            <a:xfrm>
              <a:off x="5369760" y="1355400"/>
              <a:ext cx="436320" cy="321048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3210480"/>
                <a:gd name="textAreaBottom" fmla="*/ 3210840 h 321048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714279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31000">
                  <a:srgbClr val="ea2269"/>
                </a:gs>
                <a:gs pos="100000">
                  <a:srgbClr val="de1050"/>
                </a:gs>
              </a:gsLst>
              <a:lin ang="16200000"/>
            </a:gradFill>
            <a:ln w="6350">
              <a:solidFill>
                <a:srgbClr val="ff9fb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任意多边形 13"/>
            <p:cNvSpPr/>
            <p:nvPr/>
          </p:nvSpPr>
          <p:spPr>
            <a:xfrm>
              <a:off x="5380200" y="1310400"/>
              <a:ext cx="713880" cy="15919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31000">
                  <a:srgbClr val="ea2269"/>
                </a:gs>
                <a:gs pos="100000">
                  <a:srgbClr val="de1050"/>
                </a:gs>
              </a:gsLst>
              <a:lin ang="5400000"/>
            </a:gradFill>
            <a:ln w="6350">
              <a:solidFill>
                <a:srgbClr val="ff9fb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任意多边形 14"/>
            <p:cNvSpPr/>
            <p:nvPr/>
          </p:nvSpPr>
          <p:spPr>
            <a:xfrm flipV="1">
              <a:off x="5380200" y="2921400"/>
              <a:ext cx="713880" cy="15919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360 h 1591920"/>
                <a:gd name="textAreaBottom" fmla="*/ 1592640 h 159192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31000">
                  <a:srgbClr val="ea2269"/>
                </a:gs>
                <a:gs pos="100000">
                  <a:srgbClr val="de1050"/>
                </a:gs>
              </a:gsLst>
              <a:lin ang="5400000"/>
            </a:gradFill>
            <a:ln w="6350">
              <a:solidFill>
                <a:srgbClr val="ff9fb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08" name="组合 15"/>
          <p:cNvGrpSpPr/>
          <p:nvPr/>
        </p:nvGrpSpPr>
        <p:grpSpPr>
          <a:xfrm>
            <a:off x="4298040" y="1565640"/>
            <a:ext cx="653400" cy="2785680"/>
            <a:chOff x="4298040" y="1565640"/>
            <a:chExt cx="653400" cy="2785680"/>
          </a:xfrm>
        </p:grpSpPr>
        <p:sp>
          <p:nvSpPr>
            <p:cNvPr id="209" name="任意多边形 16"/>
            <p:cNvSpPr/>
            <p:nvPr/>
          </p:nvSpPr>
          <p:spPr>
            <a:xfrm>
              <a:off x="4298040" y="1604160"/>
              <a:ext cx="393120" cy="274716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747160"/>
                <a:gd name="textAreaBottom" fmla="*/ 2747520 h 274716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714279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10800000"/>
            </a:gradFill>
            <a:ln w="6350"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0" name="任意多边形 17"/>
            <p:cNvSpPr/>
            <p:nvPr/>
          </p:nvSpPr>
          <p:spPr>
            <a:xfrm>
              <a:off x="4307760" y="1565640"/>
              <a:ext cx="643680" cy="136224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1362240"/>
                <a:gd name="textAreaBottom" fmla="*/ 1362600 h 136224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2700000"/>
            </a:gradFill>
            <a:ln w="6350"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1" name="任意多边形 18"/>
            <p:cNvSpPr/>
            <p:nvPr/>
          </p:nvSpPr>
          <p:spPr>
            <a:xfrm flipV="1">
              <a:off x="4307760" y="2944440"/>
              <a:ext cx="643680" cy="136224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360 h 1362240"/>
                <a:gd name="textAreaBottom" fmla="*/ 1362960 h 136224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0">
                  <a:srgbClr val="977100"/>
                </a:gs>
                <a:gs pos="100000">
                  <a:srgbClr val="d6a100"/>
                </a:gs>
              </a:gsLst>
              <a:lin ang="5400000"/>
            </a:gradFill>
            <a:ln w="6350"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12" name="组合 19"/>
          <p:cNvGrpSpPr/>
          <p:nvPr/>
        </p:nvGrpSpPr>
        <p:grpSpPr>
          <a:xfrm>
            <a:off x="3155040" y="1637280"/>
            <a:ext cx="653400" cy="2642760"/>
            <a:chOff x="3155040" y="1637280"/>
            <a:chExt cx="653400" cy="2642760"/>
          </a:xfrm>
        </p:grpSpPr>
        <p:sp>
          <p:nvSpPr>
            <p:cNvPr id="213" name="任意多边形 20"/>
            <p:cNvSpPr/>
            <p:nvPr/>
          </p:nvSpPr>
          <p:spPr>
            <a:xfrm>
              <a:off x="3155040" y="1673640"/>
              <a:ext cx="393120" cy="26064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606400"/>
                <a:gd name="textAreaBottom" fmla="*/ 2606760 h 2606400"/>
              </a:gdLst>
              <a:ahLst/>
              <a:rect l="textAreaLeft" t="textAreaTop" r="textAreaRight" b="textAreaBottom"/>
              <a:pathLst>
                <a:path w="1000164" h="1285884">
                  <a:moveTo>
                    <a:pt x="0" y="0"/>
                  </a:moveTo>
                  <a:lnTo>
                    <a:pt x="14315" y="0"/>
                  </a:lnTo>
                  <a:lnTo>
                    <a:pt x="1000164" y="642942"/>
                  </a:lnTo>
                  <a:lnTo>
                    <a:pt x="14315" y="1285884"/>
                  </a:lnTo>
                  <a:lnTo>
                    <a:pt x="0" y="1285884"/>
                  </a:lnTo>
                  <a:lnTo>
                    <a:pt x="714279" y="64294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8100000"/>
            </a:gradFill>
            <a:ln w="6350">
              <a:solidFill>
                <a:srgbClr val="595959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4" name="任意多边形 21"/>
            <p:cNvSpPr/>
            <p:nvPr/>
          </p:nvSpPr>
          <p:spPr>
            <a:xfrm>
              <a:off x="3164760" y="1637280"/>
              <a:ext cx="643680" cy="129240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1292400"/>
                <a:gd name="textAreaBottom" fmla="*/ 1292760 h 129240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8100000"/>
            </a:gradFill>
            <a:ln w="6350">
              <a:solidFill>
                <a:srgbClr val="595959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15" name="任意多边形 22"/>
            <p:cNvSpPr/>
            <p:nvPr/>
          </p:nvSpPr>
          <p:spPr>
            <a:xfrm flipV="1">
              <a:off x="3164760" y="2945160"/>
              <a:ext cx="643680" cy="129240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360 h 1292400"/>
                <a:gd name="textAreaBottom" fmla="*/ 1293120 h 1292400"/>
              </a:gdLst>
              <a:ahLst/>
              <a:rect l="textAreaLeft" t="textAreaTop" r="textAreaRight" b="textAreaBottom"/>
              <a:pathLst>
                <a:path w="703482" h="915416">
                  <a:moveTo>
                    <a:pt x="428564" y="914400"/>
                  </a:moveTo>
                  <a:lnTo>
                    <a:pt x="0" y="0"/>
                  </a:lnTo>
                  <a:lnTo>
                    <a:pt x="703482" y="914400"/>
                  </a:lnTo>
                  <a:lnTo>
                    <a:pt x="700083" y="915416"/>
                  </a:lnTo>
                  <a:lnTo>
                    <a:pt x="428564" y="914400"/>
                  </a:lnTo>
                  <a:close/>
                </a:path>
              </a:pathLst>
            </a:custGeom>
            <a:gradFill rotWithShape="0">
              <a:gsLst>
                <a:gs pos="0">
                  <a:srgbClr val="568129"/>
                </a:gs>
                <a:gs pos="100000">
                  <a:srgbClr val="7bb73b"/>
                </a:gs>
              </a:gsLst>
              <a:lin ang="13500000"/>
            </a:gradFill>
            <a:ln w="6350">
              <a:solidFill>
                <a:srgbClr val="595959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6" name="TextBox 23"/>
          <p:cNvSpPr/>
          <p:nvPr/>
        </p:nvSpPr>
        <p:spPr>
          <a:xfrm>
            <a:off x="4721760" y="148896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4649760" y="321768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3497400" y="163296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6"/>
          <p:cNvSpPr/>
          <p:nvPr/>
        </p:nvSpPr>
        <p:spPr>
          <a:xfrm>
            <a:off x="3569400" y="314568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7"/>
          <p:cNvSpPr/>
          <p:nvPr/>
        </p:nvSpPr>
        <p:spPr>
          <a:xfrm>
            <a:off x="2416680" y="171792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8"/>
          <p:cNvSpPr/>
          <p:nvPr/>
        </p:nvSpPr>
        <p:spPr>
          <a:xfrm>
            <a:off x="2488680" y="3230640"/>
            <a:ext cx="813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2">
                    <a:lumMod val="50000"/>
                  </a:schemeClr>
                </a:solidFill>
                <a:latin typeface="Arial"/>
                <a:ea typeface="宋体"/>
              </a:rPr>
              <a:t>33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0"/>
          <p:cNvSpPr/>
          <p:nvPr/>
        </p:nvSpPr>
        <p:spPr>
          <a:xfrm>
            <a:off x="8317800" y="53067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30040" y="5322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c0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44000" y="3289680"/>
            <a:ext cx="3957840" cy="122508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299" strike="noStrike">
                <a:solidFill>
                  <a:srgbClr val="d261de"/>
                </a:solidFill>
                <a:latin typeface="微软雅黑"/>
                <a:ea typeface="微软雅黑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5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174FFFC-45EB-4333-9A64-6CFEBFDAECE3}" type="datetime1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3167280" y="2673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1" lang="en-US" sz="113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en-US" sz="105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0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9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1" lang="en-US" sz="113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1" lang="en-US" sz="113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1" lang="en-US" sz="113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幻灯片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ppt背景图片素材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ppt动态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通用ppt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ppt 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ppt设计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ppt模板素材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0"/>
              </a:rPr>
              <a:t>毕业答辩ppt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1"/>
              </a:rPr>
              <a:t>企业文化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2"/>
              </a:rPr>
              <a:t>月工作总结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3"/>
              </a:rPr>
              <a:t>商务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4"/>
              </a:rPr>
              <a:t>精品ppt模板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5"/>
              </a:rPr>
              <a:t>ppt课件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7"/>
              </a:rPr>
              <a:t>活动策划方案ppt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en-US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8"/>
              </a:rPr>
              <a:t>ppt免费下载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9"/>
              </a:rPr>
              <a:t>工业制造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0"/>
              </a:rPr>
              <a:t>会议报告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1"/>
              </a:rPr>
              <a:t>交通安全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2"/>
              </a:rPr>
              <a:t>教育培训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3"/>
              </a:rPr>
              <a:t>卡通动漫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98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4"/>
              </a:rPr>
              <a:t>体育运动ppt模板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chemeClr val="accent6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自定义 5">
      <a:dk1>
        <a:srgbClr val="000000"/>
      </a:dk1>
      <a:lt1>
        <a:srgbClr val="ffffff"/>
      </a:lt1>
      <a:dk2>
        <a:srgbClr val="69676d"/>
      </a:dk2>
      <a:lt2>
        <a:srgbClr val="ffffff"/>
      </a:lt2>
      <a:accent1>
        <a:srgbClr val="a743af"/>
      </a:accent1>
      <a:accent2>
        <a:srgbClr val="595959"/>
      </a:accent2>
      <a:accent3>
        <a:srgbClr val="ffc000"/>
      </a:accent3>
      <a:accent4>
        <a:srgbClr val="66b103"/>
      </a:accent4>
      <a:accent5>
        <a:srgbClr val="aca332"/>
      </a:accent5>
      <a:accent6>
        <a:srgbClr val="0070c0"/>
      </a:accent6>
      <a:hlink>
        <a:srgbClr val="ffc000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自定义 5">
      <a:dk1>
        <a:srgbClr val="000000"/>
      </a:dk1>
      <a:lt1>
        <a:srgbClr val="ffffff"/>
      </a:lt1>
      <a:dk2>
        <a:srgbClr val="69676d"/>
      </a:dk2>
      <a:lt2>
        <a:srgbClr val="ffffff"/>
      </a:lt2>
      <a:accent1>
        <a:srgbClr val="a743af"/>
      </a:accent1>
      <a:accent2>
        <a:srgbClr val="595959"/>
      </a:accent2>
      <a:accent3>
        <a:srgbClr val="ffc000"/>
      </a:accent3>
      <a:accent4>
        <a:srgbClr val="66b103"/>
      </a:accent4>
      <a:accent5>
        <a:srgbClr val="aca332"/>
      </a:accent5>
      <a:accent6>
        <a:srgbClr val="0070c0"/>
      </a:accent6>
      <a:hlink>
        <a:srgbClr val="ffc000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自定义 5">
      <a:dk1>
        <a:srgbClr val="000000"/>
      </a:dk1>
      <a:lt1>
        <a:srgbClr val="ffffff"/>
      </a:lt1>
      <a:dk2>
        <a:srgbClr val="69676d"/>
      </a:dk2>
      <a:lt2>
        <a:srgbClr val="ffffff"/>
      </a:lt2>
      <a:accent1>
        <a:srgbClr val="a743af"/>
      </a:accent1>
      <a:accent2>
        <a:srgbClr val="595959"/>
      </a:accent2>
      <a:accent3>
        <a:srgbClr val="ffc000"/>
      </a:accent3>
      <a:accent4>
        <a:srgbClr val="66b103"/>
      </a:accent4>
      <a:accent5>
        <a:srgbClr val="aca332"/>
      </a:accent5>
      <a:accent6>
        <a:srgbClr val="0070c0"/>
      </a:accent6>
      <a:hlink>
        <a:srgbClr val="ffc000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648</Words>
  <Characters>0</Characters>
  <CharactersWithSpaces>0</CharactersWithSpace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7:35:00Z</dcterms:created>
  <dc:creator>lidan</dc:creator>
  <dc:description/>
  <dc:language>en-US</dc:language>
  <cp:lastModifiedBy>yu wang</cp:lastModifiedBy>
  <cp:lastPrinted>1899-12-30T00:00:00Z</cp:lastPrinted>
  <dcterms:modified xsi:type="dcterms:W3CDTF">2015-08-08T10:04:44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PresentationFormat">
    <vt:lpwstr>全屏显示(16:10)</vt:lpwstr>
  </property>
  <property fmtid="{D5CDD505-2E9C-101B-9397-08002B2CF9AE}" pid="4" name="Slides">
    <vt:r8>8</vt:r8>
  </property>
</Properties>
</file>