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399588" cy="65516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71640" y="685440"/>
            <a:ext cx="49147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F799-25F7-4B80-9722-4AD1D0DE10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971640" y="685800"/>
            <a:ext cx="491472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7231-F77A-4D3E-9323-50ADEF2AF04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3CF-852F-4205-B323-07256172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9440" y="261720"/>
            <a:ext cx="84582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9440" y="1528920"/>
            <a:ext cx="84582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440" y="3788640"/>
            <a:ext cx="84582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8CE8-5CD8-4570-9A8E-A4E68469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9440" y="261720"/>
            <a:ext cx="84582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9440" y="1528920"/>
            <a:ext cx="4127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3480" y="1528920"/>
            <a:ext cx="4127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9440" y="3788640"/>
            <a:ext cx="4127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3480" y="3788640"/>
            <a:ext cx="4127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73AA-998D-4370-90FC-7967E517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9440" y="261720"/>
            <a:ext cx="84582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9440" y="1528920"/>
            <a:ext cx="2723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9280" y="1528920"/>
            <a:ext cx="2723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9480" y="1528920"/>
            <a:ext cx="2723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440" y="3788640"/>
            <a:ext cx="2723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9280" y="3788640"/>
            <a:ext cx="2723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9480" y="3788640"/>
            <a:ext cx="2723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69C-501A-48A1-B5DE-903A3478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9440" y="261720"/>
            <a:ext cx="84582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9440" y="1528920"/>
            <a:ext cx="8458200" cy="43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467B-BE62-4C12-9019-3AB6EBA7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9440" y="261720"/>
            <a:ext cx="84582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9440" y="1528920"/>
            <a:ext cx="845820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4404-C787-4564-9909-1D33C1F2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9440" y="261720"/>
            <a:ext cx="84582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9440" y="1528920"/>
            <a:ext cx="412740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3480" y="1528920"/>
            <a:ext cx="412740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8E6-AE41-44CD-80DD-463CB352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9440" y="261720"/>
            <a:ext cx="84582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24F-4424-4B87-B9FC-D67AE3DF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9440" y="261720"/>
            <a:ext cx="845820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8ED-4FD6-4463-9E15-FF8E7D93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9440" y="261720"/>
            <a:ext cx="84582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9440" y="1528920"/>
            <a:ext cx="4127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3480" y="1528920"/>
            <a:ext cx="412740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9440" y="3788640"/>
            <a:ext cx="4127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201-EB4C-455A-B5FB-210093BA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9440" y="261720"/>
            <a:ext cx="84582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9440" y="1528920"/>
            <a:ext cx="412740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3480" y="1528920"/>
            <a:ext cx="4127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3480" y="3788640"/>
            <a:ext cx="4127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A205-71ED-4B91-8E98-4D334A4C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9440" y="261720"/>
            <a:ext cx="84582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9440" y="1528920"/>
            <a:ext cx="4127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3480" y="1528920"/>
            <a:ext cx="4127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440" y="3788640"/>
            <a:ext cx="84582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CED-BFC4-439F-B3C1-3AD67DC9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9440" y="261720"/>
            <a:ext cx="84582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9440" y="1528920"/>
            <a:ext cx="845820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9800" y="5967360"/>
            <a:ext cx="21924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11560" y="596736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5600" y="5967360"/>
            <a:ext cx="21924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555F-03FC-4C84-9F61-C8D509B27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5"/>
          <p:cNvSpPr/>
          <p:nvPr/>
        </p:nvSpPr>
        <p:spPr>
          <a:xfrm>
            <a:off x="1569240" y="2413080"/>
            <a:ext cx="657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紫色曲线环绕效果的艺术设计</a:t>
            </a:r>
            <a:r>
              <a:rPr b="0" lang="en-US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368280" y="62136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5"/>
          <p:cNvSpPr/>
          <p:nvPr/>
        </p:nvSpPr>
        <p:spPr>
          <a:xfrm>
            <a:off x="3438360" y="2771640"/>
            <a:ext cx="23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谢谢观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962000" y="5797440"/>
            <a:ext cx="7765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4680" y="779400"/>
            <a:ext cx="6327720" cy="4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57480" y="1612440"/>
            <a:ext cx="6883200" cy="40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会议报告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6791400" y="890640"/>
            <a:ext cx="1071360" cy="26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3:19:24Z</dcterms:created>
  <dc:creator>lidan</dc:creator>
  <dc:description/>
  <dc:language>en-US</dc:language>
  <cp:lastModifiedBy>yu wang</cp:lastModifiedBy>
  <dcterms:modified xsi:type="dcterms:W3CDTF">2015-08-08T10:04:42Z</dcterms:modified>
  <cp:revision>11</cp:revision>
  <dc:subject/>
  <dc:title>幻灯片 1</dc:title>
</cp:coreProperties>
</file>