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3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85978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480" y="3720600"/>
            <a:ext cx="85978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160" y="113832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480" y="372060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160" y="372060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27684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840" y="1138320"/>
            <a:ext cx="27684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9840" y="1138320"/>
            <a:ext cx="27684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480" y="3720600"/>
            <a:ext cx="27684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840" y="3720600"/>
            <a:ext cx="27684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9840" y="3720600"/>
            <a:ext cx="27684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480" y="1138320"/>
            <a:ext cx="859788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85978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4195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160" y="1138320"/>
            <a:ext cx="4195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160" y="1138320"/>
            <a:ext cx="4195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480" y="372060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419544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160" y="113832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160" y="372060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480" y="113832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160" y="1138320"/>
            <a:ext cx="41954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480" y="3720600"/>
            <a:ext cx="85978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75240"/>
            <a:ext cx="9140760" cy="490680"/>
          </a:xfrm>
          <a:prstGeom prst="rect">
            <a:avLst/>
          </a:prstGeom>
          <a:solidFill>
            <a:srgbClr val="e7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5480" y="1138320"/>
            <a:ext cx="85978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5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buClr>
                <a:srgbClr val="000000"/>
              </a:buClr>
              <a:buSzPct val="2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5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5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5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5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0" y="879480"/>
            <a:ext cx="9144000" cy="38160"/>
          </a:xfrm>
          <a:prstGeom prst="rect">
            <a:avLst/>
          </a:prstGeom>
          <a:solidFill>
            <a:srgbClr val="84bf3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6330960" y="6369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bf38"/>
                </a:solidFill>
                <a:latin typeface="Arial"/>
              </a:rPr>
              <a:t>#Glass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76320" y="6400800"/>
            <a:ext cx="1639800" cy="430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1_LightBulb.png"/>
          <p:cNvPicPr/>
          <p:nvPr/>
        </p:nvPicPr>
        <p:blipFill>
          <a:blip r:embed="rId2"/>
          <a:srcRect l="20205" t="5479" r="17333" b="5925"/>
          <a:stretch/>
        </p:blipFill>
        <p:spPr>
          <a:xfrm>
            <a:off x="4419720" y="1746360"/>
            <a:ext cx="461628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04920" y="27468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fbc55"/>
                </a:solidFill>
                <a:latin typeface="Arial"/>
              </a:rPr>
              <a:t>10 Secrets to Recruiting</a:t>
            </a:r>
            <a:br>
              <a:rPr sz="5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ighte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s and Millenn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1_GD_logo.png"/>
          <p:cNvPicPr/>
          <p:nvPr/>
        </p:nvPicPr>
        <p:blipFill>
          <a:blip r:embed="rId3"/>
          <a:stretch/>
        </p:blipFill>
        <p:spPr>
          <a:xfrm>
            <a:off x="168120" y="5334120"/>
            <a:ext cx="52419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1_Chalk1.png"/>
          <p:cNvPicPr/>
          <p:nvPr/>
        </p:nvPicPr>
        <p:blipFill>
          <a:blip r:embed="rId4"/>
          <a:stretch/>
        </p:blipFill>
        <p:spPr>
          <a:xfrm>
            <a:off x="762120" y="1905120"/>
            <a:ext cx="3276360" cy="58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54080" y="2362320"/>
            <a:ext cx="70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招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R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招聘到最好的毕业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1: Build Awareness at Career F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1_guy3.png"/>
          <p:cNvPicPr/>
          <p:nvPr/>
        </p:nvPicPr>
        <p:blipFill>
          <a:blip r:embed="rId2"/>
          <a:srcRect l="21276" t="5774" r="16740" b="2369"/>
          <a:stretch/>
        </p:blipFill>
        <p:spPr>
          <a:xfrm>
            <a:off x="4267080" y="1295280"/>
            <a:ext cx="4233960" cy="501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rcRect l="19570" t="19698" r="13465" b="27126"/>
          <a:stretch/>
        </p:blipFill>
        <p:spPr>
          <a:xfrm>
            <a:off x="204840" y="1143000"/>
            <a:ext cx="3300480" cy="2095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228600" y="3276720"/>
            <a:ext cx="44956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fbc55"/>
                </a:solidFill>
                <a:latin typeface="Arial"/>
              </a:rPr>
              <a:t>of Millenn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y they hear abou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nies throug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iends or job bo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2: Recruit With Your B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28600" y="327672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fbc55"/>
                </a:solidFill>
                <a:latin typeface="Arial"/>
              </a:rPr>
              <a:t>of Millenn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rather make $40K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year at a job they lo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 $100K a year 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ob they think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1-guymoney.png"/>
          <p:cNvPicPr/>
          <p:nvPr/>
        </p:nvPicPr>
        <p:blipFill>
          <a:blip r:embed="rId2"/>
          <a:srcRect l="32415" t="7552" r="14997" b="3701"/>
          <a:stretch/>
        </p:blipFill>
        <p:spPr>
          <a:xfrm>
            <a:off x="4952880" y="717480"/>
            <a:ext cx="4191120" cy="5657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rcRect l="21076" t="19147" r="13402" b="27060"/>
          <a:stretch/>
        </p:blipFill>
        <p:spPr>
          <a:xfrm>
            <a:off x="295200" y="1108080"/>
            <a:ext cx="3276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3: Build Brand Ambassa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28600" y="3319560"/>
            <a:ext cx="5257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Glassdoor memb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bc55"/>
                </a:solidFill>
                <a:latin typeface="Arial"/>
              </a:rPr>
              <a:t>reading review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y have just sta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job search and have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t spoken with a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er or hiring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-laptop.png"/>
          <p:cNvPicPr/>
          <p:nvPr/>
        </p:nvPicPr>
        <p:blipFill>
          <a:blip r:embed="rId2"/>
          <a:srcRect l="37339" t="19849" r="7381" b="12887"/>
          <a:stretch/>
        </p:blipFill>
        <p:spPr>
          <a:xfrm flipH="1">
            <a:off x="4343040" y="1838160"/>
            <a:ext cx="4800600" cy="462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rcRect l="18178" t="23136" r="15727" b="23524"/>
          <a:stretch/>
        </p:blipFill>
        <p:spPr>
          <a:xfrm>
            <a:off x="284040" y="1173240"/>
            <a:ext cx="32576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rcRect l="0" t="-178" r="0" b="0"/>
          <a:stretch/>
        </p:blipFill>
        <p:spPr>
          <a:xfrm>
            <a:off x="0" y="905040"/>
            <a:ext cx="9144000" cy="5470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4: Recognize Pot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rcRect l="32803" t="0" r="17885" b="8720"/>
          <a:stretch/>
        </p:blipFill>
        <p:spPr>
          <a:xfrm flipH="1">
            <a:off x="4647960" y="382680"/>
            <a:ext cx="4064040" cy="6018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 flipH="1" rot="20733600">
            <a:off x="-385560" y="1339920"/>
            <a:ext cx="5672160" cy="43401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 rot="20500800">
            <a:off x="582840" y="23256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pen to train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ad who exhibits an outstanding work ethic and phenomenal pot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rcRect l="0" t="0" r="0" b="7261"/>
          <a:stretch/>
        </p:blipFill>
        <p:spPr>
          <a:xfrm>
            <a:off x="0" y="0"/>
            <a:ext cx="9144000" cy="6359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1-fish.png"/>
          <p:cNvPicPr/>
          <p:nvPr/>
        </p:nvPicPr>
        <p:blipFill>
          <a:blip r:embed="rId2"/>
          <a:stretch/>
        </p:blipFill>
        <p:spPr>
          <a:xfrm>
            <a:off x="279360" y="-457200"/>
            <a:ext cx="85726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57200" y="685800"/>
            <a:ext cx="70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verage, each corporate job opening at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8fbc55"/>
                </a:solidFill>
                <a:latin typeface="Arial"/>
              </a:rPr>
              <a:t>250 resume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se candidates, </a:t>
            </a:r>
            <a:r>
              <a:rPr b="1" lang="en-US" sz="2400" spc="-1" strike="noStrike">
                <a:solidFill>
                  <a:srgbClr val="8fbc55"/>
                </a:solidFill>
                <a:latin typeface="Arial"/>
              </a:rPr>
              <a:t>four to si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cal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rview and </a:t>
            </a:r>
            <a:r>
              <a:rPr b="1" lang="en-US" sz="2400" spc="-1" strike="noStrike">
                <a:solidFill>
                  <a:srgbClr val="8fbc55"/>
                </a:solidFill>
                <a:latin typeface="Arial"/>
              </a:rPr>
              <a:t>only one will be offered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5"/>
          <p:cNvSpPr/>
          <p:nvPr/>
        </p:nvSpPr>
        <p:spPr>
          <a:xfrm>
            <a:off x="533520" y="2286000"/>
            <a:ext cx="685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0" t="-178" r="0" b="0"/>
          <a:stretch/>
        </p:blipFill>
        <p:spPr>
          <a:xfrm>
            <a:off x="0" y="905040"/>
            <a:ext cx="9144000" cy="547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_bubble1.png"/>
          <p:cNvPicPr/>
          <p:nvPr/>
        </p:nvPicPr>
        <p:blipFill>
          <a:blip r:embed="rId2"/>
          <a:srcRect l="8709" t="16444" r="12000" b="17480"/>
          <a:stretch/>
        </p:blipFill>
        <p:spPr>
          <a:xfrm rot="17158800">
            <a:off x="4626720" y="1680120"/>
            <a:ext cx="3078000" cy="5334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5: Respond to Every Candi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 rot="644400">
            <a:off x="4618800" y="371484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st feel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recent grads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ing they are just another nu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1-girl2.png"/>
          <p:cNvPicPr/>
          <p:nvPr/>
        </p:nvPicPr>
        <p:blipFill>
          <a:blip r:embed="rId3"/>
          <a:srcRect l="22373" t="1214" r="25265" b="10997"/>
          <a:stretch/>
        </p:blipFill>
        <p:spPr>
          <a:xfrm>
            <a:off x="533520" y="1096920"/>
            <a:ext cx="38401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1"/>
          <a:srcRect l="0" t="0" r="0" b="7261"/>
          <a:stretch/>
        </p:blipFill>
        <p:spPr>
          <a:xfrm>
            <a:off x="0" y="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-guydesk.png"/>
          <p:cNvPicPr/>
          <p:nvPr/>
        </p:nvPicPr>
        <p:blipFill>
          <a:blip r:embed="rId2"/>
          <a:srcRect l="13927" t="9035" r="16058" b="14298"/>
          <a:stretch/>
        </p:blipFill>
        <p:spPr>
          <a:xfrm>
            <a:off x="3751200" y="1635120"/>
            <a:ext cx="5392800" cy="4724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28600" y="251460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experience a quic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effective brand respon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social media </a:t>
            </a:r>
            <a:r>
              <a:rPr b="1" lang="en-US" sz="2400" spc="-1" strike="noStrike">
                <a:solidFill>
                  <a:srgbClr val="8fbc55"/>
                </a:solidFill>
                <a:latin typeface="Arial"/>
              </a:rPr>
              <a:t>are likely </a:t>
            </a:r>
            <a:br>
              <a:rPr sz="2400"/>
            </a:br>
            <a:r>
              <a:rPr b="1" lang="en-US" sz="2400" spc="-1" strike="noStrike">
                <a:solidFill>
                  <a:srgbClr val="8fbc55"/>
                </a:solidFill>
                <a:latin typeface="Arial"/>
              </a:rPr>
              <a:t>to recommend that brand </a:t>
            </a:r>
            <a:br>
              <a:rPr sz="2400"/>
            </a:br>
            <a:r>
              <a:rPr b="1" lang="en-US" sz="2400" spc="-1" strike="noStrike">
                <a:solidFill>
                  <a:srgbClr val="8fbc55"/>
                </a:solidFill>
                <a:latin typeface="Arial"/>
              </a:rPr>
              <a:t>to oth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mpared to ju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% of customers who d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receive a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3"/>
          <a:srcRect l="23092" t="26673" r="22147" b="29895"/>
          <a:stretch/>
        </p:blipFill>
        <p:spPr>
          <a:xfrm>
            <a:off x="228600" y="303120"/>
            <a:ext cx="3276720" cy="2079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0"/>
          <p:cNvSpPr/>
          <p:nvPr/>
        </p:nvSpPr>
        <p:spPr>
          <a:xfrm>
            <a:off x="3683160" y="593640"/>
            <a:ext cx="5257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03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d2d2d"/>
                </a:solidFill>
                <a:latin typeface="Arial"/>
              </a:rPr>
              <a:t>of consumer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rcRect l="11570" t="16995" r="20824" b="27769"/>
          <a:stretch/>
        </p:blipFill>
        <p:spPr>
          <a:xfrm>
            <a:off x="304920" y="1123920"/>
            <a:ext cx="3276360" cy="2143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6: Promise More Than Sw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28600" y="327672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fbc55"/>
                </a:solidFill>
                <a:latin typeface="Arial"/>
              </a:rPr>
              <a:t>of Millenn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e 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active perk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3"/>
          <a:srcRect l="33050" t="0" r="14346" b="18845"/>
          <a:stretch/>
        </p:blipFill>
        <p:spPr>
          <a:xfrm flipH="1">
            <a:off x="4495680" y="636480"/>
            <a:ext cx="4648320" cy="573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0" y="5719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8fbc55"/>
                </a:solidFill>
                <a:latin typeface="Arial"/>
              </a:rPr>
              <a:t>Are you promoting your grad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7: Waste No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380880" y="1523880"/>
            <a:ext cx="5562720" cy="45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one ye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8fbc55"/>
                </a:solidFill>
                <a:latin typeface="Arial"/>
              </a:rPr>
              <a:t>employers retai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8fbc55"/>
                </a:solidFill>
                <a:latin typeface="Arial"/>
              </a:rPr>
              <a:t>about 75% of their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8fbc55"/>
                </a:solidFill>
                <a:latin typeface="Arial"/>
              </a:rPr>
              <a:t>new college hires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have inter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empl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rcRect l="28635" t="0" r="20656" b="0"/>
          <a:stretch/>
        </p:blipFill>
        <p:spPr>
          <a:xfrm>
            <a:off x="5029200" y="-66600"/>
            <a:ext cx="4038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8: Embrace Transparency in the 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28600" y="327672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fbc55"/>
                </a:solidFill>
                <a:latin typeface="Arial"/>
              </a:rPr>
              <a:t>of employe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y new job realit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 from expecta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during the interview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1-girlpaper.png"/>
          <p:cNvPicPr/>
          <p:nvPr/>
        </p:nvPicPr>
        <p:blipFill>
          <a:blip r:embed="rId2"/>
          <a:srcRect l="15354" t="0" r="18220" b="9593"/>
          <a:stretch/>
        </p:blipFill>
        <p:spPr>
          <a:xfrm>
            <a:off x="4648320" y="1479600"/>
            <a:ext cx="4495680" cy="48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3"/>
          <a:srcRect l="20682" t="20066" r="18976" b="31549"/>
          <a:stretch/>
        </p:blipFill>
        <p:spPr>
          <a:xfrm>
            <a:off x="228600" y="1114560"/>
            <a:ext cx="3371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MS PGothic"/>
              </a:rPr>
              <a:t>Webinar Tips for Attende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040" y="1125360"/>
            <a:ext cx="55152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can connect to audio using your computer’s microphone and speake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, you may select “Use Telephone” after joining the Webin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 lines will be muted to avoid background no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can ask questions at any time by typing them into the Questions P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rcRect l="0" t="0" r="6477" b="2815"/>
          <a:stretch/>
        </p:blipFill>
        <p:spPr>
          <a:xfrm>
            <a:off x="6324480" y="990720"/>
            <a:ext cx="2301840" cy="5273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095880" y="4114800"/>
            <a:ext cx="2743200" cy="160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5880" y="2971800"/>
            <a:ext cx="2743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rcRect l="27669" t="25079" r="17470" b="32178"/>
          <a:stretch/>
        </p:blipFill>
        <p:spPr>
          <a:xfrm>
            <a:off x="228600" y="1130400"/>
            <a:ext cx="3429000" cy="2138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9: Sell the Work-Life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228600" y="327672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fbc55"/>
                </a:solidFill>
                <a:latin typeface="Arial"/>
              </a:rPr>
              <a:t>of Millenn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a peo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ulture fit with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-girlworklife.png"/>
          <p:cNvPicPr/>
          <p:nvPr/>
        </p:nvPicPr>
        <p:blipFill>
          <a:blip r:embed="rId3"/>
          <a:srcRect l="19381" t="5039" r="17806" b="6667"/>
          <a:stretch/>
        </p:blipFill>
        <p:spPr>
          <a:xfrm>
            <a:off x="4400640" y="1066680"/>
            <a:ext cx="4711680" cy="5299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2666880" y="5715000"/>
            <a:ext cx="6477120" cy="380880"/>
          </a:xfrm>
          <a:prstGeom prst="rect">
            <a:avLst/>
          </a:prstGeom>
          <a:solidFill>
            <a:srgbClr val="8f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895480" y="5735520"/>
            <a:ext cx="58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job itself matters, but isn’t enough to keep recent grads happ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0" t="38512" r="0" b="0"/>
          <a:stretch/>
        </p:blipFill>
        <p:spPr>
          <a:xfrm>
            <a:off x="0" y="3017880"/>
            <a:ext cx="9144000" cy="3357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#10: Foster Care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28600" y="3276720"/>
            <a:ext cx="5257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fbc55"/>
                </a:solidFill>
                <a:latin typeface="Arial"/>
              </a:rPr>
              <a:t>of Millenn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their last job du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ack of caree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1-guy-plane.png"/>
          <p:cNvPicPr/>
          <p:nvPr/>
        </p:nvPicPr>
        <p:blipFill>
          <a:blip r:embed="rId2"/>
          <a:srcRect l="13501" t="0" r="24168" b="0"/>
          <a:stretch/>
        </p:blipFill>
        <p:spPr>
          <a:xfrm>
            <a:off x="4419720" y="336600"/>
            <a:ext cx="4724280" cy="6064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2057400" y="5715000"/>
            <a:ext cx="7086600" cy="380880"/>
          </a:xfrm>
          <a:prstGeom prst="rect">
            <a:avLst/>
          </a:prstGeom>
          <a:solidFill>
            <a:srgbClr val="8f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2209680" y="57355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ate an environment that inspires learning and development among gr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3"/>
          <a:srcRect l="18178" t="23136" r="15727" b="23524"/>
          <a:stretch/>
        </p:blipFill>
        <p:spPr>
          <a:xfrm>
            <a:off x="284040" y="1173240"/>
            <a:ext cx="32576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MS PGothic"/>
              </a:rPr>
              <a:t>Trust New Grad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0-boy7.png"/>
          <p:cNvPicPr/>
          <p:nvPr/>
        </p:nvPicPr>
        <p:blipFill>
          <a:blip r:embed="rId2"/>
          <a:srcRect l="0" t="15080" r="0" b="14021"/>
          <a:stretch/>
        </p:blipFill>
        <p:spPr>
          <a:xfrm rot="238800">
            <a:off x="4051440" y="1106280"/>
            <a:ext cx="5378400" cy="4933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85480" y="1138320"/>
            <a:ext cx="85978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new grad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el trusted to d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ir job, they’r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ed to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hieve high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MS PGothic"/>
              </a:rPr>
              <a:t>Start with Intern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9" descr="0-boy9.png"/>
          <p:cNvPicPr/>
          <p:nvPr/>
        </p:nvPicPr>
        <p:blipFill>
          <a:blip r:embed="rId2"/>
          <a:srcRect l="9869" t="23068" r="15245" b="12113"/>
          <a:stretch/>
        </p:blipFill>
        <p:spPr>
          <a:xfrm flipH="1">
            <a:off x="914400" y="1050840"/>
            <a:ext cx="8229600" cy="53323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4840200" y="5638680"/>
            <a:ext cx="43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4c4e"/>
                </a:solidFill>
                <a:latin typeface="Arial"/>
              </a:rPr>
              <a:t>Inter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2895480" y="5638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4c4e"/>
                </a:solidFill>
                <a:latin typeface="Arial"/>
              </a:rPr>
              <a:t>New 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1066680" y="5638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4c4e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480" y="1138320"/>
            <a:ext cx="85978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s first ofte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 to grea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hi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5480" y="1138320"/>
            <a:ext cx="85978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28440" y="0"/>
            <a:ext cx="9172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Delivering Measurabl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deliverresults_bkgr.png"/>
          <p:cNvPicPr/>
          <p:nvPr/>
        </p:nvPicPr>
        <p:blipFill>
          <a:blip r:embed="rId2"/>
          <a:stretch/>
        </p:blipFill>
        <p:spPr>
          <a:xfrm>
            <a:off x="0" y="1766880"/>
            <a:ext cx="8724960" cy="20844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932040" y="1806480"/>
            <a:ext cx="189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ba525"/>
                </a:solidFill>
                <a:latin typeface="Arial"/>
                <a:ea typeface="MS PGothic"/>
              </a:rPr>
              <a:t>2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809880" y="1806480"/>
            <a:ext cx="189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ba525"/>
                </a:solidFill>
                <a:latin typeface="Arial"/>
                <a:ea typeface="MS PGothic"/>
              </a:rPr>
              <a:t>3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6477120" y="1806480"/>
            <a:ext cx="283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ba525"/>
                </a:solidFill>
                <a:latin typeface="Arial"/>
                <a:ea typeface="MS PGothic"/>
              </a:rPr>
              <a:t>30</a:t>
            </a:r>
            <a:r>
              <a:rPr b="0" lang="en-US" sz="10000" spc="-1" strike="noStrike" baseline="30000">
                <a:solidFill>
                  <a:srgbClr val="6ba525"/>
                </a:solidFill>
                <a:latin typeface="Arial"/>
                <a:ea typeface="MS PGothic"/>
              </a:rPr>
              <a:t>%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536400" y="3117960"/>
            <a:ext cx="241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429000" y="3117960"/>
            <a:ext cx="241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the influ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6208560" y="3117960"/>
            <a:ext cx="2611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lower cost-per-h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522360" y="4078440"/>
            <a:ext cx="812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 across all industries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ssdoor’s employer solution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ac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ter-qualified candid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uc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cost-per-hi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rcRect l="0" t="0" r="0" b="839"/>
          <a:stretch/>
        </p:blipFill>
        <p:spPr>
          <a:xfrm>
            <a:off x="0" y="0"/>
            <a:ext cx="91584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0" t="0" r="0" b="7261"/>
          <a:stretch/>
        </p:blipFill>
        <p:spPr>
          <a:xfrm>
            <a:off x="0" y="0"/>
            <a:ext cx="9144000" cy="6359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questions.png"/>
          <p:cNvPicPr/>
          <p:nvPr/>
        </p:nvPicPr>
        <p:blipFill>
          <a:blip r:embed="rId2"/>
          <a:stretch/>
        </p:blipFill>
        <p:spPr>
          <a:xfrm rot="20918400">
            <a:off x="1152000" y="2333520"/>
            <a:ext cx="68263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344e260.jpg"/>
          <p:cNvPicPr/>
          <p:nvPr/>
        </p:nvPicPr>
        <p:blipFill>
          <a:blip r:embed="rId2"/>
          <a:srcRect l="2054" t="1362" r="3927" b="4619"/>
          <a:stretch/>
        </p:blipFill>
        <p:spPr>
          <a:xfrm>
            <a:off x="2981160" y="1219320"/>
            <a:ext cx="2794320" cy="279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3"/>
          <a:srcRect l="4614" t="8077" r="12772" b="10033"/>
          <a:stretch/>
        </p:blipFill>
        <p:spPr>
          <a:xfrm flipH="1" rot="10800000">
            <a:off x="2219400" y="3276720"/>
            <a:ext cx="4181400" cy="3016080"/>
          </a:xfrm>
          <a:prstGeom prst="rect">
            <a:avLst/>
          </a:prstGeom>
          <a:ln w="0">
            <a:noFill/>
          </a:ln>
        </p:spPr>
      </p:pic>
      <p:sp>
        <p:nvSpPr>
          <p:cNvPr id="61" name="Title 2"/>
          <p:cNvSpPr/>
          <p:nvPr/>
        </p:nvSpPr>
        <p:spPr>
          <a:xfrm>
            <a:off x="0" y="0"/>
            <a:ext cx="914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MS PGothic"/>
              </a:rPr>
              <a:t>Featured Spe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600280" y="4267080"/>
            <a:ext cx="350532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icia Garibal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nior Content Marketing Manager &amp;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hor of Employer Branding For Dummies®, Glassdoor Special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a437"/>
                </a:solidFill>
                <a:latin typeface="Arial"/>
              </a:rPr>
              <a:t>Alicia.Garibaldi@Glassdoor.com</a:t>
            </a:r>
            <a:br>
              <a:rPr sz="1400"/>
            </a:br>
            <a:r>
              <a:rPr b="0" lang="en-US" sz="1400" spc="-1" strike="noStrike">
                <a:solidFill>
                  <a:srgbClr val="66a437"/>
                </a:solidFill>
                <a:latin typeface="Arial"/>
              </a:rPr>
              <a:t>@albagaribal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0" r="0" b="7261"/>
          <a:stretch/>
        </p:blipFill>
        <p:spPr>
          <a:xfrm>
            <a:off x="0" y="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04920" y="838080"/>
            <a:ext cx="85341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fbc55"/>
                </a:solidFill>
                <a:latin typeface="Arial"/>
              </a:rPr>
              <a:t>Grads</a:t>
            </a:r>
            <a:br>
              <a:rPr sz="12000"/>
            </a:b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fbc55"/>
                </a:solidFill>
                <a:latin typeface="Arial"/>
              </a:rPr>
              <a:t>Millennial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1_scribble.png"/>
          <p:cNvPicPr/>
          <p:nvPr/>
        </p:nvPicPr>
        <p:blipFill>
          <a:blip r:embed="rId2"/>
          <a:srcRect l="10488" t="41188" r="5958" b="42520"/>
          <a:stretch/>
        </p:blipFill>
        <p:spPr>
          <a:xfrm>
            <a:off x="2895480" y="3419640"/>
            <a:ext cx="29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0" r="0" b="29303"/>
          <a:stretch/>
        </p:blipFill>
        <p:spPr>
          <a:xfrm>
            <a:off x="0" y="914400"/>
            <a:ext cx="9144000" cy="386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1_guy2.png"/>
          <p:cNvPicPr/>
          <p:nvPr/>
        </p:nvPicPr>
        <p:blipFill>
          <a:blip r:embed="rId2"/>
          <a:srcRect l="18751" t="9035" r="25869" b="8169"/>
          <a:stretch/>
        </p:blipFill>
        <p:spPr>
          <a:xfrm>
            <a:off x="-228600" y="1219320"/>
            <a:ext cx="4367160" cy="522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_bubble1.png"/>
          <p:cNvPicPr/>
          <p:nvPr/>
        </p:nvPicPr>
        <p:blipFill>
          <a:blip r:embed="rId3"/>
          <a:srcRect l="8709" t="16444" r="12000" b="17480"/>
          <a:stretch/>
        </p:blipFill>
        <p:spPr>
          <a:xfrm flipH="1" rot="16200000">
            <a:off x="4442760" y="23040"/>
            <a:ext cx="3001680" cy="5486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What Is a Gr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952520" y="1905120"/>
            <a:ext cx="3473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tud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has graduated   college with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p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29487" r="0" b="29303"/>
          <a:stretch/>
        </p:blipFill>
        <p:spPr>
          <a:xfrm>
            <a:off x="0" y="4124160"/>
            <a:ext cx="9144000" cy="225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29900" t="8406" r="22866" b="9573"/>
          <a:stretch/>
        </p:blipFill>
        <p:spPr>
          <a:xfrm>
            <a:off x="4419720" y="1047600"/>
            <a:ext cx="3886200" cy="539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 flipH="1" rot="16200000">
            <a:off x="1333440" y="-190440"/>
            <a:ext cx="3353040" cy="5867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What Is a Millenni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71240" y="1905120"/>
            <a:ext cx="385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ndividu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betwe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0 and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914400"/>
            <a:ext cx="9144000" cy="3809880"/>
          </a:xfrm>
          <a:prstGeom prst="rect">
            <a:avLst/>
          </a:prstGeom>
          <a:solidFill>
            <a:srgbClr val="8f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rcRect l="21055" t="17913" r="18703" b="33839"/>
          <a:stretch/>
        </p:blipFill>
        <p:spPr>
          <a:xfrm>
            <a:off x="447840" y="1066680"/>
            <a:ext cx="2295360" cy="147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/>
          <a:srcRect l="0" t="69774" r="0" b="0"/>
          <a:stretch/>
        </p:blipFill>
        <p:spPr>
          <a:xfrm>
            <a:off x="0" y="4724280"/>
            <a:ext cx="9144000" cy="1650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1_Guy1.png"/>
          <p:cNvPicPr/>
          <p:nvPr/>
        </p:nvPicPr>
        <p:blipFill>
          <a:blip r:embed="rId3"/>
          <a:srcRect l="8955" t="6857" r="24908" b="0"/>
          <a:stretch/>
        </p:blipFill>
        <p:spPr>
          <a:xfrm>
            <a:off x="6740640" y="3886200"/>
            <a:ext cx="2327040" cy="2620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MS PGothic"/>
              </a:rPr>
              <a:t>Recent Grads and Millennials Are Flooding the Job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19160" y="132084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2d"/>
                </a:solidFill>
                <a:latin typeface="Arial"/>
              </a:rPr>
              <a:t>of the US workforce will be </a:t>
            </a:r>
            <a:br>
              <a:rPr sz="3000"/>
            </a:br>
            <a:r>
              <a:rPr b="0" lang="en-US" sz="3000" spc="-1" strike="noStrike">
                <a:solidFill>
                  <a:srgbClr val="2d2d2d"/>
                </a:solidFill>
                <a:latin typeface="Arial"/>
              </a:rPr>
              <a:t>made up of Millennials </a:t>
            </a:r>
            <a:r>
              <a:rPr b="0" lang="en-US" sz="3000" spc="-1" strike="noStrike" u="sng">
                <a:solidFill>
                  <a:srgbClr val="2d2d2d"/>
                </a:solidFill>
                <a:uFillTx/>
                <a:latin typeface="Arial"/>
              </a:rPr>
              <a:t>this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2819520" y="3184560"/>
            <a:ext cx="5638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d2d"/>
                </a:solidFill>
                <a:latin typeface="Arial"/>
                <a:ea typeface="宋体"/>
              </a:rPr>
              <a:t>of the US workforce will be </a:t>
            </a:r>
            <a:br>
              <a:rPr sz="3000"/>
            </a:br>
            <a:r>
              <a:rPr b="0" lang="en-US" sz="3000" spc="-1" strike="noStrike">
                <a:solidFill>
                  <a:srgbClr val="2d2d2d"/>
                </a:solidFill>
                <a:latin typeface="Arial"/>
                <a:ea typeface="宋体"/>
              </a:rPr>
              <a:t>made up of Millennials </a:t>
            </a:r>
            <a:r>
              <a:rPr b="0" lang="en-US" sz="3000" spc="-1" strike="noStrike" u="sng">
                <a:solidFill>
                  <a:srgbClr val="2d2d2d"/>
                </a:solidFill>
                <a:uFillTx/>
                <a:latin typeface="Arial"/>
                <a:ea typeface="宋体"/>
              </a:rPr>
              <a:t>by 20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46.png"/>
          <p:cNvPicPr/>
          <p:nvPr/>
        </p:nvPicPr>
        <p:blipFill>
          <a:blip r:embed="rId4"/>
          <a:stretch/>
        </p:blipFill>
        <p:spPr>
          <a:xfrm>
            <a:off x="533520" y="2955960"/>
            <a:ext cx="2193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Recent Grads and Millennials Are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1_lightbulbmontage.png"/>
          <p:cNvPicPr/>
          <p:nvPr/>
        </p:nvPicPr>
        <p:blipFill>
          <a:blip r:embed="rId2"/>
          <a:srcRect l="6782" t="4633" r="15480" b="0"/>
          <a:stretch/>
        </p:blipFill>
        <p:spPr>
          <a:xfrm>
            <a:off x="0" y="2265480"/>
            <a:ext cx="4368960" cy="428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2438280" y="1143000"/>
            <a:ext cx="609624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By 2016, o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fbc55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8fbc55"/>
                </a:solidFill>
                <a:latin typeface="Arial"/>
              </a:rPr>
              <a:t>22M student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will be enrolled 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U.S. degree-gran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institutions or univers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1_Guy1.png"/>
          <p:cNvPicPr/>
          <p:nvPr/>
        </p:nvPicPr>
        <p:blipFill>
          <a:blip r:embed="rId3"/>
          <a:srcRect l="8955" t="6857" r="24908" b="0"/>
          <a:stretch/>
        </p:blipFill>
        <p:spPr>
          <a:xfrm>
            <a:off x="6740640" y="3886200"/>
            <a:ext cx="23270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9144000" cy="887400"/>
          </a:xfrm>
          <a:prstGeom prst="rect">
            <a:avLst/>
          </a:prstGeom>
          <a:solidFill>
            <a:srgbClr val="6ba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rcRect l="0" t="0" r="0" b="7261"/>
          <a:stretch/>
        </p:blipFill>
        <p:spPr>
          <a:xfrm>
            <a:off x="0" y="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04920" y="228600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fbc55"/>
                </a:solidFill>
                <a:latin typeface="Arial"/>
              </a:rPr>
              <a:t>10 Secrets to Recruiting</a:t>
            </a:r>
            <a:br>
              <a:rPr sz="54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ighte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s and Millenn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1_Chalk1.png"/>
          <p:cNvPicPr/>
          <p:nvPr/>
        </p:nvPicPr>
        <p:blipFill>
          <a:blip r:embed="rId2"/>
          <a:stretch/>
        </p:blipFill>
        <p:spPr>
          <a:xfrm>
            <a:off x="762120" y="3916440"/>
            <a:ext cx="32763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6:50:00Z</dcterms:created>
  <dc:creator>www.eeppt.com</dc:creator>
  <dc:description>www.eeppt.com</dc:description>
  <dc:language>en-US</dc:language>
  <cp:lastModifiedBy>YANGS-PC</cp:lastModifiedBy>
  <cp:lastPrinted>2014-12-18T18:38:00Z</cp:lastPrinted>
  <dcterms:modified xsi:type="dcterms:W3CDTF">2015-08-11T14:20:04Z</dcterms:modified>
  <cp:revision>20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