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D64E-BE48-4966-81A6-20C967025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E456-9FDC-47EC-801B-969D97AF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C5CB-0230-44DF-A5C1-0EB3AC54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CE74-7401-41F6-BC36-6C71288F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F2D5-1807-4C2F-A790-9FBE7D4C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8F32-D073-4D84-9766-8D1F984D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5A99-C46A-403F-8907-1616CA80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D6BE-D6CD-4769-AC07-C28FF643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FF9-3560-4D5B-8F51-D7CB0FAE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8E2C-08F4-4471-9A30-2A5D2D04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FAD3-2D4D-4F07-875C-EFDFF9C2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181F-55F1-4ED3-817E-84F279D5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7875-B4A8-476C-BBD0-DD39843AE4C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85ED-21E0-46FD-B78F-C49CE285325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直接连接符 4"/>
          <p:cNvSpPr/>
          <p:nvPr/>
        </p:nvSpPr>
        <p:spPr>
          <a:xfrm>
            <a:off x="3362400" y="5734080"/>
            <a:ext cx="529740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3691800" y="4869000"/>
            <a:ext cx="42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方正正大黑简体"/>
                <a:ea typeface="方正正大黑简体"/>
              </a:rPr>
              <a:t>爱心齿轮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3914640" y="5877000"/>
            <a:ext cx="311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2CB4-909B-43C2-BBFC-32D27E665A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09:09:00Z</dcterms:created>
  <dc:creator>pc</dc:creator>
  <dc:description>www.eeppt.com;</dc:description>
  <cp:keywords>www.eeppt.com</cp:keywords>
  <dc:language>en-US</dc:language>
  <cp:lastModifiedBy>lenovo</cp:lastModifiedBy>
  <dcterms:modified xsi:type="dcterms:W3CDTF">2015-08-11T14:22:30Z</dcterms:modified>
  <cp:revision>2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