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8AD2-B252-4349-ADB5-6C84745C4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B45C-0071-4C4C-86DC-B98FD12DD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B31A-28AC-4EBD-B01D-175175AC1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AA78-E53F-4211-819D-78C65E043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12A0-E918-4572-B214-4C4F4969D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B3A5-EB94-4FF3-9F0B-44FBBD76CB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10C0-CDBF-46C1-AFF8-447F6635BE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78AF-28C3-4406-950A-CE65F77F0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4FA9-458C-4B53-93B1-727FFC205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9CF5-6A44-4A88-B95D-6A1F80192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614E-DC05-49C7-B9C4-C4C212631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6A20-B2C7-44D6-984C-C9F6B4529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69584A6-11F9-4AD9-9329-55D21B0AAC4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6350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>
            <a:hlinkClick r:id="rId11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68360" y="222876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3534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赛结束总结会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6AB9-2BD6-4BFE-A32E-2CEB94E21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4786200" y="1557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2850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www.eeppt.com</dc:creator>
  <dc:description/>
  <cp:keywords>www.eeppt.com</cp:keywords>
  <dc:language>en-US</dc:language>
  <cp:lastModifiedBy>小田</cp:lastModifiedBy>
  <dcterms:modified xsi:type="dcterms:W3CDTF">2015-08-11T14:22:21Z</dcterms:modified>
  <cp:revision>264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