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17C-AC40-4D0F-AA0E-75EE16F3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E47-CF91-41C7-9AB2-DC505C4E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333-0403-454D-A04E-37E409E5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30F-F9A2-4D3F-AD16-D4A329D9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A9A-5449-4954-89E7-F1F2F40D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24D7-1CD0-48BA-B432-8E92CA77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8B2F-6046-4361-AA51-D373022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63B-5AB2-4DEB-B63B-6C6BB14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EE1-3186-4626-A51A-BC6A4BAE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4CF-C9E4-4572-B544-CE99E88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B5D-9698-4AFF-8FE4-C11F28E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D72-9CA9-4083-A432-704E1C5A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BFD-571B-4F36-9F9A-99D0CE4F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3A63-D080-48DC-BE24-7D69CC0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4674-CE6A-4077-A348-ECA36F61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C439-EFD0-45FC-8A61-A9AF010A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C65-6899-4A96-9C22-E44EC7B0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22C-EAAD-45C0-B5DE-3F2FE3A9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D95-F10A-4735-A0E6-12666E1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6E5-BDDC-41AF-B0E2-50DF55E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EF1-ABB0-4317-A5F9-D6625D2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D69-A38A-4221-97B3-6568AB08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43E-3470-42FC-A29F-2D0423A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D36-D63A-403A-81E0-FF04BE0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F0F34D7D-9B65-4A5D-B4B8-1AAC17E3C084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44E86820-3426-4EC4-86BC-6545DC629650}" type="slidenum">
              <a:rPr b="0" i="1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1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81818"/>
                </a:solidFill>
                <a:latin typeface="Arial"/>
              </a:rPr>
              <a:t>Colour Pencil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54160" y="4968720"/>
            <a:ext cx="5732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234466"/>
                </a:solidFill>
                <a:latin typeface="Arial"/>
              </a:rPr>
              <a:t>Your Name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•"/>
            </a:pP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1680" y="511200"/>
            <a:ext cx="73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色铅笔简单风格欧美</a:t>
            </a:r>
            <a:r>
              <a:rPr b="0" i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i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9314a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153-06B1-45E1-9542-DCB03CA73F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65D-9619-4F3A-A72C-D9506B22F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9314a"/>
                </a:solidFill>
                <a:latin typeface="Arial"/>
              </a:rPr>
              <a:t>Process Flow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3188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6692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77676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28480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79608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2266920" y="1749600"/>
            <a:ext cx="1854360" cy="1269720"/>
          </a:xfrm>
          <a:prstGeom prst="pie">
            <a:avLst/>
          </a:prstGeom>
          <a:solidFill>
            <a:srgbClr val="a2c0d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731880" y="1749600"/>
            <a:ext cx="189864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Freeform 10"/>
          <p:cNvSpPr/>
          <p:nvPr/>
        </p:nvSpPr>
        <p:spPr>
          <a:xfrm>
            <a:off x="3776760" y="1749600"/>
            <a:ext cx="185400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Freeform 11"/>
          <p:cNvSpPr/>
          <p:nvPr/>
        </p:nvSpPr>
        <p:spPr>
          <a:xfrm>
            <a:off x="5284800" y="1749600"/>
            <a:ext cx="1857240" cy="1269720"/>
          </a:xfrm>
          <a:prstGeom prst="pie">
            <a:avLst/>
          </a:prstGeom>
          <a:solidFill>
            <a:srgbClr val="a2c0d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Freeform 12"/>
          <p:cNvSpPr/>
          <p:nvPr/>
        </p:nvSpPr>
        <p:spPr>
          <a:xfrm>
            <a:off x="6796080" y="1749600"/>
            <a:ext cx="185436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004480" y="220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Pla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20240" y="220032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Desig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535200" y="22017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Build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046480" y="220032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Test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54440" y="220176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Evaluate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Colour schem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686040" y="2433600"/>
            <a:ext cx="827280" cy="611280"/>
          </a:xfrm>
          <a:prstGeom prst="rect">
            <a:avLst/>
          </a:prstGeom>
          <a:solidFill>
            <a:srgbClr val="5d91c7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762440" y="2433600"/>
            <a:ext cx="827280" cy="611280"/>
          </a:xfrm>
          <a:prstGeom prst="rect">
            <a:avLst/>
          </a:prstGeom>
          <a:solidFill>
            <a:srgbClr val="89afd5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633760" y="4048200"/>
            <a:ext cx="826920" cy="61128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701880" y="4048200"/>
            <a:ext cx="827280" cy="611280"/>
          </a:xfrm>
          <a:prstGeom prst="rect">
            <a:avLst/>
          </a:prstGeom>
          <a:solidFill>
            <a:srgbClr val="5f5f5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770360" y="4048200"/>
            <a:ext cx="827280" cy="611280"/>
          </a:xfrm>
          <a:prstGeom prst="rect">
            <a:avLst/>
          </a:prstGeom>
          <a:solidFill>
            <a:srgbClr val="0070c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840280" y="4048200"/>
            <a:ext cx="827280" cy="611280"/>
          </a:xfrm>
          <a:prstGeom prst="rect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823000" y="2433600"/>
            <a:ext cx="826920" cy="61128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617920" y="2433600"/>
            <a:ext cx="826920" cy="61128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85720" y="1793880"/>
            <a:ext cx="30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Backgroun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804040" y="167148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ext &amp;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Line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753720" y="179388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Shadow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039640" y="1671480"/>
            <a:ext cx="239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itle</a:t>
            </a:r>
            <a:br>
              <a:rPr sz="1600"/>
            </a:b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ex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861920" y="3408480"/>
            <a:ext cx="23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Fill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09800" y="3408480"/>
            <a:ext cx="26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Accen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743640" y="328608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Accent &amp;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Hyperlink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824720" y="328464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Followe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Hyperlink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49A-B870-48B4-B75B-DAD2C7EB4A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Sample Graph (3 colours)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pic>
        <p:nvPicPr>
          <p:cNvPr id="123" name="Chart 1" descr=""/>
          <p:cNvPicPr/>
          <p:nvPr/>
        </p:nvPicPr>
        <p:blipFill>
          <a:blip r:embed="rId1"/>
          <a:stretch/>
        </p:blipFill>
        <p:spPr>
          <a:xfrm>
            <a:off x="1473120" y="1465200"/>
            <a:ext cx="6197760" cy="39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A24-8211-43DD-9320-AFF9D5FB69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Picture slid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38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  <p:pic>
        <p:nvPicPr>
          <p:cNvPr id="126" name="Picture 4" descr="IMG_9271"/>
          <p:cNvPicPr/>
          <p:nvPr/>
        </p:nvPicPr>
        <p:blipFill>
          <a:blip r:embed="rId1"/>
          <a:stretch/>
        </p:blipFill>
        <p:spPr>
          <a:xfrm>
            <a:off x="5522760" y="749160"/>
            <a:ext cx="2833920" cy="3525840"/>
          </a:xfrm>
          <a:prstGeom prst="rect">
            <a:avLst/>
          </a:prstGeom>
          <a:ln w="57240">
            <a:solidFill>
              <a:srgbClr val="5d91c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148-729B-42C6-8F76-C64E8C968F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12233"/>
                </a:solidFill>
                <a:latin typeface="Arial"/>
              </a:rPr>
              <a:t>Bullet Point Slid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234466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234466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234466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204-5608-4AB6-A3BB-817A578DC5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Example of a tabl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295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5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2f2f2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336394"/>
                    </a:solidFill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2f2f2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336394"/>
                    </a:solidFill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9"/>
          <p:cNvSpPr/>
          <p:nvPr/>
        </p:nvSpPr>
        <p:spPr>
          <a:xfrm>
            <a:off x="471600" y="4649760"/>
            <a:ext cx="75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1800" spc="-1" strike="noStrike">
                <a:solidFill>
                  <a:srgbClr val="5f5f5f"/>
                </a:solidFill>
                <a:latin typeface="Arial"/>
              </a:rPr>
              <a:t>Note:  </a:t>
            </a:r>
            <a:r>
              <a:rPr b="0" i="1" lang="zh-CN" sz="1800" spc="-1" strike="noStrike">
                <a:solidFill>
                  <a:srgbClr val="5f5f5f"/>
                </a:solidFill>
                <a:latin typeface="Arial"/>
              </a:rPr>
              <a:t>PowerPoint does not allow you to have nice default tables - but you can cut and paste this one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440" y="3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en-US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80E-399E-4F1F-B02E-228E084A5B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Examples of default style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41240" y="3576240"/>
            <a:ext cx="46897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400" spc="-1" strike="noStrike">
                <a:solidFill>
                  <a:srgbClr val="234466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70c0"/>
              </a:buClr>
              <a:buSzPct val="25000"/>
              <a:buFont typeface="Arial"/>
              <a:buChar char="•"/>
            </a:pPr>
            <a:r>
              <a:rPr b="0" lang="zh-CN" sz="2400" spc="-1" strike="noStrike" u="sng">
                <a:solidFill>
                  <a:srgbClr val="0070c0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336394"/>
              </a:buClr>
              <a:buSzPct val="25000"/>
              <a:buFont typeface="Arial"/>
              <a:buChar char="•"/>
            </a:pPr>
            <a:r>
              <a:rPr b="0" lang="zh-CN" sz="2400" spc="-1" strike="noStrike" u="sng">
                <a:solidFill>
                  <a:srgbClr val="336394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32440" y="1882800"/>
          <a:ext cx="2233440" cy="1359000"/>
        </p:xfrm>
        <a:graphic>
          <a:graphicData uri="http://schemas.openxmlformats.org/drawingml/2006/table">
            <a:tbl>
              <a:tblPr/>
              <a:tblGrid>
                <a:gridCol w="1117440"/>
                <a:gridCol w="1116000"/>
              </a:tblGrid>
              <a:tr h="67932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5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Table</a:t>
                      </a:r>
                      <a:endParaRPr b="0" i="1" lang="en-US" sz="15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"/>
          <p:cNvSpPr/>
          <p:nvPr/>
        </p:nvSpPr>
        <p:spPr>
          <a:xfrm>
            <a:off x="911160" y="1882800"/>
            <a:ext cx="2232000" cy="136836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Text box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441600" y="1882800"/>
            <a:ext cx="2232000" cy="136836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Text box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with shadow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907-E6CB-444E-A6CF-D461FF654C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Use of template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50920" y="155412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234466"/>
                </a:solidFill>
                <a:latin typeface="Arial"/>
              </a:rPr>
              <a:t>You are free to use these templates for your personal and business presentations.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50920" y="2982960"/>
            <a:ext cx="34099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i="1" lang="zh-CN" sz="1600" spc="-1" strike="noStrike" u="sng">
                <a:solidFill>
                  <a:srgbClr val="234466"/>
                </a:solidFill>
                <a:uFillTx/>
                <a:latin typeface="Arial"/>
              </a:rPr>
              <a:t>Do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Use these templates for your presentation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If you like these templates, we would always appreciate a link back to our website.  Many thanks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495680" y="2982960"/>
            <a:ext cx="36403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i="1" lang="zh-CN" sz="1600" spc="-1" strike="noStrike" u="sng">
                <a:solidFill>
                  <a:srgbClr val="234466"/>
                </a:solidFill>
                <a:uFillTx/>
                <a:latin typeface="Arial"/>
              </a:rPr>
              <a:t>Don’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Resell or distribute these template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Pass off any of our created content as your own work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150920" y="2451240"/>
            <a:ext cx="692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311120" y="5070600"/>
            <a:ext cx="65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234466"/>
                </a:solidFill>
                <a:latin typeface="Arial"/>
              </a:rPr>
              <a:t>You can find many more free PowerPoint templates on the Presentation Magazine website 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A1F-488C-47A9-86CB-59A08E61EF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00Z</dcterms:created>
  <dc:creator>www.eeppt.com</dc:creator>
  <dc:description>www.eeppt.com</dc:description>
  <dc:language>en-US</dc:language>
  <cp:lastModifiedBy>YANGS2015</cp:lastModifiedBy>
  <dcterms:modified xsi:type="dcterms:W3CDTF">2015-08-11T14:22:09Z</dcterms:modified>
  <cp:revision>4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