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92D-2209-4C98-9314-28F277DB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E00-1B5A-48B0-A1F6-E2C4B1D6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C46-EF76-4A91-8934-F856AEDA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699-9DBB-4753-905E-5F2B4A04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50C-077C-4146-9EF4-63ED0DF6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59B-C9E6-476B-B348-7318F39C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12D-54FE-409A-A5C9-CC433464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7B9-E0F6-4427-A066-AC2C8D06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997-00CA-4055-BC68-F5896804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A65-18F1-4480-9305-161649A3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AB3-352C-45CC-A5EB-51E59FC5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425-6F06-4816-88C3-163266E0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13C73-C4D3-4AEF-95FE-2DA40BE8122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A385A-A46E-4702-B7CE-289A730A4E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3000" y="29764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创意灵感画报欧美风设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EF8-6135-487C-8705-F8870E3907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4:03:00Z</dcterms:created>
  <dc:creator>www.eeppt.com</dc:creator>
  <dc:description>www.eeppt.com</dc:description>
  <dc:language>en-US</dc:language>
  <cp:lastModifiedBy>微软用户</cp:lastModifiedBy>
  <dcterms:modified xsi:type="dcterms:W3CDTF">2015-08-12T06:37:56Z</dcterms:modified>
  <cp:revision>9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