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4CF-911E-4F54-9756-BC444437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378216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51C-C6D3-468E-9A92-EA0F82C1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56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1A2-7252-47A5-AB49-D889F279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3876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680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3876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680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FF2-DEF0-44DC-8714-9E204401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4021-3FAB-44C2-B3F6-D50F7313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1525-7BF1-42C9-84FD-2173DB25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CFB9-2908-4D8F-9647-45C4C574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6357-F880-4D14-BB0C-3108B110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A98B-3D2B-429C-A89F-71140728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0720" y="819000"/>
            <a:ext cx="5791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A1F8-BEE6-4179-A140-906574B6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E7EB-E46A-45EB-A2F9-B746496E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47A-1098-4D7D-B892-75D13512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856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D3DC-F055-4F6B-A15B-4433BB94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33B0-1651-4E92-AF40-15D14625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0720" y="378216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37F9-0A9D-42F8-91E9-B9CE3838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856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DF2D-61F2-4466-8ED7-DC779747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3876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680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072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3876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680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7872-38D6-49F1-84C9-4618149D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129-0C34-4D19-A86A-D38079F3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DC2-DA43-4D12-A1D5-0AEE4F61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AFC-5CFF-4E0F-BB2A-D0390EF0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819000"/>
            <a:ext cx="5791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B1E-3375-409C-B25C-55FA7294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184-AA41-43D1-937D-02DE2C5B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56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A8F-644E-4D84-853A-2A5A15CF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E76-BDB9-4534-A4F9-4B77F511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428840" indent="-22860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1771560" indent="-22860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1771560" indent="-228600">
              <a:spcBef>
                <a:spcPts val="1500"/>
              </a:spcBef>
              <a:buClr>
                <a:srgbClr val="f8f8f8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1771560" indent="-228600">
              <a:spcBef>
                <a:spcPts val="1500"/>
              </a:spcBef>
              <a:buClr>
                <a:srgbClr val="f8f8f8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485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0920" y="6248520"/>
            <a:ext cx="38862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FF72-7C91-4A5B-B61F-6962BFA3BCF5}" type="slidenum">
              <a:rPr b="0" lang="zh-CN" sz="1000" spc="-1" strike="noStrike">
                <a:solidFill>
                  <a:srgbClr val="000000"/>
                </a:solidFill>
                <a:latin typeface="Century Gothi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80920" y="6248520"/>
            <a:ext cx="38862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543440" y="62485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B77D-4D1A-4DE0-BCB7-5A90A3C50C99}" type="slidenum">
              <a:rPr b="0" lang="zh-CN" sz="1000" spc="-1" strike="noStrike">
                <a:solidFill>
                  <a:srgbClr val="000000"/>
                </a:solidFill>
                <a:latin typeface="Century Gothi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宋体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lvl="5" marL="1828800">
              <a:spcBef>
                <a:spcPts val="400"/>
              </a:spcBef>
              <a:buClr>
                <a:srgbClr val="f8f8f8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lvl="6" marL="1828800">
              <a:spcBef>
                <a:spcPts val="400"/>
              </a:spcBef>
              <a:buClr>
                <a:srgbClr val="f8f8f8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412640"/>
            <a:ext cx="665964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创造性会议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演说者姓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议程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体讨论目标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规则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体讨论活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续步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关本会议主题的简要概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议程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预期目标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集体讨论目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描述练习目标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新产品或服务构想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新功能构想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功能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产品命名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促销构想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执行某件事的新过程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义最重要的要求或限制条件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规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任何构想都不是不良构想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创造性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冒险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不允许批评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18900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集体讨论活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生构想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游戏和练习“熟悉”创造性思维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构想变慢时，尝试其他练习来产生新构想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划分为较小的组可能更好一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计算机捕获每个意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构想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总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审阅构想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对首选构想投票并进行统一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检查要求和限制条件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对列表进行删减，使其包含前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-10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个构想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8f8f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EBA-8843-4212-9532-04D77815C84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后续步骤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描述随后发生的情况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研究产生的构想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继续采用较大的组？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后续操作生成操作项目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开始将构想转变为现实</a:t>
            </a:r>
            <a:endParaRPr b="0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5:03:46Z</dcterms:created>
  <dc:creator>www.eeppt.com</dc:creator>
  <dc:description/>
  <cp:keywords>www.eeppt.com</cp:keywords>
  <dc:language>en-US</dc:language>
  <cp:lastModifiedBy>微软用户</cp:lastModifiedBy>
  <dcterms:modified xsi:type="dcterms:W3CDTF">2015-08-11T14:21:21Z</dcterms:modified>
  <cp:revision>2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010184372052</vt:lpwstr>
  </property>
</Properties>
</file>