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wav" TargetMode="External"/><Relationship Id="rId2" Type="http://schemas.microsoft.com/office/2007/relationships/media" Target="file:///tmp/home/.config/libreoffice/4/user/gallery/media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4"/>
          <p:cNvSpPr/>
          <p:nvPr/>
        </p:nvSpPr>
        <p:spPr>
          <a:xfrm>
            <a:off x="1218240" y="2111400"/>
            <a:ext cx="264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0a14"/>
                </a:solidFill>
                <a:latin typeface="Adobe Gothic Std B"/>
                <a:ea typeface="Adobe Gothic Std B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TextBox 5"/>
          <p:cNvSpPr/>
          <p:nvPr/>
        </p:nvSpPr>
        <p:spPr>
          <a:xfrm>
            <a:off x="2079000" y="22654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YS  TO  STAY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06120" y="-11811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830160" y="965160"/>
            <a:ext cx="75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动感音乐超强震撼动画欧美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6" dur="1" fill="hold"/>
                                        <p:tgtEl>
                                          <p:spTgt spid="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5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22" presetSubtype="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3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D:\Betsy葛\1\省份.png"/>
          <p:cNvPicPr/>
          <p:nvPr/>
        </p:nvPicPr>
        <p:blipFill>
          <a:blip r:embed="rId1"/>
          <a:stretch/>
        </p:blipFill>
        <p:spPr>
          <a:xfrm>
            <a:off x="4019400" y="1279440"/>
            <a:ext cx="3862440" cy="391176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15"/>
          <p:cNvGrpSpPr/>
          <p:nvPr/>
        </p:nvGrpSpPr>
        <p:grpSpPr>
          <a:xfrm>
            <a:off x="4932360" y="1301760"/>
            <a:ext cx="1944720" cy="3290760"/>
            <a:chOff x="4932360" y="1301760"/>
            <a:chExt cx="1944720" cy="3290760"/>
          </a:xfrm>
        </p:grpSpPr>
        <p:grpSp>
          <p:nvGrpSpPr>
            <p:cNvPr id="164" name="组合 3"/>
            <p:cNvGrpSpPr/>
            <p:nvPr/>
          </p:nvGrpSpPr>
          <p:grpSpPr>
            <a:xfrm>
              <a:off x="4932360" y="1301760"/>
              <a:ext cx="1944720" cy="3290760"/>
              <a:chOff x="4932360" y="1301760"/>
              <a:chExt cx="1944720" cy="3290760"/>
            </a:xfrm>
          </p:grpSpPr>
          <p:sp>
            <p:nvSpPr>
              <p:cNvPr id="165" name="圆角矩形 1"/>
              <p:cNvSpPr/>
              <p:nvPr/>
            </p:nvSpPr>
            <p:spPr>
              <a:xfrm>
                <a:off x="4932360" y="1495440"/>
                <a:ext cx="1944720" cy="3097080"/>
              </a:xfrm>
              <a:custGeom>
                <a:avLst/>
                <a:gdLst>
                  <a:gd name="textAreaLeft" fmla="*/ 94680 w 1944720"/>
                  <a:gd name="textAreaRight" fmla="*/ 1850040 w 1944720"/>
                  <a:gd name="textAreaTop" fmla="*/ 94680 h 3097080"/>
                  <a:gd name="textAreaBottom" fmla="*/ 3002400 h 3097080"/>
                </a:gdLst>
                <a:ahLst/>
                <a:rect l="textAreaLeft" t="textAreaTop" r="textAreaRight" b="textAreaBottom"/>
                <a:pathLst>
                  <a:path w="21600" h="34397">
                    <a:moveTo>
                      <a:pt x="3600" y="0"/>
                    </a:moveTo>
                    <a:arcTo wR="3600" hR="3600" stAng="16200000" swAng="-5400000"/>
                    <a:lnTo>
                      <a:pt x="0" y="30797"/>
                    </a:lnTo>
                    <a:arcTo wR="3600" hR="3600" stAng="10800000" swAng="-5400000"/>
                    <a:lnTo>
                      <a:pt x="18000" y="343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圆角矩形 2"/>
              <p:cNvSpPr/>
              <p:nvPr/>
            </p:nvSpPr>
            <p:spPr>
              <a:xfrm>
                <a:off x="4932360" y="1301760"/>
                <a:ext cx="1944720" cy="12747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椭圆 4"/>
            <p:cNvSpPr/>
            <p:nvPr/>
          </p:nvSpPr>
          <p:spPr>
            <a:xfrm>
              <a:off x="5256000" y="2792520"/>
              <a:ext cx="1297080" cy="129528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5"/>
            <p:cNvSpPr/>
            <p:nvPr/>
          </p:nvSpPr>
          <p:spPr>
            <a:xfrm rot="5400000">
              <a:off x="5911920" y="2944800"/>
              <a:ext cx="109440" cy="163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9" name="组合 9"/>
            <p:cNvGrpSpPr/>
            <p:nvPr/>
          </p:nvGrpSpPr>
          <p:grpSpPr>
            <a:xfrm>
              <a:off x="6283080" y="3407040"/>
              <a:ext cx="177840" cy="109080"/>
              <a:chOff x="6283080" y="3407040"/>
              <a:chExt cx="177840" cy="109080"/>
            </a:xfrm>
          </p:grpSpPr>
          <p:sp>
            <p:nvSpPr>
              <p:cNvPr id="170" name="等腰三角形 6"/>
              <p:cNvSpPr/>
              <p:nvPr/>
            </p:nvSpPr>
            <p:spPr>
              <a:xfrm rot="5400000">
                <a:off x="6308640" y="3381480"/>
                <a:ext cx="102960" cy="154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 rot="5400000">
                <a:off x="6359400" y="3413160"/>
                <a:ext cx="102960" cy="100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矩形 8"/>
              <p:cNvSpPr/>
              <p:nvPr/>
            </p:nvSpPr>
            <p:spPr>
              <a:xfrm>
                <a:off x="6427800" y="3411720"/>
                <a:ext cx="33120" cy="10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3" name="组合 10"/>
            <p:cNvGrpSpPr/>
            <p:nvPr/>
          </p:nvGrpSpPr>
          <p:grpSpPr>
            <a:xfrm>
              <a:off x="5347080" y="3407040"/>
              <a:ext cx="177840" cy="109080"/>
              <a:chOff x="5347080" y="3407040"/>
              <a:chExt cx="177840" cy="109080"/>
            </a:xfrm>
          </p:grpSpPr>
          <p:sp>
            <p:nvSpPr>
              <p:cNvPr id="174" name="等腰三角形 11"/>
              <p:cNvSpPr/>
              <p:nvPr/>
            </p:nvSpPr>
            <p:spPr>
              <a:xfrm flipH="1" rot="16200000">
                <a:off x="5396400" y="3381480"/>
                <a:ext cx="102960" cy="154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等腰三角形 12"/>
              <p:cNvSpPr/>
              <p:nvPr/>
            </p:nvSpPr>
            <p:spPr>
              <a:xfrm flipH="1" rot="16200000">
                <a:off x="5345640" y="3413160"/>
                <a:ext cx="102960" cy="100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矩形 13"/>
              <p:cNvSpPr/>
              <p:nvPr/>
            </p:nvSpPr>
            <p:spPr>
              <a:xfrm flipH="1">
                <a:off x="5347080" y="3411720"/>
                <a:ext cx="33120" cy="10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7" name="矩形 14"/>
            <p:cNvSpPr/>
            <p:nvPr/>
          </p:nvSpPr>
          <p:spPr>
            <a:xfrm>
              <a:off x="5859360" y="3871800"/>
              <a:ext cx="90360" cy="91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椭圆 16"/>
            <p:cNvSpPr/>
            <p:nvPr/>
          </p:nvSpPr>
          <p:spPr>
            <a:xfrm>
              <a:off x="5653080" y="3211560"/>
              <a:ext cx="503280" cy="504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7"/>
            <p:cNvSpPr/>
            <p:nvPr/>
          </p:nvSpPr>
          <p:spPr>
            <a:xfrm>
              <a:off x="5165640" y="1495440"/>
              <a:ext cx="1492200" cy="1081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extBox 19"/>
          <p:cNvSpPr/>
          <p:nvPr/>
        </p:nvSpPr>
        <p:spPr>
          <a:xfrm>
            <a:off x="4557240" y="127944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D:\Betsy葛\1\黑色的音乐符.png"/>
          <p:cNvPicPr/>
          <p:nvPr/>
        </p:nvPicPr>
        <p:blipFill>
          <a:blip r:embed="rId2"/>
          <a:stretch/>
        </p:blipFill>
        <p:spPr>
          <a:xfrm>
            <a:off x="6227640" y="1573200"/>
            <a:ext cx="247680" cy="365040"/>
          </a:xfrm>
          <a:prstGeom prst="rect">
            <a:avLst/>
          </a:prstGeom>
          <a:ln w="0">
            <a:noFill/>
          </a:ln>
        </p:spPr>
      </p:pic>
      <p:sp>
        <p:nvSpPr>
          <p:cNvPr id="182" name="等腰三角形 21"/>
          <p:cNvSpPr/>
          <p:nvPr/>
        </p:nvSpPr>
        <p:spPr>
          <a:xfrm rot="5400000">
            <a:off x="5911920" y="2944800"/>
            <a:ext cx="108000" cy="16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D:\Betsy葛\1\黑色的音乐符.png"/>
          <p:cNvPicPr/>
          <p:nvPr/>
        </p:nvPicPr>
        <p:blipFill>
          <a:blip r:embed="rId3"/>
          <a:stretch/>
        </p:blipFill>
        <p:spPr>
          <a:xfrm>
            <a:off x="6372360" y="162576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D:\Betsy葛\1\oj.png"/>
          <p:cNvPicPr/>
          <p:nvPr/>
        </p:nvPicPr>
        <p:blipFill>
          <a:blip r:embed="rId4"/>
          <a:stretch/>
        </p:blipFill>
        <p:spPr>
          <a:xfrm>
            <a:off x="14022360" y="1665360"/>
            <a:ext cx="2789280" cy="3300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5"/>
          <a:stretch/>
        </p:blipFill>
        <p:spPr>
          <a:xfrm>
            <a:off x="6453360" y="3700440"/>
            <a:ext cx="2485800" cy="1706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D:\Betsy葛\1\fg.png"/>
          <p:cNvPicPr/>
          <p:nvPr/>
        </p:nvPicPr>
        <p:blipFill>
          <a:blip r:embed="rId6"/>
          <a:stretch/>
        </p:blipFill>
        <p:spPr>
          <a:xfrm>
            <a:off x="8931240" y="3973680"/>
            <a:ext cx="5110200" cy="1116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8"/>
          <p:cNvSpPr/>
          <p:nvPr/>
        </p:nvSpPr>
        <p:spPr>
          <a:xfrm>
            <a:off x="-136800" y="66996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9"/>
          <p:cNvSpPr/>
          <p:nvPr/>
        </p:nvSpPr>
        <p:spPr>
          <a:xfrm>
            <a:off x="800280" y="66996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 NEW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3" descr="D:\Betsy葛\1\YU.png"/>
          <p:cNvPicPr/>
          <p:nvPr/>
        </p:nvPicPr>
        <p:blipFill>
          <a:blip r:embed="rId7"/>
          <a:stretch/>
        </p:blipFill>
        <p:spPr>
          <a:xfrm>
            <a:off x="439560" y="619200"/>
            <a:ext cx="335160" cy="384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D:\Betsy葛\1\YU.png"/>
          <p:cNvPicPr/>
          <p:nvPr/>
        </p:nvPicPr>
        <p:blipFill>
          <a:blip r:embed="rId8"/>
          <a:stretch/>
        </p:blipFill>
        <p:spPr>
          <a:xfrm>
            <a:off x="439560" y="619200"/>
            <a:ext cx="335160" cy="384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D:\Betsy葛\1\DFT.png"/>
          <p:cNvPicPr/>
          <p:nvPr/>
        </p:nvPicPr>
        <p:blipFill>
          <a:blip r:embed="rId9"/>
          <a:stretch/>
        </p:blipFill>
        <p:spPr>
          <a:xfrm>
            <a:off x="439560" y="619200"/>
            <a:ext cx="335160" cy="384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D:\Betsy葛\1\DFT.png"/>
          <p:cNvPicPr/>
          <p:nvPr/>
        </p:nvPicPr>
        <p:blipFill>
          <a:blip r:embed="rId10"/>
          <a:stretch/>
        </p:blipFill>
        <p:spPr>
          <a:xfrm>
            <a:off x="439560" y="619200"/>
            <a:ext cx="335160" cy="3841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00"/>
                            </p:stCondLst>
                            <p:childTnLst>
                              <p:par>
                                <p:cTn id="502" dur="indefinite" nodeType="after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3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4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4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900"/>
                            </p:stCondLst>
                            <p:childTnLst>
                              <p:par>
                                <p:cTn id="5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4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60494E-006 L -1.05 1.60494E-006 E">
                                      <p:cBhvr>
                                        <p:cTn id="531" dur="1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60494E-006 L -1.05 1.60494E-006 E">
                                      <p:cBhvr>
                                        <p:cTn id="533" dur="1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-1.05 3.7037E-007 E">
                                      <p:cBhvr>
                                        <p:cTn id="535" dur="1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800"/>
                            </p:stCondLst>
                            <p:childTnLst>
                              <p:par>
                                <p:cTn id="5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200"/>
                            </p:stCondLst>
                            <p:childTnLst>
                              <p:par>
                                <p:cTn id="5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700"/>
                            </p:stCondLst>
                            <p:childTnLst>
                              <p:par>
                                <p:cTn id="55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800"/>
                            </p:stCondLst>
                            <p:childTnLst>
                              <p:par>
                                <p:cTn id="56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6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900"/>
                            </p:stCondLst>
                            <p:childTnLst>
                              <p:par>
                                <p:cTn id="56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44"/>
          <p:cNvSpPr/>
          <p:nvPr/>
        </p:nvSpPr>
        <p:spPr>
          <a:xfrm>
            <a:off x="2617920" y="988920"/>
            <a:ext cx="1954080" cy="316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45"/>
          <p:cNvSpPr/>
          <p:nvPr/>
        </p:nvSpPr>
        <p:spPr>
          <a:xfrm>
            <a:off x="4572000" y="988920"/>
            <a:ext cx="1986120" cy="316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2"/>
          <p:cNvSpPr/>
          <p:nvPr/>
        </p:nvSpPr>
        <p:spPr>
          <a:xfrm>
            <a:off x="2610000" y="988920"/>
            <a:ext cx="3924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5"/>
          <p:cNvSpPr/>
          <p:nvPr/>
        </p:nvSpPr>
        <p:spPr>
          <a:xfrm>
            <a:off x="6546960" y="988920"/>
            <a:ext cx="0" cy="31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8"/>
          <p:cNvSpPr/>
          <p:nvPr/>
        </p:nvSpPr>
        <p:spPr>
          <a:xfrm>
            <a:off x="2610000" y="988920"/>
            <a:ext cx="0" cy="31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10"/>
          <p:cNvSpPr/>
          <p:nvPr/>
        </p:nvSpPr>
        <p:spPr>
          <a:xfrm>
            <a:off x="2610000" y="4154400"/>
            <a:ext cx="3924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2248200" y="1247760"/>
            <a:ext cx="4420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4"/>
          <p:cNvGrpSpPr/>
          <p:nvPr/>
        </p:nvGrpSpPr>
        <p:grpSpPr>
          <a:xfrm>
            <a:off x="866880" y="770040"/>
            <a:ext cx="3487680" cy="3535200"/>
            <a:chOff x="866880" y="770040"/>
            <a:chExt cx="3487680" cy="3535200"/>
          </a:xfrm>
        </p:grpSpPr>
        <p:sp>
          <p:nvSpPr>
            <p:cNvPr id="201" name="梯形 29"/>
            <p:cNvSpPr/>
            <p:nvPr/>
          </p:nvSpPr>
          <p:spPr>
            <a:xfrm rot="16200000">
              <a:off x="1715400" y="1666080"/>
              <a:ext cx="3535200" cy="174312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3"/>
            <p:cNvSpPr/>
            <p:nvPr/>
          </p:nvSpPr>
          <p:spPr>
            <a:xfrm>
              <a:off x="866880" y="3124080"/>
              <a:ext cx="4060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0"/>
          <p:cNvGrpSpPr/>
          <p:nvPr/>
        </p:nvGrpSpPr>
        <p:grpSpPr>
          <a:xfrm>
            <a:off x="4673520" y="758520"/>
            <a:ext cx="3726000" cy="3537000"/>
            <a:chOff x="4673520" y="758520"/>
            <a:chExt cx="3726000" cy="3537000"/>
          </a:xfrm>
        </p:grpSpPr>
        <p:sp>
          <p:nvSpPr>
            <p:cNvPr id="204" name="梯形 29"/>
            <p:cNvSpPr/>
            <p:nvPr/>
          </p:nvSpPr>
          <p:spPr>
            <a:xfrm flipH="1" rot="5400000">
              <a:off x="3835800" y="1595880"/>
              <a:ext cx="3537000" cy="186228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32"/>
            <p:cNvSpPr/>
            <p:nvPr/>
          </p:nvSpPr>
          <p:spPr>
            <a:xfrm flipH="1">
              <a:off x="7966080" y="3114720"/>
              <a:ext cx="43344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TextBox 18"/>
          <p:cNvSpPr/>
          <p:nvPr/>
        </p:nvSpPr>
        <p:spPr>
          <a:xfrm>
            <a:off x="3837240" y="2143080"/>
            <a:ext cx="35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BE 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"/>
                            </p:stCondLst>
                            <p:childTnLst>
                              <p:par>
                                <p:cTn id="5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50"/>
                            </p:stCondLst>
                            <p:childTnLst>
                              <p:par>
                                <p:cTn id="5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2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950"/>
                            </p:stCondLst>
                            <p:childTnLst>
                              <p:par>
                                <p:cTn id="60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7" dur="1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0" dur="1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60"/>
                            </p:stCondLst>
                            <p:childTnLst>
                              <p:par>
                                <p:cTn id="6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7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7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7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7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710"/>
                            </p:stCondLst>
                            <p:childTnLst>
                              <p:par>
                                <p:cTn id="6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210"/>
                            </p:stCondLst>
                            <p:childTnLst>
                              <p:par>
                                <p:cTn id="6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任意多边形 33"/>
          <p:cNvSpPr/>
          <p:nvPr/>
        </p:nvSpPr>
        <p:spPr>
          <a:xfrm rot="20811000">
            <a:off x="4336920" y="520200"/>
            <a:ext cx="1684440" cy="1454400"/>
          </a:xfrm>
          <a:prstGeom prst="pie">
            <a:avLst/>
          </a:prstGeom>
          <a:solidFill>
            <a:srgbClr val="bfbfb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22"/>
          <p:cNvSpPr/>
          <p:nvPr/>
        </p:nvSpPr>
        <p:spPr>
          <a:xfrm>
            <a:off x="-906480" y="3533760"/>
            <a:ext cx="34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607320" y="3895560"/>
            <a:ext cx="47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RROUND YOUR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603000" y="4352760"/>
            <a:ext cx="50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REA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任意多边形 30"/>
          <p:cNvSpPr/>
          <p:nvPr/>
        </p:nvSpPr>
        <p:spPr>
          <a:xfrm rot="21205200">
            <a:off x="4452840" y="732960"/>
            <a:ext cx="1193760" cy="1030320"/>
          </a:xfrm>
          <a:prstGeom prst="pie">
            <a:avLst/>
          </a:prstGeom>
          <a:solidFill>
            <a:srgbClr val="5f497a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任意多边形 26"/>
          <p:cNvSpPr/>
          <p:nvPr/>
        </p:nvSpPr>
        <p:spPr>
          <a:xfrm rot="21127200">
            <a:off x="4277880" y="572760"/>
            <a:ext cx="1656000" cy="1347840"/>
          </a:xfrm>
          <a:prstGeom prst="pie">
            <a:avLst/>
          </a:prstGeom>
          <a:solidFill>
            <a:srgbClr val="8cbd1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任意多边形 27"/>
          <p:cNvSpPr/>
          <p:nvPr/>
        </p:nvSpPr>
        <p:spPr>
          <a:xfrm rot="20597400">
            <a:off x="4195800" y="465120"/>
            <a:ext cx="1811160" cy="1563840"/>
          </a:xfrm>
          <a:prstGeom prst="pie">
            <a:avLst/>
          </a:prstGeom>
          <a:solidFill>
            <a:srgbClr val="e4da1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任意多边形 31"/>
          <p:cNvSpPr/>
          <p:nvPr/>
        </p:nvSpPr>
        <p:spPr>
          <a:xfrm rot="20922600">
            <a:off x="4029120" y="420840"/>
            <a:ext cx="2016000" cy="1612800"/>
          </a:xfrm>
          <a:prstGeom prst="pie">
            <a:avLst/>
          </a:prstGeom>
          <a:solidFill>
            <a:srgbClr val="ff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任意多边形 32"/>
          <p:cNvSpPr/>
          <p:nvPr/>
        </p:nvSpPr>
        <p:spPr>
          <a:xfrm rot="20811000">
            <a:off x="4079880" y="384120"/>
            <a:ext cx="1940040" cy="1673280"/>
          </a:xfrm>
          <a:prstGeom prst="pie">
            <a:avLst/>
          </a:prstGeom>
          <a:solidFill>
            <a:srgbClr val="8cb3e3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任意多边形 29"/>
          <p:cNvSpPr/>
          <p:nvPr/>
        </p:nvSpPr>
        <p:spPr>
          <a:xfrm rot="20626800">
            <a:off x="3417840" y="1052640"/>
            <a:ext cx="1550880" cy="13381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9 -0.09013 C 0.13264 -0.09013 0.28611 0.01697 0.28611 0.15123 C 0.28611 0.28426 0.13264 0.3929 -0.0559 0.3929 C -0.24444 0.3929 -0.39722 0.28426 -0.39722 0.15123 C -0.39722 0.01697 -0.24444 -0.09013 -0.0559 -0.09013 Z">
                                      <p:cBhvr>
                                        <p:cTn id="641" dur="3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path" presetID="1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198 -0.08982 C 0.12657 -0.08982 0.28004 0.01728 0.28004 0.15154 C 0.28004 0.28457 0.12657 0.39321 -0.06198 0.39321 C -0.25052 0.39321 -0.4033 0.28457 -0.4033 0.15154 C -0.4033 0.01728 -0.25052 -0.08982 -0.06198 -0.08982 Z">
                                      <p:cBhvr>
                                        <p:cTn id="646" dur="3571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path" presetID="1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6146 -0.08982 C 0.12708 -0.08982 0.28056 0.01728 0.28056 0.15154 C 0.28056 0.28457 0.12708 0.39321 -0.06146 0.39321 C -0.25 0.39321 -0.40278 0.28457 -0.40278 0.15154 C -0.40278 0.01728 -0.25 -0.08982 -0.06146 -0.08982 Z">
                                      <p:cBhvr>
                                        <p:cTn id="651" dur="3917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path" presetID="1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559 -0.08487 C 0.13264 -0.08487 0.28611 0.02222 0.28611 0.15648 C 0.28611 0.28951 0.13264 0.39815 -0.0559 0.39815 C -0.24444 0.39815 -0.39722 0.28951 -0.39722 0.15648 C -0.39722 0.02222 -0.24444 -0.08487 -0.0559 -0.08487 Z">
                                      <p:cBhvr>
                                        <p:cTn id="656" dur="37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7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7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path" presetID="1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5451 -0.08611 C 0.13403 -0.08611 0.2875 0.02099 0.2875 0.15525 C 0.2875 0.28827 0.13403 0.39691 -0.05451 0.39691 C -0.24305 0.39691 -0.39583 0.28827 -0.39583 0.15525 C -0.39583 0.02099 -0.24305 -0.08611 -0.05451 -0.08611 Z">
                                      <p:cBhvr>
                                        <p:cTn id="667" dur="3125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1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-943920" y="3629160"/>
            <a:ext cx="34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697680" y="4346640"/>
            <a:ext cx="45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ET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宋体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任意多边形 25"/>
          <p:cNvSpPr/>
          <p:nvPr/>
        </p:nvSpPr>
        <p:spPr>
          <a:xfrm>
            <a:off x="3238560" y="1944720"/>
            <a:ext cx="1173240" cy="101124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右箭头 3"/>
          <p:cNvSpPr/>
          <p:nvPr/>
        </p:nvSpPr>
        <p:spPr>
          <a:xfrm>
            <a:off x="2479680" y="2432160"/>
            <a:ext cx="369720" cy="277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右箭头 3"/>
          <p:cNvSpPr/>
          <p:nvPr/>
        </p:nvSpPr>
        <p:spPr>
          <a:xfrm>
            <a:off x="2525760" y="2432160"/>
            <a:ext cx="371520" cy="277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右箭头 3"/>
          <p:cNvSpPr/>
          <p:nvPr/>
        </p:nvSpPr>
        <p:spPr>
          <a:xfrm flipH="1" rot="16200000">
            <a:off x="4153680" y="1037160"/>
            <a:ext cx="423720" cy="2541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右箭头 3"/>
          <p:cNvSpPr/>
          <p:nvPr/>
        </p:nvSpPr>
        <p:spPr>
          <a:xfrm flipH="1" rot="16200000">
            <a:off x="4152960" y="1046160"/>
            <a:ext cx="425520" cy="25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右箭头 3"/>
          <p:cNvSpPr/>
          <p:nvPr/>
        </p:nvSpPr>
        <p:spPr>
          <a:xfrm rot="10800000">
            <a:off x="5648040" y="2484360"/>
            <a:ext cx="369720" cy="279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右箭头 3"/>
          <p:cNvSpPr/>
          <p:nvPr/>
        </p:nvSpPr>
        <p:spPr>
          <a:xfrm rot="10800000">
            <a:off x="5668920" y="2484360"/>
            <a:ext cx="371520" cy="27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任意多边形 58"/>
          <p:cNvSpPr/>
          <p:nvPr/>
        </p:nvSpPr>
        <p:spPr>
          <a:xfrm>
            <a:off x="6638760" y="3611520"/>
            <a:ext cx="1602000" cy="138276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右箭头 3"/>
          <p:cNvSpPr/>
          <p:nvPr/>
        </p:nvSpPr>
        <p:spPr>
          <a:xfrm>
            <a:off x="5308560" y="4305240"/>
            <a:ext cx="560520" cy="42228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右箭头 3"/>
          <p:cNvSpPr/>
          <p:nvPr/>
        </p:nvSpPr>
        <p:spPr>
          <a:xfrm>
            <a:off x="5356080" y="4305240"/>
            <a:ext cx="560520" cy="42228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右箭头 3"/>
          <p:cNvSpPr/>
          <p:nvPr/>
        </p:nvSpPr>
        <p:spPr>
          <a:xfrm flipH="1" rot="16200000">
            <a:off x="7173360" y="2710440"/>
            <a:ext cx="641520" cy="38268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右箭头 3"/>
          <p:cNvSpPr/>
          <p:nvPr/>
        </p:nvSpPr>
        <p:spPr>
          <a:xfrm flipH="1" rot="16200000">
            <a:off x="7173360" y="2705760"/>
            <a:ext cx="641520" cy="38268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右箭头 3"/>
          <p:cNvSpPr/>
          <p:nvPr/>
        </p:nvSpPr>
        <p:spPr>
          <a:xfrm rot="10800000">
            <a:off x="8476920" y="4358880"/>
            <a:ext cx="560520" cy="42084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右箭头 3"/>
          <p:cNvSpPr/>
          <p:nvPr/>
        </p:nvSpPr>
        <p:spPr>
          <a:xfrm rot="10800000">
            <a:off x="8486280" y="4377960"/>
            <a:ext cx="559080" cy="42084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任意多边形 65"/>
          <p:cNvSpPr/>
          <p:nvPr/>
        </p:nvSpPr>
        <p:spPr>
          <a:xfrm>
            <a:off x="1292400" y="395280"/>
            <a:ext cx="776160" cy="66852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右箭头 3"/>
          <p:cNvSpPr/>
          <p:nvPr/>
        </p:nvSpPr>
        <p:spPr>
          <a:xfrm>
            <a:off x="460440" y="658800"/>
            <a:ext cx="271440" cy="20484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右箭头 3"/>
          <p:cNvSpPr/>
          <p:nvPr/>
        </p:nvSpPr>
        <p:spPr>
          <a:xfrm>
            <a:off x="507960" y="658800"/>
            <a:ext cx="271440" cy="20484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右箭头 3"/>
          <p:cNvSpPr/>
          <p:nvPr/>
        </p:nvSpPr>
        <p:spPr>
          <a:xfrm flipH="1" rot="16200000">
            <a:off x="1533960" y="21240"/>
            <a:ext cx="311400" cy="18576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右箭头 3"/>
          <p:cNvSpPr/>
          <p:nvPr/>
        </p:nvSpPr>
        <p:spPr>
          <a:xfrm flipH="1" rot="16200000">
            <a:off x="1535040" y="17280"/>
            <a:ext cx="309240" cy="18576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右箭头 3"/>
          <p:cNvSpPr/>
          <p:nvPr/>
        </p:nvSpPr>
        <p:spPr>
          <a:xfrm rot="10800000">
            <a:off x="2341440" y="669600"/>
            <a:ext cx="270000" cy="20484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右箭头 3"/>
          <p:cNvSpPr/>
          <p:nvPr/>
        </p:nvSpPr>
        <p:spPr>
          <a:xfrm rot="10800000">
            <a:off x="2349360" y="669600"/>
            <a:ext cx="271440" cy="204840"/>
          </a:xfrm>
          <a:prstGeom prst="pie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2"/>
          <p:cNvSpPr/>
          <p:nvPr/>
        </p:nvSpPr>
        <p:spPr>
          <a:xfrm>
            <a:off x="228600" y="463680"/>
            <a:ext cx="2136600" cy="1842840"/>
          </a:xfrm>
          <a:prstGeom prst="pie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任意多边形 73"/>
          <p:cNvSpPr/>
          <p:nvPr/>
        </p:nvSpPr>
        <p:spPr>
          <a:xfrm>
            <a:off x="6985080" y="1604880"/>
            <a:ext cx="392040" cy="33984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右箭头 3"/>
          <p:cNvSpPr/>
          <p:nvPr/>
        </p:nvSpPr>
        <p:spPr>
          <a:xfrm>
            <a:off x="6483240" y="1639800"/>
            <a:ext cx="136800" cy="10332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右箭头 3"/>
          <p:cNvSpPr/>
          <p:nvPr/>
        </p:nvSpPr>
        <p:spPr>
          <a:xfrm>
            <a:off x="6531120" y="1639800"/>
            <a:ext cx="136440" cy="10332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右箭头 3"/>
          <p:cNvSpPr/>
          <p:nvPr/>
        </p:nvSpPr>
        <p:spPr>
          <a:xfrm flipH="1" rot="16200000">
            <a:off x="7080480" y="1305000"/>
            <a:ext cx="156960" cy="9360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右箭头 3"/>
          <p:cNvSpPr/>
          <p:nvPr/>
        </p:nvSpPr>
        <p:spPr>
          <a:xfrm flipH="1" rot="16200000">
            <a:off x="7080120" y="1299960"/>
            <a:ext cx="157320" cy="9360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右箭头 3"/>
          <p:cNvSpPr/>
          <p:nvPr/>
        </p:nvSpPr>
        <p:spPr>
          <a:xfrm rot="10800000">
            <a:off x="7486560" y="1650600"/>
            <a:ext cx="138240" cy="10332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右箭头 3"/>
          <p:cNvSpPr/>
          <p:nvPr/>
        </p:nvSpPr>
        <p:spPr>
          <a:xfrm rot="10800000">
            <a:off x="7495920" y="1650600"/>
            <a:ext cx="136440" cy="10332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5679E-006 L 0.06215 -4.5679E-006 E">
                                      <p:cBhvr>
                                        <p:cTn id="686" dur="3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path" presetID="63" repeatCount="8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5802E-006 L 0.02621 -1.35802E-006 E">
                                      <p:cBhvr>
                                        <p:cTn id="693" dur="15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503 -1.35802E-006 L 0.02118 -1.35802E-006 E">
                                      <p:cBhvr>
                                        <p:cTn id="697" dur="15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path" presetID="42" repeatCount="8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5.55556E-007 -0.03519 L -5.55556E-007 4.07407E-006 E">
                                      <p:cBhvr>
                                        <p:cTn id="704" dur="142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63" repeatCount="6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94444E-006 4.81481E-006 L -0.02552 4.81481E-006 E">
                                      <p:cBhvr>
                                        <p:cTn id="710" dur="15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2795 4.81481E-006 L -0.02535 4.81481E-006 E">
                                      <p:cBhvr>
                                        <p:cTn id="714" dur="15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path" presetID="63" repeatCount="4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35802E-006 L 0.02621 -1.35802E-006 E">
                                      <p:cBhvr>
                                        <p:cTn id="721" dur="15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503 -1.35802E-006 L 0.02118 -1.35802E-006 E">
                                      <p:cBhvr>
                                        <p:cTn id="725" dur="15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path" presetID="42" repeatCount="6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-0.03519 L -5.55556E-007 4.07407E-006 E">
                                      <p:cBhvr>
                                        <p:cTn id="732" dur="163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path" presetID="63" repeatCount="6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3177 0.00123 L 3.33333E-006 3.82716E-006 E">
                                      <p:cBhvr>
                                        <p:cTn id="738" dur="125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path" presetID="63" repeatCount="400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5.55556E-007 -1.35802E-006 L 0.02621 -1.35802E-006 E">
                                      <p:cBhvr>
                                        <p:cTn id="745" dur="15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dur="indefinite" nodeType="withEffect" fill="hold" presetClass="path" presetID="63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0503 -1.35802E-006 L 0.02118 -1.35802E-006 E">
                                      <p:cBhvr>
                                        <p:cTn id="749" dur="15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path" presetID="42" repeatCount="600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5.55556E-007 -0.03519 L -5.55556E-007 4.07407E-006 E">
                                      <p:cBhvr>
                                        <p:cTn id="756" dur="163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path" presetID="63" repeatCount="600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0.03177 0.00123 L 3.33333E-006 3.82716E-006 E">
                                      <p:cBhvr>
                                        <p:cTn id="762" dur="125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4.32099E-006 L -0.02847 0.04754 E">
                                      <p:cBhvr>
                                        <p:cTn id="772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path" presetID="63" repeatCount="400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5.55556E-007 -1.35802E-006 L 0.02621 -1.35802E-006 E">
                                      <p:cBhvr>
                                        <p:cTn id="779" dur="15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path" presetID="63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0503 -1.35802E-006 L 0.02118 -1.35802E-006 E">
                                      <p:cBhvr>
                                        <p:cTn id="783" dur="15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path" presetID="42" repeatCount="600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5.55556E-007 -0.03519 L -5.55556E-007 4.07407E-006 E">
                                      <p:cBhvr>
                                        <p:cTn id="790" dur="163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path" presetID="63" repeatCount="600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.03177 0.00123 L 3.33333E-006 3.82716E-006 E">
                                      <p:cBhvr>
                                        <p:cTn id="796" dur="125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直接连接符 172"/>
          <p:cNvSpPr/>
          <p:nvPr/>
        </p:nvSpPr>
        <p:spPr>
          <a:xfrm flipH="1" flipV="1">
            <a:off x="3300480" y="-178200"/>
            <a:ext cx="42552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组合 144"/>
          <p:cNvGrpSpPr/>
          <p:nvPr/>
        </p:nvGrpSpPr>
        <p:grpSpPr>
          <a:xfrm>
            <a:off x="4319640" y="2246400"/>
            <a:ext cx="758880" cy="758880"/>
            <a:chOff x="4319640" y="2246400"/>
            <a:chExt cx="758880" cy="758880"/>
          </a:xfrm>
        </p:grpSpPr>
        <p:sp>
          <p:nvSpPr>
            <p:cNvPr id="250" name="椭圆 191"/>
            <p:cNvSpPr/>
            <p:nvPr/>
          </p:nvSpPr>
          <p:spPr>
            <a:xfrm>
              <a:off x="4546440" y="247320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椭圆 192"/>
            <p:cNvSpPr/>
            <p:nvPr/>
          </p:nvSpPr>
          <p:spPr>
            <a:xfrm>
              <a:off x="4319640" y="224640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45"/>
          <p:cNvGrpSpPr/>
          <p:nvPr/>
        </p:nvGrpSpPr>
        <p:grpSpPr>
          <a:xfrm>
            <a:off x="6184800" y="2214720"/>
            <a:ext cx="758880" cy="758520"/>
            <a:chOff x="6184800" y="2214720"/>
            <a:chExt cx="758880" cy="758520"/>
          </a:xfrm>
        </p:grpSpPr>
        <p:sp>
          <p:nvSpPr>
            <p:cNvPr id="253" name="椭圆 189"/>
            <p:cNvSpPr/>
            <p:nvPr/>
          </p:nvSpPr>
          <p:spPr>
            <a:xfrm>
              <a:off x="6411600" y="2441520"/>
              <a:ext cx="304920" cy="304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椭圆 190"/>
            <p:cNvSpPr/>
            <p:nvPr/>
          </p:nvSpPr>
          <p:spPr>
            <a:xfrm>
              <a:off x="6184800" y="2214720"/>
              <a:ext cx="75888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46"/>
          <p:cNvGrpSpPr/>
          <p:nvPr/>
        </p:nvGrpSpPr>
        <p:grpSpPr>
          <a:xfrm>
            <a:off x="8370720" y="2125800"/>
            <a:ext cx="758880" cy="758520"/>
            <a:chOff x="8370720" y="2125800"/>
            <a:chExt cx="758880" cy="758520"/>
          </a:xfrm>
        </p:grpSpPr>
        <p:sp>
          <p:nvSpPr>
            <p:cNvPr id="256" name="椭圆 187"/>
            <p:cNvSpPr/>
            <p:nvPr/>
          </p:nvSpPr>
          <p:spPr>
            <a:xfrm>
              <a:off x="8597520" y="2352600"/>
              <a:ext cx="304920" cy="304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椭圆 188"/>
            <p:cNvSpPr/>
            <p:nvPr/>
          </p:nvSpPr>
          <p:spPr>
            <a:xfrm>
              <a:off x="8370720" y="2125800"/>
              <a:ext cx="75888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组合 147"/>
          <p:cNvGrpSpPr/>
          <p:nvPr/>
        </p:nvGrpSpPr>
        <p:grpSpPr>
          <a:xfrm>
            <a:off x="5103720" y="3828960"/>
            <a:ext cx="758880" cy="758880"/>
            <a:chOff x="5103720" y="3828960"/>
            <a:chExt cx="758880" cy="758880"/>
          </a:xfrm>
        </p:grpSpPr>
        <p:sp>
          <p:nvSpPr>
            <p:cNvPr id="259" name="椭圆 185"/>
            <p:cNvSpPr/>
            <p:nvPr/>
          </p:nvSpPr>
          <p:spPr>
            <a:xfrm>
              <a:off x="5330520" y="405576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椭圆 186"/>
            <p:cNvSpPr/>
            <p:nvPr/>
          </p:nvSpPr>
          <p:spPr>
            <a:xfrm>
              <a:off x="5103720" y="382896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148"/>
          <p:cNvGrpSpPr/>
          <p:nvPr/>
        </p:nvGrpSpPr>
        <p:grpSpPr>
          <a:xfrm>
            <a:off x="3424320" y="3824280"/>
            <a:ext cx="758880" cy="758880"/>
            <a:chOff x="3424320" y="3824280"/>
            <a:chExt cx="758880" cy="758880"/>
          </a:xfrm>
        </p:grpSpPr>
        <p:sp>
          <p:nvSpPr>
            <p:cNvPr id="262" name="椭圆 183"/>
            <p:cNvSpPr/>
            <p:nvPr/>
          </p:nvSpPr>
          <p:spPr>
            <a:xfrm>
              <a:off x="3651120" y="405108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椭圆 184"/>
            <p:cNvSpPr/>
            <p:nvPr/>
          </p:nvSpPr>
          <p:spPr>
            <a:xfrm>
              <a:off x="3424320" y="382428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1026"/>
          <p:cNvGrpSpPr/>
          <p:nvPr/>
        </p:nvGrpSpPr>
        <p:grpSpPr>
          <a:xfrm>
            <a:off x="1424160" y="3881520"/>
            <a:ext cx="758520" cy="758880"/>
            <a:chOff x="1424160" y="3881520"/>
            <a:chExt cx="758520" cy="758880"/>
          </a:xfrm>
        </p:grpSpPr>
        <p:sp>
          <p:nvSpPr>
            <p:cNvPr id="265" name="椭圆 149"/>
            <p:cNvSpPr/>
            <p:nvPr/>
          </p:nvSpPr>
          <p:spPr>
            <a:xfrm>
              <a:off x="1650960" y="4108320"/>
              <a:ext cx="304560" cy="30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椭圆 150"/>
            <p:cNvSpPr/>
            <p:nvPr/>
          </p:nvSpPr>
          <p:spPr>
            <a:xfrm>
              <a:off x="1424160" y="3881520"/>
              <a:ext cx="758520" cy="758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组合 151"/>
          <p:cNvGrpSpPr/>
          <p:nvPr/>
        </p:nvGrpSpPr>
        <p:grpSpPr>
          <a:xfrm>
            <a:off x="2467080" y="2211480"/>
            <a:ext cx="758880" cy="758880"/>
            <a:chOff x="2467080" y="2211480"/>
            <a:chExt cx="758880" cy="758880"/>
          </a:xfrm>
        </p:grpSpPr>
        <p:sp>
          <p:nvSpPr>
            <p:cNvPr id="268" name="椭圆 181"/>
            <p:cNvSpPr/>
            <p:nvPr/>
          </p:nvSpPr>
          <p:spPr>
            <a:xfrm>
              <a:off x="2693880" y="243828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182"/>
            <p:cNvSpPr/>
            <p:nvPr/>
          </p:nvSpPr>
          <p:spPr>
            <a:xfrm>
              <a:off x="2467080" y="221148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152"/>
          <p:cNvGrpSpPr/>
          <p:nvPr/>
        </p:nvGrpSpPr>
        <p:grpSpPr>
          <a:xfrm>
            <a:off x="3513240" y="619200"/>
            <a:ext cx="758880" cy="758880"/>
            <a:chOff x="3513240" y="619200"/>
            <a:chExt cx="758880" cy="758880"/>
          </a:xfrm>
        </p:grpSpPr>
        <p:sp>
          <p:nvSpPr>
            <p:cNvPr id="271" name="椭圆 179"/>
            <p:cNvSpPr/>
            <p:nvPr/>
          </p:nvSpPr>
          <p:spPr>
            <a:xfrm>
              <a:off x="3740040" y="84600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椭圆 180"/>
            <p:cNvSpPr/>
            <p:nvPr/>
          </p:nvSpPr>
          <p:spPr>
            <a:xfrm>
              <a:off x="3513240" y="61920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组合 153"/>
          <p:cNvGrpSpPr/>
          <p:nvPr/>
        </p:nvGrpSpPr>
        <p:grpSpPr>
          <a:xfrm>
            <a:off x="1044720" y="619200"/>
            <a:ext cx="758520" cy="758880"/>
            <a:chOff x="1044720" y="619200"/>
            <a:chExt cx="758520" cy="758880"/>
          </a:xfrm>
        </p:grpSpPr>
        <p:sp>
          <p:nvSpPr>
            <p:cNvPr id="274" name="椭圆 177"/>
            <p:cNvSpPr/>
            <p:nvPr/>
          </p:nvSpPr>
          <p:spPr>
            <a:xfrm>
              <a:off x="1271520" y="8460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椭圆 178"/>
            <p:cNvSpPr/>
            <p:nvPr/>
          </p:nvSpPr>
          <p:spPr>
            <a:xfrm>
              <a:off x="1044720" y="619200"/>
              <a:ext cx="75852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54"/>
          <p:cNvGrpSpPr/>
          <p:nvPr/>
        </p:nvGrpSpPr>
        <p:grpSpPr>
          <a:xfrm>
            <a:off x="-401760" y="1487520"/>
            <a:ext cx="758880" cy="758880"/>
            <a:chOff x="-401760" y="1487520"/>
            <a:chExt cx="758880" cy="758880"/>
          </a:xfrm>
        </p:grpSpPr>
        <p:sp>
          <p:nvSpPr>
            <p:cNvPr id="277" name="椭圆 175"/>
            <p:cNvSpPr/>
            <p:nvPr/>
          </p:nvSpPr>
          <p:spPr>
            <a:xfrm>
              <a:off x="-174600" y="171432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椭圆 176"/>
            <p:cNvSpPr/>
            <p:nvPr/>
          </p:nvSpPr>
          <p:spPr>
            <a:xfrm>
              <a:off x="-401760" y="148752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1027"/>
          <p:cNvGrpSpPr/>
          <p:nvPr/>
        </p:nvGrpSpPr>
        <p:grpSpPr>
          <a:xfrm>
            <a:off x="-662040" y="3478320"/>
            <a:ext cx="758880" cy="757080"/>
            <a:chOff x="-662040" y="3478320"/>
            <a:chExt cx="758880" cy="757080"/>
          </a:xfrm>
        </p:grpSpPr>
        <p:sp>
          <p:nvSpPr>
            <p:cNvPr id="280" name="椭圆 155"/>
            <p:cNvSpPr/>
            <p:nvPr/>
          </p:nvSpPr>
          <p:spPr>
            <a:xfrm>
              <a:off x="-434880" y="3705120"/>
              <a:ext cx="304920" cy="303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椭圆 156"/>
            <p:cNvSpPr/>
            <p:nvPr/>
          </p:nvSpPr>
          <p:spPr>
            <a:xfrm>
              <a:off x="-662040" y="3478320"/>
              <a:ext cx="758880" cy="757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157"/>
          <p:cNvSpPr/>
          <p:nvPr/>
        </p:nvSpPr>
        <p:spPr>
          <a:xfrm flipV="1">
            <a:off x="3048120" y="1266480"/>
            <a:ext cx="57600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接连接符 158"/>
          <p:cNvSpPr/>
          <p:nvPr/>
        </p:nvSpPr>
        <p:spPr>
          <a:xfrm flipV="1">
            <a:off x="1989000" y="2883960"/>
            <a:ext cx="628920" cy="10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直接连接符 159"/>
          <p:cNvSpPr/>
          <p:nvPr/>
        </p:nvSpPr>
        <p:spPr>
          <a:xfrm>
            <a:off x="3232080" y="2625840"/>
            <a:ext cx="10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直接连接符 160"/>
          <p:cNvSpPr/>
          <p:nvPr/>
        </p:nvSpPr>
        <p:spPr>
          <a:xfrm flipV="1">
            <a:off x="5078520" y="2593440"/>
            <a:ext cx="109368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直接连接符 161"/>
          <p:cNvSpPr/>
          <p:nvPr/>
        </p:nvSpPr>
        <p:spPr>
          <a:xfrm>
            <a:off x="4183200" y="4203720"/>
            <a:ext cx="9205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接连接符 162"/>
          <p:cNvSpPr/>
          <p:nvPr/>
        </p:nvSpPr>
        <p:spPr>
          <a:xfrm>
            <a:off x="90360" y="3929040"/>
            <a:ext cx="1333800" cy="301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接连接符 163"/>
          <p:cNvSpPr/>
          <p:nvPr/>
        </p:nvSpPr>
        <p:spPr>
          <a:xfrm flipV="1">
            <a:off x="2998800" y="4587480"/>
            <a:ext cx="676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直接连接符 164"/>
          <p:cNvSpPr/>
          <p:nvPr/>
        </p:nvSpPr>
        <p:spPr>
          <a:xfrm>
            <a:off x="1922400" y="4640400"/>
            <a:ext cx="911160" cy="160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接连接符 165"/>
          <p:cNvSpPr/>
          <p:nvPr/>
        </p:nvSpPr>
        <p:spPr>
          <a:xfrm flipV="1">
            <a:off x="246240" y="1147320"/>
            <a:ext cx="79848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接连接符 166"/>
          <p:cNvSpPr/>
          <p:nvPr/>
        </p:nvSpPr>
        <p:spPr>
          <a:xfrm flipH="1" flipV="1">
            <a:off x="1692360" y="1266840"/>
            <a:ext cx="885600" cy="10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直接连接符 167"/>
          <p:cNvSpPr/>
          <p:nvPr/>
        </p:nvSpPr>
        <p:spPr>
          <a:xfrm flipH="1" flipV="1">
            <a:off x="4120920" y="1309320"/>
            <a:ext cx="42516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168"/>
          <p:cNvSpPr/>
          <p:nvPr/>
        </p:nvSpPr>
        <p:spPr>
          <a:xfrm flipV="1">
            <a:off x="6943680" y="2549160"/>
            <a:ext cx="142416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169"/>
          <p:cNvSpPr/>
          <p:nvPr/>
        </p:nvSpPr>
        <p:spPr>
          <a:xfrm flipH="1" flipV="1">
            <a:off x="6052680" y="1231560"/>
            <a:ext cx="43524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接连接符 170"/>
          <p:cNvSpPr/>
          <p:nvPr/>
        </p:nvSpPr>
        <p:spPr>
          <a:xfrm flipV="1">
            <a:off x="4272120" y="814320"/>
            <a:ext cx="10936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接连接符 171"/>
          <p:cNvSpPr/>
          <p:nvPr/>
        </p:nvSpPr>
        <p:spPr>
          <a:xfrm flipH="1" flipV="1">
            <a:off x="4849920" y="3004920"/>
            <a:ext cx="426960" cy="87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3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eece1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173"/>
          <p:cNvSpPr/>
          <p:nvPr/>
        </p:nvSpPr>
        <p:spPr>
          <a:xfrm flipV="1">
            <a:off x="8771040" y="619200"/>
            <a:ext cx="1027080" cy="15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接连接符 174"/>
          <p:cNvSpPr/>
          <p:nvPr/>
        </p:nvSpPr>
        <p:spPr>
          <a:xfrm>
            <a:off x="8774280" y="2890800"/>
            <a:ext cx="1109520" cy="22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5" descr="D:\Betsy葛\1\图片3副本.png"/>
          <p:cNvPicPr/>
          <p:nvPr/>
        </p:nvPicPr>
        <p:blipFill>
          <a:blip r:embed="rId1"/>
          <a:stretch/>
        </p:blipFill>
        <p:spPr>
          <a:xfrm>
            <a:off x="5103720" y="92160"/>
            <a:ext cx="4694400" cy="18097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39"/>
          <p:cNvSpPr/>
          <p:nvPr/>
        </p:nvSpPr>
        <p:spPr>
          <a:xfrm rot="21329400">
            <a:off x="4524480" y="318600"/>
            <a:ext cx="58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COLLABOR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246"/>
          <p:cNvSpPr/>
          <p:nvPr/>
        </p:nvSpPr>
        <p:spPr>
          <a:xfrm flipH="1" flipV="1">
            <a:off x="3270240" y="-122760"/>
            <a:ext cx="42552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198"/>
          <p:cNvGrpSpPr/>
          <p:nvPr/>
        </p:nvGrpSpPr>
        <p:grpSpPr>
          <a:xfrm>
            <a:off x="4319640" y="2398680"/>
            <a:ext cx="758880" cy="757440"/>
            <a:chOff x="4319640" y="2398680"/>
            <a:chExt cx="758880" cy="757440"/>
          </a:xfrm>
        </p:grpSpPr>
        <p:sp>
          <p:nvSpPr>
            <p:cNvPr id="304" name="椭圆 199"/>
            <p:cNvSpPr/>
            <p:nvPr/>
          </p:nvSpPr>
          <p:spPr>
            <a:xfrm>
              <a:off x="4546440" y="2625840"/>
              <a:ext cx="304920" cy="303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200"/>
            <p:cNvSpPr/>
            <p:nvPr/>
          </p:nvSpPr>
          <p:spPr>
            <a:xfrm>
              <a:off x="4319640" y="2398680"/>
              <a:ext cx="758880" cy="757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201"/>
          <p:cNvGrpSpPr/>
          <p:nvPr/>
        </p:nvGrpSpPr>
        <p:grpSpPr>
          <a:xfrm>
            <a:off x="6184800" y="2367000"/>
            <a:ext cx="758880" cy="757080"/>
            <a:chOff x="6184800" y="2367000"/>
            <a:chExt cx="758880" cy="757080"/>
          </a:xfrm>
        </p:grpSpPr>
        <p:sp>
          <p:nvSpPr>
            <p:cNvPr id="307" name="椭圆 202"/>
            <p:cNvSpPr/>
            <p:nvPr/>
          </p:nvSpPr>
          <p:spPr>
            <a:xfrm>
              <a:off x="6411600" y="2593800"/>
              <a:ext cx="304920" cy="303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椭圆 203"/>
            <p:cNvSpPr/>
            <p:nvPr/>
          </p:nvSpPr>
          <p:spPr>
            <a:xfrm>
              <a:off x="6184800" y="2367000"/>
              <a:ext cx="758880" cy="75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组合 204"/>
          <p:cNvGrpSpPr/>
          <p:nvPr/>
        </p:nvGrpSpPr>
        <p:grpSpPr>
          <a:xfrm>
            <a:off x="8370720" y="2276640"/>
            <a:ext cx="758880" cy="758520"/>
            <a:chOff x="8370720" y="2276640"/>
            <a:chExt cx="758880" cy="758520"/>
          </a:xfrm>
        </p:grpSpPr>
        <p:sp>
          <p:nvSpPr>
            <p:cNvPr id="310" name="椭圆 205"/>
            <p:cNvSpPr/>
            <p:nvPr/>
          </p:nvSpPr>
          <p:spPr>
            <a:xfrm>
              <a:off x="8597520" y="2503440"/>
              <a:ext cx="304920" cy="304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椭圆 206"/>
            <p:cNvSpPr/>
            <p:nvPr/>
          </p:nvSpPr>
          <p:spPr>
            <a:xfrm>
              <a:off x="8370720" y="2276640"/>
              <a:ext cx="75888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207"/>
          <p:cNvGrpSpPr/>
          <p:nvPr/>
        </p:nvGrpSpPr>
        <p:grpSpPr>
          <a:xfrm>
            <a:off x="5103720" y="3979800"/>
            <a:ext cx="758880" cy="758880"/>
            <a:chOff x="5103720" y="3979800"/>
            <a:chExt cx="758880" cy="758880"/>
          </a:xfrm>
        </p:grpSpPr>
        <p:sp>
          <p:nvSpPr>
            <p:cNvPr id="313" name="椭圆 208"/>
            <p:cNvSpPr/>
            <p:nvPr/>
          </p:nvSpPr>
          <p:spPr>
            <a:xfrm>
              <a:off x="5330520" y="420660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椭圆 209"/>
            <p:cNvSpPr/>
            <p:nvPr/>
          </p:nvSpPr>
          <p:spPr>
            <a:xfrm>
              <a:off x="5103720" y="397980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合 210"/>
          <p:cNvGrpSpPr/>
          <p:nvPr/>
        </p:nvGrpSpPr>
        <p:grpSpPr>
          <a:xfrm>
            <a:off x="3424320" y="3975120"/>
            <a:ext cx="758880" cy="758880"/>
            <a:chOff x="3424320" y="3975120"/>
            <a:chExt cx="758880" cy="758880"/>
          </a:xfrm>
        </p:grpSpPr>
        <p:sp>
          <p:nvSpPr>
            <p:cNvPr id="316" name="椭圆 211"/>
            <p:cNvSpPr/>
            <p:nvPr/>
          </p:nvSpPr>
          <p:spPr>
            <a:xfrm>
              <a:off x="3651120" y="420192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椭圆 212"/>
            <p:cNvSpPr/>
            <p:nvPr/>
          </p:nvSpPr>
          <p:spPr>
            <a:xfrm>
              <a:off x="3424320" y="397512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213"/>
          <p:cNvGrpSpPr/>
          <p:nvPr/>
        </p:nvGrpSpPr>
        <p:grpSpPr>
          <a:xfrm>
            <a:off x="1424160" y="4033800"/>
            <a:ext cx="758520" cy="758880"/>
            <a:chOff x="1424160" y="4033800"/>
            <a:chExt cx="758520" cy="758880"/>
          </a:xfrm>
        </p:grpSpPr>
        <p:sp>
          <p:nvSpPr>
            <p:cNvPr id="319" name="椭圆 214"/>
            <p:cNvSpPr/>
            <p:nvPr/>
          </p:nvSpPr>
          <p:spPr>
            <a:xfrm>
              <a:off x="1650960" y="42606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椭圆 215"/>
            <p:cNvSpPr/>
            <p:nvPr/>
          </p:nvSpPr>
          <p:spPr>
            <a:xfrm>
              <a:off x="1424160" y="4033800"/>
              <a:ext cx="758520" cy="758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组合 216"/>
          <p:cNvGrpSpPr/>
          <p:nvPr/>
        </p:nvGrpSpPr>
        <p:grpSpPr>
          <a:xfrm>
            <a:off x="2467080" y="2363760"/>
            <a:ext cx="758880" cy="758880"/>
            <a:chOff x="2467080" y="2363760"/>
            <a:chExt cx="758880" cy="758880"/>
          </a:xfrm>
        </p:grpSpPr>
        <p:sp>
          <p:nvSpPr>
            <p:cNvPr id="322" name="椭圆 217"/>
            <p:cNvSpPr/>
            <p:nvPr/>
          </p:nvSpPr>
          <p:spPr>
            <a:xfrm>
              <a:off x="2693880" y="259056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椭圆 218"/>
            <p:cNvSpPr/>
            <p:nvPr/>
          </p:nvSpPr>
          <p:spPr>
            <a:xfrm>
              <a:off x="2467080" y="236376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组合 219"/>
          <p:cNvGrpSpPr/>
          <p:nvPr/>
        </p:nvGrpSpPr>
        <p:grpSpPr>
          <a:xfrm>
            <a:off x="3513240" y="770040"/>
            <a:ext cx="758880" cy="758880"/>
            <a:chOff x="3513240" y="770040"/>
            <a:chExt cx="758880" cy="758880"/>
          </a:xfrm>
        </p:grpSpPr>
        <p:sp>
          <p:nvSpPr>
            <p:cNvPr id="325" name="椭圆 220"/>
            <p:cNvSpPr/>
            <p:nvPr/>
          </p:nvSpPr>
          <p:spPr>
            <a:xfrm>
              <a:off x="3740040" y="99684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椭圆 221"/>
            <p:cNvSpPr/>
            <p:nvPr/>
          </p:nvSpPr>
          <p:spPr>
            <a:xfrm>
              <a:off x="3513240" y="77004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222"/>
          <p:cNvGrpSpPr/>
          <p:nvPr/>
        </p:nvGrpSpPr>
        <p:grpSpPr>
          <a:xfrm>
            <a:off x="1044720" y="770040"/>
            <a:ext cx="758520" cy="758880"/>
            <a:chOff x="1044720" y="770040"/>
            <a:chExt cx="758520" cy="758880"/>
          </a:xfrm>
        </p:grpSpPr>
        <p:sp>
          <p:nvSpPr>
            <p:cNvPr id="328" name="椭圆 223"/>
            <p:cNvSpPr/>
            <p:nvPr/>
          </p:nvSpPr>
          <p:spPr>
            <a:xfrm>
              <a:off x="1271520" y="996840"/>
              <a:ext cx="30456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椭圆 224"/>
            <p:cNvSpPr/>
            <p:nvPr/>
          </p:nvSpPr>
          <p:spPr>
            <a:xfrm>
              <a:off x="1044720" y="770040"/>
              <a:ext cx="75852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组合 225"/>
          <p:cNvGrpSpPr/>
          <p:nvPr/>
        </p:nvGrpSpPr>
        <p:grpSpPr>
          <a:xfrm>
            <a:off x="-401760" y="1639800"/>
            <a:ext cx="758880" cy="758880"/>
            <a:chOff x="-401760" y="1639800"/>
            <a:chExt cx="758880" cy="758880"/>
          </a:xfrm>
        </p:grpSpPr>
        <p:sp>
          <p:nvSpPr>
            <p:cNvPr id="331" name="椭圆 226"/>
            <p:cNvSpPr/>
            <p:nvPr/>
          </p:nvSpPr>
          <p:spPr>
            <a:xfrm>
              <a:off x="-174600" y="1866600"/>
              <a:ext cx="30492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椭圆 227"/>
            <p:cNvSpPr/>
            <p:nvPr/>
          </p:nvSpPr>
          <p:spPr>
            <a:xfrm>
              <a:off x="-401760" y="1639800"/>
              <a:ext cx="7588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228"/>
          <p:cNvGrpSpPr/>
          <p:nvPr/>
        </p:nvGrpSpPr>
        <p:grpSpPr>
          <a:xfrm>
            <a:off x="-662040" y="3629160"/>
            <a:ext cx="758880" cy="758520"/>
            <a:chOff x="-662040" y="3629160"/>
            <a:chExt cx="758880" cy="758520"/>
          </a:xfrm>
        </p:grpSpPr>
        <p:sp>
          <p:nvSpPr>
            <p:cNvPr id="334" name="椭圆 229"/>
            <p:cNvSpPr/>
            <p:nvPr/>
          </p:nvSpPr>
          <p:spPr>
            <a:xfrm>
              <a:off x="-434880" y="3855960"/>
              <a:ext cx="304920" cy="30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椭圆 230"/>
            <p:cNvSpPr/>
            <p:nvPr/>
          </p:nvSpPr>
          <p:spPr>
            <a:xfrm>
              <a:off x="-662040" y="3629160"/>
              <a:ext cx="758880" cy="758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直接连接符 231"/>
          <p:cNvSpPr/>
          <p:nvPr/>
        </p:nvSpPr>
        <p:spPr>
          <a:xfrm flipV="1">
            <a:off x="3048120" y="1417680"/>
            <a:ext cx="57600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直接连接符 232"/>
          <p:cNvSpPr/>
          <p:nvPr/>
        </p:nvSpPr>
        <p:spPr>
          <a:xfrm flipV="1">
            <a:off x="1989000" y="3034800"/>
            <a:ext cx="628920" cy="10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直接连接符 233"/>
          <p:cNvSpPr/>
          <p:nvPr/>
        </p:nvSpPr>
        <p:spPr>
          <a:xfrm>
            <a:off x="3232080" y="2776680"/>
            <a:ext cx="1093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直接连接符 234"/>
          <p:cNvSpPr/>
          <p:nvPr/>
        </p:nvSpPr>
        <p:spPr>
          <a:xfrm flipV="1">
            <a:off x="5078520" y="2746440"/>
            <a:ext cx="10936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235"/>
          <p:cNvSpPr/>
          <p:nvPr/>
        </p:nvSpPr>
        <p:spPr>
          <a:xfrm>
            <a:off x="4183200" y="4354560"/>
            <a:ext cx="9205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236"/>
          <p:cNvSpPr/>
          <p:nvPr/>
        </p:nvSpPr>
        <p:spPr>
          <a:xfrm>
            <a:off x="90360" y="4081320"/>
            <a:ext cx="1333800" cy="30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直接连接符 237"/>
          <p:cNvSpPr/>
          <p:nvPr/>
        </p:nvSpPr>
        <p:spPr>
          <a:xfrm flipV="1">
            <a:off x="2998800" y="4738320"/>
            <a:ext cx="676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直接连接符 238"/>
          <p:cNvSpPr/>
          <p:nvPr/>
        </p:nvSpPr>
        <p:spPr>
          <a:xfrm>
            <a:off x="1922400" y="4792680"/>
            <a:ext cx="911160" cy="160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接连接符 239"/>
          <p:cNvSpPr/>
          <p:nvPr/>
        </p:nvSpPr>
        <p:spPr>
          <a:xfrm flipV="1">
            <a:off x="246240" y="1300320"/>
            <a:ext cx="79848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240"/>
          <p:cNvSpPr/>
          <p:nvPr/>
        </p:nvSpPr>
        <p:spPr>
          <a:xfrm flipH="1" flipV="1">
            <a:off x="1692360" y="1417320"/>
            <a:ext cx="88560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241"/>
          <p:cNvSpPr/>
          <p:nvPr/>
        </p:nvSpPr>
        <p:spPr>
          <a:xfrm flipH="1" flipV="1">
            <a:off x="4120920" y="1461600"/>
            <a:ext cx="42516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直接连接符 242"/>
          <p:cNvSpPr/>
          <p:nvPr/>
        </p:nvSpPr>
        <p:spPr>
          <a:xfrm flipV="1">
            <a:off x="6943680" y="2700360"/>
            <a:ext cx="14241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直接连接符 243"/>
          <p:cNvSpPr/>
          <p:nvPr/>
        </p:nvSpPr>
        <p:spPr>
          <a:xfrm flipH="1" flipV="1">
            <a:off x="6052680" y="1382400"/>
            <a:ext cx="435240" cy="9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接连接符 244"/>
          <p:cNvSpPr/>
          <p:nvPr/>
        </p:nvSpPr>
        <p:spPr>
          <a:xfrm flipV="1">
            <a:off x="4272120" y="966960"/>
            <a:ext cx="10936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245"/>
          <p:cNvSpPr/>
          <p:nvPr/>
        </p:nvSpPr>
        <p:spPr>
          <a:xfrm flipH="1" flipV="1">
            <a:off x="4849920" y="3122640"/>
            <a:ext cx="42696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247"/>
          <p:cNvSpPr/>
          <p:nvPr/>
        </p:nvSpPr>
        <p:spPr>
          <a:xfrm flipV="1">
            <a:off x="8771040" y="762120"/>
            <a:ext cx="1027080" cy="15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248"/>
          <p:cNvSpPr/>
          <p:nvPr/>
        </p:nvSpPr>
        <p:spPr>
          <a:xfrm>
            <a:off x="8774280" y="3043080"/>
            <a:ext cx="1109520" cy="229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118"/>
          <p:cNvSpPr/>
          <p:nvPr/>
        </p:nvSpPr>
        <p:spPr>
          <a:xfrm rot="21189600">
            <a:off x="5963400" y="3289320"/>
            <a:ext cx="4420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3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360"/>
          <p:cNvSpPr/>
          <p:nvPr/>
        </p:nvSpPr>
        <p:spPr>
          <a:xfrm flipV="1">
            <a:off x="5862600" y="4354200"/>
            <a:ext cx="15890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361"/>
          <p:cNvSpPr/>
          <p:nvPr/>
        </p:nvSpPr>
        <p:spPr>
          <a:xfrm flipV="1">
            <a:off x="5851440" y="4227120"/>
            <a:ext cx="1587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7" descr="D:\Betsy葛\1\图片5副本.png"/>
          <p:cNvPicPr/>
          <p:nvPr/>
        </p:nvPicPr>
        <p:blipFill>
          <a:blip r:embed="rId2"/>
          <a:stretch/>
        </p:blipFill>
        <p:spPr>
          <a:xfrm>
            <a:off x="5332320" y="2505240"/>
            <a:ext cx="5443560" cy="4979880"/>
          </a:xfrm>
          <a:prstGeom prst="rect">
            <a:avLst/>
          </a:prstGeom>
          <a:ln w="0">
            <a:noFill/>
          </a:ln>
        </p:spPr>
      </p:pic>
    </p:spTree>
  </p:cSld>
  <p:transition advTm="0">
    <p:push dir="u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"/>
                            </p:stCondLst>
                            <p:childTnLst>
                              <p:par>
                                <p:cTn id="8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1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"/>
                            </p:stCondLst>
                            <p:childTnLst>
                              <p:par>
                                <p:cTn id="8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"/>
                            </p:stCondLst>
                            <p:childTnLst>
                              <p:par>
                                <p:cTn id="81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1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600"/>
                            </p:stCondLst>
                            <p:childTnLst>
                              <p:par>
                                <p:cTn id="82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700"/>
                            </p:stCondLst>
                            <p:childTnLst>
                              <p:par>
                                <p:cTn id="82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00"/>
                            </p:stCondLst>
                            <p:childTnLst>
                              <p:par>
                                <p:cTn id="8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"/>
                            </p:stCondLst>
                            <p:childTnLst>
                              <p:par>
                                <p:cTn id="83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100"/>
                            </p:stCondLst>
                            <p:childTnLst>
                              <p:par>
                                <p:cTn id="84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200"/>
                            </p:stCondLst>
                            <p:childTnLst>
                              <p:par>
                                <p:cTn id="8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300"/>
                            </p:stCondLst>
                            <p:childTnLst>
                              <p:par>
                                <p:cTn id="8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2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1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600"/>
                            </p:stCondLst>
                            <p:childTnLst>
                              <p:par>
                                <p:cTn id="8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700"/>
                            </p:stCondLst>
                            <p:childTnLst>
                              <p:par>
                                <p:cTn id="8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800"/>
                            </p:stCondLst>
                            <p:childTnLst>
                              <p:par>
                                <p:cTn id="8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900"/>
                            </p:stCondLst>
                            <p:childTnLst>
                              <p:par>
                                <p:cTn id="8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1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100"/>
                            </p:stCondLst>
                            <p:childTnLst>
                              <p:par>
                                <p:cTn id="89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1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200"/>
                            </p:stCondLst>
                            <p:childTnLst>
                              <p:par>
                                <p:cTn id="89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300"/>
                            </p:stCondLst>
                            <p:childTnLst>
                              <p:par>
                                <p:cTn id="9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1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400"/>
                            </p:stCondLst>
                            <p:childTnLst>
                              <p:par>
                                <p:cTn id="9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600"/>
                            </p:stCondLst>
                            <p:childTnLst>
                              <p:par>
                                <p:cTn id="9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700"/>
                            </p:stCondLst>
                            <p:childTnLst>
                              <p:par>
                                <p:cTn id="91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1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800"/>
                            </p:stCondLst>
                            <p:childTnLst>
                              <p:par>
                                <p:cTn id="92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900"/>
                            </p:stCondLst>
                            <p:childTnLst>
                              <p:par>
                                <p:cTn id="9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1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1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000"/>
                            </p:stCondLst>
                            <p:childTnLst>
                              <p:par>
                                <p:cTn id="9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1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3100"/>
                            </p:stCondLst>
                            <p:childTnLst>
                              <p:par>
                                <p:cTn id="9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1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3200"/>
                            </p:stCondLst>
                            <p:childTnLst>
                              <p:par>
                                <p:cTn id="9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1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300"/>
                            </p:stCondLst>
                            <p:childTnLst>
                              <p:par>
                                <p:cTn id="9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400"/>
                            </p:stCondLst>
                            <p:childTnLst>
                              <p:par>
                                <p:cTn id="959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500"/>
                            </p:stCondLst>
                            <p:childTnLst>
                              <p:par>
                                <p:cTn id="963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600"/>
                            </p:stCondLst>
                            <p:childTnLst>
                              <p:par>
                                <p:cTn id="9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3700"/>
                            </p:stCondLst>
                            <p:childTnLst>
                              <p:par>
                                <p:cTn id="9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800"/>
                            </p:stCondLst>
                            <p:childTnLst>
                              <p:par>
                                <p:cTn id="9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1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100"/>
                            </p:stCondLst>
                            <p:childTnLst>
                              <p:par>
                                <p:cTn id="9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200"/>
                            </p:stCondLst>
                            <p:childTnLst>
                              <p:par>
                                <p:cTn id="99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00"/>
                            </p:stCondLst>
                            <p:childTnLst>
                              <p:par>
                                <p:cTn id="100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400"/>
                            </p:stCondLst>
                            <p:childTnLst>
                              <p:par>
                                <p:cTn id="10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1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1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4600"/>
                            </p:stCondLst>
                            <p:childTnLst>
                              <p:par>
                                <p:cTn id="10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700"/>
                            </p:stCondLst>
                            <p:childTnLst>
                              <p:par>
                                <p:cTn id="10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4701"/>
                            </p:stCondLst>
                            <p:childTnLst>
                              <p:par>
                                <p:cTn id="1034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8" descr="D:\Betsy葛\1\图片4.png"/>
          <p:cNvPicPr/>
          <p:nvPr/>
        </p:nvPicPr>
        <p:blipFill>
          <a:blip r:embed="rId1"/>
          <a:stretch/>
        </p:blipFill>
        <p:spPr>
          <a:xfrm>
            <a:off x="3181320" y="1927080"/>
            <a:ext cx="2781360" cy="749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"/>
          <p:cNvPicPr/>
          <p:nvPr/>
        </p:nvPicPr>
        <p:blipFill>
          <a:blip r:embed="rId2"/>
          <a:stretch/>
        </p:blipFill>
        <p:spPr>
          <a:xfrm>
            <a:off x="3181320" y="1927080"/>
            <a:ext cx="2781360" cy="7495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D:\Betsy葛\1\图片4副本.png"/>
          <p:cNvPicPr/>
          <p:nvPr/>
        </p:nvPicPr>
        <p:blipFill>
          <a:blip r:embed="rId3"/>
          <a:stretch/>
        </p:blipFill>
        <p:spPr>
          <a:xfrm>
            <a:off x="2530440" y="1565280"/>
            <a:ext cx="1836720" cy="495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D:\Betsy葛\1\DS .png"/>
          <p:cNvPicPr/>
          <p:nvPr/>
        </p:nvPicPr>
        <p:blipFill>
          <a:blip r:embed="rId4"/>
          <a:stretch/>
        </p:blipFill>
        <p:spPr>
          <a:xfrm>
            <a:off x="-558720" y="169920"/>
            <a:ext cx="4714920" cy="1271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D:\Betsy葛\1\FF.png"/>
          <p:cNvPicPr/>
          <p:nvPr/>
        </p:nvPicPr>
        <p:blipFill>
          <a:blip r:embed="rId5"/>
          <a:stretch/>
        </p:blipFill>
        <p:spPr>
          <a:xfrm>
            <a:off x="90360" y="3537000"/>
            <a:ext cx="4383360" cy="1181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D:\Betsy葛\1\DS .png"/>
          <p:cNvPicPr/>
          <p:nvPr/>
        </p:nvPicPr>
        <p:blipFill>
          <a:blip r:embed="rId6"/>
          <a:stretch/>
        </p:blipFill>
        <p:spPr>
          <a:xfrm>
            <a:off x="4962600" y="2571840"/>
            <a:ext cx="4181400" cy="1127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D:\Betsy葛\1\图片4副本.png"/>
          <p:cNvPicPr/>
          <p:nvPr/>
        </p:nvPicPr>
        <p:blipFill>
          <a:blip r:embed="rId7"/>
          <a:stretch/>
        </p:blipFill>
        <p:spPr>
          <a:xfrm>
            <a:off x="3857760" y="1212840"/>
            <a:ext cx="1428480" cy="385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D:\Betsy葛\1\图片4副本.png"/>
          <p:cNvPicPr/>
          <p:nvPr/>
        </p:nvPicPr>
        <p:blipFill>
          <a:blip r:embed="rId8"/>
          <a:stretch/>
        </p:blipFill>
        <p:spPr>
          <a:xfrm>
            <a:off x="5459400" y="4314960"/>
            <a:ext cx="1488960" cy="401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D:\Betsy葛\1\图片4副本.png"/>
          <p:cNvPicPr/>
          <p:nvPr/>
        </p:nvPicPr>
        <p:blipFill>
          <a:blip r:embed="rId9"/>
          <a:stretch/>
        </p:blipFill>
        <p:spPr>
          <a:xfrm>
            <a:off x="2281320" y="2405160"/>
            <a:ext cx="1490760" cy="401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5"/>
          <p:cNvSpPr/>
          <p:nvPr/>
        </p:nvSpPr>
        <p:spPr>
          <a:xfrm>
            <a:off x="3044520" y="-977760"/>
            <a:ext cx="30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3" dur="1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5" dur="1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7" dur="1000" fill="hold"/>
                                        <p:tgtEl>
                                          <p:spTgt spid="36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1" dur="1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3" dur="1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6" dur="1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dur="indefinite" nodeType="after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-0.05 L 0 0.43272 E">
                                      <p:cBhvr>
                                        <p:cTn id="1079" dur="6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650"/>
                            </p:stCondLst>
                            <p:childTnLst>
                              <p:par>
                                <p:cTn id="108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651"/>
                            </p:stCondLst>
                            <p:childTnLst>
                              <p:par>
                                <p:cTn id="1086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43272 L 0 0.31173 E">
                                      <p:cBhvr>
                                        <p:cTn id="1087" dur="1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751"/>
                            </p:stCondLst>
                            <p:childTnLst>
                              <p:par>
                                <p:cTn id="10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752"/>
                            </p:stCondLst>
                            <p:childTnLst>
                              <p:par>
                                <p:cTn id="10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95" dur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96" dur="8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7" dur="8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98" dur="8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9" dur="80" fill="hold">
                                          <p:stCondLst>
                                            <p:cond delay="3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3"/>
          <p:cNvSpPr/>
          <p:nvPr/>
        </p:nvSpPr>
        <p:spPr>
          <a:xfrm>
            <a:off x="5227920" y="-665280"/>
            <a:ext cx="535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5</a:t>
            </a:r>
            <a:endParaRPr b="0" lang="en-US" sz="2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-76320" y="1346040"/>
            <a:ext cx="69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P R A C T I C E 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22"/>
          <p:cNvSpPr/>
          <p:nvPr/>
        </p:nvSpPr>
        <p:spPr>
          <a:xfrm>
            <a:off x="-833040" y="220968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P R A C T I C E 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23"/>
          <p:cNvSpPr/>
          <p:nvPr/>
        </p:nvSpPr>
        <p:spPr>
          <a:xfrm>
            <a:off x="-730440" y="2900520"/>
            <a:ext cx="45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P R A C T I C E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椭圆 24"/>
          <p:cNvSpPr/>
          <p:nvPr/>
        </p:nvSpPr>
        <p:spPr>
          <a:xfrm>
            <a:off x="8115480" y="309888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椭圆 26"/>
          <p:cNvSpPr/>
          <p:nvPr/>
        </p:nvSpPr>
        <p:spPr>
          <a:xfrm>
            <a:off x="8115480" y="412740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椭圆 27"/>
          <p:cNvSpPr/>
          <p:nvPr/>
        </p:nvSpPr>
        <p:spPr>
          <a:xfrm>
            <a:off x="8115480" y="102564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椭圆 29"/>
          <p:cNvSpPr/>
          <p:nvPr/>
        </p:nvSpPr>
        <p:spPr>
          <a:xfrm>
            <a:off x="8115480" y="206856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椭圆 30"/>
          <p:cNvSpPr/>
          <p:nvPr/>
        </p:nvSpPr>
        <p:spPr>
          <a:xfrm>
            <a:off x="8115480" y="-324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椭圆 31"/>
          <p:cNvSpPr/>
          <p:nvPr/>
        </p:nvSpPr>
        <p:spPr>
          <a:xfrm>
            <a:off x="7086600" y="309888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椭圆 32"/>
          <p:cNvSpPr/>
          <p:nvPr/>
        </p:nvSpPr>
        <p:spPr>
          <a:xfrm>
            <a:off x="7086600" y="4127400"/>
            <a:ext cx="102888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椭圆 33"/>
          <p:cNvSpPr/>
          <p:nvPr/>
        </p:nvSpPr>
        <p:spPr>
          <a:xfrm>
            <a:off x="7086600" y="102564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椭圆 34"/>
          <p:cNvSpPr/>
          <p:nvPr/>
        </p:nvSpPr>
        <p:spPr>
          <a:xfrm>
            <a:off x="7086600" y="206856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椭圆 35"/>
          <p:cNvSpPr/>
          <p:nvPr/>
        </p:nvSpPr>
        <p:spPr>
          <a:xfrm>
            <a:off x="7086600" y="-3240"/>
            <a:ext cx="102888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椭圆 36"/>
          <p:cNvSpPr/>
          <p:nvPr/>
        </p:nvSpPr>
        <p:spPr>
          <a:xfrm>
            <a:off x="6058080" y="309888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椭圆 37"/>
          <p:cNvSpPr/>
          <p:nvPr/>
        </p:nvSpPr>
        <p:spPr>
          <a:xfrm>
            <a:off x="6058080" y="412740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椭圆 38"/>
          <p:cNvSpPr/>
          <p:nvPr/>
        </p:nvSpPr>
        <p:spPr>
          <a:xfrm>
            <a:off x="6058080" y="102564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39"/>
          <p:cNvSpPr/>
          <p:nvPr/>
        </p:nvSpPr>
        <p:spPr>
          <a:xfrm>
            <a:off x="6058080" y="206856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40"/>
          <p:cNvSpPr/>
          <p:nvPr/>
        </p:nvSpPr>
        <p:spPr>
          <a:xfrm>
            <a:off x="6058080" y="-324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 41"/>
          <p:cNvSpPr/>
          <p:nvPr/>
        </p:nvSpPr>
        <p:spPr>
          <a:xfrm>
            <a:off x="4967280" y="309888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 42"/>
          <p:cNvSpPr/>
          <p:nvPr/>
        </p:nvSpPr>
        <p:spPr>
          <a:xfrm>
            <a:off x="4967280" y="4127400"/>
            <a:ext cx="102888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 43"/>
          <p:cNvSpPr/>
          <p:nvPr/>
        </p:nvSpPr>
        <p:spPr>
          <a:xfrm>
            <a:off x="4967280" y="102564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椭圆 44"/>
          <p:cNvSpPr/>
          <p:nvPr/>
        </p:nvSpPr>
        <p:spPr>
          <a:xfrm>
            <a:off x="4967280" y="206856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 45"/>
          <p:cNvSpPr/>
          <p:nvPr/>
        </p:nvSpPr>
        <p:spPr>
          <a:xfrm>
            <a:off x="4967280" y="-3240"/>
            <a:ext cx="102888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 46"/>
          <p:cNvSpPr/>
          <p:nvPr/>
        </p:nvSpPr>
        <p:spPr>
          <a:xfrm>
            <a:off x="3959280" y="309888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椭圆 47"/>
          <p:cNvSpPr/>
          <p:nvPr/>
        </p:nvSpPr>
        <p:spPr>
          <a:xfrm>
            <a:off x="3959280" y="412740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椭圆 48"/>
          <p:cNvSpPr/>
          <p:nvPr/>
        </p:nvSpPr>
        <p:spPr>
          <a:xfrm>
            <a:off x="3959280" y="102564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椭圆 49"/>
          <p:cNvSpPr/>
          <p:nvPr/>
        </p:nvSpPr>
        <p:spPr>
          <a:xfrm>
            <a:off x="3959280" y="206856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椭圆 50"/>
          <p:cNvSpPr/>
          <p:nvPr/>
        </p:nvSpPr>
        <p:spPr>
          <a:xfrm>
            <a:off x="3959280" y="-324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椭圆 51"/>
          <p:cNvSpPr/>
          <p:nvPr/>
        </p:nvSpPr>
        <p:spPr>
          <a:xfrm>
            <a:off x="2914560" y="308628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 52"/>
          <p:cNvSpPr/>
          <p:nvPr/>
        </p:nvSpPr>
        <p:spPr>
          <a:xfrm>
            <a:off x="2914560" y="4114800"/>
            <a:ext cx="102888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椭圆 53"/>
          <p:cNvSpPr/>
          <p:nvPr/>
        </p:nvSpPr>
        <p:spPr>
          <a:xfrm>
            <a:off x="2914560" y="1012680"/>
            <a:ext cx="102888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54"/>
          <p:cNvSpPr/>
          <p:nvPr/>
        </p:nvSpPr>
        <p:spPr>
          <a:xfrm>
            <a:off x="2914560" y="2057400"/>
            <a:ext cx="102888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55"/>
          <p:cNvSpPr/>
          <p:nvPr/>
        </p:nvSpPr>
        <p:spPr>
          <a:xfrm>
            <a:off x="2914560" y="-1584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椭圆 56"/>
          <p:cNvSpPr/>
          <p:nvPr/>
        </p:nvSpPr>
        <p:spPr>
          <a:xfrm>
            <a:off x="1886040" y="305424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椭圆 57"/>
          <p:cNvSpPr/>
          <p:nvPr/>
        </p:nvSpPr>
        <p:spPr>
          <a:xfrm>
            <a:off x="1886040" y="408456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椭圆 58"/>
          <p:cNvSpPr/>
          <p:nvPr/>
        </p:nvSpPr>
        <p:spPr>
          <a:xfrm>
            <a:off x="1886040" y="98280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椭圆 59"/>
          <p:cNvSpPr/>
          <p:nvPr/>
        </p:nvSpPr>
        <p:spPr>
          <a:xfrm>
            <a:off x="1886040" y="202572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60"/>
          <p:cNvSpPr/>
          <p:nvPr/>
        </p:nvSpPr>
        <p:spPr>
          <a:xfrm>
            <a:off x="1886040" y="-4608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椭圆 61"/>
          <p:cNvSpPr/>
          <p:nvPr/>
        </p:nvSpPr>
        <p:spPr>
          <a:xfrm>
            <a:off x="857160" y="3084480"/>
            <a:ext cx="102888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椭圆 62"/>
          <p:cNvSpPr/>
          <p:nvPr/>
        </p:nvSpPr>
        <p:spPr>
          <a:xfrm>
            <a:off x="857160" y="411336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椭圆 63"/>
          <p:cNvSpPr/>
          <p:nvPr/>
        </p:nvSpPr>
        <p:spPr>
          <a:xfrm>
            <a:off x="857160" y="1012680"/>
            <a:ext cx="102888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椭圆 64"/>
          <p:cNvSpPr/>
          <p:nvPr/>
        </p:nvSpPr>
        <p:spPr>
          <a:xfrm>
            <a:off x="857160" y="205596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椭圆 65"/>
          <p:cNvSpPr/>
          <p:nvPr/>
        </p:nvSpPr>
        <p:spPr>
          <a:xfrm>
            <a:off x="857160" y="-15840"/>
            <a:ext cx="102888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椭圆 66"/>
          <p:cNvSpPr/>
          <p:nvPr/>
        </p:nvSpPr>
        <p:spPr>
          <a:xfrm>
            <a:off x="-163440" y="308448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椭圆 67"/>
          <p:cNvSpPr/>
          <p:nvPr/>
        </p:nvSpPr>
        <p:spPr>
          <a:xfrm>
            <a:off x="-163440" y="411336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椭圆 68"/>
          <p:cNvSpPr/>
          <p:nvPr/>
        </p:nvSpPr>
        <p:spPr>
          <a:xfrm>
            <a:off x="-163440" y="1012680"/>
            <a:ext cx="1028520" cy="102888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69"/>
          <p:cNvSpPr/>
          <p:nvPr/>
        </p:nvSpPr>
        <p:spPr>
          <a:xfrm>
            <a:off x="-163440" y="205596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70"/>
          <p:cNvSpPr/>
          <p:nvPr/>
        </p:nvSpPr>
        <p:spPr>
          <a:xfrm>
            <a:off x="-163440" y="-15840"/>
            <a:ext cx="1028520" cy="1028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sh dir="d"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path" presetID="35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94444E-006 -1.54083E-006 L -0.08837 -1.54083E-006 E">
                                      <p:cBhvr>
                                        <p:cTn id="1112" dur="2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700"/>
                            </p:stCondLst>
                            <p:childTnLst>
                              <p:par>
                                <p:cTn id="1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6" presetSubtype="3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2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6" presetSubtype="3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6" presetSubtype="3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2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6" presetSubtype="3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6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ntr" presetID="6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2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ntr" presetID="6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2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ntr" presetID="6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2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2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2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6" presetSubtype="3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2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dur="indefinite" nodeType="withEffect" fill="hold" presetClass="entr" presetID="6" presetSubtype="3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2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6" presetSubtype="3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2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2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2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2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2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2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2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2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2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2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2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2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2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2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2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2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2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D:\Betsy葛\1\3225s.png"/>
          <p:cNvPicPr/>
          <p:nvPr/>
        </p:nvPicPr>
        <p:blipFill>
          <a:blip r:embed="rId1"/>
          <a:srcRect l="11694" t="0" r="0" b="0"/>
          <a:stretch/>
        </p:blipFill>
        <p:spPr>
          <a:xfrm>
            <a:off x="-495360" y="-46080"/>
            <a:ext cx="10442520" cy="5181480"/>
          </a:xfrm>
          <a:prstGeom prst="rect">
            <a:avLst/>
          </a:prstGeom>
          <a:ln w="0">
            <a:noFill/>
          </a:ln>
        </p:spPr>
      </p:pic>
      <p:sp>
        <p:nvSpPr>
          <p:cNvPr id="417" name="任意多边形 6"/>
          <p:cNvSpPr/>
          <p:nvPr/>
        </p:nvSpPr>
        <p:spPr>
          <a:xfrm>
            <a:off x="781200" y="3400560"/>
            <a:ext cx="1771560" cy="1406520"/>
          </a:xfrm>
          <a:prstGeom prst="pie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-267480" y="3257640"/>
            <a:ext cx="367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6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3" descr="D:\Betsy葛\1\32.png"/>
          <p:cNvPicPr/>
          <p:nvPr/>
        </p:nvPicPr>
        <p:blipFill>
          <a:blip r:embed="rId2"/>
          <a:stretch/>
        </p:blipFill>
        <p:spPr>
          <a:xfrm>
            <a:off x="0" y="0"/>
            <a:ext cx="11801520" cy="5156280"/>
          </a:xfrm>
          <a:prstGeom prst="rect">
            <a:avLst/>
          </a:prstGeom>
          <a:ln w="0">
            <a:noFill/>
          </a:ln>
        </p:spPr>
      </p:pic>
      <p:sp>
        <p:nvSpPr>
          <p:cNvPr id="420" name="任意多边形 8"/>
          <p:cNvSpPr/>
          <p:nvPr/>
        </p:nvSpPr>
        <p:spPr>
          <a:xfrm>
            <a:off x="4791240" y="1139760"/>
            <a:ext cx="3782880" cy="2113200"/>
          </a:xfrm>
          <a:prstGeom prst="pi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4376880" y="1515960"/>
            <a:ext cx="455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ALLOW    YOURSE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0"/>
          <p:cNvSpPr/>
          <p:nvPr/>
        </p:nvSpPr>
        <p:spPr>
          <a:xfrm>
            <a:off x="5602680" y="1959120"/>
            <a:ext cx="2373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1"/>
          <p:cNvSpPr/>
          <p:nvPr/>
        </p:nvSpPr>
        <p:spPr>
          <a:xfrm>
            <a:off x="4683960" y="2346480"/>
            <a:ext cx="428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MAKE  MISTAK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dur="indefinite" nodeType="withEffect" fill="hold" presetClass="exit" presetID="6" presetSubtype="3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0" dur="7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dur="indefinite" nodeType="withEffect" fill="hold" presetClass="entr" presetID="6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6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9" dur="4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"/>
                            </p:stCondLst>
                            <p:childTnLst>
                              <p:par>
                                <p:cTn id="12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3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1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600"/>
                            </p:stCondLst>
                            <p:childTnLst>
                              <p:par>
                                <p:cTn id="12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3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-881640" y="1676520"/>
            <a:ext cx="3460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7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589320" y="23940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直接连接符 4"/>
          <p:cNvSpPr/>
          <p:nvPr/>
        </p:nvSpPr>
        <p:spPr>
          <a:xfrm>
            <a:off x="-46080" y="3013200"/>
            <a:ext cx="140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12"/>
          <p:cNvSpPr/>
          <p:nvPr/>
        </p:nvSpPr>
        <p:spPr>
          <a:xfrm flipV="1">
            <a:off x="2130480" y="2599920"/>
            <a:ext cx="11485440" cy="44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矩形 13"/>
          <p:cNvSpPr/>
          <p:nvPr/>
        </p:nvSpPr>
        <p:spPr>
          <a:xfrm>
            <a:off x="2111400" y="2357280"/>
            <a:ext cx="7761240" cy="462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燕尾形 11"/>
          <p:cNvSpPr/>
          <p:nvPr/>
        </p:nvSpPr>
        <p:spPr>
          <a:xfrm>
            <a:off x="2028960" y="2527200"/>
            <a:ext cx="164880" cy="195480"/>
          </a:xfrm>
          <a:custGeom>
            <a:avLst/>
            <a:gdLst>
              <a:gd name="textAreaLeft" fmla="*/ 0 w 164880"/>
              <a:gd name="textAreaRight" fmla="*/ 165240 w 1648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组合 15"/>
          <p:cNvGrpSpPr/>
          <p:nvPr/>
        </p:nvGrpSpPr>
        <p:grpSpPr>
          <a:xfrm>
            <a:off x="11091600" y="1562040"/>
            <a:ext cx="8125200" cy="2652840"/>
            <a:chOff x="11091600" y="1562040"/>
            <a:chExt cx="8125200" cy="2652840"/>
          </a:xfrm>
        </p:grpSpPr>
        <p:pic>
          <p:nvPicPr>
            <p:cNvPr id="431" name="Picture 4" descr="D:\Betsy葛\1\1104131533871422314e03eca2副本.png"/>
            <p:cNvPicPr/>
            <p:nvPr/>
          </p:nvPicPr>
          <p:blipFill>
            <a:blip r:embed="rId1"/>
            <a:stretch/>
          </p:blipFill>
          <p:spPr>
            <a:xfrm flipH="1">
              <a:off x="17703360" y="1595160"/>
              <a:ext cx="1513440" cy="261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2" name="组合 14"/>
            <p:cNvGrpSpPr/>
            <p:nvPr/>
          </p:nvGrpSpPr>
          <p:grpSpPr>
            <a:xfrm>
              <a:off x="11091600" y="1562040"/>
              <a:ext cx="8125200" cy="1818360"/>
              <a:chOff x="11091600" y="1562040"/>
              <a:chExt cx="8125200" cy="1818360"/>
            </a:xfrm>
          </p:grpSpPr>
          <p:pic>
            <p:nvPicPr>
              <p:cNvPr id="433" name="Picture 5" descr="D:\Betsy葛\1\13.png"/>
              <p:cNvPicPr/>
              <p:nvPr/>
            </p:nvPicPr>
            <p:blipFill>
              <a:blip r:embed="rId2"/>
              <a:stretch/>
            </p:blipFill>
            <p:spPr>
              <a:xfrm>
                <a:off x="18044280" y="1562040"/>
                <a:ext cx="1172520" cy="14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Picture 6" descr="D:\Betsy葛\1\errr.png"/>
              <p:cNvPicPr/>
              <p:nvPr/>
            </p:nvPicPr>
            <p:blipFill>
              <a:blip r:embed="rId3"/>
              <a:stretch/>
            </p:blipFill>
            <p:spPr>
              <a:xfrm>
                <a:off x="16923960" y="2004840"/>
                <a:ext cx="513360" cy="991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5" name="组合 10"/>
              <p:cNvGrpSpPr/>
              <p:nvPr/>
            </p:nvGrpSpPr>
            <p:grpSpPr>
              <a:xfrm>
                <a:off x="11091600" y="2325240"/>
                <a:ext cx="2735280" cy="1055160"/>
                <a:chOff x="11091600" y="2325240"/>
                <a:chExt cx="2735280" cy="1055160"/>
              </a:xfrm>
            </p:grpSpPr>
            <p:pic>
              <p:nvPicPr>
                <p:cNvPr id="436" name="Picture 2" descr="D:\Betsy葛\1\20120217_b758433fadcf015853ecgjwFPuRPqbre副本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52240" y="2504160"/>
                  <a:ext cx="433080" cy="55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Picture 3" descr="D:\Betsy葛\1\img02546460副本.png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13265640" y="2394360"/>
                  <a:ext cx="561240" cy="655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Picture 6" descr="D:\Betsy葛\1\img02546副本.png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11091600" y="2325240"/>
                  <a:ext cx="1414440" cy="1055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439" name="TextBox 17"/>
          <p:cNvSpPr/>
          <p:nvPr/>
        </p:nvSpPr>
        <p:spPr>
          <a:xfrm>
            <a:off x="5403600" y="213984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宋体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3597480" y="214956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OMEW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任意多边形 2062"/>
          <p:cNvSpPr/>
          <p:nvPr/>
        </p:nvSpPr>
        <p:spPr>
          <a:xfrm>
            <a:off x="17498880" y="157320"/>
            <a:ext cx="1487520" cy="745920"/>
          </a:xfrm>
          <a:prstGeom prst="pie">
            <a:avLst/>
          </a:prstGeom>
          <a:solidFill>
            <a:srgbClr val="d8d8d8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任意多边形 2064"/>
          <p:cNvSpPr/>
          <p:nvPr/>
        </p:nvSpPr>
        <p:spPr>
          <a:xfrm>
            <a:off x="16079760" y="90360"/>
            <a:ext cx="685800" cy="347760"/>
          </a:xfrm>
          <a:prstGeom prst="pie">
            <a:avLst/>
          </a:prstGeom>
          <a:solidFill>
            <a:srgbClr val="d8d8d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969"/>
          <p:cNvSpPr/>
          <p:nvPr/>
        </p:nvSpPr>
        <p:spPr>
          <a:xfrm flipH="1">
            <a:off x="16299000" y="1074600"/>
            <a:ext cx="234720" cy="17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970"/>
          <p:cNvSpPr/>
          <p:nvPr/>
        </p:nvSpPr>
        <p:spPr>
          <a:xfrm flipH="1">
            <a:off x="16299000" y="903240"/>
            <a:ext cx="247680" cy="2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969"/>
          <p:cNvSpPr/>
          <p:nvPr/>
        </p:nvSpPr>
        <p:spPr>
          <a:xfrm flipH="1">
            <a:off x="16704720" y="1244520"/>
            <a:ext cx="153720" cy="11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970"/>
          <p:cNvSpPr/>
          <p:nvPr/>
        </p:nvSpPr>
        <p:spPr>
          <a:xfrm flipH="1">
            <a:off x="16694280" y="1136520"/>
            <a:ext cx="163440" cy="14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969"/>
          <p:cNvSpPr/>
          <p:nvPr/>
        </p:nvSpPr>
        <p:spPr>
          <a:xfrm flipH="1">
            <a:off x="16830000" y="1077840"/>
            <a:ext cx="19692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970"/>
          <p:cNvSpPr/>
          <p:nvPr/>
        </p:nvSpPr>
        <p:spPr>
          <a:xfrm flipH="1">
            <a:off x="16822800" y="941400"/>
            <a:ext cx="208080" cy="18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4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4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4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400"/>
                            </p:stCondLst>
                            <p:childTnLst>
                              <p:par>
                                <p:cTn id="1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2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1481E-006 L 0.44983 4.81481E-006 E">
                                      <p:cBhvr>
                                        <p:cTn id="1300" dur="21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2" dur="4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305" dur="24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7" dur="4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310" dur="24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xit" presetID="11" repeatCount="indefinite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path" presetID="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315" dur="245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xit" presetID="11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4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320" dur="2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1" dur="indefinite" nodeType="withEffect" fill="hold" presetClass="exit" presetID="11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4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325" dur="21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xit" presetID="11" repeatCount="indefinite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4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330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2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2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1481E-006 L 0.44983 4.81481E-006 E">
                                      <p:cBhvr>
                                        <p:cTn id="1338" dur="21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9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4.69136E-006 L -0.38924 4.69136E-006 E">
                                      <p:cBhvr>
                                        <p:cTn id="1340" dur="7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4.69136E-006 L -0.38924 4.69136E-006 E">
                                      <p:cBhvr>
                                        <p:cTn id="1342" dur="7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3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44" dur="6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-6.79642E-008 L -1.06979 0.00031 E">
                                      <p:cBhvr>
                                        <p:cTn id="1346" dur="1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-6.79642E-008 L -1.06979 0.00031 E">
                                      <p:cBhvr>
                                        <p:cTn id="1348" dur="1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-6.79642E-008 L -1.06979 0.00031 E">
                                      <p:cBhvr>
                                        <p:cTn id="1350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矩形 1"/>
          <p:cNvSpPr/>
          <p:nvPr/>
        </p:nvSpPr>
        <p:spPr>
          <a:xfrm>
            <a:off x="5829480" y="2073240"/>
            <a:ext cx="914400" cy="1362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5"/>
          <p:cNvSpPr/>
          <p:nvPr/>
        </p:nvSpPr>
        <p:spPr>
          <a:xfrm>
            <a:off x="7810560" y="2073240"/>
            <a:ext cx="914400" cy="1362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6" hidden="1"/>
          <p:cNvSpPr/>
          <p:nvPr/>
        </p:nvSpPr>
        <p:spPr>
          <a:xfrm>
            <a:off x="5910840" y="196848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0a14"/>
                </a:solidFill>
                <a:latin typeface="Adobe Gothic Std B"/>
                <a:ea typeface="Adobe Gothic Std 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"/>
          <p:cNvSpPr/>
          <p:nvPr/>
        </p:nvSpPr>
        <p:spPr>
          <a:xfrm>
            <a:off x="6914160" y="196848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914160" y="196848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1"/>
          <p:cNvSpPr/>
          <p:nvPr/>
        </p:nvSpPr>
        <p:spPr>
          <a:xfrm>
            <a:off x="6914160" y="196848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12"/>
          <p:cNvSpPr/>
          <p:nvPr/>
        </p:nvSpPr>
        <p:spPr>
          <a:xfrm>
            <a:off x="6819840" y="2073240"/>
            <a:ext cx="914400" cy="1362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5923440" y="196848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5923440" y="196848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4" hidden="1"/>
          <p:cNvSpPr/>
          <p:nvPr/>
        </p:nvSpPr>
        <p:spPr>
          <a:xfrm>
            <a:off x="6914160" y="197820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5"/>
          <p:cNvSpPr/>
          <p:nvPr/>
        </p:nvSpPr>
        <p:spPr>
          <a:xfrm>
            <a:off x="5923440" y="196848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0a14"/>
                </a:solidFill>
                <a:latin typeface="Adobe Gothic Std B"/>
                <a:ea typeface="Adobe Gothic Std 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7"/>
          <p:cNvSpPr/>
          <p:nvPr/>
        </p:nvSpPr>
        <p:spPr>
          <a:xfrm>
            <a:off x="6914160" y="196848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0a14"/>
                </a:solidFill>
                <a:latin typeface="Adobe Gothic Std B"/>
                <a:ea typeface="Adobe Gothic Std B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7"/>
          <p:cNvSpPr/>
          <p:nvPr/>
        </p:nvSpPr>
        <p:spPr>
          <a:xfrm>
            <a:off x="3600360" y="2289240"/>
            <a:ext cx="22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C O U N 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8"/>
          <p:cNvSpPr/>
          <p:nvPr/>
        </p:nvSpPr>
        <p:spPr>
          <a:xfrm>
            <a:off x="975240" y="28512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YOUR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BLESS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0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"/>
                            </p:stCondLst>
                            <p:childTnLst>
                              <p:par>
                                <p:cTn id="136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10"/>
                            </p:stCondLst>
                            <p:childTnLst>
                              <p:par>
                                <p:cTn id="13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10"/>
                            </p:stCondLst>
                            <p:childTnLst>
                              <p:par>
                                <p:cTn id="137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220"/>
                            </p:stCondLst>
                            <p:childTnLst>
                              <p:par>
                                <p:cTn id="13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320"/>
                            </p:stCondLst>
                            <p:childTnLst>
                              <p:par>
                                <p:cTn id="138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330"/>
                            </p:stCondLst>
                            <p:childTnLst>
                              <p:par>
                                <p:cTn id="13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30"/>
                            </p:stCondLst>
                            <p:childTnLst>
                              <p:par>
                                <p:cTn id="139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730"/>
                            </p:stCondLst>
                            <p:childTnLst>
                              <p:par>
                                <p:cTn id="1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1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830"/>
                            </p:stCondLst>
                            <p:childTnLst>
                              <p:par>
                                <p:cTn id="13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3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1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7" dur="1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1" dur="1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5" dur="1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3" dur="1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7" dur="1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1" dur="1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5" dur="1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1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3" dur="1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1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-1091520" y="-604800"/>
            <a:ext cx="5612400" cy="76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561680" y="1413000"/>
            <a:ext cx="240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561680" y="2117880"/>
            <a:ext cx="240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61680" y="2824200"/>
            <a:ext cx="240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3186000" y="1828800"/>
            <a:ext cx="2098800" cy="223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3186000" y="2502000"/>
            <a:ext cx="2098800" cy="222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3186000" y="3173400"/>
            <a:ext cx="2098800" cy="223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1696320" y="3689280"/>
            <a:ext cx="314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K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3173040" y="3689280"/>
            <a:ext cx="311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S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"/>
                            </p:stCondLst>
                            <p:childTnLst>
                              <p:par>
                                <p:cTn id="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1"/>
          <p:cNvSpPr/>
          <p:nvPr/>
        </p:nvSpPr>
        <p:spPr>
          <a:xfrm>
            <a:off x="-903240" y="549360"/>
            <a:ext cx="4015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9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3"/>
          <p:cNvSpPr/>
          <p:nvPr/>
        </p:nvSpPr>
        <p:spPr>
          <a:xfrm>
            <a:off x="-827280" y="2262240"/>
            <a:ext cx="656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GET  LOTS  OF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组合 20"/>
          <p:cNvGrpSpPr/>
          <p:nvPr/>
        </p:nvGrpSpPr>
        <p:grpSpPr>
          <a:xfrm>
            <a:off x="4601160" y="1900080"/>
            <a:ext cx="6098760" cy="7499520"/>
            <a:chOff x="4601160" y="1900080"/>
            <a:chExt cx="6098760" cy="7499520"/>
          </a:xfrm>
        </p:grpSpPr>
        <p:pic>
          <p:nvPicPr>
            <p:cNvPr id="466" name="Picture 3" descr="D:\Betsy葛\1\gh.png"/>
            <p:cNvPicPr/>
            <p:nvPr/>
          </p:nvPicPr>
          <p:blipFill>
            <a:blip r:embed="rId1"/>
            <a:stretch/>
          </p:blipFill>
          <p:spPr>
            <a:xfrm rot="21381000">
              <a:off x="4699080" y="2001600"/>
              <a:ext cx="3303000" cy="318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矩形 24"/>
            <p:cNvSpPr/>
            <p:nvPr/>
          </p:nvSpPr>
          <p:spPr>
            <a:xfrm>
              <a:off x="10277640" y="8982360"/>
              <a:ext cx="422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0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"/>
                            </p:stCondLst>
                            <p:childTnLst>
                              <p:par>
                                <p:cTn id="1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2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00"/>
                            </p:stCondLst>
                            <p:childTnLst>
                              <p:par>
                                <p:cTn id="14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800"/>
                            </p:stCondLst>
                            <p:childTnLst>
                              <p:par>
                                <p:cTn id="146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4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300"/>
                            </p:stCondLst>
                            <p:childTnLst>
                              <p:par>
                                <p:cTn id="147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71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600"/>
                            </p:stCondLst>
                            <p:childTnLst>
                              <p:par>
                                <p:cTn id="147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7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47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47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8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48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48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9"/>
          <p:cNvSpPr/>
          <p:nvPr/>
        </p:nvSpPr>
        <p:spPr>
          <a:xfrm>
            <a:off x="2514600" y="2448000"/>
            <a:ext cx="19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1"/>
          <p:cNvSpPr/>
          <p:nvPr/>
        </p:nvSpPr>
        <p:spPr>
          <a:xfrm>
            <a:off x="2514600" y="244800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0a14"/>
                </a:solidFill>
                <a:latin typeface="Calibri"/>
                <a:ea typeface="宋体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椭圆 2"/>
          <p:cNvSpPr/>
          <p:nvPr/>
        </p:nvSpPr>
        <p:spPr>
          <a:xfrm>
            <a:off x="2508120" y="1914480"/>
            <a:ext cx="1765440" cy="1765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1976400" y="3193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526000" y="2398680"/>
            <a:ext cx="14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IS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椭圆 4"/>
          <p:cNvSpPr/>
          <p:nvPr/>
        </p:nvSpPr>
        <p:spPr>
          <a:xfrm>
            <a:off x="2192400" y="363528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11"/>
          <p:cNvSpPr/>
          <p:nvPr/>
        </p:nvSpPr>
        <p:spPr>
          <a:xfrm>
            <a:off x="5530680" y="2408400"/>
            <a:ext cx="148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宋体"/>
              </a:rPr>
              <a:t>RIS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椭圆 6"/>
          <p:cNvSpPr/>
          <p:nvPr/>
        </p:nvSpPr>
        <p:spPr>
          <a:xfrm>
            <a:off x="5370480" y="1932120"/>
            <a:ext cx="1765440" cy="1765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椭圆 7"/>
          <p:cNvSpPr/>
          <p:nvPr/>
        </p:nvSpPr>
        <p:spPr>
          <a:xfrm>
            <a:off x="5616720" y="1500120"/>
            <a:ext cx="214200" cy="2127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椭圆 8"/>
          <p:cNvSpPr/>
          <p:nvPr/>
        </p:nvSpPr>
        <p:spPr>
          <a:xfrm>
            <a:off x="7016760" y="173052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5738760" y="3551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椭圆 12"/>
          <p:cNvSpPr/>
          <p:nvPr/>
        </p:nvSpPr>
        <p:spPr>
          <a:xfrm>
            <a:off x="3817800" y="367992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椭圆 13"/>
          <p:cNvSpPr/>
          <p:nvPr/>
        </p:nvSpPr>
        <p:spPr>
          <a:xfrm>
            <a:off x="2400480" y="184788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椭圆 14"/>
          <p:cNvSpPr/>
          <p:nvPr/>
        </p:nvSpPr>
        <p:spPr>
          <a:xfrm>
            <a:off x="3489480" y="136836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椭圆 15"/>
          <p:cNvSpPr/>
          <p:nvPr/>
        </p:nvSpPr>
        <p:spPr>
          <a:xfrm>
            <a:off x="1289160" y="4456080"/>
            <a:ext cx="288720" cy="290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椭圆 16"/>
          <p:cNvSpPr/>
          <p:nvPr/>
        </p:nvSpPr>
        <p:spPr>
          <a:xfrm>
            <a:off x="4443480" y="4529160"/>
            <a:ext cx="144360" cy="146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椭圆 18"/>
          <p:cNvSpPr/>
          <p:nvPr/>
        </p:nvSpPr>
        <p:spPr>
          <a:xfrm>
            <a:off x="6827760" y="4475160"/>
            <a:ext cx="297000" cy="295200"/>
          </a:xfrm>
          <a:prstGeom prst="ellipse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椭圆 19"/>
          <p:cNvSpPr/>
          <p:nvPr/>
        </p:nvSpPr>
        <p:spPr>
          <a:xfrm>
            <a:off x="1530360" y="4125960"/>
            <a:ext cx="336600" cy="336600"/>
          </a:xfrm>
          <a:prstGeom prst="ellipse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椭圆 20"/>
          <p:cNvSpPr/>
          <p:nvPr/>
        </p:nvSpPr>
        <p:spPr>
          <a:xfrm>
            <a:off x="158760" y="2100240"/>
            <a:ext cx="336600" cy="336600"/>
          </a:xfrm>
          <a:prstGeom prst="ellipse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椭圆 21"/>
          <p:cNvSpPr/>
          <p:nvPr/>
        </p:nvSpPr>
        <p:spPr>
          <a:xfrm>
            <a:off x="2070000" y="1174680"/>
            <a:ext cx="230400" cy="230400"/>
          </a:xfrm>
          <a:prstGeom prst="ellipse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3"/>
          <p:cNvSpPr/>
          <p:nvPr/>
        </p:nvSpPr>
        <p:spPr>
          <a:xfrm>
            <a:off x="7230960" y="24368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24"/>
          <p:cNvSpPr/>
          <p:nvPr/>
        </p:nvSpPr>
        <p:spPr>
          <a:xfrm>
            <a:off x="676080" y="2403360"/>
            <a:ext cx="32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椭圆 25"/>
          <p:cNvSpPr/>
          <p:nvPr/>
        </p:nvSpPr>
        <p:spPr>
          <a:xfrm>
            <a:off x="2849400" y="1554120"/>
            <a:ext cx="293760" cy="293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椭圆 26"/>
          <p:cNvSpPr/>
          <p:nvPr/>
        </p:nvSpPr>
        <p:spPr>
          <a:xfrm>
            <a:off x="4222800" y="1544760"/>
            <a:ext cx="293760" cy="293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椭圆 27"/>
          <p:cNvSpPr/>
          <p:nvPr/>
        </p:nvSpPr>
        <p:spPr>
          <a:xfrm>
            <a:off x="4179960" y="3894120"/>
            <a:ext cx="293760" cy="293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椭圆 28"/>
          <p:cNvSpPr/>
          <p:nvPr/>
        </p:nvSpPr>
        <p:spPr>
          <a:xfrm>
            <a:off x="2556000" y="3492360"/>
            <a:ext cx="293400" cy="293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椭圆 29"/>
          <p:cNvSpPr/>
          <p:nvPr/>
        </p:nvSpPr>
        <p:spPr>
          <a:xfrm>
            <a:off x="7738920" y="1174680"/>
            <a:ext cx="246240" cy="246240"/>
          </a:xfrm>
          <a:prstGeom prst="ellipse">
            <a:avLst/>
          </a:prstGeom>
          <a:solidFill>
            <a:srgbClr val="00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椭圆 30"/>
          <p:cNvSpPr/>
          <p:nvPr/>
        </p:nvSpPr>
        <p:spPr>
          <a:xfrm>
            <a:off x="7021440" y="509760"/>
            <a:ext cx="420840" cy="420480"/>
          </a:xfrm>
          <a:prstGeom prst="ellipse">
            <a:avLst/>
          </a:prstGeom>
          <a:solidFill>
            <a:srgbClr val="00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椭圆 31"/>
          <p:cNvSpPr/>
          <p:nvPr/>
        </p:nvSpPr>
        <p:spPr>
          <a:xfrm>
            <a:off x="7859880" y="4187880"/>
            <a:ext cx="341280" cy="341280"/>
          </a:xfrm>
          <a:prstGeom prst="ellipse">
            <a:avLst/>
          </a:prstGeom>
          <a:solidFill>
            <a:srgbClr val="00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椭圆 32"/>
          <p:cNvSpPr/>
          <p:nvPr/>
        </p:nvSpPr>
        <p:spPr>
          <a:xfrm>
            <a:off x="2300400" y="4506840"/>
            <a:ext cx="255600" cy="255600"/>
          </a:xfrm>
          <a:prstGeom prst="ellipse">
            <a:avLst/>
          </a:prstGeom>
          <a:solidFill>
            <a:srgbClr val="00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椭圆 33"/>
          <p:cNvSpPr/>
          <p:nvPr/>
        </p:nvSpPr>
        <p:spPr>
          <a:xfrm>
            <a:off x="996840" y="3360600"/>
            <a:ext cx="389160" cy="389160"/>
          </a:xfrm>
          <a:prstGeom prst="ellipse">
            <a:avLst/>
          </a:prstGeom>
          <a:solidFill>
            <a:srgbClr val="00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椭圆 34"/>
          <p:cNvSpPr/>
          <p:nvPr/>
        </p:nvSpPr>
        <p:spPr>
          <a:xfrm>
            <a:off x="376200" y="4359240"/>
            <a:ext cx="243000" cy="243000"/>
          </a:xfrm>
          <a:prstGeom prst="ellipse">
            <a:avLst/>
          </a:prstGeom>
          <a:solidFill>
            <a:srgbClr val="00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椭圆 35"/>
          <p:cNvSpPr/>
          <p:nvPr/>
        </p:nvSpPr>
        <p:spPr>
          <a:xfrm>
            <a:off x="752400" y="490680"/>
            <a:ext cx="438120" cy="439560"/>
          </a:xfrm>
          <a:prstGeom prst="ellipse">
            <a:avLst/>
          </a:prstGeom>
          <a:solidFill>
            <a:srgbClr val="00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椭圆 36"/>
          <p:cNvSpPr/>
          <p:nvPr/>
        </p:nvSpPr>
        <p:spPr>
          <a:xfrm>
            <a:off x="1577880" y="728640"/>
            <a:ext cx="219240" cy="219240"/>
          </a:xfrm>
          <a:prstGeom prst="ellipse">
            <a:avLst/>
          </a:prstGeom>
          <a:solidFill>
            <a:srgbClr val="00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"/>
                            </p:stCondLst>
                            <p:childTnLst>
                              <p:par>
                                <p:cTn id="14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1"/>
                            </p:stCondLst>
                            <p:childTnLst>
                              <p:par>
                                <p:cTn id="1495" dur="indefinite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ntr" presetID="1">
                                  <p:stCondLst>
                                    <p:cond delay="69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ntr" presetID="1">
                                  <p:stCondLst>
                                    <p:cond delay="69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xit" presetID="1">
                                  <p:stCondLst>
                                    <p:cond delay="69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702"/>
                            </p:stCondLst>
                            <p:childTnLst>
                              <p:par>
                                <p:cTn id="150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903"/>
                            </p:stCondLst>
                            <p:childTnLst>
                              <p:par>
                                <p:cTn id="15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904"/>
                            </p:stCondLst>
                            <p:childTnLst>
                              <p:par>
                                <p:cTn id="15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905"/>
                            </p:stCondLst>
                            <p:childTnLst>
                              <p:par>
                                <p:cTn id="15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1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115"/>
                            </p:stCondLst>
                            <p:childTnLst>
                              <p:par>
                                <p:cTn id="157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dur="indefinite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315"/>
                            </p:stCondLst>
                            <p:childTnLst>
                              <p:par>
                                <p:cTn id="1594" dur="indefinite" nodeType="after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515"/>
                            </p:stCondLst>
                            <p:childTnLst>
                              <p:par>
                                <p:cTn id="15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516"/>
                            </p:stCondLst>
                            <p:childTnLst>
                              <p:par>
                                <p:cTn id="1600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01" dur="2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03" dur="2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35" dur="2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1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2" dur="1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1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1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1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2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8 -0.02993 L 0.10347 0.01019 C 0.11736 0.01914 0.1382 0.02408 0.1599 0.02408 C 0.18472 0.02408 0.20452 0.01914 0.21841 0.01019 L 0.28507 -0.02993 E">
                                      <p:cBhvr>
                                        <p:cTn id="1677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4568E-006 L 0.06649 0.04012 C 0.08038 0.04907 0.10122 0.05401 0.12292 0.05401 C 0.14774 0.05401 0.16754 0.04907 0.18142 0.04012 L 0.24809 2.34568E-006 E">
                                      <p:cBhvr>
                                        <p:cTn id="1679" dur="175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0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6.17284E-007 L 0.06649 0.04012 C 0.08038 0.04907 0.10121 0.05401 0.12292 0.05401 C 0.14774 0.05401 0.16753 0.04907 0.18142 0.04012 L 0.24809 6.17284E-007 E">
                                      <p:cBhvr>
                                        <p:cTn id="1681" dur="175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96296E-006 L 0.06649 0.04013 C 0.08038 0.04908 0.10122 0.05402 0.12292 0.05402 C 0.14774 0.05402 0.16753 0.04908 0.18142 0.04013 L 0.24809 -2.96296E-006 E">
                                      <p:cBhvr>
                                        <p:cTn id="1683" dur="175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06649 0.04013 C 0.08038 0.04908 0.10121 0.05402 0.12292 0.05402 C 0.14774 0.05402 0.16753 0.04908 0.18142 0.04013 L 0.24809 -2.96296E-006 E">
                                      <p:cBhvr>
                                        <p:cTn id="1685" dur="175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6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0.06649 0.04013 C 0.08038 0.04908 0.10121 0.05402 0.12292 0.05402 C 0.14774 0.05402 0.16753 0.04908 0.18142 0.04013 L 0.24809 -4.81481E-006 E">
                                      <p:cBhvr>
                                        <p:cTn id="1687" dur="175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93827E-007 L 0.0665 0.04012 C 0.08038 0.04907 0.10122 0.05401 0.12292 0.05401 C 0.14775 0.05401 0.16754 0.04907 0.18143 0.04012 L 0.24809 -4.93827E-007 E">
                                      <p:cBhvr>
                                        <p:cTn id="1689" dur="175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0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0665 0.04013 C 0.08038 0.04908 0.10122 0.05401 0.12292 0.05401 C 0.14775 0.05401 0.16754 0.04908 0.18143 0.04013 L 0.2481 -2.22222E-006 E">
                                      <p:cBhvr>
                                        <p:cTn id="1691" dur="175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12"/>
          <p:cNvSpPr/>
          <p:nvPr/>
        </p:nvSpPr>
        <p:spPr>
          <a:xfrm>
            <a:off x="-1508040" y="-1811160"/>
            <a:ext cx="13060440" cy="7391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11"/>
          <p:cNvSpPr/>
          <p:nvPr/>
        </p:nvSpPr>
        <p:spPr>
          <a:xfrm>
            <a:off x="2600280" y="64440"/>
            <a:ext cx="34718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汉仪大黑简"/>
                <a:ea typeface="汉仪大黑简"/>
              </a:rPr>
              <a:t>2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3"/>
          <p:cNvSpPr/>
          <p:nvPr/>
        </p:nvSpPr>
        <p:spPr>
          <a:xfrm>
            <a:off x="1735200" y="2846520"/>
            <a:ext cx="585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BREAK  THE 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8" descr="C:\Documents and Settings\Administrator\桌面\图片7.jpg"/>
          <p:cNvPicPr/>
          <p:nvPr/>
        </p:nvPicPr>
        <p:blipFill>
          <a:blip r:embed="rId2"/>
          <a:stretch/>
        </p:blipFill>
        <p:spPr>
          <a:xfrm>
            <a:off x="-1508040" y="-1704960"/>
            <a:ext cx="12450600" cy="70675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C:\Documents and Settings\Administrator\桌面\图片1SD.png"/>
          <p:cNvPicPr/>
          <p:nvPr/>
        </p:nvPicPr>
        <p:blipFill>
          <a:blip r:embed="rId3"/>
          <a:stretch/>
        </p:blipFill>
        <p:spPr>
          <a:xfrm>
            <a:off x="-1501920" y="-1728720"/>
            <a:ext cx="12203280" cy="7004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"/>
          <p:cNvPicPr/>
          <p:nvPr/>
        </p:nvPicPr>
        <p:blipFill>
          <a:blip r:embed="rId4"/>
          <a:stretch/>
        </p:blipFill>
        <p:spPr>
          <a:xfrm>
            <a:off x="-1303200" y="-1681200"/>
            <a:ext cx="12190320" cy="700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0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8.64198E-007 L 0.02309 -8.64198E-007 E">
                                      <p:cBhvr>
                                        <p:cTn id="1706" dur="4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500"/>
                            </p:stCondLst>
                            <p:childTnLst>
                              <p:par>
                                <p:cTn id="1708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09 -8.64198E-007 L 0.05764 -8.64198E-007 E">
                                      <p:cBhvr>
                                        <p:cTn id="1709" dur="4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900"/>
                            </p:stCondLst>
                            <p:childTnLst>
                              <p:par>
                                <p:cTn id="171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12 -8.64198E-007 L 0.30712 -8.64198E-007 E">
                                      <p:cBhvr>
                                        <p:cTn id="1712" dur="2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14 1.23457E-006 L -0.27014 1.23457E-006 E">
                                      <p:cBhvr>
                                        <p:cTn id="1714" dur="2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5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151"/>
                            </p:stCondLst>
                            <p:childTnLst>
                              <p:par>
                                <p:cTn id="1720" dur="indefinite" nodeType="afterEffect" fill="hold" presetClass="path" presetID="28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27014 -4.38678E-007 C -0.25313 -4.38678E-007 -0.23907 0.0139 -0.23907 0.03089 C -0.23907 0.04912 -0.25313 0.06302 -0.27014 0.06302 C -0.28716 0.06302 -0.30122 0.07692 -0.30122 0.09422 C -0.30122 0.11121 -0.28716 0.12512 -0.27014 0.12512 C -0.25313 0.12512 -0.23907 0.13902 -0.23907 0.15601 C -0.23907 0.17331 -0.25313 0.18721 -0.27014 0.18721 C -0.28716 0.18721 -0.30122 0.20111 -0.30122 0.21934 C -0.30122 0.23633 -0.28716 0.25023 -0.27014 0.25023 C -0.25313 0.25023 -0.23907 0.23633 -0.23907 0.21934 C -0.23907 0.20111 -0.25313 0.18721 -0.27014 0.18721 C -0.28716 0.18721 -0.30122 0.17331 -0.30122 0.15601 C -0.30122 0.13902 -0.28716 0.12512 -0.27014 0.12512 C -0.25313 0.12512 -0.23907 0.11121 -0.23907 0.09422 C -0.23907 0.07692 -0.25313 0.06302 -0.27014 0.06302 C -0.28716 0.06302 -0.30122 0.04912 -0.30122 0.03089 C -0.30122 0.0139 -0.28716 -4.38678E-007 -0.27014 -4.38678E-007 Z">
                                      <p:cBhvr>
                                        <p:cTn id="1721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2" dur="indefinite" nodeType="withEffect" fill="hold" presetClass="path" presetID="28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30504 -0.00123 C 0.32205 -0.00123 0.33611 0.01266 0.33611 0.02963 C 0.33611 0.04784 0.32205 0.06173 0.30504 0.06173 C 0.28802 0.06173 0.27396 0.07562 0.27396 0.0929 C 0.27396 0.10988 0.28802 0.12377 0.30504 0.12377 C 0.32205 0.12377 0.33611 0.13766 0.33611 0.15463 C 0.33611 0.17192 0.32205 0.18581 0.30504 0.18581 C 0.28802 0.18581 0.27396 0.19969 0.27396 0.2179 C 0.27396 0.23488 0.28802 0.24877 0.30504 0.24877 C 0.32205 0.24877 0.33611 0.23488 0.33611 0.2179 C 0.33611 0.19969 0.32205 0.18581 0.30504 0.18581 C 0.28802 0.18581 0.27396 0.17192 0.27396 0.15463 C 0.27396 0.13766 0.28802 0.12377 0.30504 0.12377 C 0.32205 0.12377 0.33611 0.10988 0.33611 0.0929 C 0.33611 0.07562 0.32205 0.06173 0.30504 0.06173 C 0.28802 0.06173 0.27396 0.04784 0.27396 0.02963 C 0.27396 0.01266 0.28802 -0.00123 0.30504 -0.00123 Z">
                                      <p:cBhvr>
                                        <p:cTn id="1723" dur="1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dur="indefinite" nodeType="withEffect" fill="hold" presetClass="path" presetID="28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17 0 0.031 0.014 0.031 0.031 C 0.031 0.049 0.017 0.063 0 0.063 C -0.017 0.063 -0.031 0.077 -0.031 0.094 C -0.031 0.111 -0.017 0.125 0 0.125 C 0.017 0.125 0.031 0.139 0.031 0.156 C 0.031 0.173 0.017 0.187 0 0.187 C -0.017 0.187 -0.031 0.201 -0.031 0.219 C -0.031 0.236 -0.017 0.25 0 0.25 C 0.017 0.25 0.031 0.236 0.031 0.219 C 0.031 0.201 0.017 0.187 0 0.187 C -0.017 0.187 -0.031 0.173 -0.031 0.156 C -0.031 0.139 -0.017 0.125 0 0.125 C 0.017 0.125 0.031 0.111 0.031 0.094 C 0.031 0.077 0.017 0.063 0 0.063 C -0.017 0.063 -0.031 0.049 -0.031 0.031 C -0.031 0.014 -0.017 0 0 0 Z">
                                      <p:cBhvr>
                                        <p:cTn id="1725" dur="1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6" dur="indefinite" nodeType="withEffect" fill="hold" presetClass="path" presetID="28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17 0 0.031 0.014 0.031 0.031 C 0.031 0.049 0.017 0.063 0 0.063 C -0.017 0.063 -0.031 0.077 -0.031 0.094 C -0.031 0.111 -0.017 0.125 0 0.125 C 0.017 0.125 0.031 0.139 0.031 0.156 C 0.031 0.173 0.017 0.187 0 0.187 C -0.017 0.187 -0.031 0.201 -0.031 0.219 C -0.031 0.236 -0.017 0.25 0 0.25 C 0.017 0.25 0.031 0.236 0.031 0.219 C 0.031 0.201 0.017 0.187 0 0.187 C -0.017 0.187 -0.031 0.173 -0.031 0.156 C -0.031 0.139 -0.017 0.125 0 0.125 C 0.017 0.125 0.031 0.111 0.031 0.094 C 0.031 0.077 0.017 0.063 0 0.063 C -0.017 0.063 -0.031 0.049 -0.031 0.031 C -0.031 0.014 -0.017 0 0 0 Z">
                                      <p:cBhvr>
                                        <p:cTn id="1727" dur="1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8" dur="indefinite" nodeType="withEffect" fill="hold" presetClass="path" presetID="28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17 0 0.031 0.014 0.031 0.031 C 0.031 0.049 0.017 0.063 0 0.063 C -0.017 0.063 -0.031 0.077 -0.031 0.094 C -0.031 0.111 -0.017 0.125 0 0.125 C 0.017 0.125 0.031 0.139 0.031 0.156 C 0.031 0.173 0.017 0.187 0 0.187 C -0.017 0.187 -0.031 0.201 -0.031 0.219 C -0.031 0.236 -0.017 0.25 0 0.25 C 0.017 0.25 0.031 0.236 0.031 0.219 C 0.031 0.201 0.017 0.187 0 0.187 C -0.017 0.187 -0.031 0.173 -0.031 0.156 C -0.031 0.139 -0.017 0.125 0 0.125 C 0.017 0.125 0.031 0.111 0.031 0.094 C 0.031 0.077 0.017 0.063 0 0.063 C -0.017 0.063 -0.031 0.049 -0.031 0.031 C -0.031 0.014 -0.017 0 0 0 Z">
                                      <p:cBhvr>
                                        <p:cTn id="1729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4"/>
          <p:cNvSpPr/>
          <p:nvPr/>
        </p:nvSpPr>
        <p:spPr>
          <a:xfrm>
            <a:off x="2376360" y="2876400"/>
            <a:ext cx="4896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8"/>
          <p:cNvSpPr/>
          <p:nvPr/>
        </p:nvSpPr>
        <p:spPr>
          <a:xfrm>
            <a:off x="1545840" y="22478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9"/>
          <p:cNvSpPr/>
          <p:nvPr/>
        </p:nvSpPr>
        <p:spPr>
          <a:xfrm>
            <a:off x="2322720" y="224784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10"/>
          <p:cNvSpPr/>
          <p:nvPr/>
        </p:nvSpPr>
        <p:spPr>
          <a:xfrm>
            <a:off x="3883680" y="2247840"/>
            <a:ext cx="32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FOR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5554080" y="2247840"/>
            <a:ext cx="23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12"/>
          <p:cNvSpPr/>
          <p:nvPr/>
        </p:nvSpPr>
        <p:spPr>
          <a:xfrm>
            <a:off x="2376360" y="2176560"/>
            <a:ext cx="4896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组合 20"/>
          <p:cNvGrpSpPr/>
          <p:nvPr/>
        </p:nvGrpSpPr>
        <p:grpSpPr>
          <a:xfrm>
            <a:off x="7467480" y="1459080"/>
            <a:ext cx="2230560" cy="2334960"/>
            <a:chOff x="7467480" y="1459080"/>
            <a:chExt cx="2230560" cy="2334960"/>
          </a:xfrm>
        </p:grpSpPr>
        <p:sp>
          <p:nvSpPr>
            <p:cNvPr id="515" name="矩形 13"/>
            <p:cNvSpPr/>
            <p:nvPr/>
          </p:nvSpPr>
          <p:spPr>
            <a:xfrm>
              <a:off x="7467480" y="1459080"/>
              <a:ext cx="376200" cy="2334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4"/>
            <p:cNvSpPr/>
            <p:nvPr/>
          </p:nvSpPr>
          <p:spPr>
            <a:xfrm>
              <a:off x="7843680" y="2540160"/>
              <a:ext cx="1854360" cy="172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组合 19"/>
          <p:cNvGrpSpPr/>
          <p:nvPr/>
        </p:nvGrpSpPr>
        <p:grpSpPr>
          <a:xfrm>
            <a:off x="4394160" y="1459080"/>
            <a:ext cx="2230560" cy="2334960"/>
            <a:chOff x="4394160" y="1459080"/>
            <a:chExt cx="2230560" cy="2334960"/>
          </a:xfrm>
        </p:grpSpPr>
        <p:sp>
          <p:nvSpPr>
            <p:cNvPr id="518" name="矩形 17"/>
            <p:cNvSpPr/>
            <p:nvPr/>
          </p:nvSpPr>
          <p:spPr>
            <a:xfrm>
              <a:off x="6248520" y="1459080"/>
              <a:ext cx="376200" cy="2334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8"/>
            <p:cNvSpPr/>
            <p:nvPr/>
          </p:nvSpPr>
          <p:spPr>
            <a:xfrm>
              <a:off x="4394160" y="2540160"/>
              <a:ext cx="1854360" cy="172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组合 26"/>
          <p:cNvGrpSpPr/>
          <p:nvPr/>
        </p:nvGrpSpPr>
        <p:grpSpPr>
          <a:xfrm>
            <a:off x="1546560" y="2176560"/>
            <a:ext cx="6365880" cy="747720"/>
            <a:chOff x="1546560" y="2176560"/>
            <a:chExt cx="6365880" cy="747720"/>
          </a:xfrm>
        </p:grpSpPr>
        <p:sp>
          <p:nvSpPr>
            <p:cNvPr id="521" name="矩形 27"/>
            <p:cNvSpPr/>
            <p:nvPr/>
          </p:nvSpPr>
          <p:spPr>
            <a:xfrm>
              <a:off x="2376360" y="2876760"/>
              <a:ext cx="48960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8"/>
            <p:cNvSpPr/>
            <p:nvPr/>
          </p:nvSpPr>
          <p:spPr>
            <a:xfrm>
              <a:off x="1546560" y="2248920"/>
              <a:ext cx="24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TextBox 9"/>
            <p:cNvSpPr/>
            <p:nvPr/>
          </p:nvSpPr>
          <p:spPr>
            <a:xfrm>
              <a:off x="2322360" y="2248920"/>
              <a:ext cx="325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ON’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0"/>
            <p:cNvSpPr/>
            <p:nvPr/>
          </p:nvSpPr>
          <p:spPr>
            <a:xfrm>
              <a:off x="3883320" y="2248920"/>
              <a:ext cx="325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FORC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11"/>
            <p:cNvSpPr/>
            <p:nvPr/>
          </p:nvSpPr>
          <p:spPr>
            <a:xfrm>
              <a:off x="5554080" y="2248920"/>
              <a:ext cx="23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I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32"/>
            <p:cNvSpPr/>
            <p:nvPr/>
          </p:nvSpPr>
          <p:spPr>
            <a:xfrm>
              <a:off x="2376360" y="2176560"/>
              <a:ext cx="48960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33"/>
          <p:cNvGrpSpPr/>
          <p:nvPr/>
        </p:nvGrpSpPr>
        <p:grpSpPr>
          <a:xfrm>
            <a:off x="1541880" y="2179800"/>
            <a:ext cx="6365880" cy="745920"/>
            <a:chOff x="1541880" y="2179800"/>
            <a:chExt cx="6365880" cy="745920"/>
          </a:xfrm>
        </p:grpSpPr>
        <p:sp>
          <p:nvSpPr>
            <p:cNvPr id="528" name="矩形 34"/>
            <p:cNvSpPr/>
            <p:nvPr/>
          </p:nvSpPr>
          <p:spPr>
            <a:xfrm>
              <a:off x="2371680" y="2878200"/>
              <a:ext cx="48960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8"/>
            <p:cNvSpPr/>
            <p:nvPr/>
          </p:nvSpPr>
          <p:spPr>
            <a:xfrm>
              <a:off x="1541880" y="2252160"/>
              <a:ext cx="24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Box 9"/>
            <p:cNvSpPr/>
            <p:nvPr/>
          </p:nvSpPr>
          <p:spPr>
            <a:xfrm>
              <a:off x="2317680" y="2252160"/>
              <a:ext cx="325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ON’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10"/>
            <p:cNvSpPr/>
            <p:nvPr/>
          </p:nvSpPr>
          <p:spPr>
            <a:xfrm>
              <a:off x="3878640" y="2252160"/>
              <a:ext cx="325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FORC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1"/>
            <p:cNvSpPr/>
            <p:nvPr/>
          </p:nvSpPr>
          <p:spPr>
            <a:xfrm>
              <a:off x="5549400" y="2252160"/>
              <a:ext cx="23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I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39"/>
            <p:cNvSpPr/>
            <p:nvPr/>
          </p:nvSpPr>
          <p:spPr>
            <a:xfrm>
              <a:off x="2371680" y="2179800"/>
              <a:ext cx="48960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0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8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2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2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2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1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1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600"/>
                            </p:stCondLst>
                            <p:childTnLst>
                              <p:par>
                                <p:cTn id="175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800"/>
                            </p:stCondLst>
                            <p:childTnLst>
                              <p:par>
                                <p:cTn id="176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801"/>
                            </p:stCondLst>
                            <p:childTnLst>
                              <p:par>
                                <p:cTn id="176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802"/>
                            </p:stCondLst>
                            <p:childTnLst>
                              <p:par>
                                <p:cTn id="176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803"/>
                            </p:stCondLst>
                            <p:childTnLst>
                              <p:par>
                                <p:cTn id="177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804"/>
                            </p:stCondLst>
                            <p:childTnLst>
                              <p:par>
                                <p:cTn id="177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805"/>
                            </p:stCondLst>
                            <p:childTnLst>
                              <p:par>
                                <p:cTn id="177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806"/>
                            </p:stCondLst>
                            <p:childTnLst>
                              <p:par>
                                <p:cTn id="1783" dur="indefinite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406"/>
                            </p:stCondLst>
                            <p:childTnLst>
                              <p:par>
                                <p:cTn id="1794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82716E-006 L -1.52118 -3.82716E-006 E">
                                      <p:cBhvr>
                                        <p:cTn id="1801" dur="4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5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3" descr="C:\Documents and Settings\Administrator\桌面\45831c5e333b530669cb4bc3d7ec9f0f.png"/>
          <p:cNvPicPr/>
          <p:nvPr/>
        </p:nvPicPr>
        <p:blipFill>
          <a:blip r:embed="rId1"/>
          <a:stretch/>
        </p:blipFill>
        <p:spPr>
          <a:xfrm>
            <a:off x="-896760" y="1552680"/>
            <a:ext cx="5419440" cy="31543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C:\Documents and Settings\Administrator\桌面\45831c5e333b5309f0f.png"/>
          <p:cNvPicPr/>
          <p:nvPr/>
        </p:nvPicPr>
        <p:blipFill>
          <a:blip r:embed="rId2"/>
          <a:stretch/>
        </p:blipFill>
        <p:spPr>
          <a:xfrm>
            <a:off x="341280" y="1717560"/>
            <a:ext cx="5479920" cy="3191040"/>
          </a:xfrm>
          <a:prstGeom prst="rect">
            <a:avLst/>
          </a:prstGeom>
          <a:ln w="0">
            <a:noFill/>
          </a:ln>
        </p:spPr>
      </p:pic>
      <p:sp>
        <p:nvSpPr>
          <p:cNvPr id="536" name="任意多边形 2"/>
          <p:cNvSpPr/>
          <p:nvPr/>
        </p:nvSpPr>
        <p:spPr>
          <a:xfrm rot="21279600">
            <a:off x="2276640" y="3233520"/>
            <a:ext cx="804600" cy="45720"/>
          </a:xfrm>
          <a:prstGeom prst="pi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5"/>
          <p:cNvSpPr/>
          <p:nvPr/>
        </p:nvSpPr>
        <p:spPr>
          <a:xfrm rot="20461200">
            <a:off x="3587400" y="857520"/>
            <a:ext cx="32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6"/>
          <p:cNvSpPr/>
          <p:nvPr/>
        </p:nvSpPr>
        <p:spPr>
          <a:xfrm rot="20210400">
            <a:off x="3837960" y="1486080"/>
            <a:ext cx="55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AD A PAGE OF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7"/>
          <p:cNvSpPr/>
          <p:nvPr/>
        </p:nvSpPr>
        <p:spPr>
          <a:xfrm rot="20210400">
            <a:off x="4043520" y="2103480"/>
            <a:ext cx="41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C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3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3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4" dur="3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300"/>
                            </p:stCondLst>
                            <p:childTnLst>
                              <p:par>
                                <p:cTn id="1816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7" dur="25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25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800"/>
                            </p:stCondLst>
                            <p:childTnLst>
                              <p:par>
                                <p:cTn id="18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2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939">
                                      <p:cBhvr>
                                        <p:cTn id="1829" dur="35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2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6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3"/>
          <p:cNvSpPr/>
          <p:nvPr/>
        </p:nvSpPr>
        <p:spPr>
          <a:xfrm>
            <a:off x="2598840" y="3227400"/>
            <a:ext cx="293760" cy="208080"/>
          </a:xfrm>
          <a:prstGeom prst="rect">
            <a:avLst/>
          </a:prstGeom>
          <a:solidFill>
            <a:srgbClr val="c80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6345360" y="0"/>
            <a:ext cx="2798640" cy="5086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0" y="1263600"/>
            <a:ext cx="2508120" cy="3880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2911680" y="1969920"/>
            <a:ext cx="31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2353320" y="2444760"/>
            <a:ext cx="43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8"/>
          <p:cNvSpPr/>
          <p:nvPr/>
        </p:nvSpPr>
        <p:spPr>
          <a:xfrm flipV="1">
            <a:off x="2711520" y="1453680"/>
            <a:ext cx="3709800" cy="10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9"/>
          <p:cNvSpPr/>
          <p:nvPr/>
        </p:nvSpPr>
        <p:spPr>
          <a:xfrm flipV="1">
            <a:off x="2579760" y="3435480"/>
            <a:ext cx="387972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10"/>
          <p:cNvSpPr/>
          <p:nvPr/>
        </p:nvSpPr>
        <p:spPr>
          <a:xfrm flipV="1" rot="5400000">
            <a:off x="5360760" y="2429280"/>
            <a:ext cx="20732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11"/>
          <p:cNvSpPr/>
          <p:nvPr/>
        </p:nvSpPr>
        <p:spPr>
          <a:xfrm flipV="1" rot="5400000">
            <a:off x="1711080" y="2630880"/>
            <a:ext cx="16988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2"/>
          <p:cNvSpPr/>
          <p:nvPr/>
        </p:nvSpPr>
        <p:spPr>
          <a:xfrm>
            <a:off x="581040" y="74520"/>
            <a:ext cx="6492960" cy="13795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401040" y="423720"/>
            <a:ext cx="3460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14"/>
          <p:cNvSpPr/>
          <p:nvPr/>
        </p:nvSpPr>
        <p:spPr>
          <a:xfrm>
            <a:off x="2911680" y="1968480"/>
            <a:ext cx="31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5"/>
          <p:cNvSpPr/>
          <p:nvPr/>
        </p:nvSpPr>
        <p:spPr>
          <a:xfrm>
            <a:off x="2353320" y="2444760"/>
            <a:ext cx="43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1449360" y="3543480"/>
            <a:ext cx="5168880" cy="1600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fill="hold">
                      <p:stCondLst>
                        <p:cond delay="0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"/>
                            </p:stCondLst>
                            <p:childTnLst>
                              <p:par>
                                <p:cTn id="18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"/>
                            </p:stCondLst>
                            <p:childTnLst>
                              <p:par>
                                <p:cTn id="18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"/>
                            </p:stCondLst>
                            <p:childTnLst>
                              <p:par>
                                <p:cTn id="184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203"/>
                            </p:stCondLst>
                            <p:childTnLst>
                              <p:par>
                                <p:cTn id="18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3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3"/>
                            </p:stCondLst>
                            <p:childTnLst>
                              <p:par>
                                <p:cTn id="18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25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753"/>
                            </p:stCondLst>
                            <p:childTnLst>
                              <p:par>
                                <p:cTn id="186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4" dur="35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1103"/>
                            </p:stCondLst>
                            <p:childTnLst>
                              <p:par>
                                <p:cTn id="186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25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353"/>
                            </p:stCondLst>
                            <p:childTnLst>
                              <p:par>
                                <p:cTn id="18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5" dur="1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dur="indefinite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77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79" dur="2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35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35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mph" presetID="8" repeatCount="2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887" dur="2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8" dur="indefinite" nodeType="withEffect" fill="hold" presetClass="emph" presetID="8" repeatCount="2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889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0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893" dur="750" fill="hold"/>
                                        <p:tgtEl>
                                          <p:spTgt spid="540"/>
                                        </p:tgtEl>
                                      </p:cBhvr>
                                      <p:to x="1800000" y="1800000"/>
                                    </p:animScale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-1.72073E-006 L 0.11841 -1.72073E-006 E">
                                      <p:cBhvr>
                                        <p:cTn id="1895" dur="75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5"/>
          <p:cNvSpPr/>
          <p:nvPr/>
        </p:nvSpPr>
        <p:spPr>
          <a:xfrm>
            <a:off x="1028880" y="2717640"/>
            <a:ext cx="6972120" cy="140040"/>
          </a:xfrm>
          <a:prstGeom prst="rect">
            <a:avLst/>
          </a:prstGeom>
          <a:solidFill>
            <a:srgbClr val="3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4"/>
          <p:cNvSpPr/>
          <p:nvPr/>
        </p:nvSpPr>
        <p:spPr>
          <a:xfrm>
            <a:off x="1028880" y="2717640"/>
            <a:ext cx="6972120" cy="1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6"/>
          <p:cNvSpPr/>
          <p:nvPr/>
        </p:nvSpPr>
        <p:spPr>
          <a:xfrm>
            <a:off x="7988400" y="39600"/>
            <a:ext cx="1693800" cy="5143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直接连接符 16"/>
          <p:cNvSpPr/>
          <p:nvPr/>
        </p:nvSpPr>
        <p:spPr>
          <a:xfrm>
            <a:off x="7988400" y="2717640"/>
            <a:ext cx="0" cy="1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7"/>
          <p:cNvSpPr/>
          <p:nvPr/>
        </p:nvSpPr>
        <p:spPr>
          <a:xfrm>
            <a:off x="2160" y="230508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18"/>
          <p:cNvSpPr/>
          <p:nvPr/>
        </p:nvSpPr>
        <p:spPr>
          <a:xfrm>
            <a:off x="6528600" y="2335320"/>
            <a:ext cx="25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a14"/>
                </a:solidFill>
                <a:latin typeface="Calibri"/>
                <a:ea typeface="宋体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等腰三角形 19"/>
          <p:cNvSpPr/>
          <p:nvPr/>
        </p:nvSpPr>
        <p:spPr>
          <a:xfrm flipV="1">
            <a:off x="6119640" y="2127960"/>
            <a:ext cx="247680" cy="21924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32"/>
          <p:cNvGrpSpPr/>
          <p:nvPr/>
        </p:nvGrpSpPr>
        <p:grpSpPr>
          <a:xfrm>
            <a:off x="1022400" y="2335320"/>
            <a:ext cx="8277480" cy="522360"/>
            <a:chOff x="1022400" y="2335320"/>
            <a:chExt cx="8277480" cy="522360"/>
          </a:xfrm>
        </p:grpSpPr>
        <p:sp>
          <p:nvSpPr>
            <p:cNvPr id="562" name="矩形 20"/>
            <p:cNvSpPr/>
            <p:nvPr/>
          </p:nvSpPr>
          <p:spPr>
            <a:xfrm>
              <a:off x="1022400" y="2718000"/>
              <a:ext cx="69724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28"/>
            <p:cNvSpPr/>
            <p:nvPr/>
          </p:nvSpPr>
          <p:spPr>
            <a:xfrm>
              <a:off x="1022400" y="2718000"/>
              <a:ext cx="5214960" cy="139680"/>
            </a:xfrm>
            <a:prstGeom prst="rect">
              <a:avLst/>
            </a:prstGeom>
            <a:solidFill>
              <a:srgbClr val="3f3f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TextBox 29"/>
            <p:cNvSpPr/>
            <p:nvPr/>
          </p:nvSpPr>
          <p:spPr>
            <a:xfrm>
              <a:off x="6720480" y="2335320"/>
              <a:ext cx="257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80a14"/>
                  </a:solidFill>
                  <a:latin typeface="Calibri"/>
                  <a:ea typeface="宋体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等腰三角形 30"/>
            <p:cNvSpPr/>
            <p:nvPr/>
          </p:nvSpPr>
          <p:spPr>
            <a:xfrm flipV="1">
              <a:off x="6113520" y="2486880"/>
              <a:ext cx="249120" cy="21924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TextBox 33"/>
          <p:cNvSpPr/>
          <p:nvPr/>
        </p:nvSpPr>
        <p:spPr>
          <a:xfrm>
            <a:off x="6401880" y="1768320"/>
            <a:ext cx="258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4"/>
          <p:cNvSpPr/>
          <p:nvPr/>
        </p:nvSpPr>
        <p:spPr>
          <a:xfrm>
            <a:off x="942840" y="1922400"/>
            <a:ext cx="62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TOPTRYING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OME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ONEELSE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ERF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r"/>
  </p:transition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0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1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1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500"/>
                            </p:stCondLst>
                            <p:childTnLst>
                              <p:par>
                                <p:cTn id="1915" dur="indefinite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4.69136E-006 L 0.56875 4.69136E-006 E">
                                      <p:cBhvr>
                                        <p:cTn id="1916" dur="13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2100"/>
                            </p:stCondLst>
                            <p:childTnLst>
                              <p:par>
                                <p:cTn id="19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101"/>
                            </p:stCondLst>
                            <p:childTnLst>
                              <p:par>
                                <p:cTn id="192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5E-006 0.06759 E">
                                      <p:cBhvr>
                                        <p:cTn id="1924" dur="3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2401"/>
                            </p:stCondLst>
                            <p:childTnLst>
                              <p:par>
                                <p:cTn id="192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2402"/>
                            </p:stCondLst>
                            <p:childTnLst>
                              <p:par>
                                <p:cTn id="194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2" dur="500" fill="hold"/>
                                        <p:tgtEl>
                                          <p:spTgt spid="56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2902"/>
                            </p:stCondLst>
                            <p:childTnLst>
                              <p:par>
                                <p:cTn id="19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3002"/>
                            </p:stCondLst>
                            <p:childTnLst>
                              <p:par>
                                <p:cTn id="1948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0.69583 3.7037E-007 E">
                                      <p:cBhvr>
                                        <p:cTn id="1949" dur="5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0.69583 3.7037E-007 E">
                                      <p:cBhvr>
                                        <p:cTn id="1951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3502"/>
                            </p:stCondLst>
                            <p:childTnLst>
                              <p:par>
                                <p:cTn id="19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4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D:\Betsy葛\1\未标题-2.png饭盒.png"/>
          <p:cNvPicPr/>
          <p:nvPr/>
        </p:nvPicPr>
        <p:blipFill>
          <a:blip r:embed="rId1"/>
          <a:stretch/>
        </p:blipFill>
        <p:spPr>
          <a:xfrm rot="1498200">
            <a:off x="4732200" y="2252520"/>
            <a:ext cx="1667160" cy="1827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D:\Betsy葛\1\反应.png"/>
          <p:cNvPicPr/>
          <p:nvPr/>
        </p:nvPicPr>
        <p:blipFill>
          <a:blip r:embed="rId2"/>
          <a:stretch/>
        </p:blipFill>
        <p:spPr>
          <a:xfrm>
            <a:off x="4560840" y="2787480"/>
            <a:ext cx="4316400" cy="16178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D:\Betsy葛\1\儿童.png"/>
          <p:cNvPicPr/>
          <p:nvPr/>
        </p:nvPicPr>
        <p:blipFill>
          <a:blip r:embed="rId3"/>
          <a:stretch/>
        </p:blipFill>
        <p:spPr>
          <a:xfrm>
            <a:off x="4708440" y="2774880"/>
            <a:ext cx="4357800" cy="1736640"/>
          </a:xfrm>
          <a:prstGeom prst="rect">
            <a:avLst/>
          </a:prstGeom>
          <a:ln w="0">
            <a:noFill/>
          </a:ln>
        </p:spPr>
      </p:pic>
      <p:sp>
        <p:nvSpPr>
          <p:cNvPr id="571" name="任意多边形 3"/>
          <p:cNvSpPr/>
          <p:nvPr/>
        </p:nvSpPr>
        <p:spPr>
          <a:xfrm>
            <a:off x="419040" y="2114640"/>
            <a:ext cx="1548000" cy="1393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D:\Betsy葛\1\fgh.png"/>
          <p:cNvPicPr/>
          <p:nvPr/>
        </p:nvPicPr>
        <p:blipFill>
          <a:blip r:embed="rId4"/>
          <a:stretch/>
        </p:blipFill>
        <p:spPr>
          <a:xfrm>
            <a:off x="592200" y="2214720"/>
            <a:ext cx="1200240" cy="213336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"/>
          <p:cNvSpPr/>
          <p:nvPr/>
        </p:nvSpPr>
        <p:spPr>
          <a:xfrm>
            <a:off x="660960" y="1436760"/>
            <a:ext cx="296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3" descr="D:\Betsy葛\1\fggfg.png"/>
          <p:cNvPicPr/>
          <p:nvPr/>
        </p:nvPicPr>
        <p:blipFill>
          <a:blip r:embed="rId5"/>
          <a:stretch/>
        </p:blipFill>
        <p:spPr>
          <a:xfrm>
            <a:off x="531720" y="2157480"/>
            <a:ext cx="1322640" cy="224784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"/>
          <p:cNvSpPr/>
          <p:nvPr/>
        </p:nvSpPr>
        <p:spPr>
          <a:xfrm>
            <a:off x="146520" y="1096920"/>
            <a:ext cx="268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80a14"/>
                </a:solidFill>
                <a:latin typeface="方正大黑简体"/>
                <a:ea typeface="方正大黑简体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814320" y="348156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GOT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DEA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接连接符 12"/>
          <p:cNvSpPr/>
          <p:nvPr/>
        </p:nvSpPr>
        <p:spPr>
          <a:xfrm>
            <a:off x="5695920" y="2374920"/>
            <a:ext cx="136440" cy="18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直接连接符 15"/>
          <p:cNvSpPr/>
          <p:nvPr/>
        </p:nvSpPr>
        <p:spPr>
          <a:xfrm>
            <a:off x="7226280" y="2185920"/>
            <a:ext cx="17784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14"/>
          <p:cNvSpPr/>
          <p:nvPr/>
        </p:nvSpPr>
        <p:spPr>
          <a:xfrm flipV="1">
            <a:off x="5724360" y="4046040"/>
            <a:ext cx="161316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接连接符 20"/>
          <p:cNvSpPr/>
          <p:nvPr/>
        </p:nvSpPr>
        <p:spPr>
          <a:xfrm flipV="1">
            <a:off x="5649840" y="2182680"/>
            <a:ext cx="157644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直接连接符 23"/>
          <p:cNvSpPr/>
          <p:nvPr/>
        </p:nvSpPr>
        <p:spPr>
          <a:xfrm>
            <a:off x="5649840" y="2374920"/>
            <a:ext cx="90720" cy="19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接连接符 25"/>
          <p:cNvSpPr/>
          <p:nvPr/>
        </p:nvSpPr>
        <p:spPr>
          <a:xfrm flipV="1">
            <a:off x="5724360" y="4143240"/>
            <a:ext cx="16797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接连接符 28"/>
          <p:cNvSpPr/>
          <p:nvPr/>
        </p:nvSpPr>
        <p:spPr>
          <a:xfrm>
            <a:off x="7161120" y="2185920"/>
            <a:ext cx="17640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直接连接符 30"/>
          <p:cNvSpPr/>
          <p:nvPr/>
        </p:nvSpPr>
        <p:spPr>
          <a:xfrm flipV="1">
            <a:off x="5702400" y="2278080"/>
            <a:ext cx="145872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D:\Betsy葛\1\对方是个.png"/>
          <p:cNvPicPr/>
          <p:nvPr/>
        </p:nvPicPr>
        <p:blipFill>
          <a:blip r:embed="rId6"/>
          <a:stretch/>
        </p:blipFill>
        <p:spPr>
          <a:xfrm>
            <a:off x="6761160" y="2146320"/>
            <a:ext cx="1376280" cy="1201680"/>
          </a:xfrm>
          <a:prstGeom prst="rect">
            <a:avLst/>
          </a:prstGeom>
          <a:ln w="0">
            <a:noFill/>
          </a:ln>
        </p:spPr>
      </p:pic>
      <p:sp>
        <p:nvSpPr>
          <p:cNvPr id="586" name="直接连接符 1024"/>
          <p:cNvSpPr/>
          <p:nvPr/>
        </p:nvSpPr>
        <p:spPr>
          <a:xfrm>
            <a:off x="7404120" y="2603520"/>
            <a:ext cx="18900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直接连接符 1030"/>
          <p:cNvSpPr/>
          <p:nvPr/>
        </p:nvSpPr>
        <p:spPr>
          <a:xfrm flipV="1">
            <a:off x="7593120" y="2478240"/>
            <a:ext cx="11592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接连接符 1032"/>
          <p:cNvSpPr/>
          <p:nvPr/>
        </p:nvSpPr>
        <p:spPr>
          <a:xfrm flipH="1">
            <a:off x="7403760" y="2478240"/>
            <a:ext cx="30492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任意多边形 1044"/>
          <p:cNvSpPr/>
          <p:nvPr/>
        </p:nvSpPr>
        <p:spPr>
          <a:xfrm rot="21294600">
            <a:off x="6035400" y="3576240"/>
            <a:ext cx="1103400" cy="5587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112"/>
          <p:cNvSpPr/>
          <p:nvPr/>
        </p:nvSpPr>
        <p:spPr>
          <a:xfrm>
            <a:off x="3807000" y="4246560"/>
            <a:ext cx="50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WRITE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25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5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250"/>
                            </p:stCondLst>
                            <p:childTnLst>
                              <p:par>
                                <p:cTn id="19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137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1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ntr" presetID="1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entr" presetID="1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ntr" presetID="1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path" presetID="64">
                                  <p:stCondLst>
                                    <p:cond delay="670"/>
                                  </p:stCondLst>
                                  <p:childTnLst>
                                    <p:animMotion origin="layout" path="M 2.77556E-017 -3.7037E-006 L 2.77556E-017 -0.07592 E">
                                      <p:cBhvr>
                                        <p:cTn id="1977" dur="1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8" dur="indefinite" nodeType="withEffect" fill="hold" presetClass="entr" presetID="22" presetSubtype="8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2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2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2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2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1700"/>
                            </p:stCondLst>
                            <p:childTnLst>
                              <p:par>
                                <p:cTn id="199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2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2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2100"/>
                            </p:stCondLst>
                            <p:childTnLst>
                              <p:par>
                                <p:cTn id="19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2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2300"/>
                            </p:stCondLst>
                            <p:childTnLst>
                              <p:par>
                                <p:cTn id="20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5" dur="2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2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2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2700"/>
                            </p:stCondLst>
                            <p:childTnLst>
                              <p:par>
                                <p:cTn id="20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900"/>
                            </p:stCondLst>
                            <p:childTnLst>
                              <p:par>
                                <p:cTn id="20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2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3100"/>
                            </p:stCondLst>
                            <p:childTnLst>
                              <p:par>
                                <p:cTn id="20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4" dur="2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202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8" dur="2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2" dur="25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3750"/>
                            </p:stCondLst>
                            <p:childTnLst>
                              <p:par>
                                <p:cTn id="203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3950"/>
                            </p:stCondLst>
                            <p:childTnLst>
                              <p:par>
                                <p:cTn id="203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0" dur="2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3" dur="25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矩形 2"/>
          <p:cNvSpPr/>
          <p:nvPr/>
        </p:nvSpPr>
        <p:spPr>
          <a:xfrm>
            <a:off x="533520" y="490680"/>
            <a:ext cx="8057880" cy="4219560"/>
          </a:xfrm>
          <a:prstGeom prst="rect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7" descr="D:\Betsy葛\1\未标ssdf题-2.png"/>
          <p:cNvPicPr/>
          <p:nvPr/>
        </p:nvPicPr>
        <p:blipFill>
          <a:blip r:embed="rId1"/>
          <a:stretch/>
        </p:blipFill>
        <p:spPr>
          <a:xfrm>
            <a:off x="-774720" y="7920"/>
            <a:ext cx="10109160" cy="51357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D:\Betsy葛\1\dfgt.png"/>
          <p:cNvPicPr/>
          <p:nvPr/>
        </p:nvPicPr>
        <p:blipFill>
          <a:blip r:embed="rId2"/>
          <a:stretch/>
        </p:blipFill>
        <p:spPr>
          <a:xfrm>
            <a:off x="-774720" y="7920"/>
            <a:ext cx="10109160" cy="51357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D:\Betsy葛\1\yuyt.png"/>
          <p:cNvPicPr/>
          <p:nvPr/>
        </p:nvPicPr>
        <p:blipFill>
          <a:blip r:embed="rId3"/>
          <a:stretch/>
        </p:blipFill>
        <p:spPr>
          <a:xfrm>
            <a:off x="-774720" y="7920"/>
            <a:ext cx="10109160" cy="51357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"/>
          <p:cNvPicPr/>
          <p:nvPr/>
        </p:nvPicPr>
        <p:blipFill>
          <a:blip r:embed="rId4"/>
          <a:stretch/>
        </p:blipFill>
        <p:spPr>
          <a:xfrm>
            <a:off x="-277920" y="7920"/>
            <a:ext cx="9115560" cy="5135760"/>
          </a:xfrm>
          <a:prstGeom prst="rect">
            <a:avLst/>
          </a:prstGeom>
          <a:ln w="0">
            <a:noFill/>
          </a:ln>
        </p:spPr>
      </p:pic>
      <p:sp>
        <p:nvSpPr>
          <p:cNvPr id="596" name="TextBox 3"/>
          <p:cNvSpPr/>
          <p:nvPr/>
        </p:nvSpPr>
        <p:spPr>
          <a:xfrm>
            <a:off x="4594320" y="384120"/>
            <a:ext cx="4015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7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"/>
          <p:cNvSpPr/>
          <p:nvPr/>
        </p:nvSpPr>
        <p:spPr>
          <a:xfrm>
            <a:off x="-201960" y="1189080"/>
            <a:ext cx="406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宋体"/>
              </a:rPr>
              <a:t>CLE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5"/>
          <p:cNvSpPr/>
          <p:nvPr/>
        </p:nvSpPr>
        <p:spPr>
          <a:xfrm>
            <a:off x="762120" y="1932120"/>
            <a:ext cx="18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-162360" y="2448000"/>
            <a:ext cx="464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WORK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">
    <p:fade/>
  </p:transition>
  <p:timing>
    <p:tnLst>
      <p:par>
        <p:cTn id="2044" dur="indefinite" restart="never" nodeType="tmRoot">
          <p:childTnLst>
            <p:seq>
              <p:cTn id="2045" dur="indefinite" nodeType="mainSeq">
                <p:childTnLst>
                  <p:par>
                    <p:cTn id="2046" fill="hold">
                      <p:stCondLst>
                        <p:cond delay="0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0"/>
                            </p:stCondLst>
                            <p:childTnLst>
                              <p:par>
                                <p:cTn id="2059" dur="indefinite" nodeType="afterEffect" fill="hold" presetClass="entr" presetID="1">
                                  <p:stCondLst>
                                    <p:cond delay="59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dur="indefinite" nodeType="withEffect" fill="hold" presetClass="exit" presetID="1">
                                  <p:stCondLst>
                                    <p:cond delay="59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10"/>
                            </p:stCondLst>
                            <p:childTnLst>
                              <p:par>
                                <p:cTn id="2064" dur="indefinite" nodeType="afterEffect" fill="hold" presetClass="exit" presetID="1">
                                  <p:stCondLst>
                                    <p:cond delay="38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7" dur="indefinite" nodeType="afterEffect" fill="hold" presetClass="exit" presetID="1">
                                  <p:stCondLst>
                                    <p:cond delay="29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300"/>
                            </p:stCondLst>
                            <p:childTnLst>
                              <p:par>
                                <p:cTn id="2076" dur="indefinite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39"/>
          <p:cNvSpPr/>
          <p:nvPr/>
        </p:nvSpPr>
        <p:spPr>
          <a:xfrm>
            <a:off x="-333360" y="-42372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HXRY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320400" y="1725480"/>
            <a:ext cx="23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接连接符 5"/>
          <p:cNvSpPr/>
          <p:nvPr/>
        </p:nvSpPr>
        <p:spPr>
          <a:xfrm>
            <a:off x="1521000" y="-2052720"/>
            <a:ext cx="0" cy="179388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237600" y="-6206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HXRY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0"/>
          <p:cNvSpPr/>
          <p:nvPr/>
        </p:nvSpPr>
        <p:spPr>
          <a:xfrm>
            <a:off x="797400" y="2257560"/>
            <a:ext cx="231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11"/>
          <p:cNvSpPr/>
          <p:nvPr/>
        </p:nvSpPr>
        <p:spPr>
          <a:xfrm>
            <a:off x="2030400" y="-2421000"/>
            <a:ext cx="1440" cy="179388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39"/>
          <p:cNvSpPr/>
          <p:nvPr/>
        </p:nvSpPr>
        <p:spPr>
          <a:xfrm>
            <a:off x="644760" y="-6206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HXRY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5"/>
          <p:cNvSpPr/>
          <p:nvPr/>
        </p:nvSpPr>
        <p:spPr>
          <a:xfrm>
            <a:off x="1204560" y="2257560"/>
            <a:ext cx="22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39"/>
          <p:cNvSpPr/>
          <p:nvPr/>
        </p:nvSpPr>
        <p:spPr>
          <a:xfrm>
            <a:off x="984960" y="-1652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HXRY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21"/>
          <p:cNvSpPr/>
          <p:nvPr/>
        </p:nvSpPr>
        <p:spPr>
          <a:xfrm>
            <a:off x="1640520" y="198432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接连接符 22"/>
          <p:cNvSpPr/>
          <p:nvPr/>
        </p:nvSpPr>
        <p:spPr>
          <a:xfrm>
            <a:off x="2840040" y="-1793880"/>
            <a:ext cx="1440" cy="179388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直接连接符 23"/>
          <p:cNvSpPr/>
          <p:nvPr/>
        </p:nvSpPr>
        <p:spPr>
          <a:xfrm>
            <a:off x="2419200" y="-2990880"/>
            <a:ext cx="0" cy="262908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39"/>
          <p:cNvSpPr/>
          <p:nvPr/>
        </p:nvSpPr>
        <p:spPr>
          <a:xfrm>
            <a:off x="2824920" y="477504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HUKAGY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46"/>
          <p:cNvSpPr/>
          <p:nvPr/>
        </p:nvSpPr>
        <p:spPr>
          <a:xfrm>
            <a:off x="3803760" y="2995560"/>
            <a:ext cx="22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接连接符 47"/>
          <p:cNvSpPr/>
          <p:nvPr/>
        </p:nvSpPr>
        <p:spPr>
          <a:xfrm>
            <a:off x="4954680" y="5202360"/>
            <a:ext cx="1440" cy="141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9"/>
          <p:cNvSpPr/>
          <p:nvPr/>
        </p:nvSpPr>
        <p:spPr>
          <a:xfrm>
            <a:off x="3159000" y="500544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HUKAGY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52"/>
          <p:cNvSpPr/>
          <p:nvPr/>
        </p:nvSpPr>
        <p:spPr>
          <a:xfrm>
            <a:off x="4141080" y="322596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接连接符 53"/>
          <p:cNvSpPr/>
          <p:nvPr/>
        </p:nvSpPr>
        <p:spPr>
          <a:xfrm>
            <a:off x="5291280" y="5432400"/>
            <a:ext cx="1440" cy="141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39"/>
          <p:cNvSpPr/>
          <p:nvPr/>
        </p:nvSpPr>
        <p:spPr>
          <a:xfrm>
            <a:off x="3574800" y="505296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HUKAGY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55"/>
          <p:cNvSpPr/>
          <p:nvPr/>
        </p:nvSpPr>
        <p:spPr>
          <a:xfrm>
            <a:off x="4556880" y="298440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接连接符 56"/>
          <p:cNvSpPr/>
          <p:nvPr/>
        </p:nvSpPr>
        <p:spPr>
          <a:xfrm>
            <a:off x="5707080" y="5479920"/>
            <a:ext cx="1440" cy="141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57"/>
          <p:cNvSpPr/>
          <p:nvPr/>
        </p:nvSpPr>
        <p:spPr>
          <a:xfrm>
            <a:off x="7028280" y="180324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58"/>
          <p:cNvSpPr/>
          <p:nvPr/>
        </p:nvSpPr>
        <p:spPr>
          <a:xfrm>
            <a:off x="7028280" y="180324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59"/>
          <p:cNvSpPr/>
          <p:nvPr/>
        </p:nvSpPr>
        <p:spPr>
          <a:xfrm>
            <a:off x="7028280" y="180324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60"/>
          <p:cNvSpPr/>
          <p:nvPr/>
        </p:nvSpPr>
        <p:spPr>
          <a:xfrm>
            <a:off x="6037560" y="180324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61"/>
          <p:cNvSpPr/>
          <p:nvPr/>
        </p:nvSpPr>
        <p:spPr>
          <a:xfrm>
            <a:off x="6037560" y="180324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62"/>
          <p:cNvSpPr/>
          <p:nvPr/>
        </p:nvSpPr>
        <p:spPr>
          <a:xfrm>
            <a:off x="7028280" y="1803240"/>
            <a:ext cx="27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d"/>
  </p:transition>
  <p:timing>
    <p:tnLst>
      <p:par>
        <p:cTn id="2078" dur="indefinite" restart="never" nodeType="tmRoot">
          <p:childTnLst>
            <p:seq>
              <p:cTn id="2079" dur="indefinite" nodeType="mainSeq">
                <p:childTnLst>
                  <p:par>
                    <p:cTn id="2080" fill="hold">
                      <p:stCondLst>
                        <p:cond delay="0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1"/>
                            </p:stCondLst>
                            <p:childTnLst>
                              <p:par>
                                <p:cTn id="20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01"/>
                            </p:stCondLst>
                            <p:childTnLst>
                              <p:par>
                                <p:cTn id="208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11"/>
                            </p:stCondLst>
                            <p:childTnLst>
                              <p:par>
                                <p:cTn id="20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211"/>
                            </p:stCondLst>
                            <p:childTnLst>
                              <p:par>
                                <p:cTn id="20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221"/>
                            </p:stCondLst>
                            <p:childTnLst>
                              <p:par>
                                <p:cTn id="20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321"/>
                            </p:stCondLst>
                            <p:childTnLst>
                              <p:par>
                                <p:cTn id="210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331"/>
                            </p:stCondLst>
                            <p:childTnLst>
                              <p:par>
                                <p:cTn id="2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431"/>
                            </p:stCondLst>
                            <p:childTnLst>
                              <p:par>
                                <p:cTn id="210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441"/>
                            </p:stCondLst>
                            <p:childTnLst>
                              <p:par>
                                <p:cTn id="21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1" dur="indefinite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11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2.96296E-006 L -2.22222E-006 0.39321 E">
                                      <p:cBhvr>
                                        <p:cTn id="2114" dur="9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5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2.96296E-006 L -0.00139 0.27315 E">
                                      <p:cBhvr>
                                        <p:cTn id="2118" dur="9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path" presetID="64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77778E-006 -0.02809 L 0.00278 -0.17469 E">
                                      <p:cBhvr>
                                        <p:cTn id="2120" dur="5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1" dur="indefinite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139 0.27309 L -0.00139 0.22922 E">
                                      <p:cBhvr>
                                        <p:cTn id="2122" dur="5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3" dur="indefinite" nodeType="withEffect" fill="hold" presetClass="entr" presetID="11">
                                  <p:stCondLst>
                                    <p:cond delay="50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12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path" presetID="4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138 0.03087 L -0.00555 0.59815 E">
                                      <p:cBhvr>
                                        <p:cTn id="2126" dur="9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-3.7037E-006 L -0.00399 0.51729 E">
                                      <p:cBhvr>
                                        <p:cTn id="2128" dur="9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9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path" presetID="64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5E-006 2.34568E-006 L 0.00278 -0.26605 E">
                                      <p:cBhvr>
                                        <p:cTn id="2132" dur="5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3" dur="indefinite" nodeType="withEffect" fill="hold" presetClass="path" presetID="64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139 0.27309 L -0.00139 0.22922 E">
                                      <p:cBhvr>
                                        <p:cTn id="2134" dur="5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5" dur="indefinite" nodeType="withEffect" fill="hold" presetClass="entr" presetID="11">
                                  <p:stCondLst>
                                    <p:cond delay="90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1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38778E-017 2.96296E-006 L -0.00139 0.27315 E">
                                      <p:cBhvr>
                                        <p:cTn id="2138" dur="8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9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dur="indefinite" nodeType="withEffect" fill="hold" presetClass="path" presetID="64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0139 0.27309 L -0.00139 0.22922 E">
                                      <p:cBhvr>
                                        <p:cTn id="2142" dur="8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138 0.03087 L -0.00555 0.59815 E">
                                      <p:cBhvr>
                                        <p:cTn id="2144" dur="9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5" dur="indefinite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5E-006 2.34568E-006 L 0.00278 -0.26605 E">
                                      <p:cBhvr>
                                        <p:cTn id="2146" dur="75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7" dur="indefinite" nodeType="withEffect" fill="hold" presetClass="entr" presetID="11">
                                  <p:stCondLst>
                                    <p:cond delay="100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14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2.96296E-006 L -2.22222E-006 0.39321 E">
                                      <p:cBhvr>
                                        <p:cTn id="2150" dur="9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3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778E-017 2.96296E-006 L -0.00139 0.27315 E">
                                      <p:cBhvr>
                                        <p:cTn id="2154" dur="9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-0.02809 L 0.00278 -0.17469 E">
                                      <p:cBhvr>
                                        <p:cTn id="2156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7" dur="indefinite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139 0.27309 L -0.00139 0.22922 E">
                                      <p:cBhvr>
                                        <p:cTn id="2158" dur="5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9" dur="indefinite" nodeType="withEffect" fill="hold" presetClass="entr" presetID="11">
                                  <p:stCondLst>
                                    <p:cond delay="160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1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path" presetID="64">
                                  <p:stCondLst>
                                    <p:cond delay="1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1.23457E-006 L 8.33333E-007 -0.37932 E">
                                      <p:cBhvr>
                                        <p:cTn id="2162" dur="16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3" dur="indefinite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22222E-006 2.3911E-006 L -2.22222E-006 -0.36299 E">
                                      <p:cBhvr>
                                        <p:cTn id="2164" dur="16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5" dur="indefinite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2.22222E-006 -0.25023 L 0.00174 -0.13809 E">
                                      <p:cBhvr>
                                        <p:cTn id="2166" dur="7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dur="indefinite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0.00017 -0.00556 L -0.00017 0.18659 E">
                                      <p:cBhvr>
                                        <p:cTn id="2170" dur="1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1" dur="indefinite" nodeType="withEffect" fill="hold" presetClass="entr" presetID="11">
                                  <p:stCondLst>
                                    <p:cond delay="70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17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dur="indefinite" nodeType="withEffect" fill="hold" presetClass="path" presetID="64">
                                  <p:stCondLst>
                                    <p:cond delay="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1.23457E-006 L 8.33333E-007 -0.37932 E">
                                      <p:cBhvr>
                                        <p:cTn id="2174" dur="16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5" dur="indefinite" nodeType="withEffect" fill="hold" presetClass="path" presetID="6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22222E-006 2.3911E-006 L -2.22222E-006 -0.36299 E">
                                      <p:cBhvr>
                                        <p:cTn id="2176" dur="16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7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22222E-006 -0.25023 L 0.00174 -0.13809 E">
                                      <p:cBhvr>
                                        <p:cTn id="2178" dur="7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9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017 -0.00556 L -0.00017 0.18659 E">
                                      <p:cBhvr>
                                        <p:cTn id="2182" dur="1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3" dur="indefinite" nodeType="withEffect" fill="hold" presetClass="entr" presetID="11">
                                  <p:stCondLst>
                                    <p:cond delay="120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18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5" dur="indefinite" nodeType="withEffect" fill="hold" presetClass="path" presetID="64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1.23457E-006 L 8.33333E-007 -0.37932 E">
                                      <p:cBhvr>
                                        <p:cTn id="2186" dur="16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22222E-006 2.3911E-006 L -2.22222E-006 -0.36299 E">
                                      <p:cBhvr>
                                        <p:cTn id="2188" dur="16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9" dur="indefinite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2.22222E-006 -0.25023 L 0.00174 -0.13809 E">
                                      <p:cBhvr>
                                        <p:cTn id="2190" dur="7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1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dur="indefinite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017 -0.00556 L -0.00017 0.18659 E">
                                      <p:cBhvr>
                                        <p:cTn id="2194" dur="1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30"/>
          <p:cNvGrpSpPr/>
          <p:nvPr/>
        </p:nvGrpSpPr>
        <p:grpSpPr>
          <a:xfrm>
            <a:off x="790200" y="441360"/>
            <a:ext cx="6239520" cy="4280400"/>
            <a:chOff x="790200" y="441360"/>
            <a:chExt cx="6239520" cy="4280400"/>
          </a:xfrm>
        </p:grpSpPr>
        <p:pic>
          <p:nvPicPr>
            <p:cNvPr id="53" name="Picture 11" descr=""/>
            <p:cNvPicPr/>
            <p:nvPr/>
          </p:nvPicPr>
          <p:blipFill>
            <a:blip r:embed="rId1"/>
            <a:stretch/>
          </p:blipFill>
          <p:spPr>
            <a:xfrm rot="21582000">
              <a:off x="3914280" y="449280"/>
              <a:ext cx="3104280" cy="42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"/>
            <p:cNvPicPr/>
            <p:nvPr/>
          </p:nvPicPr>
          <p:blipFill>
            <a:blip r:embed="rId2"/>
            <a:stretch/>
          </p:blipFill>
          <p:spPr>
            <a:xfrm rot="21000">
              <a:off x="802800" y="462600"/>
              <a:ext cx="3140280" cy="424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1" descr=""/>
          <p:cNvPicPr/>
          <p:nvPr/>
        </p:nvPicPr>
        <p:blipFill>
          <a:blip r:embed="rId3"/>
          <a:stretch/>
        </p:blipFill>
        <p:spPr>
          <a:xfrm rot="21582000">
            <a:off x="3908160" y="458640"/>
            <a:ext cx="3105000" cy="420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 rot="21000">
            <a:off x="796680" y="436320"/>
            <a:ext cx="3141720" cy="424980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"/>
          <p:cNvGrpSpPr/>
          <p:nvPr/>
        </p:nvGrpSpPr>
        <p:grpSpPr>
          <a:xfrm>
            <a:off x="1402200" y="543960"/>
            <a:ext cx="5032080" cy="4029120"/>
            <a:chOff x="1402200" y="543960"/>
            <a:chExt cx="5032080" cy="4029120"/>
          </a:xfrm>
        </p:grpSpPr>
        <p:pic>
          <p:nvPicPr>
            <p:cNvPr id="58" name="Picture 11" descr=""/>
            <p:cNvPicPr/>
            <p:nvPr/>
          </p:nvPicPr>
          <p:blipFill>
            <a:blip r:embed="rId5"/>
            <a:stretch/>
          </p:blipFill>
          <p:spPr>
            <a:xfrm rot="20742000">
              <a:off x="3879360" y="771120"/>
              <a:ext cx="2217960" cy="30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"/>
            <p:cNvPicPr/>
            <p:nvPr/>
          </p:nvPicPr>
          <p:blipFill>
            <a:blip r:embed="rId6"/>
            <a:stretch/>
          </p:blipFill>
          <p:spPr>
            <a:xfrm rot="20781000">
              <a:off x="1728720" y="1314720"/>
              <a:ext cx="2243520" cy="303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 rot="20742000">
            <a:off x="3889080" y="779040"/>
            <a:ext cx="2217600" cy="300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8"/>
          <a:stretch/>
        </p:blipFill>
        <p:spPr>
          <a:xfrm rot="20756400">
            <a:off x="3900600" y="767880"/>
            <a:ext cx="2212920" cy="2994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864400" y="-781200"/>
            <a:ext cx="501012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3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4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9"/>
          <a:stretch/>
        </p:blipFill>
        <p:spPr>
          <a:xfrm rot="20781000">
            <a:off x="1728720" y="1314360"/>
            <a:ext cx="2244960" cy="303696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3009240" y="139068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2892600" y="201924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A  </a:t>
            </a:r>
            <a:r>
              <a:rPr b="1" lang="en-US" sz="3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NOTEBO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3008160" y="2646360"/>
            <a:ext cx="48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EVERYW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"/>
          <p:cNvGrpSpPr/>
          <p:nvPr/>
        </p:nvGrpSpPr>
        <p:grpSpPr>
          <a:xfrm>
            <a:off x="2892600" y="1390680"/>
            <a:ext cx="5136840" cy="1897920"/>
            <a:chOff x="2892600" y="1390680"/>
            <a:chExt cx="5136840" cy="1897920"/>
          </a:xfrm>
        </p:grpSpPr>
        <p:sp>
          <p:nvSpPr>
            <p:cNvPr id="68" name="TextBox 17"/>
            <p:cNvSpPr/>
            <p:nvPr/>
          </p:nvSpPr>
          <p:spPr>
            <a:xfrm>
              <a:off x="3009240" y="1390680"/>
              <a:ext cx="34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dobe Gothic Std B"/>
                  <a:ea typeface="Adobe Gothic Std B"/>
                </a:rPr>
                <a:t>CARRY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18"/>
            <p:cNvSpPr/>
            <p:nvPr/>
          </p:nvSpPr>
          <p:spPr>
            <a:xfrm>
              <a:off x="2892600" y="2018160"/>
              <a:ext cx="513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dobe Gothic Std B"/>
                  <a:ea typeface="Adobe Gothic Std B"/>
                </a:rPr>
                <a:t>A  </a:t>
              </a:r>
              <a:r>
                <a:rPr b="1" lang="en-US" sz="3600" spc="-1" strike="noStrike">
                  <a:solidFill>
                    <a:srgbClr val="000000"/>
                  </a:solidFill>
                  <a:latin typeface="Adobe Gothic Std B"/>
                  <a:ea typeface="Adobe Gothic Std B"/>
                </a:rPr>
                <a:t>NOTEBOOK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9"/>
            <p:cNvSpPr/>
            <p:nvPr/>
          </p:nvSpPr>
          <p:spPr>
            <a:xfrm>
              <a:off x="3008160" y="2646000"/>
              <a:ext cx="489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dobe Gothic Std B"/>
                  <a:ea typeface="Adobe Gothic Std B"/>
                </a:rPr>
                <a:t>EVERYWHER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9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"/>
                            </p:stCondLst>
                            <p:childTnLst>
                              <p:par>
                                <p:cTn id="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00"/>
                            </p:stCondLst>
                            <p:childTnLst>
                              <p:par>
                                <p:cTn id="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"/>
                            </p:stCondLst>
                            <p:childTnLst>
                              <p:par>
                                <p:cTn id="59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" dur="1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50"/>
                            </p:stCondLst>
                            <p:childTnLst>
                              <p:par>
                                <p:cTn id="6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"/>
                            </p:stCondLst>
                            <p:childTnLst>
                              <p:par>
                                <p:cTn id="6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01"/>
                            </p:stCondLst>
                            <p:childTnLst>
                              <p:par>
                                <p:cTn id="7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2"/>
                            </p:stCondLst>
                            <p:childTnLst>
                              <p:par>
                                <p:cTn id="7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40000">
                                      <p:cBhvr>
                                        <p:cTn id="78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2" presetSubtype="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4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84" dur="400" fill="hold"/>
                                        <p:tgtEl>
                                          <p:spTgt spid="57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402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2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03"/>
                            </p:stCondLst>
                            <p:childTnLst>
                              <p:par>
                                <p:cTn id="1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204"/>
                            </p:stCondLst>
                            <p:childTnLst>
                              <p:par>
                                <p:cTn id="10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205"/>
                            </p:stCondLst>
                            <p:childTnLst>
                              <p:par>
                                <p:cTn id="11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206"/>
                            </p:stCondLst>
                            <p:childTnLst>
                              <p:par>
                                <p:cTn id="11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6"/>
                            </p:stCondLst>
                            <p:childTnLst>
                              <p:par>
                                <p:cTn id="11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20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22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606"/>
                            </p:stCondLst>
                            <p:childTnLst>
                              <p:par>
                                <p:cTn id="128" dur="indefinite" nodeType="afterEffect" fill="hold" presetClass="exit" presetID="10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1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6">
                                  <p:stCondLst>
                                    <p:cond delay="150"/>
                                  </p:stCondLst>
                                  <p:childTnLst>
                                    <p:animScale>
                                      <p:cBhvr>
                                        <p:cTn id="132" dur="100" fill="hold"/>
                                        <p:tgtEl>
                                          <p:spTgt spid="5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6">
                                  <p:stCondLst>
                                    <p:cond delay="150"/>
                                  </p:stCondLst>
                                  <p:childTnLst>
                                    <p:animScale>
                                      <p:cBhvr>
                                        <p:cTn id="134" dur="100" fill="hold"/>
                                        <p:tgtEl>
                                          <p:spTgt spid="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1"/>
          <p:cNvSpPr/>
          <p:nvPr/>
        </p:nvSpPr>
        <p:spPr>
          <a:xfrm>
            <a:off x="1579320" y="2057400"/>
            <a:ext cx="25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2"/>
          <p:cNvSpPr/>
          <p:nvPr/>
        </p:nvSpPr>
        <p:spPr>
          <a:xfrm>
            <a:off x="2378160" y="2119320"/>
            <a:ext cx="53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NISH 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">
    <p:fade/>
  </p:transition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0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-578520" y="-1198440"/>
            <a:ext cx="38307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3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"/>
          <p:cNvSpPr/>
          <p:nvPr/>
        </p:nvSpPr>
        <p:spPr>
          <a:xfrm>
            <a:off x="-482760" y="746280"/>
            <a:ext cx="9817200" cy="3884400"/>
          </a:xfrm>
          <a:prstGeom prst="pie">
            <a:avLst/>
          </a:prstGeom>
          <a:noFill/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6"/>
          <p:cNvSpPr/>
          <p:nvPr/>
        </p:nvSpPr>
        <p:spPr>
          <a:xfrm>
            <a:off x="-406440" y="1851120"/>
            <a:ext cx="9550440" cy="2220840"/>
          </a:xfrm>
          <a:prstGeom prst="pie">
            <a:avLst/>
          </a:prstGeom>
          <a:noFill/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7"/>
          <p:cNvSpPr/>
          <p:nvPr/>
        </p:nvSpPr>
        <p:spPr>
          <a:xfrm>
            <a:off x="4151160" y="-101520"/>
            <a:ext cx="1851120" cy="5610240"/>
          </a:xfrm>
          <a:prstGeom prst="pie">
            <a:avLst/>
          </a:prstGeom>
          <a:noFill/>
          <a:ln w="648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8"/>
          <p:cNvSpPr/>
          <p:nvPr/>
        </p:nvSpPr>
        <p:spPr>
          <a:xfrm>
            <a:off x="163440" y="903240"/>
            <a:ext cx="8329680" cy="5148360"/>
          </a:xfrm>
          <a:prstGeom prst="pi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D:\Betsy葛\1\铅笔.png"/>
          <p:cNvPicPr/>
          <p:nvPr/>
        </p:nvPicPr>
        <p:blipFill>
          <a:blip r:embed="rId1"/>
          <a:stretch/>
        </p:blipFill>
        <p:spPr>
          <a:xfrm rot="2466000">
            <a:off x="410760" y="2314080"/>
            <a:ext cx="343080" cy="18068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"/>
          <p:cNvSpPr/>
          <p:nvPr/>
        </p:nvSpPr>
        <p:spPr>
          <a:xfrm>
            <a:off x="330840" y="347184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RY  FREE 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"/>
                            </p:stCondLst>
                            <p:childTnLst>
                              <p:par>
                                <p:cTn id="144" dur="indefinite" nodeType="after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9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1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216 C 0.01076 -0.00402 0.03003 -0.03118 0.0592 -0.03118 C 0.08003 -0.02809 0.10225 2.71604999999963E-006 0.13715 0.0071 C 0.17204 0.01419 0.21388 0.01389 0.26875 0.01142 C 0.32326 0.00401 0.4085 0.00957 0.46649 -0.0071 C 0.52361 -0.02562 0.5684 -0.06945 0.61111 -0.09969 C 0.65555 -0.13951 0.68854 -0.16173 0.72274 -0.18858 C 0.77013 -0.20494 0.84375 -0.19414 0.87204 -0.18118 C 0.90034 -0.13087 0.86753 -0.07716 0.85538 -0.06327 C 0.84461 -0.0642 0.82395 -0.06914 0.81631 -0.0821 C 0.80989 -0.0926 0.80833 -0.1213 0.80954 -0.13673 C 0.80798 -0.15185 0.81059 -0.15988 0.82204 -0.17685 C 0.83333 -0.19568 0.85868 -0.22439 0.87777 -0.24939 C 0.90347 -0.28611 0.91458 -0.29661 0.93802 -0.32624 C 0.95295 -0.35155 1.00989 -0.38704 1.01631 -0.39013 C 1.02152 -0.3963 1.01944 -0.3929 1.02343 -0.4 E">
                                      <p:cBhvr>
                                        <p:cTn id="159" dur="265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1"/>
          <p:cNvSpPr/>
          <p:nvPr/>
        </p:nvSpPr>
        <p:spPr>
          <a:xfrm>
            <a:off x="2424240" y="217440"/>
            <a:ext cx="42955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23"/>
          <p:cNvGrpSpPr/>
          <p:nvPr/>
        </p:nvGrpSpPr>
        <p:grpSpPr>
          <a:xfrm>
            <a:off x="1835280" y="723960"/>
            <a:ext cx="5473440" cy="3695760"/>
            <a:chOff x="1835280" y="723960"/>
            <a:chExt cx="5473440" cy="3695760"/>
          </a:xfrm>
        </p:grpSpPr>
        <p:sp>
          <p:nvSpPr>
            <p:cNvPr id="80" name="圆角矩形 12"/>
            <p:cNvSpPr/>
            <p:nvPr/>
          </p:nvSpPr>
          <p:spPr>
            <a:xfrm>
              <a:off x="2482920" y="723960"/>
              <a:ext cx="4178160" cy="2355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矩形 13"/>
            <p:cNvSpPr/>
            <p:nvPr/>
          </p:nvSpPr>
          <p:spPr>
            <a:xfrm>
              <a:off x="2482920" y="1538280"/>
              <a:ext cx="4178160" cy="175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流程图: 手动操作 19"/>
            <p:cNvSpPr/>
            <p:nvPr/>
          </p:nvSpPr>
          <p:spPr>
            <a:xfrm flipV="1">
              <a:off x="1835280" y="3441600"/>
              <a:ext cx="547344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矩形 20"/>
            <p:cNvSpPr/>
            <p:nvPr/>
          </p:nvSpPr>
          <p:spPr>
            <a:xfrm>
              <a:off x="2771640" y="961920"/>
              <a:ext cx="3600360" cy="21178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流程图: 手动操作 19"/>
            <p:cNvSpPr/>
            <p:nvPr/>
          </p:nvSpPr>
          <p:spPr>
            <a:xfrm flipV="1">
              <a:off x="4008600" y="3698280"/>
              <a:ext cx="1126800" cy="2682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圆角矩形 22"/>
            <p:cNvSpPr/>
            <p:nvPr/>
          </p:nvSpPr>
          <p:spPr>
            <a:xfrm>
              <a:off x="1835280" y="4202280"/>
              <a:ext cx="5473440" cy="2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矩形 25"/>
          <p:cNvSpPr/>
          <p:nvPr/>
        </p:nvSpPr>
        <p:spPr>
          <a:xfrm rot="2700000">
            <a:off x="4273200" y="303120"/>
            <a:ext cx="444600" cy="3822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7"/>
          <p:cNvSpPr/>
          <p:nvPr/>
        </p:nvSpPr>
        <p:spPr>
          <a:xfrm rot="18900000">
            <a:off x="4273200" y="304560"/>
            <a:ext cx="444600" cy="3821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4"/>
          <p:cNvSpPr/>
          <p:nvPr/>
        </p:nvSpPr>
        <p:spPr>
          <a:xfrm>
            <a:off x="2307600" y="1658880"/>
            <a:ext cx="44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GET</a:t>
            </a: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AW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48"/>
          <p:cNvGrpSpPr/>
          <p:nvPr/>
        </p:nvGrpSpPr>
        <p:grpSpPr>
          <a:xfrm>
            <a:off x="1825560" y="707400"/>
            <a:ext cx="5472000" cy="3712320"/>
            <a:chOff x="1825560" y="707400"/>
            <a:chExt cx="5472000" cy="3712320"/>
          </a:xfrm>
        </p:grpSpPr>
        <p:grpSp>
          <p:nvGrpSpPr>
            <p:cNvPr id="90" name="组合 38"/>
            <p:cNvGrpSpPr/>
            <p:nvPr/>
          </p:nvGrpSpPr>
          <p:grpSpPr>
            <a:xfrm>
              <a:off x="1825560" y="725400"/>
              <a:ext cx="5472000" cy="3694320"/>
              <a:chOff x="1825560" y="725400"/>
              <a:chExt cx="5472000" cy="3694320"/>
            </a:xfrm>
          </p:grpSpPr>
          <p:sp>
            <p:nvSpPr>
              <p:cNvPr id="91" name="圆角矩形 39"/>
              <p:cNvSpPr/>
              <p:nvPr/>
            </p:nvSpPr>
            <p:spPr>
              <a:xfrm>
                <a:off x="2473200" y="725400"/>
                <a:ext cx="4176720" cy="23544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矩形 40"/>
              <p:cNvSpPr/>
              <p:nvPr/>
            </p:nvSpPr>
            <p:spPr>
              <a:xfrm>
                <a:off x="2473200" y="1539720"/>
                <a:ext cx="4176720" cy="1757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流程图: 手动操作 19"/>
              <p:cNvSpPr/>
              <p:nvPr/>
            </p:nvSpPr>
            <p:spPr>
              <a:xfrm flipV="1">
                <a:off x="1825560" y="3443040"/>
                <a:ext cx="5472000" cy="68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矩形 42"/>
              <p:cNvSpPr/>
              <p:nvPr/>
            </p:nvSpPr>
            <p:spPr>
              <a:xfrm>
                <a:off x="2761920" y="963360"/>
                <a:ext cx="3598920" cy="211644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流程图: 手动操作 19"/>
              <p:cNvSpPr/>
              <p:nvPr/>
            </p:nvSpPr>
            <p:spPr>
              <a:xfrm flipV="1">
                <a:off x="3998880" y="3698280"/>
                <a:ext cx="1125360" cy="2682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圆角矩形 22"/>
              <p:cNvSpPr/>
              <p:nvPr/>
            </p:nvSpPr>
            <p:spPr>
              <a:xfrm>
                <a:off x="1825560" y="4202280"/>
                <a:ext cx="5472000" cy="21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矩形 45"/>
            <p:cNvSpPr/>
            <p:nvPr/>
          </p:nvSpPr>
          <p:spPr>
            <a:xfrm rot="2700000">
              <a:off x="4263480" y="304920"/>
              <a:ext cx="444240" cy="38228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矩形 46"/>
            <p:cNvSpPr/>
            <p:nvPr/>
          </p:nvSpPr>
          <p:spPr>
            <a:xfrm rot="18900000">
              <a:off x="4263840" y="304560"/>
              <a:ext cx="444240" cy="38228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47"/>
            <p:cNvSpPr/>
            <p:nvPr/>
          </p:nvSpPr>
          <p:spPr>
            <a:xfrm>
              <a:off x="2297160" y="1658880"/>
              <a:ext cx="444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GET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AWAY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2082240" y="35496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FROM  THE 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14"/>
          <p:cNvGrpSpPr/>
          <p:nvPr/>
        </p:nvGrpSpPr>
        <p:grpSpPr>
          <a:xfrm>
            <a:off x="-573840" y="-1189080"/>
            <a:ext cx="9911520" cy="7248600"/>
            <a:chOff x="-573840" y="-1189080"/>
            <a:chExt cx="9911520" cy="7248600"/>
          </a:xfrm>
        </p:grpSpPr>
        <p:sp>
          <p:nvSpPr>
            <p:cNvPr id="102" name="TextBox 35"/>
            <p:cNvSpPr/>
            <p:nvPr/>
          </p:nvSpPr>
          <p:spPr>
            <a:xfrm>
              <a:off x="-573840" y="-1189080"/>
              <a:ext cx="383076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9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3</a:t>
              </a:r>
              <a:endParaRPr b="0" lang="en-US" sz="23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任意多边形 36"/>
            <p:cNvSpPr/>
            <p:nvPr/>
          </p:nvSpPr>
          <p:spPr>
            <a:xfrm>
              <a:off x="-477720" y="755640"/>
              <a:ext cx="9815400" cy="3882960"/>
            </a:xfrm>
            <a:prstGeom prst="pie">
              <a:avLst/>
            </a:prstGeom>
            <a:noFill/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任意多边形 37"/>
            <p:cNvSpPr/>
            <p:nvPr/>
          </p:nvSpPr>
          <p:spPr>
            <a:xfrm>
              <a:off x="-401400" y="1860480"/>
              <a:ext cx="9550440" cy="2279520"/>
            </a:xfrm>
            <a:prstGeom prst="pie">
              <a:avLst/>
            </a:prstGeom>
            <a:noFill/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任意多边形 49"/>
            <p:cNvSpPr/>
            <p:nvPr/>
          </p:nvSpPr>
          <p:spPr>
            <a:xfrm>
              <a:off x="4156200" y="-91800"/>
              <a:ext cx="1850760" cy="5608800"/>
            </a:xfrm>
            <a:prstGeom prst="pie">
              <a:avLst/>
            </a:prstGeom>
            <a:noFill/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任意多边形 50"/>
            <p:cNvSpPr/>
            <p:nvPr/>
          </p:nvSpPr>
          <p:spPr>
            <a:xfrm>
              <a:off x="168120" y="912600"/>
              <a:ext cx="8329680" cy="5146920"/>
            </a:xfrm>
            <a:prstGeom prst="pie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2" descr="D:\Betsy葛\1\铅笔.png"/>
            <p:cNvPicPr/>
            <p:nvPr/>
          </p:nvPicPr>
          <p:blipFill>
            <a:blip r:embed="rId1"/>
            <a:stretch/>
          </p:blipFill>
          <p:spPr>
            <a:xfrm rot="2466000">
              <a:off x="415800" y="2323440"/>
              <a:ext cx="343440" cy="180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0"/>
                            </p:stCondLst>
                            <p:childTnLst>
                              <p:par>
                                <p:cTn id="176" dur="indefinite" nodeType="after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2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4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2" presetSubtype="8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7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20"/>
                            </p:stCondLst>
                            <p:childTnLst>
                              <p:par>
                                <p:cTn id="1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"/>
                            </p:stCondLst>
                            <p:childTnLst>
                              <p:par>
                                <p:cTn id="1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920"/>
                            </p:stCondLst>
                            <p:childTnLst>
                              <p:par>
                                <p:cTn id="196" dur="indefinite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21"/>
                            </p:stCondLst>
                            <p:childTnLst>
                              <p:par>
                                <p:cTn id="20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680" fill="hold"/>
                                        <p:tgtEl>
                                          <p:spTgt spid="8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01"/>
                            </p:stCondLst>
                            <p:childTnLst>
                              <p:par>
                                <p:cTn id="2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201"/>
                            </p:stCondLst>
                            <p:childTnLst>
                              <p:par>
                                <p:cTn id="214" dur="indefinite" nodeType="after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2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6"/>
          <p:cNvSpPr/>
          <p:nvPr/>
        </p:nvSpPr>
        <p:spPr>
          <a:xfrm>
            <a:off x="1692360" y="3003480"/>
            <a:ext cx="547560" cy="936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340000" y="3003480"/>
            <a:ext cx="71280" cy="1152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2511360" y="3003480"/>
            <a:ext cx="547920" cy="165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276720" y="3003480"/>
            <a:ext cx="44280" cy="1440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3419640" y="3003480"/>
            <a:ext cx="5544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4859280" y="3003480"/>
            <a:ext cx="384120" cy="366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6"/>
          <p:cNvSpPr/>
          <p:nvPr/>
        </p:nvSpPr>
        <p:spPr>
          <a:xfrm>
            <a:off x="5400720" y="3003480"/>
            <a:ext cx="382680" cy="366840"/>
          </a:xfrm>
          <a:prstGeom prst="rect">
            <a:avLst/>
          </a:prstGeom>
          <a:solidFill>
            <a:srgbClr val="c80a14"/>
          </a:solidFill>
          <a:ln w="25560">
            <a:solidFill>
              <a:srgbClr val="c8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7"/>
          <p:cNvSpPr/>
          <p:nvPr/>
        </p:nvSpPr>
        <p:spPr>
          <a:xfrm>
            <a:off x="5940360" y="3003480"/>
            <a:ext cx="382680" cy="366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8"/>
          <p:cNvSpPr/>
          <p:nvPr/>
        </p:nvSpPr>
        <p:spPr>
          <a:xfrm>
            <a:off x="6480000" y="3003480"/>
            <a:ext cx="382680" cy="366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9"/>
          <p:cNvSpPr/>
          <p:nvPr/>
        </p:nvSpPr>
        <p:spPr>
          <a:xfrm>
            <a:off x="7020000" y="3003480"/>
            <a:ext cx="468360" cy="936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751320" y="2211480"/>
            <a:ext cx="292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Q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924560" y="2211480"/>
            <a:ext cx="362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BEA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3" hidden="1"/>
          <p:cNvSpPr/>
          <p:nvPr/>
        </p:nvSpPr>
        <p:spPr>
          <a:xfrm>
            <a:off x="3805920" y="2211480"/>
            <a:ext cx="385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YOURSE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4" hidden="1"/>
          <p:cNvSpPr/>
          <p:nvPr/>
        </p:nvSpPr>
        <p:spPr>
          <a:xfrm>
            <a:off x="5955120" y="2227320"/>
            <a:ext cx="251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6" hidden="1"/>
          <p:cNvSpPr/>
          <p:nvPr/>
        </p:nvSpPr>
        <p:spPr>
          <a:xfrm>
            <a:off x="689760" y="1879560"/>
            <a:ext cx="40942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30"/>
          <p:cNvGrpSpPr/>
          <p:nvPr/>
        </p:nvGrpSpPr>
        <p:grpSpPr>
          <a:xfrm>
            <a:off x="-57240" y="1635120"/>
            <a:ext cx="2648160" cy="2743200"/>
            <a:chOff x="-57240" y="1635120"/>
            <a:chExt cx="2648160" cy="2743200"/>
          </a:xfrm>
        </p:grpSpPr>
        <p:sp>
          <p:nvSpPr>
            <p:cNvPr id="124" name="TextBox 28"/>
            <p:cNvSpPr/>
            <p:nvPr/>
          </p:nvSpPr>
          <p:spPr>
            <a:xfrm>
              <a:off x="-57240" y="1635120"/>
              <a:ext cx="2648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5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29"/>
            <p:cNvSpPr/>
            <p:nvPr/>
          </p:nvSpPr>
          <p:spPr>
            <a:xfrm>
              <a:off x="984240" y="2938320"/>
              <a:ext cx="506520" cy="1440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矩形 27"/>
          <p:cNvSpPr/>
          <p:nvPr/>
        </p:nvSpPr>
        <p:spPr>
          <a:xfrm>
            <a:off x="4465800" y="1419120"/>
            <a:ext cx="576000" cy="576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32"/>
          <p:cNvGrpSpPr/>
          <p:nvPr/>
        </p:nvGrpSpPr>
        <p:grpSpPr>
          <a:xfrm>
            <a:off x="5130720" y="843120"/>
            <a:ext cx="144720" cy="1152360"/>
            <a:chOff x="5130720" y="843120"/>
            <a:chExt cx="144720" cy="1152360"/>
          </a:xfrm>
        </p:grpSpPr>
        <p:sp>
          <p:nvSpPr>
            <p:cNvPr id="128" name="矩形 33"/>
            <p:cNvSpPr/>
            <p:nvPr/>
          </p:nvSpPr>
          <p:spPr>
            <a:xfrm>
              <a:off x="5130720" y="843120"/>
              <a:ext cx="73080" cy="1152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34"/>
            <p:cNvSpPr/>
            <p:nvPr/>
          </p:nvSpPr>
          <p:spPr>
            <a:xfrm>
              <a:off x="5167080" y="1419120"/>
              <a:ext cx="108360" cy="576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直接连接符 35"/>
          <p:cNvSpPr/>
          <p:nvPr/>
        </p:nvSpPr>
        <p:spPr>
          <a:xfrm>
            <a:off x="5329080" y="843120"/>
            <a:ext cx="1800" cy="11523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"/>
                            </p:stCondLst>
                            <p:childTnLst>
                              <p:par>
                                <p:cTn id="23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"/>
                            </p:stCondLst>
                            <p:childTnLst>
                              <p:par>
                                <p:cTn id="24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"/>
                            </p:stCondLst>
                            <p:childTnLst>
                              <p:par>
                                <p:cTn id="25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34568E-006 L 0.01198 2.34568E-006 E">
                                      <p:cBhvr>
                                        <p:cTn id="251" dur="3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17 2.22045E-016 L -4.16667E-006 2.22045E-016 E">
                                      <p:cBhvr>
                                        <p:cTn id="253" dur="2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3.08642E-006 L 0.01128 -3.08642E-006 E">
                                      <p:cBhvr>
                                        <p:cTn id="259" dur="2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"/>
                            </p:stCondLst>
                            <p:childTnLst>
                              <p:par>
                                <p:cTn id="2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00"/>
                            </p:stCondLst>
                            <p:childTnLst>
                              <p:par>
                                <p:cTn id="2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"/>
                            </p:stCondLst>
                            <p:childTnLst>
                              <p:par>
                                <p:cTn id="28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2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2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2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2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2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2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2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20"/>
                            </p:stCondLst>
                            <p:childTnLst>
                              <p:par>
                                <p:cTn id="3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1316160" y="-523800"/>
            <a:ext cx="9315720" cy="931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:\Betsy葛\1\白线字体.png"/>
          <p:cNvPicPr/>
          <p:nvPr/>
        </p:nvPicPr>
        <p:blipFill>
          <a:blip r:embed="rId2"/>
          <a:stretch/>
        </p:blipFill>
        <p:spPr>
          <a:xfrm>
            <a:off x="5388120" y="2279520"/>
            <a:ext cx="3108240" cy="3636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894600" y="1879560"/>
            <a:ext cx="40942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9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4900680" y="2028960"/>
            <a:ext cx="3438360" cy="858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C:\Documents and Settings\Administrator\桌面\55.png"/>
          <p:cNvPicPr/>
          <p:nvPr/>
        </p:nvPicPr>
        <p:blipFill>
          <a:blip r:embed="rId4"/>
          <a:stretch/>
        </p:blipFill>
        <p:spPr>
          <a:xfrm>
            <a:off x="9404280" y="2152800"/>
            <a:ext cx="1567080" cy="26820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"/>
                            </p:stCondLst>
                            <p:childTnLst>
                              <p:par>
                                <p:cTn id="3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399940">
                                      <p:cBhvr>
                                        <p:cTn id="324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"/>
                            </p:stCondLst>
                            <p:childTnLst>
                              <p:par>
                                <p:cTn id="32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327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"/>
                            </p:stCondLst>
                            <p:childTnLst>
                              <p:par>
                                <p:cTn id="32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199940">
                                      <p:cBhvr>
                                        <p:cTn id="330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mph" presetID="8" repeatCount="2000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332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mph" presetID="8" repeatCount="2000">
                                  <p:stCondLst>
                                    <p:cond delay="250"/>
                                  </p:stCondLst>
                                  <p:childTnLst>
                                    <p:animRot by="-21599939">
                                      <p:cBhvr>
                                        <p:cTn id="334" dur="187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-931320" y="1577880"/>
            <a:ext cx="45090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7</a:t>
            </a:r>
            <a:endParaRPr b="0" lang="en-US" sz="3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-728280" y="185436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67200" y="1854360"/>
            <a:ext cx="50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N THE SHOW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D:\Betsy葛\1\未标题-2.png"/>
          <p:cNvPicPr/>
          <p:nvPr/>
        </p:nvPicPr>
        <p:blipFill>
          <a:blip r:embed="rId1"/>
          <a:stretch/>
        </p:blipFill>
        <p:spPr>
          <a:xfrm rot="411000">
            <a:off x="4644720" y="88920"/>
            <a:ext cx="3587760" cy="6251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D:\Betsy葛\1\花洒.png"/>
          <p:cNvPicPr/>
          <p:nvPr/>
        </p:nvPicPr>
        <p:blipFill>
          <a:blip r:embed="rId2"/>
          <a:stretch/>
        </p:blipFill>
        <p:spPr>
          <a:xfrm rot="2113200">
            <a:off x="7910280" y="-217080"/>
            <a:ext cx="1066680" cy="79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:\Betsy葛\1\音乐符.png"/>
          <p:cNvPicPr/>
          <p:nvPr/>
        </p:nvPicPr>
        <p:blipFill>
          <a:blip r:embed="rId3"/>
          <a:stretch/>
        </p:blipFill>
        <p:spPr>
          <a:xfrm rot="19248600">
            <a:off x="4592520" y="7025760"/>
            <a:ext cx="414360" cy="61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D:\Betsy葛\1\黑色的音乐符.png"/>
          <p:cNvPicPr/>
          <p:nvPr/>
        </p:nvPicPr>
        <p:blipFill>
          <a:blip r:embed="rId4"/>
          <a:stretch/>
        </p:blipFill>
        <p:spPr>
          <a:xfrm rot="13964400">
            <a:off x="4665240" y="7403400"/>
            <a:ext cx="444600" cy="65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D:\Betsy葛\1\黑色的音乐符.png"/>
          <p:cNvPicPr/>
          <p:nvPr/>
        </p:nvPicPr>
        <p:blipFill>
          <a:blip r:embed="rId5"/>
          <a:stretch/>
        </p:blipFill>
        <p:spPr>
          <a:xfrm>
            <a:off x="6873840" y="6742080"/>
            <a:ext cx="657360" cy="444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D:\Betsy葛\1\黑色的音乐符.png"/>
          <p:cNvPicPr/>
          <p:nvPr/>
        </p:nvPicPr>
        <p:blipFill>
          <a:blip r:embed="rId6"/>
          <a:stretch/>
        </p:blipFill>
        <p:spPr>
          <a:xfrm rot="18320400">
            <a:off x="4367160" y="7502400"/>
            <a:ext cx="444600" cy="65700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4"/>
          <p:cNvGrpSpPr/>
          <p:nvPr/>
        </p:nvGrpSpPr>
        <p:grpSpPr>
          <a:xfrm>
            <a:off x="2847960" y="1854360"/>
            <a:ext cx="4732200" cy="3079440"/>
            <a:chOff x="2847960" y="1854360"/>
            <a:chExt cx="4732200" cy="3079440"/>
          </a:xfrm>
        </p:grpSpPr>
        <p:sp>
          <p:nvSpPr>
            <p:cNvPr id="146" name="椭圆 2"/>
            <p:cNvSpPr/>
            <p:nvPr/>
          </p:nvSpPr>
          <p:spPr>
            <a:xfrm>
              <a:off x="2847960" y="1854360"/>
              <a:ext cx="3266640" cy="273708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7" name="组合 3"/>
            <p:cNvGrpSpPr/>
            <p:nvPr/>
          </p:nvGrpSpPr>
          <p:grpSpPr>
            <a:xfrm>
              <a:off x="3170880" y="2160000"/>
              <a:ext cx="4409280" cy="2773800"/>
              <a:chOff x="3170880" y="2160000"/>
              <a:chExt cx="4409280" cy="2773800"/>
            </a:xfrm>
          </p:grpSpPr>
          <p:sp>
            <p:nvSpPr>
              <p:cNvPr id="148" name="椭圆 11"/>
              <p:cNvSpPr/>
              <p:nvPr/>
            </p:nvSpPr>
            <p:spPr>
              <a:xfrm>
                <a:off x="3170880" y="2721960"/>
                <a:ext cx="3624840" cy="221184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椭圆 12"/>
              <p:cNvSpPr/>
              <p:nvPr/>
            </p:nvSpPr>
            <p:spPr>
              <a:xfrm>
                <a:off x="4513680" y="2160000"/>
                <a:ext cx="3066480" cy="2187000"/>
              </a:xfrm>
              <a:prstGeom prst="ellipse">
                <a:avLst/>
              </a:pr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0" name="椭圆 23"/>
          <p:cNvSpPr/>
          <p:nvPr/>
        </p:nvSpPr>
        <p:spPr>
          <a:xfrm flipH="1">
            <a:off x="4537080" y="1833480"/>
            <a:ext cx="2797200" cy="22496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path" presetID="42" repeatCount="2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-0.04938 L -3.61111E-006 -4.44444E-006 E">
                                      <p:cBhvr>
                                        <p:cTn id="362" dur="2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15123 C 0.02222 0.12685 0.01858 0.11852 0.01354 0.09876 C 0.01285 0.06296 -0.00521 -0.09136 0.00278 -0.15402 C 0.01076 -0.21698 0.04913 -0.22778 0.06111 -0.2784 C 0.07812 -0.33704 0.06128 -0.41574 0.07465 -0.45895 C 0.08802 -0.50185 0.13681 -0.50587 0.14184 -0.53611 C 0.14687 -0.56605 0.10833 -0.60432 0.10486 -0.6392 C 0.10139 -0.67377 0.12431 -0.71574 0.12153 -0.74476 E">
                                      <p:cBhvr>
                                        <p:cTn id="364" dur="48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66" dur="4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305 -0.01421 C -0.09444 -0.03244 -0.09652 -0.04974 -0.09878 -0.06704 C -0.10312 -0.10875 -0.12448 -0.18258 -0.11632 -0.2283 C -0.10816 -0.27402 -0.06927 -0.30831 -0.04965 -0.34137 C -0.03003 -0.37442 -0.00382 -0.38987 0.00122 -0.42601 C 0.00625 -0.46216 -0.02743 -0.51406 -0.01944 -0.55885 C -0.01145 -0.60365 0.0349 -0.66636 0.04914 -0.69478 E">
                                      <p:cBhvr>
                                        <p:cTn id="368" dur="32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70" dur="4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34568E-006 C -0.00139 -0.01821 -0.00348 -0.03549 -0.00573 -0.05278 C -0.01007 -0.09444 -0.01476 -0.19444 -0.00573 -0.26512 C 0.00017 -0.33673 0.00503 -0.4145 0.02968 -0.48364 C 0.05434 -0.55278 0.11875 -0.6392 0.14218 -0.67994 E">
                                      <p:cBhvr>
                                        <p:cTn id="372" dur="32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74" dur="2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76" dur="2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05 -0.04016 C -0.05503 -0.07661 -0.05608 -0.12419 -0.06962 -0.17887 C -0.07292 -0.211 -0.07465 -0.23695 -0.0717 -0.27 C -0.06719 -0.3151 -0.03976 -0.36083 -0.01788 -0.38492 C -0.00972 -0.39357 0.00104 -0.39295 0.00903 -0.4016 C 0.01111 -0.40377 0.01319 -0.40624 0.01528 -0.4084 C 0.02066 -0.41303 0.02674 -0.41674 0.03177 -0.42199 C 0.03889 -0.42879 0.04549 -0.43559 0.0526 -0.44207 C 0.0559 -0.44547 0.06285 -0.45227 0.06285 -0.45196 C 0.0691 -0.46741 0.08889 -0.49428 0.09809 -0.50417 C 0.1033 -0.53135 0.09878 -0.57491 0.09392 -0.61446 C 0.08698 -0.6472 0.0592 -0.68767 0.05677 -0.72598 C 0.05677 -0.75749 0.0592 -0.81526 0.07951 -0.84399 C 0.10017 -0.88384 0.14826 -0.89434 0.17882 -0.89805 C 0.20781 -0.90979 0.24687 -0.87396 0.26788 -0.90825 E">
                                      <p:cBhvr>
                                        <p:cTn id="378" dur="49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3600000">
                                      <p:cBhvr>
                                        <p:cTn id="380" dur="3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94" dur="16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500"/>
                            </p:stCondLst>
                            <p:childTnLst>
                              <p:par>
                                <p:cTn id="402" dur="indefinite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2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2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2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2585880" y="1243080"/>
            <a:ext cx="1697040" cy="22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D:\Betsy葛\1\咖啡.png"/>
          <p:cNvPicPr/>
          <p:nvPr/>
        </p:nvPicPr>
        <p:blipFill>
          <a:blip r:embed="rId1"/>
          <a:stretch/>
        </p:blipFill>
        <p:spPr>
          <a:xfrm>
            <a:off x="4759200" y="2214720"/>
            <a:ext cx="1744920" cy="1304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D:\Betsy葛\1\DF.png"/>
          <p:cNvPicPr/>
          <p:nvPr/>
        </p:nvPicPr>
        <p:blipFill>
          <a:blip r:embed="rId2"/>
          <a:stretch/>
        </p:blipFill>
        <p:spPr>
          <a:xfrm>
            <a:off x="4386240" y="3732120"/>
            <a:ext cx="1709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4"/>
          <p:cNvGrpSpPr/>
          <p:nvPr/>
        </p:nvGrpSpPr>
        <p:grpSpPr>
          <a:xfrm>
            <a:off x="1504800" y="-203040"/>
            <a:ext cx="3940560" cy="4665600"/>
            <a:chOff x="1504800" y="-203040"/>
            <a:chExt cx="3940560" cy="4665600"/>
          </a:xfrm>
        </p:grpSpPr>
        <p:pic>
          <p:nvPicPr>
            <p:cNvPr id="155" name="Picture 18" descr="C:\Documents and Settings\Administrator\桌面\图片1.jpg"/>
            <p:cNvPicPr/>
            <p:nvPr/>
          </p:nvPicPr>
          <p:blipFill>
            <a:blip r:embed="rId3"/>
            <a:srcRect l="35582" t="23775" r="35742" b="35344"/>
            <a:stretch/>
          </p:blipFill>
          <p:spPr>
            <a:xfrm>
              <a:off x="2535480" y="604080"/>
              <a:ext cx="1866600" cy="327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33"/>
            <p:cNvSpPr/>
            <p:nvPr/>
          </p:nvSpPr>
          <p:spPr>
            <a:xfrm>
              <a:off x="1504800" y="-203040"/>
              <a:ext cx="394056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8</a:t>
              </a:r>
              <a:endParaRPr b="0" lang="en-US" sz="30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Box 3"/>
          <p:cNvSpPr/>
          <p:nvPr/>
        </p:nvSpPr>
        <p:spPr>
          <a:xfrm>
            <a:off x="1712160" y="3564000"/>
            <a:ext cx="344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D:\Betsy葛\1\RT.png"/>
          <p:cNvPicPr/>
          <p:nvPr/>
        </p:nvPicPr>
        <p:blipFill>
          <a:blip r:embed="rId4"/>
          <a:stretch/>
        </p:blipFill>
        <p:spPr>
          <a:xfrm>
            <a:off x="5310360" y="1258920"/>
            <a:ext cx="657000" cy="1123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D:\Betsy葛\1\JKL.png"/>
          <p:cNvPicPr/>
          <p:nvPr/>
        </p:nvPicPr>
        <p:blipFill>
          <a:blip r:embed="rId5"/>
          <a:stretch/>
        </p:blipFill>
        <p:spPr>
          <a:xfrm>
            <a:off x="5234040" y="1001880"/>
            <a:ext cx="691920" cy="277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D:\Betsy葛\1\SRT.png"/>
          <p:cNvPicPr/>
          <p:nvPr/>
        </p:nvPicPr>
        <p:blipFill>
          <a:blip r:embed="rId6"/>
          <a:stretch/>
        </p:blipFill>
        <p:spPr>
          <a:xfrm>
            <a:off x="4886280" y="1023840"/>
            <a:ext cx="352440" cy="493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D:\Betsy葛\1\RD.png"/>
          <p:cNvPicPr/>
          <p:nvPr/>
        </p:nvPicPr>
        <p:blipFill>
          <a:blip r:embed="rId7"/>
          <a:stretch/>
        </p:blipFill>
        <p:spPr>
          <a:xfrm>
            <a:off x="4896000" y="1405080"/>
            <a:ext cx="455400" cy="2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"/>
                            </p:stCondLst>
                            <p:childTnLst>
                              <p:par>
                                <p:cTn id="45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2" presetSubtype="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51"/>
                            </p:stCondLst>
                            <p:childTnLst>
                              <p:par>
                                <p:cTn id="4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74" dur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75" dur="90" fill="hold">
                                          <p:stCondLst>
                                            <p:cond delay="9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6" dur="9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77" dur="90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8" dur="9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50:00Z</dcterms:created>
  <dc:creator>www.eeppt.com</dc:creator>
  <dc:description>www.eeppt.com</dc:description>
  <dc:language>en-US</dc:language>
  <cp:lastModifiedBy>YANGS2015</cp:lastModifiedBy>
  <dcterms:modified xsi:type="dcterms:W3CDTF">2015-08-11T14:21:33Z</dcterms:modified>
  <cp:revision>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