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5C-5A5C-44F4-96A0-39655D9C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8A7-E930-44B4-9F41-BF4F0CB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734-EC42-47D8-9F28-2D091EF3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4DE-8296-41C4-9590-63AFC08F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1E2-E641-4544-B828-83A52330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82E-0CCD-4840-BBEB-23073D4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489-BC80-4AB7-A7A2-11C1A31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05D-DC68-4BB0-B68B-FA19613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8F9-D86D-44C2-A912-2A39CCD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5F4-F4F3-41B2-A3D4-8AC190D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D81-2699-4BCC-815B-8E22063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A95-B076-4D3F-87C9-6566C20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D809-B24B-4578-9DE0-6A1BFCD950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360" y="927000"/>
            <a:ext cx="77058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大南瓜瓜果类</a:t>
            </a: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模板免费下载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" name="Picture 7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228600" y="525780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1116000" y="1717560"/>
            <a:ext cx="5327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152280" y="5410080"/>
            <a:ext cx="2133360" cy="157644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1620720" y="661032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0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546-151D-4D0A-BF14-F22683706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228600" y="525780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54" name="矩形 10"/>
          <p:cNvSpPr/>
          <p:nvPr/>
        </p:nvSpPr>
        <p:spPr>
          <a:xfrm>
            <a:off x="2599200" y="2830680"/>
            <a:ext cx="2695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6:20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47Z</dcterms:modified>
  <cp:revision>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