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6E0-B6AC-4D48-AC9A-519556A4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B5C-D91F-40D4-B98E-4C37052E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0CA-FD40-4A81-9439-BEB8C705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A60-0AFA-4447-BE1B-B176912E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A1B-A14F-4925-AB5C-F9D7306B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89B-8EEE-4D73-B76C-4D18BE59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433-B668-4BA4-8220-3435AE0B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E0B-5E18-4792-A3F2-74FB15D3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A02-C5A5-496C-905F-A9B47954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844-AA75-4ABB-8B68-B057777E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AF9-3D82-4C6D-9124-3F496371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8FB-6BB1-4548-BAF9-E9854FF4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5CD8-5196-4B41-8A21-B1FC9BD6601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47FA-DE72-45F8-BACA-6134DD509C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LaVladina - Creative Commons Attribution License  https://www.flickr.com/photos/6247256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45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6237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0680" y="260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大图排版设计欧美风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fabiogis50 - Creative Commons Attribution-NonCommercial-ShareAlike License  https://www.flickr.com/photos/7093680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9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Robert Bejil Productions - Creative Commons Attribution License  https://www.flickr.com/photos/28618109@N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9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docpop - Creative Commons Attribution-NonCommercial License  https://www.flickr.com/photos/65802182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0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Beige Alert - Creative Commons Attribution-ShareAlike License  https://www.flickr.com/photos/53332339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0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Erik Charlton - Creative Commons Attribution License  https://www.flickr.com/photos/7804208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1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j.edward ferguson - Creative Commons Attribution-NonCommercial-ShareAlike License  https://www.flickr.com/photos/12516514@N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1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Kaptain Kobold - Creative Commons Attribution-NonCommercial-ShareAlike License  https://www.flickr.com/photos/95492938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23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thewhitestdogalive - Creative Commons Attribution-NonCommercial License  https://www.flickr.com/photos/2242584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2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WarzauWynn - Creative Commons Attribution-NonCommercial License  https://www.flickr.com/photos/94246031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33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IsabelSalas - Creative Commons Attribution-NonCommercial License  https://www.flickr.com/photos/53777600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3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Lotus Carroll - Creative Commons Attribution-NonCommercial-ShareAlike License  https://www.flickr.com/photos/11248435@N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5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rachel a. k. - Creative Commons Attribution-NonCommercial-ShareAlike License  https://www.flickr.com/photos/47864451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43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Loving Earth - Creative Commons Attribution-NonCommercial-ShareAlike License  https://www.flickr.com/photos/26235754@N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4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marc falardeau - Creative Commons Attribution License  https://www.flickr.com/photos/49889874@N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53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bark - Creative Commons Attribution License  https://www.flickr.com/photos/49503168860@N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58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52C-A323-4CB6-8DE9-7544021EDC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archer10 (Dennis) - Creative Commons Attribution-ShareAlike License  https://www.flickr.com/photos/22490717@N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166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GoToVan - Creative Commons Attribution License  https://www.flickr.com/photos/47022937@N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5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Hammonton Photography - Creative Commons Attribution-NonCommercial License  https://www.flickr.com/photos/25880282@N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6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Jason Pier in DC - Creative Commons Attribution-NonCommercial License  https://www.flickr.com/photos/73184641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6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alsuvi - Creative Commons Attribution-NonCommercial-ShareAlike License  https://www.flickr.com/photos/55872374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7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Michelle Brea - Creative Commons Attribution-NonCommercial-ShareAlike License  https://www.flickr.com/photos/90667736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7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tobiastoft - Creative Commons Attribution License  https://www.flickr.com/photos/30656616@N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82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Object 2"/>
          <p:cNvSpPr/>
          <p:nvPr/>
        </p:nvSpPr>
        <p:spPr>
          <a:xfrm>
            <a:off x="274680" y="6651720"/>
            <a:ext cx="86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oto by woodleywonderworks - Creative Commons Attribution License  https://www.flickr.com/photos/73645804@N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3"/>
          <p:cNvSpPr/>
          <p:nvPr/>
        </p:nvSpPr>
        <p:spPr>
          <a:xfrm>
            <a:off x="7589880" y="6651720"/>
            <a:ext cx="281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reated with Haiku D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4" descr=""/>
          <p:cNvPicPr/>
          <p:nvPr/>
        </p:nvPicPr>
        <p:blipFill>
          <a:blip r:embed="rId2"/>
          <a:stretch/>
        </p:blipFill>
        <p:spPr>
          <a:xfrm>
            <a:off x="92160" y="6651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87" name="Object 5"/>
          <p:cNvSpPr/>
          <p:nvPr/>
        </p:nvSpPr>
        <p:spPr>
          <a:xfrm>
            <a:off x="0" y="6651720"/>
            <a:ext cx="9144000" cy="206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3:51:00Z</dcterms:created>
  <dc:creator>www.eeppt.com</dc:creator>
  <dc:description>www.eeppt.com</dc:description>
  <dc:language>en-US</dc:language>
  <cp:lastModifiedBy>YANGS2015</cp:lastModifiedBy>
  <dcterms:modified xsi:type="dcterms:W3CDTF">2015-08-11T14:21:48Z</dcterms:modified>
  <cp:revision>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