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605-6400-43C4-B3B0-AE2C02BC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940-98DE-4F41-B33E-E0CA7B44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7EF5C-32DD-4FFD-8C5B-ACA18AE9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405B3-A4C2-4BA5-9C74-A0F8C9FE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D57A8-B01D-4E31-890B-861B67FA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1F590-91F9-44F2-8F46-225BF5C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5A02D-396A-41F5-A14C-BE3D25C7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ED2DD-D81E-4ABE-9440-499A8B4F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A76C3-6895-47F9-9EDB-443648B6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597EC-B830-45C9-9C21-4049A948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21858-9C08-4A9F-BE48-87F915C8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B831A-BF6D-4AEB-874C-A113D61A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2B1-E7AB-4E5F-9CF8-026019F0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EEBB8-7A7C-43E5-ADAA-D929DF9B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7811C-ADB1-4EF6-BEA4-EF9CC344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A65F3-4144-4BA8-8777-DCA500A0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157C5-65FD-454C-B185-DF97824F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9F78C-90A2-4F42-8CCF-F6E7EBC3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D09B5-61AD-42B2-BC92-EA8DAFB5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E1755-8DF7-44DF-8787-9C9723E5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E422D-E4F4-4549-B162-DFC24B83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7D55C-AF86-4CCA-9430-49C78D3A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9A627-F753-45BB-A10D-B90EB5BE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D8C-F716-498F-860E-85B898B6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BB3DA-B5F1-4C4D-AD3B-432EC5C8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1DBE7-0F56-4866-B3B2-D162DBDD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0A126-258D-4D57-A0AF-85E5447D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09B05-6D92-4BBC-80A1-270ABB03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2FEFD-BD5B-4D05-BBC4-A4D30506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D2E1D-8C65-43BA-AF6B-39D4DC47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3C355-4DAD-458A-BFC3-124BFA77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7F767-D0D7-4E60-8C65-E4928DA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F145D-07E0-45B6-AF83-DF682EF4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BB4A9-849B-4B43-ADCE-DC9510F1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9CFB-B854-4BF5-B5AF-5BF49C68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989C3-0D35-41A9-B62F-EB856752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C80FD-541E-4D33-95C2-886372BD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16927-FA47-4B6A-A21D-918A3030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70F0B-1F59-4CA4-B242-1F21DC99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764E9-6CF5-413C-97D5-32B86C27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EF008-BAEA-452F-ABDB-ED0DACB3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5D849-81BC-458E-BB20-423A0BB0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67FA1-024B-46C0-ADBA-5DD79531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774C0-82EA-4163-BEA2-B621C7C7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6BF12-C4FA-4CE1-94A0-687719B2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F3E0-E0C9-479D-9A39-AE7BDF55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23E01-7784-428A-9343-2B81EF21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5F898-2733-42F0-B2D1-B8B1FFBF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CBC78-2A73-473D-8F83-9F7BA460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2BA00-8A4C-4ECB-BAE9-4929B36C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DA97A-D3C8-42C6-83DE-014018D3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34F40-D913-4D04-B033-AD241A91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F553C-F4EF-4C29-8014-4E26EA55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991DD-4750-440C-9019-283D3ED8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6D06E-599A-4609-8E24-378017D8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33D5D-90AC-4936-8BB6-6D6EB2AE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E6D6-FE86-457F-8EC9-0E8A70E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DF022-D234-4C18-8790-92A391B5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FD04A-1CA8-4129-90E0-D6606126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0F5A9-E363-42B9-98F1-7A1D6A55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0F081-3E57-47FF-BEE6-A240CF58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C3E05-CD1F-4125-8027-D0CE0505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0BBAE-964E-4B72-8850-9D1E24AF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E9E0D-B411-48A4-A10C-DF7B2BD8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40C3-04B1-4357-A4A6-5D5ED3E5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79C8-6DBC-45FE-9253-A4CF34DD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993F-431C-432E-BB45-72C54D59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A17E-288C-4191-9E30-A173C70C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699-1937-4592-B86E-9192BCCC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C07C-480A-4E1A-A4FD-5D207830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55F3-FAC4-4749-B073-4D6CB1FC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97BA-FD58-4837-AD5B-C1DCC361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BDD1-4FD4-43D0-A563-F40EEE62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F9A1-6E7C-4663-9E66-308A9D19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CEBB-6016-4DD2-9FD8-82B29833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27498-BE9E-4E17-86C7-0155F9AB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BA62-AC93-4E50-8533-D00658F3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C139-C626-4261-9614-132055B5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DC2D-9421-444F-BC9D-F53FB45D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9F6-357C-4F32-BAE2-76C88FB5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71F03-9344-4416-BE1D-8EB20B81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07798-E78A-4677-8AF8-6ADB750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D493-FEC3-4919-917E-16ED9537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004F-9971-448D-8CC4-3993FF5C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98725-6A17-4B22-8A57-4F1983A9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FDCE-442B-465A-B0E7-ACABC18A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A4D14-7830-43BE-9279-1DDE52DC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96511-8A15-4198-9E56-98EE4BBF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EA720-B2CB-4FB0-A431-70CF4585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26BF8-BA7A-4DB7-B9CD-047B84D5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DBB-B31F-4737-B758-F82349D1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E5D6D-CB37-45F7-8DD6-6E359E2D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D386C-0F76-4819-8A7A-C62E26E9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6081D-48AA-4D54-805D-BDB6F14E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DB3EC-E98C-48EA-B6E2-8C80DBFB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627B1-6413-4F77-9F1F-0BE10C65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A45EE-FD16-4180-AC76-9B52A93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2D12-184E-41DA-991A-C2EECCD5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09C0-1988-4510-B53C-96460542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69AC-1637-48A3-AAC7-83ED1DA4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1A505-EE7F-4019-A6EB-AB499D7E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A43-9E7D-4615-BB49-0BCDD812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07934-F012-47F6-BB64-9235FD3C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AF742-4949-4A6C-B9EF-8A3EA16B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D001C-B7E2-4543-97C7-14FC5E23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5C662-B70C-4BD0-B57D-76E71F87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66FEB-39F0-4E75-A92B-537F05D9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D452E-8519-44B6-8AB5-13B73896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F5228-2B4A-433F-BFF5-315CCF32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EC083-5CC9-4443-BD9A-CFF76AF6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71586-36BE-401A-AE3C-8C770348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6622E-DF81-4A6C-A515-6C5D76B4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5A7-B2D3-4CCB-BDDE-AA798604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92093-822A-4B11-A667-8BB4A11A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4D9E6-BDBB-43EB-A373-CF236ED0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62510-5485-4A8A-BF5A-B015AA76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F8347-9C9E-4795-8C67-30950900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4E843-DE20-4E8C-8136-7373EA8E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3D26F-5B5B-4975-B63D-891AA600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4F2A1-E803-4ACB-95BA-08C95CD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D228D-2746-4C92-9F94-C1C43A82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88AC7-FFDB-4EA9-95AF-1008BEDA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87CAE-3346-4740-B3A0-9921742F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6BC-3067-4FF9-9A10-DD661324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79A53-42F9-4683-A356-88989E34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FAA85-9424-42B7-89F0-A7451CAC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747DC-3134-4288-B82A-9912D106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346FF-7425-41D5-BCFD-4534251B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DDD73-F427-436E-B582-5147F990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80BEF-235A-4165-A58A-8334D525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8B38E-D7A8-444F-999D-132E96A9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19ED8-27AB-40FC-A82D-95D9F122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FC695-3EB4-4585-B291-EDF6F75E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6D48F-8FCD-496A-88D4-0BD64DC4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3A0-7415-477F-B2EB-A96D371A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C0DBA-4DD9-4A33-8BAD-BFB19FEB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706D4-0CFF-462B-8995-10F393E7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F2F61-F57F-4193-AA76-DADEC695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1F01F-E0DD-4067-A7CD-A005E353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6E3CB-5EC8-4BAB-A6E3-6715E4FC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E688A-4FF2-4DFC-8A2D-4CB2C751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2E502-C3AC-45C5-830F-9614D72D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8FB8C-3F24-4F32-93A7-5B6AB326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BFCDB-8092-4162-92E1-A0FCE18B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5378E-2464-4DCB-97B9-4636754C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508-8424-4202-B88E-7A9DEED7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2CABF-E47C-45C2-BD6F-D84E36D2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52C18-D46F-4311-BBE9-3837B716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3A20C-5C9E-4A13-82AA-23F7277B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851EE-CF38-4BF4-BAA6-8BF4129E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37F18-EAE7-46FC-8256-B1AB8A3E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6BD4C-7CCB-4DFD-8CF8-52E96DBE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DFE40-23BB-4622-ABE9-C2051FAD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6A336-ABF3-414F-808A-5E5A8648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2E6B5-5016-46A8-BA65-1BC2D38A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17BEB-983A-4314-B6FB-0EA4FBF2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48BA-EE1B-4AC7-8E14-2CC09B0517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0887-BB73-416C-87EA-7A5374F683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3D0F-90E6-4EC4-99CB-2107B359EC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AB40-1885-4A64-B776-300358A486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434C-DB15-4CEC-82DA-515D8A2766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805F-72F9-4564-9EEE-F0D9E4942B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56C2-9F19-43C4-A31E-96A20E7833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6AC8-8BBD-4262-9C9B-6F6CB5E5BA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EB77-0399-476F-8D01-5ABE9F63B2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C72D-DC22-4388-A75F-150CDA61BC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6EBB-3D88-4049-B45C-1191422A0D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5021-CBC2-40D6-AB9B-0C452AEE49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73EA-D40D-4491-8D91-5ABA63F256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D521F-BF07-42FB-A0B4-CD5EB8E9A2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组合 1"/>
          <p:cNvGrpSpPr/>
          <p:nvPr/>
        </p:nvGrpSpPr>
        <p:grpSpPr>
          <a:xfrm>
            <a:off x="1692360" y="620640"/>
            <a:ext cx="5688000" cy="5688000"/>
            <a:chOff x="1692360" y="620640"/>
            <a:chExt cx="5688000" cy="5688000"/>
          </a:xfrm>
        </p:grpSpPr>
        <p:sp>
          <p:nvSpPr>
            <p:cNvPr id="537" name="矩形 17"/>
            <p:cNvSpPr/>
            <p:nvPr/>
          </p:nvSpPr>
          <p:spPr>
            <a:xfrm>
              <a:off x="4060800" y="422100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2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4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5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6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7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8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9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0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1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2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3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4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5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8" name="Picture 2" descr="E:\Users\Admin\Desktop\cake.png"/>
            <p:cNvPicPr/>
            <p:nvPr/>
          </p:nvPicPr>
          <p:blipFill>
            <a:blip r:embed="rId16"/>
            <a:stretch/>
          </p:blipFill>
          <p:spPr>
            <a:xfrm>
              <a:off x="1692360" y="620640"/>
              <a:ext cx="5688000" cy="56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9" name="Picture 3" descr="E:\Users\Admin\Desktop\火焰.png"/>
          <p:cNvPicPr/>
          <p:nvPr/>
        </p:nvPicPr>
        <p:blipFill>
          <a:blip r:embed="rId17"/>
          <a:stretch/>
        </p:blipFill>
        <p:spPr>
          <a:xfrm>
            <a:off x="2077920" y="1276200"/>
            <a:ext cx="1314720" cy="12304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E:\Users\Admin\Desktop\火焰.png"/>
          <p:cNvPicPr/>
          <p:nvPr/>
        </p:nvPicPr>
        <p:blipFill>
          <a:blip r:embed="rId18"/>
          <a:stretch/>
        </p:blipFill>
        <p:spPr>
          <a:xfrm>
            <a:off x="2639880" y="47628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E:\Users\Admin\Desktop\火焰.png"/>
          <p:cNvPicPr/>
          <p:nvPr/>
        </p:nvPicPr>
        <p:blipFill>
          <a:blip r:embed="rId19"/>
          <a:stretch/>
        </p:blipFill>
        <p:spPr>
          <a:xfrm>
            <a:off x="3905280" y="476280"/>
            <a:ext cx="1314360" cy="1231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E:\Users\Admin\Desktop\火焰.png"/>
          <p:cNvPicPr/>
          <p:nvPr/>
        </p:nvPicPr>
        <p:blipFill>
          <a:blip r:embed="rId20"/>
          <a:stretch/>
        </p:blipFill>
        <p:spPr>
          <a:xfrm>
            <a:off x="5175360" y="620640"/>
            <a:ext cx="1314360" cy="12304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E:\Users\Admin\Desktop\火焰.png"/>
          <p:cNvPicPr/>
          <p:nvPr/>
        </p:nvPicPr>
        <p:blipFill>
          <a:blip r:embed="rId21"/>
          <a:stretch/>
        </p:blipFill>
        <p:spPr>
          <a:xfrm>
            <a:off x="3186000" y="148428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E:\Users\Admin\Desktop\火焰.png"/>
          <p:cNvPicPr/>
          <p:nvPr/>
        </p:nvPicPr>
        <p:blipFill>
          <a:blip r:embed="rId22"/>
          <a:stretch/>
        </p:blipFill>
        <p:spPr>
          <a:xfrm>
            <a:off x="4844880" y="1517760"/>
            <a:ext cx="1314720" cy="1230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E:\Users\Admin\Desktop\火焰.png"/>
          <p:cNvPicPr/>
          <p:nvPr/>
        </p:nvPicPr>
        <p:blipFill>
          <a:blip r:embed="rId23"/>
          <a:stretch/>
        </p:blipFill>
        <p:spPr>
          <a:xfrm>
            <a:off x="5823000" y="119700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E:\Users\Admin\Desktop\火焰.png"/>
          <p:cNvPicPr/>
          <p:nvPr/>
        </p:nvPicPr>
        <p:blipFill>
          <a:blip r:embed="rId24"/>
          <a:stretch/>
        </p:blipFill>
        <p:spPr>
          <a:xfrm>
            <a:off x="2050920" y="126828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E:\Users\Admin\Desktop\火焰.png"/>
          <p:cNvPicPr/>
          <p:nvPr/>
        </p:nvPicPr>
        <p:blipFill>
          <a:blip r:embed="rId25"/>
          <a:stretch/>
        </p:blipFill>
        <p:spPr>
          <a:xfrm>
            <a:off x="2612880" y="509760"/>
            <a:ext cx="1314720" cy="12301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E:\Users\Admin\Desktop\火焰.png"/>
          <p:cNvPicPr/>
          <p:nvPr/>
        </p:nvPicPr>
        <p:blipFill>
          <a:blip r:embed="rId26"/>
          <a:stretch/>
        </p:blipFill>
        <p:spPr>
          <a:xfrm>
            <a:off x="3878280" y="50976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E:\Users\Admin\Desktop\火焰.png"/>
          <p:cNvPicPr/>
          <p:nvPr/>
        </p:nvPicPr>
        <p:blipFill>
          <a:blip r:embed="rId27"/>
          <a:stretch/>
        </p:blipFill>
        <p:spPr>
          <a:xfrm>
            <a:off x="5148360" y="65412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E:\Users\Admin\Desktop\火焰.png"/>
          <p:cNvPicPr/>
          <p:nvPr/>
        </p:nvPicPr>
        <p:blipFill>
          <a:blip r:embed="rId28"/>
          <a:stretch/>
        </p:blipFill>
        <p:spPr>
          <a:xfrm>
            <a:off x="3159000" y="151776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E:\Users\Admin\Desktop\火焰.png"/>
          <p:cNvPicPr/>
          <p:nvPr/>
        </p:nvPicPr>
        <p:blipFill>
          <a:blip r:embed="rId29"/>
          <a:stretch/>
        </p:blipFill>
        <p:spPr>
          <a:xfrm>
            <a:off x="4818240" y="1550880"/>
            <a:ext cx="1314360" cy="1230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E:\Users\Admin\Desktop\火焰.png"/>
          <p:cNvPicPr/>
          <p:nvPr/>
        </p:nvPicPr>
        <p:blipFill>
          <a:blip r:embed="rId30"/>
          <a:stretch/>
        </p:blipFill>
        <p:spPr>
          <a:xfrm>
            <a:off x="5796000" y="1230480"/>
            <a:ext cx="1314360" cy="12301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/>
          <p:nvPr/>
        </p:nvSpPr>
        <p:spPr>
          <a:xfrm>
            <a:off x="1798560" y="189000"/>
            <a:ext cx="57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动态生日蛋糕蜡烛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3:30:12Z</dcterms:created>
  <dc:creator>pc</dc:creator>
  <dc:description>www.eeppt.com;</dc:description>
  <cp:keywords>www.eeppt.com</cp:keywords>
  <dc:language>en-US</dc:language>
  <cp:lastModifiedBy>lenovo</cp:lastModifiedBy>
  <dcterms:modified xsi:type="dcterms:W3CDTF">2015-08-11T14:21:31Z</dcterms:modified>
  <cp:revision>2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