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CE82E-8352-4C1C-A1B6-FC124FA2E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354EA-A36B-40F9-8A6D-902FBE9D2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FC610-EE6A-48C3-895E-53A00E143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0DD4A-C7B4-4457-B129-92CC6AF0F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EAA42-BF7D-461D-A9F2-3F07DB817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1D181-E061-47E7-94D3-94FCF0A02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0F046-92BD-41C4-BB42-E872FA7C1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88F2B-F6E1-4325-9767-5D860FAA6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90425-F8FD-4E27-AF43-1C3448102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A0161-CE85-4FB2-935E-4D4AD2842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7028A-47CC-4AB5-B2AF-0EDA8F5E2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108C4-6B9D-4AC5-A569-40050EFC4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1A2DD-EF83-4766-BE19-24161EC1D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7E3BB-368B-4386-8943-BEE0A9EF0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4ED05-4BDB-4EC1-BD56-F068AD5F6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E3186-85EA-4EE2-BF68-5A5FBBE6B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719ED-1B79-463D-9AA8-FAE1BDB80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136AF-AACD-45C1-B896-6EF4349E9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C2E39-4145-44E6-9970-5B5B3BCC6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6A87A-FE0C-48A2-BEE1-A9CAB764F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13F8F-1956-43D3-8155-7AE42ACD3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814A6-D6BE-474F-B75B-843831404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BC00C-EB84-4118-9113-6221098E2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C1C9C-3FF7-4E75-B7ED-299E38091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9E0B4-1A90-4728-A3F5-B68DE51513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4551B-8BD0-4EC7-8AA2-48507A4791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61760" y="2057040"/>
            <a:ext cx="70102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b050"/>
                </a:solidFill>
                <a:latin typeface="微软雅黑"/>
                <a:ea typeface="微软雅黑"/>
              </a:rPr>
              <a:t>端午节幻灯片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636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B833C-1E9D-4567-85F6-749744F14E5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219320" y="251460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pt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26T02:11:51Z</dcterms:created>
  <dc:creator/>
  <dc:description>www.eeppt.com;</dc:description>
  <cp:keywords>www.eeppt.com</cp:keywords>
  <dc:language>en-US</dc:language>
  <cp:lastModifiedBy>jccook</cp:lastModifiedBy>
  <dcterms:modified xsi:type="dcterms:W3CDTF">2015-08-11T14:22:37Z</dcterms:modified>
  <cp:revision>6</cp:revision>
  <dc:subject/>
  <dc:title>www.eeppt.com;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  <property fmtid="{D5CDD505-2E9C-101B-9397-08002B2CF9AE}" pid="3" name="Version">
    <vt:r8>1</vt:r8>
  </property>
</Properties>
</file>