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318-287F-4DB0-9E55-027B28AB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08F-D650-4411-A9D4-591B0C9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AE9-9FEC-467F-97D9-A0404D94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8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064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6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8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064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2E9-6A16-4F1E-9221-269F6747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428560" y="571320"/>
            <a:ext cx="6157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884-6D39-4782-BD90-93381C3C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768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064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768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064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97D-1D60-4A98-8159-8B400D8D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575-97E9-4CCA-9A3F-BB0469CA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94E-5545-4B00-95FA-25E89197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28560" y="571320"/>
            <a:ext cx="6157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DCE-D6E1-4862-B5AB-D755C3AE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A5D-011B-4AA8-9803-16E3BAD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C04-0E11-4039-AAD6-48D5ED2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C56-3C99-450C-8711-C5B4BC6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0CD-5C1C-45FA-B152-BE97D4F842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4214880" y="52117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875200" y="585468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0520" y="5157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端阳怀古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8880" y="5000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28760" y="192888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1197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4E0-8FDE-4C72-8F2A-FD94C12164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0" y="5500800"/>
            <a:ext cx="3243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0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2:40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